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DDF-CB1B-44B6-BA9D-0287A9E7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42D-EF40-4C20-8865-519B8D3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9BE-F14C-48AE-8D20-5ED47EF6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E83-A838-440E-BD80-E8A78D4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CDA-AC3C-401B-A33D-D3FB64BF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576-106D-4CA2-A083-1711B93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F8D5-A71A-4B59-8B1C-5C6F98E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AEFA-74B8-4628-8799-CBDEA33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7D33-D735-4234-BBEC-05E26E3F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2EE-656E-4C51-9937-46B0419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2BE7-4023-49A1-BFEE-81FCBB1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2C-E602-4A64-81A9-D8981CF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E21-E143-4E34-A952-EBF06C6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8635-6D40-4080-AA3C-4D25427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81AC-B16E-40C4-AE4D-2170F6F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7EF7-DFAE-4198-A89A-7966A46F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1F2-C0F8-4941-8643-C1A9B1A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7349-9FFA-4808-AD62-C2DAEF5E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EBFB-6F99-4181-B552-953864B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B0AF-A086-41AC-A70F-B29BB46F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3905-15D5-46A7-A113-EF6B6C8D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4738-4D3E-4FA9-920C-D2BC14C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269-678F-45E0-9E22-2603DF69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6AB9-52FA-4AB3-A591-2D85B8C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2662-2E99-4A06-BEE0-09FDC20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6AD4-67CD-42AE-927F-C8FEB2E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6AF2-98B9-48B6-9978-9C18CE7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223D-AE53-4C9B-AC47-960E17D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116F-7EDA-4DE0-AA3C-25CD16FD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7871-9CE9-414B-8326-758D0C55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BEAE-8800-45A6-930E-57D7D1E4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F60C1-6FA8-49C1-9FA8-E5DCB7A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5A5B-25BB-4019-B51A-83D550D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0ED-463F-4A5A-8721-CBE103C8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0250-3FDD-4054-96BE-E40FB0C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1642-85ED-4747-A171-3915683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4ABE-BE66-4E3E-A71E-F0BEBA5E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5A43-BFBC-4A11-B3E3-4764A82D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90DB-5A39-4DCE-A2C0-4B32C147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349E-1835-4128-91FB-550C697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B89F-814C-4FCE-B701-0B10B49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869A-5003-420A-A9A0-6CFB34C4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29A2-9757-4AF4-B94A-529F2A7D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F301-1522-41FB-BC64-C47026B2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02A-AB7D-4AA1-888C-52D8DFE5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08E5-370B-4DFE-B9FD-8C487E73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6930-1942-497B-B7CB-0F5FE6B8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4345-4C5A-42D9-9379-9A2C02BE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5146-2DD6-42B9-A3AF-37523FF5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E143-55FB-4D1A-86CA-2C1FF3FE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07F8F-6089-4533-BD26-D30A0BE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860FE-D2B0-4F55-A0CB-01E1D4B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E9B5-8C1B-441F-B3A2-32D087A1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94D1-6A32-4E83-A9C2-79B9CE38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2A2F-E766-4774-A6AA-01BD25A3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87C-EF61-4A1C-A199-00F9CF5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39BC1-64E0-46BC-A568-266FEC72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FBA2-E1A2-418E-86A1-62EAD2AF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E207-8128-486D-B38E-4C72659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A5FE-0798-41DB-86C2-A725F38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900E-8349-433D-902E-787456BB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599A-AD9E-4B08-ADE5-AEE3DC5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C643-01F7-4103-B1DB-383ECEFA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FC21-2C2E-4D47-AADF-86ED456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D5CE-C6D8-4815-8E5E-68304F1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3B7F-C744-4B8F-93CA-FB0282F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772-DA1A-48B7-B738-5C39FD1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4BD4-6459-434F-B89A-A1095D0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4F82-A917-494D-8DAE-CFDFCCF8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695E-C092-4993-A3D2-8DAEE49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D247-0F89-4286-AD81-BA407F8F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89012-5DD4-46F4-BF36-3F37696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AA2E2-71EA-47ED-989F-9EB24AE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B0C9-1D24-4C24-8A6B-5B3CD03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DFC2-DDB0-4C4B-B4CE-1E03CD6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F490-86A0-4438-AEE0-0B8E9EC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13FB-0141-4FDA-B333-B4183D3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313-BC7B-41DD-93A3-8495AE4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000C-752C-4837-A9E5-981FB56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D695-F4F6-45AB-A2E8-A2A9A3E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2D175-67B2-436E-8CD8-99873E4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BF856-071D-475F-BFFD-FD890FFC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E49F-170B-4C8F-91B8-9B7D620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CA54-2712-4627-913A-547481BD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9FCE-4E67-4E76-8246-ECA98D22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D35D-E043-41CE-8483-1139C4C8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ECB22-1193-49D1-B745-E6CA89C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C089-F6A7-4F66-99DC-A9BAA0E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955-83F6-4AE0-A9E2-DDC6E5E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982C5-D584-46BE-9F24-F5D4B99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811CF-AADD-485A-9EB0-EA21395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F2FE-C107-4E5C-B96F-AB123FC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80672-91BE-46F8-B9AF-01137F0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19949-B9CD-40DB-B98B-9C3D9E7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5D2C-493D-43D8-A999-8E7CA3DD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00C1-4EF6-4CFA-9CBE-E5C8DD53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2CE-C880-4D83-81AC-E2DD7A3D8C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公用模板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2F1-BF33-4A56-AC28-EE5A6012D1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:\公用模板\2.jpg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4F82-4F1A-4632-A794-C2470A5151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公用模板\3.jpg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5D9-222B-42E4-A4B4-E57C261B32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E:\公用模板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9E1-A7B2-47AC-8033-38219C1DCC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公用模板\5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CBF-74C0-4FE2-AA85-62ED907B62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E:\公用模板\6.jpg"/>
          <p:cNvPicPr/>
          <p:nvPr/>
        </p:nvPicPr>
        <p:blipFill>
          <a:blip r:embed="rId2"/>
          <a:stretch/>
        </p:blipFill>
        <p:spPr>
          <a:xfrm>
            <a:off x="144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C1C-EADC-4A22-9856-6B6151E597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E:\公用模板\7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2D5-E1BE-4144-BFB3-E77A0CF7C6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3046320"/>
            <a:ext cx="745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恋爱生活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120" y="4076280"/>
            <a:ext cx="3241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恋爱生活及相关机构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8"/>
          <p:cNvSpPr/>
          <p:nvPr/>
        </p:nvSpPr>
        <p:spPr>
          <a:xfrm>
            <a:off x="2195640" y="191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395280" y="616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7"/>
          <p:cNvSpPr/>
          <p:nvPr/>
        </p:nvSpPr>
        <p:spPr>
          <a:xfrm>
            <a:off x="2333520" y="325296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8:57:25Z</dcterms:created>
  <dc:creator>锐普</dc:creator>
  <dc:description/>
  <dc:language>en-US</dc:language>
  <cp:lastModifiedBy>王玉清</cp:lastModifiedBy>
  <dcterms:modified xsi:type="dcterms:W3CDTF">2016-02-20T04:18:51Z</dcterms:modified>
  <cp:revision>24</cp:revision>
  <dc:subject/>
  <dc:title>恋爱生活</dc:title>
</cp:coreProperties>
</file>