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5B0D-F495-41FA-A3C7-A278A30D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E316-59CE-45C0-AAFB-D9C2D4CB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75C3-B084-4029-895E-E264BB13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3D2-9A47-41B2-AD98-62703B5C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43E-46B4-421E-9048-CA0E84E5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275-5C7D-4782-9F83-E2120D58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A5F-E28C-4739-9354-F393BB88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BF9-DE13-43B2-8B73-F5444318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1B0-64F8-4D9E-B7E3-D087036F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991-B87B-4561-925F-A4B28F0A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213-5F01-4F3E-8FEB-20F3F5B3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569-41A7-451B-806B-57A5DDD4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01F5-7BA7-47FE-8389-07F7AFA32C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108000" y="1844640"/>
            <a:ext cx="96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wPoly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风格背景简约扁平化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269244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表彰大会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4140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406908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069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402012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92600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997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997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5997960" y="92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4020120" y="59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997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0"/>
          <p:cNvSpPr/>
          <p:nvPr/>
        </p:nvSpPr>
        <p:spPr>
          <a:xfrm>
            <a:off x="3926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1"/>
          <p:cNvSpPr/>
          <p:nvPr/>
        </p:nvSpPr>
        <p:spPr>
          <a:xfrm>
            <a:off x="2997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3948840" y="6000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1997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783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6283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5426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4020120" y="59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500280" y="2928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1711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4212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68360" y="6407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3948840" y="607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642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1783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王玉清</cp:lastModifiedBy>
  <dcterms:modified xsi:type="dcterms:W3CDTF">2016-03-01T07:34:51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