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4800" cy="9753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118-D79B-4672-9C76-D87CB549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614-933B-46A0-9933-57305E6C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CDA-DF36-44EA-BE58-83970DB7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4D2-B233-4AE8-AC4C-4630EE2F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EA47-F724-4C9B-A708-6CBB29D5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8631-B82A-46CC-83C9-1FAD0B04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B4C-0A4C-47E3-A5A4-C179E41A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D30-BC6B-450D-8FE3-5C7921DB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5A9-76E8-4E1B-B72A-5D0DF97F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B73-48B5-4BF4-AC3E-F3971367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F86-6755-4077-B013-A6B19CF3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A1A-6095-4E95-A9BC-79BBA3D3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7F2BEE-26EF-4070-8370-B4BB39DB770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origindesign.uk.com/resources/branding-checklist/" TargetMode="External"/><Relationship Id="rId3" Type="http://schemas.openxmlformats.org/officeDocument/2006/relationships/hyperlink" Target="http://www.origindesign.uk.com/resources/branding-checklist/" TargetMode="External"/><Relationship Id="rId4" Type="http://schemas.openxmlformats.org/officeDocument/2006/relationships/hyperlink" Target="http://www.origindesign.uk.com/resources/branding-checklist/" TargetMode="External"/><Relationship Id="rId5" Type="http://schemas.openxmlformats.org/officeDocument/2006/relationships/hyperlink" Target="http://www.origindesign.uk.com/resources/branding-checklist/" TargetMode="External"/><Relationship Id="rId6" Type="http://schemas.openxmlformats.org/officeDocument/2006/relationships/hyperlink" Target="http://www.origindesign.uk.com/resources/branding-checklist/" TargetMode="External"/><Relationship Id="rId7" Type="http://schemas.openxmlformats.org/officeDocument/2006/relationships/hyperlink" Target="http://www.origindesign.uk.com/resources/branding-checklist/" TargetMode="External"/><Relationship Id="rId8" Type="http://schemas.openxmlformats.org/officeDocument/2006/relationships/hyperlink" Target="http://www.origindesign.uk.com/resources/branding-checklist/" TargetMode="External"/><Relationship Id="rId9" Type="http://schemas.openxmlformats.org/officeDocument/2006/relationships/hyperlink" Target="http://www.origindesign.uk.com/resources/branding-checklist/" TargetMode="External"/><Relationship Id="rId10" Type="http://schemas.openxmlformats.org/officeDocument/2006/relationships/hyperlink" Target="http://www.origindesign.uk.com/resources/branding-checklist/" TargetMode="External"/><Relationship Id="rId11" Type="http://schemas.openxmlformats.org/officeDocument/2006/relationships/hyperlink" Target="http://www.origindesign.uk.com/resources/branding-checklist/" TargetMode="External"/><Relationship Id="rId12" Type="http://schemas.openxmlformats.org/officeDocument/2006/relationships/hyperlink" Target="http://www.origindesign.uk.com/resources/branding-checklist/" TargetMode="External"/><Relationship Id="rId13" Type="http://schemas.openxmlformats.org/officeDocument/2006/relationships/hyperlink" Target="http://www.origindesign.uk.com/resources/branding-checklist/" TargetMode="External"/><Relationship Id="rId14" Type="http://schemas.openxmlformats.org/officeDocument/2006/relationships/hyperlink" Target="http://www.origindesign.uk.com/resources/branding-checklist/" TargetMode="External"/><Relationship Id="rId15" Type="http://schemas.openxmlformats.org/officeDocument/2006/relationships/hyperlink" Target="http://www.origindesign.uk.com/resources/branding-checklist/" TargetMode="External"/><Relationship Id="rId16" Type="http://schemas.openxmlformats.org/officeDocument/2006/relationships/hyperlink" Target="http://www.origindesign.uk.com/resources/branding-checklist/" TargetMode="External"/><Relationship Id="rId17" Type="http://schemas.openxmlformats.org/officeDocument/2006/relationships/hyperlink" Target="http://www.origindesign.uk.com/resources/branding-checklist/" TargetMode="External"/><Relationship Id="rId18" Type="http://schemas.openxmlformats.org/officeDocument/2006/relationships/hyperlink" Target="http://www.origindesign.uk.com/resources/branding-checklist/" TargetMode="External"/><Relationship Id="rId19" Type="http://schemas.openxmlformats.org/officeDocument/2006/relationships/hyperlink" Target="http://www.origindesign.uk.com/resources/branding-checklist/" TargetMode="External"/><Relationship Id="rId20" Type="http://schemas.openxmlformats.org/officeDocument/2006/relationships/hyperlink" Target="http://www.origindesign.uk.com/resources/branding-checklist/" TargetMode="External"/><Relationship Id="rId21" Type="http://schemas.openxmlformats.org/officeDocument/2006/relationships/hyperlink" Target="http://www.origindesign.uk.com/resources/branding-checklist/" TargetMode="External"/><Relationship Id="rId22" Type="http://schemas.openxmlformats.org/officeDocument/2006/relationships/hyperlink" Target="http://www.origindesign.uk.com/resources/branding-checklist/" TargetMode="External"/><Relationship Id="rId23" Type="http://schemas.openxmlformats.org/officeDocument/2006/relationships/hyperlink" Target="http://www.origindesign.uk.com/resources/branding-checklist/" TargetMode="External"/><Relationship Id="rId24" Type="http://schemas.openxmlformats.org/officeDocument/2006/relationships/hyperlink" Target="http://www.origindesign.uk.com/resources/branding-checklist/" TargetMode="External"/><Relationship Id="rId25" Type="http://schemas.openxmlformats.org/officeDocument/2006/relationships/hyperlink" Target="http://www.origindesign.uk.com/resources/branding-checklist/" TargetMode="External"/><Relationship Id="rId26" Type="http://schemas.openxmlformats.org/officeDocument/2006/relationships/hyperlink" Target="http://www.origindesign.uk.com/resources/branding-checklist/" TargetMode="External"/><Relationship Id="rId27" Type="http://schemas.openxmlformats.org/officeDocument/2006/relationships/hyperlink" Target="http://www.origindesign.uk.com/resources/branding-checklist/" TargetMode="External"/><Relationship Id="rId28" Type="http://schemas.openxmlformats.org/officeDocument/2006/relationships/hyperlink" Target="http://www.origindesign.uk.com/resources/branding-checklist/" TargetMode="External"/><Relationship Id="rId29" Type="http://schemas.openxmlformats.org/officeDocument/2006/relationships/hyperlink" Target="http://www.origindesign.uk.com/resources/branding-checklist/" TargetMode="External"/><Relationship Id="rId30" Type="http://schemas.openxmlformats.org/officeDocument/2006/relationships/hyperlink" Target="http://www.origindesign.uk.com/resources/branding-checklist/" TargetMode="External"/><Relationship Id="rId31" Type="http://schemas.openxmlformats.org/officeDocument/2006/relationships/hyperlink" Target="http://www.origindesign.uk.com/resources/branding-checklist/" TargetMode="External"/><Relationship Id="rId32" Type="http://schemas.openxmlformats.org/officeDocument/2006/relationships/hyperlink" Target="http://www.origindesign.uk.com/resources/branding-checklist/" TargetMode="External"/><Relationship Id="rId33" Type="http://schemas.openxmlformats.org/officeDocument/2006/relationships/hyperlink" Target="http://www.origindesign.uk.com/resources/branding-checklist/" TargetMode="External"/><Relationship Id="rId34" Type="http://schemas.openxmlformats.org/officeDocument/2006/relationships/hyperlink" Target="http://www.origindesign.uk.com/resources/branding-checklist/" TargetMode="External"/><Relationship Id="rId35" Type="http://schemas.openxmlformats.org/officeDocument/2006/relationships/hyperlink" Target="http://www.origindesign.uk.com/resources/branding-checklist/" TargetMode="External"/><Relationship Id="rId36" Type="http://schemas.openxmlformats.org/officeDocument/2006/relationships/hyperlink" Target="http://www.origindesign.uk.com/resources/branding-checklist/" TargetMode="External"/><Relationship Id="rId37" Type="http://schemas.openxmlformats.org/officeDocument/2006/relationships/hyperlink" Target="http://www.origindesign.uk.com/resources/branding-checklist/" TargetMode="External"/><Relationship Id="rId38" Type="http://schemas.openxmlformats.org/officeDocument/2006/relationships/hyperlink" Target="http://www.origindesign.uk.com/resources/branding-checklist/" TargetMode="External"/><Relationship Id="rId39" Type="http://schemas.openxmlformats.org/officeDocument/2006/relationships/hyperlink" Target="http://www.origindesign.uk.com/resources/branding-checklist/" TargetMode="External"/><Relationship Id="rId40" Type="http://schemas.openxmlformats.org/officeDocument/2006/relationships/hyperlink" Target="http://www.origindesign.uk.com/resources/branding-checklist/" TargetMode="External"/><Relationship Id="rId41" Type="http://schemas.openxmlformats.org/officeDocument/2006/relationships/hyperlink" Target="http://www.origindesign.uk.com/resources/branding-checklist/" TargetMode="External"/><Relationship Id="rId42" Type="http://schemas.openxmlformats.org/officeDocument/2006/relationships/hyperlink" Target="http://www.origindesign.uk.com/resources/branding-checklist/" TargetMode="External"/><Relationship Id="rId43" Type="http://schemas.openxmlformats.org/officeDocument/2006/relationships/hyperlink" Target="http://www.origindesign.uk.com/resources/branding-checklist/" TargetMode="External"/><Relationship Id="rId44" Type="http://schemas.openxmlformats.org/officeDocument/2006/relationships/hyperlink" Target="http://www.origindesign.uk.com/resources/branding-checklist/" TargetMode="External"/><Relationship Id="rId45" Type="http://schemas.openxmlformats.org/officeDocument/2006/relationships/hyperlink" Target="http://www.origindesign.uk.com/resources/branding-checklist/" TargetMode="External"/><Relationship Id="rId46" Type="http://schemas.openxmlformats.org/officeDocument/2006/relationships/hyperlink" Target="http://www.origindesign.uk.com/resources/branding-checklist/" TargetMode="External"/><Relationship Id="rId47" Type="http://schemas.openxmlformats.org/officeDocument/2006/relationships/hyperlink" Target="http://www.origindesign.uk.com/resources/integrated-marketing-campaign-guide/" TargetMode="External"/><Relationship Id="rId48" Type="http://schemas.openxmlformats.org/officeDocument/2006/relationships/hyperlink" Target="http://www.origindesign.uk.com/resources/integrated-marketing-campaign-guide/" TargetMode="External"/><Relationship Id="rId49" Type="http://schemas.openxmlformats.org/officeDocument/2006/relationships/hyperlink" Target="http://www.origindesign.uk.com/resources/integrated-marketing-campaign-guide/" TargetMode="External"/><Relationship Id="rId50" Type="http://schemas.openxmlformats.org/officeDocument/2006/relationships/hyperlink" Target="http://www.origindesign.uk.com/resources/integrated-marketing-campaign-guide/" TargetMode="External"/><Relationship Id="rId51" Type="http://schemas.openxmlformats.org/officeDocument/2006/relationships/hyperlink" Target="http://www.origindesign.uk.com/resources/integrated-marketing-campaign-guide/" TargetMode="External"/><Relationship Id="rId52" Type="http://schemas.openxmlformats.org/officeDocument/2006/relationships/hyperlink" Target="http://www.origindesign.uk.com/resources/integrated-marketing-campaign-guide/" TargetMode="External"/><Relationship Id="rId53" Type="http://schemas.openxmlformats.org/officeDocument/2006/relationships/hyperlink" Target="http://www.origindesign.uk.com/resources/integrated-marketing-campaign-guide/" TargetMode="External"/><Relationship Id="rId54" Type="http://schemas.openxmlformats.org/officeDocument/2006/relationships/hyperlink" Target="http://www.origindesign.uk.com/resources/integrated-marketing-campaign-guide/" TargetMode="External"/><Relationship Id="rId55" Type="http://schemas.openxmlformats.org/officeDocument/2006/relationships/hyperlink" Target="http://www.origindesign.uk.com/resources/integrated-marketing-campaign-guide/" TargetMode="External"/><Relationship Id="rId56" Type="http://schemas.openxmlformats.org/officeDocument/2006/relationships/hyperlink" Target="http://www.origindesign.uk.com/resources/integrated-marketing-campaign-guide/" TargetMode="External"/><Relationship Id="rId57" Type="http://schemas.openxmlformats.org/officeDocument/2006/relationships/hyperlink" Target="http://www.origindesign.uk.com/resources/integrated-marketing-campaign-guide/" TargetMode="External"/><Relationship Id="rId58" Type="http://schemas.openxmlformats.org/officeDocument/2006/relationships/hyperlink" Target="http://www.origindesign.uk.com/resources/integrated-marketing-campaign-guide/" TargetMode="External"/><Relationship Id="rId59" Type="http://schemas.openxmlformats.org/officeDocument/2006/relationships/hyperlink" Target="http://www.origindesign.uk.com/resources/integrated-marketing-campaign-guide/" TargetMode="External"/><Relationship Id="rId60" Type="http://schemas.openxmlformats.org/officeDocument/2006/relationships/hyperlink" Target="http://www.origindesign.uk.com/resources/integrated-marketing-campaign-guide/" TargetMode="External"/><Relationship Id="rId61" Type="http://schemas.openxmlformats.org/officeDocument/2006/relationships/hyperlink" Target="http://www.origindesign.uk.com/resources/integrated-marketing-campaign-guide/" TargetMode="External"/><Relationship Id="rId62" Type="http://schemas.openxmlformats.org/officeDocument/2006/relationships/hyperlink" Target="http://www.origindesign.uk.com/resources/integrated-marketing-campaign-guide/" TargetMode="External"/><Relationship Id="rId63" Type="http://schemas.openxmlformats.org/officeDocument/2006/relationships/hyperlink" Target="http://www.origindesign.uk.com/resources/integrated-marketing-campaign-guide/" TargetMode="External"/><Relationship Id="rId64" Type="http://schemas.openxmlformats.org/officeDocument/2006/relationships/hyperlink" Target="http://www.origindesign.uk.com/resources/integrated-marketing-campaign-guide/" TargetMode="External"/><Relationship Id="rId65" Type="http://schemas.openxmlformats.org/officeDocument/2006/relationships/hyperlink" Target="http://www.origindesign.uk.com/resources/integrated-marketing-campaign-guide/" TargetMode="External"/><Relationship Id="rId66" Type="http://schemas.openxmlformats.org/officeDocument/2006/relationships/hyperlink" Target="http://www.origindesign.uk.com/resources/integrated-marketing-campaign-guide/" TargetMode="External"/><Relationship Id="rId67" Type="http://schemas.openxmlformats.org/officeDocument/2006/relationships/hyperlink" Target="http://www.origindesign.uk.com/resources/integrated-marketing-campaign-guide/" TargetMode="External"/><Relationship Id="rId68" Type="http://schemas.openxmlformats.org/officeDocument/2006/relationships/hyperlink" Target="http://www.origindesign.uk.com/resources/integrated-marketing-campaign-guide/" TargetMode="External"/><Relationship Id="rId69" Type="http://schemas.openxmlformats.org/officeDocument/2006/relationships/hyperlink" Target="http://www.origindesign.uk.com/resources/integrated-marketing-campaign-guide/" TargetMode="External"/><Relationship Id="rId70" Type="http://schemas.openxmlformats.org/officeDocument/2006/relationships/hyperlink" Target="http://www.origindesign.uk.com/resources/integrated-marketing-campaign-guide/" TargetMode="External"/><Relationship Id="rId71" Type="http://schemas.openxmlformats.org/officeDocument/2006/relationships/hyperlink" Target="http://www.origindesign.uk.com/resources/integrated-marketing-campaign-guide/" TargetMode="External"/><Relationship Id="rId72" Type="http://schemas.openxmlformats.org/officeDocument/2006/relationships/hyperlink" Target="http://www.origindesign.uk.com/resources/integrated-marketing-campaign-guide/" TargetMode="External"/><Relationship Id="rId73" Type="http://schemas.openxmlformats.org/officeDocument/2006/relationships/hyperlink" Target="http://www.origindesign.uk.com/resources/integrated-marketing-campaign-guide/" TargetMode="External"/><Relationship Id="rId74" Type="http://schemas.openxmlformats.org/officeDocument/2006/relationships/hyperlink" Target="http://www.origindesign.uk.com/resources/integrated-marketing-campaign-guide/" TargetMode="External"/><Relationship Id="rId75" Type="http://schemas.openxmlformats.org/officeDocument/2006/relationships/hyperlink" Target="http://www.origindesign.uk.com/resources/integrated-marketing-campaign-guide/" TargetMode="External"/><Relationship Id="rId76" Type="http://schemas.openxmlformats.org/officeDocument/2006/relationships/hyperlink" Target="http://www.origindesign.uk.com/resources/integrated-marketing-campaign-guide/" TargetMode="External"/><Relationship Id="rId77" Type="http://schemas.openxmlformats.org/officeDocument/2006/relationships/hyperlink" Target="http://www.origindesign.uk.com/resources/integrated-marketing-campaign-guide/" TargetMode="External"/><Relationship Id="rId78" Type="http://schemas.openxmlformats.org/officeDocument/2006/relationships/hyperlink" Target="http://www.origindesign.uk.com/resources/integrated-marketing-campaign-guide/" TargetMode="External"/><Relationship Id="rId79" Type="http://schemas.openxmlformats.org/officeDocument/2006/relationships/hyperlink" Target="http://www.origindesign.uk.com/resources/integrated-marketing-campaign-guide/" TargetMode="External"/><Relationship Id="rId80" Type="http://schemas.openxmlformats.org/officeDocument/2006/relationships/hyperlink" Target="http://www.origindesign.uk.com/resources/integrated-marketing-campaign-guide/" TargetMode="External"/><Relationship Id="rId81" Type="http://schemas.openxmlformats.org/officeDocument/2006/relationships/hyperlink" Target="http://www.origindesign.uk.com/resources/integrated-marketing-campaign-guide/" TargetMode="External"/><Relationship Id="rId82" Type="http://schemas.openxmlformats.org/officeDocument/2006/relationships/hyperlink" Target="http://www.origindesign.uk.com/resources/integrated-marketing-campaign-guide/" TargetMode="External"/><Relationship Id="rId83" Type="http://schemas.openxmlformats.org/officeDocument/2006/relationships/hyperlink" Target="http://www.origindesign.uk.com/resources/integrated-marketing-campaign-guide/" TargetMode="External"/><Relationship Id="rId84" Type="http://schemas.openxmlformats.org/officeDocument/2006/relationships/hyperlink" Target="http://www.origindesign.uk.com/resources/integrated-marketing-campaign-guide/" TargetMode="External"/><Relationship Id="rId85" Type="http://schemas.openxmlformats.org/officeDocument/2006/relationships/hyperlink" Target="http://www.origindesign.uk.com/resources/integrated-marketing-campaign-guide/" TargetMode="External"/><Relationship Id="rId86" Type="http://schemas.openxmlformats.org/officeDocument/2006/relationships/hyperlink" Target="http://www.origindesign.uk.com/resources/integrated-marketing-campaign-guide/" TargetMode="External"/><Relationship Id="rId87" Type="http://schemas.openxmlformats.org/officeDocument/2006/relationships/hyperlink" Target="http://www.origindesign.uk.com/resources/integrated-marketing-campaign-guide/" TargetMode="External"/><Relationship Id="rId88" Type="http://schemas.openxmlformats.org/officeDocument/2006/relationships/hyperlink" Target="http://www.origindesign.uk.com/resources/integrated-marketing-campaign-guide/" TargetMode="External"/><Relationship Id="rId89" Type="http://schemas.openxmlformats.org/officeDocument/2006/relationships/hyperlink" Target="http://www.origindesign.uk.com/resources/integrated-marketing-campaign-guide/" TargetMode="External"/><Relationship Id="rId90" Type="http://schemas.openxmlformats.org/officeDocument/2006/relationships/hyperlink" Target="http://www.origindesign.uk.com/resources/integrated-marketing-campaign-guide/" TargetMode="External"/><Relationship Id="rId91" Type="http://schemas.openxmlformats.org/officeDocument/2006/relationships/hyperlink" Target="http://www.origindesign.uk.com/" TargetMode="External"/><Relationship Id="rId92" Type="http://schemas.openxmlformats.org/officeDocument/2006/relationships/hyperlink" Target="http://www.origindesign.uk.com/" TargetMode="External"/><Relationship Id="rId93" Type="http://schemas.openxmlformats.org/officeDocument/2006/relationships/hyperlink" Target="http://www.origindesign.uk.com/" TargetMode="External"/><Relationship Id="rId94" Type="http://schemas.openxmlformats.org/officeDocument/2006/relationships/hyperlink" Target="http://www.origindesign.uk.com/" TargetMode="External"/><Relationship Id="rId95" Type="http://schemas.openxmlformats.org/officeDocument/2006/relationships/hyperlink" Target="http://www.origindesign.uk.com/" TargetMode="External"/><Relationship Id="rId96" Type="http://schemas.openxmlformats.org/officeDocument/2006/relationships/hyperlink" Target="http://www.origindesign.uk.com/" TargetMode="External"/><Relationship Id="rId97" Type="http://schemas.openxmlformats.org/officeDocument/2006/relationships/hyperlink" Target="http://www.origindesign.uk.com/" TargetMode="External"/><Relationship Id="rId98" Type="http://schemas.openxmlformats.org/officeDocument/2006/relationships/hyperlink" Target="http://www.origindesign.uk.com/" TargetMode="External"/><Relationship Id="rId99" Type="http://schemas.openxmlformats.org/officeDocument/2006/relationships/hyperlink" Target="http://www.origindesign.uk.com/" TargetMode="External"/><Relationship Id="rId100" Type="http://schemas.openxmlformats.org/officeDocument/2006/relationships/hyperlink" Target="http://www.origindesign.uk.com/" TargetMode="External"/><Relationship Id="rId101" Type="http://schemas.openxmlformats.org/officeDocument/2006/relationships/hyperlink" Target="http://www.origindesign.uk.com/" TargetMode="External"/><Relationship Id="rId102" Type="http://schemas.openxmlformats.org/officeDocument/2006/relationships/hyperlink" Target="http://www.origindesign.uk.com/" TargetMode="External"/><Relationship Id="rId103" Type="http://schemas.openxmlformats.org/officeDocument/2006/relationships/hyperlink" Target="http://www.origindesign.uk.com/" TargetMode="External"/><Relationship Id="rId104" Type="http://schemas.openxmlformats.org/officeDocument/2006/relationships/hyperlink" Target="http://www.origindesign.uk.com/" TargetMode="External"/><Relationship Id="rId105" Type="http://schemas.openxmlformats.org/officeDocument/2006/relationships/hyperlink" Target="http://www.origindesign.uk.com/" TargetMode="External"/><Relationship Id="rId106" Type="http://schemas.openxmlformats.org/officeDocument/2006/relationships/hyperlink" Target="http://www.origindesign.uk.com/" TargetMode="External"/><Relationship Id="rId107" Type="http://schemas.openxmlformats.org/officeDocument/2006/relationships/hyperlink" Target="http://www.origindesign.uk.com/" TargetMode="External"/><Relationship Id="rId108" Type="http://schemas.openxmlformats.org/officeDocument/2006/relationships/hyperlink" Target="http://www.origindesign.uk.com/" TargetMode="External"/><Relationship Id="rId109" Type="http://schemas.openxmlformats.org/officeDocument/2006/relationships/hyperlink" Target="http://www.origindesign.uk.com/" TargetMode="External"/><Relationship Id="rId110" Type="http://schemas.openxmlformats.org/officeDocument/2006/relationships/hyperlink" Target="http://www.origindesign.uk.com/" TargetMode="External"/><Relationship Id="rId111" Type="http://schemas.openxmlformats.org/officeDocument/2006/relationships/hyperlink" Target="http://www.origindesign.uk.com/" TargetMode="External"/><Relationship Id="rId112" Type="http://schemas.openxmlformats.org/officeDocument/2006/relationships/hyperlink" Target="http://www.origindesign.uk.com/" TargetMode="External"/><Relationship Id="rId113" Type="http://schemas.openxmlformats.org/officeDocument/2006/relationships/hyperlink" Target="http://www.origindesign.uk.com/" TargetMode="External"/><Relationship Id="rId114" Type="http://schemas.openxmlformats.org/officeDocument/2006/relationships/hyperlink" Target="http://www.origindesign.uk.com/" TargetMode="External"/><Relationship Id="rId115" Type="http://schemas.openxmlformats.org/officeDocument/2006/relationships/hyperlink" Target="http://www.origindesign.uk.com/" TargetMode="External"/><Relationship Id="rId116" Type="http://schemas.openxmlformats.org/officeDocument/2006/relationships/hyperlink" Target="http://www.origindesign.uk.com/" TargetMode="External"/><Relationship Id="rId117" Type="http://schemas.openxmlformats.org/officeDocument/2006/relationships/hyperlink" Target="http://www.origindesign.uk.com/" TargetMode="External"/><Relationship Id="rId118" Type="http://schemas.openxmlformats.org/officeDocument/2006/relationships/hyperlink" Target="http://www.origindesign.uk.com/" TargetMode="External"/><Relationship Id="rId119" Type="http://schemas.openxmlformats.org/officeDocument/2006/relationships/hyperlink" Target="http://www.origindesign.uk.com/" TargetMode="External"/><Relationship Id="rId120" Type="http://schemas.openxmlformats.org/officeDocument/2006/relationships/hyperlink" Target="http://www.origindesign.uk.com/" TargetMode="External"/><Relationship Id="rId121" Type="http://schemas.openxmlformats.org/officeDocument/2006/relationships/hyperlink" Target="http://www.origindesign.uk.com/" TargetMode="External"/><Relationship Id="rId122" Type="http://schemas.openxmlformats.org/officeDocument/2006/relationships/hyperlink" Target="http://www.origindesign.uk.com/" TargetMode="External"/><Relationship Id="rId123" Type="http://schemas.openxmlformats.org/officeDocument/2006/relationships/hyperlink" Target="http://www.origindesign.uk.com/" TargetMode="External"/><Relationship Id="rId124" Type="http://schemas.openxmlformats.org/officeDocument/2006/relationships/hyperlink" Target="http://www.origindesign.uk.com/" TargetMode="External"/><Relationship Id="rId125" Type="http://schemas.openxmlformats.org/officeDocument/2006/relationships/hyperlink" Target="http://www.origindesign.uk.com/" TargetMode="External"/><Relationship Id="rId126" Type="http://schemas.openxmlformats.org/officeDocument/2006/relationships/hyperlink" Target="http://www.origindesign.uk.com/" TargetMode="External"/><Relationship Id="rId127" Type="http://schemas.openxmlformats.org/officeDocument/2006/relationships/hyperlink" Target="http://www.origindesign.uk.com/" TargetMode="External"/><Relationship Id="rId128" Type="http://schemas.openxmlformats.org/officeDocument/2006/relationships/hyperlink" Target="http://www.origindesign.uk.com/" TargetMode="External"/><Relationship Id="rId129" Type="http://schemas.openxmlformats.org/officeDocument/2006/relationships/hyperlink" Target="http://www.origindesign.uk.com/" TargetMode="External"/><Relationship Id="rId130" Type="http://schemas.openxmlformats.org/officeDocument/2006/relationships/hyperlink" Target="http://www.origindesign.uk.com/" TargetMode="External"/><Relationship Id="rId131" Type="http://schemas.openxmlformats.org/officeDocument/2006/relationships/hyperlink" Target="http://www.origindesign.uk.com/" TargetMode="External"/><Relationship Id="rId132" Type="http://schemas.openxmlformats.org/officeDocument/2006/relationships/hyperlink" Target="http://www.origindesign.uk.com/" TargetMode="External"/><Relationship Id="rId133" Type="http://schemas.openxmlformats.org/officeDocument/2006/relationships/hyperlink" Target="http://www.origindesign.uk.com/" TargetMode="External"/><Relationship Id="rId134" Type="http://schemas.openxmlformats.org/officeDocument/2006/relationships/hyperlink" Target="http://www.origindesign.uk.com/" TargetMode="External"/><Relationship Id="rId135" Type="http://schemas.openxmlformats.org/officeDocument/2006/relationships/hyperlink" Target="http://www.origindesign.uk.com/" TargetMode="External"/><Relationship Id="rId136" Type="http://schemas.openxmlformats.org/officeDocument/2006/relationships/hyperlink" Target="http://www.origindesign.uk.com/" TargetMode="External"/><Relationship Id="rId137" Type="http://schemas.openxmlformats.org/officeDocument/2006/relationships/hyperlink" Target="http://www.origindesign.uk.com/" TargetMode="External"/><Relationship Id="rId138" Type="http://schemas.openxmlformats.org/officeDocument/2006/relationships/hyperlink" Target="http://www.origindesign.uk.com/" TargetMode="External"/><Relationship Id="rId139" Type="http://schemas.openxmlformats.org/officeDocument/2006/relationships/hyperlink" Target="http://www.origindesign.uk.com/" TargetMode="External"/><Relationship Id="rId140" Type="http://schemas.openxmlformats.org/officeDocument/2006/relationships/hyperlink" Target="http://www.origindesign.uk.com/" TargetMode="External"/><Relationship Id="rId141" Type="http://schemas.openxmlformats.org/officeDocument/2006/relationships/hyperlink" Target="http://www.yanj.cn/" TargetMode="External"/><Relationship Id="rId142" Type="http://schemas.openxmlformats.org/officeDocument/2006/relationships/hyperlink" Target="http://www.yanj.cn/" TargetMode="External"/><Relationship Id="rId143" Type="http://schemas.openxmlformats.org/officeDocument/2006/relationships/hyperlink" Target="http://www.eeppt.com/moban/" TargetMode="External"/><Relationship Id="rId14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origindesign.uk.com/resources/content-marketing-companion/" TargetMode="External"/><Relationship Id="rId10" Type="http://schemas.openxmlformats.org/officeDocument/2006/relationships/hyperlink" Target="http://www.origindesign.uk.com/resources/content-marketing-companion/" TargetMode="External"/><Relationship Id="rId11" Type="http://schemas.openxmlformats.org/officeDocument/2006/relationships/hyperlink" Target="http://www.origindesign.uk.com/resources/content-marketing-companion/" TargetMode="External"/><Relationship Id="rId12" Type="http://schemas.openxmlformats.org/officeDocument/2006/relationships/hyperlink" Target="http://www.origindesign.uk.com/resources/content-marketing-companion/" TargetMode="External"/><Relationship Id="rId13" Type="http://schemas.openxmlformats.org/officeDocument/2006/relationships/hyperlink" Target="http://www.yanj.cn/" TargetMode="External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origindesign.uk.com/resources/content-marketing-companion/" TargetMode="External"/><Relationship Id="rId3" Type="http://schemas.openxmlformats.org/officeDocument/2006/relationships/hyperlink" Target="http://www.origindesign.uk.com/resources/content-marketing-companion/" TargetMode="External"/><Relationship Id="rId4" Type="http://schemas.openxmlformats.org/officeDocument/2006/relationships/hyperlink" Target="http://www.origindesign.uk.com/resources/content-marketing-companion/" TargetMode="External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origindesign.uk.com/resources/content-marketing-companion/" TargetMode="External"/><Relationship Id="rId10" Type="http://schemas.openxmlformats.org/officeDocument/2006/relationships/hyperlink" Target="http://www.origindesign.uk.com/resources/content-marketing-companion/" TargetMode="External"/><Relationship Id="rId11" Type="http://schemas.openxmlformats.org/officeDocument/2006/relationships/hyperlink" Target="http://www.origindesign.uk.com/resources/content-marketing-companion/" TargetMode="External"/><Relationship Id="rId12" Type="http://schemas.openxmlformats.org/officeDocument/2006/relationships/hyperlink" Target="http://www.yanj.cn/" TargetMode="External"/><Relationship Id="rId1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origindesign.uk.com/resources/content-marketing-companion/" TargetMode="External"/><Relationship Id="rId3" Type="http://schemas.openxmlformats.org/officeDocument/2006/relationships/hyperlink" Target="http://www.origindesign.uk.com/resources/content-marketing-companion/" TargetMode="External"/><Relationship Id="rId4" Type="http://schemas.openxmlformats.org/officeDocument/2006/relationships/hyperlink" Target="http://www.origindesign.uk.com/resources/content-marketing-companion/" TargetMode="External"/><Relationship Id="rId5" Type="http://schemas.openxmlformats.org/officeDocument/2006/relationships/hyperlink" Target="http://www.origindesign.uk.com/resources/content-marketing-companion/" TargetMode="External"/><Relationship Id="rId6" Type="http://schemas.openxmlformats.org/officeDocument/2006/relationships/hyperlink" Target="http://www.origindesign.uk.com/resources/content-marketing-companion/" TargetMode="External"/><Relationship Id="rId7" Type="http://schemas.openxmlformats.org/officeDocument/2006/relationships/hyperlink" Target="http://www.origindesign.uk.com/resources/content-marketing-companion/" TargetMode="External"/><Relationship Id="rId8" Type="http://schemas.openxmlformats.org/officeDocument/2006/relationships/hyperlink" Target="http://www.origindesign.uk.com/resources/content-marketing-companio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5615280" y="3324240"/>
            <a:ext cx="15922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NT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113840" y="3416400"/>
            <a:ext cx="32076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4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ONTE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8037720" y="4559400"/>
            <a:ext cx="17996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NG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7476840" y="3365640"/>
            <a:ext cx="1083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4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TI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19640" y="4527720"/>
            <a:ext cx="29455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00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ARKE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5539320" y="4481640"/>
            <a:ext cx="2273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8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ION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4906800" y="5721480"/>
            <a:ext cx="16927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0599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AN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065960" y="2362320"/>
            <a:ext cx="16272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8201"/>
              </a:lnSpc>
            </a:pPr>
            <a:r>
              <a:rPr b="0" lang="en-US" sz="6910" spc="-1" strike="noStrike">
                <a:solidFill>
                  <a:srgbClr val="314251"/>
                </a:solidFill>
                <a:latin typeface="微软雅黑"/>
              </a:rPr>
              <a:t>THE</a:t>
            </a:r>
            <a:endParaRPr b="0" lang="en-US" sz="69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083600" y="3467160"/>
            <a:ext cx="766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6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C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083240" y="4686480"/>
            <a:ext cx="10969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96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M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113120" y="5549760"/>
            <a:ext cx="351396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2501"/>
              </a:lnSpc>
            </a:pPr>
            <a:r>
              <a:rPr b="0" lang="en-US" sz="9520" spc="-1" strike="noStrike">
                <a:solidFill>
                  <a:srgbClr val="314251"/>
                </a:solidFill>
                <a:latin typeface="微软雅黑"/>
              </a:rPr>
              <a:t>COMP</a:t>
            </a:r>
            <a:endParaRPr b="0" lang="en-US" sz="95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236920" y="7175520"/>
            <a:ext cx="3547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900"/>
              </a:lnSpc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urchas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journe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306400" y="7594560"/>
            <a:ext cx="4677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e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o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our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u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e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5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6" name="矩形 16">
            <a:hlinkClick r:id="rId3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3774960" y="2811600"/>
            <a:ext cx="5787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绿色创意脚印通用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690120" y="91677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762120" y="9042480"/>
            <a:ext cx="16498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792720" y="380880"/>
            <a:ext cx="1174896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  <a:tabLst>
                <a:tab algn="l" pos="1153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600"/>
              </a:lnSpc>
              <a:tabLst>
                <a:tab algn="l" pos="11531520"/>
              </a:tabLst>
            </a:pP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make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sure</a:t>
            </a:r>
            <a:endParaRPr b="0" lang="en-US" sz="76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11531520"/>
              </a:tabLst>
            </a:pP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the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hat</a:t>
            </a:r>
            <a:r>
              <a:rPr b="0" lang="en-US" sz="769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690" spc="-1" strike="noStrike">
                <a:solidFill>
                  <a:srgbClr val="314251"/>
                </a:solidFill>
                <a:latin typeface="微软雅黑"/>
              </a:rPr>
              <a:t>fits...</a:t>
            </a:r>
            <a:endParaRPr b="0" lang="en-US" sz="769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000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n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o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e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provi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udienc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wil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look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journey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nee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ssu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experienc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ember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ak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Un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(DM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120672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190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904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"/>
          <p:cNvSpPr/>
          <p:nvPr/>
        </p:nvSpPr>
        <p:spPr>
          <a:xfrm>
            <a:off x="411480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317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31752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702324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291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ech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29196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9944280" y="7264440"/>
            <a:ext cx="1371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41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Sen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4190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8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"/>
          <p:cNvSpPr/>
          <p:nvPr/>
        </p:nvSpPr>
        <p:spPr>
          <a:xfrm>
            <a:off x="6485400" y="6400800"/>
            <a:ext cx="15829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200"/>
              </a:lnSpc>
            </a:pP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Joi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our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a4b314"/>
                </a:solidFill>
                <a:latin typeface="Times New Roman"/>
              </a:rPr>
              <a:t>n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6437520" y="3327480"/>
            <a:ext cx="1183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Brand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Q&amp;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6548400" y="3556080"/>
            <a:ext cx="360324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Gett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answer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ne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an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brand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proj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"/>
              </a:rPr>
              <a:t>reli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4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5"/>
              </a:rPr>
              <a:t>know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6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7"/>
              </a:rPr>
              <a:t>righ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8"/>
              </a:rPr>
              <a:t>question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0"/>
              </a:rPr>
              <a:t>as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1"/>
              </a:rPr>
              <a:t>i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2"/>
              </a:rPr>
              <a:t>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3"/>
              </a:rPr>
              <a:t>firs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4"/>
              </a:rPr>
              <a:t>place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5"/>
              </a:rPr>
              <a:t>Brand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6"/>
              </a:rPr>
              <a:t>Q&amp;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7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8"/>
              </a:rPr>
              <a:t>introdu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29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0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1"/>
              </a:rPr>
              <a:t>a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2"/>
              </a:rPr>
              <a:t>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3"/>
              </a:rPr>
              <a:t>o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4"/>
              </a:rPr>
              <a:t>explor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5"/>
              </a:rPr>
              <a:t>y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6"/>
              </a:rPr>
              <a:t>br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7"/>
              </a:rPr>
              <a:t>t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8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39"/>
              </a:rPr>
              <a:t>provid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0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1"/>
              </a:rPr>
              <a:t>with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2"/>
              </a:rPr>
              <a:t>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3"/>
              </a:rPr>
              <a:t>foundation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4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5"/>
              </a:rPr>
              <a:t>mo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46"/>
              </a:rPr>
              <a:t>forwar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6498000" y="4737240"/>
            <a:ext cx="215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99"/>
              </a:lnSpc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7"/>
              </a:rPr>
              <a:t>Integr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8"/>
              </a:rPr>
              <a:t>Campaig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Times New Roman"/>
                <a:hlinkClick r:id="rId49"/>
              </a:rPr>
              <a:t>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"/>
          <p:cNvSpPr/>
          <p:nvPr/>
        </p:nvSpPr>
        <p:spPr>
          <a:xfrm>
            <a:off x="6544440" y="4952880"/>
            <a:ext cx="39157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001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0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1"/>
              </a:rPr>
              <a:t>ha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2"/>
              </a:rPr>
              <a:t>mov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3"/>
              </a:rPr>
              <a:t>beyo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4"/>
              </a:rPr>
              <a:t>think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5"/>
              </a:rPr>
              <a:t>o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6"/>
              </a:rPr>
              <a:t>market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7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8"/>
              </a:rPr>
              <a:t>onlin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59"/>
              </a:rPr>
              <a:t>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0"/>
              </a:rPr>
              <a:t>off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1"/>
              </a:rPr>
              <a:t>inbou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2"/>
              </a:rPr>
              <a:t>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3"/>
              </a:rPr>
              <a:t>out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4"/>
              </a:rPr>
              <a:t>digita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5"/>
              </a:rPr>
              <a:t>o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6"/>
              </a:rPr>
              <a:t>analog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7"/>
              </a:rPr>
              <a:t>Now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8"/>
              </a:rPr>
              <a:t>it’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69"/>
              </a:rPr>
              <a:t>everything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0"/>
              </a:rPr>
              <a:t>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1"/>
              </a:rPr>
              <a:t>connect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2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3"/>
              </a:rPr>
              <a:t>integrated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4"/>
              </a:rPr>
              <a:t>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5"/>
              </a:rPr>
              <a:t>integrat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6"/>
              </a:rPr>
              <a:t>campaig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7"/>
              </a:rPr>
              <a:t>gu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8"/>
              </a:rPr>
              <a:t>explor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79"/>
              </a:rPr>
              <a:t>th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0"/>
              </a:rPr>
              <a:t>basic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1"/>
              </a:rPr>
              <a:t>mode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2"/>
              </a:rPr>
              <a:t>t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3"/>
              </a:rPr>
              <a:t>wi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4"/>
              </a:rPr>
              <a:t>se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5"/>
              </a:rPr>
              <a:t>improv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6"/>
              </a:rPr>
              <a:t>resul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7"/>
              </a:rPr>
              <a:t>from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8"/>
              </a:rPr>
              <a:t>y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89"/>
              </a:rPr>
              <a:t>nex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0"/>
              </a:rPr>
              <a:t>campaig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6597720" y="6692760"/>
            <a:ext cx="3720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2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1"/>
              </a:rPr>
              <a:t>If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2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3"/>
              </a:rPr>
              <a:t>ar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4"/>
              </a:rPr>
              <a:t>no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5"/>
              </a:rPr>
              <a:t>already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6"/>
              </a:rPr>
              <a:t>sign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7"/>
              </a:rPr>
              <a:t>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8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99"/>
              </a:rPr>
              <a:t>Origin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0"/>
              </a:rPr>
              <a:t>n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1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2"/>
              </a:rPr>
              <a:t>ca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3"/>
              </a:rPr>
              <a:t>registe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4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5"/>
              </a:rPr>
              <a:t>ou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6"/>
              </a:rPr>
              <a:t>website.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7"/>
              </a:rPr>
              <a:t>Citizensh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8"/>
              </a:rPr>
              <a:t>includ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09"/>
              </a:rPr>
              <a:t>advance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0"/>
              </a:rPr>
              <a:t>notic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1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2"/>
              </a:rPr>
              <a:t>instan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3"/>
              </a:rPr>
              <a:t>acces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4"/>
              </a:rPr>
              <a:t>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5"/>
              </a:rPr>
              <a:t>asset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6"/>
              </a:rPr>
              <a:t>a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7"/>
              </a:rPr>
              <a:t>tool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8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19"/>
              </a:rPr>
              <a:t>create,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0"/>
              </a:rPr>
              <a:t>updat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1"/>
              </a:rPr>
              <a:t>o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2"/>
              </a:rPr>
              <a:t>article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3"/>
              </a:rPr>
              <a:t>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4"/>
              </a:rPr>
              <a:t>wha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5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6"/>
              </a:rPr>
              <a:t>hav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7"/>
              </a:rPr>
              <a:t>been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8"/>
              </a:rPr>
              <a:t>up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29"/>
              </a:rPr>
              <a:t>to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0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1"/>
              </a:rPr>
              <a:t>well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2"/>
              </a:rPr>
              <a:t>as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3"/>
              </a:rPr>
              <a:t>other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4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</a:pP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5"/>
              </a:rPr>
              <a:t>w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6"/>
              </a:rPr>
              <a:t>think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7"/>
              </a:rPr>
              <a:t>you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8"/>
              </a:rPr>
              <a:t>migh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39"/>
              </a:rPr>
              <a:t>find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 u="sng">
                <a:solidFill>
                  <a:srgbClr val="0000ff"/>
                </a:solidFill>
                <a:uFillTx/>
                <a:latin typeface="Times New Roman"/>
                <a:hlinkClick r:id="rId140"/>
              </a:rPr>
              <a:t>interest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6541200" y="2806560"/>
            <a:ext cx="370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399"/>
              </a:lnSpc>
            </a:pP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gui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4b314"/>
                </a:solidFill>
                <a:latin typeface="Times New Roman"/>
              </a:rPr>
              <a:t>usef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1398960" y="863640"/>
            <a:ext cx="3856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6401"/>
              </a:lnSpc>
            </a:pPr>
            <a:r>
              <a:rPr b="0" lang="en-US" sz="6380" spc="-1" strike="noStrike">
                <a:solidFill>
                  <a:srgbClr val="a4b314"/>
                </a:solidFill>
                <a:latin typeface="微软雅黑"/>
              </a:rPr>
              <a:t>Download</a:t>
            </a:r>
            <a:endParaRPr b="0" lang="en-US" sz="63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1578960" y="1689120"/>
            <a:ext cx="4042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601"/>
              </a:lnSpc>
            </a:pP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the</a:t>
            </a:r>
            <a:r>
              <a:rPr b="0" lang="en-US" sz="458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full</a:t>
            </a:r>
            <a:r>
              <a:rPr b="0" lang="en-US" sz="458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580" spc="-1" strike="noStrike">
                <a:solidFill>
                  <a:srgbClr val="c7c9ca"/>
                </a:solidFill>
                <a:latin typeface="微软雅黑"/>
              </a:rPr>
              <a:t>version</a:t>
            </a:r>
            <a:endParaRPr b="0" lang="en-US" sz="45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2">
            <a:hlinkClick r:id="rId141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0" name="矩形 13">
            <a:hlinkClick r:id="rId14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406440" y="92019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4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9177840" y="1371600"/>
            <a:ext cx="402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N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9780840" y="1562040"/>
            <a:ext cx="4024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9906480" y="1587600"/>
            <a:ext cx="366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9309960" y="1930320"/>
            <a:ext cx="4554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9884160" y="2463840"/>
            <a:ext cx="360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1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9676440" y="2590920"/>
            <a:ext cx="281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9813960" y="3098880"/>
            <a:ext cx="374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0094040" y="3022560"/>
            <a:ext cx="334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9280440" y="3276720"/>
            <a:ext cx="424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I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1288880" y="1333440"/>
            <a:ext cx="231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0846800" y="1473120"/>
            <a:ext cx="379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11475720" y="2222640"/>
            <a:ext cx="98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1092680" y="2260440"/>
            <a:ext cx="547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HA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S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1008440" y="2222640"/>
            <a:ext cx="2206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</a:pPr>
            <a:r>
              <a:rPr b="0" lang="en-US" sz="910" spc="-1" strike="noStrike">
                <a:solidFill>
                  <a:srgbClr val="314251"/>
                </a:solidFill>
                <a:latin typeface="Times New Roman"/>
              </a:rPr>
              <a:t>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11113560" y="2349360"/>
            <a:ext cx="1123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10816920" y="2387520"/>
            <a:ext cx="35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P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0906920" y="2844720"/>
            <a:ext cx="449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300" spc="-1" strike="noStrike">
                <a:solidFill>
                  <a:srgbClr val="314251"/>
                </a:solidFill>
                <a:latin typeface="微软雅黑"/>
              </a:rPr>
              <a:t>ADV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979560" y="6845400"/>
            <a:ext cx="67017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  <a:tabLst>
                <a:tab algn="l" pos="1536840"/>
              </a:tabLst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153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gu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sid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vario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ta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journ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536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provi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i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hou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deliv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eac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s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53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1536840"/>
              </a:tabLst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314000" y="4902120"/>
            <a:ext cx="1130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Invest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&amp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is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4979520" y="6184800"/>
            <a:ext cx="7340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073640" y="5207040"/>
            <a:ext cx="787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596880" y="838080"/>
            <a:ext cx="76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4501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i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v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purchas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journey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br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ccompan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custom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v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ste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rd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ens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3606840"/>
                <a:tab algn="l" pos="6997680"/>
              </a:tabLst>
            </a:pP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desir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outcom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–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the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buy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from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a4b314"/>
                </a:solidFill>
                <a:latin typeface="Times New Roman"/>
              </a:rPr>
              <a:t>you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3606840"/>
                <a:tab algn="l" pos="6997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3606840"/>
                <a:tab algn="l" pos="6997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3606840"/>
                <a:tab algn="l" pos="6997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1172240" y="5969160"/>
            <a:ext cx="9338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dv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ssass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1132280" y="1434960"/>
            <a:ext cx="518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100"/>
              </a:lnSpc>
              <a:tabLst>
                <a:tab algn="l" pos="50760"/>
                <a:tab algn="l" pos="139680"/>
              </a:tabLst>
            </a:pP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3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50760"/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314251"/>
                </a:solidFill>
                <a:latin typeface="微软雅黑"/>
              </a:rPr>
              <a:t>C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0191600" y="2413080"/>
            <a:ext cx="114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4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9446040" y="1473120"/>
            <a:ext cx="640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99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ST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01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900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600" spc="-1" strike="noStrike">
                <a:solidFill>
                  <a:srgbClr val="314251"/>
                </a:solidFill>
                <a:latin typeface="微软雅黑"/>
              </a:rPr>
              <a:t>D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  <a:tab algn="l" pos="165240"/>
                <a:tab algn="l" pos="254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50760"/>
                <a:tab algn="l" pos="165240"/>
                <a:tab algn="l" pos="2541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微软雅黑"/>
              </a:rPr>
              <a:t>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9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3"/>
          <p:cNvSpPr/>
          <p:nvPr/>
        </p:nvSpPr>
        <p:spPr>
          <a:xfrm>
            <a:off x="1163160" y="1328400"/>
            <a:ext cx="2292480" cy="2087640"/>
          </a:xfrm>
          <a:custGeom>
            <a:avLst/>
            <a:gdLst>
              <a:gd name="textAreaLeft" fmla="*/ 0 w 2292480"/>
              <a:gd name="textAreaRight" fmla="*/ 2292840 w 229248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292794" h="2087994">
                <a:moveTo>
                  <a:pt x="693000" y="100799"/>
                </a:moveTo>
                <a:lnTo>
                  <a:pt x="888796" y="10795"/>
                </a:lnTo>
                <a:lnTo>
                  <a:pt x="1104798" y="0"/>
                </a:lnTo>
                <a:lnTo>
                  <a:pt x="1224000" y="10795"/>
                </a:lnTo>
                <a:lnTo>
                  <a:pt x="1287005" y="130505"/>
                </a:lnTo>
                <a:lnTo>
                  <a:pt x="1392796" y="154800"/>
                </a:lnTo>
                <a:lnTo>
                  <a:pt x="1561503" y="144005"/>
                </a:lnTo>
                <a:lnTo>
                  <a:pt x="1662798" y="154800"/>
                </a:lnTo>
                <a:lnTo>
                  <a:pt x="1799996" y="190804"/>
                </a:lnTo>
                <a:lnTo>
                  <a:pt x="1831505" y="280797"/>
                </a:lnTo>
                <a:lnTo>
                  <a:pt x="1914804" y="391502"/>
                </a:lnTo>
                <a:lnTo>
                  <a:pt x="1932800" y="604799"/>
                </a:lnTo>
                <a:lnTo>
                  <a:pt x="1903501" y="666000"/>
                </a:lnTo>
                <a:cubicBezTo>
                  <a:pt x="1903501" y="666000"/>
                  <a:pt x="2022805" y="694804"/>
                  <a:pt x="2040801" y="694804"/>
                </a:cubicBezTo>
                <a:cubicBezTo>
                  <a:pt x="2058797" y="694804"/>
                  <a:pt x="2148801" y="766800"/>
                  <a:pt x="2148801" y="766800"/>
                </a:cubicBezTo>
                <a:lnTo>
                  <a:pt x="2214003" y="832497"/>
                </a:lnTo>
                <a:lnTo>
                  <a:pt x="2292794" y="1030503"/>
                </a:lnTo>
                <a:cubicBezTo>
                  <a:pt x="2292794" y="1030503"/>
                  <a:pt x="2286000" y="1160995"/>
                  <a:pt x="2209495" y="1264501"/>
                </a:cubicBezTo>
                <a:cubicBezTo>
                  <a:pt x="2133002" y="1368005"/>
                  <a:pt x="2047506" y="1378801"/>
                  <a:pt x="2047506" y="1378801"/>
                </a:cubicBezTo>
                <a:lnTo>
                  <a:pt x="1961997" y="1426502"/>
                </a:lnTo>
                <a:lnTo>
                  <a:pt x="1953005" y="1475994"/>
                </a:lnTo>
                <a:cubicBezTo>
                  <a:pt x="1953005" y="1475994"/>
                  <a:pt x="1964194" y="1525498"/>
                  <a:pt x="1975497" y="1543494"/>
                </a:cubicBezTo>
                <a:cubicBezTo>
                  <a:pt x="1986800" y="1561503"/>
                  <a:pt x="1993506" y="1702803"/>
                  <a:pt x="1993506" y="1702803"/>
                </a:cubicBezTo>
                <a:lnTo>
                  <a:pt x="1932800" y="1764004"/>
                </a:lnTo>
                <a:lnTo>
                  <a:pt x="1806803" y="1818005"/>
                </a:lnTo>
                <a:lnTo>
                  <a:pt x="1673999" y="1828800"/>
                </a:lnTo>
                <a:lnTo>
                  <a:pt x="1556994" y="1828800"/>
                </a:lnTo>
                <a:lnTo>
                  <a:pt x="1518805" y="1900796"/>
                </a:lnTo>
                <a:lnTo>
                  <a:pt x="1374800" y="1957501"/>
                </a:lnTo>
                <a:lnTo>
                  <a:pt x="1251000" y="1954796"/>
                </a:lnTo>
                <a:lnTo>
                  <a:pt x="1133995" y="1890001"/>
                </a:lnTo>
                <a:lnTo>
                  <a:pt x="1061999" y="1900796"/>
                </a:lnTo>
                <a:lnTo>
                  <a:pt x="1014806" y="1984502"/>
                </a:lnTo>
                <a:lnTo>
                  <a:pt x="924801" y="2069998"/>
                </a:lnTo>
                <a:lnTo>
                  <a:pt x="726795" y="2087994"/>
                </a:lnTo>
                <a:lnTo>
                  <a:pt x="600798" y="2029498"/>
                </a:lnTo>
                <a:lnTo>
                  <a:pt x="492798" y="1900796"/>
                </a:lnTo>
                <a:lnTo>
                  <a:pt x="449999" y="1786496"/>
                </a:lnTo>
                <a:lnTo>
                  <a:pt x="422998" y="1687499"/>
                </a:lnTo>
                <a:lnTo>
                  <a:pt x="366801" y="1633499"/>
                </a:lnTo>
                <a:lnTo>
                  <a:pt x="240804" y="1588503"/>
                </a:lnTo>
                <a:lnTo>
                  <a:pt x="117005" y="1494002"/>
                </a:lnTo>
                <a:lnTo>
                  <a:pt x="54000" y="1381506"/>
                </a:lnTo>
                <a:lnTo>
                  <a:pt x="0" y="1187996"/>
                </a:lnTo>
                <a:lnTo>
                  <a:pt x="54000" y="1066495"/>
                </a:lnTo>
                <a:lnTo>
                  <a:pt x="135000" y="1007999"/>
                </a:lnTo>
                <a:lnTo>
                  <a:pt x="225005" y="936002"/>
                </a:lnTo>
                <a:lnTo>
                  <a:pt x="206997" y="845997"/>
                </a:lnTo>
                <a:lnTo>
                  <a:pt x="179997" y="676795"/>
                </a:lnTo>
                <a:lnTo>
                  <a:pt x="233997" y="496798"/>
                </a:lnTo>
                <a:lnTo>
                  <a:pt x="337502" y="400494"/>
                </a:lnTo>
                <a:lnTo>
                  <a:pt x="499503" y="373494"/>
                </a:lnTo>
                <a:lnTo>
                  <a:pt x="594004" y="373494"/>
                </a:lnTo>
                <a:lnTo>
                  <a:pt x="607504" y="256501"/>
                </a:lnTo>
                <a:lnTo>
                  <a:pt x="693000" y="100799"/>
                </a:ln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240920" y="3153240"/>
            <a:ext cx="36000" cy="36000"/>
          </a:xfrm>
          <a:custGeom>
            <a:avLst/>
            <a:gdLst>
              <a:gd name="textAreaLeft" fmla="*/ 0 w 36000"/>
              <a:gd name="textAreaRight" fmla="*/ 36360 w 36000"/>
              <a:gd name="textAreaTop" fmla="*/ 0 h 36000"/>
              <a:gd name="textAreaBottom" fmla="*/ 36360 h 36000"/>
            </a:gdLst>
            <a:ahLst/>
            <a:rect l="textAreaLeft" t="textAreaTop" r="textAreaRight" b="textAreaBottom"/>
            <a:pathLst>
              <a:path w="36304" h="36403">
                <a:moveTo>
                  <a:pt x="11044" y="26060"/>
                </a:moveTo>
                <a:cubicBezTo>
                  <a:pt x="25306" y="11874"/>
                  <a:pt x="36621" y="215"/>
                  <a:pt x="36304" y="0"/>
                </a:cubicBezTo>
                <a:cubicBezTo>
                  <a:pt x="35986" y="-203"/>
                  <a:pt x="24175" y="11048"/>
                  <a:pt x="10167" y="25362"/>
                </a:cubicBezTo>
                <a:cubicBezTo>
                  <a:pt x="-3852" y="39700"/>
                  <a:pt x="-3217" y="40233"/>
                  <a:pt x="11044" y="2606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197000" y="3210480"/>
            <a:ext cx="14760" cy="9720"/>
          </a:xfrm>
          <a:custGeom>
            <a:avLst/>
            <a:gdLst>
              <a:gd name="textAreaLeft" fmla="*/ 0 w 14760"/>
              <a:gd name="textAreaRight" fmla="*/ 15120 w 1476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5189" h="10007">
                <a:moveTo>
                  <a:pt x="15189" y="4279"/>
                </a:moveTo>
                <a:cubicBezTo>
                  <a:pt x="8204" y="9982"/>
                  <a:pt x="1397" y="12547"/>
                  <a:pt x="0" y="10007"/>
                </a:cubicBezTo>
                <a:cubicBezTo>
                  <a:pt x="-1397" y="7480"/>
                  <a:pt x="4368" y="3098"/>
                  <a:pt x="12788" y="0"/>
                </a:cubicBezTo>
                <a:cubicBezTo>
                  <a:pt x="21208" y="-3111"/>
                  <a:pt x="22174" y="-1422"/>
                  <a:pt x="15189" y="42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4920" bIns="-34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664640" y="3796920"/>
            <a:ext cx="360" cy="1440"/>
          </a:xfrm>
          <a:custGeom>
            <a:avLst/>
            <a:gdLst>
              <a:gd name="textAreaLeft" fmla="*/ 0 w 360"/>
              <a:gd name="textAreaRight" fmla="*/ 720 w 3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47" h="1854">
                <a:moveTo>
                  <a:pt x="0" y="1536"/>
                </a:moveTo>
                <a:cubicBezTo>
                  <a:pt x="63" y="2552"/>
                  <a:pt x="355" y="2705"/>
                  <a:pt x="647" y="1854"/>
                </a:cubicBezTo>
                <a:cubicBezTo>
                  <a:pt x="952" y="1015"/>
                  <a:pt x="888" y="177"/>
                  <a:pt x="533" y="0"/>
                </a:cubicBezTo>
                <a:cubicBezTo>
                  <a:pt x="177" y="-165"/>
                  <a:pt x="-63" y="520"/>
                  <a:pt x="0" y="153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4187880" y="1184040"/>
            <a:ext cx="273600" cy="264600"/>
          </a:xfrm>
          <a:custGeom>
            <a:avLst/>
            <a:gdLst>
              <a:gd name="textAreaLeft" fmla="*/ 0 w 273600"/>
              <a:gd name="textAreaRight" fmla="*/ 273960 w 273600"/>
              <a:gd name="textAreaTop" fmla="*/ 0 h 264600"/>
              <a:gd name="textAreaBottom" fmla="*/ 264960 h 264600"/>
            </a:gdLst>
            <a:ahLst/>
            <a:rect l="textAreaLeft" t="textAreaTop" r="textAreaRight" b="textAreaBottom"/>
            <a:pathLst>
              <a:path w="273837" h="264890">
                <a:moveTo>
                  <a:pt x="174002" y="85845"/>
                </a:moveTo>
                <a:cubicBezTo>
                  <a:pt x="168490" y="99371"/>
                  <a:pt x="162890" y="112871"/>
                  <a:pt x="157035" y="126244"/>
                </a:cubicBezTo>
                <a:cubicBezTo>
                  <a:pt x="152692" y="136163"/>
                  <a:pt x="146621" y="152050"/>
                  <a:pt x="140043" y="152723"/>
                </a:cubicBezTo>
                <a:cubicBezTo>
                  <a:pt x="129870" y="153765"/>
                  <a:pt x="117233" y="145840"/>
                  <a:pt x="108039" y="138639"/>
                </a:cubicBezTo>
                <a:cubicBezTo>
                  <a:pt x="96126" y="129317"/>
                  <a:pt x="84607" y="119526"/>
                  <a:pt x="72440" y="108972"/>
                </a:cubicBezTo>
                <a:cubicBezTo>
                  <a:pt x="53124" y="92195"/>
                  <a:pt x="42278" y="99777"/>
                  <a:pt x="48183" y="125977"/>
                </a:cubicBezTo>
                <a:cubicBezTo>
                  <a:pt x="54736" y="154959"/>
                  <a:pt x="60655" y="181133"/>
                  <a:pt x="66649" y="207295"/>
                </a:cubicBezTo>
                <a:cubicBezTo>
                  <a:pt x="69240" y="218636"/>
                  <a:pt x="74638" y="229888"/>
                  <a:pt x="74587" y="241166"/>
                </a:cubicBezTo>
                <a:cubicBezTo>
                  <a:pt x="74549" y="248037"/>
                  <a:pt x="73393" y="254882"/>
                  <a:pt x="71932" y="261740"/>
                </a:cubicBezTo>
                <a:cubicBezTo>
                  <a:pt x="69532" y="272967"/>
                  <a:pt x="62953" y="274377"/>
                  <a:pt x="57505" y="264890"/>
                </a:cubicBezTo>
                <a:cubicBezTo>
                  <a:pt x="54140" y="259060"/>
                  <a:pt x="51117" y="253142"/>
                  <a:pt x="49326" y="246868"/>
                </a:cubicBezTo>
                <a:cubicBezTo>
                  <a:pt x="32258" y="187229"/>
                  <a:pt x="16243" y="127273"/>
                  <a:pt x="609" y="67227"/>
                </a:cubicBezTo>
                <a:cubicBezTo>
                  <a:pt x="-431" y="63226"/>
                  <a:pt x="-355" y="58934"/>
                  <a:pt x="0" y="54578"/>
                </a:cubicBezTo>
                <a:cubicBezTo>
                  <a:pt x="571" y="47555"/>
                  <a:pt x="6743" y="42500"/>
                  <a:pt x="13703" y="43351"/>
                </a:cubicBezTo>
                <a:cubicBezTo>
                  <a:pt x="18135" y="43897"/>
                  <a:pt x="22364" y="44761"/>
                  <a:pt x="25780" y="46907"/>
                </a:cubicBezTo>
                <a:cubicBezTo>
                  <a:pt x="50965" y="62655"/>
                  <a:pt x="76098" y="78784"/>
                  <a:pt x="99415" y="97097"/>
                </a:cubicBezTo>
                <a:cubicBezTo>
                  <a:pt x="119189" y="112629"/>
                  <a:pt x="131737" y="120732"/>
                  <a:pt x="141884" y="87687"/>
                </a:cubicBezTo>
                <a:cubicBezTo>
                  <a:pt x="149364" y="63290"/>
                  <a:pt x="163157" y="40468"/>
                  <a:pt x="176453" y="18319"/>
                </a:cubicBezTo>
                <a:cubicBezTo>
                  <a:pt x="191033" y="-6000"/>
                  <a:pt x="209702" y="-6661"/>
                  <a:pt x="217830" y="19665"/>
                </a:cubicBezTo>
                <a:cubicBezTo>
                  <a:pt x="239471" y="89795"/>
                  <a:pt x="256184" y="161448"/>
                  <a:pt x="273837" y="232746"/>
                </a:cubicBezTo>
                <a:cubicBezTo>
                  <a:pt x="274434" y="235197"/>
                  <a:pt x="272364" y="238309"/>
                  <a:pt x="269786" y="241547"/>
                </a:cubicBezTo>
                <a:cubicBezTo>
                  <a:pt x="266357" y="245852"/>
                  <a:pt x="259791" y="245256"/>
                  <a:pt x="255054" y="240112"/>
                </a:cubicBezTo>
                <a:cubicBezTo>
                  <a:pt x="251993" y="236785"/>
                  <a:pt x="249326" y="233356"/>
                  <a:pt x="248361" y="229495"/>
                </a:cubicBezTo>
                <a:cubicBezTo>
                  <a:pt x="236906" y="184448"/>
                  <a:pt x="227101" y="138969"/>
                  <a:pt x="216243" y="93757"/>
                </a:cubicBezTo>
                <a:cubicBezTo>
                  <a:pt x="214325" y="85794"/>
                  <a:pt x="212064" y="77920"/>
                  <a:pt x="209702" y="70059"/>
                </a:cubicBezTo>
                <a:cubicBezTo>
                  <a:pt x="205790" y="57054"/>
                  <a:pt x="199872" y="46221"/>
                  <a:pt x="196532" y="45865"/>
                </a:cubicBezTo>
                <a:cubicBezTo>
                  <a:pt x="193192" y="45523"/>
                  <a:pt x="183134" y="63430"/>
                  <a:pt x="174002" y="858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4529520" y="1079640"/>
            <a:ext cx="56520" cy="234000"/>
          </a:xfrm>
          <a:custGeom>
            <a:avLst/>
            <a:gdLst>
              <a:gd name="textAreaLeft" fmla="*/ 0 w 56520"/>
              <a:gd name="textAreaRight" fmla="*/ 56880 w 56520"/>
              <a:gd name="textAreaTop" fmla="*/ 0 h 234000"/>
              <a:gd name="textAreaBottom" fmla="*/ 234360 h 234000"/>
            </a:gdLst>
            <a:ahLst/>
            <a:rect l="textAreaLeft" t="textAreaTop" r="textAreaRight" b="textAreaBottom"/>
            <a:pathLst>
              <a:path w="56769" h="234530">
                <a:moveTo>
                  <a:pt x="45186" y="135470"/>
                </a:moveTo>
                <a:cubicBezTo>
                  <a:pt x="49453" y="162661"/>
                  <a:pt x="53581" y="189864"/>
                  <a:pt x="56769" y="217195"/>
                </a:cubicBezTo>
                <a:cubicBezTo>
                  <a:pt x="57289" y="221780"/>
                  <a:pt x="55346" y="226656"/>
                  <a:pt x="52819" y="231597"/>
                </a:cubicBezTo>
                <a:cubicBezTo>
                  <a:pt x="49009" y="239064"/>
                  <a:pt x="41770" y="240385"/>
                  <a:pt x="36715" y="234530"/>
                </a:cubicBezTo>
                <a:cubicBezTo>
                  <a:pt x="33388" y="230682"/>
                  <a:pt x="30569" y="226758"/>
                  <a:pt x="29921" y="222503"/>
                </a:cubicBezTo>
                <a:cubicBezTo>
                  <a:pt x="22910" y="176783"/>
                  <a:pt x="18262" y="130708"/>
                  <a:pt x="11925" y="84861"/>
                </a:cubicBezTo>
                <a:cubicBezTo>
                  <a:pt x="8763" y="61950"/>
                  <a:pt x="2870" y="39395"/>
                  <a:pt x="0" y="16459"/>
                </a:cubicBezTo>
                <a:cubicBezTo>
                  <a:pt x="-546" y="12103"/>
                  <a:pt x="228" y="7581"/>
                  <a:pt x="1346" y="3022"/>
                </a:cubicBezTo>
                <a:cubicBezTo>
                  <a:pt x="3124" y="-4254"/>
                  <a:pt x="9296" y="-5613"/>
                  <a:pt x="15011" y="0"/>
                </a:cubicBezTo>
                <a:cubicBezTo>
                  <a:pt x="18706" y="3632"/>
                  <a:pt x="21920" y="7404"/>
                  <a:pt x="23240" y="11760"/>
                </a:cubicBezTo>
                <a:cubicBezTo>
                  <a:pt x="26936" y="24028"/>
                  <a:pt x="29933" y="36499"/>
                  <a:pt x="32702" y="49060"/>
                </a:cubicBezTo>
                <a:cubicBezTo>
                  <a:pt x="37287" y="69811"/>
                  <a:pt x="40132" y="86842"/>
                  <a:pt x="39255" y="87058"/>
                </a:cubicBezTo>
                <a:cubicBezTo>
                  <a:pt x="38379" y="87261"/>
                  <a:pt x="41021" y="108927"/>
                  <a:pt x="45186" y="13547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4568760" y="1396080"/>
            <a:ext cx="38160" cy="38160"/>
          </a:xfrm>
          <a:custGeom>
            <a:avLst/>
            <a:gdLst>
              <a:gd name="textAreaLeft" fmla="*/ 0 w 38160"/>
              <a:gd name="textAreaRight" fmla="*/ 38520 w 38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570" h="38620">
                <a:moveTo>
                  <a:pt x="8712" y="38620"/>
                </a:moveTo>
                <a:cubicBezTo>
                  <a:pt x="-1993" y="32969"/>
                  <a:pt x="-5892" y="21272"/>
                  <a:pt x="0" y="12534"/>
                </a:cubicBezTo>
                <a:cubicBezTo>
                  <a:pt x="4204" y="6311"/>
                  <a:pt x="8585" y="1028"/>
                  <a:pt x="13804" y="0"/>
                </a:cubicBezTo>
                <a:cubicBezTo>
                  <a:pt x="19342" y="-1079"/>
                  <a:pt x="25666" y="1752"/>
                  <a:pt x="32156" y="5486"/>
                </a:cubicBezTo>
                <a:cubicBezTo>
                  <a:pt x="41503" y="10871"/>
                  <a:pt x="44361" y="22796"/>
                  <a:pt x="38570" y="32054"/>
                </a:cubicBezTo>
                <a:cubicBezTo>
                  <a:pt x="32779" y="41325"/>
                  <a:pt x="19418" y="44272"/>
                  <a:pt x="8712" y="3862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3334680" y="3321360"/>
            <a:ext cx="87120" cy="60480"/>
          </a:xfrm>
          <a:custGeom>
            <a:avLst/>
            <a:gdLst>
              <a:gd name="textAreaLeft" fmla="*/ 0 w 87120"/>
              <a:gd name="textAreaRight" fmla="*/ 87480 w 871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87347" h="60861">
                <a:moveTo>
                  <a:pt x="61417" y="43535"/>
                </a:moveTo>
                <a:cubicBezTo>
                  <a:pt x="95593" y="67195"/>
                  <a:pt x="96139" y="66433"/>
                  <a:pt x="62166" y="42468"/>
                </a:cubicBezTo>
                <a:cubicBezTo>
                  <a:pt x="28194" y="18491"/>
                  <a:pt x="253" y="-380"/>
                  <a:pt x="0" y="0"/>
                </a:cubicBezTo>
                <a:cubicBezTo>
                  <a:pt x="-253" y="380"/>
                  <a:pt x="27254" y="19862"/>
                  <a:pt x="61417" y="4353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3477240" y="3432240"/>
            <a:ext cx="66960" cy="39240"/>
          </a:xfrm>
          <a:custGeom>
            <a:avLst/>
            <a:gdLst>
              <a:gd name="textAreaLeft" fmla="*/ 0 w 66960"/>
              <a:gd name="textAreaRight" fmla="*/ 67320 w 66960"/>
              <a:gd name="textAreaTop" fmla="*/ 0 h 39240"/>
              <a:gd name="textAreaBottom" fmla="*/ 39600 h 39240"/>
            </a:gdLst>
            <a:ahLst/>
            <a:rect l="textAreaLeft" t="textAreaTop" r="textAreaRight" b="textAreaBottom"/>
            <a:pathLst>
              <a:path w="67348" h="39541">
                <a:moveTo>
                  <a:pt x="26377" y="4146"/>
                </a:moveTo>
                <a:cubicBezTo>
                  <a:pt x="51600" y="20008"/>
                  <a:pt x="69951" y="35858"/>
                  <a:pt x="67348" y="39541"/>
                </a:cubicBezTo>
                <a:cubicBezTo>
                  <a:pt x="64744" y="43224"/>
                  <a:pt x="38303" y="37775"/>
                  <a:pt x="12141" y="20618"/>
                </a:cubicBezTo>
                <a:cubicBezTo>
                  <a:pt x="-14008" y="3460"/>
                  <a:pt x="1168" y="-11715"/>
                  <a:pt x="26377" y="414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3208680" y="1314360"/>
            <a:ext cx="29160" cy="69480"/>
          </a:xfrm>
          <a:custGeom>
            <a:avLst/>
            <a:gdLst>
              <a:gd name="textAreaLeft" fmla="*/ 0 w 29160"/>
              <a:gd name="textAreaRight" fmla="*/ 29520 w 29160"/>
              <a:gd name="textAreaTop" fmla="*/ 0 h 69480"/>
              <a:gd name="textAreaBottom" fmla="*/ 69840 h 69480"/>
            </a:gdLst>
            <a:ahLst/>
            <a:rect l="textAreaLeft" t="textAreaTop" r="textAreaRight" b="textAreaBottom"/>
            <a:pathLst>
              <a:path w="29614" h="69900">
                <a:moveTo>
                  <a:pt x="9118" y="33032"/>
                </a:moveTo>
                <a:cubicBezTo>
                  <a:pt x="13754" y="12433"/>
                  <a:pt x="22199" y="-2362"/>
                  <a:pt x="27977" y="0"/>
                </a:cubicBezTo>
                <a:cubicBezTo>
                  <a:pt x="33743" y="2362"/>
                  <a:pt x="29629" y="18859"/>
                  <a:pt x="18821" y="36868"/>
                </a:cubicBezTo>
                <a:cubicBezTo>
                  <a:pt x="8000" y="54863"/>
                  <a:pt x="-393" y="69672"/>
                  <a:pt x="0" y="69900"/>
                </a:cubicBezTo>
                <a:cubicBezTo>
                  <a:pt x="393" y="70142"/>
                  <a:pt x="4483" y="53632"/>
                  <a:pt x="9118" y="3303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3325680" y="3073680"/>
            <a:ext cx="51120" cy="30960"/>
          </a:xfrm>
          <a:custGeom>
            <a:avLst/>
            <a:gdLst>
              <a:gd name="textAreaLeft" fmla="*/ 0 w 51120"/>
              <a:gd name="textAreaRight" fmla="*/ 51480 w 51120"/>
              <a:gd name="textAreaTop" fmla="*/ 0 h 30960"/>
              <a:gd name="textAreaBottom" fmla="*/ 31320 h 30960"/>
            </a:gdLst>
            <a:ahLst/>
            <a:rect l="textAreaLeft" t="textAreaTop" r="textAreaRight" b="textAreaBottom"/>
            <a:pathLst>
              <a:path w="51487" h="31178">
                <a:moveTo>
                  <a:pt x="15038" y="23495"/>
                </a:moveTo>
                <a:cubicBezTo>
                  <a:pt x="-5383" y="19519"/>
                  <a:pt x="-5751" y="-8305"/>
                  <a:pt x="18365" y="0"/>
                </a:cubicBezTo>
                <a:cubicBezTo>
                  <a:pt x="42470" y="8305"/>
                  <a:pt x="51195" y="31432"/>
                  <a:pt x="51487" y="31178"/>
                </a:cubicBezTo>
                <a:cubicBezTo>
                  <a:pt x="51779" y="30924"/>
                  <a:pt x="35459" y="27470"/>
                  <a:pt x="15038" y="2349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3255120" y="3248280"/>
            <a:ext cx="36000" cy="29160"/>
          </a:xfrm>
          <a:custGeom>
            <a:avLst/>
            <a:gdLst>
              <a:gd name="textAreaLeft" fmla="*/ 0 w 36000"/>
              <a:gd name="textAreaRight" fmla="*/ 36360 w 36000"/>
              <a:gd name="textAreaTop" fmla="*/ 0 h 29160"/>
              <a:gd name="textAreaBottom" fmla="*/ 29520 h 29160"/>
            </a:gdLst>
            <a:ahLst/>
            <a:rect l="textAreaLeft" t="textAreaTop" r="textAreaRight" b="textAreaBottom"/>
            <a:pathLst>
              <a:path w="36233" h="29667">
                <a:moveTo>
                  <a:pt x="20459" y="12166"/>
                </a:moveTo>
                <a:cubicBezTo>
                  <a:pt x="31978" y="18541"/>
                  <a:pt x="39039" y="26377"/>
                  <a:pt x="36233" y="29667"/>
                </a:cubicBezTo>
                <a:cubicBezTo>
                  <a:pt x="33426" y="32969"/>
                  <a:pt x="24269" y="27520"/>
                  <a:pt x="15773" y="17500"/>
                </a:cubicBezTo>
                <a:cubicBezTo>
                  <a:pt x="7289" y="7492"/>
                  <a:pt x="215" y="-343"/>
                  <a:pt x="0" y="0"/>
                </a:cubicBezTo>
                <a:cubicBezTo>
                  <a:pt x="-215" y="342"/>
                  <a:pt x="8940" y="5791"/>
                  <a:pt x="20459" y="1216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3315960" y="3305880"/>
            <a:ext cx="18360" cy="15120"/>
          </a:xfrm>
          <a:custGeom>
            <a:avLst/>
            <a:gdLst>
              <a:gd name="textAreaLeft" fmla="*/ 0 w 18360"/>
              <a:gd name="textAreaRight" fmla="*/ 18720 w 18360"/>
              <a:gd name="textAreaTop" fmla="*/ 0 h 15120"/>
              <a:gd name="textAreaBottom" fmla="*/ 15480 h 15120"/>
            </a:gdLst>
            <a:ahLst/>
            <a:rect l="textAreaLeft" t="textAreaTop" r="textAreaRight" b="textAreaBottom"/>
            <a:pathLst>
              <a:path w="18846" h="15582">
                <a:moveTo>
                  <a:pt x="8712" y="8597"/>
                </a:moveTo>
                <a:cubicBezTo>
                  <a:pt x="2857" y="5105"/>
                  <a:pt x="-1028" y="1270"/>
                  <a:pt x="0" y="0"/>
                </a:cubicBezTo>
                <a:cubicBezTo>
                  <a:pt x="1041" y="-1270"/>
                  <a:pt x="5588" y="1854"/>
                  <a:pt x="10147" y="6984"/>
                </a:cubicBezTo>
                <a:cubicBezTo>
                  <a:pt x="14706" y="12103"/>
                  <a:pt x="18593" y="15963"/>
                  <a:pt x="18846" y="15582"/>
                </a:cubicBezTo>
                <a:cubicBezTo>
                  <a:pt x="19100" y="15214"/>
                  <a:pt x="14566" y="12077"/>
                  <a:pt x="8712" y="859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3223080" y="3230640"/>
            <a:ext cx="31680" cy="17280"/>
          </a:xfrm>
          <a:custGeom>
            <a:avLst/>
            <a:gdLst>
              <a:gd name="textAreaLeft" fmla="*/ 0 w 31680"/>
              <a:gd name="textAreaRight" fmla="*/ 32040 w 316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207" h="17640">
                <a:moveTo>
                  <a:pt x="15659" y="9487"/>
                </a:moveTo>
                <a:cubicBezTo>
                  <a:pt x="24574" y="14338"/>
                  <a:pt x="31978" y="17983"/>
                  <a:pt x="32207" y="17640"/>
                </a:cubicBezTo>
                <a:cubicBezTo>
                  <a:pt x="32423" y="17297"/>
                  <a:pt x="25425" y="13043"/>
                  <a:pt x="16560" y="8153"/>
                </a:cubicBezTo>
                <a:cubicBezTo>
                  <a:pt x="7696" y="3251"/>
                  <a:pt x="266" y="-380"/>
                  <a:pt x="0" y="0"/>
                </a:cubicBezTo>
                <a:cubicBezTo>
                  <a:pt x="-266" y="393"/>
                  <a:pt x="6743" y="4635"/>
                  <a:pt x="15659" y="94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3009600" y="3620880"/>
            <a:ext cx="10440" cy="11160"/>
          </a:xfrm>
          <a:custGeom>
            <a:avLst/>
            <a:gdLst>
              <a:gd name="textAreaLeft" fmla="*/ 0 w 10440"/>
              <a:gd name="textAreaRight" fmla="*/ 10800 w 10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0756" h="11506">
                <a:moveTo>
                  <a:pt x="0" y="4749"/>
                </a:moveTo>
                <a:cubicBezTo>
                  <a:pt x="380" y="1625"/>
                  <a:pt x="3035" y="-495"/>
                  <a:pt x="5943" y="0"/>
                </a:cubicBezTo>
                <a:cubicBezTo>
                  <a:pt x="8051" y="368"/>
                  <a:pt x="9931" y="876"/>
                  <a:pt x="10706" y="2095"/>
                </a:cubicBezTo>
                <a:cubicBezTo>
                  <a:pt x="11506" y="3365"/>
                  <a:pt x="11239" y="5283"/>
                  <a:pt x="10756" y="7366"/>
                </a:cubicBezTo>
                <a:cubicBezTo>
                  <a:pt x="10071" y="10261"/>
                  <a:pt x="7226" y="12115"/>
                  <a:pt x="4406" y="11506"/>
                </a:cubicBezTo>
                <a:cubicBezTo>
                  <a:pt x="1574" y="10909"/>
                  <a:pt x="-380" y="7873"/>
                  <a:pt x="0" y="47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1666800" y="1803600"/>
            <a:ext cx="15120" cy="16560"/>
          </a:xfrm>
          <a:custGeom>
            <a:avLst/>
            <a:gdLst>
              <a:gd name="textAreaLeft" fmla="*/ 0 w 15120"/>
              <a:gd name="textAreaRight" fmla="*/ 15480 w 15120"/>
              <a:gd name="textAreaTop" fmla="*/ 0 h 16560"/>
              <a:gd name="textAreaBottom" fmla="*/ 16920 h 16560"/>
            </a:gdLst>
            <a:ahLst/>
            <a:rect l="textAreaLeft" t="textAreaTop" r="textAreaRight" b="textAreaBottom"/>
            <a:pathLst>
              <a:path w="15417" h="17068">
                <a:moveTo>
                  <a:pt x="0" y="2743"/>
                </a:moveTo>
                <a:cubicBezTo>
                  <a:pt x="-2603" y="-5130"/>
                  <a:pt x="292" y="-6362"/>
                  <a:pt x="6464" y="0"/>
                </a:cubicBezTo>
                <a:cubicBezTo>
                  <a:pt x="12636" y="6362"/>
                  <a:pt x="16649" y="12420"/>
                  <a:pt x="15417" y="13525"/>
                </a:cubicBezTo>
                <a:cubicBezTo>
                  <a:pt x="14185" y="14630"/>
                  <a:pt x="11099" y="16840"/>
                  <a:pt x="8191" y="17068"/>
                </a:cubicBezTo>
                <a:cubicBezTo>
                  <a:pt x="5295" y="17297"/>
                  <a:pt x="3390" y="16472"/>
                  <a:pt x="3860" y="16662"/>
                </a:cubicBezTo>
                <a:cubicBezTo>
                  <a:pt x="4343" y="16853"/>
                  <a:pt x="2616" y="10617"/>
                  <a:pt x="0" y="274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3377160" y="3104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508" h="457">
                <a:moveTo>
                  <a:pt x="0" y="457"/>
                </a:moveTo>
                <a:cubicBezTo>
                  <a:pt x="254" y="228"/>
                  <a:pt x="508" y="0"/>
                  <a:pt x="508" y="0"/>
                </a:cubicBezTo>
                <a:cubicBezTo>
                  <a:pt x="546" y="0"/>
                  <a:pt x="292" y="228"/>
                  <a:pt x="25" y="457"/>
                </a:cubicBezTo>
                <a:cubicBezTo>
                  <a:pt x="-253" y="711"/>
                  <a:pt x="-266" y="723"/>
                  <a:pt x="0" y="45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2501640" y="2511000"/>
            <a:ext cx="499680" cy="480600"/>
          </a:xfrm>
          <a:custGeom>
            <a:avLst/>
            <a:gdLst>
              <a:gd name="textAreaLeft" fmla="*/ 0 w 499680"/>
              <a:gd name="textAreaRight" fmla="*/ 500040 w 499680"/>
              <a:gd name="textAreaTop" fmla="*/ 0 h 480600"/>
              <a:gd name="textAreaBottom" fmla="*/ 480960 h 480600"/>
            </a:gdLst>
            <a:ahLst/>
            <a:rect l="textAreaLeft" t="textAreaTop" r="textAreaRight" b="textAreaBottom"/>
            <a:pathLst>
              <a:path w="500024" h="481125">
                <a:moveTo>
                  <a:pt x="27641" y="425907"/>
                </a:moveTo>
                <a:cubicBezTo>
                  <a:pt x="49536" y="427672"/>
                  <a:pt x="69500" y="429488"/>
                  <a:pt x="89312" y="432308"/>
                </a:cubicBezTo>
                <a:cubicBezTo>
                  <a:pt x="141674" y="439750"/>
                  <a:pt x="185883" y="417372"/>
                  <a:pt x="196145" y="363766"/>
                </a:cubicBezTo>
                <a:cubicBezTo>
                  <a:pt x="208400" y="299732"/>
                  <a:pt x="209848" y="233680"/>
                  <a:pt x="217138" y="168618"/>
                </a:cubicBezTo>
                <a:cubicBezTo>
                  <a:pt x="217887" y="161988"/>
                  <a:pt x="219945" y="155498"/>
                  <a:pt x="222357" y="149047"/>
                </a:cubicBezTo>
                <a:cubicBezTo>
                  <a:pt x="226282" y="138518"/>
                  <a:pt x="237191" y="136309"/>
                  <a:pt x="246614" y="144157"/>
                </a:cubicBezTo>
                <a:cubicBezTo>
                  <a:pt x="252825" y="149326"/>
                  <a:pt x="258235" y="154762"/>
                  <a:pt x="260343" y="161251"/>
                </a:cubicBezTo>
                <a:cubicBezTo>
                  <a:pt x="277298" y="213588"/>
                  <a:pt x="309175" y="240995"/>
                  <a:pt x="365893" y="240195"/>
                </a:cubicBezTo>
                <a:cubicBezTo>
                  <a:pt x="403891" y="239661"/>
                  <a:pt x="422852" y="220726"/>
                  <a:pt x="431793" y="186385"/>
                </a:cubicBezTo>
                <a:cubicBezTo>
                  <a:pt x="446995" y="128041"/>
                  <a:pt x="419258" y="81076"/>
                  <a:pt x="393007" y="33248"/>
                </a:cubicBezTo>
                <a:cubicBezTo>
                  <a:pt x="389756" y="27317"/>
                  <a:pt x="387470" y="20853"/>
                  <a:pt x="385438" y="14249"/>
                </a:cubicBezTo>
                <a:cubicBezTo>
                  <a:pt x="382111" y="3441"/>
                  <a:pt x="389045" y="-3009"/>
                  <a:pt x="400831" y="0"/>
                </a:cubicBezTo>
                <a:cubicBezTo>
                  <a:pt x="408108" y="1854"/>
                  <a:pt x="415156" y="4076"/>
                  <a:pt x="421417" y="7683"/>
                </a:cubicBezTo>
                <a:cubicBezTo>
                  <a:pt x="471189" y="36436"/>
                  <a:pt x="514711" y="146824"/>
                  <a:pt x="497859" y="200685"/>
                </a:cubicBezTo>
                <a:cubicBezTo>
                  <a:pt x="485273" y="240995"/>
                  <a:pt x="454069" y="261226"/>
                  <a:pt x="414547" y="267119"/>
                </a:cubicBezTo>
                <a:cubicBezTo>
                  <a:pt x="371773" y="273507"/>
                  <a:pt x="319297" y="263042"/>
                  <a:pt x="288067" y="284581"/>
                </a:cubicBezTo>
                <a:cubicBezTo>
                  <a:pt x="259556" y="304253"/>
                  <a:pt x="257575" y="359067"/>
                  <a:pt x="237318" y="394639"/>
                </a:cubicBezTo>
                <a:cubicBezTo>
                  <a:pt x="193490" y="471601"/>
                  <a:pt x="103003" y="500837"/>
                  <a:pt x="27717" y="467791"/>
                </a:cubicBezTo>
                <a:cubicBezTo>
                  <a:pt x="-11931" y="450392"/>
                  <a:pt x="-6521" y="423151"/>
                  <a:pt x="27641" y="42590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1675080" y="2637720"/>
            <a:ext cx="666360" cy="352080"/>
          </a:xfrm>
          <a:custGeom>
            <a:avLst/>
            <a:gdLst>
              <a:gd name="textAreaLeft" fmla="*/ 0 w 666360"/>
              <a:gd name="textAreaRight" fmla="*/ 666720 w 66636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666868" h="352272">
                <a:moveTo>
                  <a:pt x="47400" y="82981"/>
                </a:moveTo>
                <a:cubicBezTo>
                  <a:pt x="62082" y="179425"/>
                  <a:pt x="135919" y="273469"/>
                  <a:pt x="225746" y="294220"/>
                </a:cubicBezTo>
                <a:cubicBezTo>
                  <a:pt x="284662" y="307835"/>
                  <a:pt x="304131" y="292735"/>
                  <a:pt x="307827" y="231038"/>
                </a:cubicBezTo>
                <a:cubicBezTo>
                  <a:pt x="308195" y="225107"/>
                  <a:pt x="309668" y="218782"/>
                  <a:pt x="312373" y="213525"/>
                </a:cubicBezTo>
                <a:cubicBezTo>
                  <a:pt x="317148" y="204254"/>
                  <a:pt x="322101" y="195084"/>
                  <a:pt x="327131" y="185927"/>
                </a:cubicBezTo>
                <a:cubicBezTo>
                  <a:pt x="335436" y="170776"/>
                  <a:pt x="348073" y="170230"/>
                  <a:pt x="355236" y="184670"/>
                </a:cubicBezTo>
                <a:cubicBezTo>
                  <a:pt x="359554" y="193395"/>
                  <a:pt x="363757" y="202183"/>
                  <a:pt x="367517" y="211137"/>
                </a:cubicBezTo>
                <a:cubicBezTo>
                  <a:pt x="385424" y="253745"/>
                  <a:pt x="402505" y="303872"/>
                  <a:pt x="453864" y="308165"/>
                </a:cubicBezTo>
                <a:cubicBezTo>
                  <a:pt x="509465" y="312813"/>
                  <a:pt x="574095" y="320395"/>
                  <a:pt x="603864" y="249212"/>
                </a:cubicBezTo>
                <a:cubicBezTo>
                  <a:pt x="605426" y="245465"/>
                  <a:pt x="609807" y="242887"/>
                  <a:pt x="616322" y="239115"/>
                </a:cubicBezTo>
                <a:cubicBezTo>
                  <a:pt x="624107" y="234581"/>
                  <a:pt x="628603" y="243700"/>
                  <a:pt x="626698" y="260006"/>
                </a:cubicBezTo>
                <a:cubicBezTo>
                  <a:pt x="624781" y="276301"/>
                  <a:pt x="636312" y="278091"/>
                  <a:pt x="652428" y="263994"/>
                </a:cubicBezTo>
                <a:cubicBezTo>
                  <a:pt x="668557" y="249897"/>
                  <a:pt x="676469" y="275691"/>
                  <a:pt x="647437" y="307822"/>
                </a:cubicBezTo>
                <a:cubicBezTo>
                  <a:pt x="622240" y="335724"/>
                  <a:pt x="586719" y="354114"/>
                  <a:pt x="551476" y="352272"/>
                </a:cubicBezTo>
                <a:cubicBezTo>
                  <a:pt x="498263" y="349491"/>
                  <a:pt x="445926" y="332676"/>
                  <a:pt x="392777" y="325043"/>
                </a:cubicBezTo>
                <a:cubicBezTo>
                  <a:pt x="363668" y="320878"/>
                  <a:pt x="331550" y="315544"/>
                  <a:pt x="304436" y="323354"/>
                </a:cubicBezTo>
                <a:cubicBezTo>
                  <a:pt x="142130" y="370154"/>
                  <a:pt x="-29675" y="218262"/>
                  <a:pt x="3128" y="53022"/>
                </a:cubicBezTo>
                <a:cubicBezTo>
                  <a:pt x="5211" y="42557"/>
                  <a:pt x="10367" y="32715"/>
                  <a:pt x="16311" y="23012"/>
                </a:cubicBezTo>
                <a:cubicBezTo>
                  <a:pt x="25836" y="7480"/>
                  <a:pt x="37202" y="-2781"/>
                  <a:pt x="41571" y="0"/>
                </a:cubicBezTo>
                <a:cubicBezTo>
                  <a:pt x="45927" y="2781"/>
                  <a:pt x="40885" y="40170"/>
                  <a:pt x="47400" y="82981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2392200" y="1773360"/>
            <a:ext cx="543960" cy="429840"/>
          </a:xfrm>
          <a:custGeom>
            <a:avLst/>
            <a:gdLst>
              <a:gd name="textAreaLeft" fmla="*/ 0 w 543960"/>
              <a:gd name="textAreaRight" fmla="*/ 544320 w 543960"/>
              <a:gd name="textAreaTop" fmla="*/ 0 h 429840"/>
              <a:gd name="textAreaBottom" fmla="*/ 430200 h 429840"/>
            </a:gdLst>
            <a:ahLst/>
            <a:rect l="textAreaLeft" t="textAreaTop" r="textAreaRight" b="textAreaBottom"/>
            <a:pathLst>
              <a:path w="544474" h="430179">
                <a:moveTo>
                  <a:pt x="479412" y="412843"/>
                </a:moveTo>
                <a:cubicBezTo>
                  <a:pt x="476097" y="409414"/>
                  <a:pt x="476707" y="401591"/>
                  <a:pt x="481101" y="388853"/>
                </a:cubicBezTo>
                <a:cubicBezTo>
                  <a:pt x="505942" y="316704"/>
                  <a:pt x="504685" y="306062"/>
                  <a:pt x="441871" y="268190"/>
                </a:cubicBezTo>
                <a:cubicBezTo>
                  <a:pt x="393814" y="239209"/>
                  <a:pt x="346608" y="203738"/>
                  <a:pt x="281114" y="238764"/>
                </a:cubicBezTo>
                <a:cubicBezTo>
                  <a:pt x="264312" y="247769"/>
                  <a:pt x="244005" y="250232"/>
                  <a:pt x="221614" y="250258"/>
                </a:cubicBezTo>
                <a:cubicBezTo>
                  <a:pt x="187807" y="250296"/>
                  <a:pt x="173113" y="237685"/>
                  <a:pt x="188772" y="225696"/>
                </a:cubicBezTo>
                <a:cubicBezTo>
                  <a:pt x="198297" y="218406"/>
                  <a:pt x="208000" y="211472"/>
                  <a:pt x="218414" y="205808"/>
                </a:cubicBezTo>
                <a:cubicBezTo>
                  <a:pt x="263055" y="181525"/>
                  <a:pt x="271614" y="158221"/>
                  <a:pt x="241960" y="117568"/>
                </a:cubicBezTo>
                <a:cubicBezTo>
                  <a:pt x="227596" y="97896"/>
                  <a:pt x="208508" y="79392"/>
                  <a:pt x="187591" y="67187"/>
                </a:cubicBezTo>
                <a:cubicBezTo>
                  <a:pt x="127457" y="32097"/>
                  <a:pt x="71437" y="54386"/>
                  <a:pt x="48755" y="120210"/>
                </a:cubicBezTo>
                <a:cubicBezTo>
                  <a:pt x="44729" y="131881"/>
                  <a:pt x="41478" y="143819"/>
                  <a:pt x="38277" y="156316"/>
                </a:cubicBezTo>
                <a:cubicBezTo>
                  <a:pt x="33121" y="176446"/>
                  <a:pt x="2349" y="165396"/>
                  <a:pt x="0" y="123575"/>
                </a:cubicBezTo>
                <a:cubicBezTo>
                  <a:pt x="-1346" y="99598"/>
                  <a:pt x="9956" y="79506"/>
                  <a:pt x="33566" y="58729"/>
                </a:cubicBezTo>
                <a:cubicBezTo>
                  <a:pt x="119062" y="-16517"/>
                  <a:pt x="200304" y="-20683"/>
                  <a:pt x="262940" y="52874"/>
                </a:cubicBezTo>
                <a:cubicBezTo>
                  <a:pt x="282752" y="76128"/>
                  <a:pt x="298234" y="112095"/>
                  <a:pt x="297357" y="141698"/>
                </a:cubicBezTo>
                <a:cubicBezTo>
                  <a:pt x="296214" y="180763"/>
                  <a:pt x="311213" y="185234"/>
                  <a:pt x="342353" y="191368"/>
                </a:cubicBezTo>
                <a:cubicBezTo>
                  <a:pt x="386689" y="200093"/>
                  <a:pt x="433514" y="209504"/>
                  <a:pt x="472109" y="231309"/>
                </a:cubicBezTo>
                <a:cubicBezTo>
                  <a:pt x="527786" y="262767"/>
                  <a:pt x="553237" y="323575"/>
                  <a:pt x="543953" y="380484"/>
                </a:cubicBezTo>
                <a:cubicBezTo>
                  <a:pt x="536968" y="423206"/>
                  <a:pt x="509003" y="441444"/>
                  <a:pt x="506476" y="430179"/>
                </a:cubicBezTo>
                <a:cubicBezTo>
                  <a:pt x="503936" y="418914"/>
                  <a:pt x="502716" y="409973"/>
                  <a:pt x="503682" y="410214"/>
                </a:cubicBezTo>
                <a:cubicBezTo>
                  <a:pt x="504647" y="410456"/>
                  <a:pt x="504901" y="410443"/>
                  <a:pt x="504240" y="410202"/>
                </a:cubicBezTo>
                <a:cubicBezTo>
                  <a:pt x="503580" y="409960"/>
                  <a:pt x="489013" y="422749"/>
                  <a:pt x="479412" y="412843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2118600" y="2437560"/>
            <a:ext cx="443880" cy="249840"/>
          </a:xfrm>
          <a:custGeom>
            <a:avLst/>
            <a:gdLst>
              <a:gd name="textAreaLeft" fmla="*/ 0 w 443880"/>
              <a:gd name="textAreaRight" fmla="*/ 444240 w 443880"/>
              <a:gd name="textAreaTop" fmla="*/ 0 h 249840"/>
              <a:gd name="textAreaBottom" fmla="*/ 250200 h 249840"/>
            </a:gdLst>
            <a:ahLst/>
            <a:rect l="textAreaLeft" t="textAreaTop" r="textAreaRight" b="textAreaBottom"/>
            <a:pathLst>
              <a:path w="444348" h="250085">
                <a:moveTo>
                  <a:pt x="268605" y="95592"/>
                </a:moveTo>
                <a:cubicBezTo>
                  <a:pt x="270879" y="105816"/>
                  <a:pt x="273216" y="116027"/>
                  <a:pt x="275730" y="126199"/>
                </a:cubicBezTo>
                <a:cubicBezTo>
                  <a:pt x="284303" y="160845"/>
                  <a:pt x="299352" y="190792"/>
                  <a:pt x="341402" y="187972"/>
                </a:cubicBezTo>
                <a:cubicBezTo>
                  <a:pt x="375628" y="185686"/>
                  <a:pt x="393916" y="150875"/>
                  <a:pt x="382766" y="104825"/>
                </a:cubicBezTo>
                <a:cubicBezTo>
                  <a:pt x="378638" y="87731"/>
                  <a:pt x="372720" y="71069"/>
                  <a:pt x="366230" y="54254"/>
                </a:cubicBezTo>
                <a:cubicBezTo>
                  <a:pt x="355639" y="26809"/>
                  <a:pt x="347587" y="3263"/>
                  <a:pt x="348895" y="1790"/>
                </a:cubicBezTo>
                <a:cubicBezTo>
                  <a:pt x="349860" y="711"/>
                  <a:pt x="350965" y="-203"/>
                  <a:pt x="351803" y="0"/>
                </a:cubicBezTo>
                <a:cubicBezTo>
                  <a:pt x="393866" y="10223"/>
                  <a:pt x="449479" y="91300"/>
                  <a:pt x="444348" y="139306"/>
                </a:cubicBezTo>
                <a:cubicBezTo>
                  <a:pt x="438684" y="192328"/>
                  <a:pt x="397472" y="209651"/>
                  <a:pt x="352768" y="218744"/>
                </a:cubicBezTo>
                <a:cubicBezTo>
                  <a:pt x="332664" y="222846"/>
                  <a:pt x="311100" y="219290"/>
                  <a:pt x="290577" y="222021"/>
                </a:cubicBezTo>
                <a:cubicBezTo>
                  <a:pt x="265049" y="225425"/>
                  <a:pt x="238265" y="227812"/>
                  <a:pt x="214935" y="237578"/>
                </a:cubicBezTo>
                <a:cubicBezTo>
                  <a:pt x="151854" y="263956"/>
                  <a:pt x="82360" y="251409"/>
                  <a:pt x="37084" y="201358"/>
                </a:cubicBezTo>
                <a:cubicBezTo>
                  <a:pt x="673" y="161099"/>
                  <a:pt x="-13080" y="84632"/>
                  <a:pt x="11481" y="44805"/>
                </a:cubicBezTo>
                <a:cubicBezTo>
                  <a:pt x="15215" y="38760"/>
                  <a:pt x="21006" y="33985"/>
                  <a:pt x="27344" y="29540"/>
                </a:cubicBezTo>
                <a:cubicBezTo>
                  <a:pt x="37364" y="22491"/>
                  <a:pt x="47486" y="27330"/>
                  <a:pt x="49810" y="40296"/>
                </a:cubicBezTo>
                <a:cubicBezTo>
                  <a:pt x="51334" y="48793"/>
                  <a:pt x="52058" y="56984"/>
                  <a:pt x="49378" y="63855"/>
                </a:cubicBezTo>
                <a:cubicBezTo>
                  <a:pt x="32423" y="107467"/>
                  <a:pt x="38837" y="146596"/>
                  <a:pt x="67514" y="180682"/>
                </a:cubicBezTo>
                <a:cubicBezTo>
                  <a:pt x="93003" y="210984"/>
                  <a:pt x="129401" y="216573"/>
                  <a:pt x="165024" y="203301"/>
                </a:cubicBezTo>
                <a:cubicBezTo>
                  <a:pt x="206363" y="187883"/>
                  <a:pt x="236068" y="160400"/>
                  <a:pt x="235446" y="110769"/>
                </a:cubicBezTo>
                <a:cubicBezTo>
                  <a:pt x="235357" y="103784"/>
                  <a:pt x="236322" y="96786"/>
                  <a:pt x="237554" y="89788"/>
                </a:cubicBezTo>
                <a:cubicBezTo>
                  <a:pt x="239573" y="78308"/>
                  <a:pt x="245872" y="68109"/>
                  <a:pt x="251537" y="66967"/>
                </a:cubicBezTo>
                <a:cubicBezTo>
                  <a:pt x="257201" y="65836"/>
                  <a:pt x="264834" y="78651"/>
                  <a:pt x="268605" y="9559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3027240" y="2932560"/>
            <a:ext cx="81000" cy="65880"/>
          </a:xfrm>
          <a:custGeom>
            <a:avLst/>
            <a:gdLst>
              <a:gd name="textAreaLeft" fmla="*/ 0 w 81000"/>
              <a:gd name="textAreaRight" fmla="*/ 81360 w 81000"/>
              <a:gd name="textAreaTop" fmla="*/ 0 h 65880"/>
              <a:gd name="textAreaBottom" fmla="*/ 66240 h 65880"/>
            </a:gdLst>
            <a:ahLst/>
            <a:rect l="textAreaLeft" t="textAreaTop" r="textAreaRight" b="textAreaBottom"/>
            <a:pathLst>
              <a:path w="81369" h="66256">
                <a:moveTo>
                  <a:pt x="36880" y="37845"/>
                </a:moveTo>
                <a:cubicBezTo>
                  <a:pt x="12115" y="22479"/>
                  <a:pt x="-4381" y="5537"/>
                  <a:pt x="0" y="0"/>
                </a:cubicBezTo>
                <a:cubicBezTo>
                  <a:pt x="4394" y="-5537"/>
                  <a:pt x="24295" y="7188"/>
                  <a:pt x="44475" y="28422"/>
                </a:cubicBezTo>
                <a:cubicBezTo>
                  <a:pt x="64655" y="49657"/>
                  <a:pt x="81178" y="66586"/>
                  <a:pt x="81369" y="66255"/>
                </a:cubicBezTo>
                <a:cubicBezTo>
                  <a:pt x="81559" y="65938"/>
                  <a:pt x="61645" y="53213"/>
                  <a:pt x="36880" y="378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095640" y="3110400"/>
            <a:ext cx="8280" cy="8640"/>
          </a:xfrm>
          <a:custGeom>
            <a:avLst/>
            <a:gdLst>
              <a:gd name="textAreaLeft" fmla="*/ 0 w 8280"/>
              <a:gd name="textAreaRight" fmla="*/ 8640 w 8280"/>
              <a:gd name="textAreaTop" fmla="*/ 0 h 8640"/>
              <a:gd name="textAreaBottom" fmla="*/ 9000 h 8640"/>
            </a:gdLst>
            <a:ahLst/>
            <a:rect l="textAreaLeft" t="textAreaTop" r="textAreaRight" b="textAreaBottom"/>
            <a:pathLst>
              <a:path w="8610" h="8864">
                <a:moveTo>
                  <a:pt x="6845" y="8864"/>
                </a:moveTo>
                <a:cubicBezTo>
                  <a:pt x="1943" y="4813"/>
                  <a:pt x="-1117" y="838"/>
                  <a:pt x="0" y="0"/>
                </a:cubicBezTo>
                <a:cubicBezTo>
                  <a:pt x="1130" y="-838"/>
                  <a:pt x="4876" y="2616"/>
                  <a:pt x="8610" y="7543"/>
                </a:cubicBezTo>
                <a:cubicBezTo>
                  <a:pt x="12344" y="12471"/>
                  <a:pt x="11747" y="12915"/>
                  <a:pt x="6845" y="88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1614600" y="2142000"/>
            <a:ext cx="14760" cy="9000"/>
          </a:xfrm>
          <a:custGeom>
            <a:avLst/>
            <a:gdLst>
              <a:gd name="textAreaLeft" fmla="*/ 0 w 14760"/>
              <a:gd name="textAreaRight" fmla="*/ 15120 w 14760"/>
              <a:gd name="textAreaTop" fmla="*/ 0 h 9000"/>
              <a:gd name="textAreaBottom" fmla="*/ 9360 h 9000"/>
            </a:gdLst>
            <a:ahLst/>
            <a:rect l="textAreaLeft" t="textAreaTop" r="textAreaRight" b="textAreaBottom"/>
            <a:pathLst>
              <a:path w="15189" h="9245">
                <a:moveTo>
                  <a:pt x="14541" y="9245"/>
                </a:moveTo>
                <a:cubicBezTo>
                  <a:pt x="22796" y="14020"/>
                  <a:pt x="23266" y="13347"/>
                  <a:pt x="15189" y="8305"/>
                </a:cubicBezTo>
                <a:cubicBezTo>
                  <a:pt x="7112" y="3251"/>
                  <a:pt x="228" y="-343"/>
                  <a:pt x="0" y="0"/>
                </a:cubicBezTo>
                <a:cubicBezTo>
                  <a:pt x="-228" y="330"/>
                  <a:pt x="6273" y="4470"/>
                  <a:pt x="14541" y="92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3009960" y="30258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52" h="419">
                <a:moveTo>
                  <a:pt x="152" y="0"/>
                </a:moveTo>
                <a:cubicBezTo>
                  <a:pt x="-2552" y="-1016"/>
                  <a:pt x="-2679" y="-685"/>
                  <a:pt x="0" y="419"/>
                </a:cubicBezTo>
                <a:cubicBezTo>
                  <a:pt x="2692" y="1524"/>
                  <a:pt x="2857" y="1016"/>
                  <a:pt x="15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2964600" y="226512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19" h="1727">
                <a:moveTo>
                  <a:pt x="0" y="0"/>
                </a:moveTo>
                <a:cubicBezTo>
                  <a:pt x="1028" y="-622"/>
                  <a:pt x="1930" y="-342"/>
                  <a:pt x="2019" y="609"/>
                </a:cubicBezTo>
                <a:cubicBezTo>
                  <a:pt x="2095" y="1562"/>
                  <a:pt x="1270" y="2057"/>
                  <a:pt x="152" y="1727"/>
                </a:cubicBezTo>
                <a:cubicBezTo>
                  <a:pt x="-965" y="1384"/>
                  <a:pt x="-1028" y="609"/>
                  <a:pt x="0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3021840" y="304128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533" h="292">
                <a:moveTo>
                  <a:pt x="0" y="292"/>
                </a:moveTo>
                <a:cubicBezTo>
                  <a:pt x="3886" y="7442"/>
                  <a:pt x="4445" y="7175"/>
                  <a:pt x="533" y="0"/>
                </a:cubicBezTo>
                <a:cubicBezTo>
                  <a:pt x="-3365" y="-7162"/>
                  <a:pt x="-3886" y="-6870"/>
                  <a:pt x="0" y="29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1581480" y="21096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28" h="736">
                <a:moveTo>
                  <a:pt x="0" y="723"/>
                </a:moveTo>
                <a:cubicBezTo>
                  <a:pt x="114" y="355"/>
                  <a:pt x="228" y="-12"/>
                  <a:pt x="228" y="0"/>
                </a:cubicBezTo>
                <a:cubicBezTo>
                  <a:pt x="228" y="0"/>
                  <a:pt x="114" y="381"/>
                  <a:pt x="0" y="736"/>
                </a:cubicBezTo>
                <a:cubicBezTo>
                  <a:pt x="-127" y="1143"/>
                  <a:pt x="-127" y="1130"/>
                  <a:pt x="0" y="72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1612440" y="2140560"/>
            <a:ext cx="1800" cy="1080"/>
          </a:xfrm>
          <a:custGeom>
            <a:avLst/>
            <a:gdLst>
              <a:gd name="textAreaLeft" fmla="*/ 0 w 1800"/>
              <a:gd name="textAreaRight" fmla="*/ 2160 w 18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981" h="1511">
                <a:moveTo>
                  <a:pt x="406" y="0"/>
                </a:moveTo>
                <a:cubicBezTo>
                  <a:pt x="-685" y="-507"/>
                  <a:pt x="-876" y="-241"/>
                  <a:pt x="0" y="584"/>
                </a:cubicBezTo>
                <a:cubicBezTo>
                  <a:pt x="876" y="1409"/>
                  <a:pt x="1752" y="1841"/>
                  <a:pt x="1981" y="1511"/>
                </a:cubicBezTo>
                <a:cubicBezTo>
                  <a:pt x="2209" y="1181"/>
                  <a:pt x="1498" y="495"/>
                  <a:pt x="40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1651680" y="21636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" h="368">
                <a:moveTo>
                  <a:pt x="254" y="0"/>
                </a:moveTo>
                <a:cubicBezTo>
                  <a:pt x="-3822" y="-2552"/>
                  <a:pt x="-4114" y="-2133"/>
                  <a:pt x="0" y="368"/>
                </a:cubicBezTo>
                <a:cubicBezTo>
                  <a:pt x="4102" y="2882"/>
                  <a:pt x="4330" y="2552"/>
                  <a:pt x="25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1660320" y="21690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0" h="50">
                <a:moveTo>
                  <a:pt x="0" y="50"/>
                </a:moveTo>
                <a:cubicBezTo>
                  <a:pt x="482" y="292"/>
                  <a:pt x="495" y="266"/>
                  <a:pt x="0" y="0"/>
                </a:cubicBezTo>
                <a:cubicBezTo>
                  <a:pt x="-495" y="-279"/>
                  <a:pt x="-482" y="-203"/>
                  <a:pt x="0" y="5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1668960" y="2103840"/>
            <a:ext cx="720" cy="1080"/>
          </a:xfrm>
          <a:custGeom>
            <a:avLst/>
            <a:gdLst>
              <a:gd name="textAreaLeft" fmla="*/ 0 w 720"/>
              <a:gd name="textAreaRight" fmla="*/ 1080 w 72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965" h="1282">
                <a:moveTo>
                  <a:pt x="800" y="711"/>
                </a:moveTo>
                <a:cubicBezTo>
                  <a:pt x="1359" y="0"/>
                  <a:pt x="1422" y="-317"/>
                  <a:pt x="965" y="0"/>
                </a:cubicBezTo>
                <a:cubicBezTo>
                  <a:pt x="584" y="279"/>
                  <a:pt x="203" y="558"/>
                  <a:pt x="190" y="609"/>
                </a:cubicBezTo>
                <a:cubicBezTo>
                  <a:pt x="177" y="660"/>
                  <a:pt x="88" y="977"/>
                  <a:pt x="0" y="1282"/>
                </a:cubicBezTo>
                <a:cubicBezTo>
                  <a:pt x="-101" y="1663"/>
                  <a:pt x="254" y="1422"/>
                  <a:pt x="800" y="71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1653840" y="20289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838" h="825">
                <a:moveTo>
                  <a:pt x="381" y="825"/>
                </a:moveTo>
                <a:cubicBezTo>
                  <a:pt x="850" y="698"/>
                  <a:pt x="1054" y="317"/>
                  <a:pt x="838" y="0"/>
                </a:cubicBezTo>
                <a:cubicBezTo>
                  <a:pt x="622" y="-342"/>
                  <a:pt x="254" y="-228"/>
                  <a:pt x="0" y="228"/>
                </a:cubicBezTo>
                <a:cubicBezTo>
                  <a:pt x="-253" y="685"/>
                  <a:pt x="-76" y="952"/>
                  <a:pt x="381" y="82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2965320" y="29934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76" h="12">
                <a:moveTo>
                  <a:pt x="76" y="0"/>
                </a:moveTo>
                <a:cubicBezTo>
                  <a:pt x="-152" y="-914"/>
                  <a:pt x="-215" y="-901"/>
                  <a:pt x="0" y="12"/>
                </a:cubicBezTo>
                <a:cubicBezTo>
                  <a:pt x="215" y="927"/>
                  <a:pt x="304" y="914"/>
                  <a:pt x="7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2966040" y="299412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14" h="292">
                <a:moveTo>
                  <a:pt x="114" y="0"/>
                </a:moveTo>
                <a:cubicBezTo>
                  <a:pt x="635" y="190"/>
                  <a:pt x="571" y="431"/>
                  <a:pt x="0" y="292"/>
                </a:cubicBezTo>
                <a:cubicBezTo>
                  <a:pt x="-584" y="139"/>
                  <a:pt x="-406" y="-203"/>
                  <a:pt x="11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3037680" y="306000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26" h="139">
                <a:moveTo>
                  <a:pt x="126" y="0"/>
                </a:moveTo>
                <a:cubicBezTo>
                  <a:pt x="-4419" y="-3429"/>
                  <a:pt x="-4635" y="-3187"/>
                  <a:pt x="0" y="139"/>
                </a:cubicBezTo>
                <a:cubicBezTo>
                  <a:pt x="4635" y="3467"/>
                  <a:pt x="4686" y="3429"/>
                  <a:pt x="126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3046680" y="306576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139" h="254">
                <a:moveTo>
                  <a:pt x="139" y="0"/>
                </a:moveTo>
                <a:cubicBezTo>
                  <a:pt x="685" y="279"/>
                  <a:pt x="609" y="482"/>
                  <a:pt x="0" y="253"/>
                </a:cubicBezTo>
                <a:cubicBezTo>
                  <a:pt x="-596" y="25"/>
                  <a:pt x="-393" y="-292"/>
                  <a:pt x="139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3118320" y="3131280"/>
            <a:ext cx="7560" cy="4680"/>
          </a:xfrm>
          <a:custGeom>
            <a:avLst/>
            <a:gdLst>
              <a:gd name="textAreaLeft" fmla="*/ 0 w 7560"/>
              <a:gd name="textAreaRight" fmla="*/ 7920 w 756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7797" h="5219">
                <a:moveTo>
                  <a:pt x="571" y="0"/>
                </a:moveTo>
                <a:cubicBezTo>
                  <a:pt x="-3606" y="-2578"/>
                  <a:pt x="-4025" y="-2006"/>
                  <a:pt x="0" y="825"/>
                </a:cubicBezTo>
                <a:cubicBezTo>
                  <a:pt x="4025" y="3670"/>
                  <a:pt x="7594" y="5524"/>
                  <a:pt x="7797" y="5219"/>
                </a:cubicBezTo>
                <a:cubicBezTo>
                  <a:pt x="7988" y="4914"/>
                  <a:pt x="4762" y="2578"/>
                  <a:pt x="571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9405360" y="6831720"/>
            <a:ext cx="2519640" cy="22140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221400"/>
              <a:gd name="textAreaBottom" fmla="*/ 221760 h 221400"/>
            </a:gdLst>
            <a:ahLst/>
            <a:rect l="textAreaLeft" t="textAreaTop" r="textAreaRight" b="textAreaBottom"/>
            <a:pathLst>
              <a:path w="2519972" h="221657">
                <a:moveTo>
                  <a:pt x="2519972" y="56818"/>
                </a:moveTo>
                <a:cubicBezTo>
                  <a:pt x="2440076" y="108532"/>
                  <a:pt x="2281149" y="73708"/>
                  <a:pt x="2133193" y="80223"/>
                </a:cubicBezTo>
                <a:cubicBezTo>
                  <a:pt x="2020989" y="85125"/>
                  <a:pt x="1904631" y="86993"/>
                  <a:pt x="1805013" y="91971"/>
                </a:cubicBezTo>
                <a:cubicBezTo>
                  <a:pt x="1192225" y="122451"/>
                  <a:pt x="555523" y="232243"/>
                  <a:pt x="0" y="220902"/>
                </a:cubicBezTo>
                <a:lnTo>
                  <a:pt x="0" y="162278"/>
                </a:lnTo>
                <a:cubicBezTo>
                  <a:pt x="52337" y="107846"/>
                  <a:pt x="175400" y="119632"/>
                  <a:pt x="269595" y="115403"/>
                </a:cubicBezTo>
                <a:cubicBezTo>
                  <a:pt x="992658" y="82497"/>
                  <a:pt x="1651241" y="10564"/>
                  <a:pt x="2426233" y="9878"/>
                </a:cubicBezTo>
                <a:cubicBezTo>
                  <a:pt x="2467000" y="-10085"/>
                  <a:pt x="2529052" y="-5691"/>
                  <a:pt x="2519972" y="56818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9370440" y="6959160"/>
            <a:ext cx="2392200" cy="279720"/>
          </a:xfrm>
          <a:custGeom>
            <a:avLst/>
            <a:gdLst>
              <a:gd name="textAreaLeft" fmla="*/ 0 w 2392200"/>
              <a:gd name="textAreaRight" fmla="*/ 2392560 w 239220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2392417" h="279972">
                <a:moveTo>
                  <a:pt x="2379306" y="0"/>
                </a:moveTo>
                <a:cubicBezTo>
                  <a:pt x="2381898" y="21869"/>
                  <a:pt x="2409520" y="77634"/>
                  <a:pt x="2379306" y="93738"/>
                </a:cubicBezTo>
                <a:cubicBezTo>
                  <a:pt x="1996820" y="127799"/>
                  <a:pt x="1574583" y="133908"/>
                  <a:pt x="1160348" y="164083"/>
                </a:cubicBezTo>
                <a:cubicBezTo>
                  <a:pt x="863142" y="185749"/>
                  <a:pt x="560958" y="192900"/>
                  <a:pt x="293001" y="234429"/>
                </a:cubicBezTo>
                <a:cubicBezTo>
                  <a:pt x="209194" y="247433"/>
                  <a:pt x="43612" y="336753"/>
                  <a:pt x="0" y="222745"/>
                </a:cubicBezTo>
                <a:cubicBezTo>
                  <a:pt x="15747" y="132105"/>
                  <a:pt x="151993" y="160781"/>
                  <a:pt x="222669" y="152400"/>
                </a:cubicBezTo>
                <a:cubicBezTo>
                  <a:pt x="597611" y="107874"/>
                  <a:pt x="955357" y="98310"/>
                  <a:pt x="1347889" y="58584"/>
                </a:cubicBezTo>
                <a:cubicBezTo>
                  <a:pt x="1646008" y="28371"/>
                  <a:pt x="1958543" y="28244"/>
                  <a:pt x="2285542" y="11645"/>
                </a:cubicBezTo>
                <a:cubicBezTo>
                  <a:pt x="2313596" y="4635"/>
                  <a:pt x="2339022" y="-5245"/>
                  <a:pt x="2379306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3525840" y="4195080"/>
            <a:ext cx="161640" cy="207720"/>
          </a:xfrm>
          <a:custGeom>
            <a:avLst/>
            <a:gdLst>
              <a:gd name="textAreaLeft" fmla="*/ 0 w 161640"/>
              <a:gd name="textAreaRight" fmla="*/ 162000 w 16164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62140" h="208151">
                <a:moveTo>
                  <a:pt x="56286" y="192062"/>
                </a:moveTo>
                <a:cubicBezTo>
                  <a:pt x="89141" y="132194"/>
                  <a:pt x="122656" y="73113"/>
                  <a:pt x="162140" y="18262"/>
                </a:cubicBezTo>
                <a:cubicBezTo>
                  <a:pt x="171246" y="5613"/>
                  <a:pt x="154609" y="88"/>
                  <a:pt x="146164" y="0"/>
                </a:cubicBezTo>
                <a:cubicBezTo>
                  <a:pt x="132334" y="-127"/>
                  <a:pt x="114846" y="5232"/>
                  <a:pt x="105841" y="17741"/>
                </a:cubicBezTo>
                <a:cubicBezTo>
                  <a:pt x="66370" y="72593"/>
                  <a:pt x="32842" y="131673"/>
                  <a:pt x="0" y="191541"/>
                </a:cubicBezTo>
                <a:cubicBezTo>
                  <a:pt x="-14236" y="217474"/>
                  <a:pt x="46596" y="209727"/>
                  <a:pt x="56286" y="19206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3673080" y="3889440"/>
            <a:ext cx="196920" cy="231480"/>
          </a:xfrm>
          <a:custGeom>
            <a:avLst/>
            <a:gdLst>
              <a:gd name="textAreaLeft" fmla="*/ 0 w 196920"/>
              <a:gd name="textAreaRight" fmla="*/ 197280 w 1969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97239" h="231665">
                <a:moveTo>
                  <a:pt x="54836" y="218769"/>
                </a:moveTo>
                <a:cubicBezTo>
                  <a:pt x="95934" y="152704"/>
                  <a:pt x="146442" y="95439"/>
                  <a:pt x="192213" y="33527"/>
                </a:cubicBezTo>
                <a:cubicBezTo>
                  <a:pt x="216939" y="88"/>
                  <a:pt x="159459" y="-13056"/>
                  <a:pt x="141095" y="11784"/>
                </a:cubicBezTo>
                <a:cubicBezTo>
                  <a:pt x="95312" y="73697"/>
                  <a:pt x="44816" y="130974"/>
                  <a:pt x="3719" y="197027"/>
                </a:cubicBezTo>
                <a:cubicBezTo>
                  <a:pt x="-18492" y="232726"/>
                  <a:pt x="38225" y="245490"/>
                  <a:pt x="54836" y="21876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3913920" y="3636720"/>
            <a:ext cx="271080" cy="163440"/>
          </a:xfrm>
          <a:custGeom>
            <a:avLst/>
            <a:gdLst>
              <a:gd name="textAreaLeft" fmla="*/ 0 w 271080"/>
              <a:gd name="textAreaRight" fmla="*/ 271440 w 2710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71309" h="163721">
                <a:moveTo>
                  <a:pt x="51184" y="162066"/>
                </a:moveTo>
                <a:cubicBezTo>
                  <a:pt x="116132" y="115127"/>
                  <a:pt x="183658" y="73687"/>
                  <a:pt x="254880" y="39651"/>
                </a:cubicBezTo>
                <a:cubicBezTo>
                  <a:pt x="293348" y="21261"/>
                  <a:pt x="259185" y="-11504"/>
                  <a:pt x="228934" y="2948"/>
                </a:cubicBezTo>
                <a:cubicBezTo>
                  <a:pt x="153039" y="39219"/>
                  <a:pt x="80915" y="83910"/>
                  <a:pt x="11726" y="133923"/>
                </a:cubicBezTo>
                <a:cubicBezTo>
                  <a:pt x="-22881" y="158942"/>
                  <a:pt x="27778" y="178982"/>
                  <a:pt x="51184" y="16206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4432320" y="3441240"/>
            <a:ext cx="341640" cy="125280"/>
          </a:xfrm>
          <a:custGeom>
            <a:avLst/>
            <a:gdLst>
              <a:gd name="textAreaLeft" fmla="*/ 0 w 341640"/>
              <a:gd name="textAreaRight" fmla="*/ 342000 w 3416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41988" h="125677">
                <a:moveTo>
                  <a:pt x="34034" y="125677"/>
                </a:moveTo>
                <a:cubicBezTo>
                  <a:pt x="132942" y="102639"/>
                  <a:pt x="231621" y="86092"/>
                  <a:pt x="325525" y="42708"/>
                </a:cubicBezTo>
                <a:cubicBezTo>
                  <a:pt x="363993" y="24941"/>
                  <a:pt x="330173" y="-12218"/>
                  <a:pt x="298702" y="2322"/>
                </a:cubicBezTo>
                <a:cubicBezTo>
                  <a:pt x="210335" y="43140"/>
                  <a:pt x="116051" y="57237"/>
                  <a:pt x="23010" y="78903"/>
                </a:cubicBezTo>
                <a:cubicBezTo>
                  <a:pt x="-15304" y="87831"/>
                  <a:pt x="-3709" y="134466"/>
                  <a:pt x="34034" y="12567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4853160" y="3253680"/>
            <a:ext cx="332280" cy="171720"/>
          </a:xfrm>
          <a:custGeom>
            <a:avLst/>
            <a:gdLst>
              <a:gd name="textAreaLeft" fmla="*/ 0 w 332280"/>
              <a:gd name="textAreaRight" fmla="*/ 332640 w 3322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332580" h="172129">
                <a:moveTo>
                  <a:pt x="32524" y="172129"/>
                </a:moveTo>
                <a:cubicBezTo>
                  <a:pt x="136474" y="144798"/>
                  <a:pt x="230187" y="88448"/>
                  <a:pt x="320687" y="27019"/>
                </a:cubicBezTo>
                <a:cubicBezTo>
                  <a:pt x="355879" y="3130"/>
                  <a:pt x="303987" y="-12833"/>
                  <a:pt x="281990" y="2089"/>
                </a:cubicBezTo>
                <a:cubicBezTo>
                  <a:pt x="200520" y="57384"/>
                  <a:pt x="116852" y="108311"/>
                  <a:pt x="23291" y="132911"/>
                </a:cubicBezTo>
                <a:cubicBezTo>
                  <a:pt x="-14084" y="142741"/>
                  <a:pt x="-4521" y="181883"/>
                  <a:pt x="32524" y="17212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5229720" y="3000600"/>
            <a:ext cx="280440" cy="187560"/>
          </a:xfrm>
          <a:custGeom>
            <a:avLst/>
            <a:gdLst>
              <a:gd name="textAreaLeft" fmla="*/ 0 w 280440"/>
              <a:gd name="textAreaRight" fmla="*/ 280800 w 2804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280760" h="187788">
                <a:moveTo>
                  <a:pt x="48591" y="183557"/>
                </a:moveTo>
                <a:cubicBezTo>
                  <a:pt x="127801" y="133977"/>
                  <a:pt x="205208" y="82554"/>
                  <a:pt x="275337" y="17924"/>
                </a:cubicBezTo>
                <a:cubicBezTo>
                  <a:pt x="301487" y="-6167"/>
                  <a:pt x="240781" y="-2954"/>
                  <a:pt x="227344" y="9440"/>
                </a:cubicBezTo>
                <a:cubicBezTo>
                  <a:pt x="160618" y="70921"/>
                  <a:pt x="87161" y="119676"/>
                  <a:pt x="11825" y="166844"/>
                </a:cubicBezTo>
                <a:cubicBezTo>
                  <a:pt x="-23836" y="189171"/>
                  <a:pt x="30634" y="194797"/>
                  <a:pt x="48591" y="18355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5535000" y="2681280"/>
            <a:ext cx="187920" cy="246240"/>
          </a:xfrm>
          <a:custGeom>
            <a:avLst/>
            <a:gdLst>
              <a:gd name="textAreaLeft" fmla="*/ 0 w 187920"/>
              <a:gd name="textAreaRight" fmla="*/ 188280 w 1879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88190" h="246652">
                <a:moveTo>
                  <a:pt x="55437" y="236729"/>
                </a:moveTo>
                <a:cubicBezTo>
                  <a:pt x="112739" y="173191"/>
                  <a:pt x="163298" y="103697"/>
                  <a:pt x="188190" y="17006"/>
                </a:cubicBezTo>
                <a:cubicBezTo>
                  <a:pt x="196204" y="-10907"/>
                  <a:pt x="134405" y="-2551"/>
                  <a:pt x="126963" y="23369"/>
                </a:cubicBezTo>
                <a:cubicBezTo>
                  <a:pt x="104573" y="101373"/>
                  <a:pt x="57075" y="163755"/>
                  <a:pt x="5678" y="220752"/>
                </a:cubicBezTo>
                <a:cubicBezTo>
                  <a:pt x="-20623" y="249924"/>
                  <a:pt x="38673" y="255322"/>
                  <a:pt x="55437" y="23672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5684040" y="2314800"/>
            <a:ext cx="85680" cy="259920"/>
          </a:xfrm>
          <a:custGeom>
            <a:avLst/>
            <a:gdLst>
              <a:gd name="textAreaLeft" fmla="*/ 0 w 85680"/>
              <a:gd name="textAreaRight" fmla="*/ 86040 w 85680"/>
              <a:gd name="textAreaTop" fmla="*/ 0 h 259920"/>
              <a:gd name="textAreaBottom" fmla="*/ 260280 h 259920"/>
            </a:gdLst>
            <a:ahLst/>
            <a:rect l="textAreaLeft" t="textAreaTop" r="textAreaRight" b="textAreaBottom"/>
            <a:pathLst>
              <a:path w="85990" h="260169">
                <a:moveTo>
                  <a:pt x="60147" y="241972"/>
                </a:moveTo>
                <a:cubicBezTo>
                  <a:pt x="82639" y="165074"/>
                  <a:pt x="91249" y="86601"/>
                  <a:pt x="82804" y="6184"/>
                </a:cubicBezTo>
                <a:cubicBezTo>
                  <a:pt x="81241" y="-8687"/>
                  <a:pt x="19926" y="4851"/>
                  <a:pt x="21933" y="23901"/>
                </a:cubicBezTo>
                <a:cubicBezTo>
                  <a:pt x="30137" y="102094"/>
                  <a:pt x="21882" y="178129"/>
                  <a:pt x="0" y="252920"/>
                </a:cubicBezTo>
                <a:cubicBezTo>
                  <a:pt x="-4457" y="268185"/>
                  <a:pt x="54902" y="259892"/>
                  <a:pt x="60147" y="24197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5518800" y="2000880"/>
            <a:ext cx="182880" cy="239040"/>
          </a:xfrm>
          <a:custGeom>
            <a:avLst/>
            <a:gdLst>
              <a:gd name="textAreaLeft" fmla="*/ 0 w 182880"/>
              <a:gd name="textAreaRight" fmla="*/ 183240 w 182880"/>
              <a:gd name="textAreaTop" fmla="*/ 0 h 239040"/>
              <a:gd name="textAreaBottom" fmla="*/ 239400 h 239040"/>
            </a:gdLst>
            <a:ahLst/>
            <a:rect l="textAreaLeft" t="textAreaTop" r="textAreaRight" b="textAreaBottom"/>
            <a:pathLst>
              <a:path w="183346" h="239306">
                <a:moveTo>
                  <a:pt x="183346" y="197538"/>
                </a:moveTo>
                <a:cubicBezTo>
                  <a:pt x="150695" y="125326"/>
                  <a:pt x="110334" y="58181"/>
                  <a:pt x="54137" y="5908"/>
                </a:cubicBezTo>
                <a:cubicBezTo>
                  <a:pt x="32407" y="-14297"/>
                  <a:pt x="-20145" y="20094"/>
                  <a:pt x="7337" y="45659"/>
                </a:cubicBezTo>
                <a:cubicBezTo>
                  <a:pt x="60068" y="94693"/>
                  <a:pt x="97101" y="159870"/>
                  <a:pt x="127682" y="227497"/>
                </a:cubicBezTo>
                <a:cubicBezTo>
                  <a:pt x="140420" y="255679"/>
                  <a:pt x="198142" y="230253"/>
                  <a:pt x="183346" y="19753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5175000" y="1944360"/>
            <a:ext cx="214200" cy="55800"/>
          </a:xfrm>
          <a:custGeom>
            <a:avLst/>
            <a:gdLst>
              <a:gd name="textAreaLeft" fmla="*/ 0 w 214200"/>
              <a:gd name="textAreaRight" fmla="*/ 214560 w 2142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214604" h="56324">
                <a:moveTo>
                  <a:pt x="197167" y="12509"/>
                </a:moveTo>
                <a:cubicBezTo>
                  <a:pt x="144551" y="11366"/>
                  <a:pt x="92570" y="1142"/>
                  <a:pt x="39941" y="0"/>
                </a:cubicBezTo>
                <a:cubicBezTo>
                  <a:pt x="25679" y="-317"/>
                  <a:pt x="7708" y="4394"/>
                  <a:pt x="0" y="19354"/>
                </a:cubicBezTo>
                <a:cubicBezTo>
                  <a:pt x="-7112" y="33172"/>
                  <a:pt x="5841" y="43548"/>
                  <a:pt x="17436" y="43802"/>
                </a:cubicBezTo>
                <a:cubicBezTo>
                  <a:pt x="70065" y="44957"/>
                  <a:pt x="122046" y="55168"/>
                  <a:pt x="174662" y="56324"/>
                </a:cubicBezTo>
                <a:cubicBezTo>
                  <a:pt x="188924" y="56629"/>
                  <a:pt x="206895" y="51917"/>
                  <a:pt x="214604" y="36957"/>
                </a:cubicBezTo>
                <a:cubicBezTo>
                  <a:pt x="221716" y="23139"/>
                  <a:pt x="208762" y="12763"/>
                  <a:pt x="197167" y="1250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4962240" y="2020320"/>
            <a:ext cx="123480" cy="168480"/>
          </a:xfrm>
          <a:custGeom>
            <a:avLst/>
            <a:gdLst>
              <a:gd name="textAreaLeft" fmla="*/ 0 w 123480"/>
              <a:gd name="textAreaRight" fmla="*/ 123840 w 1234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3753" h="168909">
                <a:moveTo>
                  <a:pt x="70586" y="12522"/>
                </a:moveTo>
                <a:cubicBezTo>
                  <a:pt x="25793" y="50850"/>
                  <a:pt x="1460" y="99885"/>
                  <a:pt x="0" y="162940"/>
                </a:cubicBezTo>
                <a:cubicBezTo>
                  <a:pt x="-317" y="176479"/>
                  <a:pt x="60388" y="166738"/>
                  <a:pt x="60883" y="145237"/>
                </a:cubicBezTo>
                <a:cubicBezTo>
                  <a:pt x="62064" y="93865"/>
                  <a:pt x="80733" y="48971"/>
                  <a:pt x="117716" y="17335"/>
                </a:cubicBezTo>
                <a:cubicBezTo>
                  <a:pt x="126860" y="9512"/>
                  <a:pt x="126034" y="1269"/>
                  <a:pt x="113626" y="0"/>
                </a:cubicBezTo>
                <a:cubicBezTo>
                  <a:pt x="99898" y="-1409"/>
                  <a:pt x="81660" y="3035"/>
                  <a:pt x="70586" y="1252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4950720" y="2355120"/>
            <a:ext cx="130680" cy="232560"/>
          </a:xfrm>
          <a:custGeom>
            <a:avLst/>
            <a:gdLst>
              <a:gd name="textAreaLeft" fmla="*/ 0 w 130680"/>
              <a:gd name="textAreaRight" fmla="*/ 131040 w 130680"/>
              <a:gd name="textAreaTop" fmla="*/ 0 h 232560"/>
              <a:gd name="textAreaBottom" fmla="*/ 232920 h 232560"/>
            </a:gdLst>
            <a:ahLst/>
            <a:rect l="textAreaLeft" t="textAreaTop" r="textAreaRight" b="textAreaBottom"/>
            <a:pathLst>
              <a:path w="131178" h="232768">
                <a:moveTo>
                  <a:pt x="0" y="25699"/>
                </a:moveTo>
                <a:cubicBezTo>
                  <a:pt x="1244" y="103982"/>
                  <a:pt x="31838" y="166860"/>
                  <a:pt x="74282" y="227286"/>
                </a:cubicBezTo>
                <a:cubicBezTo>
                  <a:pt x="85547" y="243326"/>
                  <a:pt x="144068" y="220898"/>
                  <a:pt x="131178" y="202534"/>
                </a:cubicBezTo>
                <a:cubicBezTo>
                  <a:pt x="90004" y="143923"/>
                  <a:pt x="62077" y="83522"/>
                  <a:pt x="60883" y="7995"/>
                </a:cubicBezTo>
                <a:cubicBezTo>
                  <a:pt x="60591" y="-9682"/>
                  <a:pt x="-368" y="2204"/>
                  <a:pt x="0" y="2569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5117040" y="2647800"/>
            <a:ext cx="194040" cy="167760"/>
          </a:xfrm>
          <a:custGeom>
            <a:avLst/>
            <a:gdLst>
              <a:gd name="textAreaLeft" fmla="*/ 0 w 194040"/>
              <a:gd name="textAreaRight" fmla="*/ 194400 w 194040"/>
              <a:gd name="textAreaTop" fmla="*/ 0 h 167760"/>
              <a:gd name="textAreaBottom" fmla="*/ 168120 h 167760"/>
            </a:gdLst>
            <a:ahLst/>
            <a:rect l="textAreaLeft" t="textAreaTop" r="textAreaRight" b="textAreaBottom"/>
            <a:pathLst>
              <a:path w="194513" h="168047">
                <a:moveTo>
                  <a:pt x="0" y="24651"/>
                </a:moveTo>
                <a:cubicBezTo>
                  <a:pt x="33883" y="85598"/>
                  <a:pt x="82943" y="130772"/>
                  <a:pt x="137426" y="168047"/>
                </a:cubicBezTo>
                <a:cubicBezTo>
                  <a:pt x="148640" y="175730"/>
                  <a:pt x="165608" y="170929"/>
                  <a:pt x="177000" y="166167"/>
                </a:cubicBezTo>
                <a:cubicBezTo>
                  <a:pt x="180162" y="164833"/>
                  <a:pt x="205244" y="151460"/>
                  <a:pt x="194513" y="144120"/>
                </a:cubicBezTo>
                <a:cubicBezTo>
                  <a:pt x="142481" y="108509"/>
                  <a:pt x="93332" y="65316"/>
                  <a:pt x="60883" y="6947"/>
                </a:cubicBezTo>
                <a:cubicBezTo>
                  <a:pt x="50330" y="-12038"/>
                  <a:pt x="-6743" y="12535"/>
                  <a:pt x="0" y="2465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5315400" y="2841840"/>
            <a:ext cx="164520" cy="110880"/>
          </a:xfrm>
          <a:custGeom>
            <a:avLst/>
            <a:gdLst>
              <a:gd name="textAreaLeft" fmla="*/ 0 w 164520"/>
              <a:gd name="textAreaRight" fmla="*/ 164880 w 16452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65021" h="111126">
                <a:moveTo>
                  <a:pt x="6223" y="38215"/>
                </a:moveTo>
                <a:cubicBezTo>
                  <a:pt x="41605" y="64885"/>
                  <a:pt x="75844" y="94616"/>
                  <a:pt x="116370" y="111126"/>
                </a:cubicBezTo>
                <a:cubicBezTo>
                  <a:pt x="138176" y="120003"/>
                  <a:pt x="187858" y="85294"/>
                  <a:pt x="152933" y="71083"/>
                </a:cubicBezTo>
                <a:cubicBezTo>
                  <a:pt x="116980" y="56427"/>
                  <a:pt x="85522" y="26937"/>
                  <a:pt x="54153" y="3277"/>
                </a:cubicBezTo>
                <a:cubicBezTo>
                  <a:pt x="35433" y="-10832"/>
                  <a:pt x="-20040" y="18416"/>
                  <a:pt x="6223" y="3821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5546520" y="2980440"/>
            <a:ext cx="299880" cy="115200"/>
          </a:xfrm>
          <a:custGeom>
            <a:avLst/>
            <a:gdLst>
              <a:gd name="textAreaLeft" fmla="*/ 0 w 299880"/>
              <a:gd name="textAreaRight" fmla="*/ 300240 w 299880"/>
              <a:gd name="textAreaTop" fmla="*/ 0 h 115200"/>
              <a:gd name="textAreaBottom" fmla="*/ 115560 h 115200"/>
            </a:gdLst>
            <a:ahLst/>
            <a:rect l="textAreaLeft" t="textAreaTop" r="textAreaRight" b="textAreaBottom"/>
            <a:pathLst>
              <a:path w="300068" h="115669">
                <a:moveTo>
                  <a:pt x="17777" y="45821"/>
                </a:moveTo>
                <a:cubicBezTo>
                  <a:pt x="98473" y="58280"/>
                  <a:pt x="176489" y="80378"/>
                  <a:pt x="251622" y="115392"/>
                </a:cubicBezTo>
                <a:cubicBezTo>
                  <a:pt x="275244" y="126415"/>
                  <a:pt x="322653" y="89039"/>
                  <a:pt x="287551" y="72669"/>
                </a:cubicBezTo>
                <a:cubicBezTo>
                  <a:pt x="208099" y="35636"/>
                  <a:pt x="125054" y="13157"/>
                  <a:pt x="39812" y="0"/>
                </a:cubicBezTo>
                <a:cubicBezTo>
                  <a:pt x="11745" y="-4330"/>
                  <a:pt x="-23167" y="39509"/>
                  <a:pt x="17777" y="4582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5911200" y="3143160"/>
            <a:ext cx="216720" cy="236160"/>
          </a:xfrm>
          <a:custGeom>
            <a:avLst/>
            <a:gdLst>
              <a:gd name="textAreaLeft" fmla="*/ 0 w 216720"/>
              <a:gd name="textAreaRight" fmla="*/ 217080 w 21672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16992" h="236491">
                <a:moveTo>
                  <a:pt x="0" y="22015"/>
                </a:moveTo>
                <a:cubicBezTo>
                  <a:pt x="52032" y="92068"/>
                  <a:pt x="104076" y="162121"/>
                  <a:pt x="156108" y="232187"/>
                </a:cubicBezTo>
                <a:cubicBezTo>
                  <a:pt x="167525" y="247554"/>
                  <a:pt x="220103" y="218662"/>
                  <a:pt x="216992" y="214471"/>
                </a:cubicBezTo>
                <a:cubicBezTo>
                  <a:pt x="164947" y="144417"/>
                  <a:pt x="112915" y="74364"/>
                  <a:pt x="60883" y="4311"/>
                </a:cubicBezTo>
                <a:cubicBezTo>
                  <a:pt x="49453" y="-11068"/>
                  <a:pt x="-3111" y="17824"/>
                  <a:pt x="0" y="2201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6152040" y="3431520"/>
            <a:ext cx="236160" cy="117360"/>
          </a:xfrm>
          <a:custGeom>
            <a:avLst/>
            <a:gdLst>
              <a:gd name="textAreaLeft" fmla="*/ 0 w 236160"/>
              <a:gd name="textAreaRight" fmla="*/ 236520 w 23616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36526" h="117779">
                <a:moveTo>
                  <a:pt x="589" y="30200"/>
                </a:moveTo>
                <a:cubicBezTo>
                  <a:pt x="55999" y="77799"/>
                  <a:pt x="119422" y="103898"/>
                  <a:pt x="187990" y="117779"/>
                </a:cubicBezTo>
                <a:cubicBezTo>
                  <a:pt x="202430" y="120713"/>
                  <a:pt x="219879" y="116128"/>
                  <a:pt x="231030" y="105257"/>
                </a:cubicBezTo>
                <a:cubicBezTo>
                  <a:pt x="240441" y="96075"/>
                  <a:pt x="238155" y="83908"/>
                  <a:pt x="225391" y="81330"/>
                </a:cubicBezTo>
                <a:cubicBezTo>
                  <a:pt x="164215" y="68948"/>
                  <a:pt x="106748" y="46710"/>
                  <a:pt x="57180" y="4127"/>
                </a:cubicBezTo>
                <a:cubicBezTo>
                  <a:pt x="40098" y="-10541"/>
                  <a:pt x="-16073" y="15887"/>
                  <a:pt x="589" y="3020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6518880" y="3386880"/>
            <a:ext cx="321840" cy="135720"/>
          </a:xfrm>
          <a:custGeom>
            <a:avLst/>
            <a:gdLst>
              <a:gd name="textAreaLeft" fmla="*/ 0 w 321840"/>
              <a:gd name="textAreaRight" fmla="*/ 322200 w 321840"/>
              <a:gd name="textAreaTop" fmla="*/ 0 h 135720"/>
              <a:gd name="textAreaBottom" fmla="*/ 136080 h 135720"/>
            </a:gdLst>
            <a:ahLst/>
            <a:rect l="textAreaLeft" t="textAreaTop" r="textAreaRight" b="textAreaBottom"/>
            <a:pathLst>
              <a:path w="322074" h="135949">
                <a:moveTo>
                  <a:pt x="18085" y="134079"/>
                </a:moveTo>
                <a:cubicBezTo>
                  <a:pt x="125832" y="144861"/>
                  <a:pt x="227458" y="108996"/>
                  <a:pt x="311494" y="33621"/>
                </a:cubicBezTo>
                <a:cubicBezTo>
                  <a:pt x="343637" y="4792"/>
                  <a:pt x="294742" y="-17190"/>
                  <a:pt x="271590" y="3573"/>
                </a:cubicBezTo>
                <a:cubicBezTo>
                  <a:pt x="204229" y="64000"/>
                  <a:pt x="126594" y="94861"/>
                  <a:pt x="39624" y="86161"/>
                </a:cubicBezTo>
                <a:cubicBezTo>
                  <a:pt x="10490" y="83240"/>
                  <a:pt x="-23049" y="129964"/>
                  <a:pt x="18085" y="1340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6962040" y="3093480"/>
            <a:ext cx="275400" cy="197280"/>
          </a:xfrm>
          <a:custGeom>
            <a:avLst/>
            <a:gdLst>
              <a:gd name="textAreaLeft" fmla="*/ 0 w 275400"/>
              <a:gd name="textAreaRight" fmla="*/ 275760 w 275400"/>
              <a:gd name="textAreaTop" fmla="*/ 0 h 197280"/>
              <a:gd name="textAreaBottom" fmla="*/ 197640 h 197280"/>
            </a:gdLst>
            <a:ahLst/>
            <a:rect l="textAreaLeft" t="textAreaTop" r="textAreaRight" b="textAreaBottom"/>
            <a:pathLst>
              <a:path w="275881" h="197535">
                <a:moveTo>
                  <a:pt x="54685" y="182206"/>
                </a:moveTo>
                <a:cubicBezTo>
                  <a:pt x="128422" y="124498"/>
                  <a:pt x="202158" y="66776"/>
                  <a:pt x="275881" y="9067"/>
                </a:cubicBezTo>
                <a:cubicBezTo>
                  <a:pt x="287375" y="63"/>
                  <a:pt x="265734" y="-419"/>
                  <a:pt x="262089" y="0"/>
                </a:cubicBezTo>
                <a:cubicBezTo>
                  <a:pt x="248005" y="1612"/>
                  <a:pt x="232879" y="6172"/>
                  <a:pt x="221195" y="15328"/>
                </a:cubicBezTo>
                <a:cubicBezTo>
                  <a:pt x="147459" y="73037"/>
                  <a:pt x="73723" y="130759"/>
                  <a:pt x="0" y="188468"/>
                </a:cubicBezTo>
                <a:cubicBezTo>
                  <a:pt x="-11493" y="197472"/>
                  <a:pt x="10147" y="197954"/>
                  <a:pt x="13804" y="197535"/>
                </a:cubicBezTo>
                <a:cubicBezTo>
                  <a:pt x="27888" y="195923"/>
                  <a:pt x="43002" y="191350"/>
                  <a:pt x="54685" y="18220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7354080" y="2900160"/>
            <a:ext cx="316440" cy="120960"/>
          </a:xfrm>
          <a:custGeom>
            <a:avLst/>
            <a:gdLst>
              <a:gd name="textAreaLeft" fmla="*/ 0 w 316440"/>
              <a:gd name="textAreaRight" fmla="*/ 316800 w 31644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316748" h="121449">
                <a:moveTo>
                  <a:pt x="55341" y="117982"/>
                </a:moveTo>
                <a:cubicBezTo>
                  <a:pt x="142120" y="82829"/>
                  <a:pt x="228912" y="47675"/>
                  <a:pt x="315704" y="12522"/>
                </a:cubicBezTo>
                <a:cubicBezTo>
                  <a:pt x="329230" y="7035"/>
                  <a:pt x="308554" y="609"/>
                  <a:pt x="304934" y="0"/>
                </a:cubicBezTo>
                <a:cubicBezTo>
                  <a:pt x="290952" y="-2336"/>
                  <a:pt x="275153" y="-2108"/>
                  <a:pt x="261399" y="3467"/>
                </a:cubicBezTo>
                <a:cubicBezTo>
                  <a:pt x="174620" y="38620"/>
                  <a:pt x="87828" y="73774"/>
                  <a:pt x="1049" y="108927"/>
                </a:cubicBezTo>
                <a:cubicBezTo>
                  <a:pt x="-12475" y="114414"/>
                  <a:pt x="8187" y="120840"/>
                  <a:pt x="11818" y="121450"/>
                </a:cubicBezTo>
                <a:cubicBezTo>
                  <a:pt x="25801" y="123786"/>
                  <a:pt x="41587" y="123558"/>
                  <a:pt x="55341" y="11798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7801920" y="2872800"/>
            <a:ext cx="297000" cy="76680"/>
          </a:xfrm>
          <a:custGeom>
            <a:avLst/>
            <a:gdLst>
              <a:gd name="textAreaLeft" fmla="*/ 0 w 297000"/>
              <a:gd name="textAreaRight" fmla="*/ 297360 w 297000"/>
              <a:gd name="textAreaTop" fmla="*/ 0 h 76680"/>
              <a:gd name="textAreaBottom" fmla="*/ 77040 h 76680"/>
            </a:gdLst>
            <a:ahLst/>
            <a:rect l="textAreaLeft" t="textAreaTop" r="textAreaRight" b="textAreaBottom"/>
            <a:pathLst>
              <a:path w="297319" h="77139">
                <a:moveTo>
                  <a:pt x="15728" y="30581"/>
                </a:moveTo>
                <a:cubicBezTo>
                  <a:pt x="94570" y="31826"/>
                  <a:pt x="171430" y="43802"/>
                  <a:pt x="244671" y="77139"/>
                </a:cubicBezTo>
                <a:cubicBezTo>
                  <a:pt x="259390" y="83845"/>
                  <a:pt x="314978" y="58623"/>
                  <a:pt x="294251" y="49186"/>
                </a:cubicBezTo>
                <a:cubicBezTo>
                  <a:pt x="213340" y="12369"/>
                  <a:pt x="128262" y="1371"/>
                  <a:pt x="41343" y="0"/>
                </a:cubicBezTo>
                <a:cubicBezTo>
                  <a:pt x="22992" y="-292"/>
                  <a:pt x="-24924" y="29946"/>
                  <a:pt x="15728" y="3058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8207640" y="2960280"/>
            <a:ext cx="353160" cy="119160"/>
          </a:xfrm>
          <a:custGeom>
            <a:avLst/>
            <a:gdLst>
              <a:gd name="textAreaLeft" fmla="*/ 0 w 353160"/>
              <a:gd name="textAreaRight" fmla="*/ 353520 w 35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353355" h="119672">
                <a:moveTo>
                  <a:pt x="13775" y="46316"/>
                </a:moveTo>
                <a:cubicBezTo>
                  <a:pt x="111653" y="82359"/>
                  <a:pt x="211488" y="106933"/>
                  <a:pt x="314041" y="119672"/>
                </a:cubicBezTo>
                <a:cubicBezTo>
                  <a:pt x="344584" y="123469"/>
                  <a:pt x="376055" y="74587"/>
                  <a:pt x="335033" y="69494"/>
                </a:cubicBezTo>
                <a:cubicBezTo>
                  <a:pt x="237218" y="57340"/>
                  <a:pt x="142261" y="34404"/>
                  <a:pt x="48852" y="0"/>
                </a:cubicBezTo>
                <a:cubicBezTo>
                  <a:pt x="22029" y="-9867"/>
                  <a:pt x="-22928" y="32804"/>
                  <a:pt x="13775" y="4631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8734320" y="3053520"/>
            <a:ext cx="475920" cy="80640"/>
          </a:xfrm>
          <a:custGeom>
            <a:avLst/>
            <a:gdLst>
              <a:gd name="textAreaLeft" fmla="*/ 0 w 475920"/>
              <a:gd name="textAreaRight" fmla="*/ 476280 w 4759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476183" h="80835">
                <a:moveTo>
                  <a:pt x="18162" y="51955"/>
                </a:moveTo>
                <a:cubicBezTo>
                  <a:pt x="158713" y="87020"/>
                  <a:pt x="303023" y="88633"/>
                  <a:pt x="445403" y="66357"/>
                </a:cubicBezTo>
                <a:cubicBezTo>
                  <a:pt x="479909" y="60959"/>
                  <a:pt x="491352" y="7188"/>
                  <a:pt x="450280" y="13601"/>
                </a:cubicBezTo>
                <a:cubicBezTo>
                  <a:pt x="312663" y="35115"/>
                  <a:pt x="174600" y="33883"/>
                  <a:pt x="38749" y="0"/>
                </a:cubicBezTo>
                <a:cubicBezTo>
                  <a:pt x="7151" y="-7886"/>
                  <a:pt x="-21982" y="41935"/>
                  <a:pt x="18162" y="5195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9342360" y="2954160"/>
            <a:ext cx="343440" cy="126720"/>
          </a:xfrm>
          <a:custGeom>
            <a:avLst/>
            <a:gdLst>
              <a:gd name="textAreaLeft" fmla="*/ 0 w 343440"/>
              <a:gd name="textAreaRight" fmla="*/ 343800 w 34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343694" h="126936">
                <a:moveTo>
                  <a:pt x="17310" y="126936"/>
                </a:moveTo>
                <a:cubicBezTo>
                  <a:pt x="129362" y="125171"/>
                  <a:pt x="235420" y="90017"/>
                  <a:pt x="331685" y="26593"/>
                </a:cubicBezTo>
                <a:cubicBezTo>
                  <a:pt x="367131" y="3251"/>
                  <a:pt x="315036" y="-12712"/>
                  <a:pt x="293014" y="1790"/>
                </a:cubicBezTo>
                <a:cubicBezTo>
                  <a:pt x="216293" y="52324"/>
                  <a:pt x="129641" y="82842"/>
                  <a:pt x="40081" y="84251"/>
                </a:cubicBezTo>
                <a:cubicBezTo>
                  <a:pt x="14820" y="84645"/>
                  <a:pt x="-23735" y="127584"/>
                  <a:pt x="17310" y="12693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9783000" y="2701800"/>
            <a:ext cx="268560" cy="198360"/>
          </a:xfrm>
          <a:custGeom>
            <a:avLst/>
            <a:gdLst>
              <a:gd name="textAreaLeft" fmla="*/ 0 w 268560"/>
              <a:gd name="textAreaRight" fmla="*/ 268920 w 268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69089" h="198591">
                <a:moveTo>
                  <a:pt x="47666" y="193071"/>
                </a:moveTo>
                <a:cubicBezTo>
                  <a:pt x="125645" y="142957"/>
                  <a:pt x="194733" y="79419"/>
                  <a:pt x="264062" y="16008"/>
                </a:cubicBezTo>
                <a:cubicBezTo>
                  <a:pt x="289487" y="-7258"/>
                  <a:pt x="228806" y="-1352"/>
                  <a:pt x="216602" y="9823"/>
                </a:cubicBezTo>
                <a:cubicBezTo>
                  <a:pt x="150879" y="69919"/>
                  <a:pt x="85487" y="131641"/>
                  <a:pt x="11560" y="179165"/>
                </a:cubicBezTo>
                <a:cubicBezTo>
                  <a:pt x="-23719" y="201834"/>
                  <a:pt x="31182" y="203663"/>
                  <a:pt x="47666" y="19307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10158120" y="2473200"/>
            <a:ext cx="198360" cy="116280"/>
          </a:xfrm>
          <a:custGeom>
            <a:avLst/>
            <a:gdLst>
              <a:gd name="textAreaLeft" fmla="*/ 0 w 198360"/>
              <a:gd name="textAreaRight" fmla="*/ 198720 w 198360"/>
              <a:gd name="textAreaTop" fmla="*/ 0 h 116280"/>
              <a:gd name="textAreaBottom" fmla="*/ 116640 h 116280"/>
            </a:gdLst>
            <a:ahLst/>
            <a:rect l="textAreaLeft" t="textAreaTop" r="textAreaRight" b="textAreaBottom"/>
            <a:pathLst>
              <a:path w="198660" h="116509">
                <a:moveTo>
                  <a:pt x="46558" y="103987"/>
                </a:moveTo>
                <a:cubicBezTo>
                  <a:pt x="95313" y="72580"/>
                  <a:pt x="147879" y="48323"/>
                  <a:pt x="193891" y="11811"/>
                </a:cubicBezTo>
                <a:cubicBezTo>
                  <a:pt x="218871" y="-8000"/>
                  <a:pt x="158039" y="927"/>
                  <a:pt x="147332" y="9410"/>
                </a:cubicBezTo>
                <a:cubicBezTo>
                  <a:pt x="101358" y="45885"/>
                  <a:pt x="48755" y="70205"/>
                  <a:pt x="0" y="101587"/>
                </a:cubicBezTo>
                <a:cubicBezTo>
                  <a:pt x="-10261" y="108204"/>
                  <a:pt x="-7746" y="115938"/>
                  <a:pt x="3518" y="116509"/>
                </a:cubicBezTo>
                <a:cubicBezTo>
                  <a:pt x="18174" y="117271"/>
                  <a:pt x="33947" y="112103"/>
                  <a:pt x="46558" y="1039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10383120" y="2095200"/>
            <a:ext cx="409320" cy="351720"/>
          </a:xfrm>
          <a:custGeom>
            <a:avLst/>
            <a:gdLst>
              <a:gd name="textAreaLeft" fmla="*/ 0 w 409320"/>
              <a:gd name="textAreaRight" fmla="*/ 409680 w 409320"/>
              <a:gd name="textAreaTop" fmla="*/ 0 h 351720"/>
              <a:gd name="textAreaBottom" fmla="*/ 352080 h 351720"/>
            </a:gdLst>
            <a:ahLst/>
            <a:rect l="textAreaLeft" t="textAreaTop" r="textAreaRight" b="textAreaBottom"/>
            <a:pathLst>
              <a:path w="409653" h="351935">
                <a:moveTo>
                  <a:pt x="43198" y="350272"/>
                </a:moveTo>
                <a:cubicBezTo>
                  <a:pt x="193324" y="287953"/>
                  <a:pt x="288460" y="144710"/>
                  <a:pt x="403090" y="28607"/>
                </a:cubicBezTo>
                <a:cubicBezTo>
                  <a:pt x="430941" y="400"/>
                  <a:pt x="371823" y="-10381"/>
                  <a:pt x="352519" y="9188"/>
                </a:cubicBezTo>
                <a:cubicBezTo>
                  <a:pt x="245457" y="117621"/>
                  <a:pt x="156888" y="253232"/>
                  <a:pt x="16756" y="311423"/>
                </a:cubicBezTo>
                <a:cubicBezTo>
                  <a:pt x="-22384" y="327666"/>
                  <a:pt x="12082" y="363188"/>
                  <a:pt x="43198" y="35027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11052000" y="2392920"/>
            <a:ext cx="248760" cy="200160"/>
          </a:xfrm>
          <a:custGeom>
            <a:avLst/>
            <a:gdLst>
              <a:gd name="textAreaLeft" fmla="*/ 0 w 248760"/>
              <a:gd name="textAreaRight" fmla="*/ 249120 w 2487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49059" h="200344">
                <a:moveTo>
                  <a:pt x="2539" y="39140"/>
                </a:moveTo>
                <a:cubicBezTo>
                  <a:pt x="56996" y="110527"/>
                  <a:pt x="124001" y="161746"/>
                  <a:pt x="200748" y="199643"/>
                </a:cubicBezTo>
                <a:cubicBezTo>
                  <a:pt x="227075" y="212635"/>
                  <a:pt x="271423" y="170814"/>
                  <a:pt x="235812" y="153237"/>
                </a:cubicBezTo>
                <a:cubicBezTo>
                  <a:pt x="167118" y="119328"/>
                  <a:pt x="106984" y="73201"/>
                  <a:pt x="58228" y="9320"/>
                </a:cubicBezTo>
                <a:cubicBezTo>
                  <a:pt x="39788" y="-14859"/>
                  <a:pt x="-17958" y="12267"/>
                  <a:pt x="2539" y="3914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11419560" y="2649600"/>
            <a:ext cx="286200" cy="133560"/>
          </a:xfrm>
          <a:custGeom>
            <a:avLst/>
            <a:gdLst>
              <a:gd name="textAreaLeft" fmla="*/ 0 w 286200"/>
              <a:gd name="textAreaRight" fmla="*/ 286560 w 2862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86673" h="134084">
                <a:moveTo>
                  <a:pt x="0" y="25855"/>
                </a:moveTo>
                <a:cubicBezTo>
                  <a:pt x="74193" y="72705"/>
                  <a:pt x="151256" y="109764"/>
                  <a:pt x="233933" y="134084"/>
                </a:cubicBezTo>
                <a:cubicBezTo>
                  <a:pt x="249808" y="138758"/>
                  <a:pt x="304266" y="111516"/>
                  <a:pt x="283323" y="105357"/>
                </a:cubicBezTo>
                <a:cubicBezTo>
                  <a:pt x="203542" y="81887"/>
                  <a:pt x="128714" y="46962"/>
                  <a:pt x="57035" y="1699"/>
                </a:cubicBezTo>
                <a:cubicBezTo>
                  <a:pt x="40385" y="-8803"/>
                  <a:pt x="-11734" y="18438"/>
                  <a:pt x="0" y="2585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10825920" y="1826640"/>
            <a:ext cx="217800" cy="200160"/>
          </a:xfrm>
          <a:custGeom>
            <a:avLst/>
            <a:gdLst>
              <a:gd name="textAreaLeft" fmla="*/ 0 w 217800"/>
              <a:gd name="textAreaRight" fmla="*/ 218160 w 2178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8119" h="200382">
                <a:moveTo>
                  <a:pt x="48777" y="200282"/>
                </a:moveTo>
                <a:cubicBezTo>
                  <a:pt x="114436" y="156746"/>
                  <a:pt x="171522" y="102073"/>
                  <a:pt x="218119" y="33734"/>
                </a:cubicBezTo>
                <a:cubicBezTo>
                  <a:pt x="226704" y="21072"/>
                  <a:pt x="175485" y="-12226"/>
                  <a:pt x="164462" y="3953"/>
                </a:cubicBezTo>
                <a:cubicBezTo>
                  <a:pt x="119186" y="70424"/>
                  <a:pt x="63903" y="123460"/>
                  <a:pt x="34" y="165776"/>
                </a:cubicBezTo>
                <a:cubicBezTo>
                  <a:pt x="-12995" y="174425"/>
                  <a:pt x="33461" y="210417"/>
                  <a:pt x="48777" y="20028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11021040" y="1450080"/>
            <a:ext cx="93240" cy="285120"/>
          </a:xfrm>
          <a:custGeom>
            <a:avLst/>
            <a:gdLst>
              <a:gd name="textAreaLeft" fmla="*/ 0 w 93240"/>
              <a:gd name="textAreaRight" fmla="*/ 93600 w 93240"/>
              <a:gd name="textAreaTop" fmla="*/ 0 h 285120"/>
              <a:gd name="textAreaBottom" fmla="*/ 285480 h 285120"/>
            </a:gdLst>
            <a:ahLst/>
            <a:rect l="textAreaLeft" t="textAreaTop" r="textAreaRight" b="textAreaBottom"/>
            <a:pathLst>
              <a:path w="93560" h="285534">
                <a:moveTo>
                  <a:pt x="58013" y="268617"/>
                </a:moveTo>
                <a:cubicBezTo>
                  <a:pt x="82498" y="189318"/>
                  <a:pt x="98335" y="108458"/>
                  <a:pt x="93560" y="27800"/>
                </a:cubicBezTo>
                <a:cubicBezTo>
                  <a:pt x="91693" y="-3378"/>
                  <a:pt x="32943" y="-14274"/>
                  <a:pt x="35293" y="25158"/>
                </a:cubicBezTo>
                <a:cubicBezTo>
                  <a:pt x="39789" y="100838"/>
                  <a:pt x="22935" y="177838"/>
                  <a:pt x="0" y="252056"/>
                </a:cubicBezTo>
                <a:cubicBezTo>
                  <a:pt x="-9550" y="283006"/>
                  <a:pt x="46925" y="304533"/>
                  <a:pt x="58013" y="26861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10857240" y="1160640"/>
            <a:ext cx="156600" cy="166680"/>
          </a:xfrm>
          <a:custGeom>
            <a:avLst/>
            <a:gdLst>
              <a:gd name="textAreaLeft" fmla="*/ 0 w 156600"/>
              <a:gd name="textAreaRight" fmla="*/ 156960 w 15660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7125" h="166941">
                <a:moveTo>
                  <a:pt x="150889" y="135534"/>
                </a:moveTo>
                <a:cubicBezTo>
                  <a:pt x="115265" y="97066"/>
                  <a:pt x="85979" y="51993"/>
                  <a:pt x="50330" y="13500"/>
                </a:cubicBezTo>
                <a:cubicBezTo>
                  <a:pt x="40678" y="3098"/>
                  <a:pt x="25184" y="-6108"/>
                  <a:pt x="10109" y="0"/>
                </a:cubicBezTo>
                <a:cubicBezTo>
                  <a:pt x="-3822" y="5613"/>
                  <a:pt x="-1625" y="22910"/>
                  <a:pt x="6236" y="31394"/>
                </a:cubicBezTo>
                <a:cubicBezTo>
                  <a:pt x="41859" y="69875"/>
                  <a:pt x="71132" y="114935"/>
                  <a:pt x="106795" y="153416"/>
                </a:cubicBezTo>
                <a:cubicBezTo>
                  <a:pt x="116433" y="163842"/>
                  <a:pt x="131927" y="173037"/>
                  <a:pt x="147015" y="166941"/>
                </a:cubicBezTo>
                <a:cubicBezTo>
                  <a:pt x="160947" y="161315"/>
                  <a:pt x="158750" y="144017"/>
                  <a:pt x="150889" y="13553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10577160" y="1112760"/>
            <a:ext cx="184320" cy="99360"/>
          </a:xfrm>
          <a:custGeom>
            <a:avLst/>
            <a:gdLst>
              <a:gd name="textAreaLeft" fmla="*/ 0 w 184320"/>
              <a:gd name="textAreaRight" fmla="*/ 184680 w 18432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184746" h="99588">
                <a:moveTo>
                  <a:pt x="146824" y="0"/>
                </a:moveTo>
                <a:cubicBezTo>
                  <a:pt x="90881" y="-2324"/>
                  <a:pt x="42100" y="18313"/>
                  <a:pt x="0" y="66128"/>
                </a:cubicBezTo>
                <a:cubicBezTo>
                  <a:pt x="-9042" y="76415"/>
                  <a:pt x="39268" y="112229"/>
                  <a:pt x="53631" y="95910"/>
                </a:cubicBezTo>
                <a:cubicBezTo>
                  <a:pt x="87909" y="56946"/>
                  <a:pt x="130085" y="35483"/>
                  <a:pt x="176276" y="37401"/>
                </a:cubicBezTo>
                <a:cubicBezTo>
                  <a:pt x="187705" y="37858"/>
                  <a:pt x="192506" y="30886"/>
                  <a:pt x="184746" y="21031"/>
                </a:cubicBezTo>
                <a:cubicBezTo>
                  <a:pt x="176174" y="10134"/>
                  <a:pt x="160667" y="546"/>
                  <a:pt x="146824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0832760" y="2120040"/>
            <a:ext cx="164520" cy="194040"/>
          </a:xfrm>
          <a:custGeom>
            <a:avLst/>
            <a:gdLst>
              <a:gd name="textAreaLeft" fmla="*/ 0 w 164520"/>
              <a:gd name="textAreaRight" fmla="*/ 164880 w 164520"/>
              <a:gd name="textAreaTop" fmla="*/ 0 h 194040"/>
              <a:gd name="textAreaBottom" fmla="*/ 194400 h 194040"/>
            </a:gdLst>
            <a:ahLst/>
            <a:rect l="textAreaLeft" t="textAreaTop" r="textAreaRight" b="textAreaBottom"/>
            <a:pathLst>
              <a:path w="164744" h="194451">
                <a:moveTo>
                  <a:pt x="0" y="18645"/>
                </a:moveTo>
                <a:cubicBezTo>
                  <a:pt x="22936" y="87745"/>
                  <a:pt x="62319" y="142711"/>
                  <a:pt x="107937" y="190247"/>
                </a:cubicBezTo>
                <a:cubicBezTo>
                  <a:pt x="117309" y="200051"/>
                  <a:pt x="133870" y="197689"/>
                  <a:pt x="145186" y="194451"/>
                </a:cubicBezTo>
                <a:cubicBezTo>
                  <a:pt x="148349" y="193562"/>
                  <a:pt x="173697" y="183478"/>
                  <a:pt x="164744" y="174118"/>
                </a:cubicBezTo>
                <a:cubicBezTo>
                  <a:pt x="121196" y="128703"/>
                  <a:pt x="81419" y="75795"/>
                  <a:pt x="59474" y="9602"/>
                </a:cubicBezTo>
                <a:cubicBezTo>
                  <a:pt x="52324" y="-11923"/>
                  <a:pt x="-4558" y="4890"/>
                  <a:pt x="0" y="1864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10349640" y="1258560"/>
            <a:ext cx="145440" cy="238680"/>
          </a:xfrm>
          <a:custGeom>
            <a:avLst/>
            <a:gdLst>
              <a:gd name="textAreaLeft" fmla="*/ 0 w 145440"/>
              <a:gd name="textAreaRight" fmla="*/ 145800 w 145440"/>
              <a:gd name="textAreaTop" fmla="*/ 0 h 238680"/>
              <a:gd name="textAreaBottom" fmla="*/ 239040 h 238680"/>
            </a:gdLst>
            <a:ahLst/>
            <a:rect l="textAreaLeft" t="textAreaTop" r="textAreaRight" b="textAreaBottom"/>
            <a:pathLst>
              <a:path w="145863" h="239163">
                <a:moveTo>
                  <a:pt x="95949" y="4379"/>
                </a:moveTo>
                <a:cubicBezTo>
                  <a:pt x="36322" y="59180"/>
                  <a:pt x="2247" y="132281"/>
                  <a:pt x="0" y="218578"/>
                </a:cubicBezTo>
                <a:cubicBezTo>
                  <a:pt x="-875" y="252372"/>
                  <a:pt x="60680" y="241527"/>
                  <a:pt x="61417" y="213028"/>
                </a:cubicBezTo>
                <a:cubicBezTo>
                  <a:pt x="63246" y="142898"/>
                  <a:pt x="85953" y="78446"/>
                  <a:pt x="135496" y="32891"/>
                </a:cubicBezTo>
                <a:cubicBezTo>
                  <a:pt x="167297" y="3668"/>
                  <a:pt x="118212" y="-16092"/>
                  <a:pt x="95949" y="43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10370160" y="1597680"/>
            <a:ext cx="120600" cy="194400"/>
          </a:xfrm>
          <a:custGeom>
            <a:avLst/>
            <a:gdLst>
              <a:gd name="textAreaLeft" fmla="*/ 0 w 120600"/>
              <a:gd name="textAreaRight" fmla="*/ 120960 w 12060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120929" h="194725">
                <a:moveTo>
                  <a:pt x="0" y="24956"/>
                </a:moveTo>
                <a:cubicBezTo>
                  <a:pt x="622" y="88888"/>
                  <a:pt x="17780" y="150229"/>
                  <a:pt x="63944" y="191364"/>
                </a:cubicBezTo>
                <a:cubicBezTo>
                  <a:pt x="78676" y="204483"/>
                  <a:pt x="133857" y="178601"/>
                  <a:pt x="120929" y="167095"/>
                </a:cubicBezTo>
                <a:cubicBezTo>
                  <a:pt x="76390" y="127382"/>
                  <a:pt x="61455" y="68670"/>
                  <a:pt x="60883" y="7252"/>
                </a:cubicBezTo>
                <a:cubicBezTo>
                  <a:pt x="60731" y="-8964"/>
                  <a:pt x="-203" y="2363"/>
                  <a:pt x="0" y="2495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10488960" y="1832400"/>
            <a:ext cx="246240" cy="231840"/>
          </a:xfrm>
          <a:custGeom>
            <a:avLst/>
            <a:gdLst>
              <a:gd name="textAreaLeft" fmla="*/ 0 w 246240"/>
              <a:gd name="textAreaRight" fmla="*/ 246600 w 246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46443" h="232239">
                <a:moveTo>
                  <a:pt x="246443" y="205949"/>
                </a:moveTo>
                <a:cubicBezTo>
                  <a:pt x="200393" y="119627"/>
                  <a:pt x="128866" y="61207"/>
                  <a:pt x="56743" y="3396"/>
                </a:cubicBezTo>
                <a:cubicBezTo>
                  <a:pt x="40055" y="-9989"/>
                  <a:pt x="-15227" y="16579"/>
                  <a:pt x="0" y="28783"/>
                </a:cubicBezTo>
                <a:cubicBezTo>
                  <a:pt x="69011" y="84105"/>
                  <a:pt x="141401" y="140836"/>
                  <a:pt x="185572" y="223652"/>
                </a:cubicBezTo>
                <a:cubicBezTo>
                  <a:pt x="197053" y="245166"/>
                  <a:pt x="255079" y="222141"/>
                  <a:pt x="246443" y="2059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5148360" y="18907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187960" y="193032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1" y="0"/>
                  <a:pt x="0" y="22352"/>
                  <a:pt x="0" y="49936"/>
                </a:cubicBezTo>
                <a:cubicBezTo>
                  <a:pt x="0" y="77520"/>
                  <a:pt x="22351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4224960" y="348948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4264560" y="352908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2" y="0"/>
                  <a:pt x="0" y="22352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3472560" y="430164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6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6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3512160" y="434160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6482160" y="342540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6" y="179552"/>
                  <a:pt x="179552" y="139357"/>
                  <a:pt x="179552" y="89776"/>
                </a:cubicBezTo>
                <a:cubicBezTo>
                  <a:pt x="179552" y="40195"/>
                  <a:pt x="139356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6521760" y="346500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9120960" y="300348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1" h="179552">
                <a:moveTo>
                  <a:pt x="89775" y="179552"/>
                </a:moveTo>
                <a:cubicBezTo>
                  <a:pt x="139357" y="179552"/>
                  <a:pt x="179552" y="139357"/>
                  <a:pt x="179552" y="89776"/>
                </a:cubicBezTo>
                <a:cubicBezTo>
                  <a:pt x="179552" y="40195"/>
                  <a:pt x="139357" y="0"/>
                  <a:pt x="89775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5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9160920" y="304344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5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5" y="0"/>
                </a:cubicBezTo>
                <a:cubicBezTo>
                  <a:pt x="22351" y="0"/>
                  <a:pt x="0" y="22351"/>
                  <a:pt x="0" y="49936"/>
                </a:cubicBezTo>
                <a:cubicBezTo>
                  <a:pt x="0" y="77520"/>
                  <a:pt x="22351" y="99872"/>
                  <a:pt x="49935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10495800" y="108036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2" h="179552">
                <a:moveTo>
                  <a:pt x="89776" y="179552"/>
                </a:moveTo>
                <a:cubicBezTo>
                  <a:pt x="139357" y="179552"/>
                  <a:pt x="179552" y="139357"/>
                  <a:pt x="179552" y="89776"/>
                </a:cubicBezTo>
                <a:cubicBezTo>
                  <a:pt x="179552" y="40195"/>
                  <a:pt x="139357" y="0"/>
                  <a:pt x="89776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7"/>
                  <a:pt x="40195" y="179552"/>
                  <a:pt x="89776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10535760" y="111996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2"/>
                  <a:pt x="77520" y="0"/>
                  <a:pt x="49936" y="0"/>
                </a:cubicBezTo>
                <a:cubicBezTo>
                  <a:pt x="22352" y="0"/>
                  <a:pt x="0" y="22352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11594880" y="2668320"/>
            <a:ext cx="179280" cy="179280"/>
          </a:xfrm>
          <a:custGeom>
            <a:avLst/>
            <a:gdLst>
              <a:gd name="textAreaLeft" fmla="*/ 0 w 179280"/>
              <a:gd name="textAreaRight" fmla="*/ 179640 w 1792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79551" h="179552">
                <a:moveTo>
                  <a:pt x="89775" y="179552"/>
                </a:moveTo>
                <a:cubicBezTo>
                  <a:pt x="139356" y="179552"/>
                  <a:pt x="179552" y="139356"/>
                  <a:pt x="179552" y="89776"/>
                </a:cubicBezTo>
                <a:cubicBezTo>
                  <a:pt x="179552" y="40195"/>
                  <a:pt x="139356" y="0"/>
                  <a:pt x="89775" y="0"/>
                </a:cubicBezTo>
                <a:cubicBezTo>
                  <a:pt x="40195" y="0"/>
                  <a:pt x="0" y="40195"/>
                  <a:pt x="0" y="89776"/>
                </a:cubicBezTo>
                <a:cubicBezTo>
                  <a:pt x="0" y="139356"/>
                  <a:pt x="40195" y="179552"/>
                  <a:pt x="89775" y="17955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11634840" y="2707920"/>
            <a:ext cx="99360" cy="99360"/>
          </a:xfrm>
          <a:custGeom>
            <a:avLst/>
            <a:gdLst>
              <a:gd name="textAreaLeft" fmla="*/ 0 w 99360"/>
              <a:gd name="textAreaRight" fmla="*/ 99720 w 99360"/>
              <a:gd name="textAreaTop" fmla="*/ 0 h 99360"/>
              <a:gd name="textAreaBottom" fmla="*/ 99720 h 99360"/>
            </a:gdLst>
            <a:ahLst/>
            <a:rect l="textAreaLeft" t="textAreaTop" r="textAreaRight" b="textAreaBottom"/>
            <a:pathLst>
              <a:path w="99872" h="99872">
                <a:moveTo>
                  <a:pt x="49936" y="99872"/>
                </a:moveTo>
                <a:cubicBezTo>
                  <a:pt x="77520" y="99872"/>
                  <a:pt x="99872" y="77520"/>
                  <a:pt x="99872" y="49936"/>
                </a:cubicBezTo>
                <a:cubicBezTo>
                  <a:pt x="99872" y="22351"/>
                  <a:pt x="77520" y="0"/>
                  <a:pt x="49936" y="0"/>
                </a:cubicBezTo>
                <a:cubicBezTo>
                  <a:pt x="22352" y="0"/>
                  <a:pt x="0" y="22351"/>
                  <a:pt x="0" y="49936"/>
                </a:cubicBezTo>
                <a:cubicBezTo>
                  <a:pt x="0" y="77520"/>
                  <a:pt x="22352" y="99872"/>
                  <a:pt x="49936" y="99872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3348000" y="4302360"/>
            <a:ext cx="359640" cy="359640"/>
          </a:xfrm>
          <a:custGeom>
            <a:avLst/>
            <a:gdLst>
              <a:gd name="textAreaLeft" fmla="*/ 0 w 359640"/>
              <a:gd name="textAreaRight" fmla="*/ 360000 w 359640"/>
              <a:gd name="textAreaTop" fmla="*/ 0 h 359640"/>
              <a:gd name="textAreaBottom" fmla="*/ 360000 h 359640"/>
            </a:gdLst>
            <a:ahLst/>
            <a:rect l="textAreaLeft" t="textAreaTop" r="textAreaRight" b="textAreaBottom"/>
            <a:pathLst>
              <a:path w="359993" h="359994">
                <a:moveTo>
                  <a:pt x="179996" y="359994"/>
                </a:moveTo>
                <a:cubicBezTo>
                  <a:pt x="279412" y="359994"/>
                  <a:pt x="359993" y="279400"/>
                  <a:pt x="359993" y="179997"/>
                </a:cubicBezTo>
                <a:cubicBezTo>
                  <a:pt x="359993" y="80581"/>
                  <a:pt x="279412" y="0"/>
                  <a:pt x="179996" y="0"/>
                </a:cubicBezTo>
                <a:cubicBezTo>
                  <a:pt x="80581" y="0"/>
                  <a:pt x="0" y="80581"/>
                  <a:pt x="0" y="179997"/>
                </a:cubicBezTo>
                <a:cubicBezTo>
                  <a:pt x="0" y="279400"/>
                  <a:pt x="80581" y="359994"/>
                  <a:pt x="179996" y="35999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3427920" y="4382280"/>
            <a:ext cx="199800" cy="199800"/>
          </a:xfrm>
          <a:custGeom>
            <a:avLst/>
            <a:gdLst>
              <a:gd name="textAreaLeft" fmla="*/ 0 w 199800"/>
              <a:gd name="textAreaRight" fmla="*/ 200160 w 199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0253" h="200240">
                <a:moveTo>
                  <a:pt x="100126" y="200240"/>
                </a:moveTo>
                <a:cubicBezTo>
                  <a:pt x="155422" y="200240"/>
                  <a:pt x="200253" y="155409"/>
                  <a:pt x="200253" y="100114"/>
                </a:cubicBezTo>
                <a:cubicBezTo>
                  <a:pt x="200253" y="44818"/>
                  <a:pt x="155422" y="0"/>
                  <a:pt x="100126" y="0"/>
                </a:cubicBezTo>
                <a:cubicBezTo>
                  <a:pt x="44831" y="0"/>
                  <a:pt x="0" y="44818"/>
                  <a:pt x="0" y="100114"/>
                </a:cubicBezTo>
                <a:cubicBezTo>
                  <a:pt x="0" y="155409"/>
                  <a:pt x="44831" y="200240"/>
                  <a:pt x="100126" y="20024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8784000" y="1452960"/>
            <a:ext cx="790560" cy="755640"/>
          </a:xfrm>
          <a:custGeom>
            <a:avLst/>
            <a:gdLst>
              <a:gd name="textAreaLeft" fmla="*/ 0 w 790560"/>
              <a:gd name="textAreaRight" fmla="*/ 790920 w 7905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790829" h="756030">
                <a:moveTo>
                  <a:pt x="316331" y="395414"/>
                </a:moveTo>
                <a:cubicBezTo>
                  <a:pt x="328827" y="394398"/>
                  <a:pt x="313994" y="385622"/>
                  <a:pt x="322668" y="382765"/>
                </a:cubicBezTo>
                <a:cubicBezTo>
                  <a:pt x="212584" y="384213"/>
                  <a:pt x="107136" y="388137"/>
                  <a:pt x="15823" y="382765"/>
                </a:cubicBezTo>
                <a:cubicBezTo>
                  <a:pt x="13906" y="368465"/>
                  <a:pt x="1282" y="371906"/>
                  <a:pt x="0" y="363778"/>
                </a:cubicBezTo>
                <a:cubicBezTo>
                  <a:pt x="4597" y="362381"/>
                  <a:pt x="-317" y="361010"/>
                  <a:pt x="0" y="357454"/>
                </a:cubicBezTo>
                <a:cubicBezTo>
                  <a:pt x="-1499" y="343852"/>
                  <a:pt x="8521" y="353402"/>
                  <a:pt x="9486" y="347967"/>
                </a:cubicBezTo>
                <a:cubicBezTo>
                  <a:pt x="12204" y="337883"/>
                  <a:pt x="6743" y="335953"/>
                  <a:pt x="3161" y="332143"/>
                </a:cubicBezTo>
                <a:cubicBezTo>
                  <a:pt x="1637" y="322186"/>
                  <a:pt x="12877" y="324980"/>
                  <a:pt x="9486" y="313169"/>
                </a:cubicBezTo>
                <a:cubicBezTo>
                  <a:pt x="20370" y="312839"/>
                  <a:pt x="32219" y="311530"/>
                  <a:pt x="34797" y="319493"/>
                </a:cubicBezTo>
                <a:cubicBezTo>
                  <a:pt x="57339" y="310121"/>
                  <a:pt x="68782" y="327063"/>
                  <a:pt x="94906" y="325818"/>
                </a:cubicBezTo>
                <a:cubicBezTo>
                  <a:pt x="100050" y="325577"/>
                  <a:pt x="105231" y="320344"/>
                  <a:pt x="110718" y="319493"/>
                </a:cubicBezTo>
                <a:cubicBezTo>
                  <a:pt x="151155" y="313220"/>
                  <a:pt x="189648" y="325158"/>
                  <a:pt x="224599" y="322656"/>
                </a:cubicBezTo>
                <a:cubicBezTo>
                  <a:pt x="233577" y="323202"/>
                  <a:pt x="230771" y="311962"/>
                  <a:pt x="243585" y="316331"/>
                </a:cubicBezTo>
                <a:cubicBezTo>
                  <a:pt x="251662" y="316191"/>
                  <a:pt x="247433" y="318681"/>
                  <a:pt x="246747" y="322656"/>
                </a:cubicBezTo>
                <a:cubicBezTo>
                  <a:pt x="271614" y="305435"/>
                  <a:pt x="295490" y="324383"/>
                  <a:pt x="310006" y="310007"/>
                </a:cubicBezTo>
                <a:cubicBezTo>
                  <a:pt x="320547" y="325818"/>
                  <a:pt x="343280" y="316433"/>
                  <a:pt x="354303" y="306844"/>
                </a:cubicBezTo>
                <a:cubicBezTo>
                  <a:pt x="315544" y="251294"/>
                  <a:pt x="266471" y="198653"/>
                  <a:pt x="211937" y="148678"/>
                </a:cubicBezTo>
                <a:cubicBezTo>
                  <a:pt x="187514" y="126288"/>
                  <a:pt x="159880" y="111645"/>
                  <a:pt x="151853" y="82245"/>
                </a:cubicBezTo>
                <a:cubicBezTo>
                  <a:pt x="156882" y="79908"/>
                  <a:pt x="151129" y="66763"/>
                  <a:pt x="161340" y="69595"/>
                </a:cubicBezTo>
                <a:cubicBezTo>
                  <a:pt x="159829" y="58254"/>
                  <a:pt x="156184" y="51320"/>
                  <a:pt x="161340" y="41122"/>
                </a:cubicBezTo>
                <a:cubicBezTo>
                  <a:pt x="177647" y="41402"/>
                  <a:pt x="176986" y="44335"/>
                  <a:pt x="186638" y="37960"/>
                </a:cubicBezTo>
                <a:cubicBezTo>
                  <a:pt x="246074" y="86080"/>
                  <a:pt x="299236" y="140474"/>
                  <a:pt x="351142" y="196126"/>
                </a:cubicBezTo>
                <a:cubicBezTo>
                  <a:pt x="365645" y="130721"/>
                  <a:pt x="338963" y="56337"/>
                  <a:pt x="370116" y="3162"/>
                </a:cubicBezTo>
                <a:cubicBezTo>
                  <a:pt x="384796" y="8407"/>
                  <a:pt x="384352" y="-3848"/>
                  <a:pt x="404900" y="0"/>
                </a:cubicBezTo>
                <a:cubicBezTo>
                  <a:pt x="405638" y="12979"/>
                  <a:pt x="408113" y="24206"/>
                  <a:pt x="420725" y="25311"/>
                </a:cubicBezTo>
                <a:cubicBezTo>
                  <a:pt x="428345" y="96519"/>
                  <a:pt x="421868" y="199250"/>
                  <a:pt x="420725" y="275208"/>
                </a:cubicBezTo>
                <a:cubicBezTo>
                  <a:pt x="425436" y="278930"/>
                  <a:pt x="429653" y="283146"/>
                  <a:pt x="433374" y="287858"/>
                </a:cubicBezTo>
                <a:cubicBezTo>
                  <a:pt x="436194" y="285915"/>
                  <a:pt x="439039" y="284035"/>
                  <a:pt x="439711" y="287858"/>
                </a:cubicBezTo>
                <a:cubicBezTo>
                  <a:pt x="456742" y="256463"/>
                  <a:pt x="482968" y="253403"/>
                  <a:pt x="509295" y="230924"/>
                </a:cubicBezTo>
                <a:cubicBezTo>
                  <a:pt x="508291" y="224205"/>
                  <a:pt x="499503" y="235445"/>
                  <a:pt x="496645" y="237248"/>
                </a:cubicBezTo>
                <a:cubicBezTo>
                  <a:pt x="498754" y="216979"/>
                  <a:pt x="539191" y="214579"/>
                  <a:pt x="540930" y="196126"/>
                </a:cubicBezTo>
                <a:cubicBezTo>
                  <a:pt x="554748" y="196189"/>
                  <a:pt x="552601" y="188823"/>
                  <a:pt x="563079" y="183476"/>
                </a:cubicBezTo>
                <a:cubicBezTo>
                  <a:pt x="566407" y="181762"/>
                  <a:pt x="566229" y="183426"/>
                  <a:pt x="566242" y="183476"/>
                </a:cubicBezTo>
                <a:cubicBezTo>
                  <a:pt x="563664" y="171183"/>
                  <a:pt x="575449" y="168338"/>
                  <a:pt x="588378" y="161328"/>
                </a:cubicBezTo>
                <a:cubicBezTo>
                  <a:pt x="584821" y="152844"/>
                  <a:pt x="598309" y="152819"/>
                  <a:pt x="607352" y="139179"/>
                </a:cubicBezTo>
                <a:cubicBezTo>
                  <a:pt x="604672" y="138607"/>
                  <a:pt x="604366" y="140423"/>
                  <a:pt x="604201" y="142354"/>
                </a:cubicBezTo>
                <a:cubicBezTo>
                  <a:pt x="584885" y="148399"/>
                  <a:pt x="615492" y="133477"/>
                  <a:pt x="613688" y="136016"/>
                </a:cubicBezTo>
                <a:cubicBezTo>
                  <a:pt x="616635" y="131838"/>
                  <a:pt x="609333" y="127038"/>
                  <a:pt x="613688" y="123367"/>
                </a:cubicBezTo>
                <a:cubicBezTo>
                  <a:pt x="608888" y="127393"/>
                  <a:pt x="627811" y="128650"/>
                  <a:pt x="623175" y="120205"/>
                </a:cubicBezTo>
                <a:cubicBezTo>
                  <a:pt x="630173" y="133045"/>
                  <a:pt x="642149" y="127444"/>
                  <a:pt x="654811" y="129692"/>
                </a:cubicBezTo>
                <a:cubicBezTo>
                  <a:pt x="645972" y="148208"/>
                  <a:pt x="665949" y="152374"/>
                  <a:pt x="661136" y="173989"/>
                </a:cubicBezTo>
                <a:cubicBezTo>
                  <a:pt x="657466" y="190461"/>
                  <a:pt x="627367" y="209943"/>
                  <a:pt x="610513" y="224599"/>
                </a:cubicBezTo>
                <a:cubicBezTo>
                  <a:pt x="579666" y="251460"/>
                  <a:pt x="529145" y="293509"/>
                  <a:pt x="502970" y="316331"/>
                </a:cubicBezTo>
                <a:cubicBezTo>
                  <a:pt x="505840" y="321894"/>
                  <a:pt x="514057" y="322122"/>
                  <a:pt x="518782" y="325818"/>
                </a:cubicBezTo>
                <a:cubicBezTo>
                  <a:pt x="535355" y="321386"/>
                  <a:pt x="550303" y="318071"/>
                  <a:pt x="566242" y="325818"/>
                </a:cubicBezTo>
                <a:cubicBezTo>
                  <a:pt x="573175" y="314020"/>
                  <a:pt x="595794" y="331444"/>
                  <a:pt x="601026" y="319493"/>
                </a:cubicBezTo>
                <a:cubicBezTo>
                  <a:pt x="615987" y="318909"/>
                  <a:pt x="645108" y="337045"/>
                  <a:pt x="657973" y="316331"/>
                </a:cubicBezTo>
                <a:cubicBezTo>
                  <a:pt x="666165" y="328142"/>
                  <a:pt x="686295" y="325716"/>
                  <a:pt x="702258" y="319493"/>
                </a:cubicBezTo>
                <a:cubicBezTo>
                  <a:pt x="719390" y="324510"/>
                  <a:pt x="738885" y="327151"/>
                  <a:pt x="762368" y="325818"/>
                </a:cubicBezTo>
                <a:cubicBezTo>
                  <a:pt x="773988" y="340423"/>
                  <a:pt x="796962" y="351396"/>
                  <a:pt x="790828" y="366941"/>
                </a:cubicBezTo>
                <a:cubicBezTo>
                  <a:pt x="777113" y="384301"/>
                  <a:pt x="737716" y="380631"/>
                  <a:pt x="692771" y="382765"/>
                </a:cubicBezTo>
                <a:cubicBezTo>
                  <a:pt x="622680" y="386067"/>
                  <a:pt x="556729" y="381355"/>
                  <a:pt x="509295" y="379602"/>
                </a:cubicBezTo>
                <a:cubicBezTo>
                  <a:pt x="501650" y="386943"/>
                  <a:pt x="514235" y="388061"/>
                  <a:pt x="515619" y="395414"/>
                </a:cubicBezTo>
                <a:cubicBezTo>
                  <a:pt x="558342" y="441261"/>
                  <a:pt x="605510" y="482663"/>
                  <a:pt x="635837" y="540931"/>
                </a:cubicBezTo>
                <a:cubicBezTo>
                  <a:pt x="626655" y="554850"/>
                  <a:pt x="647217" y="565530"/>
                  <a:pt x="645324" y="578878"/>
                </a:cubicBezTo>
                <a:cubicBezTo>
                  <a:pt x="644346" y="585711"/>
                  <a:pt x="636371" y="604799"/>
                  <a:pt x="620014" y="604189"/>
                </a:cubicBezTo>
                <a:cubicBezTo>
                  <a:pt x="602157" y="603516"/>
                  <a:pt x="589026" y="563194"/>
                  <a:pt x="575729" y="544080"/>
                </a:cubicBezTo>
                <a:cubicBezTo>
                  <a:pt x="537717" y="489483"/>
                  <a:pt x="454672" y="426669"/>
                  <a:pt x="430224" y="382765"/>
                </a:cubicBezTo>
                <a:cubicBezTo>
                  <a:pt x="416420" y="388594"/>
                  <a:pt x="416076" y="405231"/>
                  <a:pt x="414401" y="417550"/>
                </a:cubicBezTo>
                <a:cubicBezTo>
                  <a:pt x="410438" y="446747"/>
                  <a:pt x="413295" y="483361"/>
                  <a:pt x="411226" y="515620"/>
                </a:cubicBezTo>
                <a:cubicBezTo>
                  <a:pt x="407466" y="574751"/>
                  <a:pt x="400735" y="627405"/>
                  <a:pt x="401739" y="683272"/>
                </a:cubicBezTo>
                <a:cubicBezTo>
                  <a:pt x="402221" y="709282"/>
                  <a:pt x="410717" y="736676"/>
                  <a:pt x="392252" y="756030"/>
                </a:cubicBezTo>
                <a:cubicBezTo>
                  <a:pt x="388886" y="749096"/>
                  <a:pt x="378472" y="757389"/>
                  <a:pt x="385927" y="756030"/>
                </a:cubicBezTo>
                <a:cubicBezTo>
                  <a:pt x="359498" y="760831"/>
                  <a:pt x="365607" y="734504"/>
                  <a:pt x="347967" y="721232"/>
                </a:cubicBezTo>
                <a:cubicBezTo>
                  <a:pt x="333552" y="630974"/>
                  <a:pt x="345490" y="536790"/>
                  <a:pt x="347967" y="452348"/>
                </a:cubicBezTo>
                <a:cubicBezTo>
                  <a:pt x="258114" y="501675"/>
                  <a:pt x="218782" y="601535"/>
                  <a:pt x="113880" y="635825"/>
                </a:cubicBezTo>
                <a:cubicBezTo>
                  <a:pt x="107492" y="631659"/>
                  <a:pt x="102869" y="625741"/>
                  <a:pt x="94906" y="623176"/>
                </a:cubicBezTo>
                <a:cubicBezTo>
                  <a:pt x="100799" y="608418"/>
                  <a:pt x="98576" y="604202"/>
                  <a:pt x="101231" y="585216"/>
                </a:cubicBezTo>
                <a:cubicBezTo>
                  <a:pt x="110146" y="572414"/>
                  <a:pt x="126072" y="567575"/>
                  <a:pt x="139191" y="556742"/>
                </a:cubicBezTo>
                <a:cubicBezTo>
                  <a:pt x="144564" y="552310"/>
                  <a:pt x="140360" y="549859"/>
                  <a:pt x="145516" y="544080"/>
                </a:cubicBezTo>
                <a:cubicBezTo>
                  <a:pt x="158394" y="529678"/>
                  <a:pt x="194423" y="519912"/>
                  <a:pt x="192963" y="499808"/>
                </a:cubicBezTo>
                <a:cubicBezTo>
                  <a:pt x="239090" y="477062"/>
                  <a:pt x="263676" y="420598"/>
                  <a:pt x="306844" y="404901"/>
                </a:cubicBezTo>
                <a:cubicBezTo>
                  <a:pt x="298932" y="404812"/>
                  <a:pt x="323900" y="381965"/>
                  <a:pt x="316331" y="395414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10439280" y="2912400"/>
            <a:ext cx="438120" cy="403920"/>
          </a:xfrm>
          <a:custGeom>
            <a:avLst/>
            <a:gdLst>
              <a:gd name="textAreaLeft" fmla="*/ 0 w 438120"/>
              <a:gd name="textAreaRight" fmla="*/ 438480 w 438120"/>
              <a:gd name="textAreaTop" fmla="*/ 0 h 403920"/>
              <a:gd name="textAreaBottom" fmla="*/ 404280 h 403920"/>
            </a:gdLst>
            <a:ahLst/>
            <a:rect l="textAreaLeft" t="textAreaTop" r="textAreaRight" b="textAreaBottom"/>
            <a:pathLst>
              <a:path w="438315" h="404279">
                <a:moveTo>
                  <a:pt x="175323" y="211442"/>
                </a:moveTo>
                <a:cubicBezTo>
                  <a:pt x="182257" y="210896"/>
                  <a:pt x="174028" y="206209"/>
                  <a:pt x="178828" y="204673"/>
                </a:cubicBezTo>
                <a:cubicBezTo>
                  <a:pt x="117818" y="205460"/>
                  <a:pt x="59372" y="207543"/>
                  <a:pt x="8763" y="204673"/>
                </a:cubicBezTo>
                <a:cubicBezTo>
                  <a:pt x="7708" y="197027"/>
                  <a:pt x="711" y="198869"/>
                  <a:pt x="0" y="194525"/>
                </a:cubicBezTo>
                <a:cubicBezTo>
                  <a:pt x="2552" y="193776"/>
                  <a:pt x="-177" y="193039"/>
                  <a:pt x="0" y="191147"/>
                </a:cubicBezTo>
                <a:cubicBezTo>
                  <a:pt x="-825" y="183870"/>
                  <a:pt x="4724" y="188976"/>
                  <a:pt x="5257" y="186067"/>
                </a:cubicBezTo>
                <a:cubicBezTo>
                  <a:pt x="6756" y="180682"/>
                  <a:pt x="3733" y="179654"/>
                  <a:pt x="1752" y="177609"/>
                </a:cubicBezTo>
                <a:cubicBezTo>
                  <a:pt x="914" y="172288"/>
                  <a:pt x="7137" y="173774"/>
                  <a:pt x="5257" y="167462"/>
                </a:cubicBezTo>
                <a:cubicBezTo>
                  <a:pt x="11290" y="167284"/>
                  <a:pt x="17856" y="166585"/>
                  <a:pt x="19291" y="170840"/>
                </a:cubicBezTo>
                <a:cubicBezTo>
                  <a:pt x="31775" y="165836"/>
                  <a:pt x="38125" y="174891"/>
                  <a:pt x="52603" y="174231"/>
                </a:cubicBezTo>
                <a:cubicBezTo>
                  <a:pt x="55448" y="174091"/>
                  <a:pt x="58318" y="171297"/>
                  <a:pt x="61366" y="170840"/>
                </a:cubicBezTo>
                <a:cubicBezTo>
                  <a:pt x="83769" y="167487"/>
                  <a:pt x="105105" y="173875"/>
                  <a:pt x="124485" y="172542"/>
                </a:cubicBezTo>
                <a:cubicBezTo>
                  <a:pt x="129464" y="172821"/>
                  <a:pt x="127902" y="166814"/>
                  <a:pt x="135001" y="169151"/>
                </a:cubicBezTo>
                <a:cubicBezTo>
                  <a:pt x="139484" y="169075"/>
                  <a:pt x="137135" y="170408"/>
                  <a:pt x="136753" y="172542"/>
                </a:cubicBezTo>
                <a:cubicBezTo>
                  <a:pt x="150545" y="163322"/>
                  <a:pt x="163766" y="173456"/>
                  <a:pt x="171818" y="165773"/>
                </a:cubicBezTo>
                <a:cubicBezTo>
                  <a:pt x="177660" y="174231"/>
                  <a:pt x="190258" y="169202"/>
                  <a:pt x="196367" y="164083"/>
                </a:cubicBezTo>
                <a:cubicBezTo>
                  <a:pt x="174891" y="134378"/>
                  <a:pt x="147688" y="106222"/>
                  <a:pt x="117462" y="79501"/>
                </a:cubicBezTo>
                <a:cubicBezTo>
                  <a:pt x="103924" y="67525"/>
                  <a:pt x="88607" y="59702"/>
                  <a:pt x="84163" y="43980"/>
                </a:cubicBezTo>
                <a:cubicBezTo>
                  <a:pt x="86957" y="42722"/>
                  <a:pt x="83756" y="35699"/>
                  <a:pt x="89420" y="37211"/>
                </a:cubicBezTo>
                <a:cubicBezTo>
                  <a:pt x="88582" y="31153"/>
                  <a:pt x="86563" y="27432"/>
                  <a:pt x="89420" y="21983"/>
                </a:cubicBezTo>
                <a:cubicBezTo>
                  <a:pt x="98450" y="22136"/>
                  <a:pt x="98094" y="23710"/>
                  <a:pt x="103441" y="20294"/>
                </a:cubicBezTo>
                <a:cubicBezTo>
                  <a:pt x="136385" y="46024"/>
                  <a:pt x="165849" y="75107"/>
                  <a:pt x="194615" y="104876"/>
                </a:cubicBezTo>
                <a:cubicBezTo>
                  <a:pt x="202654" y="69900"/>
                  <a:pt x="187871" y="30124"/>
                  <a:pt x="205130" y="1689"/>
                </a:cubicBezTo>
                <a:cubicBezTo>
                  <a:pt x="213271" y="4495"/>
                  <a:pt x="213029" y="-2070"/>
                  <a:pt x="224409" y="0"/>
                </a:cubicBezTo>
                <a:cubicBezTo>
                  <a:pt x="224828" y="6934"/>
                  <a:pt x="226200" y="12941"/>
                  <a:pt x="233184" y="13525"/>
                </a:cubicBezTo>
                <a:cubicBezTo>
                  <a:pt x="237401" y="51612"/>
                  <a:pt x="233807" y="106540"/>
                  <a:pt x="233184" y="147167"/>
                </a:cubicBezTo>
                <a:cubicBezTo>
                  <a:pt x="235801" y="149148"/>
                  <a:pt x="238125" y="151409"/>
                  <a:pt x="240195" y="153923"/>
                </a:cubicBezTo>
                <a:cubicBezTo>
                  <a:pt x="241757" y="152895"/>
                  <a:pt x="243332" y="151879"/>
                  <a:pt x="243700" y="153923"/>
                </a:cubicBezTo>
                <a:cubicBezTo>
                  <a:pt x="253149" y="137134"/>
                  <a:pt x="267678" y="135508"/>
                  <a:pt x="282270" y="123482"/>
                </a:cubicBezTo>
                <a:cubicBezTo>
                  <a:pt x="281711" y="119888"/>
                  <a:pt x="276847" y="125895"/>
                  <a:pt x="275259" y="126860"/>
                </a:cubicBezTo>
                <a:cubicBezTo>
                  <a:pt x="276428" y="116027"/>
                  <a:pt x="298843" y="114744"/>
                  <a:pt x="299808" y="104876"/>
                </a:cubicBezTo>
                <a:cubicBezTo>
                  <a:pt x="307467" y="104901"/>
                  <a:pt x="306273" y="100964"/>
                  <a:pt x="312077" y="98107"/>
                </a:cubicBezTo>
                <a:cubicBezTo>
                  <a:pt x="313931" y="97193"/>
                  <a:pt x="313829" y="98082"/>
                  <a:pt x="313829" y="98107"/>
                </a:cubicBezTo>
                <a:cubicBezTo>
                  <a:pt x="312407" y="91541"/>
                  <a:pt x="318935" y="90017"/>
                  <a:pt x="326097" y="86271"/>
                </a:cubicBezTo>
                <a:cubicBezTo>
                  <a:pt x="324142" y="81724"/>
                  <a:pt x="331609" y="81711"/>
                  <a:pt x="336626" y="74422"/>
                </a:cubicBezTo>
                <a:cubicBezTo>
                  <a:pt x="335127" y="74117"/>
                  <a:pt x="334962" y="75082"/>
                  <a:pt x="334874" y="76111"/>
                </a:cubicBezTo>
                <a:cubicBezTo>
                  <a:pt x="324167" y="79349"/>
                  <a:pt x="341134" y="71373"/>
                  <a:pt x="340131" y="72732"/>
                </a:cubicBezTo>
                <a:cubicBezTo>
                  <a:pt x="341769" y="70497"/>
                  <a:pt x="337718" y="67932"/>
                  <a:pt x="340131" y="65963"/>
                </a:cubicBezTo>
                <a:cubicBezTo>
                  <a:pt x="337477" y="68122"/>
                  <a:pt x="347967" y="68795"/>
                  <a:pt x="345389" y="64274"/>
                </a:cubicBezTo>
                <a:cubicBezTo>
                  <a:pt x="349275" y="71145"/>
                  <a:pt x="355904" y="68148"/>
                  <a:pt x="362928" y="69354"/>
                </a:cubicBezTo>
                <a:cubicBezTo>
                  <a:pt x="358026" y="79248"/>
                  <a:pt x="369099" y="81470"/>
                  <a:pt x="366433" y="93027"/>
                </a:cubicBezTo>
                <a:cubicBezTo>
                  <a:pt x="364401" y="101841"/>
                  <a:pt x="347713" y="112255"/>
                  <a:pt x="338379" y="120091"/>
                </a:cubicBezTo>
                <a:cubicBezTo>
                  <a:pt x="321271" y="134467"/>
                  <a:pt x="293281" y="156946"/>
                  <a:pt x="278765" y="169151"/>
                </a:cubicBezTo>
                <a:cubicBezTo>
                  <a:pt x="280365" y="172123"/>
                  <a:pt x="284912" y="172250"/>
                  <a:pt x="287540" y="174231"/>
                </a:cubicBezTo>
                <a:cubicBezTo>
                  <a:pt x="296710" y="171856"/>
                  <a:pt x="305003" y="170078"/>
                  <a:pt x="313829" y="174231"/>
                </a:cubicBezTo>
                <a:cubicBezTo>
                  <a:pt x="317678" y="167919"/>
                  <a:pt x="330213" y="177241"/>
                  <a:pt x="333121" y="170840"/>
                </a:cubicBezTo>
                <a:cubicBezTo>
                  <a:pt x="341414" y="170535"/>
                  <a:pt x="357543" y="180225"/>
                  <a:pt x="364680" y="169151"/>
                </a:cubicBezTo>
                <a:cubicBezTo>
                  <a:pt x="369214" y="175463"/>
                  <a:pt x="380377" y="174167"/>
                  <a:pt x="389217" y="170840"/>
                </a:cubicBezTo>
                <a:cubicBezTo>
                  <a:pt x="398716" y="173532"/>
                  <a:pt x="409524" y="174942"/>
                  <a:pt x="422529" y="174231"/>
                </a:cubicBezTo>
                <a:cubicBezTo>
                  <a:pt x="428980" y="182041"/>
                  <a:pt x="441706" y="187909"/>
                  <a:pt x="438315" y="196214"/>
                </a:cubicBezTo>
                <a:cubicBezTo>
                  <a:pt x="430707" y="205498"/>
                  <a:pt x="408876" y="203543"/>
                  <a:pt x="383959" y="204673"/>
                </a:cubicBezTo>
                <a:cubicBezTo>
                  <a:pt x="345109" y="206451"/>
                  <a:pt x="308559" y="203923"/>
                  <a:pt x="282270" y="202984"/>
                </a:cubicBezTo>
                <a:cubicBezTo>
                  <a:pt x="278041" y="206921"/>
                  <a:pt x="285013" y="207517"/>
                  <a:pt x="285775" y="211442"/>
                </a:cubicBezTo>
                <a:cubicBezTo>
                  <a:pt x="309460" y="235966"/>
                  <a:pt x="335597" y="258102"/>
                  <a:pt x="352412" y="289255"/>
                </a:cubicBezTo>
                <a:cubicBezTo>
                  <a:pt x="347319" y="296697"/>
                  <a:pt x="358711" y="302412"/>
                  <a:pt x="357670" y="309549"/>
                </a:cubicBezTo>
                <a:cubicBezTo>
                  <a:pt x="357123" y="313207"/>
                  <a:pt x="352704" y="323418"/>
                  <a:pt x="343637" y="323088"/>
                </a:cubicBezTo>
                <a:cubicBezTo>
                  <a:pt x="333743" y="322732"/>
                  <a:pt x="326466" y="301155"/>
                  <a:pt x="319087" y="290944"/>
                </a:cubicBezTo>
                <a:cubicBezTo>
                  <a:pt x="298018" y="261747"/>
                  <a:pt x="252006" y="228155"/>
                  <a:pt x="238442" y="204673"/>
                </a:cubicBezTo>
                <a:cubicBezTo>
                  <a:pt x="230797" y="207797"/>
                  <a:pt x="230606" y="216687"/>
                  <a:pt x="229679" y="223278"/>
                </a:cubicBezTo>
                <a:cubicBezTo>
                  <a:pt x="227482" y="238886"/>
                  <a:pt x="229069" y="258470"/>
                  <a:pt x="227927" y="275717"/>
                </a:cubicBezTo>
                <a:cubicBezTo>
                  <a:pt x="225831" y="307339"/>
                  <a:pt x="222098" y="335495"/>
                  <a:pt x="222656" y="365378"/>
                </a:cubicBezTo>
                <a:cubicBezTo>
                  <a:pt x="222923" y="379285"/>
                  <a:pt x="227634" y="393928"/>
                  <a:pt x="217399" y="404279"/>
                </a:cubicBezTo>
                <a:cubicBezTo>
                  <a:pt x="215531" y="400570"/>
                  <a:pt x="209766" y="405003"/>
                  <a:pt x="213893" y="404279"/>
                </a:cubicBezTo>
                <a:cubicBezTo>
                  <a:pt x="199250" y="406844"/>
                  <a:pt x="202628" y="392772"/>
                  <a:pt x="192862" y="385673"/>
                </a:cubicBezTo>
                <a:cubicBezTo>
                  <a:pt x="184873" y="337413"/>
                  <a:pt x="191490" y="287045"/>
                  <a:pt x="192862" y="241884"/>
                </a:cubicBezTo>
                <a:cubicBezTo>
                  <a:pt x="143053" y="268262"/>
                  <a:pt x="121260" y="321665"/>
                  <a:pt x="63119" y="340004"/>
                </a:cubicBezTo>
                <a:cubicBezTo>
                  <a:pt x="59576" y="337781"/>
                  <a:pt x="57022" y="334606"/>
                  <a:pt x="52603" y="333235"/>
                </a:cubicBezTo>
                <a:cubicBezTo>
                  <a:pt x="55867" y="325348"/>
                  <a:pt x="54635" y="323088"/>
                  <a:pt x="56108" y="312940"/>
                </a:cubicBezTo>
                <a:cubicBezTo>
                  <a:pt x="61048" y="306095"/>
                  <a:pt x="69875" y="303504"/>
                  <a:pt x="77152" y="297713"/>
                </a:cubicBezTo>
                <a:cubicBezTo>
                  <a:pt x="80124" y="295338"/>
                  <a:pt x="77800" y="294030"/>
                  <a:pt x="80657" y="290944"/>
                </a:cubicBezTo>
                <a:cubicBezTo>
                  <a:pt x="87795" y="283235"/>
                  <a:pt x="107760" y="278015"/>
                  <a:pt x="106946" y="267258"/>
                </a:cubicBezTo>
                <a:cubicBezTo>
                  <a:pt x="132512" y="255104"/>
                  <a:pt x="146139" y="224904"/>
                  <a:pt x="170065" y="216522"/>
                </a:cubicBezTo>
                <a:cubicBezTo>
                  <a:pt x="165684" y="216471"/>
                  <a:pt x="179514" y="204241"/>
                  <a:pt x="175323" y="211442"/>
                </a:cubicBez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12124800" y="9090360"/>
            <a:ext cx="61200" cy="111240"/>
          </a:xfrm>
          <a:custGeom>
            <a:avLst/>
            <a:gdLst>
              <a:gd name="textAreaLeft" fmla="*/ 0 w 61200"/>
              <a:gd name="textAreaRight" fmla="*/ 61560 w 61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1556" h="111759">
                <a:moveTo>
                  <a:pt x="19227" y="16154"/>
                </a:moveTo>
                <a:lnTo>
                  <a:pt x="27075" y="7848"/>
                </a:lnTo>
                <a:cubicBezTo>
                  <a:pt x="31660" y="3276"/>
                  <a:pt x="38861" y="0"/>
                  <a:pt x="43446" y="0"/>
                </a:cubicBezTo>
                <a:cubicBezTo>
                  <a:pt x="48246" y="0"/>
                  <a:pt x="55447" y="3492"/>
                  <a:pt x="61556" y="10693"/>
                </a:cubicBezTo>
                <a:lnTo>
                  <a:pt x="52615" y="23355"/>
                </a:lnTo>
                <a:cubicBezTo>
                  <a:pt x="47814" y="20954"/>
                  <a:pt x="43002" y="18770"/>
                  <a:pt x="37985" y="18770"/>
                </a:cubicBezTo>
                <a:cubicBezTo>
                  <a:pt x="27939" y="18770"/>
                  <a:pt x="19659" y="28803"/>
                  <a:pt x="19659" y="53047"/>
                </a:cubicBezTo>
                <a:lnTo>
                  <a:pt x="19659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227" y="2616"/>
                </a:lnTo>
                <a:lnTo>
                  <a:pt x="19227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12200040" y="909324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12364200" y="909324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12405240" y="9090360"/>
            <a:ext cx="95040" cy="111240"/>
          </a:xfrm>
          <a:custGeom>
            <a:avLst/>
            <a:gdLst>
              <a:gd name="textAreaLeft" fmla="*/ 0 w 95040"/>
              <a:gd name="textAreaRight" fmla="*/ 95400 w 95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5402" h="111759">
                <a:moveTo>
                  <a:pt x="19443" y="16154"/>
                </a:moveTo>
                <a:cubicBezTo>
                  <a:pt x="29692" y="5232"/>
                  <a:pt x="45415" y="0"/>
                  <a:pt x="56769" y="0"/>
                </a:cubicBezTo>
                <a:cubicBezTo>
                  <a:pt x="81877" y="0"/>
                  <a:pt x="95402" y="13957"/>
                  <a:pt x="95402" y="41478"/>
                </a:cubicBezTo>
                <a:lnTo>
                  <a:pt x="95402" y="111759"/>
                </a:lnTo>
                <a:lnTo>
                  <a:pt x="75755" y="111759"/>
                </a:lnTo>
                <a:lnTo>
                  <a:pt x="75755" y="45605"/>
                </a:lnTo>
                <a:cubicBezTo>
                  <a:pt x="75755" y="25095"/>
                  <a:pt x="67030" y="14414"/>
                  <a:pt x="49339" y="14414"/>
                </a:cubicBezTo>
                <a:cubicBezTo>
                  <a:pt x="33845" y="14414"/>
                  <a:pt x="19660" y="25095"/>
                  <a:pt x="19660" y="46049"/>
                </a:cubicBezTo>
                <a:lnTo>
                  <a:pt x="19660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443" y="2616"/>
                </a:lnTo>
                <a:lnTo>
                  <a:pt x="19443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12522960" y="909756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40">
                <a:moveTo>
                  <a:pt x="13982" y="0"/>
                </a:moveTo>
                <a:cubicBezTo>
                  <a:pt x="21399" y="0"/>
                  <a:pt x="27939" y="6540"/>
                  <a:pt x="27939" y="13970"/>
                </a:cubicBezTo>
                <a:cubicBezTo>
                  <a:pt x="27939" y="21171"/>
                  <a:pt x="21399" y="27940"/>
                  <a:pt x="14198" y="27940"/>
                </a:cubicBezTo>
                <a:cubicBezTo>
                  <a:pt x="6565" y="27940"/>
                  <a:pt x="0" y="21615"/>
                  <a:pt x="0" y="13970"/>
                </a:cubicBezTo>
                <a:cubicBezTo>
                  <a:pt x="0" y="6325"/>
                  <a:pt x="6565" y="0"/>
                  <a:pt x="13982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12522960" y="917676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26">
                <a:moveTo>
                  <a:pt x="13982" y="0"/>
                </a:moveTo>
                <a:cubicBezTo>
                  <a:pt x="21399" y="0"/>
                  <a:pt x="27939" y="6540"/>
                  <a:pt x="27939" y="13957"/>
                </a:cubicBezTo>
                <a:cubicBezTo>
                  <a:pt x="27939" y="21170"/>
                  <a:pt x="21399" y="27927"/>
                  <a:pt x="14198" y="27927"/>
                </a:cubicBezTo>
                <a:cubicBezTo>
                  <a:pt x="6565" y="27927"/>
                  <a:pt x="0" y="21602"/>
                  <a:pt x="0" y="13957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443520" y="8915040"/>
            <a:ext cx="12108240" cy="18720"/>
          </a:xfrm>
          <a:custGeom>
            <a:avLst/>
            <a:gdLst>
              <a:gd name="textAreaLeft" fmla="*/ 0 w 12108240"/>
              <a:gd name="textAreaRight" fmla="*/ 12108600 w 121082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108700" h="19050">
                <a:moveTo>
                  <a:pt x="6350" y="6350"/>
                </a:moveTo>
                <a:lnTo>
                  <a:pt x="12102350" y="6350"/>
                </a:lnTo>
              </a:path>
            </a:pathLst>
          </a:custGeom>
          <a:noFill/>
          <a:ln w="12700">
            <a:solidFill>
              <a:srgbClr val="c7c9c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60240" y="736560"/>
            <a:ext cx="3238200" cy="32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3911760" y="1257480"/>
            <a:ext cx="266400" cy="291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9398160" y="6058080"/>
            <a:ext cx="1104480" cy="685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4"/>
          <a:stretch/>
        </p:blipFill>
        <p:spPr>
          <a:xfrm>
            <a:off x="11937960" y="9029880"/>
            <a:ext cx="177480" cy="190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5"/>
          <a:stretch/>
        </p:blipFill>
        <p:spPr>
          <a:xfrm>
            <a:off x="12230280" y="9080640"/>
            <a:ext cx="126720" cy="1900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9473400" y="5168880"/>
            <a:ext cx="2478240" cy="30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no.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objec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re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warenes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*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2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enchmark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201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1041480" y="3911760"/>
            <a:ext cx="6108120" cy="53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7501"/>
              </a:lnSpc>
            </a:pPr>
            <a:r>
              <a:rPr b="1" lang="en-US" sz="10300" spc="-1" strike="noStrike">
                <a:solidFill>
                  <a:srgbClr val="a4b314"/>
                </a:solidFill>
                <a:latin typeface="Times New Roman"/>
              </a:rPr>
              <a:t>Trigger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ometh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disturb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tat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quo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u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te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recogni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proble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pportunity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u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rea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xter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flue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uc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competitor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legislatio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mark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factors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stablis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waren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possi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solu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e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mak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you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ha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displ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la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14251"/>
                </a:solidFill>
                <a:latin typeface="Times New Roman"/>
              </a:rPr>
              <a:t>jour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11">
            <a:hlinkClick r:id="rId13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1020960" y="1625760"/>
            <a:ext cx="54633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</a:pPr>
            <a:r>
              <a:rPr b="1" lang="en-US" sz="8800" spc="-1" strike="noStrike">
                <a:solidFill>
                  <a:srgbClr val="97999c"/>
                </a:solidFill>
                <a:latin typeface="Times New Roman"/>
              </a:rPr>
              <a:t>&amp;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c7c9ca"/>
                </a:solidFill>
                <a:latin typeface="Times New Roman"/>
              </a:rPr>
              <a:t>0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1101600" y="571680"/>
            <a:ext cx="7028640" cy="86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Investiga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uspic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a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omething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requir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justific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reas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re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full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nvestigat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s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b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ct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up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whe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you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br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c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hel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se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gen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influenc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audience’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a4b314"/>
                </a:solidFill>
                <a:latin typeface="Times New Roman"/>
              </a:rPr>
              <a:t>think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8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peop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relevanc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7c9ca"/>
                </a:solidFill>
                <a:latin typeface="Times New Roman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7c9ca"/>
                </a:solidFill>
                <a:latin typeface="Times New Roman"/>
              </a:rPr>
              <a:t>content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01"/>
              </a:lnSpc>
              <a:tabLst>
                <a:tab algn="l" pos="88920"/>
                <a:tab algn="l" pos="114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00"/>
              </a:lnSpc>
              <a:tabLst>
                <a:tab algn="l" pos="88920"/>
                <a:tab algn="l" pos="114480"/>
              </a:tabLst>
            </a:pP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ffffff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924120" y="520560"/>
            <a:ext cx="7726680" cy="87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76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0400" spc="-1" strike="noStrike">
                <a:solidFill>
                  <a:srgbClr val="314251"/>
                </a:solidFill>
                <a:latin typeface="Times New Roman"/>
              </a:rPr>
              <a:t>Identification</a:t>
            </a:r>
            <a:endParaRPr b="0" lang="en-US" sz="10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ire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elected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journe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o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ocus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o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siness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f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tenti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olution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umb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valu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rite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dentifi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us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re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hortlist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nsu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ommunicat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o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ers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rofessi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fe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h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elie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r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w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prov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usin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val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4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like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onsid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brand.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CE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mo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4">
            <a:hlinkClick r:id="rId9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1045080" y="558720"/>
            <a:ext cx="8209080" cy="86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92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hor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i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dentifi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ade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ssum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egal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echnic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crite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ven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oin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so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rgumen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ra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l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v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orth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content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d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roposal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eyon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sk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challen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14251"/>
                </a:solidFill>
                <a:latin typeface="Times New Roman"/>
              </a:rPr>
              <a:t>are*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produ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crea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eng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la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cro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market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Budg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314251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B2B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Benchmark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Instit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  <a:tabLst>
                <a:tab algn="l" pos="88920"/>
                <a:tab algn="l" pos="114480"/>
                <a:tab algn="l" pos="977760"/>
                <a:tab algn="l" pos="3556080"/>
              </a:tabLst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06440" y="92019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3"/>
          <p:cNvSpPr/>
          <p:nvPr/>
        </p:nvSpPr>
        <p:spPr>
          <a:xfrm>
            <a:off x="2324880" y="2496960"/>
            <a:ext cx="269640" cy="163800"/>
          </a:xfrm>
          <a:custGeom>
            <a:avLst/>
            <a:gdLst>
              <a:gd name="textAreaLeft" fmla="*/ 0 w 269640"/>
              <a:gd name="textAreaRight" fmla="*/ 270000 w 2696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270077" h="164201">
                <a:moveTo>
                  <a:pt x="63874" y="160453"/>
                </a:moveTo>
                <a:cubicBezTo>
                  <a:pt x="129164" y="115165"/>
                  <a:pt x="194760" y="71032"/>
                  <a:pt x="264356" y="34418"/>
                </a:cubicBezTo>
                <a:cubicBezTo>
                  <a:pt x="280396" y="25973"/>
                  <a:pt x="265956" y="11583"/>
                  <a:pt x="257206" y="7113"/>
                </a:cubicBezTo>
                <a:cubicBezTo>
                  <a:pt x="242855" y="-214"/>
                  <a:pt x="221862" y="-3706"/>
                  <a:pt x="205999" y="4649"/>
                </a:cubicBezTo>
                <a:cubicBezTo>
                  <a:pt x="136403" y="41276"/>
                  <a:pt x="70820" y="85396"/>
                  <a:pt x="5517" y="130684"/>
                </a:cubicBezTo>
                <a:cubicBezTo>
                  <a:pt x="-22752" y="150293"/>
                  <a:pt x="44608" y="173826"/>
                  <a:pt x="63874" y="16045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2628360" y="2269080"/>
            <a:ext cx="312480" cy="176760"/>
          </a:xfrm>
          <a:custGeom>
            <a:avLst/>
            <a:gdLst>
              <a:gd name="textAreaLeft" fmla="*/ 0 w 312480"/>
              <a:gd name="textAreaRight" fmla="*/ 312840 w 312480"/>
              <a:gd name="textAreaTop" fmla="*/ 0 h 176760"/>
              <a:gd name="textAreaBottom" fmla="*/ 177120 h 176760"/>
            </a:gdLst>
            <a:ahLst/>
            <a:rect l="textAreaLeft" t="textAreaTop" r="textAreaRight" b="textAreaBottom"/>
            <a:pathLst>
              <a:path w="312744" h="177083">
                <a:moveTo>
                  <a:pt x="57357" y="173067"/>
                </a:moveTo>
                <a:cubicBezTo>
                  <a:pt x="134458" y="125607"/>
                  <a:pt x="216792" y="92193"/>
                  <a:pt x="296612" y="51490"/>
                </a:cubicBezTo>
                <a:cubicBezTo>
                  <a:pt x="339716" y="29494"/>
                  <a:pt x="286680" y="-14028"/>
                  <a:pt x="254651" y="2290"/>
                </a:cubicBezTo>
                <a:cubicBezTo>
                  <a:pt x="174844" y="43006"/>
                  <a:pt x="92510" y="76433"/>
                  <a:pt x="15408" y="123893"/>
                </a:cubicBezTo>
                <a:cubicBezTo>
                  <a:pt x="-26259" y="149521"/>
                  <a:pt x="26178" y="192257"/>
                  <a:pt x="57357" y="17306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3045600" y="2169720"/>
            <a:ext cx="352440" cy="73080"/>
          </a:xfrm>
          <a:custGeom>
            <a:avLst/>
            <a:gdLst>
              <a:gd name="textAreaLeft" fmla="*/ 0 w 352440"/>
              <a:gd name="textAreaRight" fmla="*/ 352800 w 352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2636" h="73418">
                <a:moveTo>
                  <a:pt x="47691" y="73418"/>
                </a:moveTo>
                <a:cubicBezTo>
                  <a:pt x="139703" y="58254"/>
                  <a:pt x="231549" y="50164"/>
                  <a:pt x="323395" y="51688"/>
                </a:cubicBezTo>
                <a:cubicBezTo>
                  <a:pt x="372989" y="52527"/>
                  <a:pt x="354434" y="660"/>
                  <a:pt x="315420" y="0"/>
                </a:cubicBezTo>
                <a:cubicBezTo>
                  <a:pt x="217553" y="-1625"/>
                  <a:pt x="119243" y="7467"/>
                  <a:pt x="21212" y="23622"/>
                </a:cubicBezTo>
                <a:cubicBezTo>
                  <a:pt x="-27822" y="31699"/>
                  <a:pt x="14531" y="78879"/>
                  <a:pt x="47691" y="7341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3708360" y="2207520"/>
            <a:ext cx="403200" cy="119160"/>
          </a:xfrm>
          <a:custGeom>
            <a:avLst/>
            <a:gdLst>
              <a:gd name="textAreaLeft" fmla="*/ 0 w 403200"/>
              <a:gd name="textAreaRight" fmla="*/ 403560 w 403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03526" h="119379">
                <a:moveTo>
                  <a:pt x="26755" y="54432"/>
                </a:moveTo>
                <a:cubicBezTo>
                  <a:pt x="141728" y="81800"/>
                  <a:pt x="253082" y="115798"/>
                  <a:pt x="373402" y="119379"/>
                </a:cubicBezTo>
                <a:cubicBezTo>
                  <a:pt x="422690" y="120840"/>
                  <a:pt x="406765" y="64592"/>
                  <a:pt x="366442" y="63385"/>
                </a:cubicBezTo>
                <a:cubicBezTo>
                  <a:pt x="253222" y="60020"/>
                  <a:pt x="147710" y="25742"/>
                  <a:pt x="39557" y="0"/>
                </a:cubicBezTo>
                <a:cubicBezTo>
                  <a:pt x="-4981" y="-10604"/>
                  <a:pt x="-17122" y="43980"/>
                  <a:pt x="26755" y="5443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4217760" y="2285280"/>
            <a:ext cx="423360" cy="62280"/>
          </a:xfrm>
          <a:custGeom>
            <a:avLst/>
            <a:gdLst>
              <a:gd name="textAreaLeft" fmla="*/ 0 w 423360"/>
              <a:gd name="textAreaRight" fmla="*/ 423720 w 423360"/>
              <a:gd name="textAreaTop" fmla="*/ 0 h 62280"/>
              <a:gd name="textAreaBottom" fmla="*/ 62640 h 62280"/>
            </a:gdLst>
            <a:ahLst/>
            <a:rect l="textAreaLeft" t="textAreaTop" r="textAreaRight" b="textAreaBottom"/>
            <a:pathLst>
              <a:path w="423680" h="62761">
                <a:moveTo>
                  <a:pt x="27503" y="47548"/>
                </a:moveTo>
                <a:cubicBezTo>
                  <a:pt x="149956" y="73050"/>
                  <a:pt x="276804" y="63042"/>
                  <a:pt x="402953" y="46050"/>
                </a:cubicBezTo>
                <a:cubicBezTo>
                  <a:pt x="452000" y="39446"/>
                  <a:pt x="406242" y="-4127"/>
                  <a:pt x="375597" y="0"/>
                </a:cubicBezTo>
                <a:cubicBezTo>
                  <a:pt x="262046" y="15290"/>
                  <a:pt x="148470" y="24866"/>
                  <a:pt x="38247" y="1917"/>
                </a:cubicBezTo>
                <a:cubicBezTo>
                  <a:pt x="-5770" y="-7251"/>
                  <a:pt x="-16146" y="38468"/>
                  <a:pt x="27503" y="4754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4730400" y="2196720"/>
            <a:ext cx="383400" cy="88200"/>
          </a:xfrm>
          <a:custGeom>
            <a:avLst/>
            <a:gdLst>
              <a:gd name="textAreaLeft" fmla="*/ 0 w 383400"/>
              <a:gd name="textAreaRight" fmla="*/ 383760 w 383400"/>
              <a:gd name="textAreaTop" fmla="*/ 0 h 88200"/>
              <a:gd name="textAreaBottom" fmla="*/ 88560 h 88200"/>
            </a:gdLst>
            <a:ahLst/>
            <a:rect l="textAreaLeft" t="textAreaTop" r="textAreaRight" b="textAreaBottom"/>
            <a:pathLst>
              <a:path w="383659" h="88519">
                <a:moveTo>
                  <a:pt x="48997" y="88519"/>
                </a:moveTo>
                <a:cubicBezTo>
                  <a:pt x="157226" y="78003"/>
                  <a:pt x="264541" y="64655"/>
                  <a:pt x="371145" y="33769"/>
                </a:cubicBezTo>
                <a:cubicBezTo>
                  <a:pt x="410883" y="22250"/>
                  <a:pt x="345986" y="-5918"/>
                  <a:pt x="325552" y="0"/>
                </a:cubicBezTo>
                <a:cubicBezTo>
                  <a:pt x="224142" y="29387"/>
                  <a:pt x="122327" y="42024"/>
                  <a:pt x="19380" y="52019"/>
                </a:cubicBezTo>
                <a:cubicBezTo>
                  <a:pt x="-29349" y="56756"/>
                  <a:pt x="24460" y="90893"/>
                  <a:pt x="48997" y="8851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5184360" y="1975680"/>
            <a:ext cx="312480" cy="194400"/>
          </a:xfrm>
          <a:custGeom>
            <a:avLst/>
            <a:gdLst>
              <a:gd name="textAreaLeft" fmla="*/ 0 w 312480"/>
              <a:gd name="textAreaRight" fmla="*/ 312840 w 31248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312955" h="194599">
                <a:moveTo>
                  <a:pt x="58482" y="194390"/>
                </a:moveTo>
                <a:cubicBezTo>
                  <a:pt x="151154" y="157966"/>
                  <a:pt x="239889" y="111852"/>
                  <a:pt x="310818" y="34497"/>
                </a:cubicBezTo>
                <a:cubicBezTo>
                  <a:pt x="333653" y="9592"/>
                  <a:pt x="264959" y="-13800"/>
                  <a:pt x="243762" y="9325"/>
                </a:cubicBezTo>
                <a:cubicBezTo>
                  <a:pt x="179932" y="78934"/>
                  <a:pt x="98080" y="119244"/>
                  <a:pt x="14959" y="151921"/>
                </a:cubicBezTo>
                <a:cubicBezTo>
                  <a:pt x="-27585" y="168634"/>
                  <a:pt x="31380" y="205045"/>
                  <a:pt x="58482" y="1943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5522400" y="1617480"/>
            <a:ext cx="213840" cy="261000"/>
          </a:xfrm>
          <a:custGeom>
            <a:avLst/>
            <a:gdLst>
              <a:gd name="textAreaLeft" fmla="*/ 0 w 213840"/>
              <a:gd name="textAreaRight" fmla="*/ 214200 w 213840"/>
              <a:gd name="textAreaTop" fmla="*/ 0 h 261000"/>
              <a:gd name="textAreaBottom" fmla="*/ 261360 h 261000"/>
            </a:gdLst>
            <a:ahLst/>
            <a:rect l="textAreaLeft" t="textAreaTop" r="textAreaRight" b="textAreaBottom"/>
            <a:pathLst>
              <a:path w="214338" h="261530">
                <a:moveTo>
                  <a:pt x="68313" y="255995"/>
                </a:moveTo>
                <a:cubicBezTo>
                  <a:pt x="131660" y="187592"/>
                  <a:pt x="181368" y="110338"/>
                  <a:pt x="214338" y="22213"/>
                </a:cubicBezTo>
                <a:cubicBezTo>
                  <a:pt x="220433" y="5906"/>
                  <a:pt x="149555" y="-11835"/>
                  <a:pt x="141744" y="9043"/>
                </a:cubicBezTo>
                <a:cubicBezTo>
                  <a:pt x="109690" y="94743"/>
                  <a:pt x="61607" y="169647"/>
                  <a:pt x="0" y="236170"/>
                </a:cubicBezTo>
                <a:cubicBezTo>
                  <a:pt x="-12585" y="249746"/>
                  <a:pt x="53543" y="271933"/>
                  <a:pt x="68313" y="25599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5628600" y="1192680"/>
            <a:ext cx="104400" cy="315360"/>
          </a:xfrm>
          <a:custGeom>
            <a:avLst/>
            <a:gdLst>
              <a:gd name="textAreaLeft" fmla="*/ 0 w 104400"/>
              <a:gd name="textAreaRight" fmla="*/ 104760 w 104400"/>
              <a:gd name="textAreaTop" fmla="*/ 0 h 315360"/>
              <a:gd name="textAreaBottom" fmla="*/ 315720 h 315360"/>
            </a:gdLst>
            <a:ahLst/>
            <a:rect l="textAreaLeft" t="textAreaTop" r="textAreaRight" b="textAreaBottom"/>
            <a:pathLst>
              <a:path w="104852" h="315850">
                <a:moveTo>
                  <a:pt x="104444" y="285561"/>
                </a:moveTo>
                <a:cubicBezTo>
                  <a:pt x="107937" y="193397"/>
                  <a:pt x="100761" y="102515"/>
                  <a:pt x="69379" y="18899"/>
                </a:cubicBezTo>
                <a:cubicBezTo>
                  <a:pt x="57251" y="-13409"/>
                  <a:pt x="-15341" y="-4887"/>
                  <a:pt x="0" y="35993"/>
                </a:cubicBezTo>
                <a:cubicBezTo>
                  <a:pt x="29451" y="114441"/>
                  <a:pt x="34188" y="201563"/>
                  <a:pt x="30924" y="287847"/>
                </a:cubicBezTo>
                <a:cubicBezTo>
                  <a:pt x="29565" y="323813"/>
                  <a:pt x="102870" y="327318"/>
                  <a:pt x="104444" y="285561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5298480" y="953640"/>
            <a:ext cx="228600" cy="143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43280"/>
              <a:gd name="textAreaBottom" fmla="*/ 143640 h 143280"/>
            </a:gdLst>
            <a:ahLst/>
            <a:rect l="textAreaLeft" t="textAreaTop" r="textAreaRight" b="textAreaBottom"/>
            <a:pathLst>
              <a:path w="228782" h="143668">
                <a:moveTo>
                  <a:pt x="216103" y="102196"/>
                </a:moveTo>
                <a:cubicBezTo>
                  <a:pt x="161899" y="73685"/>
                  <a:pt x="113068" y="36042"/>
                  <a:pt x="58864" y="7531"/>
                </a:cubicBezTo>
                <a:cubicBezTo>
                  <a:pt x="44170" y="-203"/>
                  <a:pt x="23012" y="-4622"/>
                  <a:pt x="7213" y="6946"/>
                </a:cubicBezTo>
                <a:cubicBezTo>
                  <a:pt x="-7365" y="17640"/>
                  <a:pt x="736" y="35179"/>
                  <a:pt x="12674" y="41465"/>
                </a:cubicBezTo>
                <a:cubicBezTo>
                  <a:pt x="66890" y="69989"/>
                  <a:pt x="115709" y="107619"/>
                  <a:pt x="169926" y="136144"/>
                </a:cubicBezTo>
                <a:cubicBezTo>
                  <a:pt x="184620" y="143865"/>
                  <a:pt x="205765" y="148297"/>
                  <a:pt x="221564" y="136715"/>
                </a:cubicBezTo>
                <a:cubicBezTo>
                  <a:pt x="236143" y="126022"/>
                  <a:pt x="228053" y="108483"/>
                  <a:pt x="216103" y="10219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4970160" y="958680"/>
            <a:ext cx="209880" cy="142200"/>
          </a:xfrm>
          <a:custGeom>
            <a:avLst/>
            <a:gdLst>
              <a:gd name="textAreaLeft" fmla="*/ 0 w 209880"/>
              <a:gd name="textAreaRight" fmla="*/ 210240 w 209880"/>
              <a:gd name="textAreaTop" fmla="*/ 0 h 142200"/>
              <a:gd name="textAreaBottom" fmla="*/ 142560 h 142200"/>
            </a:gdLst>
            <a:ahLst/>
            <a:rect l="textAreaLeft" t="textAreaTop" r="textAreaRight" b="textAreaBottom"/>
            <a:pathLst>
              <a:path w="210263" h="142524">
                <a:moveTo>
                  <a:pt x="151612" y="112"/>
                </a:moveTo>
                <a:cubicBezTo>
                  <a:pt x="85064" y="16762"/>
                  <a:pt x="34264" y="55192"/>
                  <a:pt x="0" y="120114"/>
                </a:cubicBezTo>
                <a:cubicBezTo>
                  <a:pt x="-7353" y="134046"/>
                  <a:pt x="60909" y="155420"/>
                  <a:pt x="72593" y="133284"/>
                </a:cubicBezTo>
                <a:cubicBezTo>
                  <a:pt x="100495" y="80402"/>
                  <a:pt x="143255" y="43343"/>
                  <a:pt x="198196" y="29589"/>
                </a:cubicBezTo>
                <a:cubicBezTo>
                  <a:pt x="211785" y="26198"/>
                  <a:pt x="215201" y="17181"/>
                  <a:pt x="202946" y="9421"/>
                </a:cubicBezTo>
                <a:cubicBezTo>
                  <a:pt x="189369" y="836"/>
                  <a:pt x="168071" y="-4014"/>
                  <a:pt x="151612" y="11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4821480" y="1267560"/>
            <a:ext cx="106200" cy="279000"/>
          </a:xfrm>
          <a:custGeom>
            <a:avLst/>
            <a:gdLst>
              <a:gd name="textAreaLeft" fmla="*/ 0 w 106200"/>
              <a:gd name="textAreaRight" fmla="*/ 106560 w 106200"/>
              <a:gd name="textAreaTop" fmla="*/ 0 h 279000"/>
              <a:gd name="textAreaBottom" fmla="*/ 279360 h 279000"/>
            </a:gdLst>
            <a:ahLst/>
            <a:rect l="textAreaLeft" t="textAreaTop" r="textAreaRight" b="textAreaBottom"/>
            <a:pathLst>
              <a:path w="106581" h="279488">
                <a:moveTo>
                  <a:pt x="33988" y="10956"/>
                </a:moveTo>
                <a:cubicBezTo>
                  <a:pt x="-5356" y="93125"/>
                  <a:pt x="-6143" y="174506"/>
                  <a:pt x="6670" y="259457"/>
                </a:cubicBezTo>
                <a:cubicBezTo>
                  <a:pt x="10086" y="282025"/>
                  <a:pt x="82667" y="289048"/>
                  <a:pt x="78781" y="263229"/>
                </a:cubicBezTo>
                <a:cubicBezTo>
                  <a:pt x="66335" y="180806"/>
                  <a:pt x="68608" y="103412"/>
                  <a:pt x="106581" y="24126"/>
                </a:cubicBezTo>
                <a:cubicBezTo>
                  <a:pt x="115458" y="5571"/>
                  <a:pt x="45799" y="-13707"/>
                  <a:pt x="33988" y="1095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4877280" y="1659600"/>
            <a:ext cx="140040" cy="247680"/>
          </a:xfrm>
          <a:custGeom>
            <a:avLst/>
            <a:gdLst>
              <a:gd name="textAreaLeft" fmla="*/ 0 w 140040"/>
              <a:gd name="textAreaRight" fmla="*/ 140400 w 14004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40538" h="248194">
                <a:moveTo>
                  <a:pt x="0" y="8926"/>
                </a:moveTo>
                <a:cubicBezTo>
                  <a:pt x="3644" y="90003"/>
                  <a:pt x="31279" y="162507"/>
                  <a:pt x="68656" y="229627"/>
                </a:cubicBezTo>
                <a:cubicBezTo>
                  <a:pt x="76352" y="243444"/>
                  <a:pt x="96520" y="247254"/>
                  <a:pt x="110845" y="248194"/>
                </a:cubicBezTo>
                <a:cubicBezTo>
                  <a:pt x="114846" y="248461"/>
                  <a:pt x="147891" y="247559"/>
                  <a:pt x="140538" y="234338"/>
                </a:cubicBezTo>
                <a:cubicBezTo>
                  <a:pt x="104838" y="170241"/>
                  <a:pt x="76085" y="99731"/>
                  <a:pt x="72593" y="22096"/>
                </a:cubicBezTo>
                <a:cubicBezTo>
                  <a:pt x="71462" y="-3151"/>
                  <a:pt x="-723" y="-7189"/>
                  <a:pt x="0" y="892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4982760" y="1962720"/>
            <a:ext cx="140760" cy="170280"/>
          </a:xfrm>
          <a:custGeom>
            <a:avLst/>
            <a:gdLst>
              <a:gd name="textAreaLeft" fmla="*/ 0 w 140760"/>
              <a:gd name="textAreaRight" fmla="*/ 141120 w 140760"/>
              <a:gd name="textAreaTop" fmla="*/ 0 h 170280"/>
              <a:gd name="textAreaBottom" fmla="*/ 170640 h 170280"/>
            </a:gdLst>
            <a:ahLst/>
            <a:rect l="textAreaLeft" t="textAreaTop" r="textAreaRight" b="textAreaBottom"/>
            <a:pathLst>
              <a:path w="141298" h="170627">
                <a:moveTo>
                  <a:pt x="0" y="27749"/>
                </a:moveTo>
                <a:cubicBezTo>
                  <a:pt x="22999" y="73888"/>
                  <a:pt x="43218" y="122631"/>
                  <a:pt x="76860" y="160870"/>
                </a:cubicBezTo>
                <a:cubicBezTo>
                  <a:pt x="94958" y="181432"/>
                  <a:pt x="164706" y="171094"/>
                  <a:pt x="135725" y="138150"/>
                </a:cubicBezTo>
                <a:cubicBezTo>
                  <a:pt x="105879" y="104228"/>
                  <a:pt x="88443" y="57175"/>
                  <a:pt x="68059" y="16255"/>
                </a:cubicBezTo>
                <a:cubicBezTo>
                  <a:pt x="55879" y="-8166"/>
                  <a:pt x="-17068" y="-6502"/>
                  <a:pt x="0" y="2774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5146560" y="2226600"/>
            <a:ext cx="284760" cy="246960"/>
          </a:xfrm>
          <a:custGeom>
            <a:avLst/>
            <a:gdLst>
              <a:gd name="textAreaLeft" fmla="*/ 0 w 284760"/>
              <a:gd name="textAreaRight" fmla="*/ 285120 w 284760"/>
              <a:gd name="textAreaTop" fmla="*/ 0 h 246960"/>
              <a:gd name="textAreaBottom" fmla="*/ 247320 h 246960"/>
            </a:gdLst>
            <a:ahLst/>
            <a:rect l="textAreaLeft" t="textAreaTop" r="textAreaRight" b="textAreaBottom"/>
            <a:pathLst>
              <a:path w="285277" h="247389">
                <a:moveTo>
                  <a:pt x="13094" y="42576"/>
                </a:moveTo>
                <a:cubicBezTo>
                  <a:pt x="90666" y="97453"/>
                  <a:pt x="160440" y="160966"/>
                  <a:pt x="220498" y="236454"/>
                </a:cubicBezTo>
                <a:cubicBezTo>
                  <a:pt x="239383" y="260191"/>
                  <a:pt x="308154" y="245878"/>
                  <a:pt x="280099" y="210610"/>
                </a:cubicBezTo>
                <a:cubicBezTo>
                  <a:pt x="216599" y="130790"/>
                  <a:pt x="141783" y="64255"/>
                  <a:pt x="59830" y="6292"/>
                </a:cubicBezTo>
                <a:cubicBezTo>
                  <a:pt x="32856" y="-12782"/>
                  <a:pt x="-26262" y="14738"/>
                  <a:pt x="13094" y="4257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5448600" y="2590200"/>
            <a:ext cx="125640" cy="320400"/>
          </a:xfrm>
          <a:custGeom>
            <a:avLst/>
            <a:gdLst>
              <a:gd name="textAreaLeft" fmla="*/ 0 w 125640"/>
              <a:gd name="textAreaRight" fmla="*/ 126000 w 12564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126047" h="320874">
                <a:moveTo>
                  <a:pt x="0" y="3887"/>
                </a:moveTo>
                <a:cubicBezTo>
                  <a:pt x="17818" y="103862"/>
                  <a:pt x="35636" y="203836"/>
                  <a:pt x="53454" y="303823"/>
                </a:cubicBezTo>
                <a:cubicBezTo>
                  <a:pt x="57365" y="325756"/>
                  <a:pt x="127114" y="322975"/>
                  <a:pt x="126047" y="316980"/>
                </a:cubicBezTo>
                <a:cubicBezTo>
                  <a:pt x="108229" y="217006"/>
                  <a:pt x="90411" y="117032"/>
                  <a:pt x="72593" y="17057"/>
                </a:cubicBezTo>
                <a:cubicBezTo>
                  <a:pt x="68681" y="-4887"/>
                  <a:pt x="-1066" y="-2093"/>
                  <a:pt x="0" y="388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5546160" y="3011400"/>
            <a:ext cx="213840" cy="215640"/>
          </a:xfrm>
          <a:custGeom>
            <a:avLst/>
            <a:gdLst>
              <a:gd name="textAreaLeft" fmla="*/ 0 w 213840"/>
              <a:gd name="textAreaRight" fmla="*/ 214200 w 2138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4234" h="215963">
                <a:moveTo>
                  <a:pt x="0" y="16767"/>
                </a:moveTo>
                <a:cubicBezTo>
                  <a:pt x="32994" y="95113"/>
                  <a:pt x="85483" y="155222"/>
                  <a:pt x="149682" y="205285"/>
                </a:cubicBezTo>
                <a:cubicBezTo>
                  <a:pt x="163207" y="215826"/>
                  <a:pt x="183743" y="220119"/>
                  <a:pt x="201015" y="214582"/>
                </a:cubicBezTo>
                <a:cubicBezTo>
                  <a:pt x="215582" y="209921"/>
                  <a:pt x="219519" y="196052"/>
                  <a:pt x="207556" y="186743"/>
                </a:cubicBezTo>
                <a:cubicBezTo>
                  <a:pt x="150279" y="142077"/>
                  <a:pt x="101981" y="89080"/>
                  <a:pt x="72466" y="18989"/>
                </a:cubicBezTo>
                <a:cubicBezTo>
                  <a:pt x="62293" y="-5140"/>
                  <a:pt x="-9918" y="-6778"/>
                  <a:pt x="0" y="1676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5901840" y="3245400"/>
            <a:ext cx="392400" cy="109080"/>
          </a:xfrm>
          <a:custGeom>
            <a:avLst/>
            <a:gdLst>
              <a:gd name="textAreaLeft" fmla="*/ 0 w 392400"/>
              <a:gd name="textAreaRight" fmla="*/ 392760 w 392400"/>
              <a:gd name="textAreaTop" fmla="*/ 0 h 109080"/>
              <a:gd name="textAreaBottom" fmla="*/ 109440 h 109080"/>
            </a:gdLst>
            <a:ahLst/>
            <a:rect l="textAreaLeft" t="textAreaTop" r="textAreaRight" b="textAreaBottom"/>
            <a:pathLst>
              <a:path w="392843" h="109593">
                <a:moveTo>
                  <a:pt x="13832" y="43933"/>
                </a:moveTo>
                <a:cubicBezTo>
                  <a:pt x="120448" y="111117"/>
                  <a:pt x="244908" y="126522"/>
                  <a:pt x="371566" y="91660"/>
                </a:cubicBezTo>
                <a:cubicBezTo>
                  <a:pt x="419991" y="78325"/>
                  <a:pt x="380481" y="30053"/>
                  <a:pt x="345594" y="39654"/>
                </a:cubicBezTo>
                <a:cubicBezTo>
                  <a:pt x="244070" y="67594"/>
                  <a:pt x="147194" y="59440"/>
                  <a:pt x="61139" y="5224"/>
                </a:cubicBezTo>
                <a:cubicBezTo>
                  <a:pt x="32323" y="-12949"/>
                  <a:pt x="-26871" y="18292"/>
                  <a:pt x="13832" y="4393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6479640" y="3195720"/>
            <a:ext cx="385920" cy="87120"/>
          </a:xfrm>
          <a:custGeom>
            <a:avLst/>
            <a:gdLst>
              <a:gd name="textAreaLeft" fmla="*/ 0 w 385920"/>
              <a:gd name="textAreaRight" fmla="*/ 386280 w 3859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386300" h="87338">
                <a:moveTo>
                  <a:pt x="63120" y="87338"/>
                </a:moveTo>
                <a:cubicBezTo>
                  <a:pt x="169876" y="65519"/>
                  <a:pt x="276633" y="43700"/>
                  <a:pt x="383389" y="21882"/>
                </a:cubicBezTo>
                <a:cubicBezTo>
                  <a:pt x="400026" y="18478"/>
                  <a:pt x="377737" y="6730"/>
                  <a:pt x="373724" y="5270"/>
                </a:cubicBezTo>
                <a:cubicBezTo>
                  <a:pt x="358218" y="-368"/>
                  <a:pt x="340095" y="-3454"/>
                  <a:pt x="323178" y="0"/>
                </a:cubicBezTo>
                <a:cubicBezTo>
                  <a:pt x="216422" y="21818"/>
                  <a:pt x="109665" y="43637"/>
                  <a:pt x="2909" y="65468"/>
                </a:cubicBezTo>
                <a:cubicBezTo>
                  <a:pt x="-13727" y="68872"/>
                  <a:pt x="8561" y="80606"/>
                  <a:pt x="12587" y="82067"/>
                </a:cubicBezTo>
                <a:cubicBezTo>
                  <a:pt x="28094" y="87706"/>
                  <a:pt x="46204" y="90804"/>
                  <a:pt x="63120" y="8733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7556400" y="3288600"/>
            <a:ext cx="293760" cy="201240"/>
          </a:xfrm>
          <a:custGeom>
            <a:avLst/>
            <a:gdLst>
              <a:gd name="textAreaLeft" fmla="*/ 0 w 293760"/>
              <a:gd name="textAreaRight" fmla="*/ 294120 w 293760"/>
              <a:gd name="textAreaTop" fmla="*/ 0 h 201240"/>
              <a:gd name="textAreaBottom" fmla="*/ 201600 h 201240"/>
            </a:gdLst>
            <a:ahLst/>
            <a:rect l="textAreaLeft" t="textAreaTop" r="textAreaRight" b="textAreaBottom"/>
            <a:pathLst>
              <a:path w="294144" h="201738">
                <a:moveTo>
                  <a:pt x="13740" y="22854"/>
                </a:moveTo>
                <a:cubicBezTo>
                  <a:pt x="95198" y="65094"/>
                  <a:pt x="169023" y="117469"/>
                  <a:pt x="227989" y="190215"/>
                </a:cubicBezTo>
                <a:cubicBezTo>
                  <a:pt x="239851" y="204845"/>
                  <a:pt x="310818" y="207436"/>
                  <a:pt x="294143" y="186849"/>
                </a:cubicBezTo>
                <a:cubicBezTo>
                  <a:pt x="229005" y="106496"/>
                  <a:pt x="146099" y="50870"/>
                  <a:pt x="56298" y="4312"/>
                </a:cubicBezTo>
                <a:cubicBezTo>
                  <a:pt x="37336" y="-5517"/>
                  <a:pt x="-28271" y="1074"/>
                  <a:pt x="13740" y="2285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7930080" y="3588120"/>
            <a:ext cx="342720" cy="277920"/>
          </a:xfrm>
          <a:custGeom>
            <a:avLst/>
            <a:gdLst>
              <a:gd name="textAreaLeft" fmla="*/ 0 w 342720"/>
              <a:gd name="textAreaRight" fmla="*/ 343080 w 3427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343047" h="278143">
                <a:moveTo>
                  <a:pt x="6906" y="40197"/>
                </a:moveTo>
                <a:cubicBezTo>
                  <a:pt x="90116" y="128551"/>
                  <a:pt x="181340" y="205996"/>
                  <a:pt x="281505" y="272506"/>
                </a:cubicBezTo>
                <a:cubicBezTo>
                  <a:pt x="311350" y="292318"/>
                  <a:pt x="369503" y="257748"/>
                  <a:pt x="329435" y="231142"/>
                </a:cubicBezTo>
                <a:cubicBezTo>
                  <a:pt x="233893" y="167693"/>
                  <a:pt x="146898" y="94503"/>
                  <a:pt x="67485" y="10187"/>
                </a:cubicBezTo>
                <a:cubicBezTo>
                  <a:pt x="44676" y="-14031"/>
                  <a:pt x="-24297" y="7063"/>
                  <a:pt x="6906" y="40197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8426880" y="3955680"/>
            <a:ext cx="501480" cy="288000"/>
          </a:xfrm>
          <a:custGeom>
            <a:avLst/>
            <a:gdLst>
              <a:gd name="textAreaLeft" fmla="*/ 0 w 501480"/>
              <a:gd name="textAreaRight" fmla="*/ 501840 w 501480"/>
              <a:gd name="textAreaTop" fmla="*/ 0 h 288000"/>
              <a:gd name="textAreaBottom" fmla="*/ 288360 h 288000"/>
            </a:gdLst>
            <a:ahLst/>
            <a:rect l="textAreaLeft" t="textAreaTop" r="textAreaRight" b="textAreaBottom"/>
            <a:pathLst>
              <a:path w="501681" h="288264">
                <a:moveTo>
                  <a:pt x="11927" y="51422"/>
                </a:moveTo>
                <a:cubicBezTo>
                  <a:pt x="140095" y="160921"/>
                  <a:pt x="289548" y="237528"/>
                  <a:pt x="449391" y="288264"/>
                </a:cubicBezTo>
                <a:cubicBezTo>
                  <a:pt x="488126" y="300558"/>
                  <a:pt x="527966" y="250481"/>
                  <a:pt x="481851" y="235851"/>
                </a:cubicBezTo>
                <a:cubicBezTo>
                  <a:pt x="327369" y="186804"/>
                  <a:pt x="184227" y="113830"/>
                  <a:pt x="60352" y="8001"/>
                </a:cubicBezTo>
                <a:cubicBezTo>
                  <a:pt x="31535" y="-16624"/>
                  <a:pt x="-24674" y="20154"/>
                  <a:pt x="11927" y="51422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9069120" y="4260960"/>
            <a:ext cx="414720" cy="99720"/>
          </a:xfrm>
          <a:custGeom>
            <a:avLst/>
            <a:gdLst>
              <a:gd name="textAreaLeft" fmla="*/ 0 w 414720"/>
              <a:gd name="textAreaRight" fmla="*/ 415080 w 414720"/>
              <a:gd name="textAreaTop" fmla="*/ 0 h 99720"/>
              <a:gd name="textAreaBottom" fmla="*/ 100080 h 99720"/>
            </a:gdLst>
            <a:ahLst/>
            <a:rect l="textAreaLeft" t="textAreaTop" r="textAreaRight" b="textAreaBottom"/>
            <a:pathLst>
              <a:path w="414923" h="100048">
                <a:moveTo>
                  <a:pt x="14732" y="35788"/>
                </a:moveTo>
                <a:cubicBezTo>
                  <a:pt x="132347" y="92125"/>
                  <a:pt x="261036" y="110591"/>
                  <a:pt x="394234" y="94526"/>
                </a:cubicBezTo>
                <a:cubicBezTo>
                  <a:pt x="443269" y="88620"/>
                  <a:pt x="397295" y="44944"/>
                  <a:pt x="366840" y="48615"/>
                </a:cubicBezTo>
                <a:cubicBezTo>
                  <a:pt x="260693" y="61404"/>
                  <a:pt x="154610" y="48196"/>
                  <a:pt x="60618" y="3162"/>
                </a:cubicBezTo>
                <a:cubicBezTo>
                  <a:pt x="34100" y="-9537"/>
                  <a:pt x="-28345" y="15151"/>
                  <a:pt x="14732" y="3578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9621720" y="4244400"/>
            <a:ext cx="378000" cy="102600"/>
          </a:xfrm>
          <a:custGeom>
            <a:avLst/>
            <a:gdLst>
              <a:gd name="textAreaLeft" fmla="*/ 0 w 378000"/>
              <a:gd name="textAreaRight" fmla="*/ 378360 w 378000"/>
              <a:gd name="textAreaTop" fmla="*/ 0 h 102600"/>
              <a:gd name="textAreaBottom" fmla="*/ 102960 h 102600"/>
            </a:gdLst>
            <a:ahLst/>
            <a:rect l="textAreaLeft" t="textAreaTop" r="textAreaRight" b="textAreaBottom"/>
            <a:pathLst>
              <a:path w="378232" h="103123">
                <a:moveTo>
                  <a:pt x="49286" y="103123"/>
                </a:moveTo>
                <a:cubicBezTo>
                  <a:pt x="156512" y="91414"/>
                  <a:pt x="261453" y="61124"/>
                  <a:pt x="366583" y="31076"/>
                </a:cubicBezTo>
                <a:cubicBezTo>
                  <a:pt x="405140" y="20053"/>
                  <a:pt x="338884" y="-5295"/>
                  <a:pt x="320368" y="0"/>
                </a:cubicBezTo>
                <a:cubicBezTo>
                  <a:pt x="220723" y="28473"/>
                  <a:pt x="120571" y="58788"/>
                  <a:pt x="18908" y="69887"/>
                </a:cubicBezTo>
                <a:cubicBezTo>
                  <a:pt x="-29605" y="75183"/>
                  <a:pt x="26616" y="105587"/>
                  <a:pt x="49286" y="103123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10166400" y="4164840"/>
            <a:ext cx="270000" cy="45720"/>
          </a:xfrm>
          <a:custGeom>
            <a:avLst/>
            <a:gdLst>
              <a:gd name="textAreaLeft" fmla="*/ 0 w 270000"/>
              <a:gd name="textAreaRight" fmla="*/ 270360 w 270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270289" h="46164">
                <a:moveTo>
                  <a:pt x="58870" y="46164"/>
                </a:moveTo>
                <a:cubicBezTo>
                  <a:pt x="125952" y="38773"/>
                  <a:pt x="193299" y="40792"/>
                  <a:pt x="260165" y="26670"/>
                </a:cubicBezTo>
                <a:cubicBezTo>
                  <a:pt x="296474" y="18999"/>
                  <a:pt x="228479" y="-3276"/>
                  <a:pt x="212921" y="0"/>
                </a:cubicBezTo>
                <a:cubicBezTo>
                  <a:pt x="146106" y="14109"/>
                  <a:pt x="78695" y="12115"/>
                  <a:pt x="11626" y="19494"/>
                </a:cubicBezTo>
                <a:cubicBezTo>
                  <a:pt x="-2495" y="21044"/>
                  <a:pt x="-3892" y="30403"/>
                  <a:pt x="7537" y="36855"/>
                </a:cubicBezTo>
                <a:cubicBezTo>
                  <a:pt x="22421" y="45262"/>
                  <a:pt x="41522" y="48069"/>
                  <a:pt x="58870" y="461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10487520" y="3994200"/>
            <a:ext cx="594360" cy="194400"/>
          </a:xfrm>
          <a:custGeom>
            <a:avLst/>
            <a:gdLst>
              <a:gd name="textAreaLeft" fmla="*/ 0 w 594360"/>
              <a:gd name="textAreaRight" fmla="*/ 594720 w 594360"/>
              <a:gd name="textAreaTop" fmla="*/ 0 h 194400"/>
              <a:gd name="textAreaBottom" fmla="*/ 194760 h 194400"/>
            </a:gdLst>
            <a:ahLst/>
            <a:rect l="textAreaLeft" t="textAreaTop" r="textAreaRight" b="textAreaBottom"/>
            <a:pathLst>
              <a:path w="594633" h="194614">
                <a:moveTo>
                  <a:pt x="36796" y="194614"/>
                </a:moveTo>
                <a:cubicBezTo>
                  <a:pt x="225493" y="207670"/>
                  <a:pt x="398949" y="107886"/>
                  <a:pt x="578616" y="46507"/>
                </a:cubicBezTo>
                <a:cubicBezTo>
                  <a:pt x="622266" y="31584"/>
                  <a:pt x="566297" y="-10337"/>
                  <a:pt x="536033" y="0"/>
                </a:cubicBezTo>
                <a:cubicBezTo>
                  <a:pt x="368241" y="57340"/>
                  <a:pt x="205592" y="152590"/>
                  <a:pt x="29429" y="140423"/>
                </a:cubicBezTo>
                <a:cubicBezTo>
                  <a:pt x="-19769" y="137020"/>
                  <a:pt x="-2306" y="191909"/>
                  <a:pt x="36796" y="19461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11185560" y="4472280"/>
            <a:ext cx="188640" cy="310320"/>
          </a:xfrm>
          <a:custGeom>
            <a:avLst/>
            <a:gdLst>
              <a:gd name="textAreaLeft" fmla="*/ 0 w 188640"/>
              <a:gd name="textAreaRight" fmla="*/ 189000 w 188640"/>
              <a:gd name="textAreaTop" fmla="*/ 0 h 310320"/>
              <a:gd name="textAreaBottom" fmla="*/ 310680 h 310320"/>
            </a:gdLst>
            <a:ahLst/>
            <a:rect l="textAreaLeft" t="textAreaTop" r="textAreaRight" b="textAreaBottom"/>
            <a:pathLst>
              <a:path w="188921" h="310600">
                <a:moveTo>
                  <a:pt x="0" y="28584"/>
                </a:moveTo>
                <a:cubicBezTo>
                  <a:pt x="19646" y="131213"/>
                  <a:pt x="62827" y="219338"/>
                  <a:pt x="123076" y="298662"/>
                </a:cubicBezTo>
                <a:cubicBezTo>
                  <a:pt x="143751" y="325853"/>
                  <a:pt x="211645" y="305330"/>
                  <a:pt x="183692" y="268538"/>
                </a:cubicBezTo>
                <a:cubicBezTo>
                  <a:pt x="129756" y="197545"/>
                  <a:pt x="91071" y="118284"/>
                  <a:pt x="73482" y="26450"/>
                </a:cubicBezTo>
                <a:cubicBezTo>
                  <a:pt x="66827" y="-8309"/>
                  <a:pt x="-7391" y="-10036"/>
                  <a:pt x="0" y="2858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11170440" y="3841200"/>
            <a:ext cx="303840" cy="144000"/>
          </a:xfrm>
          <a:custGeom>
            <a:avLst/>
            <a:gdLst>
              <a:gd name="textAreaLeft" fmla="*/ 0 w 303840"/>
              <a:gd name="textAreaRight" fmla="*/ 304200 w 3038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304165" h="144386">
                <a:moveTo>
                  <a:pt x="38311" y="144386"/>
                </a:moveTo>
                <a:cubicBezTo>
                  <a:pt x="129294" y="133146"/>
                  <a:pt x="217140" y="105841"/>
                  <a:pt x="301138" y="58864"/>
                </a:cubicBezTo>
                <a:cubicBezTo>
                  <a:pt x="316657" y="50139"/>
                  <a:pt x="280602" y="-11138"/>
                  <a:pt x="260726" y="0"/>
                </a:cubicBezTo>
                <a:cubicBezTo>
                  <a:pt x="179065" y="45694"/>
                  <a:pt x="93950" y="72224"/>
                  <a:pt x="5469" y="83146"/>
                </a:cubicBezTo>
                <a:cubicBezTo>
                  <a:pt x="-12589" y="85394"/>
                  <a:pt x="17102" y="146989"/>
                  <a:pt x="38311" y="144386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11522520" y="3488400"/>
            <a:ext cx="220680" cy="292320"/>
          </a:xfrm>
          <a:custGeom>
            <a:avLst/>
            <a:gdLst>
              <a:gd name="textAreaLeft" fmla="*/ 0 w 220680"/>
              <a:gd name="textAreaRight" fmla="*/ 221040 w 220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20995" h="292512">
                <a:moveTo>
                  <a:pt x="58943" y="282728"/>
                </a:moveTo>
                <a:cubicBezTo>
                  <a:pt x="125618" y="212865"/>
                  <a:pt x="184101" y="136868"/>
                  <a:pt x="220995" y="50381"/>
                </a:cubicBezTo>
                <a:cubicBezTo>
                  <a:pt x="235244" y="16955"/>
                  <a:pt x="179733" y="-24904"/>
                  <a:pt x="161686" y="17386"/>
                </a:cubicBezTo>
                <a:cubicBezTo>
                  <a:pt x="127079" y="98539"/>
                  <a:pt x="69547" y="169964"/>
                  <a:pt x="7114" y="235356"/>
                </a:cubicBezTo>
                <a:cubicBezTo>
                  <a:pt x="-18882" y="262623"/>
                  <a:pt x="28755" y="314376"/>
                  <a:pt x="58943" y="28272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11630520" y="3079800"/>
            <a:ext cx="96120" cy="244440"/>
          </a:xfrm>
          <a:custGeom>
            <a:avLst/>
            <a:gdLst>
              <a:gd name="textAreaLeft" fmla="*/ 0 w 96120"/>
              <a:gd name="textAreaRight" fmla="*/ 96480 w 961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96570" h="244944">
                <a:moveTo>
                  <a:pt x="96570" y="214248"/>
                </a:moveTo>
                <a:cubicBezTo>
                  <a:pt x="79438" y="155689"/>
                  <a:pt x="72352" y="93535"/>
                  <a:pt x="55206" y="34950"/>
                </a:cubicBezTo>
                <a:cubicBezTo>
                  <a:pt x="50571" y="19100"/>
                  <a:pt x="39217" y="1473"/>
                  <a:pt x="20332" y="0"/>
                </a:cubicBezTo>
                <a:cubicBezTo>
                  <a:pt x="2908" y="-1384"/>
                  <a:pt x="-3784" y="17780"/>
                  <a:pt x="0" y="30683"/>
                </a:cubicBezTo>
                <a:cubicBezTo>
                  <a:pt x="17119" y="89255"/>
                  <a:pt x="24218" y="151384"/>
                  <a:pt x="41364" y="209981"/>
                </a:cubicBezTo>
                <a:cubicBezTo>
                  <a:pt x="45999" y="225844"/>
                  <a:pt x="57366" y="243459"/>
                  <a:pt x="76225" y="244945"/>
                </a:cubicBezTo>
                <a:cubicBezTo>
                  <a:pt x="93650" y="246329"/>
                  <a:pt x="100355" y="227164"/>
                  <a:pt x="96570" y="21424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11336040" y="2929320"/>
            <a:ext cx="218520" cy="81360"/>
          </a:xfrm>
          <a:custGeom>
            <a:avLst/>
            <a:gdLst>
              <a:gd name="textAreaLeft" fmla="*/ 0 w 218520"/>
              <a:gd name="textAreaRight" fmla="*/ 218880 w 218520"/>
              <a:gd name="textAreaTop" fmla="*/ 0 h 81360"/>
              <a:gd name="textAreaBottom" fmla="*/ 81720 h 81360"/>
            </a:gdLst>
            <a:ahLst/>
            <a:rect l="textAreaLeft" t="textAreaTop" r="textAreaRight" b="textAreaBottom"/>
            <a:pathLst>
              <a:path w="219032" h="81640">
                <a:moveTo>
                  <a:pt x="190457" y="25958"/>
                </a:moveTo>
                <a:cubicBezTo>
                  <a:pt x="133408" y="-5499"/>
                  <a:pt x="71890" y="-9347"/>
                  <a:pt x="3208" y="18580"/>
                </a:cubicBezTo>
                <a:cubicBezTo>
                  <a:pt x="-11548" y="24612"/>
                  <a:pt x="20175" y="86982"/>
                  <a:pt x="43606" y="77444"/>
                </a:cubicBezTo>
                <a:cubicBezTo>
                  <a:pt x="99538" y="54673"/>
                  <a:pt x="154605" y="54216"/>
                  <a:pt x="201709" y="80200"/>
                </a:cubicBezTo>
                <a:cubicBezTo>
                  <a:pt x="213367" y="86614"/>
                  <a:pt x="221991" y="81838"/>
                  <a:pt x="219032" y="67564"/>
                </a:cubicBezTo>
                <a:cubicBezTo>
                  <a:pt x="215755" y="51752"/>
                  <a:pt x="204579" y="33718"/>
                  <a:pt x="190457" y="2595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11102400" y="4073040"/>
            <a:ext cx="95040" cy="265680"/>
          </a:xfrm>
          <a:custGeom>
            <a:avLst/>
            <a:gdLst>
              <a:gd name="textAreaLeft" fmla="*/ 0 w 95040"/>
              <a:gd name="textAreaRight" fmla="*/ 95400 w 95040"/>
              <a:gd name="textAreaTop" fmla="*/ 0 h 265680"/>
              <a:gd name="textAreaBottom" fmla="*/ 266040 h 265680"/>
            </a:gdLst>
            <a:ahLst/>
            <a:rect l="textAreaLeft" t="textAreaTop" r="textAreaRight" b="textAreaBottom"/>
            <a:pathLst>
              <a:path w="95456" h="265993">
                <a:moveTo>
                  <a:pt x="4626" y="7365"/>
                </a:moveTo>
                <a:cubicBezTo>
                  <a:pt x="-7363" y="91249"/>
                  <a:pt x="5108" y="168935"/>
                  <a:pt x="27930" y="242125"/>
                </a:cubicBezTo>
                <a:cubicBezTo>
                  <a:pt x="32604" y="257187"/>
                  <a:pt x="51069" y="263334"/>
                  <a:pt x="64544" y="265848"/>
                </a:cubicBezTo>
                <a:cubicBezTo>
                  <a:pt x="68291" y="266547"/>
                  <a:pt x="99926" y="269214"/>
                  <a:pt x="95456" y="254812"/>
                </a:cubicBezTo>
                <a:cubicBezTo>
                  <a:pt x="73688" y="184911"/>
                  <a:pt x="59743" y="109168"/>
                  <a:pt x="71249" y="28828"/>
                </a:cubicBezTo>
                <a:cubicBezTo>
                  <a:pt x="74983" y="2704"/>
                  <a:pt x="7013" y="-9334"/>
                  <a:pt x="4626" y="7365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10947600" y="2967120"/>
            <a:ext cx="258120" cy="212040"/>
          </a:xfrm>
          <a:custGeom>
            <a:avLst/>
            <a:gdLst>
              <a:gd name="textAreaLeft" fmla="*/ 0 w 258120"/>
              <a:gd name="textAreaRight" fmla="*/ 258480 w 258120"/>
              <a:gd name="textAreaTop" fmla="*/ 0 h 212040"/>
              <a:gd name="textAreaBottom" fmla="*/ 212400 h 212040"/>
            </a:gdLst>
            <a:ahLst/>
            <a:rect l="textAreaLeft" t="textAreaTop" r="textAreaRight" b="textAreaBottom"/>
            <a:pathLst>
              <a:path w="258525" h="212524">
                <a:moveTo>
                  <a:pt x="211137" y="0"/>
                </a:moveTo>
                <a:cubicBezTo>
                  <a:pt x="120586" y="26123"/>
                  <a:pt x="47142" y="84544"/>
                  <a:pt x="0" y="173253"/>
                </a:cubicBezTo>
                <a:cubicBezTo>
                  <a:pt x="-18453" y="207988"/>
                  <a:pt x="51269" y="228650"/>
                  <a:pt x="66840" y="199364"/>
                </a:cubicBezTo>
                <a:cubicBezTo>
                  <a:pt x="105155" y="127279"/>
                  <a:pt x="162267" y="71945"/>
                  <a:pt x="237514" y="50228"/>
                </a:cubicBezTo>
                <a:cubicBezTo>
                  <a:pt x="285813" y="36309"/>
                  <a:pt x="244957" y="-9766"/>
                  <a:pt x="211137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10860840" y="3292560"/>
            <a:ext cx="104760" cy="233640"/>
          </a:xfrm>
          <a:custGeom>
            <a:avLst/>
            <a:gdLst>
              <a:gd name="textAreaLeft" fmla="*/ 0 w 104760"/>
              <a:gd name="textAreaRight" fmla="*/ 105120 w 10476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05172" h="233972">
                <a:moveTo>
                  <a:pt x="32567" y="10304"/>
                </a:moveTo>
                <a:cubicBezTo>
                  <a:pt x="16" y="77195"/>
                  <a:pt x="-13965" y="150004"/>
                  <a:pt x="12754" y="216806"/>
                </a:cubicBezTo>
                <a:cubicBezTo>
                  <a:pt x="21289" y="238130"/>
                  <a:pt x="92192" y="239819"/>
                  <a:pt x="84712" y="221124"/>
                </a:cubicBezTo>
                <a:cubicBezTo>
                  <a:pt x="58932" y="156634"/>
                  <a:pt x="73879" y="87736"/>
                  <a:pt x="105172" y="23474"/>
                </a:cubicBezTo>
                <a:cubicBezTo>
                  <a:pt x="113427" y="6507"/>
                  <a:pt x="44085" y="-13342"/>
                  <a:pt x="32567" y="1030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10892880" y="3598200"/>
            <a:ext cx="164160" cy="338760"/>
          </a:xfrm>
          <a:custGeom>
            <a:avLst/>
            <a:gdLst>
              <a:gd name="textAreaLeft" fmla="*/ 0 w 164160"/>
              <a:gd name="textAreaRight" fmla="*/ 164520 w 164160"/>
              <a:gd name="textAreaTop" fmla="*/ 0 h 338760"/>
              <a:gd name="textAreaBottom" fmla="*/ 339120 h 338760"/>
            </a:gdLst>
            <a:ahLst/>
            <a:rect l="textAreaLeft" t="textAreaTop" r="textAreaRight" b="textAreaBottom"/>
            <a:pathLst>
              <a:path w="164655" h="339225">
                <a:moveTo>
                  <a:pt x="164655" y="327164"/>
                </a:moveTo>
                <a:cubicBezTo>
                  <a:pt x="161518" y="213359"/>
                  <a:pt x="117360" y="115379"/>
                  <a:pt x="72275" y="17729"/>
                </a:cubicBezTo>
                <a:cubicBezTo>
                  <a:pt x="61848" y="-4889"/>
                  <a:pt x="-9525" y="-5918"/>
                  <a:pt x="0" y="14693"/>
                </a:cubicBezTo>
                <a:cubicBezTo>
                  <a:pt x="43141" y="108140"/>
                  <a:pt x="89065" y="204812"/>
                  <a:pt x="92061" y="313994"/>
                </a:cubicBezTo>
                <a:cubicBezTo>
                  <a:pt x="92849" y="342366"/>
                  <a:pt x="165239" y="348513"/>
                  <a:pt x="164655" y="327164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258520" y="90612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81" h="208585">
                <a:moveTo>
                  <a:pt x="57678" y="197790"/>
                </a:moveTo>
                <a:cubicBezTo>
                  <a:pt x="109316" y="223533"/>
                  <a:pt x="172042" y="202540"/>
                  <a:pt x="197784" y="150901"/>
                </a:cubicBezTo>
                <a:cubicBezTo>
                  <a:pt x="223527" y="99276"/>
                  <a:pt x="202534" y="36538"/>
                  <a:pt x="150909" y="10795"/>
                </a:cubicBezTo>
                <a:cubicBezTo>
                  <a:pt x="99271" y="-14947"/>
                  <a:pt x="36545" y="6045"/>
                  <a:pt x="10802" y="57683"/>
                </a:cubicBezTo>
                <a:cubicBezTo>
                  <a:pt x="-14952" y="109309"/>
                  <a:pt x="6040" y="172047"/>
                  <a:pt x="57678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5307840" y="95544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7" h="110213">
                <a:moveTo>
                  <a:pt x="29181" y="107110"/>
                </a:moveTo>
                <a:cubicBezTo>
                  <a:pt x="57908" y="121435"/>
                  <a:pt x="92795" y="109751"/>
                  <a:pt x="107108" y="81037"/>
                </a:cubicBezTo>
                <a:cubicBezTo>
                  <a:pt x="121434" y="52309"/>
                  <a:pt x="109763" y="17422"/>
                  <a:pt x="81035" y="3097"/>
                </a:cubicBezTo>
                <a:cubicBezTo>
                  <a:pt x="52320" y="-11215"/>
                  <a:pt x="17421" y="455"/>
                  <a:pt x="3108" y="29183"/>
                </a:cubicBezTo>
                <a:cubicBezTo>
                  <a:pt x="-11217" y="57897"/>
                  <a:pt x="454" y="92784"/>
                  <a:pt x="29181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3466800" y="20919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7">
                <a:moveTo>
                  <a:pt x="57673" y="197790"/>
                </a:moveTo>
                <a:cubicBezTo>
                  <a:pt x="109311" y="223533"/>
                  <a:pt x="172036" y="202552"/>
                  <a:pt x="197779" y="150914"/>
                </a:cubicBezTo>
                <a:cubicBezTo>
                  <a:pt x="223522" y="99276"/>
                  <a:pt x="202542" y="36551"/>
                  <a:pt x="150903" y="10795"/>
                </a:cubicBezTo>
                <a:cubicBezTo>
                  <a:pt x="99265" y="-14947"/>
                  <a:pt x="36540" y="6045"/>
                  <a:pt x="10797" y="57683"/>
                </a:cubicBezTo>
                <a:cubicBezTo>
                  <a:pt x="-14945" y="109322"/>
                  <a:pt x="6034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3515760" y="21409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6" h="110213">
                <a:moveTo>
                  <a:pt x="29181" y="107110"/>
                </a:moveTo>
                <a:cubicBezTo>
                  <a:pt x="57896" y="121435"/>
                  <a:pt x="92795" y="109751"/>
                  <a:pt x="107108" y="81037"/>
                </a:cubicBezTo>
                <a:cubicBezTo>
                  <a:pt x="121434" y="52309"/>
                  <a:pt x="109762" y="17422"/>
                  <a:pt x="81035" y="3097"/>
                </a:cubicBezTo>
                <a:cubicBezTo>
                  <a:pt x="52320" y="-11215"/>
                  <a:pt x="17421" y="455"/>
                  <a:pt x="3108" y="29182"/>
                </a:cubicBezTo>
                <a:cubicBezTo>
                  <a:pt x="-11217" y="57897"/>
                  <a:pt x="453" y="92784"/>
                  <a:pt x="29181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261520" y="254700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77">
                <a:moveTo>
                  <a:pt x="57673" y="197779"/>
                </a:moveTo>
                <a:cubicBezTo>
                  <a:pt x="109311" y="223522"/>
                  <a:pt x="172036" y="202542"/>
                  <a:pt x="197779" y="150903"/>
                </a:cubicBezTo>
                <a:cubicBezTo>
                  <a:pt x="223522" y="99265"/>
                  <a:pt x="202542" y="36540"/>
                  <a:pt x="150903" y="10797"/>
                </a:cubicBezTo>
                <a:cubicBezTo>
                  <a:pt x="99265" y="-14945"/>
                  <a:pt x="36540" y="6035"/>
                  <a:pt x="10797" y="57673"/>
                </a:cubicBezTo>
                <a:cubicBezTo>
                  <a:pt x="-14945" y="109311"/>
                  <a:pt x="6035" y="172036"/>
                  <a:pt x="57673" y="197779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310480" y="25963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2" h="110213">
                <a:moveTo>
                  <a:pt x="29176" y="107110"/>
                </a:moveTo>
                <a:cubicBezTo>
                  <a:pt x="57904" y="121435"/>
                  <a:pt x="92791" y="109751"/>
                  <a:pt x="107103" y="81037"/>
                </a:cubicBezTo>
                <a:cubicBezTo>
                  <a:pt x="121429" y="52309"/>
                  <a:pt x="109758" y="17422"/>
                  <a:pt x="81030" y="3097"/>
                </a:cubicBezTo>
                <a:cubicBezTo>
                  <a:pt x="52316" y="-11215"/>
                  <a:pt x="17416" y="455"/>
                  <a:pt x="3103" y="29183"/>
                </a:cubicBezTo>
                <a:cubicBezTo>
                  <a:pt x="-11221" y="57897"/>
                  <a:pt x="461" y="92784"/>
                  <a:pt x="29176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5850720" y="31971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6">
                <a:moveTo>
                  <a:pt x="57673" y="197790"/>
                </a:moveTo>
                <a:cubicBezTo>
                  <a:pt x="109311" y="223533"/>
                  <a:pt x="172036" y="202540"/>
                  <a:pt x="197779" y="150914"/>
                </a:cubicBezTo>
                <a:cubicBezTo>
                  <a:pt x="223522" y="99276"/>
                  <a:pt x="202542" y="36551"/>
                  <a:pt x="150903" y="10795"/>
                </a:cubicBezTo>
                <a:cubicBezTo>
                  <a:pt x="99265" y="-14947"/>
                  <a:pt x="36540" y="6045"/>
                  <a:pt x="10797" y="57684"/>
                </a:cubicBezTo>
                <a:cubicBezTo>
                  <a:pt x="-14945" y="109322"/>
                  <a:pt x="6034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5900040" y="324612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7" h="110215">
                <a:moveTo>
                  <a:pt x="29181" y="107111"/>
                </a:moveTo>
                <a:cubicBezTo>
                  <a:pt x="57896" y="121437"/>
                  <a:pt x="92795" y="109753"/>
                  <a:pt x="107108" y="81038"/>
                </a:cubicBezTo>
                <a:cubicBezTo>
                  <a:pt x="121434" y="52311"/>
                  <a:pt x="109763" y="17424"/>
                  <a:pt x="81035" y="3098"/>
                </a:cubicBezTo>
                <a:cubicBezTo>
                  <a:pt x="52320" y="-11214"/>
                  <a:pt x="17421" y="457"/>
                  <a:pt x="3108" y="29171"/>
                </a:cubicBezTo>
                <a:cubicBezTo>
                  <a:pt x="-11217" y="57899"/>
                  <a:pt x="454" y="92786"/>
                  <a:pt x="29181" y="107111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8752320" y="4085280"/>
            <a:ext cx="358920" cy="358920"/>
          </a:xfrm>
          <a:custGeom>
            <a:avLst/>
            <a:gdLst>
              <a:gd name="textAreaLeft" fmla="*/ 0 w 358920"/>
              <a:gd name="textAreaRight" fmla="*/ 359280 w 358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59383" h="359383">
                <a:moveTo>
                  <a:pt x="99376" y="340778"/>
                </a:moveTo>
                <a:cubicBezTo>
                  <a:pt x="188340" y="385139"/>
                  <a:pt x="296417" y="348969"/>
                  <a:pt x="340778" y="260006"/>
                </a:cubicBezTo>
                <a:cubicBezTo>
                  <a:pt x="385139" y="171042"/>
                  <a:pt x="348970" y="62965"/>
                  <a:pt x="260006" y="18604"/>
                </a:cubicBezTo>
                <a:cubicBezTo>
                  <a:pt x="171043" y="-25756"/>
                  <a:pt x="62965" y="10412"/>
                  <a:pt x="18605" y="99376"/>
                </a:cubicBezTo>
                <a:cubicBezTo>
                  <a:pt x="-25756" y="188340"/>
                  <a:pt x="10413" y="296417"/>
                  <a:pt x="99376" y="34077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8832240" y="4164840"/>
            <a:ext cx="199440" cy="199440"/>
          </a:xfrm>
          <a:custGeom>
            <a:avLst/>
            <a:gdLst>
              <a:gd name="textAreaLeft" fmla="*/ 0 w 199440"/>
              <a:gd name="textAreaRight" fmla="*/ 199800 w 199440"/>
              <a:gd name="textAreaTop" fmla="*/ 0 h 199440"/>
              <a:gd name="textAreaBottom" fmla="*/ 199800 h 199440"/>
            </a:gdLst>
            <a:ahLst/>
            <a:rect l="textAreaLeft" t="textAreaTop" r="textAreaRight" b="textAreaBottom"/>
            <a:pathLst>
              <a:path w="199903" h="199902">
                <a:moveTo>
                  <a:pt x="55276" y="189553"/>
                </a:moveTo>
                <a:cubicBezTo>
                  <a:pt x="104768" y="214229"/>
                  <a:pt x="164877" y="194112"/>
                  <a:pt x="189553" y="144621"/>
                </a:cubicBezTo>
                <a:cubicBezTo>
                  <a:pt x="214229" y="95141"/>
                  <a:pt x="194112" y="35019"/>
                  <a:pt x="144621" y="10343"/>
                </a:cubicBezTo>
                <a:cubicBezTo>
                  <a:pt x="95142" y="-14319"/>
                  <a:pt x="35020" y="5784"/>
                  <a:pt x="10344" y="55276"/>
                </a:cubicBezTo>
                <a:cubicBezTo>
                  <a:pt x="-14319" y="104768"/>
                  <a:pt x="5784" y="164877"/>
                  <a:pt x="55276" y="189553"/>
                </a:cubicBezTo>
              </a:path>
            </a:pathLst>
          </a:custGeom>
          <a:solidFill>
            <a:srgbClr val="a4b31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11248200" y="2838960"/>
            <a:ext cx="208080" cy="2080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08577" h="208586">
                <a:moveTo>
                  <a:pt x="57673" y="197790"/>
                </a:moveTo>
                <a:cubicBezTo>
                  <a:pt x="109311" y="223533"/>
                  <a:pt x="172036" y="202540"/>
                  <a:pt x="197779" y="150914"/>
                </a:cubicBezTo>
                <a:cubicBezTo>
                  <a:pt x="223522" y="99276"/>
                  <a:pt x="202541" y="36551"/>
                  <a:pt x="150903" y="10795"/>
                </a:cubicBezTo>
                <a:cubicBezTo>
                  <a:pt x="99266" y="-14947"/>
                  <a:pt x="36540" y="6045"/>
                  <a:pt x="10797" y="57684"/>
                </a:cubicBezTo>
                <a:cubicBezTo>
                  <a:pt x="-14945" y="109322"/>
                  <a:pt x="6035" y="172047"/>
                  <a:pt x="57673" y="19779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11297520" y="288828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10211" h="110213">
                <a:moveTo>
                  <a:pt x="29176" y="107110"/>
                </a:moveTo>
                <a:cubicBezTo>
                  <a:pt x="57891" y="121435"/>
                  <a:pt x="92791" y="109751"/>
                  <a:pt x="107103" y="81037"/>
                </a:cubicBezTo>
                <a:cubicBezTo>
                  <a:pt x="121429" y="52309"/>
                  <a:pt x="109758" y="17422"/>
                  <a:pt x="81030" y="3097"/>
                </a:cubicBezTo>
                <a:cubicBezTo>
                  <a:pt x="52316" y="-11215"/>
                  <a:pt x="17415" y="455"/>
                  <a:pt x="3103" y="29183"/>
                </a:cubicBezTo>
                <a:cubicBezTo>
                  <a:pt x="-11221" y="57897"/>
                  <a:pt x="461" y="92784"/>
                  <a:pt x="29176" y="107110"/>
                </a:cubicBezTo>
              </a:path>
            </a:pathLst>
          </a:custGeom>
          <a:solidFill>
            <a:srgbClr val="c7c9c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025040" y="3130920"/>
            <a:ext cx="352440" cy="73080"/>
          </a:xfrm>
          <a:custGeom>
            <a:avLst/>
            <a:gdLst>
              <a:gd name="textAreaLeft" fmla="*/ 0 w 352440"/>
              <a:gd name="textAreaRight" fmla="*/ 352800 w 3524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52634" h="73418">
                <a:moveTo>
                  <a:pt x="47691" y="73418"/>
                </a:moveTo>
                <a:cubicBezTo>
                  <a:pt x="139703" y="58254"/>
                  <a:pt x="231549" y="50164"/>
                  <a:pt x="323383" y="51688"/>
                </a:cubicBezTo>
                <a:cubicBezTo>
                  <a:pt x="372989" y="52527"/>
                  <a:pt x="354434" y="660"/>
                  <a:pt x="315420" y="0"/>
                </a:cubicBezTo>
                <a:cubicBezTo>
                  <a:pt x="217554" y="-1625"/>
                  <a:pt x="119243" y="7467"/>
                  <a:pt x="21211" y="23622"/>
                </a:cubicBezTo>
                <a:cubicBezTo>
                  <a:pt x="-27822" y="31699"/>
                  <a:pt x="14531" y="78879"/>
                  <a:pt x="47691" y="73418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12124800" y="9089280"/>
            <a:ext cx="61200" cy="111240"/>
          </a:xfrm>
          <a:custGeom>
            <a:avLst/>
            <a:gdLst>
              <a:gd name="textAreaLeft" fmla="*/ 0 w 61200"/>
              <a:gd name="textAreaRight" fmla="*/ 61560 w 612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61556" h="111759">
                <a:moveTo>
                  <a:pt x="19227" y="16154"/>
                </a:moveTo>
                <a:lnTo>
                  <a:pt x="27075" y="7848"/>
                </a:lnTo>
                <a:cubicBezTo>
                  <a:pt x="31660" y="3276"/>
                  <a:pt x="38861" y="0"/>
                  <a:pt x="43446" y="0"/>
                </a:cubicBezTo>
                <a:cubicBezTo>
                  <a:pt x="48246" y="0"/>
                  <a:pt x="55447" y="3492"/>
                  <a:pt x="61556" y="10693"/>
                </a:cubicBezTo>
                <a:lnTo>
                  <a:pt x="52615" y="23355"/>
                </a:lnTo>
                <a:cubicBezTo>
                  <a:pt x="47814" y="20954"/>
                  <a:pt x="43002" y="18770"/>
                  <a:pt x="37985" y="18770"/>
                </a:cubicBezTo>
                <a:cubicBezTo>
                  <a:pt x="27939" y="18770"/>
                  <a:pt x="19659" y="28803"/>
                  <a:pt x="19659" y="53047"/>
                </a:cubicBezTo>
                <a:lnTo>
                  <a:pt x="19659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227" y="2616"/>
                </a:lnTo>
                <a:lnTo>
                  <a:pt x="19227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12200040" y="909180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12364200" y="9091800"/>
            <a:ext cx="19440" cy="108720"/>
          </a:xfrm>
          <a:custGeom>
            <a:avLst/>
            <a:gdLst>
              <a:gd name="textAreaLeft" fmla="*/ 0 w 19440"/>
              <a:gd name="textAreaRight" fmla="*/ 19800 w 19440"/>
              <a:gd name="textAreaTop" fmla="*/ 0 h 108720"/>
              <a:gd name="textAreaBottom" fmla="*/ 109080 h 108720"/>
            </a:gdLst>
            <a:ahLst/>
            <a:rect l="textAreaLeft" t="textAreaTop" r="textAreaRight" b="textAreaBottom"/>
            <a:pathLst>
              <a:path w="19646" h="109143">
                <a:moveTo>
                  <a:pt x="9823" y="0"/>
                </a:moveTo>
                <a:lnTo>
                  <a:pt x="9823" y="109143"/>
                </a:lnTo>
              </a:path>
            </a:pathLst>
          </a:custGeom>
          <a:noFill/>
          <a:ln w="12700">
            <a:solidFill>
              <a:srgbClr val="e1e2e3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12405240" y="9089280"/>
            <a:ext cx="95040" cy="111240"/>
          </a:xfrm>
          <a:custGeom>
            <a:avLst/>
            <a:gdLst>
              <a:gd name="textAreaLeft" fmla="*/ 0 w 95040"/>
              <a:gd name="textAreaRight" fmla="*/ 95400 w 950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95402" h="111759">
                <a:moveTo>
                  <a:pt x="19443" y="16154"/>
                </a:moveTo>
                <a:cubicBezTo>
                  <a:pt x="29692" y="5232"/>
                  <a:pt x="45415" y="0"/>
                  <a:pt x="56769" y="0"/>
                </a:cubicBezTo>
                <a:cubicBezTo>
                  <a:pt x="81877" y="0"/>
                  <a:pt x="95402" y="13957"/>
                  <a:pt x="95402" y="41478"/>
                </a:cubicBezTo>
                <a:lnTo>
                  <a:pt x="95402" y="111759"/>
                </a:lnTo>
                <a:lnTo>
                  <a:pt x="75755" y="111759"/>
                </a:lnTo>
                <a:lnTo>
                  <a:pt x="75755" y="45605"/>
                </a:lnTo>
                <a:cubicBezTo>
                  <a:pt x="75755" y="25095"/>
                  <a:pt x="67030" y="14414"/>
                  <a:pt x="49339" y="14414"/>
                </a:cubicBezTo>
                <a:cubicBezTo>
                  <a:pt x="33845" y="14414"/>
                  <a:pt x="19660" y="25095"/>
                  <a:pt x="19660" y="46049"/>
                </a:cubicBezTo>
                <a:lnTo>
                  <a:pt x="19660" y="111759"/>
                </a:lnTo>
                <a:lnTo>
                  <a:pt x="0" y="111759"/>
                </a:lnTo>
                <a:lnTo>
                  <a:pt x="0" y="2616"/>
                </a:lnTo>
                <a:lnTo>
                  <a:pt x="19443" y="2616"/>
                </a:lnTo>
                <a:lnTo>
                  <a:pt x="19443" y="16154"/>
                </a:lnTo>
              </a:path>
            </a:pathLst>
          </a:custGeom>
          <a:solidFill>
            <a:srgbClr val="e1e2e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12522960" y="909612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39">
                <a:moveTo>
                  <a:pt x="13982" y="0"/>
                </a:moveTo>
                <a:cubicBezTo>
                  <a:pt x="21399" y="0"/>
                  <a:pt x="27939" y="6539"/>
                  <a:pt x="27939" y="13969"/>
                </a:cubicBezTo>
                <a:cubicBezTo>
                  <a:pt x="27939" y="21170"/>
                  <a:pt x="21399" y="27939"/>
                  <a:pt x="14198" y="27939"/>
                </a:cubicBezTo>
                <a:cubicBezTo>
                  <a:pt x="6565" y="27939"/>
                  <a:pt x="0" y="21614"/>
                  <a:pt x="0" y="13969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12522960" y="9175680"/>
            <a:ext cx="27720" cy="27720"/>
          </a:xfrm>
          <a:custGeom>
            <a:avLst/>
            <a:gdLst>
              <a:gd name="textAreaLeft" fmla="*/ 0 w 27720"/>
              <a:gd name="textAreaRight" fmla="*/ 28080 w 27720"/>
              <a:gd name="textAreaTop" fmla="*/ 0 h 27720"/>
              <a:gd name="textAreaBottom" fmla="*/ 28080 h 27720"/>
            </a:gdLst>
            <a:ahLst/>
            <a:rect l="textAreaLeft" t="textAreaTop" r="textAreaRight" b="textAreaBottom"/>
            <a:pathLst>
              <a:path w="27939" h="27926">
                <a:moveTo>
                  <a:pt x="13982" y="0"/>
                </a:moveTo>
                <a:cubicBezTo>
                  <a:pt x="21399" y="0"/>
                  <a:pt x="27939" y="6540"/>
                  <a:pt x="27939" y="13957"/>
                </a:cubicBezTo>
                <a:cubicBezTo>
                  <a:pt x="27939" y="21170"/>
                  <a:pt x="21399" y="27927"/>
                  <a:pt x="14198" y="27927"/>
                </a:cubicBezTo>
                <a:cubicBezTo>
                  <a:pt x="6565" y="27927"/>
                  <a:pt x="0" y="21602"/>
                  <a:pt x="0" y="13957"/>
                </a:cubicBezTo>
                <a:cubicBezTo>
                  <a:pt x="0" y="6324"/>
                  <a:pt x="6565" y="0"/>
                  <a:pt x="13982" y="0"/>
                </a:cubicBezTo>
              </a:path>
            </a:pathLst>
          </a:custGeom>
          <a:solidFill>
            <a:srgbClr val="31425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443520" y="8913960"/>
            <a:ext cx="12108240" cy="18720"/>
          </a:xfrm>
          <a:custGeom>
            <a:avLst/>
            <a:gdLst>
              <a:gd name="textAreaLeft" fmla="*/ 0 w 12108240"/>
              <a:gd name="textAreaRight" fmla="*/ 12108600 w 121082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12108700" h="19050">
                <a:moveTo>
                  <a:pt x="6350" y="6350"/>
                </a:moveTo>
                <a:lnTo>
                  <a:pt x="12102350" y="6350"/>
                </a:lnTo>
              </a:path>
            </a:pathLst>
          </a:custGeom>
          <a:noFill/>
          <a:ln w="12700">
            <a:solidFill>
              <a:srgbClr val="c7c9c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7112520" y="1320120"/>
            <a:ext cx="1205280" cy="604440"/>
          </a:xfrm>
          <a:custGeom>
            <a:avLst/>
            <a:gdLst>
              <a:gd name="textAreaLeft" fmla="*/ 0 w 1205280"/>
              <a:gd name="textAreaRight" fmla="*/ 1205640 w 1205280"/>
              <a:gd name="textAreaTop" fmla="*/ 0 h 604440"/>
              <a:gd name="textAreaBottom" fmla="*/ 604800 h 604440"/>
            </a:gdLst>
            <a:ahLst/>
            <a:rect l="textAreaLeft" t="textAreaTop" r="textAreaRight" b="textAreaBottom"/>
            <a:pathLst>
              <a:path w="1205648" h="604888">
                <a:moveTo>
                  <a:pt x="355751" y="554862"/>
                </a:moveTo>
                <a:cubicBezTo>
                  <a:pt x="378955" y="439623"/>
                  <a:pt x="480758" y="352856"/>
                  <a:pt x="602830" y="352856"/>
                </a:cubicBezTo>
                <a:cubicBezTo>
                  <a:pt x="724890" y="352856"/>
                  <a:pt x="826706" y="439623"/>
                  <a:pt x="849909" y="554862"/>
                </a:cubicBezTo>
                <a:cubicBezTo>
                  <a:pt x="855433" y="582320"/>
                  <a:pt x="877290" y="604888"/>
                  <a:pt x="905281" y="604888"/>
                </a:cubicBezTo>
                <a:lnTo>
                  <a:pt x="1157325" y="604888"/>
                </a:lnTo>
                <a:cubicBezTo>
                  <a:pt x="1185074" y="604888"/>
                  <a:pt x="1207934" y="582193"/>
                  <a:pt x="1205648" y="554507"/>
                </a:cubicBezTo>
                <a:cubicBezTo>
                  <a:pt x="1180058" y="244005"/>
                  <a:pt x="919936" y="0"/>
                  <a:pt x="602830" y="0"/>
                </a:cubicBezTo>
                <a:cubicBezTo>
                  <a:pt x="285712" y="0"/>
                  <a:pt x="25589" y="244005"/>
                  <a:pt x="0" y="554507"/>
                </a:cubicBezTo>
                <a:cubicBezTo>
                  <a:pt x="-2285" y="582193"/>
                  <a:pt x="20573" y="604888"/>
                  <a:pt x="48335" y="604888"/>
                </a:cubicBezTo>
                <a:lnTo>
                  <a:pt x="300380" y="604888"/>
                </a:lnTo>
                <a:cubicBezTo>
                  <a:pt x="328383" y="604888"/>
                  <a:pt x="350227" y="582320"/>
                  <a:pt x="355751" y="554862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8067960" y="1493640"/>
            <a:ext cx="78120" cy="78120"/>
          </a:xfrm>
          <a:custGeom>
            <a:avLst/>
            <a:gdLst>
              <a:gd name="textAreaLeft" fmla="*/ 0 w 78120"/>
              <a:gd name="textAreaRight" fmla="*/ 78480 w 78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78409" h="78409">
                <a:moveTo>
                  <a:pt x="71272" y="0"/>
                </a:moveTo>
                <a:lnTo>
                  <a:pt x="0" y="71285"/>
                </a:lnTo>
                <a:lnTo>
                  <a:pt x="7124" y="78409"/>
                </a:lnTo>
                <a:lnTo>
                  <a:pt x="78409" y="7137"/>
                </a:lnTo>
                <a:cubicBezTo>
                  <a:pt x="76047" y="4737"/>
                  <a:pt x="73672" y="2362"/>
                  <a:pt x="71272" y="0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7283880" y="1493640"/>
            <a:ext cx="78120" cy="78120"/>
          </a:xfrm>
          <a:custGeom>
            <a:avLst/>
            <a:gdLst>
              <a:gd name="textAreaLeft" fmla="*/ 0 w 78120"/>
              <a:gd name="textAreaRight" fmla="*/ 78480 w 7812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78422" h="78422">
                <a:moveTo>
                  <a:pt x="0" y="7137"/>
                </a:moveTo>
                <a:lnTo>
                  <a:pt x="71297" y="78422"/>
                </a:lnTo>
                <a:lnTo>
                  <a:pt x="78422" y="71285"/>
                </a:lnTo>
                <a:lnTo>
                  <a:pt x="7124" y="0"/>
                </a:lnTo>
                <a:cubicBezTo>
                  <a:pt x="4724" y="2374"/>
                  <a:pt x="2361" y="4737"/>
                  <a:pt x="0" y="7137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7710120" y="1320120"/>
            <a:ext cx="9720" cy="365400"/>
          </a:xfrm>
          <a:custGeom>
            <a:avLst/>
            <a:gdLst>
              <a:gd name="textAreaLeft" fmla="*/ 0 w 9720"/>
              <a:gd name="textAreaRight" fmla="*/ 10080 w 97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10083" h="365798">
                <a:moveTo>
                  <a:pt x="0" y="63"/>
                </a:moveTo>
                <a:lnTo>
                  <a:pt x="0" y="365798"/>
                </a:lnTo>
                <a:lnTo>
                  <a:pt x="10083" y="365798"/>
                </a:lnTo>
                <a:lnTo>
                  <a:pt x="10083" y="63"/>
                </a:lnTo>
                <a:cubicBezTo>
                  <a:pt x="8394" y="50"/>
                  <a:pt x="6718" y="0"/>
                  <a:pt x="5029" y="0"/>
                </a:cubicBezTo>
                <a:cubicBezTo>
                  <a:pt x="3353" y="0"/>
                  <a:pt x="1676" y="50"/>
                  <a:pt x="0" y="63"/>
                </a:cubicBezTo>
              </a:path>
            </a:pathLst>
          </a:custGeom>
          <a:solidFill>
            <a:srgbClr val="40546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7439760" y="1402920"/>
            <a:ext cx="34560" cy="53280"/>
          </a:xfrm>
          <a:custGeom>
            <a:avLst/>
            <a:gdLst>
              <a:gd name="textAreaLeft" fmla="*/ 0 w 34560"/>
              <a:gd name="textAreaRight" fmla="*/ 34920 w 34560"/>
              <a:gd name="textAreaTop" fmla="*/ 0 h 53280"/>
              <a:gd name="textAreaBottom" fmla="*/ 53640 h 53280"/>
            </a:gdLst>
            <a:ahLst/>
            <a:rect l="textAreaLeft" t="textAreaTop" r="textAreaRight" b="textAreaBottom"/>
            <a:pathLst>
              <a:path w="34797" h="53517">
                <a:moveTo>
                  <a:pt x="8928" y="15608"/>
                </a:moveTo>
                <a:lnTo>
                  <a:pt x="15239" y="27876"/>
                </a:lnTo>
                <a:lnTo>
                  <a:pt x="31978" y="19265"/>
                </a:lnTo>
                <a:lnTo>
                  <a:pt x="34797" y="24752"/>
                </a:lnTo>
                <a:lnTo>
                  <a:pt x="18059" y="33362"/>
                </a:lnTo>
                <a:lnTo>
                  <a:pt x="26822" y="50380"/>
                </a:lnTo>
                <a:lnTo>
                  <a:pt x="20713" y="53517"/>
                </a:lnTo>
                <a:lnTo>
                  <a:pt x="0" y="13271"/>
                </a:lnTo>
                <a:lnTo>
                  <a:pt x="25780" y="0"/>
                </a:lnTo>
                <a:lnTo>
                  <a:pt x="28612" y="5486"/>
                </a:lnTo>
                <a:lnTo>
                  <a:pt x="8928" y="1560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8640" bIns="8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7504920" y="1383840"/>
            <a:ext cx="22320" cy="44280"/>
          </a:xfrm>
          <a:custGeom>
            <a:avLst/>
            <a:gdLst>
              <a:gd name="textAreaLeft" fmla="*/ 0 w 22320"/>
              <a:gd name="textAreaRight" fmla="*/ 22680 w 22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2631" h="44729">
                <a:moveTo>
                  <a:pt x="16218" y="44729"/>
                </a:moveTo>
                <a:lnTo>
                  <a:pt x="0" y="2451"/>
                </a:lnTo>
                <a:lnTo>
                  <a:pt x="6413" y="0"/>
                </a:lnTo>
                <a:lnTo>
                  <a:pt x="22631" y="42265"/>
                </a:lnTo>
                <a:lnTo>
                  <a:pt x="16218" y="4472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7852680" y="1369440"/>
            <a:ext cx="35640" cy="43920"/>
          </a:xfrm>
          <a:custGeom>
            <a:avLst/>
            <a:gdLst>
              <a:gd name="textAreaLeft" fmla="*/ 0 w 35640"/>
              <a:gd name="textAreaRight" fmla="*/ 36000 w 35640"/>
              <a:gd name="textAreaTop" fmla="*/ 0 h 43920"/>
              <a:gd name="textAreaBottom" fmla="*/ 44280 h 43920"/>
            </a:gdLst>
            <a:ahLst/>
            <a:rect l="textAreaLeft" t="textAreaTop" r="textAreaRight" b="textAreaBottom"/>
            <a:pathLst>
              <a:path w="35953" h="44157">
                <a:moveTo>
                  <a:pt x="24930" y="42570"/>
                </a:moveTo>
                <a:cubicBezTo>
                  <a:pt x="20942" y="44932"/>
                  <a:pt x="16268" y="45491"/>
                  <a:pt x="11620" y="44157"/>
                </a:cubicBezTo>
                <a:cubicBezTo>
                  <a:pt x="7175" y="42862"/>
                  <a:pt x="3670" y="40119"/>
                  <a:pt x="1549" y="36207"/>
                </a:cubicBezTo>
                <a:cubicBezTo>
                  <a:pt x="139" y="33540"/>
                  <a:pt x="-393" y="30606"/>
                  <a:pt x="0" y="27876"/>
                </a:cubicBezTo>
                <a:cubicBezTo>
                  <a:pt x="292" y="25514"/>
                  <a:pt x="1079" y="22097"/>
                  <a:pt x="2399" y="17525"/>
                </a:cubicBezTo>
                <a:lnTo>
                  <a:pt x="2920" y="15760"/>
                </a:lnTo>
                <a:cubicBezTo>
                  <a:pt x="5232" y="7759"/>
                  <a:pt x="7086" y="3860"/>
                  <a:pt x="11671" y="1282"/>
                </a:cubicBezTo>
                <a:cubicBezTo>
                  <a:pt x="15633" y="-952"/>
                  <a:pt x="19913" y="-1358"/>
                  <a:pt x="24624" y="0"/>
                </a:cubicBezTo>
                <a:cubicBezTo>
                  <a:pt x="27355" y="787"/>
                  <a:pt x="29476" y="1943"/>
                  <a:pt x="31191" y="3365"/>
                </a:cubicBezTo>
                <a:cubicBezTo>
                  <a:pt x="33045" y="4965"/>
                  <a:pt x="34175" y="6540"/>
                  <a:pt x="35953" y="9499"/>
                </a:cubicBezTo>
                <a:lnTo>
                  <a:pt x="30149" y="12661"/>
                </a:lnTo>
                <a:cubicBezTo>
                  <a:pt x="28854" y="10299"/>
                  <a:pt x="27964" y="8978"/>
                  <a:pt x="26479" y="7759"/>
                </a:cubicBezTo>
                <a:cubicBezTo>
                  <a:pt x="25565" y="7023"/>
                  <a:pt x="24294" y="6324"/>
                  <a:pt x="22834" y="5905"/>
                </a:cubicBezTo>
                <a:cubicBezTo>
                  <a:pt x="18630" y="4686"/>
                  <a:pt x="14452" y="6057"/>
                  <a:pt x="12382" y="10020"/>
                </a:cubicBezTo>
                <a:cubicBezTo>
                  <a:pt x="11214" y="12255"/>
                  <a:pt x="10211" y="15481"/>
                  <a:pt x="9055" y="19456"/>
                </a:cubicBezTo>
                <a:lnTo>
                  <a:pt x="8661" y="20853"/>
                </a:lnTo>
                <a:cubicBezTo>
                  <a:pt x="6501" y="28295"/>
                  <a:pt x="6235" y="31000"/>
                  <a:pt x="7632" y="33731"/>
                </a:cubicBezTo>
                <a:cubicBezTo>
                  <a:pt x="8788" y="35915"/>
                  <a:pt x="10782" y="37490"/>
                  <a:pt x="13347" y="38226"/>
                </a:cubicBezTo>
                <a:cubicBezTo>
                  <a:pt x="16205" y="39065"/>
                  <a:pt x="19050" y="38620"/>
                  <a:pt x="21272" y="37147"/>
                </a:cubicBezTo>
                <a:cubicBezTo>
                  <a:pt x="23177" y="35788"/>
                  <a:pt x="24472" y="33845"/>
                  <a:pt x="25324" y="30911"/>
                </a:cubicBezTo>
                <a:lnTo>
                  <a:pt x="26022" y="28524"/>
                </a:lnTo>
                <a:lnTo>
                  <a:pt x="16916" y="25895"/>
                </a:lnTo>
                <a:lnTo>
                  <a:pt x="18554" y="20281"/>
                </a:lnTo>
                <a:lnTo>
                  <a:pt x="34226" y="24828"/>
                </a:lnTo>
                <a:lnTo>
                  <a:pt x="32321" y="31419"/>
                </a:lnTo>
                <a:cubicBezTo>
                  <a:pt x="30632" y="37274"/>
                  <a:pt x="28537" y="40386"/>
                  <a:pt x="24930" y="4257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8129160" y="1561680"/>
            <a:ext cx="53280" cy="50400"/>
          </a:xfrm>
          <a:custGeom>
            <a:avLst/>
            <a:gdLst>
              <a:gd name="textAreaLeft" fmla="*/ 0 w 53280"/>
              <a:gd name="textAreaRight" fmla="*/ 53640 w 5328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53555" h="50596">
                <a:moveTo>
                  <a:pt x="0" y="27622"/>
                </a:moveTo>
                <a:lnTo>
                  <a:pt x="35864" y="0"/>
                </a:lnTo>
                <a:lnTo>
                  <a:pt x="53555" y="22961"/>
                </a:lnTo>
                <a:lnTo>
                  <a:pt x="48653" y="26733"/>
                </a:lnTo>
                <a:lnTo>
                  <a:pt x="35153" y="9194"/>
                </a:lnTo>
                <a:lnTo>
                  <a:pt x="24676" y="17272"/>
                </a:lnTo>
                <a:lnTo>
                  <a:pt x="36182" y="32181"/>
                </a:lnTo>
                <a:lnTo>
                  <a:pt x="31343" y="35902"/>
                </a:lnTo>
                <a:lnTo>
                  <a:pt x="19837" y="21005"/>
                </a:lnTo>
                <a:lnTo>
                  <a:pt x="9080" y="29298"/>
                </a:lnTo>
                <a:lnTo>
                  <a:pt x="22580" y="46824"/>
                </a:lnTo>
                <a:lnTo>
                  <a:pt x="17691" y="50596"/>
                </a:lnTo>
                <a:lnTo>
                  <a:pt x="0" y="27622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8147880" y="1588680"/>
            <a:ext cx="56520" cy="53640"/>
          </a:xfrm>
          <a:custGeom>
            <a:avLst/>
            <a:gdLst>
              <a:gd name="textAreaLeft" fmla="*/ 0 w 56520"/>
              <a:gd name="textAreaRight" fmla="*/ 56880 w 5652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6832" h="53962">
                <a:moveTo>
                  <a:pt x="15367" y="47371"/>
                </a:moveTo>
                <a:lnTo>
                  <a:pt x="24269" y="29502"/>
                </a:lnTo>
                <a:lnTo>
                  <a:pt x="4368" y="31013"/>
                </a:lnTo>
                <a:lnTo>
                  <a:pt x="0" y="24536"/>
                </a:lnTo>
                <a:lnTo>
                  <a:pt x="27037" y="23126"/>
                </a:lnTo>
                <a:lnTo>
                  <a:pt x="38048" y="0"/>
                </a:lnTo>
                <a:lnTo>
                  <a:pt x="42468" y="6540"/>
                </a:lnTo>
                <a:lnTo>
                  <a:pt x="33972" y="22974"/>
                </a:lnTo>
                <a:lnTo>
                  <a:pt x="52437" y="21374"/>
                </a:lnTo>
                <a:lnTo>
                  <a:pt x="56832" y="27901"/>
                </a:lnTo>
                <a:lnTo>
                  <a:pt x="31229" y="29362"/>
                </a:lnTo>
                <a:lnTo>
                  <a:pt x="19811" y="53962"/>
                </a:lnTo>
                <a:lnTo>
                  <a:pt x="15367" y="47371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8174160" y="1626840"/>
            <a:ext cx="43560" cy="38880"/>
          </a:xfrm>
          <a:custGeom>
            <a:avLst/>
            <a:gdLst>
              <a:gd name="textAreaLeft" fmla="*/ 0 w 43560"/>
              <a:gd name="textAreaRight" fmla="*/ 43920 w 43560"/>
              <a:gd name="textAreaTop" fmla="*/ 0 h 38880"/>
              <a:gd name="textAreaBottom" fmla="*/ 39240 h 38880"/>
            </a:gdLst>
            <a:ahLst/>
            <a:rect l="textAreaLeft" t="textAreaTop" r="textAreaRight" b="textAreaBottom"/>
            <a:pathLst>
              <a:path w="43916" h="39293">
                <a:moveTo>
                  <a:pt x="6375" y="36309"/>
                </a:moveTo>
                <a:cubicBezTo>
                  <a:pt x="4674" y="35026"/>
                  <a:pt x="3200" y="33388"/>
                  <a:pt x="1905" y="31191"/>
                </a:cubicBezTo>
                <a:cubicBezTo>
                  <a:pt x="-495" y="27063"/>
                  <a:pt x="-1168" y="22669"/>
                  <a:pt x="0" y="18376"/>
                </a:cubicBezTo>
                <a:cubicBezTo>
                  <a:pt x="1689" y="12166"/>
                  <a:pt x="7061" y="9169"/>
                  <a:pt x="13487" y="5397"/>
                </a:cubicBezTo>
                <a:cubicBezTo>
                  <a:pt x="13729" y="5181"/>
                  <a:pt x="14821" y="4546"/>
                  <a:pt x="15075" y="4470"/>
                </a:cubicBezTo>
                <a:cubicBezTo>
                  <a:pt x="22263" y="266"/>
                  <a:pt x="26213" y="-1308"/>
                  <a:pt x="31394" y="0"/>
                </a:cubicBezTo>
                <a:cubicBezTo>
                  <a:pt x="35648" y="1117"/>
                  <a:pt x="39230" y="3810"/>
                  <a:pt x="41592" y="7873"/>
                </a:cubicBezTo>
                <a:cubicBezTo>
                  <a:pt x="42926" y="10121"/>
                  <a:pt x="43637" y="12217"/>
                  <a:pt x="43916" y="14325"/>
                </a:cubicBezTo>
                <a:cubicBezTo>
                  <a:pt x="44208" y="16598"/>
                  <a:pt x="44005" y="18402"/>
                  <a:pt x="43357" y="21437"/>
                </a:cubicBezTo>
                <a:lnTo>
                  <a:pt x="37046" y="19837"/>
                </a:lnTo>
                <a:cubicBezTo>
                  <a:pt x="37934" y="16205"/>
                  <a:pt x="37986" y="13893"/>
                  <a:pt x="36284" y="10998"/>
                </a:cubicBezTo>
                <a:cubicBezTo>
                  <a:pt x="34938" y="8686"/>
                  <a:pt x="32918" y="7137"/>
                  <a:pt x="30518" y="6553"/>
                </a:cubicBezTo>
                <a:cubicBezTo>
                  <a:pt x="26772" y="5714"/>
                  <a:pt x="22580" y="8102"/>
                  <a:pt x="17539" y="11061"/>
                </a:cubicBezTo>
                <a:lnTo>
                  <a:pt x="15786" y="12090"/>
                </a:lnTo>
                <a:cubicBezTo>
                  <a:pt x="9093" y="16014"/>
                  <a:pt x="7049" y="17792"/>
                  <a:pt x="6146" y="20815"/>
                </a:cubicBezTo>
                <a:cubicBezTo>
                  <a:pt x="5436" y="23241"/>
                  <a:pt x="5816" y="25653"/>
                  <a:pt x="7201" y="28016"/>
                </a:cubicBezTo>
                <a:cubicBezTo>
                  <a:pt x="8903" y="30924"/>
                  <a:pt x="10947" y="32016"/>
                  <a:pt x="14541" y="33007"/>
                </a:cubicBezTo>
                <a:lnTo>
                  <a:pt x="12865" y="39293"/>
                </a:lnTo>
                <a:cubicBezTo>
                  <a:pt x="9880" y="38392"/>
                  <a:pt x="8204" y="37668"/>
                  <a:pt x="6375" y="36309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760" bIns="-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8185680" y="1653840"/>
            <a:ext cx="53280" cy="45720"/>
          </a:xfrm>
          <a:custGeom>
            <a:avLst/>
            <a:gdLst>
              <a:gd name="textAreaLeft" fmla="*/ 0 w 53280"/>
              <a:gd name="textAreaRight" fmla="*/ 53640 w 5328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53479" h="46240">
                <a:moveTo>
                  <a:pt x="0" y="20319"/>
                </a:moveTo>
                <a:lnTo>
                  <a:pt x="40449" y="0"/>
                </a:lnTo>
                <a:lnTo>
                  <a:pt x="53479" y="25907"/>
                </a:lnTo>
                <a:lnTo>
                  <a:pt x="47942" y="28663"/>
                </a:lnTo>
                <a:lnTo>
                  <a:pt x="38023" y="8902"/>
                </a:lnTo>
                <a:lnTo>
                  <a:pt x="26199" y="14833"/>
                </a:lnTo>
                <a:lnTo>
                  <a:pt x="34657" y="31661"/>
                </a:lnTo>
                <a:lnTo>
                  <a:pt x="29209" y="34391"/>
                </a:lnTo>
                <a:lnTo>
                  <a:pt x="20751" y="17576"/>
                </a:lnTo>
                <a:lnTo>
                  <a:pt x="8597" y="23685"/>
                </a:lnTo>
                <a:lnTo>
                  <a:pt x="18529" y="43459"/>
                </a:lnTo>
                <a:lnTo>
                  <a:pt x="13004" y="46240"/>
                </a:lnTo>
                <a:lnTo>
                  <a:pt x="0" y="2031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8201520" y="1688400"/>
            <a:ext cx="43920" cy="43560"/>
          </a:xfrm>
          <a:custGeom>
            <a:avLst/>
            <a:gdLst>
              <a:gd name="textAreaLeft" fmla="*/ 0 w 43920"/>
              <a:gd name="textAreaRight" fmla="*/ 44280 w 43920"/>
              <a:gd name="textAreaTop" fmla="*/ 0 h 43560"/>
              <a:gd name="textAreaBottom" fmla="*/ 43920 h 43560"/>
            </a:gdLst>
            <a:ahLst/>
            <a:rect l="textAreaLeft" t="textAreaTop" r="textAreaRight" b="textAreaBottom"/>
            <a:pathLst>
              <a:path w="44361" h="44030">
                <a:moveTo>
                  <a:pt x="0" y="17614"/>
                </a:moveTo>
                <a:lnTo>
                  <a:pt x="41694" y="0"/>
                </a:lnTo>
                <a:lnTo>
                  <a:pt x="44361" y="6324"/>
                </a:lnTo>
                <a:lnTo>
                  <a:pt x="8356" y="21539"/>
                </a:lnTo>
                <a:lnTo>
                  <a:pt x="16827" y="41630"/>
                </a:lnTo>
                <a:lnTo>
                  <a:pt x="11150" y="44030"/>
                </a:lnTo>
                <a:lnTo>
                  <a:pt x="0" y="1761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8214120" y="1722240"/>
            <a:ext cx="44640" cy="41760"/>
          </a:xfrm>
          <a:custGeom>
            <a:avLst/>
            <a:gdLst>
              <a:gd name="textAreaLeft" fmla="*/ 0 w 44640"/>
              <a:gd name="textAreaRight" fmla="*/ 45000 w 44640"/>
              <a:gd name="textAreaTop" fmla="*/ 0 h 41760"/>
              <a:gd name="textAreaBottom" fmla="*/ 42120 h 41760"/>
            </a:gdLst>
            <a:ahLst/>
            <a:rect l="textAreaLeft" t="textAreaTop" r="textAreaRight" b="textAreaBottom"/>
            <a:pathLst>
              <a:path w="45009" h="42024">
                <a:moveTo>
                  <a:pt x="0" y="14960"/>
                </a:moveTo>
                <a:lnTo>
                  <a:pt x="42736" y="0"/>
                </a:lnTo>
                <a:lnTo>
                  <a:pt x="45008" y="6489"/>
                </a:lnTo>
                <a:lnTo>
                  <a:pt x="8102" y="19405"/>
                </a:lnTo>
                <a:lnTo>
                  <a:pt x="15303" y="39992"/>
                </a:lnTo>
                <a:lnTo>
                  <a:pt x="9474" y="42024"/>
                </a:lnTo>
                <a:lnTo>
                  <a:pt x="0" y="1496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8224920" y="1756800"/>
            <a:ext cx="51120" cy="39600"/>
          </a:xfrm>
          <a:custGeom>
            <a:avLst/>
            <a:gdLst>
              <a:gd name="textAreaLeft" fmla="*/ 0 w 51120"/>
              <a:gd name="textAreaRight" fmla="*/ 51480 w 5112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51385" h="40068">
                <a:moveTo>
                  <a:pt x="0" y="12128"/>
                </a:moveTo>
                <a:lnTo>
                  <a:pt x="43625" y="0"/>
                </a:lnTo>
                <a:lnTo>
                  <a:pt x="51384" y="27939"/>
                </a:lnTo>
                <a:lnTo>
                  <a:pt x="45428" y="29591"/>
                </a:lnTo>
                <a:lnTo>
                  <a:pt x="39497" y="8267"/>
                </a:lnTo>
                <a:lnTo>
                  <a:pt x="26759" y="11823"/>
                </a:lnTo>
                <a:lnTo>
                  <a:pt x="31813" y="29946"/>
                </a:lnTo>
                <a:lnTo>
                  <a:pt x="25920" y="31584"/>
                </a:lnTo>
                <a:lnTo>
                  <a:pt x="20891" y="13449"/>
                </a:lnTo>
                <a:lnTo>
                  <a:pt x="7759" y="17094"/>
                </a:lnTo>
                <a:lnTo>
                  <a:pt x="13703" y="38430"/>
                </a:lnTo>
                <a:lnTo>
                  <a:pt x="7747" y="40068"/>
                </a:lnTo>
                <a:lnTo>
                  <a:pt x="0" y="1212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8234280" y="1794600"/>
            <a:ext cx="50760" cy="41760"/>
          </a:xfrm>
          <a:custGeom>
            <a:avLst/>
            <a:gdLst>
              <a:gd name="textAreaLeft" fmla="*/ 0 w 50760"/>
              <a:gd name="textAreaRight" fmla="*/ 51120 w 50760"/>
              <a:gd name="textAreaTop" fmla="*/ 0 h 41760"/>
              <a:gd name="textAreaBottom" fmla="*/ 42120 h 41760"/>
            </a:gdLst>
            <a:ahLst/>
            <a:rect l="textAreaLeft" t="textAreaTop" r="textAreaRight" b="textAreaBottom"/>
            <a:pathLst>
              <a:path w="51054" h="42214">
                <a:moveTo>
                  <a:pt x="5422" y="36093"/>
                </a:moveTo>
                <a:lnTo>
                  <a:pt x="32652" y="9347"/>
                </a:lnTo>
                <a:lnTo>
                  <a:pt x="1346" y="15582"/>
                </a:lnTo>
                <a:lnTo>
                  <a:pt x="0" y="8851"/>
                </a:lnTo>
                <a:lnTo>
                  <a:pt x="44399" y="0"/>
                </a:lnTo>
                <a:lnTo>
                  <a:pt x="45618" y="6108"/>
                </a:lnTo>
                <a:lnTo>
                  <a:pt x="18453" y="32854"/>
                </a:lnTo>
                <a:lnTo>
                  <a:pt x="49707" y="26631"/>
                </a:lnTo>
                <a:lnTo>
                  <a:pt x="51054" y="33362"/>
                </a:lnTo>
                <a:lnTo>
                  <a:pt x="6655" y="42214"/>
                </a:lnTo>
                <a:lnTo>
                  <a:pt x="5422" y="3609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8243280" y="1836360"/>
            <a:ext cx="46800" cy="32040"/>
          </a:xfrm>
          <a:custGeom>
            <a:avLst/>
            <a:gdLst>
              <a:gd name="textAreaLeft" fmla="*/ 0 w 46800"/>
              <a:gd name="textAreaRight" fmla="*/ 47160 w 46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47307" h="32308">
                <a:moveTo>
                  <a:pt x="39637" y="19926"/>
                </a:moveTo>
                <a:lnTo>
                  <a:pt x="851" y="24815"/>
                </a:lnTo>
                <a:lnTo>
                  <a:pt x="0" y="17995"/>
                </a:lnTo>
                <a:lnTo>
                  <a:pt x="38773" y="13119"/>
                </a:lnTo>
                <a:lnTo>
                  <a:pt x="37224" y="761"/>
                </a:lnTo>
                <a:lnTo>
                  <a:pt x="43345" y="0"/>
                </a:lnTo>
                <a:lnTo>
                  <a:pt x="47307" y="31521"/>
                </a:lnTo>
                <a:lnTo>
                  <a:pt x="41185" y="32308"/>
                </a:lnTo>
                <a:lnTo>
                  <a:pt x="39637" y="19926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7706520" y="1302120"/>
            <a:ext cx="35280" cy="397800"/>
          </a:xfrm>
          <a:custGeom>
            <a:avLst/>
            <a:gdLst>
              <a:gd name="textAreaLeft" fmla="*/ 0 w 35280"/>
              <a:gd name="textAreaRight" fmla="*/ 35640 w 35280"/>
              <a:gd name="textAreaTop" fmla="*/ 0 h 397800"/>
              <a:gd name="textAreaBottom" fmla="*/ 398160 h 397800"/>
            </a:gdLst>
            <a:ahLst/>
            <a:rect l="textAreaLeft" t="textAreaTop" r="textAreaRight" b="textAreaBottom"/>
            <a:pathLst>
              <a:path w="35559" h="398322">
                <a:moveTo>
                  <a:pt x="8890" y="8889"/>
                </a:moveTo>
                <a:lnTo>
                  <a:pt x="8890" y="389432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7270920" y="1479960"/>
            <a:ext cx="286560" cy="286560"/>
          </a:xfrm>
          <a:custGeom>
            <a:avLst/>
            <a:gdLst>
              <a:gd name="textAreaLeft" fmla="*/ 0 w 286560"/>
              <a:gd name="textAreaRight" fmla="*/ 286920 w 286560"/>
              <a:gd name="textAreaTop" fmla="*/ 0 h 286560"/>
              <a:gd name="textAreaBottom" fmla="*/ 286920 h 286560"/>
            </a:gdLst>
            <a:ahLst/>
            <a:rect l="textAreaLeft" t="textAreaTop" r="textAreaRight" b="textAreaBottom"/>
            <a:pathLst>
              <a:path w="286867" h="286867">
                <a:moveTo>
                  <a:pt x="8890" y="8889"/>
                </a:moveTo>
                <a:lnTo>
                  <a:pt x="277977" y="277977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7872120" y="1483560"/>
            <a:ext cx="286560" cy="286560"/>
          </a:xfrm>
          <a:custGeom>
            <a:avLst/>
            <a:gdLst>
              <a:gd name="textAreaLeft" fmla="*/ 0 w 286560"/>
              <a:gd name="textAreaRight" fmla="*/ 286920 w 286560"/>
              <a:gd name="textAreaTop" fmla="*/ 0 h 286560"/>
              <a:gd name="textAreaBottom" fmla="*/ 286920 h 286560"/>
            </a:gdLst>
            <a:ahLst/>
            <a:rect l="textAreaLeft" t="textAreaTop" r="textAreaRight" b="textAreaBottom"/>
            <a:pathLst>
              <a:path w="286854" h="286880">
                <a:moveTo>
                  <a:pt x="277964" y="8889"/>
                </a:moveTo>
                <a:lnTo>
                  <a:pt x="8890" y="277990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7137360" y="1359000"/>
            <a:ext cx="1091880" cy="622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2"/>
          <a:stretch/>
        </p:blipFill>
        <p:spPr>
          <a:xfrm>
            <a:off x="9207360" y="4863960"/>
            <a:ext cx="2869920" cy="3733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3"/>
          <a:stretch/>
        </p:blipFill>
        <p:spPr>
          <a:xfrm>
            <a:off x="11937960" y="9029880"/>
            <a:ext cx="177480" cy="190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4"/>
          <a:stretch/>
        </p:blipFill>
        <p:spPr>
          <a:xfrm>
            <a:off x="12230280" y="9080640"/>
            <a:ext cx="126720" cy="1900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"/>
          <p:cNvSpPr/>
          <p:nvPr/>
        </p:nvSpPr>
        <p:spPr>
          <a:xfrm>
            <a:off x="1146240" y="4025880"/>
            <a:ext cx="61398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601"/>
              </a:lnSpc>
            </a:pPr>
            <a:r>
              <a:rPr b="1" lang="en-US" sz="8000" spc="-1" strike="noStrike">
                <a:solidFill>
                  <a:srgbClr val="314251"/>
                </a:solidFill>
                <a:latin typeface="Times New Roman"/>
              </a:rPr>
              <a:t>Post-purchas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1058040" y="5765760"/>
            <a:ext cx="64814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3801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ost-purch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uphor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uccessfu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t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mirro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oub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ehal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y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Validat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y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ecis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rovid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th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urth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sight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purchas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l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ncre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i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atisfac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leve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8621640" y="1206360"/>
            <a:ext cx="2504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70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experi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as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up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fe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h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</a:pP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be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14251"/>
                </a:solidFill>
                <a:latin typeface="Times New Roman"/>
              </a:rPr>
              <a:t>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808560" y="9029880"/>
            <a:ext cx="25984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500"/>
              </a:lnSpc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a4b314"/>
                </a:solidFill>
                <a:latin typeface="Times New Roman"/>
              </a:rPr>
              <a:t>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4">
            <a:hlinkClick r:id="rId1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"/>
          <p:cNvSpPr/>
          <p:nvPr/>
        </p:nvSpPr>
        <p:spPr>
          <a:xfrm>
            <a:off x="762120" y="9042480"/>
            <a:ext cx="16498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ergis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and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engaging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2B</a:t>
            </a:r>
            <a:r>
              <a:rPr b="0" lang="en-US" sz="85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850" spc="-1" strike="noStrike">
                <a:solidFill>
                  <a:srgbClr val="314251"/>
                </a:solidFill>
                <a:latin typeface="Times New Roman"/>
              </a:rPr>
              <a:t>brands</a:t>
            </a:r>
            <a:endParaRPr b="0" lang="en-US" sz="8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792720" y="380880"/>
            <a:ext cx="11748960" cy="65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  <a:tabLst>
                <a:tab algn="l" pos="11531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314251"/>
                </a:solidFill>
                <a:latin typeface="Times New Roman"/>
              </a:rPr>
              <a:t>0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7799"/>
              </a:lnSpc>
              <a:tabLst>
                <a:tab algn="l" pos="11531520"/>
              </a:tabLst>
            </a:pPr>
            <a:r>
              <a:rPr b="1" lang="en-US" sz="10380" spc="-1" strike="noStrike">
                <a:solidFill>
                  <a:srgbClr val="a4b314"/>
                </a:solidFill>
                <a:latin typeface="Times New Roman"/>
              </a:rPr>
              <a:t>Growth</a:t>
            </a:r>
            <a:endParaRPr b="0" lang="en-US" sz="1038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You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relationshi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ha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deepen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lo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journey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o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ve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mor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so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80%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asi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wi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busines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11531520"/>
              </a:tabLst>
            </a:pP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existi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custom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ha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t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recrui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ne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314251"/>
                </a:solidFill>
                <a:latin typeface="Times New Roman"/>
              </a:rPr>
              <a:t>o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1531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11531520"/>
              </a:tabLst>
            </a:pP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To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thr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etri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us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11531520"/>
              </a:tabLst>
            </a:pP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easu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mark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a4b314"/>
                </a:solidFill>
                <a:latin typeface="Times New Roman"/>
              </a:rPr>
              <a:t>sucess*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1118160" y="7899480"/>
            <a:ext cx="366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5076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Web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50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traff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2048760" y="7873920"/>
            <a:ext cx="461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8892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al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l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2921760" y="7899480"/>
            <a:ext cx="595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00"/>
              </a:lnSpc>
              <a:tabLst>
                <a:tab algn="l" pos="139680"/>
              </a:tabLst>
            </a:pP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oci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m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13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314251"/>
                </a:solidFill>
                <a:latin typeface="Times New Roman"/>
              </a:rPr>
              <a:t>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9838800" y="7873920"/>
            <a:ext cx="242028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3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2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Benchmark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20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</a:pP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–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414040"/>
                </a:solidFill>
                <a:latin typeface="Times New Roman"/>
              </a:rPr>
              <a:t>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8">
            <a:hlinkClick r:id="rId2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280" cy="9753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"/>
          <p:cNvSpPr/>
          <p:nvPr/>
        </p:nvSpPr>
        <p:spPr>
          <a:xfrm>
            <a:off x="1197000" y="1574640"/>
            <a:ext cx="56826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</a:pPr>
            <a:r>
              <a:rPr b="1" lang="en-US" sz="8800" spc="-1" strike="noStrike">
                <a:solidFill>
                  <a:srgbClr val="c7c9ca"/>
                </a:solidFill>
                <a:latin typeface="Times New Roman"/>
              </a:rPr>
              <a:t>or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ssassin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12324240" y="380880"/>
            <a:ext cx="2174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2801"/>
              </a:lnSpc>
            </a:pPr>
            <a:r>
              <a:rPr b="1" lang="en-US" sz="1700" spc="-1" strike="noStrike">
                <a:solidFill>
                  <a:srgbClr val="c7c9ca"/>
                </a:solidFill>
                <a:latin typeface="Times New Roman"/>
              </a:rPr>
              <a:t>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045080" y="520560"/>
            <a:ext cx="7789680" cy="86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5000" anchor="t">
            <a:spAutoFit/>
          </a:bodyPr>
          <a:p>
            <a:pPr>
              <a:lnSpc>
                <a:spcPts val="14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Advoc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yal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oc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e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enc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im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801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9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y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u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ord-of-mou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bo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th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rk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88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Niels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20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01"/>
              </a:lnSpc>
              <a:tabLst>
                <a:tab algn="l" pos="88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8892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t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downloa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Cont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Marketin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Compa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>
            <a:hlinkClick r:id="rId9"/>
          </p:cNvPr>
          <p:cNvSpPr/>
          <p:nvPr/>
        </p:nvSpPr>
        <p:spPr>
          <a:xfrm>
            <a:off x="603360" y="0"/>
            <a:ext cx="10985040" cy="685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  <Words>504</Words>
  <Paragraphs>3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王玉清</cp:lastModifiedBy>
  <dcterms:modified xsi:type="dcterms:W3CDTF">2016-03-06T04:33:32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自定义</vt:lpwstr>
  </property>
  <property fmtid="{D5CDD505-2E9C-101B-9397-08002B2CF9AE}" pid="3" name="Slides">
    <vt:r8>11</vt:r8>
  </property>
</Properties>
</file>