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47.jpeg" ContentType="image/jpeg"/>
  <Override PartName="/ppt/media/image19.jpeg" ContentType="image/jpeg"/>
  <Override PartName="/ppt/media/image42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146-228D-4808-A395-3BE05FD6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DD8-2C39-477B-A022-073CE46E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1B3-68C0-4768-BAFE-5B5EE509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78FE-5965-46A6-8EEE-9EBF4559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F48F1-62BB-4D2A-B7CF-899D9AF1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79662-A551-46A7-A298-86CA0ECD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5D66A-6966-4455-89E1-3C8FD2FD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A671C-DA63-45B1-BA30-E7F3A23E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9917D-A196-495F-B25F-A968D8B5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28D36-FD4E-46BC-8ECD-F2418A3C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A1759-9CCE-4606-A67A-36C91736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B28-84C2-4AF8-821C-D894F95C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16F52-9D15-47FB-B983-39517167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167FD-379A-4D56-BE86-9748BD0E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A07D1-3B99-478F-BD5C-236A3754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F9764-0FED-4CEC-B85D-19A52D13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69D40-7D1E-440C-B876-14636B9B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19B-3543-4C1B-A120-34E4F774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15D-F982-471B-80CA-32F95F44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27DE-867B-4356-8820-54E3E359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C47B-CD0D-4240-9F4B-F4E4E61A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0A7-D566-45C8-AE95-7055B874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B48-E91A-4EE1-A136-FCD799C9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661-5EEF-4C43-9A40-826CED7A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BC3C-F8A0-4937-B31B-0BC385FB70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93D4-67C6-4991-B9DD-55B0B3177CB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15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ahoma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ahoma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436120" y="1173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历史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在线下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5181480" y="0"/>
            <a:ext cx="3962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733c29"/>
                </a:solidFill>
                <a:latin typeface="宋体"/>
              </a:rPr>
              <a:t>    </a:t>
            </a:r>
            <a:r>
              <a:rPr b="1" lang="zh-CN" sz="2100" spc="-1" strike="noStrike">
                <a:solidFill>
                  <a:srgbClr val="ff6600"/>
                </a:solidFill>
                <a:latin typeface="宋体"/>
              </a:rPr>
              <a:t>中国的古代一直采取浇铸工艺，方孔圆钱的形制则一直沿用到清末民国初年，到民国三年才最后退出历史舞台</a:t>
            </a:r>
            <a:r>
              <a:rPr b="1" lang="zh-CN" sz="2100" spc="-1" strike="noStrike">
                <a:solidFill>
                  <a:srgbClr val="ffffff"/>
                </a:solidFill>
                <a:latin typeface="宋体"/>
              </a:rPr>
              <a:t>。受西方货币文化的影响，清光绪二十六年，在广东首先制造了新式的机制铜元，一时间，各地纷纷仿效，大量发行。新式铜元开始是作为机制银元的一种辅币出现的，但在流通过程中，实际上很大程度上取代了方孔圆钱。机制铜元只有短短三十几年历史舞台，</a:t>
            </a:r>
            <a:r>
              <a:rPr b="1" lang="zh-CN" sz="2100" spc="-1" strike="noStrike">
                <a:solidFill>
                  <a:srgbClr val="ffffff"/>
                </a:solidFill>
                <a:latin typeface="宋体"/>
              </a:rPr>
              <a:t>1935</a:t>
            </a:r>
            <a:r>
              <a:rPr b="1" lang="zh-CN" sz="2100" spc="-1" strike="noStrike">
                <a:solidFill>
                  <a:srgbClr val="ffffff"/>
                </a:solidFill>
                <a:latin typeface="宋体"/>
              </a:rPr>
              <a:t>年实行法币政策以后，也逐步退出历史舞台，但铜元的种类却极其繁杂。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28600" y="4876920"/>
            <a:ext cx="8915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733c29"/>
                </a:solidFill>
                <a:latin typeface="宋体"/>
              </a:rPr>
              <a:t>  </a:t>
            </a:r>
            <a:r>
              <a:rPr b="1" lang="zh-CN" sz="2500" spc="-1" strike="noStrike">
                <a:solidFill>
                  <a:srgbClr val="66ccff"/>
                </a:solidFill>
                <a:latin typeface="宋体"/>
              </a:rPr>
              <a:t>纵观中国货币的历史，在漫长的古代社会，它走过了一条独立发展的道路，创造了一种极具个性特色的货币文化，还影响到东亚、东南亚等地区和国家。它和西方的货币文化相映生辉，成为东方货币文化的代表。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coin024"/>
          <p:cNvPicPr/>
          <p:nvPr/>
        </p:nvPicPr>
        <p:blipFill>
          <a:blip r:embed="rId2"/>
          <a:stretch/>
        </p:blipFill>
        <p:spPr>
          <a:xfrm>
            <a:off x="0" y="762120"/>
            <a:ext cx="5181480" cy="26668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0" y="3581280"/>
            <a:ext cx="525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宋体"/>
              </a:rPr>
              <a:t>庆历重宝铁范铜钱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uZl0_v6iqM73MjE=_7pKl7AaHMapU"/>
          <p:cNvPicPr/>
          <p:nvPr/>
        </p:nvPicPr>
        <p:blipFill>
          <a:blip r:embed="rId2"/>
          <a:stretch/>
        </p:blipFill>
        <p:spPr>
          <a:xfrm rot="793200">
            <a:off x="7216920" y="5164200"/>
            <a:ext cx="1549080" cy="14796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5"/>
          <p:cNvSpPr/>
          <p:nvPr/>
        </p:nvSpPr>
        <p:spPr>
          <a:xfrm>
            <a:off x="826920" y="1268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WordArt 17" descr=""/>
          <p:cNvPicPr/>
          <p:nvPr/>
        </p:nvPicPr>
        <p:blipFill>
          <a:blip r:embed="rId3"/>
          <a:stretch/>
        </p:blipFill>
        <p:spPr>
          <a:xfrm>
            <a:off x="-249120" y="1122480"/>
            <a:ext cx="830736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巴布亚新几内亚 基那"/>
          <p:cNvPicPr/>
          <p:nvPr/>
        </p:nvPicPr>
        <p:blipFill>
          <a:blip r:embed="rId2"/>
          <a:stretch/>
        </p:blipFill>
        <p:spPr>
          <a:xfrm>
            <a:off x="228600" y="152280"/>
            <a:ext cx="4267080" cy="2286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645920" y="249228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巴布亚新几内亚 基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越南 盾"/>
          <p:cNvPicPr/>
          <p:nvPr/>
        </p:nvPicPr>
        <p:blipFill>
          <a:blip r:embed="rId3"/>
          <a:stretch/>
        </p:blipFill>
        <p:spPr>
          <a:xfrm>
            <a:off x="4724280" y="228600"/>
            <a:ext cx="4191120" cy="2209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6553080" y="2514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越南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6" descr="英镑"/>
          <p:cNvPicPr/>
          <p:nvPr/>
        </p:nvPicPr>
        <p:blipFill>
          <a:blip r:embed="rId4"/>
          <a:stretch/>
        </p:blipFill>
        <p:spPr>
          <a:xfrm>
            <a:off x="228600" y="3505320"/>
            <a:ext cx="4267080" cy="2286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600200" y="6019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英镑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8" descr="秘鲁 索尔"/>
          <p:cNvPicPr/>
          <p:nvPr/>
        </p:nvPicPr>
        <p:blipFill>
          <a:blip r:embed="rId5"/>
          <a:stretch/>
        </p:blipFill>
        <p:spPr>
          <a:xfrm>
            <a:off x="4724280" y="3581280"/>
            <a:ext cx="4191120" cy="19130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6420960" y="561672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秘鲁 索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巴西 雷亚尔"/>
          <p:cNvPicPr/>
          <p:nvPr/>
        </p:nvPicPr>
        <p:blipFill>
          <a:blip r:embed="rId2"/>
          <a:stretch/>
        </p:blipFill>
        <p:spPr>
          <a:xfrm>
            <a:off x="228600" y="228600"/>
            <a:ext cx="4038480" cy="2209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1701720" y="256860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巴西 雷亚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6" descr="印度尼西亚 卢比(盾)"/>
          <p:cNvPicPr/>
          <p:nvPr/>
        </p:nvPicPr>
        <p:blipFill>
          <a:blip r:embed="rId3"/>
          <a:stretch/>
        </p:blipFill>
        <p:spPr>
          <a:xfrm>
            <a:off x="4648320" y="228600"/>
            <a:ext cx="4190760" cy="22096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5685120" y="2568600"/>
            <a:ext cx="279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印度尼西亚 卢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盾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8" descr="印度 卢比"/>
          <p:cNvPicPr/>
          <p:nvPr/>
        </p:nvPicPr>
        <p:blipFill>
          <a:blip r:embed="rId4"/>
          <a:stretch/>
        </p:blipFill>
        <p:spPr>
          <a:xfrm>
            <a:off x="228600" y="3581280"/>
            <a:ext cx="4038480" cy="2286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"/>
          <p:cNvSpPr/>
          <p:nvPr/>
        </p:nvSpPr>
        <p:spPr>
          <a:xfrm>
            <a:off x="3825360" y="83818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印度 卢比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1696680" y="59212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印度 卢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11" descr="伊朗 里亚尔"/>
          <p:cNvPicPr/>
          <p:nvPr/>
        </p:nvPicPr>
        <p:blipFill>
          <a:blip r:embed="rId5"/>
          <a:stretch/>
        </p:blipFill>
        <p:spPr>
          <a:xfrm>
            <a:off x="4724280" y="3505320"/>
            <a:ext cx="4114800" cy="23619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2"/>
          <p:cNvSpPr/>
          <p:nvPr/>
        </p:nvSpPr>
        <p:spPr>
          <a:xfrm>
            <a:off x="6502320" y="592128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伊朗 里亚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波兰 兹罗提"/>
          <p:cNvPicPr/>
          <p:nvPr/>
        </p:nvPicPr>
        <p:blipFill>
          <a:blip r:embed="rId2"/>
          <a:stretch/>
        </p:blipFill>
        <p:spPr>
          <a:xfrm>
            <a:off x="380880" y="304920"/>
            <a:ext cx="4038840" cy="22096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1854000" y="264492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波兰 兹罗提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西班牙 比塞塔"/>
          <p:cNvPicPr/>
          <p:nvPr/>
        </p:nvPicPr>
        <p:blipFill>
          <a:blip r:embed="rId3"/>
          <a:stretch/>
        </p:blipFill>
        <p:spPr>
          <a:xfrm>
            <a:off x="4724280" y="304920"/>
            <a:ext cx="4114800" cy="22096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6202440" y="2492280"/>
            <a:ext cx="17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西班牙 比塞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6" descr="泰国铢"/>
          <p:cNvPicPr/>
          <p:nvPr/>
        </p:nvPicPr>
        <p:blipFill>
          <a:blip r:embed="rId4"/>
          <a:stretch/>
        </p:blipFill>
        <p:spPr>
          <a:xfrm>
            <a:off x="457200" y="3429000"/>
            <a:ext cx="3962520" cy="2133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7"/>
          <p:cNvSpPr/>
          <p:nvPr/>
        </p:nvSpPr>
        <p:spPr>
          <a:xfrm>
            <a:off x="2074320" y="5533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泰国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8" descr="塔吉克斯坦 索莫尼"/>
          <p:cNvPicPr/>
          <p:nvPr/>
        </p:nvPicPr>
        <p:blipFill>
          <a:blip r:embed="rId5"/>
          <a:stretch/>
        </p:blipFill>
        <p:spPr>
          <a:xfrm>
            <a:off x="4724280" y="3429000"/>
            <a:ext cx="4114800" cy="2209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5984280" y="561672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塔吉克斯坦 索莫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1854000" y="249228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俄罗斯 卢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俄罗斯 卢布"/>
          <p:cNvPicPr/>
          <p:nvPr/>
        </p:nvPicPr>
        <p:blipFill>
          <a:blip r:embed="rId2"/>
          <a:stretch/>
        </p:blipFill>
        <p:spPr>
          <a:xfrm>
            <a:off x="304920" y="228600"/>
            <a:ext cx="4114800" cy="228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斯里兰卡 卢比"/>
          <p:cNvPicPr/>
          <p:nvPr/>
        </p:nvPicPr>
        <p:blipFill>
          <a:blip r:embed="rId3"/>
          <a:stretch/>
        </p:blipFill>
        <p:spPr>
          <a:xfrm>
            <a:off x="4724280" y="228600"/>
            <a:ext cx="4267440" cy="2286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6202440" y="2492280"/>
            <a:ext cx="17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斯里兰卡 卢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日  本  元"/>
          <p:cNvPicPr/>
          <p:nvPr/>
        </p:nvPicPr>
        <p:blipFill>
          <a:blip r:embed="rId4"/>
          <a:stretch/>
        </p:blipFill>
        <p:spPr>
          <a:xfrm>
            <a:off x="320760" y="3124080"/>
            <a:ext cx="4114800" cy="2590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1914840" y="592128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日  本  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9" descr="挪威 克郎"/>
          <p:cNvPicPr/>
          <p:nvPr/>
        </p:nvPicPr>
        <p:blipFill>
          <a:blip r:embed="rId5"/>
          <a:stretch/>
        </p:blipFill>
        <p:spPr>
          <a:xfrm>
            <a:off x="4648320" y="3200400"/>
            <a:ext cx="4343400" cy="2206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0"/>
          <p:cNvSpPr/>
          <p:nvPr/>
        </p:nvSpPr>
        <p:spPr>
          <a:xfrm>
            <a:off x="6420960" y="554040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挪威 克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哥伦比亚 比索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2286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1630440" y="2568600"/>
            <a:ext cx="17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哥伦比亚 比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南非 兰特"/>
          <p:cNvPicPr/>
          <p:nvPr/>
        </p:nvPicPr>
        <p:blipFill>
          <a:blip r:embed="rId3"/>
          <a:stretch/>
        </p:blipFill>
        <p:spPr>
          <a:xfrm>
            <a:off x="4724280" y="304920"/>
            <a:ext cx="4114800" cy="2286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6497280" y="256860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南非 兰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6" descr="墨西哥 比索"/>
          <p:cNvPicPr/>
          <p:nvPr/>
        </p:nvPicPr>
        <p:blipFill>
          <a:blip r:embed="rId4"/>
          <a:stretch/>
        </p:blipFill>
        <p:spPr>
          <a:xfrm>
            <a:off x="380880" y="3276720"/>
            <a:ext cx="4038840" cy="21333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7"/>
          <p:cNvSpPr/>
          <p:nvPr/>
        </p:nvSpPr>
        <p:spPr>
          <a:xfrm>
            <a:off x="1854000" y="546408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墨西哥 比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8" descr="缅甸 元"/>
          <p:cNvPicPr/>
          <p:nvPr/>
        </p:nvPicPr>
        <p:blipFill>
          <a:blip r:embed="rId5"/>
          <a:stretch/>
        </p:blipFill>
        <p:spPr>
          <a:xfrm>
            <a:off x="4670280" y="3276720"/>
            <a:ext cx="4191120" cy="2209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9"/>
          <p:cNvSpPr/>
          <p:nvPr/>
        </p:nvSpPr>
        <p:spPr>
          <a:xfrm>
            <a:off x="6568200" y="554040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缅甸 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圭亚那 元"/>
          <p:cNvPicPr/>
          <p:nvPr/>
        </p:nvPicPr>
        <p:blipFill>
          <a:blip r:embed="rId2"/>
          <a:stretch/>
        </p:blipFill>
        <p:spPr>
          <a:xfrm>
            <a:off x="152280" y="380880"/>
            <a:ext cx="4343400" cy="27432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1996560" y="32004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圭亚那 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4" descr="秘鲁 索尔"/>
          <p:cNvPicPr/>
          <p:nvPr/>
        </p:nvPicPr>
        <p:blipFill>
          <a:blip r:embed="rId3"/>
          <a:stretch/>
        </p:blipFill>
        <p:spPr>
          <a:xfrm>
            <a:off x="4648320" y="380880"/>
            <a:ext cx="4343400" cy="27432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6339960" y="32004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秘鲁 索尔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6" descr="蒙古 图格里克"/>
          <p:cNvPicPr/>
          <p:nvPr/>
        </p:nvPicPr>
        <p:blipFill>
          <a:blip r:embed="rId4"/>
          <a:stretch/>
        </p:blipFill>
        <p:spPr>
          <a:xfrm>
            <a:off x="228600" y="3733920"/>
            <a:ext cx="4343400" cy="21351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1737360" y="601992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蒙古 图格里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8" descr="美国 元"/>
          <p:cNvPicPr/>
          <p:nvPr/>
        </p:nvPicPr>
        <p:blipFill>
          <a:blip r:embed="rId5"/>
          <a:stretch/>
        </p:blipFill>
        <p:spPr>
          <a:xfrm>
            <a:off x="4724280" y="3733920"/>
            <a:ext cx="4267440" cy="2209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6583680" y="60199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美国 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韩元"/>
          <p:cNvPicPr/>
          <p:nvPr/>
        </p:nvPicPr>
        <p:blipFill>
          <a:blip r:embed="rId2"/>
          <a:stretch/>
        </p:blipFill>
        <p:spPr>
          <a:xfrm>
            <a:off x="380880" y="457200"/>
            <a:ext cx="381024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2221560" y="5838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韩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4" descr="马尔代夫 卢非亚"/>
          <p:cNvPicPr/>
          <p:nvPr/>
        </p:nvPicPr>
        <p:blipFill>
          <a:blip r:embed="rId3"/>
          <a:stretch/>
        </p:blipFill>
        <p:spPr>
          <a:xfrm>
            <a:off x="4419720" y="380880"/>
            <a:ext cx="4572000" cy="23623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6283800" y="272088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马尔代夫 卢非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6" descr="加拿大 元"/>
          <p:cNvPicPr/>
          <p:nvPr/>
        </p:nvPicPr>
        <p:blipFill>
          <a:blip r:embed="rId4"/>
          <a:stretch/>
        </p:blipFill>
        <p:spPr>
          <a:xfrm>
            <a:off x="4419720" y="3352680"/>
            <a:ext cx="4572000" cy="23162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6420960" y="56926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加拿大 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哈萨克斯坦  腾格"/>
          <p:cNvPicPr/>
          <p:nvPr/>
        </p:nvPicPr>
        <p:blipFill>
          <a:blip r:embed="rId2"/>
          <a:stretch/>
        </p:blipFill>
        <p:spPr>
          <a:xfrm>
            <a:off x="304920" y="228600"/>
            <a:ext cx="3886200" cy="22096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"/>
          <p:cNvSpPr/>
          <p:nvPr/>
        </p:nvSpPr>
        <p:spPr>
          <a:xfrm>
            <a:off x="1633680" y="234000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哈萨克斯坦  腾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8" descr="欧元"/>
          <p:cNvPicPr/>
          <p:nvPr/>
        </p:nvPicPr>
        <p:blipFill>
          <a:blip r:embed="rId3"/>
          <a:stretch/>
        </p:blipFill>
        <p:spPr>
          <a:xfrm>
            <a:off x="4816440" y="263520"/>
            <a:ext cx="3886200" cy="2141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9"/>
          <p:cNvSpPr/>
          <p:nvPr/>
        </p:nvSpPr>
        <p:spPr>
          <a:xfrm>
            <a:off x="6641280" y="2409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欧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0" descr="欧元1"/>
          <p:cNvPicPr/>
          <p:nvPr/>
        </p:nvPicPr>
        <p:blipFill>
          <a:blip r:embed="rId4"/>
          <a:stretch/>
        </p:blipFill>
        <p:spPr>
          <a:xfrm>
            <a:off x="4800600" y="3500280"/>
            <a:ext cx="3886200" cy="19893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1"/>
          <p:cNvSpPr/>
          <p:nvPr/>
        </p:nvSpPr>
        <p:spPr>
          <a:xfrm>
            <a:off x="6641280" y="5665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欧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12" descr="人民币"/>
          <p:cNvPicPr/>
          <p:nvPr/>
        </p:nvPicPr>
        <p:blipFill>
          <a:blip r:embed="rId5"/>
          <a:stretch/>
        </p:blipFill>
        <p:spPr>
          <a:xfrm>
            <a:off x="380880" y="3505320"/>
            <a:ext cx="3962520" cy="21142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3"/>
          <p:cNvSpPr/>
          <p:nvPr/>
        </p:nvSpPr>
        <p:spPr>
          <a:xfrm>
            <a:off x="1922040" y="56865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人民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91440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ahoma"/>
              </a:rPr>
              <a:t>活动题目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：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钱币的历史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br>
              <a:rPr sz="4400"/>
            </a:br>
            <a:r>
              <a:rPr b="0" lang="en-US" sz="4800" spc="-1" strike="noStrike">
                <a:solidFill>
                  <a:srgbClr val="cc0000"/>
                </a:solidFill>
                <a:latin typeface="Tahoma"/>
              </a:rPr>
              <a:t>活动目的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：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从历史的角度对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钱币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有一个较为全面的了解，增长知识，扩大视野。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树立正确的钱财观。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培养小组合作精神。</a:t>
            </a:r>
            <a:br>
              <a:rPr sz="3600"/>
            </a:br>
            <a:r>
              <a:rPr b="0" lang="en-US" sz="4800" spc="-1" strike="noStrike">
                <a:solidFill>
                  <a:srgbClr val="cc0000"/>
                </a:solidFill>
                <a:latin typeface="Tahoma"/>
              </a:rPr>
              <a:t>活动方式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：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小组合作，分配任务，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   汇总资料，集体交流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7642080" y="1413000"/>
            <a:ext cx="459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WordArt 8"/>
          <p:cNvSpPr txBox="1"/>
          <p:nvPr/>
        </p:nvSpPr>
        <p:spPr>
          <a:xfrm rot="5400000">
            <a:off x="5954760" y="3414600"/>
            <a:ext cx="3673440" cy="1828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95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活动计划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DSCF0990"/>
          <p:cNvPicPr/>
          <p:nvPr/>
        </p:nvPicPr>
        <p:blipFill>
          <a:blip r:embed="rId2"/>
          <a:stretch/>
        </p:blipFill>
        <p:spPr>
          <a:xfrm>
            <a:off x="152280" y="304920"/>
            <a:ext cx="4267440" cy="2666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DSCF0992"/>
          <p:cNvPicPr/>
          <p:nvPr/>
        </p:nvPicPr>
        <p:blipFill>
          <a:blip r:embed="rId3"/>
          <a:stretch/>
        </p:blipFill>
        <p:spPr>
          <a:xfrm>
            <a:off x="4724280" y="380880"/>
            <a:ext cx="4191120" cy="2590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b"/>
          <p:cNvPicPr/>
          <p:nvPr/>
        </p:nvPicPr>
        <p:blipFill>
          <a:blip r:embed="rId4"/>
          <a:stretch/>
        </p:blipFill>
        <p:spPr>
          <a:xfrm>
            <a:off x="228600" y="3429000"/>
            <a:ext cx="4267080" cy="2514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n"/>
          <p:cNvPicPr/>
          <p:nvPr/>
        </p:nvPicPr>
        <p:blipFill>
          <a:blip r:embed="rId5"/>
          <a:stretch/>
        </p:blipFill>
        <p:spPr>
          <a:xfrm>
            <a:off x="4648320" y="3429000"/>
            <a:ext cx="431136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YfTb_20046151432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22"/>
          <p:cNvSpPr/>
          <p:nvPr/>
        </p:nvSpPr>
        <p:spPr>
          <a:xfrm rot="337800">
            <a:off x="8496360" y="6237360"/>
            <a:ext cx="647640" cy="620640"/>
          </a:xfrm>
          <a:prstGeom prst="smileyFace">
            <a:avLst>
              <a:gd name="adj" fmla="val 4653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3941 0.00046 C -0.8467 0.02292 -0.65399 0.04537 -0.63819 -0.03056 C -0.62239 -0.10648 -0.96423 -0.33958 -0.94444 -0.45532 C -0.92465 -0.57107 -0.61961 -0.77176 -0.51961 -0.72523 C -0.41961 -0.6787 -0.41545 -0.29861 -0.34444 -0.17546 C -0.27343 -0.05278 -0.1375 -0.00903 -0.09375 0.01389 C -0.05 0.03657 -0.12482 0.02222 -0.08142 -0.03935 C -0.03802 -0.10023 0.17448 -0.35278 0.16667 -0.35324 C 0.15886 -0.3537 0.01528 -0.19815 -0.1283 -0.04213 E">
                                      <p:cBhvr>
                                        <p:cTn id="159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ahoma"/>
              </a:rPr>
              <a:t>讨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792000" y="112536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越来越多的城市中，孩子们穿名牌服装、拿手机、花上千元庆贺生日等现象严重，你是如何看待这一中小学生高消费现象的？你认为我们应该如何抵预外界物质的诱惑，树立怎样的金钱观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863640" y="4076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随着生活水平的提高，中学生拥有的零花钱越来越多，有些同学的压岁钱甚至超过千元、万元，我们该如何支配这一部分金钱呢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4" descr="YfTb_20046151432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1547640" y="1700280"/>
            <a:ext cx="22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WordArt 8"/>
          <p:cNvSpPr txBox="1"/>
          <p:nvPr/>
        </p:nvSpPr>
        <p:spPr>
          <a:xfrm>
            <a:off x="990720" y="1371600"/>
            <a:ext cx="4190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谢谢观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661-C4B2-4D85-B3D5-E8D6957B1067}" type="slidenum">
              <a:t>24</a:t>
            </a:fld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活动步骤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：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全组同学共同讨论活动计划，选出代表来记录。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全组共同平均分配活动项目，分别进行活动，收集资料。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全组汇总资料，选出代表做成幻灯片或方文本资料，组员轮流修改，达成最佳方案。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选出最佳代表展示、汇报本组活动成果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721044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活动内容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2133360"/>
            <a:ext cx="757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钱币的历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人民币知识知多少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其他国家的货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有关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金钱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话题的讨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13" descr=""/>
          <p:cNvPicPr/>
          <p:nvPr/>
        </p:nvPicPr>
        <p:blipFill>
          <a:blip r:embed="rId2"/>
          <a:stretch/>
        </p:blipFill>
        <p:spPr>
          <a:xfrm>
            <a:off x="914400" y="4800600"/>
            <a:ext cx="1962000" cy="1663560"/>
          </a:xfrm>
          <a:prstGeom prst="rect">
            <a:avLst/>
          </a:prstGeom>
          <a:ln w="0">
            <a:noFill/>
          </a:ln>
        </p:spPr>
      </p:pic>
      <p:pic>
        <p:nvPicPr>
          <p:cNvPr id="92" name="Object 14" descr=""/>
          <p:cNvPicPr/>
          <p:nvPr/>
        </p:nvPicPr>
        <p:blipFill>
          <a:blip r:embed="rId3"/>
          <a:stretch/>
        </p:blipFill>
        <p:spPr>
          <a:xfrm>
            <a:off x="7467480" y="3276720"/>
            <a:ext cx="1219320" cy="9144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5"/>
          <p:cNvSpPr/>
          <p:nvPr/>
        </p:nvSpPr>
        <p:spPr>
          <a:xfrm>
            <a:off x="0" y="1676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  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我国古代钱币的发展大致可分为四个阶段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2135160" y="29718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钱币萌芽时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3461040" y="3809880"/>
            <a:ext cx="18723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纪地钱币时期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4802400" y="46483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铢两钱币时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6097680" y="54864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年号钱币时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228600" y="38088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中国古代钱币</a:t>
            </a:r>
            <a:r>
              <a:rPr b="1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3352680" y="-523800"/>
            <a:ext cx="579132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1700" spc="-1" strike="noStrike">
                <a:solidFill>
                  <a:srgbClr val="ffffff"/>
                </a:solidFill>
                <a:latin typeface="宋体"/>
                <a:ea typeface="Times New Roman"/>
              </a:rPr>
              <a:t> </a:t>
            </a:r>
            <a:r>
              <a:rPr b="1" lang="zh-CN" sz="17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1700" spc="-1" strike="noStrike">
                <a:solidFill>
                  <a:srgbClr val="ffffff"/>
                </a:solidFill>
                <a:latin typeface="宋体"/>
                <a:ea typeface="Times New Roman"/>
              </a:rPr>
              <a:t> </a:t>
            </a:r>
            <a:r>
              <a:rPr b="1" lang="zh-CN" sz="17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1700" spc="-1" strike="noStrike">
                <a:solidFill>
                  <a:srgbClr val="ffffff"/>
                </a:solidFill>
                <a:latin typeface="宋体"/>
                <a:ea typeface="Times New Roman"/>
              </a:rPr>
              <a:t> </a:t>
            </a:r>
            <a:r>
              <a:rPr b="1" lang="zh-CN" sz="1700" spc="-1" strike="noStrike">
                <a:solidFill>
                  <a:srgbClr val="ffffff"/>
                </a:solidFill>
                <a:latin typeface="宋体"/>
              </a:rPr>
              <a:t>　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中国古代钱币萌芽于夏代，起源于殷商，发展于东周，统一于赢秦，历经了四千多年的漫长历史，创造了七十多项世界之最。不仅如此，中国钱币系统之完整，门类之丰富，脉络之清闲，内涵之博大，是任何一个国家都无法比拟的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　 　世界上最早的钱币 　远在公元前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2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世纪的夏朝，天然海贝已从装饰用品演变为货币。楚庄王时期，成为财富的象征，当时的贝币以朋为计量单位，五枚贝用绳索串起为一系，二系相连为一朋。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贝币的出现，是人类历史最旱的货币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春秋战国时期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各国钱币形制不同，大小不一，重量不等，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主要有贝币、刀币、布币和圜钱流通于世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被后人称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先秦四大货币体系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。</a:t>
            </a:r>
            <a:br>
              <a:rPr sz="2400"/>
            </a:br>
            <a:br>
              <a:rPr sz="1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2" descr="qb01"/>
          <p:cNvPicPr/>
          <p:nvPr/>
        </p:nvPicPr>
        <p:blipFill>
          <a:blip r:embed="rId2"/>
          <a:stretch/>
        </p:blipFill>
        <p:spPr>
          <a:xfrm>
            <a:off x="609480" y="457200"/>
            <a:ext cx="2514600" cy="4724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1295280" y="541008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空首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581280" y="0"/>
            <a:ext cx="556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733c29"/>
                </a:solidFill>
                <a:latin typeface="宋体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在中国货币史上，最早取得支付手段的是一些自然物，众所周知，海贝便是其中之一，海贝在中国的新石器时代晚期已经取得了实物货币的地位，这个约是四五千年以前的事情。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657600" y="2193840"/>
            <a:ext cx="5486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733c29"/>
                </a:solidFill>
                <a:latin typeface="宋体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春秋战国时代（公元前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770-221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年），由于诸候割据，中国的货币文化呈现出自由奔放的势头，就青铜铸币而言，逐步形成了区域性的货币。不同地区的铸币，它们的器形、重量、文字标志、货币单位、合金成分都不一样。中原地区的货币形制起源于工具刀削，称之为刀币；南部地区的货币形制起源于青铜贝。称之为蚁鼻钱；中西部地区的货币形制起源于纺轮（或是玉壁），称之为圜钱；</a:t>
            </a:r>
            <a:r>
              <a:rPr b="1" lang="zh-CN" sz="2500" spc="-1" strike="noStrike">
                <a:solidFill>
                  <a:srgbClr val="ff6600"/>
                </a:solidFill>
                <a:latin typeface="宋体"/>
              </a:rPr>
              <a:t>大约在战国中期以后出现了方孔圆钱。</a:t>
            </a:r>
            <a:r>
              <a:rPr b="1" lang="zh-CN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gqb02b"/>
          <p:cNvPicPr/>
          <p:nvPr/>
        </p:nvPicPr>
        <p:blipFill>
          <a:blip r:embed="rId2"/>
          <a:stretch/>
        </p:blipFill>
        <p:spPr>
          <a:xfrm>
            <a:off x="152280" y="304920"/>
            <a:ext cx="3353040" cy="4800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143000" y="533412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四布连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战国   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895480" y="228600"/>
            <a:ext cx="6248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733c29"/>
                </a:solidFill>
                <a:latin typeface="宋体"/>
              </a:rPr>
              <a:t>    </a:t>
            </a:r>
            <a:r>
              <a:rPr b="1" lang="zh-CN" sz="2500" spc="-1" strike="noStrike">
                <a:solidFill>
                  <a:srgbClr val="ff6600"/>
                </a:solidFill>
                <a:latin typeface="宋体"/>
              </a:rPr>
              <a:t>战国中期以后，秦国的主要货币是</a:t>
            </a:r>
            <a:r>
              <a:rPr b="1" lang="zh-CN" sz="2500" spc="-1" strike="noStrike">
                <a:solidFill>
                  <a:srgbClr val="ff6600"/>
                </a:solidFill>
                <a:latin typeface="Times New Roman"/>
              </a:rPr>
              <a:t>"</a:t>
            </a:r>
            <a:r>
              <a:rPr b="1" lang="zh-CN" sz="2500" spc="-1" strike="noStrike">
                <a:solidFill>
                  <a:srgbClr val="ff6600"/>
                </a:solidFill>
                <a:latin typeface="宋体"/>
              </a:rPr>
              <a:t>半两</a:t>
            </a:r>
            <a:r>
              <a:rPr b="1" lang="zh-CN" sz="2500" spc="-1" strike="noStrike">
                <a:solidFill>
                  <a:srgbClr val="ff6600"/>
                </a:solidFill>
                <a:latin typeface="Times New Roman"/>
              </a:rPr>
              <a:t>"</a:t>
            </a:r>
            <a:r>
              <a:rPr b="1" lang="zh-CN" sz="2500" spc="-1" strike="noStrike">
                <a:solidFill>
                  <a:srgbClr val="ff6600"/>
                </a:solidFill>
                <a:latin typeface="宋体"/>
              </a:rPr>
              <a:t>方孔圆钱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。公元前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221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年，秦统一中国，秦始皇把他的货币制度推广到全国，于是货币也得到了统一。统一秦的金币形制犹如晒干了柿子饼，称之为柿子金，和战国时一样，也可以切割使用。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因为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钱重难行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，西汉早期，铜钱也曾几度减重，到西汉武帝的时候，最终确立了法定铜钱重五铢的制度，并且第一次推行中央集权的政策，由上林三官负责铸钱。王莽篡位以后，打出复古旗号，实际是推行大钱制度，收敛钱财，于是在中国货币史上第一次出现了当千、当五千的大钱，并且恢复了布币、刀币等钱制。但它只是昙花一现，</a:t>
            </a:r>
            <a:r>
              <a:rPr b="1" lang="zh-CN" sz="2500" spc="-1" strike="noStrike">
                <a:solidFill>
                  <a:srgbClr val="ff6600"/>
                </a:solidFill>
                <a:latin typeface="宋体"/>
              </a:rPr>
              <a:t>汉光武帝重建东汉政权以后，很快便恢复了五铢钱制。从此，五铢钱一直沿用到隋末唐初。</a:t>
            </a:r>
            <a:r>
              <a:rPr b="1" lang="zh-CN" sz="19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3" descr="gqb01b"/>
          <p:cNvPicPr/>
          <p:nvPr/>
        </p:nvPicPr>
        <p:blipFill>
          <a:blip r:embed="rId2"/>
          <a:stretch/>
        </p:blipFill>
        <p:spPr>
          <a:xfrm>
            <a:off x="228600" y="685800"/>
            <a:ext cx="2666880" cy="4419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83808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空首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276720" y="762120"/>
            <a:ext cx="56386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733c29"/>
                </a:solidFill>
                <a:latin typeface="宋体"/>
              </a:rPr>
              <a:t>    </a:t>
            </a:r>
            <a:r>
              <a:rPr b="1" lang="zh-CN" sz="2900" spc="-1" strike="noStrike">
                <a:solidFill>
                  <a:srgbClr val="ff6600"/>
                </a:solidFill>
                <a:latin typeface="宋体"/>
              </a:rPr>
              <a:t>元朝以后</a:t>
            </a:r>
            <a:r>
              <a:rPr b="1" lang="zh-CN" sz="2900" spc="-1" strike="noStrike">
                <a:solidFill>
                  <a:srgbClr val="ffffff"/>
                </a:solidFill>
                <a:latin typeface="宋体"/>
              </a:rPr>
              <a:t>，中国铜铸币的制作趋向简单，钱文的书法一般都采用真书体，而且</a:t>
            </a:r>
            <a:r>
              <a:rPr b="1" lang="zh-CN" sz="2900" spc="-1" strike="noStrike">
                <a:solidFill>
                  <a:srgbClr val="ff6600"/>
                </a:solidFill>
                <a:latin typeface="宋体"/>
              </a:rPr>
              <a:t>钱币的名称也多以</a:t>
            </a:r>
            <a:r>
              <a:rPr b="1" lang="zh-CN" sz="2900" spc="-1" strike="noStrike">
                <a:solidFill>
                  <a:srgbClr val="ff6600"/>
                </a:solidFill>
                <a:latin typeface="宋体"/>
              </a:rPr>
              <a:t>"</a:t>
            </a:r>
            <a:r>
              <a:rPr b="1" lang="zh-CN" sz="2900" spc="-1" strike="noStrike">
                <a:solidFill>
                  <a:srgbClr val="ff6600"/>
                </a:solidFill>
                <a:latin typeface="宋体"/>
              </a:rPr>
              <a:t>通宝</a:t>
            </a:r>
            <a:r>
              <a:rPr b="1" lang="zh-CN" sz="2900" spc="-1" strike="noStrike">
                <a:solidFill>
                  <a:srgbClr val="ff6600"/>
                </a:solidFill>
                <a:latin typeface="宋体"/>
              </a:rPr>
              <a:t>"</a:t>
            </a:r>
            <a:r>
              <a:rPr b="1" lang="zh-CN" sz="2900" spc="-1" strike="noStrike">
                <a:solidFill>
                  <a:srgbClr val="ff6600"/>
                </a:solidFill>
                <a:latin typeface="宋体"/>
              </a:rPr>
              <a:t>铭名</a:t>
            </a:r>
            <a:r>
              <a:rPr b="1" lang="zh-CN" sz="2900" spc="-1" strike="noStrike">
                <a:solidFill>
                  <a:srgbClr val="ffffff"/>
                </a:solidFill>
                <a:latin typeface="宋体"/>
              </a:rPr>
              <a:t>。</a:t>
            </a:r>
            <a:r>
              <a:rPr b="1" lang="zh-CN" sz="2900" spc="-1" strike="noStrike">
                <a:solidFill>
                  <a:srgbClr val="ff6600"/>
                </a:solidFill>
                <a:latin typeface="宋体"/>
              </a:rPr>
              <a:t>明朝中期以后，大约从嘉靖年间起，铜钱逐渐改为黄铜铸币，从此结束了青铜铸币的历史</a:t>
            </a:r>
            <a:r>
              <a:rPr b="1" lang="zh-CN" sz="2900" spc="-1" strike="noStrike">
                <a:solidFill>
                  <a:srgbClr val="ffffff"/>
                </a:solidFill>
                <a:latin typeface="宋体"/>
              </a:rPr>
              <a:t>。由于纸币和白银货币的使用，也在铜钱上有所反映，元朝惠宗至正年间曾有过权钞钱，而明末清初又出现了权银钱。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gqb05%20"/>
          <p:cNvPicPr/>
          <p:nvPr/>
        </p:nvPicPr>
        <p:blipFill>
          <a:blip r:embed="rId2"/>
          <a:stretch/>
        </p:blipFill>
        <p:spPr>
          <a:xfrm>
            <a:off x="228600" y="838080"/>
            <a:ext cx="3048120" cy="4419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609480" y="5410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刀平五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08:04:1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16:08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