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567-B57C-4FDA-8510-8106A81C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77A-A4A5-4D04-BD90-DDD3FF12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7F4-0CB7-49C3-9832-60AF4F7A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C9D-34AF-43C3-8D1D-ED95AF21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50E-DF94-4942-A5C1-67076649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575-B75C-494E-AEA9-301E78DC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F02-B386-430C-893A-C0EAC6B8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797-A370-49C6-B2DA-F0304C1A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9C8-84D4-4673-B5B4-2C7794F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EDC-6A7B-47A1-B957-6BEFF230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CBE-80AB-4C52-B650-0680EA11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974-A6BA-44F5-B759-56888B88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" name="图片 7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Calibri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71C571-353E-480B-89B8-3B2439125C5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3060000" y="4182840"/>
            <a:ext cx="63694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b050"/>
                </a:solidFill>
                <a:latin typeface="黑体"/>
                <a:ea typeface="黑体"/>
              </a:rPr>
              <a:t>绿色水滴通用</a:t>
            </a:r>
            <a:r>
              <a:rPr b="1" lang="en-US" sz="4000" spc="-1" strike="noStrike">
                <a:solidFill>
                  <a:srgbClr val="00b05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b050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8337240" y="0"/>
            <a:ext cx="79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0" y="116640"/>
            <a:ext cx="14997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323640" y="6309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  <Words>109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1T03:39:24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