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F556-A0AA-4AF4-AB5D-314D41F9C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FE08-D5CE-45B7-838B-154288A712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328B5-52AA-449B-8750-D319BF26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55F36-ADA3-47BA-ADAE-44072F22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5E476-BF4D-46D6-949B-960E844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F41DF-1C10-432D-BB56-33BF6691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3165D-1D7D-411F-BDA3-EB1C9C6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1BF4A-22C0-4B12-84EB-9ABBDF5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CFF90-7A39-44E6-934E-75F1B0A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2FF78-EB89-4171-8B61-873F7E68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8DF9B8-EBFA-4344-8AB5-1D975252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D21391-6A0B-41B5-B882-8FED447C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2A41-EA81-43B7-81BC-7F32B99CDA3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6FD10D-D647-4D86-AAD1-2DD8902B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D17D19-4E32-440E-8574-BCF2D69A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B2BB1-44B2-4ADC-A02D-30BCC91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D8075B-05F9-44C9-9958-1E550CBE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DD9A0-2B96-4A0F-A772-A8EDCFBC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762CB3-10F3-4ED6-B771-8C52653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D50C4-9D38-4B7D-B8B0-ADBEE66B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C3FB4B-2BEA-4EBA-9857-73A52F1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4C3872-C6D0-4351-B1DA-30EBEDC0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7ACAB-953A-4629-94CF-FE498192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116F-751D-4A00-90C4-BE0CF23E446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5FE96-C719-4AC7-9128-0DFCA44B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C08A1-1D3A-46D8-99BA-34B5388C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2F8282-F8A7-47BC-8290-DF7757E9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FECF7F-5873-4DCD-88D1-941B0EEB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855AD3-4193-4E51-8D09-D464D36D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98D4C-F573-4929-9AD8-A0654C6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EF361-724E-4B78-9DFA-DAC73A1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C065AD-8C71-42F0-BEBC-84D90CA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51457-FA0D-48C8-934A-93ADFA6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E38A74-A92F-43FF-BA4B-8EB659A0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D7337-16DC-4B21-8395-8D9FE64E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89966F-FF4F-4486-A419-AA0787A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4A27F-D924-43B3-A1E6-1E225091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6F119-6DC3-4D1B-A16B-7202B24B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8A37FA-2081-4616-9EDD-63D87B2E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EC29ED-9269-401F-96F4-3D0B5FEC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50691E-3BA0-4F06-AA31-B1FC9510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E126EB-E443-4194-916A-DEE176E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5C812-2F67-47E0-9A1E-C0D34A9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B494D-C6E3-4913-9721-7193B98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58945-34CD-405F-A26D-E272476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8F6BB-AA83-4066-BE57-98ED0CE6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2F75B5-FAA5-4852-982D-C3DA7DF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AD20B3-0077-411B-B740-277549D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8D60A0-838B-448B-822D-2B66908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93D787-4BF4-4991-AB82-9176D362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286737-0C77-43CD-A7C5-6EF9EB2B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236977-4687-43E2-9DC8-F09D5E84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DE99A9-1375-4DB3-89CC-EECAFD0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7C7008-8D2D-4987-BCD1-5C5287B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BFD86A-2DC3-4690-AE58-89B5557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1C3AEC-FAEC-44A9-ADA1-20908D3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91ED-EB51-423F-8692-09BB4145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3429B1-94FB-4A0A-8F2A-6A27B4E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B83566-812A-4E41-BB7A-A0241063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D16356-19F3-44CF-9CB1-A674BCB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C216E1-56D3-47FF-B3AD-AADFA75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6BEEBB-56C0-48B1-88A8-EF5773A3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DF6560-492E-49F4-926C-7E73884C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8BB336-7ABC-4D07-AEF3-F4E2049D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311F76-0617-4C5B-9F9A-520F68EE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C00FD6-DB4F-40B2-9310-F9950EA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BC2D9E-A889-4C45-A3FF-1DBDEB1A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914C7-3A08-418E-8EFF-F9448A20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FB2A92-2BB9-4AAC-A35E-28D0502F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CAD88B-35E4-4E81-8822-B163284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FCCF58-DB1F-4ACC-9375-8360F156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B5ECEA-B3A2-41AF-8FA8-971CF96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6A592-3E91-4CC7-A7C9-AEAE5EA2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98180-F9CD-44DD-9A5B-530EA02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EA616C-7C35-44CC-A6DF-D3C800D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750545-8CA7-446E-81ED-4E8113FC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5C9EB-112F-4377-83C2-3E29C290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E2CB-7CCD-4322-8096-95746F52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9E022-2B26-46A5-960D-A8D59C8D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20EFD-EDA2-4168-AC82-8CE7E4C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FCAC-7C8C-4AAB-AF89-AE28F8EF7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FB991-F167-4CAA-BDAC-274D326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DA14F-345B-482D-8EDD-4FCD782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065E-2C65-44CE-AE49-23328737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B8965-3A95-4A10-AE09-E155AB1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E1C2-70DA-4262-AEAE-ADDE853D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FF865-B26E-4D8D-9108-3A3E03C0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F0756-DF55-4FF5-8477-1891738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93C6F-FEF5-433D-B21D-05BA435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770B2-FBCA-4203-B751-90FD7664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0BB6D-B9D1-4229-AB28-43637AE7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1F23-5FE8-4625-8765-2F14917592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CAE4A-0B84-4234-B16E-511CB43B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3F022-315E-4413-84C1-7992D5D3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A6590-660A-4383-8ACF-D0459BC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D0AAD-1059-42D5-9AC4-C06D4D6F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43B86-73A8-43A5-AD3C-34DF4C06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1620D-C24B-4C8C-BE53-47F27F29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8804D-4217-453F-9BBB-35AACCD7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A88E-3D2B-4DCF-B341-A47B2DB2F8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65EFC-CF73-44BC-934F-14C0F885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947B-3585-4365-93A2-69E60E54EF8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D58D5-D1A5-4F38-A68B-44D9ABA8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2BA12-0437-4D1E-8F10-95FDDC3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E2887-E2A5-4DE4-9B48-234C50F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6AA1F-8B00-4224-BFE1-A37A3630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0BDB7-A802-46C2-9B4B-6AC2A032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BF9D6-350A-42C9-BD46-A4681B84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A9BB2-2E6C-413B-B7FE-B7402BD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D5E13-F95B-4D39-9A26-34254BF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476901-1F51-4FA7-8364-D6EC8C76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11A87-4A81-4401-A956-0BAD0550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3207-1857-4375-9B90-80ECC07F1C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C326B-1F2C-41D8-A520-B36BDB01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FD719-18B9-4E59-AF21-846CDC08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C9DE9-67AF-4F07-AEFE-7E7B83F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EEE31-2A02-4EA3-8AAB-7685D7CF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43550-A541-4C6B-8B2B-BC324E8D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90F7-31D6-4EDF-95C9-06AE56C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A2771-2DF2-4FD9-A45D-80442F2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51F85-D34F-4F09-8ED1-351D22B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B9A0A-7996-434F-859C-6F5288E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E428E-016D-4137-8CCC-B1803388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070B-DBC8-4B56-BE93-222389228EE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40901-0C0A-4FAE-B739-14E50976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C3CAC-3A12-4C99-93C1-73F20013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2D69B-FAA0-43AF-9BCF-A2261294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44281-713F-42BB-A856-C71B1777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15AE9-A647-4714-A096-AB4D479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BEC76-DBA1-4C6E-A525-F26A2322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52F38C-78B9-42D8-AA96-8E0DEF2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593A5-BB28-4760-97FB-31D9A7D3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4C82E-192B-4B6B-9B76-B6775BA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B3778-CF6C-47C9-A16E-5C3516C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5B82-0B11-41A4-9F26-F19EE12B2A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4F68E-F17F-4C9A-9EFD-D832B38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39790-85D3-4E30-8806-2FB77B8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82ACD-04E3-4CA7-B7C0-71F8BD5B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AAD97-0B7D-4E44-BE90-E3308E90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EF76B-3574-4C44-8C91-6400734C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C8AA1-DE50-4724-B822-F4C8D3A5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FCAA0-EC36-45DB-A4D8-6886939C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5F6267-0A38-4637-944D-01B189F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15CFA-63AC-465C-878D-66634C7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D8354-2015-47A2-BD62-CABD7B92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385D-4250-47B9-9678-9A463B7947F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F659F-F6CD-4212-9749-E06C732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CB2EB-9038-414D-8058-9DAF0A3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DA94E-BC1E-46CF-B7BB-F51F1F59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A0F37-1D05-4919-B0A6-2CA1C777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28600" y="391860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957DF-836F-4645-9F00-8EFE7A2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286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0" y="391860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A10B8-FB15-425A-803B-50F5C03A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2860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6584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02720" y="391860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80C56-8638-49C5-A50E-F70E50FE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D9C6E-4C04-48B6-BD42-C9039758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82B45-98A6-40CE-B9EC-0F775B04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CA131-B9B3-4F8D-BDDA-967231A0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c39e00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281C-4CDB-4AE0-8E43-D47D54DF0613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4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5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6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C89-445C-4E2F-88C7-4F0C0750AE14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9E79-0934-4C7C-A06F-03D723C410FB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0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1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2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CFA-05AA-4BA3-A65C-2B11E9C7DF18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3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4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5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BA47-A26B-4DC7-BE40-A2053B2E673A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dt" idx="37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8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502A-D4E0-49B5-AE3E-CA4F59C8A6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PMingLiU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c39e00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881-C594-499A-81C9-A9CB13DA0475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B7A-3DF9-40C8-9743-5B2EBB2BA237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0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1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242-3F9C-4A81-BB05-49B41B853E25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-533520" y="1371600"/>
            <a:ext cx="9906120" cy="1447920"/>
          </a:xfrm>
          <a:prstGeom prst="rect">
            <a:avLst/>
          </a:prstGeom>
          <a:solidFill>
            <a:srgbClr val="edffba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493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2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3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4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A0F-2989-4CC0-A323-E31E00ADDAC1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5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6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7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9759-5960-42F8-9E2D-3E0431708773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8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0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494E-910B-4BED-9130-E2D39A6A9717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4d4d4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1"/>
          </p:nvPr>
        </p:nvSpPr>
        <p:spPr>
          <a:xfrm>
            <a:off x="2282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3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ffffff"/>
                </a:solidFill>
                <a:latin typeface="Calibri"/>
                <a:ea typeface="PMingLiU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2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3"/>
          </p:nvPr>
        </p:nvSpPr>
        <p:spPr>
          <a:xfrm>
            <a:off x="8590320" y="6304320"/>
            <a:ext cx="269280" cy="269280"/>
          </a:xfrm>
          <a:prstGeom prst="rect">
            <a:avLst/>
          </a:prstGeom>
          <a:solidFill>
            <a:srgbClr val="015647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Calibri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F7D-4179-4756-8F81-38056C0F149F}" type="slidenum">
              <a:rPr b="0" lang="zh-TW" sz="1200" spc="-1" strike="noStrike">
                <a:solidFill>
                  <a:srgbClr val="ffffff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字方塊 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Calibri"/>
              </a:rPr>
              <a:t>绿叶蓝色通用</a:t>
            </a:r>
            <a:r>
              <a:rPr b="0" lang="en-US" sz="4000" spc="-1" strike="noStrike">
                <a:solidFill>
                  <a:srgbClr val="4d4d4d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228600" y="3733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6600"/>
              </a:solidFill>
              <a:latin typeface="Calibri"/>
            </a:endParaRPr>
          </a:p>
        </p:txBody>
      </p:sp>
      <p:sp>
        <p:nvSpPr>
          <p:cNvPr id="5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7:24:06Z</dcterms:created>
  <dc:creator>Your User Name</dc:creator>
  <dc:description/>
  <dc:language>en-US</dc:language>
  <cp:lastModifiedBy>王玉清</cp:lastModifiedBy>
  <dcterms:modified xsi:type="dcterms:W3CDTF">2016-02-25T02:38:37Z</dcterms:modified>
  <cp:revision>5</cp:revision>
  <dc:subject/>
  <dc:title>投影片 1</dc:title>
</cp:coreProperties>
</file>