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593-08F9-4BDA-8B18-25AD2330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BEC-183E-4447-842F-3BA3F72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D6B-3644-4BAB-A35B-E03D111D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DDE-89C6-4F78-9A44-46E0808D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8AB-AC4E-4073-BBF8-102B7857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40C7-15B1-42EC-B7D4-8F37A3B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D7D-7F6A-4415-984F-8D05BA52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B1A-6807-46E5-89F4-33FAFB73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9BF-D178-405F-8CA7-67807D0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947E-81A5-4E4E-8202-FE0E8E74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D49-8AA4-41F6-AC46-087EF8D2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9AD-8846-4392-B294-08752D6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BBA-FF52-4F2D-BCEC-0AA7E02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75CD-B649-4D9A-97BD-27C0635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A649-CFF4-4091-AC16-EC78349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CDC0-8930-46B4-9C71-28B2650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DFA-0F06-4839-9F15-339607BD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66A-5C56-4204-B84B-BD38170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3FD-E576-4544-BC82-8068E893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4CB-C340-452D-A457-966A690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1CF-5B25-4C62-8B46-B1EEB09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0D0-1334-4092-B8E0-3120BC2D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5B0-D1DE-4B9D-88F9-334EA47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B8F-ED33-4760-8B36-E8E75E2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7A46-70D0-47E7-A520-9FD22FC308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629-2A3B-4778-A8DF-2F3835B2A7D3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4704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绿叶水滴通用</a:t>
            </a:r>
            <a:r>
              <a:rPr b="1" lang="en-US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611280" y="-1440"/>
            <a:ext cx="936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57200" y="4781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d7e0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794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74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530280" y="4875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Calibri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2d7e08"/>
                </a:solidFill>
                <a:latin typeface="Calibri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Ari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04:23Z</dcterms:created>
  <dc:creator/>
  <dc:description/>
  <cp:keywords/>
  <dc:language>en-US</dc:language>
  <cp:lastModifiedBy>王玉清</cp:lastModifiedBy>
  <cp:lastPrinted>1899-12-30T00:00:00Z</cp:lastPrinted>
  <dcterms:modified xsi:type="dcterms:W3CDTF">2016-02-21T03:50:05Z</dcterms:modified>
  <cp:revision>4</cp:revision>
  <dc:subject/>
  <dc:title>绿叶水滴幻灯片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