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1F2-A3CC-4DC5-A871-A1353DC7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9C7-EE0B-44EE-A6B1-1E36F593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9D8-0AFD-4C0E-AFBA-0059E9B1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A4E-FB40-403E-9FC6-D3252A37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0B2-6D28-498B-A07D-08E13D71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2EA-9219-49BA-AD57-CE41434B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85A-C60A-4C46-BA54-E7D7EC15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174-C4CA-4CC0-A982-9A16864E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5F2-986F-4EEE-A832-4129EDB6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0B3-A62A-4325-A76E-0CDD1C3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1AE-7965-42BB-8214-855652E5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E47-124B-4E3C-8040-9462DF31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7A33F6-947B-496F-989B-41A139D6598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slide" Target="slide5.xml"/><Relationship Id="rId21" Type="http://schemas.openxmlformats.org/officeDocument/2006/relationships/slide" Target="slide5.xml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6.png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6.png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6.png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2"/>
          <p:cNvSpPr/>
          <p:nvPr/>
        </p:nvSpPr>
        <p:spPr>
          <a:xfrm>
            <a:off x="251640" y="141264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6"/>
          <a:srcRect l="1952" t="9994" r="79" b="1827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>
            <a:hlinkClick r:id="" action="ppaction://hlinkshowjump?jump=previousslide"/>
          </p:cNvPr>
          <p:cNvPicPr/>
          <p:nvPr/>
        </p:nvPicPr>
        <p:blipFill>
          <a:blip r:embed="rId17"/>
          <a:stretch/>
        </p:blipFill>
        <p:spPr>
          <a:xfrm>
            <a:off x="-340560" y="1491480"/>
            <a:ext cx="871200" cy="86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>
            <a:hlinkClick r:id="" action="ppaction://hlinkshowjump?jump=nextslide"/>
          </p:cNvPr>
          <p:cNvPicPr/>
          <p:nvPr/>
        </p:nvPicPr>
        <p:blipFill>
          <a:blip r:embed="rId18"/>
          <a:stretch/>
        </p:blipFill>
        <p:spPr>
          <a:xfrm>
            <a:off x="8532360" y="1491480"/>
            <a:ext cx="864720" cy="864720"/>
          </a:xfrm>
          <a:prstGeom prst="rect">
            <a:avLst/>
          </a:prstGeom>
          <a:ln w="0">
            <a:noFill/>
          </a:ln>
        </p:spPr>
      </p:pic>
      <p:sp>
        <p:nvSpPr>
          <p:cNvPr id="45" name="矩形 40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6" name="组合 41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47" name="矩形 42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19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组合 44"/>
          <p:cNvGrpSpPr/>
          <p:nvPr/>
        </p:nvGrpSpPr>
        <p:grpSpPr>
          <a:xfrm>
            <a:off x="388800" y="640080"/>
            <a:ext cx="8147880" cy="4241160"/>
            <a:chOff x="388800" y="640080"/>
            <a:chExt cx="8147880" cy="4241160"/>
          </a:xfrm>
        </p:grpSpPr>
        <p:sp>
          <p:nvSpPr>
            <p:cNvPr id="50" name="TextBox 45">
              <a:hlinkClick r:id="rId20" action="ppaction://hlinksldjump"/>
            </p:cNvPr>
            <p:cNvSpPr/>
            <p:nvPr/>
          </p:nvSpPr>
          <p:spPr>
            <a:xfrm>
              <a:off x="1245960" y="640080"/>
              <a:ext cx="729072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2f2f2"/>
                  </a:solidFill>
                  <a:latin typeface="汉仪中圆简"/>
                  <a:ea typeface="汉仪中圆简"/>
                </a:rPr>
                <a:t>绿芽通用</a:t>
              </a:r>
              <a:r>
                <a:rPr b="0" lang="en-US" sz="4000" spc="-1" strike="noStrike">
                  <a:solidFill>
                    <a:srgbClr val="f2f2f2"/>
                  </a:solidFill>
                  <a:latin typeface="汉仪中圆简"/>
                  <a:ea typeface="汉仪中圆简"/>
                </a:rPr>
                <a:t>PPT</a:t>
              </a:r>
              <a:r>
                <a:rPr b="0" lang="zh-CN" sz="4000" spc="-1" strike="noStrike">
                  <a:solidFill>
                    <a:srgbClr val="f2f2f2"/>
                  </a:solidFill>
                  <a:latin typeface="汉仪中圆简"/>
                  <a:ea typeface="汉仪中圆简"/>
                </a:rPr>
                <a:t>模板完整版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47">
              <a:hlinkClick r:id="rId21" action="ppaction://hlinksldjump"/>
            </p:cNvPr>
            <p:cNvSpPr/>
            <p:nvPr/>
          </p:nvSpPr>
          <p:spPr>
            <a:xfrm>
              <a:off x="388800" y="459360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2"/>
          <p:cNvSpPr/>
          <p:nvPr/>
        </p:nvSpPr>
        <p:spPr>
          <a:xfrm>
            <a:off x="399600" y="4528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rcRect l="0" t="10006" r="0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-340560" y="1491480"/>
            <a:ext cx="871200" cy="86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2360" y="1491480"/>
            <a:ext cx="864720" cy="864720"/>
          </a:xfrm>
          <a:prstGeom prst="rect">
            <a:avLst/>
          </a:prstGeom>
          <a:ln w="0">
            <a:noFill/>
          </a:ln>
        </p:spPr>
      </p:pic>
      <p:sp>
        <p:nvSpPr>
          <p:cNvPr id="56" name="矩形 30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7" name="组合 31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58" name="矩形 32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9" name="Picture 5" descr=""/>
            <p:cNvPicPr/>
            <p:nvPr/>
          </p:nvPicPr>
          <p:blipFill>
            <a:blip r:embed="rId4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组合 34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61" name="TextBox 35">
              <a:hlinkClick r:id="rId5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63" name="TextBox 37">
              <a:hlinkClick r:id="rId8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38">
            <a:hlinkClick r:id="rId9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9">
            <a:hlinkClick r:id="rId10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0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1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2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接连接符 43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70" name="直接连接符 44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71" name="直接连接符 45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72" name="直接连接符 46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1"/>
          <a:srcRect l="0" t="10362" r="0" b="0"/>
          <a:stretch/>
        </p:blipFill>
        <p:spPr>
          <a:xfrm>
            <a:off x="-36720" y="0"/>
            <a:ext cx="9180360" cy="51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-340560" y="1491480"/>
            <a:ext cx="871200" cy="86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2360" y="1491480"/>
            <a:ext cx="864720" cy="864720"/>
          </a:xfrm>
          <a:prstGeom prst="rect">
            <a:avLst/>
          </a:prstGeom>
          <a:ln w="0">
            <a:noFill/>
          </a:ln>
        </p:spPr>
      </p:pic>
      <p:sp>
        <p:nvSpPr>
          <p:cNvPr id="76" name="矩形 30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7" name="组合 31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78" name="矩形 32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9" name="Picture 5" descr=""/>
            <p:cNvPicPr/>
            <p:nvPr/>
          </p:nvPicPr>
          <p:blipFill>
            <a:blip r:embed="rId4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组合 34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81" name="TextBox 35">
              <a:hlinkClick r:id="rId5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3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83" name="TextBox 37">
              <a:hlinkClick r:id="rId8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38">
            <a:hlinkClick r:id="rId9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9">
            <a:hlinkClick r:id="rId10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0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1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2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连接符 43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90" name="直接连接符 44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91" name="直接连接符 45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92" name="直接连接符 46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rcRect l="0" t="9994" r="0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-340560" y="1491480"/>
            <a:ext cx="871200" cy="86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2360" y="1491480"/>
            <a:ext cx="864720" cy="864720"/>
          </a:xfrm>
          <a:prstGeom prst="rect">
            <a:avLst/>
          </a:prstGeom>
          <a:ln w="0">
            <a:noFill/>
          </a:ln>
        </p:spPr>
      </p:pic>
      <p:sp>
        <p:nvSpPr>
          <p:cNvPr id="96" name="矩形 30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7" name="组合 31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98" name="矩形 32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99" name="Picture 5" descr=""/>
            <p:cNvPicPr/>
            <p:nvPr/>
          </p:nvPicPr>
          <p:blipFill>
            <a:blip r:embed="rId4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组合 34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101" name="TextBox 35">
              <a:hlinkClick r:id="rId5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3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103" name="TextBox 37">
              <a:hlinkClick r:id="rId8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38">
            <a:hlinkClick r:id="rId9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9">
            <a:hlinkClick r:id="rId10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0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1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2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接连接符 43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0" name="直接连接符 44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1" name="直接连接符 45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2" name="直接连接符 46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0" y="0"/>
            <a:ext cx="9160200" cy="5143320"/>
          </a:xfrm>
          <a:prstGeom prst="rect">
            <a:avLst/>
          </a:prstGeom>
          <a:ln w="0">
            <a:noFill/>
          </a:ln>
        </p:spPr>
      </p:pic>
      <p:sp>
        <p:nvSpPr>
          <p:cNvPr id="114" name="矩形 34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5" name="组合 27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116" name="矩形 2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17" name="Picture 5" descr=""/>
            <p:cNvPicPr/>
            <p:nvPr/>
          </p:nvPicPr>
          <p:blipFill>
            <a:blip r:embed="rId2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28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119" name="TextBox 3">
              <a:hlinkClick r:id="rId3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121" name="TextBox 13">
              <a:hlinkClick r:id="rId6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5">
            <a:hlinkClick r:id="rId7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2">
            <a:hlinkClick r:id="rId8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4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5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直接连接符 20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28" name="直接连接符 29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29" name="直接连接符 30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30" name="直接连接符 31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pic>
        <p:nvPicPr>
          <p:cNvPr id="131" name="Picture 2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-340560" y="1491480"/>
            <a:ext cx="871200" cy="86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32360" y="1491480"/>
            <a:ext cx="864720" cy="86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0" y="0"/>
            <a:ext cx="9160200" cy="5143320"/>
          </a:xfrm>
          <a:prstGeom prst="rect">
            <a:avLst/>
          </a:prstGeom>
          <a:ln w="0">
            <a:noFill/>
          </a:ln>
        </p:spPr>
      </p:pic>
      <p:sp>
        <p:nvSpPr>
          <p:cNvPr id="134" name="矩形 57"/>
          <p:cNvSpPr/>
          <p:nvPr/>
        </p:nvSpPr>
        <p:spPr>
          <a:xfrm>
            <a:off x="0" y="-9720"/>
            <a:ext cx="9160200" cy="51433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795600" y="0"/>
            <a:ext cx="7552800" cy="4305960"/>
          </a:xfrm>
          <a:prstGeom prst="rect">
            <a:avLst/>
          </a:prstGeom>
          <a:solidFill>
            <a:srgbClr val="0f0f0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矩形 18"/>
          <p:cNvSpPr/>
          <p:nvPr/>
        </p:nvSpPr>
        <p:spPr>
          <a:xfrm>
            <a:off x="795600" y="-9720"/>
            <a:ext cx="7552800" cy="4315680"/>
          </a:xfrm>
          <a:prstGeom prst="rect">
            <a:avLst/>
          </a:prstGeom>
          <a:solidFill>
            <a:srgbClr val="c8f9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79560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矩形 21"/>
          <p:cNvSpPr/>
          <p:nvPr/>
        </p:nvSpPr>
        <p:spPr>
          <a:xfrm>
            <a:off x="187452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矩形 27"/>
          <p:cNvSpPr/>
          <p:nvPr/>
        </p:nvSpPr>
        <p:spPr>
          <a:xfrm>
            <a:off x="295344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矩形 28"/>
          <p:cNvSpPr/>
          <p:nvPr/>
        </p:nvSpPr>
        <p:spPr>
          <a:xfrm>
            <a:off x="403236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矩形 32"/>
          <p:cNvSpPr/>
          <p:nvPr/>
        </p:nvSpPr>
        <p:spPr>
          <a:xfrm>
            <a:off x="511164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矩形 33"/>
          <p:cNvSpPr/>
          <p:nvPr/>
        </p:nvSpPr>
        <p:spPr>
          <a:xfrm>
            <a:off x="619056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矩形 35"/>
          <p:cNvSpPr/>
          <p:nvPr/>
        </p:nvSpPr>
        <p:spPr>
          <a:xfrm>
            <a:off x="726948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矩形 36"/>
          <p:cNvSpPr/>
          <p:nvPr/>
        </p:nvSpPr>
        <p:spPr>
          <a:xfrm>
            <a:off x="79560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矩形 37"/>
          <p:cNvSpPr/>
          <p:nvPr/>
        </p:nvSpPr>
        <p:spPr>
          <a:xfrm>
            <a:off x="187452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矩形 38"/>
          <p:cNvSpPr/>
          <p:nvPr/>
        </p:nvSpPr>
        <p:spPr>
          <a:xfrm>
            <a:off x="295344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矩形 39"/>
          <p:cNvSpPr/>
          <p:nvPr/>
        </p:nvSpPr>
        <p:spPr>
          <a:xfrm>
            <a:off x="403236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40"/>
          <p:cNvSpPr/>
          <p:nvPr/>
        </p:nvSpPr>
        <p:spPr>
          <a:xfrm>
            <a:off x="511164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41"/>
          <p:cNvSpPr/>
          <p:nvPr/>
        </p:nvSpPr>
        <p:spPr>
          <a:xfrm>
            <a:off x="619056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矩形 42"/>
          <p:cNvSpPr/>
          <p:nvPr/>
        </p:nvSpPr>
        <p:spPr>
          <a:xfrm>
            <a:off x="726948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43"/>
          <p:cNvSpPr/>
          <p:nvPr/>
        </p:nvSpPr>
        <p:spPr>
          <a:xfrm>
            <a:off x="79560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矩形 44"/>
          <p:cNvSpPr/>
          <p:nvPr/>
        </p:nvSpPr>
        <p:spPr>
          <a:xfrm>
            <a:off x="187452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矩形 45"/>
          <p:cNvSpPr/>
          <p:nvPr/>
        </p:nvSpPr>
        <p:spPr>
          <a:xfrm>
            <a:off x="295344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矩形 46"/>
          <p:cNvSpPr/>
          <p:nvPr/>
        </p:nvSpPr>
        <p:spPr>
          <a:xfrm>
            <a:off x="403236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矩形 47"/>
          <p:cNvSpPr/>
          <p:nvPr/>
        </p:nvSpPr>
        <p:spPr>
          <a:xfrm>
            <a:off x="511164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矩形 48"/>
          <p:cNvSpPr/>
          <p:nvPr/>
        </p:nvSpPr>
        <p:spPr>
          <a:xfrm>
            <a:off x="619056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矩形 49"/>
          <p:cNvSpPr/>
          <p:nvPr/>
        </p:nvSpPr>
        <p:spPr>
          <a:xfrm>
            <a:off x="726948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矩形 50"/>
          <p:cNvSpPr/>
          <p:nvPr/>
        </p:nvSpPr>
        <p:spPr>
          <a:xfrm>
            <a:off x="79560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矩形 51"/>
          <p:cNvSpPr/>
          <p:nvPr/>
        </p:nvSpPr>
        <p:spPr>
          <a:xfrm>
            <a:off x="187452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矩形 52"/>
          <p:cNvSpPr/>
          <p:nvPr/>
        </p:nvSpPr>
        <p:spPr>
          <a:xfrm>
            <a:off x="295344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矩形 53"/>
          <p:cNvSpPr/>
          <p:nvPr/>
        </p:nvSpPr>
        <p:spPr>
          <a:xfrm>
            <a:off x="403236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矩形 54"/>
          <p:cNvSpPr/>
          <p:nvPr/>
        </p:nvSpPr>
        <p:spPr>
          <a:xfrm>
            <a:off x="511164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矩形 55"/>
          <p:cNvSpPr/>
          <p:nvPr/>
        </p:nvSpPr>
        <p:spPr>
          <a:xfrm>
            <a:off x="619056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矩形 56"/>
          <p:cNvSpPr/>
          <p:nvPr/>
        </p:nvSpPr>
        <p:spPr>
          <a:xfrm>
            <a:off x="726948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矩形 76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6" name="组合 77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167" name="矩形 78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8" name="Picture 5" descr=""/>
            <p:cNvPicPr/>
            <p:nvPr/>
          </p:nvPicPr>
          <p:blipFill>
            <a:blip r:embed="rId2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组合 80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170" name="TextBox 81">
              <a:hlinkClick r:id="rId3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172" name="TextBox 83">
              <a:hlinkClick r:id="rId6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Box 84">
            <a:hlinkClick r:id="rId7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5">
            <a:hlinkClick r:id="rId8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6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7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8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直接连接符 89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79" name="直接连接符 90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80" name="直接连接符 91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81" name="直接连接符 92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82" name="直接连接符 93"/>
          <p:cNvCxnSpPr/>
          <p:nvPr/>
        </p:nvCxnSpPr>
        <p:spPr>
          <a:xfrm>
            <a:off x="475344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3" name="直接连接符 94"/>
          <p:cNvCxnSpPr/>
          <p:nvPr/>
        </p:nvCxnSpPr>
        <p:spPr>
          <a:xfrm>
            <a:off x="478116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4" name="直接连接符 95"/>
          <p:cNvCxnSpPr/>
          <p:nvPr/>
        </p:nvCxnSpPr>
        <p:spPr>
          <a:xfrm>
            <a:off x="480888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5" name="直接连接符 96"/>
          <p:cNvCxnSpPr/>
          <p:nvPr/>
        </p:nvCxnSpPr>
        <p:spPr>
          <a:xfrm>
            <a:off x="483660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6" name="直接连接符 97"/>
          <p:cNvCxnSpPr/>
          <p:nvPr/>
        </p:nvCxnSpPr>
        <p:spPr>
          <a:xfrm>
            <a:off x="486432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7" name="直接连接符 98"/>
          <p:cNvCxnSpPr/>
          <p:nvPr/>
        </p:nvCxnSpPr>
        <p:spPr>
          <a:xfrm>
            <a:off x="489168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8" name="直接连接符 99"/>
          <p:cNvCxnSpPr/>
          <p:nvPr/>
        </p:nvCxnSpPr>
        <p:spPr>
          <a:xfrm>
            <a:off x="491940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9" name="直接连接符 100"/>
          <p:cNvCxnSpPr/>
          <p:nvPr/>
        </p:nvCxnSpPr>
        <p:spPr>
          <a:xfrm>
            <a:off x="494712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0" name="直接连接符 101"/>
          <p:cNvCxnSpPr/>
          <p:nvPr/>
        </p:nvCxnSpPr>
        <p:spPr>
          <a:xfrm>
            <a:off x="497484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1" name="直接连接符 102"/>
          <p:cNvCxnSpPr/>
          <p:nvPr/>
        </p:nvCxnSpPr>
        <p:spPr>
          <a:xfrm>
            <a:off x="500256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2" name="直接连接符 103"/>
          <p:cNvCxnSpPr/>
          <p:nvPr/>
        </p:nvCxnSpPr>
        <p:spPr>
          <a:xfrm>
            <a:off x="503028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3" name="直接连接符 104"/>
          <p:cNvCxnSpPr/>
          <p:nvPr/>
        </p:nvCxnSpPr>
        <p:spPr>
          <a:xfrm>
            <a:off x="505800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4" name="直接连接符 105"/>
          <p:cNvCxnSpPr/>
          <p:nvPr/>
        </p:nvCxnSpPr>
        <p:spPr>
          <a:xfrm>
            <a:off x="508536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5" name="直接连接符 106"/>
          <p:cNvCxnSpPr/>
          <p:nvPr/>
        </p:nvCxnSpPr>
        <p:spPr>
          <a:xfrm>
            <a:off x="511308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6" name="直接连接符 107"/>
          <p:cNvCxnSpPr/>
          <p:nvPr/>
        </p:nvCxnSpPr>
        <p:spPr>
          <a:xfrm>
            <a:off x="514080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7" name="直接连接符 108"/>
          <p:cNvCxnSpPr/>
          <p:nvPr/>
        </p:nvCxnSpPr>
        <p:spPr>
          <a:xfrm>
            <a:off x="516852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8" name="直接连接符 109"/>
          <p:cNvCxnSpPr/>
          <p:nvPr/>
        </p:nvCxnSpPr>
        <p:spPr>
          <a:xfrm>
            <a:off x="519624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sp>
        <p:nvSpPr>
          <p:cNvPr id="199" name="Text Box 7"/>
          <p:cNvSpPr/>
          <p:nvPr/>
        </p:nvSpPr>
        <p:spPr>
          <a:xfrm>
            <a:off x="399600" y="47192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0" p14:dur="10"/>
    </mc:Choice>
    <mc:Fallback>
      <p:transition advTm="0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6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26">
                                  <p:stCondLst>
                                    <p:cond delay="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>
                                  <p:stCondLst>
                                    <p:cond delay="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26">
                                  <p:stCondLst>
                                    <p:cond delay="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26">
                                  <p:stCondLst>
                                    <p:cond delay="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6">
                                  <p:stCondLst>
                                    <p:cond delay="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26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26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5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8" presetSubtype="9">
                                  <p:stCondLst>
                                    <p:cond delay="75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205" dur="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3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3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3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3" presetSubtype="3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3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3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3" presetSubtype="3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3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3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3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3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3" presetSubtype="3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3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3" presetSubtype="3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3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3" presetSubtype="3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3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3" presetSubtype="3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3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3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3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3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32">
                                  <p:stCondLst>
                                    <p:cond delay="10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3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32">
                                  <p:stCondLst>
                                    <p:cond delay="10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3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32">
                                  <p:stCondLst>
                                    <p:cond delay="10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3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32">
                                  <p:stCondLst>
                                    <p:cond delay="10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3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3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3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3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32">
                                  <p:stCondLst>
                                    <p:cond delay="1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3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32">
                                  <p:stCondLst>
                                    <p:cond delay="1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3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3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3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6" presetSubtype="26">
                                  <p:stCondLst>
                                    <p:cond delay="3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29" dur="3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6" presetSubtype="42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3" dur="3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6" presetSubtype="26">
                                  <p:stCondLst>
                                    <p:cond delay="4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35" dur="3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3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6" presetSubtype="26">
                                  <p:stCondLst>
                                    <p:cond delay="4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41" dur="3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42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5" dur="3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6" presetSubtype="26">
                                  <p:stCondLst>
                                    <p:cond delay="5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47" dur="3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1" dur="3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6" presetSubtype="26">
                                  <p:stCondLst>
                                    <p:cond delay="5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53" dur="3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7" dur="3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6" presetSubtype="26">
                                  <p:stCondLst>
                                    <p:cond delay="6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59" dur="3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3" dur="3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6" presetSubtype="26">
                                  <p:stCondLst>
                                    <p:cond delay="6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65" dur="3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6" presetSubtype="42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3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6" presetSubtype="26">
                                  <p:stCondLst>
                                    <p:cond delay="7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1" dur="3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6" presetSubtype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5" dur="3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6" presetSubtype="26">
                                  <p:stCondLst>
                                    <p:cond delay="7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7" dur="3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6" presetSubtype="42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1" dur="3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6" presetSubtype="26">
                                  <p:stCondLst>
                                    <p:cond delay="8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83" dur="3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3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6" presetSubtype="26">
                                  <p:stCondLst>
                                    <p:cond delay="8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89" dur="3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6" presetSubtype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3" dur="3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6" presetSubtype="26">
                                  <p:stCondLst>
                                    <p:cond delay="9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95" dur="3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3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6" presetSubtype="26">
                                  <p:stCondLst>
                                    <p:cond delay="9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01" dur="3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6" presetSubtype="4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3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07" dur="3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6" presetSubtype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1" dur="3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6" presetSubtype="26">
                                  <p:stCondLst>
                                    <p:cond delay="10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13" dur="3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6" presetSubtype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7" dur="3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6" presetSubtype="26">
                                  <p:stCondLst>
                                    <p:cond delay="11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19" dur="3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6" presetSubtype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3" dur="3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6" presetSubtype="26">
                                  <p:stCondLst>
                                    <p:cond delay="11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25" dur="3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1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0" y="0"/>
            <a:ext cx="9160200" cy="5143320"/>
          </a:xfrm>
          <a:prstGeom prst="rect">
            <a:avLst/>
          </a:prstGeom>
          <a:ln w="0">
            <a:noFill/>
          </a:ln>
        </p:spPr>
      </p:pic>
      <p:sp>
        <p:nvSpPr>
          <p:cNvPr id="201" name="矩形 57"/>
          <p:cNvSpPr/>
          <p:nvPr/>
        </p:nvSpPr>
        <p:spPr>
          <a:xfrm>
            <a:off x="0" y="-9720"/>
            <a:ext cx="9160200" cy="51433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矩形 58"/>
          <p:cNvSpPr/>
          <p:nvPr/>
        </p:nvSpPr>
        <p:spPr>
          <a:xfrm>
            <a:off x="795600" y="0"/>
            <a:ext cx="7552800" cy="4305960"/>
          </a:xfrm>
          <a:prstGeom prst="rect">
            <a:avLst/>
          </a:prstGeom>
          <a:solidFill>
            <a:srgbClr val="0f0f0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矩形 21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4" name="组合 27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205" name="矩形 28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06" name="Picture 5" descr=""/>
            <p:cNvPicPr/>
            <p:nvPr/>
          </p:nvPicPr>
          <p:blipFill>
            <a:blip r:embed="rId2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组合 33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208" name="TextBox 35">
              <a:hlinkClick r:id="rId3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210" name="TextBox 37">
              <a:hlinkClick r:id="rId6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Box 38">
            <a:hlinkClick r:id="rId7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9">
            <a:hlinkClick r:id="rId8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c6fb0e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0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2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接连接符 43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17" name="直接连接符 44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18" name="直接连接符 45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19" name="直接连接符 46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1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0" y="0"/>
            <a:ext cx="9160200" cy="5143320"/>
          </a:xfrm>
          <a:prstGeom prst="rect">
            <a:avLst/>
          </a:prstGeom>
          <a:ln w="0">
            <a:noFill/>
          </a:ln>
        </p:spPr>
      </p:pic>
      <p:sp>
        <p:nvSpPr>
          <p:cNvPr id="221" name="矩形 57"/>
          <p:cNvSpPr/>
          <p:nvPr/>
        </p:nvSpPr>
        <p:spPr>
          <a:xfrm>
            <a:off x="0" y="-9720"/>
            <a:ext cx="9160200" cy="51433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矩形 21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23" name="组合 27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224" name="矩形 28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25" name="Picture 5" descr=""/>
            <p:cNvPicPr/>
            <p:nvPr/>
          </p:nvPicPr>
          <p:blipFill>
            <a:blip r:embed="rId2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组合 33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227" name="TextBox 35">
              <a:hlinkClick r:id="rId3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229" name="TextBox 37">
              <a:hlinkClick r:id="rId6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Box 38">
            <a:hlinkClick r:id="rId7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9">
            <a:hlinkClick r:id="rId8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0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1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2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c6fb0e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直接连接符 43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36" name="直接连接符 44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37" name="直接连接符 45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38" name="直接连接符 46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grpSp>
        <p:nvGrpSpPr>
          <p:cNvPr id="239" name="组合 23"/>
          <p:cNvGrpSpPr/>
          <p:nvPr/>
        </p:nvGrpSpPr>
        <p:grpSpPr>
          <a:xfrm>
            <a:off x="1991880" y="590040"/>
            <a:ext cx="565200" cy="710640"/>
            <a:chOff x="1991880" y="590040"/>
            <a:chExt cx="565200" cy="710640"/>
          </a:xfrm>
        </p:grpSpPr>
        <p:sp>
          <p:nvSpPr>
            <p:cNvPr id="240" name="椭圆 24"/>
            <p:cNvSpPr/>
            <p:nvPr/>
          </p:nvSpPr>
          <p:spPr>
            <a:xfrm>
              <a:off x="1991880" y="67320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椭圆 25"/>
            <p:cNvSpPr/>
            <p:nvPr/>
          </p:nvSpPr>
          <p:spPr>
            <a:xfrm>
              <a:off x="2246400" y="91836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42" name="组合 26"/>
            <p:cNvGrpSpPr/>
            <p:nvPr/>
          </p:nvGrpSpPr>
          <p:grpSpPr>
            <a:xfrm>
              <a:off x="2264760" y="590040"/>
              <a:ext cx="24480" cy="710640"/>
              <a:chOff x="2264760" y="590040"/>
              <a:chExt cx="24480" cy="710640"/>
            </a:xfrm>
          </p:grpSpPr>
          <p:sp>
            <p:nvSpPr>
              <p:cNvPr id="243" name="等腰三角形 52"/>
              <p:cNvSpPr/>
              <p:nvPr/>
            </p:nvSpPr>
            <p:spPr>
              <a:xfrm flipH="1" rot="10800000">
                <a:off x="2264760" y="9421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" name="等腰三角形 53"/>
              <p:cNvSpPr/>
              <p:nvPr/>
            </p:nvSpPr>
            <p:spPr>
              <a:xfrm flipH="1">
                <a:off x="2264400" y="59004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5" name="组合 29"/>
            <p:cNvGrpSpPr/>
            <p:nvPr/>
          </p:nvGrpSpPr>
          <p:grpSpPr>
            <a:xfrm>
              <a:off x="2018160" y="936720"/>
              <a:ext cx="526680" cy="24840"/>
              <a:chOff x="2018160" y="936720"/>
              <a:chExt cx="526680" cy="24840"/>
            </a:xfrm>
          </p:grpSpPr>
          <p:sp>
            <p:nvSpPr>
              <p:cNvPr id="246" name="等腰三角形 50"/>
              <p:cNvSpPr/>
              <p:nvPr/>
            </p:nvSpPr>
            <p:spPr>
              <a:xfrm flipH="1" rot="5400000">
                <a:off x="2400840" y="8172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" name="等腰三角形 51"/>
              <p:cNvSpPr/>
              <p:nvPr/>
            </p:nvSpPr>
            <p:spPr>
              <a:xfrm rot="16200000">
                <a:off x="2137680" y="8179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8" name="组合 30"/>
            <p:cNvGrpSpPr/>
            <p:nvPr/>
          </p:nvGrpSpPr>
          <p:grpSpPr>
            <a:xfrm>
              <a:off x="2183400" y="817920"/>
              <a:ext cx="190800" cy="289440"/>
              <a:chOff x="2183400" y="817920"/>
              <a:chExt cx="190800" cy="289440"/>
            </a:xfrm>
          </p:grpSpPr>
          <p:sp>
            <p:nvSpPr>
              <p:cNvPr id="249" name="等腰三角形 48"/>
              <p:cNvSpPr/>
              <p:nvPr/>
            </p:nvSpPr>
            <p:spPr>
              <a:xfrm flipH="1" rot="12715800">
                <a:off x="2225160" y="94752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" name="等腰三角形 49"/>
              <p:cNvSpPr/>
              <p:nvPr/>
            </p:nvSpPr>
            <p:spPr>
              <a:xfrm rot="1955400">
                <a:off x="2313000" y="8092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1" name="组合 31"/>
            <p:cNvGrpSpPr/>
            <p:nvPr/>
          </p:nvGrpSpPr>
          <p:grpSpPr>
            <a:xfrm>
              <a:off x="2120400" y="847440"/>
              <a:ext cx="276480" cy="189360"/>
              <a:chOff x="2120400" y="847440"/>
              <a:chExt cx="276480" cy="189360"/>
            </a:xfrm>
          </p:grpSpPr>
          <p:sp>
            <p:nvSpPr>
              <p:cNvPr id="252" name="等腰三角形 34"/>
              <p:cNvSpPr/>
              <p:nvPr/>
            </p:nvSpPr>
            <p:spPr>
              <a:xfrm flipH="1" rot="7386000">
                <a:off x="2318400" y="9079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" name="等腰三角形 47"/>
              <p:cNvSpPr/>
              <p:nvPr/>
            </p:nvSpPr>
            <p:spPr>
              <a:xfrm flipH="1" rot="18163800">
                <a:off x="2182680" y="81756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254" name="椭圆 54"/>
          <p:cNvSpPr/>
          <p:nvPr/>
        </p:nvSpPr>
        <p:spPr>
          <a:xfrm>
            <a:off x="4164840" y="2219760"/>
            <a:ext cx="1054800" cy="1054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79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5" name="组合 55"/>
          <p:cNvGrpSpPr/>
          <p:nvPr/>
        </p:nvGrpSpPr>
        <p:grpSpPr>
          <a:xfrm>
            <a:off x="4686840" y="2091240"/>
            <a:ext cx="45720" cy="1325160"/>
            <a:chOff x="4686840" y="2091240"/>
            <a:chExt cx="45720" cy="1325160"/>
          </a:xfrm>
        </p:grpSpPr>
        <p:sp>
          <p:nvSpPr>
            <p:cNvPr id="256" name="等腰三角形 56"/>
            <p:cNvSpPr/>
            <p:nvPr/>
          </p:nvSpPr>
          <p:spPr>
            <a:xfrm flipH="1" rot="10800000">
              <a:off x="4687200" y="2747520"/>
              <a:ext cx="45360" cy="668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7" name="等腰三角形 59"/>
            <p:cNvSpPr/>
            <p:nvPr/>
          </p:nvSpPr>
          <p:spPr>
            <a:xfrm flipH="1">
              <a:off x="4686840" y="2091240"/>
              <a:ext cx="45360" cy="668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8" name="组合 60"/>
          <p:cNvGrpSpPr/>
          <p:nvPr/>
        </p:nvGrpSpPr>
        <p:grpSpPr>
          <a:xfrm>
            <a:off x="4240800" y="2699640"/>
            <a:ext cx="982800" cy="46440"/>
            <a:chOff x="4240800" y="2699640"/>
            <a:chExt cx="982800" cy="46440"/>
          </a:xfrm>
        </p:grpSpPr>
        <p:sp>
          <p:nvSpPr>
            <p:cNvPr id="259" name="等腰三角形 61"/>
            <p:cNvSpPr/>
            <p:nvPr/>
          </p:nvSpPr>
          <p:spPr>
            <a:xfrm flipH="1" rot="5400000">
              <a:off x="4954680" y="2476440"/>
              <a:ext cx="45360" cy="4914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等腰三角形 62"/>
            <p:cNvSpPr/>
            <p:nvPr/>
          </p:nvSpPr>
          <p:spPr>
            <a:xfrm rot="16200000">
              <a:off x="4463640" y="2477520"/>
              <a:ext cx="45360" cy="4914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1" name="组合 63"/>
          <p:cNvGrpSpPr/>
          <p:nvPr/>
        </p:nvGrpSpPr>
        <p:grpSpPr>
          <a:xfrm>
            <a:off x="4539240" y="2474640"/>
            <a:ext cx="356400" cy="541080"/>
            <a:chOff x="4539240" y="2474640"/>
            <a:chExt cx="356400" cy="541080"/>
          </a:xfrm>
        </p:grpSpPr>
        <p:sp>
          <p:nvSpPr>
            <p:cNvPr id="262" name="等腰三角形 64"/>
            <p:cNvSpPr/>
            <p:nvPr/>
          </p:nvSpPr>
          <p:spPr>
            <a:xfrm flipH="1" rot="12715800">
              <a:off x="4619880" y="2717640"/>
              <a:ext cx="32400" cy="313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等腰三角形 65"/>
            <p:cNvSpPr/>
            <p:nvPr/>
          </p:nvSpPr>
          <p:spPr>
            <a:xfrm rot="1955400">
              <a:off x="4781160" y="2458440"/>
              <a:ext cx="32400" cy="313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4" name="组合 66"/>
          <p:cNvGrpSpPr/>
          <p:nvPr/>
        </p:nvGrpSpPr>
        <p:grpSpPr>
          <a:xfrm>
            <a:off x="4435200" y="2545560"/>
            <a:ext cx="517320" cy="353520"/>
            <a:chOff x="4435200" y="2545560"/>
            <a:chExt cx="517320" cy="353520"/>
          </a:xfrm>
        </p:grpSpPr>
        <p:sp>
          <p:nvSpPr>
            <p:cNvPr id="265" name="等腰三角形 67"/>
            <p:cNvSpPr/>
            <p:nvPr/>
          </p:nvSpPr>
          <p:spPr>
            <a:xfrm flipH="1" rot="7386000">
              <a:off x="4805640" y="2658600"/>
              <a:ext cx="30240" cy="2941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等腰三角形 68"/>
            <p:cNvSpPr/>
            <p:nvPr/>
          </p:nvSpPr>
          <p:spPr>
            <a:xfrm flipH="1" rot="18163800">
              <a:off x="4551840" y="2489760"/>
              <a:ext cx="30240" cy="2937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7" name="椭圆 69"/>
          <p:cNvSpPr/>
          <p:nvPr/>
        </p:nvSpPr>
        <p:spPr>
          <a:xfrm>
            <a:off x="4669200" y="2674800"/>
            <a:ext cx="68760" cy="687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  <a:effectLst>
            <a:glow rad="63360">
              <a:srgbClr val="558ed5">
                <a:alpha val="47000"/>
              </a:srgbClr>
            </a:glow>
            <a:softEdge rad="38160"/>
          </a:effectLst>
          <a:scene3d>
            <a:camera prst="orthographicFront"/>
            <a:lightRig dir="t" rig="threePt"/>
          </a:scene3d>
          <a:sp3d prstMaterial="powder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椭圆 70"/>
          <p:cNvSpPr/>
          <p:nvPr/>
        </p:nvSpPr>
        <p:spPr>
          <a:xfrm>
            <a:off x="2126160" y="1608120"/>
            <a:ext cx="1882800" cy="188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808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69" name="组合 71"/>
          <p:cNvGrpSpPr/>
          <p:nvPr/>
        </p:nvGrpSpPr>
        <p:grpSpPr>
          <a:xfrm>
            <a:off x="3033000" y="1586880"/>
            <a:ext cx="45720" cy="1836000"/>
            <a:chOff x="3033000" y="1586880"/>
            <a:chExt cx="45720" cy="1836000"/>
          </a:xfrm>
        </p:grpSpPr>
        <p:sp>
          <p:nvSpPr>
            <p:cNvPr id="270" name="等腰三角形 72"/>
            <p:cNvSpPr/>
            <p:nvPr/>
          </p:nvSpPr>
          <p:spPr>
            <a:xfrm>
              <a:off x="3033000" y="1586880"/>
              <a:ext cx="45360" cy="971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等腰三角形 73"/>
            <p:cNvSpPr/>
            <p:nvPr/>
          </p:nvSpPr>
          <p:spPr>
            <a:xfrm rot="10800000">
              <a:off x="3033360" y="2559240"/>
              <a:ext cx="45360" cy="86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2" name="组合 74"/>
          <p:cNvGrpSpPr/>
          <p:nvPr/>
        </p:nvGrpSpPr>
        <p:grpSpPr>
          <a:xfrm>
            <a:off x="2259360" y="2500200"/>
            <a:ext cx="1639080" cy="50040"/>
            <a:chOff x="2259360" y="2500200"/>
            <a:chExt cx="1639080" cy="50040"/>
          </a:xfrm>
        </p:grpSpPr>
        <p:sp>
          <p:nvSpPr>
            <p:cNvPr id="273" name="等腰三角形 75"/>
            <p:cNvSpPr/>
            <p:nvPr/>
          </p:nvSpPr>
          <p:spPr>
            <a:xfrm flipH="1" rot="5400000">
              <a:off x="3465000" y="2116800"/>
              <a:ext cx="49680" cy="817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" name="等腰三角形 76"/>
            <p:cNvSpPr/>
            <p:nvPr/>
          </p:nvSpPr>
          <p:spPr>
            <a:xfrm flipH="1" rot="16200000">
              <a:off x="2645280" y="2114280"/>
              <a:ext cx="45360" cy="817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75" name="椭圆 77"/>
          <p:cNvSpPr/>
          <p:nvPr/>
        </p:nvSpPr>
        <p:spPr>
          <a:xfrm>
            <a:off x="2940480" y="2409480"/>
            <a:ext cx="230760" cy="2307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  <a:scene3d>
            <a:camera prst="orthographicFront"/>
            <a:lightRig dir="t" rig="threePt"/>
          </a:scene3d>
          <a:sp3d prstMaterial="powder">
            <a:bevelT w="2476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6" name="组合 78"/>
          <p:cNvGrpSpPr/>
          <p:nvPr/>
        </p:nvGrpSpPr>
        <p:grpSpPr>
          <a:xfrm>
            <a:off x="2727720" y="2140560"/>
            <a:ext cx="678240" cy="741240"/>
            <a:chOff x="2727720" y="2140560"/>
            <a:chExt cx="678240" cy="741240"/>
          </a:xfrm>
        </p:grpSpPr>
        <p:sp>
          <p:nvSpPr>
            <p:cNvPr id="277" name="等腰三角形 79"/>
            <p:cNvSpPr/>
            <p:nvPr/>
          </p:nvSpPr>
          <p:spPr>
            <a:xfrm flipH="1" rot="2486400">
              <a:off x="3220920" y="2100240"/>
              <a:ext cx="45000" cy="439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等腰三角形 80"/>
            <p:cNvSpPr/>
            <p:nvPr/>
          </p:nvSpPr>
          <p:spPr>
            <a:xfrm flipH="1" rot="13327200">
              <a:off x="2869560" y="2484360"/>
              <a:ext cx="45360" cy="439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9" name="组合 81"/>
          <p:cNvGrpSpPr/>
          <p:nvPr/>
        </p:nvGrpSpPr>
        <p:grpSpPr>
          <a:xfrm>
            <a:off x="4816800" y="594000"/>
            <a:ext cx="565200" cy="710640"/>
            <a:chOff x="4816800" y="594000"/>
            <a:chExt cx="565200" cy="710640"/>
          </a:xfrm>
        </p:grpSpPr>
        <p:sp>
          <p:nvSpPr>
            <p:cNvPr id="280" name="椭圆 82"/>
            <p:cNvSpPr/>
            <p:nvPr/>
          </p:nvSpPr>
          <p:spPr>
            <a:xfrm>
              <a:off x="4816800" y="67680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椭圆 83"/>
            <p:cNvSpPr/>
            <p:nvPr/>
          </p:nvSpPr>
          <p:spPr>
            <a:xfrm>
              <a:off x="5071320" y="92232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82" name="组合 84"/>
            <p:cNvGrpSpPr/>
            <p:nvPr/>
          </p:nvGrpSpPr>
          <p:grpSpPr>
            <a:xfrm>
              <a:off x="5089680" y="594000"/>
              <a:ext cx="24480" cy="710640"/>
              <a:chOff x="5089680" y="594000"/>
              <a:chExt cx="24480" cy="710640"/>
            </a:xfrm>
          </p:grpSpPr>
          <p:sp>
            <p:nvSpPr>
              <p:cNvPr id="283" name="等腰三角形 94"/>
              <p:cNvSpPr/>
              <p:nvPr/>
            </p:nvSpPr>
            <p:spPr>
              <a:xfrm flipH="1" rot="10800000">
                <a:off x="5089680" y="94608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4" name="等腰三角形 95"/>
              <p:cNvSpPr/>
              <p:nvPr/>
            </p:nvSpPr>
            <p:spPr>
              <a:xfrm flipH="1">
                <a:off x="5089320" y="59400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85" name="组合 85"/>
            <p:cNvGrpSpPr/>
            <p:nvPr/>
          </p:nvGrpSpPr>
          <p:grpSpPr>
            <a:xfrm>
              <a:off x="4843080" y="940680"/>
              <a:ext cx="526680" cy="24840"/>
              <a:chOff x="4843080" y="940680"/>
              <a:chExt cx="526680" cy="24840"/>
            </a:xfrm>
          </p:grpSpPr>
          <p:sp>
            <p:nvSpPr>
              <p:cNvPr id="286" name="等腰三角形 92"/>
              <p:cNvSpPr/>
              <p:nvPr/>
            </p:nvSpPr>
            <p:spPr>
              <a:xfrm flipH="1" rot="5400000">
                <a:off x="5225760" y="82116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7" name="等腰三角形 93"/>
              <p:cNvSpPr/>
              <p:nvPr/>
            </p:nvSpPr>
            <p:spPr>
              <a:xfrm rot="16200000">
                <a:off x="4962600" y="82188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88" name="组合 86"/>
            <p:cNvGrpSpPr/>
            <p:nvPr/>
          </p:nvGrpSpPr>
          <p:grpSpPr>
            <a:xfrm>
              <a:off x="5008320" y="821520"/>
              <a:ext cx="190800" cy="289800"/>
              <a:chOff x="5008320" y="821520"/>
              <a:chExt cx="190800" cy="289800"/>
            </a:xfrm>
          </p:grpSpPr>
          <p:sp>
            <p:nvSpPr>
              <p:cNvPr id="289" name="等腰三角形 90"/>
              <p:cNvSpPr/>
              <p:nvPr/>
            </p:nvSpPr>
            <p:spPr>
              <a:xfrm flipH="1" rot="12715800">
                <a:off x="5050080" y="9514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0" name="等腰三角形 91"/>
              <p:cNvSpPr/>
              <p:nvPr/>
            </p:nvSpPr>
            <p:spPr>
              <a:xfrm rot="1955400">
                <a:off x="5137920" y="8128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91" name="组合 87"/>
            <p:cNvGrpSpPr/>
            <p:nvPr/>
          </p:nvGrpSpPr>
          <p:grpSpPr>
            <a:xfrm>
              <a:off x="4945320" y="851400"/>
              <a:ext cx="276480" cy="189360"/>
              <a:chOff x="4945320" y="851400"/>
              <a:chExt cx="276480" cy="189360"/>
            </a:xfrm>
          </p:grpSpPr>
          <p:sp>
            <p:nvSpPr>
              <p:cNvPr id="292" name="等腰三角形 88"/>
              <p:cNvSpPr/>
              <p:nvPr/>
            </p:nvSpPr>
            <p:spPr>
              <a:xfrm flipH="1" rot="7386000">
                <a:off x="5143320" y="91188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3" name="等腰三角形 89"/>
              <p:cNvSpPr/>
              <p:nvPr/>
            </p:nvSpPr>
            <p:spPr>
              <a:xfrm flipH="1" rot="18163800">
                <a:off x="5007600" y="82152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94" name="组合 96"/>
          <p:cNvGrpSpPr/>
          <p:nvPr/>
        </p:nvGrpSpPr>
        <p:grpSpPr>
          <a:xfrm>
            <a:off x="1527120" y="1795320"/>
            <a:ext cx="565200" cy="710640"/>
            <a:chOff x="1527120" y="1795320"/>
            <a:chExt cx="565200" cy="710640"/>
          </a:xfrm>
        </p:grpSpPr>
        <p:sp>
          <p:nvSpPr>
            <p:cNvPr id="295" name="椭圆 97"/>
            <p:cNvSpPr/>
            <p:nvPr/>
          </p:nvSpPr>
          <p:spPr>
            <a:xfrm>
              <a:off x="1527120" y="187812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" name="椭圆 98"/>
            <p:cNvSpPr/>
            <p:nvPr/>
          </p:nvSpPr>
          <p:spPr>
            <a:xfrm>
              <a:off x="1781640" y="212364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97" name="组合 99"/>
            <p:cNvGrpSpPr/>
            <p:nvPr/>
          </p:nvGrpSpPr>
          <p:grpSpPr>
            <a:xfrm>
              <a:off x="1800000" y="1795320"/>
              <a:ext cx="24480" cy="710640"/>
              <a:chOff x="1800000" y="1795320"/>
              <a:chExt cx="24480" cy="710640"/>
            </a:xfrm>
          </p:grpSpPr>
          <p:sp>
            <p:nvSpPr>
              <p:cNvPr id="298" name="等腰三角形 109"/>
              <p:cNvSpPr/>
              <p:nvPr/>
            </p:nvSpPr>
            <p:spPr>
              <a:xfrm flipH="1" rot="10800000">
                <a:off x="1800000" y="214740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9" name="等腰三角形 110"/>
              <p:cNvSpPr/>
              <p:nvPr/>
            </p:nvSpPr>
            <p:spPr>
              <a:xfrm flipH="1">
                <a:off x="1799640" y="17953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00" name="组合 100"/>
            <p:cNvGrpSpPr/>
            <p:nvPr/>
          </p:nvGrpSpPr>
          <p:grpSpPr>
            <a:xfrm>
              <a:off x="1553400" y="2142000"/>
              <a:ext cx="526320" cy="24840"/>
              <a:chOff x="1553400" y="2142000"/>
              <a:chExt cx="526320" cy="24840"/>
            </a:xfrm>
          </p:grpSpPr>
          <p:sp>
            <p:nvSpPr>
              <p:cNvPr id="301" name="等腰三角形 107"/>
              <p:cNvSpPr/>
              <p:nvPr/>
            </p:nvSpPr>
            <p:spPr>
              <a:xfrm flipH="1" rot="5400000">
                <a:off x="1935720" y="202248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2" name="等腰三角形 108"/>
              <p:cNvSpPr/>
              <p:nvPr/>
            </p:nvSpPr>
            <p:spPr>
              <a:xfrm rot="16200000">
                <a:off x="1672920" y="20232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03" name="组合 101"/>
            <p:cNvGrpSpPr/>
            <p:nvPr/>
          </p:nvGrpSpPr>
          <p:grpSpPr>
            <a:xfrm>
              <a:off x="1718640" y="2022840"/>
              <a:ext cx="190800" cy="289800"/>
              <a:chOff x="1718640" y="2022840"/>
              <a:chExt cx="190800" cy="289800"/>
            </a:xfrm>
          </p:grpSpPr>
          <p:sp>
            <p:nvSpPr>
              <p:cNvPr id="304" name="等腰三角形 105"/>
              <p:cNvSpPr/>
              <p:nvPr/>
            </p:nvSpPr>
            <p:spPr>
              <a:xfrm flipH="1" rot="12715800">
                <a:off x="1760400" y="215280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5" name="等腰三角形 106"/>
              <p:cNvSpPr/>
              <p:nvPr/>
            </p:nvSpPr>
            <p:spPr>
              <a:xfrm rot="1955400">
                <a:off x="1848240" y="20142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06" name="组合 102"/>
            <p:cNvGrpSpPr/>
            <p:nvPr/>
          </p:nvGrpSpPr>
          <p:grpSpPr>
            <a:xfrm>
              <a:off x="1655640" y="2052720"/>
              <a:ext cx="276480" cy="189360"/>
              <a:chOff x="1655640" y="2052720"/>
              <a:chExt cx="276480" cy="189360"/>
            </a:xfrm>
          </p:grpSpPr>
          <p:sp>
            <p:nvSpPr>
              <p:cNvPr id="307" name="等腰三角形 103"/>
              <p:cNvSpPr/>
              <p:nvPr/>
            </p:nvSpPr>
            <p:spPr>
              <a:xfrm flipH="1" rot="7386000">
                <a:off x="1853640" y="211320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8" name="等腰三角形 104"/>
              <p:cNvSpPr/>
              <p:nvPr/>
            </p:nvSpPr>
            <p:spPr>
              <a:xfrm flipH="1" rot="18163800">
                <a:off x="1717920" y="202284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09" name="组合 111"/>
          <p:cNvGrpSpPr/>
          <p:nvPr/>
        </p:nvGrpSpPr>
        <p:grpSpPr>
          <a:xfrm>
            <a:off x="6568920" y="2073240"/>
            <a:ext cx="565200" cy="710640"/>
            <a:chOff x="6568920" y="2073240"/>
            <a:chExt cx="565200" cy="710640"/>
          </a:xfrm>
        </p:grpSpPr>
        <p:sp>
          <p:nvSpPr>
            <p:cNvPr id="310" name="椭圆 112"/>
            <p:cNvSpPr/>
            <p:nvPr/>
          </p:nvSpPr>
          <p:spPr>
            <a:xfrm>
              <a:off x="6568920" y="215604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椭圆 113"/>
            <p:cNvSpPr/>
            <p:nvPr/>
          </p:nvSpPr>
          <p:spPr>
            <a:xfrm>
              <a:off x="6823440" y="240156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12" name="组合 114"/>
            <p:cNvGrpSpPr/>
            <p:nvPr/>
          </p:nvGrpSpPr>
          <p:grpSpPr>
            <a:xfrm>
              <a:off x="6841800" y="2073240"/>
              <a:ext cx="24480" cy="710640"/>
              <a:chOff x="6841800" y="2073240"/>
              <a:chExt cx="24480" cy="710640"/>
            </a:xfrm>
          </p:grpSpPr>
          <p:sp>
            <p:nvSpPr>
              <p:cNvPr id="313" name="等腰三角形 124"/>
              <p:cNvSpPr/>
              <p:nvPr/>
            </p:nvSpPr>
            <p:spPr>
              <a:xfrm flipH="1" rot="10800000">
                <a:off x="6841800" y="24253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4" name="等腰三角形 125"/>
              <p:cNvSpPr/>
              <p:nvPr/>
            </p:nvSpPr>
            <p:spPr>
              <a:xfrm flipH="1">
                <a:off x="6841440" y="207324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15"/>
            <p:cNvGrpSpPr/>
            <p:nvPr/>
          </p:nvGrpSpPr>
          <p:grpSpPr>
            <a:xfrm>
              <a:off x="6595200" y="2419920"/>
              <a:ext cx="526320" cy="24840"/>
              <a:chOff x="6595200" y="2419920"/>
              <a:chExt cx="526320" cy="24840"/>
            </a:xfrm>
          </p:grpSpPr>
          <p:sp>
            <p:nvSpPr>
              <p:cNvPr id="316" name="等腰三角形 122"/>
              <p:cNvSpPr/>
              <p:nvPr/>
            </p:nvSpPr>
            <p:spPr>
              <a:xfrm flipH="1" rot="5400000">
                <a:off x="6977520" y="23004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7" name="等腰三角形 123"/>
              <p:cNvSpPr/>
              <p:nvPr/>
            </p:nvSpPr>
            <p:spPr>
              <a:xfrm rot="16200000">
                <a:off x="6714720" y="23011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18" name="组合 116"/>
            <p:cNvGrpSpPr/>
            <p:nvPr/>
          </p:nvGrpSpPr>
          <p:grpSpPr>
            <a:xfrm>
              <a:off x="6760440" y="2300760"/>
              <a:ext cx="190440" cy="289800"/>
              <a:chOff x="6760440" y="2300760"/>
              <a:chExt cx="190440" cy="289800"/>
            </a:xfrm>
          </p:grpSpPr>
          <p:sp>
            <p:nvSpPr>
              <p:cNvPr id="319" name="等腰三角形 120"/>
              <p:cNvSpPr/>
              <p:nvPr/>
            </p:nvSpPr>
            <p:spPr>
              <a:xfrm flipH="1" rot="12715800">
                <a:off x="6802200" y="243072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0" name="等腰三角形 121"/>
              <p:cNvSpPr/>
              <p:nvPr/>
            </p:nvSpPr>
            <p:spPr>
              <a:xfrm rot="1955400">
                <a:off x="6889680" y="229212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21" name="组合 117"/>
            <p:cNvGrpSpPr/>
            <p:nvPr/>
          </p:nvGrpSpPr>
          <p:grpSpPr>
            <a:xfrm>
              <a:off x="6697440" y="2330640"/>
              <a:ext cx="276480" cy="189360"/>
              <a:chOff x="6697440" y="2330640"/>
              <a:chExt cx="276480" cy="189360"/>
            </a:xfrm>
          </p:grpSpPr>
          <p:sp>
            <p:nvSpPr>
              <p:cNvPr id="322" name="等腰三角形 118"/>
              <p:cNvSpPr/>
              <p:nvPr/>
            </p:nvSpPr>
            <p:spPr>
              <a:xfrm flipH="1" rot="7386000">
                <a:off x="6895440" y="23911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3" name="等腰三角形 119"/>
              <p:cNvSpPr/>
              <p:nvPr/>
            </p:nvSpPr>
            <p:spPr>
              <a:xfrm flipH="1" rot="18163800">
                <a:off x="6759720" y="230076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324" name="椭圆 126"/>
          <p:cNvSpPr/>
          <p:nvPr/>
        </p:nvSpPr>
        <p:spPr>
          <a:xfrm>
            <a:off x="6760440" y="1105920"/>
            <a:ext cx="1054800" cy="1054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79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5" name="组合 127"/>
          <p:cNvGrpSpPr/>
          <p:nvPr/>
        </p:nvGrpSpPr>
        <p:grpSpPr>
          <a:xfrm>
            <a:off x="7265160" y="992520"/>
            <a:ext cx="45720" cy="1325160"/>
            <a:chOff x="7265160" y="992520"/>
            <a:chExt cx="45720" cy="1325160"/>
          </a:xfrm>
        </p:grpSpPr>
        <p:sp>
          <p:nvSpPr>
            <p:cNvPr id="326" name="等腰三角形 128"/>
            <p:cNvSpPr/>
            <p:nvPr/>
          </p:nvSpPr>
          <p:spPr>
            <a:xfrm flipH="1" rot="10800000">
              <a:off x="7265520" y="1648800"/>
              <a:ext cx="45360" cy="668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7" name="等腰三角形 129"/>
            <p:cNvSpPr/>
            <p:nvPr/>
          </p:nvSpPr>
          <p:spPr>
            <a:xfrm flipH="1">
              <a:off x="7265160" y="992520"/>
              <a:ext cx="45360" cy="668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28" name="组合 130"/>
          <p:cNvGrpSpPr/>
          <p:nvPr/>
        </p:nvGrpSpPr>
        <p:grpSpPr>
          <a:xfrm>
            <a:off x="6819120" y="1600560"/>
            <a:ext cx="982800" cy="46800"/>
            <a:chOff x="6819120" y="1600560"/>
            <a:chExt cx="982800" cy="46800"/>
          </a:xfrm>
        </p:grpSpPr>
        <p:sp>
          <p:nvSpPr>
            <p:cNvPr id="329" name="等腰三角形 131"/>
            <p:cNvSpPr/>
            <p:nvPr/>
          </p:nvSpPr>
          <p:spPr>
            <a:xfrm flipH="1" rot="5400000">
              <a:off x="7533000" y="1377360"/>
              <a:ext cx="45360" cy="4914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等腰三角形 132"/>
            <p:cNvSpPr/>
            <p:nvPr/>
          </p:nvSpPr>
          <p:spPr>
            <a:xfrm rot="16200000">
              <a:off x="7041960" y="1378800"/>
              <a:ext cx="45360" cy="4914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31" name="组合 133"/>
          <p:cNvGrpSpPr/>
          <p:nvPr/>
        </p:nvGrpSpPr>
        <p:grpSpPr>
          <a:xfrm>
            <a:off x="7117560" y="1375920"/>
            <a:ext cx="356400" cy="540720"/>
            <a:chOff x="7117560" y="1375920"/>
            <a:chExt cx="356400" cy="540720"/>
          </a:xfrm>
        </p:grpSpPr>
        <p:sp>
          <p:nvSpPr>
            <p:cNvPr id="332" name="等腰三角形 134"/>
            <p:cNvSpPr/>
            <p:nvPr/>
          </p:nvSpPr>
          <p:spPr>
            <a:xfrm flipH="1" rot="12715800">
              <a:off x="7198200" y="1618560"/>
              <a:ext cx="32400" cy="313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3" name="等腰三角形 135"/>
            <p:cNvSpPr/>
            <p:nvPr/>
          </p:nvSpPr>
          <p:spPr>
            <a:xfrm rot="1955400">
              <a:off x="7359480" y="1359720"/>
              <a:ext cx="32400" cy="313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34" name="组合 136"/>
          <p:cNvGrpSpPr/>
          <p:nvPr/>
        </p:nvGrpSpPr>
        <p:grpSpPr>
          <a:xfrm>
            <a:off x="7013520" y="1446840"/>
            <a:ext cx="516960" cy="353160"/>
            <a:chOff x="7013520" y="1446840"/>
            <a:chExt cx="516960" cy="353160"/>
          </a:xfrm>
        </p:grpSpPr>
        <p:sp>
          <p:nvSpPr>
            <p:cNvPr id="335" name="等腰三角形 137"/>
            <p:cNvSpPr/>
            <p:nvPr/>
          </p:nvSpPr>
          <p:spPr>
            <a:xfrm flipH="1" rot="7386000">
              <a:off x="7383600" y="1559520"/>
              <a:ext cx="30240" cy="2941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6" name="等腰三角形 138"/>
            <p:cNvSpPr/>
            <p:nvPr/>
          </p:nvSpPr>
          <p:spPr>
            <a:xfrm flipH="1" rot="18163800">
              <a:off x="7130160" y="1391040"/>
              <a:ext cx="30240" cy="2937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37" name="椭圆 139"/>
          <p:cNvSpPr/>
          <p:nvPr/>
        </p:nvSpPr>
        <p:spPr>
          <a:xfrm>
            <a:off x="7247520" y="1576080"/>
            <a:ext cx="68760" cy="687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  <a:effectLst>
            <a:glow rad="63360">
              <a:srgbClr val="558ed5">
                <a:alpha val="47000"/>
              </a:srgbClr>
            </a:glow>
            <a:softEdge rad="38160"/>
          </a:effectLst>
          <a:scene3d>
            <a:camera prst="orthographicFront"/>
            <a:lightRig dir="t" rig="threePt"/>
          </a:scene3d>
          <a:sp3d prstMaterial="powder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8" name="组合 140"/>
          <p:cNvGrpSpPr/>
          <p:nvPr/>
        </p:nvGrpSpPr>
        <p:grpSpPr>
          <a:xfrm>
            <a:off x="6063840" y="2463840"/>
            <a:ext cx="565200" cy="710640"/>
            <a:chOff x="6063840" y="2463840"/>
            <a:chExt cx="565200" cy="710640"/>
          </a:xfrm>
        </p:grpSpPr>
        <p:sp>
          <p:nvSpPr>
            <p:cNvPr id="339" name="椭圆 141"/>
            <p:cNvSpPr/>
            <p:nvPr/>
          </p:nvSpPr>
          <p:spPr>
            <a:xfrm>
              <a:off x="6063840" y="254700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0" name="椭圆 142"/>
            <p:cNvSpPr/>
            <p:nvPr/>
          </p:nvSpPr>
          <p:spPr>
            <a:xfrm>
              <a:off x="6318360" y="279216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41" name="组合 143"/>
            <p:cNvGrpSpPr/>
            <p:nvPr/>
          </p:nvGrpSpPr>
          <p:grpSpPr>
            <a:xfrm>
              <a:off x="6336720" y="2463840"/>
              <a:ext cx="24480" cy="710640"/>
              <a:chOff x="6336720" y="2463840"/>
              <a:chExt cx="24480" cy="710640"/>
            </a:xfrm>
          </p:grpSpPr>
          <p:sp>
            <p:nvSpPr>
              <p:cNvPr id="342" name="等腰三角形 153"/>
              <p:cNvSpPr/>
              <p:nvPr/>
            </p:nvSpPr>
            <p:spPr>
              <a:xfrm flipH="1" rot="10800000">
                <a:off x="6336720" y="28159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3" name="等腰三角形 154"/>
              <p:cNvSpPr/>
              <p:nvPr/>
            </p:nvSpPr>
            <p:spPr>
              <a:xfrm flipH="1">
                <a:off x="6336360" y="246384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44" name="组合 144"/>
            <p:cNvGrpSpPr/>
            <p:nvPr/>
          </p:nvGrpSpPr>
          <p:grpSpPr>
            <a:xfrm>
              <a:off x="6090120" y="2810520"/>
              <a:ext cx="526320" cy="24840"/>
              <a:chOff x="6090120" y="2810520"/>
              <a:chExt cx="526320" cy="24840"/>
            </a:xfrm>
          </p:grpSpPr>
          <p:sp>
            <p:nvSpPr>
              <p:cNvPr id="345" name="等腰三角形 151"/>
              <p:cNvSpPr/>
              <p:nvPr/>
            </p:nvSpPr>
            <p:spPr>
              <a:xfrm flipH="1" rot="5400000">
                <a:off x="6472440" y="26910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6" name="等腰三角形 152"/>
              <p:cNvSpPr/>
              <p:nvPr/>
            </p:nvSpPr>
            <p:spPr>
              <a:xfrm rot="16200000">
                <a:off x="6209640" y="26917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47" name="组合 145"/>
            <p:cNvGrpSpPr/>
            <p:nvPr/>
          </p:nvGrpSpPr>
          <p:grpSpPr>
            <a:xfrm>
              <a:off x="6255360" y="2691720"/>
              <a:ext cx="190800" cy="289440"/>
              <a:chOff x="6255360" y="2691720"/>
              <a:chExt cx="190800" cy="289440"/>
            </a:xfrm>
          </p:grpSpPr>
          <p:sp>
            <p:nvSpPr>
              <p:cNvPr id="348" name="等腰三角形 149"/>
              <p:cNvSpPr/>
              <p:nvPr/>
            </p:nvSpPr>
            <p:spPr>
              <a:xfrm flipH="1" rot="12715800">
                <a:off x="6297120" y="282132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9" name="等腰三角形 150"/>
              <p:cNvSpPr/>
              <p:nvPr/>
            </p:nvSpPr>
            <p:spPr>
              <a:xfrm rot="1955400">
                <a:off x="6384960" y="26830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50" name="组合 146"/>
            <p:cNvGrpSpPr/>
            <p:nvPr/>
          </p:nvGrpSpPr>
          <p:grpSpPr>
            <a:xfrm>
              <a:off x="6192360" y="2721240"/>
              <a:ext cx="276480" cy="189360"/>
              <a:chOff x="6192360" y="2721240"/>
              <a:chExt cx="276480" cy="189360"/>
            </a:xfrm>
          </p:grpSpPr>
          <p:sp>
            <p:nvSpPr>
              <p:cNvPr id="351" name="等腰三角形 147"/>
              <p:cNvSpPr/>
              <p:nvPr/>
            </p:nvSpPr>
            <p:spPr>
              <a:xfrm flipH="1" rot="7386000">
                <a:off x="6390360" y="27817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2" name="等腰三角形 148"/>
              <p:cNvSpPr/>
              <p:nvPr/>
            </p:nvSpPr>
            <p:spPr>
              <a:xfrm flipH="1" rot="18163800">
                <a:off x="6254640" y="269136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53" name="组合 155"/>
          <p:cNvGrpSpPr/>
          <p:nvPr/>
        </p:nvGrpSpPr>
        <p:grpSpPr>
          <a:xfrm>
            <a:off x="5485680" y="1848240"/>
            <a:ext cx="565200" cy="710640"/>
            <a:chOff x="5485680" y="1848240"/>
            <a:chExt cx="565200" cy="710640"/>
          </a:xfrm>
        </p:grpSpPr>
        <p:sp>
          <p:nvSpPr>
            <p:cNvPr id="354" name="椭圆 156"/>
            <p:cNvSpPr/>
            <p:nvPr/>
          </p:nvSpPr>
          <p:spPr>
            <a:xfrm>
              <a:off x="5485680" y="193140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椭圆 157"/>
            <p:cNvSpPr/>
            <p:nvPr/>
          </p:nvSpPr>
          <p:spPr>
            <a:xfrm>
              <a:off x="5740200" y="217656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56" name="组合 158"/>
            <p:cNvGrpSpPr/>
            <p:nvPr/>
          </p:nvGrpSpPr>
          <p:grpSpPr>
            <a:xfrm>
              <a:off x="5758560" y="1848240"/>
              <a:ext cx="24480" cy="710640"/>
              <a:chOff x="5758560" y="1848240"/>
              <a:chExt cx="24480" cy="710640"/>
            </a:xfrm>
          </p:grpSpPr>
          <p:sp>
            <p:nvSpPr>
              <p:cNvPr id="357" name="等腰三角形 168"/>
              <p:cNvSpPr/>
              <p:nvPr/>
            </p:nvSpPr>
            <p:spPr>
              <a:xfrm flipH="1" rot="10800000">
                <a:off x="5758560" y="22003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8" name="等腰三角形 169"/>
              <p:cNvSpPr/>
              <p:nvPr/>
            </p:nvSpPr>
            <p:spPr>
              <a:xfrm flipH="1">
                <a:off x="5758200" y="184824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59" name="组合 159"/>
            <p:cNvGrpSpPr/>
            <p:nvPr/>
          </p:nvGrpSpPr>
          <p:grpSpPr>
            <a:xfrm>
              <a:off x="5511960" y="2194920"/>
              <a:ext cx="526320" cy="24840"/>
              <a:chOff x="5511960" y="2194920"/>
              <a:chExt cx="526320" cy="24840"/>
            </a:xfrm>
          </p:grpSpPr>
          <p:sp>
            <p:nvSpPr>
              <p:cNvPr id="360" name="等腰三角形 166"/>
              <p:cNvSpPr/>
              <p:nvPr/>
            </p:nvSpPr>
            <p:spPr>
              <a:xfrm flipH="1" rot="5400000">
                <a:off x="5894280" y="20754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1" name="等腰三角形 167"/>
              <p:cNvSpPr/>
              <p:nvPr/>
            </p:nvSpPr>
            <p:spPr>
              <a:xfrm rot="16200000">
                <a:off x="5631480" y="20761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62" name="组合 160"/>
            <p:cNvGrpSpPr/>
            <p:nvPr/>
          </p:nvGrpSpPr>
          <p:grpSpPr>
            <a:xfrm>
              <a:off x="5677200" y="2076120"/>
              <a:ext cx="190800" cy="289440"/>
              <a:chOff x="5677200" y="2076120"/>
              <a:chExt cx="190800" cy="289440"/>
            </a:xfrm>
          </p:grpSpPr>
          <p:sp>
            <p:nvSpPr>
              <p:cNvPr id="363" name="等腰三角形 164"/>
              <p:cNvSpPr/>
              <p:nvPr/>
            </p:nvSpPr>
            <p:spPr>
              <a:xfrm flipH="1" rot="12715800">
                <a:off x="5718960" y="220572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4" name="等腰三角形 165"/>
              <p:cNvSpPr/>
              <p:nvPr/>
            </p:nvSpPr>
            <p:spPr>
              <a:xfrm rot="1955400">
                <a:off x="5806800" y="20674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65" name="组合 161"/>
            <p:cNvGrpSpPr/>
            <p:nvPr/>
          </p:nvGrpSpPr>
          <p:grpSpPr>
            <a:xfrm>
              <a:off x="5614200" y="2105640"/>
              <a:ext cx="276480" cy="189360"/>
              <a:chOff x="5614200" y="2105640"/>
              <a:chExt cx="276480" cy="189360"/>
            </a:xfrm>
          </p:grpSpPr>
          <p:sp>
            <p:nvSpPr>
              <p:cNvPr id="366" name="等腰三角形 162"/>
              <p:cNvSpPr/>
              <p:nvPr/>
            </p:nvSpPr>
            <p:spPr>
              <a:xfrm flipH="1" rot="7386000">
                <a:off x="5812200" y="21661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7" name="等腰三角形 163"/>
              <p:cNvSpPr/>
              <p:nvPr/>
            </p:nvSpPr>
            <p:spPr>
              <a:xfrm flipH="1" rot="18163800">
                <a:off x="5676480" y="207576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368" name="TextBox 22"/>
          <p:cNvSpPr/>
          <p:nvPr/>
        </p:nvSpPr>
        <p:spPr>
          <a:xfrm>
            <a:off x="971640" y="1258920"/>
            <a:ext cx="7128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c8f926"/>
                </a:solidFill>
                <a:latin typeface="BatangChe"/>
                <a:ea typeface="BatangChe"/>
              </a:rPr>
              <a:t>Thinks</a:t>
            </a:r>
            <a:r>
              <a:rPr b="0" lang="zh-CN" sz="8800" spc="-1" strike="noStrike">
                <a:solidFill>
                  <a:srgbClr val="c8f926"/>
                </a:solidFill>
                <a:latin typeface="BatangChe"/>
                <a:ea typeface="BatangChe"/>
              </a:rPr>
              <a:t>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2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01482 L 0.01979 0.01358 E">
                                      <p:cBhvr>
                                        <p:cTn id="435" dur="6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2160000">
                                      <p:cBhvr>
                                        <p:cTn id="447" dur="425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0">
                                  <p:stCondLst>
                                    <p:cond delay="4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7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7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7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478" dur="2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484" dur="2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800000">
                                      <p:cBhvr>
                                        <p:cTn id="490" dur="2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800000">
                                      <p:cBhvr>
                                        <p:cTn id="492" dur="2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7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7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7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7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7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">
                                      <p:cBhvr>
                                        <p:cTn id="534" dur="1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">
                                      <p:cBhvr>
                                        <p:cTn id="543" dur="1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">
                                      <p:cBhvr>
                                        <p:cTn id="552" dur="1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7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7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7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7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75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75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75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75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7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7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75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75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75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75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603" dur="2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2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3" presetSubtype="16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2160000">
                                      <p:cBhvr>
                                        <p:cTn id="61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2160000">
                                      <p:cBhvr>
                                        <p:cTn id="627" dur="1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7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65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6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800000">
                                      <p:cBhvr>
                                        <p:cTn id="67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800000">
                                      <p:cBhvr>
                                        <p:cTn id="67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2160000">
                                      <p:cBhvr>
                                        <p:cTn id="707" dur="2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7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8">
                                  <p:stCondLst>
                                    <p:cond delay="3750"/>
                                  </p:stCondLst>
                                  <p:childTnLst>
                                    <p:animRot by="2160000">
                                      <p:cBhvr>
                                        <p:cTn id="719" dur="27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5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7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  <Words>192</Words>
  <Paragraphs>6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12:15:27Z</dcterms:created>
  <dc:creator>微软中国</dc:creator>
  <dc:description/>
  <dc:language>en-US</dc:language>
  <cp:lastModifiedBy>王玉清</cp:lastModifiedBy>
  <dcterms:modified xsi:type="dcterms:W3CDTF">2016-02-21T03:42:38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8</vt:r8>
  </property>
</Properties>
</file>