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hdphoto1.wdp" ContentType="image/vnd.ms-photo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ED7A85-F497-4328-9D43-8DF633420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97D6F9-81B9-44B8-8234-27F72094F1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67AD74-11B4-43CE-949A-25DF40541F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037582-9A6D-4B07-8B40-0A7BC8702B1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A26C7B-DECA-4D21-B5B8-7535318E1B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C81A00-3C51-43C9-A568-0BB8ED57F4E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67D790-DF99-4DD7-9ABE-52FEF11D793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4F1-837B-4565-B9B0-ED896CAD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078-9656-400C-9A92-60E0DFB3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501-05CD-4B73-85B3-91C4C04B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622-F174-4D22-AAE9-04502C05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AF9-79A7-4051-B98D-D7317A7A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87C-5BF3-4FF7-BE14-6FAB87E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F067-65BA-43A6-A64B-6C9EE941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1CF9-9A02-42D7-8EFC-71988DA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517A-7383-455D-A478-A6D0C56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EFED-D663-43AC-AFC1-C9D7866B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811-3622-4362-B842-847D2DF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699-1332-4101-AA07-AD03D85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DA5-CFEE-493D-BE8B-ACE37C9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CF93-B306-45BD-864D-0E25774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A7C5-F2C0-4675-8EEA-94A514A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0CB0-84F9-4169-8911-339D1521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F65C-4060-4AEF-A2BF-CC649C27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511B-B7C9-4594-89BA-456C571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8838-B7EE-4969-BFE4-221CA93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325B-5AE3-4689-AC2A-3BFE1F3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BB00-5B64-4F4A-8732-38E9EF2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DAD4-5787-4727-BB70-FF3210D4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555-5E28-4FC8-BEF8-58D6A7C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766B-B49E-4EFC-92FE-07A7F48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8CCC-8FFC-4D0C-A7ED-87B8294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AA29-2082-4F44-87DF-AEB043D7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C344-0BD2-499A-A1E6-E1E80CF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536B-E202-4518-AF56-123A2DB1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2478-B122-46A4-8A3A-5FFBAD01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3C24-88A6-4F39-9019-DCE2DF86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433-733B-481A-86E7-38E8C5E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4DC-5DA2-4151-B748-388DEA6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3CF-C6B1-4057-9625-0218A303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D8F-98A3-4955-9294-6D359A2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3E8-5190-43D9-8FDE-2215AB5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9A8-D463-4A9F-946D-32CB7A4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67310-DDB2-4B23-AB08-C1B9550565A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763640" y="5565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02DC7C-391D-4BE5-A159-F971B1614A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直接连接符 5"/>
          <p:cNvCxnSpPr/>
          <p:nvPr/>
        </p:nvCxnSpPr>
        <p:spPr>
          <a:xfrm flipH="1">
            <a:off x="7864200" y="5431680"/>
            <a:ext cx="1019520" cy="1146240"/>
          </a:xfrm>
          <a:prstGeom prst="straightConnector1">
            <a:avLst/>
          </a:prstGeom>
          <a:ln w="12700">
            <a:solidFill>
              <a:srgbClr val="0d0d0d"/>
            </a:solidFill>
            <a:round/>
          </a:ln>
        </p:spPr>
      </p:cxnSp>
      <p:sp>
        <p:nvSpPr>
          <p:cNvPr id="46" name="矩形 7"/>
          <p:cNvSpPr/>
          <p:nvPr/>
        </p:nvSpPr>
        <p:spPr>
          <a:xfrm>
            <a:off x="0" y="0"/>
            <a:ext cx="9143640" cy="6922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808080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平行四边形 49"/>
          <p:cNvSpPr/>
          <p:nvPr/>
        </p:nvSpPr>
        <p:spPr>
          <a:xfrm>
            <a:off x="-29880" y="-15120"/>
            <a:ext cx="2536560" cy="707400"/>
          </a:xfrm>
          <a:custGeom>
            <a:avLst/>
            <a:gdLst>
              <a:gd name="textAreaLeft" fmla="*/ 0 w 2536560"/>
              <a:gd name="textAreaRight" fmla="*/ 2536920 w 2536560"/>
              <a:gd name="textAreaTop" fmla="*/ 0 h 707400"/>
              <a:gd name="textAreaBottom" fmla="*/ 707760 h 707400"/>
            </a:gdLst>
            <a:ahLst/>
            <a:rect l="textAreaLeft" t="textAreaTop" r="textAreaRight" b="textAreaBottom"/>
            <a:pathLst>
              <a:path w="2537015" h="707686">
                <a:moveTo>
                  <a:pt x="0" y="707686"/>
                </a:moveTo>
                <a:cubicBezTo>
                  <a:pt x="2761" y="471791"/>
                  <a:pt x="5521" y="235895"/>
                  <a:pt x="8282" y="0"/>
                </a:cubicBezTo>
                <a:lnTo>
                  <a:pt x="2537015" y="0"/>
                </a:lnTo>
                <a:lnTo>
                  <a:pt x="1869165" y="707686"/>
                </a:lnTo>
                <a:lnTo>
                  <a:pt x="0" y="707686"/>
                </a:lnTo>
                <a:close/>
              </a:path>
            </a:pathLst>
          </a:cu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93B81-0E45-4287-8430-F2DF095FA6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ec4.images-amazon.com/images/I/41jOSSZq6bL._SX_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Blur/>
                    </a14:imgEffect>
                  </a14:imgLayer>
                </a14:imgProps>
              </a:ext>
            </a:extLst>
          </a:blip>
          <a:stretch/>
        </p:blipFill>
        <p:spPr>
          <a:xfrm rot="20358600">
            <a:off x="772920" y="1150920"/>
            <a:ext cx="3533760" cy="5077440"/>
          </a:xfrm>
          <a:prstGeom prst="rect">
            <a:avLst/>
          </a:prstGeom>
          <a:ln w="0">
            <a:noFill/>
          </a:ln>
          <a:effectLst>
            <a:outerShdw algn="tl" blurRad="304920" dir="2700000" dist="114042" rotWithShape="0">
              <a:srgbClr val="000000">
                <a:alpha val="30000"/>
              </a:srgbClr>
            </a:outerShdw>
          </a:effectLst>
        </p:spPr>
      </p:pic>
      <p:sp>
        <p:nvSpPr>
          <p:cNvPr id="133" name="TextBox 58"/>
          <p:cNvSpPr/>
          <p:nvPr/>
        </p:nvSpPr>
        <p:spPr>
          <a:xfrm>
            <a:off x="-657000" y="2099160"/>
            <a:ext cx="981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404040"/>
                </a:solidFill>
                <a:latin typeface="方正风雅宋简体"/>
                <a:ea typeface="方正风雅宋简体"/>
              </a:rPr>
              <a:t>麦肯锡教我的写作武器通用</a:t>
            </a:r>
            <a:r>
              <a:rPr b="1" lang="en-US" sz="4000" spc="-1" strike="noStrike">
                <a:solidFill>
                  <a:srgbClr val="404040"/>
                </a:solidFill>
                <a:latin typeface="方正风雅宋简体"/>
                <a:ea typeface="方正风雅宋简体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方正风雅宋简体"/>
                <a:ea typeface="方正风雅宋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4"/>
          <p:cNvGrpSpPr/>
          <p:nvPr/>
        </p:nvGrpSpPr>
        <p:grpSpPr>
          <a:xfrm>
            <a:off x="3532680" y="1045440"/>
            <a:ext cx="5038920" cy="983520"/>
            <a:chOff x="3532680" y="1045440"/>
            <a:chExt cx="5038920" cy="983520"/>
          </a:xfrm>
        </p:grpSpPr>
        <p:sp>
          <p:nvSpPr>
            <p:cNvPr id="135" name="圆角矩形 2"/>
            <p:cNvSpPr/>
            <p:nvPr/>
          </p:nvSpPr>
          <p:spPr>
            <a:xfrm>
              <a:off x="3625560" y="1045440"/>
              <a:ext cx="4946040" cy="585360"/>
            </a:xfrm>
            <a:prstGeom prst="roundRect">
              <a:avLst>
                <a:gd name="adj" fmla="val 9948"/>
              </a:avLst>
            </a:prstGeom>
            <a:noFill/>
            <a:ln>
              <a:solidFill>
                <a:srgbClr val="f6941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69418"/>
                </a:solidFill>
                <a:latin typeface="Calibri"/>
              </a:endParaRPr>
            </a:p>
          </p:txBody>
        </p:sp>
        <p:sp>
          <p:nvSpPr>
            <p:cNvPr id="136" name="TextBox 3"/>
            <p:cNvSpPr/>
            <p:nvPr/>
          </p:nvSpPr>
          <p:spPr>
            <a:xfrm>
              <a:off x="3532680" y="1086120"/>
              <a:ext cx="50169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69418"/>
                  </a:solidFill>
                  <a:latin typeface="Britannic Bold"/>
                  <a:ea typeface="华康俪金黑W8"/>
                </a:rPr>
                <a:t>LOGICAL THINKING &amp; WRI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67"/>
          <p:cNvSpPr/>
          <p:nvPr/>
        </p:nvSpPr>
        <p:spPr>
          <a:xfrm>
            <a:off x="6318360" y="3501000"/>
            <a:ext cx="2268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方正风雅宋简体"/>
                <a:ea typeface="方正风雅宋简体"/>
              </a:rPr>
              <a:t>高杉尚孝  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方正风雅宋简体"/>
                <a:ea typeface="方正风雅宋简体"/>
              </a:rPr>
              <a:t>郑顺珑  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5"/>
          <p:cNvGrpSpPr/>
          <p:nvPr/>
        </p:nvGrpSpPr>
        <p:grpSpPr>
          <a:xfrm>
            <a:off x="0" y="5030640"/>
            <a:ext cx="8699760" cy="1116720"/>
            <a:chOff x="0" y="5030640"/>
            <a:chExt cx="8699760" cy="1116720"/>
          </a:xfrm>
        </p:grpSpPr>
        <p:sp>
          <p:nvSpPr>
            <p:cNvPr id="139" name="矩形 72"/>
            <p:cNvSpPr/>
            <p:nvPr/>
          </p:nvSpPr>
          <p:spPr>
            <a:xfrm>
              <a:off x="0" y="5030640"/>
              <a:ext cx="8699760" cy="111672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TextBox 10"/>
            <p:cNvSpPr/>
            <p:nvPr/>
          </p:nvSpPr>
          <p:spPr>
            <a:xfrm>
              <a:off x="5652000" y="5135760"/>
              <a:ext cx="30477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599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学会逻辑思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599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提高写作能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"/>
            <p:cNvGrpSpPr/>
            <p:nvPr/>
          </p:nvGrpSpPr>
          <p:grpSpPr>
            <a:xfrm>
              <a:off x="150120" y="5139720"/>
              <a:ext cx="3166560" cy="809640"/>
              <a:chOff x="150120" y="5139720"/>
              <a:chExt cx="3166560" cy="809640"/>
            </a:xfrm>
          </p:grpSpPr>
          <p:sp>
            <p:nvSpPr>
              <p:cNvPr id="142" name="矩形 12"/>
              <p:cNvSpPr/>
              <p:nvPr/>
            </p:nvSpPr>
            <p:spPr>
              <a:xfrm rot="10800000">
                <a:off x="150120" y="5139720"/>
                <a:ext cx="390960" cy="809640"/>
              </a:xfrm>
              <a:prstGeom prst="rect">
                <a:avLst/>
              </a:prstGeom>
              <a:solidFill>
                <a:srgbClr val="78af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3" name="矩形 25"/>
              <p:cNvSpPr/>
              <p:nvPr/>
            </p:nvSpPr>
            <p:spPr>
              <a:xfrm rot="10800000">
                <a:off x="610920" y="5140440"/>
                <a:ext cx="2705760" cy="808920"/>
              </a:xfrm>
              <a:custGeom>
                <a:avLst/>
                <a:gdLst>
                  <a:gd name="textAreaLeft" fmla="*/ 0 w 2705760"/>
                  <a:gd name="textAreaRight" fmla="*/ 2706120 w 270576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3995780" h="1199745">
                    <a:moveTo>
                      <a:pt x="3696727" y="760691"/>
                    </a:moveTo>
                    <a:lnTo>
                      <a:pt x="1033246" y="760691"/>
                    </a:lnTo>
                    <a:lnTo>
                      <a:pt x="1029703" y="940654"/>
                    </a:lnTo>
                    <a:lnTo>
                      <a:pt x="3696727" y="940654"/>
                    </a:lnTo>
                    <a:close/>
                    <a:moveTo>
                      <a:pt x="3700429" y="298400"/>
                    </a:moveTo>
                    <a:lnTo>
                      <a:pt x="1042348" y="298400"/>
                    </a:lnTo>
                    <a:lnTo>
                      <a:pt x="1038805" y="478363"/>
                    </a:lnTo>
                    <a:lnTo>
                      <a:pt x="3700429" y="478363"/>
                    </a:lnTo>
                    <a:close/>
                    <a:moveTo>
                      <a:pt x="3995780" y="2065"/>
                    </a:moveTo>
                    <a:lnTo>
                      <a:pt x="3995780" y="1198688"/>
                    </a:lnTo>
                    <a:lnTo>
                      <a:pt x="1024623" y="1198688"/>
                    </a:lnTo>
                    <a:lnTo>
                      <a:pt x="1024602" y="1199745"/>
                    </a:lnTo>
                    <a:lnTo>
                      <a:pt x="1022842" y="1198688"/>
                    </a:lnTo>
                    <a:lnTo>
                      <a:pt x="1014564" y="1198688"/>
                    </a:lnTo>
                    <a:lnTo>
                      <a:pt x="1014564" y="1193714"/>
                    </a:lnTo>
                    <a:lnTo>
                      <a:pt x="0" y="584102"/>
                    </a:lnTo>
                    <a:lnTo>
                      <a:pt x="1014564" y="18756"/>
                    </a:lnTo>
                    <a:lnTo>
                      <a:pt x="1014564" y="2065"/>
                    </a:lnTo>
                    <a:lnTo>
                      <a:pt x="1044517" y="2065"/>
                    </a:lnTo>
                    <a:lnTo>
                      <a:pt x="1048224" y="0"/>
                    </a:lnTo>
                    <a:lnTo>
                      <a:pt x="1048183" y="2065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40000" y="25560"/>
            <a:ext cx="33476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发现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10160" y="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设定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56"/>
          <p:cNvGrpSpPr/>
          <p:nvPr/>
        </p:nvGrpSpPr>
        <p:grpSpPr>
          <a:xfrm>
            <a:off x="266400" y="1700640"/>
            <a:ext cx="2589480" cy="1872000"/>
            <a:chOff x="266400" y="1700640"/>
            <a:chExt cx="2589480" cy="1872000"/>
          </a:xfrm>
        </p:grpSpPr>
        <p:sp>
          <p:nvSpPr>
            <p:cNvPr id="267" name="圆角矩形 3"/>
            <p:cNvSpPr/>
            <p:nvPr/>
          </p:nvSpPr>
          <p:spPr>
            <a:xfrm>
              <a:off x="266400" y="1700640"/>
              <a:ext cx="2589480" cy="1872000"/>
            </a:xfrm>
            <a:prstGeom prst="roundRect">
              <a:avLst>
                <a:gd name="adj" fmla="val 9812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6"/>
            <p:cNvSpPr/>
            <p:nvPr/>
          </p:nvSpPr>
          <p:spPr>
            <a:xfrm>
              <a:off x="2011680" y="1835640"/>
              <a:ext cx="791640" cy="431640"/>
            </a:xfrm>
            <a:prstGeom prst="rect">
              <a:avLst/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原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7"/>
            <p:cNvSpPr/>
            <p:nvPr/>
          </p:nvSpPr>
          <p:spPr>
            <a:xfrm>
              <a:off x="485640" y="2493000"/>
              <a:ext cx="719640" cy="719640"/>
            </a:xfrm>
            <a:prstGeom prst="ellipse">
              <a:avLst/>
            </a:prstGeom>
            <a:solidFill>
              <a:srgbClr val="96cd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70" name="直接箭头连接符 9"/>
            <p:cNvCxnSpPr>
              <a:endCxn id="268" idx="1"/>
            </p:cNvCxnSpPr>
            <p:nvPr/>
          </p:nvCxnSpPr>
          <p:spPr>
            <a:xfrm>
              <a:off x="629280" y="2051280"/>
              <a:ext cx="1382400" cy="360"/>
            </a:xfrm>
            <a:prstGeom prst="straightConnector1">
              <a:avLst/>
            </a:prstGeom>
            <a:ln w="25400">
              <a:solidFill>
                <a:srgbClr val="ffffff">
                  <a:lumMod val="50000"/>
                </a:srgbClr>
              </a:solidFill>
              <a:prstDash val="dash"/>
              <a:round/>
              <a:tailEnd len="med" type="arrow" w="med"/>
            </a:ln>
          </p:spPr>
        </p:cxnSp>
        <p:grpSp>
          <p:nvGrpSpPr>
            <p:cNvPr id="271" name="组合 42"/>
            <p:cNvGrpSpPr/>
            <p:nvPr/>
          </p:nvGrpSpPr>
          <p:grpSpPr>
            <a:xfrm>
              <a:off x="1197720" y="2132640"/>
              <a:ext cx="813600" cy="613800"/>
              <a:chOff x="1197720" y="2132640"/>
              <a:chExt cx="813600" cy="613800"/>
            </a:xfrm>
          </p:grpSpPr>
          <p:cxnSp>
            <p:nvCxnSpPr>
              <p:cNvPr id="272" name="肘形连接符 11"/>
              <p:cNvCxnSpPr/>
              <p:nvPr/>
            </p:nvCxnSpPr>
            <p:spPr>
              <a:xfrm flipV="1" rot="10800000">
                <a:off x="1793520" y="2132280"/>
                <a:ext cx="200520" cy="10080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3" name="肘形连接符 20"/>
              <p:cNvCxnSpPr/>
              <p:nvPr/>
            </p:nvCxnSpPr>
            <p:spPr>
              <a:xfrm flipV="1" rot="10800000">
                <a:off x="1693080" y="2232000"/>
                <a:ext cx="200160" cy="8604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4" name="肘形连接符 23"/>
              <p:cNvCxnSpPr/>
              <p:nvPr/>
            </p:nvCxnSpPr>
            <p:spPr>
              <a:xfrm flipV="1" rot="10800000">
                <a:off x="1593000" y="2317680"/>
                <a:ext cx="200160" cy="8604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5" name="肘形连接符 29"/>
              <p:cNvCxnSpPr/>
              <p:nvPr/>
            </p:nvCxnSpPr>
            <p:spPr>
              <a:xfrm flipV="1" rot="10800000">
                <a:off x="1197720" y="2660760"/>
                <a:ext cx="200520" cy="8604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6" name="肘形连接符 30"/>
              <p:cNvCxnSpPr/>
              <p:nvPr/>
            </p:nvCxnSpPr>
            <p:spPr>
              <a:xfrm flipV="1" rot="10800000">
                <a:off x="1397880" y="2489400"/>
                <a:ext cx="200520" cy="8604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7" name="肘形连接符 31"/>
              <p:cNvCxnSpPr/>
              <p:nvPr/>
            </p:nvCxnSpPr>
            <p:spPr>
              <a:xfrm flipV="1" rot="10800000">
                <a:off x="1293120" y="2575080"/>
                <a:ext cx="200520" cy="8604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8" name="肘形连接符 32"/>
              <p:cNvCxnSpPr/>
              <p:nvPr/>
            </p:nvCxnSpPr>
            <p:spPr>
              <a:xfrm flipV="1" rot="10800000">
                <a:off x="1493280" y="2401200"/>
                <a:ext cx="200520" cy="86040"/>
              </a:xfrm>
              <a:prstGeom prst="bentConnector2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79" name="直接连接符 34"/>
              <p:cNvCxnSpPr/>
              <p:nvPr/>
            </p:nvCxnSpPr>
            <p:spPr>
              <a:xfrm flipH="1">
                <a:off x="1197720" y="2746440"/>
                <a:ext cx="95760" cy="360"/>
              </a:xfrm>
              <a:prstGeom prst="straightConnector1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0" name="直接箭头连接符 36"/>
              <p:cNvCxnSpPr/>
              <p:nvPr/>
            </p:nvCxnSpPr>
            <p:spPr>
              <a:xfrm>
                <a:off x="1983960" y="2132640"/>
                <a:ext cx="27720" cy="360"/>
              </a:xfrm>
              <a:prstGeom prst="straightConnector1">
                <a:avLst/>
              </a:prstGeom>
              <a:ln w="25400">
                <a:solidFill>
                  <a:srgbClr val="ffffff">
                    <a:lumMod val="50000"/>
                  </a:srgbClr>
                </a:solidFill>
                <a:round/>
                <a:tailEnd len="med" type="arrow" w="med"/>
              </a:ln>
            </p:spPr>
          </p:cxnSp>
        </p:grpSp>
        <p:grpSp>
          <p:nvGrpSpPr>
            <p:cNvPr id="281" name="组合 43"/>
            <p:cNvGrpSpPr/>
            <p:nvPr/>
          </p:nvGrpSpPr>
          <p:grpSpPr>
            <a:xfrm>
              <a:off x="1197720" y="2954880"/>
              <a:ext cx="351720" cy="357480"/>
              <a:chOff x="1197720" y="2954880"/>
              <a:chExt cx="351720" cy="357480"/>
            </a:xfrm>
          </p:grpSpPr>
          <p:cxnSp>
            <p:nvCxnSpPr>
              <p:cNvPr id="282" name="肘形连接符 44"/>
              <p:cNvCxnSpPr/>
              <p:nvPr/>
            </p:nvCxnSpPr>
            <p:spPr>
              <a:xfrm rot="10800000">
                <a:off x="1480320" y="3210120"/>
                <a:ext cx="67320" cy="932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3" name="肘形连接符 45"/>
              <p:cNvCxnSpPr/>
              <p:nvPr/>
            </p:nvCxnSpPr>
            <p:spPr>
              <a:xfrm rot="10800000">
                <a:off x="1433520" y="3166560"/>
                <a:ext cx="61560" cy="950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4" name="肘形连接符 46"/>
              <p:cNvCxnSpPr/>
              <p:nvPr/>
            </p:nvCxnSpPr>
            <p:spPr>
              <a:xfrm rot="10800000">
                <a:off x="1386000" y="3123720"/>
                <a:ext cx="61560" cy="950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5" name="肘形连接符 47"/>
              <p:cNvCxnSpPr/>
              <p:nvPr/>
            </p:nvCxnSpPr>
            <p:spPr>
              <a:xfrm rot="10800000">
                <a:off x="1197720" y="2954520"/>
                <a:ext cx="61560" cy="950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6" name="肘形连接符 48"/>
              <p:cNvCxnSpPr/>
              <p:nvPr/>
            </p:nvCxnSpPr>
            <p:spPr>
              <a:xfrm rot="10800000">
                <a:off x="1292400" y="3040200"/>
                <a:ext cx="61560" cy="950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7" name="肘形连接符 49"/>
              <p:cNvCxnSpPr/>
              <p:nvPr/>
            </p:nvCxnSpPr>
            <p:spPr>
              <a:xfrm rot="10800000">
                <a:off x="1243800" y="2995200"/>
                <a:ext cx="61920" cy="950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8" name="肘形连接符 50"/>
              <p:cNvCxnSpPr/>
              <p:nvPr/>
            </p:nvCxnSpPr>
            <p:spPr>
              <a:xfrm rot="10800000">
                <a:off x="1339560" y="3080520"/>
                <a:ext cx="61560" cy="95040"/>
              </a:xfrm>
              <a:prstGeom prst="bentConnector2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89" name="直接连接符 51"/>
              <p:cNvCxnSpPr/>
              <p:nvPr/>
            </p:nvCxnSpPr>
            <p:spPr>
              <a:xfrm flipH="1" flipV="1">
                <a:off x="1197720" y="2954880"/>
                <a:ext cx="13680" cy="50040"/>
              </a:xfrm>
              <a:prstGeom prst="straightConnector1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</a:ln>
            </p:spPr>
          </p:cxnSp>
          <p:cxnSp>
            <p:nvCxnSpPr>
              <p:cNvPr id="290" name="直接箭头连接符 52"/>
              <p:cNvCxnSpPr/>
              <p:nvPr/>
            </p:nvCxnSpPr>
            <p:spPr>
              <a:xfrm>
                <a:off x="1545840" y="3297960"/>
                <a:ext cx="3960" cy="14760"/>
              </a:xfrm>
              <a:prstGeom prst="straightConnector1">
                <a:avLst/>
              </a:prstGeom>
              <a:ln w="12700">
                <a:solidFill>
                  <a:srgbClr val="ffffff">
                    <a:lumMod val="50000"/>
                  </a:srgbClr>
                </a:solidFill>
                <a:round/>
                <a:tailEnd len="med" type="arrow" w="med"/>
              </a:ln>
            </p:spPr>
          </p:cxnSp>
        </p:grpSp>
        <p:sp>
          <p:nvSpPr>
            <p:cNvPr id="291" name="TextBox 54"/>
            <p:cNvSpPr/>
            <p:nvPr/>
          </p:nvSpPr>
          <p:spPr>
            <a:xfrm>
              <a:off x="510120" y="2679480"/>
              <a:ext cx="812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现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圆角矩形 58"/>
          <p:cNvSpPr/>
          <p:nvPr/>
        </p:nvSpPr>
        <p:spPr>
          <a:xfrm>
            <a:off x="3149640" y="1700640"/>
            <a:ext cx="2589480" cy="1872000"/>
          </a:xfrm>
          <a:prstGeom prst="roundRect">
            <a:avLst>
              <a:gd name="adj" fmla="val 9812"/>
            </a:avLst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矩形 59"/>
          <p:cNvSpPr/>
          <p:nvPr/>
        </p:nvSpPr>
        <p:spPr>
          <a:xfrm>
            <a:off x="4874400" y="2355120"/>
            <a:ext cx="778320" cy="431640"/>
          </a:xfrm>
          <a:prstGeom prst="rect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62"/>
          <p:cNvGrpSpPr/>
          <p:nvPr/>
        </p:nvGrpSpPr>
        <p:grpSpPr>
          <a:xfrm>
            <a:off x="4111560" y="2585880"/>
            <a:ext cx="762840" cy="53280"/>
            <a:chOff x="4111560" y="2585880"/>
            <a:chExt cx="762840" cy="53280"/>
          </a:xfrm>
        </p:grpSpPr>
        <p:cxnSp>
          <p:nvCxnSpPr>
            <p:cNvPr id="295" name="肘形连接符 74"/>
            <p:cNvCxnSpPr/>
            <p:nvPr/>
          </p:nvCxnSpPr>
          <p:spPr>
            <a:xfrm rot="10800000">
              <a:off x="4703400" y="2586960"/>
              <a:ext cx="161640" cy="41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296" name="肘形连接符 75"/>
            <p:cNvCxnSpPr/>
            <p:nvPr/>
          </p:nvCxnSpPr>
          <p:spPr>
            <a:xfrm rot="10800000">
              <a:off x="4604400" y="2586960"/>
              <a:ext cx="154080" cy="4932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297" name="肘形连接符 76"/>
            <p:cNvCxnSpPr/>
            <p:nvPr/>
          </p:nvCxnSpPr>
          <p:spPr>
            <a:xfrm rot="10800000">
              <a:off x="4505760" y="2586960"/>
              <a:ext cx="153720" cy="4932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298" name="肘形连接符 77"/>
            <p:cNvCxnSpPr/>
            <p:nvPr/>
          </p:nvCxnSpPr>
          <p:spPr>
            <a:xfrm rot="10800000">
              <a:off x="4111200" y="2590200"/>
              <a:ext cx="154080" cy="4932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299" name="肘形连接符 78"/>
            <p:cNvCxnSpPr/>
            <p:nvPr/>
          </p:nvCxnSpPr>
          <p:spPr>
            <a:xfrm rot="10800000">
              <a:off x="4309560" y="2589840"/>
              <a:ext cx="154080" cy="4932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0" name="肘形连接符 79"/>
            <p:cNvCxnSpPr/>
            <p:nvPr/>
          </p:nvCxnSpPr>
          <p:spPr>
            <a:xfrm rot="10800000">
              <a:off x="4208400" y="2587680"/>
              <a:ext cx="153720" cy="4932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1" name="肘形连接符 80"/>
            <p:cNvCxnSpPr/>
            <p:nvPr/>
          </p:nvCxnSpPr>
          <p:spPr>
            <a:xfrm rot="10800000">
              <a:off x="4407120" y="2585880"/>
              <a:ext cx="154080" cy="4932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2" name="直接连接符 81"/>
            <p:cNvCxnSpPr/>
            <p:nvPr/>
          </p:nvCxnSpPr>
          <p:spPr>
            <a:xfrm flipH="1" flipV="1">
              <a:off x="4111560" y="2590200"/>
              <a:ext cx="52200" cy="47160"/>
            </a:xfrm>
            <a:prstGeom prst="straightConnector1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3" name="直接箭头连接符 82"/>
            <p:cNvCxnSpPr/>
            <p:nvPr/>
          </p:nvCxnSpPr>
          <p:spPr>
            <a:xfrm>
              <a:off x="4859280" y="2623320"/>
              <a:ext cx="15480" cy="13680"/>
            </a:xfrm>
            <a:prstGeom prst="straightConnector1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  <a:tailEnd len="med" type="arrow" w="med"/>
            </a:ln>
          </p:spPr>
        </p:cxnSp>
      </p:grpSp>
      <p:grpSp>
        <p:nvGrpSpPr>
          <p:cNvPr id="304" name="组合 63"/>
          <p:cNvGrpSpPr/>
          <p:nvPr/>
        </p:nvGrpSpPr>
        <p:grpSpPr>
          <a:xfrm>
            <a:off x="4140720" y="2839320"/>
            <a:ext cx="351720" cy="357480"/>
            <a:chOff x="4140720" y="2839320"/>
            <a:chExt cx="351720" cy="357480"/>
          </a:xfrm>
        </p:grpSpPr>
        <p:cxnSp>
          <p:nvCxnSpPr>
            <p:cNvPr id="305" name="肘形连接符 65"/>
            <p:cNvCxnSpPr/>
            <p:nvPr/>
          </p:nvCxnSpPr>
          <p:spPr>
            <a:xfrm rot="10800000">
              <a:off x="4423320" y="3093840"/>
              <a:ext cx="67320" cy="9360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6" name="肘形连接符 66"/>
            <p:cNvCxnSpPr/>
            <p:nvPr/>
          </p:nvCxnSpPr>
          <p:spPr>
            <a:xfrm rot="10800000">
              <a:off x="4376520" y="3051000"/>
              <a:ext cx="61560" cy="9504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7" name="肘形连接符 67"/>
            <p:cNvCxnSpPr/>
            <p:nvPr/>
          </p:nvCxnSpPr>
          <p:spPr>
            <a:xfrm rot="10800000">
              <a:off x="4329000" y="3008160"/>
              <a:ext cx="61560" cy="9504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8" name="肘形连接符 68"/>
            <p:cNvCxnSpPr/>
            <p:nvPr/>
          </p:nvCxnSpPr>
          <p:spPr>
            <a:xfrm rot="10800000">
              <a:off x="4140720" y="2838960"/>
              <a:ext cx="61560" cy="9504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09" name="肘形连接符 69"/>
            <p:cNvCxnSpPr/>
            <p:nvPr/>
          </p:nvCxnSpPr>
          <p:spPr>
            <a:xfrm rot="10800000">
              <a:off x="4235400" y="2924640"/>
              <a:ext cx="61560" cy="9504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10" name="肘形连接符 70"/>
            <p:cNvCxnSpPr/>
            <p:nvPr/>
          </p:nvCxnSpPr>
          <p:spPr>
            <a:xfrm rot="10800000">
              <a:off x="4186800" y="2879280"/>
              <a:ext cx="61920" cy="9504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11" name="肘形连接符 71"/>
            <p:cNvCxnSpPr/>
            <p:nvPr/>
          </p:nvCxnSpPr>
          <p:spPr>
            <a:xfrm rot="10800000">
              <a:off x="4282560" y="2964960"/>
              <a:ext cx="61560" cy="95040"/>
            </a:xfrm>
            <a:prstGeom prst="bentConnector2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12" name="直接连接符 72"/>
            <p:cNvCxnSpPr/>
            <p:nvPr/>
          </p:nvCxnSpPr>
          <p:spPr>
            <a:xfrm flipH="1" flipV="1">
              <a:off x="4140720" y="2839320"/>
              <a:ext cx="13680" cy="49680"/>
            </a:xfrm>
            <a:prstGeom prst="straightConnector1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13" name="直接箭头连接符 73"/>
            <p:cNvCxnSpPr/>
            <p:nvPr/>
          </p:nvCxnSpPr>
          <p:spPr>
            <a:xfrm>
              <a:off x="4488840" y="3182400"/>
              <a:ext cx="3960" cy="14760"/>
            </a:xfrm>
            <a:prstGeom prst="straightConnector1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  <a:tailEnd len="med" type="arrow" w="med"/>
            </a:ln>
          </p:spPr>
        </p:cxnSp>
      </p:grpSp>
      <p:sp>
        <p:nvSpPr>
          <p:cNvPr id="314" name="圆角矩形 84"/>
          <p:cNvSpPr/>
          <p:nvPr/>
        </p:nvSpPr>
        <p:spPr>
          <a:xfrm>
            <a:off x="6030000" y="1700640"/>
            <a:ext cx="2589480" cy="1872000"/>
          </a:xfrm>
          <a:prstGeom prst="roundRect">
            <a:avLst>
              <a:gd name="adj" fmla="val 9812"/>
            </a:avLst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矩形 85"/>
          <p:cNvSpPr/>
          <p:nvPr/>
        </p:nvSpPr>
        <p:spPr>
          <a:xfrm>
            <a:off x="7775280" y="1835640"/>
            <a:ext cx="791640" cy="431640"/>
          </a:xfrm>
          <a:prstGeom prst="rect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86"/>
          <p:cNvSpPr/>
          <p:nvPr/>
        </p:nvSpPr>
        <p:spPr>
          <a:xfrm>
            <a:off x="6249240" y="2493000"/>
            <a:ext cx="719640" cy="719640"/>
          </a:xfrm>
          <a:prstGeom prst="ellipse">
            <a:avLst/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17" name="直接箭头连接符 87"/>
          <p:cNvCxnSpPr/>
          <p:nvPr/>
        </p:nvCxnSpPr>
        <p:spPr>
          <a:xfrm flipV="1">
            <a:off x="6961320" y="2916000"/>
            <a:ext cx="813960" cy="11520"/>
          </a:xfrm>
          <a:prstGeom prst="straightConnector1">
            <a:avLst/>
          </a:prstGeom>
          <a:ln w="25400">
            <a:solidFill>
              <a:srgbClr val="ffffff">
                <a:lumMod val="50000"/>
              </a:srgbClr>
            </a:solidFill>
            <a:prstDash val="dash"/>
            <a:round/>
            <a:tailEnd len="med" type="arrow" w="med"/>
          </a:ln>
        </p:spPr>
      </p:cxnSp>
      <p:grpSp>
        <p:nvGrpSpPr>
          <p:cNvPr id="318" name="组合 88"/>
          <p:cNvGrpSpPr/>
          <p:nvPr/>
        </p:nvGrpSpPr>
        <p:grpSpPr>
          <a:xfrm>
            <a:off x="6961320" y="2132640"/>
            <a:ext cx="813600" cy="613800"/>
            <a:chOff x="6961320" y="2132640"/>
            <a:chExt cx="813600" cy="613800"/>
          </a:xfrm>
        </p:grpSpPr>
        <p:cxnSp>
          <p:nvCxnSpPr>
            <p:cNvPr id="319" name="肘形连接符 100"/>
            <p:cNvCxnSpPr/>
            <p:nvPr/>
          </p:nvCxnSpPr>
          <p:spPr>
            <a:xfrm flipV="1" rot="10800000">
              <a:off x="7557120" y="2132280"/>
              <a:ext cx="200520" cy="10080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0" name="肘形连接符 101"/>
            <p:cNvCxnSpPr/>
            <p:nvPr/>
          </p:nvCxnSpPr>
          <p:spPr>
            <a:xfrm flipV="1" rot="10800000">
              <a:off x="7456680" y="2232000"/>
              <a:ext cx="200160" cy="86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1" name="肘形连接符 102"/>
            <p:cNvCxnSpPr/>
            <p:nvPr/>
          </p:nvCxnSpPr>
          <p:spPr>
            <a:xfrm flipV="1" rot="10800000">
              <a:off x="7356600" y="2317680"/>
              <a:ext cx="200160" cy="86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2" name="肘形连接符 103"/>
            <p:cNvCxnSpPr/>
            <p:nvPr/>
          </p:nvCxnSpPr>
          <p:spPr>
            <a:xfrm flipV="1" rot="10800000">
              <a:off x="6961320" y="2660760"/>
              <a:ext cx="200520" cy="86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3" name="肘形连接符 104"/>
            <p:cNvCxnSpPr/>
            <p:nvPr/>
          </p:nvCxnSpPr>
          <p:spPr>
            <a:xfrm flipV="1" rot="10800000">
              <a:off x="7161480" y="2489400"/>
              <a:ext cx="200520" cy="86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4" name="肘形连接符 105"/>
            <p:cNvCxnSpPr/>
            <p:nvPr/>
          </p:nvCxnSpPr>
          <p:spPr>
            <a:xfrm flipV="1" rot="10800000">
              <a:off x="7056720" y="2575080"/>
              <a:ext cx="200520" cy="86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5" name="肘形连接符 106"/>
            <p:cNvCxnSpPr/>
            <p:nvPr/>
          </p:nvCxnSpPr>
          <p:spPr>
            <a:xfrm flipV="1" rot="10800000">
              <a:off x="7256880" y="2401200"/>
              <a:ext cx="200520" cy="86040"/>
            </a:xfrm>
            <a:prstGeom prst="bentConnector2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6" name="直接连接符 107"/>
            <p:cNvCxnSpPr/>
            <p:nvPr/>
          </p:nvCxnSpPr>
          <p:spPr>
            <a:xfrm flipH="1">
              <a:off x="6961320" y="2746440"/>
              <a:ext cx="95760" cy="360"/>
            </a:xfrm>
            <a:prstGeom prst="straightConnector1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327" name="直接箭头连接符 108"/>
            <p:cNvCxnSpPr/>
            <p:nvPr/>
          </p:nvCxnSpPr>
          <p:spPr>
            <a:xfrm>
              <a:off x="7747560" y="2132640"/>
              <a:ext cx="27720" cy="360"/>
            </a:xfrm>
            <a:prstGeom prst="straightConnector1">
              <a:avLst/>
            </a:prstGeom>
            <a:ln w="25400">
              <a:solidFill>
                <a:srgbClr val="ffffff">
                  <a:lumMod val="50000"/>
                </a:srgbClr>
              </a:solidFill>
              <a:round/>
              <a:tailEnd len="med" type="arrow" w="med"/>
            </a:ln>
          </p:spPr>
        </p:cxnSp>
      </p:grpSp>
      <p:sp>
        <p:nvSpPr>
          <p:cNvPr id="328" name="TextBox 90"/>
          <p:cNvSpPr/>
          <p:nvPr/>
        </p:nvSpPr>
        <p:spPr>
          <a:xfrm>
            <a:off x="6273720" y="2679480"/>
            <a:ext cx="812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60"/>
          <p:cNvSpPr/>
          <p:nvPr/>
        </p:nvSpPr>
        <p:spPr>
          <a:xfrm>
            <a:off x="3596760" y="2215080"/>
            <a:ext cx="719640" cy="719640"/>
          </a:xfrm>
          <a:prstGeom prst="ellipse">
            <a:avLst/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TextBox 64"/>
          <p:cNvSpPr/>
          <p:nvPr/>
        </p:nvSpPr>
        <p:spPr>
          <a:xfrm>
            <a:off x="3620160" y="2401560"/>
            <a:ext cx="812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箭头连接符 113"/>
          <p:cNvCxnSpPr>
            <a:stCxn id="292" idx="1"/>
          </p:cNvCxnSpPr>
          <p:nvPr/>
        </p:nvCxnSpPr>
        <p:spPr>
          <a:xfrm flipV="1">
            <a:off x="3149640" y="2625120"/>
            <a:ext cx="470520" cy="11880"/>
          </a:xfrm>
          <a:prstGeom prst="straightConnector1">
            <a:avLst/>
          </a:prstGeom>
          <a:ln w="25400">
            <a:solidFill>
              <a:srgbClr val="ffffff">
                <a:lumMod val="50000"/>
              </a:srgbClr>
            </a:solidFill>
            <a:prstDash val="dash"/>
            <a:round/>
            <a:tailEnd len="med" type="arrow" w="med"/>
          </a:ln>
        </p:spPr>
      </p:cxnSp>
      <p:sp>
        <p:nvSpPr>
          <p:cNvPr id="332" name="五边形 53"/>
          <p:cNvSpPr/>
          <p:nvPr/>
        </p:nvSpPr>
        <p:spPr>
          <a:xfrm>
            <a:off x="266400" y="1387800"/>
            <a:ext cx="1591200" cy="431640"/>
          </a:xfrm>
          <a:prstGeom prst="homePlat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恢复原状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五边形 116"/>
          <p:cNvSpPr/>
          <p:nvPr/>
        </p:nvSpPr>
        <p:spPr>
          <a:xfrm>
            <a:off x="3149640" y="1387800"/>
            <a:ext cx="1591200" cy="431640"/>
          </a:xfrm>
          <a:prstGeom prst="homePlat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预防隐患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五边形 117"/>
          <p:cNvSpPr/>
          <p:nvPr/>
        </p:nvSpPr>
        <p:spPr>
          <a:xfrm>
            <a:off x="6030000" y="1387800"/>
            <a:ext cx="1591200" cy="431640"/>
          </a:xfrm>
          <a:prstGeom prst="homePlat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追求理想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18"/>
          <p:cNvSpPr/>
          <p:nvPr/>
        </p:nvSpPr>
        <p:spPr>
          <a:xfrm>
            <a:off x="266400" y="3717000"/>
            <a:ext cx="258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良状态已经浮现，解决方法为恢复原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19"/>
          <p:cNvSpPr/>
          <p:nvPr/>
        </p:nvSpPr>
        <p:spPr>
          <a:xfrm>
            <a:off x="6042600" y="3717000"/>
            <a:ext cx="272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现状并无大碍，问题在于要追求更好。解决方法是付出努力以达成理想状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0"/>
          <p:cNvSpPr/>
          <p:nvPr/>
        </p:nvSpPr>
        <p:spPr>
          <a:xfrm>
            <a:off x="3149640" y="3717000"/>
            <a:ext cx="258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放置不管就会发生不良状态，解决方法是维持现状，即防止恶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下箭头 121"/>
          <p:cNvSpPr/>
          <p:nvPr/>
        </p:nvSpPr>
        <p:spPr>
          <a:xfrm>
            <a:off x="1197720" y="4725000"/>
            <a:ext cx="785880" cy="266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矩形 124"/>
          <p:cNvSpPr/>
          <p:nvPr/>
        </p:nvSpPr>
        <p:spPr>
          <a:xfrm>
            <a:off x="209880" y="5090040"/>
            <a:ext cx="254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例如车辆维修、减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5"/>
          <p:cNvSpPr/>
          <p:nvPr/>
        </p:nvSpPr>
        <p:spPr>
          <a:xfrm>
            <a:off x="3063240" y="5090040"/>
            <a:ext cx="258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例如车辆保养、养生</a:t>
            </a:r>
            <a:r>
              <a:rPr b="0" lang="zh-CN" sz="1800" spc="-1" strike="noStrike">
                <a:solidFill>
                  <a:srgbClr val="595959"/>
                </a:solidFill>
                <a:latin typeface="方正风雅宋简体"/>
                <a:ea typeface="方正风雅宋简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26"/>
          <p:cNvSpPr/>
          <p:nvPr/>
        </p:nvSpPr>
        <p:spPr>
          <a:xfrm>
            <a:off x="5977440" y="5090040"/>
            <a:ext cx="258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例如车辆改装、健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27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下箭头 83"/>
          <p:cNvSpPr/>
          <p:nvPr/>
        </p:nvSpPr>
        <p:spPr>
          <a:xfrm>
            <a:off x="4063680" y="4735800"/>
            <a:ext cx="785880" cy="266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下箭头 89"/>
          <p:cNvSpPr/>
          <p:nvPr/>
        </p:nvSpPr>
        <p:spPr>
          <a:xfrm>
            <a:off x="7012440" y="4744440"/>
            <a:ext cx="785880" cy="266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43800" y="58680"/>
            <a:ext cx="51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依据问题划分提案类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平行四边形 3"/>
          <p:cNvSpPr/>
          <p:nvPr/>
        </p:nvSpPr>
        <p:spPr>
          <a:xfrm>
            <a:off x="133560" y="2327400"/>
            <a:ext cx="2538000" cy="608040"/>
          </a:xfrm>
          <a:prstGeom prst="parallelogram">
            <a:avLst>
              <a:gd name="adj" fmla="val 25000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47" name="圆角矩形 5"/>
          <p:cNvSpPr/>
          <p:nvPr/>
        </p:nvSpPr>
        <p:spPr>
          <a:xfrm>
            <a:off x="3319920" y="2287800"/>
            <a:ext cx="5644080" cy="647640"/>
          </a:xfrm>
          <a:prstGeom prst="roundRect">
            <a:avLst>
              <a:gd name="adj" fmla="val 16667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方正风雅宋简体"/>
              <a:ea typeface="方正风雅宋简体"/>
            </a:endParaRPr>
          </a:p>
        </p:txBody>
      </p:sp>
      <p:sp>
        <p:nvSpPr>
          <p:cNvPr id="348" name="矩形 7"/>
          <p:cNvSpPr/>
          <p:nvPr/>
        </p:nvSpPr>
        <p:spPr>
          <a:xfrm>
            <a:off x="5562720" y="2427480"/>
            <a:ext cx="128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本措施、应急处理、防止复发策略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提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虚尾箭头 8"/>
          <p:cNvSpPr/>
          <p:nvPr/>
        </p:nvSpPr>
        <p:spPr>
          <a:xfrm>
            <a:off x="2671920" y="2446920"/>
            <a:ext cx="647640" cy="36900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平行四边形 11"/>
          <p:cNvSpPr/>
          <p:nvPr/>
        </p:nvSpPr>
        <p:spPr>
          <a:xfrm>
            <a:off x="133560" y="3329280"/>
            <a:ext cx="2538000" cy="608040"/>
          </a:xfrm>
          <a:prstGeom prst="parallelogram">
            <a:avLst>
              <a:gd name="adj" fmla="val 25000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1" name="圆角矩形 12"/>
          <p:cNvSpPr/>
          <p:nvPr/>
        </p:nvSpPr>
        <p:spPr>
          <a:xfrm>
            <a:off x="3319920" y="3289680"/>
            <a:ext cx="5644080" cy="647640"/>
          </a:xfrm>
          <a:prstGeom prst="roundRect">
            <a:avLst>
              <a:gd name="adj" fmla="val 16667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方正风雅宋简体"/>
              <a:ea typeface="方正风雅宋简体"/>
            </a:endParaRPr>
          </a:p>
        </p:txBody>
      </p:sp>
      <p:sp>
        <p:nvSpPr>
          <p:cNvPr id="352" name="矩形 13"/>
          <p:cNvSpPr/>
          <p:nvPr/>
        </p:nvSpPr>
        <p:spPr>
          <a:xfrm>
            <a:off x="3319920" y="3425040"/>
            <a:ext cx="573084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防策略、发生时的应对策略          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提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虚尾箭头 14"/>
          <p:cNvSpPr/>
          <p:nvPr/>
        </p:nvSpPr>
        <p:spPr>
          <a:xfrm>
            <a:off x="2671920" y="3448800"/>
            <a:ext cx="647640" cy="36900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平行四边形 16"/>
          <p:cNvSpPr/>
          <p:nvPr/>
        </p:nvSpPr>
        <p:spPr>
          <a:xfrm>
            <a:off x="133560" y="4337280"/>
            <a:ext cx="2538000" cy="608040"/>
          </a:xfrm>
          <a:prstGeom prst="parallelogram">
            <a:avLst>
              <a:gd name="adj" fmla="val 25000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方正风雅宋简体"/>
              <a:ea typeface="方正风雅宋简体"/>
            </a:endParaRPr>
          </a:p>
        </p:txBody>
      </p:sp>
      <p:sp>
        <p:nvSpPr>
          <p:cNvPr id="355" name="圆角矩形 17"/>
          <p:cNvSpPr/>
          <p:nvPr/>
        </p:nvSpPr>
        <p:spPr>
          <a:xfrm>
            <a:off x="3319920" y="4297680"/>
            <a:ext cx="5644080" cy="647640"/>
          </a:xfrm>
          <a:prstGeom prst="roundRect">
            <a:avLst>
              <a:gd name="adj" fmla="val 16667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方正风雅宋简体"/>
              <a:ea typeface="方正风雅宋简体"/>
            </a:endParaRPr>
          </a:p>
        </p:txBody>
      </p:sp>
      <p:sp>
        <p:nvSpPr>
          <p:cNvPr id="356" name="矩形 18"/>
          <p:cNvSpPr/>
          <p:nvPr/>
        </p:nvSpPr>
        <p:spPr>
          <a:xfrm>
            <a:off x="3438000" y="4437000"/>
            <a:ext cx="5539320" cy="388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定理想、实施策略                       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提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虚尾箭头 19"/>
          <p:cNvSpPr/>
          <p:nvPr/>
        </p:nvSpPr>
        <p:spPr>
          <a:xfrm>
            <a:off x="2671920" y="4456800"/>
            <a:ext cx="647640" cy="36900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110160" y="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设定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1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"/>
          <p:cNvSpPr/>
          <p:nvPr/>
        </p:nvSpPr>
        <p:spPr>
          <a:xfrm>
            <a:off x="672120" y="23796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恢复原状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"/>
          <p:cNvSpPr/>
          <p:nvPr/>
        </p:nvSpPr>
        <p:spPr>
          <a:xfrm>
            <a:off x="574560" y="342504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防隐患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672120" y="44370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追求理想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2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设定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标题 1"/>
          <p:cNvSpPr/>
          <p:nvPr/>
        </p:nvSpPr>
        <p:spPr>
          <a:xfrm>
            <a:off x="3443040" y="34560"/>
            <a:ext cx="51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策略施行</a:t>
            </a:r>
            <a:r>
              <a:rPr b="0" lang="en-US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"/>
          <p:cNvGrpSpPr/>
          <p:nvPr/>
        </p:nvGrpSpPr>
        <p:grpSpPr>
          <a:xfrm>
            <a:off x="292680" y="1165680"/>
            <a:ext cx="8743320" cy="5178960"/>
            <a:chOff x="292680" y="1165680"/>
            <a:chExt cx="8743320" cy="5178960"/>
          </a:xfrm>
        </p:grpSpPr>
        <p:sp>
          <p:nvSpPr>
            <p:cNvPr id="366" name="矩形 7"/>
            <p:cNvSpPr/>
            <p:nvPr/>
          </p:nvSpPr>
          <p:spPr>
            <a:xfrm>
              <a:off x="712440" y="1616760"/>
              <a:ext cx="8085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即使有监控和调整方向机制，还是要设定解决方案完成期限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9"/>
            <p:cNvSpPr/>
            <p:nvPr/>
          </p:nvSpPr>
          <p:spPr>
            <a:xfrm>
              <a:off x="292680" y="1165680"/>
              <a:ext cx="3121200" cy="450720"/>
            </a:xfrm>
            <a:prstGeom prst="rect">
              <a:avLst/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一、设定实施的终止期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3"/>
            <p:cNvSpPr/>
            <p:nvPr/>
          </p:nvSpPr>
          <p:spPr>
            <a:xfrm>
              <a:off x="712440" y="2700000"/>
              <a:ext cx="81820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清楚实施解决方案的必要条件是什么。可以运用头脑风暴法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4"/>
            <p:cNvSpPr/>
            <p:nvPr/>
          </p:nvSpPr>
          <p:spPr>
            <a:xfrm>
              <a:off x="292680" y="2248920"/>
              <a:ext cx="3121200" cy="450720"/>
            </a:xfrm>
            <a:prstGeom prst="rect">
              <a:avLst/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二、选定实施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"/>
            <p:cNvSpPr/>
            <p:nvPr/>
          </p:nvSpPr>
          <p:spPr>
            <a:xfrm>
              <a:off x="712440" y="3783240"/>
              <a:ext cx="81820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了解需要学习怎样的必要知识和技能，完成实施策略的工作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"/>
            <p:cNvSpPr/>
            <p:nvPr/>
          </p:nvSpPr>
          <p:spPr>
            <a:xfrm>
              <a:off x="292680" y="3332160"/>
              <a:ext cx="3121200" cy="450720"/>
            </a:xfrm>
            <a:prstGeom prst="rect">
              <a:avLst/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三、学习知识或技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21"/>
            <p:cNvSpPr/>
            <p:nvPr/>
          </p:nvSpPr>
          <p:spPr>
            <a:xfrm>
              <a:off x="712440" y="4866840"/>
              <a:ext cx="8323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从结束期限倒推项目相互关系，列出知识和技能学习进度表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22"/>
            <p:cNvSpPr/>
            <p:nvPr/>
          </p:nvSpPr>
          <p:spPr>
            <a:xfrm>
              <a:off x="292680" y="4415760"/>
              <a:ext cx="3121200" cy="450720"/>
            </a:xfrm>
            <a:prstGeom prst="rect">
              <a:avLst/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四、制作实施进度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25"/>
            <p:cNvSpPr/>
            <p:nvPr/>
          </p:nvSpPr>
          <p:spPr>
            <a:xfrm>
              <a:off x="712440" y="5950080"/>
              <a:ext cx="81954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步骤</a:t>
              </a:r>
              <a:r>
                <a:rPr b="0" lang="en-US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的工作结果，修正预定终止期限，然后开始行动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26"/>
            <p:cNvSpPr/>
            <p:nvPr/>
          </p:nvSpPr>
          <p:spPr>
            <a:xfrm>
              <a:off x="292680" y="5499000"/>
              <a:ext cx="3121200" cy="450720"/>
            </a:xfrm>
            <a:prstGeom prst="rect">
              <a:avLst/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五、休正期限和开始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27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67640" y="130680"/>
            <a:ext cx="640836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SCQOR</a:t>
            </a: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故事展开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五边形 2"/>
          <p:cNvSpPr/>
          <p:nvPr/>
        </p:nvSpPr>
        <p:spPr>
          <a:xfrm>
            <a:off x="467640" y="1888920"/>
            <a:ext cx="1439640" cy="244800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524160" y="2496600"/>
            <a:ext cx="112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背景，不管好坏，都先写出目前实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五边形 7"/>
          <p:cNvSpPr/>
          <p:nvPr/>
        </p:nvSpPr>
        <p:spPr>
          <a:xfrm>
            <a:off x="2123640" y="1888920"/>
            <a:ext cx="1439640" cy="244800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矩形 8"/>
          <p:cNvSpPr/>
          <p:nvPr/>
        </p:nvSpPr>
        <p:spPr>
          <a:xfrm>
            <a:off x="2167920" y="2516760"/>
            <a:ext cx="112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现状中的问题，确定问题的类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五边形 10"/>
          <p:cNvSpPr/>
          <p:nvPr/>
        </p:nvSpPr>
        <p:spPr>
          <a:xfrm>
            <a:off x="3780000" y="1888920"/>
            <a:ext cx="1439640" cy="244800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矩形 11"/>
          <p:cNvSpPr/>
          <p:nvPr/>
        </p:nvSpPr>
        <p:spPr>
          <a:xfrm>
            <a:off x="3852000" y="2516760"/>
            <a:ext cx="112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针对问题，确认对现状重要的课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五边形 13"/>
          <p:cNvSpPr/>
          <p:nvPr/>
        </p:nvSpPr>
        <p:spPr>
          <a:xfrm>
            <a:off x="5436000" y="1888920"/>
            <a:ext cx="1439640" cy="244800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矩形 14"/>
          <p:cNvSpPr/>
          <p:nvPr/>
        </p:nvSpPr>
        <p:spPr>
          <a:xfrm>
            <a:off x="5508000" y="2512800"/>
            <a:ext cx="114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替代方案，侧重如何克服困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五边形 16"/>
          <p:cNvSpPr/>
          <p:nvPr/>
        </p:nvSpPr>
        <p:spPr>
          <a:xfrm>
            <a:off x="7092360" y="1888920"/>
            <a:ext cx="1439640" cy="244800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矩形 17"/>
          <p:cNvSpPr/>
          <p:nvPr/>
        </p:nvSpPr>
        <p:spPr>
          <a:xfrm>
            <a:off x="7155360" y="2516760"/>
            <a:ext cx="121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克服困难达成目标，完成课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左大括号 18"/>
          <p:cNvSpPr/>
          <p:nvPr/>
        </p:nvSpPr>
        <p:spPr>
          <a:xfrm rot="16200000">
            <a:off x="2490480" y="2642760"/>
            <a:ext cx="346320" cy="4392000"/>
          </a:xfrm>
          <a:prstGeom prst="leftBrace">
            <a:avLst>
              <a:gd name="adj1" fmla="val 37801"/>
              <a:gd name="adj2" fmla="val 46537"/>
            </a:avLst>
          </a:prstGeom>
          <a:noFill/>
          <a:ln w="38100">
            <a:solidFill>
              <a:srgbClr val="96cd49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左大括号 19"/>
          <p:cNvSpPr/>
          <p:nvPr/>
        </p:nvSpPr>
        <p:spPr>
          <a:xfrm rot="16200000">
            <a:off x="5874120" y="4281840"/>
            <a:ext cx="308160" cy="1151640"/>
          </a:xfrm>
          <a:prstGeom prst="leftBrace">
            <a:avLst>
              <a:gd name="adj1" fmla="val 37801"/>
              <a:gd name="adj2" fmla="val 46537"/>
            </a:avLst>
          </a:prstGeom>
          <a:noFill/>
          <a:ln w="38100">
            <a:solidFill>
              <a:srgbClr val="96cd49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左大括号 20"/>
          <p:cNvSpPr/>
          <p:nvPr/>
        </p:nvSpPr>
        <p:spPr>
          <a:xfrm rot="16200000">
            <a:off x="7557840" y="4262760"/>
            <a:ext cx="346320" cy="1151640"/>
          </a:xfrm>
          <a:prstGeom prst="leftBrace">
            <a:avLst>
              <a:gd name="adj1" fmla="val 37801"/>
              <a:gd name="adj2" fmla="val 46537"/>
            </a:avLst>
          </a:prstGeom>
          <a:noFill/>
          <a:ln w="38100">
            <a:solidFill>
              <a:srgbClr val="96cd49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21"/>
          <p:cNvSpPr/>
          <p:nvPr/>
        </p:nvSpPr>
        <p:spPr>
          <a:xfrm>
            <a:off x="826920" y="5050800"/>
            <a:ext cx="367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7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故事的导入：读者（听众）拥有共同经验时，可以缩短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2"/>
          <p:cNvSpPr/>
          <p:nvPr/>
        </p:nvSpPr>
        <p:spPr>
          <a:xfrm>
            <a:off x="5293800" y="5016600"/>
            <a:ext cx="1640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7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故事的核心：在整个故事中这个部分最长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3"/>
          <p:cNvSpPr/>
          <p:nvPr/>
        </p:nvSpPr>
        <p:spPr>
          <a:xfrm>
            <a:off x="6987600" y="5037480"/>
            <a:ext cx="1544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7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故事的核心：在整个故事中这个部分最长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25"/>
          <p:cNvSpPr/>
          <p:nvPr/>
        </p:nvSpPr>
        <p:spPr>
          <a:xfrm>
            <a:off x="351000" y="1230120"/>
            <a:ext cx="131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6"/>
          <p:cNvSpPr/>
          <p:nvPr/>
        </p:nvSpPr>
        <p:spPr>
          <a:xfrm>
            <a:off x="1840320" y="1230120"/>
            <a:ext cx="1723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m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7"/>
          <p:cNvSpPr/>
          <p:nvPr/>
        </p:nvSpPr>
        <p:spPr>
          <a:xfrm>
            <a:off x="3715920" y="1230120"/>
            <a:ext cx="131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8"/>
          <p:cNvSpPr/>
          <p:nvPr/>
        </p:nvSpPr>
        <p:spPr>
          <a:xfrm>
            <a:off x="5372640" y="1230120"/>
            <a:ext cx="131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bst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克服障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29"/>
          <p:cNvSpPr/>
          <p:nvPr/>
        </p:nvSpPr>
        <p:spPr>
          <a:xfrm>
            <a:off x="6934680" y="1230120"/>
            <a:ext cx="143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解决收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310320" y="6295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684036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SCQOR</a:t>
            </a: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与解决问题过程的比较对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五边形 3"/>
          <p:cNvSpPr/>
          <p:nvPr/>
        </p:nvSpPr>
        <p:spPr>
          <a:xfrm>
            <a:off x="107640" y="2088720"/>
            <a:ext cx="1381320" cy="963720"/>
          </a:xfrm>
          <a:prstGeom prst="homePlate">
            <a:avLst>
              <a:gd name="adj" fmla="val 21672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五边形 4"/>
          <p:cNvSpPr/>
          <p:nvPr/>
        </p:nvSpPr>
        <p:spPr>
          <a:xfrm>
            <a:off x="1608480" y="2070360"/>
            <a:ext cx="1223640" cy="963720"/>
          </a:xfrm>
          <a:prstGeom prst="homePlate">
            <a:avLst>
              <a:gd name="adj" fmla="val 21672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五边形 5"/>
          <p:cNvSpPr/>
          <p:nvPr/>
        </p:nvSpPr>
        <p:spPr>
          <a:xfrm>
            <a:off x="3109320" y="2070360"/>
            <a:ext cx="1223640" cy="963720"/>
          </a:xfrm>
          <a:prstGeom prst="homePlate">
            <a:avLst>
              <a:gd name="adj" fmla="val 21672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五边形 6"/>
          <p:cNvSpPr/>
          <p:nvPr/>
        </p:nvSpPr>
        <p:spPr>
          <a:xfrm>
            <a:off x="4610160" y="2049840"/>
            <a:ext cx="1223640" cy="963720"/>
          </a:xfrm>
          <a:prstGeom prst="homePlate">
            <a:avLst>
              <a:gd name="adj" fmla="val 21672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五边形 7"/>
          <p:cNvSpPr/>
          <p:nvPr/>
        </p:nvSpPr>
        <p:spPr>
          <a:xfrm>
            <a:off x="6111000" y="2070360"/>
            <a:ext cx="1223640" cy="963720"/>
          </a:xfrm>
          <a:prstGeom prst="homePlate">
            <a:avLst>
              <a:gd name="adj" fmla="val 21672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五边形 8"/>
          <p:cNvSpPr/>
          <p:nvPr/>
        </p:nvSpPr>
        <p:spPr>
          <a:xfrm>
            <a:off x="7611840" y="2049840"/>
            <a:ext cx="1223640" cy="963720"/>
          </a:xfrm>
          <a:prstGeom prst="homePlate">
            <a:avLst>
              <a:gd name="adj" fmla="val 21672"/>
            </a:avLst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五边形 9"/>
          <p:cNvSpPr/>
          <p:nvPr/>
        </p:nvSpPr>
        <p:spPr>
          <a:xfrm>
            <a:off x="107640" y="3670560"/>
            <a:ext cx="1381320" cy="129564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五边形 10"/>
          <p:cNvSpPr/>
          <p:nvPr/>
        </p:nvSpPr>
        <p:spPr>
          <a:xfrm>
            <a:off x="2220480" y="3670560"/>
            <a:ext cx="1055160" cy="129564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1" name="五边形 15"/>
          <p:cNvSpPr/>
          <p:nvPr/>
        </p:nvSpPr>
        <p:spPr>
          <a:xfrm>
            <a:off x="3520800" y="3688200"/>
            <a:ext cx="1055160" cy="129564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2" name="五边形 16"/>
          <p:cNvSpPr/>
          <p:nvPr/>
        </p:nvSpPr>
        <p:spPr>
          <a:xfrm>
            <a:off x="4821480" y="3670560"/>
            <a:ext cx="1055160" cy="129564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五边形 17"/>
          <p:cNvSpPr/>
          <p:nvPr/>
        </p:nvSpPr>
        <p:spPr>
          <a:xfrm>
            <a:off x="6121800" y="3693240"/>
            <a:ext cx="1055160" cy="129564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五边形 18"/>
          <p:cNvSpPr/>
          <p:nvPr/>
        </p:nvSpPr>
        <p:spPr>
          <a:xfrm>
            <a:off x="7422480" y="3670560"/>
            <a:ext cx="1055160" cy="1295640"/>
          </a:xfrm>
          <a:prstGeom prst="homePlate">
            <a:avLst>
              <a:gd name="adj" fmla="val 21672"/>
            </a:avLst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矩形 19"/>
          <p:cNvSpPr/>
          <p:nvPr/>
        </p:nvSpPr>
        <p:spPr>
          <a:xfrm>
            <a:off x="1489320" y="2224080"/>
            <a:ext cx="1311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0"/>
          <p:cNvSpPr/>
          <p:nvPr/>
        </p:nvSpPr>
        <p:spPr>
          <a:xfrm>
            <a:off x="2970720" y="2224080"/>
            <a:ext cx="1500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Com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1"/>
          <p:cNvSpPr/>
          <p:nvPr/>
        </p:nvSpPr>
        <p:spPr>
          <a:xfrm>
            <a:off x="4565160" y="2224080"/>
            <a:ext cx="1311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2"/>
          <p:cNvSpPr/>
          <p:nvPr/>
        </p:nvSpPr>
        <p:spPr>
          <a:xfrm>
            <a:off x="6067080" y="2224080"/>
            <a:ext cx="1311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Obst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克服障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23"/>
          <p:cNvSpPr/>
          <p:nvPr/>
        </p:nvSpPr>
        <p:spPr>
          <a:xfrm>
            <a:off x="7503840" y="2224080"/>
            <a:ext cx="14396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解决收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4"/>
          <p:cNvSpPr/>
          <p:nvPr/>
        </p:nvSpPr>
        <p:spPr>
          <a:xfrm>
            <a:off x="36360" y="2247480"/>
            <a:ext cx="1523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故事展开的基本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5"/>
          <p:cNvSpPr/>
          <p:nvPr/>
        </p:nvSpPr>
        <p:spPr>
          <a:xfrm>
            <a:off x="36360" y="4018320"/>
            <a:ext cx="1523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问题的基本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6"/>
          <p:cNvSpPr/>
          <p:nvPr/>
        </p:nvSpPr>
        <p:spPr>
          <a:xfrm>
            <a:off x="2129400" y="4018320"/>
            <a:ext cx="123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问题并归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7"/>
          <p:cNvSpPr/>
          <p:nvPr/>
        </p:nvSpPr>
        <p:spPr>
          <a:xfrm>
            <a:off x="3444480" y="4018320"/>
            <a:ext cx="1207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确定具体的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28"/>
          <p:cNvSpPr/>
          <p:nvPr/>
        </p:nvSpPr>
        <p:spPr>
          <a:xfrm>
            <a:off x="4804920" y="4018320"/>
            <a:ext cx="108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选出替代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9"/>
          <p:cNvSpPr/>
          <p:nvPr/>
        </p:nvSpPr>
        <p:spPr>
          <a:xfrm>
            <a:off x="6015960" y="4018320"/>
            <a:ext cx="1267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评估替代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0"/>
          <p:cNvSpPr/>
          <p:nvPr/>
        </p:nvSpPr>
        <p:spPr>
          <a:xfrm>
            <a:off x="7359120" y="4018320"/>
            <a:ext cx="118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实行解决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31"/>
          <p:cNvSpPr/>
          <p:nvPr/>
        </p:nvSpPr>
        <p:spPr>
          <a:xfrm>
            <a:off x="2292840" y="3746160"/>
            <a:ext cx="238320" cy="23832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32"/>
          <p:cNvSpPr/>
          <p:nvPr/>
        </p:nvSpPr>
        <p:spPr>
          <a:xfrm>
            <a:off x="3602160" y="3746160"/>
            <a:ext cx="238320" cy="23832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33"/>
          <p:cNvSpPr/>
          <p:nvPr/>
        </p:nvSpPr>
        <p:spPr>
          <a:xfrm>
            <a:off x="4932000" y="3756960"/>
            <a:ext cx="238320" cy="23832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34"/>
          <p:cNvSpPr/>
          <p:nvPr/>
        </p:nvSpPr>
        <p:spPr>
          <a:xfrm>
            <a:off x="6228360" y="3746160"/>
            <a:ext cx="238320" cy="23832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35"/>
          <p:cNvSpPr/>
          <p:nvPr/>
        </p:nvSpPr>
        <p:spPr>
          <a:xfrm>
            <a:off x="7501680" y="3746160"/>
            <a:ext cx="238320" cy="23832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直接箭头连接符 37"/>
          <p:cNvCxnSpPr/>
          <p:nvPr/>
        </p:nvCxnSpPr>
        <p:spPr>
          <a:xfrm flipH="1" flipV="1">
            <a:off x="2292480" y="3052440"/>
            <a:ext cx="455760" cy="74376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cxnSp>
        <p:nvCxnSpPr>
          <p:cNvPr id="433" name="直接箭头连接符 45"/>
          <p:cNvCxnSpPr>
            <a:endCxn id="405" idx="2"/>
          </p:cNvCxnSpPr>
          <p:nvPr/>
        </p:nvCxnSpPr>
        <p:spPr>
          <a:xfrm flipV="1">
            <a:off x="2747880" y="3034080"/>
            <a:ext cx="869040" cy="76212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cxnSp>
        <p:nvCxnSpPr>
          <p:cNvPr id="434" name="直接箭头连接符 48"/>
          <p:cNvCxnSpPr/>
          <p:nvPr/>
        </p:nvCxnSpPr>
        <p:spPr>
          <a:xfrm flipV="1">
            <a:off x="4211640" y="3013560"/>
            <a:ext cx="839880" cy="78264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cxnSp>
        <p:nvCxnSpPr>
          <p:cNvPr id="435" name="直接箭头连接符 52"/>
          <p:cNvCxnSpPr/>
          <p:nvPr/>
        </p:nvCxnSpPr>
        <p:spPr>
          <a:xfrm flipV="1">
            <a:off x="5580000" y="3052440"/>
            <a:ext cx="767520" cy="75384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cxnSp>
        <p:nvCxnSpPr>
          <p:cNvPr id="436" name="直接箭头连接符 56"/>
          <p:cNvCxnSpPr/>
          <p:nvPr/>
        </p:nvCxnSpPr>
        <p:spPr>
          <a:xfrm flipH="1" flipV="1">
            <a:off x="6723000" y="3052440"/>
            <a:ext cx="153360" cy="75384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cxnSp>
        <p:nvCxnSpPr>
          <p:cNvPr id="437" name="直接箭头连接符 60"/>
          <p:cNvCxnSpPr/>
          <p:nvPr/>
        </p:nvCxnSpPr>
        <p:spPr>
          <a:xfrm flipH="1" flipV="1">
            <a:off x="7100640" y="3042360"/>
            <a:ext cx="928080" cy="75384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cxnSp>
        <p:nvCxnSpPr>
          <p:cNvPr id="438" name="直接箭头连接符 62"/>
          <p:cNvCxnSpPr/>
          <p:nvPr/>
        </p:nvCxnSpPr>
        <p:spPr>
          <a:xfrm flipV="1">
            <a:off x="8026560" y="3013560"/>
            <a:ext cx="360" cy="774360"/>
          </a:xfrm>
          <a:prstGeom prst="straightConnector1">
            <a:avLst/>
          </a:prstGeom>
          <a:ln cap="rnd" w="38100">
            <a:solidFill>
              <a:srgbClr val="ffffff">
                <a:lumMod val="50000"/>
              </a:srgbClr>
            </a:solidFill>
            <a:round/>
            <a:headEnd len="med" type="oval" w="med"/>
            <a:tailEnd len="med" type="triangle" w="med"/>
          </a:ln>
        </p:spPr>
      </p:cxnSp>
      <p:sp>
        <p:nvSpPr>
          <p:cNvPr id="439" name="TextBox 65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66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矩形 36"/>
          <p:cNvSpPr/>
          <p:nvPr/>
        </p:nvSpPr>
        <p:spPr>
          <a:xfrm>
            <a:off x="2020680" y="5541840"/>
            <a:ext cx="4940640" cy="6541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2" name="标题 1"/>
          <p:cNvSpPr/>
          <p:nvPr/>
        </p:nvSpPr>
        <p:spPr>
          <a:xfrm>
            <a:off x="1835640" y="0"/>
            <a:ext cx="684036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运用</a:t>
            </a:r>
            <a:r>
              <a:rPr b="0" lang="en-US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SCQOR</a:t>
            </a: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法构建信息金字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8"/>
          <p:cNvGrpSpPr/>
          <p:nvPr/>
        </p:nvGrpSpPr>
        <p:grpSpPr>
          <a:xfrm>
            <a:off x="306360" y="2656440"/>
            <a:ext cx="1713960" cy="2528640"/>
            <a:chOff x="306360" y="2656440"/>
            <a:chExt cx="1713960" cy="2528640"/>
          </a:xfrm>
        </p:grpSpPr>
        <p:sp>
          <p:nvSpPr>
            <p:cNvPr id="445" name="矩形 4"/>
            <p:cNvSpPr/>
            <p:nvPr/>
          </p:nvSpPr>
          <p:spPr>
            <a:xfrm>
              <a:off x="306360" y="2656440"/>
              <a:ext cx="1511640" cy="607320"/>
            </a:xfrm>
            <a:prstGeom prst="rect">
              <a:avLst/>
            </a:prstGeom>
            <a:noFill/>
            <a:ln w="0">
              <a:solidFill>
                <a:srgbClr val="ffffff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SCQ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5"/>
            <p:cNvSpPr/>
            <p:nvPr/>
          </p:nvSpPr>
          <p:spPr>
            <a:xfrm>
              <a:off x="306360" y="3385080"/>
              <a:ext cx="1511640" cy="18000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8af2f"/>
                </a:solidFill>
                <a:latin typeface="Calibri"/>
              </a:endParaRPr>
            </a:p>
          </p:txBody>
        </p:sp>
        <p:sp>
          <p:nvSpPr>
            <p:cNvPr id="447" name="矩形 7"/>
            <p:cNvSpPr/>
            <p:nvPr/>
          </p:nvSpPr>
          <p:spPr>
            <a:xfrm>
              <a:off x="306360" y="3597840"/>
              <a:ext cx="1713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只小猪面临建房与否的抉择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9"/>
          <p:cNvGrpSpPr/>
          <p:nvPr/>
        </p:nvGrpSpPr>
        <p:grpSpPr>
          <a:xfrm>
            <a:off x="2020680" y="2656440"/>
            <a:ext cx="1511640" cy="2528640"/>
            <a:chOff x="2020680" y="2656440"/>
            <a:chExt cx="1511640" cy="2528640"/>
          </a:xfrm>
        </p:grpSpPr>
        <p:sp>
          <p:nvSpPr>
            <p:cNvPr id="449" name="矩形 10"/>
            <p:cNvSpPr/>
            <p:nvPr/>
          </p:nvSpPr>
          <p:spPr>
            <a:xfrm>
              <a:off x="2020680" y="2656440"/>
              <a:ext cx="1511640" cy="333000"/>
            </a:xfrm>
            <a:prstGeom prst="rect">
              <a:avLst/>
            </a:prstGeom>
            <a:noFill/>
            <a:ln w="0">
              <a:solidFill>
                <a:srgbClr val="ffffff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建房的必要性 （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1"/>
            <p:cNvSpPr/>
            <p:nvPr/>
          </p:nvSpPr>
          <p:spPr>
            <a:xfrm>
              <a:off x="2020680" y="3385080"/>
              <a:ext cx="1511640" cy="18000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矩形 12"/>
            <p:cNvSpPr/>
            <p:nvPr/>
          </p:nvSpPr>
          <p:spPr>
            <a:xfrm>
              <a:off x="2020680" y="3597840"/>
              <a:ext cx="151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房子能为小猪提供住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13"/>
          <p:cNvGrpSpPr/>
          <p:nvPr/>
        </p:nvGrpSpPr>
        <p:grpSpPr>
          <a:xfrm>
            <a:off x="3735360" y="2656440"/>
            <a:ext cx="1713960" cy="2528640"/>
            <a:chOff x="3735360" y="2656440"/>
            <a:chExt cx="1713960" cy="2528640"/>
          </a:xfrm>
        </p:grpSpPr>
        <p:sp>
          <p:nvSpPr>
            <p:cNvPr id="453" name="矩形 14"/>
            <p:cNvSpPr/>
            <p:nvPr/>
          </p:nvSpPr>
          <p:spPr>
            <a:xfrm>
              <a:off x="3735360" y="2656440"/>
              <a:ext cx="1511640" cy="333000"/>
            </a:xfrm>
            <a:prstGeom prst="rect">
              <a:avLst/>
            </a:prstGeom>
            <a:noFill/>
            <a:ln w="0">
              <a:solidFill>
                <a:srgbClr val="ffffff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砖房的优越性 （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5"/>
            <p:cNvSpPr/>
            <p:nvPr/>
          </p:nvSpPr>
          <p:spPr>
            <a:xfrm>
              <a:off x="3735360" y="3385080"/>
              <a:ext cx="1511640" cy="18000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5" name="矩形 16"/>
            <p:cNvSpPr/>
            <p:nvPr/>
          </p:nvSpPr>
          <p:spPr>
            <a:xfrm>
              <a:off x="3735360" y="3597840"/>
              <a:ext cx="1713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特别是，建造一座砖房子还能保证不被大灰狼损坏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7"/>
          <p:cNvGrpSpPr/>
          <p:nvPr/>
        </p:nvGrpSpPr>
        <p:grpSpPr>
          <a:xfrm>
            <a:off x="5449680" y="2656440"/>
            <a:ext cx="1713960" cy="2528640"/>
            <a:chOff x="5449680" y="2656440"/>
            <a:chExt cx="1713960" cy="2528640"/>
          </a:xfrm>
        </p:grpSpPr>
        <p:sp>
          <p:nvSpPr>
            <p:cNvPr id="457" name="矩形 18"/>
            <p:cNvSpPr/>
            <p:nvPr/>
          </p:nvSpPr>
          <p:spPr>
            <a:xfrm>
              <a:off x="5449680" y="2656440"/>
              <a:ext cx="1511640" cy="576360"/>
            </a:xfrm>
            <a:prstGeom prst="rect">
              <a:avLst/>
            </a:prstGeom>
            <a:noFill/>
            <a:ln w="0">
              <a:solidFill>
                <a:srgbClr val="ffffff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风险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19"/>
            <p:cNvSpPr/>
            <p:nvPr/>
          </p:nvSpPr>
          <p:spPr>
            <a:xfrm>
              <a:off x="5449680" y="3385080"/>
              <a:ext cx="1511640" cy="18000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9" name="矩形 20"/>
            <p:cNvSpPr/>
            <p:nvPr/>
          </p:nvSpPr>
          <p:spPr>
            <a:xfrm>
              <a:off x="5449680" y="3597840"/>
              <a:ext cx="1713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再加上，共同建房还能克服资金和劳动力的问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"/>
          <p:cNvGrpSpPr/>
          <p:nvPr/>
        </p:nvGrpSpPr>
        <p:grpSpPr>
          <a:xfrm>
            <a:off x="7164360" y="2656440"/>
            <a:ext cx="1656000" cy="2528640"/>
            <a:chOff x="7164360" y="2656440"/>
            <a:chExt cx="1656000" cy="2528640"/>
          </a:xfrm>
        </p:grpSpPr>
        <p:sp>
          <p:nvSpPr>
            <p:cNvPr id="461" name="矩形 22"/>
            <p:cNvSpPr/>
            <p:nvPr/>
          </p:nvSpPr>
          <p:spPr>
            <a:xfrm>
              <a:off x="7164360" y="2656440"/>
              <a:ext cx="1511640" cy="607320"/>
            </a:xfrm>
            <a:prstGeom prst="rect">
              <a:avLst/>
            </a:prstGeom>
            <a:noFill/>
            <a:ln w="0">
              <a:solidFill>
                <a:srgbClr val="ffffff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结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R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23"/>
            <p:cNvSpPr/>
            <p:nvPr/>
          </p:nvSpPr>
          <p:spPr>
            <a:xfrm>
              <a:off x="7164360" y="3385080"/>
              <a:ext cx="1511640" cy="18000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3" name="矩形 24"/>
            <p:cNvSpPr/>
            <p:nvPr/>
          </p:nvSpPr>
          <p:spPr>
            <a:xfrm>
              <a:off x="7164360" y="3597840"/>
              <a:ext cx="16560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此，共同建造砖房是三只小猪明智而可行的选择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26"/>
          <p:cNvSpPr/>
          <p:nvPr/>
        </p:nvSpPr>
        <p:spPr>
          <a:xfrm>
            <a:off x="1835640" y="1052640"/>
            <a:ext cx="5126040" cy="654120"/>
          </a:xfrm>
          <a:prstGeom prst="rect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69418"/>
              </a:solidFill>
              <a:latin typeface="Calibri"/>
            </a:endParaRPr>
          </a:p>
        </p:txBody>
      </p:sp>
      <p:sp>
        <p:nvSpPr>
          <p:cNvPr id="465" name="矩形 27"/>
          <p:cNvSpPr/>
          <p:nvPr/>
        </p:nvSpPr>
        <p:spPr>
          <a:xfrm>
            <a:off x="2036880" y="5612760"/>
            <a:ext cx="4839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对小猪们来说共同建房的好处很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8"/>
          <p:cNvSpPr/>
          <p:nvPr/>
        </p:nvSpPr>
        <p:spPr>
          <a:xfrm>
            <a:off x="1919520" y="1149120"/>
            <a:ext cx="5142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小猪建房问题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30"/>
          <p:cNvSpPr/>
          <p:nvPr/>
        </p:nvSpPr>
        <p:spPr>
          <a:xfrm>
            <a:off x="3533040" y="1700640"/>
            <a:ext cx="1832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78af2f"/>
                </a:solidFill>
                <a:latin typeface="微软雅黑"/>
                <a:ea typeface="微软雅黑"/>
              </a:rPr>
              <a:t>关键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组合 1"/>
          <p:cNvGrpSpPr/>
          <p:nvPr/>
        </p:nvGrpSpPr>
        <p:grpSpPr>
          <a:xfrm>
            <a:off x="1317960" y="1904040"/>
            <a:ext cx="6480720" cy="689040"/>
            <a:chOff x="1317960" y="1904040"/>
            <a:chExt cx="6480720" cy="689040"/>
          </a:xfrm>
        </p:grpSpPr>
        <p:cxnSp>
          <p:nvCxnSpPr>
            <p:cNvPr id="469" name="直接箭头连接符 32"/>
            <p:cNvCxnSpPr/>
            <p:nvPr/>
          </p:nvCxnSpPr>
          <p:spPr>
            <a:xfrm flipH="1">
              <a:off x="1317960" y="1904040"/>
              <a:ext cx="2201760" cy="689400"/>
            </a:xfrm>
            <a:prstGeom prst="straightConnector1">
              <a:avLst/>
            </a:prstGeom>
            <a:ln w="38100">
              <a:solidFill>
                <a:srgbClr val="78af2f"/>
              </a:solidFill>
              <a:round/>
              <a:tailEnd len="med" type="triangle" w="med"/>
            </a:ln>
          </p:spPr>
        </p:cxnSp>
        <p:cxnSp>
          <p:nvCxnSpPr>
            <p:cNvPr id="470" name="直接箭头连接符 38"/>
            <p:cNvCxnSpPr/>
            <p:nvPr/>
          </p:nvCxnSpPr>
          <p:spPr>
            <a:xfrm flipH="1">
              <a:off x="2977920" y="2106720"/>
              <a:ext cx="744120" cy="486720"/>
            </a:xfrm>
            <a:prstGeom prst="straightConnector1">
              <a:avLst/>
            </a:prstGeom>
            <a:ln w="38100">
              <a:solidFill>
                <a:srgbClr val="78af2f"/>
              </a:solidFill>
              <a:round/>
              <a:tailEnd len="med" type="triangle" w="med"/>
            </a:ln>
          </p:spPr>
        </p:cxnSp>
        <p:cxnSp>
          <p:nvCxnSpPr>
            <p:cNvPr id="471" name="直接箭头连接符 41"/>
            <p:cNvCxnSpPr/>
            <p:nvPr/>
          </p:nvCxnSpPr>
          <p:spPr>
            <a:xfrm>
              <a:off x="4541400" y="2106720"/>
              <a:ext cx="360" cy="486720"/>
            </a:xfrm>
            <a:prstGeom prst="straightConnector1">
              <a:avLst/>
            </a:prstGeom>
            <a:ln w="38100">
              <a:solidFill>
                <a:srgbClr val="78af2f"/>
              </a:solidFill>
              <a:round/>
              <a:tailEnd len="med" type="triangle" w="med"/>
            </a:ln>
          </p:spPr>
        </p:cxnSp>
        <p:cxnSp>
          <p:nvCxnSpPr>
            <p:cNvPr id="472" name="直接箭头连接符 55"/>
            <p:cNvCxnSpPr/>
            <p:nvPr/>
          </p:nvCxnSpPr>
          <p:spPr>
            <a:xfrm>
              <a:off x="5233680" y="2106720"/>
              <a:ext cx="765000" cy="486720"/>
            </a:xfrm>
            <a:prstGeom prst="straightConnector1">
              <a:avLst/>
            </a:prstGeom>
            <a:ln w="38100">
              <a:solidFill>
                <a:srgbClr val="78af2f"/>
              </a:solidFill>
              <a:round/>
              <a:tailEnd len="med" type="triangle" w="med"/>
            </a:ln>
          </p:spPr>
        </p:cxnSp>
        <p:cxnSp>
          <p:nvCxnSpPr>
            <p:cNvPr id="473" name="直接箭头连接符 58"/>
            <p:cNvCxnSpPr/>
            <p:nvPr/>
          </p:nvCxnSpPr>
          <p:spPr>
            <a:xfrm>
              <a:off x="5436000" y="1904040"/>
              <a:ext cx="2363040" cy="689400"/>
            </a:xfrm>
            <a:prstGeom prst="straightConnector1">
              <a:avLst/>
            </a:prstGeom>
            <a:ln w="38100">
              <a:solidFill>
                <a:srgbClr val="78af2f"/>
              </a:solidFill>
              <a:round/>
              <a:tailEnd len="med" type="triangle" w="med"/>
            </a:ln>
          </p:spPr>
        </p:cxnSp>
      </p:grpSp>
      <p:sp>
        <p:nvSpPr>
          <p:cNvPr id="474" name="TextBox 70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31"/>
          <p:cNvSpPr/>
          <p:nvPr/>
        </p:nvSpPr>
        <p:spPr>
          <a:xfrm>
            <a:off x="7010280" y="5181480"/>
            <a:ext cx="935640" cy="692280"/>
          </a:xfrm>
          <a:custGeom>
            <a:avLst/>
            <a:gdLst>
              <a:gd name="textAreaLeft" fmla="*/ 0 w 935640"/>
              <a:gd name="textAreaRight" fmla="*/ 936000 w 935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936136" h="692727">
                <a:moveTo>
                  <a:pt x="914400" y="0"/>
                </a:moveTo>
                <a:cubicBezTo>
                  <a:pt x="942109" y="212436"/>
                  <a:pt x="969818" y="424873"/>
                  <a:pt x="817418" y="540327"/>
                </a:cubicBezTo>
                <a:cubicBezTo>
                  <a:pt x="665018" y="655782"/>
                  <a:pt x="332509" y="674254"/>
                  <a:pt x="0" y="692727"/>
                </a:cubicBezTo>
              </a:path>
            </a:pathLst>
          </a:custGeom>
          <a:noFill/>
          <a:ln w="38100">
            <a:solidFill>
              <a:srgbClr val="78af2f"/>
            </a:solidFill>
            <a:round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420000" y="0"/>
            <a:ext cx="5266440" cy="76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由下到上传达信息效果不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12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24"/>
          <p:cNvSpPr/>
          <p:nvPr/>
        </p:nvSpPr>
        <p:spPr>
          <a:xfrm>
            <a:off x="1619640" y="119664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78af2f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7"/>
          <p:cNvSpPr/>
          <p:nvPr/>
        </p:nvSpPr>
        <p:spPr>
          <a:xfrm>
            <a:off x="1763640" y="1287000"/>
            <a:ext cx="356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姑妈给你介绍了妹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9"/>
          <p:cNvSpPr/>
          <p:nvPr/>
        </p:nvSpPr>
        <p:spPr>
          <a:xfrm>
            <a:off x="6014520" y="1845000"/>
            <a:ext cx="2445840" cy="36396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无视，玩手机中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23"/>
          <p:cNvSpPr/>
          <p:nvPr/>
        </p:nvSpPr>
        <p:spPr>
          <a:xfrm>
            <a:off x="1619640" y="221220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78af2f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任意多边形 34"/>
          <p:cNvSpPr/>
          <p:nvPr/>
        </p:nvSpPr>
        <p:spPr>
          <a:xfrm>
            <a:off x="1619640" y="322308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78af2f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4" name="任意多边形 35"/>
          <p:cNvSpPr/>
          <p:nvPr/>
        </p:nvSpPr>
        <p:spPr>
          <a:xfrm>
            <a:off x="1619640" y="430992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f69418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矩形 36"/>
          <p:cNvSpPr/>
          <p:nvPr/>
        </p:nvSpPr>
        <p:spPr>
          <a:xfrm>
            <a:off x="1763640" y="4435920"/>
            <a:ext cx="356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天上午你去相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7"/>
          <p:cNvSpPr/>
          <p:nvPr/>
        </p:nvSpPr>
        <p:spPr>
          <a:xfrm>
            <a:off x="1763640" y="2302560"/>
            <a:ext cx="356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说家庭条件不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8"/>
          <p:cNvSpPr/>
          <p:nvPr/>
        </p:nvSpPr>
        <p:spPr>
          <a:xfrm>
            <a:off x="2077560" y="33634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相也不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4"/>
          <p:cNvGrpSpPr/>
          <p:nvPr/>
        </p:nvGrpSpPr>
        <p:grpSpPr>
          <a:xfrm>
            <a:off x="251640" y="1269360"/>
            <a:ext cx="1187640" cy="3829320"/>
            <a:chOff x="251640" y="1269360"/>
            <a:chExt cx="1187640" cy="3829320"/>
          </a:xfrm>
        </p:grpSpPr>
        <p:sp>
          <p:nvSpPr>
            <p:cNvPr id="489" name="虚尾箭头 42"/>
            <p:cNvSpPr/>
            <p:nvPr/>
          </p:nvSpPr>
          <p:spPr>
            <a:xfrm rot="16200000">
              <a:off x="-1068840" y="2590200"/>
              <a:ext cx="3829320" cy="1187640"/>
            </a:xfrm>
            <a:prstGeom prst="striped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808080">
                    <a:alpha val="49019"/>
                  </a:srgbClr>
                </a:gs>
                <a:gs pos="100000">
                  <a:srgbClr val="b0b0b0">
                    <a:alpha val="70196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0" name="TextBox 43"/>
            <p:cNvSpPr/>
            <p:nvPr/>
          </p:nvSpPr>
          <p:spPr>
            <a:xfrm>
              <a:off x="537840" y="2182320"/>
              <a:ext cx="615240" cy="22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自下而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60"/>
          <p:cNvGrpSpPr/>
          <p:nvPr/>
        </p:nvGrpSpPr>
        <p:grpSpPr>
          <a:xfrm>
            <a:off x="5594760" y="1501920"/>
            <a:ext cx="1569240" cy="296280"/>
            <a:chOff x="5594760" y="1501920"/>
            <a:chExt cx="1569240" cy="296280"/>
          </a:xfrm>
        </p:grpSpPr>
        <p:cxnSp>
          <p:nvCxnSpPr>
            <p:cNvPr id="492" name="直接连接符 45"/>
            <p:cNvCxnSpPr/>
            <p:nvPr/>
          </p:nvCxnSpPr>
          <p:spPr>
            <a:xfrm>
              <a:off x="5594760" y="150192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493" name="直接连接符 55"/>
            <p:cNvCxnSpPr/>
            <p:nvPr/>
          </p:nvCxnSpPr>
          <p:spPr>
            <a:xfrm flipV="1">
              <a:off x="7145640" y="1501920"/>
              <a:ext cx="360" cy="29664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494" name="矩形 40"/>
          <p:cNvSpPr/>
          <p:nvPr/>
        </p:nvSpPr>
        <p:spPr>
          <a:xfrm>
            <a:off x="6014520" y="2901600"/>
            <a:ext cx="2445840" cy="36396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继续无视玩手机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1"/>
          <p:cNvGrpSpPr/>
          <p:nvPr/>
        </p:nvGrpSpPr>
        <p:grpSpPr>
          <a:xfrm>
            <a:off x="5594760" y="2558160"/>
            <a:ext cx="1569240" cy="296640"/>
            <a:chOff x="5594760" y="2558160"/>
            <a:chExt cx="1569240" cy="296640"/>
          </a:xfrm>
        </p:grpSpPr>
        <p:cxnSp>
          <p:nvCxnSpPr>
            <p:cNvPr id="496" name="直接连接符 44"/>
            <p:cNvCxnSpPr/>
            <p:nvPr/>
          </p:nvCxnSpPr>
          <p:spPr>
            <a:xfrm>
              <a:off x="5594760" y="255816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497" name="直接连接符 46"/>
            <p:cNvCxnSpPr/>
            <p:nvPr/>
          </p:nvCxnSpPr>
          <p:spPr>
            <a:xfrm flipV="1">
              <a:off x="7145640" y="2558160"/>
              <a:ext cx="360" cy="29700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498" name="矩形 47"/>
          <p:cNvSpPr/>
          <p:nvPr/>
        </p:nvSpPr>
        <p:spPr>
          <a:xfrm>
            <a:off x="6014520" y="3952440"/>
            <a:ext cx="2445840" cy="36396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忍住吐槽你妈审美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48"/>
          <p:cNvGrpSpPr/>
          <p:nvPr/>
        </p:nvGrpSpPr>
        <p:grpSpPr>
          <a:xfrm>
            <a:off x="5594760" y="3609000"/>
            <a:ext cx="1569240" cy="296640"/>
            <a:chOff x="5594760" y="3609000"/>
            <a:chExt cx="1569240" cy="296640"/>
          </a:xfrm>
        </p:grpSpPr>
        <p:cxnSp>
          <p:nvCxnSpPr>
            <p:cNvPr id="500" name="直接连接符 49"/>
            <p:cNvCxnSpPr/>
            <p:nvPr/>
          </p:nvCxnSpPr>
          <p:spPr>
            <a:xfrm>
              <a:off x="5594760" y="360900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501" name="直接连接符 50"/>
            <p:cNvCxnSpPr/>
            <p:nvPr/>
          </p:nvCxnSpPr>
          <p:spPr>
            <a:xfrm flipV="1">
              <a:off x="7145640" y="3609000"/>
              <a:ext cx="360" cy="29700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502" name="矩形 51"/>
          <p:cNvSpPr/>
          <p:nvPr/>
        </p:nvSpPr>
        <p:spPr>
          <a:xfrm>
            <a:off x="6014520" y="5013360"/>
            <a:ext cx="2445840" cy="72720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勾起敌意而非兴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妈，咱们能不能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52"/>
          <p:cNvGrpSpPr/>
          <p:nvPr/>
        </p:nvGrpSpPr>
        <p:grpSpPr>
          <a:xfrm>
            <a:off x="5594760" y="4670280"/>
            <a:ext cx="1569240" cy="296280"/>
            <a:chOff x="5594760" y="4670280"/>
            <a:chExt cx="1569240" cy="296280"/>
          </a:xfrm>
        </p:grpSpPr>
        <p:cxnSp>
          <p:nvCxnSpPr>
            <p:cNvPr id="504" name="直接连接符 53"/>
            <p:cNvCxnSpPr/>
            <p:nvPr/>
          </p:nvCxnSpPr>
          <p:spPr>
            <a:xfrm>
              <a:off x="5594760" y="467028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505" name="直接连接符 54"/>
            <p:cNvCxnSpPr/>
            <p:nvPr/>
          </p:nvCxnSpPr>
          <p:spPr>
            <a:xfrm flipV="1">
              <a:off x="7145640" y="4670280"/>
              <a:ext cx="360" cy="29664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20000" y="0"/>
            <a:ext cx="5266440" cy="76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由上而下传达信息最具效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2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1619640" y="119664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f69418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17"/>
          <p:cNvSpPr/>
          <p:nvPr/>
        </p:nvSpPr>
        <p:spPr>
          <a:xfrm>
            <a:off x="1763640" y="1287000"/>
            <a:ext cx="356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妈今年绝不逼你相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9"/>
          <p:cNvSpPr/>
          <p:nvPr/>
        </p:nvSpPr>
        <p:spPr>
          <a:xfrm>
            <a:off x="6014520" y="1845000"/>
            <a:ext cx="2445840" cy="36396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母后，太意外了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23"/>
          <p:cNvSpPr/>
          <p:nvPr/>
        </p:nvSpPr>
        <p:spPr>
          <a:xfrm>
            <a:off x="1619640" y="221220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78af2f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任意多边形 34"/>
          <p:cNvSpPr/>
          <p:nvPr/>
        </p:nvSpPr>
        <p:spPr>
          <a:xfrm>
            <a:off x="1619640" y="322308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78af2f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任意多边形 35"/>
          <p:cNvSpPr/>
          <p:nvPr/>
        </p:nvSpPr>
        <p:spPr>
          <a:xfrm>
            <a:off x="1619640" y="4309920"/>
            <a:ext cx="3888000" cy="70344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32792" h="1316396">
                <a:moveTo>
                  <a:pt x="0" y="131640"/>
                </a:moveTo>
                <a:cubicBezTo>
                  <a:pt x="0" y="58937"/>
                  <a:pt x="58937" y="0"/>
                  <a:pt x="131640" y="0"/>
                </a:cubicBezTo>
                <a:lnTo>
                  <a:pt x="2501152" y="0"/>
                </a:lnTo>
                <a:cubicBezTo>
                  <a:pt x="2573855" y="0"/>
                  <a:pt x="2632792" y="58937"/>
                  <a:pt x="2632792" y="131640"/>
                </a:cubicBezTo>
                <a:lnTo>
                  <a:pt x="2632792" y="1184756"/>
                </a:lnTo>
                <a:cubicBezTo>
                  <a:pt x="2632792" y="1257459"/>
                  <a:pt x="2573855" y="1316396"/>
                  <a:pt x="2501152" y="1316396"/>
                </a:cubicBezTo>
                <a:lnTo>
                  <a:pt x="131640" y="1316396"/>
                </a:lnTo>
                <a:cubicBezTo>
                  <a:pt x="58937" y="1316396"/>
                  <a:pt x="0" y="1257459"/>
                  <a:pt x="0" y="1184756"/>
                </a:cubicBezTo>
                <a:lnTo>
                  <a:pt x="0" y="131640"/>
                </a:lnTo>
                <a:close/>
              </a:path>
            </a:pathLst>
          </a:custGeom>
          <a:solidFill>
            <a:srgbClr val="78af2f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2360" rIns="1623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矩形 36"/>
          <p:cNvSpPr/>
          <p:nvPr/>
        </p:nvSpPr>
        <p:spPr>
          <a:xfrm>
            <a:off x="1763640" y="4435920"/>
            <a:ext cx="356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她有微信，蛮会玩自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37"/>
          <p:cNvSpPr/>
          <p:nvPr/>
        </p:nvSpPr>
        <p:spPr>
          <a:xfrm>
            <a:off x="1763640" y="230256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过姑妈在张罗，是美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8"/>
          <p:cNvSpPr/>
          <p:nvPr/>
        </p:nvSpPr>
        <p:spPr>
          <a:xfrm>
            <a:off x="1763640" y="3363480"/>
            <a:ext cx="356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你在一个地方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4"/>
          <p:cNvGrpSpPr/>
          <p:nvPr/>
        </p:nvGrpSpPr>
        <p:grpSpPr>
          <a:xfrm>
            <a:off x="251640" y="1269000"/>
            <a:ext cx="1187640" cy="3829320"/>
            <a:chOff x="251640" y="1269000"/>
            <a:chExt cx="1187640" cy="3829320"/>
          </a:xfrm>
        </p:grpSpPr>
        <p:sp>
          <p:nvSpPr>
            <p:cNvPr id="519" name="虚尾箭头 42"/>
            <p:cNvSpPr/>
            <p:nvPr/>
          </p:nvSpPr>
          <p:spPr>
            <a:xfrm flipV="1" rot="5400000">
              <a:off x="-1069200" y="2589480"/>
              <a:ext cx="3829320" cy="1187640"/>
            </a:xfrm>
            <a:prstGeom prst="striped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808080">
                    <a:alpha val="49019"/>
                  </a:srgbClr>
                </a:gs>
                <a:gs pos="100000">
                  <a:srgbClr val="b0b0b0">
                    <a:alpha val="70196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0" name="TextBox 43"/>
            <p:cNvSpPr/>
            <p:nvPr/>
          </p:nvSpPr>
          <p:spPr>
            <a:xfrm>
              <a:off x="537840" y="2182320"/>
              <a:ext cx="615240" cy="22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自上而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60"/>
          <p:cNvGrpSpPr/>
          <p:nvPr/>
        </p:nvGrpSpPr>
        <p:grpSpPr>
          <a:xfrm>
            <a:off x="5594760" y="1501920"/>
            <a:ext cx="1569240" cy="296280"/>
            <a:chOff x="5594760" y="1501920"/>
            <a:chExt cx="1569240" cy="296280"/>
          </a:xfrm>
        </p:grpSpPr>
        <p:cxnSp>
          <p:nvCxnSpPr>
            <p:cNvPr id="522" name="直接连接符 45"/>
            <p:cNvCxnSpPr/>
            <p:nvPr/>
          </p:nvCxnSpPr>
          <p:spPr>
            <a:xfrm>
              <a:off x="5594760" y="150192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523" name="直接连接符 55"/>
            <p:cNvCxnSpPr/>
            <p:nvPr/>
          </p:nvCxnSpPr>
          <p:spPr>
            <a:xfrm flipV="1">
              <a:off x="7145640" y="1501920"/>
              <a:ext cx="360" cy="29664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524" name="矩形 40"/>
          <p:cNvSpPr/>
          <p:nvPr/>
        </p:nvSpPr>
        <p:spPr>
          <a:xfrm>
            <a:off x="6014520" y="2901600"/>
            <a:ext cx="2445840" cy="36396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母后，又想骗我了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41"/>
          <p:cNvGrpSpPr/>
          <p:nvPr/>
        </p:nvGrpSpPr>
        <p:grpSpPr>
          <a:xfrm>
            <a:off x="5594760" y="2558160"/>
            <a:ext cx="1569240" cy="296640"/>
            <a:chOff x="5594760" y="2558160"/>
            <a:chExt cx="1569240" cy="296640"/>
          </a:xfrm>
        </p:grpSpPr>
        <p:cxnSp>
          <p:nvCxnSpPr>
            <p:cNvPr id="526" name="直接连接符 44"/>
            <p:cNvCxnSpPr/>
            <p:nvPr/>
          </p:nvCxnSpPr>
          <p:spPr>
            <a:xfrm>
              <a:off x="5594760" y="255816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527" name="直接连接符 46"/>
            <p:cNvCxnSpPr/>
            <p:nvPr/>
          </p:nvCxnSpPr>
          <p:spPr>
            <a:xfrm flipV="1">
              <a:off x="7145640" y="2558160"/>
              <a:ext cx="360" cy="29700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528" name="矩形 47"/>
          <p:cNvSpPr/>
          <p:nvPr/>
        </p:nvSpPr>
        <p:spPr>
          <a:xfrm>
            <a:off x="6014520" y="3952440"/>
            <a:ext cx="2445840" cy="36396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母后，能不挖坑么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48"/>
          <p:cNvGrpSpPr/>
          <p:nvPr/>
        </p:nvGrpSpPr>
        <p:grpSpPr>
          <a:xfrm>
            <a:off x="5594760" y="3609000"/>
            <a:ext cx="1569240" cy="296640"/>
            <a:chOff x="5594760" y="3609000"/>
            <a:chExt cx="1569240" cy="296640"/>
          </a:xfrm>
        </p:grpSpPr>
        <p:cxnSp>
          <p:nvCxnSpPr>
            <p:cNvPr id="530" name="直接连接符 49"/>
            <p:cNvCxnSpPr/>
            <p:nvPr/>
          </p:nvCxnSpPr>
          <p:spPr>
            <a:xfrm>
              <a:off x="5594760" y="360900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531" name="直接连接符 50"/>
            <p:cNvCxnSpPr/>
            <p:nvPr/>
          </p:nvCxnSpPr>
          <p:spPr>
            <a:xfrm flipV="1">
              <a:off x="7145640" y="3609000"/>
              <a:ext cx="360" cy="29700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532" name="矩形 51"/>
          <p:cNvSpPr/>
          <p:nvPr/>
        </p:nvSpPr>
        <p:spPr>
          <a:xfrm>
            <a:off x="6014520" y="5013360"/>
            <a:ext cx="2445840" cy="72720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勾起兴趣而非抗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妈，她微信号多少 </a:t>
            </a:r>
            <a:r>
              <a:rPr b="1" lang="en-US" sz="2000" spc="-15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52"/>
          <p:cNvGrpSpPr/>
          <p:nvPr/>
        </p:nvGrpSpPr>
        <p:grpSpPr>
          <a:xfrm>
            <a:off x="5594760" y="4670280"/>
            <a:ext cx="1569240" cy="296280"/>
            <a:chOff x="5594760" y="4670280"/>
            <a:chExt cx="1569240" cy="296280"/>
          </a:xfrm>
        </p:grpSpPr>
        <p:cxnSp>
          <p:nvCxnSpPr>
            <p:cNvPr id="534" name="直接连接符 53"/>
            <p:cNvCxnSpPr/>
            <p:nvPr/>
          </p:nvCxnSpPr>
          <p:spPr>
            <a:xfrm>
              <a:off x="5594760" y="4670280"/>
              <a:ext cx="1569600" cy="36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  <p:cxnSp>
          <p:nvCxnSpPr>
            <p:cNvPr id="535" name="直接连接符 54"/>
            <p:cNvCxnSpPr/>
            <p:nvPr/>
          </p:nvCxnSpPr>
          <p:spPr>
            <a:xfrm flipV="1">
              <a:off x="7145640" y="4670280"/>
              <a:ext cx="360" cy="296640"/>
            </a:xfrm>
            <a:prstGeom prst="straightConnector1">
              <a:avLst/>
            </a:prstGeom>
            <a:ln w="38100">
              <a:solidFill>
                <a:srgbClr val="f69418"/>
              </a:solidFill>
              <a:round/>
              <a:headEnd len="med" type="oval" w="med"/>
            </a:ln>
          </p:spPr>
        </p:cxnSp>
      </p:grpSp>
      <p:sp>
        <p:nvSpPr>
          <p:cNvPr id="536" name="矩形 31"/>
          <p:cNvSpPr/>
          <p:nvPr/>
        </p:nvSpPr>
        <p:spPr>
          <a:xfrm>
            <a:off x="251640" y="5390640"/>
            <a:ext cx="5256360" cy="727200"/>
          </a:xfrm>
          <a:prstGeom prst="rect">
            <a:avLst/>
          </a:prstGeom>
          <a:noFill/>
          <a:ln w="38100">
            <a:solidFill>
              <a:srgbClr val="000000">
                <a:lumMod val="65000"/>
                <a:lumOff val="3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说结论让对方打消顾虑或者减少抗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再说明理由引导对方产生兴趣或认同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92000" y="-171360"/>
            <a:ext cx="5651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高价商品或服务怎么销售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683640" y="1628640"/>
            <a:ext cx="756036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教我</a:t>
            </a:r>
            <a:r>
              <a:rPr b="1" lang="zh-CN" sz="6000" spc="-1" strike="noStrike">
                <a:solidFill>
                  <a:srgbClr val="f69418"/>
                </a:solidFill>
                <a:latin typeface="微软雅黑"/>
                <a:ea typeface="微软雅黑"/>
              </a:rPr>
              <a:t>赚</a:t>
            </a:r>
            <a:r>
              <a:rPr b="0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0</a:t>
            </a:r>
            <a:r>
              <a:rPr b="0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如教我怎么</a:t>
            </a:r>
            <a:r>
              <a:rPr b="1" lang="zh-CN" sz="5400" spc="-1" strike="noStrike">
                <a:solidFill>
                  <a:srgbClr val="f69418"/>
                </a:solidFill>
                <a:latin typeface="微软雅黑"/>
                <a:ea typeface="微软雅黑"/>
              </a:rPr>
              <a:t>不赔</a:t>
            </a:r>
            <a:r>
              <a:rPr b="0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0</a:t>
            </a:r>
            <a:r>
              <a:rPr b="0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3"/>
          <p:cNvSpPr/>
          <p:nvPr/>
        </p:nvSpPr>
        <p:spPr>
          <a:xfrm>
            <a:off x="708480" y="5068800"/>
            <a:ext cx="792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69418"/>
                </a:solidFill>
                <a:latin typeface="方正风雅宋简体"/>
                <a:ea typeface="方正风雅宋简体"/>
              </a:rPr>
              <a:t>把高价商品或服务的营业活动</a:t>
            </a:r>
            <a:r>
              <a:rPr b="0" lang="zh-CN" sz="2800" spc="-1" strike="noStrike">
                <a:solidFill>
                  <a:srgbClr val="f69418"/>
                </a:solidFill>
                <a:latin typeface="方正风雅宋简体"/>
                <a:ea typeface="方正风雅宋简体"/>
              </a:rPr>
              <a:t>，定位为“预防潜在问题的预防策略”更具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虚尾箭头 4"/>
          <p:cNvSpPr/>
          <p:nvPr/>
        </p:nvSpPr>
        <p:spPr>
          <a:xfrm rot="5400000">
            <a:off x="1548000" y="3448080"/>
            <a:ext cx="1583640" cy="165600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97f25"/>
              </a:gs>
              <a:gs pos="100000">
                <a:srgbClr val="7fb435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48000" y="0"/>
            <a:ext cx="3888000" cy="76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替代方案怎么给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5"/>
          <p:cNvGrpSpPr/>
          <p:nvPr/>
        </p:nvGrpSpPr>
        <p:grpSpPr>
          <a:xfrm>
            <a:off x="1037160" y="1819800"/>
            <a:ext cx="6836760" cy="3682080"/>
            <a:chOff x="1037160" y="1819800"/>
            <a:chExt cx="6836760" cy="3682080"/>
          </a:xfrm>
        </p:grpSpPr>
        <p:sp>
          <p:nvSpPr>
            <p:cNvPr id="547" name="圆角矩形 7"/>
            <p:cNvSpPr/>
            <p:nvPr/>
          </p:nvSpPr>
          <p:spPr>
            <a:xfrm>
              <a:off x="2329560" y="1999080"/>
              <a:ext cx="5544360" cy="933840"/>
            </a:xfrm>
            <a:prstGeom prst="roundRect">
              <a:avLst>
                <a:gd name="adj" fmla="val 16667"/>
              </a:avLst>
            </a:prstGeom>
            <a:solidFill>
              <a:srgbClr val="96cd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8" name="矩形 8"/>
            <p:cNvSpPr/>
            <p:nvPr/>
          </p:nvSpPr>
          <p:spPr>
            <a:xfrm>
              <a:off x="2514960" y="2199960"/>
              <a:ext cx="4896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替代方案以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为原则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圆角矩形 12"/>
            <p:cNvSpPr/>
            <p:nvPr/>
          </p:nvSpPr>
          <p:spPr>
            <a:xfrm>
              <a:off x="2329560" y="3163680"/>
              <a:ext cx="5544360" cy="933840"/>
            </a:xfrm>
            <a:prstGeom prst="roundRect">
              <a:avLst>
                <a:gd name="adj" fmla="val 16667"/>
              </a:avLst>
            </a:prstGeom>
            <a:solidFill>
              <a:srgbClr val="96cd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矩形 13"/>
            <p:cNvSpPr/>
            <p:nvPr/>
          </p:nvSpPr>
          <p:spPr>
            <a:xfrm>
              <a:off x="2508480" y="3364560"/>
              <a:ext cx="5179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个方案会产生心锚效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圆角矩形 17"/>
            <p:cNvSpPr/>
            <p:nvPr/>
          </p:nvSpPr>
          <p:spPr>
            <a:xfrm>
              <a:off x="2329560" y="4408200"/>
              <a:ext cx="5544360" cy="933840"/>
            </a:xfrm>
            <a:prstGeom prst="roundRect">
              <a:avLst>
                <a:gd name="adj" fmla="val 16667"/>
              </a:avLst>
            </a:prstGeom>
            <a:solidFill>
              <a:srgbClr val="96cd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2" name="矩形 18"/>
            <p:cNvSpPr/>
            <p:nvPr/>
          </p:nvSpPr>
          <p:spPr>
            <a:xfrm>
              <a:off x="2514960" y="4613760"/>
              <a:ext cx="5172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想推荐的选项放在中间位置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泪滴形 21"/>
            <p:cNvSpPr/>
            <p:nvPr/>
          </p:nvSpPr>
          <p:spPr>
            <a:xfrm rot="2493000">
              <a:off x="1224720" y="3173040"/>
              <a:ext cx="916560" cy="914040"/>
            </a:xfrm>
            <a:prstGeom prst="teardrop">
              <a:avLst>
                <a:gd name="adj" fmla="val 0"/>
              </a:avLst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泪滴形 26"/>
            <p:cNvSpPr/>
            <p:nvPr/>
          </p:nvSpPr>
          <p:spPr>
            <a:xfrm rot="2493000">
              <a:off x="1224720" y="2008440"/>
              <a:ext cx="916560" cy="914040"/>
            </a:xfrm>
            <a:prstGeom prst="teardrop">
              <a:avLst>
                <a:gd name="adj" fmla="val 0"/>
              </a:avLst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泪滴形 27"/>
            <p:cNvSpPr/>
            <p:nvPr/>
          </p:nvSpPr>
          <p:spPr>
            <a:xfrm rot="2493000">
              <a:off x="1224720" y="4398480"/>
              <a:ext cx="916560" cy="914040"/>
            </a:xfrm>
            <a:prstGeom prst="teardrop">
              <a:avLst>
                <a:gd name="adj" fmla="val 0"/>
              </a:avLst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2"/>
          <p:cNvSpPr/>
          <p:nvPr/>
        </p:nvSpPr>
        <p:spPr>
          <a:xfrm>
            <a:off x="9720" y="2979000"/>
            <a:ext cx="1511640" cy="15116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椭圆 3"/>
          <p:cNvSpPr/>
          <p:nvPr/>
        </p:nvSpPr>
        <p:spPr>
          <a:xfrm>
            <a:off x="5140800" y="2979000"/>
            <a:ext cx="1076760" cy="1076760"/>
          </a:xfrm>
          <a:prstGeom prst="ellipse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>
                  <a:lumMod val="60000"/>
                  <a:lumOff val="40000"/>
                </a:schemeClr>
              </a:solidFill>
              <a:latin typeface="Calibri"/>
            </a:endParaRPr>
          </a:p>
        </p:txBody>
      </p:sp>
      <p:sp>
        <p:nvSpPr>
          <p:cNvPr id="147" name="椭圆 4"/>
          <p:cNvSpPr/>
          <p:nvPr/>
        </p:nvSpPr>
        <p:spPr>
          <a:xfrm>
            <a:off x="5140800" y="1351800"/>
            <a:ext cx="1076760" cy="1076760"/>
          </a:xfrm>
          <a:prstGeom prst="ellipse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>
                  <a:lumMod val="60000"/>
                  <a:lumOff val="40000"/>
                </a:schemeClr>
              </a:solidFill>
              <a:latin typeface="Calibri"/>
            </a:endParaRPr>
          </a:p>
        </p:txBody>
      </p:sp>
      <p:sp>
        <p:nvSpPr>
          <p:cNvPr id="148" name="椭圆 5"/>
          <p:cNvSpPr/>
          <p:nvPr/>
        </p:nvSpPr>
        <p:spPr>
          <a:xfrm>
            <a:off x="2744280" y="4192560"/>
            <a:ext cx="1269000" cy="1269000"/>
          </a:xfrm>
          <a:prstGeom prst="ellipse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椭圆 6"/>
          <p:cNvSpPr/>
          <p:nvPr/>
        </p:nvSpPr>
        <p:spPr>
          <a:xfrm>
            <a:off x="2725200" y="2053080"/>
            <a:ext cx="1269000" cy="1269000"/>
          </a:xfrm>
          <a:prstGeom prst="ellipse">
            <a:avLst/>
          </a:prstGeom>
          <a:solidFill>
            <a:srgbClr val="78af2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>
                  <a:lumMod val="60000"/>
                  <a:lumOff val="40000"/>
                </a:schemeClr>
              </a:solidFill>
              <a:latin typeface="Calibri"/>
            </a:endParaRPr>
          </a:p>
        </p:txBody>
      </p:sp>
      <p:cxnSp>
        <p:nvCxnSpPr>
          <p:cNvPr id="150" name="直接连接符 7"/>
          <p:cNvCxnSpPr>
            <a:stCxn id="145" idx="6"/>
          </p:cNvCxnSpPr>
          <p:nvPr/>
        </p:nvCxnSpPr>
        <p:spPr>
          <a:xfrm>
            <a:off x="1521720" y="3735000"/>
            <a:ext cx="504360" cy="3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1" name="直接连接符 8"/>
          <p:cNvCxnSpPr/>
          <p:nvPr/>
        </p:nvCxnSpPr>
        <p:spPr>
          <a:xfrm flipV="1">
            <a:off x="2025720" y="2687760"/>
            <a:ext cx="360" cy="213948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2" name="直接连接符 9"/>
          <p:cNvCxnSpPr>
            <a:endCxn id="149" idx="2"/>
          </p:cNvCxnSpPr>
          <p:nvPr/>
        </p:nvCxnSpPr>
        <p:spPr>
          <a:xfrm>
            <a:off x="2025720" y="2686320"/>
            <a:ext cx="699480" cy="180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3" name="直接连接符 10"/>
          <p:cNvCxnSpPr>
            <a:endCxn id="148" idx="2"/>
          </p:cNvCxnSpPr>
          <p:nvPr/>
        </p:nvCxnSpPr>
        <p:spPr>
          <a:xfrm>
            <a:off x="2025720" y="4825080"/>
            <a:ext cx="718560" cy="21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4" name="直接连接符 11"/>
          <p:cNvCxnSpPr/>
          <p:nvPr/>
        </p:nvCxnSpPr>
        <p:spPr>
          <a:xfrm>
            <a:off x="3970080" y="2665440"/>
            <a:ext cx="552600" cy="3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5" name="直接连接符 12"/>
          <p:cNvCxnSpPr/>
          <p:nvPr/>
        </p:nvCxnSpPr>
        <p:spPr>
          <a:xfrm flipV="1">
            <a:off x="4522320" y="1834200"/>
            <a:ext cx="360" cy="170460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6" name="直接连接符 13"/>
          <p:cNvCxnSpPr/>
          <p:nvPr/>
        </p:nvCxnSpPr>
        <p:spPr>
          <a:xfrm>
            <a:off x="4522320" y="1834200"/>
            <a:ext cx="618840" cy="3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57" name="直接连接符 14"/>
          <p:cNvCxnSpPr/>
          <p:nvPr/>
        </p:nvCxnSpPr>
        <p:spPr>
          <a:xfrm flipV="1">
            <a:off x="4522320" y="3517200"/>
            <a:ext cx="618840" cy="684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58" name="TextBox 16"/>
          <p:cNvSpPr/>
          <p:nvPr/>
        </p:nvSpPr>
        <p:spPr>
          <a:xfrm>
            <a:off x="8356680" y="58208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6136560" y="1705320"/>
            <a:ext cx="286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包含判断好坏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6140880" y="3367440"/>
            <a:ext cx="2711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包含判断好坏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163400" y="4660920"/>
            <a:ext cx="4689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表现出事物应有的状态或人应采取的行动，如提案、建议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14480" y="3340800"/>
            <a:ext cx="126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的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727360" y="2457000"/>
            <a:ext cx="126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2744280" y="4410000"/>
            <a:ext cx="126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5037840" y="1429560"/>
            <a:ext cx="126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5045760" y="3083400"/>
            <a:ext cx="126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3636000" y="108000"/>
            <a:ext cx="5015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信息分三种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椭圆 5"/>
          <p:cNvSpPr/>
          <p:nvPr/>
        </p:nvSpPr>
        <p:spPr>
          <a:xfrm>
            <a:off x="5942160" y="3028320"/>
            <a:ext cx="1221840" cy="1221840"/>
          </a:xfrm>
          <a:prstGeom prst="ellipse">
            <a:avLst/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88360" y="0"/>
            <a:ext cx="224208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特别提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椭圆 4"/>
          <p:cNvSpPr/>
          <p:nvPr/>
        </p:nvSpPr>
        <p:spPr>
          <a:xfrm>
            <a:off x="-972720" y="3075480"/>
            <a:ext cx="4996800" cy="4996800"/>
          </a:xfrm>
          <a:prstGeom prst="ellipse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矩形 2"/>
          <p:cNvSpPr/>
          <p:nvPr/>
        </p:nvSpPr>
        <p:spPr>
          <a:xfrm>
            <a:off x="1701360" y="1491480"/>
            <a:ext cx="8722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595959"/>
                </a:solidFill>
                <a:latin typeface="方正风雅宋简体"/>
                <a:ea typeface="方正风雅宋简体"/>
              </a:rPr>
              <a:t>闲暇时间也要活动大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595959"/>
                </a:solidFill>
                <a:latin typeface="方正风雅宋简体"/>
                <a:ea typeface="方正风雅宋简体"/>
              </a:rPr>
              <a:t>自觉养成逻辑思考的习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595959"/>
                </a:solidFill>
                <a:latin typeface="方正风雅宋简体"/>
                <a:ea typeface="方正风雅宋简体"/>
              </a:rPr>
              <a:t>让逻辑融入日常生活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595959"/>
                </a:solidFill>
                <a:latin typeface="方正风雅宋简体"/>
                <a:ea typeface="方正风雅宋简体"/>
              </a:rPr>
              <a:t>成为下意识反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6"/>
          <p:cNvSpPr/>
          <p:nvPr/>
        </p:nvSpPr>
        <p:spPr>
          <a:xfrm>
            <a:off x="8005320" y="767880"/>
            <a:ext cx="929160" cy="929160"/>
          </a:xfrm>
          <a:prstGeom prst="ellipse">
            <a:avLst/>
          </a:prstGeom>
          <a:solidFill>
            <a:srgbClr val="f69418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1" name="椭圆 7"/>
          <p:cNvSpPr/>
          <p:nvPr/>
        </p:nvSpPr>
        <p:spPr>
          <a:xfrm>
            <a:off x="5582160" y="5495760"/>
            <a:ext cx="359640" cy="359640"/>
          </a:xfrm>
          <a:prstGeom prst="ellipse">
            <a:avLst/>
          </a:prstGeom>
          <a:solidFill>
            <a:srgbClr val="f69418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2" name="椭圆 8"/>
          <p:cNvSpPr/>
          <p:nvPr/>
        </p:nvSpPr>
        <p:spPr>
          <a:xfrm>
            <a:off x="149760" y="1288080"/>
            <a:ext cx="464400" cy="464400"/>
          </a:xfrm>
          <a:prstGeom prst="ellipse">
            <a:avLst/>
          </a:prstGeom>
          <a:solidFill>
            <a:srgbClr val="96cd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3" name="椭圆 9"/>
          <p:cNvSpPr/>
          <p:nvPr/>
        </p:nvSpPr>
        <p:spPr>
          <a:xfrm>
            <a:off x="7668360" y="4215600"/>
            <a:ext cx="719640" cy="719640"/>
          </a:xfrm>
          <a:prstGeom prst="ellipse">
            <a:avLst/>
          </a:prstGeom>
          <a:solidFill>
            <a:srgbClr val="f6941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8100360" y="5842440"/>
            <a:ext cx="122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110160" y="0"/>
            <a:ext cx="222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文案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组合 75"/>
          <p:cNvGrpSpPr/>
          <p:nvPr/>
        </p:nvGrpSpPr>
        <p:grpSpPr>
          <a:xfrm>
            <a:off x="2289600" y="-422640"/>
            <a:ext cx="6681960" cy="7436160"/>
            <a:chOff x="2289600" y="-422640"/>
            <a:chExt cx="6681960" cy="7436160"/>
          </a:xfrm>
        </p:grpSpPr>
        <p:sp>
          <p:nvSpPr>
            <p:cNvPr id="567" name="任意多边形 76"/>
            <p:cNvSpPr/>
            <p:nvPr/>
          </p:nvSpPr>
          <p:spPr>
            <a:xfrm rot="1362600">
              <a:off x="2842200" y="2390040"/>
              <a:ext cx="4723200" cy="3813120"/>
            </a:xfrm>
            <a:custGeom>
              <a:avLst/>
              <a:gdLst>
                <a:gd name="textAreaLeft" fmla="*/ 0 w 4723200"/>
                <a:gd name="textAreaRight" fmla="*/ 4723560 w 4723200"/>
                <a:gd name="textAreaTop" fmla="*/ 0 h 3813120"/>
                <a:gd name="textAreaBottom" fmla="*/ 3813480 h 3813120"/>
              </a:gdLst>
              <a:ahLst/>
              <a:rect l="textAreaLeft" t="textAreaTop" r="textAreaRight" b="textAreaBottom"/>
              <a:pathLst>
                <a:path w="1798213" h="1907829">
                  <a:moveTo>
                    <a:pt x="212263" y="288579"/>
                  </a:moveTo>
                  <a:cubicBezTo>
                    <a:pt x="98360" y="523132"/>
                    <a:pt x="70975" y="780848"/>
                    <a:pt x="40813" y="993429"/>
                  </a:cubicBezTo>
                  <a:cubicBezTo>
                    <a:pt x="40813" y="1180465"/>
                    <a:pt x="-12441" y="1359131"/>
                    <a:pt x="2713" y="1497388"/>
                  </a:cubicBezTo>
                  <a:cubicBezTo>
                    <a:pt x="17867" y="1635645"/>
                    <a:pt x="21475" y="1754563"/>
                    <a:pt x="131734" y="1822970"/>
                  </a:cubicBezTo>
                  <a:cubicBezTo>
                    <a:pt x="241993" y="1891377"/>
                    <a:pt x="477232" y="1873193"/>
                    <a:pt x="664268" y="1907829"/>
                  </a:cubicBezTo>
                  <a:cubicBezTo>
                    <a:pt x="981479" y="1877522"/>
                    <a:pt x="1332028" y="1880264"/>
                    <a:pt x="1558752" y="1807383"/>
                  </a:cubicBezTo>
                  <a:cubicBezTo>
                    <a:pt x="1747376" y="1705927"/>
                    <a:pt x="1778837" y="1701454"/>
                    <a:pt x="1796011" y="1527695"/>
                  </a:cubicBezTo>
                  <a:cubicBezTo>
                    <a:pt x="1813185" y="1353936"/>
                    <a:pt x="1726305" y="998625"/>
                    <a:pt x="1661795" y="764829"/>
                  </a:cubicBezTo>
                  <a:cubicBezTo>
                    <a:pt x="1597285" y="531033"/>
                    <a:pt x="1463791" y="141663"/>
                    <a:pt x="1408950" y="124922"/>
                  </a:cubicBezTo>
                  <a:cubicBezTo>
                    <a:pt x="1341409" y="85956"/>
                    <a:pt x="1359737" y="21013"/>
                    <a:pt x="1206327" y="8024"/>
                  </a:cubicBezTo>
                  <a:cubicBezTo>
                    <a:pt x="1052917" y="-4965"/>
                    <a:pt x="633961" y="-8428"/>
                    <a:pt x="488488" y="46990"/>
                  </a:cubicBezTo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8" name="任意多边形 77"/>
            <p:cNvSpPr/>
            <p:nvPr/>
          </p:nvSpPr>
          <p:spPr>
            <a:xfrm rot="21382800">
              <a:off x="3371040" y="-365400"/>
              <a:ext cx="1902600" cy="3125880"/>
            </a:xfrm>
            <a:custGeom>
              <a:avLst/>
              <a:gdLst>
                <a:gd name="textAreaLeft" fmla="*/ 0 w 1902600"/>
                <a:gd name="textAreaRight" fmla="*/ 1902960 w 1902600"/>
                <a:gd name="textAreaTop" fmla="*/ 0 h 3125880"/>
                <a:gd name="textAreaBottom" fmla="*/ 3126240 h 31258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9" name="任意多边形 78"/>
            <p:cNvSpPr/>
            <p:nvPr/>
          </p:nvSpPr>
          <p:spPr>
            <a:xfrm rot="2043000">
              <a:off x="6356880" y="800280"/>
              <a:ext cx="1902600" cy="3125880"/>
            </a:xfrm>
            <a:custGeom>
              <a:avLst/>
              <a:gdLst>
                <a:gd name="textAreaLeft" fmla="*/ 0 w 1902600"/>
                <a:gd name="textAreaRight" fmla="*/ 1902960 w 1902600"/>
                <a:gd name="textAreaTop" fmla="*/ 0 h 3125880"/>
                <a:gd name="textAreaBottom" fmla="*/ 3126240 h 31258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0" name="任意多边形 79"/>
            <p:cNvSpPr/>
            <p:nvPr/>
          </p:nvSpPr>
          <p:spPr>
            <a:xfrm rot="603000">
              <a:off x="3606480" y="3001680"/>
              <a:ext cx="1569960" cy="108756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1" name="任意多边形 80"/>
            <p:cNvSpPr/>
            <p:nvPr/>
          </p:nvSpPr>
          <p:spPr>
            <a:xfrm rot="2043000">
              <a:off x="5440680" y="3669120"/>
              <a:ext cx="1569960" cy="108756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2" name="椭圆 81"/>
            <p:cNvSpPr/>
            <p:nvPr/>
          </p:nvSpPr>
          <p:spPr>
            <a:xfrm rot="1362600">
              <a:off x="6404040" y="3985200"/>
              <a:ext cx="342000" cy="260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3" name="椭圆 82"/>
            <p:cNvSpPr/>
            <p:nvPr/>
          </p:nvSpPr>
          <p:spPr>
            <a:xfrm rot="1362600">
              <a:off x="4580640" y="3339000"/>
              <a:ext cx="342000" cy="260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4" name="任意多边形 83"/>
            <p:cNvSpPr/>
            <p:nvPr/>
          </p:nvSpPr>
          <p:spPr>
            <a:xfrm rot="1536600">
              <a:off x="2660400" y="5216400"/>
              <a:ext cx="1490040" cy="752400"/>
            </a:xfrm>
            <a:custGeom>
              <a:avLst/>
              <a:gdLst>
                <a:gd name="textAreaLeft" fmla="*/ 0 w 1490040"/>
                <a:gd name="textAreaRight" fmla="*/ 1490400 w 149004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433924" h="268972">
                  <a:moveTo>
                    <a:pt x="83412" y="27045"/>
                  </a:moveTo>
                  <a:cubicBezTo>
                    <a:pt x="114619" y="3714"/>
                    <a:pt x="197054" y="-2329"/>
                    <a:pt x="243124" y="741"/>
                  </a:cubicBezTo>
                  <a:cubicBezTo>
                    <a:pt x="289194" y="3811"/>
                    <a:pt x="328707" y="21853"/>
                    <a:pt x="359831" y="45464"/>
                  </a:cubicBezTo>
                  <a:cubicBezTo>
                    <a:pt x="390955" y="69075"/>
                    <a:pt x="420341" y="113373"/>
                    <a:pt x="429867" y="142409"/>
                  </a:cubicBezTo>
                  <a:cubicBezTo>
                    <a:pt x="439393" y="171445"/>
                    <a:pt x="430941" y="204657"/>
                    <a:pt x="416989" y="219682"/>
                  </a:cubicBezTo>
                  <a:cubicBezTo>
                    <a:pt x="403037" y="234707"/>
                    <a:pt x="365473" y="235781"/>
                    <a:pt x="346155" y="232561"/>
                  </a:cubicBezTo>
                  <a:cubicBezTo>
                    <a:pt x="326837" y="229341"/>
                    <a:pt x="313958" y="197144"/>
                    <a:pt x="301079" y="200364"/>
                  </a:cubicBezTo>
                  <a:cubicBezTo>
                    <a:pt x="290347" y="217536"/>
                    <a:pt x="283787" y="237302"/>
                    <a:pt x="268882" y="251880"/>
                  </a:cubicBezTo>
                  <a:cubicBezTo>
                    <a:pt x="253977" y="266458"/>
                    <a:pt x="197390" y="274374"/>
                    <a:pt x="172290" y="264758"/>
                  </a:cubicBezTo>
                  <a:cubicBezTo>
                    <a:pt x="147190" y="255142"/>
                    <a:pt x="122040" y="216217"/>
                    <a:pt x="118282" y="194186"/>
                  </a:cubicBezTo>
                  <a:cubicBezTo>
                    <a:pt x="110832" y="199722"/>
                    <a:pt x="105333" y="207920"/>
                    <a:pt x="88577" y="206803"/>
                  </a:cubicBezTo>
                  <a:cubicBezTo>
                    <a:pt x="71821" y="205686"/>
                    <a:pt x="31732" y="202414"/>
                    <a:pt x="17743" y="187485"/>
                  </a:cubicBezTo>
                  <a:cubicBezTo>
                    <a:pt x="3754" y="172556"/>
                    <a:pt x="-6303" y="143967"/>
                    <a:pt x="4642" y="117227"/>
                  </a:cubicBezTo>
                  <a:cubicBezTo>
                    <a:pt x="15587" y="90487"/>
                    <a:pt x="52205" y="50376"/>
                    <a:pt x="83412" y="2704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5" name="任意多边形 84"/>
            <p:cNvSpPr/>
            <p:nvPr/>
          </p:nvSpPr>
          <p:spPr>
            <a:xfrm rot="315600">
              <a:off x="5320080" y="6194160"/>
              <a:ext cx="1490040" cy="752400"/>
            </a:xfrm>
            <a:custGeom>
              <a:avLst/>
              <a:gdLst>
                <a:gd name="textAreaLeft" fmla="*/ 0 w 1490040"/>
                <a:gd name="textAreaRight" fmla="*/ 1490400 w 149004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433924" h="268972">
                  <a:moveTo>
                    <a:pt x="83412" y="27045"/>
                  </a:moveTo>
                  <a:cubicBezTo>
                    <a:pt x="114619" y="3714"/>
                    <a:pt x="197054" y="-2329"/>
                    <a:pt x="243124" y="741"/>
                  </a:cubicBezTo>
                  <a:cubicBezTo>
                    <a:pt x="289194" y="3811"/>
                    <a:pt x="328707" y="21853"/>
                    <a:pt x="359831" y="45464"/>
                  </a:cubicBezTo>
                  <a:cubicBezTo>
                    <a:pt x="390955" y="69075"/>
                    <a:pt x="420341" y="113373"/>
                    <a:pt x="429867" y="142409"/>
                  </a:cubicBezTo>
                  <a:cubicBezTo>
                    <a:pt x="439393" y="171445"/>
                    <a:pt x="430941" y="204657"/>
                    <a:pt x="416989" y="219682"/>
                  </a:cubicBezTo>
                  <a:cubicBezTo>
                    <a:pt x="403037" y="234707"/>
                    <a:pt x="365473" y="235781"/>
                    <a:pt x="346155" y="232561"/>
                  </a:cubicBezTo>
                  <a:cubicBezTo>
                    <a:pt x="326837" y="229341"/>
                    <a:pt x="313958" y="197144"/>
                    <a:pt x="301079" y="200364"/>
                  </a:cubicBezTo>
                  <a:cubicBezTo>
                    <a:pt x="290347" y="217536"/>
                    <a:pt x="283787" y="237302"/>
                    <a:pt x="268882" y="251880"/>
                  </a:cubicBezTo>
                  <a:cubicBezTo>
                    <a:pt x="253977" y="266458"/>
                    <a:pt x="197390" y="274374"/>
                    <a:pt x="172290" y="264758"/>
                  </a:cubicBezTo>
                  <a:cubicBezTo>
                    <a:pt x="147190" y="255142"/>
                    <a:pt x="122040" y="216217"/>
                    <a:pt x="118282" y="194186"/>
                  </a:cubicBezTo>
                  <a:cubicBezTo>
                    <a:pt x="110832" y="199722"/>
                    <a:pt x="105333" y="207920"/>
                    <a:pt x="88577" y="206803"/>
                  </a:cubicBezTo>
                  <a:cubicBezTo>
                    <a:pt x="71821" y="205686"/>
                    <a:pt x="31732" y="202414"/>
                    <a:pt x="17743" y="187485"/>
                  </a:cubicBezTo>
                  <a:cubicBezTo>
                    <a:pt x="3754" y="172556"/>
                    <a:pt x="-6303" y="143967"/>
                    <a:pt x="4642" y="117227"/>
                  </a:cubicBezTo>
                  <a:cubicBezTo>
                    <a:pt x="15587" y="90487"/>
                    <a:pt x="52205" y="50376"/>
                    <a:pt x="83412" y="2704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510120" y="3216240"/>
            <a:ext cx="2395800" cy="3255120"/>
            <a:chOff x="510120" y="3216240"/>
            <a:chExt cx="2395800" cy="3255120"/>
          </a:xfrm>
        </p:grpSpPr>
        <p:sp>
          <p:nvSpPr>
            <p:cNvPr id="577" name="任意多边形 2"/>
            <p:cNvSpPr/>
            <p:nvPr/>
          </p:nvSpPr>
          <p:spPr>
            <a:xfrm>
              <a:off x="1044360" y="4388400"/>
              <a:ext cx="1797840" cy="1890000"/>
            </a:xfrm>
            <a:custGeom>
              <a:avLst/>
              <a:gdLst>
                <a:gd name="textAreaLeft" fmla="*/ 0 w 1797840"/>
                <a:gd name="textAreaRight" fmla="*/ 1798200 w 1797840"/>
                <a:gd name="textAreaTop" fmla="*/ 0 h 1890000"/>
                <a:gd name="textAreaBottom" fmla="*/ 1890360 h 1890000"/>
              </a:gdLst>
              <a:ahLst/>
              <a:rect l="textAreaLeft" t="textAreaTop" r="textAreaRight" b="textAreaBottom"/>
              <a:pathLst>
                <a:path w="1798213" h="1907829">
                  <a:moveTo>
                    <a:pt x="212263" y="288579"/>
                  </a:moveTo>
                  <a:cubicBezTo>
                    <a:pt x="98360" y="523132"/>
                    <a:pt x="70975" y="780848"/>
                    <a:pt x="40813" y="993429"/>
                  </a:cubicBezTo>
                  <a:cubicBezTo>
                    <a:pt x="40813" y="1180465"/>
                    <a:pt x="-12441" y="1359131"/>
                    <a:pt x="2713" y="1497388"/>
                  </a:cubicBezTo>
                  <a:cubicBezTo>
                    <a:pt x="17867" y="1635645"/>
                    <a:pt x="21475" y="1754563"/>
                    <a:pt x="131734" y="1822970"/>
                  </a:cubicBezTo>
                  <a:cubicBezTo>
                    <a:pt x="241993" y="1891377"/>
                    <a:pt x="477232" y="1873193"/>
                    <a:pt x="664268" y="1907829"/>
                  </a:cubicBezTo>
                  <a:cubicBezTo>
                    <a:pt x="981479" y="1877522"/>
                    <a:pt x="1332028" y="1880264"/>
                    <a:pt x="1558752" y="1807383"/>
                  </a:cubicBezTo>
                  <a:cubicBezTo>
                    <a:pt x="1747376" y="1705927"/>
                    <a:pt x="1778837" y="1701454"/>
                    <a:pt x="1796011" y="1527695"/>
                  </a:cubicBezTo>
                  <a:cubicBezTo>
                    <a:pt x="1813185" y="1353936"/>
                    <a:pt x="1726305" y="998625"/>
                    <a:pt x="1661795" y="764829"/>
                  </a:cubicBezTo>
                  <a:cubicBezTo>
                    <a:pt x="1597285" y="531033"/>
                    <a:pt x="1463791" y="141663"/>
                    <a:pt x="1408950" y="124922"/>
                  </a:cubicBezTo>
                  <a:cubicBezTo>
                    <a:pt x="1341409" y="85956"/>
                    <a:pt x="1359737" y="21013"/>
                    <a:pt x="1206327" y="8024"/>
                  </a:cubicBezTo>
                  <a:cubicBezTo>
                    <a:pt x="1052917" y="-4965"/>
                    <a:pt x="633961" y="-8428"/>
                    <a:pt x="488488" y="46990"/>
                  </a:cubicBezTo>
                </a:path>
              </a:pathLst>
            </a:cu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" name="任意多边形 3"/>
            <p:cNvSpPr/>
            <p:nvPr/>
          </p:nvSpPr>
          <p:spPr>
            <a:xfrm rot="20020200">
              <a:off x="815760" y="3310200"/>
              <a:ext cx="723960" cy="15490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" name="任意多边形 4"/>
            <p:cNvSpPr/>
            <p:nvPr/>
          </p:nvSpPr>
          <p:spPr>
            <a:xfrm rot="679800">
              <a:off x="2035800" y="3272040"/>
              <a:ext cx="723960" cy="15490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" name="任意多边形 5"/>
            <p:cNvSpPr/>
            <p:nvPr/>
          </p:nvSpPr>
          <p:spPr>
            <a:xfrm rot="679800">
              <a:off x="1248480" y="4875840"/>
              <a:ext cx="597600" cy="53892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" name="任意多边形 6"/>
            <p:cNvSpPr/>
            <p:nvPr/>
          </p:nvSpPr>
          <p:spPr>
            <a:xfrm rot="679800">
              <a:off x="1990800" y="4830120"/>
              <a:ext cx="597600" cy="53892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" name="椭圆 7"/>
            <p:cNvSpPr/>
            <p:nvPr/>
          </p:nvSpPr>
          <p:spPr>
            <a:xfrm>
              <a:off x="2333160" y="4923720"/>
              <a:ext cx="129960" cy="1288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" name="椭圆 8"/>
            <p:cNvSpPr/>
            <p:nvPr/>
          </p:nvSpPr>
          <p:spPr>
            <a:xfrm>
              <a:off x="1597680" y="4977000"/>
              <a:ext cx="129960" cy="1288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" name="任意多边形 9"/>
            <p:cNvSpPr/>
            <p:nvPr/>
          </p:nvSpPr>
          <p:spPr>
            <a:xfrm rot="174000">
              <a:off x="1218240" y="6083640"/>
              <a:ext cx="567000" cy="37296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433924" h="268972">
                  <a:moveTo>
                    <a:pt x="83412" y="27045"/>
                  </a:moveTo>
                  <a:cubicBezTo>
                    <a:pt x="114619" y="3714"/>
                    <a:pt x="197054" y="-2329"/>
                    <a:pt x="243124" y="741"/>
                  </a:cubicBezTo>
                  <a:cubicBezTo>
                    <a:pt x="289194" y="3811"/>
                    <a:pt x="328707" y="21853"/>
                    <a:pt x="359831" y="45464"/>
                  </a:cubicBezTo>
                  <a:cubicBezTo>
                    <a:pt x="390955" y="69075"/>
                    <a:pt x="420341" y="113373"/>
                    <a:pt x="429867" y="142409"/>
                  </a:cubicBezTo>
                  <a:cubicBezTo>
                    <a:pt x="439393" y="171445"/>
                    <a:pt x="430941" y="204657"/>
                    <a:pt x="416989" y="219682"/>
                  </a:cubicBezTo>
                  <a:cubicBezTo>
                    <a:pt x="403037" y="234707"/>
                    <a:pt x="365473" y="235781"/>
                    <a:pt x="346155" y="232561"/>
                  </a:cubicBezTo>
                  <a:cubicBezTo>
                    <a:pt x="326837" y="229341"/>
                    <a:pt x="313958" y="197144"/>
                    <a:pt x="301079" y="200364"/>
                  </a:cubicBezTo>
                  <a:cubicBezTo>
                    <a:pt x="290347" y="217536"/>
                    <a:pt x="283787" y="237302"/>
                    <a:pt x="268882" y="251880"/>
                  </a:cubicBezTo>
                  <a:cubicBezTo>
                    <a:pt x="253977" y="266458"/>
                    <a:pt x="197390" y="274374"/>
                    <a:pt x="172290" y="264758"/>
                  </a:cubicBezTo>
                  <a:cubicBezTo>
                    <a:pt x="147190" y="255142"/>
                    <a:pt x="122040" y="216217"/>
                    <a:pt x="118282" y="194186"/>
                  </a:cubicBezTo>
                  <a:cubicBezTo>
                    <a:pt x="110832" y="199722"/>
                    <a:pt x="105333" y="207920"/>
                    <a:pt x="88577" y="206803"/>
                  </a:cubicBezTo>
                  <a:cubicBezTo>
                    <a:pt x="71821" y="205686"/>
                    <a:pt x="31732" y="202414"/>
                    <a:pt x="17743" y="187485"/>
                  </a:cubicBezTo>
                  <a:cubicBezTo>
                    <a:pt x="3754" y="172556"/>
                    <a:pt x="-6303" y="143967"/>
                    <a:pt x="4642" y="117227"/>
                  </a:cubicBezTo>
                  <a:cubicBezTo>
                    <a:pt x="15587" y="90487"/>
                    <a:pt x="52205" y="50376"/>
                    <a:pt x="83412" y="27045"/>
                  </a:cubicBez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" name="任意多边形 10"/>
            <p:cNvSpPr/>
            <p:nvPr/>
          </p:nvSpPr>
          <p:spPr>
            <a:xfrm rot="20553000">
              <a:off x="2296080" y="6022080"/>
              <a:ext cx="567000" cy="37296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433924" h="268972">
                  <a:moveTo>
                    <a:pt x="83412" y="27045"/>
                  </a:moveTo>
                  <a:cubicBezTo>
                    <a:pt x="114619" y="3714"/>
                    <a:pt x="197054" y="-2329"/>
                    <a:pt x="243124" y="741"/>
                  </a:cubicBezTo>
                  <a:cubicBezTo>
                    <a:pt x="289194" y="3811"/>
                    <a:pt x="328707" y="21853"/>
                    <a:pt x="359831" y="45464"/>
                  </a:cubicBezTo>
                  <a:cubicBezTo>
                    <a:pt x="390955" y="69075"/>
                    <a:pt x="420341" y="113373"/>
                    <a:pt x="429867" y="142409"/>
                  </a:cubicBezTo>
                  <a:cubicBezTo>
                    <a:pt x="439393" y="171445"/>
                    <a:pt x="430941" y="204657"/>
                    <a:pt x="416989" y="219682"/>
                  </a:cubicBezTo>
                  <a:cubicBezTo>
                    <a:pt x="403037" y="234707"/>
                    <a:pt x="365473" y="235781"/>
                    <a:pt x="346155" y="232561"/>
                  </a:cubicBezTo>
                  <a:cubicBezTo>
                    <a:pt x="326837" y="229341"/>
                    <a:pt x="313958" y="197144"/>
                    <a:pt x="301079" y="200364"/>
                  </a:cubicBezTo>
                  <a:cubicBezTo>
                    <a:pt x="290347" y="217536"/>
                    <a:pt x="283787" y="237302"/>
                    <a:pt x="268882" y="251880"/>
                  </a:cubicBezTo>
                  <a:cubicBezTo>
                    <a:pt x="253977" y="266458"/>
                    <a:pt x="197390" y="274374"/>
                    <a:pt x="172290" y="264758"/>
                  </a:cubicBezTo>
                  <a:cubicBezTo>
                    <a:pt x="147190" y="255142"/>
                    <a:pt x="122040" y="216217"/>
                    <a:pt x="118282" y="194186"/>
                  </a:cubicBezTo>
                  <a:cubicBezTo>
                    <a:pt x="110832" y="199722"/>
                    <a:pt x="105333" y="207920"/>
                    <a:pt x="88577" y="206803"/>
                  </a:cubicBezTo>
                  <a:cubicBezTo>
                    <a:pt x="71821" y="205686"/>
                    <a:pt x="31732" y="202414"/>
                    <a:pt x="17743" y="187485"/>
                  </a:cubicBezTo>
                  <a:cubicBezTo>
                    <a:pt x="3754" y="172556"/>
                    <a:pt x="-6303" y="143967"/>
                    <a:pt x="4642" y="117227"/>
                  </a:cubicBezTo>
                  <a:cubicBezTo>
                    <a:pt x="15587" y="90487"/>
                    <a:pt x="52205" y="50376"/>
                    <a:pt x="83412" y="27045"/>
                  </a:cubicBez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6" name="组合 26"/>
          <p:cNvGrpSpPr/>
          <p:nvPr/>
        </p:nvGrpSpPr>
        <p:grpSpPr>
          <a:xfrm>
            <a:off x="469440" y="367560"/>
            <a:ext cx="1027080" cy="1056240"/>
            <a:chOff x="469440" y="367560"/>
            <a:chExt cx="1027080" cy="1056240"/>
          </a:xfrm>
        </p:grpSpPr>
        <p:sp>
          <p:nvSpPr>
            <p:cNvPr id="587" name="任意多边形 27"/>
            <p:cNvSpPr/>
            <p:nvPr/>
          </p:nvSpPr>
          <p:spPr>
            <a:xfrm rot="1884000">
              <a:off x="769320" y="797040"/>
              <a:ext cx="576720" cy="5137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bce08c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" name="任意多边形 28"/>
            <p:cNvSpPr/>
            <p:nvPr/>
          </p:nvSpPr>
          <p:spPr>
            <a:xfrm rot="1884000">
              <a:off x="511200" y="639360"/>
              <a:ext cx="265320" cy="236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bce08c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任意多边形 29"/>
            <p:cNvSpPr/>
            <p:nvPr/>
          </p:nvSpPr>
          <p:spPr>
            <a:xfrm rot="1884000">
              <a:off x="1191960" y="505440"/>
              <a:ext cx="258840" cy="2473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bce08c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" name="任意多边形 30"/>
            <p:cNvSpPr/>
            <p:nvPr/>
          </p:nvSpPr>
          <p:spPr>
            <a:xfrm rot="1884000">
              <a:off x="801000" y="419400"/>
              <a:ext cx="266400" cy="2372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bce08c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1" name="组合 31"/>
          <p:cNvGrpSpPr/>
          <p:nvPr/>
        </p:nvGrpSpPr>
        <p:grpSpPr>
          <a:xfrm>
            <a:off x="-85320" y="4537080"/>
            <a:ext cx="867960" cy="840240"/>
            <a:chOff x="-85320" y="4537080"/>
            <a:chExt cx="867960" cy="840240"/>
          </a:xfrm>
        </p:grpSpPr>
        <p:sp>
          <p:nvSpPr>
            <p:cNvPr id="592" name="任意多边形 32"/>
            <p:cNvSpPr/>
            <p:nvPr/>
          </p:nvSpPr>
          <p:spPr>
            <a:xfrm rot="734400">
              <a:off x="228600" y="4872960"/>
              <a:ext cx="511200" cy="455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" name="任意多边形 33"/>
            <p:cNvSpPr/>
            <p:nvPr/>
          </p:nvSpPr>
          <p:spPr>
            <a:xfrm rot="734400">
              <a:off x="-65880" y="4867920"/>
              <a:ext cx="235440" cy="2095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" name="任意多边形 34"/>
            <p:cNvSpPr/>
            <p:nvPr/>
          </p:nvSpPr>
          <p:spPr>
            <a:xfrm rot="734400">
              <a:off x="466560" y="4558680"/>
              <a:ext cx="229320" cy="21924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" name="任意多边形 35"/>
            <p:cNvSpPr/>
            <p:nvPr/>
          </p:nvSpPr>
          <p:spPr>
            <a:xfrm rot="734400">
              <a:off x="112320" y="4599000"/>
              <a:ext cx="236160" cy="2102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6" name="组合 44"/>
          <p:cNvGrpSpPr/>
          <p:nvPr/>
        </p:nvGrpSpPr>
        <p:grpSpPr>
          <a:xfrm>
            <a:off x="3145680" y="5722200"/>
            <a:ext cx="987480" cy="997920"/>
            <a:chOff x="3145680" y="5722200"/>
            <a:chExt cx="987480" cy="997920"/>
          </a:xfrm>
        </p:grpSpPr>
        <p:sp>
          <p:nvSpPr>
            <p:cNvPr id="597" name="任意多边形 45"/>
            <p:cNvSpPr/>
            <p:nvPr/>
          </p:nvSpPr>
          <p:spPr>
            <a:xfrm rot="1341600">
              <a:off x="3480120" y="6116040"/>
              <a:ext cx="576720" cy="5137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" name="任意多边形 46"/>
            <p:cNvSpPr/>
            <p:nvPr/>
          </p:nvSpPr>
          <p:spPr>
            <a:xfrm rot="1341600">
              <a:off x="3180600" y="6026760"/>
              <a:ext cx="265320" cy="236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" name="任意多边形 47"/>
            <p:cNvSpPr/>
            <p:nvPr/>
          </p:nvSpPr>
          <p:spPr>
            <a:xfrm rot="1341600">
              <a:off x="3832200" y="5788080"/>
              <a:ext cx="258840" cy="2473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" name="任意多边形 48"/>
            <p:cNvSpPr/>
            <p:nvPr/>
          </p:nvSpPr>
          <p:spPr>
            <a:xfrm rot="1341600">
              <a:off x="3431520" y="5763600"/>
              <a:ext cx="266400" cy="2372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1" name="组合 49"/>
          <p:cNvGrpSpPr/>
          <p:nvPr/>
        </p:nvGrpSpPr>
        <p:grpSpPr>
          <a:xfrm>
            <a:off x="4253040" y="3425040"/>
            <a:ext cx="919080" cy="969120"/>
            <a:chOff x="4253040" y="3425040"/>
            <a:chExt cx="919080" cy="969120"/>
          </a:xfrm>
        </p:grpSpPr>
        <p:sp>
          <p:nvSpPr>
            <p:cNvPr id="602" name="任意多边形 50"/>
            <p:cNvSpPr/>
            <p:nvPr/>
          </p:nvSpPr>
          <p:spPr>
            <a:xfrm rot="2986200">
              <a:off x="4418280" y="3824280"/>
              <a:ext cx="511200" cy="455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" name="任意多边形 51"/>
            <p:cNvSpPr/>
            <p:nvPr/>
          </p:nvSpPr>
          <p:spPr>
            <a:xfrm rot="2986200">
              <a:off x="4291200" y="3582000"/>
              <a:ext cx="235440" cy="2095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" name="任意多边形 52"/>
            <p:cNvSpPr/>
            <p:nvPr/>
          </p:nvSpPr>
          <p:spPr>
            <a:xfrm rot="2986200">
              <a:off x="4899600" y="3658320"/>
              <a:ext cx="229320" cy="21924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" name="任意多边形 53"/>
            <p:cNvSpPr/>
            <p:nvPr/>
          </p:nvSpPr>
          <p:spPr>
            <a:xfrm rot="2986200">
              <a:off x="4595760" y="3477960"/>
              <a:ext cx="236160" cy="2102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5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6" name="矩形 59"/>
          <p:cNvSpPr/>
          <p:nvPr/>
        </p:nvSpPr>
        <p:spPr>
          <a:xfrm>
            <a:off x="3691080" y="2230200"/>
            <a:ext cx="528012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4400" spc="-1" strike="noStrike">
                <a:solidFill>
                  <a:srgbClr val="f69418"/>
                </a:solidFill>
                <a:latin typeface="方正北魏楷书繁体"/>
                <a:ea typeface="方正北魏楷书繁体"/>
              </a:rPr>
              <a:t>    </a:t>
            </a:r>
            <a:r>
              <a:rPr b="1" lang="zh-CN" sz="5400" spc="-1" strike="noStrike">
                <a:solidFill>
                  <a:srgbClr val="f69418"/>
                </a:solidFill>
                <a:latin typeface="方正北魏楷书繁体"/>
                <a:ea typeface="方正北魏楷书繁体"/>
              </a:rPr>
              <a:t>谢谢您的阅读</a:t>
            </a:r>
            <a:r>
              <a:rPr b="1" lang="zh-CN" sz="4800" spc="-1" strike="noStrike">
                <a:solidFill>
                  <a:srgbClr val="f69418"/>
                </a:solidFill>
                <a:latin typeface="方正北魏楷书繁体"/>
                <a:ea typeface="方正北魏楷书繁体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32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                </a:t>
            </a:r>
            <a:r>
              <a:rPr b="1" lang="zh-CN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制作：</a:t>
            </a:r>
            <a:r>
              <a:rPr b="1" lang="en-US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@</a:t>
            </a:r>
            <a:r>
              <a:rPr b="1" lang="zh-CN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兔子妈</a:t>
            </a:r>
            <a:r>
              <a:rPr b="1" lang="en-US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                           </a:t>
            </a:r>
            <a:r>
              <a:rPr b="1" lang="zh-CN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指导：</a:t>
            </a:r>
            <a:r>
              <a:rPr b="1" lang="en-US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@</a:t>
            </a:r>
            <a:r>
              <a:rPr b="1" lang="zh-CN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小巴</a:t>
            </a:r>
            <a:r>
              <a:rPr b="1" lang="en-US" sz="2400" spc="-1" strike="noStrike">
                <a:solidFill>
                  <a:srgbClr val="78af2f"/>
                </a:solidFill>
                <a:latin typeface="方正北魏楷书繁体"/>
                <a:ea typeface="方正北魏楷书繁体"/>
              </a:rPr>
              <a:t>_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60"/>
          <p:cNvGrpSpPr/>
          <p:nvPr/>
        </p:nvGrpSpPr>
        <p:grpSpPr>
          <a:xfrm>
            <a:off x="4366800" y="717120"/>
            <a:ext cx="1142640" cy="1168200"/>
            <a:chOff x="4366800" y="717120"/>
            <a:chExt cx="1142640" cy="1168200"/>
          </a:xfrm>
        </p:grpSpPr>
        <p:sp>
          <p:nvSpPr>
            <p:cNvPr id="608" name="任意多边形 61"/>
            <p:cNvSpPr/>
            <p:nvPr/>
          </p:nvSpPr>
          <p:spPr>
            <a:xfrm rot="4195800">
              <a:off x="4434480" y="1166760"/>
              <a:ext cx="661680" cy="60696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3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" name="任意多边形 62"/>
            <p:cNvSpPr/>
            <p:nvPr/>
          </p:nvSpPr>
          <p:spPr>
            <a:xfrm rot="4195800">
              <a:off x="4454640" y="768240"/>
              <a:ext cx="304560" cy="279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3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0" name="任意多边形 63"/>
            <p:cNvSpPr/>
            <p:nvPr/>
          </p:nvSpPr>
          <p:spPr>
            <a:xfrm rot="4195800">
              <a:off x="5172840" y="1125000"/>
              <a:ext cx="296640" cy="29232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3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任意多边形 64"/>
            <p:cNvSpPr/>
            <p:nvPr/>
          </p:nvSpPr>
          <p:spPr>
            <a:xfrm rot="4195800">
              <a:off x="4881960" y="774000"/>
              <a:ext cx="305640" cy="280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3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2" name="组合 65"/>
          <p:cNvGrpSpPr/>
          <p:nvPr/>
        </p:nvGrpSpPr>
        <p:grpSpPr>
          <a:xfrm>
            <a:off x="7449120" y="4941720"/>
            <a:ext cx="1440360" cy="1547640"/>
            <a:chOff x="7449120" y="4941720"/>
            <a:chExt cx="1440360" cy="1547640"/>
          </a:xfrm>
        </p:grpSpPr>
        <p:sp>
          <p:nvSpPr>
            <p:cNvPr id="613" name="任意多边形 66"/>
            <p:cNvSpPr/>
            <p:nvPr/>
          </p:nvSpPr>
          <p:spPr>
            <a:xfrm rot="459000">
              <a:off x="7980120" y="5572800"/>
              <a:ext cx="855360" cy="86328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863280"/>
                <a:gd name="textAreaBottom" fmla="*/ 863640 h 8632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4" name="任意多边形 67"/>
            <p:cNvSpPr/>
            <p:nvPr/>
          </p:nvSpPr>
          <p:spPr>
            <a:xfrm rot="459000">
              <a:off x="7473600" y="5643360"/>
              <a:ext cx="393840" cy="397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5" name="任意多边形 68"/>
            <p:cNvSpPr/>
            <p:nvPr/>
          </p:nvSpPr>
          <p:spPr>
            <a:xfrm rot="459000">
              <a:off x="8332920" y="4965120"/>
              <a:ext cx="383760" cy="4158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6" name="任意多边形 69"/>
            <p:cNvSpPr/>
            <p:nvPr/>
          </p:nvSpPr>
          <p:spPr>
            <a:xfrm rot="459000">
              <a:off x="7743960" y="5105520"/>
              <a:ext cx="394920" cy="398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7" name="组合 70"/>
          <p:cNvGrpSpPr/>
          <p:nvPr/>
        </p:nvGrpSpPr>
        <p:grpSpPr>
          <a:xfrm>
            <a:off x="1827000" y="1745640"/>
            <a:ext cx="1026720" cy="1056240"/>
            <a:chOff x="1827000" y="1745640"/>
            <a:chExt cx="1026720" cy="1056240"/>
          </a:xfrm>
        </p:grpSpPr>
        <p:sp>
          <p:nvSpPr>
            <p:cNvPr id="618" name="任意多边形 71"/>
            <p:cNvSpPr/>
            <p:nvPr/>
          </p:nvSpPr>
          <p:spPr>
            <a:xfrm rot="1884000">
              <a:off x="2126880" y="2175120"/>
              <a:ext cx="576720" cy="5137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9" name="任意多边形 72"/>
            <p:cNvSpPr/>
            <p:nvPr/>
          </p:nvSpPr>
          <p:spPr>
            <a:xfrm rot="1884000">
              <a:off x="1868760" y="2017440"/>
              <a:ext cx="265320" cy="236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0" name="任意多边形 73"/>
            <p:cNvSpPr/>
            <p:nvPr/>
          </p:nvSpPr>
          <p:spPr>
            <a:xfrm rot="1884000">
              <a:off x="2549160" y="1883520"/>
              <a:ext cx="258840" cy="2473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1" name="任意多边形 74"/>
            <p:cNvSpPr/>
            <p:nvPr/>
          </p:nvSpPr>
          <p:spPr>
            <a:xfrm rot="1884000">
              <a:off x="2158560" y="1797480"/>
              <a:ext cx="266400" cy="2372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22" name="组合 85"/>
          <p:cNvGrpSpPr/>
          <p:nvPr/>
        </p:nvGrpSpPr>
        <p:grpSpPr>
          <a:xfrm>
            <a:off x="5176080" y="4912920"/>
            <a:ext cx="898200" cy="943200"/>
            <a:chOff x="5176080" y="4912920"/>
            <a:chExt cx="898200" cy="943200"/>
          </a:xfrm>
        </p:grpSpPr>
        <p:sp>
          <p:nvSpPr>
            <p:cNvPr id="623" name="任意多边形 86"/>
            <p:cNvSpPr/>
            <p:nvPr/>
          </p:nvSpPr>
          <p:spPr>
            <a:xfrm rot="5554800">
              <a:off x="5157360" y="5299560"/>
              <a:ext cx="576720" cy="5137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4" name="任意多边形 87"/>
            <p:cNvSpPr/>
            <p:nvPr/>
          </p:nvSpPr>
          <p:spPr>
            <a:xfrm rot="5554800">
              <a:off x="5373000" y="4932360"/>
              <a:ext cx="265320" cy="236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5" name="任意多边形 88"/>
            <p:cNvSpPr/>
            <p:nvPr/>
          </p:nvSpPr>
          <p:spPr>
            <a:xfrm rot="5554800">
              <a:off x="5815440" y="5458680"/>
              <a:ext cx="258840" cy="2473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6" name="任意多边形 89"/>
            <p:cNvSpPr/>
            <p:nvPr/>
          </p:nvSpPr>
          <p:spPr>
            <a:xfrm rot="5554800">
              <a:off x="5704920" y="5080320"/>
              <a:ext cx="266400" cy="2372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f69418">
                <a:alpha val="2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27" name="组合 90"/>
          <p:cNvGrpSpPr/>
          <p:nvPr/>
        </p:nvGrpSpPr>
        <p:grpSpPr>
          <a:xfrm>
            <a:off x="8198640" y="607680"/>
            <a:ext cx="875160" cy="888120"/>
            <a:chOff x="8198640" y="607680"/>
            <a:chExt cx="875160" cy="888120"/>
          </a:xfrm>
        </p:grpSpPr>
        <p:sp>
          <p:nvSpPr>
            <p:cNvPr id="628" name="任意多边形 91"/>
            <p:cNvSpPr/>
            <p:nvPr/>
          </p:nvSpPr>
          <p:spPr>
            <a:xfrm rot="1376400">
              <a:off x="8493840" y="958680"/>
              <a:ext cx="511200" cy="455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任意多边形 92"/>
            <p:cNvSpPr/>
            <p:nvPr/>
          </p:nvSpPr>
          <p:spPr>
            <a:xfrm rot="1376400">
              <a:off x="8229960" y="875880"/>
              <a:ext cx="235440" cy="2095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任意多边形 93"/>
            <p:cNvSpPr/>
            <p:nvPr/>
          </p:nvSpPr>
          <p:spPr>
            <a:xfrm rot="1376400">
              <a:off x="8809920" y="670320"/>
              <a:ext cx="229320" cy="21924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1" name="任意多边形 94"/>
            <p:cNvSpPr/>
            <p:nvPr/>
          </p:nvSpPr>
          <p:spPr>
            <a:xfrm rot="1376400">
              <a:off x="8455320" y="645120"/>
              <a:ext cx="236160" cy="2102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042591" h="967914">
                  <a:moveTo>
                    <a:pt x="21658" y="631613"/>
                  </a:moveTo>
                  <a:cubicBezTo>
                    <a:pt x="77975" y="769453"/>
                    <a:pt x="71061" y="746785"/>
                    <a:pt x="93331" y="811667"/>
                  </a:cubicBezTo>
                  <a:cubicBezTo>
                    <a:pt x="173385" y="920018"/>
                    <a:pt x="185346" y="892180"/>
                    <a:pt x="231353" y="932437"/>
                  </a:cubicBezTo>
                  <a:lnTo>
                    <a:pt x="369376" y="966943"/>
                  </a:lnTo>
                  <a:cubicBezTo>
                    <a:pt x="441263" y="969818"/>
                    <a:pt x="582161" y="966943"/>
                    <a:pt x="662674" y="949690"/>
                  </a:cubicBezTo>
                  <a:cubicBezTo>
                    <a:pt x="743187" y="932437"/>
                    <a:pt x="769740" y="935313"/>
                    <a:pt x="852455" y="863426"/>
                  </a:cubicBezTo>
                  <a:cubicBezTo>
                    <a:pt x="935170" y="791539"/>
                    <a:pt x="1038282" y="651360"/>
                    <a:pt x="1042236" y="518369"/>
                  </a:cubicBezTo>
                  <a:cubicBezTo>
                    <a:pt x="1046190" y="385378"/>
                    <a:pt x="1016357" y="360218"/>
                    <a:pt x="990478" y="294082"/>
                  </a:cubicBezTo>
                  <a:lnTo>
                    <a:pt x="886961" y="121554"/>
                  </a:lnTo>
                  <a:cubicBezTo>
                    <a:pt x="835203" y="72671"/>
                    <a:pt x="771499" y="7346"/>
                    <a:pt x="679927" y="784"/>
                  </a:cubicBezTo>
                  <a:cubicBezTo>
                    <a:pt x="588355" y="-5778"/>
                    <a:pt x="453865" y="29538"/>
                    <a:pt x="337531" y="82184"/>
                  </a:cubicBezTo>
                  <a:cubicBezTo>
                    <a:pt x="221197" y="134830"/>
                    <a:pt x="185835" y="156748"/>
                    <a:pt x="129580" y="220666"/>
                  </a:cubicBezTo>
                  <a:cubicBezTo>
                    <a:pt x="73325" y="284584"/>
                    <a:pt x="36708" y="332136"/>
                    <a:pt x="0" y="465692"/>
                  </a:cubicBezTo>
                </a:path>
              </a:pathLst>
            </a:custGeom>
            <a:solidFill>
              <a:srgbClr val="96cd49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32" name="TextBox 13"/>
          <p:cNvSpPr/>
          <p:nvPr/>
        </p:nvSpPr>
        <p:spPr>
          <a:xfrm>
            <a:off x="51840" y="328320"/>
            <a:ext cx="6634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78af2f">
                    <a:alpha val="65000"/>
                  </a:srgbClr>
                </a:solidFill>
                <a:latin typeface="Broadway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310320" y="6295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9" name="直接箭头连接符 14"/>
          <p:cNvCxnSpPr>
            <a:endCxn id="170" idx="5"/>
          </p:cNvCxnSpPr>
          <p:nvPr/>
        </p:nvCxnSpPr>
        <p:spPr>
          <a:xfrm>
            <a:off x="4772160" y="2213640"/>
            <a:ext cx="2018520" cy="12279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171" name="直接箭头连接符 16"/>
          <p:cNvCxnSpPr>
            <a:endCxn id="172" idx="5"/>
          </p:cNvCxnSpPr>
          <p:nvPr/>
        </p:nvCxnSpPr>
        <p:spPr>
          <a:xfrm>
            <a:off x="4753080" y="3441240"/>
            <a:ext cx="2037600" cy="128772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173" name="圆角矩形 7"/>
          <p:cNvSpPr/>
          <p:nvPr/>
        </p:nvSpPr>
        <p:spPr>
          <a:xfrm>
            <a:off x="351360" y="2798640"/>
            <a:ext cx="4420800" cy="106704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2700000"/>
          </a:gradFill>
          <a:ln>
            <a:solidFill>
              <a:srgbClr val="f6941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7"/>
          <p:cNvSpPr/>
          <p:nvPr/>
        </p:nvSpPr>
        <p:spPr>
          <a:xfrm>
            <a:off x="332280" y="1540800"/>
            <a:ext cx="4420800" cy="106704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2700000"/>
          </a:gradFill>
          <a:ln>
            <a:solidFill>
              <a:srgbClr val="f6941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11800" y="1952640"/>
            <a:ext cx="338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叶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程是一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823680" y="3243600"/>
            <a:ext cx="338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叶老师会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箭头连接符 17"/>
          <p:cNvCxnSpPr/>
          <p:nvPr/>
        </p:nvCxnSpPr>
        <p:spPr>
          <a:xfrm flipV="1">
            <a:off x="4855320" y="2243880"/>
            <a:ext cx="1854000" cy="251568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179" name="TextBox 24"/>
          <p:cNvSpPr/>
          <p:nvPr/>
        </p:nvSpPr>
        <p:spPr>
          <a:xfrm>
            <a:off x="5290560" y="10800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信息类型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4"/>
          <p:cNvGrpSpPr/>
          <p:nvPr/>
        </p:nvGrpSpPr>
        <p:grpSpPr>
          <a:xfrm>
            <a:off x="6709320" y="3116520"/>
            <a:ext cx="1962000" cy="649800"/>
            <a:chOff x="6709320" y="3116520"/>
            <a:chExt cx="1962000" cy="649800"/>
          </a:xfrm>
        </p:grpSpPr>
        <p:sp>
          <p:nvSpPr>
            <p:cNvPr id="170" name="平行四边形 19"/>
            <p:cNvSpPr/>
            <p:nvPr/>
          </p:nvSpPr>
          <p:spPr>
            <a:xfrm>
              <a:off x="6709320" y="3116520"/>
              <a:ext cx="1962000" cy="649800"/>
            </a:xfrm>
            <a:prstGeom prst="parallelogram">
              <a:avLst>
                <a:gd name="adj" fmla="val 25000"/>
              </a:avLst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TextBox 22"/>
            <p:cNvSpPr/>
            <p:nvPr/>
          </p:nvSpPr>
          <p:spPr>
            <a:xfrm>
              <a:off x="6934680" y="3241440"/>
              <a:ext cx="1692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评价信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5"/>
          <p:cNvGrpSpPr/>
          <p:nvPr/>
        </p:nvGrpSpPr>
        <p:grpSpPr>
          <a:xfrm>
            <a:off x="6737040" y="1888560"/>
            <a:ext cx="1962000" cy="649800"/>
            <a:chOff x="6737040" y="1888560"/>
            <a:chExt cx="1962000" cy="649800"/>
          </a:xfrm>
        </p:grpSpPr>
        <p:sp>
          <p:nvSpPr>
            <p:cNvPr id="183" name="平行四边形 20"/>
            <p:cNvSpPr/>
            <p:nvPr/>
          </p:nvSpPr>
          <p:spPr>
            <a:xfrm>
              <a:off x="6737040" y="1888560"/>
              <a:ext cx="1962000" cy="649800"/>
            </a:xfrm>
            <a:prstGeom prst="parallelogram">
              <a:avLst>
                <a:gd name="adj" fmla="val 25000"/>
              </a:avLst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TextBox 23"/>
            <p:cNvSpPr/>
            <p:nvPr/>
          </p:nvSpPr>
          <p:spPr>
            <a:xfrm>
              <a:off x="7007040" y="2013120"/>
              <a:ext cx="1438920" cy="455400"/>
            </a:xfrm>
            <a:prstGeom prst="rect">
              <a:avLst/>
            </a:prstGeom>
            <a:solidFill>
              <a:srgbClr val="f69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规范信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Box 1"/>
          <p:cNvSpPr/>
          <p:nvPr/>
        </p:nvSpPr>
        <p:spPr>
          <a:xfrm>
            <a:off x="369720" y="2806920"/>
            <a:ext cx="50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9"/>
          <p:cNvSpPr/>
          <p:nvPr/>
        </p:nvSpPr>
        <p:spPr>
          <a:xfrm>
            <a:off x="369720" y="1567800"/>
            <a:ext cx="10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7"/>
          <p:cNvSpPr/>
          <p:nvPr/>
        </p:nvSpPr>
        <p:spPr>
          <a:xfrm>
            <a:off x="434520" y="4035960"/>
            <a:ext cx="4420800" cy="106704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2700000"/>
          </a:gradFill>
          <a:ln>
            <a:solidFill>
              <a:srgbClr val="f6941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845280" y="4488480"/>
            <a:ext cx="4003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们必须报名学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434520" y="4029120"/>
            <a:ext cx="50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25"/>
          <p:cNvGrpSpPr/>
          <p:nvPr/>
        </p:nvGrpSpPr>
        <p:grpSpPr>
          <a:xfrm>
            <a:off x="6709320" y="4403520"/>
            <a:ext cx="1962000" cy="649800"/>
            <a:chOff x="6709320" y="4403520"/>
            <a:chExt cx="1962000" cy="649800"/>
          </a:xfrm>
        </p:grpSpPr>
        <p:sp>
          <p:nvSpPr>
            <p:cNvPr id="172" name="平行四边形 27"/>
            <p:cNvSpPr/>
            <p:nvPr/>
          </p:nvSpPr>
          <p:spPr>
            <a:xfrm>
              <a:off x="6709320" y="4403520"/>
              <a:ext cx="1962000" cy="649800"/>
            </a:xfrm>
            <a:prstGeom prst="parallelogram">
              <a:avLst>
                <a:gd name="adj" fmla="val 25000"/>
              </a:avLst>
            </a:prstGeom>
            <a:solidFill>
              <a:srgbClr val="f6941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TextBox 28"/>
            <p:cNvSpPr/>
            <p:nvPr/>
          </p:nvSpPr>
          <p:spPr>
            <a:xfrm>
              <a:off x="6934680" y="4528800"/>
              <a:ext cx="1692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记述信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31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72240" y="-7560"/>
            <a:ext cx="377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信息怎么用效果更好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1403640" y="1709280"/>
            <a:ext cx="669636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69418"/>
                </a:solidFill>
                <a:latin typeface="方正风雅宋简体"/>
                <a:ea typeface="方正风雅宋简体"/>
              </a:rPr>
              <a:t>描述信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配合对方的评价条目和标准，让对方自己作出恰当的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1403640" y="4149000"/>
            <a:ext cx="6696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69418"/>
                </a:solidFill>
                <a:latin typeface="方正风雅宋简体"/>
                <a:ea typeface="方正风雅宋简体"/>
              </a:rPr>
              <a:t>规范信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对方的立场一致，才能说服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假如知道对方的评价条目和标准时，有意不传达规范信息效果更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15"/>
          <p:cNvSpPr/>
          <p:nvPr/>
        </p:nvSpPr>
        <p:spPr>
          <a:xfrm>
            <a:off x="830160" y="1154160"/>
            <a:ext cx="7428240" cy="2202480"/>
          </a:xfrm>
          <a:custGeom>
            <a:avLst/>
            <a:gdLst>
              <a:gd name="textAreaLeft" fmla="*/ 0 w 7428240"/>
              <a:gd name="textAreaRight" fmla="*/ 7428600 w 7428240"/>
              <a:gd name="textAreaTop" fmla="*/ 0 h 2202480"/>
              <a:gd name="textAreaBottom" fmla="*/ 2202840 h 2202480"/>
            </a:gdLst>
            <a:ahLst/>
            <a:rect l="textAreaLeft" t="textAreaTop" r="textAreaRight" b="textAreaBottom"/>
            <a:pathLst>
              <a:path w="7428718" h="2202727"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lnTo>
                  <a:pt x="7280990" y="360040"/>
                </a:lnTo>
                <a:cubicBezTo>
                  <a:pt x="7362578" y="360040"/>
                  <a:pt x="7428718" y="426180"/>
                  <a:pt x="7428718" y="507768"/>
                </a:cubicBezTo>
                <a:lnTo>
                  <a:pt x="7428718" y="2054999"/>
                </a:lnTo>
                <a:cubicBezTo>
                  <a:pt x="7428718" y="2136587"/>
                  <a:pt x="7362578" y="2202727"/>
                  <a:pt x="7280990" y="2202727"/>
                </a:cubicBezTo>
                <a:lnTo>
                  <a:pt x="433040" y="2202727"/>
                </a:lnTo>
                <a:cubicBezTo>
                  <a:pt x="351452" y="2202727"/>
                  <a:pt x="285312" y="2136587"/>
                  <a:pt x="285312" y="2054999"/>
                </a:cubicBezTo>
                <a:lnTo>
                  <a:pt x="285312" y="712093"/>
                </a:lnTo>
                <a:lnTo>
                  <a:pt x="219896" y="691786"/>
                </a:lnTo>
                <a:cubicBezTo>
                  <a:pt x="90672" y="637129"/>
                  <a:pt x="0" y="509174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noFill/>
          <a:ln w="38100">
            <a:solidFill>
              <a:srgbClr val="f6941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任意多边形 16"/>
          <p:cNvSpPr/>
          <p:nvPr/>
        </p:nvSpPr>
        <p:spPr>
          <a:xfrm>
            <a:off x="819720" y="3677040"/>
            <a:ext cx="7428240" cy="2202480"/>
          </a:xfrm>
          <a:custGeom>
            <a:avLst/>
            <a:gdLst>
              <a:gd name="textAreaLeft" fmla="*/ 0 w 7428240"/>
              <a:gd name="textAreaRight" fmla="*/ 7428600 w 7428240"/>
              <a:gd name="textAreaTop" fmla="*/ 0 h 2202480"/>
              <a:gd name="textAreaBottom" fmla="*/ 2202840 h 2202480"/>
            </a:gdLst>
            <a:ahLst/>
            <a:rect l="textAreaLeft" t="textAreaTop" r="textAreaRight" b="textAreaBottom"/>
            <a:pathLst>
              <a:path w="7428718" h="2202727"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lnTo>
                  <a:pt x="7280990" y="360040"/>
                </a:lnTo>
                <a:cubicBezTo>
                  <a:pt x="7362578" y="360040"/>
                  <a:pt x="7428718" y="426180"/>
                  <a:pt x="7428718" y="507768"/>
                </a:cubicBezTo>
                <a:lnTo>
                  <a:pt x="7428718" y="2054999"/>
                </a:lnTo>
                <a:cubicBezTo>
                  <a:pt x="7428718" y="2136587"/>
                  <a:pt x="7362578" y="2202727"/>
                  <a:pt x="7280990" y="2202727"/>
                </a:cubicBezTo>
                <a:lnTo>
                  <a:pt x="433040" y="2202727"/>
                </a:lnTo>
                <a:cubicBezTo>
                  <a:pt x="351452" y="2202727"/>
                  <a:pt x="285312" y="2136587"/>
                  <a:pt x="285312" y="2054999"/>
                </a:cubicBezTo>
                <a:lnTo>
                  <a:pt x="285312" y="712093"/>
                </a:lnTo>
                <a:lnTo>
                  <a:pt x="219896" y="691786"/>
                </a:lnTo>
                <a:cubicBezTo>
                  <a:pt x="90672" y="637129"/>
                  <a:pt x="0" y="509174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noFill/>
          <a:ln w="38100">
            <a:solidFill>
              <a:srgbClr val="f6941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319680" y="3300840"/>
            <a:ext cx="40629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69418"/>
              </a:buClr>
              <a:buFont typeface="Wingdings" charset="2"/>
              <a:buChar char=""/>
            </a:pPr>
            <a:r>
              <a:rPr b="1" lang="zh-CN" sz="2800" spc="-1" strike="noStrike">
                <a:solidFill>
                  <a:srgbClr val="f69418"/>
                </a:solidFill>
                <a:latin typeface="微软雅黑"/>
                <a:ea typeface="微软雅黑"/>
              </a:rPr>
              <a:t>列车员要关门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69418"/>
              </a:buClr>
              <a:buFont typeface="Wingdings" charset="2"/>
              <a:buChar char=""/>
            </a:pPr>
            <a:r>
              <a:rPr b="1" lang="zh-CN" sz="2800" spc="-1" strike="noStrike">
                <a:solidFill>
                  <a:srgbClr val="f69418"/>
                </a:solidFill>
                <a:latin typeface="微软雅黑"/>
                <a:ea typeface="微软雅黑"/>
              </a:rPr>
              <a:t>我与</a:t>
            </a:r>
            <a:r>
              <a:rPr b="1" lang="en-US" sz="2800" spc="-1" strike="noStrike">
                <a:solidFill>
                  <a:srgbClr val="f69418"/>
                </a:solidFill>
                <a:latin typeface="微软雅黑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f69418"/>
                </a:solidFill>
                <a:latin typeface="微软雅黑"/>
                <a:ea typeface="微软雅黑"/>
              </a:rPr>
              <a:t>时间卡片 约定的读书笔记制作截止时间要到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4214520" y="108000"/>
            <a:ext cx="468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动词怎么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23"/>
          <p:cNvGrpSpPr/>
          <p:nvPr/>
        </p:nvGrpSpPr>
        <p:grpSpPr>
          <a:xfrm>
            <a:off x="310320" y="1205280"/>
            <a:ext cx="4042440" cy="652680"/>
            <a:chOff x="310320" y="1205280"/>
            <a:chExt cx="4042440" cy="652680"/>
          </a:xfrm>
        </p:grpSpPr>
        <p:sp>
          <p:nvSpPr>
            <p:cNvPr id="204" name="矩形 21"/>
            <p:cNvSpPr/>
            <p:nvPr/>
          </p:nvSpPr>
          <p:spPr>
            <a:xfrm>
              <a:off x="310320" y="1210320"/>
              <a:ext cx="4042440" cy="647640"/>
            </a:xfrm>
            <a:prstGeom prst="rect">
              <a:avLst/>
            </a:prstGeom>
            <a:solidFill>
              <a:srgbClr val="f69418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  <a:ea typeface="微软雅黑"/>
              </a:endParaRPr>
            </a:p>
          </p:txBody>
        </p:sp>
        <p:sp>
          <p:nvSpPr>
            <p:cNvPr id="205" name="矩形 22"/>
            <p:cNvSpPr/>
            <p:nvPr/>
          </p:nvSpPr>
          <p:spPr>
            <a:xfrm>
              <a:off x="883080" y="1205280"/>
              <a:ext cx="188784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想要刺激思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矩形 25"/>
          <p:cNvSpPr/>
          <p:nvPr/>
        </p:nvSpPr>
        <p:spPr>
          <a:xfrm>
            <a:off x="4569480" y="1201680"/>
            <a:ext cx="4073400" cy="647640"/>
          </a:xfrm>
          <a:prstGeom prst="rect">
            <a:avLst/>
          </a:prstGeom>
          <a:solidFill>
            <a:srgbClr val="78af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  <a:ea typeface="微软雅黑"/>
            </a:endParaRPr>
          </a:p>
        </p:txBody>
      </p:sp>
      <p:sp>
        <p:nvSpPr>
          <p:cNvPr id="207" name="矩形 26"/>
          <p:cNvSpPr/>
          <p:nvPr/>
        </p:nvSpPr>
        <p:spPr>
          <a:xfrm>
            <a:off x="6373440" y="1233360"/>
            <a:ext cx="3668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要对方别想、照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7"/>
          <p:cNvSpPr/>
          <p:nvPr/>
        </p:nvSpPr>
        <p:spPr>
          <a:xfrm>
            <a:off x="4569480" y="1971360"/>
            <a:ext cx="3926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想让思考僵化，让信息接收者照办，多用不及物动词效果会很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8"/>
          <p:cNvSpPr/>
          <p:nvPr/>
        </p:nvSpPr>
        <p:spPr>
          <a:xfrm>
            <a:off x="323640" y="1849680"/>
            <a:ext cx="3995640" cy="3740400"/>
          </a:xfrm>
          <a:prstGeom prst="rect">
            <a:avLst/>
          </a:prstGeom>
          <a:noFill/>
          <a:ln w="38100">
            <a:solidFill>
              <a:srgbClr val="f6941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矩形 29"/>
          <p:cNvSpPr/>
          <p:nvPr/>
        </p:nvSpPr>
        <p:spPr>
          <a:xfrm>
            <a:off x="4583160" y="1818000"/>
            <a:ext cx="4031640" cy="3770640"/>
          </a:xfrm>
          <a:prstGeom prst="rect">
            <a:avLst/>
          </a:prstGeom>
          <a:noFill/>
          <a:ln w="38100">
            <a:solidFill>
              <a:srgbClr val="78af2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矩形 30"/>
          <p:cNvSpPr/>
          <p:nvPr/>
        </p:nvSpPr>
        <p:spPr>
          <a:xfrm>
            <a:off x="366120" y="1971360"/>
            <a:ext cx="3920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使用主语及及物动词的思考方式，可以训练我们意识到行为者，并且刺激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1"/>
          <p:cNvSpPr/>
          <p:nvPr/>
        </p:nvSpPr>
        <p:spPr>
          <a:xfrm>
            <a:off x="4641840" y="3285000"/>
            <a:ext cx="4571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8af2f"/>
              </a:buClr>
              <a:buFont typeface="Wingdings" charset="2"/>
              <a:buChar char=""/>
            </a:pPr>
            <a:r>
              <a:rPr b="1" lang="zh-CN" sz="2800" spc="-1" strike="noStrike">
                <a:solidFill>
                  <a:srgbClr val="78af2f"/>
                </a:solidFill>
                <a:latin typeface="微软雅黑"/>
                <a:ea typeface="微软雅黑"/>
              </a:rPr>
              <a:t>门要关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8af2f"/>
              </a:buClr>
              <a:buFont typeface="Wingdings" charset="2"/>
              <a:buChar char=""/>
            </a:pPr>
            <a:r>
              <a:rPr b="1" lang="zh-CN" sz="2800" spc="-1" strike="noStrike">
                <a:solidFill>
                  <a:srgbClr val="78af2f"/>
                </a:solidFill>
                <a:latin typeface="微软雅黑"/>
                <a:ea typeface="微软雅黑"/>
              </a:rPr>
              <a:t>没时间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2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10320" y="6295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6160" y="1196640"/>
            <a:ext cx="88117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正确使用逻辑连接词，清楚传达信息之间的关系。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5148000" y="108000"/>
            <a:ext cx="485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逻辑连接词怎么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表格 5"/>
          <p:cNvGraphicFramePr/>
          <p:nvPr/>
        </p:nvGraphicFramePr>
        <p:xfrm>
          <a:off x="737640" y="2349000"/>
          <a:ext cx="7616160" cy="2962440"/>
        </p:xfrm>
        <a:graphic>
          <a:graphicData uri="http://schemas.openxmlformats.org/drawingml/2006/table">
            <a:tbl>
              <a:tblPr/>
              <a:tblGrid>
                <a:gridCol w="3223800"/>
                <a:gridCol w="4392360"/>
              </a:tblGrid>
              <a:tr h="7920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汉仪菱心体简"/>
                          <a:ea typeface="汉仪菱心体简"/>
                        </a:rPr>
                        <a:t>连接词的三种种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941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顺承与附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9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追加、对比、解说、条件、选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9f"/>
                    </a:solidFill>
                  </a:tcPr>
                </a:tc>
              </a:tr>
              <a:tr h="72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顺承与论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理由、归结、手段、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转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9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反转、限制、让步、转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9f"/>
                    </a:solidFill>
                  </a:tcPr>
                </a:tc>
              </a:tr>
            </a:tbl>
          </a:graphicData>
        </a:graphic>
      </p:graphicFrame>
      <p:sp>
        <p:nvSpPr>
          <p:cNvPr id="219" name="TextBox 6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6397560" y="1902600"/>
            <a:ext cx="457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78af2f"/>
                </a:solidFill>
                <a:latin typeface="汉仪菱心体简"/>
                <a:ea typeface="汉仪菱心体简"/>
              </a:rPr>
              <a:t>顺承论证归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3424680" y="108000"/>
            <a:ext cx="5258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信息类型连接词应用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6"/>
          <p:cNvGrpSpPr/>
          <p:nvPr/>
        </p:nvGrpSpPr>
        <p:grpSpPr>
          <a:xfrm>
            <a:off x="100800" y="4707360"/>
            <a:ext cx="6171840" cy="1411200"/>
            <a:chOff x="100800" y="4707360"/>
            <a:chExt cx="6171840" cy="1411200"/>
          </a:xfrm>
        </p:grpSpPr>
        <p:sp>
          <p:nvSpPr>
            <p:cNvPr id="225" name="矩形 7"/>
            <p:cNvSpPr/>
            <p:nvPr/>
          </p:nvSpPr>
          <p:spPr>
            <a:xfrm>
              <a:off x="100800" y="4707360"/>
              <a:ext cx="6171840" cy="141120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TextBox 10"/>
            <p:cNvSpPr/>
            <p:nvPr/>
          </p:nvSpPr>
          <p:spPr>
            <a:xfrm>
              <a:off x="253080" y="4851360"/>
              <a:ext cx="5867280" cy="455400"/>
            </a:xfrm>
            <a:prstGeom prst="rect">
              <a:avLst/>
            </a:prstGeom>
            <a:solidFill>
              <a:srgbClr val="f69418"/>
            </a:solidFill>
            <a:ln w="15875">
              <a:solidFill>
                <a:srgbClr val="ffffff">
                  <a:lumMod val="50000"/>
                </a:srgbClr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叶老师在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线下培训领域从业多年，卓有成效。虽说如此，他和他的小伙伴们仍决定推出在线教程探索网络教学模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8"/>
          <p:cNvGrpSpPr/>
          <p:nvPr/>
        </p:nvGrpSpPr>
        <p:grpSpPr>
          <a:xfrm>
            <a:off x="110160" y="2997000"/>
            <a:ext cx="6171840" cy="1411200"/>
            <a:chOff x="110160" y="2997000"/>
            <a:chExt cx="6171840" cy="1411200"/>
          </a:xfrm>
        </p:grpSpPr>
        <p:sp>
          <p:nvSpPr>
            <p:cNvPr id="228" name="矩形 19"/>
            <p:cNvSpPr/>
            <p:nvPr/>
          </p:nvSpPr>
          <p:spPr>
            <a:xfrm>
              <a:off x="110160" y="2997000"/>
              <a:ext cx="6171840" cy="141120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TextBox 20"/>
            <p:cNvSpPr/>
            <p:nvPr/>
          </p:nvSpPr>
          <p:spPr>
            <a:xfrm>
              <a:off x="262080" y="3141000"/>
              <a:ext cx="5867280" cy="821160"/>
            </a:xfrm>
            <a:prstGeom prst="rect">
              <a:avLst/>
            </a:prstGeom>
            <a:solidFill>
              <a:srgbClr val="f69418"/>
            </a:solidFill>
            <a:ln w="15875">
              <a:solidFill>
                <a:srgbClr val="ffffff">
                  <a:lumMod val="50000"/>
                </a:srgbClr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叶老师在网络上分享了很多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仅如此，他和他的小伙伴们决定推出网易云课堂在线教程探索网络教学模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2"/>
          <p:cNvGrpSpPr/>
          <p:nvPr/>
        </p:nvGrpSpPr>
        <p:grpSpPr>
          <a:xfrm>
            <a:off x="110160" y="1387800"/>
            <a:ext cx="6171840" cy="1411200"/>
            <a:chOff x="110160" y="1387800"/>
            <a:chExt cx="6171840" cy="1411200"/>
          </a:xfrm>
        </p:grpSpPr>
        <p:sp>
          <p:nvSpPr>
            <p:cNvPr id="231" name="矩形 23"/>
            <p:cNvSpPr/>
            <p:nvPr/>
          </p:nvSpPr>
          <p:spPr>
            <a:xfrm>
              <a:off x="110160" y="1387800"/>
              <a:ext cx="6171840" cy="141120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TextBox 24"/>
            <p:cNvSpPr/>
            <p:nvPr/>
          </p:nvSpPr>
          <p:spPr>
            <a:xfrm>
              <a:off x="262440" y="1531800"/>
              <a:ext cx="5867280" cy="821160"/>
            </a:xfrm>
            <a:prstGeom prst="rect">
              <a:avLst/>
            </a:prstGeom>
            <a:solidFill>
              <a:srgbClr val="f69418"/>
            </a:solidFill>
            <a:ln w="15875">
              <a:solidFill>
                <a:srgbClr val="ffffff">
                  <a:lumMod val="50000"/>
                </a:srgbClr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叶老师认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巧类培训未来在线上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此，他和他的小伙伴们决定推出在线教程来探索网络教学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矩形 25"/>
          <p:cNvSpPr/>
          <p:nvPr/>
        </p:nvSpPr>
        <p:spPr>
          <a:xfrm>
            <a:off x="6397560" y="3556440"/>
            <a:ext cx="457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78af2f"/>
                </a:solidFill>
                <a:latin typeface="汉仪菱心体简"/>
                <a:ea typeface="汉仪菱心体简"/>
              </a:rPr>
              <a:t>顺承附加追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6"/>
          <p:cNvSpPr/>
          <p:nvPr/>
        </p:nvSpPr>
        <p:spPr>
          <a:xfrm>
            <a:off x="6402600" y="4989960"/>
            <a:ext cx="4571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78af2f"/>
                </a:solidFill>
                <a:latin typeface="汉仪菱心体简"/>
                <a:ea typeface="汉仪菱心体简"/>
              </a:rPr>
              <a:t>顺承论证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58ed5"/>
                </a:solidFill>
                <a:latin typeface="汉仪菱心体简"/>
                <a:ea typeface="汉仪菱心体简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102240" y="-176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964440" y="2945520"/>
            <a:ext cx="2769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69418"/>
                </a:solidFill>
                <a:latin typeface="汉仪菱心体简"/>
                <a:ea typeface="汉仪菱心体简"/>
              </a:rPr>
              <a:t>活性化</a:t>
            </a:r>
            <a:r>
              <a:rPr b="0" lang="en-US" sz="3600" spc="-1" strike="noStrike">
                <a:solidFill>
                  <a:srgbClr val="f69418"/>
                </a:solidFill>
                <a:latin typeface="汉仪菱心体简"/>
                <a:ea typeface="汉仪菱心体简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3246480" y="38689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69418"/>
                </a:solidFill>
                <a:latin typeface="汉仪菱心体简"/>
                <a:ea typeface="汉仪菱心体简"/>
              </a:rPr>
              <a:t>推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"/>
          <p:cNvSpPr/>
          <p:nvPr/>
        </p:nvSpPr>
        <p:spPr>
          <a:xfrm>
            <a:off x="4461480" y="3407400"/>
            <a:ext cx="10152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8af56"/>
                </a:solidFill>
                <a:latin typeface="汉仪菱心体简"/>
                <a:ea typeface="汉仪菱心体简"/>
              </a:rPr>
              <a:t>强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"/>
          <p:cNvSpPr/>
          <p:nvPr/>
        </p:nvSpPr>
        <p:spPr>
          <a:xfrm>
            <a:off x="5978160" y="3899160"/>
            <a:ext cx="20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69418"/>
                </a:solidFill>
                <a:latin typeface="汉仪菱心体简"/>
                <a:ea typeface="汉仪菱心体简"/>
              </a:rPr>
              <a:t>合理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7"/>
          <p:cNvSpPr/>
          <p:nvPr/>
        </p:nvSpPr>
        <p:spPr>
          <a:xfrm>
            <a:off x="5774760" y="4720320"/>
            <a:ext cx="127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ce08c"/>
                </a:solidFill>
                <a:latin typeface="汉仪菱心体简"/>
                <a:ea typeface="汉仪菱心体简"/>
              </a:rPr>
              <a:t>重新组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4644360" y="232020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8af56"/>
                </a:solidFill>
                <a:latin typeface="汉仪菱心体简"/>
                <a:ea typeface="汉仪菱心体简"/>
              </a:rPr>
              <a:t>重新建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9"/>
          <p:cNvSpPr/>
          <p:nvPr/>
        </p:nvSpPr>
        <p:spPr>
          <a:xfrm>
            <a:off x="3256200" y="2003760"/>
            <a:ext cx="1127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96cd49"/>
                </a:solidFill>
                <a:latin typeface="汉仪菱心体简"/>
                <a:ea typeface="汉仪菱心体简"/>
              </a:rPr>
              <a:t>扩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0"/>
          <p:cNvSpPr/>
          <p:nvPr/>
        </p:nvSpPr>
        <p:spPr>
          <a:xfrm>
            <a:off x="2014200" y="5484960"/>
            <a:ext cx="1667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8af56"/>
                </a:solidFill>
                <a:latin typeface="汉仪菱心体简"/>
                <a:ea typeface="汉仪菱心体简"/>
              </a:rPr>
              <a:t>重新评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1"/>
          <p:cNvSpPr/>
          <p:nvPr/>
        </p:nvSpPr>
        <p:spPr>
          <a:xfrm>
            <a:off x="2953800" y="4491720"/>
            <a:ext cx="1732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c46f08"/>
                </a:solidFill>
                <a:latin typeface="汉仪菱心体简"/>
                <a:ea typeface="汉仪菱心体简"/>
              </a:rPr>
              <a:t>确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2"/>
          <p:cNvSpPr/>
          <p:nvPr/>
        </p:nvSpPr>
        <p:spPr>
          <a:xfrm>
            <a:off x="6190560" y="311688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96cd49"/>
                </a:solidFill>
                <a:latin typeface="汉仪菱心体简"/>
                <a:ea typeface="汉仪菱心体简"/>
              </a:rPr>
              <a:t>稳固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3"/>
          <p:cNvSpPr/>
          <p:nvPr/>
        </p:nvSpPr>
        <p:spPr>
          <a:xfrm>
            <a:off x="1928520" y="3746880"/>
            <a:ext cx="919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78af2f"/>
                </a:solidFill>
                <a:latin typeface="汉仪菱心体简"/>
                <a:ea typeface="汉仪菱心体简"/>
              </a:rPr>
              <a:t>多样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4"/>
          <p:cNvSpPr/>
          <p:nvPr/>
        </p:nvSpPr>
        <p:spPr>
          <a:xfrm>
            <a:off x="4461480" y="5509800"/>
            <a:ext cx="1732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69418"/>
                </a:solidFill>
                <a:latin typeface="汉仪菱心体简"/>
                <a:ea typeface="汉仪菱心体简"/>
              </a:rPr>
              <a:t>调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5"/>
          <p:cNvSpPr/>
          <p:nvPr/>
        </p:nvSpPr>
        <p:spPr>
          <a:xfrm>
            <a:off x="4287240" y="1217880"/>
            <a:ext cx="35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使用过多的抽象词，可能阻碍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1783440" y="108000"/>
            <a:ext cx="6867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用字具体，表现负责的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标注 18"/>
          <p:cNvSpPr/>
          <p:nvPr/>
        </p:nvSpPr>
        <p:spPr>
          <a:xfrm>
            <a:off x="1132200" y="1066320"/>
            <a:ext cx="6657840" cy="801000"/>
          </a:xfrm>
          <a:prstGeom prst="wedgeRoundRectCallout">
            <a:avLst>
              <a:gd name="adj1" fmla="val 20412"/>
              <a:gd name="adj2" fmla="val 84621"/>
              <a:gd name="adj3" fmla="val 16667"/>
            </a:avLst>
          </a:prstGeom>
          <a:noFill/>
          <a:ln w="38100">
            <a:solidFill>
              <a:srgbClr val="f69418"/>
            </a:solidFill>
            <a:prstDash val="dash"/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16920" y="-218160"/>
            <a:ext cx="601164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举个栗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983560" y="3411720"/>
            <a:ext cx="1015920" cy="10274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138960" y="1848240"/>
            <a:ext cx="1119600" cy="101772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55" name="圆角矩形标注 3"/>
          <p:cNvSpPr/>
          <p:nvPr/>
        </p:nvSpPr>
        <p:spPr>
          <a:xfrm>
            <a:off x="1635480" y="1594800"/>
            <a:ext cx="7121880" cy="14997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noFill/>
          <a:ln w="38100">
            <a:solidFill>
              <a:srgbClr val="f69418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圆角矩形标注 7"/>
          <p:cNvSpPr/>
          <p:nvPr/>
        </p:nvSpPr>
        <p:spPr>
          <a:xfrm>
            <a:off x="1634040" y="3444840"/>
            <a:ext cx="3801600" cy="1017720"/>
          </a:xfrm>
          <a:prstGeom prst="wedgeRoundRectCallout">
            <a:avLst>
              <a:gd name="adj1" fmla="val 53427"/>
              <a:gd name="adj2" fmla="val 18381"/>
              <a:gd name="adj3" fmla="val 16667"/>
            </a:avLst>
          </a:prstGeom>
          <a:noFill/>
          <a:ln w="38100">
            <a:solidFill>
              <a:srgbClr val="78af2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3"/>
          <a:stretch/>
        </p:blipFill>
        <p:spPr>
          <a:xfrm>
            <a:off x="138960" y="4757760"/>
            <a:ext cx="1119600" cy="101772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58" name="圆角矩形标注 9"/>
          <p:cNvSpPr/>
          <p:nvPr/>
        </p:nvSpPr>
        <p:spPr>
          <a:xfrm>
            <a:off x="1634040" y="4828320"/>
            <a:ext cx="5365440" cy="101772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noFill/>
          <a:ln w="38100">
            <a:solidFill>
              <a:srgbClr val="f69418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1710000" y="1700640"/>
            <a:ext cx="697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刻我感受到了一种由内而外而生的充实感，这种熟悉的感动已经持续了两节课以及一个课间，久久不去，让我忍不住内牛满面。老师，请问我能向您提一个闪烁着人性光辉的合理化建议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3147480" y="3569040"/>
            <a:ext cx="2343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说人话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1979640" y="4952520"/>
            <a:ext cx="5367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老师，我要嘘嘘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10160" y="46440"/>
            <a:ext cx="331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信息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8333640" y="5842440"/>
            <a:ext cx="642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69418"/>
                </a:solidFill>
                <a:latin typeface="Broadway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  <Words>1424</Words>
  <Paragraphs>268</Paragraphs>
  <Company>Lenovo (Beijing) Limite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22:57:27Z</dcterms:created>
  <dc:creator>刘玲</dc:creator>
  <dc:description/>
  <dc:language>en-US</dc:language>
  <cp:lastModifiedBy>王玉清</cp:lastModifiedBy>
  <dcterms:modified xsi:type="dcterms:W3CDTF">2016-03-01T07:25:58Z</dcterms:modified>
  <cp:revision>1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全屏显示(4:3)</vt:lpwstr>
  </property>
  <property fmtid="{D5CDD505-2E9C-101B-9397-08002B2CF9AE}" pid="4" name="Slides">
    <vt:r8>21</vt:r8>
  </property>
</Properties>
</file>