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7C5-413F-40C1-883B-855A040B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959-FF7A-4CC2-9D7C-D181A01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897-ADD2-4E9B-9298-651AA99E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19C-2279-48C1-AA50-D9E8A117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A586-CBC1-4F21-A70D-9D4F7742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C22-C0EF-4073-A88C-7ACEF09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001F-2F14-43BD-A217-E957717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3D8-2374-4B75-AC8A-A36C03C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A5CF-EFEC-4903-AB60-30AFB97D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FF51-EFE6-47B3-BE47-B53E6BD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B682-7541-4FD2-B1EA-11C930E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3DF-8DD1-4C1F-902C-DBA6337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1A2-07F7-443E-874D-4A79107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5A6A-862F-4507-9E8A-06755E8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B2FE-6160-459E-A694-E023FF0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C9F8-1A17-4758-BACE-EEA49A53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9D1-9DE5-4E32-B1F5-5AE0237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39D-F83F-4B0A-8091-5ED565A1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419-9228-4C3C-A0BA-E4C0949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0B6-186C-4437-B0FC-6831CA9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FDC-7A63-465E-BED3-1676139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BDB-76F6-40F0-B15D-593392D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DB2-D016-451E-A903-47893C8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11E-B54B-4068-B686-60A2431F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FC6-5E50-438D-97EF-227582AB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BEF2-D89F-4ACA-95F3-8441492E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未标题-1.png"/>
          <p:cNvPicPr/>
          <p:nvPr/>
        </p:nvPicPr>
        <p:blipFill>
          <a:blip r:embed="rId2"/>
          <a:stretch/>
        </p:blipFill>
        <p:spPr>
          <a:xfrm>
            <a:off x="3500280" y="2857680"/>
            <a:ext cx="1262160" cy="1261800"/>
          </a:xfrm>
          <a:prstGeom prst="rect">
            <a:avLst/>
          </a:prstGeom>
          <a:ln w="0">
            <a:noFill/>
          </a:ln>
        </p:spPr>
      </p:pic>
      <p:sp>
        <p:nvSpPr>
          <p:cNvPr id="91" name="矩形 7"/>
          <p:cNvSpPr/>
          <p:nvPr/>
        </p:nvSpPr>
        <p:spPr>
          <a:xfrm>
            <a:off x="1166400" y="121428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美女通用</a:t>
            </a:r>
            <a:r>
              <a:rPr b="0" lang="en-US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142920" y="5281560"/>
            <a:ext cx="6715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not yet forgiven the crow for depriving him of the young magpies, so he carried the crow to the ed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ecipice and threw him over, intending to go round by a path he knew and pick him up at the bott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no sooner had the fox let the crow go than he soared up into the air, and hovering just ou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1" descr="未标题-1.png"/>
          <p:cNvPicPr/>
          <p:nvPr/>
        </p:nvPicPr>
        <p:blipFill>
          <a:blip r:embed="rId2"/>
          <a:stretch/>
        </p:blipFill>
        <p:spPr>
          <a:xfrm>
            <a:off x="5786280" y="27860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矩形 12"/>
          <p:cNvSpPr/>
          <p:nvPr/>
        </p:nvSpPr>
        <p:spPr>
          <a:xfrm>
            <a:off x="357120" y="357120"/>
            <a:ext cx="8286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ugh deeply grieved for the loss of his little one, found some comfort in the thought that only a bird of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ordinary wisdom would have dreamed of saving the rest by the sacrifice of the one. But what do you t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k happened? Why, a few days later, Michael the fox might have been seen sitting under the very same 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e, and a dreadful pang shot through the heart of the magpie as he peeped at him from a hole in the n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sat on the edge of his nest, his head drooping and his feathers all ruffled, looking the picture of mis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ed he was so different from the gay, jaunty magpie whom every creature in the forest knew, that a 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 who was flying past, stopped to inquire what was the matter. 'Where are the two young ones who are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next morning the fox came to his usual place in front of the tree, for he was hungry, and a nice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pie would have suited him very well for dinner. But this time there was no cowering, timid magpi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his bidding, but a bird with his head erect and a determined vo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428760" y="4643280"/>
            <a:ext cx="25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00"/>
                </a:solidFill>
                <a:latin typeface="Arial"/>
              </a:rPr>
              <a:t>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55640" y="6446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5414400" y="2741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方正综艺_GBK"/>
                <a:ea typeface="方正综艺_GBK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王玉清</cp:lastModifiedBy>
  <dcterms:modified xsi:type="dcterms:W3CDTF">2016-02-21T04:13:18Z</dcterms:modified>
  <cp:revision>52</cp:revision>
  <dc:subject/>
  <dc:title>Slide 1</dc:title>
</cp:coreProperties>
</file>