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charts/chart4.xml" ContentType="application/vnd.openxmlformats-officedocument.drawingml.chart+xml"/>
  <Override PartName="/ppt/charts/chart5.xml" ContentType="application/vnd.openxmlformats-officedocument.drawingml.char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ineChart>
        <c:grouping val="standard"/>
        <c:varyColors val="0"/>
        <c:ser>
          <c:idx val="0"/>
          <c:order val="0"/>
          <c:tx>
            <c:strRef>
              <c:f>label 0</c:f>
              <c:strCache>
                <c:ptCount val="1"/>
                <c:pt idx="0">
                  <c:v>系列 1</c:v>
                </c:pt>
              </c:strCache>
            </c:strRef>
          </c:tx>
          <c:spPr>
            <a:solidFill>
              <a:srgbClr val="595959"/>
            </a:solidFill>
            <a:ln cap="rnd" w="12600">
              <a:solidFill>
                <a:srgbClr val="595959"/>
              </a:solidFill>
              <a:round/>
            </a:ln>
          </c:spPr>
          <c:marker>
            <c:symbol val="none"/>
          </c:marker>
          <c:dLbls>
            <c:txPr>
              <a:bodyPr wrap="square"/>
              <a:lstStyle/>
              <a:p>
                <a:pPr>
                  <a:defRPr b="0" sz="1000" spc="-1" strike="noStrike">
                    <a:solidFill>
                      <a:srgbClr val="595959"/>
                    </a:solidFill>
                    <a:latin typeface="微软雅黑"/>
                    <a:ea typeface="微软雅黑"/>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0</c:f>
              <c:numCache>
                <c:formatCode>General</c:formatCode>
                <c:ptCount val="4"/>
                <c:pt idx="0">
                  <c:v>4.3</c:v>
                </c:pt>
                <c:pt idx="1">
                  <c:v>2.5</c:v>
                </c:pt>
                <c:pt idx="2">
                  <c:v>3.5</c:v>
                </c:pt>
                <c:pt idx="3">
                  <c:v>4.5</c:v>
                </c:pt>
              </c:numCache>
            </c:numRef>
          </c:val>
          <c:smooth val="0"/>
        </c:ser>
        <c:ser>
          <c:idx val="1"/>
          <c:order val="1"/>
          <c:tx>
            <c:strRef>
              <c:f>label 1</c:f>
              <c:strCache>
                <c:ptCount val="1"/>
                <c:pt idx="0">
                  <c:v>系列 2</c:v>
                </c:pt>
              </c:strCache>
            </c:strRef>
          </c:tx>
          <c:spPr>
            <a:solidFill>
              <a:srgbClr val="f6d403"/>
            </a:solidFill>
            <a:ln cap="rnd" w="12600">
              <a:solidFill>
                <a:srgbClr val="f6d403"/>
              </a:solidFill>
              <a:round/>
            </a:ln>
          </c:spPr>
          <c:marker>
            <c:symbol val="none"/>
          </c:marker>
          <c:dLbls>
            <c:txPr>
              <a:bodyPr wrap="square"/>
              <a:lstStyle/>
              <a:p>
                <a:pPr>
                  <a:defRPr b="0" sz="1000" spc="-1" strike="noStrike">
                    <a:solidFill>
                      <a:srgbClr val="595959"/>
                    </a:solidFill>
                    <a:latin typeface="微软雅黑"/>
                    <a:ea typeface="微软雅黑"/>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1</c:f>
              <c:numCache>
                <c:formatCode>General</c:formatCode>
                <c:ptCount val="4"/>
                <c:pt idx="0">
                  <c:v>2.4</c:v>
                </c:pt>
                <c:pt idx="1">
                  <c:v>4.4</c:v>
                </c:pt>
                <c:pt idx="2">
                  <c:v>1.8</c:v>
                </c:pt>
                <c:pt idx="3">
                  <c:v>2.8</c:v>
                </c:pt>
              </c:numCache>
            </c:numRef>
          </c:val>
          <c:smooth val="0"/>
        </c:ser>
        <c:ser>
          <c:idx val="2"/>
          <c:order val="2"/>
          <c:tx>
            <c:strRef>
              <c:f>label 2</c:f>
              <c:strCache>
                <c:ptCount val="1"/>
                <c:pt idx="0">
                  <c:v>系列 3</c:v>
                </c:pt>
              </c:strCache>
            </c:strRef>
          </c:tx>
          <c:spPr>
            <a:solidFill>
              <a:srgbClr val="a5a5a5"/>
            </a:solidFill>
            <a:ln cap="rnd" w="12600">
              <a:solidFill>
                <a:srgbClr val="a5a5a5"/>
              </a:solidFill>
              <a:round/>
            </a:ln>
          </c:spPr>
          <c:marker>
            <c:symbol val="none"/>
          </c:marker>
          <c:dLbls>
            <c:txPr>
              <a:bodyPr wrap="square"/>
              <a:lstStyle/>
              <a:p>
                <a:pPr>
                  <a:defRPr b="0" sz="1000" spc="-1" strike="noStrike">
                    <a:solidFill>
                      <a:srgbClr val="595959"/>
                    </a:solidFill>
                    <a:latin typeface="微软雅黑"/>
                    <a:ea typeface="微软雅黑"/>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2</c:f>
              <c:numCache>
                <c:formatCode>General</c:formatCode>
                <c:ptCount val="4"/>
                <c:pt idx="0">
                  <c:v>2</c:v>
                </c:pt>
                <c:pt idx="1">
                  <c:v>2</c:v>
                </c:pt>
                <c:pt idx="2">
                  <c:v>3</c:v>
                </c:pt>
                <c:pt idx="3">
                  <c:v>5</c:v>
                </c:pt>
              </c:numCache>
            </c:numRef>
          </c:val>
          <c:smooth val="0"/>
        </c:ser>
        <c:hiLowLines>
          <c:spPr>
            <a:ln w="0">
              <a:noFill/>
            </a:ln>
          </c:spPr>
        </c:hiLowLines>
        <c:marker val="0"/>
        <c:axId val="54912787"/>
        <c:axId val="54394341"/>
      </c:lineChart>
      <c:catAx>
        <c:axId val="54912787"/>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微软雅黑"/>
                <a:ea typeface="微软雅黑"/>
              </a:defRPr>
            </a:pPr>
          </a:p>
        </c:txPr>
        <c:crossAx val="54394341"/>
        <c:crosses val="autoZero"/>
        <c:auto val="1"/>
        <c:lblAlgn val="ctr"/>
        <c:lblOffset val="100"/>
        <c:noMultiLvlLbl val="0"/>
      </c:catAx>
      <c:valAx>
        <c:axId val="54394341"/>
        <c:scaling>
          <c:orientation val="minMax"/>
        </c:scaling>
        <c:delete val="0"/>
        <c:axPos val="l"/>
        <c:majorGridlines>
          <c:spPr>
            <a:ln w="9360">
              <a:solidFill>
                <a:srgbClr val="d9d9d9"/>
              </a:solidFill>
              <a:round/>
            </a:ln>
          </c:spPr>
        </c:majorGridlines>
        <c:numFmt formatCode="General" sourceLinked="0"/>
        <c:majorTickMark val="none"/>
        <c:minorTickMark val="none"/>
        <c:tickLblPos val="nextTo"/>
        <c:spPr>
          <a:ln w="6480">
            <a:noFill/>
          </a:ln>
        </c:spPr>
        <c:txPr>
          <a:bodyPr/>
          <a:lstStyle/>
          <a:p>
            <a:pPr>
              <a:defRPr b="0" sz="1197" spc="-1" strike="noStrike">
                <a:solidFill>
                  <a:srgbClr val="595959"/>
                </a:solidFill>
                <a:latin typeface="微软雅黑"/>
                <a:ea typeface="微软雅黑"/>
              </a:defRPr>
            </a:pPr>
          </a:p>
        </c:txPr>
        <c:crossAx val="54912787"/>
        <c:crosses val="autoZero"/>
        <c:crossBetween val="between"/>
      </c:valAx>
      <c:spPr>
        <a:noFill/>
        <a:ln w="0">
          <a:noFill/>
        </a:ln>
      </c:spPr>
    </c:plotArea>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doughnutChart>
        <c:varyColors val="1"/>
        <c:ser>
          <c:idx val="0"/>
          <c:order val="0"/>
          <c:tx>
            <c:strRef>
              <c:f>label 0</c:f>
              <c:strCache>
                <c:ptCount val="1"/>
                <c:pt idx="0">
                  <c:v>销售额</c:v>
                </c:pt>
              </c:strCache>
            </c:strRef>
          </c:tx>
          <c:spPr>
            <a:solidFill>
              <a:srgbClr val="5b9bd5"/>
            </a:solidFill>
            <a:ln w="0">
              <a:noFill/>
            </a:ln>
          </c:spPr>
          <c:explosion val="0"/>
          <c:dPt>
            <c:idx val="0"/>
            <c:spPr>
              <a:solidFill>
                <a:srgbClr val="f6d403"/>
              </a:solidFill>
              <a:ln w="19080">
                <a:solidFill>
                  <a:srgbClr val="ffffff"/>
                </a:solidFill>
                <a:round/>
              </a:ln>
            </c:spPr>
          </c:dPt>
          <c:dPt>
            <c:idx val="1"/>
            <c:spPr>
              <a:solidFill>
                <a:srgbClr val="808080"/>
              </a:solidFill>
              <a:ln w="19080">
                <a:solidFill>
                  <a:srgbClr val="ffffff"/>
                </a:solidFill>
                <a:round/>
              </a:ln>
            </c:spPr>
          </c:dPt>
          <c:dPt>
            <c:idx val="2"/>
            <c:spPr>
              <a:solidFill>
                <a:srgbClr val="a5a5a5"/>
              </a:solidFill>
              <a:ln w="19080">
                <a:solidFill>
                  <a:srgbClr val="ffffff"/>
                </a:solidFill>
                <a:round/>
              </a:ln>
            </c:spPr>
          </c:dPt>
          <c:dPt>
            <c:idx val="3"/>
            <c:spPr>
              <a:solidFill>
                <a:srgbClr val="ffc000"/>
              </a:solidFill>
              <a:ln w="19080">
                <a:solidFill>
                  <a:srgbClr val="ffffff"/>
                </a:solidFill>
                <a:round/>
              </a:ln>
            </c:spPr>
          </c:dPt>
          <c:dLbls>
            <c:dLbl>
              <c:idx val="0"/>
              <c:txPr>
                <a:bodyPr wrap="square"/>
                <a:lstStyle/>
                <a:p>
                  <a:pPr>
                    <a:defRPr b="0" sz="1000" spc="-1" strike="noStrike">
                      <a:solidFill>
                        <a:srgbClr val="000000"/>
                      </a:solidFill>
                      <a:latin typeface="Calibri"/>
                    </a:defRPr>
                  </a:pPr>
                </a:p>
              </c:txPr>
              <c:showLegendKey val="0"/>
              <c:showVal val="0"/>
              <c:showCatName val="0"/>
              <c:showSerName val="0"/>
              <c:showPercent val="0"/>
              <c:separator>; </c:separator>
            </c:dLbl>
            <c:dLbl>
              <c:idx val="1"/>
              <c:txPr>
                <a:bodyPr wrap="square"/>
                <a:lstStyle/>
                <a:p>
                  <a:pPr>
                    <a:defRPr b="0" sz="1000" spc="-1" strike="noStrike">
                      <a:solidFill>
                        <a:srgbClr val="000000"/>
                      </a:solidFill>
                      <a:latin typeface="Calibri"/>
                    </a:defRPr>
                  </a:pPr>
                </a:p>
              </c:txPr>
              <c:showLegendKey val="0"/>
              <c:showVal val="0"/>
              <c:showCatName val="0"/>
              <c:showSerName val="0"/>
              <c:showPercent val="0"/>
              <c:separator>; </c:separator>
            </c:dLbl>
            <c:dLbl>
              <c:idx val="2"/>
              <c:txPr>
                <a:bodyPr wrap="square"/>
                <a:lstStyle/>
                <a:p>
                  <a:pPr>
                    <a:defRPr b="0" sz="1000" spc="-1" strike="noStrike">
                      <a:solidFill>
                        <a:srgbClr val="000000"/>
                      </a:solidFill>
                      <a:latin typeface="Calibri"/>
                    </a:defRPr>
                  </a:pPr>
                </a:p>
              </c:txPr>
              <c:showLegendKey val="0"/>
              <c:showVal val="0"/>
              <c:showCatName val="0"/>
              <c:showSerName val="0"/>
              <c:showPercent val="0"/>
              <c:separator>; </c:separator>
            </c:dLbl>
            <c:dLbl>
              <c:idx val="3"/>
              <c:txPr>
                <a:bodyPr wrap="square"/>
                <a:lstStyle/>
                <a:p>
                  <a:pPr>
                    <a:defRPr b="0" sz="1000" spc="-1" strike="noStrike">
                      <a:solidFill>
                        <a:srgbClr val="000000"/>
                      </a:solidFill>
                      <a:latin typeface="Calibri"/>
                    </a:defRPr>
                  </a:pPr>
                </a:p>
              </c:txPr>
              <c:showLegendKey val="0"/>
              <c:showVal val="0"/>
              <c:showCatName val="0"/>
              <c:showSerName val="0"/>
              <c:showPercent val="0"/>
              <c:separator>; </c:separator>
            </c:dLbl>
            <c:txPr>
              <a:bodyPr wrap="square"/>
              <a:lstStyle/>
              <a:p>
                <a:pPr>
                  <a:defRPr b="0" sz="1000" spc="-1" strike="noStrike">
                    <a:solidFill>
                      <a:srgbClr val="000000"/>
                    </a:solidFill>
                    <a:latin typeface="Calibri"/>
                  </a:defRPr>
                </a:pPr>
              </a:p>
            </c:txPr>
            <c:showLegendKey val="0"/>
            <c:showVal val="0"/>
            <c:showCatName val="0"/>
            <c:showSerName val="0"/>
            <c:showPercent val="0"/>
            <c:separator>; </c:separator>
            <c:showLeaderLines val="0"/>
          </c:dLbls>
          <c:cat>
            <c:strRef>
              <c:f>categories</c:f>
              <c:strCache>
                <c:ptCount val="2"/>
                <c:pt idx="0">
                  <c:v>第一季度</c:v>
                </c:pt>
                <c:pt idx="1">
                  <c:v>第二季度</c:v>
                </c:pt>
              </c:strCache>
            </c:strRef>
          </c:cat>
          <c:val>
            <c:numRef>
              <c:f>0</c:f>
              <c:numCache>
                <c:formatCode>General</c:formatCode>
                <c:ptCount val="4"/>
                <c:pt idx="0">
                  <c:v>8.2</c:v>
                </c:pt>
                <c:pt idx="1">
                  <c:v>3.2</c:v>
                </c:pt>
              </c:numCache>
            </c:numRef>
          </c:val>
        </c:ser>
        <c:firstSliceAng val="0"/>
        <c:holeSize val="50"/>
      </c:doughnutChart>
      <c:spPr>
        <a:noFill/>
        <a:ln w="0">
          <a:noFill/>
        </a:ln>
      </c:spPr>
    </c:plotArea>
    <c:plotVisOnly val="1"/>
    <c:dispBlanksAs val="zero"/>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ineChart>
        <c:grouping val="percentStacked"/>
        <c:varyColors val="0"/>
        <c:ser>
          <c:idx val="0"/>
          <c:order val="0"/>
          <c:tx>
            <c:strRef>
              <c:f>label 0</c:f>
              <c:strCache>
                <c:ptCount val="1"/>
                <c:pt idx="0">
                  <c:v>系列 1</c:v>
                </c:pt>
              </c:strCache>
            </c:strRef>
          </c:tx>
          <c:spPr>
            <a:solidFill>
              <a:srgbClr val="00cbd1"/>
            </a:solidFill>
            <a:ln cap="rnd" w="12600">
              <a:solidFill>
                <a:srgbClr val="00cbd1"/>
              </a:solidFill>
              <a:round/>
            </a:ln>
          </c:spPr>
          <c:marker>
            <c:symbol val="none"/>
          </c:marker>
          <c:dLbls>
            <c:txPr>
              <a:bodyPr wrap="square"/>
              <a:lstStyle/>
              <a:p>
                <a:pPr>
                  <a:defRPr b="0" sz="1000" spc="-1" strike="noStrike">
                    <a:solidFill>
                      <a:srgbClr val="404040"/>
                    </a:solidFill>
                    <a:latin typeface="微软雅黑"/>
                    <a:ea typeface="微软雅黑"/>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0</c:f>
              <c:numCache>
                <c:formatCode>General</c:formatCode>
                <c:ptCount val="4"/>
                <c:pt idx="0">
                  <c:v>4.3</c:v>
                </c:pt>
                <c:pt idx="1">
                  <c:v>2.5</c:v>
                </c:pt>
                <c:pt idx="2">
                  <c:v>3.5</c:v>
                </c:pt>
                <c:pt idx="3">
                  <c:v>4.5</c:v>
                </c:pt>
              </c:numCache>
            </c:numRef>
          </c:val>
          <c:smooth val="0"/>
        </c:ser>
        <c:ser>
          <c:idx val="1"/>
          <c:order val="1"/>
          <c:tx>
            <c:strRef>
              <c:f>label 1</c:f>
              <c:strCache>
                <c:ptCount val="1"/>
                <c:pt idx="0">
                  <c:v>系列 2</c:v>
                </c:pt>
              </c:strCache>
            </c:strRef>
          </c:tx>
          <c:spPr>
            <a:solidFill>
              <a:srgbClr val="595959"/>
            </a:solidFill>
            <a:ln cap="rnd" w="12600">
              <a:solidFill>
                <a:srgbClr val="595959"/>
              </a:solidFill>
              <a:round/>
            </a:ln>
          </c:spPr>
          <c:marker>
            <c:symbol val="none"/>
          </c:marker>
          <c:dLbls>
            <c:txPr>
              <a:bodyPr wrap="square"/>
              <a:lstStyle/>
              <a:p>
                <a:pPr>
                  <a:defRPr b="0" sz="1000" spc="-1" strike="noStrike">
                    <a:solidFill>
                      <a:srgbClr val="404040"/>
                    </a:solidFill>
                    <a:latin typeface="微软雅黑"/>
                    <a:ea typeface="微软雅黑"/>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1</c:f>
              <c:numCache>
                <c:formatCode>General</c:formatCode>
                <c:ptCount val="4"/>
                <c:pt idx="0">
                  <c:v>2.4</c:v>
                </c:pt>
                <c:pt idx="1">
                  <c:v>4.4</c:v>
                </c:pt>
                <c:pt idx="2">
                  <c:v>1.8</c:v>
                </c:pt>
                <c:pt idx="3">
                  <c:v>2.8</c:v>
                </c:pt>
              </c:numCache>
            </c:numRef>
          </c:val>
          <c:smooth val="0"/>
        </c:ser>
        <c:ser>
          <c:idx val="2"/>
          <c:order val="2"/>
          <c:tx>
            <c:strRef>
              <c:f>label 2</c:f>
              <c:strCache>
                <c:ptCount val="1"/>
                <c:pt idx="0">
                  <c:v>系列 3</c:v>
                </c:pt>
              </c:strCache>
            </c:strRef>
          </c:tx>
          <c:spPr>
            <a:solidFill>
              <a:srgbClr val="f6d403"/>
            </a:solidFill>
            <a:ln cap="rnd" w="28440">
              <a:solidFill>
                <a:srgbClr val="f6d403"/>
              </a:solidFill>
              <a:round/>
            </a:ln>
          </c:spPr>
          <c:marker>
            <c:symbol val="none"/>
          </c:marker>
          <c:dLbls>
            <c:txPr>
              <a:bodyPr wrap="square"/>
              <a:lstStyle/>
              <a:p>
                <a:pPr>
                  <a:defRPr b="0" sz="1000" spc="-1" strike="noStrike">
                    <a:solidFill>
                      <a:srgbClr val="404040"/>
                    </a:solidFill>
                    <a:latin typeface="微软雅黑"/>
                    <a:ea typeface="微软雅黑"/>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2</c:f>
              <c:numCache>
                <c:formatCode>General</c:formatCode>
                <c:ptCount val="4"/>
                <c:pt idx="0">
                  <c:v>2</c:v>
                </c:pt>
                <c:pt idx="1">
                  <c:v>2</c:v>
                </c:pt>
                <c:pt idx="2">
                  <c:v>3</c:v>
                </c:pt>
                <c:pt idx="3">
                  <c:v>5</c:v>
                </c:pt>
              </c:numCache>
            </c:numRef>
          </c:val>
          <c:smooth val="0"/>
        </c:ser>
        <c:hiLowLines>
          <c:spPr>
            <a:ln w="0">
              <a:noFill/>
            </a:ln>
          </c:spPr>
        </c:hiLowLines>
        <c:marker val="0"/>
        <c:axId val="82970668"/>
        <c:axId val="61366956"/>
      </c:lineChart>
      <c:catAx>
        <c:axId val="82970668"/>
        <c:scaling>
          <c:orientation val="minMax"/>
        </c:scaling>
        <c:delete val="1"/>
        <c:axPos val="b"/>
        <c:numFmt formatCode="[$-409]mm/dd/yyyy" sourceLinked="1"/>
        <c:majorTickMark val="none"/>
        <c:minorTickMark val="none"/>
        <c:tickLblPos val="none"/>
        <c:spPr>
          <a:ln w="6480">
            <a:solidFill>
              <a:srgbClr val="8b8b8b"/>
            </a:solidFill>
            <a:round/>
          </a:ln>
        </c:spPr>
        <c:txPr>
          <a:bodyPr/>
          <a:lstStyle/>
          <a:p>
            <a:pPr>
              <a:defRPr b="0" sz="1000" spc="-1" strike="noStrike">
                <a:solidFill>
                  <a:srgbClr val="404040"/>
                </a:solidFill>
                <a:latin typeface="微软雅黑"/>
                <a:ea typeface="微软雅黑"/>
              </a:defRPr>
            </a:pPr>
          </a:p>
        </c:txPr>
        <c:crossAx val="61366956"/>
        <c:auto val="1"/>
        <c:lblAlgn val="ctr"/>
        <c:lblOffset val="100"/>
        <c:noMultiLvlLbl val="0"/>
      </c:catAx>
      <c:valAx>
        <c:axId val="61366956"/>
        <c:scaling>
          <c:orientation val="minMax"/>
        </c:scaling>
        <c:delete val="0"/>
        <c:axPos val="l"/>
        <c:majorGridlines>
          <c:spPr>
            <a:ln w="9360">
              <a:solidFill>
                <a:srgbClr val="d9d9d9"/>
              </a:solidFill>
              <a:round/>
            </a:ln>
          </c:spPr>
        </c:majorGridlines>
        <c:numFmt formatCode="0%" sourceLinked="0"/>
        <c:majorTickMark val="none"/>
        <c:minorTickMark val="none"/>
        <c:tickLblPos val="nextTo"/>
        <c:spPr>
          <a:ln w="6480">
            <a:noFill/>
          </a:ln>
        </c:spPr>
        <c:txPr>
          <a:bodyPr/>
          <a:lstStyle/>
          <a:p>
            <a:pPr>
              <a:defRPr b="0" sz="1197" spc="-1" strike="noStrike">
                <a:solidFill>
                  <a:srgbClr val="404040"/>
                </a:solidFill>
                <a:latin typeface="微软雅黑"/>
                <a:ea typeface="微软雅黑"/>
              </a:defRPr>
            </a:pPr>
          </a:p>
        </c:txPr>
        <c:crossAx val="82970668"/>
        <c:crosses val="autoZero"/>
        <c:crossBetween val="between"/>
      </c:valAx>
      <c:spPr>
        <a:noFill/>
        <a:ln w="0">
          <a:noFill/>
        </a:ln>
      </c:spPr>
    </c:plotArea>
    <c:plotVisOnly val="1"/>
    <c:dispBlanksAs val="zero"/>
  </c:chart>
  <c:spPr>
    <a:noFill/>
    <a:ln w="0">
      <a:noFill/>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areaChart>
        <c:grouping val="stacked"/>
        <c:ser>
          <c:idx val="0"/>
          <c:order val="0"/>
          <c:tx>
            <c:strRef>
              <c:f>label 0</c:f>
              <c:strCache>
                <c:ptCount val="1"/>
                <c:pt idx="0">
                  <c:v>系列 1</c:v>
                </c:pt>
              </c:strCache>
            </c:strRef>
          </c:tx>
          <c:spPr>
            <a:solidFill>
              <a:srgbClr val="f6d403"/>
            </a:solidFill>
            <a:ln w="0">
              <a:noFill/>
            </a:ln>
          </c:spPr>
          <c:dLbls>
            <c:txPr>
              <a:bodyPr wrap="square"/>
              <a:lstStyle/>
              <a:p>
                <a:pPr>
                  <a:defRPr b="0" sz="1000" spc="-1" strike="noStrike">
                    <a:solidFill>
                      <a:srgbClr val="000000"/>
                    </a:solidFill>
                    <a:latin typeface="Calibri"/>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numRef>
              <c:f>categories</c:f>
              <c:numCache>
                <c:formatCode>m/d/yyyy</c:formatCode>
                <c:ptCount val="5"/>
                <c:pt idx="0">
                  <c:v>37261</c:v>
                </c:pt>
                <c:pt idx="1">
                  <c:v>37262</c:v>
                </c:pt>
                <c:pt idx="2">
                  <c:v>37263</c:v>
                </c:pt>
                <c:pt idx="3">
                  <c:v>37264</c:v>
                </c:pt>
                <c:pt idx="4">
                  <c:v>37265</c:v>
                </c:pt>
              </c:numCache>
            </c:numRef>
          </c:cat>
          <c:val>
            <c:numRef>
              <c:f>0</c:f>
              <c:numCache>
                <c:formatCode>General</c:formatCode>
                <c:ptCount val="5"/>
                <c:pt idx="0">
                  <c:v>32</c:v>
                </c:pt>
                <c:pt idx="1">
                  <c:v>32</c:v>
                </c:pt>
                <c:pt idx="2">
                  <c:v>28</c:v>
                </c:pt>
                <c:pt idx="3">
                  <c:v>12</c:v>
                </c:pt>
                <c:pt idx="4">
                  <c:v>15</c:v>
                </c:pt>
              </c:numCache>
            </c:numRef>
          </c:val>
        </c:ser>
        <c:ser>
          <c:idx val="1"/>
          <c:order val="1"/>
          <c:tx>
            <c:strRef>
              <c:f>label 1</c:f>
              <c:strCache>
                <c:ptCount val="1"/>
                <c:pt idx="0">
                  <c:v>系列 2</c:v>
                </c:pt>
              </c:strCache>
            </c:strRef>
          </c:tx>
          <c:spPr>
            <a:solidFill>
              <a:srgbClr val="d9d9d9"/>
            </a:solidFill>
            <a:ln w="0">
              <a:noFill/>
            </a:ln>
          </c:spPr>
          <c:dLbls>
            <c:txPr>
              <a:bodyPr wrap="square"/>
              <a:lstStyle/>
              <a:p>
                <a:pPr>
                  <a:defRPr b="0" sz="1000" spc="-1" strike="noStrike">
                    <a:solidFill>
                      <a:srgbClr val="000000"/>
                    </a:solidFill>
                    <a:latin typeface="Calibri"/>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numRef>
              <c:f>categories</c:f>
              <c:numCache>
                <c:formatCode>m/d/yyyy</c:formatCode>
                <c:ptCount val="5"/>
                <c:pt idx="0">
                  <c:v>37261</c:v>
                </c:pt>
                <c:pt idx="1">
                  <c:v>37262</c:v>
                </c:pt>
                <c:pt idx="2">
                  <c:v>37263</c:v>
                </c:pt>
                <c:pt idx="3">
                  <c:v>37264</c:v>
                </c:pt>
                <c:pt idx="4">
                  <c:v>37265</c:v>
                </c:pt>
              </c:numCache>
            </c:numRef>
          </c:cat>
          <c:val>
            <c:numRef>
              <c:f>1</c:f>
              <c:numCache>
                <c:formatCode>General</c:formatCode>
                <c:ptCount val="5"/>
                <c:pt idx="0">
                  <c:v>12</c:v>
                </c:pt>
                <c:pt idx="1">
                  <c:v>12</c:v>
                </c:pt>
                <c:pt idx="2">
                  <c:v>12</c:v>
                </c:pt>
                <c:pt idx="3">
                  <c:v>21</c:v>
                </c:pt>
                <c:pt idx="4">
                  <c:v>28</c:v>
                </c:pt>
              </c:numCache>
            </c:numRef>
          </c:val>
        </c:ser>
        <c:axId val="49238619"/>
        <c:axId val="19837800"/>
      </c:areaChart>
      <c:dateAx>
        <c:axId val="49238619"/>
        <c:scaling>
          <c:orientation val="minMax"/>
        </c:scaling>
        <c:delete val="0"/>
        <c:axPos val="b"/>
        <c:numFmt formatCode="m/d/yyyy" sourceLinked="0"/>
        <c:majorTickMark val="out"/>
        <c:minorTickMark val="none"/>
        <c:tickLblPos val="nextTo"/>
        <c:spPr>
          <a:ln w="9360">
            <a:solidFill>
              <a:srgbClr val="d9d9d9"/>
            </a:solidFill>
            <a:round/>
          </a:ln>
        </c:spPr>
        <c:txPr>
          <a:bodyPr/>
          <a:lstStyle/>
          <a:p>
            <a:pPr>
              <a:defRPr b="0" sz="1197" spc="-1" strike="noStrike">
                <a:solidFill>
                  <a:srgbClr val="595959"/>
                </a:solidFill>
                <a:latin typeface="Calibri"/>
              </a:defRPr>
            </a:pPr>
          </a:p>
        </c:txPr>
        <c:crossAx val="19837800"/>
        <c:crosses val="autoZero"/>
        <c:auto val="1"/>
        <c:lblOffset val="100"/>
        <c:baseTimeUnit val="days"/>
        <c:noMultiLvlLbl val="0"/>
      </c:dateAx>
      <c:valAx>
        <c:axId val="19837800"/>
        <c:scaling>
          <c:orientation val="minMax"/>
        </c:scaling>
        <c:delete val="0"/>
        <c:axPos val="l"/>
        <c:majorGridlines>
          <c:spPr>
            <a:ln w="9360">
              <a:solidFill>
                <a:srgbClr val="d9d9d9"/>
              </a:solidFill>
              <a:round/>
            </a:ln>
          </c:spPr>
        </c:majorGridlines>
        <c:numFmt formatCode="General" sourceLinked="0"/>
        <c:majorTickMark val="none"/>
        <c:minorTickMark val="none"/>
        <c:tickLblPos val="nextTo"/>
        <c:spPr>
          <a:ln w="6480">
            <a:noFill/>
          </a:ln>
        </c:spPr>
        <c:txPr>
          <a:bodyPr/>
          <a:lstStyle/>
          <a:p>
            <a:pPr>
              <a:defRPr b="0" sz="1197" spc="-1" strike="noStrike">
                <a:solidFill>
                  <a:srgbClr val="595959"/>
                </a:solidFill>
                <a:latin typeface="Calibri"/>
              </a:defRPr>
            </a:pPr>
          </a:p>
        </c:txPr>
        <c:crossAx val="49238619"/>
        <c:crosses val="autoZero"/>
        <c:crossBetween val="midCat"/>
      </c:valAx>
      <c:spPr>
        <a:noFill/>
        <a:ln w="0">
          <a:noFill/>
        </a:ln>
      </c:spPr>
    </c:plotArea>
    <c:plotVisOnly val="1"/>
    <c:dispBlanksAs val="zero"/>
  </c:chart>
  <c:spPr>
    <a:noFill/>
    <a:ln w="0">
      <a:noFill/>
    </a:ln>
  </c:spPr>
</c:chartSpace>
</file>

<file path=ppt/charts/chart5.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系列 1</c:v>
                </c:pt>
              </c:strCache>
            </c:strRef>
          </c:tx>
          <c:spPr>
            <a:solidFill>
              <a:srgbClr val="f6d403"/>
            </a:solidFill>
            <a:ln w="0">
              <a:noFill/>
            </a:ln>
          </c:spPr>
          <c:invertIfNegative val="0"/>
          <c:dLbls>
            <c:txPr>
              <a:bodyPr wrap="square"/>
              <a:lstStyle/>
              <a:p>
                <a:pPr>
                  <a:defRPr b="0" sz="10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0</c:f>
              <c:numCache>
                <c:formatCode>General</c:formatCode>
                <c:ptCount val="4"/>
                <c:pt idx="0">
                  <c:v>4.3</c:v>
                </c:pt>
                <c:pt idx="1">
                  <c:v>2.5</c:v>
                </c:pt>
                <c:pt idx="2">
                  <c:v>3.5</c:v>
                </c:pt>
                <c:pt idx="3">
                  <c:v>4.5</c:v>
                </c:pt>
              </c:numCache>
            </c:numRef>
          </c:val>
        </c:ser>
        <c:gapWidth val="219"/>
        <c:overlap val="-27"/>
        <c:axId val="42611418"/>
        <c:axId val="17062030"/>
      </c:barChart>
      <c:lineChart>
        <c:grouping val="standard"/>
        <c:varyColors val="0"/>
        <c:ser>
          <c:idx val="1"/>
          <c:order val="1"/>
          <c:tx>
            <c:strRef>
              <c:f>label 1</c:f>
              <c:strCache>
                <c:ptCount val="1"/>
                <c:pt idx="0">
                  <c:v>系列 3</c:v>
                </c:pt>
              </c:strCache>
            </c:strRef>
          </c:tx>
          <c:spPr>
            <a:solidFill>
              <a:srgbClr val="595959"/>
            </a:solidFill>
            <a:ln cap="rnd" w="28440">
              <a:solidFill>
                <a:srgbClr val="595959"/>
              </a:solidFill>
              <a:round/>
            </a:ln>
          </c:spPr>
          <c:marker>
            <c:symbol val="none"/>
          </c:marker>
          <c:dLbls>
            <c:txPr>
              <a:bodyPr wrap="square"/>
              <a:lstStyle/>
              <a:p>
                <a:pPr>
                  <a:defRPr b="0" sz="1000" spc="-1" strike="noStrike">
                    <a:solidFill>
                      <a:srgbClr val="000000"/>
                    </a:solidFill>
                    <a:latin typeface="Calibri"/>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1</c:f>
              <c:numCache>
                <c:formatCode>General</c:formatCode>
                <c:ptCount val="4"/>
                <c:pt idx="0">
                  <c:v>2</c:v>
                </c:pt>
                <c:pt idx="1">
                  <c:v>2</c:v>
                </c:pt>
                <c:pt idx="2">
                  <c:v>3</c:v>
                </c:pt>
                <c:pt idx="3">
                  <c:v>5</c:v>
                </c:pt>
              </c:numCache>
            </c:numRef>
          </c:val>
          <c:smooth val="0"/>
        </c:ser>
        <c:hiLowLines>
          <c:spPr>
            <a:ln w="0">
              <a:noFill/>
            </a:ln>
          </c:spPr>
        </c:hiLowLines>
        <c:marker val="0"/>
        <c:axId val="42611418"/>
        <c:axId val="17062030"/>
      </c:lineChart>
      <c:catAx>
        <c:axId val="42611418"/>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197" spc="-1" strike="noStrike">
                <a:solidFill>
                  <a:srgbClr val="595959"/>
                </a:solidFill>
                <a:latin typeface="Calibri"/>
              </a:defRPr>
            </a:pPr>
          </a:p>
        </c:txPr>
        <c:crossAx val="17062030"/>
        <c:crosses val="autoZero"/>
        <c:auto val="1"/>
        <c:lblAlgn val="ctr"/>
        <c:lblOffset val="100"/>
        <c:noMultiLvlLbl val="0"/>
      </c:catAx>
      <c:valAx>
        <c:axId val="17062030"/>
        <c:scaling>
          <c:orientation val="minMax"/>
        </c:scaling>
        <c:delete val="0"/>
        <c:axPos val="l"/>
        <c:majorGridlines>
          <c:spPr>
            <a:ln w="9360">
              <a:solidFill>
                <a:srgbClr val="d9d9d9"/>
              </a:solidFill>
              <a:round/>
            </a:ln>
          </c:spPr>
        </c:majorGridlines>
        <c:numFmt formatCode="General" sourceLinked="0"/>
        <c:majorTickMark val="none"/>
        <c:minorTickMark val="none"/>
        <c:tickLblPos val="nextTo"/>
        <c:spPr>
          <a:ln w="6480">
            <a:noFill/>
          </a:ln>
        </c:spPr>
        <c:txPr>
          <a:bodyPr/>
          <a:lstStyle/>
          <a:p>
            <a:pPr>
              <a:defRPr b="0" sz="1197" spc="-1" strike="noStrike">
                <a:solidFill>
                  <a:srgbClr val="595959"/>
                </a:solidFill>
                <a:latin typeface="Calibri"/>
              </a:defRPr>
            </a:pPr>
          </a:p>
        </c:txPr>
        <c:crossAx val="42611418"/>
        <c:crosses val="autoZero"/>
        <c:crossBetween val="between"/>
      </c:valAx>
      <c:spPr>
        <a:noFill/>
        <a:ln w="0">
          <a:noFill/>
        </a:ln>
      </c:spPr>
    </c:plotArea>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C110A1-FAA0-4188-A63D-F22D4407D4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36929-DCDF-45D9-AD3D-228E38E77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9E8234-CE15-4692-AF01-E18D45B25A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F001FA-0441-4BDC-8679-25B1E36075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5F8F74-9383-4A43-8365-D238B4FCC7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32FD52-626F-4944-853D-5116E11FDD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F7E1BD-7BD9-467C-9C66-278EF05DCB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2"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8C7DA3-4533-4BCF-88AD-71D43D0A9E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B24394-E971-47A0-A713-AA7C2F4A75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3880" y="1122480"/>
            <a:ext cx="9143640" cy="11066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51339B-BE47-462C-92C8-D120657501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7"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8"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155ED-4EF7-4215-8A48-8EB0E6C860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DF543-D9E0-4816-8189-E7EB5BD51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2"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13C57E-5BCF-48C5-A50B-C1FABD282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5"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6"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A0A406-42E8-4203-A198-C5191FA1AD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9"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111A36-BDB0-4EA1-AE1E-E8CAA54307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3"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4"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4DCCA5-A76E-4DC7-8DEA-29EE437726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7"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8"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9"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0"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1"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2711D1-B097-4BAD-A5A8-C945242FCC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64D12-F0F7-4D71-9B44-E3E99B582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FD69B-3FF9-438F-886B-57EABAB89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3150E-4489-4952-915B-DCEFB08AB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880" y="1122480"/>
            <a:ext cx="9143640" cy="11066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41F1B-E8E0-4E9A-8734-CE36F1F43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5534F-3BF0-4E0E-A6E9-D0A429910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8F422-B0F3-4957-BE21-A3BC476D7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A0FBC-3308-486A-9149-6BF1CFA23D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zh-CN" sz="4400" spc="-1" strike="noStrike">
                <a:solidFill>
                  <a:srgbClr val="000000"/>
                </a:solidFill>
                <a:latin typeface="Calibri Light"/>
              </a:rPr>
              <a:t>单击此处编辑母版标题样式</a:t>
            </a:r>
            <a:endParaRPr b="0" lang="en-US" sz="4400" spc="-1" strike="noStrike">
              <a:solidFill>
                <a:srgbClr val="000000"/>
              </a:solidFill>
              <a:latin typeface="Calibri"/>
            </a:endParaRPr>
          </a:p>
        </p:txBody>
      </p:sp>
      <p:sp>
        <p:nvSpPr>
          <p:cNvPr id="1"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zh-CN" sz="2800" spc="-1" strike="noStrike">
                <a:solidFill>
                  <a:srgbClr val="000000"/>
                </a:solidFill>
                <a:latin typeface="Calibri"/>
              </a:rPr>
              <a:t>单击此处编辑母版文本样式</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zh-CN" sz="2400" spc="-1" strike="noStrike">
                <a:solidFill>
                  <a:srgbClr val="000000"/>
                </a:solidFill>
                <a:latin typeface="Calibri"/>
              </a:rPr>
              <a:t>第二级</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zh-CN" sz="2000" spc="-1" strike="noStrike">
                <a:solidFill>
                  <a:srgbClr val="000000"/>
                </a:solidFill>
                <a:latin typeface="Calibri"/>
              </a:rPr>
              <a:t>第三级</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zh-CN" sz="1800" spc="-1" strike="noStrike">
                <a:solidFill>
                  <a:srgbClr val="000000"/>
                </a:solidFill>
                <a:latin typeface="Calibri"/>
              </a:rPr>
              <a:t>第四级</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zh-CN" sz="1800" spc="-1" strike="noStrike">
                <a:solidFill>
                  <a:srgbClr val="000000"/>
                </a:solidFill>
                <a:latin typeface="Calibri"/>
              </a:rPr>
              <a:t>第五级</a:t>
            </a:r>
            <a:endParaRPr b="0" lang="en-US" sz="1800" spc="-1" strike="noStrike">
              <a:solidFill>
                <a:srgbClr val="000000"/>
              </a:solidFill>
              <a:latin typeface="Calibri"/>
            </a:endParaRPr>
          </a:p>
        </p:txBody>
      </p:sp>
      <p:sp>
        <p:nvSpPr>
          <p:cNvPr id="2" name="PlaceHolder 3"/>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E8C42B00-4C79-4798-9492-05F74FAE4EC3}"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a:lnSpc>
                <a:spcPct val="90000"/>
              </a:lnSpc>
              <a:buNone/>
            </a:pPr>
            <a:r>
              <a:rPr b="0" lang="zh-CN" sz="6000" spc="-1" strike="noStrike">
                <a:solidFill>
                  <a:srgbClr val="000000"/>
                </a:solidFill>
                <a:latin typeface="Calibri Light"/>
              </a:rPr>
              <a:t>单击此处编辑母版标题样式</a:t>
            </a:r>
            <a:endParaRPr b="0" lang="en-US" sz="6000" spc="-1" strike="noStrike">
              <a:solidFill>
                <a:srgbClr val="000000"/>
              </a:solidFill>
              <a:latin typeface="Calibri"/>
            </a:endParaRPr>
          </a:p>
        </p:txBody>
      </p:sp>
      <p:sp>
        <p:nvSpPr>
          <p:cNvPr id="42" name="PlaceHolder 2"/>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F334BF36-C1A7-4440-B354-59CCCDA19B84}"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chart" Target="../charts/chart3.xml"/><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chart" Target="../charts/chart4.xm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chart" Target="../charts/chart5.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image" Target="../media/image7.png"/><Relationship Id="rId24" Type="http://schemas.openxmlformats.org/officeDocument/2006/relationships/image" Target="../media/image7.png"/><Relationship Id="rId25" Type="http://schemas.openxmlformats.org/officeDocument/2006/relationships/image" Target="../media/image7.png"/><Relationship Id="rId26" Type="http://schemas.openxmlformats.org/officeDocument/2006/relationships/image" Target="../media/image7.png"/><Relationship Id="rId27" Type="http://schemas.openxmlformats.org/officeDocument/2006/relationships/image" Target="../media/image7.png"/><Relationship Id="rId28" Type="http://schemas.openxmlformats.org/officeDocument/2006/relationships/image" Target="../media/image7.png"/><Relationship Id="rId29" Type="http://schemas.openxmlformats.org/officeDocument/2006/relationships/image" Target="../media/image7.png"/><Relationship Id="rId30" Type="http://schemas.openxmlformats.org/officeDocument/2006/relationships/image" Target="../media/image7.png"/><Relationship Id="rId31" Type="http://schemas.openxmlformats.org/officeDocument/2006/relationships/image" Target="../media/image7.png"/><Relationship Id="rId32" Type="http://schemas.openxmlformats.org/officeDocument/2006/relationships/image" Target="../media/image7.png"/><Relationship Id="rId33" Type="http://schemas.openxmlformats.org/officeDocument/2006/relationships/image" Target="../media/image7.png"/><Relationship Id="rId34" Type="http://schemas.openxmlformats.org/officeDocument/2006/relationships/image" Target="../media/image7.png"/><Relationship Id="rId35" Type="http://schemas.openxmlformats.org/officeDocument/2006/relationships/image" Target="../media/image7.png"/><Relationship Id="rId36" Type="http://schemas.openxmlformats.org/officeDocument/2006/relationships/image" Target="../media/image7.png"/><Relationship Id="rId37" Type="http://schemas.openxmlformats.org/officeDocument/2006/relationships/image" Target="../media/image7.png"/><Relationship Id="rId38" Type="http://schemas.openxmlformats.org/officeDocument/2006/relationships/image" Target="../media/image7.png"/><Relationship Id="rId39" Type="http://schemas.openxmlformats.org/officeDocument/2006/relationships/image" Target="../media/image7.png"/><Relationship Id="rId40" Type="http://schemas.openxmlformats.org/officeDocument/2006/relationships/image" Target="../media/image7.png"/><Relationship Id="rId41" Type="http://schemas.openxmlformats.org/officeDocument/2006/relationships/image" Target="../media/image7.png"/><Relationship Id="rId42" Type="http://schemas.openxmlformats.org/officeDocument/2006/relationships/image" Target="../media/image7.png"/><Relationship Id="rId43" Type="http://schemas.openxmlformats.org/officeDocument/2006/relationships/image" Target="../media/image7.png"/><Relationship Id="rId44" Type="http://schemas.openxmlformats.org/officeDocument/2006/relationships/image" Target="../media/image7.png"/><Relationship Id="rId45" Type="http://schemas.openxmlformats.org/officeDocument/2006/relationships/image" Target="../media/image7.png"/><Relationship Id="rId46" Type="http://schemas.openxmlformats.org/officeDocument/2006/relationships/image" Target="../media/image7.png"/><Relationship Id="rId47" Type="http://schemas.openxmlformats.org/officeDocument/2006/relationships/image" Target="../media/image7.png"/><Relationship Id="rId48" Type="http://schemas.openxmlformats.org/officeDocument/2006/relationships/image" Target="../media/image7.png"/><Relationship Id="rId49" Type="http://schemas.openxmlformats.org/officeDocument/2006/relationships/image" Target="../media/image7.png"/><Relationship Id="rId50" Type="http://schemas.openxmlformats.org/officeDocument/2006/relationships/image" Target="../media/image7.png"/><Relationship Id="rId51" Type="http://schemas.openxmlformats.org/officeDocument/2006/relationships/image" Target="../media/image7.png"/><Relationship Id="rId52" Type="http://schemas.openxmlformats.org/officeDocument/2006/relationships/image" Target="../media/image7.png"/><Relationship Id="rId53" Type="http://schemas.openxmlformats.org/officeDocument/2006/relationships/image" Target="../media/image7.png"/><Relationship Id="rId54" Type="http://schemas.openxmlformats.org/officeDocument/2006/relationships/image" Target="../media/image7.png"/><Relationship Id="rId55" Type="http://schemas.openxmlformats.org/officeDocument/2006/relationships/image" Target="../media/image7.png"/><Relationship Id="rId56" Type="http://schemas.openxmlformats.org/officeDocument/2006/relationships/image" Target="../media/image7.png"/><Relationship Id="rId57" Type="http://schemas.openxmlformats.org/officeDocument/2006/relationships/image" Target="../media/image7.png"/><Relationship Id="rId58" Type="http://schemas.openxmlformats.org/officeDocument/2006/relationships/image" Target="../media/image7.png"/><Relationship Id="rId59" Type="http://schemas.openxmlformats.org/officeDocument/2006/relationships/image" Target="../media/image7.png"/><Relationship Id="rId60" Type="http://schemas.openxmlformats.org/officeDocument/2006/relationships/image" Target="../media/image7.png"/><Relationship Id="rId61" Type="http://schemas.openxmlformats.org/officeDocument/2006/relationships/image" Target="../media/image7.png"/><Relationship Id="rId62" Type="http://schemas.openxmlformats.org/officeDocument/2006/relationships/image" Target="../media/image7.png"/><Relationship Id="rId63" Type="http://schemas.openxmlformats.org/officeDocument/2006/relationships/image" Target="../media/image7.png"/><Relationship Id="rId64" Type="http://schemas.openxmlformats.org/officeDocument/2006/relationships/image" Target="../media/image7.png"/><Relationship Id="rId65" Type="http://schemas.openxmlformats.org/officeDocument/2006/relationships/image" Target="../media/image7.png"/><Relationship Id="rId66" Type="http://schemas.openxmlformats.org/officeDocument/2006/relationships/image" Target="../media/image7.png"/><Relationship Id="rId67" Type="http://schemas.openxmlformats.org/officeDocument/2006/relationships/image" Target="../media/image7.png"/><Relationship Id="rId68" Type="http://schemas.openxmlformats.org/officeDocument/2006/relationships/image" Target="../media/image7.png"/><Relationship Id="rId69" Type="http://schemas.openxmlformats.org/officeDocument/2006/relationships/image" Target="../media/image7.png"/><Relationship Id="rId70" Type="http://schemas.openxmlformats.org/officeDocument/2006/relationships/image" Target="../media/image7.png"/><Relationship Id="rId71" Type="http://schemas.openxmlformats.org/officeDocument/2006/relationships/image" Target="../media/image7.png"/><Relationship Id="rId72" Type="http://schemas.openxmlformats.org/officeDocument/2006/relationships/image" Target="../media/image7.png"/><Relationship Id="rId73" Type="http://schemas.openxmlformats.org/officeDocument/2006/relationships/image" Target="../media/image7.png"/><Relationship Id="rId74" Type="http://schemas.openxmlformats.org/officeDocument/2006/relationships/image" Target="../media/image7.png"/><Relationship Id="rId75" Type="http://schemas.openxmlformats.org/officeDocument/2006/relationships/image" Target="../media/image7.png"/><Relationship Id="rId76" Type="http://schemas.openxmlformats.org/officeDocument/2006/relationships/image" Target="../media/image7.png"/><Relationship Id="rId77" Type="http://schemas.openxmlformats.org/officeDocument/2006/relationships/image" Target="../media/image7.png"/><Relationship Id="rId78" Type="http://schemas.openxmlformats.org/officeDocument/2006/relationships/image" Target="../media/image7.png"/><Relationship Id="rId79" Type="http://schemas.openxmlformats.org/officeDocument/2006/relationships/image" Target="../media/image7.png"/><Relationship Id="rId80" Type="http://schemas.openxmlformats.org/officeDocument/2006/relationships/image" Target="../media/image7.png"/><Relationship Id="rId81" Type="http://schemas.openxmlformats.org/officeDocument/2006/relationships/image" Target="../media/image7.png"/><Relationship Id="rId82" Type="http://schemas.openxmlformats.org/officeDocument/2006/relationships/image" Target="../media/image7.png"/><Relationship Id="rId83" Type="http://schemas.openxmlformats.org/officeDocument/2006/relationships/image" Target="../media/image7.png"/><Relationship Id="rId84" Type="http://schemas.openxmlformats.org/officeDocument/2006/relationships/image" Target="../media/image7.png"/><Relationship Id="rId85" Type="http://schemas.openxmlformats.org/officeDocument/2006/relationships/image" Target="../media/image7.png"/><Relationship Id="rId86" Type="http://schemas.openxmlformats.org/officeDocument/2006/relationships/image" Target="../media/image7.png"/><Relationship Id="rId87" Type="http://schemas.openxmlformats.org/officeDocument/2006/relationships/image" Target="../media/image7.png"/><Relationship Id="rId88" Type="http://schemas.openxmlformats.org/officeDocument/2006/relationships/image" Target="../media/image7.png"/><Relationship Id="rId89" Type="http://schemas.openxmlformats.org/officeDocument/2006/relationships/image" Target="../media/image7.png"/><Relationship Id="rId90" Type="http://schemas.openxmlformats.org/officeDocument/2006/relationships/image" Target="../media/image7.png"/><Relationship Id="rId91" Type="http://schemas.openxmlformats.org/officeDocument/2006/relationships/image" Target="../media/image7.png"/><Relationship Id="rId92" Type="http://schemas.openxmlformats.org/officeDocument/2006/relationships/image" Target="../media/image7.png"/><Relationship Id="rId93" Type="http://schemas.openxmlformats.org/officeDocument/2006/relationships/image" Target="../media/image7.png"/><Relationship Id="rId94" Type="http://schemas.openxmlformats.org/officeDocument/2006/relationships/image" Target="../media/image7.png"/><Relationship Id="rId95" Type="http://schemas.openxmlformats.org/officeDocument/2006/relationships/image" Target="../media/image7.png"/><Relationship Id="rId96" Type="http://schemas.openxmlformats.org/officeDocument/2006/relationships/image" Target="../media/image7.png"/><Relationship Id="rId97" Type="http://schemas.openxmlformats.org/officeDocument/2006/relationships/image" Target="../media/image7.png"/><Relationship Id="rId98" Type="http://schemas.openxmlformats.org/officeDocument/2006/relationships/image" Target="../media/image7.png"/><Relationship Id="rId99" Type="http://schemas.openxmlformats.org/officeDocument/2006/relationships/image" Target="../media/image7.png"/><Relationship Id="rId100" Type="http://schemas.openxmlformats.org/officeDocument/2006/relationships/image" Target="../media/image7.png"/><Relationship Id="rId101" Type="http://schemas.openxmlformats.org/officeDocument/2006/relationships/image" Target="../media/image7.png"/><Relationship Id="rId102" Type="http://schemas.openxmlformats.org/officeDocument/2006/relationships/image" Target="../media/image7.png"/><Relationship Id="rId103" Type="http://schemas.openxmlformats.org/officeDocument/2006/relationships/image" Target="../media/image7.png"/><Relationship Id="rId104" Type="http://schemas.openxmlformats.org/officeDocument/2006/relationships/image" Target="../media/image7.png"/><Relationship Id="rId105" Type="http://schemas.openxmlformats.org/officeDocument/2006/relationships/image" Target="../media/image7.png"/><Relationship Id="rId106" Type="http://schemas.openxmlformats.org/officeDocument/2006/relationships/image" Target="../media/image7.png"/><Relationship Id="rId107" Type="http://schemas.openxmlformats.org/officeDocument/2006/relationships/image" Target="../media/image7.png"/><Relationship Id="rId108" Type="http://schemas.openxmlformats.org/officeDocument/2006/relationships/image" Target="../media/image7.png"/><Relationship Id="rId109" Type="http://schemas.openxmlformats.org/officeDocument/2006/relationships/image" Target="../media/image7.png"/><Relationship Id="rId110" Type="http://schemas.openxmlformats.org/officeDocument/2006/relationships/image" Target="../media/image7.png"/><Relationship Id="rId11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8.png"/><Relationship Id="rId23" Type="http://schemas.openxmlformats.org/officeDocument/2006/relationships/image" Target="../media/image8.png"/><Relationship Id="rId24" Type="http://schemas.openxmlformats.org/officeDocument/2006/relationships/image" Target="../media/image8.png"/><Relationship Id="rId25" Type="http://schemas.openxmlformats.org/officeDocument/2006/relationships/image" Target="../media/image8.png"/><Relationship Id="rId26" Type="http://schemas.openxmlformats.org/officeDocument/2006/relationships/image" Target="../media/image8.png"/><Relationship Id="rId27" Type="http://schemas.openxmlformats.org/officeDocument/2006/relationships/image" Target="../media/image8.png"/><Relationship Id="rId28" Type="http://schemas.openxmlformats.org/officeDocument/2006/relationships/image" Target="../media/image8.png"/><Relationship Id="rId29" Type="http://schemas.openxmlformats.org/officeDocument/2006/relationships/image" Target="../media/image8.png"/><Relationship Id="rId30" Type="http://schemas.openxmlformats.org/officeDocument/2006/relationships/image" Target="../media/image8.png"/><Relationship Id="rId31" Type="http://schemas.openxmlformats.org/officeDocument/2006/relationships/image" Target="../media/image8.png"/><Relationship Id="rId32" Type="http://schemas.openxmlformats.org/officeDocument/2006/relationships/image" Target="../media/image8.png"/><Relationship Id="rId33" Type="http://schemas.openxmlformats.org/officeDocument/2006/relationships/image" Target="../media/image8.png"/><Relationship Id="rId34" Type="http://schemas.openxmlformats.org/officeDocument/2006/relationships/image" Target="../media/image8.png"/><Relationship Id="rId35" Type="http://schemas.openxmlformats.org/officeDocument/2006/relationships/image" Target="../media/image8.png"/><Relationship Id="rId36" Type="http://schemas.openxmlformats.org/officeDocument/2006/relationships/image" Target="../media/image8.png"/><Relationship Id="rId37" Type="http://schemas.openxmlformats.org/officeDocument/2006/relationships/image" Target="../media/image8.png"/><Relationship Id="rId38" Type="http://schemas.openxmlformats.org/officeDocument/2006/relationships/image" Target="../media/image8.png"/><Relationship Id="rId39" Type="http://schemas.openxmlformats.org/officeDocument/2006/relationships/image" Target="../media/image8.png"/><Relationship Id="rId40" Type="http://schemas.openxmlformats.org/officeDocument/2006/relationships/image" Target="../media/image8.png"/><Relationship Id="rId41" Type="http://schemas.openxmlformats.org/officeDocument/2006/relationships/image" Target="../media/image8.png"/><Relationship Id="rId42" Type="http://schemas.openxmlformats.org/officeDocument/2006/relationships/image" Target="../media/image8.png"/><Relationship Id="rId43" Type="http://schemas.openxmlformats.org/officeDocument/2006/relationships/image" Target="../media/image8.png"/><Relationship Id="rId44" Type="http://schemas.openxmlformats.org/officeDocument/2006/relationships/image" Target="../media/image8.png"/><Relationship Id="rId45" Type="http://schemas.openxmlformats.org/officeDocument/2006/relationships/image" Target="../media/image8.png"/><Relationship Id="rId46" Type="http://schemas.openxmlformats.org/officeDocument/2006/relationships/image" Target="../media/image8.png"/><Relationship Id="rId47" Type="http://schemas.openxmlformats.org/officeDocument/2006/relationships/image" Target="../media/image8.png"/><Relationship Id="rId48" Type="http://schemas.openxmlformats.org/officeDocument/2006/relationships/image" Target="../media/image8.png"/><Relationship Id="rId49" Type="http://schemas.openxmlformats.org/officeDocument/2006/relationships/image" Target="../media/image8.png"/><Relationship Id="rId50" Type="http://schemas.openxmlformats.org/officeDocument/2006/relationships/image" Target="../media/image8.png"/><Relationship Id="rId51" Type="http://schemas.openxmlformats.org/officeDocument/2006/relationships/image" Target="../media/image8.png"/><Relationship Id="rId52" Type="http://schemas.openxmlformats.org/officeDocument/2006/relationships/image" Target="../media/image8.png"/><Relationship Id="rId53" Type="http://schemas.openxmlformats.org/officeDocument/2006/relationships/image" Target="../media/image8.png"/><Relationship Id="rId54" Type="http://schemas.openxmlformats.org/officeDocument/2006/relationships/image" Target="../media/image8.png"/><Relationship Id="rId55" Type="http://schemas.openxmlformats.org/officeDocument/2006/relationships/image" Target="../media/image8.png"/><Relationship Id="rId56" Type="http://schemas.openxmlformats.org/officeDocument/2006/relationships/image" Target="../media/image8.png"/><Relationship Id="rId57" Type="http://schemas.openxmlformats.org/officeDocument/2006/relationships/image" Target="../media/image8.png"/><Relationship Id="rId58" Type="http://schemas.openxmlformats.org/officeDocument/2006/relationships/image" Target="../media/image8.png"/><Relationship Id="rId59" Type="http://schemas.openxmlformats.org/officeDocument/2006/relationships/image" Target="../media/image8.png"/><Relationship Id="rId60" Type="http://schemas.openxmlformats.org/officeDocument/2006/relationships/image" Target="../media/image8.png"/><Relationship Id="rId61" Type="http://schemas.openxmlformats.org/officeDocument/2006/relationships/image" Target="../media/image8.png"/><Relationship Id="rId62" Type="http://schemas.openxmlformats.org/officeDocument/2006/relationships/image" Target="../media/image8.png"/><Relationship Id="rId63" Type="http://schemas.openxmlformats.org/officeDocument/2006/relationships/image" Target="../media/image8.png"/><Relationship Id="rId64" Type="http://schemas.openxmlformats.org/officeDocument/2006/relationships/image" Target="../media/image8.png"/><Relationship Id="rId65" Type="http://schemas.openxmlformats.org/officeDocument/2006/relationships/image" Target="../media/image8.png"/><Relationship Id="rId66" Type="http://schemas.openxmlformats.org/officeDocument/2006/relationships/image" Target="../media/image8.png"/><Relationship Id="rId67" Type="http://schemas.openxmlformats.org/officeDocument/2006/relationships/image" Target="../media/image8.png"/><Relationship Id="rId68" Type="http://schemas.openxmlformats.org/officeDocument/2006/relationships/image" Target="../media/image8.png"/><Relationship Id="rId69" Type="http://schemas.openxmlformats.org/officeDocument/2006/relationships/image" Target="../media/image8.png"/><Relationship Id="rId70" Type="http://schemas.openxmlformats.org/officeDocument/2006/relationships/image" Target="../media/image8.png"/><Relationship Id="rId71" Type="http://schemas.openxmlformats.org/officeDocument/2006/relationships/image" Target="../media/image8.png"/><Relationship Id="rId72" Type="http://schemas.openxmlformats.org/officeDocument/2006/relationships/image" Target="../media/image8.png"/><Relationship Id="rId73" Type="http://schemas.openxmlformats.org/officeDocument/2006/relationships/image" Target="../media/image8.png"/><Relationship Id="rId74" Type="http://schemas.openxmlformats.org/officeDocument/2006/relationships/image" Target="../media/image8.png"/><Relationship Id="rId75" Type="http://schemas.openxmlformats.org/officeDocument/2006/relationships/image" Target="../media/image8.png"/><Relationship Id="rId76" Type="http://schemas.openxmlformats.org/officeDocument/2006/relationships/image" Target="../media/image8.png"/><Relationship Id="rId77" Type="http://schemas.openxmlformats.org/officeDocument/2006/relationships/image" Target="../media/image8.png"/><Relationship Id="rId78" Type="http://schemas.openxmlformats.org/officeDocument/2006/relationships/image" Target="../media/image8.png"/><Relationship Id="rId79" Type="http://schemas.openxmlformats.org/officeDocument/2006/relationships/image" Target="../media/image8.png"/><Relationship Id="rId80" Type="http://schemas.openxmlformats.org/officeDocument/2006/relationships/image" Target="../media/image8.png"/><Relationship Id="rId81" Type="http://schemas.openxmlformats.org/officeDocument/2006/relationships/image" Target="../media/image8.png"/><Relationship Id="rId82" Type="http://schemas.openxmlformats.org/officeDocument/2006/relationships/image" Target="../media/image8.png"/><Relationship Id="rId83" Type="http://schemas.openxmlformats.org/officeDocument/2006/relationships/image" Target="../media/image8.png"/><Relationship Id="rId84" Type="http://schemas.openxmlformats.org/officeDocument/2006/relationships/image" Target="../media/image8.png"/><Relationship Id="rId85" Type="http://schemas.openxmlformats.org/officeDocument/2006/relationships/image" Target="../media/image8.png"/><Relationship Id="rId86" Type="http://schemas.openxmlformats.org/officeDocument/2006/relationships/image" Target="../media/image8.png"/><Relationship Id="rId87" Type="http://schemas.openxmlformats.org/officeDocument/2006/relationships/image" Target="../media/image8.png"/><Relationship Id="rId88" Type="http://schemas.openxmlformats.org/officeDocument/2006/relationships/image" Target="../media/image8.png"/><Relationship Id="rId89" Type="http://schemas.openxmlformats.org/officeDocument/2006/relationships/image" Target="../media/image8.png"/><Relationship Id="rId90" Type="http://schemas.openxmlformats.org/officeDocument/2006/relationships/image" Target="../media/image8.png"/><Relationship Id="rId91" Type="http://schemas.openxmlformats.org/officeDocument/2006/relationships/image" Target="../media/image8.png"/><Relationship Id="rId92" Type="http://schemas.openxmlformats.org/officeDocument/2006/relationships/image" Target="../media/image8.png"/><Relationship Id="rId93" Type="http://schemas.openxmlformats.org/officeDocument/2006/relationships/image" Target="../media/image8.png"/><Relationship Id="rId94" Type="http://schemas.openxmlformats.org/officeDocument/2006/relationships/image" Target="../media/image8.png"/><Relationship Id="rId95" Type="http://schemas.openxmlformats.org/officeDocument/2006/relationships/image" Target="../media/image8.png"/><Relationship Id="rId96" Type="http://schemas.openxmlformats.org/officeDocument/2006/relationships/image" Target="../media/image8.png"/><Relationship Id="rId97"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chart" Target="../charts/chart1.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chart" Target="../charts/chart2.xml"/><Relationship Id="rId3" Type="http://schemas.openxmlformats.org/officeDocument/2006/relationships/hyperlink" Target="http://www.eeppt.com/moban/" TargetMode="Externa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图片 2" descr=""/>
          <p:cNvPicPr/>
          <p:nvPr/>
        </p:nvPicPr>
        <p:blipFill>
          <a:blip r:embed="rId1"/>
          <a:stretch/>
        </p:blipFill>
        <p:spPr>
          <a:xfrm>
            <a:off x="0" y="0"/>
            <a:ext cx="12191760" cy="6857640"/>
          </a:xfrm>
          <a:prstGeom prst="rect">
            <a:avLst/>
          </a:prstGeom>
          <a:ln w="0">
            <a:noFill/>
          </a:ln>
        </p:spPr>
      </p:pic>
      <p:grpSp>
        <p:nvGrpSpPr>
          <p:cNvPr id="83" name="组合 1"/>
          <p:cNvGrpSpPr/>
          <p:nvPr/>
        </p:nvGrpSpPr>
        <p:grpSpPr>
          <a:xfrm>
            <a:off x="2156040" y="2339640"/>
            <a:ext cx="7879680" cy="2178000"/>
            <a:chOff x="2156040" y="2339640"/>
            <a:chExt cx="7879680" cy="2178000"/>
          </a:xfrm>
        </p:grpSpPr>
        <p:sp>
          <p:nvSpPr>
            <p:cNvPr id="84" name="六边形 4"/>
            <p:cNvSpPr/>
            <p:nvPr/>
          </p:nvSpPr>
          <p:spPr>
            <a:xfrm>
              <a:off x="2156040" y="2339640"/>
              <a:ext cx="7879680" cy="2178000"/>
            </a:xfrm>
            <a:prstGeom prst="hexagon">
              <a:avLst>
                <a:gd name="adj" fmla="val 25000"/>
                <a:gd name="vf" fmla="val 115470"/>
              </a:avLst>
            </a:prstGeom>
            <a:solidFill>
              <a:schemeClr val="bg1"/>
            </a:solidFill>
            <a:ln>
              <a:noFill/>
            </a:ln>
            <a:effectLst>
              <a:outerShdw algn="tl" blurRad="355680" dir="8401444" dist="139524" rotWithShape="0" sx="104000" sy="104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5" name="六边形 7"/>
            <p:cNvSpPr/>
            <p:nvPr/>
          </p:nvSpPr>
          <p:spPr>
            <a:xfrm>
              <a:off x="2353320" y="2469600"/>
              <a:ext cx="7489800" cy="1913760"/>
            </a:xfrm>
            <a:prstGeom prst="hexagon">
              <a:avLst>
                <a:gd name="adj" fmla="val 25000"/>
                <a:gd name="vf" fmla="val 115470"/>
              </a:avLst>
            </a:prstGeom>
            <a:noFill/>
            <a:ln w="6350">
              <a:solidFill>
                <a:srgbClr val="000000">
                  <a:lumMod val="50000"/>
                  <a:lumOff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86" name="文本框 8"/>
          <p:cNvSpPr/>
          <p:nvPr/>
        </p:nvSpPr>
        <p:spPr>
          <a:xfrm>
            <a:off x="3203640" y="2534400"/>
            <a:ext cx="528156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000" spc="-1" strike="noStrike">
                <a:solidFill>
                  <a:srgbClr val="808080"/>
                </a:solidFill>
                <a:latin typeface="方正兰亭超细黑简体"/>
                <a:ea typeface="方正兰亭超细黑简体"/>
              </a:rPr>
              <a:t>柠檬满屏通用</a:t>
            </a:r>
            <a:r>
              <a:rPr b="0" lang="en-US" sz="4000" spc="-1" strike="noStrike">
                <a:solidFill>
                  <a:srgbClr val="808080"/>
                </a:solidFill>
                <a:latin typeface="方正兰亭超细黑简体"/>
                <a:ea typeface="方正兰亭超细黑简体"/>
              </a:rPr>
              <a:t>PPT</a:t>
            </a:r>
            <a:r>
              <a:rPr b="0" lang="zh-CN" sz="4000" spc="-1" strike="noStrike">
                <a:solidFill>
                  <a:srgbClr val="808080"/>
                </a:solidFill>
                <a:latin typeface="方正兰亭超细黑简体"/>
                <a:ea typeface="方正兰亭超细黑简体"/>
              </a:rPr>
              <a:t>模板完整版下载</a:t>
            </a:r>
            <a:endParaRPr b="0" lang="en-US" sz="4000" spc="-1" strike="noStrike">
              <a:solidFill>
                <a:srgbClr val="000000"/>
              </a:solidFill>
              <a:latin typeface="Arial"/>
            </a:endParaRPr>
          </a:p>
        </p:txBody>
      </p:sp>
      <p:sp>
        <p:nvSpPr>
          <p:cNvPr id="87" name="文本框 12"/>
          <p:cNvSpPr/>
          <p:nvPr/>
        </p:nvSpPr>
        <p:spPr>
          <a:xfrm>
            <a:off x="3400560" y="3165120"/>
            <a:ext cx="117684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800" spc="-1" strike="noStrike">
                <a:solidFill>
                  <a:srgbClr val="a6a6a6"/>
                </a:solidFill>
                <a:latin typeface="Calibri"/>
              </a:rPr>
              <a:t>LOGO</a:t>
            </a:r>
            <a:endParaRPr b="0" lang="en-US" sz="2800" spc="-1" strike="noStrike">
              <a:solidFill>
                <a:srgbClr val="000000"/>
              </a:solidFill>
              <a:latin typeface="Arial"/>
            </a:endParaRPr>
          </a:p>
        </p:txBody>
      </p:sp>
      <p:sp>
        <p:nvSpPr>
          <p:cNvPr id="88"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advTm="1000" p14:dur="2000"/>
    </mc:Choice>
    <mc:Fallback>
      <p:transition spd="slow" advTm="1000"/>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83"/>
                                        </p:tgtEl>
                                        <p:attrNameLst>
                                          <p:attrName>style.visibility</p:attrName>
                                        </p:attrNameLst>
                                      </p:cBhvr>
                                      <p:to>
                                        <p:strVal val="visible"/>
                                      </p:to>
                                    </p:set>
                                    <p:anim calcmode="lin" valueType="num">
                                      <p:cBhvr additive="repl">
                                        <p:cTn id="7" dur="500" fill="hold"/>
                                        <p:tgtEl>
                                          <p:spTgt spid="83"/>
                                        </p:tgtEl>
                                        <p:attrNameLst>
                                          <p:attrName>ppt_x</p:attrName>
                                        </p:attrNameLst>
                                      </p:cBhvr>
                                      <p:tavLst>
                                        <p:tav tm="0">
                                          <p:val>
                                            <p:strVal val="#ppt_x"/>
                                          </p:val>
                                        </p:tav>
                                        <p:tav tm="100000">
                                          <p:val>
                                            <p:strVal val="#ppt_x"/>
                                          </p:val>
                                        </p:tav>
                                      </p:tavLst>
                                    </p:anim>
                                    <p:anim calcmode="lin" valueType="num">
                                      <p:cBhvr additive="repl">
                                        <p:cTn id="8" dur="500" fill="hold"/>
                                        <p:tgtEl>
                                          <p:spTgt spid="83"/>
                                        </p:tgtEl>
                                        <p:attrNameLst>
                                          <p:attrName>ppt_y</p:attrName>
                                        </p:attrNameLst>
                                      </p:cBhvr>
                                      <p:tavLst>
                                        <p:tav tm="0">
                                          <p:val>
                                            <p:strVal val="1+#ppt_h/2"/>
                                          </p:val>
                                        </p:tav>
                                        <p:tav tm="100000">
                                          <p:val>
                                            <p:strVal val="#ppt_y"/>
                                          </p:val>
                                        </p:tav>
                                      </p:tavLst>
                                    </p:anim>
                                  </p:childTnLst>
                                </p:cTn>
                              </p:par>
                              <p:par>
                                <p:cTn id="9" nodeType="withEffect" fill="hold" presetClass="emph" presetID="32">
                                  <p:stCondLst>
                                    <p:cond delay="500"/>
                                  </p:stCondLst>
                                  <p:childTnLst>
                                    <p:animRot by="120000">
                                      <p:cBhvr>
                                        <p:cTn id="10" dur="100" fill="hold">
                                          <p:stCondLst>
                                            <p:cond delay="0"/>
                                          </p:stCondLst>
                                        </p:cTn>
                                        <p:tgtEl>
                                          <p:spTgt spid="83"/>
                                        </p:tgtEl>
                                        <p:attrNameLst>
                                          <p:attrName>r</p:attrName>
                                        </p:attrNameLst>
                                      </p:cBhvr>
                                    </p:animRot>
                                    <p:animRot by="-240000">
                                      <p:cBhvr>
                                        <p:cTn id="11" dur="200" fill="hold">
                                          <p:stCondLst>
                                            <p:cond delay="200"/>
                                          </p:stCondLst>
                                        </p:cTn>
                                        <p:tgtEl>
                                          <p:spTgt spid="83"/>
                                        </p:tgtEl>
                                        <p:attrNameLst>
                                          <p:attrName>r</p:attrName>
                                        </p:attrNameLst>
                                      </p:cBhvr>
                                    </p:animRot>
                                    <p:animRot by="240000">
                                      <p:cBhvr>
                                        <p:cTn id="12" dur="200" fill="hold">
                                          <p:stCondLst>
                                            <p:cond delay="400"/>
                                          </p:stCondLst>
                                        </p:cTn>
                                        <p:tgtEl>
                                          <p:spTgt spid="83"/>
                                        </p:tgtEl>
                                        <p:attrNameLst>
                                          <p:attrName>r</p:attrName>
                                        </p:attrNameLst>
                                      </p:cBhvr>
                                    </p:animRot>
                                    <p:animRot by="-240000">
                                      <p:cBhvr>
                                        <p:cTn id="13" dur="200" fill="hold">
                                          <p:stCondLst>
                                            <p:cond delay="600"/>
                                          </p:stCondLst>
                                        </p:cTn>
                                        <p:tgtEl>
                                          <p:spTgt spid="83"/>
                                        </p:tgtEl>
                                        <p:attrNameLst>
                                          <p:attrName>r</p:attrName>
                                        </p:attrNameLst>
                                      </p:cBhvr>
                                    </p:animRot>
                                    <p:animRot by="120000">
                                      <p:cBhvr>
                                        <p:cTn id="14" dur="200" fill="hold">
                                          <p:stCondLst>
                                            <p:cond delay="800"/>
                                          </p:stCondLst>
                                        </p:cTn>
                                        <p:tgtEl>
                                          <p:spTgt spid="83"/>
                                        </p:tgtEl>
                                        <p:attrNameLst>
                                          <p:attrName>r</p:attrName>
                                        </p:attrNameLst>
                                      </p:cBhvr>
                                    </p:animRot>
                                  </p:childTnLst>
                                </p:cTn>
                              </p:par>
                              <p:par>
                                <p:cTn id="15" nodeType="withEffect" fill="hold" presetClass="entr" presetID="45">
                                  <p:stCondLst>
                                    <p:cond delay="1500"/>
                                  </p:stCondLst>
                                  <p:iterate type="lt">
                                    <p:tmAbs val="100"/>
                                  </p:iterate>
                                  <p:childTnLst>
                                    <p:set>
                                      <p:cBhvr>
                                        <p:cTn id="16" dur="1" fill="hold">
                                          <p:stCondLst>
                                            <p:cond delay="0"/>
                                          </p:stCondLst>
                                        </p:cTn>
                                        <p:tgtEl>
                                          <p:spTgt spid="87"/>
                                        </p:tgtEl>
                                        <p:attrNameLst>
                                          <p:attrName>style.visibility</p:attrName>
                                        </p:attrNameLst>
                                      </p:cBhvr>
                                      <p:to>
                                        <p:strVal val="visible"/>
                                      </p:to>
                                    </p:set>
                                    <p:animEffect filter="fade" transition="in">
                                      <p:cBhvr additive="repl">
                                        <p:cTn id="17" dur="1500"/>
                                        <p:tgtEl>
                                          <p:spTgt spid="87"/>
                                        </p:tgtEl>
                                      </p:cBhvr>
                                    </p:animEffect>
                                    <p:anim calcmode="lin" valueType="num">
                                      <p:cBhvr additive="repl">
                                        <p:cTn id="18" dur="1500" fill="hold"/>
                                        <p:tgtEl>
                                          <p:spTgt spid="87"/>
                                        </p:tgtEl>
                                        <p:attrNameLst>
                                          <p:attrName>ppt_w</p:attrName>
                                        </p:attrNameLst>
                                      </p:cBhvr>
                                      <p:tavLst>
                                        <p:tav fmla="width*sin(2.5*pi*$)" tm="0">
                                          <p:val>
                                            <p:fltVal val="0"/>
                                          </p:val>
                                        </p:tav>
                                        <p:tav fmla="width*sin(2.5*pi*$)" tm="100000">
                                          <p:val>
                                            <p:fltVal val="1"/>
                                          </p:val>
                                        </p:tav>
                                      </p:tavLst>
                                    </p:anim>
                                    <p:anim calcmode="lin" valueType="num">
                                      <p:cBhvr additive="repl">
                                        <p:cTn id="19" dur="1500" fill="hold"/>
                                        <p:tgtEl>
                                          <p:spTgt spid="87"/>
                                        </p:tgtEl>
                                        <p:attrNameLst>
                                          <p:attrName>ppt_h</p:attrName>
                                        </p:attrNameLst>
                                      </p:cBhvr>
                                      <p:tavLst>
                                        <p:tav tm="0">
                                          <p:val>
                                            <p:strVal val="#ppt_h"/>
                                          </p:val>
                                        </p:tav>
                                        <p:tav tm="100000">
                                          <p:val>
                                            <p:strVal val="#ppt_h"/>
                                          </p:val>
                                        </p:tav>
                                      </p:tavLst>
                                    </p:anim>
                                  </p:childTnLst>
                                </p:cTn>
                              </p:par>
                              <p:par>
                                <p:cTn id="20" nodeType="withEffect" fill="hold" presetClass="entr" presetID="45">
                                  <p:stCondLst>
                                    <p:cond delay="1500"/>
                                  </p:stCondLst>
                                  <p:iterate type="lt">
                                    <p:tmAbs val="100"/>
                                  </p:iterate>
                                  <p:childTnLst>
                                    <p:set>
                                      <p:cBhvr>
                                        <p:cTn id="21" dur="1" fill="hold">
                                          <p:stCondLst>
                                            <p:cond delay="0"/>
                                          </p:stCondLst>
                                        </p:cTn>
                                        <p:tgtEl>
                                          <p:spTgt spid="86"/>
                                        </p:tgtEl>
                                        <p:attrNameLst>
                                          <p:attrName>style.visibility</p:attrName>
                                        </p:attrNameLst>
                                      </p:cBhvr>
                                      <p:to>
                                        <p:strVal val="visible"/>
                                      </p:to>
                                    </p:set>
                                    <p:animEffect filter="fade" transition="in">
                                      <p:cBhvr additive="repl">
                                        <p:cTn id="22" dur="1500"/>
                                        <p:tgtEl>
                                          <p:spTgt spid="86"/>
                                        </p:tgtEl>
                                      </p:cBhvr>
                                    </p:animEffect>
                                    <p:anim calcmode="lin" valueType="num">
                                      <p:cBhvr additive="repl">
                                        <p:cTn id="23" dur="15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24" dur="1500" fill="hold"/>
                                        <p:tgtEl>
                                          <p:spTgt spid="8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图片 48" descr=""/>
          <p:cNvPicPr/>
          <p:nvPr/>
        </p:nvPicPr>
        <p:blipFill>
          <a:blip r:embed="rId1"/>
          <a:stretch/>
        </p:blipFill>
        <p:spPr>
          <a:xfrm>
            <a:off x="0" y="0"/>
            <a:ext cx="12191760" cy="6857640"/>
          </a:xfrm>
          <a:prstGeom prst="rect">
            <a:avLst/>
          </a:prstGeom>
          <a:ln w="0">
            <a:noFill/>
          </a:ln>
        </p:spPr>
      </p:pic>
      <p:sp>
        <p:nvSpPr>
          <p:cNvPr id="208" name="矩形 9"/>
          <p:cNvSpPr/>
          <p:nvPr/>
        </p:nvSpPr>
        <p:spPr>
          <a:xfrm>
            <a:off x="1209240" y="1160640"/>
            <a:ext cx="3989520" cy="1440360"/>
          </a:xfrm>
          <a:prstGeom prst="rect">
            <a:avLst/>
          </a:prstGeom>
          <a:solidFill>
            <a:schemeClr val="bg1"/>
          </a:solidFill>
          <a:ln>
            <a:noFill/>
          </a:ln>
          <a:effectLst>
            <a:outerShdw algn="tl" blurRad="139680" dir="2700000" dist="37674" rotWithShape="0" sx="105000" sy="105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9" name="矩形 11"/>
          <p:cNvSpPr/>
          <p:nvPr/>
        </p:nvSpPr>
        <p:spPr>
          <a:xfrm>
            <a:off x="1361880" y="1280880"/>
            <a:ext cx="3674160" cy="1173240"/>
          </a:xfrm>
          <a:prstGeom prst="rect">
            <a:avLst/>
          </a:prstGeom>
          <a:noFill/>
          <a:ln>
            <a:solidFill>
              <a:srgbClr val="000000">
                <a:lumMod val="50000"/>
                <a:lumOff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0" name="矩形 16"/>
          <p:cNvSpPr/>
          <p:nvPr/>
        </p:nvSpPr>
        <p:spPr>
          <a:xfrm>
            <a:off x="1209240" y="2802600"/>
            <a:ext cx="3989520" cy="2937600"/>
          </a:xfrm>
          <a:prstGeom prst="rect">
            <a:avLst/>
          </a:prstGeom>
          <a:solidFill>
            <a:schemeClr val="bg1"/>
          </a:solidFill>
          <a:ln>
            <a:noFill/>
          </a:ln>
          <a:effectLst>
            <a:outerShdw algn="tl" blurRad="139680" dir="2700000" dist="37674" rotWithShape="0" sx="105000" sy="105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1" name="矩形 17"/>
          <p:cNvSpPr/>
          <p:nvPr/>
        </p:nvSpPr>
        <p:spPr>
          <a:xfrm>
            <a:off x="1361880" y="2955240"/>
            <a:ext cx="3674160" cy="2611080"/>
          </a:xfrm>
          <a:prstGeom prst="rect">
            <a:avLst/>
          </a:prstGeom>
          <a:noFill/>
          <a:ln>
            <a:solidFill>
              <a:srgbClr val="000000">
                <a:lumMod val="50000"/>
                <a:lumOff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2" name="矩形 27"/>
          <p:cNvSpPr/>
          <p:nvPr/>
        </p:nvSpPr>
        <p:spPr>
          <a:xfrm>
            <a:off x="5532840" y="1160640"/>
            <a:ext cx="5423760" cy="2817360"/>
          </a:xfrm>
          <a:prstGeom prst="rect">
            <a:avLst/>
          </a:prstGeom>
          <a:solidFill>
            <a:schemeClr val="bg1"/>
          </a:solidFill>
          <a:ln>
            <a:noFill/>
          </a:ln>
          <a:effectLst>
            <a:outerShdw algn="tl" blurRad="101520" dir="2700000" dist="37674" rotWithShape="0" sx="103000" sy="103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3" name="矩形 30"/>
          <p:cNvSpPr/>
          <p:nvPr/>
        </p:nvSpPr>
        <p:spPr>
          <a:xfrm>
            <a:off x="5679000" y="1280880"/>
            <a:ext cx="5133240" cy="2536560"/>
          </a:xfrm>
          <a:prstGeom prst="rect">
            <a:avLst/>
          </a:prstGeom>
          <a:noFill/>
          <a:ln>
            <a:solidFill>
              <a:srgbClr val="000000">
                <a:lumMod val="50000"/>
                <a:lumOff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4" name="矩形 31"/>
          <p:cNvSpPr/>
          <p:nvPr/>
        </p:nvSpPr>
        <p:spPr>
          <a:xfrm>
            <a:off x="5532840" y="4157640"/>
            <a:ext cx="1643760" cy="1582560"/>
          </a:xfrm>
          <a:prstGeom prst="rect">
            <a:avLst/>
          </a:prstGeom>
          <a:solidFill>
            <a:schemeClr val="bg1"/>
          </a:solidFill>
          <a:ln>
            <a:noFill/>
          </a:ln>
          <a:effectLst>
            <a:outerShdw algn="tl" blurRad="139680" dir="2700000" dist="37674" rotWithShape="0" sx="105000" sy="105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5" name="矩形 32"/>
          <p:cNvSpPr/>
          <p:nvPr/>
        </p:nvSpPr>
        <p:spPr>
          <a:xfrm>
            <a:off x="5679000" y="4277880"/>
            <a:ext cx="1331280" cy="1288080"/>
          </a:xfrm>
          <a:prstGeom prst="rect">
            <a:avLst/>
          </a:prstGeom>
          <a:noFill/>
          <a:ln>
            <a:solidFill>
              <a:srgbClr val="000000">
                <a:lumMod val="50000"/>
                <a:lumOff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6" name="矩形 33"/>
          <p:cNvSpPr/>
          <p:nvPr/>
        </p:nvSpPr>
        <p:spPr>
          <a:xfrm>
            <a:off x="7323120" y="4157640"/>
            <a:ext cx="3633480" cy="1582560"/>
          </a:xfrm>
          <a:prstGeom prst="rect">
            <a:avLst/>
          </a:prstGeom>
          <a:solidFill>
            <a:schemeClr val="bg1"/>
          </a:solidFill>
          <a:ln>
            <a:noFill/>
          </a:ln>
          <a:effectLst>
            <a:outerShdw algn="tl" blurRad="139680" dir="2700000" dist="37674" rotWithShape="0" sx="105000" sy="105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7" name="矩形 34"/>
          <p:cNvSpPr/>
          <p:nvPr/>
        </p:nvSpPr>
        <p:spPr>
          <a:xfrm>
            <a:off x="7443360" y="4277880"/>
            <a:ext cx="3368520" cy="1288080"/>
          </a:xfrm>
          <a:prstGeom prst="rect">
            <a:avLst/>
          </a:prstGeom>
          <a:noFill/>
          <a:ln>
            <a:solidFill>
              <a:srgbClr val="000000">
                <a:lumMod val="50000"/>
                <a:lumOff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8" name="KSO_Shape"/>
          <p:cNvSpPr/>
          <p:nvPr/>
        </p:nvSpPr>
        <p:spPr>
          <a:xfrm>
            <a:off x="1682280" y="1465560"/>
            <a:ext cx="802800" cy="804240"/>
          </a:xfrm>
          <a:custGeom>
            <a:avLst/>
            <a:gdLst>
              <a:gd name="textAreaLeft" fmla="*/ 0 w 802800"/>
              <a:gd name="textAreaRight" fmla="*/ 803160 w 802800"/>
              <a:gd name="textAreaTop" fmla="*/ 0 h 804240"/>
              <a:gd name="textAreaBottom" fmla="*/ 804600 h 804240"/>
            </a:gdLst>
            <a:ahLst/>
            <a:rect l="textAreaLeft" t="textAreaTop" r="textAreaRight" b="textAreaBottom"/>
            <a:pathLst>
              <a:path w="4409" h="4408">
                <a:moveTo>
                  <a:pt x="3025" y="2127"/>
                </a:moveTo>
                <a:lnTo>
                  <a:pt x="3025" y="2127"/>
                </a:lnTo>
                <a:lnTo>
                  <a:pt x="3097" y="2107"/>
                </a:lnTo>
                <a:lnTo>
                  <a:pt x="3179" y="2081"/>
                </a:lnTo>
                <a:lnTo>
                  <a:pt x="3271" y="2053"/>
                </a:lnTo>
                <a:lnTo>
                  <a:pt x="3375" y="2020"/>
                </a:lnTo>
                <a:lnTo>
                  <a:pt x="3429" y="2002"/>
                </a:lnTo>
                <a:lnTo>
                  <a:pt x="3481" y="1982"/>
                </a:lnTo>
                <a:lnTo>
                  <a:pt x="3532" y="1961"/>
                </a:lnTo>
                <a:lnTo>
                  <a:pt x="3580" y="1938"/>
                </a:lnTo>
                <a:lnTo>
                  <a:pt x="3626" y="1914"/>
                </a:lnTo>
                <a:lnTo>
                  <a:pt x="3672" y="1889"/>
                </a:lnTo>
                <a:lnTo>
                  <a:pt x="3715" y="1861"/>
                </a:lnTo>
                <a:lnTo>
                  <a:pt x="3756" y="1834"/>
                </a:lnTo>
                <a:lnTo>
                  <a:pt x="3797" y="1804"/>
                </a:lnTo>
                <a:lnTo>
                  <a:pt x="3834" y="1774"/>
                </a:lnTo>
                <a:lnTo>
                  <a:pt x="3871" y="1744"/>
                </a:lnTo>
                <a:lnTo>
                  <a:pt x="3906" y="1711"/>
                </a:lnTo>
                <a:lnTo>
                  <a:pt x="3940" y="1679"/>
                </a:lnTo>
                <a:lnTo>
                  <a:pt x="3971" y="1644"/>
                </a:lnTo>
                <a:lnTo>
                  <a:pt x="4002" y="1610"/>
                </a:lnTo>
                <a:lnTo>
                  <a:pt x="4031" y="1575"/>
                </a:lnTo>
                <a:lnTo>
                  <a:pt x="4059" y="1539"/>
                </a:lnTo>
                <a:lnTo>
                  <a:pt x="4085" y="1502"/>
                </a:lnTo>
                <a:lnTo>
                  <a:pt x="4110" y="1466"/>
                </a:lnTo>
                <a:lnTo>
                  <a:pt x="4134" y="1428"/>
                </a:lnTo>
                <a:lnTo>
                  <a:pt x="4157" y="1390"/>
                </a:lnTo>
                <a:lnTo>
                  <a:pt x="4177" y="1351"/>
                </a:lnTo>
                <a:lnTo>
                  <a:pt x="4198" y="1312"/>
                </a:lnTo>
                <a:lnTo>
                  <a:pt x="4217" y="1274"/>
                </a:lnTo>
                <a:lnTo>
                  <a:pt x="4234" y="1235"/>
                </a:lnTo>
                <a:lnTo>
                  <a:pt x="4251" y="1196"/>
                </a:lnTo>
                <a:lnTo>
                  <a:pt x="4267" y="1156"/>
                </a:lnTo>
                <a:lnTo>
                  <a:pt x="4281" y="1117"/>
                </a:lnTo>
                <a:lnTo>
                  <a:pt x="4295" y="1078"/>
                </a:lnTo>
                <a:lnTo>
                  <a:pt x="4307" y="1039"/>
                </a:lnTo>
                <a:lnTo>
                  <a:pt x="4319" y="1000"/>
                </a:lnTo>
                <a:lnTo>
                  <a:pt x="4329" y="961"/>
                </a:lnTo>
                <a:lnTo>
                  <a:pt x="4340" y="923"/>
                </a:lnTo>
                <a:lnTo>
                  <a:pt x="4349" y="884"/>
                </a:lnTo>
                <a:lnTo>
                  <a:pt x="4357" y="847"/>
                </a:lnTo>
                <a:lnTo>
                  <a:pt x="4365" y="809"/>
                </a:lnTo>
                <a:lnTo>
                  <a:pt x="4377" y="736"/>
                </a:lnTo>
                <a:lnTo>
                  <a:pt x="4387" y="665"/>
                </a:lnTo>
                <a:lnTo>
                  <a:pt x="4395" y="598"/>
                </a:lnTo>
                <a:lnTo>
                  <a:pt x="4401" y="534"/>
                </a:lnTo>
                <a:lnTo>
                  <a:pt x="4405" y="474"/>
                </a:lnTo>
                <a:lnTo>
                  <a:pt x="4407" y="418"/>
                </a:lnTo>
                <a:lnTo>
                  <a:pt x="4409" y="367"/>
                </a:lnTo>
                <a:lnTo>
                  <a:pt x="4409" y="321"/>
                </a:lnTo>
                <a:lnTo>
                  <a:pt x="4409" y="281"/>
                </a:lnTo>
                <a:lnTo>
                  <a:pt x="4407" y="247"/>
                </a:lnTo>
                <a:lnTo>
                  <a:pt x="4404" y="201"/>
                </a:lnTo>
                <a:lnTo>
                  <a:pt x="4403" y="183"/>
                </a:lnTo>
                <a:lnTo>
                  <a:pt x="3786" y="183"/>
                </a:lnTo>
                <a:lnTo>
                  <a:pt x="3491" y="183"/>
                </a:lnTo>
                <a:lnTo>
                  <a:pt x="3491" y="0"/>
                </a:lnTo>
                <a:lnTo>
                  <a:pt x="919" y="0"/>
                </a:lnTo>
                <a:lnTo>
                  <a:pt x="919" y="183"/>
                </a:lnTo>
                <a:lnTo>
                  <a:pt x="624" y="183"/>
                </a:lnTo>
                <a:lnTo>
                  <a:pt x="6" y="183"/>
                </a:lnTo>
                <a:lnTo>
                  <a:pt x="5" y="201"/>
                </a:lnTo>
                <a:lnTo>
                  <a:pt x="2" y="247"/>
                </a:lnTo>
                <a:lnTo>
                  <a:pt x="1" y="282"/>
                </a:lnTo>
                <a:lnTo>
                  <a:pt x="0" y="321"/>
                </a:lnTo>
                <a:lnTo>
                  <a:pt x="1" y="367"/>
                </a:lnTo>
                <a:lnTo>
                  <a:pt x="2" y="419"/>
                </a:lnTo>
                <a:lnTo>
                  <a:pt x="4" y="475"/>
                </a:lnTo>
                <a:lnTo>
                  <a:pt x="8" y="535"/>
                </a:lnTo>
                <a:lnTo>
                  <a:pt x="14" y="599"/>
                </a:lnTo>
                <a:lnTo>
                  <a:pt x="22" y="667"/>
                </a:lnTo>
                <a:lnTo>
                  <a:pt x="32" y="737"/>
                </a:lnTo>
                <a:lnTo>
                  <a:pt x="45" y="811"/>
                </a:lnTo>
                <a:lnTo>
                  <a:pt x="52" y="848"/>
                </a:lnTo>
                <a:lnTo>
                  <a:pt x="61" y="886"/>
                </a:lnTo>
                <a:lnTo>
                  <a:pt x="69" y="924"/>
                </a:lnTo>
                <a:lnTo>
                  <a:pt x="79" y="962"/>
                </a:lnTo>
                <a:lnTo>
                  <a:pt x="91" y="1002"/>
                </a:lnTo>
                <a:lnTo>
                  <a:pt x="102" y="1041"/>
                </a:lnTo>
                <a:lnTo>
                  <a:pt x="115" y="1080"/>
                </a:lnTo>
                <a:lnTo>
                  <a:pt x="128" y="1120"/>
                </a:lnTo>
                <a:lnTo>
                  <a:pt x="142" y="1158"/>
                </a:lnTo>
                <a:lnTo>
                  <a:pt x="159" y="1198"/>
                </a:lnTo>
                <a:lnTo>
                  <a:pt x="175" y="1237"/>
                </a:lnTo>
                <a:lnTo>
                  <a:pt x="193" y="1276"/>
                </a:lnTo>
                <a:lnTo>
                  <a:pt x="211" y="1315"/>
                </a:lnTo>
                <a:lnTo>
                  <a:pt x="232" y="1354"/>
                </a:lnTo>
                <a:lnTo>
                  <a:pt x="253" y="1392"/>
                </a:lnTo>
                <a:lnTo>
                  <a:pt x="275" y="1430"/>
                </a:lnTo>
                <a:lnTo>
                  <a:pt x="299" y="1468"/>
                </a:lnTo>
                <a:lnTo>
                  <a:pt x="324" y="1504"/>
                </a:lnTo>
                <a:lnTo>
                  <a:pt x="350" y="1541"/>
                </a:lnTo>
                <a:lnTo>
                  <a:pt x="378" y="1577"/>
                </a:lnTo>
                <a:lnTo>
                  <a:pt x="407" y="1612"/>
                </a:lnTo>
                <a:lnTo>
                  <a:pt x="438" y="1646"/>
                </a:lnTo>
                <a:lnTo>
                  <a:pt x="470" y="1681"/>
                </a:lnTo>
                <a:lnTo>
                  <a:pt x="503" y="1713"/>
                </a:lnTo>
                <a:lnTo>
                  <a:pt x="538" y="1746"/>
                </a:lnTo>
                <a:lnTo>
                  <a:pt x="574" y="1776"/>
                </a:lnTo>
                <a:lnTo>
                  <a:pt x="613" y="1806"/>
                </a:lnTo>
                <a:lnTo>
                  <a:pt x="653" y="1835"/>
                </a:lnTo>
                <a:lnTo>
                  <a:pt x="694" y="1863"/>
                </a:lnTo>
                <a:lnTo>
                  <a:pt x="738" y="1890"/>
                </a:lnTo>
                <a:lnTo>
                  <a:pt x="782" y="1915"/>
                </a:lnTo>
                <a:lnTo>
                  <a:pt x="829" y="1939"/>
                </a:lnTo>
                <a:lnTo>
                  <a:pt x="878" y="1962"/>
                </a:lnTo>
                <a:lnTo>
                  <a:pt x="928" y="1983"/>
                </a:lnTo>
                <a:lnTo>
                  <a:pt x="981" y="2002"/>
                </a:lnTo>
                <a:lnTo>
                  <a:pt x="1035" y="2020"/>
                </a:lnTo>
                <a:lnTo>
                  <a:pt x="1137" y="2053"/>
                </a:lnTo>
                <a:lnTo>
                  <a:pt x="1230" y="2080"/>
                </a:lnTo>
                <a:lnTo>
                  <a:pt x="1311" y="2105"/>
                </a:lnTo>
                <a:lnTo>
                  <a:pt x="1384" y="2125"/>
                </a:lnTo>
                <a:lnTo>
                  <a:pt x="1417" y="2164"/>
                </a:lnTo>
                <a:lnTo>
                  <a:pt x="1452" y="2203"/>
                </a:lnTo>
                <a:lnTo>
                  <a:pt x="1488" y="2241"/>
                </a:lnTo>
                <a:lnTo>
                  <a:pt x="1525" y="2275"/>
                </a:lnTo>
                <a:lnTo>
                  <a:pt x="1562" y="2309"/>
                </a:lnTo>
                <a:lnTo>
                  <a:pt x="1600" y="2340"/>
                </a:lnTo>
                <a:lnTo>
                  <a:pt x="1639" y="2370"/>
                </a:lnTo>
                <a:lnTo>
                  <a:pt x="1679" y="2398"/>
                </a:lnTo>
                <a:lnTo>
                  <a:pt x="1720" y="2424"/>
                </a:lnTo>
                <a:lnTo>
                  <a:pt x="1761" y="2449"/>
                </a:lnTo>
                <a:lnTo>
                  <a:pt x="1803" y="2471"/>
                </a:lnTo>
                <a:lnTo>
                  <a:pt x="1845" y="2490"/>
                </a:lnTo>
                <a:lnTo>
                  <a:pt x="1888" y="2508"/>
                </a:lnTo>
                <a:lnTo>
                  <a:pt x="1933" y="2525"/>
                </a:lnTo>
                <a:lnTo>
                  <a:pt x="1976" y="2538"/>
                </a:lnTo>
                <a:lnTo>
                  <a:pt x="2021" y="2549"/>
                </a:lnTo>
                <a:lnTo>
                  <a:pt x="2021" y="3864"/>
                </a:lnTo>
                <a:lnTo>
                  <a:pt x="1963" y="3868"/>
                </a:lnTo>
                <a:lnTo>
                  <a:pt x="1906" y="3873"/>
                </a:lnTo>
                <a:lnTo>
                  <a:pt x="1850" y="3880"/>
                </a:lnTo>
                <a:lnTo>
                  <a:pt x="1795" y="3887"/>
                </a:lnTo>
                <a:lnTo>
                  <a:pt x="1741" y="3895"/>
                </a:lnTo>
                <a:lnTo>
                  <a:pt x="1688" y="3904"/>
                </a:lnTo>
                <a:lnTo>
                  <a:pt x="1636" y="3915"/>
                </a:lnTo>
                <a:lnTo>
                  <a:pt x="1587" y="3926"/>
                </a:lnTo>
                <a:lnTo>
                  <a:pt x="1537" y="3939"/>
                </a:lnTo>
                <a:lnTo>
                  <a:pt x="1489" y="3951"/>
                </a:lnTo>
                <a:lnTo>
                  <a:pt x="1444" y="3965"/>
                </a:lnTo>
                <a:lnTo>
                  <a:pt x="1399" y="3980"/>
                </a:lnTo>
                <a:lnTo>
                  <a:pt x="1355" y="3995"/>
                </a:lnTo>
                <a:lnTo>
                  <a:pt x="1314" y="4012"/>
                </a:lnTo>
                <a:lnTo>
                  <a:pt x="1274" y="4029"/>
                </a:lnTo>
                <a:lnTo>
                  <a:pt x="1237" y="4046"/>
                </a:lnTo>
                <a:lnTo>
                  <a:pt x="1200" y="4065"/>
                </a:lnTo>
                <a:lnTo>
                  <a:pt x="1166" y="4085"/>
                </a:lnTo>
                <a:lnTo>
                  <a:pt x="1134" y="4104"/>
                </a:lnTo>
                <a:lnTo>
                  <a:pt x="1104" y="4124"/>
                </a:lnTo>
                <a:lnTo>
                  <a:pt x="1076" y="4146"/>
                </a:lnTo>
                <a:lnTo>
                  <a:pt x="1049" y="4167"/>
                </a:lnTo>
                <a:lnTo>
                  <a:pt x="1026" y="4189"/>
                </a:lnTo>
                <a:lnTo>
                  <a:pt x="1004" y="4211"/>
                </a:lnTo>
                <a:lnTo>
                  <a:pt x="984" y="4235"/>
                </a:lnTo>
                <a:lnTo>
                  <a:pt x="968" y="4259"/>
                </a:lnTo>
                <a:lnTo>
                  <a:pt x="953" y="4282"/>
                </a:lnTo>
                <a:lnTo>
                  <a:pt x="947" y="4295"/>
                </a:lnTo>
                <a:lnTo>
                  <a:pt x="941" y="4307"/>
                </a:lnTo>
                <a:lnTo>
                  <a:pt x="936" y="4320"/>
                </a:lnTo>
                <a:lnTo>
                  <a:pt x="931" y="4332"/>
                </a:lnTo>
                <a:lnTo>
                  <a:pt x="927" y="4344"/>
                </a:lnTo>
                <a:lnTo>
                  <a:pt x="924" y="4358"/>
                </a:lnTo>
                <a:lnTo>
                  <a:pt x="922" y="4370"/>
                </a:lnTo>
                <a:lnTo>
                  <a:pt x="920" y="4383"/>
                </a:lnTo>
                <a:lnTo>
                  <a:pt x="919" y="4396"/>
                </a:lnTo>
                <a:lnTo>
                  <a:pt x="919" y="4408"/>
                </a:lnTo>
                <a:lnTo>
                  <a:pt x="3491" y="4408"/>
                </a:lnTo>
                <a:lnTo>
                  <a:pt x="3491" y="4396"/>
                </a:lnTo>
                <a:lnTo>
                  <a:pt x="3490" y="4383"/>
                </a:lnTo>
                <a:lnTo>
                  <a:pt x="3488" y="4370"/>
                </a:lnTo>
                <a:lnTo>
                  <a:pt x="3486" y="4358"/>
                </a:lnTo>
                <a:lnTo>
                  <a:pt x="3482" y="4344"/>
                </a:lnTo>
                <a:lnTo>
                  <a:pt x="3478" y="4332"/>
                </a:lnTo>
                <a:lnTo>
                  <a:pt x="3474" y="4320"/>
                </a:lnTo>
                <a:lnTo>
                  <a:pt x="3469" y="4307"/>
                </a:lnTo>
                <a:lnTo>
                  <a:pt x="3463" y="4295"/>
                </a:lnTo>
                <a:lnTo>
                  <a:pt x="3457" y="4282"/>
                </a:lnTo>
                <a:lnTo>
                  <a:pt x="3443" y="4259"/>
                </a:lnTo>
                <a:lnTo>
                  <a:pt x="3426" y="4235"/>
                </a:lnTo>
                <a:lnTo>
                  <a:pt x="3406" y="4211"/>
                </a:lnTo>
                <a:lnTo>
                  <a:pt x="3384" y="4189"/>
                </a:lnTo>
                <a:lnTo>
                  <a:pt x="3361" y="4167"/>
                </a:lnTo>
                <a:lnTo>
                  <a:pt x="3334" y="4146"/>
                </a:lnTo>
                <a:lnTo>
                  <a:pt x="3306" y="4124"/>
                </a:lnTo>
                <a:lnTo>
                  <a:pt x="3276" y="4104"/>
                </a:lnTo>
                <a:lnTo>
                  <a:pt x="3244" y="4085"/>
                </a:lnTo>
                <a:lnTo>
                  <a:pt x="3210" y="4065"/>
                </a:lnTo>
                <a:lnTo>
                  <a:pt x="3173" y="4046"/>
                </a:lnTo>
                <a:lnTo>
                  <a:pt x="3136" y="4029"/>
                </a:lnTo>
                <a:lnTo>
                  <a:pt x="3096" y="4012"/>
                </a:lnTo>
                <a:lnTo>
                  <a:pt x="3054" y="3995"/>
                </a:lnTo>
                <a:lnTo>
                  <a:pt x="3011" y="3980"/>
                </a:lnTo>
                <a:lnTo>
                  <a:pt x="2966" y="3965"/>
                </a:lnTo>
                <a:lnTo>
                  <a:pt x="2921" y="3951"/>
                </a:lnTo>
                <a:lnTo>
                  <a:pt x="2873" y="3939"/>
                </a:lnTo>
                <a:lnTo>
                  <a:pt x="2823" y="3926"/>
                </a:lnTo>
                <a:lnTo>
                  <a:pt x="2773" y="3915"/>
                </a:lnTo>
                <a:lnTo>
                  <a:pt x="2722" y="3904"/>
                </a:lnTo>
                <a:lnTo>
                  <a:pt x="2669" y="3895"/>
                </a:lnTo>
                <a:lnTo>
                  <a:pt x="2615" y="3887"/>
                </a:lnTo>
                <a:lnTo>
                  <a:pt x="2559" y="3880"/>
                </a:lnTo>
                <a:lnTo>
                  <a:pt x="2504" y="3873"/>
                </a:lnTo>
                <a:lnTo>
                  <a:pt x="2447" y="3868"/>
                </a:lnTo>
                <a:lnTo>
                  <a:pt x="2389" y="3864"/>
                </a:lnTo>
                <a:lnTo>
                  <a:pt x="2389" y="2549"/>
                </a:lnTo>
                <a:lnTo>
                  <a:pt x="2434" y="2538"/>
                </a:lnTo>
                <a:lnTo>
                  <a:pt x="2477" y="2525"/>
                </a:lnTo>
                <a:lnTo>
                  <a:pt x="2521" y="2508"/>
                </a:lnTo>
                <a:lnTo>
                  <a:pt x="2565" y="2491"/>
                </a:lnTo>
                <a:lnTo>
                  <a:pt x="2607" y="2471"/>
                </a:lnTo>
                <a:lnTo>
                  <a:pt x="2649" y="2449"/>
                </a:lnTo>
                <a:lnTo>
                  <a:pt x="2689" y="2425"/>
                </a:lnTo>
                <a:lnTo>
                  <a:pt x="2730" y="2399"/>
                </a:lnTo>
                <a:lnTo>
                  <a:pt x="2769" y="2370"/>
                </a:lnTo>
                <a:lnTo>
                  <a:pt x="2809" y="2341"/>
                </a:lnTo>
                <a:lnTo>
                  <a:pt x="2846" y="2310"/>
                </a:lnTo>
                <a:lnTo>
                  <a:pt x="2884" y="2276"/>
                </a:lnTo>
                <a:lnTo>
                  <a:pt x="2921" y="2242"/>
                </a:lnTo>
                <a:lnTo>
                  <a:pt x="2956" y="2205"/>
                </a:lnTo>
                <a:lnTo>
                  <a:pt x="2992" y="2167"/>
                </a:lnTo>
                <a:lnTo>
                  <a:pt x="3025" y="2127"/>
                </a:lnTo>
                <a:close/>
                <a:moveTo>
                  <a:pt x="3491" y="791"/>
                </a:moveTo>
                <a:lnTo>
                  <a:pt x="3491" y="367"/>
                </a:lnTo>
                <a:lnTo>
                  <a:pt x="3786" y="367"/>
                </a:lnTo>
                <a:lnTo>
                  <a:pt x="4226" y="367"/>
                </a:lnTo>
                <a:lnTo>
                  <a:pt x="4226" y="403"/>
                </a:lnTo>
                <a:lnTo>
                  <a:pt x="4225" y="441"/>
                </a:lnTo>
                <a:lnTo>
                  <a:pt x="4223" y="482"/>
                </a:lnTo>
                <a:lnTo>
                  <a:pt x="4220" y="525"/>
                </a:lnTo>
                <a:lnTo>
                  <a:pt x="4216" y="570"/>
                </a:lnTo>
                <a:lnTo>
                  <a:pt x="4211" y="617"/>
                </a:lnTo>
                <a:lnTo>
                  <a:pt x="4205" y="665"/>
                </a:lnTo>
                <a:lnTo>
                  <a:pt x="4198" y="716"/>
                </a:lnTo>
                <a:lnTo>
                  <a:pt x="4188" y="767"/>
                </a:lnTo>
                <a:lnTo>
                  <a:pt x="4177" y="819"/>
                </a:lnTo>
                <a:lnTo>
                  <a:pt x="4165" y="873"/>
                </a:lnTo>
                <a:lnTo>
                  <a:pt x="4152" y="927"/>
                </a:lnTo>
                <a:lnTo>
                  <a:pt x="4136" y="982"/>
                </a:lnTo>
                <a:lnTo>
                  <a:pt x="4117" y="1037"/>
                </a:lnTo>
                <a:lnTo>
                  <a:pt x="4097" y="1091"/>
                </a:lnTo>
                <a:lnTo>
                  <a:pt x="4075" y="1146"/>
                </a:lnTo>
                <a:lnTo>
                  <a:pt x="4050" y="1201"/>
                </a:lnTo>
                <a:lnTo>
                  <a:pt x="4037" y="1227"/>
                </a:lnTo>
                <a:lnTo>
                  <a:pt x="4023" y="1255"/>
                </a:lnTo>
                <a:lnTo>
                  <a:pt x="4009" y="1281"/>
                </a:lnTo>
                <a:lnTo>
                  <a:pt x="3994" y="1307"/>
                </a:lnTo>
                <a:lnTo>
                  <a:pt x="3977" y="1334"/>
                </a:lnTo>
                <a:lnTo>
                  <a:pt x="3961" y="1360"/>
                </a:lnTo>
                <a:lnTo>
                  <a:pt x="3944" y="1385"/>
                </a:lnTo>
                <a:lnTo>
                  <a:pt x="3926" y="1412"/>
                </a:lnTo>
                <a:lnTo>
                  <a:pt x="3907" y="1436"/>
                </a:lnTo>
                <a:lnTo>
                  <a:pt x="3887" y="1462"/>
                </a:lnTo>
                <a:lnTo>
                  <a:pt x="3867" y="1486"/>
                </a:lnTo>
                <a:lnTo>
                  <a:pt x="3847" y="1510"/>
                </a:lnTo>
                <a:lnTo>
                  <a:pt x="3824" y="1534"/>
                </a:lnTo>
                <a:lnTo>
                  <a:pt x="3802" y="1557"/>
                </a:lnTo>
                <a:lnTo>
                  <a:pt x="3779" y="1579"/>
                </a:lnTo>
                <a:lnTo>
                  <a:pt x="3754" y="1602"/>
                </a:lnTo>
                <a:lnTo>
                  <a:pt x="3729" y="1623"/>
                </a:lnTo>
                <a:lnTo>
                  <a:pt x="3703" y="1644"/>
                </a:lnTo>
                <a:lnTo>
                  <a:pt x="3676" y="1664"/>
                </a:lnTo>
                <a:lnTo>
                  <a:pt x="3649" y="1685"/>
                </a:lnTo>
                <a:lnTo>
                  <a:pt x="3619" y="1704"/>
                </a:lnTo>
                <a:lnTo>
                  <a:pt x="3590" y="1722"/>
                </a:lnTo>
                <a:lnTo>
                  <a:pt x="3560" y="1740"/>
                </a:lnTo>
                <a:lnTo>
                  <a:pt x="3528" y="1758"/>
                </a:lnTo>
                <a:lnTo>
                  <a:pt x="3496" y="1775"/>
                </a:lnTo>
                <a:lnTo>
                  <a:pt x="3462" y="1790"/>
                </a:lnTo>
                <a:lnTo>
                  <a:pt x="3428" y="1805"/>
                </a:lnTo>
                <a:lnTo>
                  <a:pt x="3392" y="1820"/>
                </a:lnTo>
                <a:lnTo>
                  <a:pt x="3357" y="1833"/>
                </a:lnTo>
                <a:lnTo>
                  <a:pt x="3319" y="1846"/>
                </a:lnTo>
                <a:lnTo>
                  <a:pt x="3192" y="1886"/>
                </a:lnTo>
                <a:lnTo>
                  <a:pt x="3227" y="1825"/>
                </a:lnTo>
                <a:lnTo>
                  <a:pt x="3258" y="1763"/>
                </a:lnTo>
                <a:lnTo>
                  <a:pt x="3289" y="1700"/>
                </a:lnTo>
                <a:lnTo>
                  <a:pt x="3317" y="1635"/>
                </a:lnTo>
                <a:lnTo>
                  <a:pt x="3345" y="1569"/>
                </a:lnTo>
                <a:lnTo>
                  <a:pt x="3369" y="1501"/>
                </a:lnTo>
                <a:lnTo>
                  <a:pt x="3391" y="1433"/>
                </a:lnTo>
                <a:lnTo>
                  <a:pt x="3411" y="1364"/>
                </a:lnTo>
                <a:lnTo>
                  <a:pt x="3430" y="1294"/>
                </a:lnTo>
                <a:lnTo>
                  <a:pt x="3446" y="1223"/>
                </a:lnTo>
                <a:lnTo>
                  <a:pt x="3459" y="1152"/>
                </a:lnTo>
                <a:lnTo>
                  <a:pt x="3470" y="1080"/>
                </a:lnTo>
                <a:lnTo>
                  <a:pt x="3475" y="1044"/>
                </a:lnTo>
                <a:lnTo>
                  <a:pt x="3479" y="1008"/>
                </a:lnTo>
                <a:lnTo>
                  <a:pt x="3482" y="972"/>
                </a:lnTo>
                <a:lnTo>
                  <a:pt x="3486" y="936"/>
                </a:lnTo>
                <a:lnTo>
                  <a:pt x="3488" y="900"/>
                </a:lnTo>
                <a:lnTo>
                  <a:pt x="3490" y="863"/>
                </a:lnTo>
                <a:lnTo>
                  <a:pt x="3491" y="828"/>
                </a:lnTo>
                <a:lnTo>
                  <a:pt x="3491" y="791"/>
                </a:lnTo>
                <a:close/>
                <a:moveTo>
                  <a:pt x="1091" y="1846"/>
                </a:moveTo>
                <a:lnTo>
                  <a:pt x="1091" y="1846"/>
                </a:lnTo>
                <a:lnTo>
                  <a:pt x="1053" y="1833"/>
                </a:lnTo>
                <a:lnTo>
                  <a:pt x="1017" y="1820"/>
                </a:lnTo>
                <a:lnTo>
                  <a:pt x="981" y="1805"/>
                </a:lnTo>
                <a:lnTo>
                  <a:pt x="947" y="1791"/>
                </a:lnTo>
                <a:lnTo>
                  <a:pt x="913" y="1775"/>
                </a:lnTo>
                <a:lnTo>
                  <a:pt x="881" y="1759"/>
                </a:lnTo>
                <a:lnTo>
                  <a:pt x="849" y="1741"/>
                </a:lnTo>
                <a:lnTo>
                  <a:pt x="819" y="1723"/>
                </a:lnTo>
                <a:lnTo>
                  <a:pt x="789" y="1705"/>
                </a:lnTo>
                <a:lnTo>
                  <a:pt x="760" y="1686"/>
                </a:lnTo>
                <a:lnTo>
                  <a:pt x="733" y="1665"/>
                </a:lnTo>
                <a:lnTo>
                  <a:pt x="705" y="1645"/>
                </a:lnTo>
                <a:lnTo>
                  <a:pt x="680" y="1624"/>
                </a:lnTo>
                <a:lnTo>
                  <a:pt x="655" y="1603"/>
                </a:lnTo>
                <a:lnTo>
                  <a:pt x="630" y="1580"/>
                </a:lnTo>
                <a:lnTo>
                  <a:pt x="607" y="1558"/>
                </a:lnTo>
                <a:lnTo>
                  <a:pt x="585" y="1535"/>
                </a:lnTo>
                <a:lnTo>
                  <a:pt x="562" y="1511"/>
                </a:lnTo>
                <a:lnTo>
                  <a:pt x="541" y="1487"/>
                </a:lnTo>
                <a:lnTo>
                  <a:pt x="521" y="1463"/>
                </a:lnTo>
                <a:lnTo>
                  <a:pt x="501" y="1438"/>
                </a:lnTo>
                <a:lnTo>
                  <a:pt x="483" y="1413"/>
                </a:lnTo>
                <a:lnTo>
                  <a:pt x="465" y="1387"/>
                </a:lnTo>
                <a:lnTo>
                  <a:pt x="448" y="1361"/>
                </a:lnTo>
                <a:lnTo>
                  <a:pt x="431" y="1336"/>
                </a:lnTo>
                <a:lnTo>
                  <a:pt x="415" y="1309"/>
                </a:lnTo>
                <a:lnTo>
                  <a:pt x="400" y="1283"/>
                </a:lnTo>
                <a:lnTo>
                  <a:pt x="386" y="1256"/>
                </a:lnTo>
                <a:lnTo>
                  <a:pt x="372" y="1229"/>
                </a:lnTo>
                <a:lnTo>
                  <a:pt x="358" y="1202"/>
                </a:lnTo>
                <a:lnTo>
                  <a:pt x="334" y="1147"/>
                </a:lnTo>
                <a:lnTo>
                  <a:pt x="312" y="1092"/>
                </a:lnTo>
                <a:lnTo>
                  <a:pt x="291" y="1038"/>
                </a:lnTo>
                <a:lnTo>
                  <a:pt x="273" y="983"/>
                </a:lnTo>
                <a:lnTo>
                  <a:pt x="258" y="928"/>
                </a:lnTo>
                <a:lnTo>
                  <a:pt x="244" y="874"/>
                </a:lnTo>
                <a:lnTo>
                  <a:pt x="232" y="820"/>
                </a:lnTo>
                <a:lnTo>
                  <a:pt x="221" y="768"/>
                </a:lnTo>
                <a:lnTo>
                  <a:pt x="212" y="716"/>
                </a:lnTo>
                <a:lnTo>
                  <a:pt x="204" y="666"/>
                </a:lnTo>
                <a:lnTo>
                  <a:pt x="198" y="618"/>
                </a:lnTo>
                <a:lnTo>
                  <a:pt x="194" y="570"/>
                </a:lnTo>
                <a:lnTo>
                  <a:pt x="190" y="525"/>
                </a:lnTo>
                <a:lnTo>
                  <a:pt x="187" y="482"/>
                </a:lnTo>
                <a:lnTo>
                  <a:pt x="185" y="441"/>
                </a:lnTo>
                <a:lnTo>
                  <a:pt x="184" y="404"/>
                </a:lnTo>
                <a:lnTo>
                  <a:pt x="184" y="367"/>
                </a:lnTo>
                <a:lnTo>
                  <a:pt x="624" y="367"/>
                </a:lnTo>
                <a:lnTo>
                  <a:pt x="919" y="367"/>
                </a:lnTo>
                <a:lnTo>
                  <a:pt x="919" y="791"/>
                </a:lnTo>
                <a:lnTo>
                  <a:pt x="919" y="828"/>
                </a:lnTo>
                <a:lnTo>
                  <a:pt x="920" y="863"/>
                </a:lnTo>
                <a:lnTo>
                  <a:pt x="922" y="900"/>
                </a:lnTo>
                <a:lnTo>
                  <a:pt x="924" y="936"/>
                </a:lnTo>
                <a:lnTo>
                  <a:pt x="927" y="972"/>
                </a:lnTo>
                <a:lnTo>
                  <a:pt x="930" y="1008"/>
                </a:lnTo>
                <a:lnTo>
                  <a:pt x="935" y="1044"/>
                </a:lnTo>
                <a:lnTo>
                  <a:pt x="940" y="1080"/>
                </a:lnTo>
                <a:lnTo>
                  <a:pt x="951" y="1151"/>
                </a:lnTo>
                <a:lnTo>
                  <a:pt x="964" y="1223"/>
                </a:lnTo>
                <a:lnTo>
                  <a:pt x="980" y="1293"/>
                </a:lnTo>
                <a:lnTo>
                  <a:pt x="998" y="1363"/>
                </a:lnTo>
                <a:lnTo>
                  <a:pt x="1019" y="1432"/>
                </a:lnTo>
                <a:lnTo>
                  <a:pt x="1041" y="1501"/>
                </a:lnTo>
                <a:lnTo>
                  <a:pt x="1065" y="1568"/>
                </a:lnTo>
                <a:lnTo>
                  <a:pt x="1092" y="1634"/>
                </a:lnTo>
                <a:lnTo>
                  <a:pt x="1120" y="1699"/>
                </a:lnTo>
                <a:lnTo>
                  <a:pt x="1151" y="1763"/>
                </a:lnTo>
                <a:lnTo>
                  <a:pt x="1183" y="1825"/>
                </a:lnTo>
                <a:lnTo>
                  <a:pt x="1217" y="1885"/>
                </a:lnTo>
                <a:lnTo>
                  <a:pt x="1091" y="1846"/>
                </a:lnTo>
                <a:close/>
                <a:moveTo>
                  <a:pt x="2205" y="1626"/>
                </a:moveTo>
                <a:lnTo>
                  <a:pt x="1637" y="2020"/>
                </a:lnTo>
                <a:lnTo>
                  <a:pt x="1837" y="1359"/>
                </a:lnTo>
                <a:lnTo>
                  <a:pt x="1287" y="940"/>
                </a:lnTo>
                <a:lnTo>
                  <a:pt x="1978" y="927"/>
                </a:lnTo>
                <a:lnTo>
                  <a:pt x="2205" y="274"/>
                </a:lnTo>
                <a:lnTo>
                  <a:pt x="2433" y="927"/>
                </a:lnTo>
                <a:lnTo>
                  <a:pt x="3123" y="940"/>
                </a:lnTo>
                <a:lnTo>
                  <a:pt x="2573" y="1359"/>
                </a:lnTo>
                <a:lnTo>
                  <a:pt x="2772" y="2020"/>
                </a:lnTo>
                <a:lnTo>
                  <a:pt x="2205" y="1626"/>
                </a:lnTo>
                <a:close/>
              </a:path>
            </a:pathLst>
          </a:custGeom>
          <a:solidFill>
            <a:schemeClr val="tx1">
              <a:lumMod val="65000"/>
              <a:lumOff val="35000"/>
            </a:schemeClr>
          </a:solidFill>
          <a:ln w="0">
            <a:noFill/>
          </a:ln>
        </p:spPr>
        <p:style>
          <a:lnRef idx="0"/>
          <a:fillRef idx="0"/>
          <a:effectRef idx="0"/>
          <a:fontRef idx="minor"/>
        </p:style>
        <p:txBody>
          <a:bodyPr lIns="90000" rIns="90000" tIns="45000" bIns="45000" anchor="ctr">
            <a:noAutofit/>
            <a:scene3d>
              <a:camera prst="orthographicFront"/>
              <a:lightRig dir="t" rig="threePt"/>
            </a:scene3d>
            <a:sp3d>
              <a:contourClr>
                <a:srgbClr val="ffffff"/>
              </a:contourClr>
            </a:sp3d>
          </a:bodyPr>
          <a:p>
            <a:pPr algn="ctr">
              <a:lnSpc>
                <a:spcPct val="100000"/>
              </a:lnSpc>
            </a:pPr>
            <a:endParaRPr b="0" lang="en-US" sz="1800" spc="-1" strike="noStrike">
              <a:solidFill>
                <a:srgbClr val="ffffff"/>
              </a:solidFill>
              <a:latin typeface="Calibri"/>
            </a:endParaRPr>
          </a:p>
        </p:txBody>
      </p:sp>
      <p:sp>
        <p:nvSpPr>
          <p:cNvPr id="219" name="文本框 36"/>
          <p:cNvSpPr/>
          <p:nvPr/>
        </p:nvSpPr>
        <p:spPr>
          <a:xfrm>
            <a:off x="2659680" y="1593720"/>
            <a:ext cx="20494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404040"/>
                </a:solidFill>
                <a:latin typeface="微软雅黑"/>
                <a:ea typeface="微软雅黑"/>
              </a:rPr>
              <a:t>Custom feedback</a:t>
            </a:r>
            <a:endParaRPr b="0" lang="en-US" sz="1800" spc="-1" strike="noStrike">
              <a:solidFill>
                <a:srgbClr val="000000"/>
              </a:solidFill>
              <a:latin typeface="Arial"/>
            </a:endParaRPr>
          </a:p>
        </p:txBody>
      </p:sp>
      <p:grpSp>
        <p:nvGrpSpPr>
          <p:cNvPr id="220" name="组合 8"/>
          <p:cNvGrpSpPr/>
          <p:nvPr/>
        </p:nvGrpSpPr>
        <p:grpSpPr>
          <a:xfrm>
            <a:off x="2728800" y="1996920"/>
            <a:ext cx="1474200" cy="239400"/>
            <a:chOff x="2728800" y="1996920"/>
            <a:chExt cx="1474200" cy="239400"/>
          </a:xfrm>
        </p:grpSpPr>
        <p:sp>
          <p:nvSpPr>
            <p:cNvPr id="221" name="五角星 3"/>
            <p:cNvSpPr/>
            <p:nvPr/>
          </p:nvSpPr>
          <p:spPr>
            <a:xfrm>
              <a:off x="2728800" y="1996920"/>
              <a:ext cx="239400" cy="239400"/>
            </a:xfrm>
            <a:prstGeom prst="star5">
              <a:avLst>
                <a:gd name="adj" fmla="val 19098"/>
                <a:gd name="hf" fmla="val 105146"/>
                <a:gd name="vf" fmla="val 110557"/>
              </a:avLst>
            </a:prstGeom>
            <a:solidFill>
              <a:schemeClr val="tx1">
                <a:lumMod val="65000"/>
                <a:lumOff val="3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2" name="五角星 37"/>
            <p:cNvSpPr/>
            <p:nvPr/>
          </p:nvSpPr>
          <p:spPr>
            <a:xfrm>
              <a:off x="3037680" y="1996920"/>
              <a:ext cx="239400" cy="239400"/>
            </a:xfrm>
            <a:prstGeom prst="star5">
              <a:avLst>
                <a:gd name="adj" fmla="val 19098"/>
                <a:gd name="hf" fmla="val 105146"/>
                <a:gd name="vf" fmla="val 110557"/>
              </a:avLst>
            </a:prstGeom>
            <a:solidFill>
              <a:schemeClr val="tx1">
                <a:lumMod val="65000"/>
                <a:lumOff val="3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3" name="五角星 38"/>
            <p:cNvSpPr/>
            <p:nvPr/>
          </p:nvSpPr>
          <p:spPr>
            <a:xfrm>
              <a:off x="3346560" y="1996920"/>
              <a:ext cx="239400" cy="239400"/>
            </a:xfrm>
            <a:prstGeom prst="star5">
              <a:avLst>
                <a:gd name="adj" fmla="val 19098"/>
                <a:gd name="hf" fmla="val 105146"/>
                <a:gd name="vf" fmla="val 110557"/>
              </a:avLst>
            </a:prstGeom>
            <a:solidFill>
              <a:schemeClr val="tx1">
                <a:lumMod val="65000"/>
                <a:lumOff val="3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4" name="五角星 39"/>
            <p:cNvSpPr/>
            <p:nvPr/>
          </p:nvSpPr>
          <p:spPr>
            <a:xfrm>
              <a:off x="3655800" y="1996920"/>
              <a:ext cx="239400" cy="239400"/>
            </a:xfrm>
            <a:prstGeom prst="star5">
              <a:avLst>
                <a:gd name="adj" fmla="val 19098"/>
                <a:gd name="hf" fmla="val 105146"/>
                <a:gd name="vf" fmla="val 110557"/>
              </a:avLst>
            </a:prstGeom>
            <a:solidFill>
              <a:schemeClr val="tx1">
                <a:lumMod val="65000"/>
                <a:lumOff val="3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5" name="五角星 40"/>
            <p:cNvSpPr/>
            <p:nvPr/>
          </p:nvSpPr>
          <p:spPr>
            <a:xfrm>
              <a:off x="3963600" y="1996920"/>
              <a:ext cx="239400" cy="239400"/>
            </a:xfrm>
            <a:prstGeom prst="star5">
              <a:avLst>
                <a:gd name="adj" fmla="val 19098"/>
                <a:gd name="hf" fmla="val 105146"/>
                <a:gd name="vf" fmla="val 110557"/>
              </a:avLst>
            </a:pr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6" name="任意多边形 42"/>
            <p:cNvSpPr/>
            <p:nvPr/>
          </p:nvSpPr>
          <p:spPr>
            <a:xfrm>
              <a:off x="3771360" y="1996920"/>
              <a:ext cx="119520" cy="239400"/>
            </a:xfrm>
            <a:custGeom>
              <a:avLst/>
              <a:gdLst>
                <a:gd name="textAreaLeft" fmla="*/ 0 w 119520"/>
                <a:gd name="textAreaRight" fmla="*/ 119880 w 119520"/>
                <a:gd name="textAreaTop" fmla="*/ 0 h 239400"/>
                <a:gd name="textAreaBottom" fmla="*/ 239760 h 239400"/>
              </a:gdLst>
              <a:ahLst/>
              <a:rect l="textAreaLeft" t="textAreaTop" r="textAreaRight" b="textAreaBottom"/>
              <a:pathLst>
                <a:path w="240631" h="481262">
                  <a:moveTo>
                    <a:pt x="1" y="0"/>
                  </a:moveTo>
                  <a:lnTo>
                    <a:pt x="56805" y="183827"/>
                  </a:lnTo>
                  <a:lnTo>
                    <a:pt x="240631" y="183826"/>
                  </a:lnTo>
                  <a:lnTo>
                    <a:pt x="91912" y="297436"/>
                  </a:lnTo>
                  <a:lnTo>
                    <a:pt x="148719" y="481262"/>
                  </a:lnTo>
                  <a:lnTo>
                    <a:pt x="1" y="367650"/>
                  </a:lnTo>
                  <a:lnTo>
                    <a:pt x="0" y="367651"/>
                  </a:lnTo>
                  <a:lnTo>
                    <a:pt x="0" y="3"/>
                  </a:lnTo>
                  <a:close/>
                </a:path>
              </a:pathLst>
            </a:custGeom>
            <a:solidFill>
              <a:schemeClr val="bg1">
                <a:lumMod val="6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27" name="文本框 10"/>
          <p:cNvSpPr/>
          <p:nvPr/>
        </p:nvSpPr>
        <p:spPr>
          <a:xfrm>
            <a:off x="4289760" y="1978920"/>
            <a:ext cx="43272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000000"/>
                </a:solidFill>
                <a:latin typeface="微软雅黑"/>
                <a:ea typeface="微软雅黑"/>
              </a:rPr>
              <a:t>4.5</a:t>
            </a:r>
            <a:endParaRPr b="0" lang="en-US" sz="1400" spc="-1" strike="noStrike">
              <a:solidFill>
                <a:srgbClr val="000000"/>
              </a:solidFill>
              <a:latin typeface="Arial"/>
            </a:endParaRPr>
          </a:p>
        </p:txBody>
      </p:sp>
      <p:sp>
        <p:nvSpPr>
          <p:cNvPr id="228" name="文本框 43"/>
          <p:cNvSpPr/>
          <p:nvPr/>
        </p:nvSpPr>
        <p:spPr>
          <a:xfrm>
            <a:off x="7648560" y="1729440"/>
            <a:ext cx="2355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404040"/>
                </a:solidFill>
                <a:latin typeface="微软雅黑"/>
                <a:ea typeface="微软雅黑"/>
              </a:rPr>
              <a:t>Super Program</a:t>
            </a:r>
            <a:endParaRPr b="0" lang="en-US" sz="2400" spc="-1" strike="noStrike">
              <a:solidFill>
                <a:srgbClr val="000000"/>
              </a:solidFill>
              <a:latin typeface="Arial"/>
            </a:endParaRPr>
          </a:p>
        </p:txBody>
      </p:sp>
      <p:sp>
        <p:nvSpPr>
          <p:cNvPr id="229" name="矩形 44"/>
          <p:cNvSpPr/>
          <p:nvPr/>
        </p:nvSpPr>
        <p:spPr>
          <a:xfrm>
            <a:off x="7323120" y="2304360"/>
            <a:ext cx="3007080" cy="942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808080"/>
                </a:solidFill>
                <a:latin typeface="微软雅黑"/>
                <a:ea typeface="微软雅黑"/>
              </a:rPr>
              <a:t>Human Resources planning is based on the concept that people are the most important strategic resources of an organization. </a:t>
            </a:r>
            <a:endParaRPr b="0" lang="en-US" sz="1400" spc="-1" strike="noStrike">
              <a:solidFill>
                <a:srgbClr val="000000"/>
              </a:solidFill>
              <a:latin typeface="Arial"/>
            </a:endParaRPr>
          </a:p>
        </p:txBody>
      </p:sp>
      <p:sp>
        <p:nvSpPr>
          <p:cNvPr id="230" name="KSO_Shape"/>
          <p:cNvSpPr/>
          <p:nvPr/>
        </p:nvSpPr>
        <p:spPr>
          <a:xfrm>
            <a:off x="6208560" y="2064600"/>
            <a:ext cx="1018800" cy="1164240"/>
          </a:xfrm>
          <a:custGeom>
            <a:avLst/>
            <a:gdLst>
              <a:gd name="textAreaLeft" fmla="*/ 0 w 1018800"/>
              <a:gd name="textAreaRight" fmla="*/ 1019160 w 1018800"/>
              <a:gd name="textAreaTop" fmla="*/ 0 h 1164240"/>
              <a:gd name="textAreaBottom" fmla="*/ 1164600 h 1164240"/>
            </a:gdLst>
            <a:ahLst/>
            <a:rect l="textAreaLeft" t="textAreaTop" r="textAreaRight" b="textAreaBottom"/>
            <a:pathLst>
              <a:path w="1166813" h="1333500">
                <a:moveTo>
                  <a:pt x="631825" y="895350"/>
                </a:moveTo>
                <a:lnTo>
                  <a:pt x="1166813" y="895350"/>
                </a:lnTo>
                <a:lnTo>
                  <a:pt x="1166813" y="1236222"/>
                </a:lnTo>
                <a:lnTo>
                  <a:pt x="1166813" y="1240993"/>
                </a:lnTo>
                <a:lnTo>
                  <a:pt x="1166283" y="1246294"/>
                </a:lnTo>
                <a:lnTo>
                  <a:pt x="1165754" y="1251065"/>
                </a:lnTo>
                <a:lnTo>
                  <a:pt x="1164959" y="1255571"/>
                </a:lnTo>
                <a:lnTo>
                  <a:pt x="1163900" y="1260343"/>
                </a:lnTo>
                <a:lnTo>
                  <a:pt x="1162576" y="1265114"/>
                </a:lnTo>
                <a:lnTo>
                  <a:pt x="1160987" y="1269620"/>
                </a:lnTo>
                <a:lnTo>
                  <a:pt x="1159397" y="1273861"/>
                </a:lnTo>
                <a:lnTo>
                  <a:pt x="1157279" y="1278102"/>
                </a:lnTo>
                <a:lnTo>
                  <a:pt x="1155160" y="1282608"/>
                </a:lnTo>
                <a:lnTo>
                  <a:pt x="1152776" y="1286584"/>
                </a:lnTo>
                <a:lnTo>
                  <a:pt x="1150128" y="1290560"/>
                </a:lnTo>
                <a:lnTo>
                  <a:pt x="1147479" y="1294271"/>
                </a:lnTo>
                <a:lnTo>
                  <a:pt x="1144566" y="1297982"/>
                </a:lnTo>
                <a:lnTo>
                  <a:pt x="1141653" y="1301692"/>
                </a:lnTo>
                <a:lnTo>
                  <a:pt x="1138475" y="1305138"/>
                </a:lnTo>
                <a:lnTo>
                  <a:pt x="1135032" y="1308319"/>
                </a:lnTo>
                <a:lnTo>
                  <a:pt x="1131324" y="1311235"/>
                </a:lnTo>
                <a:lnTo>
                  <a:pt x="1127616" y="1314150"/>
                </a:lnTo>
                <a:lnTo>
                  <a:pt x="1123908" y="1316801"/>
                </a:lnTo>
                <a:lnTo>
                  <a:pt x="1120200" y="1319452"/>
                </a:lnTo>
                <a:lnTo>
                  <a:pt x="1115698" y="1321837"/>
                </a:lnTo>
                <a:lnTo>
                  <a:pt x="1111725" y="1323958"/>
                </a:lnTo>
                <a:lnTo>
                  <a:pt x="1107488" y="1325813"/>
                </a:lnTo>
                <a:lnTo>
                  <a:pt x="1102985" y="1327669"/>
                </a:lnTo>
                <a:lnTo>
                  <a:pt x="1098483" y="1329259"/>
                </a:lnTo>
                <a:lnTo>
                  <a:pt x="1093716" y="1330319"/>
                </a:lnTo>
                <a:lnTo>
                  <a:pt x="1089213" y="1331645"/>
                </a:lnTo>
                <a:lnTo>
                  <a:pt x="1084446" y="1332440"/>
                </a:lnTo>
                <a:lnTo>
                  <a:pt x="1079679" y="1332970"/>
                </a:lnTo>
                <a:lnTo>
                  <a:pt x="1074647" y="1333235"/>
                </a:lnTo>
                <a:lnTo>
                  <a:pt x="1069615" y="1333500"/>
                </a:lnTo>
                <a:lnTo>
                  <a:pt x="631825" y="1333500"/>
                </a:lnTo>
                <a:lnTo>
                  <a:pt x="631825" y="895350"/>
                </a:lnTo>
                <a:close/>
                <a:moveTo>
                  <a:pt x="0" y="895350"/>
                </a:moveTo>
                <a:lnTo>
                  <a:pt x="534988" y="895350"/>
                </a:lnTo>
                <a:lnTo>
                  <a:pt x="534988" y="1333500"/>
                </a:lnTo>
                <a:lnTo>
                  <a:pt x="97150" y="1333500"/>
                </a:lnTo>
                <a:lnTo>
                  <a:pt x="92385" y="1333235"/>
                </a:lnTo>
                <a:lnTo>
                  <a:pt x="87356" y="1332970"/>
                </a:lnTo>
                <a:lnTo>
                  <a:pt x="82326" y="1332440"/>
                </a:lnTo>
                <a:lnTo>
                  <a:pt x="77561" y="1331645"/>
                </a:lnTo>
                <a:lnTo>
                  <a:pt x="73061" y="1330319"/>
                </a:lnTo>
                <a:lnTo>
                  <a:pt x="68561" y="1329259"/>
                </a:lnTo>
                <a:lnTo>
                  <a:pt x="63796" y="1327669"/>
                </a:lnTo>
                <a:lnTo>
                  <a:pt x="59561" y="1325813"/>
                </a:lnTo>
                <a:lnTo>
                  <a:pt x="55325" y="1323958"/>
                </a:lnTo>
                <a:lnTo>
                  <a:pt x="51090" y="1321837"/>
                </a:lnTo>
                <a:lnTo>
                  <a:pt x="47119" y="1319452"/>
                </a:lnTo>
                <a:lnTo>
                  <a:pt x="42884" y="1316801"/>
                </a:lnTo>
                <a:lnTo>
                  <a:pt x="39178" y="1314150"/>
                </a:lnTo>
                <a:lnTo>
                  <a:pt x="35472" y="1311235"/>
                </a:lnTo>
                <a:lnTo>
                  <a:pt x="32030" y="1308319"/>
                </a:lnTo>
                <a:lnTo>
                  <a:pt x="28589" y="1305138"/>
                </a:lnTo>
                <a:lnTo>
                  <a:pt x="25148" y="1301692"/>
                </a:lnTo>
                <a:lnTo>
                  <a:pt x="22236" y="1297982"/>
                </a:lnTo>
                <a:lnTo>
                  <a:pt x="19324" y="1294271"/>
                </a:lnTo>
                <a:lnTo>
                  <a:pt x="16677" y="1290560"/>
                </a:lnTo>
                <a:lnTo>
                  <a:pt x="14294" y="1286584"/>
                </a:lnTo>
                <a:lnTo>
                  <a:pt x="11912" y="1282608"/>
                </a:lnTo>
                <a:lnTo>
                  <a:pt x="9794" y="1278102"/>
                </a:lnTo>
                <a:lnTo>
                  <a:pt x="7677" y="1273861"/>
                </a:lnTo>
                <a:lnTo>
                  <a:pt x="5824" y="1269620"/>
                </a:lnTo>
                <a:lnTo>
                  <a:pt x="4235" y="1265114"/>
                </a:lnTo>
                <a:lnTo>
                  <a:pt x="3176" y="1260343"/>
                </a:lnTo>
                <a:lnTo>
                  <a:pt x="1853" y="1255571"/>
                </a:lnTo>
                <a:lnTo>
                  <a:pt x="1059" y="1251065"/>
                </a:lnTo>
                <a:lnTo>
                  <a:pt x="529" y="1246294"/>
                </a:lnTo>
                <a:lnTo>
                  <a:pt x="265" y="1240993"/>
                </a:lnTo>
                <a:lnTo>
                  <a:pt x="0" y="1236222"/>
                </a:lnTo>
                <a:lnTo>
                  <a:pt x="0" y="895350"/>
                </a:lnTo>
                <a:close/>
                <a:moveTo>
                  <a:pt x="835990" y="99018"/>
                </a:moveTo>
                <a:lnTo>
                  <a:pt x="828842" y="99283"/>
                </a:lnTo>
                <a:lnTo>
                  <a:pt x="821958" y="99812"/>
                </a:lnTo>
                <a:lnTo>
                  <a:pt x="814810" y="100871"/>
                </a:lnTo>
                <a:lnTo>
                  <a:pt x="807398" y="102460"/>
                </a:lnTo>
                <a:lnTo>
                  <a:pt x="800250" y="104313"/>
                </a:lnTo>
                <a:lnTo>
                  <a:pt x="793101" y="106431"/>
                </a:lnTo>
                <a:lnTo>
                  <a:pt x="785953" y="109079"/>
                </a:lnTo>
                <a:lnTo>
                  <a:pt x="778805" y="111991"/>
                </a:lnTo>
                <a:lnTo>
                  <a:pt x="771657" y="115168"/>
                </a:lnTo>
                <a:lnTo>
                  <a:pt x="764774" y="118610"/>
                </a:lnTo>
                <a:lnTo>
                  <a:pt x="757626" y="122846"/>
                </a:lnTo>
                <a:lnTo>
                  <a:pt x="751007" y="127082"/>
                </a:lnTo>
                <a:lnTo>
                  <a:pt x="744389" y="131583"/>
                </a:lnTo>
                <a:lnTo>
                  <a:pt x="737505" y="136349"/>
                </a:lnTo>
                <a:lnTo>
                  <a:pt x="731416" y="141644"/>
                </a:lnTo>
                <a:lnTo>
                  <a:pt x="725327" y="147204"/>
                </a:lnTo>
                <a:lnTo>
                  <a:pt x="719503" y="152499"/>
                </a:lnTo>
                <a:lnTo>
                  <a:pt x="714473" y="157794"/>
                </a:lnTo>
                <a:lnTo>
                  <a:pt x="709443" y="163618"/>
                </a:lnTo>
                <a:lnTo>
                  <a:pt x="704413" y="169178"/>
                </a:lnTo>
                <a:lnTo>
                  <a:pt x="699647" y="175003"/>
                </a:lnTo>
                <a:lnTo>
                  <a:pt x="695411" y="181092"/>
                </a:lnTo>
                <a:lnTo>
                  <a:pt x="691175" y="187181"/>
                </a:lnTo>
                <a:lnTo>
                  <a:pt x="687204" y="193006"/>
                </a:lnTo>
                <a:lnTo>
                  <a:pt x="683498" y="199360"/>
                </a:lnTo>
                <a:lnTo>
                  <a:pt x="679791" y="205449"/>
                </a:lnTo>
                <a:lnTo>
                  <a:pt x="676615" y="211274"/>
                </a:lnTo>
                <a:lnTo>
                  <a:pt x="673438" y="217628"/>
                </a:lnTo>
                <a:lnTo>
                  <a:pt x="670525" y="223453"/>
                </a:lnTo>
                <a:lnTo>
                  <a:pt x="667878" y="229277"/>
                </a:lnTo>
                <a:lnTo>
                  <a:pt x="663113" y="241191"/>
                </a:lnTo>
                <a:lnTo>
                  <a:pt x="659142" y="252576"/>
                </a:lnTo>
                <a:lnTo>
                  <a:pt x="655965" y="263166"/>
                </a:lnTo>
                <a:lnTo>
                  <a:pt x="653847" y="273227"/>
                </a:lnTo>
                <a:lnTo>
                  <a:pt x="652258" y="282228"/>
                </a:lnTo>
                <a:lnTo>
                  <a:pt x="651729" y="286464"/>
                </a:lnTo>
                <a:lnTo>
                  <a:pt x="651464" y="290436"/>
                </a:lnTo>
                <a:lnTo>
                  <a:pt x="651464" y="294142"/>
                </a:lnTo>
                <a:lnTo>
                  <a:pt x="651464" y="297584"/>
                </a:lnTo>
                <a:lnTo>
                  <a:pt x="651729" y="300496"/>
                </a:lnTo>
                <a:lnTo>
                  <a:pt x="652258" y="303144"/>
                </a:lnTo>
                <a:lnTo>
                  <a:pt x="652788" y="305527"/>
                </a:lnTo>
                <a:lnTo>
                  <a:pt x="653582" y="307645"/>
                </a:lnTo>
                <a:lnTo>
                  <a:pt x="655700" y="307909"/>
                </a:lnTo>
                <a:lnTo>
                  <a:pt x="659936" y="309233"/>
                </a:lnTo>
                <a:lnTo>
                  <a:pt x="663113" y="309498"/>
                </a:lnTo>
                <a:lnTo>
                  <a:pt x="667084" y="310027"/>
                </a:lnTo>
                <a:lnTo>
                  <a:pt x="671584" y="310292"/>
                </a:lnTo>
                <a:lnTo>
                  <a:pt x="676879" y="310557"/>
                </a:lnTo>
                <a:lnTo>
                  <a:pt x="681645" y="310292"/>
                </a:lnTo>
                <a:lnTo>
                  <a:pt x="686940" y="310027"/>
                </a:lnTo>
                <a:lnTo>
                  <a:pt x="697000" y="308968"/>
                </a:lnTo>
                <a:lnTo>
                  <a:pt x="707854" y="307115"/>
                </a:lnTo>
                <a:lnTo>
                  <a:pt x="718709" y="304732"/>
                </a:lnTo>
                <a:lnTo>
                  <a:pt x="729828" y="302085"/>
                </a:lnTo>
                <a:lnTo>
                  <a:pt x="741212" y="298378"/>
                </a:lnTo>
                <a:lnTo>
                  <a:pt x="752331" y="294407"/>
                </a:lnTo>
                <a:lnTo>
                  <a:pt x="763715" y="290171"/>
                </a:lnTo>
                <a:lnTo>
                  <a:pt x="774834" y="284876"/>
                </a:lnTo>
                <a:lnTo>
                  <a:pt x="785953" y="279316"/>
                </a:lnTo>
                <a:lnTo>
                  <a:pt x="796808" y="273756"/>
                </a:lnTo>
                <a:lnTo>
                  <a:pt x="807133" y="267137"/>
                </a:lnTo>
                <a:lnTo>
                  <a:pt x="817193" y="260783"/>
                </a:lnTo>
                <a:lnTo>
                  <a:pt x="826724" y="253900"/>
                </a:lnTo>
                <a:lnTo>
                  <a:pt x="835990" y="246486"/>
                </a:lnTo>
                <a:lnTo>
                  <a:pt x="844462" y="239073"/>
                </a:lnTo>
                <a:lnTo>
                  <a:pt x="850815" y="232454"/>
                </a:lnTo>
                <a:lnTo>
                  <a:pt x="856905" y="226365"/>
                </a:lnTo>
                <a:lnTo>
                  <a:pt x="862199" y="220011"/>
                </a:lnTo>
                <a:lnTo>
                  <a:pt x="866965" y="213392"/>
                </a:lnTo>
                <a:lnTo>
                  <a:pt x="871730" y="207303"/>
                </a:lnTo>
                <a:lnTo>
                  <a:pt x="875437" y="200949"/>
                </a:lnTo>
                <a:lnTo>
                  <a:pt x="878878" y="194595"/>
                </a:lnTo>
                <a:lnTo>
                  <a:pt x="882055" y="188505"/>
                </a:lnTo>
                <a:lnTo>
                  <a:pt x="884703" y="182416"/>
                </a:lnTo>
                <a:lnTo>
                  <a:pt x="886820" y="176326"/>
                </a:lnTo>
                <a:lnTo>
                  <a:pt x="888674" y="170767"/>
                </a:lnTo>
                <a:lnTo>
                  <a:pt x="890527" y="165207"/>
                </a:lnTo>
                <a:lnTo>
                  <a:pt x="891586" y="159912"/>
                </a:lnTo>
                <a:lnTo>
                  <a:pt x="892380" y="154617"/>
                </a:lnTo>
                <a:lnTo>
                  <a:pt x="892645" y="149851"/>
                </a:lnTo>
                <a:lnTo>
                  <a:pt x="892910" y="145350"/>
                </a:lnTo>
                <a:lnTo>
                  <a:pt x="892910" y="141644"/>
                </a:lnTo>
                <a:lnTo>
                  <a:pt x="892645" y="137937"/>
                </a:lnTo>
                <a:lnTo>
                  <a:pt x="892115" y="134760"/>
                </a:lnTo>
                <a:lnTo>
                  <a:pt x="891586" y="131848"/>
                </a:lnTo>
                <a:lnTo>
                  <a:pt x="890792" y="129200"/>
                </a:lnTo>
                <a:lnTo>
                  <a:pt x="889997" y="126817"/>
                </a:lnTo>
                <a:lnTo>
                  <a:pt x="887879" y="122581"/>
                </a:lnTo>
                <a:lnTo>
                  <a:pt x="885761" y="119140"/>
                </a:lnTo>
                <a:lnTo>
                  <a:pt x="883908" y="116492"/>
                </a:lnTo>
                <a:lnTo>
                  <a:pt x="882055" y="114639"/>
                </a:lnTo>
                <a:lnTo>
                  <a:pt x="880731" y="113315"/>
                </a:lnTo>
                <a:lnTo>
                  <a:pt x="878349" y="111197"/>
                </a:lnTo>
                <a:lnTo>
                  <a:pt x="875701" y="109079"/>
                </a:lnTo>
                <a:lnTo>
                  <a:pt x="872789" y="107490"/>
                </a:lnTo>
                <a:lnTo>
                  <a:pt x="869612" y="105902"/>
                </a:lnTo>
                <a:lnTo>
                  <a:pt x="866700" y="104578"/>
                </a:lnTo>
                <a:lnTo>
                  <a:pt x="863788" y="103519"/>
                </a:lnTo>
                <a:lnTo>
                  <a:pt x="857699" y="101401"/>
                </a:lnTo>
                <a:lnTo>
                  <a:pt x="851345" y="100342"/>
                </a:lnTo>
                <a:lnTo>
                  <a:pt x="845785" y="99548"/>
                </a:lnTo>
                <a:lnTo>
                  <a:pt x="840490" y="99283"/>
                </a:lnTo>
                <a:lnTo>
                  <a:pt x="835990" y="99018"/>
                </a:lnTo>
                <a:close/>
                <a:moveTo>
                  <a:pt x="329235" y="99018"/>
                </a:moveTo>
                <a:lnTo>
                  <a:pt x="324470" y="99283"/>
                </a:lnTo>
                <a:lnTo>
                  <a:pt x="319175" y="99548"/>
                </a:lnTo>
                <a:lnTo>
                  <a:pt x="313615" y="100342"/>
                </a:lnTo>
                <a:lnTo>
                  <a:pt x="307262" y="101401"/>
                </a:lnTo>
                <a:lnTo>
                  <a:pt x="301437" y="103519"/>
                </a:lnTo>
                <a:lnTo>
                  <a:pt x="298260" y="104578"/>
                </a:lnTo>
                <a:lnTo>
                  <a:pt x="295348" y="105902"/>
                </a:lnTo>
                <a:lnTo>
                  <a:pt x="292436" y="107490"/>
                </a:lnTo>
                <a:lnTo>
                  <a:pt x="289789" y="109079"/>
                </a:lnTo>
                <a:lnTo>
                  <a:pt x="286876" y="111197"/>
                </a:lnTo>
                <a:lnTo>
                  <a:pt x="284229" y="113315"/>
                </a:lnTo>
                <a:lnTo>
                  <a:pt x="282905" y="114639"/>
                </a:lnTo>
                <a:lnTo>
                  <a:pt x="281052" y="116492"/>
                </a:lnTo>
                <a:lnTo>
                  <a:pt x="279199" y="118875"/>
                </a:lnTo>
                <a:lnTo>
                  <a:pt x="277346" y="122581"/>
                </a:lnTo>
                <a:lnTo>
                  <a:pt x="275492" y="126817"/>
                </a:lnTo>
                <a:lnTo>
                  <a:pt x="274433" y="129200"/>
                </a:lnTo>
                <a:lnTo>
                  <a:pt x="273904" y="131848"/>
                </a:lnTo>
                <a:lnTo>
                  <a:pt x="273110" y="134760"/>
                </a:lnTo>
                <a:lnTo>
                  <a:pt x="272845" y="137937"/>
                </a:lnTo>
                <a:lnTo>
                  <a:pt x="272580" y="141644"/>
                </a:lnTo>
                <a:lnTo>
                  <a:pt x="272315" y="145350"/>
                </a:lnTo>
                <a:lnTo>
                  <a:pt x="272580" y="149851"/>
                </a:lnTo>
                <a:lnTo>
                  <a:pt x="273110" y="154617"/>
                </a:lnTo>
                <a:lnTo>
                  <a:pt x="273904" y="159912"/>
                </a:lnTo>
                <a:lnTo>
                  <a:pt x="274963" y="165207"/>
                </a:lnTo>
                <a:lnTo>
                  <a:pt x="276287" y="170767"/>
                </a:lnTo>
                <a:lnTo>
                  <a:pt x="278140" y="176326"/>
                </a:lnTo>
                <a:lnTo>
                  <a:pt x="280522" y="182416"/>
                </a:lnTo>
                <a:lnTo>
                  <a:pt x="283170" y="188505"/>
                </a:lnTo>
                <a:lnTo>
                  <a:pt x="286082" y="194595"/>
                </a:lnTo>
                <a:lnTo>
                  <a:pt x="289789" y="200949"/>
                </a:lnTo>
                <a:lnTo>
                  <a:pt x="293760" y="207303"/>
                </a:lnTo>
                <a:lnTo>
                  <a:pt x="297996" y="213392"/>
                </a:lnTo>
                <a:lnTo>
                  <a:pt x="303026" y="220011"/>
                </a:lnTo>
                <a:lnTo>
                  <a:pt x="308585" y="226365"/>
                </a:lnTo>
                <a:lnTo>
                  <a:pt x="314410" y="232454"/>
                </a:lnTo>
                <a:lnTo>
                  <a:pt x="320763" y="239073"/>
                </a:lnTo>
                <a:lnTo>
                  <a:pt x="329235" y="246486"/>
                </a:lnTo>
                <a:lnTo>
                  <a:pt x="338236" y="253900"/>
                </a:lnTo>
                <a:lnTo>
                  <a:pt x="348032" y="260783"/>
                </a:lnTo>
                <a:lnTo>
                  <a:pt x="358092" y="267137"/>
                </a:lnTo>
                <a:lnTo>
                  <a:pt x="368682" y="273756"/>
                </a:lnTo>
                <a:lnTo>
                  <a:pt x="379272" y="279316"/>
                </a:lnTo>
                <a:lnTo>
                  <a:pt x="390391" y="284876"/>
                </a:lnTo>
                <a:lnTo>
                  <a:pt x="401245" y="290171"/>
                </a:lnTo>
                <a:lnTo>
                  <a:pt x="412629" y="294407"/>
                </a:lnTo>
                <a:lnTo>
                  <a:pt x="424013" y="298378"/>
                </a:lnTo>
                <a:lnTo>
                  <a:pt x="435132" y="302085"/>
                </a:lnTo>
                <a:lnTo>
                  <a:pt x="446252" y="304732"/>
                </a:lnTo>
                <a:lnTo>
                  <a:pt x="457106" y="307115"/>
                </a:lnTo>
                <a:lnTo>
                  <a:pt x="467960" y="308968"/>
                </a:lnTo>
                <a:lnTo>
                  <a:pt x="478285" y="310027"/>
                </a:lnTo>
                <a:lnTo>
                  <a:pt x="483316" y="310292"/>
                </a:lnTo>
                <a:lnTo>
                  <a:pt x="488081" y="310557"/>
                </a:lnTo>
                <a:lnTo>
                  <a:pt x="494435" y="310292"/>
                </a:lnTo>
                <a:lnTo>
                  <a:pt x="499730" y="309763"/>
                </a:lnTo>
                <a:lnTo>
                  <a:pt x="503966" y="309233"/>
                </a:lnTo>
                <a:lnTo>
                  <a:pt x="507407" y="308174"/>
                </a:lnTo>
                <a:lnTo>
                  <a:pt x="509790" y="307380"/>
                </a:lnTo>
                <a:lnTo>
                  <a:pt x="511643" y="306850"/>
                </a:lnTo>
                <a:lnTo>
                  <a:pt x="512967" y="306056"/>
                </a:lnTo>
                <a:lnTo>
                  <a:pt x="513496" y="304468"/>
                </a:lnTo>
                <a:lnTo>
                  <a:pt x="514026" y="302350"/>
                </a:lnTo>
                <a:lnTo>
                  <a:pt x="514820" y="299702"/>
                </a:lnTo>
                <a:lnTo>
                  <a:pt x="514820" y="297054"/>
                </a:lnTo>
                <a:lnTo>
                  <a:pt x="514820" y="293877"/>
                </a:lnTo>
                <a:lnTo>
                  <a:pt x="514820" y="290171"/>
                </a:lnTo>
                <a:lnTo>
                  <a:pt x="513496" y="282228"/>
                </a:lnTo>
                <a:lnTo>
                  <a:pt x="511908" y="273491"/>
                </a:lnTo>
                <a:lnTo>
                  <a:pt x="509525" y="263431"/>
                </a:lnTo>
                <a:lnTo>
                  <a:pt x="506348" y="252841"/>
                </a:lnTo>
                <a:lnTo>
                  <a:pt x="502377" y="241721"/>
                </a:lnTo>
                <a:lnTo>
                  <a:pt x="497612" y="229807"/>
                </a:lnTo>
                <a:lnTo>
                  <a:pt x="494700" y="223982"/>
                </a:lnTo>
                <a:lnTo>
                  <a:pt x="491787" y="217893"/>
                </a:lnTo>
                <a:lnTo>
                  <a:pt x="488875" y="211804"/>
                </a:lnTo>
                <a:lnTo>
                  <a:pt x="485434" y="205714"/>
                </a:lnTo>
                <a:lnTo>
                  <a:pt x="481992" y="199625"/>
                </a:lnTo>
                <a:lnTo>
                  <a:pt x="478285" y="193271"/>
                </a:lnTo>
                <a:lnTo>
                  <a:pt x="474050" y="187446"/>
                </a:lnTo>
                <a:lnTo>
                  <a:pt x="469814" y="181357"/>
                </a:lnTo>
                <a:lnTo>
                  <a:pt x="465578" y="175267"/>
                </a:lnTo>
                <a:lnTo>
                  <a:pt x="460812" y="169443"/>
                </a:lnTo>
                <a:lnTo>
                  <a:pt x="455782" y="163618"/>
                </a:lnTo>
                <a:lnTo>
                  <a:pt x="450752" y="157794"/>
                </a:lnTo>
                <a:lnTo>
                  <a:pt x="445457" y="152499"/>
                </a:lnTo>
                <a:lnTo>
                  <a:pt x="439898" y="147204"/>
                </a:lnTo>
                <a:lnTo>
                  <a:pt x="433544" y="141644"/>
                </a:lnTo>
                <a:lnTo>
                  <a:pt x="427455" y="136349"/>
                </a:lnTo>
                <a:lnTo>
                  <a:pt x="421101" y="131583"/>
                </a:lnTo>
                <a:lnTo>
                  <a:pt x="414218" y="127082"/>
                </a:lnTo>
                <a:lnTo>
                  <a:pt x="407334" y="122846"/>
                </a:lnTo>
                <a:lnTo>
                  <a:pt x="400451" y="118610"/>
                </a:lnTo>
                <a:lnTo>
                  <a:pt x="393303" y="115168"/>
                </a:lnTo>
                <a:lnTo>
                  <a:pt x="386420" y="111991"/>
                </a:lnTo>
                <a:lnTo>
                  <a:pt x="379007" y="109079"/>
                </a:lnTo>
                <a:lnTo>
                  <a:pt x="372124" y="106431"/>
                </a:lnTo>
                <a:lnTo>
                  <a:pt x="364975" y="104313"/>
                </a:lnTo>
                <a:lnTo>
                  <a:pt x="357563" y="102460"/>
                </a:lnTo>
                <a:lnTo>
                  <a:pt x="350415" y="100871"/>
                </a:lnTo>
                <a:lnTo>
                  <a:pt x="343267" y="99812"/>
                </a:lnTo>
                <a:lnTo>
                  <a:pt x="336119" y="99283"/>
                </a:lnTo>
                <a:lnTo>
                  <a:pt x="329235" y="99018"/>
                </a:lnTo>
                <a:close/>
                <a:moveTo>
                  <a:pt x="321028" y="0"/>
                </a:moveTo>
                <a:lnTo>
                  <a:pt x="329235" y="0"/>
                </a:lnTo>
                <a:lnTo>
                  <a:pt x="340354" y="265"/>
                </a:lnTo>
                <a:lnTo>
                  <a:pt x="352003" y="1059"/>
                </a:lnTo>
                <a:lnTo>
                  <a:pt x="363122" y="2648"/>
                </a:lnTo>
                <a:lnTo>
                  <a:pt x="374771" y="4766"/>
                </a:lnTo>
                <a:lnTo>
                  <a:pt x="386420" y="7148"/>
                </a:lnTo>
                <a:lnTo>
                  <a:pt x="397804" y="10855"/>
                </a:lnTo>
                <a:lnTo>
                  <a:pt x="409452" y="14562"/>
                </a:lnTo>
                <a:lnTo>
                  <a:pt x="421101" y="18798"/>
                </a:lnTo>
                <a:lnTo>
                  <a:pt x="432485" y="23828"/>
                </a:lnTo>
                <a:lnTo>
                  <a:pt x="443869" y="29388"/>
                </a:lnTo>
                <a:lnTo>
                  <a:pt x="454723" y="35477"/>
                </a:lnTo>
                <a:lnTo>
                  <a:pt x="465843" y="42096"/>
                </a:lnTo>
                <a:lnTo>
                  <a:pt x="476432" y="49509"/>
                </a:lnTo>
                <a:lnTo>
                  <a:pt x="487287" y="57187"/>
                </a:lnTo>
                <a:lnTo>
                  <a:pt x="497612" y="65659"/>
                </a:lnTo>
                <a:lnTo>
                  <a:pt x="507407" y="74396"/>
                </a:lnTo>
                <a:lnTo>
                  <a:pt x="515879" y="82339"/>
                </a:lnTo>
                <a:lnTo>
                  <a:pt x="524086" y="91076"/>
                </a:lnTo>
                <a:lnTo>
                  <a:pt x="531764" y="99812"/>
                </a:lnTo>
                <a:lnTo>
                  <a:pt x="539441" y="109079"/>
                </a:lnTo>
                <a:lnTo>
                  <a:pt x="546589" y="118345"/>
                </a:lnTo>
                <a:lnTo>
                  <a:pt x="554002" y="128406"/>
                </a:lnTo>
                <a:lnTo>
                  <a:pt x="560356" y="138202"/>
                </a:lnTo>
                <a:lnTo>
                  <a:pt x="566710" y="148527"/>
                </a:lnTo>
                <a:lnTo>
                  <a:pt x="573064" y="158588"/>
                </a:lnTo>
                <a:lnTo>
                  <a:pt x="578623" y="169178"/>
                </a:lnTo>
                <a:lnTo>
                  <a:pt x="582510" y="177566"/>
                </a:lnTo>
                <a:lnTo>
                  <a:pt x="586602" y="169178"/>
                </a:lnTo>
                <a:lnTo>
                  <a:pt x="592426" y="158588"/>
                </a:lnTo>
                <a:lnTo>
                  <a:pt x="598251" y="148527"/>
                </a:lnTo>
                <a:lnTo>
                  <a:pt x="604604" y="138202"/>
                </a:lnTo>
                <a:lnTo>
                  <a:pt x="611488" y="128406"/>
                </a:lnTo>
                <a:lnTo>
                  <a:pt x="618371" y="118345"/>
                </a:lnTo>
                <a:lnTo>
                  <a:pt x="625519" y="109079"/>
                </a:lnTo>
                <a:lnTo>
                  <a:pt x="633197" y="99812"/>
                </a:lnTo>
                <a:lnTo>
                  <a:pt x="641139" y="91076"/>
                </a:lnTo>
                <a:lnTo>
                  <a:pt x="649346" y="82339"/>
                </a:lnTo>
                <a:lnTo>
                  <a:pt x="657553" y="74396"/>
                </a:lnTo>
                <a:lnTo>
                  <a:pt x="667613" y="65659"/>
                </a:lnTo>
                <a:lnTo>
                  <a:pt x="677938" y="57187"/>
                </a:lnTo>
                <a:lnTo>
                  <a:pt x="688528" y="49509"/>
                </a:lnTo>
                <a:lnTo>
                  <a:pt x="699118" y="42096"/>
                </a:lnTo>
                <a:lnTo>
                  <a:pt x="710237" y="35477"/>
                </a:lnTo>
                <a:lnTo>
                  <a:pt x="721356" y="29388"/>
                </a:lnTo>
                <a:lnTo>
                  <a:pt x="732475" y="23828"/>
                </a:lnTo>
                <a:lnTo>
                  <a:pt x="744124" y="18798"/>
                </a:lnTo>
                <a:lnTo>
                  <a:pt x="755508" y="14562"/>
                </a:lnTo>
                <a:lnTo>
                  <a:pt x="767157" y="10855"/>
                </a:lnTo>
                <a:lnTo>
                  <a:pt x="778805" y="7148"/>
                </a:lnTo>
                <a:lnTo>
                  <a:pt x="790189" y="4766"/>
                </a:lnTo>
                <a:lnTo>
                  <a:pt x="801838" y="2648"/>
                </a:lnTo>
                <a:lnTo>
                  <a:pt x="813222" y="1059"/>
                </a:lnTo>
                <a:lnTo>
                  <a:pt x="824606" y="265"/>
                </a:lnTo>
                <a:lnTo>
                  <a:pt x="835990" y="0"/>
                </a:lnTo>
                <a:lnTo>
                  <a:pt x="843932" y="0"/>
                </a:lnTo>
                <a:lnTo>
                  <a:pt x="851874" y="530"/>
                </a:lnTo>
                <a:lnTo>
                  <a:pt x="859817" y="1324"/>
                </a:lnTo>
                <a:lnTo>
                  <a:pt x="867494" y="2383"/>
                </a:lnTo>
                <a:lnTo>
                  <a:pt x="875437" y="3707"/>
                </a:lnTo>
                <a:lnTo>
                  <a:pt x="882585" y="5560"/>
                </a:lnTo>
                <a:lnTo>
                  <a:pt x="890262" y="7413"/>
                </a:lnTo>
                <a:lnTo>
                  <a:pt x="897410" y="10061"/>
                </a:lnTo>
                <a:lnTo>
                  <a:pt x="904293" y="12708"/>
                </a:lnTo>
                <a:lnTo>
                  <a:pt x="911442" y="15621"/>
                </a:lnTo>
                <a:lnTo>
                  <a:pt x="918060" y="19062"/>
                </a:lnTo>
                <a:lnTo>
                  <a:pt x="924414" y="22504"/>
                </a:lnTo>
                <a:lnTo>
                  <a:pt x="931033" y="26476"/>
                </a:lnTo>
                <a:lnTo>
                  <a:pt x="936857" y="30976"/>
                </a:lnTo>
                <a:lnTo>
                  <a:pt x="942681" y="35742"/>
                </a:lnTo>
                <a:lnTo>
                  <a:pt x="948506" y="40507"/>
                </a:lnTo>
                <a:lnTo>
                  <a:pt x="954859" y="47126"/>
                </a:lnTo>
                <a:lnTo>
                  <a:pt x="960419" y="53480"/>
                </a:lnTo>
                <a:lnTo>
                  <a:pt x="965979" y="60364"/>
                </a:lnTo>
                <a:lnTo>
                  <a:pt x="970744" y="67777"/>
                </a:lnTo>
                <a:lnTo>
                  <a:pt x="974980" y="74926"/>
                </a:lnTo>
                <a:lnTo>
                  <a:pt x="978951" y="82603"/>
                </a:lnTo>
                <a:lnTo>
                  <a:pt x="982128" y="90546"/>
                </a:lnTo>
                <a:lnTo>
                  <a:pt x="985305" y="98753"/>
                </a:lnTo>
                <a:lnTo>
                  <a:pt x="987423" y="107226"/>
                </a:lnTo>
                <a:lnTo>
                  <a:pt x="989276" y="115433"/>
                </a:lnTo>
                <a:lnTo>
                  <a:pt x="990864" y="124170"/>
                </a:lnTo>
                <a:lnTo>
                  <a:pt x="991659" y="132907"/>
                </a:lnTo>
                <a:lnTo>
                  <a:pt x="992188" y="141908"/>
                </a:lnTo>
                <a:lnTo>
                  <a:pt x="991923" y="150910"/>
                </a:lnTo>
                <a:lnTo>
                  <a:pt x="991394" y="160176"/>
                </a:lnTo>
                <a:lnTo>
                  <a:pt x="990600" y="169178"/>
                </a:lnTo>
                <a:lnTo>
                  <a:pt x="989011" y="178445"/>
                </a:lnTo>
                <a:lnTo>
                  <a:pt x="987158" y="187446"/>
                </a:lnTo>
                <a:lnTo>
                  <a:pt x="984775" y="196977"/>
                </a:lnTo>
                <a:lnTo>
                  <a:pt x="981598" y="206244"/>
                </a:lnTo>
                <a:lnTo>
                  <a:pt x="978422" y="215510"/>
                </a:lnTo>
                <a:lnTo>
                  <a:pt x="974715" y="224512"/>
                </a:lnTo>
                <a:lnTo>
                  <a:pt x="970479" y="234043"/>
                </a:lnTo>
                <a:lnTo>
                  <a:pt x="965979" y="243045"/>
                </a:lnTo>
                <a:lnTo>
                  <a:pt x="960419" y="251781"/>
                </a:lnTo>
                <a:lnTo>
                  <a:pt x="954859" y="261048"/>
                </a:lnTo>
                <a:lnTo>
                  <a:pt x="949035" y="269785"/>
                </a:lnTo>
                <a:lnTo>
                  <a:pt x="942416" y="278522"/>
                </a:lnTo>
                <a:lnTo>
                  <a:pt x="935533" y="286994"/>
                </a:lnTo>
                <a:lnTo>
                  <a:pt x="928385" y="295466"/>
                </a:lnTo>
                <a:lnTo>
                  <a:pt x="920178" y="303673"/>
                </a:lnTo>
                <a:lnTo>
                  <a:pt x="912236" y="311616"/>
                </a:lnTo>
                <a:lnTo>
                  <a:pt x="906147" y="316911"/>
                </a:lnTo>
                <a:lnTo>
                  <a:pt x="900058" y="321941"/>
                </a:lnTo>
                <a:lnTo>
                  <a:pt x="893969" y="326972"/>
                </a:lnTo>
                <a:lnTo>
                  <a:pt x="887350" y="332267"/>
                </a:lnTo>
                <a:lnTo>
                  <a:pt x="880996" y="337032"/>
                </a:lnTo>
                <a:lnTo>
                  <a:pt x="874378" y="341798"/>
                </a:lnTo>
                <a:lnTo>
                  <a:pt x="867229" y="346564"/>
                </a:lnTo>
                <a:lnTo>
                  <a:pt x="860346" y="351064"/>
                </a:lnTo>
                <a:lnTo>
                  <a:pt x="853463" y="355300"/>
                </a:lnTo>
                <a:lnTo>
                  <a:pt x="846050" y="359537"/>
                </a:lnTo>
                <a:lnTo>
                  <a:pt x="844507" y="360363"/>
                </a:lnTo>
                <a:lnTo>
                  <a:pt x="1069615" y="360363"/>
                </a:lnTo>
                <a:lnTo>
                  <a:pt x="1074647" y="360628"/>
                </a:lnTo>
                <a:lnTo>
                  <a:pt x="1079679" y="360893"/>
                </a:lnTo>
                <a:lnTo>
                  <a:pt x="1084446" y="361423"/>
                </a:lnTo>
                <a:lnTo>
                  <a:pt x="1089213" y="362217"/>
                </a:lnTo>
                <a:lnTo>
                  <a:pt x="1093716" y="363542"/>
                </a:lnTo>
                <a:lnTo>
                  <a:pt x="1098483" y="364866"/>
                </a:lnTo>
                <a:lnTo>
                  <a:pt x="1102985" y="366456"/>
                </a:lnTo>
                <a:lnTo>
                  <a:pt x="1107488" y="368310"/>
                </a:lnTo>
                <a:lnTo>
                  <a:pt x="1111725" y="370164"/>
                </a:lnTo>
                <a:lnTo>
                  <a:pt x="1115698" y="372284"/>
                </a:lnTo>
                <a:lnTo>
                  <a:pt x="1120200" y="374668"/>
                </a:lnTo>
                <a:lnTo>
                  <a:pt x="1123908" y="377052"/>
                </a:lnTo>
                <a:lnTo>
                  <a:pt x="1127616" y="379701"/>
                </a:lnTo>
                <a:lnTo>
                  <a:pt x="1131324" y="382615"/>
                </a:lnTo>
                <a:lnTo>
                  <a:pt x="1135032" y="385794"/>
                </a:lnTo>
                <a:lnTo>
                  <a:pt x="1138475" y="388973"/>
                </a:lnTo>
                <a:lnTo>
                  <a:pt x="1141653" y="392416"/>
                </a:lnTo>
                <a:lnTo>
                  <a:pt x="1144566" y="395860"/>
                </a:lnTo>
                <a:lnTo>
                  <a:pt x="1147479" y="399569"/>
                </a:lnTo>
                <a:lnTo>
                  <a:pt x="1150128" y="403542"/>
                </a:lnTo>
                <a:lnTo>
                  <a:pt x="1152776" y="407516"/>
                </a:lnTo>
                <a:lnTo>
                  <a:pt x="1155160" y="411489"/>
                </a:lnTo>
                <a:lnTo>
                  <a:pt x="1157279" y="415728"/>
                </a:lnTo>
                <a:lnTo>
                  <a:pt x="1159397" y="419966"/>
                </a:lnTo>
                <a:lnTo>
                  <a:pt x="1160987" y="424470"/>
                </a:lnTo>
                <a:lnTo>
                  <a:pt x="1162576" y="428973"/>
                </a:lnTo>
                <a:lnTo>
                  <a:pt x="1163900" y="433476"/>
                </a:lnTo>
                <a:lnTo>
                  <a:pt x="1164959" y="437980"/>
                </a:lnTo>
                <a:lnTo>
                  <a:pt x="1165754" y="443013"/>
                </a:lnTo>
                <a:lnTo>
                  <a:pt x="1166283" y="447781"/>
                </a:lnTo>
                <a:lnTo>
                  <a:pt x="1166813" y="452814"/>
                </a:lnTo>
                <a:lnTo>
                  <a:pt x="1166813" y="457847"/>
                </a:lnTo>
                <a:lnTo>
                  <a:pt x="1166813" y="798513"/>
                </a:lnTo>
                <a:lnTo>
                  <a:pt x="631825" y="798513"/>
                </a:lnTo>
                <a:lnTo>
                  <a:pt x="631825" y="404329"/>
                </a:lnTo>
                <a:lnTo>
                  <a:pt x="631608" y="404280"/>
                </a:lnTo>
                <a:lnTo>
                  <a:pt x="625519" y="402427"/>
                </a:lnTo>
                <a:lnTo>
                  <a:pt x="619695" y="400309"/>
                </a:lnTo>
                <a:lnTo>
                  <a:pt x="614135" y="398191"/>
                </a:lnTo>
                <a:lnTo>
                  <a:pt x="608840" y="395543"/>
                </a:lnTo>
                <a:lnTo>
                  <a:pt x="603546" y="392896"/>
                </a:lnTo>
                <a:lnTo>
                  <a:pt x="598515" y="389983"/>
                </a:lnTo>
                <a:lnTo>
                  <a:pt x="593750" y="386806"/>
                </a:lnTo>
                <a:lnTo>
                  <a:pt x="588985" y="383100"/>
                </a:lnTo>
                <a:lnTo>
                  <a:pt x="584749" y="379128"/>
                </a:lnTo>
                <a:lnTo>
                  <a:pt x="582480" y="377049"/>
                </a:lnTo>
                <a:lnTo>
                  <a:pt x="580212" y="379128"/>
                </a:lnTo>
                <a:lnTo>
                  <a:pt x="575976" y="383100"/>
                </a:lnTo>
                <a:lnTo>
                  <a:pt x="571475" y="386806"/>
                </a:lnTo>
                <a:lnTo>
                  <a:pt x="566445" y="389983"/>
                </a:lnTo>
                <a:lnTo>
                  <a:pt x="561415" y="392896"/>
                </a:lnTo>
                <a:lnTo>
                  <a:pt x="556385" y="395543"/>
                </a:lnTo>
                <a:lnTo>
                  <a:pt x="550825" y="398191"/>
                </a:lnTo>
                <a:lnTo>
                  <a:pt x="545265" y="400309"/>
                </a:lnTo>
                <a:lnTo>
                  <a:pt x="539706" y="402427"/>
                </a:lnTo>
                <a:lnTo>
                  <a:pt x="534988" y="403928"/>
                </a:lnTo>
                <a:lnTo>
                  <a:pt x="534988" y="798513"/>
                </a:lnTo>
                <a:lnTo>
                  <a:pt x="0" y="798513"/>
                </a:lnTo>
                <a:lnTo>
                  <a:pt x="0" y="457847"/>
                </a:lnTo>
                <a:lnTo>
                  <a:pt x="265" y="452814"/>
                </a:lnTo>
                <a:lnTo>
                  <a:pt x="529" y="447781"/>
                </a:lnTo>
                <a:lnTo>
                  <a:pt x="1059" y="443013"/>
                </a:lnTo>
                <a:lnTo>
                  <a:pt x="1853" y="437980"/>
                </a:lnTo>
                <a:lnTo>
                  <a:pt x="3176" y="433476"/>
                </a:lnTo>
                <a:lnTo>
                  <a:pt x="4235" y="428973"/>
                </a:lnTo>
                <a:lnTo>
                  <a:pt x="5824" y="424470"/>
                </a:lnTo>
                <a:lnTo>
                  <a:pt x="7677" y="419966"/>
                </a:lnTo>
                <a:lnTo>
                  <a:pt x="9794" y="415728"/>
                </a:lnTo>
                <a:lnTo>
                  <a:pt x="11912" y="411489"/>
                </a:lnTo>
                <a:lnTo>
                  <a:pt x="14294" y="407516"/>
                </a:lnTo>
                <a:lnTo>
                  <a:pt x="16677" y="403542"/>
                </a:lnTo>
                <a:lnTo>
                  <a:pt x="19324" y="399569"/>
                </a:lnTo>
                <a:lnTo>
                  <a:pt x="22236" y="395860"/>
                </a:lnTo>
                <a:lnTo>
                  <a:pt x="25148" y="392416"/>
                </a:lnTo>
                <a:lnTo>
                  <a:pt x="28589" y="388973"/>
                </a:lnTo>
                <a:lnTo>
                  <a:pt x="32030" y="385794"/>
                </a:lnTo>
                <a:lnTo>
                  <a:pt x="35472" y="382615"/>
                </a:lnTo>
                <a:lnTo>
                  <a:pt x="39178" y="379701"/>
                </a:lnTo>
                <a:lnTo>
                  <a:pt x="42884" y="377052"/>
                </a:lnTo>
                <a:lnTo>
                  <a:pt x="47119" y="374668"/>
                </a:lnTo>
                <a:lnTo>
                  <a:pt x="51090" y="372284"/>
                </a:lnTo>
                <a:lnTo>
                  <a:pt x="55325" y="370164"/>
                </a:lnTo>
                <a:lnTo>
                  <a:pt x="59561" y="368310"/>
                </a:lnTo>
                <a:lnTo>
                  <a:pt x="63796" y="366456"/>
                </a:lnTo>
                <a:lnTo>
                  <a:pt x="68561" y="364866"/>
                </a:lnTo>
                <a:lnTo>
                  <a:pt x="73061" y="363542"/>
                </a:lnTo>
                <a:lnTo>
                  <a:pt x="77561" y="362217"/>
                </a:lnTo>
                <a:lnTo>
                  <a:pt x="82326" y="361423"/>
                </a:lnTo>
                <a:lnTo>
                  <a:pt x="87356" y="360893"/>
                </a:lnTo>
                <a:lnTo>
                  <a:pt x="92385" y="360628"/>
                </a:lnTo>
                <a:lnTo>
                  <a:pt x="97150" y="360363"/>
                </a:lnTo>
                <a:lnTo>
                  <a:pt x="320663" y="360363"/>
                </a:lnTo>
                <a:lnTo>
                  <a:pt x="319175" y="359537"/>
                </a:lnTo>
                <a:lnTo>
                  <a:pt x="312027" y="355300"/>
                </a:lnTo>
                <a:lnTo>
                  <a:pt x="304614" y="351064"/>
                </a:lnTo>
                <a:lnTo>
                  <a:pt x="297731" y="346564"/>
                </a:lnTo>
                <a:lnTo>
                  <a:pt x="290847" y="341798"/>
                </a:lnTo>
                <a:lnTo>
                  <a:pt x="283964" y="337032"/>
                </a:lnTo>
                <a:lnTo>
                  <a:pt x="277610" y="332267"/>
                </a:lnTo>
                <a:lnTo>
                  <a:pt x="271256" y="326972"/>
                </a:lnTo>
                <a:lnTo>
                  <a:pt x="264903" y="321941"/>
                </a:lnTo>
                <a:lnTo>
                  <a:pt x="258814" y="316911"/>
                </a:lnTo>
                <a:lnTo>
                  <a:pt x="253254" y="311616"/>
                </a:lnTo>
                <a:lnTo>
                  <a:pt x="244782" y="303673"/>
                </a:lnTo>
                <a:lnTo>
                  <a:pt x="237105" y="295466"/>
                </a:lnTo>
                <a:lnTo>
                  <a:pt x="229427" y="286994"/>
                </a:lnTo>
                <a:lnTo>
                  <a:pt x="222809" y="278522"/>
                </a:lnTo>
                <a:lnTo>
                  <a:pt x="216190" y="269785"/>
                </a:lnTo>
                <a:lnTo>
                  <a:pt x="210101" y="261048"/>
                </a:lnTo>
                <a:lnTo>
                  <a:pt x="204541" y="251781"/>
                </a:lnTo>
                <a:lnTo>
                  <a:pt x="199511" y="243045"/>
                </a:lnTo>
                <a:lnTo>
                  <a:pt x="194481" y="234043"/>
                </a:lnTo>
                <a:lnTo>
                  <a:pt x="190510" y="224512"/>
                </a:lnTo>
                <a:lnTo>
                  <a:pt x="186539" y="215510"/>
                </a:lnTo>
                <a:lnTo>
                  <a:pt x="183362" y="206244"/>
                </a:lnTo>
                <a:lnTo>
                  <a:pt x="180450" y="196977"/>
                </a:lnTo>
                <a:lnTo>
                  <a:pt x="178067" y="187446"/>
                </a:lnTo>
                <a:lnTo>
                  <a:pt x="175949" y="178445"/>
                </a:lnTo>
                <a:lnTo>
                  <a:pt x="174625" y="169178"/>
                </a:lnTo>
                <a:lnTo>
                  <a:pt x="173566" y="160176"/>
                </a:lnTo>
                <a:lnTo>
                  <a:pt x="173037" y="150910"/>
                </a:lnTo>
                <a:lnTo>
                  <a:pt x="173037" y="141908"/>
                </a:lnTo>
                <a:lnTo>
                  <a:pt x="173302" y="132907"/>
                </a:lnTo>
                <a:lnTo>
                  <a:pt x="174361" y="124170"/>
                </a:lnTo>
                <a:lnTo>
                  <a:pt x="175684" y="115433"/>
                </a:lnTo>
                <a:lnTo>
                  <a:pt x="177802" y="107226"/>
                </a:lnTo>
                <a:lnTo>
                  <a:pt x="180185" y="98753"/>
                </a:lnTo>
                <a:lnTo>
                  <a:pt x="182832" y="90546"/>
                </a:lnTo>
                <a:lnTo>
                  <a:pt x="186274" y="82603"/>
                </a:lnTo>
                <a:lnTo>
                  <a:pt x="189980" y="74926"/>
                </a:lnTo>
                <a:lnTo>
                  <a:pt x="194216" y="67777"/>
                </a:lnTo>
                <a:lnTo>
                  <a:pt x="199246" y="60364"/>
                </a:lnTo>
                <a:lnTo>
                  <a:pt x="204541" y="53480"/>
                </a:lnTo>
                <a:lnTo>
                  <a:pt x="210101" y="47126"/>
                </a:lnTo>
                <a:lnTo>
                  <a:pt x="216719" y="40507"/>
                </a:lnTo>
                <a:lnTo>
                  <a:pt x="222279" y="35742"/>
                </a:lnTo>
                <a:lnTo>
                  <a:pt x="228103" y="30976"/>
                </a:lnTo>
                <a:lnTo>
                  <a:pt x="234457" y="26476"/>
                </a:lnTo>
                <a:lnTo>
                  <a:pt x="240546" y="22504"/>
                </a:lnTo>
                <a:lnTo>
                  <a:pt x="246900" y="19062"/>
                </a:lnTo>
                <a:lnTo>
                  <a:pt x="253783" y="15621"/>
                </a:lnTo>
                <a:lnTo>
                  <a:pt x="260667" y="12708"/>
                </a:lnTo>
                <a:lnTo>
                  <a:pt x="267550" y="10061"/>
                </a:lnTo>
                <a:lnTo>
                  <a:pt x="274963" y="7413"/>
                </a:lnTo>
                <a:lnTo>
                  <a:pt x="282376" y="5560"/>
                </a:lnTo>
                <a:lnTo>
                  <a:pt x="290053" y="3707"/>
                </a:lnTo>
                <a:lnTo>
                  <a:pt x="297466" y="2383"/>
                </a:lnTo>
                <a:lnTo>
                  <a:pt x="305144" y="1324"/>
                </a:lnTo>
                <a:lnTo>
                  <a:pt x="313086" y="530"/>
                </a:lnTo>
                <a:lnTo>
                  <a:pt x="321028" y="0"/>
                </a:lnTo>
                <a:close/>
              </a:path>
            </a:pathLst>
          </a:custGeom>
          <a:noFill/>
          <a:ln w="9525">
            <a:solidFill>
              <a:srgbClr val="000000">
                <a:lumMod val="65000"/>
                <a:lumOff val="35000"/>
              </a:srgbClr>
            </a:solidFill>
            <a:round/>
          </a:ln>
        </p:spPr>
        <p:style>
          <a:lnRef idx="0"/>
          <a:fillRef idx="0"/>
          <a:effectRef idx="0"/>
          <a:fontRef idx="minor"/>
        </p:style>
        <p:txBody>
          <a:bodyPr lIns="90000" rIns="90000" tIns="45000" bIns="45000" anchor="ctr">
            <a:noAutofit/>
            <a:scene3d>
              <a:camera prst="orthographicFront"/>
              <a:lightRig dir="t" rig="threePt"/>
            </a:scene3d>
            <a:sp3d>
              <a:contourClr>
                <a:srgbClr val="ffffff"/>
              </a:contourClr>
            </a:sp3d>
          </a:bodyPr>
          <a:p>
            <a:pPr algn="ctr">
              <a:lnSpc>
                <a:spcPct val="100000"/>
              </a:lnSpc>
            </a:pPr>
            <a:endParaRPr b="0" lang="en-US" sz="1800" spc="-1" strike="noStrike">
              <a:solidFill>
                <a:srgbClr val="ffffff"/>
              </a:solidFill>
              <a:latin typeface="Calibri"/>
            </a:endParaRPr>
          </a:p>
        </p:txBody>
      </p:sp>
      <p:sp>
        <p:nvSpPr>
          <p:cNvPr id="231" name="矩形 46"/>
          <p:cNvSpPr/>
          <p:nvPr/>
        </p:nvSpPr>
        <p:spPr>
          <a:xfrm>
            <a:off x="7443360" y="4872240"/>
            <a:ext cx="3811680" cy="637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808080"/>
                </a:solidFill>
                <a:latin typeface="微软雅黑"/>
                <a:ea typeface="微软雅黑"/>
              </a:rPr>
              <a:t>Human Resources planning is based on the concept that people are the most important strategic resources of an organization. </a:t>
            </a:r>
            <a:endParaRPr b="0" lang="en-US" sz="1200" spc="-1" strike="noStrike">
              <a:solidFill>
                <a:srgbClr val="000000"/>
              </a:solidFill>
              <a:latin typeface="Arial"/>
            </a:endParaRPr>
          </a:p>
        </p:txBody>
      </p:sp>
      <p:sp>
        <p:nvSpPr>
          <p:cNvPr id="232" name="文本框 21"/>
          <p:cNvSpPr/>
          <p:nvPr/>
        </p:nvSpPr>
        <p:spPr>
          <a:xfrm>
            <a:off x="7958880" y="4442760"/>
            <a:ext cx="257508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404040"/>
                </a:solidFill>
                <a:latin typeface="微软雅黑"/>
                <a:ea typeface="微软雅黑"/>
              </a:rPr>
              <a:t>HAPPY NEW YEAR </a:t>
            </a:r>
            <a:r>
              <a:rPr b="0" lang="zh-CN" sz="2000" spc="-1" strike="noStrike">
                <a:solidFill>
                  <a:srgbClr val="404040"/>
                </a:solidFill>
                <a:latin typeface="微软雅黑"/>
                <a:ea typeface="微软雅黑"/>
              </a:rPr>
              <a:t>！</a:t>
            </a:r>
            <a:endParaRPr b="0" lang="en-US" sz="2000" spc="-1" strike="noStrike">
              <a:solidFill>
                <a:srgbClr val="000000"/>
              </a:solidFill>
              <a:latin typeface="Arial"/>
            </a:endParaRPr>
          </a:p>
        </p:txBody>
      </p:sp>
      <p:graphicFrame>
        <p:nvGraphicFramePr>
          <p:cNvPr id="233" name="图表 72"/>
          <p:cNvGraphicFramePr/>
          <p:nvPr/>
        </p:nvGraphicFramePr>
        <p:xfrm>
          <a:off x="1361880" y="4141800"/>
          <a:ext cx="3674160" cy="1360440"/>
        </p:xfrm>
        <a:graphic>
          <a:graphicData uri="http://schemas.openxmlformats.org/drawingml/2006/chart">
            <c:chart xmlns:c="http://schemas.openxmlformats.org/drawingml/2006/chart" xmlns:r="http://schemas.openxmlformats.org/officeDocument/2006/relationships" r:id="rId2"/>
          </a:graphicData>
        </a:graphic>
      </p:graphicFrame>
      <p:sp>
        <p:nvSpPr>
          <p:cNvPr id="234" name="文本框 73"/>
          <p:cNvSpPr/>
          <p:nvPr/>
        </p:nvSpPr>
        <p:spPr>
          <a:xfrm>
            <a:off x="1569240" y="3429000"/>
            <a:ext cx="11869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404040"/>
                </a:solidFill>
                <a:latin typeface="微软雅黑"/>
                <a:ea typeface="微软雅黑"/>
              </a:rPr>
              <a:t>New Plan</a:t>
            </a:r>
            <a:endParaRPr b="0" lang="en-US" sz="1800" spc="-1" strike="noStrike">
              <a:solidFill>
                <a:srgbClr val="000000"/>
              </a:solidFill>
              <a:latin typeface="Arial"/>
            </a:endParaRPr>
          </a:p>
        </p:txBody>
      </p:sp>
      <p:sp>
        <p:nvSpPr>
          <p:cNvPr id="235" name="文本框 74"/>
          <p:cNvSpPr/>
          <p:nvPr/>
        </p:nvSpPr>
        <p:spPr>
          <a:xfrm>
            <a:off x="3994920" y="3429000"/>
            <a:ext cx="7052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404040"/>
                </a:solidFill>
                <a:latin typeface="微软雅黑"/>
                <a:ea typeface="微软雅黑"/>
              </a:rPr>
              <a:t>2016</a:t>
            </a:r>
            <a:endParaRPr b="0" lang="en-US" sz="1800" spc="-1" strike="noStrike">
              <a:solidFill>
                <a:srgbClr val="000000"/>
              </a:solidFill>
              <a:latin typeface="Arial"/>
            </a:endParaRPr>
          </a:p>
        </p:txBody>
      </p:sp>
      <p:sp>
        <p:nvSpPr>
          <p:cNvPr id="236" name="Picture 2"/>
          <p:cNvSpPr/>
          <p:nvPr/>
        </p:nvSpPr>
        <p:spPr>
          <a:xfrm>
            <a:off x="5902200" y="4442760"/>
            <a:ext cx="897480" cy="897480"/>
          </a:xfrm>
          <a:prstGeom prst="ellipse">
            <a:avLst/>
          </a:prstGeom>
          <a:blipFill rotWithShape="0">
            <a:blip r:embed="rId3"/>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med" advTm="0" p14:dur="800"/>
    </mc:Choice>
    <mc:Fallback>
      <p:transition spd="med" advTm="0"/>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7" name="图表 10"/>
          <p:cNvGraphicFramePr/>
          <p:nvPr/>
        </p:nvGraphicFramePr>
        <p:xfrm>
          <a:off x="689760" y="3801960"/>
          <a:ext cx="10811880" cy="2817360"/>
        </p:xfrm>
        <a:graphic>
          <a:graphicData uri="http://schemas.openxmlformats.org/drawingml/2006/chart">
            <c:chart xmlns:c="http://schemas.openxmlformats.org/drawingml/2006/chart" xmlns:r="http://schemas.openxmlformats.org/officeDocument/2006/relationships" r:id="rId1"/>
          </a:graphicData>
        </a:graphic>
      </p:graphicFrame>
      <p:sp>
        <p:nvSpPr>
          <p:cNvPr id="238" name="五边形 12"/>
          <p:cNvSpPr/>
          <p:nvPr/>
        </p:nvSpPr>
        <p:spPr>
          <a:xfrm>
            <a:off x="834120" y="1681200"/>
            <a:ext cx="1443600" cy="435960"/>
          </a:xfrm>
          <a:prstGeom prst="homePlate">
            <a:avLst>
              <a:gd name="adj" fmla="val 50000"/>
            </a:avLst>
          </a:prstGeom>
          <a:solidFill>
            <a:srgbClr val="00cbd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9" name="五边形 13"/>
          <p:cNvSpPr/>
          <p:nvPr/>
        </p:nvSpPr>
        <p:spPr>
          <a:xfrm>
            <a:off x="834120" y="2373840"/>
            <a:ext cx="2213280" cy="444960"/>
          </a:xfrm>
          <a:prstGeom prst="homePlate">
            <a:avLst>
              <a:gd name="adj" fmla="val 50000"/>
            </a:avLst>
          </a:prstGeom>
          <a:solidFill>
            <a:srgbClr val="00cbd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0" name="五边形 14"/>
          <p:cNvSpPr/>
          <p:nvPr/>
        </p:nvSpPr>
        <p:spPr>
          <a:xfrm>
            <a:off x="2542680" y="1681200"/>
            <a:ext cx="2622600" cy="449280"/>
          </a:xfrm>
          <a:prstGeom prst="homePlate">
            <a:avLst>
              <a:gd name="adj" fmla="val 50000"/>
            </a:avLst>
          </a:prstGeom>
          <a:solidFill>
            <a:srgbClr val="00cbd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1" name="五边形 15"/>
          <p:cNvSpPr/>
          <p:nvPr/>
        </p:nvSpPr>
        <p:spPr>
          <a:xfrm>
            <a:off x="3348000" y="2373840"/>
            <a:ext cx="1667880" cy="444960"/>
          </a:xfrm>
          <a:prstGeom prst="homePlate">
            <a:avLst>
              <a:gd name="adj" fmla="val 50000"/>
            </a:avLst>
          </a:prstGeom>
          <a:solidFill>
            <a:srgbClr val="00cbd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2" name="矩形 16"/>
          <p:cNvSpPr/>
          <p:nvPr/>
        </p:nvSpPr>
        <p:spPr>
          <a:xfrm>
            <a:off x="9658080" y="1437120"/>
            <a:ext cx="1298880" cy="1471320"/>
          </a:xfrm>
          <a:prstGeom prst="rect">
            <a:avLst/>
          </a:prstGeom>
          <a:solidFill>
            <a:schemeClr val="bg1"/>
          </a:solidFill>
          <a:ln>
            <a:solidFill>
              <a:srgbClr val="000000">
                <a:lumMod val="65000"/>
                <a:lumOff val="3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3" name="文本框 17"/>
          <p:cNvSpPr/>
          <p:nvPr/>
        </p:nvSpPr>
        <p:spPr>
          <a:xfrm>
            <a:off x="5533920" y="1681200"/>
            <a:ext cx="35431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404040"/>
                </a:solidFill>
                <a:latin typeface="微软雅黑"/>
                <a:ea typeface="微软雅黑"/>
              </a:rPr>
              <a:t>Human Resources planning </a:t>
            </a:r>
            <a:endParaRPr b="0" lang="en-US" sz="2000" spc="-1" strike="noStrike">
              <a:solidFill>
                <a:srgbClr val="000000"/>
              </a:solidFill>
              <a:latin typeface="Arial"/>
            </a:endParaRPr>
          </a:p>
        </p:txBody>
      </p:sp>
      <p:sp>
        <p:nvSpPr>
          <p:cNvPr id="244" name="矩形 18"/>
          <p:cNvSpPr/>
          <p:nvPr/>
        </p:nvSpPr>
        <p:spPr>
          <a:xfrm>
            <a:off x="5465520" y="2172600"/>
            <a:ext cx="3651480" cy="6372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200" spc="-1" strike="noStrike">
                <a:solidFill>
                  <a:srgbClr val="808080"/>
                </a:solidFill>
                <a:latin typeface="微软雅黑"/>
                <a:ea typeface="微软雅黑"/>
              </a:rPr>
              <a:t>Human Resources planning is based on the concept that people are the most important strategic resources of an organization. </a:t>
            </a:r>
            <a:endParaRPr b="0" lang="en-US" sz="1200" spc="-1" strike="noStrike">
              <a:solidFill>
                <a:srgbClr val="000000"/>
              </a:solidFill>
              <a:latin typeface="Arial"/>
            </a:endParaRPr>
          </a:p>
        </p:txBody>
      </p:sp>
      <p:sp>
        <p:nvSpPr>
          <p:cNvPr id="245" name="文本框 19"/>
          <p:cNvSpPr/>
          <p:nvPr/>
        </p:nvSpPr>
        <p:spPr>
          <a:xfrm>
            <a:off x="9759600" y="2433240"/>
            <a:ext cx="11426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MONTHES</a:t>
            </a:r>
            <a:endParaRPr b="0" lang="en-US" sz="1800" spc="-1" strike="noStrike">
              <a:solidFill>
                <a:srgbClr val="000000"/>
              </a:solidFill>
              <a:latin typeface="Arial"/>
            </a:endParaRPr>
          </a:p>
        </p:txBody>
      </p:sp>
      <p:sp>
        <p:nvSpPr>
          <p:cNvPr id="246" name="文本框 20"/>
          <p:cNvSpPr/>
          <p:nvPr/>
        </p:nvSpPr>
        <p:spPr>
          <a:xfrm>
            <a:off x="9896760" y="1696680"/>
            <a:ext cx="82116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000000"/>
                </a:solidFill>
                <a:latin typeface="微软雅黑"/>
                <a:ea typeface="微软雅黑"/>
              </a:rPr>
              <a:t>12</a:t>
            </a:r>
            <a:endParaRPr b="0" lang="en-US" sz="4400" spc="-1" strike="noStrike">
              <a:solidFill>
                <a:srgbClr val="000000"/>
              </a:solidFill>
              <a:latin typeface="Arial"/>
            </a:endParaRPr>
          </a:p>
        </p:txBody>
      </p:sp>
      <p:sp>
        <p:nvSpPr>
          <p:cNvPr id="247" name="椭圆 1"/>
          <p:cNvSpPr/>
          <p:nvPr/>
        </p:nvSpPr>
        <p:spPr>
          <a:xfrm>
            <a:off x="973800" y="1821240"/>
            <a:ext cx="168840" cy="1688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8" name="椭圆 21"/>
          <p:cNvSpPr/>
          <p:nvPr/>
        </p:nvSpPr>
        <p:spPr>
          <a:xfrm>
            <a:off x="973800" y="2533320"/>
            <a:ext cx="168840" cy="1688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9" name="椭圆 22"/>
          <p:cNvSpPr/>
          <p:nvPr/>
        </p:nvSpPr>
        <p:spPr>
          <a:xfrm>
            <a:off x="2676240" y="1821240"/>
            <a:ext cx="168840" cy="1688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0" name="椭圆 23"/>
          <p:cNvSpPr/>
          <p:nvPr/>
        </p:nvSpPr>
        <p:spPr>
          <a:xfrm>
            <a:off x="3497040" y="2533320"/>
            <a:ext cx="168840" cy="168840"/>
          </a:xfrm>
          <a:prstGeom prst="ellipse">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1" name="文本框 2"/>
          <p:cNvSpPr/>
          <p:nvPr/>
        </p:nvSpPr>
        <p:spPr>
          <a:xfrm>
            <a:off x="1279800" y="1721160"/>
            <a:ext cx="5911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微软雅黑"/>
                <a:ea typeface="微软雅黑"/>
              </a:rPr>
              <a:t>18#</a:t>
            </a:r>
            <a:endParaRPr b="0" lang="en-US" sz="1800" spc="-1" strike="noStrike">
              <a:solidFill>
                <a:srgbClr val="000000"/>
              </a:solidFill>
              <a:latin typeface="Arial"/>
            </a:endParaRPr>
          </a:p>
        </p:txBody>
      </p:sp>
      <p:sp>
        <p:nvSpPr>
          <p:cNvPr id="252" name="文本框 25"/>
          <p:cNvSpPr/>
          <p:nvPr/>
        </p:nvSpPr>
        <p:spPr>
          <a:xfrm>
            <a:off x="1314360" y="2411640"/>
            <a:ext cx="10069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微软雅黑"/>
                <a:ea typeface="微软雅黑"/>
              </a:rPr>
              <a:t>Fantasy</a:t>
            </a:r>
            <a:endParaRPr b="0" lang="en-US" sz="1800" spc="-1" strike="noStrike">
              <a:solidFill>
                <a:srgbClr val="000000"/>
              </a:solidFill>
              <a:latin typeface="Arial"/>
            </a:endParaRPr>
          </a:p>
        </p:txBody>
      </p:sp>
      <p:sp>
        <p:nvSpPr>
          <p:cNvPr id="253" name="文本框 26"/>
          <p:cNvSpPr/>
          <p:nvPr/>
        </p:nvSpPr>
        <p:spPr>
          <a:xfrm>
            <a:off x="2990520" y="1721160"/>
            <a:ext cx="14626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微软雅黑"/>
                <a:ea typeface="微软雅黑"/>
              </a:rPr>
              <a:t>Super Value</a:t>
            </a:r>
            <a:endParaRPr b="0" lang="en-US" sz="1800" spc="-1" strike="noStrike">
              <a:solidFill>
                <a:srgbClr val="000000"/>
              </a:solidFill>
              <a:latin typeface="Arial"/>
            </a:endParaRPr>
          </a:p>
        </p:txBody>
      </p:sp>
      <p:sp>
        <p:nvSpPr>
          <p:cNvPr id="254" name="文本框 27"/>
          <p:cNvSpPr/>
          <p:nvPr/>
        </p:nvSpPr>
        <p:spPr>
          <a:xfrm>
            <a:off x="3773520" y="2419200"/>
            <a:ext cx="7646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微软雅黑"/>
                <a:ea typeface="微软雅黑"/>
              </a:rPr>
              <a:t>Good</a:t>
            </a:r>
            <a:endParaRPr b="0" lang="en-US" sz="1800" spc="-1" strike="noStrike">
              <a:solidFill>
                <a:srgbClr val="000000"/>
              </a:solidFill>
              <a:latin typeface="Arial"/>
            </a:endParaRPr>
          </a:p>
        </p:txBody>
      </p:sp>
      <p:pic>
        <p:nvPicPr>
          <p:cNvPr id="255" name="图片 31" descr=""/>
          <p:cNvPicPr/>
          <p:nvPr/>
        </p:nvPicPr>
        <p:blipFill>
          <a:blip r:embed="rId2"/>
          <a:srcRect l="0" t="74732" r="0" b="9437"/>
          <a:stretch/>
        </p:blipFill>
        <p:spPr>
          <a:xfrm>
            <a:off x="0" y="-17640"/>
            <a:ext cx="12191760" cy="1085400"/>
          </a:xfrm>
          <a:prstGeom prst="rect">
            <a:avLst/>
          </a:prstGeom>
          <a:ln w="0">
            <a:noFill/>
          </a:ln>
        </p:spPr>
      </p:pic>
    </p:spTree>
  </p:cSld>
  <p:transition spd="slow" advTm="0">
    <p:push dir="u"/>
  </p:transition>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ntr" presetID="42">
                                  <p:stCondLst>
                                    <p:cond delay="0"/>
                                  </p:stCondLst>
                                  <p:childTnLst>
                                    <p:set>
                                      <p:cBhvr>
                                        <p:cTn id="266" dur="1" fill="hold">
                                          <p:stCondLst>
                                            <p:cond delay="0"/>
                                          </p:stCondLst>
                                        </p:cTn>
                                        <p:tgtEl>
                                          <p:spTgt spid="237"/>
                                        </p:tgtEl>
                                        <p:attrNameLst>
                                          <p:attrName>style.visibility</p:attrName>
                                        </p:attrNameLst>
                                      </p:cBhvr>
                                      <p:to>
                                        <p:strVal val="visible"/>
                                      </p:to>
                                    </p:set>
                                    <p:animEffect filter="fade" transition="in">
                                      <p:cBhvr additive="repl">
                                        <p:cTn id="267" dur="1000"/>
                                        <p:tgtEl>
                                          <p:spTgt spid="237"/>
                                        </p:tgtEl>
                                      </p:cBhvr>
                                    </p:animEffect>
                                    <p:anim calcmode="lin" valueType="num">
                                      <p:cBhvr additive="repl">
                                        <p:cTn id="268" dur="1000" fill="hold"/>
                                        <p:tgtEl>
                                          <p:spTgt spid="237"/>
                                        </p:tgtEl>
                                        <p:attrNameLst>
                                          <p:attrName>ppt_x</p:attrName>
                                        </p:attrNameLst>
                                      </p:cBhvr>
                                      <p:tavLst>
                                        <p:tav tm="0">
                                          <p:val>
                                            <p:strVal val="#ppt_x"/>
                                          </p:val>
                                        </p:tav>
                                        <p:tav tm="100000">
                                          <p:val>
                                            <p:strVal val="#ppt_x"/>
                                          </p:val>
                                        </p:tav>
                                      </p:tavLst>
                                    </p:anim>
                                    <p:anim calcmode="lin" valueType="num">
                                      <p:cBhvr additive="repl">
                                        <p:cTn id="269" dur="1000" fill="hold"/>
                                        <p:tgtEl>
                                          <p:spTgt spid="23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图片 14" descr=""/>
          <p:cNvPicPr/>
          <p:nvPr/>
        </p:nvPicPr>
        <p:blipFill>
          <a:blip r:embed="rId1"/>
          <a:srcRect l="0" t="0" r="27363" b="0"/>
          <a:stretch/>
        </p:blipFill>
        <p:spPr>
          <a:xfrm>
            <a:off x="6449760" y="1210680"/>
            <a:ext cx="6024960" cy="4665600"/>
          </a:xfrm>
          <a:prstGeom prst="rect">
            <a:avLst/>
          </a:prstGeom>
          <a:ln w="0">
            <a:noFill/>
          </a:ln>
          <a:effectLst>
            <a:outerShdw algn="br" blurRad="254160" dir="13500000" dist="37674" rotWithShape="0" sx="101000" sy="101000">
              <a:srgbClr val="000000">
                <a:alpha val="40000"/>
              </a:srgbClr>
            </a:outerShdw>
          </a:effectLst>
        </p:spPr>
      </p:pic>
      <p:sp>
        <p:nvSpPr>
          <p:cNvPr id="257" name="矩形 28"/>
          <p:cNvSpPr/>
          <p:nvPr/>
        </p:nvSpPr>
        <p:spPr>
          <a:xfrm>
            <a:off x="1136880" y="2310120"/>
            <a:ext cx="1832400" cy="369000"/>
          </a:xfrm>
          <a:prstGeom prst="rect">
            <a:avLst/>
          </a:prstGeom>
          <a:solidFill>
            <a:srgbClr val="f6d403"/>
          </a:solidFill>
          <a:ln>
            <a:solidFill>
              <a:srgbClr val="000000">
                <a:lumMod val="65000"/>
                <a:lumOff val="3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8" name="矩形 5"/>
          <p:cNvSpPr/>
          <p:nvPr/>
        </p:nvSpPr>
        <p:spPr>
          <a:xfrm>
            <a:off x="7076520" y="1709640"/>
            <a:ext cx="5399640" cy="374652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9" name="矩形 6"/>
          <p:cNvSpPr/>
          <p:nvPr/>
        </p:nvSpPr>
        <p:spPr>
          <a:xfrm>
            <a:off x="7292160" y="1886760"/>
            <a:ext cx="5184360" cy="3380760"/>
          </a:xfrm>
          <a:prstGeom prst="rect">
            <a:avLst/>
          </a:prstGeom>
          <a:solidFill>
            <a:schemeClr val="bg1"/>
          </a:solidFill>
          <a:ln>
            <a:solidFill>
              <a:srgbClr val="000000">
                <a:lumMod val="65000"/>
                <a:lumOff val="3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aphicFrame>
        <p:nvGraphicFramePr>
          <p:cNvPr id="260" name="图表 24"/>
          <p:cNvGraphicFramePr/>
          <p:nvPr/>
        </p:nvGraphicFramePr>
        <p:xfrm>
          <a:off x="7782480" y="2300400"/>
          <a:ext cx="3907800" cy="2605320"/>
        </p:xfrm>
        <a:graphic>
          <a:graphicData uri="http://schemas.openxmlformats.org/drawingml/2006/chart">
            <c:chart xmlns:c="http://schemas.openxmlformats.org/drawingml/2006/chart" xmlns:r="http://schemas.openxmlformats.org/officeDocument/2006/relationships" r:id="rId2"/>
          </a:graphicData>
        </a:graphic>
      </p:graphicFrame>
      <p:sp>
        <p:nvSpPr>
          <p:cNvPr id="261" name="文本框 25"/>
          <p:cNvSpPr/>
          <p:nvPr/>
        </p:nvSpPr>
        <p:spPr>
          <a:xfrm>
            <a:off x="1020240" y="2906280"/>
            <a:ext cx="4411080" cy="9266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100" spc="-1" strike="noStrike">
                <a:solidFill>
                  <a:srgbClr val="808080"/>
                </a:solidFill>
                <a:latin typeface="微软雅黑"/>
                <a:ea typeface="微软雅黑"/>
              </a:rPr>
              <a:t>Human Resources planning is based on the concept that people are the most important strategic resources of an organization. Generally it is concerned with suitable resources to business needs both in longer tern needs and in</a:t>
            </a:r>
            <a:r>
              <a:rPr b="0" lang="en-US" sz="1100" spc="-1" strike="noStrike">
                <a:solidFill>
                  <a:srgbClr val="808080"/>
                </a:solidFill>
                <a:latin typeface="微软雅黑"/>
                <a:ea typeface="微软雅黑"/>
              </a:rPr>
              <a:t> shorter term needs in terms of both quantity and quality. It also improvement.</a:t>
            </a:r>
            <a:endParaRPr b="0" lang="en-US" sz="1100" spc="-1" strike="noStrike">
              <a:solidFill>
                <a:srgbClr val="000000"/>
              </a:solidFill>
              <a:latin typeface="Arial"/>
            </a:endParaRPr>
          </a:p>
        </p:txBody>
      </p:sp>
      <p:sp>
        <p:nvSpPr>
          <p:cNvPr id="262" name="文本框 27"/>
          <p:cNvSpPr/>
          <p:nvPr/>
        </p:nvSpPr>
        <p:spPr>
          <a:xfrm>
            <a:off x="1181160" y="1363320"/>
            <a:ext cx="319716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3200" spc="-1" strike="noStrike">
                <a:solidFill>
                  <a:srgbClr val="000000"/>
                </a:solidFill>
                <a:latin typeface="方正兰亭超细黑简体"/>
                <a:ea typeface="方正兰亭超细黑简体"/>
              </a:rPr>
              <a:t>Manual Report</a:t>
            </a:r>
            <a:endParaRPr b="0" lang="en-US" sz="3200" spc="-1" strike="noStrike">
              <a:solidFill>
                <a:srgbClr val="000000"/>
              </a:solidFill>
              <a:latin typeface="Arial"/>
            </a:endParaRPr>
          </a:p>
        </p:txBody>
      </p:sp>
      <p:sp>
        <p:nvSpPr>
          <p:cNvPr id="263" name="矩形 26"/>
          <p:cNvSpPr/>
          <p:nvPr/>
        </p:nvSpPr>
        <p:spPr>
          <a:xfrm>
            <a:off x="1203840" y="2310120"/>
            <a:ext cx="1566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262626"/>
                </a:solidFill>
                <a:latin typeface="Calibri"/>
              </a:rPr>
              <a:t>01&gt; Super deal</a:t>
            </a:r>
            <a:endParaRPr b="0" lang="en-US" sz="1800" spc="-1" strike="noStrike">
              <a:solidFill>
                <a:srgbClr val="000000"/>
              </a:solidFill>
              <a:latin typeface="Arial"/>
            </a:endParaRPr>
          </a:p>
        </p:txBody>
      </p:sp>
      <p:sp>
        <p:nvSpPr>
          <p:cNvPr id="264" name="矩形 29"/>
          <p:cNvSpPr/>
          <p:nvPr/>
        </p:nvSpPr>
        <p:spPr>
          <a:xfrm>
            <a:off x="1136880" y="4244760"/>
            <a:ext cx="1832400" cy="369000"/>
          </a:xfrm>
          <a:prstGeom prst="rect">
            <a:avLst/>
          </a:prstGeom>
          <a:solidFill>
            <a:srgbClr val="f6d403"/>
          </a:solidFill>
          <a:ln>
            <a:solidFill>
              <a:srgbClr val="000000">
                <a:lumMod val="65000"/>
                <a:lumOff val="3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5" name="文本框 30"/>
          <p:cNvSpPr/>
          <p:nvPr/>
        </p:nvSpPr>
        <p:spPr>
          <a:xfrm>
            <a:off x="1020240" y="4840920"/>
            <a:ext cx="4411080" cy="9266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100" spc="-1" strike="noStrike">
                <a:solidFill>
                  <a:srgbClr val="808080"/>
                </a:solidFill>
                <a:latin typeface="微软雅黑"/>
                <a:ea typeface="微软雅黑"/>
              </a:rPr>
              <a:t>Human Resources planning is based on the concept that people are the most important strategic resources of an organization. Generally it is concerned with suitable resources to business needs both in longer tern needs and in</a:t>
            </a:r>
            <a:r>
              <a:rPr b="0" lang="en-US" sz="1100" spc="-1" strike="noStrike">
                <a:solidFill>
                  <a:srgbClr val="808080"/>
                </a:solidFill>
                <a:latin typeface="微软雅黑"/>
                <a:ea typeface="微软雅黑"/>
              </a:rPr>
              <a:t> shorter term needs in terms of both quantity and quality. It also improvement.</a:t>
            </a:r>
            <a:endParaRPr b="0" lang="en-US" sz="1100" spc="-1" strike="noStrike">
              <a:solidFill>
                <a:srgbClr val="000000"/>
              </a:solidFill>
              <a:latin typeface="Arial"/>
            </a:endParaRPr>
          </a:p>
        </p:txBody>
      </p:sp>
      <p:sp>
        <p:nvSpPr>
          <p:cNvPr id="266" name="矩形 31"/>
          <p:cNvSpPr/>
          <p:nvPr/>
        </p:nvSpPr>
        <p:spPr>
          <a:xfrm>
            <a:off x="1205640" y="4244760"/>
            <a:ext cx="17524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262626"/>
                </a:solidFill>
                <a:latin typeface="Calibri"/>
              </a:rPr>
              <a:t>02&gt; Next Winner</a:t>
            </a:r>
            <a:endParaRPr b="0" lang="en-US" sz="1800" spc="-1" strike="noStrike">
              <a:solidFill>
                <a:srgbClr val="000000"/>
              </a:solidFill>
              <a:latin typeface="Arial"/>
            </a:endParaRPr>
          </a:p>
        </p:txBody>
      </p:sp>
    </p:spTree>
  </p:cSld>
  <mc:AlternateContent>
    <mc:Choice Requires="p14">
      <p:transition spd="med" advTm="0" p14:dur="800"/>
    </mc:Choice>
    <mc:Fallback>
      <p:transition spd="med" advTm="0"/>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图片 8" descr=""/>
          <p:cNvPicPr/>
          <p:nvPr/>
        </p:nvPicPr>
        <p:blipFill>
          <a:blip r:embed="rId1"/>
          <a:stretch/>
        </p:blipFill>
        <p:spPr>
          <a:xfrm>
            <a:off x="0" y="0"/>
            <a:ext cx="12191760" cy="6857640"/>
          </a:xfrm>
          <a:prstGeom prst="rect">
            <a:avLst/>
          </a:prstGeom>
          <a:ln w="0">
            <a:noFill/>
          </a:ln>
        </p:spPr>
      </p:pic>
      <p:grpSp>
        <p:nvGrpSpPr>
          <p:cNvPr id="268" name="组合 9"/>
          <p:cNvGrpSpPr/>
          <p:nvPr/>
        </p:nvGrpSpPr>
        <p:grpSpPr>
          <a:xfrm>
            <a:off x="2308320" y="2492280"/>
            <a:ext cx="7879680" cy="2178000"/>
            <a:chOff x="2308320" y="2492280"/>
            <a:chExt cx="7879680" cy="2178000"/>
          </a:xfrm>
        </p:grpSpPr>
        <p:sp>
          <p:nvSpPr>
            <p:cNvPr id="269" name="六边形 10"/>
            <p:cNvSpPr/>
            <p:nvPr/>
          </p:nvSpPr>
          <p:spPr>
            <a:xfrm>
              <a:off x="2308320" y="2492280"/>
              <a:ext cx="7879680" cy="2178000"/>
            </a:xfrm>
            <a:prstGeom prst="hexagon">
              <a:avLst>
                <a:gd name="adj" fmla="val 25000"/>
                <a:gd name="vf" fmla="val 115470"/>
              </a:avLst>
            </a:prstGeom>
            <a:solidFill>
              <a:schemeClr val="bg1"/>
            </a:solidFill>
            <a:ln>
              <a:noFill/>
            </a:ln>
            <a:effectLst>
              <a:outerShdw algn="tl" blurRad="355680" dir="8401444" dist="139524" rotWithShape="0" sx="104000" sy="104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0" name="六边形 12"/>
            <p:cNvSpPr/>
            <p:nvPr/>
          </p:nvSpPr>
          <p:spPr>
            <a:xfrm>
              <a:off x="2505600" y="2621880"/>
              <a:ext cx="7489800" cy="1913760"/>
            </a:xfrm>
            <a:prstGeom prst="hexagon">
              <a:avLst>
                <a:gd name="adj" fmla="val 25000"/>
                <a:gd name="vf" fmla="val 115470"/>
              </a:avLst>
            </a:prstGeom>
            <a:noFill/>
            <a:ln w="6350">
              <a:solidFill>
                <a:srgbClr val="000000">
                  <a:lumMod val="50000"/>
                  <a:lumOff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271" name="文本框 13"/>
          <p:cNvSpPr/>
          <p:nvPr/>
        </p:nvSpPr>
        <p:spPr>
          <a:xfrm>
            <a:off x="5073120" y="3224880"/>
            <a:ext cx="293184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000" spc="-1" strike="noStrike">
                <a:solidFill>
                  <a:srgbClr val="808080"/>
                </a:solidFill>
                <a:latin typeface="方正兰亭超细黑简体"/>
                <a:ea typeface="方正兰亭超细黑简体"/>
              </a:rPr>
              <a:t>Thank You !</a:t>
            </a:r>
            <a:endParaRPr b="0" lang="en-US" sz="4000" spc="-1" strike="noStrike">
              <a:solidFill>
                <a:srgbClr val="000000"/>
              </a:solidFill>
              <a:latin typeface="Arial"/>
            </a:endParaRPr>
          </a:p>
        </p:txBody>
      </p:sp>
      <p:sp>
        <p:nvSpPr>
          <p:cNvPr id="272" name="文本框 7"/>
          <p:cNvSpPr/>
          <p:nvPr/>
        </p:nvSpPr>
        <p:spPr>
          <a:xfrm>
            <a:off x="3538440" y="3317400"/>
            <a:ext cx="117684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800" spc="-1" strike="noStrike">
                <a:solidFill>
                  <a:srgbClr val="a6a6a6"/>
                </a:solidFill>
                <a:latin typeface="Calibri"/>
              </a:rPr>
              <a:t>LOGO</a:t>
            </a:r>
            <a:endParaRPr b="0" lang="en-US" sz="2800" spc="-1" strike="noStrike">
              <a:solidFill>
                <a:srgbClr val="000000"/>
              </a:solidFill>
              <a:latin typeface="Arial"/>
            </a:endParaRPr>
          </a:p>
        </p:txBody>
      </p:sp>
    </p:spTree>
  </p:cSld>
  <mc:AlternateContent>
    <mc:Choice Requires="p14">
      <p:transition spd="slow" advTm="0" p14:dur="1600"/>
    </mc:Choice>
    <mc:Fallback>
      <p:transition spd="slow" advTm="0"/>
    </mc:Fallback>
  </mc:AlternateContent>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withEffect" fill="hold" presetClass="entr" presetID="2" presetSubtype="4">
                                  <p:stCondLst>
                                    <p:cond delay="0"/>
                                  </p:stCondLst>
                                  <p:childTnLst>
                                    <p:set>
                                      <p:cBhvr>
                                        <p:cTn id="275" dur="1" fill="hold">
                                          <p:stCondLst>
                                            <p:cond delay="0"/>
                                          </p:stCondLst>
                                        </p:cTn>
                                        <p:tgtEl>
                                          <p:spTgt spid="268"/>
                                        </p:tgtEl>
                                        <p:attrNameLst>
                                          <p:attrName>style.visibility</p:attrName>
                                        </p:attrNameLst>
                                      </p:cBhvr>
                                      <p:to>
                                        <p:strVal val="visible"/>
                                      </p:to>
                                    </p:set>
                                    <p:anim calcmode="lin" valueType="num">
                                      <p:cBhvr additive="repl">
                                        <p:cTn id="276" dur="500" fill="hold"/>
                                        <p:tgtEl>
                                          <p:spTgt spid="268"/>
                                        </p:tgtEl>
                                        <p:attrNameLst>
                                          <p:attrName>ppt_x</p:attrName>
                                        </p:attrNameLst>
                                      </p:cBhvr>
                                      <p:tavLst>
                                        <p:tav tm="0">
                                          <p:val>
                                            <p:strVal val="#ppt_x"/>
                                          </p:val>
                                        </p:tav>
                                        <p:tav tm="100000">
                                          <p:val>
                                            <p:strVal val="#ppt_x"/>
                                          </p:val>
                                        </p:tav>
                                      </p:tavLst>
                                    </p:anim>
                                    <p:anim calcmode="lin" valueType="num">
                                      <p:cBhvr additive="repl">
                                        <p:cTn id="277" dur="500" fill="hold"/>
                                        <p:tgtEl>
                                          <p:spTgt spid="268"/>
                                        </p:tgtEl>
                                        <p:attrNameLst>
                                          <p:attrName>ppt_y</p:attrName>
                                        </p:attrNameLst>
                                      </p:cBhvr>
                                      <p:tavLst>
                                        <p:tav tm="0">
                                          <p:val>
                                            <p:strVal val="1+#ppt_h/2"/>
                                          </p:val>
                                        </p:tav>
                                        <p:tav tm="100000">
                                          <p:val>
                                            <p:strVal val="#ppt_y"/>
                                          </p:val>
                                        </p:tav>
                                      </p:tavLst>
                                    </p:anim>
                                  </p:childTnLst>
                                </p:cTn>
                              </p:par>
                              <p:par>
                                <p:cTn id="278" nodeType="withEffect" fill="hold" presetClass="emph" presetID="32">
                                  <p:stCondLst>
                                    <p:cond delay="500"/>
                                  </p:stCondLst>
                                  <p:childTnLst>
                                    <p:animRot by="120000">
                                      <p:cBhvr>
                                        <p:cTn id="279" dur="100" fill="hold">
                                          <p:stCondLst>
                                            <p:cond delay="0"/>
                                          </p:stCondLst>
                                        </p:cTn>
                                        <p:tgtEl>
                                          <p:spTgt spid="268"/>
                                        </p:tgtEl>
                                        <p:attrNameLst>
                                          <p:attrName>r</p:attrName>
                                        </p:attrNameLst>
                                      </p:cBhvr>
                                    </p:animRot>
                                    <p:animRot by="-240000">
                                      <p:cBhvr>
                                        <p:cTn id="280" dur="200" fill="hold">
                                          <p:stCondLst>
                                            <p:cond delay="200"/>
                                          </p:stCondLst>
                                        </p:cTn>
                                        <p:tgtEl>
                                          <p:spTgt spid="268"/>
                                        </p:tgtEl>
                                        <p:attrNameLst>
                                          <p:attrName>r</p:attrName>
                                        </p:attrNameLst>
                                      </p:cBhvr>
                                    </p:animRot>
                                    <p:animRot by="240000">
                                      <p:cBhvr>
                                        <p:cTn id="281" dur="200" fill="hold">
                                          <p:stCondLst>
                                            <p:cond delay="400"/>
                                          </p:stCondLst>
                                        </p:cTn>
                                        <p:tgtEl>
                                          <p:spTgt spid="268"/>
                                        </p:tgtEl>
                                        <p:attrNameLst>
                                          <p:attrName>r</p:attrName>
                                        </p:attrNameLst>
                                      </p:cBhvr>
                                    </p:animRot>
                                    <p:animRot by="-240000">
                                      <p:cBhvr>
                                        <p:cTn id="282" dur="200" fill="hold">
                                          <p:stCondLst>
                                            <p:cond delay="600"/>
                                          </p:stCondLst>
                                        </p:cTn>
                                        <p:tgtEl>
                                          <p:spTgt spid="268"/>
                                        </p:tgtEl>
                                        <p:attrNameLst>
                                          <p:attrName>r</p:attrName>
                                        </p:attrNameLst>
                                      </p:cBhvr>
                                    </p:animRot>
                                    <p:animRot by="120000">
                                      <p:cBhvr>
                                        <p:cTn id="283" dur="200" fill="hold">
                                          <p:stCondLst>
                                            <p:cond delay="800"/>
                                          </p:stCondLst>
                                        </p:cTn>
                                        <p:tgtEl>
                                          <p:spTgt spid="268"/>
                                        </p:tgtEl>
                                        <p:attrNameLst>
                                          <p:attrName>r</p:attrName>
                                        </p:attrNameLst>
                                      </p:cBhvr>
                                    </p:animRot>
                                  </p:childTnLst>
                                </p:cTn>
                              </p:par>
                              <p:par>
                                <p:cTn id="284" nodeType="withEffect" fill="hold" presetClass="entr" presetID="45">
                                  <p:stCondLst>
                                    <p:cond delay="1500"/>
                                  </p:stCondLst>
                                  <p:iterate type="lt">
                                    <p:tmAbs val="100"/>
                                  </p:iterate>
                                  <p:childTnLst>
                                    <p:set>
                                      <p:cBhvr>
                                        <p:cTn id="285" dur="1" fill="hold">
                                          <p:stCondLst>
                                            <p:cond delay="0"/>
                                          </p:stCondLst>
                                        </p:cTn>
                                        <p:tgtEl>
                                          <p:spTgt spid="271"/>
                                        </p:tgtEl>
                                        <p:attrNameLst>
                                          <p:attrName>style.visibility</p:attrName>
                                        </p:attrNameLst>
                                      </p:cBhvr>
                                      <p:to>
                                        <p:strVal val="visible"/>
                                      </p:to>
                                    </p:set>
                                    <p:animEffect filter="fade" transition="in">
                                      <p:cBhvr additive="repl">
                                        <p:cTn id="286" dur="1500"/>
                                        <p:tgtEl>
                                          <p:spTgt spid="271"/>
                                        </p:tgtEl>
                                      </p:cBhvr>
                                    </p:animEffect>
                                    <p:anim calcmode="lin" valueType="num">
                                      <p:cBhvr additive="repl">
                                        <p:cTn id="287" dur="1500" fill="hold"/>
                                        <p:tgtEl>
                                          <p:spTgt spid="271"/>
                                        </p:tgtEl>
                                        <p:attrNameLst>
                                          <p:attrName>ppt_w</p:attrName>
                                        </p:attrNameLst>
                                      </p:cBhvr>
                                      <p:tavLst>
                                        <p:tav fmla="width*sin(2.5*pi*$)" tm="0">
                                          <p:val>
                                            <p:fltVal val="0"/>
                                          </p:val>
                                        </p:tav>
                                        <p:tav fmla="width*sin(2.5*pi*$)" tm="100000">
                                          <p:val>
                                            <p:fltVal val="1"/>
                                          </p:val>
                                        </p:tav>
                                      </p:tavLst>
                                    </p:anim>
                                    <p:anim calcmode="lin" valueType="num">
                                      <p:cBhvr additive="repl">
                                        <p:cTn id="288" dur="1500" fill="hold"/>
                                        <p:tgtEl>
                                          <p:spTgt spid="271"/>
                                        </p:tgtEl>
                                        <p:attrNameLst>
                                          <p:attrName>ppt_h</p:attrName>
                                        </p:attrNameLst>
                                      </p:cBhvr>
                                      <p:tavLst>
                                        <p:tav tm="0">
                                          <p:val>
                                            <p:strVal val="#ppt_h"/>
                                          </p:val>
                                        </p:tav>
                                        <p:tav tm="100000">
                                          <p:val>
                                            <p:strVal val="#ppt_h"/>
                                          </p:val>
                                        </p:tav>
                                      </p:tavLst>
                                    </p:anim>
                                  </p:childTnLst>
                                </p:cTn>
                              </p:par>
                              <p:par>
                                <p:cTn id="289" nodeType="withEffect" fill="hold" presetClass="entr" presetID="45">
                                  <p:stCondLst>
                                    <p:cond delay="1500"/>
                                  </p:stCondLst>
                                  <p:iterate type="lt">
                                    <p:tmAbs val="100"/>
                                  </p:iterate>
                                  <p:childTnLst>
                                    <p:set>
                                      <p:cBhvr>
                                        <p:cTn id="290" dur="1" fill="hold">
                                          <p:stCondLst>
                                            <p:cond delay="0"/>
                                          </p:stCondLst>
                                        </p:cTn>
                                        <p:tgtEl>
                                          <p:spTgt spid="272"/>
                                        </p:tgtEl>
                                        <p:attrNameLst>
                                          <p:attrName>style.visibility</p:attrName>
                                        </p:attrNameLst>
                                      </p:cBhvr>
                                      <p:to>
                                        <p:strVal val="visible"/>
                                      </p:to>
                                    </p:set>
                                    <p:animEffect filter="fade" transition="in">
                                      <p:cBhvr additive="repl">
                                        <p:cTn id="291" dur="1500"/>
                                        <p:tgtEl>
                                          <p:spTgt spid="272"/>
                                        </p:tgtEl>
                                      </p:cBhvr>
                                    </p:animEffect>
                                    <p:anim calcmode="lin" valueType="num">
                                      <p:cBhvr additive="repl">
                                        <p:cTn id="292" dur="1500" fill="hold"/>
                                        <p:tgtEl>
                                          <p:spTgt spid="272"/>
                                        </p:tgtEl>
                                        <p:attrNameLst>
                                          <p:attrName>ppt_w</p:attrName>
                                        </p:attrNameLst>
                                      </p:cBhvr>
                                      <p:tavLst>
                                        <p:tav fmla="width*sin(2.5*pi*$)" tm="0">
                                          <p:val>
                                            <p:fltVal val="0"/>
                                          </p:val>
                                        </p:tav>
                                        <p:tav fmla="width*sin(2.5*pi*$)" tm="100000">
                                          <p:val>
                                            <p:fltVal val="1"/>
                                          </p:val>
                                        </p:tav>
                                      </p:tavLst>
                                    </p:anim>
                                    <p:anim calcmode="lin" valueType="num">
                                      <p:cBhvr additive="repl">
                                        <p:cTn id="293" dur="1500" fill="hold"/>
                                        <p:tgtEl>
                                          <p:spTgt spid="27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文本框 3"/>
          <p:cNvSpPr/>
          <p:nvPr/>
        </p:nvSpPr>
        <p:spPr>
          <a:xfrm>
            <a:off x="852120" y="675720"/>
            <a:ext cx="866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404040"/>
                </a:solidFill>
                <a:latin typeface="微软雅黑"/>
                <a:ea typeface="微软雅黑"/>
              </a:rPr>
              <a:t>字体标准：</a:t>
            </a:r>
            <a:endParaRPr b="0" lang="en-US" sz="1800" spc="-1" strike="noStrike">
              <a:solidFill>
                <a:srgbClr val="000000"/>
              </a:solidFill>
              <a:latin typeface="Arial"/>
            </a:endParaRPr>
          </a:p>
        </p:txBody>
      </p:sp>
      <p:sp>
        <p:nvSpPr>
          <p:cNvPr id="274" name="文本框 4"/>
          <p:cNvSpPr/>
          <p:nvPr/>
        </p:nvSpPr>
        <p:spPr>
          <a:xfrm>
            <a:off x="3488760" y="2660040"/>
            <a:ext cx="729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微软雅黑"/>
                <a:ea typeface="微软雅黑"/>
              </a:rPr>
              <a:t>微软雅黑</a:t>
            </a:r>
            <a:endParaRPr b="0" lang="en-US" sz="1800" spc="-1" strike="noStrike">
              <a:solidFill>
                <a:srgbClr val="000000"/>
              </a:solidFill>
              <a:latin typeface="Arial"/>
            </a:endParaRPr>
          </a:p>
        </p:txBody>
      </p:sp>
      <p:sp>
        <p:nvSpPr>
          <p:cNvPr id="275" name="文本框 5"/>
          <p:cNvSpPr/>
          <p:nvPr/>
        </p:nvSpPr>
        <p:spPr>
          <a:xfrm>
            <a:off x="3629160" y="3737160"/>
            <a:ext cx="114120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400" spc="-1" strike="noStrike">
                <a:solidFill>
                  <a:srgbClr val="000000"/>
                </a:solidFill>
                <a:latin typeface="方正兰亭超细黑简体"/>
                <a:ea typeface="方正兰亭超细黑简体"/>
              </a:rPr>
              <a:t>方正兰亭超细黑简体</a:t>
            </a:r>
            <a:endParaRPr b="0" lang="en-US" sz="1400" spc="-1" strike="noStrike">
              <a:solidFill>
                <a:srgbClr val="000000"/>
              </a:solidFill>
              <a:latin typeface="Arial"/>
            </a:endParaRPr>
          </a:p>
        </p:txBody>
      </p:sp>
      <p:sp>
        <p:nvSpPr>
          <p:cNvPr id="276" name="文本框 6"/>
          <p:cNvSpPr/>
          <p:nvPr/>
        </p:nvSpPr>
        <p:spPr>
          <a:xfrm>
            <a:off x="3528000" y="308664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微软雅黑"/>
                <a:ea typeface="微软雅黑"/>
              </a:rPr>
              <a:t>微软雅黑</a:t>
            </a:r>
            <a:endParaRPr b="0" lang="en-US" sz="2400" spc="-1" strike="noStrike">
              <a:solidFill>
                <a:srgbClr val="000000"/>
              </a:solidFill>
              <a:latin typeface="Arial"/>
            </a:endParaRPr>
          </a:p>
        </p:txBody>
      </p:sp>
      <p:sp>
        <p:nvSpPr>
          <p:cNvPr id="277" name="文本框 7"/>
          <p:cNvSpPr/>
          <p:nvPr/>
        </p:nvSpPr>
        <p:spPr>
          <a:xfrm>
            <a:off x="3699720" y="4159440"/>
            <a:ext cx="14155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000000"/>
                </a:solidFill>
                <a:latin typeface="方正兰亭超细黑简体"/>
                <a:ea typeface="方正兰亭超细黑简体"/>
              </a:rPr>
              <a:t>方正兰亭超细黑简体</a:t>
            </a:r>
            <a:endParaRPr b="0" lang="en-US" sz="1800" spc="-1" strike="noStrike">
              <a:solidFill>
                <a:srgbClr val="000000"/>
              </a:solidFill>
              <a:latin typeface="Arial"/>
            </a:endParaRPr>
          </a:p>
        </p:txBody>
      </p:sp>
      <p:sp>
        <p:nvSpPr>
          <p:cNvPr id="278" name="文本框 8"/>
          <p:cNvSpPr/>
          <p:nvPr/>
        </p:nvSpPr>
        <p:spPr>
          <a:xfrm>
            <a:off x="3840120" y="4543920"/>
            <a:ext cx="1827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000000"/>
                </a:solidFill>
                <a:latin typeface="方正兰亭超细黑简体"/>
                <a:ea typeface="方正兰亭超细黑简体"/>
              </a:rPr>
              <a:t>方正兰亭超细黑简体</a:t>
            </a:r>
            <a:endParaRPr b="0" lang="en-US" sz="2400" spc="-1" strike="noStrike">
              <a:solidFill>
                <a:srgbClr val="000000"/>
              </a:solidFill>
              <a:latin typeface="Arial"/>
            </a:endParaRPr>
          </a:p>
        </p:txBody>
      </p:sp>
      <p:sp>
        <p:nvSpPr>
          <p:cNvPr id="279" name="文本框 9"/>
          <p:cNvSpPr/>
          <p:nvPr/>
        </p:nvSpPr>
        <p:spPr>
          <a:xfrm>
            <a:off x="3456000" y="2221560"/>
            <a:ext cx="60768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400" spc="-1" strike="noStrike">
                <a:solidFill>
                  <a:srgbClr val="000000"/>
                </a:solidFill>
                <a:latin typeface="微软雅黑"/>
                <a:ea typeface="微软雅黑"/>
              </a:rPr>
              <a:t>微软雅黑</a:t>
            </a:r>
            <a:endParaRPr b="0" lang="en-US" sz="1400" spc="-1" strike="noStrike">
              <a:solidFill>
                <a:srgbClr val="000000"/>
              </a:solidFill>
              <a:latin typeface="Arial"/>
            </a:endParaRPr>
          </a:p>
        </p:txBody>
      </p:sp>
      <p:sp>
        <p:nvSpPr>
          <p:cNvPr id="280" name="文本框 10"/>
          <p:cNvSpPr/>
          <p:nvPr/>
        </p:nvSpPr>
        <p:spPr>
          <a:xfrm>
            <a:off x="7188840" y="2160000"/>
            <a:ext cx="4125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14</a:t>
            </a:r>
            <a:endParaRPr b="0" lang="en-US" sz="1800" spc="-1" strike="noStrike">
              <a:solidFill>
                <a:srgbClr val="000000"/>
              </a:solidFill>
              <a:latin typeface="Arial"/>
            </a:endParaRPr>
          </a:p>
        </p:txBody>
      </p:sp>
      <p:sp>
        <p:nvSpPr>
          <p:cNvPr id="281" name="文本框 11"/>
          <p:cNvSpPr/>
          <p:nvPr/>
        </p:nvSpPr>
        <p:spPr>
          <a:xfrm>
            <a:off x="7188840" y="2579400"/>
            <a:ext cx="4125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18</a:t>
            </a:r>
            <a:endParaRPr b="0" lang="en-US" sz="1800" spc="-1" strike="noStrike">
              <a:solidFill>
                <a:srgbClr val="000000"/>
              </a:solidFill>
              <a:latin typeface="Arial"/>
            </a:endParaRPr>
          </a:p>
        </p:txBody>
      </p:sp>
      <p:sp>
        <p:nvSpPr>
          <p:cNvPr id="282" name="文本框 12"/>
          <p:cNvSpPr/>
          <p:nvPr/>
        </p:nvSpPr>
        <p:spPr>
          <a:xfrm>
            <a:off x="7188840" y="3086640"/>
            <a:ext cx="4125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24</a:t>
            </a:r>
            <a:endParaRPr b="0" lang="en-US" sz="1800" spc="-1" strike="noStrike">
              <a:solidFill>
                <a:srgbClr val="000000"/>
              </a:solidFill>
              <a:latin typeface="Arial"/>
            </a:endParaRPr>
          </a:p>
        </p:txBody>
      </p:sp>
      <p:sp>
        <p:nvSpPr>
          <p:cNvPr id="283" name="文本框 13"/>
          <p:cNvSpPr/>
          <p:nvPr/>
        </p:nvSpPr>
        <p:spPr>
          <a:xfrm>
            <a:off x="7160400" y="3675600"/>
            <a:ext cx="4125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14</a:t>
            </a:r>
            <a:endParaRPr b="0" lang="en-US" sz="1800" spc="-1" strike="noStrike">
              <a:solidFill>
                <a:srgbClr val="000000"/>
              </a:solidFill>
              <a:latin typeface="Arial"/>
            </a:endParaRPr>
          </a:p>
        </p:txBody>
      </p:sp>
      <p:sp>
        <p:nvSpPr>
          <p:cNvPr id="284" name="文本框 14"/>
          <p:cNvSpPr/>
          <p:nvPr/>
        </p:nvSpPr>
        <p:spPr>
          <a:xfrm>
            <a:off x="7160400" y="4095000"/>
            <a:ext cx="4125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18</a:t>
            </a:r>
            <a:endParaRPr b="0" lang="en-US" sz="1800" spc="-1" strike="noStrike">
              <a:solidFill>
                <a:srgbClr val="000000"/>
              </a:solidFill>
              <a:latin typeface="Arial"/>
            </a:endParaRPr>
          </a:p>
        </p:txBody>
      </p:sp>
      <p:sp>
        <p:nvSpPr>
          <p:cNvPr id="285" name="文本框 15"/>
          <p:cNvSpPr/>
          <p:nvPr/>
        </p:nvSpPr>
        <p:spPr>
          <a:xfrm>
            <a:off x="7160400" y="4601880"/>
            <a:ext cx="4125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rPr>
              <a:t>24</a:t>
            </a:r>
            <a:endParaRPr b="0" lang="en-US" sz="1800" spc="-1" strike="noStrike">
              <a:solidFill>
                <a:srgbClr val="000000"/>
              </a:solidFill>
              <a:latin typeface="Arial"/>
            </a:endParaRPr>
          </a:p>
        </p:txBody>
      </p:sp>
      <p:sp>
        <p:nvSpPr>
          <p:cNvPr id="286" name="Text Box 6"/>
          <p:cNvSpPr/>
          <p:nvPr/>
        </p:nvSpPr>
        <p:spPr>
          <a:xfrm>
            <a:off x="455040" y="6675480"/>
            <a:ext cx="58273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en-US" sz="1600" spc="-1" strike="noStrike" u="sng">
                <a:solidFill>
                  <a:srgbClr val="0563c1"/>
                </a:solidFill>
                <a:uFillTx/>
                <a:latin typeface="Arial"/>
                <a:ea typeface="宋体"/>
                <a:hlinkClick r:id="rId1"/>
              </a:rPr>
              <a:t>http://www.eeppt.com/moban/</a:t>
            </a:r>
            <a:endParaRPr b="0" lang="en-US" sz="1600" spc="-1" strike="noStrike">
              <a:solidFill>
                <a:srgbClr val="000000"/>
              </a:solidFill>
              <a:latin typeface="Arial"/>
            </a:endParaRPr>
          </a:p>
        </p:txBody>
      </p:sp>
    </p:spTree>
  </p:cSld>
  <mc:AlternateContent>
    <mc:Choice Requires="p14">
      <p:transition spd="slow" advTm="0" p14:dur="2000"/>
    </mc:Choice>
    <mc:Fallback>
      <p:transition spd="slow" advTm="0"/>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文本框 3"/>
          <p:cNvSpPr/>
          <p:nvPr/>
        </p:nvSpPr>
        <p:spPr>
          <a:xfrm>
            <a:off x="852120" y="675720"/>
            <a:ext cx="866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404040"/>
                </a:solidFill>
                <a:latin typeface="微软雅黑"/>
                <a:ea typeface="微软雅黑"/>
              </a:rPr>
              <a:t>颜色标准：</a:t>
            </a:r>
            <a:endParaRPr b="0" lang="en-US" sz="1800" spc="-1" strike="noStrike">
              <a:solidFill>
                <a:srgbClr val="000000"/>
              </a:solidFill>
              <a:latin typeface="Arial"/>
            </a:endParaRPr>
          </a:p>
        </p:txBody>
      </p:sp>
      <p:sp>
        <p:nvSpPr>
          <p:cNvPr id="288" name="矩形 1"/>
          <p:cNvSpPr/>
          <p:nvPr/>
        </p:nvSpPr>
        <p:spPr>
          <a:xfrm>
            <a:off x="3240000" y="2017800"/>
            <a:ext cx="675360" cy="675360"/>
          </a:xfrm>
          <a:prstGeom prst="rect">
            <a:avLst/>
          </a:prstGeom>
          <a:solidFill>
            <a:srgbClr val="00cbd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9" name="矩形 16"/>
          <p:cNvSpPr/>
          <p:nvPr/>
        </p:nvSpPr>
        <p:spPr>
          <a:xfrm>
            <a:off x="3240000" y="2875680"/>
            <a:ext cx="675360" cy="675360"/>
          </a:xfrm>
          <a:prstGeom prst="rect">
            <a:avLst/>
          </a:prstGeom>
          <a:solidFill>
            <a:srgbClr val="f6d40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90" name="矩形 17"/>
          <p:cNvSpPr/>
          <p:nvPr/>
        </p:nvSpPr>
        <p:spPr>
          <a:xfrm>
            <a:off x="3240000" y="3733920"/>
            <a:ext cx="675360" cy="675360"/>
          </a:xfrm>
          <a:prstGeom prst="rect">
            <a:avLst/>
          </a:prstGeom>
          <a:solidFill>
            <a:schemeClr val="tx1">
              <a:lumMod val="50000"/>
              <a:lumOff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91" name="矩形 18"/>
          <p:cNvSpPr/>
          <p:nvPr/>
        </p:nvSpPr>
        <p:spPr>
          <a:xfrm>
            <a:off x="3240000" y="4591800"/>
            <a:ext cx="675360" cy="675360"/>
          </a:xfrm>
          <a:prstGeom prst="rect">
            <a:avLst/>
          </a:prstGeom>
          <a:solidFill>
            <a:schemeClr val="tx1">
              <a:lumMod val="65000"/>
              <a:lumOff val="3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92" name="文本框 2"/>
          <p:cNvSpPr/>
          <p:nvPr/>
        </p:nvSpPr>
        <p:spPr>
          <a:xfrm>
            <a:off x="4671720" y="1974600"/>
            <a:ext cx="709920" cy="72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000000"/>
                </a:solidFill>
                <a:latin typeface="微软雅黑"/>
                <a:ea typeface="微软雅黑"/>
              </a:rPr>
              <a:t>R: 0</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微软雅黑"/>
                <a:ea typeface="微软雅黑"/>
              </a:rPr>
              <a:t>G: 203</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微软雅黑"/>
                <a:ea typeface="微软雅黑"/>
              </a:rPr>
              <a:t>B: 209</a:t>
            </a:r>
            <a:endParaRPr b="0" lang="en-US" sz="1400" spc="-1" strike="noStrike">
              <a:solidFill>
                <a:srgbClr val="000000"/>
              </a:solidFill>
              <a:latin typeface="Arial"/>
            </a:endParaRPr>
          </a:p>
        </p:txBody>
      </p:sp>
      <p:sp>
        <p:nvSpPr>
          <p:cNvPr id="293" name="文本框 19"/>
          <p:cNvSpPr/>
          <p:nvPr/>
        </p:nvSpPr>
        <p:spPr>
          <a:xfrm>
            <a:off x="4676400" y="2844360"/>
            <a:ext cx="709920" cy="72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000000"/>
                </a:solidFill>
                <a:latin typeface="微软雅黑"/>
                <a:ea typeface="微软雅黑"/>
              </a:rPr>
              <a:t>R: 246</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微软雅黑"/>
                <a:ea typeface="微软雅黑"/>
              </a:rPr>
              <a:t>G: 212</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微软雅黑"/>
                <a:ea typeface="微软雅黑"/>
              </a:rPr>
              <a:t>B: 3</a:t>
            </a:r>
            <a:endParaRPr b="0" lang="en-US" sz="1400" spc="-1" strike="noStrike">
              <a:solidFill>
                <a:srgbClr val="000000"/>
              </a:solidFill>
              <a:latin typeface="Arial"/>
            </a:endParaRPr>
          </a:p>
        </p:txBody>
      </p:sp>
      <p:sp>
        <p:nvSpPr>
          <p:cNvPr id="294" name="文本框 20"/>
          <p:cNvSpPr/>
          <p:nvPr/>
        </p:nvSpPr>
        <p:spPr>
          <a:xfrm>
            <a:off x="4676400" y="3717360"/>
            <a:ext cx="709920" cy="72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000000"/>
                </a:solidFill>
                <a:latin typeface="微软雅黑"/>
                <a:ea typeface="微软雅黑"/>
              </a:rPr>
              <a:t>R: 127</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微软雅黑"/>
                <a:ea typeface="微软雅黑"/>
              </a:rPr>
              <a:t>G: 127</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微软雅黑"/>
                <a:ea typeface="微软雅黑"/>
              </a:rPr>
              <a:t>B: 127</a:t>
            </a:r>
            <a:endParaRPr b="0" lang="en-US" sz="1400" spc="-1" strike="noStrike">
              <a:solidFill>
                <a:srgbClr val="000000"/>
              </a:solidFill>
              <a:latin typeface="Arial"/>
            </a:endParaRPr>
          </a:p>
        </p:txBody>
      </p:sp>
      <p:sp>
        <p:nvSpPr>
          <p:cNvPr id="295" name="文本框 21"/>
          <p:cNvSpPr/>
          <p:nvPr/>
        </p:nvSpPr>
        <p:spPr>
          <a:xfrm>
            <a:off x="4669920" y="4560480"/>
            <a:ext cx="607680" cy="72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000000"/>
                </a:solidFill>
                <a:latin typeface="微软雅黑"/>
                <a:ea typeface="微软雅黑"/>
              </a:rPr>
              <a:t>R: 89</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微软雅黑"/>
                <a:ea typeface="微软雅黑"/>
              </a:rPr>
              <a:t>G: 89</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微软雅黑"/>
                <a:ea typeface="微软雅黑"/>
              </a:rPr>
              <a:t>B: 89</a:t>
            </a:r>
            <a:endParaRPr b="0" lang="en-US" sz="1400" spc="-1" strike="noStrike">
              <a:solidFill>
                <a:srgbClr val="000000"/>
              </a:solidFill>
              <a:latin typeface="Arial"/>
            </a:endParaRPr>
          </a:p>
        </p:txBody>
      </p:sp>
    </p:spTree>
  </p:cSld>
  <mc:AlternateContent>
    <mc:Choice Requires="p14">
      <p:transition spd="slow" advTm="0" p14:dur="2000"/>
    </mc:Choice>
    <mc:Fallback>
      <p:transition spd="slow" advTm="0"/>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KSO_Shape"/>
          <p:cNvSpPr/>
          <p:nvPr/>
        </p:nvSpPr>
        <p:spPr>
          <a:xfrm>
            <a:off x="1775880" y="2935800"/>
            <a:ext cx="1126800" cy="1121400"/>
          </a:xfrm>
          <a:custGeom>
            <a:avLst/>
            <a:gdLst>
              <a:gd name="textAreaLeft" fmla="*/ 0 w 1126800"/>
              <a:gd name="textAreaRight" fmla="*/ 1127160 w 1126800"/>
              <a:gd name="textAreaTop" fmla="*/ 0 h 1121400"/>
              <a:gd name="textAreaBottom" fmla="*/ 1121760 h 1121400"/>
            </a:gdLst>
            <a:ahLst/>
            <a:rect l="textAreaLeft" t="textAreaTop" r="textAreaRight" b="textAreaBottom"/>
            <a:pathLst>
              <a:path w="1828800" h="1820863">
                <a:moveTo>
                  <a:pt x="1103566" y="1358900"/>
                </a:moveTo>
                <a:lnTo>
                  <a:pt x="1100068" y="1364309"/>
                </a:lnTo>
                <a:lnTo>
                  <a:pt x="1097207" y="1370036"/>
                </a:lnTo>
                <a:lnTo>
                  <a:pt x="1094345" y="1375762"/>
                </a:lnTo>
                <a:lnTo>
                  <a:pt x="1092120" y="1381489"/>
                </a:lnTo>
                <a:lnTo>
                  <a:pt x="1090212" y="1387852"/>
                </a:lnTo>
                <a:lnTo>
                  <a:pt x="1088622" y="1393579"/>
                </a:lnTo>
                <a:lnTo>
                  <a:pt x="1087032" y="1399624"/>
                </a:lnTo>
                <a:lnTo>
                  <a:pt x="1086397" y="1405987"/>
                </a:lnTo>
                <a:lnTo>
                  <a:pt x="1085443" y="1412032"/>
                </a:lnTo>
                <a:lnTo>
                  <a:pt x="1085125" y="1418395"/>
                </a:lnTo>
                <a:lnTo>
                  <a:pt x="1085125" y="1425077"/>
                </a:lnTo>
                <a:lnTo>
                  <a:pt x="1085443" y="1431758"/>
                </a:lnTo>
                <a:lnTo>
                  <a:pt x="1086079" y="1438121"/>
                </a:lnTo>
                <a:lnTo>
                  <a:pt x="1086715" y="1445120"/>
                </a:lnTo>
                <a:lnTo>
                  <a:pt x="1088940" y="1459437"/>
                </a:lnTo>
                <a:lnTo>
                  <a:pt x="1092120" y="1474073"/>
                </a:lnTo>
                <a:lnTo>
                  <a:pt x="1096253" y="1489344"/>
                </a:lnTo>
                <a:lnTo>
                  <a:pt x="1101340" y="1505570"/>
                </a:lnTo>
                <a:lnTo>
                  <a:pt x="1107063" y="1522432"/>
                </a:lnTo>
                <a:lnTo>
                  <a:pt x="1113740" y="1540249"/>
                </a:lnTo>
                <a:lnTo>
                  <a:pt x="1121053" y="1559020"/>
                </a:lnTo>
                <a:lnTo>
                  <a:pt x="1136632" y="1598790"/>
                </a:lnTo>
                <a:lnTo>
                  <a:pt x="1140766" y="1609607"/>
                </a:lnTo>
                <a:lnTo>
                  <a:pt x="1143627" y="1620106"/>
                </a:lnTo>
                <a:lnTo>
                  <a:pt x="1145853" y="1630287"/>
                </a:lnTo>
                <a:lnTo>
                  <a:pt x="1148078" y="1640787"/>
                </a:lnTo>
                <a:lnTo>
                  <a:pt x="1148714" y="1650650"/>
                </a:lnTo>
                <a:lnTo>
                  <a:pt x="1149350" y="1661149"/>
                </a:lnTo>
                <a:lnTo>
                  <a:pt x="1149350" y="1671012"/>
                </a:lnTo>
                <a:lnTo>
                  <a:pt x="1148714" y="1680874"/>
                </a:lnTo>
                <a:lnTo>
                  <a:pt x="1148078" y="1690419"/>
                </a:lnTo>
                <a:lnTo>
                  <a:pt x="1146489" y="1699964"/>
                </a:lnTo>
                <a:lnTo>
                  <a:pt x="1144581" y="1709190"/>
                </a:lnTo>
                <a:lnTo>
                  <a:pt x="1142673" y="1718417"/>
                </a:lnTo>
                <a:lnTo>
                  <a:pt x="1139812" y="1727325"/>
                </a:lnTo>
                <a:lnTo>
                  <a:pt x="1137268" y="1735915"/>
                </a:lnTo>
                <a:lnTo>
                  <a:pt x="1134407" y="1743869"/>
                </a:lnTo>
                <a:lnTo>
                  <a:pt x="1131227" y="1752141"/>
                </a:lnTo>
                <a:lnTo>
                  <a:pt x="1128048" y="1759777"/>
                </a:lnTo>
                <a:lnTo>
                  <a:pt x="1124868" y="1766777"/>
                </a:lnTo>
                <a:lnTo>
                  <a:pt x="1117873" y="1780139"/>
                </a:lnTo>
                <a:lnTo>
                  <a:pt x="1111514" y="1792229"/>
                </a:lnTo>
                <a:lnTo>
                  <a:pt x="1105155" y="1802092"/>
                </a:lnTo>
                <a:lnTo>
                  <a:pt x="1099750" y="1810046"/>
                </a:lnTo>
                <a:lnTo>
                  <a:pt x="1095617" y="1816091"/>
                </a:lnTo>
                <a:lnTo>
                  <a:pt x="1091802" y="1820863"/>
                </a:lnTo>
                <a:lnTo>
                  <a:pt x="1096253" y="1809091"/>
                </a:lnTo>
                <a:lnTo>
                  <a:pt x="1099750" y="1797001"/>
                </a:lnTo>
                <a:lnTo>
                  <a:pt x="1102930" y="1785548"/>
                </a:lnTo>
                <a:lnTo>
                  <a:pt x="1105155" y="1774094"/>
                </a:lnTo>
                <a:lnTo>
                  <a:pt x="1106745" y="1762322"/>
                </a:lnTo>
                <a:lnTo>
                  <a:pt x="1108017" y="1751187"/>
                </a:lnTo>
                <a:lnTo>
                  <a:pt x="1108335" y="1739733"/>
                </a:lnTo>
                <a:lnTo>
                  <a:pt x="1108335" y="1728916"/>
                </a:lnTo>
                <a:lnTo>
                  <a:pt x="1107381" y="1717780"/>
                </a:lnTo>
                <a:lnTo>
                  <a:pt x="1106427" y="1706963"/>
                </a:lnTo>
                <a:lnTo>
                  <a:pt x="1104838" y="1696464"/>
                </a:lnTo>
                <a:lnTo>
                  <a:pt x="1102930" y="1686283"/>
                </a:lnTo>
                <a:lnTo>
                  <a:pt x="1100068" y="1675784"/>
                </a:lnTo>
                <a:lnTo>
                  <a:pt x="1097525" y="1665921"/>
                </a:lnTo>
                <a:lnTo>
                  <a:pt x="1094345" y="1656058"/>
                </a:lnTo>
                <a:lnTo>
                  <a:pt x="1090530" y="1646513"/>
                </a:lnTo>
                <a:lnTo>
                  <a:pt x="1086715" y="1637287"/>
                </a:lnTo>
                <a:lnTo>
                  <a:pt x="1082899" y="1628060"/>
                </a:lnTo>
                <a:lnTo>
                  <a:pt x="1078130" y="1619152"/>
                </a:lnTo>
                <a:lnTo>
                  <a:pt x="1073679" y="1610562"/>
                </a:lnTo>
                <a:lnTo>
                  <a:pt x="1068909" y="1602608"/>
                </a:lnTo>
                <a:lnTo>
                  <a:pt x="1064140" y="1594654"/>
                </a:lnTo>
                <a:lnTo>
                  <a:pt x="1059053" y="1586700"/>
                </a:lnTo>
                <a:lnTo>
                  <a:pt x="1053966" y="1579382"/>
                </a:lnTo>
                <a:lnTo>
                  <a:pt x="1048561" y="1572701"/>
                </a:lnTo>
                <a:lnTo>
                  <a:pt x="1043156" y="1565702"/>
                </a:lnTo>
                <a:lnTo>
                  <a:pt x="1032981" y="1553294"/>
                </a:lnTo>
                <a:lnTo>
                  <a:pt x="1022489" y="1542476"/>
                </a:lnTo>
                <a:lnTo>
                  <a:pt x="1012314" y="1533250"/>
                </a:lnTo>
                <a:lnTo>
                  <a:pt x="1007545" y="1529114"/>
                </a:lnTo>
                <a:lnTo>
                  <a:pt x="1002776" y="1524341"/>
                </a:lnTo>
                <a:lnTo>
                  <a:pt x="993873" y="1514797"/>
                </a:lnTo>
                <a:lnTo>
                  <a:pt x="985607" y="1504934"/>
                </a:lnTo>
                <a:lnTo>
                  <a:pt x="977340" y="1494117"/>
                </a:lnTo>
                <a:lnTo>
                  <a:pt x="969709" y="1482981"/>
                </a:lnTo>
                <a:lnTo>
                  <a:pt x="962714" y="1472164"/>
                </a:lnTo>
                <a:lnTo>
                  <a:pt x="956355" y="1461028"/>
                </a:lnTo>
                <a:lnTo>
                  <a:pt x="949996" y="1450529"/>
                </a:lnTo>
                <a:lnTo>
                  <a:pt x="944273" y="1440030"/>
                </a:lnTo>
                <a:lnTo>
                  <a:pt x="939822" y="1430485"/>
                </a:lnTo>
                <a:lnTo>
                  <a:pt x="931555" y="1413941"/>
                </a:lnTo>
                <a:lnTo>
                  <a:pt x="926150" y="1402487"/>
                </a:lnTo>
                <a:lnTo>
                  <a:pt x="923925" y="1396443"/>
                </a:lnTo>
                <a:lnTo>
                  <a:pt x="935371" y="1396443"/>
                </a:lnTo>
                <a:lnTo>
                  <a:pt x="946499" y="1396124"/>
                </a:lnTo>
                <a:lnTo>
                  <a:pt x="958263" y="1395488"/>
                </a:lnTo>
                <a:lnTo>
                  <a:pt x="969709" y="1394534"/>
                </a:lnTo>
                <a:lnTo>
                  <a:pt x="981155" y="1393261"/>
                </a:lnTo>
                <a:lnTo>
                  <a:pt x="992919" y="1391670"/>
                </a:lnTo>
                <a:lnTo>
                  <a:pt x="1004366" y="1389761"/>
                </a:lnTo>
                <a:lnTo>
                  <a:pt x="1015812" y="1387216"/>
                </a:lnTo>
                <a:lnTo>
                  <a:pt x="1027576" y="1384671"/>
                </a:lnTo>
                <a:lnTo>
                  <a:pt x="1038704" y="1381807"/>
                </a:lnTo>
                <a:lnTo>
                  <a:pt x="1049833" y="1378626"/>
                </a:lnTo>
                <a:lnTo>
                  <a:pt x="1060961" y="1375126"/>
                </a:lnTo>
                <a:lnTo>
                  <a:pt x="1071771" y="1371626"/>
                </a:lnTo>
                <a:lnTo>
                  <a:pt x="1082581" y="1367172"/>
                </a:lnTo>
                <a:lnTo>
                  <a:pt x="1093391" y="1363036"/>
                </a:lnTo>
                <a:lnTo>
                  <a:pt x="1103566" y="1358900"/>
                </a:lnTo>
                <a:close/>
                <a:moveTo>
                  <a:pt x="728374" y="1358900"/>
                </a:moveTo>
                <a:lnTo>
                  <a:pt x="739187" y="1363351"/>
                </a:lnTo>
                <a:lnTo>
                  <a:pt x="749363" y="1367485"/>
                </a:lnTo>
                <a:lnTo>
                  <a:pt x="760175" y="1371936"/>
                </a:lnTo>
                <a:lnTo>
                  <a:pt x="771306" y="1375433"/>
                </a:lnTo>
                <a:lnTo>
                  <a:pt x="782118" y="1378931"/>
                </a:lnTo>
                <a:lnTo>
                  <a:pt x="793248" y="1382110"/>
                </a:lnTo>
                <a:lnTo>
                  <a:pt x="805015" y="1384971"/>
                </a:lnTo>
                <a:lnTo>
                  <a:pt x="816463" y="1387515"/>
                </a:lnTo>
                <a:lnTo>
                  <a:pt x="827911" y="1390059"/>
                </a:lnTo>
                <a:lnTo>
                  <a:pt x="839678" y="1391966"/>
                </a:lnTo>
                <a:lnTo>
                  <a:pt x="850808" y="1393556"/>
                </a:lnTo>
                <a:lnTo>
                  <a:pt x="862256" y="1394828"/>
                </a:lnTo>
                <a:lnTo>
                  <a:pt x="873705" y="1395782"/>
                </a:lnTo>
                <a:lnTo>
                  <a:pt x="885471" y="1396417"/>
                </a:lnTo>
                <a:lnTo>
                  <a:pt x="896601" y="1396735"/>
                </a:lnTo>
                <a:lnTo>
                  <a:pt x="908050" y="1397371"/>
                </a:lnTo>
                <a:lnTo>
                  <a:pt x="902644" y="1401187"/>
                </a:lnTo>
                <a:lnTo>
                  <a:pt x="897873" y="1405002"/>
                </a:lnTo>
                <a:lnTo>
                  <a:pt x="892785" y="1409135"/>
                </a:lnTo>
                <a:lnTo>
                  <a:pt x="888333" y="1413586"/>
                </a:lnTo>
                <a:lnTo>
                  <a:pt x="884199" y="1418038"/>
                </a:lnTo>
                <a:lnTo>
                  <a:pt x="880065" y="1423125"/>
                </a:lnTo>
                <a:lnTo>
                  <a:pt x="876567" y="1428212"/>
                </a:lnTo>
                <a:lnTo>
                  <a:pt x="873069" y="1432981"/>
                </a:lnTo>
                <a:lnTo>
                  <a:pt x="869889" y="1438386"/>
                </a:lnTo>
                <a:lnTo>
                  <a:pt x="867027" y="1444109"/>
                </a:lnTo>
                <a:lnTo>
                  <a:pt x="864164" y="1449832"/>
                </a:lnTo>
                <a:lnTo>
                  <a:pt x="861938" y="1456191"/>
                </a:lnTo>
                <a:lnTo>
                  <a:pt x="859712" y="1462550"/>
                </a:lnTo>
                <a:lnTo>
                  <a:pt x="857168" y="1469226"/>
                </a:lnTo>
                <a:lnTo>
                  <a:pt x="853988" y="1483216"/>
                </a:lnTo>
                <a:lnTo>
                  <a:pt x="850808" y="1498159"/>
                </a:lnTo>
                <a:lnTo>
                  <a:pt x="848582" y="1513739"/>
                </a:lnTo>
                <a:lnTo>
                  <a:pt x="846674" y="1530272"/>
                </a:lnTo>
                <a:lnTo>
                  <a:pt x="844448" y="1548077"/>
                </a:lnTo>
                <a:lnTo>
                  <a:pt x="843494" y="1566835"/>
                </a:lnTo>
                <a:lnTo>
                  <a:pt x="842222" y="1586866"/>
                </a:lnTo>
                <a:lnTo>
                  <a:pt x="840632" y="1630106"/>
                </a:lnTo>
                <a:lnTo>
                  <a:pt x="839996" y="1641234"/>
                </a:lnTo>
                <a:lnTo>
                  <a:pt x="838406" y="1652044"/>
                </a:lnTo>
                <a:lnTo>
                  <a:pt x="836498" y="1662536"/>
                </a:lnTo>
                <a:lnTo>
                  <a:pt x="833954" y="1672392"/>
                </a:lnTo>
                <a:lnTo>
                  <a:pt x="830773" y="1682567"/>
                </a:lnTo>
                <a:lnTo>
                  <a:pt x="826957" y="1691787"/>
                </a:lnTo>
                <a:lnTo>
                  <a:pt x="823141" y="1701007"/>
                </a:lnTo>
                <a:lnTo>
                  <a:pt x="818371" y="1709910"/>
                </a:lnTo>
                <a:lnTo>
                  <a:pt x="813283" y="1718176"/>
                </a:lnTo>
                <a:lnTo>
                  <a:pt x="808513" y="1726443"/>
                </a:lnTo>
                <a:lnTo>
                  <a:pt x="803107" y="1734073"/>
                </a:lnTo>
                <a:lnTo>
                  <a:pt x="797382" y="1741386"/>
                </a:lnTo>
                <a:lnTo>
                  <a:pt x="791340" y="1748699"/>
                </a:lnTo>
                <a:lnTo>
                  <a:pt x="785298" y="1755058"/>
                </a:lnTo>
                <a:lnTo>
                  <a:pt x="779574" y="1761417"/>
                </a:lnTo>
                <a:lnTo>
                  <a:pt x="773532" y="1767458"/>
                </a:lnTo>
                <a:lnTo>
                  <a:pt x="767171" y="1773180"/>
                </a:lnTo>
                <a:lnTo>
                  <a:pt x="761447" y="1778268"/>
                </a:lnTo>
                <a:lnTo>
                  <a:pt x="749999" y="1787806"/>
                </a:lnTo>
                <a:lnTo>
                  <a:pt x="739187" y="1796072"/>
                </a:lnTo>
                <a:lnTo>
                  <a:pt x="729646" y="1802431"/>
                </a:lnTo>
                <a:lnTo>
                  <a:pt x="721060" y="1807836"/>
                </a:lnTo>
                <a:lnTo>
                  <a:pt x="715018" y="1811334"/>
                </a:lnTo>
                <a:lnTo>
                  <a:pt x="709612" y="1814513"/>
                </a:lnTo>
                <a:lnTo>
                  <a:pt x="718198" y="1805293"/>
                </a:lnTo>
                <a:lnTo>
                  <a:pt x="726466" y="1796072"/>
                </a:lnTo>
                <a:lnTo>
                  <a:pt x="733780" y="1786852"/>
                </a:lnTo>
                <a:lnTo>
                  <a:pt x="740777" y="1776996"/>
                </a:lnTo>
                <a:lnTo>
                  <a:pt x="746819" y="1767140"/>
                </a:lnTo>
                <a:lnTo>
                  <a:pt x="752543" y="1756965"/>
                </a:lnTo>
                <a:lnTo>
                  <a:pt x="757631" y="1747109"/>
                </a:lnTo>
                <a:lnTo>
                  <a:pt x="761765" y="1736935"/>
                </a:lnTo>
                <a:lnTo>
                  <a:pt x="765581" y="1726761"/>
                </a:lnTo>
                <a:lnTo>
                  <a:pt x="769080" y="1716269"/>
                </a:lnTo>
                <a:lnTo>
                  <a:pt x="771942" y="1706412"/>
                </a:lnTo>
                <a:lnTo>
                  <a:pt x="774168" y="1695920"/>
                </a:lnTo>
                <a:lnTo>
                  <a:pt x="776076" y="1685428"/>
                </a:lnTo>
                <a:lnTo>
                  <a:pt x="777666" y="1675254"/>
                </a:lnTo>
                <a:lnTo>
                  <a:pt x="778620" y="1664762"/>
                </a:lnTo>
                <a:lnTo>
                  <a:pt x="779256" y="1654588"/>
                </a:lnTo>
                <a:lnTo>
                  <a:pt x="779574" y="1644731"/>
                </a:lnTo>
                <a:lnTo>
                  <a:pt x="779574" y="1634557"/>
                </a:lnTo>
                <a:lnTo>
                  <a:pt x="779256" y="1625019"/>
                </a:lnTo>
                <a:lnTo>
                  <a:pt x="778302" y="1615163"/>
                </a:lnTo>
                <a:lnTo>
                  <a:pt x="777348" y="1605942"/>
                </a:lnTo>
                <a:lnTo>
                  <a:pt x="776076" y="1596722"/>
                </a:lnTo>
                <a:lnTo>
                  <a:pt x="774486" y="1587501"/>
                </a:lnTo>
                <a:lnTo>
                  <a:pt x="772896" y="1578599"/>
                </a:lnTo>
                <a:lnTo>
                  <a:pt x="770988" y="1570015"/>
                </a:lnTo>
                <a:lnTo>
                  <a:pt x="768762" y="1562066"/>
                </a:lnTo>
                <a:lnTo>
                  <a:pt x="763991" y="1546169"/>
                </a:lnTo>
                <a:lnTo>
                  <a:pt x="759221" y="1531861"/>
                </a:lnTo>
                <a:lnTo>
                  <a:pt x="753815" y="1519144"/>
                </a:lnTo>
                <a:lnTo>
                  <a:pt x="750953" y="1513421"/>
                </a:lnTo>
                <a:lnTo>
                  <a:pt x="748727" y="1507698"/>
                </a:lnTo>
                <a:lnTo>
                  <a:pt x="744593" y="1495298"/>
                </a:lnTo>
                <a:lnTo>
                  <a:pt x="741095" y="1482262"/>
                </a:lnTo>
                <a:lnTo>
                  <a:pt x="737915" y="1469544"/>
                </a:lnTo>
                <a:lnTo>
                  <a:pt x="735371" y="1456509"/>
                </a:lnTo>
                <a:lnTo>
                  <a:pt x="733462" y="1443473"/>
                </a:lnTo>
                <a:lnTo>
                  <a:pt x="731872" y="1430755"/>
                </a:lnTo>
                <a:lnTo>
                  <a:pt x="730282" y="1418355"/>
                </a:lnTo>
                <a:lnTo>
                  <a:pt x="729646" y="1406910"/>
                </a:lnTo>
                <a:lnTo>
                  <a:pt x="728692" y="1396099"/>
                </a:lnTo>
                <a:lnTo>
                  <a:pt x="728374" y="1377659"/>
                </a:lnTo>
                <a:lnTo>
                  <a:pt x="728374" y="1364941"/>
                </a:lnTo>
                <a:lnTo>
                  <a:pt x="728374" y="1358900"/>
                </a:lnTo>
                <a:close/>
                <a:moveTo>
                  <a:pt x="1266049" y="1244600"/>
                </a:moveTo>
                <a:lnTo>
                  <a:pt x="1265097" y="1251282"/>
                </a:lnTo>
                <a:lnTo>
                  <a:pt x="1264780" y="1257647"/>
                </a:lnTo>
                <a:lnTo>
                  <a:pt x="1264780" y="1264011"/>
                </a:lnTo>
                <a:lnTo>
                  <a:pt x="1264780" y="1270057"/>
                </a:lnTo>
                <a:lnTo>
                  <a:pt x="1265414" y="1276103"/>
                </a:lnTo>
                <a:lnTo>
                  <a:pt x="1266366" y="1282467"/>
                </a:lnTo>
                <a:lnTo>
                  <a:pt x="1267952" y="1288513"/>
                </a:lnTo>
                <a:lnTo>
                  <a:pt x="1269221" y="1294559"/>
                </a:lnTo>
                <a:lnTo>
                  <a:pt x="1271124" y="1300605"/>
                </a:lnTo>
                <a:lnTo>
                  <a:pt x="1273662" y="1306651"/>
                </a:lnTo>
                <a:lnTo>
                  <a:pt x="1276199" y="1312379"/>
                </a:lnTo>
                <a:lnTo>
                  <a:pt x="1279054" y="1318743"/>
                </a:lnTo>
                <a:lnTo>
                  <a:pt x="1281909" y="1324471"/>
                </a:lnTo>
                <a:lnTo>
                  <a:pt x="1285398" y="1330517"/>
                </a:lnTo>
                <a:lnTo>
                  <a:pt x="1293645" y="1342609"/>
                </a:lnTo>
                <a:lnTo>
                  <a:pt x="1302527" y="1354701"/>
                </a:lnTo>
                <a:lnTo>
                  <a:pt x="1312360" y="1367111"/>
                </a:lnTo>
                <a:lnTo>
                  <a:pt x="1323462" y="1379839"/>
                </a:lnTo>
                <a:lnTo>
                  <a:pt x="1335832" y="1392886"/>
                </a:lnTo>
                <a:lnTo>
                  <a:pt x="1348838" y="1406569"/>
                </a:lnTo>
                <a:lnTo>
                  <a:pt x="1363111" y="1420570"/>
                </a:lnTo>
                <a:lnTo>
                  <a:pt x="1393880" y="1450800"/>
                </a:lnTo>
                <a:lnTo>
                  <a:pt x="1401492" y="1458755"/>
                </a:lnTo>
                <a:lnTo>
                  <a:pt x="1408471" y="1467029"/>
                </a:lnTo>
                <a:lnTo>
                  <a:pt x="1414815" y="1475302"/>
                </a:lnTo>
                <a:lnTo>
                  <a:pt x="1420524" y="1484212"/>
                </a:lnTo>
                <a:lnTo>
                  <a:pt x="1425599" y="1493122"/>
                </a:lnTo>
                <a:lnTo>
                  <a:pt x="1430357" y="1502350"/>
                </a:lnTo>
                <a:lnTo>
                  <a:pt x="1434481" y="1511578"/>
                </a:lnTo>
                <a:lnTo>
                  <a:pt x="1437970" y="1520806"/>
                </a:lnTo>
                <a:lnTo>
                  <a:pt x="1440825" y="1530035"/>
                </a:lnTo>
                <a:lnTo>
                  <a:pt x="1443362" y="1539263"/>
                </a:lnTo>
                <a:lnTo>
                  <a:pt x="1445583" y="1548491"/>
                </a:lnTo>
                <a:lnTo>
                  <a:pt x="1447169" y="1557401"/>
                </a:lnTo>
                <a:lnTo>
                  <a:pt x="1448755" y="1566629"/>
                </a:lnTo>
                <a:lnTo>
                  <a:pt x="1449389" y="1575539"/>
                </a:lnTo>
                <a:lnTo>
                  <a:pt x="1450341" y="1584449"/>
                </a:lnTo>
                <a:lnTo>
                  <a:pt x="1450658" y="1592722"/>
                </a:lnTo>
                <a:lnTo>
                  <a:pt x="1450975" y="1600995"/>
                </a:lnTo>
                <a:lnTo>
                  <a:pt x="1450658" y="1608951"/>
                </a:lnTo>
                <a:lnTo>
                  <a:pt x="1450341" y="1623907"/>
                </a:lnTo>
                <a:lnTo>
                  <a:pt x="1448755" y="1637590"/>
                </a:lnTo>
                <a:lnTo>
                  <a:pt x="1447169" y="1649045"/>
                </a:lnTo>
                <a:lnTo>
                  <a:pt x="1445583" y="1658592"/>
                </a:lnTo>
                <a:lnTo>
                  <a:pt x="1443997" y="1665592"/>
                </a:lnTo>
                <a:lnTo>
                  <a:pt x="1443045" y="1671638"/>
                </a:lnTo>
                <a:lnTo>
                  <a:pt x="1442094" y="1659228"/>
                </a:lnTo>
                <a:lnTo>
                  <a:pt x="1440508" y="1646818"/>
                </a:lnTo>
                <a:lnTo>
                  <a:pt x="1438605" y="1634726"/>
                </a:lnTo>
                <a:lnTo>
                  <a:pt x="1436067" y="1623270"/>
                </a:lnTo>
                <a:lnTo>
                  <a:pt x="1432895" y="1612133"/>
                </a:lnTo>
                <a:lnTo>
                  <a:pt x="1429089" y="1601314"/>
                </a:lnTo>
                <a:lnTo>
                  <a:pt x="1424965" y="1590813"/>
                </a:lnTo>
                <a:lnTo>
                  <a:pt x="1420207" y="1580948"/>
                </a:lnTo>
                <a:lnTo>
                  <a:pt x="1415132" y="1571402"/>
                </a:lnTo>
                <a:lnTo>
                  <a:pt x="1409740" y="1561537"/>
                </a:lnTo>
                <a:lnTo>
                  <a:pt x="1404030" y="1552628"/>
                </a:lnTo>
                <a:lnTo>
                  <a:pt x="1398003" y="1544036"/>
                </a:lnTo>
                <a:lnTo>
                  <a:pt x="1391976" y="1535762"/>
                </a:lnTo>
                <a:lnTo>
                  <a:pt x="1384998" y="1527807"/>
                </a:lnTo>
                <a:lnTo>
                  <a:pt x="1378020" y="1520170"/>
                </a:lnTo>
                <a:lnTo>
                  <a:pt x="1371041" y="1512851"/>
                </a:lnTo>
                <a:lnTo>
                  <a:pt x="1363746" y="1505851"/>
                </a:lnTo>
                <a:lnTo>
                  <a:pt x="1356450" y="1499168"/>
                </a:lnTo>
                <a:lnTo>
                  <a:pt x="1348838" y="1493122"/>
                </a:lnTo>
                <a:lnTo>
                  <a:pt x="1341225" y="1486758"/>
                </a:lnTo>
                <a:lnTo>
                  <a:pt x="1333612" y="1481667"/>
                </a:lnTo>
                <a:lnTo>
                  <a:pt x="1325682" y="1476257"/>
                </a:lnTo>
                <a:lnTo>
                  <a:pt x="1318069" y="1471166"/>
                </a:lnTo>
                <a:lnTo>
                  <a:pt x="1310457" y="1466393"/>
                </a:lnTo>
                <a:lnTo>
                  <a:pt x="1302844" y="1462256"/>
                </a:lnTo>
                <a:lnTo>
                  <a:pt x="1295231" y="1458437"/>
                </a:lnTo>
                <a:lnTo>
                  <a:pt x="1280640" y="1451437"/>
                </a:lnTo>
                <a:lnTo>
                  <a:pt x="1266683" y="1445709"/>
                </a:lnTo>
                <a:lnTo>
                  <a:pt x="1253678" y="1440936"/>
                </a:lnTo>
                <a:lnTo>
                  <a:pt x="1247334" y="1439026"/>
                </a:lnTo>
                <a:lnTo>
                  <a:pt x="1241625" y="1436799"/>
                </a:lnTo>
                <a:lnTo>
                  <a:pt x="1229571" y="1431708"/>
                </a:lnTo>
                <a:lnTo>
                  <a:pt x="1217518" y="1425980"/>
                </a:lnTo>
                <a:lnTo>
                  <a:pt x="1206098" y="1419616"/>
                </a:lnTo>
                <a:lnTo>
                  <a:pt x="1194362" y="1412615"/>
                </a:lnTo>
                <a:lnTo>
                  <a:pt x="1183577" y="1405614"/>
                </a:lnTo>
                <a:lnTo>
                  <a:pt x="1173110" y="1398296"/>
                </a:lnTo>
                <a:lnTo>
                  <a:pt x="1163277" y="1390977"/>
                </a:lnTo>
                <a:lnTo>
                  <a:pt x="1154078" y="1383976"/>
                </a:lnTo>
                <a:lnTo>
                  <a:pt x="1145831" y="1377294"/>
                </a:lnTo>
                <a:lnTo>
                  <a:pt x="1131874" y="1365202"/>
                </a:lnTo>
                <a:lnTo>
                  <a:pt x="1122358" y="1356610"/>
                </a:lnTo>
                <a:lnTo>
                  <a:pt x="1117600" y="1352473"/>
                </a:lnTo>
                <a:lnTo>
                  <a:pt x="1128068" y="1348018"/>
                </a:lnTo>
                <a:lnTo>
                  <a:pt x="1138535" y="1342927"/>
                </a:lnTo>
                <a:lnTo>
                  <a:pt x="1148368" y="1337517"/>
                </a:lnTo>
                <a:lnTo>
                  <a:pt x="1158836" y="1331790"/>
                </a:lnTo>
                <a:lnTo>
                  <a:pt x="1168352" y="1326062"/>
                </a:lnTo>
                <a:lnTo>
                  <a:pt x="1178502" y="1319698"/>
                </a:lnTo>
                <a:lnTo>
                  <a:pt x="1188335" y="1313333"/>
                </a:lnTo>
                <a:lnTo>
                  <a:pt x="1197851" y="1306333"/>
                </a:lnTo>
                <a:lnTo>
                  <a:pt x="1207050" y="1299332"/>
                </a:lnTo>
                <a:lnTo>
                  <a:pt x="1216249" y="1292013"/>
                </a:lnTo>
                <a:lnTo>
                  <a:pt x="1225130" y="1284695"/>
                </a:lnTo>
                <a:lnTo>
                  <a:pt x="1233695" y="1277057"/>
                </a:lnTo>
                <a:lnTo>
                  <a:pt x="1241942" y="1269420"/>
                </a:lnTo>
                <a:lnTo>
                  <a:pt x="1250506" y="1261147"/>
                </a:lnTo>
                <a:lnTo>
                  <a:pt x="1258119" y="1253192"/>
                </a:lnTo>
                <a:lnTo>
                  <a:pt x="1266049" y="1244600"/>
                </a:lnTo>
                <a:close/>
                <a:moveTo>
                  <a:pt x="566102" y="1244600"/>
                </a:moveTo>
                <a:lnTo>
                  <a:pt x="573722" y="1253179"/>
                </a:lnTo>
                <a:lnTo>
                  <a:pt x="581660" y="1261123"/>
                </a:lnTo>
                <a:lnTo>
                  <a:pt x="589915" y="1269384"/>
                </a:lnTo>
                <a:lnTo>
                  <a:pt x="598170" y="1277010"/>
                </a:lnTo>
                <a:lnTo>
                  <a:pt x="607060" y="1284636"/>
                </a:lnTo>
                <a:lnTo>
                  <a:pt x="615950" y="1292262"/>
                </a:lnTo>
                <a:lnTo>
                  <a:pt x="625157" y="1299570"/>
                </a:lnTo>
                <a:lnTo>
                  <a:pt x="634365" y="1306561"/>
                </a:lnTo>
                <a:lnTo>
                  <a:pt x="643890" y="1313551"/>
                </a:lnTo>
                <a:lnTo>
                  <a:pt x="653732" y="1319589"/>
                </a:lnTo>
                <a:lnTo>
                  <a:pt x="663575" y="1326261"/>
                </a:lnTo>
                <a:lnTo>
                  <a:pt x="673735" y="1331981"/>
                </a:lnTo>
                <a:lnTo>
                  <a:pt x="683577" y="1337382"/>
                </a:lnTo>
                <a:lnTo>
                  <a:pt x="693737" y="1342784"/>
                </a:lnTo>
                <a:lnTo>
                  <a:pt x="703897" y="1347868"/>
                </a:lnTo>
                <a:lnTo>
                  <a:pt x="714375" y="1352317"/>
                </a:lnTo>
                <a:lnTo>
                  <a:pt x="707707" y="1353905"/>
                </a:lnTo>
                <a:lnTo>
                  <a:pt x="701675" y="1355494"/>
                </a:lnTo>
                <a:lnTo>
                  <a:pt x="695642" y="1357400"/>
                </a:lnTo>
                <a:lnTo>
                  <a:pt x="689610" y="1359307"/>
                </a:lnTo>
                <a:lnTo>
                  <a:pt x="683895" y="1361849"/>
                </a:lnTo>
                <a:lnTo>
                  <a:pt x="678180" y="1364709"/>
                </a:lnTo>
                <a:lnTo>
                  <a:pt x="672782" y="1367568"/>
                </a:lnTo>
                <a:lnTo>
                  <a:pt x="667702" y="1371064"/>
                </a:lnTo>
                <a:lnTo>
                  <a:pt x="662940" y="1374559"/>
                </a:lnTo>
                <a:lnTo>
                  <a:pt x="657860" y="1379007"/>
                </a:lnTo>
                <a:lnTo>
                  <a:pt x="652780" y="1383138"/>
                </a:lnTo>
                <a:lnTo>
                  <a:pt x="648335" y="1387587"/>
                </a:lnTo>
                <a:lnTo>
                  <a:pt x="643255" y="1392670"/>
                </a:lnTo>
                <a:lnTo>
                  <a:pt x="638492" y="1397754"/>
                </a:lnTo>
                <a:lnTo>
                  <a:pt x="629920" y="1408876"/>
                </a:lnTo>
                <a:lnTo>
                  <a:pt x="621030" y="1421268"/>
                </a:lnTo>
                <a:lnTo>
                  <a:pt x="612457" y="1434613"/>
                </a:lnTo>
                <a:lnTo>
                  <a:pt x="603567" y="1449230"/>
                </a:lnTo>
                <a:lnTo>
                  <a:pt x="595312" y="1464481"/>
                </a:lnTo>
                <a:lnTo>
                  <a:pt x="586422" y="1481640"/>
                </a:lnTo>
                <a:lnTo>
                  <a:pt x="577215" y="1499116"/>
                </a:lnTo>
                <a:lnTo>
                  <a:pt x="558165" y="1537563"/>
                </a:lnTo>
                <a:lnTo>
                  <a:pt x="553085" y="1547731"/>
                </a:lnTo>
                <a:lnTo>
                  <a:pt x="547052" y="1556946"/>
                </a:lnTo>
                <a:lnTo>
                  <a:pt x="541020" y="1565525"/>
                </a:lnTo>
                <a:lnTo>
                  <a:pt x="534352" y="1573787"/>
                </a:lnTo>
                <a:lnTo>
                  <a:pt x="527684" y="1581413"/>
                </a:lnTo>
                <a:lnTo>
                  <a:pt x="520699" y="1588403"/>
                </a:lnTo>
                <a:lnTo>
                  <a:pt x="513079" y="1595076"/>
                </a:lnTo>
                <a:lnTo>
                  <a:pt x="505142" y="1601431"/>
                </a:lnTo>
                <a:lnTo>
                  <a:pt x="497522" y="1606832"/>
                </a:lnTo>
                <a:lnTo>
                  <a:pt x="489584" y="1612234"/>
                </a:lnTo>
                <a:lnTo>
                  <a:pt x="481329" y="1617318"/>
                </a:lnTo>
                <a:lnTo>
                  <a:pt x="473392" y="1621449"/>
                </a:lnTo>
                <a:lnTo>
                  <a:pt x="465454" y="1625897"/>
                </a:lnTo>
                <a:lnTo>
                  <a:pt x="456882" y="1629710"/>
                </a:lnTo>
                <a:lnTo>
                  <a:pt x="448944" y="1632570"/>
                </a:lnTo>
                <a:lnTo>
                  <a:pt x="441007" y="1635748"/>
                </a:lnTo>
                <a:lnTo>
                  <a:pt x="433069" y="1638607"/>
                </a:lnTo>
                <a:lnTo>
                  <a:pt x="425767" y="1640831"/>
                </a:lnTo>
                <a:lnTo>
                  <a:pt x="411162" y="1644962"/>
                </a:lnTo>
                <a:lnTo>
                  <a:pt x="398144" y="1647822"/>
                </a:lnTo>
                <a:lnTo>
                  <a:pt x="386397" y="1650046"/>
                </a:lnTo>
                <a:lnTo>
                  <a:pt x="376872" y="1651635"/>
                </a:lnTo>
                <a:lnTo>
                  <a:pt x="369569" y="1652270"/>
                </a:lnTo>
                <a:lnTo>
                  <a:pt x="363537" y="1652588"/>
                </a:lnTo>
                <a:lnTo>
                  <a:pt x="375284" y="1648140"/>
                </a:lnTo>
                <a:lnTo>
                  <a:pt x="386397" y="1642738"/>
                </a:lnTo>
                <a:lnTo>
                  <a:pt x="397192" y="1637336"/>
                </a:lnTo>
                <a:lnTo>
                  <a:pt x="407352" y="1631299"/>
                </a:lnTo>
                <a:lnTo>
                  <a:pt x="416877" y="1624626"/>
                </a:lnTo>
                <a:lnTo>
                  <a:pt x="426084" y="1617954"/>
                </a:lnTo>
                <a:lnTo>
                  <a:pt x="434657" y="1610645"/>
                </a:lnTo>
                <a:lnTo>
                  <a:pt x="442912" y="1603337"/>
                </a:lnTo>
                <a:lnTo>
                  <a:pt x="450849" y="1595394"/>
                </a:lnTo>
                <a:lnTo>
                  <a:pt x="457517" y="1587450"/>
                </a:lnTo>
                <a:lnTo>
                  <a:pt x="464502" y="1579188"/>
                </a:lnTo>
                <a:lnTo>
                  <a:pt x="471169" y="1570927"/>
                </a:lnTo>
                <a:lnTo>
                  <a:pt x="476884" y="1562030"/>
                </a:lnTo>
                <a:lnTo>
                  <a:pt x="482282" y="1553133"/>
                </a:lnTo>
                <a:lnTo>
                  <a:pt x="487679" y="1544236"/>
                </a:lnTo>
                <a:lnTo>
                  <a:pt x="492124" y="1535339"/>
                </a:lnTo>
                <a:lnTo>
                  <a:pt x="496569" y="1526125"/>
                </a:lnTo>
                <a:lnTo>
                  <a:pt x="500697" y="1516910"/>
                </a:lnTo>
                <a:lnTo>
                  <a:pt x="504189" y="1508013"/>
                </a:lnTo>
                <a:lnTo>
                  <a:pt x="507047" y="1498798"/>
                </a:lnTo>
                <a:lnTo>
                  <a:pt x="510222" y="1489901"/>
                </a:lnTo>
                <a:lnTo>
                  <a:pt x="513079" y="1480687"/>
                </a:lnTo>
                <a:lnTo>
                  <a:pt x="515302" y="1471790"/>
                </a:lnTo>
                <a:lnTo>
                  <a:pt x="517207" y="1463210"/>
                </a:lnTo>
                <a:lnTo>
                  <a:pt x="519112" y="1454631"/>
                </a:lnTo>
                <a:lnTo>
                  <a:pt x="520382" y="1446052"/>
                </a:lnTo>
                <a:lnTo>
                  <a:pt x="522604" y="1430165"/>
                </a:lnTo>
                <a:lnTo>
                  <a:pt x="523874" y="1414913"/>
                </a:lnTo>
                <a:lnTo>
                  <a:pt x="523874" y="1401567"/>
                </a:lnTo>
                <a:lnTo>
                  <a:pt x="523874" y="1394895"/>
                </a:lnTo>
                <a:lnTo>
                  <a:pt x="524192" y="1388540"/>
                </a:lnTo>
                <a:lnTo>
                  <a:pt x="525144" y="1375830"/>
                </a:lnTo>
                <a:lnTo>
                  <a:pt x="527049" y="1362484"/>
                </a:lnTo>
                <a:lnTo>
                  <a:pt x="529589" y="1349139"/>
                </a:lnTo>
                <a:lnTo>
                  <a:pt x="532447" y="1336111"/>
                </a:lnTo>
                <a:lnTo>
                  <a:pt x="535940" y="1323401"/>
                </a:lnTo>
                <a:lnTo>
                  <a:pt x="539750" y="1311645"/>
                </a:lnTo>
                <a:lnTo>
                  <a:pt x="543560" y="1299570"/>
                </a:lnTo>
                <a:lnTo>
                  <a:pt x="547687" y="1288767"/>
                </a:lnTo>
                <a:lnTo>
                  <a:pt x="551497" y="1278917"/>
                </a:lnTo>
                <a:lnTo>
                  <a:pt x="558165" y="1262076"/>
                </a:lnTo>
                <a:lnTo>
                  <a:pt x="563245" y="1250002"/>
                </a:lnTo>
                <a:lnTo>
                  <a:pt x="566102" y="1244600"/>
                </a:lnTo>
                <a:close/>
                <a:moveTo>
                  <a:pt x="1368425" y="1074738"/>
                </a:moveTo>
                <a:lnTo>
                  <a:pt x="1370330" y="1080752"/>
                </a:lnTo>
                <a:lnTo>
                  <a:pt x="1372553" y="1086767"/>
                </a:lnTo>
                <a:lnTo>
                  <a:pt x="1374775" y="1092781"/>
                </a:lnTo>
                <a:lnTo>
                  <a:pt x="1377633" y="1098162"/>
                </a:lnTo>
                <a:lnTo>
                  <a:pt x="1380490" y="1103227"/>
                </a:lnTo>
                <a:lnTo>
                  <a:pt x="1383983" y="1108608"/>
                </a:lnTo>
                <a:lnTo>
                  <a:pt x="1387793" y="1113673"/>
                </a:lnTo>
                <a:lnTo>
                  <a:pt x="1391920" y="1118738"/>
                </a:lnTo>
                <a:lnTo>
                  <a:pt x="1396048" y="1123170"/>
                </a:lnTo>
                <a:lnTo>
                  <a:pt x="1400175" y="1127918"/>
                </a:lnTo>
                <a:lnTo>
                  <a:pt x="1405255" y="1132033"/>
                </a:lnTo>
                <a:lnTo>
                  <a:pt x="1410335" y="1136465"/>
                </a:lnTo>
                <a:lnTo>
                  <a:pt x="1415733" y="1140580"/>
                </a:lnTo>
                <a:lnTo>
                  <a:pt x="1421130" y="1144378"/>
                </a:lnTo>
                <a:lnTo>
                  <a:pt x="1433195" y="1151975"/>
                </a:lnTo>
                <a:lnTo>
                  <a:pt x="1446213" y="1159572"/>
                </a:lnTo>
                <a:lnTo>
                  <a:pt x="1460500" y="1166853"/>
                </a:lnTo>
                <a:lnTo>
                  <a:pt x="1476058" y="1173817"/>
                </a:lnTo>
                <a:lnTo>
                  <a:pt x="1492568" y="1180781"/>
                </a:lnTo>
                <a:lnTo>
                  <a:pt x="1509713" y="1188062"/>
                </a:lnTo>
                <a:lnTo>
                  <a:pt x="1528128" y="1195026"/>
                </a:lnTo>
                <a:lnTo>
                  <a:pt x="1568451" y="1209903"/>
                </a:lnTo>
                <a:lnTo>
                  <a:pt x="1578928" y="1214018"/>
                </a:lnTo>
                <a:lnTo>
                  <a:pt x="1589088" y="1218767"/>
                </a:lnTo>
                <a:lnTo>
                  <a:pt x="1598296" y="1223831"/>
                </a:lnTo>
                <a:lnTo>
                  <a:pt x="1606868" y="1229529"/>
                </a:lnTo>
                <a:lnTo>
                  <a:pt x="1615441" y="1235543"/>
                </a:lnTo>
                <a:lnTo>
                  <a:pt x="1623061" y="1242191"/>
                </a:lnTo>
                <a:lnTo>
                  <a:pt x="1630363" y="1248522"/>
                </a:lnTo>
                <a:lnTo>
                  <a:pt x="1637348" y="1255486"/>
                </a:lnTo>
                <a:lnTo>
                  <a:pt x="1644016" y="1262766"/>
                </a:lnTo>
                <a:lnTo>
                  <a:pt x="1650048" y="1270047"/>
                </a:lnTo>
                <a:lnTo>
                  <a:pt x="1655763" y="1277644"/>
                </a:lnTo>
                <a:lnTo>
                  <a:pt x="1661161" y="1285241"/>
                </a:lnTo>
                <a:lnTo>
                  <a:pt x="1665923" y="1293155"/>
                </a:lnTo>
                <a:lnTo>
                  <a:pt x="1670368" y="1300752"/>
                </a:lnTo>
                <a:lnTo>
                  <a:pt x="1674496" y="1308349"/>
                </a:lnTo>
                <a:lnTo>
                  <a:pt x="1678623" y="1315946"/>
                </a:lnTo>
                <a:lnTo>
                  <a:pt x="1681798" y="1323227"/>
                </a:lnTo>
                <a:lnTo>
                  <a:pt x="1684973" y="1330507"/>
                </a:lnTo>
                <a:lnTo>
                  <a:pt x="1690371" y="1344435"/>
                </a:lnTo>
                <a:lnTo>
                  <a:pt x="1695133" y="1357097"/>
                </a:lnTo>
                <a:lnTo>
                  <a:pt x="1697991" y="1368493"/>
                </a:lnTo>
                <a:lnTo>
                  <a:pt x="1700848" y="1377673"/>
                </a:lnTo>
                <a:lnTo>
                  <a:pt x="1702436" y="1384637"/>
                </a:lnTo>
                <a:lnTo>
                  <a:pt x="1703388" y="1390651"/>
                </a:lnTo>
                <a:lnTo>
                  <a:pt x="1697356" y="1379572"/>
                </a:lnTo>
                <a:lnTo>
                  <a:pt x="1691006" y="1369442"/>
                </a:lnTo>
                <a:lnTo>
                  <a:pt x="1684656" y="1359313"/>
                </a:lnTo>
                <a:lnTo>
                  <a:pt x="1677353" y="1349817"/>
                </a:lnTo>
                <a:lnTo>
                  <a:pt x="1670051" y="1340953"/>
                </a:lnTo>
                <a:lnTo>
                  <a:pt x="1662431" y="1332407"/>
                </a:lnTo>
                <a:lnTo>
                  <a:pt x="1654176" y="1324809"/>
                </a:lnTo>
                <a:lnTo>
                  <a:pt x="1645921" y="1317529"/>
                </a:lnTo>
                <a:lnTo>
                  <a:pt x="1637348" y="1310565"/>
                </a:lnTo>
                <a:lnTo>
                  <a:pt x="1628458" y="1304234"/>
                </a:lnTo>
                <a:lnTo>
                  <a:pt x="1619568" y="1298536"/>
                </a:lnTo>
                <a:lnTo>
                  <a:pt x="1610996" y="1293155"/>
                </a:lnTo>
                <a:lnTo>
                  <a:pt x="1601471" y="1288090"/>
                </a:lnTo>
                <a:lnTo>
                  <a:pt x="1591946" y="1283342"/>
                </a:lnTo>
                <a:lnTo>
                  <a:pt x="1582738" y="1279227"/>
                </a:lnTo>
                <a:lnTo>
                  <a:pt x="1573213" y="1275428"/>
                </a:lnTo>
                <a:lnTo>
                  <a:pt x="1564006" y="1272263"/>
                </a:lnTo>
                <a:lnTo>
                  <a:pt x="1554481" y="1269414"/>
                </a:lnTo>
                <a:lnTo>
                  <a:pt x="1544638" y="1266565"/>
                </a:lnTo>
                <a:lnTo>
                  <a:pt x="1535431" y="1264349"/>
                </a:lnTo>
                <a:lnTo>
                  <a:pt x="1526223" y="1262450"/>
                </a:lnTo>
                <a:lnTo>
                  <a:pt x="1517016" y="1260551"/>
                </a:lnTo>
                <a:lnTo>
                  <a:pt x="1507808" y="1259284"/>
                </a:lnTo>
                <a:lnTo>
                  <a:pt x="1498918" y="1258018"/>
                </a:lnTo>
                <a:lnTo>
                  <a:pt x="1490028" y="1257385"/>
                </a:lnTo>
                <a:lnTo>
                  <a:pt x="1481773" y="1257069"/>
                </a:lnTo>
                <a:lnTo>
                  <a:pt x="1465580" y="1256752"/>
                </a:lnTo>
                <a:lnTo>
                  <a:pt x="1450658" y="1257069"/>
                </a:lnTo>
                <a:lnTo>
                  <a:pt x="1436688" y="1258018"/>
                </a:lnTo>
                <a:lnTo>
                  <a:pt x="1430655" y="1258968"/>
                </a:lnTo>
                <a:lnTo>
                  <a:pt x="1423988" y="1259284"/>
                </a:lnTo>
                <a:lnTo>
                  <a:pt x="1410970" y="1259284"/>
                </a:lnTo>
                <a:lnTo>
                  <a:pt x="1397953" y="1258968"/>
                </a:lnTo>
                <a:lnTo>
                  <a:pt x="1384618" y="1257702"/>
                </a:lnTo>
                <a:lnTo>
                  <a:pt x="1371283" y="1256119"/>
                </a:lnTo>
                <a:lnTo>
                  <a:pt x="1358265" y="1253903"/>
                </a:lnTo>
                <a:lnTo>
                  <a:pt x="1345565" y="1251687"/>
                </a:lnTo>
                <a:lnTo>
                  <a:pt x="1333818" y="1248838"/>
                </a:lnTo>
                <a:lnTo>
                  <a:pt x="1322705" y="1246306"/>
                </a:lnTo>
                <a:lnTo>
                  <a:pt x="1312228" y="1243457"/>
                </a:lnTo>
                <a:lnTo>
                  <a:pt x="1294448" y="1238709"/>
                </a:lnTo>
                <a:lnTo>
                  <a:pt x="1282383" y="1234910"/>
                </a:lnTo>
                <a:lnTo>
                  <a:pt x="1276350" y="1232378"/>
                </a:lnTo>
                <a:lnTo>
                  <a:pt x="1284288" y="1224148"/>
                </a:lnTo>
                <a:lnTo>
                  <a:pt x="1291590" y="1215285"/>
                </a:lnTo>
                <a:lnTo>
                  <a:pt x="1298258" y="1206421"/>
                </a:lnTo>
                <a:lnTo>
                  <a:pt x="1305560" y="1197241"/>
                </a:lnTo>
                <a:lnTo>
                  <a:pt x="1312228" y="1187745"/>
                </a:lnTo>
                <a:lnTo>
                  <a:pt x="1318895" y="1178249"/>
                </a:lnTo>
                <a:lnTo>
                  <a:pt x="1324928" y="1168119"/>
                </a:lnTo>
                <a:lnTo>
                  <a:pt x="1330960" y="1158306"/>
                </a:lnTo>
                <a:lnTo>
                  <a:pt x="1336675" y="1147860"/>
                </a:lnTo>
                <a:lnTo>
                  <a:pt x="1342073" y="1137731"/>
                </a:lnTo>
                <a:lnTo>
                  <a:pt x="1347153" y="1127601"/>
                </a:lnTo>
                <a:lnTo>
                  <a:pt x="1352233" y="1116839"/>
                </a:lnTo>
                <a:lnTo>
                  <a:pt x="1356360" y="1106393"/>
                </a:lnTo>
                <a:lnTo>
                  <a:pt x="1360805" y="1095630"/>
                </a:lnTo>
                <a:lnTo>
                  <a:pt x="1364933" y="1084868"/>
                </a:lnTo>
                <a:lnTo>
                  <a:pt x="1368425" y="1074738"/>
                </a:lnTo>
                <a:close/>
                <a:moveTo>
                  <a:pt x="462532" y="1074738"/>
                </a:moveTo>
                <a:lnTo>
                  <a:pt x="466345" y="1085522"/>
                </a:lnTo>
                <a:lnTo>
                  <a:pt x="470158" y="1095671"/>
                </a:lnTo>
                <a:lnTo>
                  <a:pt x="474288" y="1106455"/>
                </a:lnTo>
                <a:lnTo>
                  <a:pt x="479054" y="1117239"/>
                </a:lnTo>
                <a:lnTo>
                  <a:pt x="483502" y="1127706"/>
                </a:lnTo>
                <a:lnTo>
                  <a:pt x="488904" y="1137855"/>
                </a:lnTo>
                <a:lnTo>
                  <a:pt x="494305" y="1148322"/>
                </a:lnTo>
                <a:lnTo>
                  <a:pt x="500024" y="1158789"/>
                </a:lnTo>
                <a:lnTo>
                  <a:pt x="505743" y="1168621"/>
                </a:lnTo>
                <a:lnTo>
                  <a:pt x="512098" y="1178770"/>
                </a:lnTo>
                <a:lnTo>
                  <a:pt x="518452" y="1188286"/>
                </a:lnTo>
                <a:lnTo>
                  <a:pt x="525442" y="1197484"/>
                </a:lnTo>
                <a:lnTo>
                  <a:pt x="532432" y="1206682"/>
                </a:lnTo>
                <a:lnTo>
                  <a:pt x="539422" y="1215880"/>
                </a:lnTo>
                <a:lnTo>
                  <a:pt x="546730" y="1224443"/>
                </a:lnTo>
                <a:lnTo>
                  <a:pt x="554038" y="1232690"/>
                </a:lnTo>
                <a:lnTo>
                  <a:pt x="547683" y="1231738"/>
                </a:lnTo>
                <a:lnTo>
                  <a:pt x="541329" y="1230469"/>
                </a:lnTo>
                <a:lnTo>
                  <a:pt x="534974" y="1229835"/>
                </a:lnTo>
                <a:lnTo>
                  <a:pt x="528937" y="1229518"/>
                </a:lnTo>
                <a:lnTo>
                  <a:pt x="522900" y="1229518"/>
                </a:lnTo>
                <a:lnTo>
                  <a:pt x="516228" y="1229518"/>
                </a:lnTo>
                <a:lnTo>
                  <a:pt x="510191" y="1230152"/>
                </a:lnTo>
                <a:lnTo>
                  <a:pt x="503837" y="1231421"/>
                </a:lnTo>
                <a:lnTo>
                  <a:pt x="497800" y="1232372"/>
                </a:lnTo>
                <a:lnTo>
                  <a:pt x="491445" y="1233958"/>
                </a:lnTo>
                <a:lnTo>
                  <a:pt x="485408" y="1235861"/>
                </a:lnTo>
                <a:lnTo>
                  <a:pt x="479372" y="1238082"/>
                </a:lnTo>
                <a:lnTo>
                  <a:pt x="473017" y="1240936"/>
                </a:lnTo>
                <a:lnTo>
                  <a:pt x="466663" y="1243473"/>
                </a:lnTo>
                <a:lnTo>
                  <a:pt x="453953" y="1250134"/>
                </a:lnTo>
                <a:lnTo>
                  <a:pt x="440927" y="1257746"/>
                </a:lnTo>
                <a:lnTo>
                  <a:pt x="427900" y="1266627"/>
                </a:lnTo>
                <a:lnTo>
                  <a:pt x="413920" y="1276142"/>
                </a:lnTo>
                <a:lnTo>
                  <a:pt x="399622" y="1286926"/>
                </a:lnTo>
                <a:lnTo>
                  <a:pt x="384689" y="1298344"/>
                </a:lnTo>
                <a:lnTo>
                  <a:pt x="369438" y="1311031"/>
                </a:lnTo>
                <a:lnTo>
                  <a:pt x="336076" y="1338308"/>
                </a:lnTo>
                <a:lnTo>
                  <a:pt x="327498" y="1345286"/>
                </a:lnTo>
                <a:lnTo>
                  <a:pt x="318601" y="1351312"/>
                </a:lnTo>
                <a:lnTo>
                  <a:pt x="309387" y="1356704"/>
                </a:lnTo>
                <a:lnTo>
                  <a:pt x="300173" y="1361779"/>
                </a:lnTo>
                <a:lnTo>
                  <a:pt x="290323" y="1365902"/>
                </a:lnTo>
                <a:lnTo>
                  <a:pt x="280792" y="1369391"/>
                </a:lnTo>
                <a:lnTo>
                  <a:pt x="271577" y="1372562"/>
                </a:lnTo>
                <a:lnTo>
                  <a:pt x="262046" y="1375100"/>
                </a:lnTo>
                <a:lnTo>
                  <a:pt x="252514" y="1377320"/>
                </a:lnTo>
                <a:lnTo>
                  <a:pt x="243300" y="1378589"/>
                </a:lnTo>
                <a:lnTo>
                  <a:pt x="233450" y="1379857"/>
                </a:lnTo>
                <a:lnTo>
                  <a:pt x="224236" y="1380492"/>
                </a:lnTo>
                <a:lnTo>
                  <a:pt x="215022" y="1381126"/>
                </a:lnTo>
                <a:lnTo>
                  <a:pt x="206125" y="1381126"/>
                </a:lnTo>
                <a:lnTo>
                  <a:pt x="197547" y="1381126"/>
                </a:lnTo>
                <a:lnTo>
                  <a:pt x="188968" y="1380175"/>
                </a:lnTo>
                <a:lnTo>
                  <a:pt x="180707" y="1379857"/>
                </a:lnTo>
                <a:lnTo>
                  <a:pt x="172764" y="1378589"/>
                </a:lnTo>
                <a:lnTo>
                  <a:pt x="158149" y="1376369"/>
                </a:lnTo>
                <a:lnTo>
                  <a:pt x="144804" y="1374148"/>
                </a:lnTo>
                <a:lnTo>
                  <a:pt x="133683" y="1370977"/>
                </a:lnTo>
                <a:lnTo>
                  <a:pt x="124469" y="1368756"/>
                </a:lnTo>
                <a:lnTo>
                  <a:pt x="117479" y="1366536"/>
                </a:lnTo>
                <a:lnTo>
                  <a:pt x="111125" y="1364633"/>
                </a:lnTo>
                <a:lnTo>
                  <a:pt x="123834" y="1364950"/>
                </a:lnTo>
                <a:lnTo>
                  <a:pt x="136225" y="1364950"/>
                </a:lnTo>
                <a:lnTo>
                  <a:pt x="148617" y="1363682"/>
                </a:lnTo>
                <a:lnTo>
                  <a:pt x="160055" y="1362730"/>
                </a:lnTo>
                <a:lnTo>
                  <a:pt x="171493" y="1360510"/>
                </a:lnTo>
                <a:lnTo>
                  <a:pt x="182931" y="1357973"/>
                </a:lnTo>
                <a:lnTo>
                  <a:pt x="193416" y="1354801"/>
                </a:lnTo>
                <a:lnTo>
                  <a:pt x="203901" y="1351312"/>
                </a:lnTo>
                <a:lnTo>
                  <a:pt x="214386" y="1347506"/>
                </a:lnTo>
                <a:lnTo>
                  <a:pt x="223918" y="1343065"/>
                </a:lnTo>
                <a:lnTo>
                  <a:pt x="233450" y="1338308"/>
                </a:lnTo>
                <a:lnTo>
                  <a:pt x="242664" y="1332916"/>
                </a:lnTo>
                <a:lnTo>
                  <a:pt x="251561" y="1327524"/>
                </a:lnTo>
                <a:lnTo>
                  <a:pt x="260457" y="1321815"/>
                </a:lnTo>
                <a:lnTo>
                  <a:pt x="268400" y="1315789"/>
                </a:lnTo>
                <a:lnTo>
                  <a:pt x="276661" y="1309445"/>
                </a:lnTo>
                <a:lnTo>
                  <a:pt x="284287" y="1303102"/>
                </a:lnTo>
                <a:lnTo>
                  <a:pt x="291594" y="1296124"/>
                </a:lnTo>
                <a:lnTo>
                  <a:pt x="298584" y="1289781"/>
                </a:lnTo>
                <a:lnTo>
                  <a:pt x="305574" y="1282486"/>
                </a:lnTo>
                <a:lnTo>
                  <a:pt x="311611" y="1275508"/>
                </a:lnTo>
                <a:lnTo>
                  <a:pt x="317648" y="1268213"/>
                </a:lnTo>
                <a:lnTo>
                  <a:pt x="323685" y="1261235"/>
                </a:lnTo>
                <a:lnTo>
                  <a:pt x="328769" y="1253940"/>
                </a:lnTo>
                <a:lnTo>
                  <a:pt x="333852" y="1246962"/>
                </a:lnTo>
                <a:lnTo>
                  <a:pt x="338936" y="1239667"/>
                </a:lnTo>
                <a:lnTo>
                  <a:pt x="347514" y="1226029"/>
                </a:lnTo>
                <a:lnTo>
                  <a:pt x="354187" y="1212708"/>
                </a:lnTo>
                <a:lnTo>
                  <a:pt x="360224" y="1200338"/>
                </a:lnTo>
                <a:lnTo>
                  <a:pt x="362765" y="1194312"/>
                </a:lnTo>
                <a:lnTo>
                  <a:pt x="365307" y="1188603"/>
                </a:lnTo>
                <a:lnTo>
                  <a:pt x="371980" y="1177185"/>
                </a:lnTo>
                <a:lnTo>
                  <a:pt x="378970" y="1166084"/>
                </a:lnTo>
                <a:lnTo>
                  <a:pt x="386595" y="1155300"/>
                </a:lnTo>
                <a:lnTo>
                  <a:pt x="394538" y="1144516"/>
                </a:lnTo>
                <a:lnTo>
                  <a:pt x="402799" y="1134684"/>
                </a:lnTo>
                <a:lnTo>
                  <a:pt x="411378" y="1124534"/>
                </a:lnTo>
                <a:lnTo>
                  <a:pt x="419639" y="1115653"/>
                </a:lnTo>
                <a:lnTo>
                  <a:pt x="427264" y="1107407"/>
                </a:lnTo>
                <a:lnTo>
                  <a:pt x="435207" y="1099477"/>
                </a:lnTo>
                <a:lnTo>
                  <a:pt x="448234" y="1086791"/>
                </a:lnTo>
                <a:lnTo>
                  <a:pt x="457766" y="1078544"/>
                </a:lnTo>
                <a:lnTo>
                  <a:pt x="462532" y="1074738"/>
                </a:lnTo>
                <a:close/>
                <a:moveTo>
                  <a:pt x="1392609" y="876300"/>
                </a:moveTo>
                <a:lnTo>
                  <a:pt x="1396748" y="881389"/>
                </a:lnTo>
                <a:lnTo>
                  <a:pt x="1401524" y="886160"/>
                </a:lnTo>
                <a:lnTo>
                  <a:pt x="1405981" y="890294"/>
                </a:lnTo>
                <a:lnTo>
                  <a:pt x="1410757" y="894111"/>
                </a:lnTo>
                <a:lnTo>
                  <a:pt x="1415851" y="897928"/>
                </a:lnTo>
                <a:lnTo>
                  <a:pt x="1421264" y="901426"/>
                </a:lnTo>
                <a:lnTo>
                  <a:pt x="1426358" y="904607"/>
                </a:lnTo>
                <a:lnTo>
                  <a:pt x="1431771" y="907151"/>
                </a:lnTo>
                <a:lnTo>
                  <a:pt x="1437820" y="910014"/>
                </a:lnTo>
                <a:lnTo>
                  <a:pt x="1443869" y="912240"/>
                </a:lnTo>
                <a:lnTo>
                  <a:pt x="1449919" y="914148"/>
                </a:lnTo>
                <a:lnTo>
                  <a:pt x="1456286" y="916057"/>
                </a:lnTo>
                <a:lnTo>
                  <a:pt x="1462654" y="917647"/>
                </a:lnTo>
                <a:lnTo>
                  <a:pt x="1469659" y="919237"/>
                </a:lnTo>
                <a:lnTo>
                  <a:pt x="1483986" y="921464"/>
                </a:lnTo>
                <a:lnTo>
                  <a:pt x="1498950" y="922736"/>
                </a:lnTo>
                <a:lnTo>
                  <a:pt x="1514870" y="923690"/>
                </a:lnTo>
                <a:lnTo>
                  <a:pt x="1531744" y="923690"/>
                </a:lnTo>
                <a:lnTo>
                  <a:pt x="1549892" y="923372"/>
                </a:lnTo>
                <a:lnTo>
                  <a:pt x="1568677" y="923054"/>
                </a:lnTo>
                <a:lnTo>
                  <a:pt x="1588417" y="921782"/>
                </a:lnTo>
                <a:lnTo>
                  <a:pt x="1631400" y="919237"/>
                </a:lnTo>
                <a:lnTo>
                  <a:pt x="1642862" y="918601"/>
                </a:lnTo>
                <a:lnTo>
                  <a:pt x="1653369" y="918601"/>
                </a:lnTo>
                <a:lnTo>
                  <a:pt x="1664194" y="919873"/>
                </a:lnTo>
                <a:lnTo>
                  <a:pt x="1674701" y="921464"/>
                </a:lnTo>
                <a:lnTo>
                  <a:pt x="1684571" y="923690"/>
                </a:lnTo>
                <a:lnTo>
                  <a:pt x="1694441" y="925916"/>
                </a:lnTo>
                <a:lnTo>
                  <a:pt x="1703992" y="929415"/>
                </a:lnTo>
                <a:lnTo>
                  <a:pt x="1713225" y="932914"/>
                </a:lnTo>
                <a:lnTo>
                  <a:pt x="1722140" y="936730"/>
                </a:lnTo>
                <a:lnTo>
                  <a:pt x="1730737" y="941183"/>
                </a:lnTo>
                <a:lnTo>
                  <a:pt x="1739015" y="945636"/>
                </a:lnTo>
                <a:lnTo>
                  <a:pt x="1747293" y="950725"/>
                </a:lnTo>
                <a:lnTo>
                  <a:pt x="1754616" y="955814"/>
                </a:lnTo>
                <a:lnTo>
                  <a:pt x="1761939" y="960584"/>
                </a:lnTo>
                <a:lnTo>
                  <a:pt x="1768625" y="965991"/>
                </a:lnTo>
                <a:lnTo>
                  <a:pt x="1775311" y="971398"/>
                </a:lnTo>
                <a:lnTo>
                  <a:pt x="1781997" y="976805"/>
                </a:lnTo>
                <a:lnTo>
                  <a:pt x="1787728" y="982212"/>
                </a:lnTo>
                <a:lnTo>
                  <a:pt x="1798553" y="993026"/>
                </a:lnTo>
                <a:lnTo>
                  <a:pt x="1807150" y="1002568"/>
                </a:lnTo>
                <a:lnTo>
                  <a:pt x="1815110" y="1011473"/>
                </a:lnTo>
                <a:lnTo>
                  <a:pt x="1821159" y="1019106"/>
                </a:lnTo>
                <a:lnTo>
                  <a:pt x="1825298" y="1025149"/>
                </a:lnTo>
                <a:lnTo>
                  <a:pt x="1828800" y="1030556"/>
                </a:lnTo>
                <a:lnTo>
                  <a:pt x="1818930" y="1022287"/>
                </a:lnTo>
                <a:lnTo>
                  <a:pt x="1808742" y="1015290"/>
                </a:lnTo>
                <a:lnTo>
                  <a:pt x="1798872" y="1008929"/>
                </a:lnTo>
                <a:lnTo>
                  <a:pt x="1788365" y="1003204"/>
                </a:lnTo>
                <a:lnTo>
                  <a:pt x="1777858" y="998115"/>
                </a:lnTo>
                <a:lnTo>
                  <a:pt x="1767670" y="993344"/>
                </a:lnTo>
                <a:lnTo>
                  <a:pt x="1756845" y="989527"/>
                </a:lnTo>
                <a:lnTo>
                  <a:pt x="1746338" y="986029"/>
                </a:lnTo>
                <a:lnTo>
                  <a:pt x="1735513" y="983484"/>
                </a:lnTo>
                <a:lnTo>
                  <a:pt x="1725324" y="981258"/>
                </a:lnTo>
                <a:lnTo>
                  <a:pt x="1714499" y="979668"/>
                </a:lnTo>
                <a:lnTo>
                  <a:pt x="1703992" y="978077"/>
                </a:lnTo>
                <a:lnTo>
                  <a:pt x="1693485" y="977123"/>
                </a:lnTo>
                <a:lnTo>
                  <a:pt x="1683297" y="976805"/>
                </a:lnTo>
                <a:lnTo>
                  <a:pt x="1672790" y="976805"/>
                </a:lnTo>
                <a:lnTo>
                  <a:pt x="1662283" y="977759"/>
                </a:lnTo>
                <a:lnTo>
                  <a:pt x="1652413" y="978395"/>
                </a:lnTo>
                <a:lnTo>
                  <a:pt x="1642862" y="979350"/>
                </a:lnTo>
                <a:lnTo>
                  <a:pt x="1632673" y="980622"/>
                </a:lnTo>
                <a:lnTo>
                  <a:pt x="1623440" y="982530"/>
                </a:lnTo>
                <a:lnTo>
                  <a:pt x="1613888" y="984438"/>
                </a:lnTo>
                <a:lnTo>
                  <a:pt x="1604974" y="986983"/>
                </a:lnTo>
                <a:lnTo>
                  <a:pt x="1596059" y="989209"/>
                </a:lnTo>
                <a:lnTo>
                  <a:pt x="1587144" y="991754"/>
                </a:lnTo>
                <a:lnTo>
                  <a:pt x="1579184" y="994616"/>
                </a:lnTo>
                <a:lnTo>
                  <a:pt x="1570906" y="997797"/>
                </a:lnTo>
                <a:lnTo>
                  <a:pt x="1555942" y="1003840"/>
                </a:lnTo>
                <a:lnTo>
                  <a:pt x="1542570" y="1010519"/>
                </a:lnTo>
                <a:lnTo>
                  <a:pt x="1530471" y="1016880"/>
                </a:lnTo>
                <a:lnTo>
                  <a:pt x="1524740" y="1020379"/>
                </a:lnTo>
                <a:lnTo>
                  <a:pt x="1519327" y="1023241"/>
                </a:lnTo>
                <a:lnTo>
                  <a:pt x="1507547" y="1028966"/>
                </a:lnTo>
                <a:lnTo>
                  <a:pt x="1495130" y="1033737"/>
                </a:lnTo>
                <a:lnTo>
                  <a:pt x="1482394" y="1038190"/>
                </a:lnTo>
                <a:lnTo>
                  <a:pt x="1469659" y="1042006"/>
                </a:lnTo>
                <a:lnTo>
                  <a:pt x="1456923" y="1045505"/>
                </a:lnTo>
                <a:lnTo>
                  <a:pt x="1444188" y="1048049"/>
                </a:lnTo>
                <a:lnTo>
                  <a:pt x="1432407" y="1050912"/>
                </a:lnTo>
                <a:lnTo>
                  <a:pt x="1420627" y="1052820"/>
                </a:lnTo>
                <a:lnTo>
                  <a:pt x="1410439" y="1054728"/>
                </a:lnTo>
                <a:lnTo>
                  <a:pt x="1392291" y="1056955"/>
                </a:lnTo>
                <a:lnTo>
                  <a:pt x="1379237" y="1058545"/>
                </a:lnTo>
                <a:lnTo>
                  <a:pt x="1373187" y="1058863"/>
                </a:lnTo>
                <a:lnTo>
                  <a:pt x="1376690" y="1048049"/>
                </a:lnTo>
                <a:lnTo>
                  <a:pt x="1379873" y="1036917"/>
                </a:lnTo>
                <a:lnTo>
                  <a:pt x="1382739" y="1025785"/>
                </a:lnTo>
                <a:lnTo>
                  <a:pt x="1385286" y="1014654"/>
                </a:lnTo>
                <a:lnTo>
                  <a:pt x="1387515" y="1003522"/>
                </a:lnTo>
                <a:lnTo>
                  <a:pt x="1389425" y="991754"/>
                </a:lnTo>
                <a:lnTo>
                  <a:pt x="1391335" y="980304"/>
                </a:lnTo>
                <a:lnTo>
                  <a:pt x="1392609" y="968536"/>
                </a:lnTo>
                <a:lnTo>
                  <a:pt x="1393882" y="956768"/>
                </a:lnTo>
                <a:lnTo>
                  <a:pt x="1394519" y="945318"/>
                </a:lnTo>
                <a:lnTo>
                  <a:pt x="1394838" y="933232"/>
                </a:lnTo>
                <a:lnTo>
                  <a:pt x="1394838" y="921782"/>
                </a:lnTo>
                <a:lnTo>
                  <a:pt x="1394838" y="910650"/>
                </a:lnTo>
                <a:lnTo>
                  <a:pt x="1394519" y="899200"/>
                </a:lnTo>
                <a:lnTo>
                  <a:pt x="1393882" y="887432"/>
                </a:lnTo>
                <a:lnTo>
                  <a:pt x="1392609" y="876300"/>
                </a:lnTo>
                <a:close/>
                <a:moveTo>
                  <a:pt x="437859" y="876300"/>
                </a:moveTo>
                <a:lnTo>
                  <a:pt x="436908" y="887413"/>
                </a:lnTo>
                <a:lnTo>
                  <a:pt x="435957" y="899160"/>
                </a:lnTo>
                <a:lnTo>
                  <a:pt x="435640" y="910590"/>
                </a:lnTo>
                <a:lnTo>
                  <a:pt x="435640" y="922020"/>
                </a:lnTo>
                <a:lnTo>
                  <a:pt x="435640" y="933768"/>
                </a:lnTo>
                <a:lnTo>
                  <a:pt x="435957" y="945198"/>
                </a:lnTo>
                <a:lnTo>
                  <a:pt x="436908" y="957263"/>
                </a:lnTo>
                <a:lnTo>
                  <a:pt x="437859" y="968693"/>
                </a:lnTo>
                <a:lnTo>
                  <a:pt x="439127" y="980440"/>
                </a:lnTo>
                <a:lnTo>
                  <a:pt x="441030" y="992188"/>
                </a:lnTo>
                <a:lnTo>
                  <a:pt x="442932" y="1003300"/>
                </a:lnTo>
                <a:lnTo>
                  <a:pt x="445151" y="1014730"/>
                </a:lnTo>
                <a:lnTo>
                  <a:pt x="448005" y="1025843"/>
                </a:lnTo>
                <a:lnTo>
                  <a:pt x="450542" y="1036955"/>
                </a:lnTo>
                <a:lnTo>
                  <a:pt x="453712" y="1047750"/>
                </a:lnTo>
                <a:lnTo>
                  <a:pt x="457200" y="1058545"/>
                </a:lnTo>
                <a:lnTo>
                  <a:pt x="451810" y="1054735"/>
                </a:lnTo>
                <a:lnTo>
                  <a:pt x="446420" y="1051243"/>
                </a:lnTo>
                <a:lnTo>
                  <a:pt x="441030" y="1047750"/>
                </a:lnTo>
                <a:lnTo>
                  <a:pt x="435640" y="1045210"/>
                </a:lnTo>
                <a:lnTo>
                  <a:pt x="429933" y="1042353"/>
                </a:lnTo>
                <a:lnTo>
                  <a:pt x="424226" y="1040130"/>
                </a:lnTo>
                <a:lnTo>
                  <a:pt x="418518" y="1038225"/>
                </a:lnTo>
                <a:lnTo>
                  <a:pt x="412177" y="1036638"/>
                </a:lnTo>
                <a:lnTo>
                  <a:pt x="406153" y="1035050"/>
                </a:lnTo>
                <a:lnTo>
                  <a:pt x="399812" y="1034415"/>
                </a:lnTo>
                <a:lnTo>
                  <a:pt x="393471" y="1033463"/>
                </a:lnTo>
                <a:lnTo>
                  <a:pt x="386813" y="1033145"/>
                </a:lnTo>
                <a:lnTo>
                  <a:pt x="379837" y="1032828"/>
                </a:lnTo>
                <a:lnTo>
                  <a:pt x="373179" y="1032828"/>
                </a:lnTo>
                <a:lnTo>
                  <a:pt x="358911" y="1033463"/>
                </a:lnTo>
                <a:lnTo>
                  <a:pt x="344009" y="1035368"/>
                </a:lnTo>
                <a:lnTo>
                  <a:pt x="328156" y="1037908"/>
                </a:lnTo>
                <a:lnTo>
                  <a:pt x="311669" y="1041400"/>
                </a:lnTo>
                <a:lnTo>
                  <a:pt x="294548" y="1045210"/>
                </a:lnTo>
                <a:lnTo>
                  <a:pt x="275842" y="1049655"/>
                </a:lnTo>
                <a:lnTo>
                  <a:pt x="256818" y="1055053"/>
                </a:lnTo>
                <a:lnTo>
                  <a:pt x="215283" y="1066483"/>
                </a:lnTo>
                <a:lnTo>
                  <a:pt x="204503" y="1069340"/>
                </a:lnTo>
                <a:lnTo>
                  <a:pt x="193723" y="1071245"/>
                </a:lnTo>
                <a:lnTo>
                  <a:pt x="183577" y="1072515"/>
                </a:lnTo>
                <a:lnTo>
                  <a:pt x="173114" y="1073150"/>
                </a:lnTo>
                <a:lnTo>
                  <a:pt x="162651" y="1073150"/>
                </a:lnTo>
                <a:lnTo>
                  <a:pt x="152823" y="1072833"/>
                </a:lnTo>
                <a:lnTo>
                  <a:pt x="142677" y="1071563"/>
                </a:lnTo>
                <a:lnTo>
                  <a:pt x="132848" y="1069975"/>
                </a:lnTo>
                <a:lnTo>
                  <a:pt x="123653" y="1067753"/>
                </a:lnTo>
                <a:lnTo>
                  <a:pt x="114141" y="1065530"/>
                </a:lnTo>
                <a:lnTo>
                  <a:pt x="105264" y="1062673"/>
                </a:lnTo>
                <a:lnTo>
                  <a:pt x="96386" y="1059815"/>
                </a:lnTo>
                <a:lnTo>
                  <a:pt x="87825" y="1056323"/>
                </a:lnTo>
                <a:lnTo>
                  <a:pt x="79899" y="1052830"/>
                </a:lnTo>
                <a:lnTo>
                  <a:pt x="71655" y="1049020"/>
                </a:lnTo>
                <a:lnTo>
                  <a:pt x="64363" y="1045210"/>
                </a:lnTo>
                <a:lnTo>
                  <a:pt x="57070" y="1041400"/>
                </a:lnTo>
                <a:lnTo>
                  <a:pt x="50412" y="1036955"/>
                </a:lnTo>
                <a:lnTo>
                  <a:pt x="37730" y="1029018"/>
                </a:lnTo>
                <a:lnTo>
                  <a:pt x="26950" y="1021398"/>
                </a:lnTo>
                <a:lnTo>
                  <a:pt x="17755" y="1014095"/>
                </a:lnTo>
                <a:lnTo>
                  <a:pt x="10146" y="1007745"/>
                </a:lnTo>
                <a:lnTo>
                  <a:pt x="4756" y="1003300"/>
                </a:lnTo>
                <a:lnTo>
                  <a:pt x="0" y="998855"/>
                </a:lnTo>
                <a:lnTo>
                  <a:pt x="11414" y="1004253"/>
                </a:lnTo>
                <a:lnTo>
                  <a:pt x="22828" y="1009333"/>
                </a:lnTo>
                <a:lnTo>
                  <a:pt x="34242" y="1013460"/>
                </a:lnTo>
                <a:lnTo>
                  <a:pt x="45339" y="1016953"/>
                </a:lnTo>
                <a:lnTo>
                  <a:pt x="56436" y="1019810"/>
                </a:lnTo>
                <a:lnTo>
                  <a:pt x="67533" y="1022033"/>
                </a:lnTo>
                <a:lnTo>
                  <a:pt x="78631" y="1023620"/>
                </a:lnTo>
                <a:lnTo>
                  <a:pt x="89728" y="1024890"/>
                </a:lnTo>
                <a:lnTo>
                  <a:pt x="100508" y="1025208"/>
                </a:lnTo>
                <a:lnTo>
                  <a:pt x="111288" y="1025208"/>
                </a:lnTo>
                <a:lnTo>
                  <a:pt x="122068" y="1024890"/>
                </a:lnTo>
                <a:lnTo>
                  <a:pt x="132848" y="1023938"/>
                </a:lnTo>
                <a:lnTo>
                  <a:pt x="143311" y="1022350"/>
                </a:lnTo>
                <a:lnTo>
                  <a:pt x="153140" y="1020445"/>
                </a:lnTo>
                <a:lnTo>
                  <a:pt x="163285" y="1018540"/>
                </a:lnTo>
                <a:lnTo>
                  <a:pt x="173114" y="1016000"/>
                </a:lnTo>
                <a:lnTo>
                  <a:pt x="182626" y="1013143"/>
                </a:lnTo>
                <a:lnTo>
                  <a:pt x="192455" y="1010285"/>
                </a:lnTo>
                <a:lnTo>
                  <a:pt x="201650" y="1006793"/>
                </a:lnTo>
                <a:lnTo>
                  <a:pt x="210210" y="1002983"/>
                </a:lnTo>
                <a:lnTo>
                  <a:pt x="218771" y="998855"/>
                </a:lnTo>
                <a:lnTo>
                  <a:pt x="227332" y="994728"/>
                </a:lnTo>
                <a:lnTo>
                  <a:pt x="235575" y="990600"/>
                </a:lnTo>
                <a:lnTo>
                  <a:pt x="243502" y="986473"/>
                </a:lnTo>
                <a:lnTo>
                  <a:pt x="251111" y="982028"/>
                </a:lnTo>
                <a:lnTo>
                  <a:pt x="258086" y="977583"/>
                </a:lnTo>
                <a:lnTo>
                  <a:pt x="271403" y="968375"/>
                </a:lnTo>
                <a:lnTo>
                  <a:pt x="283134" y="959168"/>
                </a:lnTo>
                <a:lnTo>
                  <a:pt x="293597" y="949960"/>
                </a:lnTo>
                <a:lnTo>
                  <a:pt x="298353" y="945515"/>
                </a:lnTo>
                <a:lnTo>
                  <a:pt x="303109" y="941705"/>
                </a:lnTo>
                <a:lnTo>
                  <a:pt x="313572" y="933768"/>
                </a:lnTo>
                <a:lnTo>
                  <a:pt x="324669" y="926465"/>
                </a:lnTo>
                <a:lnTo>
                  <a:pt x="336083" y="919480"/>
                </a:lnTo>
                <a:lnTo>
                  <a:pt x="347814" y="912813"/>
                </a:lnTo>
                <a:lnTo>
                  <a:pt x="359228" y="907098"/>
                </a:lnTo>
                <a:lnTo>
                  <a:pt x="370642" y="901383"/>
                </a:lnTo>
                <a:lnTo>
                  <a:pt x="382374" y="896620"/>
                </a:lnTo>
                <a:lnTo>
                  <a:pt x="393154" y="892175"/>
                </a:lnTo>
                <a:lnTo>
                  <a:pt x="402983" y="888365"/>
                </a:lnTo>
                <a:lnTo>
                  <a:pt x="419787" y="882015"/>
                </a:lnTo>
                <a:lnTo>
                  <a:pt x="432152" y="877888"/>
                </a:lnTo>
                <a:lnTo>
                  <a:pt x="437859" y="876300"/>
                </a:lnTo>
                <a:close/>
                <a:moveTo>
                  <a:pt x="46037" y="619125"/>
                </a:moveTo>
                <a:lnTo>
                  <a:pt x="53985" y="628994"/>
                </a:lnTo>
                <a:lnTo>
                  <a:pt x="62570" y="637907"/>
                </a:lnTo>
                <a:lnTo>
                  <a:pt x="70837" y="646502"/>
                </a:lnTo>
                <a:lnTo>
                  <a:pt x="79739" y="654142"/>
                </a:lnTo>
                <a:lnTo>
                  <a:pt x="88960" y="661464"/>
                </a:lnTo>
                <a:lnTo>
                  <a:pt x="98180" y="667831"/>
                </a:lnTo>
                <a:lnTo>
                  <a:pt x="107719" y="674197"/>
                </a:lnTo>
                <a:lnTo>
                  <a:pt x="117575" y="679609"/>
                </a:lnTo>
                <a:lnTo>
                  <a:pt x="127113" y="684384"/>
                </a:lnTo>
                <a:lnTo>
                  <a:pt x="136970" y="688841"/>
                </a:lnTo>
                <a:lnTo>
                  <a:pt x="147144" y="692661"/>
                </a:lnTo>
                <a:lnTo>
                  <a:pt x="157001" y="696163"/>
                </a:lnTo>
                <a:lnTo>
                  <a:pt x="167175" y="699028"/>
                </a:lnTo>
                <a:lnTo>
                  <a:pt x="177031" y="701575"/>
                </a:lnTo>
                <a:lnTo>
                  <a:pt x="187524" y="703803"/>
                </a:lnTo>
                <a:lnTo>
                  <a:pt x="197698" y="705395"/>
                </a:lnTo>
                <a:lnTo>
                  <a:pt x="207554" y="706986"/>
                </a:lnTo>
                <a:lnTo>
                  <a:pt x="217093" y="707623"/>
                </a:lnTo>
                <a:lnTo>
                  <a:pt x="227267" y="708260"/>
                </a:lnTo>
                <a:lnTo>
                  <a:pt x="236805" y="708896"/>
                </a:lnTo>
                <a:lnTo>
                  <a:pt x="246344" y="708896"/>
                </a:lnTo>
                <a:lnTo>
                  <a:pt x="255564" y="708260"/>
                </a:lnTo>
                <a:lnTo>
                  <a:pt x="264785" y="707941"/>
                </a:lnTo>
                <a:lnTo>
                  <a:pt x="273687" y="706986"/>
                </a:lnTo>
                <a:lnTo>
                  <a:pt x="282590" y="706031"/>
                </a:lnTo>
                <a:lnTo>
                  <a:pt x="291175" y="704758"/>
                </a:lnTo>
                <a:lnTo>
                  <a:pt x="306754" y="701893"/>
                </a:lnTo>
                <a:lnTo>
                  <a:pt x="321380" y="698391"/>
                </a:lnTo>
                <a:lnTo>
                  <a:pt x="334415" y="694253"/>
                </a:lnTo>
                <a:lnTo>
                  <a:pt x="340774" y="692343"/>
                </a:lnTo>
                <a:lnTo>
                  <a:pt x="346815" y="690751"/>
                </a:lnTo>
                <a:lnTo>
                  <a:pt x="359533" y="687568"/>
                </a:lnTo>
                <a:lnTo>
                  <a:pt x="372569" y="685339"/>
                </a:lnTo>
                <a:lnTo>
                  <a:pt x="386241" y="683748"/>
                </a:lnTo>
                <a:lnTo>
                  <a:pt x="399277" y="682474"/>
                </a:lnTo>
                <a:lnTo>
                  <a:pt x="412313" y="681838"/>
                </a:lnTo>
                <a:lnTo>
                  <a:pt x="425349" y="681519"/>
                </a:lnTo>
                <a:lnTo>
                  <a:pt x="437748" y="681519"/>
                </a:lnTo>
                <a:lnTo>
                  <a:pt x="449195" y="681838"/>
                </a:lnTo>
                <a:lnTo>
                  <a:pt x="460005" y="682156"/>
                </a:lnTo>
                <a:lnTo>
                  <a:pt x="478128" y="683748"/>
                </a:lnTo>
                <a:lnTo>
                  <a:pt x="490846" y="685021"/>
                </a:lnTo>
                <a:lnTo>
                  <a:pt x="496887" y="685658"/>
                </a:lnTo>
                <a:lnTo>
                  <a:pt x="491164" y="695526"/>
                </a:lnTo>
                <a:lnTo>
                  <a:pt x="486077" y="705713"/>
                </a:lnTo>
                <a:lnTo>
                  <a:pt x="480671" y="716218"/>
                </a:lnTo>
                <a:lnTo>
                  <a:pt x="476220" y="726405"/>
                </a:lnTo>
                <a:lnTo>
                  <a:pt x="471451" y="737228"/>
                </a:lnTo>
                <a:lnTo>
                  <a:pt x="467000" y="748052"/>
                </a:lnTo>
                <a:lnTo>
                  <a:pt x="463184" y="759194"/>
                </a:lnTo>
                <a:lnTo>
                  <a:pt x="459369" y="770335"/>
                </a:lnTo>
                <a:lnTo>
                  <a:pt x="455871" y="781477"/>
                </a:lnTo>
                <a:lnTo>
                  <a:pt x="452692" y="792619"/>
                </a:lnTo>
                <a:lnTo>
                  <a:pt x="449513" y="804079"/>
                </a:lnTo>
                <a:lnTo>
                  <a:pt x="447287" y="815539"/>
                </a:lnTo>
                <a:lnTo>
                  <a:pt x="445061" y="826681"/>
                </a:lnTo>
                <a:lnTo>
                  <a:pt x="443154" y="837823"/>
                </a:lnTo>
                <a:lnTo>
                  <a:pt x="441564" y="848965"/>
                </a:lnTo>
                <a:lnTo>
                  <a:pt x="439974" y="860425"/>
                </a:lnTo>
                <a:lnTo>
                  <a:pt x="436795" y="854695"/>
                </a:lnTo>
                <a:lnTo>
                  <a:pt x="433615" y="849283"/>
                </a:lnTo>
                <a:lnTo>
                  <a:pt x="430118" y="843872"/>
                </a:lnTo>
                <a:lnTo>
                  <a:pt x="426302" y="839096"/>
                </a:lnTo>
                <a:lnTo>
                  <a:pt x="421851" y="834321"/>
                </a:lnTo>
                <a:lnTo>
                  <a:pt x="417718" y="830183"/>
                </a:lnTo>
                <a:lnTo>
                  <a:pt x="412949" y="826045"/>
                </a:lnTo>
                <a:lnTo>
                  <a:pt x="408179" y="821906"/>
                </a:lnTo>
                <a:lnTo>
                  <a:pt x="403092" y="818086"/>
                </a:lnTo>
                <a:lnTo>
                  <a:pt x="397687" y="814584"/>
                </a:lnTo>
                <a:lnTo>
                  <a:pt x="391964" y="811401"/>
                </a:lnTo>
                <a:lnTo>
                  <a:pt x="386241" y="808218"/>
                </a:lnTo>
                <a:lnTo>
                  <a:pt x="379882" y="805353"/>
                </a:lnTo>
                <a:lnTo>
                  <a:pt x="373841" y="802806"/>
                </a:lnTo>
                <a:lnTo>
                  <a:pt x="360487" y="797394"/>
                </a:lnTo>
                <a:lnTo>
                  <a:pt x="346180" y="793256"/>
                </a:lnTo>
                <a:lnTo>
                  <a:pt x="330282" y="788799"/>
                </a:lnTo>
                <a:lnTo>
                  <a:pt x="314067" y="784979"/>
                </a:lnTo>
                <a:lnTo>
                  <a:pt x="296580" y="781477"/>
                </a:lnTo>
                <a:lnTo>
                  <a:pt x="277821" y="778612"/>
                </a:lnTo>
                <a:lnTo>
                  <a:pt x="258426" y="775429"/>
                </a:lnTo>
                <a:lnTo>
                  <a:pt x="215503" y="769380"/>
                </a:lnTo>
                <a:lnTo>
                  <a:pt x="204375" y="767470"/>
                </a:lnTo>
                <a:lnTo>
                  <a:pt x="194200" y="764605"/>
                </a:lnTo>
                <a:lnTo>
                  <a:pt x="183708" y="761422"/>
                </a:lnTo>
                <a:lnTo>
                  <a:pt x="174170" y="757602"/>
                </a:lnTo>
                <a:lnTo>
                  <a:pt x="164313" y="753464"/>
                </a:lnTo>
                <a:lnTo>
                  <a:pt x="155729" y="748689"/>
                </a:lnTo>
                <a:lnTo>
                  <a:pt x="147144" y="743913"/>
                </a:lnTo>
                <a:lnTo>
                  <a:pt x="138560" y="738502"/>
                </a:lnTo>
                <a:lnTo>
                  <a:pt x="130929" y="732772"/>
                </a:lnTo>
                <a:lnTo>
                  <a:pt x="123298" y="726723"/>
                </a:lnTo>
                <a:lnTo>
                  <a:pt x="116303" y="720675"/>
                </a:lnTo>
                <a:lnTo>
                  <a:pt x="109308" y="714308"/>
                </a:lnTo>
                <a:lnTo>
                  <a:pt x="102949" y="707623"/>
                </a:lnTo>
                <a:lnTo>
                  <a:pt x="97226" y="700938"/>
                </a:lnTo>
                <a:lnTo>
                  <a:pt x="91185" y="694571"/>
                </a:lnTo>
                <a:lnTo>
                  <a:pt x="85780" y="687568"/>
                </a:lnTo>
                <a:lnTo>
                  <a:pt x="81011" y="680883"/>
                </a:lnTo>
                <a:lnTo>
                  <a:pt x="76242" y="674516"/>
                </a:lnTo>
                <a:lnTo>
                  <a:pt x="68293" y="662101"/>
                </a:lnTo>
                <a:lnTo>
                  <a:pt x="61298" y="650640"/>
                </a:lnTo>
                <a:lnTo>
                  <a:pt x="55575" y="640135"/>
                </a:lnTo>
                <a:lnTo>
                  <a:pt x="51442" y="631222"/>
                </a:lnTo>
                <a:lnTo>
                  <a:pt x="48262" y="624855"/>
                </a:lnTo>
                <a:lnTo>
                  <a:pt x="46037" y="619125"/>
                </a:lnTo>
                <a:close/>
                <a:moveTo>
                  <a:pt x="1650582" y="608013"/>
                </a:moveTo>
                <a:lnTo>
                  <a:pt x="1660114" y="608013"/>
                </a:lnTo>
                <a:lnTo>
                  <a:pt x="1669645" y="608330"/>
                </a:lnTo>
                <a:lnTo>
                  <a:pt x="1679177" y="609281"/>
                </a:lnTo>
                <a:lnTo>
                  <a:pt x="1688391" y="610233"/>
                </a:lnTo>
                <a:lnTo>
                  <a:pt x="1697287" y="611818"/>
                </a:lnTo>
                <a:lnTo>
                  <a:pt x="1706183" y="613721"/>
                </a:lnTo>
                <a:lnTo>
                  <a:pt x="1714762" y="615624"/>
                </a:lnTo>
                <a:lnTo>
                  <a:pt x="1722705" y="618160"/>
                </a:lnTo>
                <a:lnTo>
                  <a:pt x="1730965" y="620380"/>
                </a:lnTo>
                <a:lnTo>
                  <a:pt x="1738273" y="622917"/>
                </a:lnTo>
                <a:lnTo>
                  <a:pt x="1752252" y="628308"/>
                </a:lnTo>
                <a:lnTo>
                  <a:pt x="1764643" y="633381"/>
                </a:lnTo>
                <a:lnTo>
                  <a:pt x="1775446" y="638772"/>
                </a:lnTo>
                <a:lnTo>
                  <a:pt x="1784024" y="642894"/>
                </a:lnTo>
                <a:lnTo>
                  <a:pt x="1790061" y="646382"/>
                </a:lnTo>
                <a:lnTo>
                  <a:pt x="1795462" y="649870"/>
                </a:lnTo>
                <a:lnTo>
                  <a:pt x="1783071" y="646699"/>
                </a:lnTo>
                <a:lnTo>
                  <a:pt x="1771316" y="644163"/>
                </a:lnTo>
                <a:lnTo>
                  <a:pt x="1759242" y="642577"/>
                </a:lnTo>
                <a:lnTo>
                  <a:pt x="1747487" y="641309"/>
                </a:lnTo>
                <a:lnTo>
                  <a:pt x="1735731" y="640992"/>
                </a:lnTo>
                <a:lnTo>
                  <a:pt x="1724293" y="640992"/>
                </a:lnTo>
                <a:lnTo>
                  <a:pt x="1713173" y="641943"/>
                </a:lnTo>
                <a:lnTo>
                  <a:pt x="1702371" y="643211"/>
                </a:lnTo>
                <a:lnTo>
                  <a:pt x="1691568" y="644797"/>
                </a:lnTo>
                <a:lnTo>
                  <a:pt x="1680766" y="647334"/>
                </a:lnTo>
                <a:lnTo>
                  <a:pt x="1670281" y="649870"/>
                </a:lnTo>
                <a:lnTo>
                  <a:pt x="1660432" y="653042"/>
                </a:lnTo>
                <a:lnTo>
                  <a:pt x="1650582" y="656530"/>
                </a:lnTo>
                <a:lnTo>
                  <a:pt x="1640733" y="660335"/>
                </a:lnTo>
                <a:lnTo>
                  <a:pt x="1631519" y="664457"/>
                </a:lnTo>
                <a:lnTo>
                  <a:pt x="1622305" y="668897"/>
                </a:lnTo>
                <a:lnTo>
                  <a:pt x="1613409" y="673970"/>
                </a:lnTo>
                <a:lnTo>
                  <a:pt x="1605148" y="679044"/>
                </a:lnTo>
                <a:lnTo>
                  <a:pt x="1596570" y="684117"/>
                </a:lnTo>
                <a:lnTo>
                  <a:pt x="1588627" y="689825"/>
                </a:lnTo>
                <a:lnTo>
                  <a:pt x="1580684" y="695216"/>
                </a:lnTo>
                <a:lnTo>
                  <a:pt x="1573377" y="700924"/>
                </a:lnTo>
                <a:lnTo>
                  <a:pt x="1566704" y="706632"/>
                </a:lnTo>
                <a:lnTo>
                  <a:pt x="1559715" y="712340"/>
                </a:lnTo>
                <a:lnTo>
                  <a:pt x="1553043" y="718682"/>
                </a:lnTo>
                <a:lnTo>
                  <a:pt x="1547006" y="724389"/>
                </a:lnTo>
                <a:lnTo>
                  <a:pt x="1535886" y="736122"/>
                </a:lnTo>
                <a:lnTo>
                  <a:pt x="1526354" y="747855"/>
                </a:lnTo>
                <a:lnTo>
                  <a:pt x="1518093" y="758954"/>
                </a:lnTo>
                <a:lnTo>
                  <a:pt x="1514281" y="763710"/>
                </a:lnTo>
                <a:lnTo>
                  <a:pt x="1510468" y="768784"/>
                </a:lnTo>
                <a:lnTo>
                  <a:pt x="1501572" y="778931"/>
                </a:lnTo>
                <a:lnTo>
                  <a:pt x="1492358" y="788127"/>
                </a:lnTo>
                <a:lnTo>
                  <a:pt x="1482827" y="797323"/>
                </a:lnTo>
                <a:lnTo>
                  <a:pt x="1472660" y="806202"/>
                </a:lnTo>
                <a:lnTo>
                  <a:pt x="1462493" y="814129"/>
                </a:lnTo>
                <a:lnTo>
                  <a:pt x="1452326" y="821740"/>
                </a:lnTo>
                <a:lnTo>
                  <a:pt x="1442476" y="829033"/>
                </a:lnTo>
                <a:lnTo>
                  <a:pt x="1432627" y="835692"/>
                </a:lnTo>
                <a:lnTo>
                  <a:pt x="1423413" y="841400"/>
                </a:lnTo>
                <a:lnTo>
                  <a:pt x="1408163" y="851230"/>
                </a:lnTo>
                <a:lnTo>
                  <a:pt x="1397042" y="857572"/>
                </a:lnTo>
                <a:lnTo>
                  <a:pt x="1391641" y="860426"/>
                </a:lnTo>
                <a:lnTo>
                  <a:pt x="1390370" y="849010"/>
                </a:lnTo>
                <a:lnTo>
                  <a:pt x="1388782" y="837912"/>
                </a:lnTo>
                <a:lnTo>
                  <a:pt x="1386875" y="826813"/>
                </a:lnTo>
                <a:lnTo>
                  <a:pt x="1384651" y="815398"/>
                </a:lnTo>
                <a:lnTo>
                  <a:pt x="1382110" y="804299"/>
                </a:lnTo>
                <a:lnTo>
                  <a:pt x="1379250" y="792566"/>
                </a:lnTo>
                <a:lnTo>
                  <a:pt x="1376391" y="781468"/>
                </a:lnTo>
                <a:lnTo>
                  <a:pt x="1372896" y="770369"/>
                </a:lnTo>
                <a:lnTo>
                  <a:pt x="1369083" y="759271"/>
                </a:lnTo>
                <a:lnTo>
                  <a:pt x="1364635" y="748172"/>
                </a:lnTo>
                <a:lnTo>
                  <a:pt x="1360505" y="737391"/>
                </a:lnTo>
                <a:lnTo>
                  <a:pt x="1355739" y="726926"/>
                </a:lnTo>
                <a:lnTo>
                  <a:pt x="1351291" y="716779"/>
                </a:lnTo>
                <a:lnTo>
                  <a:pt x="1345890" y="706315"/>
                </a:lnTo>
                <a:lnTo>
                  <a:pt x="1340806" y="696167"/>
                </a:lnTo>
                <a:lnTo>
                  <a:pt x="1335087" y="686337"/>
                </a:lnTo>
                <a:lnTo>
                  <a:pt x="1341124" y="688874"/>
                </a:lnTo>
                <a:lnTo>
                  <a:pt x="1347161" y="691728"/>
                </a:lnTo>
                <a:lnTo>
                  <a:pt x="1353197" y="693631"/>
                </a:lnTo>
                <a:lnTo>
                  <a:pt x="1358916" y="695216"/>
                </a:lnTo>
                <a:lnTo>
                  <a:pt x="1364953" y="696802"/>
                </a:lnTo>
                <a:lnTo>
                  <a:pt x="1371307" y="697436"/>
                </a:lnTo>
                <a:lnTo>
                  <a:pt x="1377344" y="698070"/>
                </a:lnTo>
                <a:lnTo>
                  <a:pt x="1383698" y="698704"/>
                </a:lnTo>
                <a:lnTo>
                  <a:pt x="1390053" y="698704"/>
                </a:lnTo>
                <a:lnTo>
                  <a:pt x="1396089" y="698070"/>
                </a:lnTo>
                <a:lnTo>
                  <a:pt x="1402761" y="697753"/>
                </a:lnTo>
                <a:lnTo>
                  <a:pt x="1409434" y="696802"/>
                </a:lnTo>
                <a:lnTo>
                  <a:pt x="1415788" y="695533"/>
                </a:lnTo>
                <a:lnTo>
                  <a:pt x="1422778" y="693948"/>
                </a:lnTo>
                <a:lnTo>
                  <a:pt x="1436757" y="690460"/>
                </a:lnTo>
                <a:lnTo>
                  <a:pt x="1450737" y="685703"/>
                </a:lnTo>
                <a:lnTo>
                  <a:pt x="1465988" y="679678"/>
                </a:lnTo>
                <a:lnTo>
                  <a:pt x="1481238" y="673336"/>
                </a:lnTo>
                <a:lnTo>
                  <a:pt x="1497442" y="665726"/>
                </a:lnTo>
                <a:lnTo>
                  <a:pt x="1514281" y="657481"/>
                </a:lnTo>
                <a:lnTo>
                  <a:pt x="1532391" y="648285"/>
                </a:lnTo>
                <a:lnTo>
                  <a:pt x="1570199" y="628308"/>
                </a:lnTo>
                <a:lnTo>
                  <a:pt x="1580366" y="623234"/>
                </a:lnTo>
                <a:lnTo>
                  <a:pt x="1590533" y="619429"/>
                </a:lnTo>
                <a:lnTo>
                  <a:pt x="1600383" y="615941"/>
                </a:lnTo>
                <a:lnTo>
                  <a:pt x="1610550" y="613087"/>
                </a:lnTo>
                <a:lnTo>
                  <a:pt x="1620399" y="611184"/>
                </a:lnTo>
                <a:lnTo>
                  <a:pt x="1630884" y="609599"/>
                </a:lnTo>
                <a:lnTo>
                  <a:pt x="1640415" y="608330"/>
                </a:lnTo>
                <a:lnTo>
                  <a:pt x="1650582" y="608013"/>
                </a:lnTo>
                <a:close/>
                <a:moveTo>
                  <a:pt x="907260" y="481013"/>
                </a:moveTo>
                <a:lnTo>
                  <a:pt x="918368" y="481013"/>
                </a:lnTo>
                <a:lnTo>
                  <a:pt x="929477" y="481013"/>
                </a:lnTo>
                <a:lnTo>
                  <a:pt x="940585" y="481648"/>
                </a:lnTo>
                <a:lnTo>
                  <a:pt x="951694" y="481966"/>
                </a:lnTo>
                <a:lnTo>
                  <a:pt x="962485" y="483236"/>
                </a:lnTo>
                <a:lnTo>
                  <a:pt x="973593" y="484507"/>
                </a:lnTo>
                <a:lnTo>
                  <a:pt x="984384" y="486095"/>
                </a:lnTo>
                <a:lnTo>
                  <a:pt x="995175" y="488001"/>
                </a:lnTo>
                <a:lnTo>
                  <a:pt x="1005966" y="489906"/>
                </a:lnTo>
                <a:lnTo>
                  <a:pt x="1016440" y="492130"/>
                </a:lnTo>
                <a:lnTo>
                  <a:pt x="1026597" y="494671"/>
                </a:lnTo>
                <a:lnTo>
                  <a:pt x="1037070" y="497529"/>
                </a:lnTo>
                <a:lnTo>
                  <a:pt x="1047544" y="500705"/>
                </a:lnTo>
                <a:lnTo>
                  <a:pt x="1057383" y="503564"/>
                </a:lnTo>
                <a:lnTo>
                  <a:pt x="1067539" y="507375"/>
                </a:lnTo>
                <a:lnTo>
                  <a:pt x="1077378" y="510869"/>
                </a:lnTo>
                <a:lnTo>
                  <a:pt x="1087534" y="515316"/>
                </a:lnTo>
                <a:lnTo>
                  <a:pt x="1097056" y="519445"/>
                </a:lnTo>
                <a:lnTo>
                  <a:pt x="1106578" y="523574"/>
                </a:lnTo>
                <a:lnTo>
                  <a:pt x="1115782" y="528656"/>
                </a:lnTo>
                <a:lnTo>
                  <a:pt x="1124986" y="533102"/>
                </a:lnTo>
                <a:lnTo>
                  <a:pt x="1134190" y="538502"/>
                </a:lnTo>
                <a:lnTo>
                  <a:pt x="1143394" y="543901"/>
                </a:lnTo>
                <a:lnTo>
                  <a:pt x="1152281" y="549301"/>
                </a:lnTo>
                <a:lnTo>
                  <a:pt x="1161168" y="555018"/>
                </a:lnTo>
                <a:lnTo>
                  <a:pt x="1169737" y="561052"/>
                </a:lnTo>
                <a:lnTo>
                  <a:pt x="1177989" y="567405"/>
                </a:lnTo>
                <a:lnTo>
                  <a:pt x="1186241" y="573757"/>
                </a:lnTo>
                <a:lnTo>
                  <a:pt x="1194493" y="580109"/>
                </a:lnTo>
                <a:lnTo>
                  <a:pt x="1202428" y="587097"/>
                </a:lnTo>
                <a:lnTo>
                  <a:pt x="1210362" y="594084"/>
                </a:lnTo>
                <a:lnTo>
                  <a:pt x="1217662" y="600754"/>
                </a:lnTo>
                <a:lnTo>
                  <a:pt x="1225279" y="608060"/>
                </a:lnTo>
                <a:lnTo>
                  <a:pt x="1232579" y="615365"/>
                </a:lnTo>
                <a:lnTo>
                  <a:pt x="1239561" y="623305"/>
                </a:lnTo>
                <a:lnTo>
                  <a:pt x="1246544" y="630928"/>
                </a:lnTo>
                <a:lnTo>
                  <a:pt x="1253526" y="638868"/>
                </a:lnTo>
                <a:lnTo>
                  <a:pt x="1259874" y="647126"/>
                </a:lnTo>
                <a:lnTo>
                  <a:pt x="1266222" y="655384"/>
                </a:lnTo>
                <a:lnTo>
                  <a:pt x="1272252" y="663960"/>
                </a:lnTo>
                <a:lnTo>
                  <a:pt x="1278282" y="672536"/>
                </a:lnTo>
                <a:lnTo>
                  <a:pt x="1283995" y="681111"/>
                </a:lnTo>
                <a:lnTo>
                  <a:pt x="1289391" y="690005"/>
                </a:lnTo>
                <a:lnTo>
                  <a:pt x="1294786" y="698898"/>
                </a:lnTo>
                <a:lnTo>
                  <a:pt x="1299864" y="708109"/>
                </a:lnTo>
                <a:lnTo>
                  <a:pt x="1304943" y="717320"/>
                </a:lnTo>
                <a:lnTo>
                  <a:pt x="1309386" y="726848"/>
                </a:lnTo>
                <a:lnTo>
                  <a:pt x="1314147" y="736694"/>
                </a:lnTo>
                <a:lnTo>
                  <a:pt x="1318273" y="746223"/>
                </a:lnTo>
                <a:lnTo>
                  <a:pt x="1322081" y="756069"/>
                </a:lnTo>
                <a:lnTo>
                  <a:pt x="1325890" y="765915"/>
                </a:lnTo>
                <a:lnTo>
                  <a:pt x="1329381" y="775761"/>
                </a:lnTo>
                <a:lnTo>
                  <a:pt x="1332872" y="786242"/>
                </a:lnTo>
                <a:lnTo>
                  <a:pt x="1336046" y="796724"/>
                </a:lnTo>
                <a:lnTo>
                  <a:pt x="1338585" y="806570"/>
                </a:lnTo>
                <a:lnTo>
                  <a:pt x="1341442" y="817369"/>
                </a:lnTo>
                <a:lnTo>
                  <a:pt x="1343663" y="827850"/>
                </a:lnTo>
                <a:lnTo>
                  <a:pt x="1345568" y="838649"/>
                </a:lnTo>
                <a:lnTo>
                  <a:pt x="1347472" y="849130"/>
                </a:lnTo>
                <a:lnTo>
                  <a:pt x="1349059" y="859929"/>
                </a:lnTo>
                <a:lnTo>
                  <a:pt x="1350329" y="870728"/>
                </a:lnTo>
                <a:lnTo>
                  <a:pt x="1350963" y="881845"/>
                </a:lnTo>
                <a:lnTo>
                  <a:pt x="1351598" y="892961"/>
                </a:lnTo>
                <a:lnTo>
                  <a:pt x="1352233" y="904078"/>
                </a:lnTo>
                <a:lnTo>
                  <a:pt x="1352550" y="915512"/>
                </a:lnTo>
                <a:lnTo>
                  <a:pt x="1352233" y="926629"/>
                </a:lnTo>
                <a:lnTo>
                  <a:pt x="1351598" y="937745"/>
                </a:lnTo>
                <a:lnTo>
                  <a:pt x="1350963" y="948862"/>
                </a:lnTo>
                <a:lnTo>
                  <a:pt x="1350329" y="959661"/>
                </a:lnTo>
                <a:lnTo>
                  <a:pt x="1349059" y="970777"/>
                </a:lnTo>
                <a:lnTo>
                  <a:pt x="1347472" y="981576"/>
                </a:lnTo>
                <a:lnTo>
                  <a:pt x="1345568" y="992375"/>
                </a:lnTo>
                <a:lnTo>
                  <a:pt x="1343663" y="1002539"/>
                </a:lnTo>
                <a:lnTo>
                  <a:pt x="1341442" y="1013338"/>
                </a:lnTo>
                <a:lnTo>
                  <a:pt x="1338585" y="1023819"/>
                </a:lnTo>
                <a:lnTo>
                  <a:pt x="1336046" y="1034301"/>
                </a:lnTo>
                <a:lnTo>
                  <a:pt x="1332872" y="1044464"/>
                </a:lnTo>
                <a:lnTo>
                  <a:pt x="1329381" y="1054628"/>
                </a:lnTo>
                <a:lnTo>
                  <a:pt x="1325890" y="1064474"/>
                </a:lnTo>
                <a:lnTo>
                  <a:pt x="1322081" y="1074638"/>
                </a:lnTo>
                <a:lnTo>
                  <a:pt x="1318273" y="1084166"/>
                </a:lnTo>
                <a:lnTo>
                  <a:pt x="1314147" y="1094013"/>
                </a:lnTo>
                <a:lnTo>
                  <a:pt x="1309386" y="1103223"/>
                </a:lnTo>
                <a:lnTo>
                  <a:pt x="1304943" y="1113070"/>
                </a:lnTo>
                <a:lnTo>
                  <a:pt x="1299864" y="1122280"/>
                </a:lnTo>
                <a:lnTo>
                  <a:pt x="1294786" y="1131491"/>
                </a:lnTo>
                <a:lnTo>
                  <a:pt x="1289391" y="1140385"/>
                </a:lnTo>
                <a:lnTo>
                  <a:pt x="1283995" y="1149595"/>
                </a:lnTo>
                <a:lnTo>
                  <a:pt x="1278282" y="1157853"/>
                </a:lnTo>
                <a:lnTo>
                  <a:pt x="1272252" y="1166747"/>
                </a:lnTo>
                <a:lnTo>
                  <a:pt x="1266222" y="1175322"/>
                </a:lnTo>
                <a:lnTo>
                  <a:pt x="1259874" y="1183263"/>
                </a:lnTo>
                <a:lnTo>
                  <a:pt x="1253526" y="1191521"/>
                </a:lnTo>
                <a:lnTo>
                  <a:pt x="1246544" y="1199461"/>
                </a:lnTo>
                <a:lnTo>
                  <a:pt x="1239561" y="1207084"/>
                </a:lnTo>
                <a:lnTo>
                  <a:pt x="1232579" y="1215024"/>
                </a:lnTo>
                <a:lnTo>
                  <a:pt x="1225279" y="1222330"/>
                </a:lnTo>
                <a:lnTo>
                  <a:pt x="1217662" y="1229635"/>
                </a:lnTo>
                <a:lnTo>
                  <a:pt x="1210362" y="1236940"/>
                </a:lnTo>
                <a:lnTo>
                  <a:pt x="1202428" y="1243610"/>
                </a:lnTo>
                <a:lnTo>
                  <a:pt x="1194493" y="1250280"/>
                </a:lnTo>
                <a:lnTo>
                  <a:pt x="1186241" y="1256632"/>
                </a:lnTo>
                <a:lnTo>
                  <a:pt x="1177989" y="1263302"/>
                </a:lnTo>
                <a:lnTo>
                  <a:pt x="1169737" y="1269337"/>
                </a:lnTo>
                <a:lnTo>
                  <a:pt x="1161168" y="1275371"/>
                </a:lnTo>
                <a:lnTo>
                  <a:pt x="1152281" y="1281089"/>
                </a:lnTo>
                <a:lnTo>
                  <a:pt x="1143394" y="1286806"/>
                </a:lnTo>
                <a:lnTo>
                  <a:pt x="1134190" y="1292205"/>
                </a:lnTo>
                <a:lnTo>
                  <a:pt x="1124986" y="1297287"/>
                </a:lnTo>
                <a:lnTo>
                  <a:pt x="1115782" y="1302051"/>
                </a:lnTo>
                <a:lnTo>
                  <a:pt x="1106578" y="1306816"/>
                </a:lnTo>
                <a:lnTo>
                  <a:pt x="1097056" y="1311262"/>
                </a:lnTo>
                <a:lnTo>
                  <a:pt x="1087534" y="1315709"/>
                </a:lnTo>
                <a:lnTo>
                  <a:pt x="1077378" y="1319520"/>
                </a:lnTo>
                <a:lnTo>
                  <a:pt x="1067539" y="1323332"/>
                </a:lnTo>
                <a:lnTo>
                  <a:pt x="1057383" y="1326825"/>
                </a:lnTo>
                <a:lnTo>
                  <a:pt x="1047544" y="1330319"/>
                </a:lnTo>
                <a:lnTo>
                  <a:pt x="1037070" y="1332860"/>
                </a:lnTo>
                <a:lnTo>
                  <a:pt x="1026597" y="1336036"/>
                </a:lnTo>
                <a:lnTo>
                  <a:pt x="1016440" y="1338260"/>
                </a:lnTo>
                <a:lnTo>
                  <a:pt x="1005966" y="1340483"/>
                </a:lnTo>
                <a:lnTo>
                  <a:pt x="995175" y="1343024"/>
                </a:lnTo>
                <a:lnTo>
                  <a:pt x="984384" y="1344294"/>
                </a:lnTo>
                <a:lnTo>
                  <a:pt x="973593" y="1345882"/>
                </a:lnTo>
                <a:lnTo>
                  <a:pt x="962485" y="1347470"/>
                </a:lnTo>
                <a:lnTo>
                  <a:pt x="951694" y="1348423"/>
                </a:lnTo>
                <a:lnTo>
                  <a:pt x="940585" y="1349058"/>
                </a:lnTo>
                <a:lnTo>
                  <a:pt x="929477" y="1349376"/>
                </a:lnTo>
                <a:lnTo>
                  <a:pt x="918368" y="1349376"/>
                </a:lnTo>
                <a:lnTo>
                  <a:pt x="907260" y="1349376"/>
                </a:lnTo>
                <a:lnTo>
                  <a:pt x="896151" y="1349058"/>
                </a:lnTo>
                <a:lnTo>
                  <a:pt x="885043" y="1348423"/>
                </a:lnTo>
                <a:lnTo>
                  <a:pt x="873934" y="1347470"/>
                </a:lnTo>
                <a:lnTo>
                  <a:pt x="863143" y="1345882"/>
                </a:lnTo>
                <a:lnTo>
                  <a:pt x="852352" y="1344294"/>
                </a:lnTo>
                <a:lnTo>
                  <a:pt x="841561" y="1343024"/>
                </a:lnTo>
                <a:lnTo>
                  <a:pt x="830770" y="1340483"/>
                </a:lnTo>
                <a:lnTo>
                  <a:pt x="820297" y="1338260"/>
                </a:lnTo>
                <a:lnTo>
                  <a:pt x="810140" y="1336036"/>
                </a:lnTo>
                <a:lnTo>
                  <a:pt x="799667" y="1332860"/>
                </a:lnTo>
                <a:lnTo>
                  <a:pt x="789193" y="1330319"/>
                </a:lnTo>
                <a:lnTo>
                  <a:pt x="779354" y="1326825"/>
                </a:lnTo>
                <a:lnTo>
                  <a:pt x="769198" y="1323332"/>
                </a:lnTo>
                <a:lnTo>
                  <a:pt x="759359" y="1319520"/>
                </a:lnTo>
                <a:lnTo>
                  <a:pt x="749203" y="1315709"/>
                </a:lnTo>
                <a:lnTo>
                  <a:pt x="739681" y="1311262"/>
                </a:lnTo>
                <a:lnTo>
                  <a:pt x="730159" y="1306816"/>
                </a:lnTo>
                <a:lnTo>
                  <a:pt x="720955" y="1302051"/>
                </a:lnTo>
                <a:lnTo>
                  <a:pt x="711751" y="1297287"/>
                </a:lnTo>
                <a:lnTo>
                  <a:pt x="702547" y="1292205"/>
                </a:lnTo>
                <a:lnTo>
                  <a:pt x="693343" y="1286806"/>
                </a:lnTo>
                <a:lnTo>
                  <a:pt x="684456" y="1281089"/>
                </a:lnTo>
                <a:lnTo>
                  <a:pt x="675569" y="1275371"/>
                </a:lnTo>
                <a:lnTo>
                  <a:pt x="667000" y="1269337"/>
                </a:lnTo>
                <a:lnTo>
                  <a:pt x="658748" y="1263302"/>
                </a:lnTo>
                <a:lnTo>
                  <a:pt x="650496" y="1256632"/>
                </a:lnTo>
                <a:lnTo>
                  <a:pt x="642244" y="1250280"/>
                </a:lnTo>
                <a:lnTo>
                  <a:pt x="634627" y="1243610"/>
                </a:lnTo>
                <a:lnTo>
                  <a:pt x="626375" y="1236940"/>
                </a:lnTo>
                <a:lnTo>
                  <a:pt x="619075" y="1229635"/>
                </a:lnTo>
                <a:lnTo>
                  <a:pt x="611458" y="1222330"/>
                </a:lnTo>
                <a:lnTo>
                  <a:pt x="604158" y="1215024"/>
                </a:lnTo>
                <a:lnTo>
                  <a:pt x="597176" y="1207084"/>
                </a:lnTo>
                <a:lnTo>
                  <a:pt x="590193" y="1199461"/>
                </a:lnTo>
                <a:lnTo>
                  <a:pt x="583528" y="1191521"/>
                </a:lnTo>
                <a:lnTo>
                  <a:pt x="576863" y="1183263"/>
                </a:lnTo>
                <a:lnTo>
                  <a:pt x="570833" y="1175322"/>
                </a:lnTo>
                <a:lnTo>
                  <a:pt x="564485" y="1166747"/>
                </a:lnTo>
                <a:lnTo>
                  <a:pt x="558455" y="1157853"/>
                </a:lnTo>
                <a:lnTo>
                  <a:pt x="552742" y="1149595"/>
                </a:lnTo>
                <a:lnTo>
                  <a:pt x="547346" y="1140385"/>
                </a:lnTo>
                <a:lnTo>
                  <a:pt x="541951" y="1131491"/>
                </a:lnTo>
                <a:lnTo>
                  <a:pt x="536873" y="1122280"/>
                </a:lnTo>
                <a:lnTo>
                  <a:pt x="531794" y="1113070"/>
                </a:lnTo>
                <a:lnTo>
                  <a:pt x="527351" y="1103223"/>
                </a:lnTo>
                <a:lnTo>
                  <a:pt x="522590" y="1094013"/>
                </a:lnTo>
                <a:lnTo>
                  <a:pt x="518464" y="1084166"/>
                </a:lnTo>
                <a:lnTo>
                  <a:pt x="514656" y="1074638"/>
                </a:lnTo>
                <a:lnTo>
                  <a:pt x="510847" y="1064474"/>
                </a:lnTo>
                <a:lnTo>
                  <a:pt x="507356" y="1054628"/>
                </a:lnTo>
                <a:lnTo>
                  <a:pt x="503865" y="1044464"/>
                </a:lnTo>
                <a:lnTo>
                  <a:pt x="500691" y="1034301"/>
                </a:lnTo>
                <a:lnTo>
                  <a:pt x="498152" y="1023819"/>
                </a:lnTo>
                <a:lnTo>
                  <a:pt x="495295" y="1013338"/>
                </a:lnTo>
                <a:lnTo>
                  <a:pt x="493074" y="1002539"/>
                </a:lnTo>
                <a:lnTo>
                  <a:pt x="491169" y="992375"/>
                </a:lnTo>
                <a:lnTo>
                  <a:pt x="489265" y="981576"/>
                </a:lnTo>
                <a:lnTo>
                  <a:pt x="487995" y="970777"/>
                </a:lnTo>
                <a:lnTo>
                  <a:pt x="486726" y="959661"/>
                </a:lnTo>
                <a:lnTo>
                  <a:pt x="485774" y="948862"/>
                </a:lnTo>
                <a:lnTo>
                  <a:pt x="485139" y="937745"/>
                </a:lnTo>
                <a:lnTo>
                  <a:pt x="484504" y="926629"/>
                </a:lnTo>
                <a:lnTo>
                  <a:pt x="484187" y="915512"/>
                </a:lnTo>
                <a:lnTo>
                  <a:pt x="484504" y="904078"/>
                </a:lnTo>
                <a:lnTo>
                  <a:pt x="485139" y="892961"/>
                </a:lnTo>
                <a:lnTo>
                  <a:pt x="485774" y="881845"/>
                </a:lnTo>
                <a:lnTo>
                  <a:pt x="486726" y="870728"/>
                </a:lnTo>
                <a:lnTo>
                  <a:pt x="487995" y="859929"/>
                </a:lnTo>
                <a:lnTo>
                  <a:pt x="489265" y="849130"/>
                </a:lnTo>
                <a:lnTo>
                  <a:pt x="491169" y="838649"/>
                </a:lnTo>
                <a:lnTo>
                  <a:pt x="493074" y="827850"/>
                </a:lnTo>
                <a:lnTo>
                  <a:pt x="495295" y="817369"/>
                </a:lnTo>
                <a:lnTo>
                  <a:pt x="498152" y="806570"/>
                </a:lnTo>
                <a:lnTo>
                  <a:pt x="500691" y="796724"/>
                </a:lnTo>
                <a:lnTo>
                  <a:pt x="503865" y="786242"/>
                </a:lnTo>
                <a:lnTo>
                  <a:pt x="507356" y="775761"/>
                </a:lnTo>
                <a:lnTo>
                  <a:pt x="510847" y="765915"/>
                </a:lnTo>
                <a:lnTo>
                  <a:pt x="514656" y="756069"/>
                </a:lnTo>
                <a:lnTo>
                  <a:pt x="518464" y="746223"/>
                </a:lnTo>
                <a:lnTo>
                  <a:pt x="522590" y="736694"/>
                </a:lnTo>
                <a:lnTo>
                  <a:pt x="527351" y="726848"/>
                </a:lnTo>
                <a:lnTo>
                  <a:pt x="531794" y="717320"/>
                </a:lnTo>
                <a:lnTo>
                  <a:pt x="536873" y="708109"/>
                </a:lnTo>
                <a:lnTo>
                  <a:pt x="541951" y="698898"/>
                </a:lnTo>
                <a:lnTo>
                  <a:pt x="547346" y="690005"/>
                </a:lnTo>
                <a:lnTo>
                  <a:pt x="552742" y="681111"/>
                </a:lnTo>
                <a:lnTo>
                  <a:pt x="558455" y="672536"/>
                </a:lnTo>
                <a:lnTo>
                  <a:pt x="564485" y="663960"/>
                </a:lnTo>
                <a:lnTo>
                  <a:pt x="570833" y="655384"/>
                </a:lnTo>
                <a:lnTo>
                  <a:pt x="576863" y="647126"/>
                </a:lnTo>
                <a:lnTo>
                  <a:pt x="583528" y="638868"/>
                </a:lnTo>
                <a:lnTo>
                  <a:pt x="590193" y="630928"/>
                </a:lnTo>
                <a:lnTo>
                  <a:pt x="597176" y="623305"/>
                </a:lnTo>
                <a:lnTo>
                  <a:pt x="604158" y="615365"/>
                </a:lnTo>
                <a:lnTo>
                  <a:pt x="611458" y="608060"/>
                </a:lnTo>
                <a:lnTo>
                  <a:pt x="619075" y="600754"/>
                </a:lnTo>
                <a:lnTo>
                  <a:pt x="626375" y="594084"/>
                </a:lnTo>
                <a:lnTo>
                  <a:pt x="634627" y="587097"/>
                </a:lnTo>
                <a:lnTo>
                  <a:pt x="642244" y="580109"/>
                </a:lnTo>
                <a:lnTo>
                  <a:pt x="650496" y="573757"/>
                </a:lnTo>
                <a:lnTo>
                  <a:pt x="658748" y="567405"/>
                </a:lnTo>
                <a:lnTo>
                  <a:pt x="667000" y="561052"/>
                </a:lnTo>
                <a:lnTo>
                  <a:pt x="675569" y="555018"/>
                </a:lnTo>
                <a:lnTo>
                  <a:pt x="684456" y="549301"/>
                </a:lnTo>
                <a:lnTo>
                  <a:pt x="693343" y="543901"/>
                </a:lnTo>
                <a:lnTo>
                  <a:pt x="702547" y="538502"/>
                </a:lnTo>
                <a:lnTo>
                  <a:pt x="711751" y="533102"/>
                </a:lnTo>
                <a:lnTo>
                  <a:pt x="720955" y="528656"/>
                </a:lnTo>
                <a:lnTo>
                  <a:pt x="730159" y="523574"/>
                </a:lnTo>
                <a:lnTo>
                  <a:pt x="739681" y="519445"/>
                </a:lnTo>
                <a:lnTo>
                  <a:pt x="749203" y="515316"/>
                </a:lnTo>
                <a:lnTo>
                  <a:pt x="759359" y="510869"/>
                </a:lnTo>
                <a:lnTo>
                  <a:pt x="769198" y="507375"/>
                </a:lnTo>
                <a:lnTo>
                  <a:pt x="779354" y="503564"/>
                </a:lnTo>
                <a:lnTo>
                  <a:pt x="789193" y="500705"/>
                </a:lnTo>
                <a:lnTo>
                  <a:pt x="799667" y="497529"/>
                </a:lnTo>
                <a:lnTo>
                  <a:pt x="810140" y="494671"/>
                </a:lnTo>
                <a:lnTo>
                  <a:pt x="820297" y="492130"/>
                </a:lnTo>
                <a:lnTo>
                  <a:pt x="830770" y="489906"/>
                </a:lnTo>
                <a:lnTo>
                  <a:pt x="841561" y="488001"/>
                </a:lnTo>
                <a:lnTo>
                  <a:pt x="852352" y="486095"/>
                </a:lnTo>
                <a:lnTo>
                  <a:pt x="863143" y="484507"/>
                </a:lnTo>
                <a:lnTo>
                  <a:pt x="873934" y="483236"/>
                </a:lnTo>
                <a:lnTo>
                  <a:pt x="885043" y="481966"/>
                </a:lnTo>
                <a:lnTo>
                  <a:pt x="896151" y="481648"/>
                </a:lnTo>
                <a:lnTo>
                  <a:pt x="907260" y="481013"/>
                </a:lnTo>
                <a:close/>
                <a:moveTo>
                  <a:pt x="1561352" y="312738"/>
                </a:moveTo>
                <a:lnTo>
                  <a:pt x="1574718" y="312738"/>
                </a:lnTo>
                <a:lnTo>
                  <a:pt x="1586812" y="313055"/>
                </a:lnTo>
                <a:lnTo>
                  <a:pt x="1596359" y="313372"/>
                </a:lnTo>
                <a:lnTo>
                  <a:pt x="1603360" y="314007"/>
                </a:lnTo>
                <a:lnTo>
                  <a:pt x="1609725" y="314959"/>
                </a:lnTo>
                <a:lnTo>
                  <a:pt x="1597314" y="317179"/>
                </a:lnTo>
                <a:lnTo>
                  <a:pt x="1585220" y="320034"/>
                </a:lnTo>
                <a:lnTo>
                  <a:pt x="1573763" y="322889"/>
                </a:lnTo>
                <a:lnTo>
                  <a:pt x="1562625" y="326696"/>
                </a:lnTo>
                <a:lnTo>
                  <a:pt x="1551804" y="331137"/>
                </a:lnTo>
                <a:lnTo>
                  <a:pt x="1541302" y="335895"/>
                </a:lnTo>
                <a:lnTo>
                  <a:pt x="1531437" y="340971"/>
                </a:lnTo>
                <a:lnTo>
                  <a:pt x="1521571" y="346680"/>
                </a:lnTo>
                <a:lnTo>
                  <a:pt x="1512342" y="353025"/>
                </a:lnTo>
                <a:lnTo>
                  <a:pt x="1504068" y="359052"/>
                </a:lnTo>
                <a:lnTo>
                  <a:pt x="1495475" y="365714"/>
                </a:lnTo>
                <a:lnTo>
                  <a:pt x="1487519" y="373010"/>
                </a:lnTo>
                <a:lnTo>
                  <a:pt x="1479563" y="379671"/>
                </a:lnTo>
                <a:lnTo>
                  <a:pt x="1472243" y="387602"/>
                </a:lnTo>
                <a:lnTo>
                  <a:pt x="1465878" y="395215"/>
                </a:lnTo>
                <a:lnTo>
                  <a:pt x="1459195" y="402828"/>
                </a:lnTo>
                <a:lnTo>
                  <a:pt x="1453148" y="411076"/>
                </a:lnTo>
                <a:lnTo>
                  <a:pt x="1447420" y="419007"/>
                </a:lnTo>
                <a:lnTo>
                  <a:pt x="1442010" y="426937"/>
                </a:lnTo>
                <a:lnTo>
                  <a:pt x="1436599" y="435502"/>
                </a:lnTo>
                <a:lnTo>
                  <a:pt x="1431826" y="443432"/>
                </a:lnTo>
                <a:lnTo>
                  <a:pt x="1427370" y="451680"/>
                </a:lnTo>
                <a:lnTo>
                  <a:pt x="1423551" y="459928"/>
                </a:lnTo>
                <a:lnTo>
                  <a:pt x="1419414" y="468175"/>
                </a:lnTo>
                <a:lnTo>
                  <a:pt x="1416232" y="476106"/>
                </a:lnTo>
                <a:lnTo>
                  <a:pt x="1413049" y="483719"/>
                </a:lnTo>
                <a:lnTo>
                  <a:pt x="1407639" y="499263"/>
                </a:lnTo>
                <a:lnTo>
                  <a:pt x="1403502" y="513855"/>
                </a:lnTo>
                <a:lnTo>
                  <a:pt x="1400319" y="527178"/>
                </a:lnTo>
                <a:lnTo>
                  <a:pt x="1398728" y="533523"/>
                </a:lnTo>
                <a:lnTo>
                  <a:pt x="1397137" y="539550"/>
                </a:lnTo>
                <a:lnTo>
                  <a:pt x="1393318" y="551921"/>
                </a:lnTo>
                <a:lnTo>
                  <a:pt x="1388863" y="564610"/>
                </a:lnTo>
                <a:lnTo>
                  <a:pt x="1383771" y="576665"/>
                </a:lnTo>
                <a:lnTo>
                  <a:pt x="1378042" y="588719"/>
                </a:lnTo>
                <a:lnTo>
                  <a:pt x="1372314" y="600456"/>
                </a:lnTo>
                <a:lnTo>
                  <a:pt x="1365949" y="611876"/>
                </a:lnTo>
                <a:lnTo>
                  <a:pt x="1359902" y="622027"/>
                </a:lnTo>
                <a:lnTo>
                  <a:pt x="1353856" y="632178"/>
                </a:lnTo>
                <a:lnTo>
                  <a:pt x="1347809" y="641377"/>
                </a:lnTo>
                <a:lnTo>
                  <a:pt x="1337625" y="656287"/>
                </a:lnTo>
                <a:lnTo>
                  <a:pt x="1329669" y="666755"/>
                </a:lnTo>
                <a:lnTo>
                  <a:pt x="1326486" y="671513"/>
                </a:lnTo>
                <a:lnTo>
                  <a:pt x="1320440" y="661679"/>
                </a:lnTo>
                <a:lnTo>
                  <a:pt x="1314393" y="652163"/>
                </a:lnTo>
                <a:lnTo>
                  <a:pt x="1307710" y="642329"/>
                </a:lnTo>
                <a:lnTo>
                  <a:pt x="1301345" y="633130"/>
                </a:lnTo>
                <a:lnTo>
                  <a:pt x="1294344" y="623613"/>
                </a:lnTo>
                <a:lnTo>
                  <a:pt x="1287024" y="614414"/>
                </a:lnTo>
                <a:lnTo>
                  <a:pt x="1279704" y="605531"/>
                </a:lnTo>
                <a:lnTo>
                  <a:pt x="1272066" y="596649"/>
                </a:lnTo>
                <a:lnTo>
                  <a:pt x="1263792" y="588402"/>
                </a:lnTo>
                <a:lnTo>
                  <a:pt x="1255836" y="579837"/>
                </a:lnTo>
                <a:lnTo>
                  <a:pt x="1247243" y="571906"/>
                </a:lnTo>
                <a:lnTo>
                  <a:pt x="1238969" y="563976"/>
                </a:lnTo>
                <a:lnTo>
                  <a:pt x="1230376" y="556362"/>
                </a:lnTo>
                <a:lnTo>
                  <a:pt x="1221465" y="549066"/>
                </a:lnTo>
                <a:lnTo>
                  <a:pt x="1212236" y="542088"/>
                </a:lnTo>
                <a:lnTo>
                  <a:pt x="1203325" y="535426"/>
                </a:lnTo>
                <a:lnTo>
                  <a:pt x="1210008" y="535426"/>
                </a:lnTo>
                <a:lnTo>
                  <a:pt x="1216692" y="535426"/>
                </a:lnTo>
                <a:lnTo>
                  <a:pt x="1222738" y="534474"/>
                </a:lnTo>
                <a:lnTo>
                  <a:pt x="1228785" y="533840"/>
                </a:lnTo>
                <a:lnTo>
                  <a:pt x="1235150" y="532571"/>
                </a:lnTo>
                <a:lnTo>
                  <a:pt x="1241197" y="530985"/>
                </a:lnTo>
                <a:lnTo>
                  <a:pt x="1246925" y="529082"/>
                </a:lnTo>
                <a:lnTo>
                  <a:pt x="1252653" y="526861"/>
                </a:lnTo>
                <a:lnTo>
                  <a:pt x="1258700" y="524323"/>
                </a:lnTo>
                <a:lnTo>
                  <a:pt x="1264428" y="521468"/>
                </a:lnTo>
                <a:lnTo>
                  <a:pt x="1269839" y="517979"/>
                </a:lnTo>
                <a:lnTo>
                  <a:pt x="1275567" y="514490"/>
                </a:lnTo>
                <a:lnTo>
                  <a:pt x="1281295" y="510683"/>
                </a:lnTo>
                <a:lnTo>
                  <a:pt x="1286706" y="506876"/>
                </a:lnTo>
                <a:lnTo>
                  <a:pt x="1297844" y="497677"/>
                </a:lnTo>
                <a:lnTo>
                  <a:pt x="1308983" y="487843"/>
                </a:lnTo>
                <a:lnTo>
                  <a:pt x="1320121" y="476106"/>
                </a:lnTo>
                <a:lnTo>
                  <a:pt x="1331897" y="464052"/>
                </a:lnTo>
                <a:lnTo>
                  <a:pt x="1343672" y="450411"/>
                </a:lnTo>
                <a:lnTo>
                  <a:pt x="1355765" y="435819"/>
                </a:lnTo>
                <a:lnTo>
                  <a:pt x="1368495" y="420593"/>
                </a:lnTo>
                <a:lnTo>
                  <a:pt x="1394909" y="386650"/>
                </a:lnTo>
                <a:lnTo>
                  <a:pt x="1402229" y="378402"/>
                </a:lnTo>
                <a:lnTo>
                  <a:pt x="1409549" y="370472"/>
                </a:lnTo>
                <a:lnTo>
                  <a:pt x="1417186" y="363176"/>
                </a:lnTo>
                <a:lnTo>
                  <a:pt x="1425461" y="356514"/>
                </a:lnTo>
                <a:lnTo>
                  <a:pt x="1433735" y="350487"/>
                </a:lnTo>
                <a:lnTo>
                  <a:pt x="1442328" y="344777"/>
                </a:lnTo>
                <a:lnTo>
                  <a:pt x="1451239" y="340336"/>
                </a:lnTo>
                <a:lnTo>
                  <a:pt x="1460150" y="335578"/>
                </a:lnTo>
                <a:lnTo>
                  <a:pt x="1468742" y="331771"/>
                </a:lnTo>
                <a:lnTo>
                  <a:pt x="1477653" y="328282"/>
                </a:lnTo>
                <a:lnTo>
                  <a:pt x="1486564" y="325427"/>
                </a:lnTo>
                <a:lnTo>
                  <a:pt x="1495475" y="322572"/>
                </a:lnTo>
                <a:lnTo>
                  <a:pt x="1504386" y="320351"/>
                </a:lnTo>
                <a:lnTo>
                  <a:pt x="1513297" y="318448"/>
                </a:lnTo>
                <a:lnTo>
                  <a:pt x="1521571" y="316862"/>
                </a:lnTo>
                <a:lnTo>
                  <a:pt x="1530164" y="315276"/>
                </a:lnTo>
                <a:lnTo>
                  <a:pt x="1538756" y="314641"/>
                </a:lnTo>
                <a:lnTo>
                  <a:pt x="1546394" y="313690"/>
                </a:lnTo>
                <a:lnTo>
                  <a:pt x="1561352" y="312738"/>
                </a:lnTo>
                <a:close/>
                <a:moveTo>
                  <a:pt x="242887" y="292100"/>
                </a:moveTo>
                <a:lnTo>
                  <a:pt x="246376" y="304155"/>
                </a:lnTo>
                <a:lnTo>
                  <a:pt x="250183" y="315893"/>
                </a:lnTo>
                <a:lnTo>
                  <a:pt x="254942" y="326996"/>
                </a:lnTo>
                <a:lnTo>
                  <a:pt x="260018" y="337782"/>
                </a:lnTo>
                <a:lnTo>
                  <a:pt x="265411" y="347933"/>
                </a:lnTo>
                <a:lnTo>
                  <a:pt x="271121" y="357768"/>
                </a:lnTo>
                <a:lnTo>
                  <a:pt x="277148" y="366968"/>
                </a:lnTo>
                <a:lnTo>
                  <a:pt x="283810" y="375850"/>
                </a:lnTo>
                <a:lnTo>
                  <a:pt x="290472" y="384415"/>
                </a:lnTo>
                <a:lnTo>
                  <a:pt x="297769" y="392346"/>
                </a:lnTo>
                <a:lnTo>
                  <a:pt x="305700" y="399960"/>
                </a:lnTo>
                <a:lnTo>
                  <a:pt x="313314" y="407256"/>
                </a:lnTo>
                <a:lnTo>
                  <a:pt x="321244" y="413918"/>
                </a:lnTo>
                <a:lnTo>
                  <a:pt x="329493" y="420580"/>
                </a:lnTo>
                <a:lnTo>
                  <a:pt x="337424" y="426608"/>
                </a:lnTo>
                <a:lnTo>
                  <a:pt x="345989" y="432001"/>
                </a:lnTo>
                <a:lnTo>
                  <a:pt x="354872" y="437394"/>
                </a:lnTo>
                <a:lnTo>
                  <a:pt x="363120" y="442469"/>
                </a:lnTo>
                <a:lnTo>
                  <a:pt x="372003" y="446911"/>
                </a:lnTo>
                <a:lnTo>
                  <a:pt x="380885" y="451035"/>
                </a:lnTo>
                <a:lnTo>
                  <a:pt x="389451" y="455159"/>
                </a:lnTo>
                <a:lnTo>
                  <a:pt x="398016" y="458331"/>
                </a:lnTo>
                <a:lnTo>
                  <a:pt x="406581" y="461504"/>
                </a:lnTo>
                <a:lnTo>
                  <a:pt x="415147" y="464676"/>
                </a:lnTo>
                <a:lnTo>
                  <a:pt x="423395" y="467214"/>
                </a:lnTo>
                <a:lnTo>
                  <a:pt x="431643" y="469752"/>
                </a:lnTo>
                <a:lnTo>
                  <a:pt x="447188" y="472924"/>
                </a:lnTo>
                <a:lnTo>
                  <a:pt x="462415" y="475779"/>
                </a:lnTo>
                <a:lnTo>
                  <a:pt x="475739" y="477683"/>
                </a:lnTo>
                <a:lnTo>
                  <a:pt x="482084" y="478000"/>
                </a:lnTo>
                <a:lnTo>
                  <a:pt x="488429" y="479269"/>
                </a:lnTo>
                <a:lnTo>
                  <a:pt x="501118" y="481489"/>
                </a:lnTo>
                <a:lnTo>
                  <a:pt x="514125" y="484979"/>
                </a:lnTo>
                <a:lnTo>
                  <a:pt x="526815" y="488786"/>
                </a:lnTo>
                <a:lnTo>
                  <a:pt x="539504" y="492910"/>
                </a:lnTo>
                <a:lnTo>
                  <a:pt x="551876" y="497668"/>
                </a:lnTo>
                <a:lnTo>
                  <a:pt x="563614" y="502744"/>
                </a:lnTo>
                <a:lnTo>
                  <a:pt x="574718" y="507503"/>
                </a:lnTo>
                <a:lnTo>
                  <a:pt x="585186" y="512578"/>
                </a:lnTo>
                <a:lnTo>
                  <a:pt x="594704" y="517654"/>
                </a:lnTo>
                <a:lnTo>
                  <a:pt x="610883" y="526537"/>
                </a:lnTo>
                <a:lnTo>
                  <a:pt x="621986" y="532564"/>
                </a:lnTo>
                <a:lnTo>
                  <a:pt x="627062" y="535737"/>
                </a:lnTo>
                <a:lnTo>
                  <a:pt x="617862" y="542398"/>
                </a:lnTo>
                <a:lnTo>
                  <a:pt x="608979" y="549378"/>
                </a:lnTo>
                <a:lnTo>
                  <a:pt x="600097" y="556674"/>
                </a:lnTo>
                <a:lnTo>
                  <a:pt x="591214" y="564288"/>
                </a:lnTo>
                <a:lnTo>
                  <a:pt x="582966" y="572219"/>
                </a:lnTo>
                <a:lnTo>
                  <a:pt x="574400" y="580467"/>
                </a:lnTo>
                <a:lnTo>
                  <a:pt x="566469" y="588715"/>
                </a:lnTo>
                <a:lnTo>
                  <a:pt x="558221" y="597597"/>
                </a:lnTo>
                <a:lnTo>
                  <a:pt x="550607" y="606163"/>
                </a:lnTo>
                <a:lnTo>
                  <a:pt x="543311" y="615045"/>
                </a:lnTo>
                <a:lnTo>
                  <a:pt x="536015" y="624245"/>
                </a:lnTo>
                <a:lnTo>
                  <a:pt x="529035" y="633445"/>
                </a:lnTo>
                <a:lnTo>
                  <a:pt x="522691" y="642645"/>
                </a:lnTo>
                <a:lnTo>
                  <a:pt x="516346" y="652479"/>
                </a:lnTo>
                <a:lnTo>
                  <a:pt x="510318" y="661996"/>
                </a:lnTo>
                <a:lnTo>
                  <a:pt x="504608" y="671513"/>
                </a:lnTo>
                <a:lnTo>
                  <a:pt x="503656" y="665168"/>
                </a:lnTo>
                <a:lnTo>
                  <a:pt x="503022" y="658824"/>
                </a:lnTo>
                <a:lnTo>
                  <a:pt x="501753" y="652796"/>
                </a:lnTo>
                <a:lnTo>
                  <a:pt x="500167" y="646769"/>
                </a:lnTo>
                <a:lnTo>
                  <a:pt x="498263" y="640741"/>
                </a:lnTo>
                <a:lnTo>
                  <a:pt x="496043" y="634714"/>
                </a:lnTo>
                <a:lnTo>
                  <a:pt x="493822" y="629321"/>
                </a:lnTo>
                <a:lnTo>
                  <a:pt x="490649" y="623611"/>
                </a:lnTo>
                <a:lnTo>
                  <a:pt x="487477" y="618218"/>
                </a:lnTo>
                <a:lnTo>
                  <a:pt x="483988" y="612825"/>
                </a:lnTo>
                <a:lnTo>
                  <a:pt x="480815" y="607432"/>
                </a:lnTo>
                <a:lnTo>
                  <a:pt x="476374" y="602356"/>
                </a:lnTo>
                <a:lnTo>
                  <a:pt x="472250" y="596963"/>
                </a:lnTo>
                <a:lnTo>
                  <a:pt x="467491" y="592204"/>
                </a:lnTo>
                <a:lnTo>
                  <a:pt x="457340" y="582053"/>
                </a:lnTo>
                <a:lnTo>
                  <a:pt x="446236" y="572219"/>
                </a:lnTo>
                <a:lnTo>
                  <a:pt x="433547" y="562067"/>
                </a:lnTo>
                <a:lnTo>
                  <a:pt x="419905" y="552233"/>
                </a:lnTo>
                <a:lnTo>
                  <a:pt x="405313" y="541764"/>
                </a:lnTo>
                <a:lnTo>
                  <a:pt x="389768" y="531295"/>
                </a:lnTo>
                <a:lnTo>
                  <a:pt x="373271" y="520192"/>
                </a:lnTo>
                <a:lnTo>
                  <a:pt x="337106" y="497668"/>
                </a:lnTo>
                <a:lnTo>
                  <a:pt x="327589" y="491006"/>
                </a:lnTo>
                <a:lnTo>
                  <a:pt x="319024" y="484662"/>
                </a:lnTo>
                <a:lnTo>
                  <a:pt x="311093" y="477683"/>
                </a:lnTo>
                <a:lnTo>
                  <a:pt x="303796" y="470386"/>
                </a:lnTo>
                <a:lnTo>
                  <a:pt x="296817" y="462773"/>
                </a:lnTo>
                <a:lnTo>
                  <a:pt x="290155" y="454524"/>
                </a:lnTo>
                <a:lnTo>
                  <a:pt x="284445" y="446593"/>
                </a:lnTo>
                <a:lnTo>
                  <a:pt x="279052" y="438345"/>
                </a:lnTo>
                <a:lnTo>
                  <a:pt x="273976" y="430097"/>
                </a:lnTo>
                <a:lnTo>
                  <a:pt x="269852" y="421532"/>
                </a:lnTo>
                <a:lnTo>
                  <a:pt x="266045" y="412649"/>
                </a:lnTo>
                <a:lnTo>
                  <a:pt x="262238" y="404401"/>
                </a:lnTo>
                <a:lnTo>
                  <a:pt x="259066" y="395836"/>
                </a:lnTo>
                <a:lnTo>
                  <a:pt x="256528" y="387271"/>
                </a:lnTo>
                <a:lnTo>
                  <a:pt x="253673" y="379022"/>
                </a:lnTo>
                <a:lnTo>
                  <a:pt x="251769" y="370774"/>
                </a:lnTo>
                <a:lnTo>
                  <a:pt x="249866" y="362843"/>
                </a:lnTo>
                <a:lnTo>
                  <a:pt x="248280" y="354913"/>
                </a:lnTo>
                <a:lnTo>
                  <a:pt x="245742" y="340320"/>
                </a:lnTo>
                <a:lnTo>
                  <a:pt x="244156" y="326679"/>
                </a:lnTo>
                <a:lnTo>
                  <a:pt x="243521" y="315258"/>
                </a:lnTo>
                <a:lnTo>
                  <a:pt x="242887" y="305741"/>
                </a:lnTo>
                <a:lnTo>
                  <a:pt x="242887" y="298445"/>
                </a:lnTo>
                <a:lnTo>
                  <a:pt x="242887" y="292100"/>
                </a:lnTo>
                <a:close/>
                <a:moveTo>
                  <a:pt x="1303337" y="85725"/>
                </a:moveTo>
                <a:lnTo>
                  <a:pt x="1292895" y="92695"/>
                </a:lnTo>
                <a:lnTo>
                  <a:pt x="1283086" y="99982"/>
                </a:lnTo>
                <a:lnTo>
                  <a:pt x="1273910" y="107585"/>
                </a:lnTo>
                <a:lnTo>
                  <a:pt x="1265050" y="115506"/>
                </a:lnTo>
                <a:lnTo>
                  <a:pt x="1257140" y="124060"/>
                </a:lnTo>
                <a:lnTo>
                  <a:pt x="1249862" y="132614"/>
                </a:lnTo>
                <a:lnTo>
                  <a:pt x="1242901" y="141484"/>
                </a:lnTo>
                <a:lnTo>
                  <a:pt x="1236256" y="150038"/>
                </a:lnTo>
                <a:lnTo>
                  <a:pt x="1230560" y="159226"/>
                </a:lnTo>
                <a:lnTo>
                  <a:pt x="1224865" y="169047"/>
                </a:lnTo>
                <a:lnTo>
                  <a:pt x="1220118" y="178235"/>
                </a:lnTo>
                <a:lnTo>
                  <a:pt x="1215689" y="187739"/>
                </a:lnTo>
                <a:lnTo>
                  <a:pt x="1211891" y="197877"/>
                </a:lnTo>
                <a:lnTo>
                  <a:pt x="1208094" y="207382"/>
                </a:lnTo>
                <a:lnTo>
                  <a:pt x="1204930" y="217203"/>
                </a:lnTo>
                <a:lnTo>
                  <a:pt x="1202399" y="227024"/>
                </a:lnTo>
                <a:lnTo>
                  <a:pt x="1199867" y="236529"/>
                </a:lnTo>
                <a:lnTo>
                  <a:pt x="1197969" y="246350"/>
                </a:lnTo>
                <a:lnTo>
                  <a:pt x="1196387" y="256171"/>
                </a:lnTo>
                <a:lnTo>
                  <a:pt x="1195121" y="265675"/>
                </a:lnTo>
                <a:lnTo>
                  <a:pt x="1194172" y="275180"/>
                </a:lnTo>
                <a:lnTo>
                  <a:pt x="1193539" y="284368"/>
                </a:lnTo>
                <a:lnTo>
                  <a:pt x="1193223" y="293555"/>
                </a:lnTo>
                <a:lnTo>
                  <a:pt x="1192590" y="302426"/>
                </a:lnTo>
                <a:lnTo>
                  <a:pt x="1193223" y="311297"/>
                </a:lnTo>
                <a:lnTo>
                  <a:pt x="1193223" y="319534"/>
                </a:lnTo>
                <a:lnTo>
                  <a:pt x="1194488" y="335692"/>
                </a:lnTo>
                <a:lnTo>
                  <a:pt x="1196387" y="350582"/>
                </a:lnTo>
                <a:lnTo>
                  <a:pt x="1199235" y="364205"/>
                </a:lnTo>
                <a:lnTo>
                  <a:pt x="1200500" y="370224"/>
                </a:lnTo>
                <a:lnTo>
                  <a:pt x="1201450" y="376560"/>
                </a:lnTo>
                <a:lnTo>
                  <a:pt x="1203032" y="389550"/>
                </a:lnTo>
                <a:lnTo>
                  <a:pt x="1204297" y="402856"/>
                </a:lnTo>
                <a:lnTo>
                  <a:pt x="1204297" y="415845"/>
                </a:lnTo>
                <a:lnTo>
                  <a:pt x="1204297" y="429468"/>
                </a:lnTo>
                <a:lnTo>
                  <a:pt x="1203348" y="442458"/>
                </a:lnTo>
                <a:lnTo>
                  <a:pt x="1202399" y="455130"/>
                </a:lnTo>
                <a:lnTo>
                  <a:pt x="1201133" y="467169"/>
                </a:lnTo>
                <a:lnTo>
                  <a:pt x="1199551" y="478891"/>
                </a:lnTo>
                <a:lnTo>
                  <a:pt x="1197653" y="489663"/>
                </a:lnTo>
                <a:lnTo>
                  <a:pt x="1194488" y="507088"/>
                </a:lnTo>
                <a:lnTo>
                  <a:pt x="1191957" y="519760"/>
                </a:lnTo>
                <a:lnTo>
                  <a:pt x="1190375" y="525463"/>
                </a:lnTo>
                <a:lnTo>
                  <a:pt x="1181199" y="519127"/>
                </a:lnTo>
                <a:lnTo>
                  <a:pt x="1172022" y="512791"/>
                </a:lnTo>
                <a:lnTo>
                  <a:pt x="1162213" y="506771"/>
                </a:lnTo>
                <a:lnTo>
                  <a:pt x="1152404" y="500752"/>
                </a:lnTo>
                <a:lnTo>
                  <a:pt x="1142279" y="495049"/>
                </a:lnTo>
                <a:lnTo>
                  <a:pt x="1132153" y="489663"/>
                </a:lnTo>
                <a:lnTo>
                  <a:pt x="1121395" y="484594"/>
                </a:lnTo>
                <a:lnTo>
                  <a:pt x="1110637" y="479525"/>
                </a:lnTo>
                <a:lnTo>
                  <a:pt x="1099878" y="475090"/>
                </a:lnTo>
                <a:lnTo>
                  <a:pt x="1089436" y="470654"/>
                </a:lnTo>
                <a:lnTo>
                  <a:pt x="1078678" y="466536"/>
                </a:lnTo>
                <a:lnTo>
                  <a:pt x="1067603" y="463051"/>
                </a:lnTo>
                <a:lnTo>
                  <a:pt x="1056845" y="459566"/>
                </a:lnTo>
                <a:lnTo>
                  <a:pt x="1045770" y="456714"/>
                </a:lnTo>
                <a:lnTo>
                  <a:pt x="1035012" y="453863"/>
                </a:lnTo>
                <a:lnTo>
                  <a:pt x="1023937" y="451329"/>
                </a:lnTo>
                <a:lnTo>
                  <a:pt x="1029949" y="448794"/>
                </a:lnTo>
                <a:lnTo>
                  <a:pt x="1035645" y="445943"/>
                </a:lnTo>
                <a:lnTo>
                  <a:pt x="1041024" y="442775"/>
                </a:lnTo>
                <a:lnTo>
                  <a:pt x="1046403" y="439606"/>
                </a:lnTo>
                <a:lnTo>
                  <a:pt x="1051466" y="435805"/>
                </a:lnTo>
                <a:lnTo>
                  <a:pt x="1055896" y="432003"/>
                </a:lnTo>
                <a:lnTo>
                  <a:pt x="1060642" y="427884"/>
                </a:lnTo>
                <a:lnTo>
                  <a:pt x="1065072" y="423449"/>
                </a:lnTo>
                <a:lnTo>
                  <a:pt x="1069502" y="419014"/>
                </a:lnTo>
                <a:lnTo>
                  <a:pt x="1073299" y="413944"/>
                </a:lnTo>
                <a:lnTo>
                  <a:pt x="1077096" y="408559"/>
                </a:lnTo>
                <a:lnTo>
                  <a:pt x="1080893" y="403173"/>
                </a:lnTo>
                <a:lnTo>
                  <a:pt x="1084374" y="397470"/>
                </a:lnTo>
                <a:lnTo>
                  <a:pt x="1087854" y="391451"/>
                </a:lnTo>
                <a:lnTo>
                  <a:pt x="1094183" y="378778"/>
                </a:lnTo>
                <a:lnTo>
                  <a:pt x="1100511" y="364838"/>
                </a:lnTo>
                <a:lnTo>
                  <a:pt x="1105890" y="349948"/>
                </a:lnTo>
                <a:lnTo>
                  <a:pt x="1111586" y="334107"/>
                </a:lnTo>
                <a:lnTo>
                  <a:pt x="1116332" y="316999"/>
                </a:lnTo>
                <a:lnTo>
                  <a:pt x="1121711" y="298941"/>
                </a:lnTo>
                <a:lnTo>
                  <a:pt x="1126774" y="279932"/>
                </a:lnTo>
                <a:lnTo>
                  <a:pt x="1137532" y="238430"/>
                </a:lnTo>
                <a:lnTo>
                  <a:pt x="1140697" y="227658"/>
                </a:lnTo>
                <a:lnTo>
                  <a:pt x="1144177" y="217203"/>
                </a:lnTo>
                <a:lnTo>
                  <a:pt x="1148291" y="207699"/>
                </a:lnTo>
                <a:lnTo>
                  <a:pt x="1152721" y="198194"/>
                </a:lnTo>
                <a:lnTo>
                  <a:pt x="1158100" y="189323"/>
                </a:lnTo>
                <a:lnTo>
                  <a:pt x="1163479" y="180769"/>
                </a:lnTo>
                <a:lnTo>
                  <a:pt x="1169491" y="172849"/>
                </a:lnTo>
                <a:lnTo>
                  <a:pt x="1175819" y="165246"/>
                </a:lnTo>
                <a:lnTo>
                  <a:pt x="1182464" y="157959"/>
                </a:lnTo>
                <a:lnTo>
                  <a:pt x="1188793" y="151306"/>
                </a:lnTo>
                <a:lnTo>
                  <a:pt x="1195754" y="144653"/>
                </a:lnTo>
                <a:lnTo>
                  <a:pt x="1202715" y="138633"/>
                </a:lnTo>
                <a:lnTo>
                  <a:pt x="1209993" y="132930"/>
                </a:lnTo>
                <a:lnTo>
                  <a:pt x="1217271" y="127861"/>
                </a:lnTo>
                <a:lnTo>
                  <a:pt x="1224232" y="122792"/>
                </a:lnTo>
                <a:lnTo>
                  <a:pt x="1231510" y="118357"/>
                </a:lnTo>
                <a:lnTo>
                  <a:pt x="1238154" y="114238"/>
                </a:lnTo>
                <a:lnTo>
                  <a:pt x="1245116" y="109803"/>
                </a:lnTo>
                <a:lnTo>
                  <a:pt x="1258722" y="103467"/>
                </a:lnTo>
                <a:lnTo>
                  <a:pt x="1270746" y="97764"/>
                </a:lnTo>
                <a:lnTo>
                  <a:pt x="1281504" y="93012"/>
                </a:lnTo>
                <a:lnTo>
                  <a:pt x="1290364" y="89844"/>
                </a:lnTo>
                <a:lnTo>
                  <a:pt x="1297325" y="87626"/>
                </a:lnTo>
                <a:lnTo>
                  <a:pt x="1303337" y="85725"/>
                </a:lnTo>
                <a:close/>
                <a:moveTo>
                  <a:pt x="556798" y="73025"/>
                </a:moveTo>
                <a:lnTo>
                  <a:pt x="555216" y="85382"/>
                </a:lnTo>
                <a:lnTo>
                  <a:pt x="553950" y="97738"/>
                </a:lnTo>
                <a:lnTo>
                  <a:pt x="553634" y="109778"/>
                </a:lnTo>
                <a:lnTo>
                  <a:pt x="553634" y="121501"/>
                </a:lnTo>
                <a:lnTo>
                  <a:pt x="554267" y="132907"/>
                </a:lnTo>
                <a:lnTo>
                  <a:pt x="555533" y="144313"/>
                </a:lnTo>
                <a:lnTo>
                  <a:pt x="557431" y="155402"/>
                </a:lnTo>
                <a:lnTo>
                  <a:pt x="560279" y="166174"/>
                </a:lnTo>
                <a:lnTo>
                  <a:pt x="562810" y="176630"/>
                </a:lnTo>
                <a:lnTo>
                  <a:pt x="566291" y="187085"/>
                </a:lnTo>
                <a:lnTo>
                  <a:pt x="570088" y="196907"/>
                </a:lnTo>
                <a:lnTo>
                  <a:pt x="573885" y="206412"/>
                </a:lnTo>
                <a:lnTo>
                  <a:pt x="578631" y="216234"/>
                </a:lnTo>
                <a:lnTo>
                  <a:pt x="583378" y="225422"/>
                </a:lnTo>
                <a:lnTo>
                  <a:pt x="588440" y="234293"/>
                </a:lnTo>
                <a:lnTo>
                  <a:pt x="593820" y="242531"/>
                </a:lnTo>
                <a:lnTo>
                  <a:pt x="599515" y="251085"/>
                </a:lnTo>
                <a:lnTo>
                  <a:pt x="605844" y="258689"/>
                </a:lnTo>
                <a:lnTo>
                  <a:pt x="611539" y="266610"/>
                </a:lnTo>
                <a:lnTo>
                  <a:pt x="617868" y="273897"/>
                </a:lnTo>
                <a:lnTo>
                  <a:pt x="624196" y="280868"/>
                </a:lnTo>
                <a:lnTo>
                  <a:pt x="630524" y="287838"/>
                </a:lnTo>
                <a:lnTo>
                  <a:pt x="637169" y="293858"/>
                </a:lnTo>
                <a:lnTo>
                  <a:pt x="643498" y="300195"/>
                </a:lnTo>
                <a:lnTo>
                  <a:pt x="650143" y="305898"/>
                </a:lnTo>
                <a:lnTo>
                  <a:pt x="656787" y="311601"/>
                </a:lnTo>
                <a:lnTo>
                  <a:pt x="669761" y="321106"/>
                </a:lnTo>
                <a:lnTo>
                  <a:pt x="681785" y="329660"/>
                </a:lnTo>
                <a:lnTo>
                  <a:pt x="693809" y="336947"/>
                </a:lnTo>
                <a:lnTo>
                  <a:pt x="699188" y="340116"/>
                </a:lnTo>
                <a:lnTo>
                  <a:pt x="704567" y="343284"/>
                </a:lnTo>
                <a:lnTo>
                  <a:pt x="715325" y="350571"/>
                </a:lnTo>
                <a:lnTo>
                  <a:pt x="725451" y="359126"/>
                </a:lnTo>
                <a:lnTo>
                  <a:pt x="735893" y="367680"/>
                </a:lnTo>
                <a:lnTo>
                  <a:pt x="745385" y="376868"/>
                </a:lnTo>
                <a:lnTo>
                  <a:pt x="754562" y="386056"/>
                </a:lnTo>
                <a:lnTo>
                  <a:pt x="763421" y="395245"/>
                </a:lnTo>
                <a:lnTo>
                  <a:pt x="771648" y="404433"/>
                </a:lnTo>
                <a:lnTo>
                  <a:pt x="779242" y="413304"/>
                </a:lnTo>
                <a:lnTo>
                  <a:pt x="785571" y="421542"/>
                </a:lnTo>
                <a:lnTo>
                  <a:pt x="796962" y="436116"/>
                </a:lnTo>
                <a:lnTo>
                  <a:pt x="804556" y="446572"/>
                </a:lnTo>
                <a:lnTo>
                  <a:pt x="808037" y="451324"/>
                </a:lnTo>
                <a:lnTo>
                  <a:pt x="796962" y="453859"/>
                </a:lnTo>
                <a:lnTo>
                  <a:pt x="785571" y="456710"/>
                </a:lnTo>
                <a:lnTo>
                  <a:pt x="775129" y="459562"/>
                </a:lnTo>
                <a:lnTo>
                  <a:pt x="763738" y="463047"/>
                </a:lnTo>
                <a:lnTo>
                  <a:pt x="752663" y="466849"/>
                </a:lnTo>
                <a:lnTo>
                  <a:pt x="741905" y="470651"/>
                </a:lnTo>
                <a:lnTo>
                  <a:pt x="731463" y="475087"/>
                </a:lnTo>
                <a:lnTo>
                  <a:pt x="720072" y="479522"/>
                </a:lnTo>
                <a:lnTo>
                  <a:pt x="709946" y="484592"/>
                </a:lnTo>
                <a:lnTo>
                  <a:pt x="699504" y="489978"/>
                </a:lnTo>
                <a:lnTo>
                  <a:pt x="689062" y="495364"/>
                </a:lnTo>
                <a:lnTo>
                  <a:pt x="679253" y="500750"/>
                </a:lnTo>
                <a:lnTo>
                  <a:pt x="669444" y="506770"/>
                </a:lnTo>
                <a:lnTo>
                  <a:pt x="659635" y="512790"/>
                </a:lnTo>
                <a:lnTo>
                  <a:pt x="650143" y="519126"/>
                </a:lnTo>
                <a:lnTo>
                  <a:pt x="640966" y="525463"/>
                </a:lnTo>
                <a:lnTo>
                  <a:pt x="643181" y="519443"/>
                </a:lnTo>
                <a:lnTo>
                  <a:pt x="645080" y="513423"/>
                </a:lnTo>
                <a:lnTo>
                  <a:pt x="646345" y="507087"/>
                </a:lnTo>
                <a:lnTo>
                  <a:pt x="647611" y="501067"/>
                </a:lnTo>
                <a:lnTo>
                  <a:pt x="648244" y="495047"/>
                </a:lnTo>
                <a:lnTo>
                  <a:pt x="648560" y="488710"/>
                </a:lnTo>
                <a:lnTo>
                  <a:pt x="648560" y="482691"/>
                </a:lnTo>
                <a:lnTo>
                  <a:pt x="648244" y="476037"/>
                </a:lnTo>
                <a:lnTo>
                  <a:pt x="647611" y="470017"/>
                </a:lnTo>
                <a:lnTo>
                  <a:pt x="646662" y="463997"/>
                </a:lnTo>
                <a:lnTo>
                  <a:pt x="645080" y="457344"/>
                </a:lnTo>
                <a:lnTo>
                  <a:pt x="643498" y="450691"/>
                </a:lnTo>
                <a:lnTo>
                  <a:pt x="641599" y="444671"/>
                </a:lnTo>
                <a:lnTo>
                  <a:pt x="639701" y="438017"/>
                </a:lnTo>
                <a:lnTo>
                  <a:pt x="634321" y="424710"/>
                </a:lnTo>
                <a:lnTo>
                  <a:pt x="628309" y="411086"/>
                </a:lnTo>
                <a:lnTo>
                  <a:pt x="621032" y="396829"/>
                </a:lnTo>
                <a:lnTo>
                  <a:pt x="612488" y="382254"/>
                </a:lnTo>
                <a:lnTo>
                  <a:pt x="603945" y="366730"/>
                </a:lnTo>
                <a:lnTo>
                  <a:pt x="593503" y="350571"/>
                </a:lnTo>
                <a:lnTo>
                  <a:pt x="582745" y="334096"/>
                </a:lnTo>
                <a:lnTo>
                  <a:pt x="559013" y="298610"/>
                </a:lnTo>
                <a:lnTo>
                  <a:pt x="553318" y="289105"/>
                </a:lnTo>
                <a:lnTo>
                  <a:pt x="547938" y="279284"/>
                </a:lnTo>
                <a:lnTo>
                  <a:pt x="543509" y="269779"/>
                </a:lnTo>
                <a:lnTo>
                  <a:pt x="539711" y="260274"/>
                </a:lnTo>
                <a:lnTo>
                  <a:pt x="536864" y="250135"/>
                </a:lnTo>
                <a:lnTo>
                  <a:pt x="534016" y="240630"/>
                </a:lnTo>
                <a:lnTo>
                  <a:pt x="531801" y="231125"/>
                </a:lnTo>
                <a:lnTo>
                  <a:pt x="530535" y="220986"/>
                </a:lnTo>
                <a:lnTo>
                  <a:pt x="529586" y="211481"/>
                </a:lnTo>
                <a:lnTo>
                  <a:pt x="528637" y="201976"/>
                </a:lnTo>
                <a:lnTo>
                  <a:pt x="528637" y="192788"/>
                </a:lnTo>
                <a:lnTo>
                  <a:pt x="528953" y="183283"/>
                </a:lnTo>
                <a:lnTo>
                  <a:pt x="529586" y="174412"/>
                </a:lnTo>
                <a:lnTo>
                  <a:pt x="530219" y="165540"/>
                </a:lnTo>
                <a:lnTo>
                  <a:pt x="531485" y="156669"/>
                </a:lnTo>
                <a:lnTo>
                  <a:pt x="533067" y="148115"/>
                </a:lnTo>
                <a:lnTo>
                  <a:pt x="534332" y="140194"/>
                </a:lnTo>
                <a:lnTo>
                  <a:pt x="535914" y="132590"/>
                </a:lnTo>
                <a:lnTo>
                  <a:pt x="539711" y="118015"/>
                </a:lnTo>
                <a:lnTo>
                  <a:pt x="544141" y="105342"/>
                </a:lnTo>
                <a:lnTo>
                  <a:pt x="547938" y="94253"/>
                </a:lnTo>
                <a:lnTo>
                  <a:pt x="551419" y="85382"/>
                </a:lnTo>
                <a:lnTo>
                  <a:pt x="554267" y="78411"/>
                </a:lnTo>
                <a:lnTo>
                  <a:pt x="556798" y="73025"/>
                </a:lnTo>
                <a:close/>
                <a:moveTo>
                  <a:pt x="931652" y="0"/>
                </a:moveTo>
                <a:lnTo>
                  <a:pt x="924619" y="10448"/>
                </a:lnTo>
                <a:lnTo>
                  <a:pt x="918544" y="21212"/>
                </a:lnTo>
                <a:lnTo>
                  <a:pt x="913429" y="32293"/>
                </a:lnTo>
                <a:lnTo>
                  <a:pt x="908634" y="43058"/>
                </a:lnTo>
                <a:lnTo>
                  <a:pt x="904797" y="53822"/>
                </a:lnTo>
                <a:lnTo>
                  <a:pt x="901280" y="64587"/>
                </a:lnTo>
                <a:lnTo>
                  <a:pt x="898403" y="75668"/>
                </a:lnTo>
                <a:lnTo>
                  <a:pt x="896165" y="86432"/>
                </a:lnTo>
                <a:lnTo>
                  <a:pt x="894567" y="96880"/>
                </a:lnTo>
                <a:lnTo>
                  <a:pt x="893288" y="107645"/>
                </a:lnTo>
                <a:lnTo>
                  <a:pt x="892648" y="118409"/>
                </a:lnTo>
                <a:lnTo>
                  <a:pt x="892648" y="128857"/>
                </a:lnTo>
                <a:lnTo>
                  <a:pt x="892968" y="139305"/>
                </a:lnTo>
                <a:lnTo>
                  <a:pt x="893927" y="149436"/>
                </a:lnTo>
                <a:lnTo>
                  <a:pt x="894886" y="159884"/>
                </a:lnTo>
                <a:lnTo>
                  <a:pt x="896165" y="169699"/>
                </a:lnTo>
                <a:lnTo>
                  <a:pt x="898083" y="179830"/>
                </a:lnTo>
                <a:lnTo>
                  <a:pt x="900321" y="189328"/>
                </a:lnTo>
                <a:lnTo>
                  <a:pt x="902559" y="198826"/>
                </a:lnTo>
                <a:lnTo>
                  <a:pt x="905436" y="208008"/>
                </a:lnTo>
                <a:lnTo>
                  <a:pt x="908634" y="217189"/>
                </a:lnTo>
                <a:lnTo>
                  <a:pt x="911511" y="225737"/>
                </a:lnTo>
                <a:lnTo>
                  <a:pt x="915028" y="234602"/>
                </a:lnTo>
                <a:lnTo>
                  <a:pt x="918544" y="242517"/>
                </a:lnTo>
                <a:lnTo>
                  <a:pt x="922061" y="250749"/>
                </a:lnTo>
                <a:lnTo>
                  <a:pt x="925898" y="258347"/>
                </a:lnTo>
                <a:lnTo>
                  <a:pt x="933571" y="272594"/>
                </a:lnTo>
                <a:lnTo>
                  <a:pt x="941883" y="285258"/>
                </a:lnTo>
                <a:lnTo>
                  <a:pt x="949556" y="296339"/>
                </a:lnTo>
                <a:lnTo>
                  <a:pt x="953392" y="301722"/>
                </a:lnTo>
                <a:lnTo>
                  <a:pt x="956909" y="307104"/>
                </a:lnTo>
                <a:lnTo>
                  <a:pt x="963942" y="318185"/>
                </a:lnTo>
                <a:lnTo>
                  <a:pt x="970017" y="329583"/>
                </a:lnTo>
                <a:lnTo>
                  <a:pt x="975772" y="341930"/>
                </a:lnTo>
                <a:lnTo>
                  <a:pt x="980887" y="354278"/>
                </a:lnTo>
                <a:lnTo>
                  <a:pt x="986002" y="366308"/>
                </a:lnTo>
                <a:lnTo>
                  <a:pt x="989839" y="378339"/>
                </a:lnTo>
                <a:lnTo>
                  <a:pt x="993675" y="389737"/>
                </a:lnTo>
                <a:lnTo>
                  <a:pt x="997192" y="400818"/>
                </a:lnTo>
                <a:lnTo>
                  <a:pt x="999749" y="411266"/>
                </a:lnTo>
                <a:lnTo>
                  <a:pt x="1004225" y="429312"/>
                </a:lnTo>
                <a:lnTo>
                  <a:pt x="1006783" y="441660"/>
                </a:lnTo>
                <a:lnTo>
                  <a:pt x="1008062" y="447675"/>
                </a:lnTo>
                <a:lnTo>
                  <a:pt x="996872" y="445459"/>
                </a:lnTo>
                <a:lnTo>
                  <a:pt x="985363" y="443559"/>
                </a:lnTo>
                <a:lnTo>
                  <a:pt x="973853" y="441660"/>
                </a:lnTo>
                <a:lnTo>
                  <a:pt x="962664" y="440393"/>
                </a:lnTo>
                <a:lnTo>
                  <a:pt x="951154" y="439127"/>
                </a:lnTo>
                <a:lnTo>
                  <a:pt x="939006" y="438494"/>
                </a:lnTo>
                <a:lnTo>
                  <a:pt x="927496" y="438177"/>
                </a:lnTo>
                <a:lnTo>
                  <a:pt x="915347" y="437544"/>
                </a:lnTo>
                <a:lnTo>
                  <a:pt x="903838" y="438177"/>
                </a:lnTo>
                <a:lnTo>
                  <a:pt x="892329" y="438494"/>
                </a:lnTo>
                <a:lnTo>
                  <a:pt x="880180" y="439127"/>
                </a:lnTo>
                <a:lnTo>
                  <a:pt x="868990" y="440393"/>
                </a:lnTo>
                <a:lnTo>
                  <a:pt x="857481" y="441660"/>
                </a:lnTo>
                <a:lnTo>
                  <a:pt x="846291" y="443559"/>
                </a:lnTo>
                <a:lnTo>
                  <a:pt x="834462" y="445459"/>
                </a:lnTo>
                <a:lnTo>
                  <a:pt x="823912" y="447359"/>
                </a:lnTo>
                <a:lnTo>
                  <a:pt x="828068" y="442610"/>
                </a:lnTo>
                <a:lnTo>
                  <a:pt x="832224" y="437544"/>
                </a:lnTo>
                <a:lnTo>
                  <a:pt x="836061" y="432795"/>
                </a:lnTo>
                <a:lnTo>
                  <a:pt x="839577" y="427413"/>
                </a:lnTo>
                <a:lnTo>
                  <a:pt x="842774" y="422030"/>
                </a:lnTo>
                <a:lnTo>
                  <a:pt x="845332" y="416648"/>
                </a:lnTo>
                <a:lnTo>
                  <a:pt x="848209" y="410949"/>
                </a:lnTo>
                <a:lnTo>
                  <a:pt x="850447" y="405250"/>
                </a:lnTo>
                <a:lnTo>
                  <a:pt x="852365" y="399235"/>
                </a:lnTo>
                <a:lnTo>
                  <a:pt x="853964" y="393220"/>
                </a:lnTo>
                <a:lnTo>
                  <a:pt x="855563" y="386571"/>
                </a:lnTo>
                <a:lnTo>
                  <a:pt x="856522" y="380239"/>
                </a:lnTo>
                <a:lnTo>
                  <a:pt x="857481" y="373590"/>
                </a:lnTo>
                <a:lnTo>
                  <a:pt x="858120" y="366942"/>
                </a:lnTo>
                <a:lnTo>
                  <a:pt x="859079" y="352694"/>
                </a:lnTo>
                <a:lnTo>
                  <a:pt x="859079" y="337181"/>
                </a:lnTo>
                <a:lnTo>
                  <a:pt x="857800" y="321668"/>
                </a:lnTo>
                <a:lnTo>
                  <a:pt x="856202" y="304571"/>
                </a:lnTo>
                <a:lnTo>
                  <a:pt x="854284" y="287158"/>
                </a:lnTo>
                <a:lnTo>
                  <a:pt x="851726" y="268795"/>
                </a:lnTo>
                <a:lnTo>
                  <a:pt x="848529" y="249166"/>
                </a:lnTo>
                <a:lnTo>
                  <a:pt x="841176" y="206741"/>
                </a:lnTo>
                <a:lnTo>
                  <a:pt x="839577" y="195977"/>
                </a:lnTo>
                <a:lnTo>
                  <a:pt x="838938" y="184896"/>
                </a:lnTo>
                <a:lnTo>
                  <a:pt x="838618" y="174448"/>
                </a:lnTo>
                <a:lnTo>
                  <a:pt x="838938" y="163683"/>
                </a:lnTo>
                <a:lnTo>
                  <a:pt x="839897" y="153869"/>
                </a:lnTo>
                <a:lnTo>
                  <a:pt x="841496" y="143737"/>
                </a:lnTo>
                <a:lnTo>
                  <a:pt x="843733" y="133923"/>
                </a:lnTo>
                <a:lnTo>
                  <a:pt x="846611" y="124741"/>
                </a:lnTo>
                <a:lnTo>
                  <a:pt x="849168" y="115243"/>
                </a:lnTo>
                <a:lnTo>
                  <a:pt x="852685" y="106062"/>
                </a:lnTo>
                <a:lnTo>
                  <a:pt x="856522" y="97830"/>
                </a:lnTo>
                <a:lnTo>
                  <a:pt x="860678" y="89282"/>
                </a:lnTo>
                <a:lnTo>
                  <a:pt x="864834" y="81367"/>
                </a:lnTo>
                <a:lnTo>
                  <a:pt x="869310" y="73135"/>
                </a:lnTo>
                <a:lnTo>
                  <a:pt x="873786" y="65853"/>
                </a:lnTo>
                <a:lnTo>
                  <a:pt x="878581" y="59205"/>
                </a:lnTo>
                <a:lnTo>
                  <a:pt x="883377" y="52239"/>
                </a:lnTo>
                <a:lnTo>
                  <a:pt x="887853" y="45591"/>
                </a:lnTo>
                <a:lnTo>
                  <a:pt x="897764" y="34193"/>
                </a:lnTo>
                <a:lnTo>
                  <a:pt x="906715" y="24062"/>
                </a:lnTo>
                <a:lnTo>
                  <a:pt x="914708" y="15830"/>
                </a:lnTo>
                <a:lnTo>
                  <a:pt x="921741" y="8865"/>
                </a:lnTo>
                <a:lnTo>
                  <a:pt x="926857" y="3799"/>
                </a:lnTo>
                <a:lnTo>
                  <a:pt x="931652" y="0"/>
                </a:lnTo>
                <a:close/>
              </a:path>
            </a:pathLst>
          </a:custGeom>
          <a:noFill/>
          <a:ln w="9525">
            <a:solidFill>
              <a:srgbClr val="000000">
                <a:lumMod val="50000"/>
                <a:lumOff val="50000"/>
              </a:srgbClr>
            </a:solidFill>
            <a:round/>
          </a:ln>
        </p:spPr>
        <p:style>
          <a:lnRef idx="0"/>
          <a:fillRef idx="0"/>
          <a:effectRef idx="0"/>
          <a:fontRef idx="minor"/>
        </p:style>
        <p:txBody>
          <a:bodyPr lIns="90000" rIns="90000" tIns="45000" bIns="45000" anchor="ctr">
            <a:noAutofit/>
            <a:scene3d>
              <a:camera prst="orthographicFront"/>
              <a:lightRig dir="t" rig="threePt"/>
            </a:scene3d>
            <a:sp3d>
              <a:contourClr>
                <a:srgbClr val="ffffff"/>
              </a:contourClr>
            </a:sp3d>
          </a:bodyPr>
          <a:p>
            <a:pPr algn="ctr">
              <a:lnSpc>
                <a:spcPct val="100000"/>
              </a:lnSpc>
            </a:pPr>
            <a:endParaRPr b="0" lang="en-US" sz="1800" spc="-1" strike="noStrike">
              <a:solidFill>
                <a:srgbClr val="ffffff"/>
              </a:solidFill>
              <a:latin typeface="Calibri"/>
            </a:endParaRPr>
          </a:p>
        </p:txBody>
      </p:sp>
      <p:sp>
        <p:nvSpPr>
          <p:cNvPr id="297" name="KSO_Shape"/>
          <p:cNvSpPr/>
          <p:nvPr/>
        </p:nvSpPr>
        <p:spPr>
          <a:xfrm>
            <a:off x="6503400" y="2980800"/>
            <a:ext cx="681480" cy="939960"/>
          </a:xfrm>
          <a:custGeom>
            <a:avLst/>
            <a:gdLst>
              <a:gd name="textAreaLeft" fmla="*/ 0 w 681480"/>
              <a:gd name="textAreaRight" fmla="*/ 681840 w 681480"/>
              <a:gd name="textAreaTop" fmla="*/ 0 h 939960"/>
              <a:gd name="textAreaBottom" fmla="*/ 940320 h 939960"/>
            </a:gdLst>
            <a:ahLst/>
            <a:rect l="textAreaLeft" t="textAreaTop" r="textAreaRight" b="textAreaBottom"/>
            <a:pathLst>
              <a:path w="779462" h="1076325">
                <a:moveTo>
                  <a:pt x="383829" y="588255"/>
                </a:moveTo>
                <a:lnTo>
                  <a:pt x="382134" y="588731"/>
                </a:lnTo>
                <a:lnTo>
                  <a:pt x="375331" y="590773"/>
                </a:lnTo>
                <a:lnTo>
                  <a:pt x="368073" y="592361"/>
                </a:lnTo>
                <a:lnTo>
                  <a:pt x="360590" y="594176"/>
                </a:lnTo>
                <a:lnTo>
                  <a:pt x="355958" y="594900"/>
                </a:lnTo>
                <a:lnTo>
                  <a:pt x="355958" y="698378"/>
                </a:lnTo>
                <a:lnTo>
                  <a:pt x="383829" y="698378"/>
                </a:lnTo>
                <a:lnTo>
                  <a:pt x="383829" y="588255"/>
                </a:lnTo>
                <a:close/>
                <a:moveTo>
                  <a:pt x="300038" y="177346"/>
                </a:moveTo>
                <a:lnTo>
                  <a:pt x="293688" y="177800"/>
                </a:lnTo>
                <a:lnTo>
                  <a:pt x="287565" y="178027"/>
                </a:lnTo>
                <a:lnTo>
                  <a:pt x="281215" y="178934"/>
                </a:lnTo>
                <a:lnTo>
                  <a:pt x="275318" y="179841"/>
                </a:lnTo>
                <a:lnTo>
                  <a:pt x="269422" y="181202"/>
                </a:lnTo>
                <a:lnTo>
                  <a:pt x="263525" y="183016"/>
                </a:lnTo>
                <a:lnTo>
                  <a:pt x="257856" y="184830"/>
                </a:lnTo>
                <a:lnTo>
                  <a:pt x="252413" y="187098"/>
                </a:lnTo>
                <a:lnTo>
                  <a:pt x="246970" y="189366"/>
                </a:lnTo>
                <a:lnTo>
                  <a:pt x="241753" y="192088"/>
                </a:lnTo>
                <a:lnTo>
                  <a:pt x="236310" y="195036"/>
                </a:lnTo>
                <a:lnTo>
                  <a:pt x="231321" y="198438"/>
                </a:lnTo>
                <a:lnTo>
                  <a:pt x="226785" y="201839"/>
                </a:lnTo>
                <a:lnTo>
                  <a:pt x="222023" y="205468"/>
                </a:lnTo>
                <a:lnTo>
                  <a:pt x="217487" y="209323"/>
                </a:lnTo>
                <a:lnTo>
                  <a:pt x="213178" y="213405"/>
                </a:lnTo>
                <a:lnTo>
                  <a:pt x="209323" y="217488"/>
                </a:lnTo>
                <a:lnTo>
                  <a:pt x="205468" y="222023"/>
                </a:lnTo>
                <a:lnTo>
                  <a:pt x="201839" y="226786"/>
                </a:lnTo>
                <a:lnTo>
                  <a:pt x="198210" y="231548"/>
                </a:lnTo>
                <a:lnTo>
                  <a:pt x="195035" y="236538"/>
                </a:lnTo>
                <a:lnTo>
                  <a:pt x="192314" y="241527"/>
                </a:lnTo>
                <a:lnTo>
                  <a:pt x="189593" y="246970"/>
                </a:lnTo>
                <a:lnTo>
                  <a:pt x="187098" y="252186"/>
                </a:lnTo>
                <a:lnTo>
                  <a:pt x="184830" y="257855"/>
                </a:lnTo>
                <a:lnTo>
                  <a:pt x="182789" y="263525"/>
                </a:lnTo>
                <a:lnTo>
                  <a:pt x="181428" y="269421"/>
                </a:lnTo>
                <a:lnTo>
                  <a:pt x="179841" y="275318"/>
                </a:lnTo>
                <a:lnTo>
                  <a:pt x="178934" y="281441"/>
                </a:lnTo>
                <a:lnTo>
                  <a:pt x="178027" y="287338"/>
                </a:lnTo>
                <a:lnTo>
                  <a:pt x="177573" y="293688"/>
                </a:lnTo>
                <a:lnTo>
                  <a:pt x="177346" y="300038"/>
                </a:lnTo>
                <a:lnTo>
                  <a:pt x="177573" y="306388"/>
                </a:lnTo>
                <a:lnTo>
                  <a:pt x="178027" y="312511"/>
                </a:lnTo>
                <a:lnTo>
                  <a:pt x="178934" y="318634"/>
                </a:lnTo>
                <a:lnTo>
                  <a:pt x="179841" y="324757"/>
                </a:lnTo>
                <a:lnTo>
                  <a:pt x="181428" y="330427"/>
                </a:lnTo>
                <a:lnTo>
                  <a:pt x="182789" y="336550"/>
                </a:lnTo>
                <a:lnTo>
                  <a:pt x="184830" y="342220"/>
                </a:lnTo>
                <a:lnTo>
                  <a:pt x="187098" y="347663"/>
                </a:lnTo>
                <a:lnTo>
                  <a:pt x="189593" y="353105"/>
                </a:lnTo>
                <a:lnTo>
                  <a:pt x="192314" y="358321"/>
                </a:lnTo>
                <a:lnTo>
                  <a:pt x="195035" y="363311"/>
                </a:lnTo>
                <a:lnTo>
                  <a:pt x="198210" y="368300"/>
                </a:lnTo>
                <a:lnTo>
                  <a:pt x="201839" y="373289"/>
                </a:lnTo>
                <a:lnTo>
                  <a:pt x="205468" y="377825"/>
                </a:lnTo>
                <a:lnTo>
                  <a:pt x="209323" y="382361"/>
                </a:lnTo>
                <a:lnTo>
                  <a:pt x="213178" y="386670"/>
                </a:lnTo>
                <a:lnTo>
                  <a:pt x="217487" y="390525"/>
                </a:lnTo>
                <a:lnTo>
                  <a:pt x="222023" y="394607"/>
                </a:lnTo>
                <a:lnTo>
                  <a:pt x="226785" y="398236"/>
                </a:lnTo>
                <a:lnTo>
                  <a:pt x="231321" y="401411"/>
                </a:lnTo>
                <a:lnTo>
                  <a:pt x="236310" y="404813"/>
                </a:lnTo>
                <a:lnTo>
                  <a:pt x="241753" y="407761"/>
                </a:lnTo>
                <a:lnTo>
                  <a:pt x="242887" y="408352"/>
                </a:lnTo>
                <a:lnTo>
                  <a:pt x="242887" y="317257"/>
                </a:lnTo>
                <a:lnTo>
                  <a:pt x="243114" y="311589"/>
                </a:lnTo>
                <a:lnTo>
                  <a:pt x="244020" y="305695"/>
                </a:lnTo>
                <a:lnTo>
                  <a:pt x="245380" y="300253"/>
                </a:lnTo>
                <a:lnTo>
                  <a:pt x="247193" y="295039"/>
                </a:lnTo>
                <a:lnTo>
                  <a:pt x="249685" y="290051"/>
                </a:lnTo>
                <a:lnTo>
                  <a:pt x="252404" y="285516"/>
                </a:lnTo>
                <a:lnTo>
                  <a:pt x="255803" y="281209"/>
                </a:lnTo>
                <a:lnTo>
                  <a:pt x="259429" y="277127"/>
                </a:lnTo>
                <a:lnTo>
                  <a:pt x="263281" y="273500"/>
                </a:lnTo>
                <a:lnTo>
                  <a:pt x="267813" y="270099"/>
                </a:lnTo>
                <a:lnTo>
                  <a:pt x="272571" y="267378"/>
                </a:lnTo>
                <a:lnTo>
                  <a:pt x="277556" y="264885"/>
                </a:lnTo>
                <a:lnTo>
                  <a:pt x="282768" y="263297"/>
                </a:lnTo>
                <a:lnTo>
                  <a:pt x="287979" y="261710"/>
                </a:lnTo>
                <a:lnTo>
                  <a:pt x="293644" y="260803"/>
                </a:lnTo>
                <a:lnTo>
                  <a:pt x="299536" y="260350"/>
                </a:lnTo>
                <a:lnTo>
                  <a:pt x="305201" y="260803"/>
                </a:lnTo>
                <a:lnTo>
                  <a:pt x="310865" y="261710"/>
                </a:lnTo>
                <a:lnTo>
                  <a:pt x="316304" y="263297"/>
                </a:lnTo>
                <a:lnTo>
                  <a:pt x="321742" y="264885"/>
                </a:lnTo>
                <a:lnTo>
                  <a:pt x="326274" y="267378"/>
                </a:lnTo>
                <a:lnTo>
                  <a:pt x="331032" y="270099"/>
                </a:lnTo>
                <a:lnTo>
                  <a:pt x="335564" y="273500"/>
                </a:lnTo>
                <a:lnTo>
                  <a:pt x="339643" y="277127"/>
                </a:lnTo>
                <a:lnTo>
                  <a:pt x="343042" y="281209"/>
                </a:lnTo>
                <a:lnTo>
                  <a:pt x="346441" y="285516"/>
                </a:lnTo>
                <a:lnTo>
                  <a:pt x="349387" y="290051"/>
                </a:lnTo>
                <a:lnTo>
                  <a:pt x="351879" y="295039"/>
                </a:lnTo>
                <a:lnTo>
                  <a:pt x="353465" y="300253"/>
                </a:lnTo>
                <a:lnTo>
                  <a:pt x="355051" y="305695"/>
                </a:lnTo>
                <a:lnTo>
                  <a:pt x="355731" y="311589"/>
                </a:lnTo>
                <a:lnTo>
                  <a:pt x="355958" y="317257"/>
                </a:lnTo>
                <a:lnTo>
                  <a:pt x="355958" y="408994"/>
                </a:lnTo>
                <a:lnTo>
                  <a:pt x="358322" y="407761"/>
                </a:lnTo>
                <a:lnTo>
                  <a:pt x="363311" y="404813"/>
                </a:lnTo>
                <a:lnTo>
                  <a:pt x="368300" y="401411"/>
                </a:lnTo>
                <a:lnTo>
                  <a:pt x="373290" y="398236"/>
                </a:lnTo>
                <a:lnTo>
                  <a:pt x="377825" y="394607"/>
                </a:lnTo>
                <a:lnTo>
                  <a:pt x="382134" y="390525"/>
                </a:lnTo>
                <a:lnTo>
                  <a:pt x="386443" y="386670"/>
                </a:lnTo>
                <a:lnTo>
                  <a:pt x="390525" y="382361"/>
                </a:lnTo>
                <a:lnTo>
                  <a:pt x="394381" y="377825"/>
                </a:lnTo>
                <a:lnTo>
                  <a:pt x="398009" y="373289"/>
                </a:lnTo>
                <a:lnTo>
                  <a:pt x="401411" y="368300"/>
                </a:lnTo>
                <a:lnTo>
                  <a:pt x="404586" y="363311"/>
                </a:lnTo>
                <a:lnTo>
                  <a:pt x="407761" y="358321"/>
                </a:lnTo>
                <a:lnTo>
                  <a:pt x="410482" y="353105"/>
                </a:lnTo>
                <a:lnTo>
                  <a:pt x="412977" y="347663"/>
                </a:lnTo>
                <a:lnTo>
                  <a:pt x="414791" y="342220"/>
                </a:lnTo>
                <a:lnTo>
                  <a:pt x="416832" y="336550"/>
                </a:lnTo>
                <a:lnTo>
                  <a:pt x="418647" y="330427"/>
                </a:lnTo>
                <a:lnTo>
                  <a:pt x="419781" y="324757"/>
                </a:lnTo>
                <a:lnTo>
                  <a:pt x="421141" y="318634"/>
                </a:lnTo>
                <a:lnTo>
                  <a:pt x="421822" y="312511"/>
                </a:lnTo>
                <a:lnTo>
                  <a:pt x="422275" y="306388"/>
                </a:lnTo>
                <a:lnTo>
                  <a:pt x="422275" y="300038"/>
                </a:lnTo>
                <a:lnTo>
                  <a:pt x="422275" y="293688"/>
                </a:lnTo>
                <a:lnTo>
                  <a:pt x="421822" y="287338"/>
                </a:lnTo>
                <a:lnTo>
                  <a:pt x="421141" y="281441"/>
                </a:lnTo>
                <a:lnTo>
                  <a:pt x="419781" y="275318"/>
                </a:lnTo>
                <a:lnTo>
                  <a:pt x="418647" y="269421"/>
                </a:lnTo>
                <a:lnTo>
                  <a:pt x="416832" y="263525"/>
                </a:lnTo>
                <a:lnTo>
                  <a:pt x="414791" y="257855"/>
                </a:lnTo>
                <a:lnTo>
                  <a:pt x="412977" y="252186"/>
                </a:lnTo>
                <a:lnTo>
                  <a:pt x="410482" y="246970"/>
                </a:lnTo>
                <a:lnTo>
                  <a:pt x="407761" y="241527"/>
                </a:lnTo>
                <a:lnTo>
                  <a:pt x="404586" y="236538"/>
                </a:lnTo>
                <a:lnTo>
                  <a:pt x="401411" y="231548"/>
                </a:lnTo>
                <a:lnTo>
                  <a:pt x="398009" y="226786"/>
                </a:lnTo>
                <a:lnTo>
                  <a:pt x="394381" y="222023"/>
                </a:lnTo>
                <a:lnTo>
                  <a:pt x="390525" y="217488"/>
                </a:lnTo>
                <a:lnTo>
                  <a:pt x="386443" y="213405"/>
                </a:lnTo>
                <a:lnTo>
                  <a:pt x="382134" y="209323"/>
                </a:lnTo>
                <a:lnTo>
                  <a:pt x="377825" y="205468"/>
                </a:lnTo>
                <a:lnTo>
                  <a:pt x="373290" y="201839"/>
                </a:lnTo>
                <a:lnTo>
                  <a:pt x="368300" y="198438"/>
                </a:lnTo>
                <a:lnTo>
                  <a:pt x="363311" y="195036"/>
                </a:lnTo>
                <a:lnTo>
                  <a:pt x="358322" y="192088"/>
                </a:lnTo>
                <a:lnTo>
                  <a:pt x="353106" y="189366"/>
                </a:lnTo>
                <a:lnTo>
                  <a:pt x="347663" y="187098"/>
                </a:lnTo>
                <a:lnTo>
                  <a:pt x="341993" y="184830"/>
                </a:lnTo>
                <a:lnTo>
                  <a:pt x="336323" y="183016"/>
                </a:lnTo>
                <a:lnTo>
                  <a:pt x="330427" y="181202"/>
                </a:lnTo>
                <a:lnTo>
                  <a:pt x="324757" y="179841"/>
                </a:lnTo>
                <a:lnTo>
                  <a:pt x="318634" y="178934"/>
                </a:lnTo>
                <a:lnTo>
                  <a:pt x="312511" y="178027"/>
                </a:lnTo>
                <a:lnTo>
                  <a:pt x="306161" y="177800"/>
                </a:lnTo>
                <a:lnTo>
                  <a:pt x="300038" y="177346"/>
                </a:lnTo>
                <a:close/>
                <a:moveTo>
                  <a:pt x="300265" y="28132"/>
                </a:moveTo>
                <a:lnTo>
                  <a:pt x="293234" y="28359"/>
                </a:lnTo>
                <a:lnTo>
                  <a:pt x="286204" y="28586"/>
                </a:lnTo>
                <a:lnTo>
                  <a:pt x="279173" y="29040"/>
                </a:lnTo>
                <a:lnTo>
                  <a:pt x="272370" y="29720"/>
                </a:lnTo>
                <a:lnTo>
                  <a:pt x="265566" y="30401"/>
                </a:lnTo>
                <a:lnTo>
                  <a:pt x="258763" y="31308"/>
                </a:lnTo>
                <a:lnTo>
                  <a:pt x="252186" y="32443"/>
                </a:lnTo>
                <a:lnTo>
                  <a:pt x="245382" y="33804"/>
                </a:lnTo>
                <a:lnTo>
                  <a:pt x="238805" y="35165"/>
                </a:lnTo>
                <a:lnTo>
                  <a:pt x="232455" y="36980"/>
                </a:lnTo>
                <a:lnTo>
                  <a:pt x="225878" y="38568"/>
                </a:lnTo>
                <a:lnTo>
                  <a:pt x="219528" y="40383"/>
                </a:lnTo>
                <a:lnTo>
                  <a:pt x="212952" y="42652"/>
                </a:lnTo>
                <a:lnTo>
                  <a:pt x="206828" y="44921"/>
                </a:lnTo>
                <a:lnTo>
                  <a:pt x="200478" y="47189"/>
                </a:lnTo>
                <a:lnTo>
                  <a:pt x="194582" y="49685"/>
                </a:lnTo>
                <a:lnTo>
                  <a:pt x="188459" y="52407"/>
                </a:lnTo>
                <a:lnTo>
                  <a:pt x="182562" y="55130"/>
                </a:lnTo>
                <a:lnTo>
                  <a:pt x="176666" y="58079"/>
                </a:lnTo>
                <a:lnTo>
                  <a:pt x="170769" y="61028"/>
                </a:lnTo>
                <a:lnTo>
                  <a:pt x="165100" y="64205"/>
                </a:lnTo>
                <a:lnTo>
                  <a:pt x="159430" y="67608"/>
                </a:lnTo>
                <a:lnTo>
                  <a:pt x="153987" y="71011"/>
                </a:lnTo>
                <a:lnTo>
                  <a:pt x="148318" y="74868"/>
                </a:lnTo>
                <a:lnTo>
                  <a:pt x="142875" y="78498"/>
                </a:lnTo>
                <a:lnTo>
                  <a:pt x="137659" y="82354"/>
                </a:lnTo>
                <a:lnTo>
                  <a:pt x="132443" y="86211"/>
                </a:lnTo>
                <a:lnTo>
                  <a:pt x="127453" y="90522"/>
                </a:lnTo>
                <a:lnTo>
                  <a:pt x="122464" y="94832"/>
                </a:lnTo>
                <a:lnTo>
                  <a:pt x="117475" y="98916"/>
                </a:lnTo>
                <a:lnTo>
                  <a:pt x="112712" y="103453"/>
                </a:lnTo>
                <a:lnTo>
                  <a:pt x="107950" y="107991"/>
                </a:lnTo>
                <a:lnTo>
                  <a:pt x="103641" y="112755"/>
                </a:lnTo>
                <a:lnTo>
                  <a:pt x="99105" y="117519"/>
                </a:lnTo>
                <a:lnTo>
                  <a:pt x="94796" y="122057"/>
                </a:lnTo>
                <a:lnTo>
                  <a:pt x="90487" y="127048"/>
                </a:lnTo>
                <a:lnTo>
                  <a:pt x="86405" y="132266"/>
                </a:lnTo>
                <a:lnTo>
                  <a:pt x="82323" y="137711"/>
                </a:lnTo>
                <a:lnTo>
                  <a:pt x="78694" y="142929"/>
                </a:lnTo>
                <a:lnTo>
                  <a:pt x="74839" y="148147"/>
                </a:lnTo>
                <a:lnTo>
                  <a:pt x="71437" y="153592"/>
                </a:lnTo>
                <a:lnTo>
                  <a:pt x="67809" y="159264"/>
                </a:lnTo>
                <a:lnTo>
                  <a:pt x="64407" y="164709"/>
                </a:lnTo>
                <a:lnTo>
                  <a:pt x="61232" y="170607"/>
                </a:lnTo>
                <a:lnTo>
                  <a:pt x="58057" y="176506"/>
                </a:lnTo>
                <a:lnTo>
                  <a:pt x="55109" y="182178"/>
                </a:lnTo>
                <a:lnTo>
                  <a:pt x="52387" y="188303"/>
                </a:lnTo>
                <a:lnTo>
                  <a:pt x="49666" y="194429"/>
                </a:lnTo>
                <a:lnTo>
                  <a:pt x="47171" y="200554"/>
                </a:lnTo>
                <a:lnTo>
                  <a:pt x="44903" y="206680"/>
                </a:lnTo>
                <a:lnTo>
                  <a:pt x="42636" y="212805"/>
                </a:lnTo>
                <a:lnTo>
                  <a:pt x="40821" y="219385"/>
                </a:lnTo>
                <a:lnTo>
                  <a:pt x="38780" y="225737"/>
                </a:lnTo>
                <a:lnTo>
                  <a:pt x="36966" y="232090"/>
                </a:lnTo>
                <a:lnTo>
                  <a:pt x="35378" y="238896"/>
                </a:lnTo>
                <a:lnTo>
                  <a:pt x="34018" y="245248"/>
                </a:lnTo>
                <a:lnTo>
                  <a:pt x="32657" y="252054"/>
                </a:lnTo>
                <a:lnTo>
                  <a:pt x="31523" y="258860"/>
                </a:lnTo>
                <a:lnTo>
                  <a:pt x="30389" y="265440"/>
                </a:lnTo>
                <a:lnTo>
                  <a:pt x="29709" y="272246"/>
                </a:lnTo>
                <a:lnTo>
                  <a:pt x="29255" y="279279"/>
                </a:lnTo>
                <a:lnTo>
                  <a:pt x="28802" y="286312"/>
                </a:lnTo>
                <a:lnTo>
                  <a:pt x="28575" y="292891"/>
                </a:lnTo>
                <a:lnTo>
                  <a:pt x="28575" y="300151"/>
                </a:lnTo>
                <a:lnTo>
                  <a:pt x="28575" y="307184"/>
                </a:lnTo>
                <a:lnTo>
                  <a:pt x="28802" y="314217"/>
                </a:lnTo>
                <a:lnTo>
                  <a:pt x="29255" y="320796"/>
                </a:lnTo>
                <a:lnTo>
                  <a:pt x="29709" y="327829"/>
                </a:lnTo>
                <a:lnTo>
                  <a:pt x="30389" y="334635"/>
                </a:lnTo>
                <a:lnTo>
                  <a:pt x="31523" y="341442"/>
                </a:lnTo>
                <a:lnTo>
                  <a:pt x="32657" y="348021"/>
                </a:lnTo>
                <a:lnTo>
                  <a:pt x="34018" y="354827"/>
                </a:lnTo>
                <a:lnTo>
                  <a:pt x="35378" y="361179"/>
                </a:lnTo>
                <a:lnTo>
                  <a:pt x="36966" y="367986"/>
                </a:lnTo>
                <a:lnTo>
                  <a:pt x="38780" y="374565"/>
                </a:lnTo>
                <a:lnTo>
                  <a:pt x="40821" y="380690"/>
                </a:lnTo>
                <a:lnTo>
                  <a:pt x="42636" y="387270"/>
                </a:lnTo>
                <a:lnTo>
                  <a:pt x="44903" y="393395"/>
                </a:lnTo>
                <a:lnTo>
                  <a:pt x="47171" y="399748"/>
                </a:lnTo>
                <a:lnTo>
                  <a:pt x="49666" y="405646"/>
                </a:lnTo>
                <a:lnTo>
                  <a:pt x="52387" y="411999"/>
                </a:lnTo>
                <a:lnTo>
                  <a:pt x="55109" y="417897"/>
                </a:lnTo>
                <a:lnTo>
                  <a:pt x="58057" y="423569"/>
                </a:lnTo>
                <a:lnTo>
                  <a:pt x="61232" y="429695"/>
                </a:lnTo>
                <a:lnTo>
                  <a:pt x="64407" y="435366"/>
                </a:lnTo>
                <a:lnTo>
                  <a:pt x="67809" y="440811"/>
                </a:lnTo>
                <a:lnTo>
                  <a:pt x="71437" y="446483"/>
                </a:lnTo>
                <a:lnTo>
                  <a:pt x="74839" y="452155"/>
                </a:lnTo>
                <a:lnTo>
                  <a:pt x="78694" y="457373"/>
                </a:lnTo>
                <a:lnTo>
                  <a:pt x="82323" y="462591"/>
                </a:lnTo>
                <a:lnTo>
                  <a:pt x="86405" y="467809"/>
                </a:lnTo>
                <a:lnTo>
                  <a:pt x="90487" y="473027"/>
                </a:lnTo>
                <a:lnTo>
                  <a:pt x="94796" y="478018"/>
                </a:lnTo>
                <a:lnTo>
                  <a:pt x="99105" y="482783"/>
                </a:lnTo>
                <a:lnTo>
                  <a:pt x="103641" y="487547"/>
                </a:lnTo>
                <a:lnTo>
                  <a:pt x="107950" y="492084"/>
                </a:lnTo>
                <a:lnTo>
                  <a:pt x="112712" y="496622"/>
                </a:lnTo>
                <a:lnTo>
                  <a:pt x="117475" y="501159"/>
                </a:lnTo>
                <a:lnTo>
                  <a:pt x="122464" y="505697"/>
                </a:lnTo>
                <a:lnTo>
                  <a:pt x="127453" y="509780"/>
                </a:lnTo>
                <a:lnTo>
                  <a:pt x="132443" y="513864"/>
                </a:lnTo>
                <a:lnTo>
                  <a:pt x="137659" y="517948"/>
                </a:lnTo>
                <a:lnTo>
                  <a:pt x="142875" y="521578"/>
                </a:lnTo>
                <a:lnTo>
                  <a:pt x="148318" y="525434"/>
                </a:lnTo>
                <a:lnTo>
                  <a:pt x="153987" y="529064"/>
                </a:lnTo>
                <a:lnTo>
                  <a:pt x="159430" y="532694"/>
                </a:lnTo>
                <a:lnTo>
                  <a:pt x="165100" y="535870"/>
                </a:lnTo>
                <a:lnTo>
                  <a:pt x="170769" y="539047"/>
                </a:lnTo>
                <a:lnTo>
                  <a:pt x="176666" y="541996"/>
                </a:lnTo>
                <a:lnTo>
                  <a:pt x="182562" y="544945"/>
                </a:lnTo>
                <a:lnTo>
                  <a:pt x="188459" y="547895"/>
                </a:lnTo>
                <a:lnTo>
                  <a:pt x="194582" y="550617"/>
                </a:lnTo>
                <a:lnTo>
                  <a:pt x="200478" y="553113"/>
                </a:lnTo>
                <a:lnTo>
                  <a:pt x="206828" y="555608"/>
                </a:lnTo>
                <a:lnTo>
                  <a:pt x="212952" y="557423"/>
                </a:lnTo>
                <a:lnTo>
                  <a:pt x="219528" y="559692"/>
                </a:lnTo>
                <a:lnTo>
                  <a:pt x="225878" y="561507"/>
                </a:lnTo>
                <a:lnTo>
                  <a:pt x="232455" y="563322"/>
                </a:lnTo>
                <a:lnTo>
                  <a:pt x="238805" y="564910"/>
                </a:lnTo>
                <a:lnTo>
                  <a:pt x="242887" y="565896"/>
                </a:lnTo>
                <a:lnTo>
                  <a:pt x="242887" y="439533"/>
                </a:lnTo>
                <a:lnTo>
                  <a:pt x="241073" y="438830"/>
                </a:lnTo>
                <a:lnTo>
                  <a:pt x="234723" y="435882"/>
                </a:lnTo>
                <a:lnTo>
                  <a:pt x="227919" y="432707"/>
                </a:lnTo>
                <a:lnTo>
                  <a:pt x="221796" y="428852"/>
                </a:lnTo>
                <a:lnTo>
                  <a:pt x="215673" y="424996"/>
                </a:lnTo>
                <a:lnTo>
                  <a:pt x="209777" y="420688"/>
                </a:lnTo>
                <a:lnTo>
                  <a:pt x="204107" y="416152"/>
                </a:lnTo>
                <a:lnTo>
                  <a:pt x="198437" y="411389"/>
                </a:lnTo>
                <a:lnTo>
                  <a:pt x="193221" y="406400"/>
                </a:lnTo>
                <a:lnTo>
                  <a:pt x="188232" y="401184"/>
                </a:lnTo>
                <a:lnTo>
                  <a:pt x="183469" y="395741"/>
                </a:lnTo>
                <a:lnTo>
                  <a:pt x="179160" y="390298"/>
                </a:lnTo>
                <a:lnTo>
                  <a:pt x="174852" y="384402"/>
                </a:lnTo>
                <a:lnTo>
                  <a:pt x="170769" y="378052"/>
                </a:lnTo>
                <a:lnTo>
                  <a:pt x="167368" y="371929"/>
                </a:lnTo>
                <a:lnTo>
                  <a:pt x="164193" y="365352"/>
                </a:lnTo>
                <a:lnTo>
                  <a:pt x="160791" y="358548"/>
                </a:lnTo>
                <a:lnTo>
                  <a:pt x="158296" y="351972"/>
                </a:lnTo>
                <a:lnTo>
                  <a:pt x="155802" y="344714"/>
                </a:lnTo>
                <a:lnTo>
                  <a:pt x="153987" y="337684"/>
                </a:lnTo>
                <a:lnTo>
                  <a:pt x="152173" y="330200"/>
                </a:lnTo>
                <a:lnTo>
                  <a:pt x="150812" y="322943"/>
                </a:lnTo>
                <a:lnTo>
                  <a:pt x="149905" y="315232"/>
                </a:lnTo>
                <a:lnTo>
                  <a:pt x="149452" y="307748"/>
                </a:lnTo>
                <a:lnTo>
                  <a:pt x="149225" y="300038"/>
                </a:lnTo>
                <a:lnTo>
                  <a:pt x="149452" y="292100"/>
                </a:lnTo>
                <a:lnTo>
                  <a:pt x="149905" y="284616"/>
                </a:lnTo>
                <a:lnTo>
                  <a:pt x="150812" y="276905"/>
                </a:lnTo>
                <a:lnTo>
                  <a:pt x="152173" y="269648"/>
                </a:lnTo>
                <a:lnTo>
                  <a:pt x="153987" y="262164"/>
                </a:lnTo>
                <a:lnTo>
                  <a:pt x="155802" y="255134"/>
                </a:lnTo>
                <a:lnTo>
                  <a:pt x="158296" y="248330"/>
                </a:lnTo>
                <a:lnTo>
                  <a:pt x="160791" y="241300"/>
                </a:lnTo>
                <a:lnTo>
                  <a:pt x="164193" y="234496"/>
                </a:lnTo>
                <a:lnTo>
                  <a:pt x="167368" y="228146"/>
                </a:lnTo>
                <a:lnTo>
                  <a:pt x="170769" y="221796"/>
                </a:lnTo>
                <a:lnTo>
                  <a:pt x="174852" y="215673"/>
                </a:lnTo>
                <a:lnTo>
                  <a:pt x="179160" y="209777"/>
                </a:lnTo>
                <a:lnTo>
                  <a:pt x="183469" y="204107"/>
                </a:lnTo>
                <a:lnTo>
                  <a:pt x="188232" y="198664"/>
                </a:lnTo>
                <a:lnTo>
                  <a:pt x="193221" y="193448"/>
                </a:lnTo>
                <a:lnTo>
                  <a:pt x="198437" y="188459"/>
                </a:lnTo>
                <a:lnTo>
                  <a:pt x="204107" y="183696"/>
                </a:lnTo>
                <a:lnTo>
                  <a:pt x="209777" y="179161"/>
                </a:lnTo>
                <a:lnTo>
                  <a:pt x="215673" y="174852"/>
                </a:lnTo>
                <a:lnTo>
                  <a:pt x="221796" y="170996"/>
                </a:lnTo>
                <a:lnTo>
                  <a:pt x="227919" y="167368"/>
                </a:lnTo>
                <a:lnTo>
                  <a:pt x="234723" y="163966"/>
                </a:lnTo>
                <a:lnTo>
                  <a:pt x="241073" y="161018"/>
                </a:lnTo>
                <a:lnTo>
                  <a:pt x="248104" y="158523"/>
                </a:lnTo>
                <a:lnTo>
                  <a:pt x="255134" y="156029"/>
                </a:lnTo>
                <a:lnTo>
                  <a:pt x="262391" y="153988"/>
                </a:lnTo>
                <a:lnTo>
                  <a:pt x="269648" y="152173"/>
                </a:lnTo>
                <a:lnTo>
                  <a:pt x="277132" y="151039"/>
                </a:lnTo>
                <a:lnTo>
                  <a:pt x="284616" y="150132"/>
                </a:lnTo>
                <a:lnTo>
                  <a:pt x="292327" y="149452"/>
                </a:lnTo>
                <a:lnTo>
                  <a:pt x="300038" y="149225"/>
                </a:lnTo>
                <a:lnTo>
                  <a:pt x="307748" y="149452"/>
                </a:lnTo>
                <a:lnTo>
                  <a:pt x="315459" y="150132"/>
                </a:lnTo>
                <a:lnTo>
                  <a:pt x="322943" y="151039"/>
                </a:lnTo>
                <a:lnTo>
                  <a:pt x="330427" y="152173"/>
                </a:lnTo>
                <a:lnTo>
                  <a:pt x="337684" y="153988"/>
                </a:lnTo>
                <a:lnTo>
                  <a:pt x="344941" y="156029"/>
                </a:lnTo>
                <a:lnTo>
                  <a:pt x="351745" y="158523"/>
                </a:lnTo>
                <a:lnTo>
                  <a:pt x="358548" y="161018"/>
                </a:lnTo>
                <a:lnTo>
                  <a:pt x="365352" y="163966"/>
                </a:lnTo>
                <a:lnTo>
                  <a:pt x="371702" y="167368"/>
                </a:lnTo>
                <a:lnTo>
                  <a:pt x="378052" y="170996"/>
                </a:lnTo>
                <a:lnTo>
                  <a:pt x="384175" y="174852"/>
                </a:lnTo>
                <a:lnTo>
                  <a:pt x="390298" y="179161"/>
                </a:lnTo>
                <a:lnTo>
                  <a:pt x="395741" y="183696"/>
                </a:lnTo>
                <a:lnTo>
                  <a:pt x="401184" y="188459"/>
                </a:lnTo>
                <a:lnTo>
                  <a:pt x="406400" y="193448"/>
                </a:lnTo>
                <a:lnTo>
                  <a:pt x="411390" y="198664"/>
                </a:lnTo>
                <a:lnTo>
                  <a:pt x="416152" y="204107"/>
                </a:lnTo>
                <a:lnTo>
                  <a:pt x="420688" y="209777"/>
                </a:lnTo>
                <a:lnTo>
                  <a:pt x="424770" y="215673"/>
                </a:lnTo>
                <a:lnTo>
                  <a:pt x="428852" y="221796"/>
                </a:lnTo>
                <a:lnTo>
                  <a:pt x="432481" y="228146"/>
                </a:lnTo>
                <a:lnTo>
                  <a:pt x="435882" y="234496"/>
                </a:lnTo>
                <a:lnTo>
                  <a:pt x="438831" y="241300"/>
                </a:lnTo>
                <a:lnTo>
                  <a:pt x="441552" y="248330"/>
                </a:lnTo>
                <a:lnTo>
                  <a:pt x="443820" y="255134"/>
                </a:lnTo>
                <a:lnTo>
                  <a:pt x="445861" y="262164"/>
                </a:lnTo>
                <a:lnTo>
                  <a:pt x="447448" y="269648"/>
                </a:lnTo>
                <a:lnTo>
                  <a:pt x="449036" y="276905"/>
                </a:lnTo>
                <a:lnTo>
                  <a:pt x="449716" y="284616"/>
                </a:lnTo>
                <a:lnTo>
                  <a:pt x="450623" y="292100"/>
                </a:lnTo>
                <a:lnTo>
                  <a:pt x="450850" y="300038"/>
                </a:lnTo>
                <a:lnTo>
                  <a:pt x="450623" y="307748"/>
                </a:lnTo>
                <a:lnTo>
                  <a:pt x="449716" y="315232"/>
                </a:lnTo>
                <a:lnTo>
                  <a:pt x="449036" y="322943"/>
                </a:lnTo>
                <a:lnTo>
                  <a:pt x="447448" y="330200"/>
                </a:lnTo>
                <a:lnTo>
                  <a:pt x="445861" y="337684"/>
                </a:lnTo>
                <a:lnTo>
                  <a:pt x="443820" y="344714"/>
                </a:lnTo>
                <a:lnTo>
                  <a:pt x="441552" y="351972"/>
                </a:lnTo>
                <a:lnTo>
                  <a:pt x="438831" y="358548"/>
                </a:lnTo>
                <a:lnTo>
                  <a:pt x="435882" y="365352"/>
                </a:lnTo>
                <a:lnTo>
                  <a:pt x="432481" y="371929"/>
                </a:lnTo>
                <a:lnTo>
                  <a:pt x="428852" y="378052"/>
                </a:lnTo>
                <a:lnTo>
                  <a:pt x="424770" y="384402"/>
                </a:lnTo>
                <a:lnTo>
                  <a:pt x="420688" y="390298"/>
                </a:lnTo>
                <a:lnTo>
                  <a:pt x="416152" y="395741"/>
                </a:lnTo>
                <a:lnTo>
                  <a:pt x="411390" y="401184"/>
                </a:lnTo>
                <a:lnTo>
                  <a:pt x="406400" y="406400"/>
                </a:lnTo>
                <a:lnTo>
                  <a:pt x="401184" y="411389"/>
                </a:lnTo>
                <a:lnTo>
                  <a:pt x="395741" y="416152"/>
                </a:lnTo>
                <a:lnTo>
                  <a:pt x="390298" y="420688"/>
                </a:lnTo>
                <a:lnTo>
                  <a:pt x="384175" y="424996"/>
                </a:lnTo>
                <a:lnTo>
                  <a:pt x="378052" y="428852"/>
                </a:lnTo>
                <a:lnTo>
                  <a:pt x="371702" y="432707"/>
                </a:lnTo>
                <a:lnTo>
                  <a:pt x="365352" y="435882"/>
                </a:lnTo>
                <a:lnTo>
                  <a:pt x="358548" y="438830"/>
                </a:lnTo>
                <a:lnTo>
                  <a:pt x="355958" y="439867"/>
                </a:lnTo>
                <a:lnTo>
                  <a:pt x="355958" y="566203"/>
                </a:lnTo>
                <a:lnTo>
                  <a:pt x="361497" y="564910"/>
                </a:lnTo>
                <a:lnTo>
                  <a:pt x="368073" y="563322"/>
                </a:lnTo>
                <a:lnTo>
                  <a:pt x="374423" y="561507"/>
                </a:lnTo>
                <a:lnTo>
                  <a:pt x="381000" y="559692"/>
                </a:lnTo>
                <a:lnTo>
                  <a:pt x="386985" y="557475"/>
                </a:lnTo>
                <a:lnTo>
                  <a:pt x="388361" y="553956"/>
                </a:lnTo>
                <a:lnTo>
                  <a:pt x="390627" y="548968"/>
                </a:lnTo>
                <a:lnTo>
                  <a:pt x="393572" y="544207"/>
                </a:lnTo>
                <a:lnTo>
                  <a:pt x="396971" y="539672"/>
                </a:lnTo>
                <a:lnTo>
                  <a:pt x="400370" y="535818"/>
                </a:lnTo>
                <a:lnTo>
                  <a:pt x="404675" y="532417"/>
                </a:lnTo>
                <a:lnTo>
                  <a:pt x="408754" y="529016"/>
                </a:lnTo>
                <a:lnTo>
                  <a:pt x="413513" y="526069"/>
                </a:lnTo>
                <a:lnTo>
                  <a:pt x="418498" y="523802"/>
                </a:lnTo>
                <a:lnTo>
                  <a:pt x="423483" y="521761"/>
                </a:lnTo>
                <a:lnTo>
                  <a:pt x="428921" y="520401"/>
                </a:lnTo>
                <a:lnTo>
                  <a:pt x="434813" y="519494"/>
                </a:lnTo>
                <a:lnTo>
                  <a:pt x="440477" y="519267"/>
                </a:lnTo>
                <a:lnTo>
                  <a:pt x="446142" y="519494"/>
                </a:lnTo>
                <a:lnTo>
                  <a:pt x="451807" y="520401"/>
                </a:lnTo>
                <a:lnTo>
                  <a:pt x="457079" y="521667"/>
                </a:lnTo>
                <a:lnTo>
                  <a:pt x="457200" y="521578"/>
                </a:lnTo>
                <a:lnTo>
                  <a:pt x="462643" y="517948"/>
                </a:lnTo>
                <a:lnTo>
                  <a:pt x="467632" y="513864"/>
                </a:lnTo>
                <a:lnTo>
                  <a:pt x="472848" y="509780"/>
                </a:lnTo>
                <a:lnTo>
                  <a:pt x="477838" y="505697"/>
                </a:lnTo>
                <a:lnTo>
                  <a:pt x="482600" y="501159"/>
                </a:lnTo>
                <a:lnTo>
                  <a:pt x="487363" y="496622"/>
                </a:lnTo>
                <a:lnTo>
                  <a:pt x="492125" y="492084"/>
                </a:lnTo>
                <a:lnTo>
                  <a:pt x="496661" y="487547"/>
                </a:lnTo>
                <a:lnTo>
                  <a:pt x="501197" y="482783"/>
                </a:lnTo>
                <a:lnTo>
                  <a:pt x="505506" y="478018"/>
                </a:lnTo>
                <a:lnTo>
                  <a:pt x="509815" y="473027"/>
                </a:lnTo>
                <a:lnTo>
                  <a:pt x="513897" y="467809"/>
                </a:lnTo>
                <a:lnTo>
                  <a:pt x="517752" y="462591"/>
                </a:lnTo>
                <a:lnTo>
                  <a:pt x="521607" y="457373"/>
                </a:lnTo>
                <a:lnTo>
                  <a:pt x="525236" y="452155"/>
                </a:lnTo>
                <a:lnTo>
                  <a:pt x="529091" y="446483"/>
                </a:lnTo>
                <a:lnTo>
                  <a:pt x="532493" y="440811"/>
                </a:lnTo>
                <a:lnTo>
                  <a:pt x="535668" y="435366"/>
                </a:lnTo>
                <a:lnTo>
                  <a:pt x="539070" y="429695"/>
                </a:lnTo>
                <a:lnTo>
                  <a:pt x="542018" y="423569"/>
                </a:lnTo>
                <a:lnTo>
                  <a:pt x="544966" y="417897"/>
                </a:lnTo>
                <a:lnTo>
                  <a:pt x="547688" y="411999"/>
                </a:lnTo>
                <a:lnTo>
                  <a:pt x="550409" y="405646"/>
                </a:lnTo>
                <a:lnTo>
                  <a:pt x="552904" y="399748"/>
                </a:lnTo>
                <a:lnTo>
                  <a:pt x="555398" y="393395"/>
                </a:lnTo>
                <a:lnTo>
                  <a:pt x="557666" y="387270"/>
                </a:lnTo>
                <a:lnTo>
                  <a:pt x="559707" y="380690"/>
                </a:lnTo>
                <a:lnTo>
                  <a:pt x="561522" y="374565"/>
                </a:lnTo>
                <a:lnTo>
                  <a:pt x="563336" y="367986"/>
                </a:lnTo>
                <a:lnTo>
                  <a:pt x="564923" y="361179"/>
                </a:lnTo>
                <a:lnTo>
                  <a:pt x="566511" y="354827"/>
                </a:lnTo>
                <a:lnTo>
                  <a:pt x="567645" y="348021"/>
                </a:lnTo>
                <a:lnTo>
                  <a:pt x="568779" y="341442"/>
                </a:lnTo>
                <a:lnTo>
                  <a:pt x="569686" y="334635"/>
                </a:lnTo>
                <a:lnTo>
                  <a:pt x="570366" y="327829"/>
                </a:lnTo>
                <a:lnTo>
                  <a:pt x="571273" y="320796"/>
                </a:lnTo>
                <a:lnTo>
                  <a:pt x="571500" y="314217"/>
                </a:lnTo>
                <a:lnTo>
                  <a:pt x="571954" y="307184"/>
                </a:lnTo>
                <a:lnTo>
                  <a:pt x="571954" y="300151"/>
                </a:lnTo>
                <a:lnTo>
                  <a:pt x="571954" y="292891"/>
                </a:lnTo>
                <a:lnTo>
                  <a:pt x="571500" y="286312"/>
                </a:lnTo>
                <a:lnTo>
                  <a:pt x="571273" y="279279"/>
                </a:lnTo>
                <a:lnTo>
                  <a:pt x="570366" y="272246"/>
                </a:lnTo>
                <a:lnTo>
                  <a:pt x="569686" y="265440"/>
                </a:lnTo>
                <a:lnTo>
                  <a:pt x="568779" y="258860"/>
                </a:lnTo>
                <a:lnTo>
                  <a:pt x="567645" y="252054"/>
                </a:lnTo>
                <a:lnTo>
                  <a:pt x="566511" y="245248"/>
                </a:lnTo>
                <a:lnTo>
                  <a:pt x="564923" y="238896"/>
                </a:lnTo>
                <a:lnTo>
                  <a:pt x="563336" y="232090"/>
                </a:lnTo>
                <a:lnTo>
                  <a:pt x="561522" y="225737"/>
                </a:lnTo>
                <a:lnTo>
                  <a:pt x="559707" y="219385"/>
                </a:lnTo>
                <a:lnTo>
                  <a:pt x="557666" y="212805"/>
                </a:lnTo>
                <a:lnTo>
                  <a:pt x="555398" y="206680"/>
                </a:lnTo>
                <a:lnTo>
                  <a:pt x="552904" y="200554"/>
                </a:lnTo>
                <a:lnTo>
                  <a:pt x="550409" y="194429"/>
                </a:lnTo>
                <a:lnTo>
                  <a:pt x="547688" y="188303"/>
                </a:lnTo>
                <a:lnTo>
                  <a:pt x="544966" y="182178"/>
                </a:lnTo>
                <a:lnTo>
                  <a:pt x="542018" y="176506"/>
                </a:lnTo>
                <a:lnTo>
                  <a:pt x="539070" y="170607"/>
                </a:lnTo>
                <a:lnTo>
                  <a:pt x="535668" y="164709"/>
                </a:lnTo>
                <a:lnTo>
                  <a:pt x="532493" y="159264"/>
                </a:lnTo>
                <a:lnTo>
                  <a:pt x="529091" y="153592"/>
                </a:lnTo>
                <a:lnTo>
                  <a:pt x="525236" y="148147"/>
                </a:lnTo>
                <a:lnTo>
                  <a:pt x="521607" y="142929"/>
                </a:lnTo>
                <a:lnTo>
                  <a:pt x="517752" y="137711"/>
                </a:lnTo>
                <a:lnTo>
                  <a:pt x="513897" y="132266"/>
                </a:lnTo>
                <a:lnTo>
                  <a:pt x="509815" y="127048"/>
                </a:lnTo>
                <a:lnTo>
                  <a:pt x="505506" y="122057"/>
                </a:lnTo>
                <a:lnTo>
                  <a:pt x="501197" y="117519"/>
                </a:lnTo>
                <a:lnTo>
                  <a:pt x="496661" y="112755"/>
                </a:lnTo>
                <a:lnTo>
                  <a:pt x="492125" y="107991"/>
                </a:lnTo>
                <a:lnTo>
                  <a:pt x="487363" y="103453"/>
                </a:lnTo>
                <a:lnTo>
                  <a:pt x="482600" y="98916"/>
                </a:lnTo>
                <a:lnTo>
                  <a:pt x="477838" y="94832"/>
                </a:lnTo>
                <a:lnTo>
                  <a:pt x="472848" y="90522"/>
                </a:lnTo>
                <a:lnTo>
                  <a:pt x="467632" y="86211"/>
                </a:lnTo>
                <a:lnTo>
                  <a:pt x="462643" y="82354"/>
                </a:lnTo>
                <a:lnTo>
                  <a:pt x="457200" y="78498"/>
                </a:lnTo>
                <a:lnTo>
                  <a:pt x="451984" y="74868"/>
                </a:lnTo>
                <a:lnTo>
                  <a:pt x="446541" y="71011"/>
                </a:lnTo>
                <a:lnTo>
                  <a:pt x="441098" y="67608"/>
                </a:lnTo>
                <a:lnTo>
                  <a:pt x="435202" y="64205"/>
                </a:lnTo>
                <a:lnTo>
                  <a:pt x="429532" y="61028"/>
                </a:lnTo>
                <a:lnTo>
                  <a:pt x="423863" y="58079"/>
                </a:lnTo>
                <a:lnTo>
                  <a:pt x="417966" y="55130"/>
                </a:lnTo>
                <a:lnTo>
                  <a:pt x="411843" y="52407"/>
                </a:lnTo>
                <a:lnTo>
                  <a:pt x="405947" y="49685"/>
                </a:lnTo>
                <a:lnTo>
                  <a:pt x="399597" y="47189"/>
                </a:lnTo>
                <a:lnTo>
                  <a:pt x="393473" y="44921"/>
                </a:lnTo>
                <a:lnTo>
                  <a:pt x="387123" y="42652"/>
                </a:lnTo>
                <a:lnTo>
                  <a:pt x="381000" y="40383"/>
                </a:lnTo>
                <a:lnTo>
                  <a:pt x="374423" y="38568"/>
                </a:lnTo>
                <a:lnTo>
                  <a:pt x="368073" y="36980"/>
                </a:lnTo>
                <a:lnTo>
                  <a:pt x="361497" y="35165"/>
                </a:lnTo>
                <a:lnTo>
                  <a:pt x="354693" y="33804"/>
                </a:lnTo>
                <a:lnTo>
                  <a:pt x="348116" y="32443"/>
                </a:lnTo>
                <a:lnTo>
                  <a:pt x="341540" y="31308"/>
                </a:lnTo>
                <a:lnTo>
                  <a:pt x="334509" y="30401"/>
                </a:lnTo>
                <a:lnTo>
                  <a:pt x="327932" y="29720"/>
                </a:lnTo>
                <a:lnTo>
                  <a:pt x="320902" y="29040"/>
                </a:lnTo>
                <a:lnTo>
                  <a:pt x="314098" y="28586"/>
                </a:lnTo>
                <a:lnTo>
                  <a:pt x="307295" y="28359"/>
                </a:lnTo>
                <a:lnTo>
                  <a:pt x="300265" y="28132"/>
                </a:lnTo>
                <a:close/>
                <a:moveTo>
                  <a:pt x="300265" y="0"/>
                </a:moveTo>
                <a:lnTo>
                  <a:pt x="307975" y="227"/>
                </a:lnTo>
                <a:lnTo>
                  <a:pt x="315686" y="454"/>
                </a:lnTo>
                <a:lnTo>
                  <a:pt x="323170" y="907"/>
                </a:lnTo>
                <a:lnTo>
                  <a:pt x="330881" y="1361"/>
                </a:lnTo>
                <a:lnTo>
                  <a:pt x="338365" y="2496"/>
                </a:lnTo>
                <a:lnTo>
                  <a:pt x="345848" y="3403"/>
                </a:lnTo>
                <a:lnTo>
                  <a:pt x="353332" y="4764"/>
                </a:lnTo>
                <a:lnTo>
                  <a:pt x="360590" y="6126"/>
                </a:lnTo>
                <a:lnTo>
                  <a:pt x="368073" y="7714"/>
                </a:lnTo>
                <a:lnTo>
                  <a:pt x="375331" y="9529"/>
                </a:lnTo>
                <a:lnTo>
                  <a:pt x="382134" y="11344"/>
                </a:lnTo>
                <a:lnTo>
                  <a:pt x="389391" y="13385"/>
                </a:lnTo>
                <a:lnTo>
                  <a:pt x="396422" y="15654"/>
                </a:lnTo>
                <a:lnTo>
                  <a:pt x="403452" y="18150"/>
                </a:lnTo>
                <a:lnTo>
                  <a:pt x="410029" y="20872"/>
                </a:lnTo>
                <a:lnTo>
                  <a:pt x="416832" y="23595"/>
                </a:lnTo>
                <a:lnTo>
                  <a:pt x="423636" y="26317"/>
                </a:lnTo>
                <a:lnTo>
                  <a:pt x="430213" y="29720"/>
                </a:lnTo>
                <a:lnTo>
                  <a:pt x="436790" y="32896"/>
                </a:lnTo>
                <a:lnTo>
                  <a:pt x="443140" y="36073"/>
                </a:lnTo>
                <a:lnTo>
                  <a:pt x="449490" y="39929"/>
                </a:lnTo>
                <a:lnTo>
                  <a:pt x="455840" y="43332"/>
                </a:lnTo>
                <a:lnTo>
                  <a:pt x="461736" y="47416"/>
                </a:lnTo>
                <a:lnTo>
                  <a:pt x="467859" y="51273"/>
                </a:lnTo>
                <a:lnTo>
                  <a:pt x="473756" y="55357"/>
                </a:lnTo>
                <a:lnTo>
                  <a:pt x="479652" y="59667"/>
                </a:lnTo>
                <a:lnTo>
                  <a:pt x="485322" y="63978"/>
                </a:lnTo>
                <a:lnTo>
                  <a:pt x="490991" y="68515"/>
                </a:lnTo>
                <a:lnTo>
                  <a:pt x="496434" y="73279"/>
                </a:lnTo>
                <a:lnTo>
                  <a:pt x="501877" y="78044"/>
                </a:lnTo>
                <a:lnTo>
                  <a:pt x="507093" y="82808"/>
                </a:lnTo>
                <a:lnTo>
                  <a:pt x="512309" y="88026"/>
                </a:lnTo>
                <a:lnTo>
                  <a:pt x="517298" y="93017"/>
                </a:lnTo>
                <a:lnTo>
                  <a:pt x="522288" y="98235"/>
                </a:lnTo>
                <a:lnTo>
                  <a:pt x="527050" y="103680"/>
                </a:lnTo>
                <a:lnTo>
                  <a:pt x="531586" y="109125"/>
                </a:lnTo>
                <a:lnTo>
                  <a:pt x="536348" y="115024"/>
                </a:lnTo>
                <a:lnTo>
                  <a:pt x="540431" y="120696"/>
                </a:lnTo>
                <a:lnTo>
                  <a:pt x="544740" y="126367"/>
                </a:lnTo>
                <a:lnTo>
                  <a:pt x="549048" y="132266"/>
                </a:lnTo>
                <a:lnTo>
                  <a:pt x="552904" y="138392"/>
                </a:lnTo>
                <a:lnTo>
                  <a:pt x="556759" y="144517"/>
                </a:lnTo>
                <a:lnTo>
                  <a:pt x="560388" y="150870"/>
                </a:lnTo>
                <a:lnTo>
                  <a:pt x="564016" y="156995"/>
                </a:lnTo>
                <a:lnTo>
                  <a:pt x="567418" y="163574"/>
                </a:lnTo>
                <a:lnTo>
                  <a:pt x="570593" y="169927"/>
                </a:lnTo>
                <a:lnTo>
                  <a:pt x="573541" y="176506"/>
                </a:lnTo>
                <a:lnTo>
                  <a:pt x="576716" y="183312"/>
                </a:lnTo>
                <a:lnTo>
                  <a:pt x="579438" y="189891"/>
                </a:lnTo>
                <a:lnTo>
                  <a:pt x="581932" y="196924"/>
                </a:lnTo>
                <a:lnTo>
                  <a:pt x="584427" y="203957"/>
                </a:lnTo>
                <a:lnTo>
                  <a:pt x="586695" y="210990"/>
                </a:lnTo>
                <a:lnTo>
                  <a:pt x="588963" y="217797"/>
                </a:lnTo>
                <a:lnTo>
                  <a:pt x="590550" y="225056"/>
                </a:lnTo>
                <a:lnTo>
                  <a:pt x="592365" y="232316"/>
                </a:lnTo>
                <a:lnTo>
                  <a:pt x="594179" y="239576"/>
                </a:lnTo>
                <a:lnTo>
                  <a:pt x="595313" y="247063"/>
                </a:lnTo>
                <a:lnTo>
                  <a:pt x="596673" y="254323"/>
                </a:lnTo>
                <a:lnTo>
                  <a:pt x="597807" y="261810"/>
                </a:lnTo>
                <a:lnTo>
                  <a:pt x="598488" y="269523"/>
                </a:lnTo>
                <a:lnTo>
                  <a:pt x="599395" y="277010"/>
                </a:lnTo>
                <a:lnTo>
                  <a:pt x="599848" y="284724"/>
                </a:lnTo>
                <a:lnTo>
                  <a:pt x="600075" y="292437"/>
                </a:lnTo>
                <a:lnTo>
                  <a:pt x="600075" y="300151"/>
                </a:lnTo>
                <a:lnTo>
                  <a:pt x="600075" y="307865"/>
                </a:lnTo>
                <a:lnTo>
                  <a:pt x="599848" y="315351"/>
                </a:lnTo>
                <a:lnTo>
                  <a:pt x="599395" y="323065"/>
                </a:lnTo>
                <a:lnTo>
                  <a:pt x="598488" y="330779"/>
                </a:lnTo>
                <a:lnTo>
                  <a:pt x="597807" y="338265"/>
                </a:lnTo>
                <a:lnTo>
                  <a:pt x="596673" y="345752"/>
                </a:lnTo>
                <a:lnTo>
                  <a:pt x="595313" y="353239"/>
                </a:lnTo>
                <a:lnTo>
                  <a:pt x="594179" y="360499"/>
                </a:lnTo>
                <a:lnTo>
                  <a:pt x="592365" y="367759"/>
                </a:lnTo>
                <a:lnTo>
                  <a:pt x="590550" y="375019"/>
                </a:lnTo>
                <a:lnTo>
                  <a:pt x="588963" y="382278"/>
                </a:lnTo>
                <a:lnTo>
                  <a:pt x="586695" y="389311"/>
                </a:lnTo>
                <a:lnTo>
                  <a:pt x="584427" y="396344"/>
                </a:lnTo>
                <a:lnTo>
                  <a:pt x="581932" y="403151"/>
                </a:lnTo>
                <a:lnTo>
                  <a:pt x="579438" y="410184"/>
                </a:lnTo>
                <a:lnTo>
                  <a:pt x="576716" y="416990"/>
                </a:lnTo>
                <a:lnTo>
                  <a:pt x="573541" y="423569"/>
                </a:lnTo>
                <a:lnTo>
                  <a:pt x="570593" y="430148"/>
                </a:lnTo>
                <a:lnTo>
                  <a:pt x="567418" y="436501"/>
                </a:lnTo>
                <a:lnTo>
                  <a:pt x="564016" y="443080"/>
                </a:lnTo>
                <a:lnTo>
                  <a:pt x="560388" y="449659"/>
                </a:lnTo>
                <a:lnTo>
                  <a:pt x="556759" y="455785"/>
                </a:lnTo>
                <a:lnTo>
                  <a:pt x="552904" y="461683"/>
                </a:lnTo>
                <a:lnTo>
                  <a:pt x="549048" y="467809"/>
                </a:lnTo>
                <a:lnTo>
                  <a:pt x="544740" y="473708"/>
                </a:lnTo>
                <a:lnTo>
                  <a:pt x="540431" y="479833"/>
                </a:lnTo>
                <a:lnTo>
                  <a:pt x="536348" y="485505"/>
                </a:lnTo>
                <a:lnTo>
                  <a:pt x="531586" y="490950"/>
                </a:lnTo>
                <a:lnTo>
                  <a:pt x="527050" y="496395"/>
                </a:lnTo>
                <a:lnTo>
                  <a:pt x="522288" y="501840"/>
                </a:lnTo>
                <a:lnTo>
                  <a:pt x="517298" y="507058"/>
                </a:lnTo>
                <a:lnTo>
                  <a:pt x="512309" y="512049"/>
                </a:lnTo>
                <a:lnTo>
                  <a:pt x="507093" y="517267"/>
                </a:lnTo>
                <a:lnTo>
                  <a:pt x="501877" y="522031"/>
                </a:lnTo>
                <a:lnTo>
                  <a:pt x="496434" y="527022"/>
                </a:lnTo>
                <a:lnTo>
                  <a:pt x="490991" y="531560"/>
                </a:lnTo>
                <a:lnTo>
                  <a:pt x="485322" y="536097"/>
                </a:lnTo>
                <a:lnTo>
                  <a:pt x="482689" y="538204"/>
                </a:lnTo>
                <a:lnTo>
                  <a:pt x="483983" y="539672"/>
                </a:lnTo>
                <a:lnTo>
                  <a:pt x="487609" y="544207"/>
                </a:lnTo>
                <a:lnTo>
                  <a:pt x="490328" y="548968"/>
                </a:lnTo>
                <a:lnTo>
                  <a:pt x="492821" y="553956"/>
                </a:lnTo>
                <a:lnTo>
                  <a:pt x="494407" y="559171"/>
                </a:lnTo>
                <a:lnTo>
                  <a:pt x="495993" y="564385"/>
                </a:lnTo>
                <a:lnTo>
                  <a:pt x="496673" y="570280"/>
                </a:lnTo>
                <a:lnTo>
                  <a:pt x="496899" y="575948"/>
                </a:lnTo>
                <a:lnTo>
                  <a:pt x="496899" y="698378"/>
                </a:lnTo>
                <a:lnTo>
                  <a:pt x="524770" y="698378"/>
                </a:lnTo>
                <a:lnTo>
                  <a:pt x="524770" y="575948"/>
                </a:lnTo>
                <a:lnTo>
                  <a:pt x="525224" y="570280"/>
                </a:lnTo>
                <a:lnTo>
                  <a:pt x="525903" y="564385"/>
                </a:lnTo>
                <a:lnTo>
                  <a:pt x="527263" y="559171"/>
                </a:lnTo>
                <a:lnTo>
                  <a:pt x="529302" y="553956"/>
                </a:lnTo>
                <a:lnTo>
                  <a:pt x="531568" y="548968"/>
                </a:lnTo>
                <a:lnTo>
                  <a:pt x="534514" y="544207"/>
                </a:lnTo>
                <a:lnTo>
                  <a:pt x="537913" y="539672"/>
                </a:lnTo>
                <a:lnTo>
                  <a:pt x="541312" y="535818"/>
                </a:lnTo>
                <a:lnTo>
                  <a:pt x="545617" y="532417"/>
                </a:lnTo>
                <a:lnTo>
                  <a:pt x="549696" y="529016"/>
                </a:lnTo>
                <a:lnTo>
                  <a:pt x="554454" y="526069"/>
                </a:lnTo>
                <a:lnTo>
                  <a:pt x="559439" y="523802"/>
                </a:lnTo>
                <a:lnTo>
                  <a:pt x="564424" y="521761"/>
                </a:lnTo>
                <a:lnTo>
                  <a:pt x="569863" y="520401"/>
                </a:lnTo>
                <a:lnTo>
                  <a:pt x="575754" y="519494"/>
                </a:lnTo>
                <a:lnTo>
                  <a:pt x="581419" y="519267"/>
                </a:lnTo>
                <a:lnTo>
                  <a:pt x="587084" y="519494"/>
                </a:lnTo>
                <a:lnTo>
                  <a:pt x="592975" y="520401"/>
                </a:lnTo>
                <a:lnTo>
                  <a:pt x="598413" y="521761"/>
                </a:lnTo>
                <a:lnTo>
                  <a:pt x="603399" y="523802"/>
                </a:lnTo>
                <a:lnTo>
                  <a:pt x="608384" y="526069"/>
                </a:lnTo>
                <a:lnTo>
                  <a:pt x="613142" y="529016"/>
                </a:lnTo>
                <a:lnTo>
                  <a:pt x="617221" y="532417"/>
                </a:lnTo>
                <a:lnTo>
                  <a:pt x="621526" y="535818"/>
                </a:lnTo>
                <a:lnTo>
                  <a:pt x="624925" y="539672"/>
                </a:lnTo>
                <a:lnTo>
                  <a:pt x="628324" y="544207"/>
                </a:lnTo>
                <a:lnTo>
                  <a:pt x="631270" y="548968"/>
                </a:lnTo>
                <a:lnTo>
                  <a:pt x="633536" y="553956"/>
                </a:lnTo>
                <a:lnTo>
                  <a:pt x="635348" y="559171"/>
                </a:lnTo>
                <a:lnTo>
                  <a:pt x="636934" y="564385"/>
                </a:lnTo>
                <a:lnTo>
                  <a:pt x="637614" y="570280"/>
                </a:lnTo>
                <a:lnTo>
                  <a:pt x="637841" y="575948"/>
                </a:lnTo>
                <a:lnTo>
                  <a:pt x="637841" y="698378"/>
                </a:lnTo>
                <a:lnTo>
                  <a:pt x="665939" y="698378"/>
                </a:lnTo>
                <a:lnTo>
                  <a:pt x="665939" y="575948"/>
                </a:lnTo>
                <a:lnTo>
                  <a:pt x="666165" y="570280"/>
                </a:lnTo>
                <a:lnTo>
                  <a:pt x="666845" y="564385"/>
                </a:lnTo>
                <a:lnTo>
                  <a:pt x="668431" y="559171"/>
                </a:lnTo>
                <a:lnTo>
                  <a:pt x="670244" y="553956"/>
                </a:lnTo>
                <a:lnTo>
                  <a:pt x="672510" y="548968"/>
                </a:lnTo>
                <a:lnTo>
                  <a:pt x="675456" y="544207"/>
                </a:lnTo>
                <a:lnTo>
                  <a:pt x="678854" y="539672"/>
                </a:lnTo>
                <a:lnTo>
                  <a:pt x="682253" y="535818"/>
                </a:lnTo>
                <a:lnTo>
                  <a:pt x="686332" y="532417"/>
                </a:lnTo>
                <a:lnTo>
                  <a:pt x="690637" y="529016"/>
                </a:lnTo>
                <a:lnTo>
                  <a:pt x="695396" y="526069"/>
                </a:lnTo>
                <a:lnTo>
                  <a:pt x="700381" y="523802"/>
                </a:lnTo>
                <a:lnTo>
                  <a:pt x="705366" y="521761"/>
                </a:lnTo>
                <a:lnTo>
                  <a:pt x="711031" y="520401"/>
                </a:lnTo>
                <a:lnTo>
                  <a:pt x="716696" y="519494"/>
                </a:lnTo>
                <a:lnTo>
                  <a:pt x="722361" y="519267"/>
                </a:lnTo>
                <a:lnTo>
                  <a:pt x="728025" y="519494"/>
                </a:lnTo>
                <a:lnTo>
                  <a:pt x="733917" y="520401"/>
                </a:lnTo>
                <a:lnTo>
                  <a:pt x="739355" y="521761"/>
                </a:lnTo>
                <a:lnTo>
                  <a:pt x="744567" y="523802"/>
                </a:lnTo>
                <a:lnTo>
                  <a:pt x="749325" y="526069"/>
                </a:lnTo>
                <a:lnTo>
                  <a:pt x="754084" y="529016"/>
                </a:lnTo>
                <a:lnTo>
                  <a:pt x="758389" y="532417"/>
                </a:lnTo>
                <a:lnTo>
                  <a:pt x="762468" y="535818"/>
                </a:lnTo>
                <a:lnTo>
                  <a:pt x="766320" y="539672"/>
                </a:lnTo>
                <a:lnTo>
                  <a:pt x="769492" y="544207"/>
                </a:lnTo>
                <a:lnTo>
                  <a:pt x="772211" y="548968"/>
                </a:lnTo>
                <a:lnTo>
                  <a:pt x="774704" y="553956"/>
                </a:lnTo>
                <a:lnTo>
                  <a:pt x="776516" y="559171"/>
                </a:lnTo>
                <a:lnTo>
                  <a:pt x="777876" y="564385"/>
                </a:lnTo>
                <a:lnTo>
                  <a:pt x="778556" y="570280"/>
                </a:lnTo>
                <a:lnTo>
                  <a:pt x="779236" y="575948"/>
                </a:lnTo>
                <a:lnTo>
                  <a:pt x="779236" y="810606"/>
                </a:lnTo>
                <a:lnTo>
                  <a:pt x="779462" y="818768"/>
                </a:lnTo>
                <a:lnTo>
                  <a:pt x="779462" y="955709"/>
                </a:lnTo>
                <a:lnTo>
                  <a:pt x="779236" y="961830"/>
                </a:lnTo>
                <a:lnTo>
                  <a:pt x="779009" y="967952"/>
                </a:lnTo>
                <a:lnTo>
                  <a:pt x="778329" y="974073"/>
                </a:lnTo>
                <a:lnTo>
                  <a:pt x="777423" y="979741"/>
                </a:lnTo>
                <a:lnTo>
                  <a:pt x="776516" y="985863"/>
                </a:lnTo>
                <a:lnTo>
                  <a:pt x="775384" y="991531"/>
                </a:lnTo>
                <a:lnTo>
                  <a:pt x="774024" y="996972"/>
                </a:lnTo>
                <a:lnTo>
                  <a:pt x="772438" y="1002413"/>
                </a:lnTo>
                <a:lnTo>
                  <a:pt x="770625" y="1008082"/>
                </a:lnTo>
                <a:lnTo>
                  <a:pt x="768812" y="1013296"/>
                </a:lnTo>
                <a:lnTo>
                  <a:pt x="766546" y="1018284"/>
                </a:lnTo>
                <a:lnTo>
                  <a:pt x="764280" y="1023272"/>
                </a:lnTo>
                <a:lnTo>
                  <a:pt x="761788" y="1028033"/>
                </a:lnTo>
                <a:lnTo>
                  <a:pt x="759069" y="1032341"/>
                </a:lnTo>
                <a:lnTo>
                  <a:pt x="756350" y="1036875"/>
                </a:lnTo>
                <a:lnTo>
                  <a:pt x="753177" y="1040956"/>
                </a:lnTo>
                <a:lnTo>
                  <a:pt x="750232" y="1044811"/>
                </a:lnTo>
                <a:lnTo>
                  <a:pt x="747059" y="1048892"/>
                </a:lnTo>
                <a:lnTo>
                  <a:pt x="743887" y="1052292"/>
                </a:lnTo>
                <a:lnTo>
                  <a:pt x="740261" y="1055920"/>
                </a:lnTo>
                <a:lnTo>
                  <a:pt x="736636" y="1058867"/>
                </a:lnTo>
                <a:lnTo>
                  <a:pt x="732784" y="1061815"/>
                </a:lnTo>
                <a:lnTo>
                  <a:pt x="729158" y="1064536"/>
                </a:lnTo>
                <a:lnTo>
                  <a:pt x="725080" y="1066803"/>
                </a:lnTo>
                <a:lnTo>
                  <a:pt x="721228" y="1069070"/>
                </a:lnTo>
                <a:lnTo>
                  <a:pt x="717149" y="1071110"/>
                </a:lnTo>
                <a:lnTo>
                  <a:pt x="712844" y="1072471"/>
                </a:lnTo>
                <a:lnTo>
                  <a:pt x="708765" y="1074058"/>
                </a:lnTo>
                <a:lnTo>
                  <a:pt x="704233" y="1074965"/>
                </a:lnTo>
                <a:lnTo>
                  <a:pt x="699701" y="1075872"/>
                </a:lnTo>
                <a:lnTo>
                  <a:pt x="695169" y="1076325"/>
                </a:lnTo>
                <a:lnTo>
                  <a:pt x="690637" y="1076325"/>
                </a:lnTo>
                <a:lnTo>
                  <a:pt x="332392" y="1076325"/>
                </a:lnTo>
                <a:lnTo>
                  <a:pt x="327633" y="1076325"/>
                </a:lnTo>
                <a:lnTo>
                  <a:pt x="323102" y="1075872"/>
                </a:lnTo>
                <a:lnTo>
                  <a:pt x="318570" y="1074965"/>
                </a:lnTo>
                <a:lnTo>
                  <a:pt x="314491" y="1074058"/>
                </a:lnTo>
                <a:lnTo>
                  <a:pt x="309959" y="1072471"/>
                </a:lnTo>
                <a:lnTo>
                  <a:pt x="305880" y="1071110"/>
                </a:lnTo>
                <a:lnTo>
                  <a:pt x="301802" y="1069070"/>
                </a:lnTo>
                <a:lnTo>
                  <a:pt x="297723" y="1066803"/>
                </a:lnTo>
                <a:lnTo>
                  <a:pt x="293644" y="1064536"/>
                </a:lnTo>
                <a:lnTo>
                  <a:pt x="290019" y="1061815"/>
                </a:lnTo>
                <a:lnTo>
                  <a:pt x="286167" y="1058867"/>
                </a:lnTo>
                <a:lnTo>
                  <a:pt x="282541" y="1055920"/>
                </a:lnTo>
                <a:lnTo>
                  <a:pt x="279142" y="1052292"/>
                </a:lnTo>
                <a:lnTo>
                  <a:pt x="275743" y="1048892"/>
                </a:lnTo>
                <a:lnTo>
                  <a:pt x="272571" y="1044811"/>
                </a:lnTo>
                <a:lnTo>
                  <a:pt x="269625" y="1040956"/>
                </a:lnTo>
                <a:lnTo>
                  <a:pt x="266680" y="1036875"/>
                </a:lnTo>
                <a:lnTo>
                  <a:pt x="263961" y="1032341"/>
                </a:lnTo>
                <a:lnTo>
                  <a:pt x="261015" y="1028033"/>
                </a:lnTo>
                <a:lnTo>
                  <a:pt x="258522" y="1023272"/>
                </a:lnTo>
                <a:lnTo>
                  <a:pt x="256483" y="1018284"/>
                </a:lnTo>
                <a:lnTo>
                  <a:pt x="254217" y="1013296"/>
                </a:lnTo>
                <a:lnTo>
                  <a:pt x="252178" y="1008082"/>
                </a:lnTo>
                <a:lnTo>
                  <a:pt x="250365" y="1002413"/>
                </a:lnTo>
                <a:lnTo>
                  <a:pt x="249005" y="996972"/>
                </a:lnTo>
                <a:lnTo>
                  <a:pt x="247419" y="991531"/>
                </a:lnTo>
                <a:lnTo>
                  <a:pt x="246286" y="985863"/>
                </a:lnTo>
                <a:lnTo>
                  <a:pt x="245153" y="979741"/>
                </a:lnTo>
                <a:lnTo>
                  <a:pt x="244473" y="974073"/>
                </a:lnTo>
                <a:lnTo>
                  <a:pt x="244020" y="967952"/>
                </a:lnTo>
                <a:lnTo>
                  <a:pt x="243794" y="961830"/>
                </a:lnTo>
                <a:lnTo>
                  <a:pt x="243340" y="955709"/>
                </a:lnTo>
                <a:lnTo>
                  <a:pt x="243340" y="824890"/>
                </a:lnTo>
                <a:lnTo>
                  <a:pt x="243114" y="821942"/>
                </a:lnTo>
                <a:lnTo>
                  <a:pt x="242887" y="818541"/>
                </a:lnTo>
                <a:lnTo>
                  <a:pt x="242887" y="594658"/>
                </a:lnTo>
                <a:lnTo>
                  <a:pt x="239712" y="594176"/>
                </a:lnTo>
                <a:lnTo>
                  <a:pt x="232455" y="592361"/>
                </a:lnTo>
                <a:lnTo>
                  <a:pt x="225198" y="590773"/>
                </a:lnTo>
                <a:lnTo>
                  <a:pt x="217941" y="588731"/>
                </a:lnTo>
                <a:lnTo>
                  <a:pt x="210910" y="586690"/>
                </a:lnTo>
                <a:lnTo>
                  <a:pt x="203880" y="584421"/>
                </a:lnTo>
                <a:lnTo>
                  <a:pt x="197077" y="581925"/>
                </a:lnTo>
                <a:lnTo>
                  <a:pt x="190046" y="579430"/>
                </a:lnTo>
                <a:lnTo>
                  <a:pt x="183243" y="576480"/>
                </a:lnTo>
                <a:lnTo>
                  <a:pt x="176666" y="573758"/>
                </a:lnTo>
                <a:lnTo>
                  <a:pt x="170089" y="570582"/>
                </a:lnTo>
                <a:lnTo>
                  <a:pt x="163512" y="567179"/>
                </a:lnTo>
                <a:lnTo>
                  <a:pt x="157162" y="564002"/>
                </a:lnTo>
                <a:lnTo>
                  <a:pt x="150812" y="560599"/>
                </a:lnTo>
                <a:lnTo>
                  <a:pt x="144689" y="556743"/>
                </a:lnTo>
                <a:lnTo>
                  <a:pt x="138339" y="552886"/>
                </a:lnTo>
                <a:lnTo>
                  <a:pt x="132443" y="548802"/>
                </a:lnTo>
                <a:lnTo>
                  <a:pt x="126546" y="544718"/>
                </a:lnTo>
                <a:lnTo>
                  <a:pt x="120650" y="540635"/>
                </a:lnTo>
                <a:lnTo>
                  <a:pt x="114980" y="536097"/>
                </a:lnTo>
                <a:lnTo>
                  <a:pt x="109310" y="531560"/>
                </a:lnTo>
                <a:lnTo>
                  <a:pt x="103868" y="527022"/>
                </a:lnTo>
                <a:lnTo>
                  <a:pt x="98652" y="522031"/>
                </a:lnTo>
                <a:lnTo>
                  <a:pt x="92982" y="517267"/>
                </a:lnTo>
                <a:lnTo>
                  <a:pt x="87993" y="512049"/>
                </a:lnTo>
                <a:lnTo>
                  <a:pt x="83003" y="507058"/>
                </a:lnTo>
                <a:lnTo>
                  <a:pt x="78014" y="501840"/>
                </a:lnTo>
                <a:lnTo>
                  <a:pt x="73478" y="496395"/>
                </a:lnTo>
                <a:lnTo>
                  <a:pt x="68716" y="490950"/>
                </a:lnTo>
                <a:lnTo>
                  <a:pt x="64180" y="485505"/>
                </a:lnTo>
                <a:lnTo>
                  <a:pt x="59644" y="479833"/>
                </a:lnTo>
                <a:lnTo>
                  <a:pt x="55336" y="473708"/>
                </a:lnTo>
                <a:lnTo>
                  <a:pt x="51480" y="467809"/>
                </a:lnTo>
                <a:lnTo>
                  <a:pt x="47398" y="461683"/>
                </a:lnTo>
                <a:lnTo>
                  <a:pt x="43543" y="455785"/>
                </a:lnTo>
                <a:lnTo>
                  <a:pt x="39914" y="449659"/>
                </a:lnTo>
                <a:lnTo>
                  <a:pt x="36512" y="443080"/>
                </a:lnTo>
                <a:lnTo>
                  <a:pt x="32884" y="436501"/>
                </a:lnTo>
                <a:lnTo>
                  <a:pt x="29709" y="430148"/>
                </a:lnTo>
                <a:lnTo>
                  <a:pt x="26761" y="423569"/>
                </a:lnTo>
                <a:lnTo>
                  <a:pt x="23812" y="416990"/>
                </a:lnTo>
                <a:lnTo>
                  <a:pt x="21091" y="410184"/>
                </a:lnTo>
                <a:lnTo>
                  <a:pt x="18370" y="403151"/>
                </a:lnTo>
                <a:lnTo>
                  <a:pt x="15875" y="396344"/>
                </a:lnTo>
                <a:lnTo>
                  <a:pt x="13607" y="389311"/>
                </a:lnTo>
                <a:lnTo>
                  <a:pt x="11566" y="382278"/>
                </a:lnTo>
                <a:lnTo>
                  <a:pt x="9525" y="375019"/>
                </a:lnTo>
                <a:lnTo>
                  <a:pt x="7711" y="367759"/>
                </a:lnTo>
                <a:lnTo>
                  <a:pt x="6350" y="360499"/>
                </a:lnTo>
                <a:lnTo>
                  <a:pt x="4762" y="353239"/>
                </a:lnTo>
                <a:lnTo>
                  <a:pt x="3628" y="345752"/>
                </a:lnTo>
                <a:lnTo>
                  <a:pt x="2495" y="338265"/>
                </a:lnTo>
                <a:lnTo>
                  <a:pt x="1587" y="330779"/>
                </a:lnTo>
                <a:lnTo>
                  <a:pt x="1134" y="323065"/>
                </a:lnTo>
                <a:lnTo>
                  <a:pt x="680" y="315351"/>
                </a:lnTo>
                <a:lnTo>
                  <a:pt x="227" y="307865"/>
                </a:lnTo>
                <a:lnTo>
                  <a:pt x="0" y="300151"/>
                </a:lnTo>
                <a:lnTo>
                  <a:pt x="227" y="292437"/>
                </a:lnTo>
                <a:lnTo>
                  <a:pt x="680" y="284724"/>
                </a:lnTo>
                <a:lnTo>
                  <a:pt x="1134" y="277010"/>
                </a:lnTo>
                <a:lnTo>
                  <a:pt x="1587" y="269523"/>
                </a:lnTo>
                <a:lnTo>
                  <a:pt x="2495" y="261810"/>
                </a:lnTo>
                <a:lnTo>
                  <a:pt x="3628" y="254323"/>
                </a:lnTo>
                <a:lnTo>
                  <a:pt x="4762" y="247063"/>
                </a:lnTo>
                <a:lnTo>
                  <a:pt x="6350" y="239576"/>
                </a:lnTo>
                <a:lnTo>
                  <a:pt x="7711" y="232316"/>
                </a:lnTo>
                <a:lnTo>
                  <a:pt x="9525" y="225056"/>
                </a:lnTo>
                <a:lnTo>
                  <a:pt x="11566" y="217797"/>
                </a:lnTo>
                <a:lnTo>
                  <a:pt x="13607" y="210990"/>
                </a:lnTo>
                <a:lnTo>
                  <a:pt x="15875" y="203957"/>
                </a:lnTo>
                <a:lnTo>
                  <a:pt x="18370" y="196924"/>
                </a:lnTo>
                <a:lnTo>
                  <a:pt x="21091" y="189891"/>
                </a:lnTo>
                <a:lnTo>
                  <a:pt x="23812" y="183312"/>
                </a:lnTo>
                <a:lnTo>
                  <a:pt x="26761" y="176506"/>
                </a:lnTo>
                <a:lnTo>
                  <a:pt x="29709" y="169927"/>
                </a:lnTo>
                <a:lnTo>
                  <a:pt x="32884" y="163574"/>
                </a:lnTo>
                <a:lnTo>
                  <a:pt x="36512" y="156995"/>
                </a:lnTo>
                <a:lnTo>
                  <a:pt x="39914" y="150870"/>
                </a:lnTo>
                <a:lnTo>
                  <a:pt x="43543" y="144517"/>
                </a:lnTo>
                <a:lnTo>
                  <a:pt x="47398" y="138392"/>
                </a:lnTo>
                <a:lnTo>
                  <a:pt x="51480" y="132266"/>
                </a:lnTo>
                <a:lnTo>
                  <a:pt x="55336" y="126367"/>
                </a:lnTo>
                <a:lnTo>
                  <a:pt x="59644" y="120696"/>
                </a:lnTo>
                <a:lnTo>
                  <a:pt x="64180" y="115024"/>
                </a:lnTo>
                <a:lnTo>
                  <a:pt x="68716" y="109125"/>
                </a:lnTo>
                <a:lnTo>
                  <a:pt x="73478" y="103680"/>
                </a:lnTo>
                <a:lnTo>
                  <a:pt x="78014" y="98235"/>
                </a:lnTo>
                <a:lnTo>
                  <a:pt x="83003" y="93017"/>
                </a:lnTo>
                <a:lnTo>
                  <a:pt x="87993" y="88026"/>
                </a:lnTo>
                <a:lnTo>
                  <a:pt x="92982" y="82808"/>
                </a:lnTo>
                <a:lnTo>
                  <a:pt x="98652" y="78044"/>
                </a:lnTo>
                <a:lnTo>
                  <a:pt x="103868" y="73279"/>
                </a:lnTo>
                <a:lnTo>
                  <a:pt x="109310" y="68515"/>
                </a:lnTo>
                <a:lnTo>
                  <a:pt x="114980" y="63978"/>
                </a:lnTo>
                <a:lnTo>
                  <a:pt x="120650" y="59667"/>
                </a:lnTo>
                <a:lnTo>
                  <a:pt x="126546" y="55357"/>
                </a:lnTo>
                <a:lnTo>
                  <a:pt x="132443" y="51273"/>
                </a:lnTo>
                <a:lnTo>
                  <a:pt x="138339" y="47416"/>
                </a:lnTo>
                <a:lnTo>
                  <a:pt x="144689" y="43332"/>
                </a:lnTo>
                <a:lnTo>
                  <a:pt x="150812" y="39929"/>
                </a:lnTo>
                <a:lnTo>
                  <a:pt x="157162" y="36073"/>
                </a:lnTo>
                <a:lnTo>
                  <a:pt x="163512" y="32896"/>
                </a:lnTo>
                <a:lnTo>
                  <a:pt x="170089" y="29720"/>
                </a:lnTo>
                <a:lnTo>
                  <a:pt x="176666" y="26317"/>
                </a:lnTo>
                <a:lnTo>
                  <a:pt x="183243" y="23595"/>
                </a:lnTo>
                <a:lnTo>
                  <a:pt x="190046" y="20872"/>
                </a:lnTo>
                <a:lnTo>
                  <a:pt x="197077" y="18150"/>
                </a:lnTo>
                <a:lnTo>
                  <a:pt x="203880" y="15654"/>
                </a:lnTo>
                <a:lnTo>
                  <a:pt x="210910" y="13385"/>
                </a:lnTo>
                <a:lnTo>
                  <a:pt x="217941" y="11344"/>
                </a:lnTo>
                <a:lnTo>
                  <a:pt x="225198" y="9529"/>
                </a:lnTo>
                <a:lnTo>
                  <a:pt x="232455" y="7714"/>
                </a:lnTo>
                <a:lnTo>
                  <a:pt x="239712" y="6126"/>
                </a:lnTo>
                <a:lnTo>
                  <a:pt x="247197" y="4764"/>
                </a:lnTo>
                <a:lnTo>
                  <a:pt x="254454" y="3403"/>
                </a:lnTo>
                <a:lnTo>
                  <a:pt x="261711" y="2496"/>
                </a:lnTo>
                <a:lnTo>
                  <a:pt x="269648" y="1361"/>
                </a:lnTo>
                <a:lnTo>
                  <a:pt x="277132" y="907"/>
                </a:lnTo>
                <a:lnTo>
                  <a:pt x="284843" y="454"/>
                </a:lnTo>
                <a:lnTo>
                  <a:pt x="292554" y="227"/>
                </a:lnTo>
                <a:lnTo>
                  <a:pt x="300265" y="0"/>
                </a:lnTo>
                <a:close/>
              </a:path>
            </a:pathLst>
          </a:custGeom>
          <a:solidFill>
            <a:schemeClr val="bg1"/>
          </a:solidFill>
          <a:ln w="0">
            <a:solidFill>
              <a:srgbClr val="000000">
                <a:lumMod val="75000"/>
                <a:lumOff val="25000"/>
              </a:srgbClr>
            </a:solidFill>
          </a:ln>
        </p:spPr>
        <p:style>
          <a:lnRef idx="0"/>
          <a:fillRef idx="0"/>
          <a:effectRef idx="0"/>
          <a:fontRef idx="minor"/>
        </p:style>
        <p:txBody>
          <a:bodyPr lIns="90000" rIns="90000" tIns="45000" bIns="45000" anchor="ctr">
            <a:noAutofit/>
            <a:scene3d>
              <a:camera prst="orthographicFront"/>
              <a:lightRig dir="t" rig="threePt"/>
            </a:scene3d>
            <a:sp3d>
              <a:contourClr>
                <a:srgbClr val="ffffff"/>
              </a:contourClr>
            </a:sp3d>
          </a:bodyPr>
          <a:p>
            <a:pPr algn="ctr">
              <a:lnSpc>
                <a:spcPct val="100000"/>
              </a:lnSpc>
            </a:pPr>
            <a:endParaRPr b="0" lang="en-US" sz="1800" spc="-1" strike="noStrike">
              <a:solidFill>
                <a:srgbClr val="ffffff"/>
              </a:solidFill>
              <a:latin typeface="Calibri"/>
            </a:endParaRPr>
          </a:p>
        </p:txBody>
      </p:sp>
      <p:sp>
        <p:nvSpPr>
          <p:cNvPr id="298" name="KSO_Shape"/>
          <p:cNvSpPr/>
          <p:nvPr/>
        </p:nvSpPr>
        <p:spPr>
          <a:xfrm>
            <a:off x="3543840" y="3032280"/>
            <a:ext cx="620280" cy="939960"/>
          </a:xfrm>
          <a:custGeom>
            <a:avLst/>
            <a:gdLst>
              <a:gd name="textAreaLeft" fmla="*/ 0 w 620280"/>
              <a:gd name="textAreaRight" fmla="*/ 620640 w 620280"/>
              <a:gd name="textAreaTop" fmla="*/ 0 h 939960"/>
              <a:gd name="textAreaBottom" fmla="*/ 940320 h 939960"/>
            </a:gdLst>
            <a:ahLst/>
            <a:rect l="textAreaLeft" t="textAreaTop" r="textAreaRight" b="textAreaBottom"/>
            <a:pathLst>
              <a:path w="4113" h="6240">
                <a:moveTo>
                  <a:pt x="552" y="0"/>
                </a:moveTo>
                <a:lnTo>
                  <a:pt x="3561" y="0"/>
                </a:lnTo>
                <a:lnTo>
                  <a:pt x="3589" y="1"/>
                </a:lnTo>
                <a:lnTo>
                  <a:pt x="3617" y="3"/>
                </a:lnTo>
                <a:lnTo>
                  <a:pt x="3645" y="7"/>
                </a:lnTo>
                <a:lnTo>
                  <a:pt x="3672" y="12"/>
                </a:lnTo>
                <a:lnTo>
                  <a:pt x="3698" y="17"/>
                </a:lnTo>
                <a:lnTo>
                  <a:pt x="3725" y="25"/>
                </a:lnTo>
                <a:lnTo>
                  <a:pt x="3751" y="34"/>
                </a:lnTo>
                <a:lnTo>
                  <a:pt x="3775" y="44"/>
                </a:lnTo>
                <a:lnTo>
                  <a:pt x="3799" y="55"/>
                </a:lnTo>
                <a:lnTo>
                  <a:pt x="3824" y="67"/>
                </a:lnTo>
                <a:lnTo>
                  <a:pt x="3847" y="80"/>
                </a:lnTo>
                <a:lnTo>
                  <a:pt x="3869" y="95"/>
                </a:lnTo>
                <a:lnTo>
                  <a:pt x="3891" y="110"/>
                </a:lnTo>
                <a:lnTo>
                  <a:pt x="3912" y="127"/>
                </a:lnTo>
                <a:lnTo>
                  <a:pt x="3932" y="144"/>
                </a:lnTo>
                <a:lnTo>
                  <a:pt x="3950" y="163"/>
                </a:lnTo>
                <a:lnTo>
                  <a:pt x="3969" y="182"/>
                </a:lnTo>
                <a:lnTo>
                  <a:pt x="3986" y="202"/>
                </a:lnTo>
                <a:lnTo>
                  <a:pt x="4002" y="223"/>
                </a:lnTo>
                <a:lnTo>
                  <a:pt x="4019" y="245"/>
                </a:lnTo>
                <a:lnTo>
                  <a:pt x="4033" y="267"/>
                </a:lnTo>
                <a:lnTo>
                  <a:pt x="4047" y="290"/>
                </a:lnTo>
                <a:lnTo>
                  <a:pt x="4058" y="313"/>
                </a:lnTo>
                <a:lnTo>
                  <a:pt x="4070" y="338"/>
                </a:lnTo>
                <a:lnTo>
                  <a:pt x="4079" y="363"/>
                </a:lnTo>
                <a:lnTo>
                  <a:pt x="4088" y="389"/>
                </a:lnTo>
                <a:lnTo>
                  <a:pt x="4095" y="414"/>
                </a:lnTo>
                <a:lnTo>
                  <a:pt x="4101" y="441"/>
                </a:lnTo>
                <a:lnTo>
                  <a:pt x="4107" y="469"/>
                </a:lnTo>
                <a:lnTo>
                  <a:pt x="4110" y="497"/>
                </a:lnTo>
                <a:lnTo>
                  <a:pt x="4113" y="525"/>
                </a:lnTo>
                <a:lnTo>
                  <a:pt x="4113" y="553"/>
                </a:lnTo>
                <a:lnTo>
                  <a:pt x="4113" y="5688"/>
                </a:lnTo>
                <a:lnTo>
                  <a:pt x="4113" y="5716"/>
                </a:lnTo>
                <a:lnTo>
                  <a:pt x="4110" y="5744"/>
                </a:lnTo>
                <a:lnTo>
                  <a:pt x="4107" y="5772"/>
                </a:lnTo>
                <a:lnTo>
                  <a:pt x="4101" y="5798"/>
                </a:lnTo>
                <a:lnTo>
                  <a:pt x="4095" y="5825"/>
                </a:lnTo>
                <a:lnTo>
                  <a:pt x="4088" y="5852"/>
                </a:lnTo>
                <a:lnTo>
                  <a:pt x="4079" y="5877"/>
                </a:lnTo>
                <a:lnTo>
                  <a:pt x="4070" y="5902"/>
                </a:lnTo>
                <a:lnTo>
                  <a:pt x="4058" y="5926"/>
                </a:lnTo>
                <a:lnTo>
                  <a:pt x="4047" y="5950"/>
                </a:lnTo>
                <a:lnTo>
                  <a:pt x="4033" y="5974"/>
                </a:lnTo>
                <a:lnTo>
                  <a:pt x="4019" y="5996"/>
                </a:lnTo>
                <a:lnTo>
                  <a:pt x="4002" y="6018"/>
                </a:lnTo>
                <a:lnTo>
                  <a:pt x="3986" y="6039"/>
                </a:lnTo>
                <a:lnTo>
                  <a:pt x="3969" y="6058"/>
                </a:lnTo>
                <a:lnTo>
                  <a:pt x="3950" y="6078"/>
                </a:lnTo>
                <a:lnTo>
                  <a:pt x="3932" y="6096"/>
                </a:lnTo>
                <a:lnTo>
                  <a:pt x="3912" y="6113"/>
                </a:lnTo>
                <a:lnTo>
                  <a:pt x="3891" y="6129"/>
                </a:lnTo>
                <a:lnTo>
                  <a:pt x="3869" y="6146"/>
                </a:lnTo>
                <a:lnTo>
                  <a:pt x="3847" y="6159"/>
                </a:lnTo>
                <a:lnTo>
                  <a:pt x="3824" y="6173"/>
                </a:lnTo>
                <a:lnTo>
                  <a:pt x="3799" y="6185"/>
                </a:lnTo>
                <a:lnTo>
                  <a:pt x="3775" y="6197"/>
                </a:lnTo>
                <a:lnTo>
                  <a:pt x="3751" y="6206"/>
                </a:lnTo>
                <a:lnTo>
                  <a:pt x="3725" y="6215"/>
                </a:lnTo>
                <a:lnTo>
                  <a:pt x="3698" y="6222"/>
                </a:lnTo>
                <a:lnTo>
                  <a:pt x="3672" y="6229"/>
                </a:lnTo>
                <a:lnTo>
                  <a:pt x="3645" y="6234"/>
                </a:lnTo>
                <a:lnTo>
                  <a:pt x="3617" y="6237"/>
                </a:lnTo>
                <a:lnTo>
                  <a:pt x="3589" y="6240"/>
                </a:lnTo>
                <a:lnTo>
                  <a:pt x="3561" y="6240"/>
                </a:lnTo>
                <a:lnTo>
                  <a:pt x="552" y="6240"/>
                </a:lnTo>
                <a:lnTo>
                  <a:pt x="523" y="6240"/>
                </a:lnTo>
                <a:lnTo>
                  <a:pt x="495" y="6237"/>
                </a:lnTo>
                <a:lnTo>
                  <a:pt x="469" y="6234"/>
                </a:lnTo>
                <a:lnTo>
                  <a:pt x="441" y="6229"/>
                </a:lnTo>
                <a:lnTo>
                  <a:pt x="414" y="6222"/>
                </a:lnTo>
                <a:lnTo>
                  <a:pt x="388" y="6215"/>
                </a:lnTo>
                <a:lnTo>
                  <a:pt x="363" y="6206"/>
                </a:lnTo>
                <a:lnTo>
                  <a:pt x="337" y="6197"/>
                </a:lnTo>
                <a:lnTo>
                  <a:pt x="313" y="6185"/>
                </a:lnTo>
                <a:lnTo>
                  <a:pt x="289" y="6173"/>
                </a:lnTo>
                <a:lnTo>
                  <a:pt x="267" y="6159"/>
                </a:lnTo>
                <a:lnTo>
                  <a:pt x="243" y="6146"/>
                </a:lnTo>
                <a:lnTo>
                  <a:pt x="222" y="6129"/>
                </a:lnTo>
                <a:lnTo>
                  <a:pt x="202" y="6113"/>
                </a:lnTo>
                <a:lnTo>
                  <a:pt x="181" y="6096"/>
                </a:lnTo>
                <a:lnTo>
                  <a:pt x="162" y="6078"/>
                </a:lnTo>
                <a:lnTo>
                  <a:pt x="143" y="6058"/>
                </a:lnTo>
                <a:lnTo>
                  <a:pt x="126" y="6039"/>
                </a:lnTo>
                <a:lnTo>
                  <a:pt x="110" y="6018"/>
                </a:lnTo>
                <a:lnTo>
                  <a:pt x="95" y="5996"/>
                </a:lnTo>
                <a:lnTo>
                  <a:pt x="80" y="5974"/>
                </a:lnTo>
                <a:lnTo>
                  <a:pt x="67" y="5950"/>
                </a:lnTo>
                <a:lnTo>
                  <a:pt x="54" y="5926"/>
                </a:lnTo>
                <a:lnTo>
                  <a:pt x="44" y="5902"/>
                </a:lnTo>
                <a:lnTo>
                  <a:pt x="33" y="5877"/>
                </a:lnTo>
                <a:lnTo>
                  <a:pt x="25" y="5852"/>
                </a:lnTo>
                <a:lnTo>
                  <a:pt x="17" y="5825"/>
                </a:lnTo>
                <a:lnTo>
                  <a:pt x="11" y="5798"/>
                </a:lnTo>
                <a:lnTo>
                  <a:pt x="6" y="5772"/>
                </a:lnTo>
                <a:lnTo>
                  <a:pt x="3" y="5744"/>
                </a:lnTo>
                <a:lnTo>
                  <a:pt x="1" y="5716"/>
                </a:lnTo>
                <a:lnTo>
                  <a:pt x="0" y="5688"/>
                </a:lnTo>
                <a:lnTo>
                  <a:pt x="0" y="553"/>
                </a:lnTo>
                <a:lnTo>
                  <a:pt x="1" y="525"/>
                </a:lnTo>
                <a:lnTo>
                  <a:pt x="3" y="497"/>
                </a:lnTo>
                <a:lnTo>
                  <a:pt x="6" y="469"/>
                </a:lnTo>
                <a:lnTo>
                  <a:pt x="11" y="441"/>
                </a:lnTo>
                <a:lnTo>
                  <a:pt x="17" y="414"/>
                </a:lnTo>
                <a:lnTo>
                  <a:pt x="25" y="389"/>
                </a:lnTo>
                <a:lnTo>
                  <a:pt x="33" y="363"/>
                </a:lnTo>
                <a:lnTo>
                  <a:pt x="44" y="338"/>
                </a:lnTo>
                <a:lnTo>
                  <a:pt x="54" y="313"/>
                </a:lnTo>
                <a:lnTo>
                  <a:pt x="67" y="290"/>
                </a:lnTo>
                <a:lnTo>
                  <a:pt x="80" y="267"/>
                </a:lnTo>
                <a:lnTo>
                  <a:pt x="95" y="245"/>
                </a:lnTo>
                <a:lnTo>
                  <a:pt x="110" y="223"/>
                </a:lnTo>
                <a:lnTo>
                  <a:pt x="126" y="202"/>
                </a:lnTo>
                <a:lnTo>
                  <a:pt x="143" y="182"/>
                </a:lnTo>
                <a:lnTo>
                  <a:pt x="162" y="163"/>
                </a:lnTo>
                <a:lnTo>
                  <a:pt x="181" y="144"/>
                </a:lnTo>
                <a:lnTo>
                  <a:pt x="202" y="127"/>
                </a:lnTo>
                <a:lnTo>
                  <a:pt x="222" y="110"/>
                </a:lnTo>
                <a:lnTo>
                  <a:pt x="243" y="95"/>
                </a:lnTo>
                <a:lnTo>
                  <a:pt x="267" y="80"/>
                </a:lnTo>
                <a:lnTo>
                  <a:pt x="289" y="67"/>
                </a:lnTo>
                <a:lnTo>
                  <a:pt x="313" y="55"/>
                </a:lnTo>
                <a:lnTo>
                  <a:pt x="337" y="44"/>
                </a:lnTo>
                <a:lnTo>
                  <a:pt x="363" y="34"/>
                </a:lnTo>
                <a:lnTo>
                  <a:pt x="388" y="25"/>
                </a:lnTo>
                <a:lnTo>
                  <a:pt x="414" y="17"/>
                </a:lnTo>
                <a:lnTo>
                  <a:pt x="441" y="12"/>
                </a:lnTo>
                <a:lnTo>
                  <a:pt x="469" y="7"/>
                </a:lnTo>
                <a:lnTo>
                  <a:pt x="495" y="3"/>
                </a:lnTo>
                <a:lnTo>
                  <a:pt x="523" y="1"/>
                </a:lnTo>
                <a:lnTo>
                  <a:pt x="552" y="0"/>
                </a:lnTo>
                <a:close/>
                <a:moveTo>
                  <a:pt x="463" y="891"/>
                </a:moveTo>
                <a:lnTo>
                  <a:pt x="463" y="3086"/>
                </a:lnTo>
                <a:lnTo>
                  <a:pt x="3638" y="3086"/>
                </a:lnTo>
                <a:lnTo>
                  <a:pt x="3638" y="891"/>
                </a:lnTo>
                <a:lnTo>
                  <a:pt x="463" y="891"/>
                </a:lnTo>
                <a:close/>
                <a:moveTo>
                  <a:pt x="1275" y="290"/>
                </a:moveTo>
                <a:lnTo>
                  <a:pt x="1275" y="525"/>
                </a:lnTo>
                <a:lnTo>
                  <a:pt x="2717" y="525"/>
                </a:lnTo>
                <a:lnTo>
                  <a:pt x="2717" y="290"/>
                </a:lnTo>
                <a:lnTo>
                  <a:pt x="1275" y="290"/>
                </a:lnTo>
                <a:close/>
                <a:moveTo>
                  <a:pt x="1725" y="3326"/>
                </a:moveTo>
                <a:lnTo>
                  <a:pt x="1725" y="3326"/>
                </a:lnTo>
                <a:lnTo>
                  <a:pt x="1705" y="3328"/>
                </a:lnTo>
                <a:lnTo>
                  <a:pt x="1685" y="3330"/>
                </a:lnTo>
                <a:lnTo>
                  <a:pt x="1667" y="3336"/>
                </a:lnTo>
                <a:lnTo>
                  <a:pt x="1649" y="3342"/>
                </a:lnTo>
                <a:lnTo>
                  <a:pt x="1632" y="3350"/>
                </a:lnTo>
                <a:lnTo>
                  <a:pt x="1616" y="3360"/>
                </a:lnTo>
                <a:lnTo>
                  <a:pt x="1600" y="3371"/>
                </a:lnTo>
                <a:lnTo>
                  <a:pt x="1587" y="3383"/>
                </a:lnTo>
                <a:lnTo>
                  <a:pt x="1575" y="3397"/>
                </a:lnTo>
                <a:lnTo>
                  <a:pt x="1563" y="3412"/>
                </a:lnTo>
                <a:lnTo>
                  <a:pt x="1553" y="3429"/>
                </a:lnTo>
                <a:lnTo>
                  <a:pt x="1545" y="3446"/>
                </a:lnTo>
                <a:lnTo>
                  <a:pt x="1539" y="3463"/>
                </a:lnTo>
                <a:lnTo>
                  <a:pt x="1534" y="3482"/>
                </a:lnTo>
                <a:lnTo>
                  <a:pt x="1531" y="3502"/>
                </a:lnTo>
                <a:lnTo>
                  <a:pt x="1530" y="3522"/>
                </a:lnTo>
                <a:lnTo>
                  <a:pt x="1530" y="3822"/>
                </a:lnTo>
                <a:lnTo>
                  <a:pt x="1531" y="3842"/>
                </a:lnTo>
                <a:lnTo>
                  <a:pt x="1534" y="3862"/>
                </a:lnTo>
                <a:lnTo>
                  <a:pt x="1539" y="3880"/>
                </a:lnTo>
                <a:lnTo>
                  <a:pt x="1545" y="3898"/>
                </a:lnTo>
                <a:lnTo>
                  <a:pt x="1553" y="3915"/>
                </a:lnTo>
                <a:lnTo>
                  <a:pt x="1563" y="3931"/>
                </a:lnTo>
                <a:lnTo>
                  <a:pt x="1575" y="3946"/>
                </a:lnTo>
                <a:lnTo>
                  <a:pt x="1587" y="3960"/>
                </a:lnTo>
                <a:lnTo>
                  <a:pt x="1600" y="3973"/>
                </a:lnTo>
                <a:lnTo>
                  <a:pt x="1616" y="3984"/>
                </a:lnTo>
                <a:lnTo>
                  <a:pt x="1632" y="3994"/>
                </a:lnTo>
                <a:lnTo>
                  <a:pt x="1649" y="4002"/>
                </a:lnTo>
                <a:lnTo>
                  <a:pt x="1667" y="4009"/>
                </a:lnTo>
                <a:lnTo>
                  <a:pt x="1685" y="4014"/>
                </a:lnTo>
                <a:lnTo>
                  <a:pt x="1705" y="4016"/>
                </a:lnTo>
                <a:lnTo>
                  <a:pt x="1725" y="4017"/>
                </a:lnTo>
                <a:lnTo>
                  <a:pt x="2314" y="4017"/>
                </a:lnTo>
                <a:lnTo>
                  <a:pt x="2334" y="4016"/>
                </a:lnTo>
                <a:lnTo>
                  <a:pt x="2354" y="4014"/>
                </a:lnTo>
                <a:lnTo>
                  <a:pt x="2372" y="4009"/>
                </a:lnTo>
                <a:lnTo>
                  <a:pt x="2390" y="4002"/>
                </a:lnTo>
                <a:lnTo>
                  <a:pt x="2407" y="3994"/>
                </a:lnTo>
                <a:lnTo>
                  <a:pt x="2424" y="3984"/>
                </a:lnTo>
                <a:lnTo>
                  <a:pt x="2439" y="3973"/>
                </a:lnTo>
                <a:lnTo>
                  <a:pt x="2453" y="3960"/>
                </a:lnTo>
                <a:lnTo>
                  <a:pt x="2465" y="3946"/>
                </a:lnTo>
                <a:lnTo>
                  <a:pt x="2476" y="3931"/>
                </a:lnTo>
                <a:lnTo>
                  <a:pt x="2486" y="3915"/>
                </a:lnTo>
                <a:lnTo>
                  <a:pt x="2494" y="3898"/>
                </a:lnTo>
                <a:lnTo>
                  <a:pt x="2500" y="3880"/>
                </a:lnTo>
                <a:lnTo>
                  <a:pt x="2506" y="3862"/>
                </a:lnTo>
                <a:lnTo>
                  <a:pt x="2508" y="3842"/>
                </a:lnTo>
                <a:lnTo>
                  <a:pt x="2509" y="3822"/>
                </a:lnTo>
                <a:lnTo>
                  <a:pt x="2509" y="3522"/>
                </a:lnTo>
                <a:lnTo>
                  <a:pt x="2508" y="3502"/>
                </a:lnTo>
                <a:lnTo>
                  <a:pt x="2506" y="3482"/>
                </a:lnTo>
                <a:lnTo>
                  <a:pt x="2500" y="3463"/>
                </a:lnTo>
                <a:lnTo>
                  <a:pt x="2494" y="3446"/>
                </a:lnTo>
                <a:lnTo>
                  <a:pt x="2486" y="3429"/>
                </a:lnTo>
                <a:lnTo>
                  <a:pt x="2476" y="3412"/>
                </a:lnTo>
                <a:lnTo>
                  <a:pt x="2465" y="3397"/>
                </a:lnTo>
                <a:lnTo>
                  <a:pt x="2453" y="3383"/>
                </a:lnTo>
                <a:lnTo>
                  <a:pt x="2439" y="3371"/>
                </a:lnTo>
                <a:lnTo>
                  <a:pt x="2424" y="3360"/>
                </a:lnTo>
                <a:lnTo>
                  <a:pt x="2407" y="3350"/>
                </a:lnTo>
                <a:lnTo>
                  <a:pt x="2390" y="3342"/>
                </a:lnTo>
                <a:lnTo>
                  <a:pt x="2372" y="3336"/>
                </a:lnTo>
                <a:lnTo>
                  <a:pt x="2354" y="3330"/>
                </a:lnTo>
                <a:lnTo>
                  <a:pt x="2334" y="3328"/>
                </a:lnTo>
                <a:lnTo>
                  <a:pt x="2314" y="3326"/>
                </a:lnTo>
                <a:lnTo>
                  <a:pt x="1725" y="3326"/>
                </a:lnTo>
                <a:close/>
                <a:moveTo>
                  <a:pt x="1391" y="3563"/>
                </a:moveTo>
                <a:lnTo>
                  <a:pt x="515" y="3563"/>
                </a:lnTo>
                <a:lnTo>
                  <a:pt x="515" y="3775"/>
                </a:lnTo>
                <a:lnTo>
                  <a:pt x="1391" y="3775"/>
                </a:lnTo>
                <a:lnTo>
                  <a:pt x="1391" y="3563"/>
                </a:lnTo>
                <a:close/>
                <a:moveTo>
                  <a:pt x="3525" y="3563"/>
                </a:moveTo>
                <a:lnTo>
                  <a:pt x="2649" y="3563"/>
                </a:lnTo>
                <a:lnTo>
                  <a:pt x="2649" y="3775"/>
                </a:lnTo>
                <a:lnTo>
                  <a:pt x="3525" y="3775"/>
                </a:lnTo>
                <a:lnTo>
                  <a:pt x="3525" y="3563"/>
                </a:lnTo>
                <a:close/>
                <a:moveTo>
                  <a:pt x="1390" y="4201"/>
                </a:moveTo>
                <a:lnTo>
                  <a:pt x="514" y="4201"/>
                </a:lnTo>
                <a:lnTo>
                  <a:pt x="514" y="4613"/>
                </a:lnTo>
                <a:lnTo>
                  <a:pt x="1390" y="4613"/>
                </a:lnTo>
                <a:lnTo>
                  <a:pt x="1390" y="4201"/>
                </a:lnTo>
                <a:close/>
                <a:moveTo>
                  <a:pt x="2458" y="4201"/>
                </a:moveTo>
                <a:lnTo>
                  <a:pt x="1582" y="4201"/>
                </a:lnTo>
                <a:lnTo>
                  <a:pt x="1582" y="4613"/>
                </a:lnTo>
                <a:lnTo>
                  <a:pt x="2458" y="4613"/>
                </a:lnTo>
                <a:lnTo>
                  <a:pt x="2458" y="4201"/>
                </a:lnTo>
                <a:close/>
                <a:moveTo>
                  <a:pt x="3518" y="4201"/>
                </a:moveTo>
                <a:lnTo>
                  <a:pt x="2642" y="4201"/>
                </a:lnTo>
                <a:lnTo>
                  <a:pt x="2642" y="4613"/>
                </a:lnTo>
                <a:lnTo>
                  <a:pt x="3518" y="4613"/>
                </a:lnTo>
                <a:lnTo>
                  <a:pt x="3518" y="4201"/>
                </a:lnTo>
                <a:close/>
                <a:moveTo>
                  <a:pt x="1390" y="4741"/>
                </a:moveTo>
                <a:lnTo>
                  <a:pt x="514" y="4741"/>
                </a:lnTo>
                <a:lnTo>
                  <a:pt x="514" y="5153"/>
                </a:lnTo>
                <a:lnTo>
                  <a:pt x="1390" y="5153"/>
                </a:lnTo>
                <a:lnTo>
                  <a:pt x="1390" y="4741"/>
                </a:lnTo>
                <a:close/>
                <a:moveTo>
                  <a:pt x="2458" y="4741"/>
                </a:moveTo>
                <a:lnTo>
                  <a:pt x="1582" y="4741"/>
                </a:lnTo>
                <a:lnTo>
                  <a:pt x="1582" y="5153"/>
                </a:lnTo>
                <a:lnTo>
                  <a:pt x="2458" y="5153"/>
                </a:lnTo>
                <a:lnTo>
                  <a:pt x="2458" y="4741"/>
                </a:lnTo>
                <a:close/>
                <a:moveTo>
                  <a:pt x="3518" y="4741"/>
                </a:moveTo>
                <a:lnTo>
                  <a:pt x="2642" y="4741"/>
                </a:lnTo>
                <a:lnTo>
                  <a:pt x="2642" y="5153"/>
                </a:lnTo>
                <a:lnTo>
                  <a:pt x="3518" y="5153"/>
                </a:lnTo>
                <a:lnTo>
                  <a:pt x="3518" y="4741"/>
                </a:lnTo>
                <a:close/>
                <a:moveTo>
                  <a:pt x="1390" y="5318"/>
                </a:moveTo>
                <a:lnTo>
                  <a:pt x="514" y="5318"/>
                </a:lnTo>
                <a:lnTo>
                  <a:pt x="514" y="5730"/>
                </a:lnTo>
                <a:lnTo>
                  <a:pt x="1390" y="5730"/>
                </a:lnTo>
                <a:lnTo>
                  <a:pt x="1390" y="5318"/>
                </a:lnTo>
                <a:close/>
                <a:moveTo>
                  <a:pt x="2458" y="5318"/>
                </a:moveTo>
                <a:lnTo>
                  <a:pt x="1582" y="5318"/>
                </a:lnTo>
                <a:lnTo>
                  <a:pt x="1582" y="5730"/>
                </a:lnTo>
                <a:lnTo>
                  <a:pt x="2458" y="5730"/>
                </a:lnTo>
                <a:lnTo>
                  <a:pt x="2458" y="5318"/>
                </a:lnTo>
                <a:close/>
                <a:moveTo>
                  <a:pt x="3518" y="5318"/>
                </a:moveTo>
                <a:lnTo>
                  <a:pt x="2642" y="5318"/>
                </a:lnTo>
                <a:lnTo>
                  <a:pt x="2642" y="5730"/>
                </a:lnTo>
                <a:lnTo>
                  <a:pt x="3518" y="5730"/>
                </a:lnTo>
                <a:lnTo>
                  <a:pt x="3518" y="5318"/>
                </a:lnTo>
                <a:close/>
              </a:path>
            </a:pathLst>
          </a:custGeom>
          <a:noFill/>
          <a:ln w="0">
            <a:solidFill>
              <a:srgbClr val="000000">
                <a:lumMod val="65000"/>
                <a:lumOff val="35000"/>
              </a:srgbClr>
            </a:solidFill>
          </a:ln>
        </p:spPr>
        <p:style>
          <a:lnRef idx="0"/>
          <a:fillRef idx="0"/>
          <a:effectRef idx="0"/>
          <a:fontRef idx="minor"/>
        </p:style>
        <p:txBody>
          <a:bodyPr lIns="90000" rIns="90000" tIns="45000" bIns="45000" anchor="ctr">
            <a:noAutofit/>
            <a:scene3d>
              <a:camera prst="orthographicFront"/>
              <a:lightRig dir="t" rig="threePt"/>
            </a:scene3d>
            <a:sp3d>
              <a:contourClr>
                <a:srgbClr val="ffffff"/>
              </a:contourClr>
            </a:sp3d>
          </a:bodyPr>
          <a:p>
            <a:pPr algn="ctr">
              <a:lnSpc>
                <a:spcPct val="100000"/>
              </a:lnSpc>
            </a:pPr>
            <a:endParaRPr b="0" lang="en-US" sz="1800" spc="-1" strike="noStrike">
              <a:solidFill>
                <a:srgbClr val="ffffff"/>
              </a:solidFill>
              <a:latin typeface="Calibri"/>
            </a:endParaRPr>
          </a:p>
        </p:txBody>
      </p:sp>
      <p:sp>
        <p:nvSpPr>
          <p:cNvPr id="299" name="KSO_Shape"/>
          <p:cNvSpPr/>
          <p:nvPr/>
        </p:nvSpPr>
        <p:spPr>
          <a:xfrm>
            <a:off x="7764840" y="2921760"/>
            <a:ext cx="999000" cy="999000"/>
          </a:xfrm>
          <a:custGeom>
            <a:avLst/>
            <a:gdLst>
              <a:gd name="textAreaLeft" fmla="*/ 0 w 999000"/>
              <a:gd name="textAreaRight" fmla="*/ 999360 w 999000"/>
              <a:gd name="textAreaTop" fmla="*/ 0 h 999000"/>
              <a:gd name="textAreaBottom" fmla="*/ 999360 h 999000"/>
            </a:gdLst>
            <a:ahLst/>
            <a:rect l="textAreaLeft" t="textAreaTop" r="textAreaRight" b="textAreaBottom"/>
            <a:pathLst>
              <a:path w="5581" h="5581">
                <a:moveTo>
                  <a:pt x="5522" y="4281"/>
                </a:moveTo>
                <a:lnTo>
                  <a:pt x="5522" y="4281"/>
                </a:lnTo>
                <a:lnTo>
                  <a:pt x="5508" y="4269"/>
                </a:lnTo>
                <a:lnTo>
                  <a:pt x="5494" y="4258"/>
                </a:lnTo>
                <a:lnTo>
                  <a:pt x="5494" y="4257"/>
                </a:lnTo>
                <a:lnTo>
                  <a:pt x="4294" y="3400"/>
                </a:lnTo>
                <a:lnTo>
                  <a:pt x="4293" y="3401"/>
                </a:lnTo>
                <a:lnTo>
                  <a:pt x="4278" y="3390"/>
                </a:lnTo>
                <a:lnTo>
                  <a:pt x="4262" y="3382"/>
                </a:lnTo>
                <a:lnTo>
                  <a:pt x="4245" y="3375"/>
                </a:lnTo>
                <a:lnTo>
                  <a:pt x="4229" y="3369"/>
                </a:lnTo>
                <a:lnTo>
                  <a:pt x="4211" y="3364"/>
                </a:lnTo>
                <a:lnTo>
                  <a:pt x="4194" y="3361"/>
                </a:lnTo>
                <a:lnTo>
                  <a:pt x="4176" y="3360"/>
                </a:lnTo>
                <a:lnTo>
                  <a:pt x="4158" y="3361"/>
                </a:lnTo>
                <a:lnTo>
                  <a:pt x="4140" y="3363"/>
                </a:lnTo>
                <a:lnTo>
                  <a:pt x="4123" y="3366"/>
                </a:lnTo>
                <a:lnTo>
                  <a:pt x="4105" y="3371"/>
                </a:lnTo>
                <a:lnTo>
                  <a:pt x="4089" y="3378"/>
                </a:lnTo>
                <a:lnTo>
                  <a:pt x="4072" y="3387"/>
                </a:lnTo>
                <a:lnTo>
                  <a:pt x="4056" y="3396"/>
                </a:lnTo>
                <a:lnTo>
                  <a:pt x="4042" y="3407"/>
                </a:lnTo>
                <a:lnTo>
                  <a:pt x="4027" y="3420"/>
                </a:lnTo>
                <a:lnTo>
                  <a:pt x="4018" y="3432"/>
                </a:lnTo>
                <a:lnTo>
                  <a:pt x="4008" y="3444"/>
                </a:lnTo>
                <a:lnTo>
                  <a:pt x="4004" y="3451"/>
                </a:lnTo>
                <a:lnTo>
                  <a:pt x="3999" y="3458"/>
                </a:lnTo>
                <a:lnTo>
                  <a:pt x="3971" y="3498"/>
                </a:lnTo>
                <a:lnTo>
                  <a:pt x="3951" y="3529"/>
                </a:lnTo>
                <a:lnTo>
                  <a:pt x="3920" y="3579"/>
                </a:lnTo>
                <a:lnTo>
                  <a:pt x="3892" y="3627"/>
                </a:lnTo>
                <a:lnTo>
                  <a:pt x="3875" y="3655"/>
                </a:lnTo>
                <a:lnTo>
                  <a:pt x="3854" y="3688"/>
                </a:lnTo>
                <a:lnTo>
                  <a:pt x="3818" y="3747"/>
                </a:lnTo>
                <a:lnTo>
                  <a:pt x="3782" y="3812"/>
                </a:lnTo>
                <a:lnTo>
                  <a:pt x="3745" y="3882"/>
                </a:lnTo>
                <a:lnTo>
                  <a:pt x="3707" y="3959"/>
                </a:lnTo>
                <a:lnTo>
                  <a:pt x="3667" y="4040"/>
                </a:lnTo>
                <a:lnTo>
                  <a:pt x="3629" y="4127"/>
                </a:lnTo>
                <a:lnTo>
                  <a:pt x="3589" y="4218"/>
                </a:lnTo>
                <a:lnTo>
                  <a:pt x="3550" y="4311"/>
                </a:lnTo>
                <a:lnTo>
                  <a:pt x="3517" y="4305"/>
                </a:lnTo>
                <a:lnTo>
                  <a:pt x="3484" y="4298"/>
                </a:lnTo>
                <a:lnTo>
                  <a:pt x="3450" y="4289"/>
                </a:lnTo>
                <a:lnTo>
                  <a:pt x="3416" y="4280"/>
                </a:lnTo>
                <a:lnTo>
                  <a:pt x="3380" y="4269"/>
                </a:lnTo>
                <a:lnTo>
                  <a:pt x="3343" y="4256"/>
                </a:lnTo>
                <a:lnTo>
                  <a:pt x="3306" y="4241"/>
                </a:lnTo>
                <a:lnTo>
                  <a:pt x="3267" y="4227"/>
                </a:lnTo>
                <a:lnTo>
                  <a:pt x="3229" y="4209"/>
                </a:lnTo>
                <a:lnTo>
                  <a:pt x="3189" y="4191"/>
                </a:lnTo>
                <a:lnTo>
                  <a:pt x="3149" y="4171"/>
                </a:lnTo>
                <a:lnTo>
                  <a:pt x="3107" y="4150"/>
                </a:lnTo>
                <a:lnTo>
                  <a:pt x="3065" y="4128"/>
                </a:lnTo>
                <a:lnTo>
                  <a:pt x="3023" y="4104"/>
                </a:lnTo>
                <a:lnTo>
                  <a:pt x="2980" y="4077"/>
                </a:lnTo>
                <a:lnTo>
                  <a:pt x="2936" y="4051"/>
                </a:lnTo>
                <a:lnTo>
                  <a:pt x="2891" y="4022"/>
                </a:lnTo>
                <a:lnTo>
                  <a:pt x="2846" y="3992"/>
                </a:lnTo>
                <a:lnTo>
                  <a:pt x="2800" y="3960"/>
                </a:lnTo>
                <a:lnTo>
                  <a:pt x="2754" y="3928"/>
                </a:lnTo>
                <a:lnTo>
                  <a:pt x="2707" y="3893"/>
                </a:lnTo>
                <a:lnTo>
                  <a:pt x="2659" y="3857"/>
                </a:lnTo>
                <a:lnTo>
                  <a:pt x="2612" y="3820"/>
                </a:lnTo>
                <a:lnTo>
                  <a:pt x="2563" y="3782"/>
                </a:lnTo>
                <a:lnTo>
                  <a:pt x="2515" y="3741"/>
                </a:lnTo>
                <a:lnTo>
                  <a:pt x="2465" y="3699"/>
                </a:lnTo>
                <a:lnTo>
                  <a:pt x="2416" y="3656"/>
                </a:lnTo>
                <a:lnTo>
                  <a:pt x="2366" y="3612"/>
                </a:lnTo>
                <a:lnTo>
                  <a:pt x="2315" y="3565"/>
                </a:lnTo>
                <a:lnTo>
                  <a:pt x="2265" y="3517"/>
                </a:lnTo>
                <a:lnTo>
                  <a:pt x="2214" y="3468"/>
                </a:lnTo>
                <a:lnTo>
                  <a:pt x="2163" y="3418"/>
                </a:lnTo>
                <a:lnTo>
                  <a:pt x="2112" y="3366"/>
                </a:lnTo>
                <a:lnTo>
                  <a:pt x="2063" y="3316"/>
                </a:lnTo>
                <a:lnTo>
                  <a:pt x="2015" y="3265"/>
                </a:lnTo>
                <a:lnTo>
                  <a:pt x="1970" y="3214"/>
                </a:lnTo>
                <a:lnTo>
                  <a:pt x="1925" y="3165"/>
                </a:lnTo>
                <a:lnTo>
                  <a:pt x="1881" y="3115"/>
                </a:lnTo>
                <a:lnTo>
                  <a:pt x="1840" y="3066"/>
                </a:lnTo>
                <a:lnTo>
                  <a:pt x="1800" y="3018"/>
                </a:lnTo>
                <a:lnTo>
                  <a:pt x="1761" y="2969"/>
                </a:lnTo>
                <a:lnTo>
                  <a:pt x="1723" y="2921"/>
                </a:lnTo>
                <a:lnTo>
                  <a:pt x="1688" y="2874"/>
                </a:lnTo>
                <a:lnTo>
                  <a:pt x="1653" y="2828"/>
                </a:lnTo>
                <a:lnTo>
                  <a:pt x="1620" y="2781"/>
                </a:lnTo>
                <a:lnTo>
                  <a:pt x="1589" y="2735"/>
                </a:lnTo>
                <a:lnTo>
                  <a:pt x="1559" y="2690"/>
                </a:lnTo>
                <a:lnTo>
                  <a:pt x="1530" y="2646"/>
                </a:lnTo>
                <a:lnTo>
                  <a:pt x="1504" y="2601"/>
                </a:lnTo>
                <a:lnTo>
                  <a:pt x="1477" y="2558"/>
                </a:lnTo>
                <a:lnTo>
                  <a:pt x="1454" y="2515"/>
                </a:lnTo>
                <a:lnTo>
                  <a:pt x="1431" y="2473"/>
                </a:lnTo>
                <a:lnTo>
                  <a:pt x="1410" y="2432"/>
                </a:lnTo>
                <a:lnTo>
                  <a:pt x="1390" y="2392"/>
                </a:lnTo>
                <a:lnTo>
                  <a:pt x="1372" y="2352"/>
                </a:lnTo>
                <a:lnTo>
                  <a:pt x="1355" y="2313"/>
                </a:lnTo>
                <a:lnTo>
                  <a:pt x="1340" y="2276"/>
                </a:lnTo>
                <a:lnTo>
                  <a:pt x="1325" y="2237"/>
                </a:lnTo>
                <a:lnTo>
                  <a:pt x="1312" y="2201"/>
                </a:lnTo>
                <a:lnTo>
                  <a:pt x="1301" y="2165"/>
                </a:lnTo>
                <a:lnTo>
                  <a:pt x="1292" y="2131"/>
                </a:lnTo>
                <a:lnTo>
                  <a:pt x="1284" y="2097"/>
                </a:lnTo>
                <a:lnTo>
                  <a:pt x="1276" y="2064"/>
                </a:lnTo>
                <a:lnTo>
                  <a:pt x="1272" y="2031"/>
                </a:lnTo>
                <a:lnTo>
                  <a:pt x="1365" y="1992"/>
                </a:lnTo>
                <a:lnTo>
                  <a:pt x="1455" y="1952"/>
                </a:lnTo>
                <a:lnTo>
                  <a:pt x="1541" y="1913"/>
                </a:lnTo>
                <a:lnTo>
                  <a:pt x="1622" y="1875"/>
                </a:lnTo>
                <a:lnTo>
                  <a:pt x="1699" y="1836"/>
                </a:lnTo>
                <a:lnTo>
                  <a:pt x="1770" y="1799"/>
                </a:lnTo>
                <a:lnTo>
                  <a:pt x="1835" y="1763"/>
                </a:lnTo>
                <a:lnTo>
                  <a:pt x="1893" y="1727"/>
                </a:lnTo>
                <a:lnTo>
                  <a:pt x="1926" y="1706"/>
                </a:lnTo>
                <a:lnTo>
                  <a:pt x="1954" y="1689"/>
                </a:lnTo>
                <a:lnTo>
                  <a:pt x="2002" y="1661"/>
                </a:lnTo>
                <a:lnTo>
                  <a:pt x="2052" y="1630"/>
                </a:lnTo>
                <a:lnTo>
                  <a:pt x="2083" y="1610"/>
                </a:lnTo>
                <a:lnTo>
                  <a:pt x="2123" y="1584"/>
                </a:lnTo>
                <a:lnTo>
                  <a:pt x="2137" y="1573"/>
                </a:lnTo>
                <a:lnTo>
                  <a:pt x="2138" y="1572"/>
                </a:lnTo>
                <a:lnTo>
                  <a:pt x="2149" y="1563"/>
                </a:lnTo>
                <a:lnTo>
                  <a:pt x="2161" y="1554"/>
                </a:lnTo>
                <a:lnTo>
                  <a:pt x="2174" y="1539"/>
                </a:lnTo>
                <a:lnTo>
                  <a:pt x="2185" y="1524"/>
                </a:lnTo>
                <a:lnTo>
                  <a:pt x="2195" y="1508"/>
                </a:lnTo>
                <a:lnTo>
                  <a:pt x="2203" y="1493"/>
                </a:lnTo>
                <a:lnTo>
                  <a:pt x="2210" y="1476"/>
                </a:lnTo>
                <a:lnTo>
                  <a:pt x="2215" y="1458"/>
                </a:lnTo>
                <a:lnTo>
                  <a:pt x="2219" y="1441"/>
                </a:lnTo>
                <a:lnTo>
                  <a:pt x="2220" y="1423"/>
                </a:lnTo>
                <a:lnTo>
                  <a:pt x="2221" y="1405"/>
                </a:lnTo>
                <a:lnTo>
                  <a:pt x="2220" y="1387"/>
                </a:lnTo>
                <a:lnTo>
                  <a:pt x="2217" y="1370"/>
                </a:lnTo>
                <a:lnTo>
                  <a:pt x="2213" y="1353"/>
                </a:lnTo>
                <a:lnTo>
                  <a:pt x="2208" y="1336"/>
                </a:lnTo>
                <a:lnTo>
                  <a:pt x="2201" y="1319"/>
                </a:lnTo>
                <a:lnTo>
                  <a:pt x="2191" y="1302"/>
                </a:lnTo>
                <a:lnTo>
                  <a:pt x="2181" y="1287"/>
                </a:lnTo>
                <a:lnTo>
                  <a:pt x="2181" y="1285"/>
                </a:lnTo>
                <a:lnTo>
                  <a:pt x="1325" y="87"/>
                </a:lnTo>
                <a:lnTo>
                  <a:pt x="1323" y="87"/>
                </a:lnTo>
                <a:lnTo>
                  <a:pt x="1312" y="73"/>
                </a:lnTo>
                <a:lnTo>
                  <a:pt x="1300" y="58"/>
                </a:lnTo>
                <a:lnTo>
                  <a:pt x="1286" y="46"/>
                </a:lnTo>
                <a:lnTo>
                  <a:pt x="1270" y="34"/>
                </a:lnTo>
                <a:lnTo>
                  <a:pt x="1255" y="25"/>
                </a:lnTo>
                <a:lnTo>
                  <a:pt x="1238" y="16"/>
                </a:lnTo>
                <a:lnTo>
                  <a:pt x="1221" y="10"/>
                </a:lnTo>
                <a:lnTo>
                  <a:pt x="1203" y="6"/>
                </a:lnTo>
                <a:lnTo>
                  <a:pt x="1187" y="2"/>
                </a:lnTo>
                <a:lnTo>
                  <a:pt x="1169" y="0"/>
                </a:lnTo>
                <a:lnTo>
                  <a:pt x="1149" y="0"/>
                </a:lnTo>
                <a:lnTo>
                  <a:pt x="1131" y="1"/>
                </a:lnTo>
                <a:lnTo>
                  <a:pt x="1114" y="3"/>
                </a:lnTo>
                <a:lnTo>
                  <a:pt x="1097" y="8"/>
                </a:lnTo>
                <a:lnTo>
                  <a:pt x="1079" y="14"/>
                </a:lnTo>
                <a:lnTo>
                  <a:pt x="1062" y="22"/>
                </a:lnTo>
                <a:lnTo>
                  <a:pt x="1046" y="31"/>
                </a:lnTo>
                <a:lnTo>
                  <a:pt x="1031" y="42"/>
                </a:lnTo>
                <a:lnTo>
                  <a:pt x="924" y="116"/>
                </a:lnTo>
                <a:lnTo>
                  <a:pt x="819" y="191"/>
                </a:lnTo>
                <a:lnTo>
                  <a:pt x="717" y="268"/>
                </a:lnTo>
                <a:lnTo>
                  <a:pt x="668" y="306"/>
                </a:lnTo>
                <a:lnTo>
                  <a:pt x="619" y="344"/>
                </a:lnTo>
                <a:lnTo>
                  <a:pt x="571" y="384"/>
                </a:lnTo>
                <a:lnTo>
                  <a:pt x="525" y="423"/>
                </a:lnTo>
                <a:lnTo>
                  <a:pt x="480" y="463"/>
                </a:lnTo>
                <a:lnTo>
                  <a:pt x="436" y="504"/>
                </a:lnTo>
                <a:lnTo>
                  <a:pt x="394" y="543"/>
                </a:lnTo>
                <a:lnTo>
                  <a:pt x="353" y="584"/>
                </a:lnTo>
                <a:lnTo>
                  <a:pt x="315" y="625"/>
                </a:lnTo>
                <a:lnTo>
                  <a:pt x="278" y="667"/>
                </a:lnTo>
                <a:lnTo>
                  <a:pt x="242" y="708"/>
                </a:lnTo>
                <a:lnTo>
                  <a:pt x="208" y="750"/>
                </a:lnTo>
                <a:lnTo>
                  <a:pt x="177" y="792"/>
                </a:lnTo>
                <a:lnTo>
                  <a:pt x="149" y="835"/>
                </a:lnTo>
                <a:lnTo>
                  <a:pt x="122" y="878"/>
                </a:lnTo>
                <a:lnTo>
                  <a:pt x="97" y="922"/>
                </a:lnTo>
                <a:lnTo>
                  <a:pt x="76" y="966"/>
                </a:lnTo>
                <a:lnTo>
                  <a:pt x="56" y="1010"/>
                </a:lnTo>
                <a:lnTo>
                  <a:pt x="40" y="1054"/>
                </a:lnTo>
                <a:lnTo>
                  <a:pt x="25" y="1100"/>
                </a:lnTo>
                <a:lnTo>
                  <a:pt x="20" y="1123"/>
                </a:lnTo>
                <a:lnTo>
                  <a:pt x="15" y="1145"/>
                </a:lnTo>
                <a:lnTo>
                  <a:pt x="11" y="1168"/>
                </a:lnTo>
                <a:lnTo>
                  <a:pt x="6" y="1191"/>
                </a:lnTo>
                <a:lnTo>
                  <a:pt x="4" y="1215"/>
                </a:lnTo>
                <a:lnTo>
                  <a:pt x="1" y="1238"/>
                </a:lnTo>
                <a:lnTo>
                  <a:pt x="0" y="1262"/>
                </a:lnTo>
                <a:lnTo>
                  <a:pt x="0" y="1284"/>
                </a:lnTo>
                <a:lnTo>
                  <a:pt x="0" y="1308"/>
                </a:lnTo>
                <a:lnTo>
                  <a:pt x="1" y="1332"/>
                </a:lnTo>
                <a:lnTo>
                  <a:pt x="3" y="1356"/>
                </a:lnTo>
                <a:lnTo>
                  <a:pt x="6" y="1380"/>
                </a:lnTo>
                <a:lnTo>
                  <a:pt x="15" y="1433"/>
                </a:lnTo>
                <a:lnTo>
                  <a:pt x="26" y="1490"/>
                </a:lnTo>
                <a:lnTo>
                  <a:pt x="41" y="1550"/>
                </a:lnTo>
                <a:lnTo>
                  <a:pt x="60" y="1615"/>
                </a:lnTo>
                <a:lnTo>
                  <a:pt x="82" y="1682"/>
                </a:lnTo>
                <a:lnTo>
                  <a:pt x="105" y="1751"/>
                </a:lnTo>
                <a:lnTo>
                  <a:pt x="133" y="1824"/>
                </a:lnTo>
                <a:lnTo>
                  <a:pt x="163" y="1900"/>
                </a:lnTo>
                <a:lnTo>
                  <a:pt x="196" y="1976"/>
                </a:lnTo>
                <a:lnTo>
                  <a:pt x="232" y="2057"/>
                </a:lnTo>
                <a:lnTo>
                  <a:pt x="272" y="2138"/>
                </a:lnTo>
                <a:lnTo>
                  <a:pt x="313" y="2222"/>
                </a:lnTo>
                <a:lnTo>
                  <a:pt x="357" y="2308"/>
                </a:lnTo>
                <a:lnTo>
                  <a:pt x="404" y="2394"/>
                </a:lnTo>
                <a:lnTo>
                  <a:pt x="453" y="2483"/>
                </a:lnTo>
                <a:lnTo>
                  <a:pt x="503" y="2571"/>
                </a:lnTo>
                <a:lnTo>
                  <a:pt x="557" y="2661"/>
                </a:lnTo>
                <a:lnTo>
                  <a:pt x="613" y="2752"/>
                </a:lnTo>
                <a:lnTo>
                  <a:pt x="671" y="2843"/>
                </a:lnTo>
                <a:lnTo>
                  <a:pt x="730" y="2935"/>
                </a:lnTo>
                <a:lnTo>
                  <a:pt x="793" y="3026"/>
                </a:lnTo>
                <a:lnTo>
                  <a:pt x="856" y="3118"/>
                </a:lnTo>
                <a:lnTo>
                  <a:pt x="922" y="3209"/>
                </a:lnTo>
                <a:lnTo>
                  <a:pt x="990" y="3300"/>
                </a:lnTo>
                <a:lnTo>
                  <a:pt x="1060" y="3391"/>
                </a:lnTo>
                <a:lnTo>
                  <a:pt x="1130" y="3481"/>
                </a:lnTo>
                <a:lnTo>
                  <a:pt x="1203" y="3570"/>
                </a:lnTo>
                <a:lnTo>
                  <a:pt x="1278" y="3657"/>
                </a:lnTo>
                <a:lnTo>
                  <a:pt x="1353" y="3743"/>
                </a:lnTo>
                <a:lnTo>
                  <a:pt x="1430" y="3828"/>
                </a:lnTo>
                <a:lnTo>
                  <a:pt x="1509" y="3912"/>
                </a:lnTo>
                <a:lnTo>
                  <a:pt x="1588" y="3994"/>
                </a:lnTo>
                <a:lnTo>
                  <a:pt x="1669" y="4073"/>
                </a:lnTo>
                <a:lnTo>
                  <a:pt x="1753" y="4150"/>
                </a:lnTo>
                <a:lnTo>
                  <a:pt x="1837" y="4228"/>
                </a:lnTo>
                <a:lnTo>
                  <a:pt x="1924" y="4304"/>
                </a:lnTo>
                <a:lnTo>
                  <a:pt x="2011" y="4378"/>
                </a:lnTo>
                <a:lnTo>
                  <a:pt x="2100" y="4451"/>
                </a:lnTo>
                <a:lnTo>
                  <a:pt x="2190" y="4522"/>
                </a:lnTo>
                <a:lnTo>
                  <a:pt x="2281" y="4591"/>
                </a:lnTo>
                <a:lnTo>
                  <a:pt x="2372" y="4658"/>
                </a:lnTo>
                <a:lnTo>
                  <a:pt x="2463" y="4724"/>
                </a:lnTo>
                <a:lnTo>
                  <a:pt x="2555" y="4789"/>
                </a:lnTo>
                <a:lnTo>
                  <a:pt x="2646" y="4851"/>
                </a:lnTo>
                <a:lnTo>
                  <a:pt x="2738" y="4911"/>
                </a:lnTo>
                <a:lnTo>
                  <a:pt x="2829" y="4968"/>
                </a:lnTo>
                <a:lnTo>
                  <a:pt x="2920" y="5024"/>
                </a:lnTo>
                <a:lnTo>
                  <a:pt x="3010" y="5078"/>
                </a:lnTo>
                <a:lnTo>
                  <a:pt x="3100" y="5129"/>
                </a:lnTo>
                <a:lnTo>
                  <a:pt x="3187" y="5178"/>
                </a:lnTo>
                <a:lnTo>
                  <a:pt x="3274" y="5224"/>
                </a:lnTo>
                <a:lnTo>
                  <a:pt x="3359" y="5269"/>
                </a:lnTo>
                <a:lnTo>
                  <a:pt x="3443" y="5309"/>
                </a:lnTo>
                <a:lnTo>
                  <a:pt x="3525" y="5349"/>
                </a:lnTo>
                <a:lnTo>
                  <a:pt x="3605" y="5385"/>
                </a:lnTo>
                <a:lnTo>
                  <a:pt x="3683" y="5417"/>
                </a:lnTo>
                <a:lnTo>
                  <a:pt x="3757" y="5448"/>
                </a:lnTo>
                <a:lnTo>
                  <a:pt x="3830" y="5476"/>
                </a:lnTo>
                <a:lnTo>
                  <a:pt x="3901" y="5500"/>
                </a:lnTo>
                <a:lnTo>
                  <a:pt x="3966" y="5521"/>
                </a:lnTo>
                <a:lnTo>
                  <a:pt x="4031" y="5539"/>
                </a:lnTo>
                <a:lnTo>
                  <a:pt x="4091" y="5555"/>
                </a:lnTo>
                <a:lnTo>
                  <a:pt x="4148" y="5567"/>
                </a:lnTo>
                <a:lnTo>
                  <a:pt x="4201" y="5575"/>
                </a:lnTo>
                <a:lnTo>
                  <a:pt x="4225" y="5578"/>
                </a:lnTo>
                <a:lnTo>
                  <a:pt x="4249" y="5580"/>
                </a:lnTo>
                <a:lnTo>
                  <a:pt x="4273" y="5581"/>
                </a:lnTo>
                <a:lnTo>
                  <a:pt x="4297" y="5581"/>
                </a:lnTo>
                <a:lnTo>
                  <a:pt x="4320" y="5581"/>
                </a:lnTo>
                <a:lnTo>
                  <a:pt x="4344" y="5579"/>
                </a:lnTo>
                <a:lnTo>
                  <a:pt x="4366" y="5578"/>
                </a:lnTo>
                <a:lnTo>
                  <a:pt x="4390" y="5574"/>
                </a:lnTo>
                <a:lnTo>
                  <a:pt x="4413" y="5570"/>
                </a:lnTo>
                <a:lnTo>
                  <a:pt x="4436" y="5567"/>
                </a:lnTo>
                <a:lnTo>
                  <a:pt x="4458" y="5561"/>
                </a:lnTo>
                <a:lnTo>
                  <a:pt x="4481" y="5555"/>
                </a:lnTo>
                <a:lnTo>
                  <a:pt x="4527" y="5542"/>
                </a:lnTo>
                <a:lnTo>
                  <a:pt x="4571" y="5525"/>
                </a:lnTo>
                <a:lnTo>
                  <a:pt x="4615" y="5506"/>
                </a:lnTo>
                <a:lnTo>
                  <a:pt x="4660" y="5483"/>
                </a:lnTo>
                <a:lnTo>
                  <a:pt x="4703" y="5459"/>
                </a:lnTo>
                <a:lnTo>
                  <a:pt x="4746" y="5433"/>
                </a:lnTo>
                <a:lnTo>
                  <a:pt x="4789" y="5404"/>
                </a:lnTo>
                <a:lnTo>
                  <a:pt x="4831" y="5373"/>
                </a:lnTo>
                <a:lnTo>
                  <a:pt x="4873" y="5339"/>
                </a:lnTo>
                <a:lnTo>
                  <a:pt x="4915" y="5303"/>
                </a:lnTo>
                <a:lnTo>
                  <a:pt x="4956" y="5266"/>
                </a:lnTo>
                <a:lnTo>
                  <a:pt x="4997" y="5228"/>
                </a:lnTo>
                <a:lnTo>
                  <a:pt x="5038" y="5187"/>
                </a:lnTo>
                <a:lnTo>
                  <a:pt x="5077" y="5145"/>
                </a:lnTo>
                <a:lnTo>
                  <a:pt x="5118" y="5101"/>
                </a:lnTo>
                <a:lnTo>
                  <a:pt x="5158" y="5057"/>
                </a:lnTo>
                <a:lnTo>
                  <a:pt x="5197" y="5010"/>
                </a:lnTo>
                <a:lnTo>
                  <a:pt x="5237" y="4962"/>
                </a:lnTo>
                <a:lnTo>
                  <a:pt x="5275" y="4914"/>
                </a:lnTo>
                <a:lnTo>
                  <a:pt x="5313" y="4864"/>
                </a:lnTo>
                <a:lnTo>
                  <a:pt x="5352" y="4814"/>
                </a:lnTo>
                <a:lnTo>
                  <a:pt x="5390" y="4762"/>
                </a:lnTo>
                <a:lnTo>
                  <a:pt x="5465" y="4657"/>
                </a:lnTo>
                <a:lnTo>
                  <a:pt x="5540" y="4550"/>
                </a:lnTo>
                <a:lnTo>
                  <a:pt x="5550" y="4535"/>
                </a:lnTo>
                <a:lnTo>
                  <a:pt x="5559" y="4518"/>
                </a:lnTo>
                <a:lnTo>
                  <a:pt x="5567" y="4501"/>
                </a:lnTo>
                <a:lnTo>
                  <a:pt x="5573" y="4484"/>
                </a:lnTo>
                <a:lnTo>
                  <a:pt x="5578" y="4467"/>
                </a:lnTo>
                <a:lnTo>
                  <a:pt x="5580" y="4449"/>
                </a:lnTo>
                <a:lnTo>
                  <a:pt x="5581" y="4431"/>
                </a:lnTo>
                <a:lnTo>
                  <a:pt x="5581" y="4413"/>
                </a:lnTo>
                <a:lnTo>
                  <a:pt x="5579" y="4395"/>
                </a:lnTo>
                <a:lnTo>
                  <a:pt x="5575" y="4377"/>
                </a:lnTo>
                <a:lnTo>
                  <a:pt x="5571" y="4360"/>
                </a:lnTo>
                <a:lnTo>
                  <a:pt x="5565" y="4343"/>
                </a:lnTo>
                <a:lnTo>
                  <a:pt x="5556" y="4326"/>
                </a:lnTo>
                <a:lnTo>
                  <a:pt x="5547" y="4310"/>
                </a:lnTo>
                <a:lnTo>
                  <a:pt x="5535" y="4295"/>
                </a:lnTo>
                <a:lnTo>
                  <a:pt x="5522" y="4281"/>
                </a:lnTo>
                <a:close/>
                <a:moveTo>
                  <a:pt x="5006" y="2620"/>
                </a:moveTo>
                <a:lnTo>
                  <a:pt x="5286" y="2547"/>
                </a:lnTo>
                <a:lnTo>
                  <a:pt x="5247" y="2453"/>
                </a:lnTo>
                <a:lnTo>
                  <a:pt x="5206" y="2361"/>
                </a:lnTo>
                <a:lnTo>
                  <a:pt x="5161" y="2268"/>
                </a:lnTo>
                <a:lnTo>
                  <a:pt x="5115" y="2177"/>
                </a:lnTo>
                <a:lnTo>
                  <a:pt x="5067" y="2088"/>
                </a:lnTo>
                <a:lnTo>
                  <a:pt x="5015" y="1999"/>
                </a:lnTo>
                <a:lnTo>
                  <a:pt x="4962" y="1912"/>
                </a:lnTo>
                <a:lnTo>
                  <a:pt x="4906" y="1825"/>
                </a:lnTo>
                <a:lnTo>
                  <a:pt x="4849" y="1740"/>
                </a:lnTo>
                <a:lnTo>
                  <a:pt x="4789" y="1658"/>
                </a:lnTo>
                <a:lnTo>
                  <a:pt x="4728" y="1575"/>
                </a:lnTo>
                <a:lnTo>
                  <a:pt x="4663" y="1495"/>
                </a:lnTo>
                <a:lnTo>
                  <a:pt x="4597" y="1417"/>
                </a:lnTo>
                <a:lnTo>
                  <a:pt x="4530" y="1341"/>
                </a:lnTo>
                <a:lnTo>
                  <a:pt x="4461" y="1265"/>
                </a:lnTo>
                <a:lnTo>
                  <a:pt x="4389" y="1192"/>
                </a:lnTo>
                <a:lnTo>
                  <a:pt x="4316" y="1120"/>
                </a:lnTo>
                <a:lnTo>
                  <a:pt x="4241" y="1051"/>
                </a:lnTo>
                <a:lnTo>
                  <a:pt x="4164" y="983"/>
                </a:lnTo>
                <a:lnTo>
                  <a:pt x="4085" y="917"/>
                </a:lnTo>
                <a:lnTo>
                  <a:pt x="4005" y="853"/>
                </a:lnTo>
                <a:lnTo>
                  <a:pt x="3923" y="791"/>
                </a:lnTo>
                <a:lnTo>
                  <a:pt x="3840" y="732"/>
                </a:lnTo>
                <a:lnTo>
                  <a:pt x="3756" y="674"/>
                </a:lnTo>
                <a:lnTo>
                  <a:pt x="3670" y="619"/>
                </a:lnTo>
                <a:lnTo>
                  <a:pt x="3582" y="566"/>
                </a:lnTo>
                <a:lnTo>
                  <a:pt x="3494" y="514"/>
                </a:lnTo>
                <a:lnTo>
                  <a:pt x="3404" y="465"/>
                </a:lnTo>
                <a:lnTo>
                  <a:pt x="3313" y="420"/>
                </a:lnTo>
                <a:lnTo>
                  <a:pt x="3221" y="376"/>
                </a:lnTo>
                <a:lnTo>
                  <a:pt x="3128" y="334"/>
                </a:lnTo>
                <a:lnTo>
                  <a:pt x="3034" y="295"/>
                </a:lnTo>
                <a:lnTo>
                  <a:pt x="2961" y="576"/>
                </a:lnTo>
                <a:lnTo>
                  <a:pt x="3047" y="610"/>
                </a:lnTo>
                <a:lnTo>
                  <a:pt x="3131" y="647"/>
                </a:lnTo>
                <a:lnTo>
                  <a:pt x="3215" y="687"/>
                </a:lnTo>
                <a:lnTo>
                  <a:pt x="3297" y="729"/>
                </a:lnTo>
                <a:lnTo>
                  <a:pt x="3380" y="772"/>
                </a:lnTo>
                <a:lnTo>
                  <a:pt x="3460" y="819"/>
                </a:lnTo>
                <a:lnTo>
                  <a:pt x="3540" y="866"/>
                </a:lnTo>
                <a:lnTo>
                  <a:pt x="3618" y="917"/>
                </a:lnTo>
                <a:lnTo>
                  <a:pt x="3696" y="968"/>
                </a:lnTo>
                <a:lnTo>
                  <a:pt x="3771" y="1022"/>
                </a:lnTo>
                <a:lnTo>
                  <a:pt x="3846" y="1078"/>
                </a:lnTo>
                <a:lnTo>
                  <a:pt x="3919" y="1136"/>
                </a:lnTo>
                <a:lnTo>
                  <a:pt x="3990" y="1196"/>
                </a:lnTo>
                <a:lnTo>
                  <a:pt x="4061" y="1257"/>
                </a:lnTo>
                <a:lnTo>
                  <a:pt x="4129" y="1320"/>
                </a:lnTo>
                <a:lnTo>
                  <a:pt x="4195" y="1386"/>
                </a:lnTo>
                <a:lnTo>
                  <a:pt x="4261" y="1452"/>
                </a:lnTo>
                <a:lnTo>
                  <a:pt x="4324" y="1520"/>
                </a:lnTo>
                <a:lnTo>
                  <a:pt x="4385" y="1591"/>
                </a:lnTo>
                <a:lnTo>
                  <a:pt x="4445" y="1663"/>
                </a:lnTo>
                <a:lnTo>
                  <a:pt x="4503" y="1736"/>
                </a:lnTo>
                <a:lnTo>
                  <a:pt x="4559" y="1810"/>
                </a:lnTo>
                <a:lnTo>
                  <a:pt x="4613" y="1885"/>
                </a:lnTo>
                <a:lnTo>
                  <a:pt x="4664" y="1963"/>
                </a:lnTo>
                <a:lnTo>
                  <a:pt x="4715" y="2041"/>
                </a:lnTo>
                <a:lnTo>
                  <a:pt x="4763" y="2121"/>
                </a:lnTo>
                <a:lnTo>
                  <a:pt x="4809" y="2201"/>
                </a:lnTo>
                <a:lnTo>
                  <a:pt x="4852" y="2284"/>
                </a:lnTo>
                <a:lnTo>
                  <a:pt x="4894" y="2367"/>
                </a:lnTo>
                <a:lnTo>
                  <a:pt x="4934" y="2450"/>
                </a:lnTo>
                <a:lnTo>
                  <a:pt x="4971" y="2534"/>
                </a:lnTo>
                <a:lnTo>
                  <a:pt x="5006" y="2620"/>
                </a:lnTo>
                <a:close/>
                <a:moveTo>
                  <a:pt x="3200" y="1125"/>
                </a:moveTo>
                <a:lnTo>
                  <a:pt x="3104" y="1404"/>
                </a:lnTo>
                <a:lnTo>
                  <a:pt x="3150" y="1424"/>
                </a:lnTo>
                <a:lnTo>
                  <a:pt x="3194" y="1445"/>
                </a:lnTo>
                <a:lnTo>
                  <a:pt x="3240" y="1466"/>
                </a:lnTo>
                <a:lnTo>
                  <a:pt x="3285" y="1489"/>
                </a:lnTo>
                <a:lnTo>
                  <a:pt x="3330" y="1512"/>
                </a:lnTo>
                <a:lnTo>
                  <a:pt x="3374" y="1536"/>
                </a:lnTo>
                <a:lnTo>
                  <a:pt x="3418" y="1561"/>
                </a:lnTo>
                <a:lnTo>
                  <a:pt x="3461" y="1586"/>
                </a:lnTo>
                <a:lnTo>
                  <a:pt x="3503" y="1614"/>
                </a:lnTo>
                <a:lnTo>
                  <a:pt x="3545" y="1641"/>
                </a:lnTo>
                <a:lnTo>
                  <a:pt x="3586" y="1670"/>
                </a:lnTo>
                <a:lnTo>
                  <a:pt x="3626" y="1700"/>
                </a:lnTo>
                <a:lnTo>
                  <a:pt x="3666" y="1731"/>
                </a:lnTo>
                <a:lnTo>
                  <a:pt x="3703" y="1763"/>
                </a:lnTo>
                <a:lnTo>
                  <a:pt x="3740" y="1797"/>
                </a:lnTo>
                <a:lnTo>
                  <a:pt x="3776" y="1831"/>
                </a:lnTo>
                <a:lnTo>
                  <a:pt x="3811" y="1867"/>
                </a:lnTo>
                <a:lnTo>
                  <a:pt x="3844" y="1904"/>
                </a:lnTo>
                <a:lnTo>
                  <a:pt x="3877" y="1943"/>
                </a:lnTo>
                <a:lnTo>
                  <a:pt x="3908" y="1982"/>
                </a:lnTo>
                <a:lnTo>
                  <a:pt x="3939" y="2023"/>
                </a:lnTo>
                <a:lnTo>
                  <a:pt x="3968" y="2064"/>
                </a:lnTo>
                <a:lnTo>
                  <a:pt x="3995" y="2106"/>
                </a:lnTo>
                <a:lnTo>
                  <a:pt x="4023" y="2149"/>
                </a:lnTo>
                <a:lnTo>
                  <a:pt x="4049" y="2192"/>
                </a:lnTo>
                <a:lnTo>
                  <a:pt x="4074" y="2236"/>
                </a:lnTo>
                <a:lnTo>
                  <a:pt x="4098" y="2280"/>
                </a:lnTo>
                <a:lnTo>
                  <a:pt x="4121" y="2326"/>
                </a:lnTo>
                <a:lnTo>
                  <a:pt x="4144" y="2370"/>
                </a:lnTo>
                <a:lnTo>
                  <a:pt x="4165" y="2416"/>
                </a:lnTo>
                <a:lnTo>
                  <a:pt x="4186" y="2461"/>
                </a:lnTo>
                <a:lnTo>
                  <a:pt x="4206" y="2507"/>
                </a:lnTo>
                <a:lnTo>
                  <a:pt x="4446" y="2391"/>
                </a:lnTo>
                <a:lnTo>
                  <a:pt x="4424" y="2337"/>
                </a:lnTo>
                <a:lnTo>
                  <a:pt x="4400" y="2284"/>
                </a:lnTo>
                <a:lnTo>
                  <a:pt x="4376" y="2231"/>
                </a:lnTo>
                <a:lnTo>
                  <a:pt x="4351" y="2180"/>
                </a:lnTo>
                <a:lnTo>
                  <a:pt x="4326" y="2130"/>
                </a:lnTo>
                <a:lnTo>
                  <a:pt x="4298" y="2080"/>
                </a:lnTo>
                <a:lnTo>
                  <a:pt x="4271" y="2031"/>
                </a:lnTo>
                <a:lnTo>
                  <a:pt x="4242" y="1983"/>
                </a:lnTo>
                <a:lnTo>
                  <a:pt x="4212" y="1937"/>
                </a:lnTo>
                <a:lnTo>
                  <a:pt x="4180" y="1890"/>
                </a:lnTo>
                <a:lnTo>
                  <a:pt x="4147" y="1845"/>
                </a:lnTo>
                <a:lnTo>
                  <a:pt x="4114" y="1799"/>
                </a:lnTo>
                <a:lnTo>
                  <a:pt x="4078" y="1755"/>
                </a:lnTo>
                <a:lnTo>
                  <a:pt x="4041" y="1712"/>
                </a:lnTo>
                <a:lnTo>
                  <a:pt x="4002" y="1670"/>
                </a:lnTo>
                <a:lnTo>
                  <a:pt x="3962" y="1628"/>
                </a:lnTo>
                <a:lnTo>
                  <a:pt x="3921" y="1588"/>
                </a:lnTo>
                <a:lnTo>
                  <a:pt x="3879" y="1549"/>
                </a:lnTo>
                <a:lnTo>
                  <a:pt x="3836" y="1512"/>
                </a:lnTo>
                <a:lnTo>
                  <a:pt x="3792" y="1476"/>
                </a:lnTo>
                <a:lnTo>
                  <a:pt x="3747" y="1440"/>
                </a:lnTo>
                <a:lnTo>
                  <a:pt x="3701" y="1406"/>
                </a:lnTo>
                <a:lnTo>
                  <a:pt x="3654" y="1373"/>
                </a:lnTo>
                <a:lnTo>
                  <a:pt x="3607" y="1342"/>
                </a:lnTo>
                <a:lnTo>
                  <a:pt x="3558" y="1311"/>
                </a:lnTo>
                <a:lnTo>
                  <a:pt x="3509" y="1281"/>
                </a:lnTo>
                <a:lnTo>
                  <a:pt x="3459" y="1252"/>
                </a:lnTo>
                <a:lnTo>
                  <a:pt x="3409" y="1226"/>
                </a:lnTo>
                <a:lnTo>
                  <a:pt x="3357" y="1198"/>
                </a:lnTo>
                <a:lnTo>
                  <a:pt x="3306" y="1173"/>
                </a:lnTo>
                <a:lnTo>
                  <a:pt x="3253" y="1149"/>
                </a:lnTo>
                <a:lnTo>
                  <a:pt x="3200" y="1125"/>
                </a:lnTo>
                <a:close/>
              </a:path>
            </a:pathLst>
          </a:custGeom>
          <a:solidFill>
            <a:schemeClr val="bg1"/>
          </a:solidFill>
          <a:ln w="9525">
            <a:solidFill>
              <a:srgbClr val="000000">
                <a:lumMod val="65000"/>
                <a:lumOff val="35000"/>
              </a:srgbClr>
            </a:solidFill>
            <a:round/>
          </a:ln>
        </p:spPr>
        <p:style>
          <a:lnRef idx="0"/>
          <a:fillRef idx="0"/>
          <a:effectRef idx="0"/>
          <a:fontRef idx="minor"/>
        </p:style>
        <p:txBody>
          <a:bodyPr lIns="90000" rIns="90000" tIns="45000" bIns="45000" anchor="ctr">
            <a:noAutofit/>
            <a:scene3d>
              <a:camera prst="orthographicFront"/>
              <a:lightRig dir="t" rig="threePt"/>
            </a:scene3d>
            <a:sp3d>
              <a:contourClr>
                <a:srgbClr val="ffffff"/>
              </a:contourClr>
            </a:sp3d>
          </a:bodyPr>
          <a:p>
            <a:pPr algn="ctr">
              <a:lnSpc>
                <a:spcPct val="100000"/>
              </a:lnSpc>
            </a:pPr>
            <a:endParaRPr b="0" lang="en-US" sz="1800" spc="-1" strike="noStrike">
              <a:solidFill>
                <a:srgbClr val="ffffff"/>
              </a:solidFill>
              <a:latin typeface="Calibri"/>
            </a:endParaRPr>
          </a:p>
        </p:txBody>
      </p:sp>
      <p:sp>
        <p:nvSpPr>
          <p:cNvPr id="300" name="KSO_Shape"/>
          <p:cNvSpPr/>
          <p:nvPr/>
        </p:nvSpPr>
        <p:spPr>
          <a:xfrm>
            <a:off x="9343800" y="2935800"/>
            <a:ext cx="997560" cy="999000"/>
          </a:xfrm>
          <a:custGeom>
            <a:avLst/>
            <a:gdLst>
              <a:gd name="textAreaLeft" fmla="*/ 0 w 997560"/>
              <a:gd name="textAreaRight" fmla="*/ 997920 w 997560"/>
              <a:gd name="textAreaTop" fmla="*/ 0 h 999000"/>
              <a:gd name="textAreaBottom" fmla="*/ 999360 h 999000"/>
            </a:gdLst>
            <a:ahLst/>
            <a:rect l="textAreaLeft" t="textAreaTop" r="textAreaRight" b="textAreaBottom"/>
            <a:pathLst>
              <a:path w="4409" h="4408">
                <a:moveTo>
                  <a:pt x="3025" y="2127"/>
                </a:moveTo>
                <a:lnTo>
                  <a:pt x="3025" y="2127"/>
                </a:lnTo>
                <a:lnTo>
                  <a:pt x="3097" y="2107"/>
                </a:lnTo>
                <a:lnTo>
                  <a:pt x="3179" y="2081"/>
                </a:lnTo>
                <a:lnTo>
                  <a:pt x="3271" y="2053"/>
                </a:lnTo>
                <a:lnTo>
                  <a:pt x="3375" y="2020"/>
                </a:lnTo>
                <a:lnTo>
                  <a:pt x="3429" y="2002"/>
                </a:lnTo>
                <a:lnTo>
                  <a:pt x="3481" y="1982"/>
                </a:lnTo>
                <a:lnTo>
                  <a:pt x="3532" y="1961"/>
                </a:lnTo>
                <a:lnTo>
                  <a:pt x="3580" y="1938"/>
                </a:lnTo>
                <a:lnTo>
                  <a:pt x="3626" y="1914"/>
                </a:lnTo>
                <a:lnTo>
                  <a:pt x="3672" y="1889"/>
                </a:lnTo>
                <a:lnTo>
                  <a:pt x="3715" y="1861"/>
                </a:lnTo>
                <a:lnTo>
                  <a:pt x="3756" y="1834"/>
                </a:lnTo>
                <a:lnTo>
                  <a:pt x="3797" y="1804"/>
                </a:lnTo>
                <a:lnTo>
                  <a:pt x="3834" y="1774"/>
                </a:lnTo>
                <a:lnTo>
                  <a:pt x="3871" y="1744"/>
                </a:lnTo>
                <a:lnTo>
                  <a:pt x="3906" y="1711"/>
                </a:lnTo>
                <a:lnTo>
                  <a:pt x="3940" y="1679"/>
                </a:lnTo>
                <a:lnTo>
                  <a:pt x="3971" y="1644"/>
                </a:lnTo>
                <a:lnTo>
                  <a:pt x="4002" y="1610"/>
                </a:lnTo>
                <a:lnTo>
                  <a:pt x="4031" y="1575"/>
                </a:lnTo>
                <a:lnTo>
                  <a:pt x="4059" y="1539"/>
                </a:lnTo>
                <a:lnTo>
                  <a:pt x="4085" y="1502"/>
                </a:lnTo>
                <a:lnTo>
                  <a:pt x="4110" y="1466"/>
                </a:lnTo>
                <a:lnTo>
                  <a:pt x="4134" y="1428"/>
                </a:lnTo>
                <a:lnTo>
                  <a:pt x="4157" y="1390"/>
                </a:lnTo>
                <a:lnTo>
                  <a:pt x="4177" y="1351"/>
                </a:lnTo>
                <a:lnTo>
                  <a:pt x="4198" y="1312"/>
                </a:lnTo>
                <a:lnTo>
                  <a:pt x="4217" y="1274"/>
                </a:lnTo>
                <a:lnTo>
                  <a:pt x="4234" y="1235"/>
                </a:lnTo>
                <a:lnTo>
                  <a:pt x="4251" y="1196"/>
                </a:lnTo>
                <a:lnTo>
                  <a:pt x="4267" y="1156"/>
                </a:lnTo>
                <a:lnTo>
                  <a:pt x="4281" y="1117"/>
                </a:lnTo>
                <a:lnTo>
                  <a:pt x="4295" y="1078"/>
                </a:lnTo>
                <a:lnTo>
                  <a:pt x="4307" y="1039"/>
                </a:lnTo>
                <a:lnTo>
                  <a:pt x="4319" y="1000"/>
                </a:lnTo>
                <a:lnTo>
                  <a:pt x="4329" y="961"/>
                </a:lnTo>
                <a:lnTo>
                  <a:pt x="4340" y="923"/>
                </a:lnTo>
                <a:lnTo>
                  <a:pt x="4349" y="884"/>
                </a:lnTo>
                <a:lnTo>
                  <a:pt x="4357" y="847"/>
                </a:lnTo>
                <a:lnTo>
                  <a:pt x="4365" y="809"/>
                </a:lnTo>
                <a:lnTo>
                  <a:pt x="4377" y="736"/>
                </a:lnTo>
                <a:lnTo>
                  <a:pt x="4387" y="665"/>
                </a:lnTo>
                <a:lnTo>
                  <a:pt x="4395" y="598"/>
                </a:lnTo>
                <a:lnTo>
                  <a:pt x="4401" y="534"/>
                </a:lnTo>
                <a:lnTo>
                  <a:pt x="4405" y="474"/>
                </a:lnTo>
                <a:lnTo>
                  <a:pt x="4407" y="418"/>
                </a:lnTo>
                <a:lnTo>
                  <a:pt x="4409" y="367"/>
                </a:lnTo>
                <a:lnTo>
                  <a:pt x="4409" y="321"/>
                </a:lnTo>
                <a:lnTo>
                  <a:pt x="4409" y="281"/>
                </a:lnTo>
                <a:lnTo>
                  <a:pt x="4407" y="247"/>
                </a:lnTo>
                <a:lnTo>
                  <a:pt x="4404" y="201"/>
                </a:lnTo>
                <a:lnTo>
                  <a:pt x="4403" y="183"/>
                </a:lnTo>
                <a:lnTo>
                  <a:pt x="3786" y="183"/>
                </a:lnTo>
                <a:lnTo>
                  <a:pt x="3491" y="183"/>
                </a:lnTo>
                <a:lnTo>
                  <a:pt x="3491" y="0"/>
                </a:lnTo>
                <a:lnTo>
                  <a:pt x="919" y="0"/>
                </a:lnTo>
                <a:lnTo>
                  <a:pt x="919" y="183"/>
                </a:lnTo>
                <a:lnTo>
                  <a:pt x="624" y="183"/>
                </a:lnTo>
                <a:lnTo>
                  <a:pt x="6" y="183"/>
                </a:lnTo>
                <a:lnTo>
                  <a:pt x="5" y="201"/>
                </a:lnTo>
                <a:lnTo>
                  <a:pt x="2" y="247"/>
                </a:lnTo>
                <a:lnTo>
                  <a:pt x="1" y="282"/>
                </a:lnTo>
                <a:lnTo>
                  <a:pt x="0" y="321"/>
                </a:lnTo>
                <a:lnTo>
                  <a:pt x="1" y="367"/>
                </a:lnTo>
                <a:lnTo>
                  <a:pt x="2" y="419"/>
                </a:lnTo>
                <a:lnTo>
                  <a:pt x="4" y="475"/>
                </a:lnTo>
                <a:lnTo>
                  <a:pt x="8" y="535"/>
                </a:lnTo>
                <a:lnTo>
                  <a:pt x="14" y="599"/>
                </a:lnTo>
                <a:lnTo>
                  <a:pt x="22" y="667"/>
                </a:lnTo>
                <a:lnTo>
                  <a:pt x="32" y="737"/>
                </a:lnTo>
                <a:lnTo>
                  <a:pt x="45" y="811"/>
                </a:lnTo>
                <a:lnTo>
                  <a:pt x="52" y="848"/>
                </a:lnTo>
                <a:lnTo>
                  <a:pt x="61" y="886"/>
                </a:lnTo>
                <a:lnTo>
                  <a:pt x="69" y="924"/>
                </a:lnTo>
                <a:lnTo>
                  <a:pt x="79" y="962"/>
                </a:lnTo>
                <a:lnTo>
                  <a:pt x="91" y="1002"/>
                </a:lnTo>
                <a:lnTo>
                  <a:pt x="102" y="1041"/>
                </a:lnTo>
                <a:lnTo>
                  <a:pt x="115" y="1080"/>
                </a:lnTo>
                <a:lnTo>
                  <a:pt x="128" y="1120"/>
                </a:lnTo>
                <a:lnTo>
                  <a:pt x="142" y="1158"/>
                </a:lnTo>
                <a:lnTo>
                  <a:pt x="159" y="1198"/>
                </a:lnTo>
                <a:lnTo>
                  <a:pt x="175" y="1237"/>
                </a:lnTo>
                <a:lnTo>
                  <a:pt x="193" y="1276"/>
                </a:lnTo>
                <a:lnTo>
                  <a:pt x="211" y="1315"/>
                </a:lnTo>
                <a:lnTo>
                  <a:pt x="232" y="1354"/>
                </a:lnTo>
                <a:lnTo>
                  <a:pt x="253" y="1392"/>
                </a:lnTo>
                <a:lnTo>
                  <a:pt x="275" y="1430"/>
                </a:lnTo>
                <a:lnTo>
                  <a:pt x="299" y="1468"/>
                </a:lnTo>
                <a:lnTo>
                  <a:pt x="324" y="1504"/>
                </a:lnTo>
                <a:lnTo>
                  <a:pt x="350" y="1541"/>
                </a:lnTo>
                <a:lnTo>
                  <a:pt x="378" y="1577"/>
                </a:lnTo>
                <a:lnTo>
                  <a:pt x="407" y="1612"/>
                </a:lnTo>
                <a:lnTo>
                  <a:pt x="438" y="1646"/>
                </a:lnTo>
                <a:lnTo>
                  <a:pt x="470" y="1681"/>
                </a:lnTo>
                <a:lnTo>
                  <a:pt x="503" y="1713"/>
                </a:lnTo>
                <a:lnTo>
                  <a:pt x="538" y="1746"/>
                </a:lnTo>
                <a:lnTo>
                  <a:pt x="574" y="1776"/>
                </a:lnTo>
                <a:lnTo>
                  <a:pt x="613" y="1806"/>
                </a:lnTo>
                <a:lnTo>
                  <a:pt x="653" y="1835"/>
                </a:lnTo>
                <a:lnTo>
                  <a:pt x="694" y="1863"/>
                </a:lnTo>
                <a:lnTo>
                  <a:pt x="738" y="1890"/>
                </a:lnTo>
                <a:lnTo>
                  <a:pt x="782" y="1915"/>
                </a:lnTo>
                <a:lnTo>
                  <a:pt x="829" y="1939"/>
                </a:lnTo>
                <a:lnTo>
                  <a:pt x="878" y="1962"/>
                </a:lnTo>
                <a:lnTo>
                  <a:pt x="928" y="1983"/>
                </a:lnTo>
                <a:lnTo>
                  <a:pt x="981" y="2002"/>
                </a:lnTo>
                <a:lnTo>
                  <a:pt x="1035" y="2020"/>
                </a:lnTo>
                <a:lnTo>
                  <a:pt x="1137" y="2053"/>
                </a:lnTo>
                <a:lnTo>
                  <a:pt x="1230" y="2080"/>
                </a:lnTo>
                <a:lnTo>
                  <a:pt x="1311" y="2105"/>
                </a:lnTo>
                <a:lnTo>
                  <a:pt x="1384" y="2125"/>
                </a:lnTo>
                <a:lnTo>
                  <a:pt x="1417" y="2164"/>
                </a:lnTo>
                <a:lnTo>
                  <a:pt x="1452" y="2203"/>
                </a:lnTo>
                <a:lnTo>
                  <a:pt x="1488" y="2241"/>
                </a:lnTo>
                <a:lnTo>
                  <a:pt x="1525" y="2275"/>
                </a:lnTo>
                <a:lnTo>
                  <a:pt x="1562" y="2309"/>
                </a:lnTo>
                <a:lnTo>
                  <a:pt x="1600" y="2340"/>
                </a:lnTo>
                <a:lnTo>
                  <a:pt x="1639" y="2370"/>
                </a:lnTo>
                <a:lnTo>
                  <a:pt x="1679" y="2398"/>
                </a:lnTo>
                <a:lnTo>
                  <a:pt x="1720" y="2424"/>
                </a:lnTo>
                <a:lnTo>
                  <a:pt x="1761" y="2449"/>
                </a:lnTo>
                <a:lnTo>
                  <a:pt x="1803" y="2471"/>
                </a:lnTo>
                <a:lnTo>
                  <a:pt x="1845" y="2490"/>
                </a:lnTo>
                <a:lnTo>
                  <a:pt x="1888" y="2508"/>
                </a:lnTo>
                <a:lnTo>
                  <a:pt x="1933" y="2525"/>
                </a:lnTo>
                <a:lnTo>
                  <a:pt x="1976" y="2538"/>
                </a:lnTo>
                <a:lnTo>
                  <a:pt x="2021" y="2549"/>
                </a:lnTo>
                <a:lnTo>
                  <a:pt x="2021" y="3864"/>
                </a:lnTo>
                <a:lnTo>
                  <a:pt x="1963" y="3868"/>
                </a:lnTo>
                <a:lnTo>
                  <a:pt x="1906" y="3873"/>
                </a:lnTo>
                <a:lnTo>
                  <a:pt x="1850" y="3880"/>
                </a:lnTo>
                <a:lnTo>
                  <a:pt x="1795" y="3887"/>
                </a:lnTo>
                <a:lnTo>
                  <a:pt x="1741" y="3895"/>
                </a:lnTo>
                <a:lnTo>
                  <a:pt x="1688" y="3904"/>
                </a:lnTo>
                <a:lnTo>
                  <a:pt x="1636" y="3915"/>
                </a:lnTo>
                <a:lnTo>
                  <a:pt x="1587" y="3926"/>
                </a:lnTo>
                <a:lnTo>
                  <a:pt x="1537" y="3939"/>
                </a:lnTo>
                <a:lnTo>
                  <a:pt x="1489" y="3951"/>
                </a:lnTo>
                <a:lnTo>
                  <a:pt x="1444" y="3965"/>
                </a:lnTo>
                <a:lnTo>
                  <a:pt x="1399" y="3980"/>
                </a:lnTo>
                <a:lnTo>
                  <a:pt x="1355" y="3995"/>
                </a:lnTo>
                <a:lnTo>
                  <a:pt x="1314" y="4012"/>
                </a:lnTo>
                <a:lnTo>
                  <a:pt x="1274" y="4029"/>
                </a:lnTo>
                <a:lnTo>
                  <a:pt x="1237" y="4046"/>
                </a:lnTo>
                <a:lnTo>
                  <a:pt x="1200" y="4065"/>
                </a:lnTo>
                <a:lnTo>
                  <a:pt x="1166" y="4085"/>
                </a:lnTo>
                <a:lnTo>
                  <a:pt x="1134" y="4104"/>
                </a:lnTo>
                <a:lnTo>
                  <a:pt x="1104" y="4124"/>
                </a:lnTo>
                <a:lnTo>
                  <a:pt x="1076" y="4146"/>
                </a:lnTo>
                <a:lnTo>
                  <a:pt x="1049" y="4167"/>
                </a:lnTo>
                <a:lnTo>
                  <a:pt x="1026" y="4189"/>
                </a:lnTo>
                <a:lnTo>
                  <a:pt x="1004" y="4211"/>
                </a:lnTo>
                <a:lnTo>
                  <a:pt x="984" y="4235"/>
                </a:lnTo>
                <a:lnTo>
                  <a:pt x="968" y="4259"/>
                </a:lnTo>
                <a:lnTo>
                  <a:pt x="953" y="4282"/>
                </a:lnTo>
                <a:lnTo>
                  <a:pt x="947" y="4295"/>
                </a:lnTo>
                <a:lnTo>
                  <a:pt x="941" y="4307"/>
                </a:lnTo>
                <a:lnTo>
                  <a:pt x="936" y="4320"/>
                </a:lnTo>
                <a:lnTo>
                  <a:pt x="931" y="4332"/>
                </a:lnTo>
                <a:lnTo>
                  <a:pt x="927" y="4344"/>
                </a:lnTo>
                <a:lnTo>
                  <a:pt x="924" y="4358"/>
                </a:lnTo>
                <a:lnTo>
                  <a:pt x="922" y="4370"/>
                </a:lnTo>
                <a:lnTo>
                  <a:pt x="920" y="4383"/>
                </a:lnTo>
                <a:lnTo>
                  <a:pt x="919" y="4396"/>
                </a:lnTo>
                <a:lnTo>
                  <a:pt x="919" y="4408"/>
                </a:lnTo>
                <a:lnTo>
                  <a:pt x="3491" y="4408"/>
                </a:lnTo>
                <a:lnTo>
                  <a:pt x="3491" y="4396"/>
                </a:lnTo>
                <a:lnTo>
                  <a:pt x="3490" y="4383"/>
                </a:lnTo>
                <a:lnTo>
                  <a:pt x="3488" y="4370"/>
                </a:lnTo>
                <a:lnTo>
                  <a:pt x="3486" y="4358"/>
                </a:lnTo>
                <a:lnTo>
                  <a:pt x="3482" y="4344"/>
                </a:lnTo>
                <a:lnTo>
                  <a:pt x="3478" y="4332"/>
                </a:lnTo>
                <a:lnTo>
                  <a:pt x="3474" y="4320"/>
                </a:lnTo>
                <a:lnTo>
                  <a:pt x="3469" y="4307"/>
                </a:lnTo>
                <a:lnTo>
                  <a:pt x="3463" y="4295"/>
                </a:lnTo>
                <a:lnTo>
                  <a:pt x="3457" y="4282"/>
                </a:lnTo>
                <a:lnTo>
                  <a:pt x="3443" y="4259"/>
                </a:lnTo>
                <a:lnTo>
                  <a:pt x="3426" y="4235"/>
                </a:lnTo>
                <a:lnTo>
                  <a:pt x="3406" y="4211"/>
                </a:lnTo>
                <a:lnTo>
                  <a:pt x="3384" y="4189"/>
                </a:lnTo>
                <a:lnTo>
                  <a:pt x="3361" y="4167"/>
                </a:lnTo>
                <a:lnTo>
                  <a:pt x="3334" y="4146"/>
                </a:lnTo>
                <a:lnTo>
                  <a:pt x="3306" y="4124"/>
                </a:lnTo>
                <a:lnTo>
                  <a:pt x="3276" y="4104"/>
                </a:lnTo>
                <a:lnTo>
                  <a:pt x="3244" y="4085"/>
                </a:lnTo>
                <a:lnTo>
                  <a:pt x="3210" y="4065"/>
                </a:lnTo>
                <a:lnTo>
                  <a:pt x="3173" y="4046"/>
                </a:lnTo>
                <a:lnTo>
                  <a:pt x="3136" y="4029"/>
                </a:lnTo>
                <a:lnTo>
                  <a:pt x="3096" y="4012"/>
                </a:lnTo>
                <a:lnTo>
                  <a:pt x="3054" y="3995"/>
                </a:lnTo>
                <a:lnTo>
                  <a:pt x="3011" y="3980"/>
                </a:lnTo>
                <a:lnTo>
                  <a:pt x="2966" y="3965"/>
                </a:lnTo>
                <a:lnTo>
                  <a:pt x="2921" y="3951"/>
                </a:lnTo>
                <a:lnTo>
                  <a:pt x="2873" y="3939"/>
                </a:lnTo>
                <a:lnTo>
                  <a:pt x="2823" y="3926"/>
                </a:lnTo>
                <a:lnTo>
                  <a:pt x="2773" y="3915"/>
                </a:lnTo>
                <a:lnTo>
                  <a:pt x="2722" y="3904"/>
                </a:lnTo>
                <a:lnTo>
                  <a:pt x="2669" y="3895"/>
                </a:lnTo>
                <a:lnTo>
                  <a:pt x="2615" y="3887"/>
                </a:lnTo>
                <a:lnTo>
                  <a:pt x="2559" y="3880"/>
                </a:lnTo>
                <a:lnTo>
                  <a:pt x="2504" y="3873"/>
                </a:lnTo>
                <a:lnTo>
                  <a:pt x="2447" y="3868"/>
                </a:lnTo>
                <a:lnTo>
                  <a:pt x="2389" y="3864"/>
                </a:lnTo>
                <a:lnTo>
                  <a:pt x="2389" y="2549"/>
                </a:lnTo>
                <a:lnTo>
                  <a:pt x="2434" y="2538"/>
                </a:lnTo>
                <a:lnTo>
                  <a:pt x="2477" y="2525"/>
                </a:lnTo>
                <a:lnTo>
                  <a:pt x="2521" y="2508"/>
                </a:lnTo>
                <a:lnTo>
                  <a:pt x="2565" y="2491"/>
                </a:lnTo>
                <a:lnTo>
                  <a:pt x="2607" y="2471"/>
                </a:lnTo>
                <a:lnTo>
                  <a:pt x="2649" y="2449"/>
                </a:lnTo>
                <a:lnTo>
                  <a:pt x="2689" y="2425"/>
                </a:lnTo>
                <a:lnTo>
                  <a:pt x="2730" y="2399"/>
                </a:lnTo>
                <a:lnTo>
                  <a:pt x="2769" y="2370"/>
                </a:lnTo>
                <a:lnTo>
                  <a:pt x="2809" y="2341"/>
                </a:lnTo>
                <a:lnTo>
                  <a:pt x="2846" y="2310"/>
                </a:lnTo>
                <a:lnTo>
                  <a:pt x="2884" y="2276"/>
                </a:lnTo>
                <a:lnTo>
                  <a:pt x="2921" y="2242"/>
                </a:lnTo>
                <a:lnTo>
                  <a:pt x="2956" y="2205"/>
                </a:lnTo>
                <a:lnTo>
                  <a:pt x="2992" y="2167"/>
                </a:lnTo>
                <a:lnTo>
                  <a:pt x="3025" y="2127"/>
                </a:lnTo>
                <a:close/>
                <a:moveTo>
                  <a:pt x="3491" y="791"/>
                </a:moveTo>
                <a:lnTo>
                  <a:pt x="3491" y="367"/>
                </a:lnTo>
                <a:lnTo>
                  <a:pt x="3786" y="367"/>
                </a:lnTo>
                <a:lnTo>
                  <a:pt x="4226" y="367"/>
                </a:lnTo>
                <a:lnTo>
                  <a:pt x="4226" y="403"/>
                </a:lnTo>
                <a:lnTo>
                  <a:pt x="4225" y="441"/>
                </a:lnTo>
                <a:lnTo>
                  <a:pt x="4223" y="482"/>
                </a:lnTo>
                <a:lnTo>
                  <a:pt x="4220" y="525"/>
                </a:lnTo>
                <a:lnTo>
                  <a:pt x="4216" y="570"/>
                </a:lnTo>
                <a:lnTo>
                  <a:pt x="4211" y="617"/>
                </a:lnTo>
                <a:lnTo>
                  <a:pt x="4205" y="665"/>
                </a:lnTo>
                <a:lnTo>
                  <a:pt x="4198" y="716"/>
                </a:lnTo>
                <a:lnTo>
                  <a:pt x="4188" y="767"/>
                </a:lnTo>
                <a:lnTo>
                  <a:pt x="4177" y="819"/>
                </a:lnTo>
                <a:lnTo>
                  <a:pt x="4165" y="873"/>
                </a:lnTo>
                <a:lnTo>
                  <a:pt x="4152" y="927"/>
                </a:lnTo>
                <a:lnTo>
                  <a:pt x="4136" y="982"/>
                </a:lnTo>
                <a:lnTo>
                  <a:pt x="4117" y="1037"/>
                </a:lnTo>
                <a:lnTo>
                  <a:pt x="4097" y="1091"/>
                </a:lnTo>
                <a:lnTo>
                  <a:pt x="4075" y="1146"/>
                </a:lnTo>
                <a:lnTo>
                  <a:pt x="4050" y="1201"/>
                </a:lnTo>
                <a:lnTo>
                  <a:pt x="4037" y="1227"/>
                </a:lnTo>
                <a:lnTo>
                  <a:pt x="4023" y="1255"/>
                </a:lnTo>
                <a:lnTo>
                  <a:pt x="4009" y="1281"/>
                </a:lnTo>
                <a:lnTo>
                  <a:pt x="3994" y="1307"/>
                </a:lnTo>
                <a:lnTo>
                  <a:pt x="3977" y="1334"/>
                </a:lnTo>
                <a:lnTo>
                  <a:pt x="3961" y="1360"/>
                </a:lnTo>
                <a:lnTo>
                  <a:pt x="3944" y="1385"/>
                </a:lnTo>
                <a:lnTo>
                  <a:pt x="3926" y="1412"/>
                </a:lnTo>
                <a:lnTo>
                  <a:pt x="3907" y="1436"/>
                </a:lnTo>
                <a:lnTo>
                  <a:pt x="3887" y="1462"/>
                </a:lnTo>
                <a:lnTo>
                  <a:pt x="3867" y="1486"/>
                </a:lnTo>
                <a:lnTo>
                  <a:pt x="3847" y="1510"/>
                </a:lnTo>
                <a:lnTo>
                  <a:pt x="3824" y="1534"/>
                </a:lnTo>
                <a:lnTo>
                  <a:pt x="3802" y="1557"/>
                </a:lnTo>
                <a:lnTo>
                  <a:pt x="3779" y="1579"/>
                </a:lnTo>
                <a:lnTo>
                  <a:pt x="3754" y="1602"/>
                </a:lnTo>
                <a:lnTo>
                  <a:pt x="3729" y="1623"/>
                </a:lnTo>
                <a:lnTo>
                  <a:pt x="3703" y="1644"/>
                </a:lnTo>
                <a:lnTo>
                  <a:pt x="3676" y="1664"/>
                </a:lnTo>
                <a:lnTo>
                  <a:pt x="3649" y="1685"/>
                </a:lnTo>
                <a:lnTo>
                  <a:pt x="3619" y="1704"/>
                </a:lnTo>
                <a:lnTo>
                  <a:pt x="3590" y="1722"/>
                </a:lnTo>
                <a:lnTo>
                  <a:pt x="3560" y="1740"/>
                </a:lnTo>
                <a:lnTo>
                  <a:pt x="3528" y="1758"/>
                </a:lnTo>
                <a:lnTo>
                  <a:pt x="3496" y="1775"/>
                </a:lnTo>
                <a:lnTo>
                  <a:pt x="3462" y="1790"/>
                </a:lnTo>
                <a:lnTo>
                  <a:pt x="3428" y="1805"/>
                </a:lnTo>
                <a:lnTo>
                  <a:pt x="3392" y="1820"/>
                </a:lnTo>
                <a:lnTo>
                  <a:pt x="3357" y="1833"/>
                </a:lnTo>
                <a:lnTo>
                  <a:pt x="3319" y="1846"/>
                </a:lnTo>
                <a:lnTo>
                  <a:pt x="3192" y="1886"/>
                </a:lnTo>
                <a:lnTo>
                  <a:pt x="3227" y="1825"/>
                </a:lnTo>
                <a:lnTo>
                  <a:pt x="3258" y="1763"/>
                </a:lnTo>
                <a:lnTo>
                  <a:pt x="3289" y="1700"/>
                </a:lnTo>
                <a:lnTo>
                  <a:pt x="3317" y="1635"/>
                </a:lnTo>
                <a:lnTo>
                  <a:pt x="3345" y="1569"/>
                </a:lnTo>
                <a:lnTo>
                  <a:pt x="3369" y="1501"/>
                </a:lnTo>
                <a:lnTo>
                  <a:pt x="3391" y="1433"/>
                </a:lnTo>
                <a:lnTo>
                  <a:pt x="3411" y="1364"/>
                </a:lnTo>
                <a:lnTo>
                  <a:pt x="3430" y="1294"/>
                </a:lnTo>
                <a:lnTo>
                  <a:pt x="3446" y="1223"/>
                </a:lnTo>
                <a:lnTo>
                  <a:pt x="3459" y="1152"/>
                </a:lnTo>
                <a:lnTo>
                  <a:pt x="3470" y="1080"/>
                </a:lnTo>
                <a:lnTo>
                  <a:pt x="3475" y="1044"/>
                </a:lnTo>
                <a:lnTo>
                  <a:pt x="3479" y="1008"/>
                </a:lnTo>
                <a:lnTo>
                  <a:pt x="3482" y="972"/>
                </a:lnTo>
                <a:lnTo>
                  <a:pt x="3486" y="936"/>
                </a:lnTo>
                <a:lnTo>
                  <a:pt x="3488" y="900"/>
                </a:lnTo>
                <a:lnTo>
                  <a:pt x="3490" y="863"/>
                </a:lnTo>
                <a:lnTo>
                  <a:pt x="3491" y="828"/>
                </a:lnTo>
                <a:lnTo>
                  <a:pt x="3491" y="791"/>
                </a:lnTo>
                <a:close/>
                <a:moveTo>
                  <a:pt x="1091" y="1846"/>
                </a:moveTo>
                <a:lnTo>
                  <a:pt x="1091" y="1846"/>
                </a:lnTo>
                <a:lnTo>
                  <a:pt x="1053" y="1833"/>
                </a:lnTo>
                <a:lnTo>
                  <a:pt x="1017" y="1820"/>
                </a:lnTo>
                <a:lnTo>
                  <a:pt x="981" y="1805"/>
                </a:lnTo>
                <a:lnTo>
                  <a:pt x="947" y="1791"/>
                </a:lnTo>
                <a:lnTo>
                  <a:pt x="913" y="1775"/>
                </a:lnTo>
                <a:lnTo>
                  <a:pt x="881" y="1759"/>
                </a:lnTo>
                <a:lnTo>
                  <a:pt x="849" y="1741"/>
                </a:lnTo>
                <a:lnTo>
                  <a:pt x="819" y="1723"/>
                </a:lnTo>
                <a:lnTo>
                  <a:pt x="789" y="1705"/>
                </a:lnTo>
                <a:lnTo>
                  <a:pt x="760" y="1686"/>
                </a:lnTo>
                <a:lnTo>
                  <a:pt x="733" y="1665"/>
                </a:lnTo>
                <a:lnTo>
                  <a:pt x="705" y="1645"/>
                </a:lnTo>
                <a:lnTo>
                  <a:pt x="680" y="1624"/>
                </a:lnTo>
                <a:lnTo>
                  <a:pt x="655" y="1603"/>
                </a:lnTo>
                <a:lnTo>
                  <a:pt x="630" y="1580"/>
                </a:lnTo>
                <a:lnTo>
                  <a:pt x="607" y="1558"/>
                </a:lnTo>
                <a:lnTo>
                  <a:pt x="585" y="1535"/>
                </a:lnTo>
                <a:lnTo>
                  <a:pt x="562" y="1511"/>
                </a:lnTo>
                <a:lnTo>
                  <a:pt x="541" y="1487"/>
                </a:lnTo>
                <a:lnTo>
                  <a:pt x="521" y="1463"/>
                </a:lnTo>
                <a:lnTo>
                  <a:pt x="501" y="1438"/>
                </a:lnTo>
                <a:lnTo>
                  <a:pt x="483" y="1413"/>
                </a:lnTo>
                <a:lnTo>
                  <a:pt x="465" y="1387"/>
                </a:lnTo>
                <a:lnTo>
                  <a:pt x="448" y="1361"/>
                </a:lnTo>
                <a:lnTo>
                  <a:pt x="431" y="1336"/>
                </a:lnTo>
                <a:lnTo>
                  <a:pt x="415" y="1309"/>
                </a:lnTo>
                <a:lnTo>
                  <a:pt x="400" y="1283"/>
                </a:lnTo>
                <a:lnTo>
                  <a:pt x="386" y="1256"/>
                </a:lnTo>
                <a:lnTo>
                  <a:pt x="372" y="1229"/>
                </a:lnTo>
                <a:lnTo>
                  <a:pt x="358" y="1202"/>
                </a:lnTo>
                <a:lnTo>
                  <a:pt x="334" y="1147"/>
                </a:lnTo>
                <a:lnTo>
                  <a:pt x="312" y="1092"/>
                </a:lnTo>
                <a:lnTo>
                  <a:pt x="291" y="1038"/>
                </a:lnTo>
                <a:lnTo>
                  <a:pt x="273" y="983"/>
                </a:lnTo>
                <a:lnTo>
                  <a:pt x="258" y="928"/>
                </a:lnTo>
                <a:lnTo>
                  <a:pt x="244" y="874"/>
                </a:lnTo>
                <a:lnTo>
                  <a:pt x="232" y="820"/>
                </a:lnTo>
                <a:lnTo>
                  <a:pt x="221" y="768"/>
                </a:lnTo>
                <a:lnTo>
                  <a:pt x="212" y="716"/>
                </a:lnTo>
                <a:lnTo>
                  <a:pt x="204" y="666"/>
                </a:lnTo>
                <a:lnTo>
                  <a:pt x="198" y="618"/>
                </a:lnTo>
                <a:lnTo>
                  <a:pt x="194" y="570"/>
                </a:lnTo>
                <a:lnTo>
                  <a:pt x="190" y="525"/>
                </a:lnTo>
                <a:lnTo>
                  <a:pt x="187" y="482"/>
                </a:lnTo>
                <a:lnTo>
                  <a:pt x="185" y="441"/>
                </a:lnTo>
                <a:lnTo>
                  <a:pt x="184" y="404"/>
                </a:lnTo>
                <a:lnTo>
                  <a:pt x="184" y="367"/>
                </a:lnTo>
                <a:lnTo>
                  <a:pt x="624" y="367"/>
                </a:lnTo>
                <a:lnTo>
                  <a:pt x="919" y="367"/>
                </a:lnTo>
                <a:lnTo>
                  <a:pt x="919" y="791"/>
                </a:lnTo>
                <a:lnTo>
                  <a:pt x="919" y="828"/>
                </a:lnTo>
                <a:lnTo>
                  <a:pt x="920" y="863"/>
                </a:lnTo>
                <a:lnTo>
                  <a:pt x="922" y="900"/>
                </a:lnTo>
                <a:lnTo>
                  <a:pt x="924" y="936"/>
                </a:lnTo>
                <a:lnTo>
                  <a:pt x="927" y="972"/>
                </a:lnTo>
                <a:lnTo>
                  <a:pt x="930" y="1008"/>
                </a:lnTo>
                <a:lnTo>
                  <a:pt x="935" y="1044"/>
                </a:lnTo>
                <a:lnTo>
                  <a:pt x="940" y="1080"/>
                </a:lnTo>
                <a:lnTo>
                  <a:pt x="951" y="1151"/>
                </a:lnTo>
                <a:lnTo>
                  <a:pt x="964" y="1223"/>
                </a:lnTo>
                <a:lnTo>
                  <a:pt x="980" y="1293"/>
                </a:lnTo>
                <a:lnTo>
                  <a:pt x="998" y="1363"/>
                </a:lnTo>
                <a:lnTo>
                  <a:pt x="1019" y="1432"/>
                </a:lnTo>
                <a:lnTo>
                  <a:pt x="1041" y="1501"/>
                </a:lnTo>
                <a:lnTo>
                  <a:pt x="1065" y="1568"/>
                </a:lnTo>
                <a:lnTo>
                  <a:pt x="1092" y="1634"/>
                </a:lnTo>
                <a:lnTo>
                  <a:pt x="1120" y="1699"/>
                </a:lnTo>
                <a:lnTo>
                  <a:pt x="1151" y="1763"/>
                </a:lnTo>
                <a:lnTo>
                  <a:pt x="1183" y="1825"/>
                </a:lnTo>
                <a:lnTo>
                  <a:pt x="1217" y="1885"/>
                </a:lnTo>
                <a:lnTo>
                  <a:pt x="1091" y="1846"/>
                </a:lnTo>
                <a:close/>
                <a:moveTo>
                  <a:pt x="2205" y="1626"/>
                </a:moveTo>
                <a:lnTo>
                  <a:pt x="1637" y="2020"/>
                </a:lnTo>
                <a:lnTo>
                  <a:pt x="1837" y="1359"/>
                </a:lnTo>
                <a:lnTo>
                  <a:pt x="1287" y="940"/>
                </a:lnTo>
                <a:lnTo>
                  <a:pt x="1978" y="927"/>
                </a:lnTo>
                <a:lnTo>
                  <a:pt x="2205" y="274"/>
                </a:lnTo>
                <a:lnTo>
                  <a:pt x="2433" y="927"/>
                </a:lnTo>
                <a:lnTo>
                  <a:pt x="3123" y="940"/>
                </a:lnTo>
                <a:lnTo>
                  <a:pt x="2573" y="1359"/>
                </a:lnTo>
                <a:lnTo>
                  <a:pt x="2772" y="2020"/>
                </a:lnTo>
                <a:lnTo>
                  <a:pt x="2205" y="1626"/>
                </a:lnTo>
                <a:close/>
              </a:path>
            </a:pathLst>
          </a:custGeom>
          <a:noFill/>
          <a:ln w="0">
            <a:solidFill>
              <a:srgbClr val="000000">
                <a:lumMod val="65000"/>
                <a:lumOff val="35000"/>
              </a:srgbClr>
            </a:solidFill>
          </a:ln>
        </p:spPr>
        <p:style>
          <a:lnRef idx="0"/>
          <a:fillRef idx="0"/>
          <a:effectRef idx="0"/>
          <a:fontRef idx="minor"/>
        </p:style>
        <p:txBody>
          <a:bodyPr lIns="90000" rIns="90000" tIns="45000" bIns="45000" anchor="ctr">
            <a:noAutofit/>
            <a:scene3d>
              <a:camera prst="orthographicFront"/>
              <a:lightRig dir="t" rig="threePt"/>
            </a:scene3d>
            <a:sp3d>
              <a:contourClr>
                <a:srgbClr val="ffffff"/>
              </a:contourClr>
            </a:sp3d>
          </a:bodyPr>
          <a:p>
            <a:pPr algn="ctr">
              <a:lnSpc>
                <a:spcPct val="100000"/>
              </a:lnSpc>
            </a:pPr>
            <a:endParaRPr b="0" lang="en-US" sz="1800" spc="-1" strike="noStrike">
              <a:solidFill>
                <a:srgbClr val="ffffff"/>
              </a:solidFill>
              <a:latin typeface="Calibri"/>
            </a:endParaRPr>
          </a:p>
        </p:txBody>
      </p:sp>
      <p:sp>
        <p:nvSpPr>
          <p:cNvPr id="301" name="KSO_Shape"/>
          <p:cNvSpPr/>
          <p:nvPr/>
        </p:nvSpPr>
        <p:spPr>
          <a:xfrm>
            <a:off x="4899960" y="2980800"/>
            <a:ext cx="867600" cy="991800"/>
          </a:xfrm>
          <a:custGeom>
            <a:avLst/>
            <a:gdLst>
              <a:gd name="textAreaLeft" fmla="*/ 0 w 867600"/>
              <a:gd name="textAreaRight" fmla="*/ 867960 w 867600"/>
              <a:gd name="textAreaTop" fmla="*/ 0 h 991800"/>
              <a:gd name="textAreaBottom" fmla="*/ 992160 h 991800"/>
            </a:gdLst>
            <a:ahLst/>
            <a:rect l="textAreaLeft" t="textAreaTop" r="textAreaRight" b="textAreaBottom"/>
            <a:pathLst>
              <a:path w="1166813" h="1333500">
                <a:moveTo>
                  <a:pt x="631825" y="895350"/>
                </a:moveTo>
                <a:lnTo>
                  <a:pt x="1166813" y="895350"/>
                </a:lnTo>
                <a:lnTo>
                  <a:pt x="1166813" y="1236222"/>
                </a:lnTo>
                <a:lnTo>
                  <a:pt x="1166813" y="1240993"/>
                </a:lnTo>
                <a:lnTo>
                  <a:pt x="1166283" y="1246294"/>
                </a:lnTo>
                <a:lnTo>
                  <a:pt x="1165754" y="1251065"/>
                </a:lnTo>
                <a:lnTo>
                  <a:pt x="1164959" y="1255571"/>
                </a:lnTo>
                <a:lnTo>
                  <a:pt x="1163900" y="1260343"/>
                </a:lnTo>
                <a:lnTo>
                  <a:pt x="1162576" y="1265114"/>
                </a:lnTo>
                <a:lnTo>
                  <a:pt x="1160987" y="1269620"/>
                </a:lnTo>
                <a:lnTo>
                  <a:pt x="1159397" y="1273861"/>
                </a:lnTo>
                <a:lnTo>
                  <a:pt x="1157279" y="1278102"/>
                </a:lnTo>
                <a:lnTo>
                  <a:pt x="1155160" y="1282608"/>
                </a:lnTo>
                <a:lnTo>
                  <a:pt x="1152776" y="1286584"/>
                </a:lnTo>
                <a:lnTo>
                  <a:pt x="1150128" y="1290560"/>
                </a:lnTo>
                <a:lnTo>
                  <a:pt x="1147479" y="1294271"/>
                </a:lnTo>
                <a:lnTo>
                  <a:pt x="1144566" y="1297982"/>
                </a:lnTo>
                <a:lnTo>
                  <a:pt x="1141653" y="1301692"/>
                </a:lnTo>
                <a:lnTo>
                  <a:pt x="1138475" y="1305138"/>
                </a:lnTo>
                <a:lnTo>
                  <a:pt x="1135032" y="1308319"/>
                </a:lnTo>
                <a:lnTo>
                  <a:pt x="1131324" y="1311235"/>
                </a:lnTo>
                <a:lnTo>
                  <a:pt x="1127616" y="1314150"/>
                </a:lnTo>
                <a:lnTo>
                  <a:pt x="1123908" y="1316801"/>
                </a:lnTo>
                <a:lnTo>
                  <a:pt x="1120200" y="1319452"/>
                </a:lnTo>
                <a:lnTo>
                  <a:pt x="1115698" y="1321837"/>
                </a:lnTo>
                <a:lnTo>
                  <a:pt x="1111725" y="1323958"/>
                </a:lnTo>
                <a:lnTo>
                  <a:pt x="1107488" y="1325813"/>
                </a:lnTo>
                <a:lnTo>
                  <a:pt x="1102985" y="1327669"/>
                </a:lnTo>
                <a:lnTo>
                  <a:pt x="1098483" y="1329259"/>
                </a:lnTo>
                <a:lnTo>
                  <a:pt x="1093716" y="1330319"/>
                </a:lnTo>
                <a:lnTo>
                  <a:pt x="1089213" y="1331645"/>
                </a:lnTo>
                <a:lnTo>
                  <a:pt x="1084446" y="1332440"/>
                </a:lnTo>
                <a:lnTo>
                  <a:pt x="1079679" y="1332970"/>
                </a:lnTo>
                <a:lnTo>
                  <a:pt x="1074647" y="1333235"/>
                </a:lnTo>
                <a:lnTo>
                  <a:pt x="1069615" y="1333500"/>
                </a:lnTo>
                <a:lnTo>
                  <a:pt x="631825" y="1333500"/>
                </a:lnTo>
                <a:lnTo>
                  <a:pt x="631825" y="895350"/>
                </a:lnTo>
                <a:close/>
                <a:moveTo>
                  <a:pt x="0" y="895350"/>
                </a:moveTo>
                <a:lnTo>
                  <a:pt x="534988" y="895350"/>
                </a:lnTo>
                <a:lnTo>
                  <a:pt x="534988" y="1333500"/>
                </a:lnTo>
                <a:lnTo>
                  <a:pt x="97150" y="1333500"/>
                </a:lnTo>
                <a:lnTo>
                  <a:pt x="92385" y="1333235"/>
                </a:lnTo>
                <a:lnTo>
                  <a:pt x="87356" y="1332970"/>
                </a:lnTo>
                <a:lnTo>
                  <a:pt x="82326" y="1332440"/>
                </a:lnTo>
                <a:lnTo>
                  <a:pt x="77561" y="1331645"/>
                </a:lnTo>
                <a:lnTo>
                  <a:pt x="73061" y="1330319"/>
                </a:lnTo>
                <a:lnTo>
                  <a:pt x="68561" y="1329259"/>
                </a:lnTo>
                <a:lnTo>
                  <a:pt x="63796" y="1327669"/>
                </a:lnTo>
                <a:lnTo>
                  <a:pt x="59561" y="1325813"/>
                </a:lnTo>
                <a:lnTo>
                  <a:pt x="55325" y="1323958"/>
                </a:lnTo>
                <a:lnTo>
                  <a:pt x="51090" y="1321837"/>
                </a:lnTo>
                <a:lnTo>
                  <a:pt x="47119" y="1319452"/>
                </a:lnTo>
                <a:lnTo>
                  <a:pt x="42884" y="1316801"/>
                </a:lnTo>
                <a:lnTo>
                  <a:pt x="39178" y="1314150"/>
                </a:lnTo>
                <a:lnTo>
                  <a:pt x="35472" y="1311235"/>
                </a:lnTo>
                <a:lnTo>
                  <a:pt x="32030" y="1308319"/>
                </a:lnTo>
                <a:lnTo>
                  <a:pt x="28589" y="1305138"/>
                </a:lnTo>
                <a:lnTo>
                  <a:pt x="25148" y="1301692"/>
                </a:lnTo>
                <a:lnTo>
                  <a:pt x="22236" y="1297982"/>
                </a:lnTo>
                <a:lnTo>
                  <a:pt x="19324" y="1294271"/>
                </a:lnTo>
                <a:lnTo>
                  <a:pt x="16677" y="1290560"/>
                </a:lnTo>
                <a:lnTo>
                  <a:pt x="14294" y="1286584"/>
                </a:lnTo>
                <a:lnTo>
                  <a:pt x="11912" y="1282608"/>
                </a:lnTo>
                <a:lnTo>
                  <a:pt x="9794" y="1278102"/>
                </a:lnTo>
                <a:lnTo>
                  <a:pt x="7677" y="1273861"/>
                </a:lnTo>
                <a:lnTo>
                  <a:pt x="5824" y="1269620"/>
                </a:lnTo>
                <a:lnTo>
                  <a:pt x="4235" y="1265114"/>
                </a:lnTo>
                <a:lnTo>
                  <a:pt x="3176" y="1260343"/>
                </a:lnTo>
                <a:lnTo>
                  <a:pt x="1853" y="1255571"/>
                </a:lnTo>
                <a:lnTo>
                  <a:pt x="1059" y="1251065"/>
                </a:lnTo>
                <a:lnTo>
                  <a:pt x="529" y="1246294"/>
                </a:lnTo>
                <a:lnTo>
                  <a:pt x="265" y="1240993"/>
                </a:lnTo>
                <a:lnTo>
                  <a:pt x="0" y="1236222"/>
                </a:lnTo>
                <a:lnTo>
                  <a:pt x="0" y="895350"/>
                </a:lnTo>
                <a:close/>
                <a:moveTo>
                  <a:pt x="835990" y="99018"/>
                </a:moveTo>
                <a:lnTo>
                  <a:pt x="828842" y="99283"/>
                </a:lnTo>
                <a:lnTo>
                  <a:pt x="821958" y="99812"/>
                </a:lnTo>
                <a:lnTo>
                  <a:pt x="814810" y="100871"/>
                </a:lnTo>
                <a:lnTo>
                  <a:pt x="807398" y="102460"/>
                </a:lnTo>
                <a:lnTo>
                  <a:pt x="800250" y="104313"/>
                </a:lnTo>
                <a:lnTo>
                  <a:pt x="793101" y="106431"/>
                </a:lnTo>
                <a:lnTo>
                  <a:pt x="785953" y="109079"/>
                </a:lnTo>
                <a:lnTo>
                  <a:pt x="778805" y="111991"/>
                </a:lnTo>
                <a:lnTo>
                  <a:pt x="771657" y="115168"/>
                </a:lnTo>
                <a:lnTo>
                  <a:pt x="764774" y="118610"/>
                </a:lnTo>
                <a:lnTo>
                  <a:pt x="757626" y="122846"/>
                </a:lnTo>
                <a:lnTo>
                  <a:pt x="751007" y="127082"/>
                </a:lnTo>
                <a:lnTo>
                  <a:pt x="744389" y="131583"/>
                </a:lnTo>
                <a:lnTo>
                  <a:pt x="737505" y="136349"/>
                </a:lnTo>
                <a:lnTo>
                  <a:pt x="731416" y="141644"/>
                </a:lnTo>
                <a:lnTo>
                  <a:pt x="725327" y="147204"/>
                </a:lnTo>
                <a:lnTo>
                  <a:pt x="719503" y="152499"/>
                </a:lnTo>
                <a:lnTo>
                  <a:pt x="714473" y="157794"/>
                </a:lnTo>
                <a:lnTo>
                  <a:pt x="709443" y="163618"/>
                </a:lnTo>
                <a:lnTo>
                  <a:pt x="704413" y="169178"/>
                </a:lnTo>
                <a:lnTo>
                  <a:pt x="699647" y="175003"/>
                </a:lnTo>
                <a:lnTo>
                  <a:pt x="695411" y="181092"/>
                </a:lnTo>
                <a:lnTo>
                  <a:pt x="691175" y="187181"/>
                </a:lnTo>
                <a:lnTo>
                  <a:pt x="687204" y="193006"/>
                </a:lnTo>
                <a:lnTo>
                  <a:pt x="683498" y="199360"/>
                </a:lnTo>
                <a:lnTo>
                  <a:pt x="679791" y="205449"/>
                </a:lnTo>
                <a:lnTo>
                  <a:pt x="676615" y="211274"/>
                </a:lnTo>
                <a:lnTo>
                  <a:pt x="673438" y="217628"/>
                </a:lnTo>
                <a:lnTo>
                  <a:pt x="670525" y="223453"/>
                </a:lnTo>
                <a:lnTo>
                  <a:pt x="667878" y="229277"/>
                </a:lnTo>
                <a:lnTo>
                  <a:pt x="663113" y="241191"/>
                </a:lnTo>
                <a:lnTo>
                  <a:pt x="659142" y="252576"/>
                </a:lnTo>
                <a:lnTo>
                  <a:pt x="655965" y="263166"/>
                </a:lnTo>
                <a:lnTo>
                  <a:pt x="653847" y="273227"/>
                </a:lnTo>
                <a:lnTo>
                  <a:pt x="652258" y="282228"/>
                </a:lnTo>
                <a:lnTo>
                  <a:pt x="651729" y="286464"/>
                </a:lnTo>
                <a:lnTo>
                  <a:pt x="651464" y="290436"/>
                </a:lnTo>
                <a:lnTo>
                  <a:pt x="651464" y="294142"/>
                </a:lnTo>
                <a:lnTo>
                  <a:pt x="651464" y="297584"/>
                </a:lnTo>
                <a:lnTo>
                  <a:pt x="651729" y="300496"/>
                </a:lnTo>
                <a:lnTo>
                  <a:pt x="652258" y="303144"/>
                </a:lnTo>
                <a:lnTo>
                  <a:pt x="652788" y="305527"/>
                </a:lnTo>
                <a:lnTo>
                  <a:pt x="653582" y="307645"/>
                </a:lnTo>
                <a:lnTo>
                  <a:pt x="655700" y="307909"/>
                </a:lnTo>
                <a:lnTo>
                  <a:pt x="659936" y="309233"/>
                </a:lnTo>
                <a:lnTo>
                  <a:pt x="663113" y="309498"/>
                </a:lnTo>
                <a:lnTo>
                  <a:pt x="667084" y="310027"/>
                </a:lnTo>
                <a:lnTo>
                  <a:pt x="671584" y="310292"/>
                </a:lnTo>
                <a:lnTo>
                  <a:pt x="676879" y="310557"/>
                </a:lnTo>
                <a:lnTo>
                  <a:pt x="681645" y="310292"/>
                </a:lnTo>
                <a:lnTo>
                  <a:pt x="686940" y="310027"/>
                </a:lnTo>
                <a:lnTo>
                  <a:pt x="697000" y="308968"/>
                </a:lnTo>
                <a:lnTo>
                  <a:pt x="707854" y="307115"/>
                </a:lnTo>
                <a:lnTo>
                  <a:pt x="718709" y="304732"/>
                </a:lnTo>
                <a:lnTo>
                  <a:pt x="729828" y="302085"/>
                </a:lnTo>
                <a:lnTo>
                  <a:pt x="741212" y="298378"/>
                </a:lnTo>
                <a:lnTo>
                  <a:pt x="752331" y="294407"/>
                </a:lnTo>
                <a:lnTo>
                  <a:pt x="763715" y="290171"/>
                </a:lnTo>
                <a:lnTo>
                  <a:pt x="774834" y="284876"/>
                </a:lnTo>
                <a:lnTo>
                  <a:pt x="785953" y="279316"/>
                </a:lnTo>
                <a:lnTo>
                  <a:pt x="796808" y="273756"/>
                </a:lnTo>
                <a:lnTo>
                  <a:pt x="807133" y="267137"/>
                </a:lnTo>
                <a:lnTo>
                  <a:pt x="817193" y="260783"/>
                </a:lnTo>
                <a:lnTo>
                  <a:pt x="826724" y="253900"/>
                </a:lnTo>
                <a:lnTo>
                  <a:pt x="835990" y="246486"/>
                </a:lnTo>
                <a:lnTo>
                  <a:pt x="844462" y="239073"/>
                </a:lnTo>
                <a:lnTo>
                  <a:pt x="850815" y="232454"/>
                </a:lnTo>
                <a:lnTo>
                  <a:pt x="856905" y="226365"/>
                </a:lnTo>
                <a:lnTo>
                  <a:pt x="862199" y="220011"/>
                </a:lnTo>
                <a:lnTo>
                  <a:pt x="866965" y="213392"/>
                </a:lnTo>
                <a:lnTo>
                  <a:pt x="871730" y="207303"/>
                </a:lnTo>
                <a:lnTo>
                  <a:pt x="875437" y="200949"/>
                </a:lnTo>
                <a:lnTo>
                  <a:pt x="878878" y="194595"/>
                </a:lnTo>
                <a:lnTo>
                  <a:pt x="882055" y="188505"/>
                </a:lnTo>
                <a:lnTo>
                  <a:pt x="884703" y="182416"/>
                </a:lnTo>
                <a:lnTo>
                  <a:pt x="886820" y="176326"/>
                </a:lnTo>
                <a:lnTo>
                  <a:pt x="888674" y="170767"/>
                </a:lnTo>
                <a:lnTo>
                  <a:pt x="890527" y="165207"/>
                </a:lnTo>
                <a:lnTo>
                  <a:pt x="891586" y="159912"/>
                </a:lnTo>
                <a:lnTo>
                  <a:pt x="892380" y="154617"/>
                </a:lnTo>
                <a:lnTo>
                  <a:pt x="892645" y="149851"/>
                </a:lnTo>
                <a:lnTo>
                  <a:pt x="892910" y="145350"/>
                </a:lnTo>
                <a:lnTo>
                  <a:pt x="892910" y="141644"/>
                </a:lnTo>
                <a:lnTo>
                  <a:pt x="892645" y="137937"/>
                </a:lnTo>
                <a:lnTo>
                  <a:pt x="892115" y="134760"/>
                </a:lnTo>
                <a:lnTo>
                  <a:pt x="891586" y="131848"/>
                </a:lnTo>
                <a:lnTo>
                  <a:pt x="890792" y="129200"/>
                </a:lnTo>
                <a:lnTo>
                  <a:pt x="889997" y="126817"/>
                </a:lnTo>
                <a:lnTo>
                  <a:pt x="887879" y="122581"/>
                </a:lnTo>
                <a:lnTo>
                  <a:pt x="885761" y="119140"/>
                </a:lnTo>
                <a:lnTo>
                  <a:pt x="883908" y="116492"/>
                </a:lnTo>
                <a:lnTo>
                  <a:pt x="882055" y="114639"/>
                </a:lnTo>
                <a:lnTo>
                  <a:pt x="880731" y="113315"/>
                </a:lnTo>
                <a:lnTo>
                  <a:pt x="878349" y="111197"/>
                </a:lnTo>
                <a:lnTo>
                  <a:pt x="875701" y="109079"/>
                </a:lnTo>
                <a:lnTo>
                  <a:pt x="872789" y="107490"/>
                </a:lnTo>
                <a:lnTo>
                  <a:pt x="869612" y="105902"/>
                </a:lnTo>
                <a:lnTo>
                  <a:pt x="866700" y="104578"/>
                </a:lnTo>
                <a:lnTo>
                  <a:pt x="863788" y="103519"/>
                </a:lnTo>
                <a:lnTo>
                  <a:pt x="857699" y="101401"/>
                </a:lnTo>
                <a:lnTo>
                  <a:pt x="851345" y="100342"/>
                </a:lnTo>
                <a:lnTo>
                  <a:pt x="845785" y="99548"/>
                </a:lnTo>
                <a:lnTo>
                  <a:pt x="840490" y="99283"/>
                </a:lnTo>
                <a:lnTo>
                  <a:pt x="835990" y="99018"/>
                </a:lnTo>
                <a:close/>
                <a:moveTo>
                  <a:pt x="329235" y="99018"/>
                </a:moveTo>
                <a:lnTo>
                  <a:pt x="324470" y="99283"/>
                </a:lnTo>
                <a:lnTo>
                  <a:pt x="319175" y="99548"/>
                </a:lnTo>
                <a:lnTo>
                  <a:pt x="313615" y="100342"/>
                </a:lnTo>
                <a:lnTo>
                  <a:pt x="307262" y="101401"/>
                </a:lnTo>
                <a:lnTo>
                  <a:pt x="301437" y="103519"/>
                </a:lnTo>
                <a:lnTo>
                  <a:pt x="298260" y="104578"/>
                </a:lnTo>
                <a:lnTo>
                  <a:pt x="295348" y="105902"/>
                </a:lnTo>
                <a:lnTo>
                  <a:pt x="292436" y="107490"/>
                </a:lnTo>
                <a:lnTo>
                  <a:pt x="289789" y="109079"/>
                </a:lnTo>
                <a:lnTo>
                  <a:pt x="286876" y="111197"/>
                </a:lnTo>
                <a:lnTo>
                  <a:pt x="284229" y="113315"/>
                </a:lnTo>
                <a:lnTo>
                  <a:pt x="282905" y="114639"/>
                </a:lnTo>
                <a:lnTo>
                  <a:pt x="281052" y="116492"/>
                </a:lnTo>
                <a:lnTo>
                  <a:pt x="279199" y="118875"/>
                </a:lnTo>
                <a:lnTo>
                  <a:pt x="277346" y="122581"/>
                </a:lnTo>
                <a:lnTo>
                  <a:pt x="275492" y="126817"/>
                </a:lnTo>
                <a:lnTo>
                  <a:pt x="274433" y="129200"/>
                </a:lnTo>
                <a:lnTo>
                  <a:pt x="273904" y="131848"/>
                </a:lnTo>
                <a:lnTo>
                  <a:pt x="273110" y="134760"/>
                </a:lnTo>
                <a:lnTo>
                  <a:pt x="272845" y="137937"/>
                </a:lnTo>
                <a:lnTo>
                  <a:pt x="272580" y="141644"/>
                </a:lnTo>
                <a:lnTo>
                  <a:pt x="272315" y="145350"/>
                </a:lnTo>
                <a:lnTo>
                  <a:pt x="272580" y="149851"/>
                </a:lnTo>
                <a:lnTo>
                  <a:pt x="273110" y="154617"/>
                </a:lnTo>
                <a:lnTo>
                  <a:pt x="273904" y="159912"/>
                </a:lnTo>
                <a:lnTo>
                  <a:pt x="274963" y="165207"/>
                </a:lnTo>
                <a:lnTo>
                  <a:pt x="276287" y="170767"/>
                </a:lnTo>
                <a:lnTo>
                  <a:pt x="278140" y="176326"/>
                </a:lnTo>
                <a:lnTo>
                  <a:pt x="280522" y="182416"/>
                </a:lnTo>
                <a:lnTo>
                  <a:pt x="283170" y="188505"/>
                </a:lnTo>
                <a:lnTo>
                  <a:pt x="286082" y="194595"/>
                </a:lnTo>
                <a:lnTo>
                  <a:pt x="289789" y="200949"/>
                </a:lnTo>
                <a:lnTo>
                  <a:pt x="293760" y="207303"/>
                </a:lnTo>
                <a:lnTo>
                  <a:pt x="297996" y="213392"/>
                </a:lnTo>
                <a:lnTo>
                  <a:pt x="303026" y="220011"/>
                </a:lnTo>
                <a:lnTo>
                  <a:pt x="308585" y="226365"/>
                </a:lnTo>
                <a:lnTo>
                  <a:pt x="314410" y="232454"/>
                </a:lnTo>
                <a:lnTo>
                  <a:pt x="320763" y="239073"/>
                </a:lnTo>
                <a:lnTo>
                  <a:pt x="329235" y="246486"/>
                </a:lnTo>
                <a:lnTo>
                  <a:pt x="338236" y="253900"/>
                </a:lnTo>
                <a:lnTo>
                  <a:pt x="348032" y="260783"/>
                </a:lnTo>
                <a:lnTo>
                  <a:pt x="358092" y="267137"/>
                </a:lnTo>
                <a:lnTo>
                  <a:pt x="368682" y="273756"/>
                </a:lnTo>
                <a:lnTo>
                  <a:pt x="379272" y="279316"/>
                </a:lnTo>
                <a:lnTo>
                  <a:pt x="390391" y="284876"/>
                </a:lnTo>
                <a:lnTo>
                  <a:pt x="401245" y="290171"/>
                </a:lnTo>
                <a:lnTo>
                  <a:pt x="412629" y="294407"/>
                </a:lnTo>
                <a:lnTo>
                  <a:pt x="424013" y="298378"/>
                </a:lnTo>
                <a:lnTo>
                  <a:pt x="435132" y="302085"/>
                </a:lnTo>
                <a:lnTo>
                  <a:pt x="446252" y="304732"/>
                </a:lnTo>
                <a:lnTo>
                  <a:pt x="457106" y="307115"/>
                </a:lnTo>
                <a:lnTo>
                  <a:pt x="467960" y="308968"/>
                </a:lnTo>
                <a:lnTo>
                  <a:pt x="478285" y="310027"/>
                </a:lnTo>
                <a:lnTo>
                  <a:pt x="483316" y="310292"/>
                </a:lnTo>
                <a:lnTo>
                  <a:pt x="488081" y="310557"/>
                </a:lnTo>
                <a:lnTo>
                  <a:pt x="494435" y="310292"/>
                </a:lnTo>
                <a:lnTo>
                  <a:pt x="499730" y="309763"/>
                </a:lnTo>
                <a:lnTo>
                  <a:pt x="503966" y="309233"/>
                </a:lnTo>
                <a:lnTo>
                  <a:pt x="507407" y="308174"/>
                </a:lnTo>
                <a:lnTo>
                  <a:pt x="509790" y="307380"/>
                </a:lnTo>
                <a:lnTo>
                  <a:pt x="511643" y="306850"/>
                </a:lnTo>
                <a:lnTo>
                  <a:pt x="512967" y="306056"/>
                </a:lnTo>
                <a:lnTo>
                  <a:pt x="513496" y="304468"/>
                </a:lnTo>
                <a:lnTo>
                  <a:pt x="514026" y="302350"/>
                </a:lnTo>
                <a:lnTo>
                  <a:pt x="514820" y="299702"/>
                </a:lnTo>
                <a:lnTo>
                  <a:pt x="514820" y="297054"/>
                </a:lnTo>
                <a:lnTo>
                  <a:pt x="514820" y="293877"/>
                </a:lnTo>
                <a:lnTo>
                  <a:pt x="514820" y="290171"/>
                </a:lnTo>
                <a:lnTo>
                  <a:pt x="513496" y="282228"/>
                </a:lnTo>
                <a:lnTo>
                  <a:pt x="511908" y="273491"/>
                </a:lnTo>
                <a:lnTo>
                  <a:pt x="509525" y="263431"/>
                </a:lnTo>
                <a:lnTo>
                  <a:pt x="506348" y="252841"/>
                </a:lnTo>
                <a:lnTo>
                  <a:pt x="502377" y="241721"/>
                </a:lnTo>
                <a:lnTo>
                  <a:pt x="497612" y="229807"/>
                </a:lnTo>
                <a:lnTo>
                  <a:pt x="494700" y="223982"/>
                </a:lnTo>
                <a:lnTo>
                  <a:pt x="491787" y="217893"/>
                </a:lnTo>
                <a:lnTo>
                  <a:pt x="488875" y="211804"/>
                </a:lnTo>
                <a:lnTo>
                  <a:pt x="485434" y="205714"/>
                </a:lnTo>
                <a:lnTo>
                  <a:pt x="481992" y="199625"/>
                </a:lnTo>
                <a:lnTo>
                  <a:pt x="478285" y="193271"/>
                </a:lnTo>
                <a:lnTo>
                  <a:pt x="474050" y="187446"/>
                </a:lnTo>
                <a:lnTo>
                  <a:pt x="469814" y="181357"/>
                </a:lnTo>
                <a:lnTo>
                  <a:pt x="465578" y="175267"/>
                </a:lnTo>
                <a:lnTo>
                  <a:pt x="460812" y="169443"/>
                </a:lnTo>
                <a:lnTo>
                  <a:pt x="455782" y="163618"/>
                </a:lnTo>
                <a:lnTo>
                  <a:pt x="450752" y="157794"/>
                </a:lnTo>
                <a:lnTo>
                  <a:pt x="445457" y="152499"/>
                </a:lnTo>
                <a:lnTo>
                  <a:pt x="439898" y="147204"/>
                </a:lnTo>
                <a:lnTo>
                  <a:pt x="433544" y="141644"/>
                </a:lnTo>
                <a:lnTo>
                  <a:pt x="427455" y="136349"/>
                </a:lnTo>
                <a:lnTo>
                  <a:pt x="421101" y="131583"/>
                </a:lnTo>
                <a:lnTo>
                  <a:pt x="414218" y="127082"/>
                </a:lnTo>
                <a:lnTo>
                  <a:pt x="407334" y="122846"/>
                </a:lnTo>
                <a:lnTo>
                  <a:pt x="400451" y="118610"/>
                </a:lnTo>
                <a:lnTo>
                  <a:pt x="393303" y="115168"/>
                </a:lnTo>
                <a:lnTo>
                  <a:pt x="386420" y="111991"/>
                </a:lnTo>
                <a:lnTo>
                  <a:pt x="379007" y="109079"/>
                </a:lnTo>
                <a:lnTo>
                  <a:pt x="372124" y="106431"/>
                </a:lnTo>
                <a:lnTo>
                  <a:pt x="364975" y="104313"/>
                </a:lnTo>
                <a:lnTo>
                  <a:pt x="357563" y="102460"/>
                </a:lnTo>
                <a:lnTo>
                  <a:pt x="350415" y="100871"/>
                </a:lnTo>
                <a:lnTo>
                  <a:pt x="343267" y="99812"/>
                </a:lnTo>
                <a:lnTo>
                  <a:pt x="336119" y="99283"/>
                </a:lnTo>
                <a:lnTo>
                  <a:pt x="329235" y="99018"/>
                </a:lnTo>
                <a:close/>
                <a:moveTo>
                  <a:pt x="321028" y="0"/>
                </a:moveTo>
                <a:lnTo>
                  <a:pt x="329235" y="0"/>
                </a:lnTo>
                <a:lnTo>
                  <a:pt x="340354" y="265"/>
                </a:lnTo>
                <a:lnTo>
                  <a:pt x="352003" y="1059"/>
                </a:lnTo>
                <a:lnTo>
                  <a:pt x="363122" y="2648"/>
                </a:lnTo>
                <a:lnTo>
                  <a:pt x="374771" y="4766"/>
                </a:lnTo>
                <a:lnTo>
                  <a:pt x="386420" y="7148"/>
                </a:lnTo>
                <a:lnTo>
                  <a:pt x="397804" y="10855"/>
                </a:lnTo>
                <a:lnTo>
                  <a:pt x="409452" y="14562"/>
                </a:lnTo>
                <a:lnTo>
                  <a:pt x="421101" y="18798"/>
                </a:lnTo>
                <a:lnTo>
                  <a:pt x="432485" y="23828"/>
                </a:lnTo>
                <a:lnTo>
                  <a:pt x="443869" y="29388"/>
                </a:lnTo>
                <a:lnTo>
                  <a:pt x="454723" y="35477"/>
                </a:lnTo>
                <a:lnTo>
                  <a:pt x="465843" y="42096"/>
                </a:lnTo>
                <a:lnTo>
                  <a:pt x="476432" y="49509"/>
                </a:lnTo>
                <a:lnTo>
                  <a:pt x="487287" y="57187"/>
                </a:lnTo>
                <a:lnTo>
                  <a:pt x="497612" y="65659"/>
                </a:lnTo>
                <a:lnTo>
                  <a:pt x="507407" y="74396"/>
                </a:lnTo>
                <a:lnTo>
                  <a:pt x="515879" y="82339"/>
                </a:lnTo>
                <a:lnTo>
                  <a:pt x="524086" y="91076"/>
                </a:lnTo>
                <a:lnTo>
                  <a:pt x="531764" y="99812"/>
                </a:lnTo>
                <a:lnTo>
                  <a:pt x="539441" y="109079"/>
                </a:lnTo>
                <a:lnTo>
                  <a:pt x="546589" y="118345"/>
                </a:lnTo>
                <a:lnTo>
                  <a:pt x="554002" y="128406"/>
                </a:lnTo>
                <a:lnTo>
                  <a:pt x="560356" y="138202"/>
                </a:lnTo>
                <a:lnTo>
                  <a:pt x="566710" y="148527"/>
                </a:lnTo>
                <a:lnTo>
                  <a:pt x="573064" y="158588"/>
                </a:lnTo>
                <a:lnTo>
                  <a:pt x="578623" y="169178"/>
                </a:lnTo>
                <a:lnTo>
                  <a:pt x="582510" y="177566"/>
                </a:lnTo>
                <a:lnTo>
                  <a:pt x="586602" y="169178"/>
                </a:lnTo>
                <a:lnTo>
                  <a:pt x="592426" y="158588"/>
                </a:lnTo>
                <a:lnTo>
                  <a:pt x="598251" y="148527"/>
                </a:lnTo>
                <a:lnTo>
                  <a:pt x="604604" y="138202"/>
                </a:lnTo>
                <a:lnTo>
                  <a:pt x="611488" y="128406"/>
                </a:lnTo>
                <a:lnTo>
                  <a:pt x="618371" y="118345"/>
                </a:lnTo>
                <a:lnTo>
                  <a:pt x="625519" y="109079"/>
                </a:lnTo>
                <a:lnTo>
                  <a:pt x="633197" y="99812"/>
                </a:lnTo>
                <a:lnTo>
                  <a:pt x="641139" y="91076"/>
                </a:lnTo>
                <a:lnTo>
                  <a:pt x="649346" y="82339"/>
                </a:lnTo>
                <a:lnTo>
                  <a:pt x="657553" y="74396"/>
                </a:lnTo>
                <a:lnTo>
                  <a:pt x="667613" y="65659"/>
                </a:lnTo>
                <a:lnTo>
                  <a:pt x="677938" y="57187"/>
                </a:lnTo>
                <a:lnTo>
                  <a:pt x="688528" y="49509"/>
                </a:lnTo>
                <a:lnTo>
                  <a:pt x="699118" y="42096"/>
                </a:lnTo>
                <a:lnTo>
                  <a:pt x="710237" y="35477"/>
                </a:lnTo>
                <a:lnTo>
                  <a:pt x="721356" y="29388"/>
                </a:lnTo>
                <a:lnTo>
                  <a:pt x="732475" y="23828"/>
                </a:lnTo>
                <a:lnTo>
                  <a:pt x="744124" y="18798"/>
                </a:lnTo>
                <a:lnTo>
                  <a:pt x="755508" y="14562"/>
                </a:lnTo>
                <a:lnTo>
                  <a:pt x="767157" y="10855"/>
                </a:lnTo>
                <a:lnTo>
                  <a:pt x="778805" y="7148"/>
                </a:lnTo>
                <a:lnTo>
                  <a:pt x="790189" y="4766"/>
                </a:lnTo>
                <a:lnTo>
                  <a:pt x="801838" y="2648"/>
                </a:lnTo>
                <a:lnTo>
                  <a:pt x="813222" y="1059"/>
                </a:lnTo>
                <a:lnTo>
                  <a:pt x="824606" y="265"/>
                </a:lnTo>
                <a:lnTo>
                  <a:pt x="835990" y="0"/>
                </a:lnTo>
                <a:lnTo>
                  <a:pt x="843932" y="0"/>
                </a:lnTo>
                <a:lnTo>
                  <a:pt x="851874" y="530"/>
                </a:lnTo>
                <a:lnTo>
                  <a:pt x="859817" y="1324"/>
                </a:lnTo>
                <a:lnTo>
                  <a:pt x="867494" y="2383"/>
                </a:lnTo>
                <a:lnTo>
                  <a:pt x="875437" y="3707"/>
                </a:lnTo>
                <a:lnTo>
                  <a:pt x="882585" y="5560"/>
                </a:lnTo>
                <a:lnTo>
                  <a:pt x="890262" y="7413"/>
                </a:lnTo>
                <a:lnTo>
                  <a:pt x="897410" y="10061"/>
                </a:lnTo>
                <a:lnTo>
                  <a:pt x="904293" y="12708"/>
                </a:lnTo>
                <a:lnTo>
                  <a:pt x="911442" y="15621"/>
                </a:lnTo>
                <a:lnTo>
                  <a:pt x="918060" y="19062"/>
                </a:lnTo>
                <a:lnTo>
                  <a:pt x="924414" y="22504"/>
                </a:lnTo>
                <a:lnTo>
                  <a:pt x="931033" y="26476"/>
                </a:lnTo>
                <a:lnTo>
                  <a:pt x="936857" y="30976"/>
                </a:lnTo>
                <a:lnTo>
                  <a:pt x="942681" y="35742"/>
                </a:lnTo>
                <a:lnTo>
                  <a:pt x="948506" y="40507"/>
                </a:lnTo>
                <a:lnTo>
                  <a:pt x="954859" y="47126"/>
                </a:lnTo>
                <a:lnTo>
                  <a:pt x="960419" y="53480"/>
                </a:lnTo>
                <a:lnTo>
                  <a:pt x="965979" y="60364"/>
                </a:lnTo>
                <a:lnTo>
                  <a:pt x="970744" y="67777"/>
                </a:lnTo>
                <a:lnTo>
                  <a:pt x="974980" y="74926"/>
                </a:lnTo>
                <a:lnTo>
                  <a:pt x="978951" y="82603"/>
                </a:lnTo>
                <a:lnTo>
                  <a:pt x="982128" y="90546"/>
                </a:lnTo>
                <a:lnTo>
                  <a:pt x="985305" y="98753"/>
                </a:lnTo>
                <a:lnTo>
                  <a:pt x="987423" y="107226"/>
                </a:lnTo>
                <a:lnTo>
                  <a:pt x="989276" y="115433"/>
                </a:lnTo>
                <a:lnTo>
                  <a:pt x="990864" y="124170"/>
                </a:lnTo>
                <a:lnTo>
                  <a:pt x="991659" y="132907"/>
                </a:lnTo>
                <a:lnTo>
                  <a:pt x="992188" y="141908"/>
                </a:lnTo>
                <a:lnTo>
                  <a:pt x="991923" y="150910"/>
                </a:lnTo>
                <a:lnTo>
                  <a:pt x="991394" y="160176"/>
                </a:lnTo>
                <a:lnTo>
                  <a:pt x="990600" y="169178"/>
                </a:lnTo>
                <a:lnTo>
                  <a:pt x="989011" y="178445"/>
                </a:lnTo>
                <a:lnTo>
                  <a:pt x="987158" y="187446"/>
                </a:lnTo>
                <a:lnTo>
                  <a:pt x="984775" y="196977"/>
                </a:lnTo>
                <a:lnTo>
                  <a:pt x="981598" y="206244"/>
                </a:lnTo>
                <a:lnTo>
                  <a:pt x="978422" y="215510"/>
                </a:lnTo>
                <a:lnTo>
                  <a:pt x="974715" y="224512"/>
                </a:lnTo>
                <a:lnTo>
                  <a:pt x="970479" y="234043"/>
                </a:lnTo>
                <a:lnTo>
                  <a:pt x="965979" y="243045"/>
                </a:lnTo>
                <a:lnTo>
                  <a:pt x="960419" y="251781"/>
                </a:lnTo>
                <a:lnTo>
                  <a:pt x="954859" y="261048"/>
                </a:lnTo>
                <a:lnTo>
                  <a:pt x="949035" y="269785"/>
                </a:lnTo>
                <a:lnTo>
                  <a:pt x="942416" y="278522"/>
                </a:lnTo>
                <a:lnTo>
                  <a:pt x="935533" y="286994"/>
                </a:lnTo>
                <a:lnTo>
                  <a:pt x="928385" y="295466"/>
                </a:lnTo>
                <a:lnTo>
                  <a:pt x="920178" y="303673"/>
                </a:lnTo>
                <a:lnTo>
                  <a:pt x="912236" y="311616"/>
                </a:lnTo>
                <a:lnTo>
                  <a:pt x="906147" y="316911"/>
                </a:lnTo>
                <a:lnTo>
                  <a:pt x="900058" y="321941"/>
                </a:lnTo>
                <a:lnTo>
                  <a:pt x="893969" y="326972"/>
                </a:lnTo>
                <a:lnTo>
                  <a:pt x="887350" y="332267"/>
                </a:lnTo>
                <a:lnTo>
                  <a:pt x="880996" y="337032"/>
                </a:lnTo>
                <a:lnTo>
                  <a:pt x="874378" y="341798"/>
                </a:lnTo>
                <a:lnTo>
                  <a:pt x="867229" y="346564"/>
                </a:lnTo>
                <a:lnTo>
                  <a:pt x="860346" y="351064"/>
                </a:lnTo>
                <a:lnTo>
                  <a:pt x="853463" y="355300"/>
                </a:lnTo>
                <a:lnTo>
                  <a:pt x="846050" y="359537"/>
                </a:lnTo>
                <a:lnTo>
                  <a:pt x="844507" y="360363"/>
                </a:lnTo>
                <a:lnTo>
                  <a:pt x="1069615" y="360363"/>
                </a:lnTo>
                <a:lnTo>
                  <a:pt x="1074647" y="360628"/>
                </a:lnTo>
                <a:lnTo>
                  <a:pt x="1079679" y="360893"/>
                </a:lnTo>
                <a:lnTo>
                  <a:pt x="1084446" y="361423"/>
                </a:lnTo>
                <a:lnTo>
                  <a:pt x="1089213" y="362217"/>
                </a:lnTo>
                <a:lnTo>
                  <a:pt x="1093716" y="363542"/>
                </a:lnTo>
                <a:lnTo>
                  <a:pt x="1098483" y="364866"/>
                </a:lnTo>
                <a:lnTo>
                  <a:pt x="1102985" y="366456"/>
                </a:lnTo>
                <a:lnTo>
                  <a:pt x="1107488" y="368310"/>
                </a:lnTo>
                <a:lnTo>
                  <a:pt x="1111725" y="370164"/>
                </a:lnTo>
                <a:lnTo>
                  <a:pt x="1115698" y="372284"/>
                </a:lnTo>
                <a:lnTo>
                  <a:pt x="1120200" y="374668"/>
                </a:lnTo>
                <a:lnTo>
                  <a:pt x="1123908" y="377052"/>
                </a:lnTo>
                <a:lnTo>
                  <a:pt x="1127616" y="379701"/>
                </a:lnTo>
                <a:lnTo>
                  <a:pt x="1131324" y="382615"/>
                </a:lnTo>
                <a:lnTo>
                  <a:pt x="1135032" y="385794"/>
                </a:lnTo>
                <a:lnTo>
                  <a:pt x="1138475" y="388973"/>
                </a:lnTo>
                <a:lnTo>
                  <a:pt x="1141653" y="392416"/>
                </a:lnTo>
                <a:lnTo>
                  <a:pt x="1144566" y="395860"/>
                </a:lnTo>
                <a:lnTo>
                  <a:pt x="1147479" y="399569"/>
                </a:lnTo>
                <a:lnTo>
                  <a:pt x="1150128" y="403542"/>
                </a:lnTo>
                <a:lnTo>
                  <a:pt x="1152776" y="407516"/>
                </a:lnTo>
                <a:lnTo>
                  <a:pt x="1155160" y="411489"/>
                </a:lnTo>
                <a:lnTo>
                  <a:pt x="1157279" y="415728"/>
                </a:lnTo>
                <a:lnTo>
                  <a:pt x="1159397" y="419966"/>
                </a:lnTo>
                <a:lnTo>
                  <a:pt x="1160987" y="424470"/>
                </a:lnTo>
                <a:lnTo>
                  <a:pt x="1162576" y="428973"/>
                </a:lnTo>
                <a:lnTo>
                  <a:pt x="1163900" y="433476"/>
                </a:lnTo>
                <a:lnTo>
                  <a:pt x="1164959" y="437980"/>
                </a:lnTo>
                <a:lnTo>
                  <a:pt x="1165754" y="443013"/>
                </a:lnTo>
                <a:lnTo>
                  <a:pt x="1166283" y="447781"/>
                </a:lnTo>
                <a:lnTo>
                  <a:pt x="1166813" y="452814"/>
                </a:lnTo>
                <a:lnTo>
                  <a:pt x="1166813" y="457847"/>
                </a:lnTo>
                <a:lnTo>
                  <a:pt x="1166813" y="798513"/>
                </a:lnTo>
                <a:lnTo>
                  <a:pt x="631825" y="798513"/>
                </a:lnTo>
                <a:lnTo>
                  <a:pt x="631825" y="404329"/>
                </a:lnTo>
                <a:lnTo>
                  <a:pt x="631608" y="404280"/>
                </a:lnTo>
                <a:lnTo>
                  <a:pt x="625519" y="402427"/>
                </a:lnTo>
                <a:lnTo>
                  <a:pt x="619695" y="400309"/>
                </a:lnTo>
                <a:lnTo>
                  <a:pt x="614135" y="398191"/>
                </a:lnTo>
                <a:lnTo>
                  <a:pt x="608840" y="395543"/>
                </a:lnTo>
                <a:lnTo>
                  <a:pt x="603546" y="392896"/>
                </a:lnTo>
                <a:lnTo>
                  <a:pt x="598515" y="389983"/>
                </a:lnTo>
                <a:lnTo>
                  <a:pt x="593750" y="386806"/>
                </a:lnTo>
                <a:lnTo>
                  <a:pt x="588985" y="383100"/>
                </a:lnTo>
                <a:lnTo>
                  <a:pt x="584749" y="379128"/>
                </a:lnTo>
                <a:lnTo>
                  <a:pt x="582480" y="377049"/>
                </a:lnTo>
                <a:lnTo>
                  <a:pt x="580212" y="379128"/>
                </a:lnTo>
                <a:lnTo>
                  <a:pt x="575976" y="383100"/>
                </a:lnTo>
                <a:lnTo>
                  <a:pt x="571475" y="386806"/>
                </a:lnTo>
                <a:lnTo>
                  <a:pt x="566445" y="389983"/>
                </a:lnTo>
                <a:lnTo>
                  <a:pt x="561415" y="392896"/>
                </a:lnTo>
                <a:lnTo>
                  <a:pt x="556385" y="395543"/>
                </a:lnTo>
                <a:lnTo>
                  <a:pt x="550825" y="398191"/>
                </a:lnTo>
                <a:lnTo>
                  <a:pt x="545265" y="400309"/>
                </a:lnTo>
                <a:lnTo>
                  <a:pt x="539706" y="402427"/>
                </a:lnTo>
                <a:lnTo>
                  <a:pt x="534988" y="403928"/>
                </a:lnTo>
                <a:lnTo>
                  <a:pt x="534988" y="798513"/>
                </a:lnTo>
                <a:lnTo>
                  <a:pt x="0" y="798513"/>
                </a:lnTo>
                <a:lnTo>
                  <a:pt x="0" y="457847"/>
                </a:lnTo>
                <a:lnTo>
                  <a:pt x="265" y="452814"/>
                </a:lnTo>
                <a:lnTo>
                  <a:pt x="529" y="447781"/>
                </a:lnTo>
                <a:lnTo>
                  <a:pt x="1059" y="443013"/>
                </a:lnTo>
                <a:lnTo>
                  <a:pt x="1853" y="437980"/>
                </a:lnTo>
                <a:lnTo>
                  <a:pt x="3176" y="433476"/>
                </a:lnTo>
                <a:lnTo>
                  <a:pt x="4235" y="428973"/>
                </a:lnTo>
                <a:lnTo>
                  <a:pt x="5824" y="424470"/>
                </a:lnTo>
                <a:lnTo>
                  <a:pt x="7677" y="419966"/>
                </a:lnTo>
                <a:lnTo>
                  <a:pt x="9794" y="415728"/>
                </a:lnTo>
                <a:lnTo>
                  <a:pt x="11912" y="411489"/>
                </a:lnTo>
                <a:lnTo>
                  <a:pt x="14294" y="407516"/>
                </a:lnTo>
                <a:lnTo>
                  <a:pt x="16677" y="403542"/>
                </a:lnTo>
                <a:lnTo>
                  <a:pt x="19324" y="399569"/>
                </a:lnTo>
                <a:lnTo>
                  <a:pt x="22236" y="395860"/>
                </a:lnTo>
                <a:lnTo>
                  <a:pt x="25148" y="392416"/>
                </a:lnTo>
                <a:lnTo>
                  <a:pt x="28589" y="388973"/>
                </a:lnTo>
                <a:lnTo>
                  <a:pt x="32030" y="385794"/>
                </a:lnTo>
                <a:lnTo>
                  <a:pt x="35472" y="382615"/>
                </a:lnTo>
                <a:lnTo>
                  <a:pt x="39178" y="379701"/>
                </a:lnTo>
                <a:lnTo>
                  <a:pt x="42884" y="377052"/>
                </a:lnTo>
                <a:lnTo>
                  <a:pt x="47119" y="374668"/>
                </a:lnTo>
                <a:lnTo>
                  <a:pt x="51090" y="372284"/>
                </a:lnTo>
                <a:lnTo>
                  <a:pt x="55325" y="370164"/>
                </a:lnTo>
                <a:lnTo>
                  <a:pt x="59561" y="368310"/>
                </a:lnTo>
                <a:lnTo>
                  <a:pt x="63796" y="366456"/>
                </a:lnTo>
                <a:lnTo>
                  <a:pt x="68561" y="364866"/>
                </a:lnTo>
                <a:lnTo>
                  <a:pt x="73061" y="363542"/>
                </a:lnTo>
                <a:lnTo>
                  <a:pt x="77561" y="362217"/>
                </a:lnTo>
                <a:lnTo>
                  <a:pt x="82326" y="361423"/>
                </a:lnTo>
                <a:lnTo>
                  <a:pt x="87356" y="360893"/>
                </a:lnTo>
                <a:lnTo>
                  <a:pt x="92385" y="360628"/>
                </a:lnTo>
                <a:lnTo>
                  <a:pt x="97150" y="360363"/>
                </a:lnTo>
                <a:lnTo>
                  <a:pt x="320663" y="360363"/>
                </a:lnTo>
                <a:lnTo>
                  <a:pt x="319175" y="359537"/>
                </a:lnTo>
                <a:lnTo>
                  <a:pt x="312027" y="355300"/>
                </a:lnTo>
                <a:lnTo>
                  <a:pt x="304614" y="351064"/>
                </a:lnTo>
                <a:lnTo>
                  <a:pt x="297731" y="346564"/>
                </a:lnTo>
                <a:lnTo>
                  <a:pt x="290847" y="341798"/>
                </a:lnTo>
                <a:lnTo>
                  <a:pt x="283964" y="337032"/>
                </a:lnTo>
                <a:lnTo>
                  <a:pt x="277610" y="332267"/>
                </a:lnTo>
                <a:lnTo>
                  <a:pt x="271256" y="326972"/>
                </a:lnTo>
                <a:lnTo>
                  <a:pt x="264903" y="321941"/>
                </a:lnTo>
                <a:lnTo>
                  <a:pt x="258814" y="316911"/>
                </a:lnTo>
                <a:lnTo>
                  <a:pt x="253254" y="311616"/>
                </a:lnTo>
                <a:lnTo>
                  <a:pt x="244782" y="303673"/>
                </a:lnTo>
                <a:lnTo>
                  <a:pt x="237105" y="295466"/>
                </a:lnTo>
                <a:lnTo>
                  <a:pt x="229427" y="286994"/>
                </a:lnTo>
                <a:lnTo>
                  <a:pt x="222809" y="278522"/>
                </a:lnTo>
                <a:lnTo>
                  <a:pt x="216190" y="269785"/>
                </a:lnTo>
                <a:lnTo>
                  <a:pt x="210101" y="261048"/>
                </a:lnTo>
                <a:lnTo>
                  <a:pt x="204541" y="251781"/>
                </a:lnTo>
                <a:lnTo>
                  <a:pt x="199511" y="243045"/>
                </a:lnTo>
                <a:lnTo>
                  <a:pt x="194481" y="234043"/>
                </a:lnTo>
                <a:lnTo>
                  <a:pt x="190510" y="224512"/>
                </a:lnTo>
                <a:lnTo>
                  <a:pt x="186539" y="215510"/>
                </a:lnTo>
                <a:lnTo>
                  <a:pt x="183362" y="206244"/>
                </a:lnTo>
                <a:lnTo>
                  <a:pt x="180450" y="196977"/>
                </a:lnTo>
                <a:lnTo>
                  <a:pt x="178067" y="187446"/>
                </a:lnTo>
                <a:lnTo>
                  <a:pt x="175949" y="178445"/>
                </a:lnTo>
                <a:lnTo>
                  <a:pt x="174625" y="169178"/>
                </a:lnTo>
                <a:lnTo>
                  <a:pt x="173566" y="160176"/>
                </a:lnTo>
                <a:lnTo>
                  <a:pt x="173037" y="150910"/>
                </a:lnTo>
                <a:lnTo>
                  <a:pt x="173037" y="141908"/>
                </a:lnTo>
                <a:lnTo>
                  <a:pt x="173302" y="132907"/>
                </a:lnTo>
                <a:lnTo>
                  <a:pt x="174361" y="124170"/>
                </a:lnTo>
                <a:lnTo>
                  <a:pt x="175684" y="115433"/>
                </a:lnTo>
                <a:lnTo>
                  <a:pt x="177802" y="107226"/>
                </a:lnTo>
                <a:lnTo>
                  <a:pt x="180185" y="98753"/>
                </a:lnTo>
                <a:lnTo>
                  <a:pt x="182832" y="90546"/>
                </a:lnTo>
                <a:lnTo>
                  <a:pt x="186274" y="82603"/>
                </a:lnTo>
                <a:lnTo>
                  <a:pt x="189980" y="74926"/>
                </a:lnTo>
                <a:lnTo>
                  <a:pt x="194216" y="67777"/>
                </a:lnTo>
                <a:lnTo>
                  <a:pt x="199246" y="60364"/>
                </a:lnTo>
                <a:lnTo>
                  <a:pt x="204541" y="53480"/>
                </a:lnTo>
                <a:lnTo>
                  <a:pt x="210101" y="47126"/>
                </a:lnTo>
                <a:lnTo>
                  <a:pt x="216719" y="40507"/>
                </a:lnTo>
                <a:lnTo>
                  <a:pt x="222279" y="35742"/>
                </a:lnTo>
                <a:lnTo>
                  <a:pt x="228103" y="30976"/>
                </a:lnTo>
                <a:lnTo>
                  <a:pt x="234457" y="26476"/>
                </a:lnTo>
                <a:lnTo>
                  <a:pt x="240546" y="22504"/>
                </a:lnTo>
                <a:lnTo>
                  <a:pt x="246900" y="19062"/>
                </a:lnTo>
                <a:lnTo>
                  <a:pt x="253783" y="15621"/>
                </a:lnTo>
                <a:lnTo>
                  <a:pt x="260667" y="12708"/>
                </a:lnTo>
                <a:lnTo>
                  <a:pt x="267550" y="10061"/>
                </a:lnTo>
                <a:lnTo>
                  <a:pt x="274963" y="7413"/>
                </a:lnTo>
                <a:lnTo>
                  <a:pt x="282376" y="5560"/>
                </a:lnTo>
                <a:lnTo>
                  <a:pt x="290053" y="3707"/>
                </a:lnTo>
                <a:lnTo>
                  <a:pt x="297466" y="2383"/>
                </a:lnTo>
                <a:lnTo>
                  <a:pt x="305144" y="1324"/>
                </a:lnTo>
                <a:lnTo>
                  <a:pt x="313086" y="530"/>
                </a:lnTo>
                <a:lnTo>
                  <a:pt x="321028" y="0"/>
                </a:lnTo>
                <a:close/>
              </a:path>
            </a:pathLst>
          </a:custGeom>
          <a:noFill/>
          <a:ln w="9525">
            <a:solidFill>
              <a:srgbClr val="000000">
                <a:lumMod val="65000"/>
                <a:lumOff val="35000"/>
              </a:srgbClr>
            </a:solidFill>
            <a:round/>
          </a:ln>
        </p:spPr>
        <p:style>
          <a:lnRef idx="0"/>
          <a:fillRef idx="0"/>
          <a:effectRef idx="0"/>
          <a:fontRef idx="minor"/>
        </p:style>
        <p:txBody>
          <a:bodyPr lIns="90000" rIns="90000" tIns="45000" bIns="45000" anchor="ctr">
            <a:noAutofit/>
            <a:scene3d>
              <a:camera prst="orthographicFront"/>
              <a:lightRig dir="t" rig="threePt"/>
            </a:scene3d>
            <a:sp3d>
              <a:contourClr>
                <a:srgbClr val="ffffff"/>
              </a:contourClr>
            </a:sp3d>
          </a:bodyPr>
          <a:p>
            <a:pPr algn="ctr">
              <a:lnSpc>
                <a:spcPct val="100000"/>
              </a:lnSpc>
            </a:pPr>
            <a:endParaRPr b="0" lang="en-US" sz="1800" spc="-1" strike="noStrike">
              <a:solidFill>
                <a:srgbClr val="ffffff"/>
              </a:solidFill>
              <a:latin typeface="Calibri"/>
            </a:endParaRPr>
          </a:p>
        </p:txBody>
      </p:sp>
      <p:sp>
        <p:nvSpPr>
          <p:cNvPr id="302" name="文本框 9"/>
          <p:cNvSpPr/>
          <p:nvPr/>
        </p:nvSpPr>
        <p:spPr>
          <a:xfrm>
            <a:off x="742680" y="675720"/>
            <a:ext cx="12171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404040"/>
                </a:solidFill>
                <a:latin typeface="微软雅黑"/>
                <a:ea typeface="微软雅黑"/>
              </a:rPr>
              <a:t>ICON</a:t>
            </a:r>
            <a:r>
              <a:rPr b="0" lang="zh-CN" sz="1800" spc="-1" strike="noStrike">
                <a:solidFill>
                  <a:srgbClr val="404040"/>
                </a:solidFill>
                <a:latin typeface="微软雅黑"/>
                <a:ea typeface="微软雅黑"/>
              </a:rPr>
              <a:t>标准：</a:t>
            </a:r>
            <a:endParaRPr b="0" lang="en-US" sz="1800" spc="-1" strike="noStrike">
              <a:solidFill>
                <a:srgbClr val="000000"/>
              </a:solidFill>
              <a:latin typeface="Arial"/>
            </a:endParaRPr>
          </a:p>
        </p:txBody>
      </p:sp>
    </p:spTree>
  </p:cSld>
  <mc:AlternateContent>
    <mc:Choice Requires="p14">
      <p:transition spd="slow" advTm="0" p14:dur="2000"/>
    </mc:Choice>
    <mc:Fallback>
      <p:transition spd="slow" advTm="0"/>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bd1"/>
        </a:solidFill>
      </p:bgPr>
    </p:bg>
    <p:spTree>
      <p:nvGrpSpPr>
        <p:cNvPr id="1" name=""/>
        <p:cNvGrpSpPr/>
        <p:nvPr/>
      </p:nvGrpSpPr>
      <p:grpSpPr>
        <a:xfrm>
          <a:off x="0" y="0"/>
          <a:ext cx="0" cy="0"/>
          <a:chOff x="0" y="0"/>
          <a:chExt cx="0" cy="0"/>
        </a:xfrm>
      </p:grpSpPr>
      <p:grpSp>
        <p:nvGrpSpPr>
          <p:cNvPr id="303" name="组合 2"/>
          <p:cNvGrpSpPr/>
          <p:nvPr/>
        </p:nvGrpSpPr>
        <p:grpSpPr>
          <a:xfrm>
            <a:off x="-443880" y="-388080"/>
            <a:ext cx="13097880" cy="1073520"/>
            <a:chOff x="-443880" y="-388080"/>
            <a:chExt cx="13097880" cy="1073520"/>
          </a:xfrm>
        </p:grpSpPr>
        <p:pic>
          <p:nvPicPr>
            <p:cNvPr id="304" name="图片 1" descr=""/>
            <p:cNvPicPr/>
            <p:nvPr/>
          </p:nvPicPr>
          <p:blipFill>
            <a:blip r:embed="rId1"/>
            <a:stretch/>
          </p:blipFill>
          <p:spPr>
            <a:xfrm rot="1658400">
              <a:off x="-268920" y="-300960"/>
              <a:ext cx="595800" cy="900000"/>
            </a:xfrm>
            <a:prstGeom prst="rect">
              <a:avLst/>
            </a:prstGeom>
            <a:ln w="0">
              <a:noFill/>
            </a:ln>
          </p:spPr>
        </p:pic>
        <p:pic>
          <p:nvPicPr>
            <p:cNvPr id="305" name="图片 207" descr=""/>
            <p:cNvPicPr/>
            <p:nvPr/>
          </p:nvPicPr>
          <p:blipFill>
            <a:blip r:embed="rId2"/>
            <a:stretch/>
          </p:blipFill>
          <p:spPr>
            <a:xfrm rot="1658400">
              <a:off x="946080" y="-300960"/>
              <a:ext cx="595800" cy="900000"/>
            </a:xfrm>
            <a:prstGeom prst="rect">
              <a:avLst/>
            </a:prstGeom>
            <a:ln w="0">
              <a:noFill/>
            </a:ln>
          </p:spPr>
        </p:pic>
        <p:pic>
          <p:nvPicPr>
            <p:cNvPr id="306" name="图片 208" descr=""/>
            <p:cNvPicPr/>
            <p:nvPr/>
          </p:nvPicPr>
          <p:blipFill>
            <a:blip r:embed="rId3"/>
            <a:stretch/>
          </p:blipFill>
          <p:spPr>
            <a:xfrm rot="1658400">
              <a:off x="2161080" y="-300960"/>
              <a:ext cx="595800" cy="900000"/>
            </a:xfrm>
            <a:prstGeom prst="rect">
              <a:avLst/>
            </a:prstGeom>
            <a:ln w="0">
              <a:noFill/>
            </a:ln>
          </p:spPr>
        </p:pic>
        <p:pic>
          <p:nvPicPr>
            <p:cNvPr id="307" name="图片 209" descr=""/>
            <p:cNvPicPr/>
            <p:nvPr/>
          </p:nvPicPr>
          <p:blipFill>
            <a:blip r:embed="rId4"/>
            <a:stretch/>
          </p:blipFill>
          <p:spPr>
            <a:xfrm rot="1658400">
              <a:off x="3376440" y="-300960"/>
              <a:ext cx="595800" cy="900000"/>
            </a:xfrm>
            <a:prstGeom prst="rect">
              <a:avLst/>
            </a:prstGeom>
            <a:ln w="0">
              <a:noFill/>
            </a:ln>
          </p:spPr>
        </p:pic>
        <p:pic>
          <p:nvPicPr>
            <p:cNvPr id="308" name="图片 210" descr=""/>
            <p:cNvPicPr/>
            <p:nvPr/>
          </p:nvPicPr>
          <p:blipFill>
            <a:blip r:embed="rId5"/>
            <a:stretch/>
          </p:blipFill>
          <p:spPr>
            <a:xfrm rot="1658400">
              <a:off x="4591800" y="-300960"/>
              <a:ext cx="595800" cy="900000"/>
            </a:xfrm>
            <a:prstGeom prst="rect">
              <a:avLst/>
            </a:prstGeom>
            <a:ln w="0">
              <a:noFill/>
            </a:ln>
          </p:spPr>
        </p:pic>
        <p:pic>
          <p:nvPicPr>
            <p:cNvPr id="309" name="图片 211" descr=""/>
            <p:cNvPicPr/>
            <p:nvPr/>
          </p:nvPicPr>
          <p:blipFill>
            <a:blip r:embed="rId6"/>
            <a:stretch/>
          </p:blipFill>
          <p:spPr>
            <a:xfrm rot="1658400">
              <a:off x="5806800" y="-300960"/>
              <a:ext cx="595800" cy="900000"/>
            </a:xfrm>
            <a:prstGeom prst="rect">
              <a:avLst/>
            </a:prstGeom>
            <a:ln w="0">
              <a:noFill/>
            </a:ln>
          </p:spPr>
        </p:pic>
        <p:pic>
          <p:nvPicPr>
            <p:cNvPr id="310" name="图片 212" descr=""/>
            <p:cNvPicPr/>
            <p:nvPr/>
          </p:nvPicPr>
          <p:blipFill>
            <a:blip r:embed="rId7"/>
            <a:stretch/>
          </p:blipFill>
          <p:spPr>
            <a:xfrm rot="1658400">
              <a:off x="7022160" y="-300960"/>
              <a:ext cx="595800" cy="900000"/>
            </a:xfrm>
            <a:prstGeom prst="rect">
              <a:avLst/>
            </a:prstGeom>
            <a:ln w="0">
              <a:noFill/>
            </a:ln>
          </p:spPr>
        </p:pic>
        <p:pic>
          <p:nvPicPr>
            <p:cNvPr id="311" name="图片 213" descr=""/>
            <p:cNvPicPr/>
            <p:nvPr/>
          </p:nvPicPr>
          <p:blipFill>
            <a:blip r:embed="rId8"/>
            <a:stretch/>
          </p:blipFill>
          <p:spPr>
            <a:xfrm rot="1658400">
              <a:off x="8237520" y="-300960"/>
              <a:ext cx="595800" cy="900000"/>
            </a:xfrm>
            <a:prstGeom prst="rect">
              <a:avLst/>
            </a:prstGeom>
            <a:ln w="0">
              <a:noFill/>
            </a:ln>
          </p:spPr>
        </p:pic>
        <p:pic>
          <p:nvPicPr>
            <p:cNvPr id="312" name="图片 214" descr=""/>
            <p:cNvPicPr/>
            <p:nvPr/>
          </p:nvPicPr>
          <p:blipFill>
            <a:blip r:embed="rId9"/>
            <a:stretch/>
          </p:blipFill>
          <p:spPr>
            <a:xfrm rot="1658400">
              <a:off x="9452520" y="-300960"/>
              <a:ext cx="595800" cy="900000"/>
            </a:xfrm>
            <a:prstGeom prst="rect">
              <a:avLst/>
            </a:prstGeom>
            <a:ln w="0">
              <a:noFill/>
            </a:ln>
          </p:spPr>
        </p:pic>
        <p:pic>
          <p:nvPicPr>
            <p:cNvPr id="313" name="图片 215" descr=""/>
            <p:cNvPicPr/>
            <p:nvPr/>
          </p:nvPicPr>
          <p:blipFill>
            <a:blip r:embed="rId10"/>
            <a:stretch/>
          </p:blipFill>
          <p:spPr>
            <a:xfrm rot="1658400">
              <a:off x="10667880" y="-300960"/>
              <a:ext cx="595800" cy="900000"/>
            </a:xfrm>
            <a:prstGeom prst="rect">
              <a:avLst/>
            </a:prstGeom>
            <a:ln w="0">
              <a:noFill/>
            </a:ln>
          </p:spPr>
        </p:pic>
        <p:pic>
          <p:nvPicPr>
            <p:cNvPr id="314" name="图片 216" descr=""/>
            <p:cNvPicPr/>
            <p:nvPr/>
          </p:nvPicPr>
          <p:blipFill>
            <a:blip r:embed="rId11"/>
            <a:stretch/>
          </p:blipFill>
          <p:spPr>
            <a:xfrm rot="1658400">
              <a:off x="11883240" y="-300960"/>
              <a:ext cx="595800" cy="900000"/>
            </a:xfrm>
            <a:prstGeom prst="rect">
              <a:avLst/>
            </a:prstGeom>
            <a:ln w="0">
              <a:noFill/>
            </a:ln>
          </p:spPr>
        </p:pic>
      </p:grpSp>
      <p:grpSp>
        <p:nvGrpSpPr>
          <p:cNvPr id="315" name="组合 218"/>
          <p:cNvGrpSpPr/>
          <p:nvPr/>
        </p:nvGrpSpPr>
        <p:grpSpPr>
          <a:xfrm>
            <a:off x="-1075320" y="448560"/>
            <a:ext cx="13097880" cy="1073520"/>
            <a:chOff x="-1075320" y="448560"/>
            <a:chExt cx="13097880" cy="1073520"/>
          </a:xfrm>
        </p:grpSpPr>
        <p:pic>
          <p:nvPicPr>
            <p:cNvPr id="316" name="图片 219" descr=""/>
            <p:cNvPicPr/>
            <p:nvPr/>
          </p:nvPicPr>
          <p:blipFill>
            <a:blip r:embed="rId12"/>
            <a:stretch/>
          </p:blipFill>
          <p:spPr>
            <a:xfrm rot="1658400">
              <a:off x="-900360" y="535320"/>
              <a:ext cx="595800" cy="900000"/>
            </a:xfrm>
            <a:prstGeom prst="rect">
              <a:avLst/>
            </a:prstGeom>
            <a:ln w="0">
              <a:noFill/>
            </a:ln>
          </p:spPr>
        </p:pic>
        <p:pic>
          <p:nvPicPr>
            <p:cNvPr id="317" name="图片 220" descr=""/>
            <p:cNvPicPr/>
            <p:nvPr/>
          </p:nvPicPr>
          <p:blipFill>
            <a:blip r:embed="rId13"/>
            <a:stretch/>
          </p:blipFill>
          <p:spPr>
            <a:xfrm rot="1658400">
              <a:off x="314640" y="535320"/>
              <a:ext cx="595800" cy="900000"/>
            </a:xfrm>
            <a:prstGeom prst="rect">
              <a:avLst/>
            </a:prstGeom>
            <a:ln w="0">
              <a:noFill/>
            </a:ln>
          </p:spPr>
        </p:pic>
        <p:pic>
          <p:nvPicPr>
            <p:cNvPr id="318" name="图片 221" descr=""/>
            <p:cNvPicPr/>
            <p:nvPr/>
          </p:nvPicPr>
          <p:blipFill>
            <a:blip r:embed="rId14"/>
            <a:stretch/>
          </p:blipFill>
          <p:spPr>
            <a:xfrm rot="1658400">
              <a:off x="1530000" y="535320"/>
              <a:ext cx="595800" cy="900000"/>
            </a:xfrm>
            <a:prstGeom prst="rect">
              <a:avLst/>
            </a:prstGeom>
            <a:ln w="0">
              <a:noFill/>
            </a:ln>
          </p:spPr>
        </p:pic>
        <p:pic>
          <p:nvPicPr>
            <p:cNvPr id="319" name="图片 222" descr=""/>
            <p:cNvPicPr/>
            <p:nvPr/>
          </p:nvPicPr>
          <p:blipFill>
            <a:blip r:embed="rId15"/>
            <a:stretch/>
          </p:blipFill>
          <p:spPr>
            <a:xfrm rot="1658400">
              <a:off x="2745000" y="535320"/>
              <a:ext cx="595800" cy="900000"/>
            </a:xfrm>
            <a:prstGeom prst="rect">
              <a:avLst/>
            </a:prstGeom>
            <a:ln w="0">
              <a:noFill/>
            </a:ln>
          </p:spPr>
        </p:pic>
        <p:pic>
          <p:nvPicPr>
            <p:cNvPr id="320" name="图片 223" descr=""/>
            <p:cNvPicPr/>
            <p:nvPr/>
          </p:nvPicPr>
          <p:blipFill>
            <a:blip r:embed="rId16"/>
            <a:stretch/>
          </p:blipFill>
          <p:spPr>
            <a:xfrm rot="1658400">
              <a:off x="3960360" y="535320"/>
              <a:ext cx="595800" cy="900000"/>
            </a:xfrm>
            <a:prstGeom prst="rect">
              <a:avLst/>
            </a:prstGeom>
            <a:ln w="0">
              <a:noFill/>
            </a:ln>
          </p:spPr>
        </p:pic>
        <p:pic>
          <p:nvPicPr>
            <p:cNvPr id="321" name="图片 224" descr=""/>
            <p:cNvPicPr/>
            <p:nvPr/>
          </p:nvPicPr>
          <p:blipFill>
            <a:blip r:embed="rId17"/>
            <a:stretch/>
          </p:blipFill>
          <p:spPr>
            <a:xfrm rot="1658400">
              <a:off x="5175720" y="535320"/>
              <a:ext cx="595800" cy="900000"/>
            </a:xfrm>
            <a:prstGeom prst="rect">
              <a:avLst/>
            </a:prstGeom>
            <a:ln w="0">
              <a:noFill/>
            </a:ln>
          </p:spPr>
        </p:pic>
        <p:pic>
          <p:nvPicPr>
            <p:cNvPr id="322" name="图片 225" descr=""/>
            <p:cNvPicPr/>
            <p:nvPr/>
          </p:nvPicPr>
          <p:blipFill>
            <a:blip r:embed="rId18"/>
            <a:stretch/>
          </p:blipFill>
          <p:spPr>
            <a:xfrm rot="1658400">
              <a:off x="6390720" y="535320"/>
              <a:ext cx="595800" cy="900000"/>
            </a:xfrm>
            <a:prstGeom prst="rect">
              <a:avLst/>
            </a:prstGeom>
            <a:ln w="0">
              <a:noFill/>
            </a:ln>
          </p:spPr>
        </p:pic>
        <p:pic>
          <p:nvPicPr>
            <p:cNvPr id="323" name="图片 226" descr=""/>
            <p:cNvPicPr/>
            <p:nvPr/>
          </p:nvPicPr>
          <p:blipFill>
            <a:blip r:embed="rId19"/>
            <a:stretch/>
          </p:blipFill>
          <p:spPr>
            <a:xfrm rot="1658400">
              <a:off x="7606080" y="535320"/>
              <a:ext cx="595800" cy="900000"/>
            </a:xfrm>
            <a:prstGeom prst="rect">
              <a:avLst/>
            </a:prstGeom>
            <a:ln w="0">
              <a:noFill/>
            </a:ln>
          </p:spPr>
        </p:pic>
        <p:pic>
          <p:nvPicPr>
            <p:cNvPr id="324" name="图片 227" descr=""/>
            <p:cNvPicPr/>
            <p:nvPr/>
          </p:nvPicPr>
          <p:blipFill>
            <a:blip r:embed="rId20"/>
            <a:stretch/>
          </p:blipFill>
          <p:spPr>
            <a:xfrm rot="1658400">
              <a:off x="8821080" y="535320"/>
              <a:ext cx="595800" cy="900000"/>
            </a:xfrm>
            <a:prstGeom prst="rect">
              <a:avLst/>
            </a:prstGeom>
            <a:ln w="0">
              <a:noFill/>
            </a:ln>
          </p:spPr>
        </p:pic>
        <p:pic>
          <p:nvPicPr>
            <p:cNvPr id="325" name="图片 228" descr=""/>
            <p:cNvPicPr/>
            <p:nvPr/>
          </p:nvPicPr>
          <p:blipFill>
            <a:blip r:embed="rId21"/>
            <a:stretch/>
          </p:blipFill>
          <p:spPr>
            <a:xfrm rot="1658400">
              <a:off x="10036440" y="535320"/>
              <a:ext cx="595800" cy="900000"/>
            </a:xfrm>
            <a:prstGeom prst="rect">
              <a:avLst/>
            </a:prstGeom>
            <a:ln w="0">
              <a:noFill/>
            </a:ln>
          </p:spPr>
        </p:pic>
        <p:pic>
          <p:nvPicPr>
            <p:cNvPr id="326" name="图片 229" descr=""/>
            <p:cNvPicPr/>
            <p:nvPr/>
          </p:nvPicPr>
          <p:blipFill>
            <a:blip r:embed="rId22"/>
            <a:stretch/>
          </p:blipFill>
          <p:spPr>
            <a:xfrm rot="1658400">
              <a:off x="11251800" y="535320"/>
              <a:ext cx="595800" cy="900000"/>
            </a:xfrm>
            <a:prstGeom prst="rect">
              <a:avLst/>
            </a:prstGeom>
            <a:ln w="0">
              <a:noFill/>
            </a:ln>
          </p:spPr>
        </p:pic>
      </p:grpSp>
      <p:grpSp>
        <p:nvGrpSpPr>
          <p:cNvPr id="327" name="组合 230"/>
          <p:cNvGrpSpPr/>
          <p:nvPr/>
        </p:nvGrpSpPr>
        <p:grpSpPr>
          <a:xfrm>
            <a:off x="-443880" y="1285560"/>
            <a:ext cx="13097880" cy="1073520"/>
            <a:chOff x="-443880" y="1285560"/>
            <a:chExt cx="13097880" cy="1073520"/>
          </a:xfrm>
        </p:grpSpPr>
        <p:pic>
          <p:nvPicPr>
            <p:cNvPr id="328" name="图片 231" descr=""/>
            <p:cNvPicPr/>
            <p:nvPr/>
          </p:nvPicPr>
          <p:blipFill>
            <a:blip r:embed="rId23"/>
            <a:stretch/>
          </p:blipFill>
          <p:spPr>
            <a:xfrm rot="1658400">
              <a:off x="-268920" y="1372320"/>
              <a:ext cx="595800" cy="900000"/>
            </a:xfrm>
            <a:prstGeom prst="rect">
              <a:avLst/>
            </a:prstGeom>
            <a:ln w="0">
              <a:noFill/>
            </a:ln>
          </p:spPr>
        </p:pic>
        <p:pic>
          <p:nvPicPr>
            <p:cNvPr id="329" name="图片 232" descr=""/>
            <p:cNvPicPr/>
            <p:nvPr/>
          </p:nvPicPr>
          <p:blipFill>
            <a:blip r:embed="rId24"/>
            <a:stretch/>
          </p:blipFill>
          <p:spPr>
            <a:xfrm rot="1658400">
              <a:off x="946080" y="1372320"/>
              <a:ext cx="595800" cy="900000"/>
            </a:xfrm>
            <a:prstGeom prst="rect">
              <a:avLst/>
            </a:prstGeom>
            <a:ln w="0">
              <a:noFill/>
            </a:ln>
          </p:spPr>
        </p:pic>
        <p:pic>
          <p:nvPicPr>
            <p:cNvPr id="330" name="图片 233" descr=""/>
            <p:cNvPicPr/>
            <p:nvPr/>
          </p:nvPicPr>
          <p:blipFill>
            <a:blip r:embed="rId25"/>
            <a:stretch/>
          </p:blipFill>
          <p:spPr>
            <a:xfrm rot="1658400">
              <a:off x="2161080" y="1372320"/>
              <a:ext cx="595800" cy="900000"/>
            </a:xfrm>
            <a:prstGeom prst="rect">
              <a:avLst/>
            </a:prstGeom>
            <a:ln w="0">
              <a:noFill/>
            </a:ln>
          </p:spPr>
        </p:pic>
        <p:pic>
          <p:nvPicPr>
            <p:cNvPr id="331" name="图片 234" descr=""/>
            <p:cNvPicPr/>
            <p:nvPr/>
          </p:nvPicPr>
          <p:blipFill>
            <a:blip r:embed="rId26"/>
            <a:stretch/>
          </p:blipFill>
          <p:spPr>
            <a:xfrm rot="1658400">
              <a:off x="3376440" y="1372320"/>
              <a:ext cx="595800" cy="900000"/>
            </a:xfrm>
            <a:prstGeom prst="rect">
              <a:avLst/>
            </a:prstGeom>
            <a:ln w="0">
              <a:noFill/>
            </a:ln>
          </p:spPr>
        </p:pic>
        <p:pic>
          <p:nvPicPr>
            <p:cNvPr id="332" name="图片 235" descr=""/>
            <p:cNvPicPr/>
            <p:nvPr/>
          </p:nvPicPr>
          <p:blipFill>
            <a:blip r:embed="rId27"/>
            <a:stretch/>
          </p:blipFill>
          <p:spPr>
            <a:xfrm rot="1658400">
              <a:off x="4591800" y="1372320"/>
              <a:ext cx="595800" cy="900000"/>
            </a:xfrm>
            <a:prstGeom prst="rect">
              <a:avLst/>
            </a:prstGeom>
            <a:ln w="0">
              <a:noFill/>
            </a:ln>
          </p:spPr>
        </p:pic>
        <p:pic>
          <p:nvPicPr>
            <p:cNvPr id="333" name="图片 236" descr=""/>
            <p:cNvPicPr/>
            <p:nvPr/>
          </p:nvPicPr>
          <p:blipFill>
            <a:blip r:embed="rId28"/>
            <a:stretch/>
          </p:blipFill>
          <p:spPr>
            <a:xfrm rot="1658400">
              <a:off x="5806800" y="1372320"/>
              <a:ext cx="595800" cy="900000"/>
            </a:xfrm>
            <a:prstGeom prst="rect">
              <a:avLst/>
            </a:prstGeom>
            <a:ln w="0">
              <a:noFill/>
            </a:ln>
          </p:spPr>
        </p:pic>
        <p:pic>
          <p:nvPicPr>
            <p:cNvPr id="334" name="图片 237" descr=""/>
            <p:cNvPicPr/>
            <p:nvPr/>
          </p:nvPicPr>
          <p:blipFill>
            <a:blip r:embed="rId29"/>
            <a:stretch/>
          </p:blipFill>
          <p:spPr>
            <a:xfrm rot="1658400">
              <a:off x="7022160" y="1372320"/>
              <a:ext cx="595800" cy="900000"/>
            </a:xfrm>
            <a:prstGeom prst="rect">
              <a:avLst/>
            </a:prstGeom>
            <a:ln w="0">
              <a:noFill/>
            </a:ln>
          </p:spPr>
        </p:pic>
        <p:pic>
          <p:nvPicPr>
            <p:cNvPr id="335" name="图片 238" descr=""/>
            <p:cNvPicPr/>
            <p:nvPr/>
          </p:nvPicPr>
          <p:blipFill>
            <a:blip r:embed="rId30"/>
            <a:stretch/>
          </p:blipFill>
          <p:spPr>
            <a:xfrm rot="1658400">
              <a:off x="8237520" y="1372320"/>
              <a:ext cx="595800" cy="900000"/>
            </a:xfrm>
            <a:prstGeom prst="rect">
              <a:avLst/>
            </a:prstGeom>
            <a:ln w="0">
              <a:noFill/>
            </a:ln>
          </p:spPr>
        </p:pic>
        <p:pic>
          <p:nvPicPr>
            <p:cNvPr id="336" name="图片 239" descr=""/>
            <p:cNvPicPr/>
            <p:nvPr/>
          </p:nvPicPr>
          <p:blipFill>
            <a:blip r:embed="rId31"/>
            <a:stretch/>
          </p:blipFill>
          <p:spPr>
            <a:xfrm rot="1658400">
              <a:off x="9452520" y="1372320"/>
              <a:ext cx="595800" cy="900000"/>
            </a:xfrm>
            <a:prstGeom prst="rect">
              <a:avLst/>
            </a:prstGeom>
            <a:ln w="0">
              <a:noFill/>
            </a:ln>
          </p:spPr>
        </p:pic>
        <p:pic>
          <p:nvPicPr>
            <p:cNvPr id="337" name="图片 240" descr=""/>
            <p:cNvPicPr/>
            <p:nvPr/>
          </p:nvPicPr>
          <p:blipFill>
            <a:blip r:embed="rId32"/>
            <a:stretch/>
          </p:blipFill>
          <p:spPr>
            <a:xfrm rot="1658400">
              <a:off x="10667880" y="1372320"/>
              <a:ext cx="595800" cy="900000"/>
            </a:xfrm>
            <a:prstGeom prst="rect">
              <a:avLst/>
            </a:prstGeom>
            <a:ln w="0">
              <a:noFill/>
            </a:ln>
          </p:spPr>
        </p:pic>
        <p:pic>
          <p:nvPicPr>
            <p:cNvPr id="338" name="图片 241" descr=""/>
            <p:cNvPicPr/>
            <p:nvPr/>
          </p:nvPicPr>
          <p:blipFill>
            <a:blip r:embed="rId33"/>
            <a:stretch/>
          </p:blipFill>
          <p:spPr>
            <a:xfrm rot="1658400">
              <a:off x="11883240" y="1372320"/>
              <a:ext cx="595800" cy="900000"/>
            </a:xfrm>
            <a:prstGeom prst="rect">
              <a:avLst/>
            </a:prstGeom>
            <a:ln w="0">
              <a:noFill/>
            </a:ln>
          </p:spPr>
        </p:pic>
      </p:grpSp>
      <p:grpSp>
        <p:nvGrpSpPr>
          <p:cNvPr id="339" name="组合 242"/>
          <p:cNvGrpSpPr/>
          <p:nvPr/>
        </p:nvGrpSpPr>
        <p:grpSpPr>
          <a:xfrm>
            <a:off x="-1075320" y="2035440"/>
            <a:ext cx="13097880" cy="1073520"/>
            <a:chOff x="-1075320" y="2035440"/>
            <a:chExt cx="13097880" cy="1073520"/>
          </a:xfrm>
        </p:grpSpPr>
        <p:pic>
          <p:nvPicPr>
            <p:cNvPr id="340" name="图片 243" descr=""/>
            <p:cNvPicPr/>
            <p:nvPr/>
          </p:nvPicPr>
          <p:blipFill>
            <a:blip r:embed="rId34"/>
            <a:stretch/>
          </p:blipFill>
          <p:spPr>
            <a:xfrm rot="1658400">
              <a:off x="-900360" y="2122200"/>
              <a:ext cx="595800" cy="900000"/>
            </a:xfrm>
            <a:prstGeom prst="rect">
              <a:avLst/>
            </a:prstGeom>
            <a:ln w="0">
              <a:noFill/>
            </a:ln>
          </p:spPr>
        </p:pic>
        <p:pic>
          <p:nvPicPr>
            <p:cNvPr id="341" name="图片 244" descr=""/>
            <p:cNvPicPr/>
            <p:nvPr/>
          </p:nvPicPr>
          <p:blipFill>
            <a:blip r:embed="rId35"/>
            <a:stretch/>
          </p:blipFill>
          <p:spPr>
            <a:xfrm rot="1658400">
              <a:off x="314640" y="2122200"/>
              <a:ext cx="595800" cy="900000"/>
            </a:xfrm>
            <a:prstGeom prst="rect">
              <a:avLst/>
            </a:prstGeom>
            <a:ln w="0">
              <a:noFill/>
            </a:ln>
          </p:spPr>
        </p:pic>
        <p:pic>
          <p:nvPicPr>
            <p:cNvPr id="342" name="图片 245" descr=""/>
            <p:cNvPicPr/>
            <p:nvPr/>
          </p:nvPicPr>
          <p:blipFill>
            <a:blip r:embed="rId36"/>
            <a:stretch/>
          </p:blipFill>
          <p:spPr>
            <a:xfrm rot="1658400">
              <a:off x="1530000" y="2122200"/>
              <a:ext cx="595800" cy="900000"/>
            </a:xfrm>
            <a:prstGeom prst="rect">
              <a:avLst/>
            </a:prstGeom>
            <a:ln w="0">
              <a:noFill/>
            </a:ln>
          </p:spPr>
        </p:pic>
        <p:pic>
          <p:nvPicPr>
            <p:cNvPr id="343" name="图片 246" descr=""/>
            <p:cNvPicPr/>
            <p:nvPr/>
          </p:nvPicPr>
          <p:blipFill>
            <a:blip r:embed="rId37"/>
            <a:stretch/>
          </p:blipFill>
          <p:spPr>
            <a:xfrm rot="1658400">
              <a:off x="2745000" y="2122200"/>
              <a:ext cx="595800" cy="900000"/>
            </a:xfrm>
            <a:prstGeom prst="rect">
              <a:avLst/>
            </a:prstGeom>
            <a:ln w="0">
              <a:noFill/>
            </a:ln>
          </p:spPr>
        </p:pic>
        <p:pic>
          <p:nvPicPr>
            <p:cNvPr id="344" name="图片 247" descr=""/>
            <p:cNvPicPr/>
            <p:nvPr/>
          </p:nvPicPr>
          <p:blipFill>
            <a:blip r:embed="rId38"/>
            <a:stretch/>
          </p:blipFill>
          <p:spPr>
            <a:xfrm rot="1658400">
              <a:off x="3960360" y="2122200"/>
              <a:ext cx="595800" cy="900000"/>
            </a:xfrm>
            <a:prstGeom prst="rect">
              <a:avLst/>
            </a:prstGeom>
            <a:ln w="0">
              <a:noFill/>
            </a:ln>
          </p:spPr>
        </p:pic>
        <p:pic>
          <p:nvPicPr>
            <p:cNvPr id="345" name="图片 248" descr=""/>
            <p:cNvPicPr/>
            <p:nvPr/>
          </p:nvPicPr>
          <p:blipFill>
            <a:blip r:embed="rId39"/>
            <a:stretch/>
          </p:blipFill>
          <p:spPr>
            <a:xfrm rot="1658400">
              <a:off x="5175720" y="2122200"/>
              <a:ext cx="595800" cy="900000"/>
            </a:xfrm>
            <a:prstGeom prst="rect">
              <a:avLst/>
            </a:prstGeom>
            <a:ln w="0">
              <a:noFill/>
            </a:ln>
          </p:spPr>
        </p:pic>
        <p:pic>
          <p:nvPicPr>
            <p:cNvPr id="346" name="图片 249" descr=""/>
            <p:cNvPicPr/>
            <p:nvPr/>
          </p:nvPicPr>
          <p:blipFill>
            <a:blip r:embed="rId40"/>
            <a:stretch/>
          </p:blipFill>
          <p:spPr>
            <a:xfrm rot="1658400">
              <a:off x="6390720" y="2122200"/>
              <a:ext cx="595800" cy="900000"/>
            </a:xfrm>
            <a:prstGeom prst="rect">
              <a:avLst/>
            </a:prstGeom>
            <a:ln w="0">
              <a:noFill/>
            </a:ln>
          </p:spPr>
        </p:pic>
        <p:pic>
          <p:nvPicPr>
            <p:cNvPr id="347" name="图片 250" descr=""/>
            <p:cNvPicPr/>
            <p:nvPr/>
          </p:nvPicPr>
          <p:blipFill>
            <a:blip r:embed="rId41"/>
            <a:stretch/>
          </p:blipFill>
          <p:spPr>
            <a:xfrm rot="1658400">
              <a:off x="7606080" y="2122200"/>
              <a:ext cx="595800" cy="900000"/>
            </a:xfrm>
            <a:prstGeom prst="rect">
              <a:avLst/>
            </a:prstGeom>
            <a:ln w="0">
              <a:noFill/>
            </a:ln>
          </p:spPr>
        </p:pic>
        <p:pic>
          <p:nvPicPr>
            <p:cNvPr id="348" name="图片 251" descr=""/>
            <p:cNvPicPr/>
            <p:nvPr/>
          </p:nvPicPr>
          <p:blipFill>
            <a:blip r:embed="rId42"/>
            <a:stretch/>
          </p:blipFill>
          <p:spPr>
            <a:xfrm rot="1658400">
              <a:off x="8821080" y="2122200"/>
              <a:ext cx="595800" cy="900000"/>
            </a:xfrm>
            <a:prstGeom prst="rect">
              <a:avLst/>
            </a:prstGeom>
            <a:ln w="0">
              <a:noFill/>
            </a:ln>
          </p:spPr>
        </p:pic>
        <p:pic>
          <p:nvPicPr>
            <p:cNvPr id="349" name="图片 252" descr=""/>
            <p:cNvPicPr/>
            <p:nvPr/>
          </p:nvPicPr>
          <p:blipFill>
            <a:blip r:embed="rId43"/>
            <a:stretch/>
          </p:blipFill>
          <p:spPr>
            <a:xfrm rot="1658400">
              <a:off x="10036440" y="2122200"/>
              <a:ext cx="595800" cy="900000"/>
            </a:xfrm>
            <a:prstGeom prst="rect">
              <a:avLst/>
            </a:prstGeom>
            <a:ln w="0">
              <a:noFill/>
            </a:ln>
          </p:spPr>
        </p:pic>
        <p:pic>
          <p:nvPicPr>
            <p:cNvPr id="350" name="图片 253" descr=""/>
            <p:cNvPicPr/>
            <p:nvPr/>
          </p:nvPicPr>
          <p:blipFill>
            <a:blip r:embed="rId44"/>
            <a:stretch/>
          </p:blipFill>
          <p:spPr>
            <a:xfrm rot="1658400">
              <a:off x="11251800" y="2122200"/>
              <a:ext cx="595800" cy="900000"/>
            </a:xfrm>
            <a:prstGeom prst="rect">
              <a:avLst/>
            </a:prstGeom>
            <a:ln w="0">
              <a:noFill/>
            </a:ln>
          </p:spPr>
        </p:pic>
      </p:grpSp>
      <p:grpSp>
        <p:nvGrpSpPr>
          <p:cNvPr id="351" name="组合 254"/>
          <p:cNvGrpSpPr/>
          <p:nvPr/>
        </p:nvGrpSpPr>
        <p:grpSpPr>
          <a:xfrm>
            <a:off x="-443880" y="2872080"/>
            <a:ext cx="13097880" cy="1073520"/>
            <a:chOff x="-443880" y="2872080"/>
            <a:chExt cx="13097880" cy="1073520"/>
          </a:xfrm>
        </p:grpSpPr>
        <p:pic>
          <p:nvPicPr>
            <p:cNvPr id="352" name="图片 255" descr=""/>
            <p:cNvPicPr/>
            <p:nvPr/>
          </p:nvPicPr>
          <p:blipFill>
            <a:blip r:embed="rId45"/>
            <a:stretch/>
          </p:blipFill>
          <p:spPr>
            <a:xfrm rot="1658400">
              <a:off x="-268920" y="2958840"/>
              <a:ext cx="595800" cy="900000"/>
            </a:xfrm>
            <a:prstGeom prst="rect">
              <a:avLst/>
            </a:prstGeom>
            <a:ln w="0">
              <a:noFill/>
            </a:ln>
          </p:spPr>
        </p:pic>
        <p:pic>
          <p:nvPicPr>
            <p:cNvPr id="353" name="图片 256" descr=""/>
            <p:cNvPicPr/>
            <p:nvPr/>
          </p:nvPicPr>
          <p:blipFill>
            <a:blip r:embed="rId46"/>
            <a:stretch/>
          </p:blipFill>
          <p:spPr>
            <a:xfrm rot="1658400">
              <a:off x="946080" y="2958840"/>
              <a:ext cx="595800" cy="900000"/>
            </a:xfrm>
            <a:prstGeom prst="rect">
              <a:avLst/>
            </a:prstGeom>
            <a:ln w="0">
              <a:noFill/>
            </a:ln>
          </p:spPr>
        </p:pic>
        <p:pic>
          <p:nvPicPr>
            <p:cNvPr id="354" name="图片 257" descr=""/>
            <p:cNvPicPr/>
            <p:nvPr/>
          </p:nvPicPr>
          <p:blipFill>
            <a:blip r:embed="rId47"/>
            <a:stretch/>
          </p:blipFill>
          <p:spPr>
            <a:xfrm rot="1658400">
              <a:off x="2161080" y="2958840"/>
              <a:ext cx="595800" cy="900000"/>
            </a:xfrm>
            <a:prstGeom prst="rect">
              <a:avLst/>
            </a:prstGeom>
            <a:ln w="0">
              <a:noFill/>
            </a:ln>
          </p:spPr>
        </p:pic>
        <p:pic>
          <p:nvPicPr>
            <p:cNvPr id="355" name="图片 258" descr=""/>
            <p:cNvPicPr/>
            <p:nvPr/>
          </p:nvPicPr>
          <p:blipFill>
            <a:blip r:embed="rId48"/>
            <a:stretch/>
          </p:blipFill>
          <p:spPr>
            <a:xfrm rot="1658400">
              <a:off x="3376440" y="2958840"/>
              <a:ext cx="595800" cy="900000"/>
            </a:xfrm>
            <a:prstGeom prst="rect">
              <a:avLst/>
            </a:prstGeom>
            <a:ln w="0">
              <a:noFill/>
            </a:ln>
          </p:spPr>
        </p:pic>
        <p:pic>
          <p:nvPicPr>
            <p:cNvPr id="356" name="图片 259" descr=""/>
            <p:cNvPicPr/>
            <p:nvPr/>
          </p:nvPicPr>
          <p:blipFill>
            <a:blip r:embed="rId49"/>
            <a:stretch/>
          </p:blipFill>
          <p:spPr>
            <a:xfrm rot="1658400">
              <a:off x="4591800" y="2958840"/>
              <a:ext cx="595800" cy="900000"/>
            </a:xfrm>
            <a:prstGeom prst="rect">
              <a:avLst/>
            </a:prstGeom>
            <a:ln w="0">
              <a:noFill/>
            </a:ln>
          </p:spPr>
        </p:pic>
        <p:pic>
          <p:nvPicPr>
            <p:cNvPr id="357" name="图片 260" descr=""/>
            <p:cNvPicPr/>
            <p:nvPr/>
          </p:nvPicPr>
          <p:blipFill>
            <a:blip r:embed="rId50"/>
            <a:stretch/>
          </p:blipFill>
          <p:spPr>
            <a:xfrm rot="1658400">
              <a:off x="5806800" y="2958840"/>
              <a:ext cx="595800" cy="900000"/>
            </a:xfrm>
            <a:prstGeom prst="rect">
              <a:avLst/>
            </a:prstGeom>
            <a:ln w="0">
              <a:noFill/>
            </a:ln>
          </p:spPr>
        </p:pic>
        <p:pic>
          <p:nvPicPr>
            <p:cNvPr id="358" name="图片 261" descr=""/>
            <p:cNvPicPr/>
            <p:nvPr/>
          </p:nvPicPr>
          <p:blipFill>
            <a:blip r:embed="rId51"/>
            <a:stretch/>
          </p:blipFill>
          <p:spPr>
            <a:xfrm rot="1658400">
              <a:off x="7022160" y="2958840"/>
              <a:ext cx="595800" cy="900000"/>
            </a:xfrm>
            <a:prstGeom prst="rect">
              <a:avLst/>
            </a:prstGeom>
            <a:ln w="0">
              <a:noFill/>
            </a:ln>
          </p:spPr>
        </p:pic>
        <p:pic>
          <p:nvPicPr>
            <p:cNvPr id="359" name="图片 262" descr=""/>
            <p:cNvPicPr/>
            <p:nvPr/>
          </p:nvPicPr>
          <p:blipFill>
            <a:blip r:embed="rId52"/>
            <a:stretch/>
          </p:blipFill>
          <p:spPr>
            <a:xfrm rot="1658400">
              <a:off x="8237520" y="2958840"/>
              <a:ext cx="595800" cy="900000"/>
            </a:xfrm>
            <a:prstGeom prst="rect">
              <a:avLst/>
            </a:prstGeom>
            <a:ln w="0">
              <a:noFill/>
            </a:ln>
          </p:spPr>
        </p:pic>
        <p:pic>
          <p:nvPicPr>
            <p:cNvPr id="360" name="图片 263" descr=""/>
            <p:cNvPicPr/>
            <p:nvPr/>
          </p:nvPicPr>
          <p:blipFill>
            <a:blip r:embed="rId53"/>
            <a:stretch/>
          </p:blipFill>
          <p:spPr>
            <a:xfrm rot="1658400">
              <a:off x="9452520" y="2958840"/>
              <a:ext cx="595800" cy="900000"/>
            </a:xfrm>
            <a:prstGeom prst="rect">
              <a:avLst/>
            </a:prstGeom>
            <a:ln w="0">
              <a:noFill/>
            </a:ln>
          </p:spPr>
        </p:pic>
        <p:pic>
          <p:nvPicPr>
            <p:cNvPr id="361" name="图片 264" descr=""/>
            <p:cNvPicPr/>
            <p:nvPr/>
          </p:nvPicPr>
          <p:blipFill>
            <a:blip r:embed="rId54"/>
            <a:stretch/>
          </p:blipFill>
          <p:spPr>
            <a:xfrm rot="1658400">
              <a:off x="10667880" y="2958840"/>
              <a:ext cx="595800" cy="900000"/>
            </a:xfrm>
            <a:prstGeom prst="rect">
              <a:avLst/>
            </a:prstGeom>
            <a:ln w="0">
              <a:noFill/>
            </a:ln>
          </p:spPr>
        </p:pic>
        <p:pic>
          <p:nvPicPr>
            <p:cNvPr id="362" name="图片 265" descr=""/>
            <p:cNvPicPr/>
            <p:nvPr/>
          </p:nvPicPr>
          <p:blipFill>
            <a:blip r:embed="rId55"/>
            <a:stretch/>
          </p:blipFill>
          <p:spPr>
            <a:xfrm rot="1658400">
              <a:off x="11883240" y="2958840"/>
              <a:ext cx="595800" cy="900000"/>
            </a:xfrm>
            <a:prstGeom prst="rect">
              <a:avLst/>
            </a:prstGeom>
            <a:ln w="0">
              <a:noFill/>
            </a:ln>
          </p:spPr>
        </p:pic>
      </p:grpSp>
      <p:grpSp>
        <p:nvGrpSpPr>
          <p:cNvPr id="363" name="组合 266"/>
          <p:cNvGrpSpPr/>
          <p:nvPr/>
        </p:nvGrpSpPr>
        <p:grpSpPr>
          <a:xfrm>
            <a:off x="-1075320" y="3535200"/>
            <a:ext cx="13097880" cy="1073520"/>
            <a:chOff x="-1075320" y="3535200"/>
            <a:chExt cx="13097880" cy="1073520"/>
          </a:xfrm>
        </p:grpSpPr>
        <p:pic>
          <p:nvPicPr>
            <p:cNvPr id="364" name="图片 267" descr=""/>
            <p:cNvPicPr/>
            <p:nvPr/>
          </p:nvPicPr>
          <p:blipFill>
            <a:blip r:embed="rId56"/>
            <a:stretch/>
          </p:blipFill>
          <p:spPr>
            <a:xfrm rot="1658400">
              <a:off x="-900360" y="3621960"/>
              <a:ext cx="595800" cy="900000"/>
            </a:xfrm>
            <a:prstGeom prst="rect">
              <a:avLst/>
            </a:prstGeom>
            <a:ln w="0">
              <a:noFill/>
            </a:ln>
          </p:spPr>
        </p:pic>
        <p:pic>
          <p:nvPicPr>
            <p:cNvPr id="365" name="图片 268" descr=""/>
            <p:cNvPicPr/>
            <p:nvPr/>
          </p:nvPicPr>
          <p:blipFill>
            <a:blip r:embed="rId57"/>
            <a:stretch/>
          </p:blipFill>
          <p:spPr>
            <a:xfrm rot="1658400">
              <a:off x="314640" y="3621960"/>
              <a:ext cx="595800" cy="900000"/>
            </a:xfrm>
            <a:prstGeom prst="rect">
              <a:avLst/>
            </a:prstGeom>
            <a:ln w="0">
              <a:noFill/>
            </a:ln>
          </p:spPr>
        </p:pic>
        <p:pic>
          <p:nvPicPr>
            <p:cNvPr id="366" name="图片 269" descr=""/>
            <p:cNvPicPr/>
            <p:nvPr/>
          </p:nvPicPr>
          <p:blipFill>
            <a:blip r:embed="rId58"/>
            <a:stretch/>
          </p:blipFill>
          <p:spPr>
            <a:xfrm rot="1658400">
              <a:off x="1530000" y="3621960"/>
              <a:ext cx="595800" cy="900000"/>
            </a:xfrm>
            <a:prstGeom prst="rect">
              <a:avLst/>
            </a:prstGeom>
            <a:ln w="0">
              <a:noFill/>
            </a:ln>
          </p:spPr>
        </p:pic>
        <p:pic>
          <p:nvPicPr>
            <p:cNvPr id="367" name="图片 270" descr=""/>
            <p:cNvPicPr/>
            <p:nvPr/>
          </p:nvPicPr>
          <p:blipFill>
            <a:blip r:embed="rId59"/>
            <a:stretch/>
          </p:blipFill>
          <p:spPr>
            <a:xfrm rot="1658400">
              <a:off x="2745000" y="3621960"/>
              <a:ext cx="595800" cy="900000"/>
            </a:xfrm>
            <a:prstGeom prst="rect">
              <a:avLst/>
            </a:prstGeom>
            <a:ln w="0">
              <a:noFill/>
            </a:ln>
          </p:spPr>
        </p:pic>
        <p:pic>
          <p:nvPicPr>
            <p:cNvPr id="368" name="图片 271" descr=""/>
            <p:cNvPicPr/>
            <p:nvPr/>
          </p:nvPicPr>
          <p:blipFill>
            <a:blip r:embed="rId60"/>
            <a:stretch/>
          </p:blipFill>
          <p:spPr>
            <a:xfrm rot="1658400">
              <a:off x="3960360" y="3621960"/>
              <a:ext cx="595800" cy="900000"/>
            </a:xfrm>
            <a:prstGeom prst="rect">
              <a:avLst/>
            </a:prstGeom>
            <a:ln w="0">
              <a:noFill/>
            </a:ln>
          </p:spPr>
        </p:pic>
        <p:pic>
          <p:nvPicPr>
            <p:cNvPr id="369" name="图片 272" descr=""/>
            <p:cNvPicPr/>
            <p:nvPr/>
          </p:nvPicPr>
          <p:blipFill>
            <a:blip r:embed="rId61"/>
            <a:stretch/>
          </p:blipFill>
          <p:spPr>
            <a:xfrm rot="1658400">
              <a:off x="5175720" y="3621960"/>
              <a:ext cx="595800" cy="900000"/>
            </a:xfrm>
            <a:prstGeom prst="rect">
              <a:avLst/>
            </a:prstGeom>
            <a:ln w="0">
              <a:noFill/>
            </a:ln>
          </p:spPr>
        </p:pic>
        <p:pic>
          <p:nvPicPr>
            <p:cNvPr id="370" name="图片 273" descr=""/>
            <p:cNvPicPr/>
            <p:nvPr/>
          </p:nvPicPr>
          <p:blipFill>
            <a:blip r:embed="rId62"/>
            <a:stretch/>
          </p:blipFill>
          <p:spPr>
            <a:xfrm rot="1658400">
              <a:off x="6390720" y="3621960"/>
              <a:ext cx="595800" cy="900000"/>
            </a:xfrm>
            <a:prstGeom prst="rect">
              <a:avLst/>
            </a:prstGeom>
            <a:ln w="0">
              <a:noFill/>
            </a:ln>
          </p:spPr>
        </p:pic>
        <p:pic>
          <p:nvPicPr>
            <p:cNvPr id="371" name="图片 274" descr=""/>
            <p:cNvPicPr/>
            <p:nvPr/>
          </p:nvPicPr>
          <p:blipFill>
            <a:blip r:embed="rId63"/>
            <a:stretch/>
          </p:blipFill>
          <p:spPr>
            <a:xfrm rot="1658400">
              <a:off x="7606080" y="3621960"/>
              <a:ext cx="595800" cy="900000"/>
            </a:xfrm>
            <a:prstGeom prst="rect">
              <a:avLst/>
            </a:prstGeom>
            <a:ln w="0">
              <a:noFill/>
            </a:ln>
          </p:spPr>
        </p:pic>
        <p:pic>
          <p:nvPicPr>
            <p:cNvPr id="372" name="图片 275" descr=""/>
            <p:cNvPicPr/>
            <p:nvPr/>
          </p:nvPicPr>
          <p:blipFill>
            <a:blip r:embed="rId64"/>
            <a:stretch/>
          </p:blipFill>
          <p:spPr>
            <a:xfrm rot="1658400">
              <a:off x="8821080" y="3621960"/>
              <a:ext cx="595800" cy="900000"/>
            </a:xfrm>
            <a:prstGeom prst="rect">
              <a:avLst/>
            </a:prstGeom>
            <a:ln w="0">
              <a:noFill/>
            </a:ln>
          </p:spPr>
        </p:pic>
        <p:pic>
          <p:nvPicPr>
            <p:cNvPr id="373" name="图片 276" descr=""/>
            <p:cNvPicPr/>
            <p:nvPr/>
          </p:nvPicPr>
          <p:blipFill>
            <a:blip r:embed="rId65"/>
            <a:stretch/>
          </p:blipFill>
          <p:spPr>
            <a:xfrm rot="1658400">
              <a:off x="10036440" y="3621960"/>
              <a:ext cx="595800" cy="900000"/>
            </a:xfrm>
            <a:prstGeom prst="rect">
              <a:avLst/>
            </a:prstGeom>
            <a:ln w="0">
              <a:noFill/>
            </a:ln>
          </p:spPr>
        </p:pic>
        <p:pic>
          <p:nvPicPr>
            <p:cNvPr id="374" name="图片 277" descr=""/>
            <p:cNvPicPr/>
            <p:nvPr/>
          </p:nvPicPr>
          <p:blipFill>
            <a:blip r:embed="rId66"/>
            <a:stretch/>
          </p:blipFill>
          <p:spPr>
            <a:xfrm rot="1658400">
              <a:off x="11251800" y="3621960"/>
              <a:ext cx="595800" cy="900000"/>
            </a:xfrm>
            <a:prstGeom prst="rect">
              <a:avLst/>
            </a:prstGeom>
            <a:ln w="0">
              <a:noFill/>
            </a:ln>
          </p:spPr>
        </p:pic>
      </p:grpSp>
      <p:grpSp>
        <p:nvGrpSpPr>
          <p:cNvPr id="375" name="组合 278"/>
          <p:cNvGrpSpPr/>
          <p:nvPr/>
        </p:nvGrpSpPr>
        <p:grpSpPr>
          <a:xfrm>
            <a:off x="-443880" y="4371840"/>
            <a:ext cx="13097880" cy="1073520"/>
            <a:chOff x="-443880" y="4371840"/>
            <a:chExt cx="13097880" cy="1073520"/>
          </a:xfrm>
        </p:grpSpPr>
        <p:pic>
          <p:nvPicPr>
            <p:cNvPr id="376" name="图片 279" descr=""/>
            <p:cNvPicPr/>
            <p:nvPr/>
          </p:nvPicPr>
          <p:blipFill>
            <a:blip r:embed="rId67"/>
            <a:stretch/>
          </p:blipFill>
          <p:spPr>
            <a:xfrm rot="1658400">
              <a:off x="-268920" y="4458600"/>
              <a:ext cx="595800" cy="900000"/>
            </a:xfrm>
            <a:prstGeom prst="rect">
              <a:avLst/>
            </a:prstGeom>
            <a:ln w="0">
              <a:noFill/>
            </a:ln>
          </p:spPr>
        </p:pic>
        <p:pic>
          <p:nvPicPr>
            <p:cNvPr id="377" name="图片 280" descr=""/>
            <p:cNvPicPr/>
            <p:nvPr/>
          </p:nvPicPr>
          <p:blipFill>
            <a:blip r:embed="rId68"/>
            <a:stretch/>
          </p:blipFill>
          <p:spPr>
            <a:xfrm rot="1658400">
              <a:off x="946080" y="4458600"/>
              <a:ext cx="595800" cy="900000"/>
            </a:xfrm>
            <a:prstGeom prst="rect">
              <a:avLst/>
            </a:prstGeom>
            <a:ln w="0">
              <a:noFill/>
            </a:ln>
          </p:spPr>
        </p:pic>
        <p:pic>
          <p:nvPicPr>
            <p:cNvPr id="378" name="图片 281" descr=""/>
            <p:cNvPicPr/>
            <p:nvPr/>
          </p:nvPicPr>
          <p:blipFill>
            <a:blip r:embed="rId69"/>
            <a:stretch/>
          </p:blipFill>
          <p:spPr>
            <a:xfrm rot="1658400">
              <a:off x="2161080" y="4458600"/>
              <a:ext cx="595800" cy="900000"/>
            </a:xfrm>
            <a:prstGeom prst="rect">
              <a:avLst/>
            </a:prstGeom>
            <a:ln w="0">
              <a:noFill/>
            </a:ln>
          </p:spPr>
        </p:pic>
        <p:pic>
          <p:nvPicPr>
            <p:cNvPr id="379" name="图片 282" descr=""/>
            <p:cNvPicPr/>
            <p:nvPr/>
          </p:nvPicPr>
          <p:blipFill>
            <a:blip r:embed="rId70"/>
            <a:stretch/>
          </p:blipFill>
          <p:spPr>
            <a:xfrm rot="1658400">
              <a:off x="3376440" y="4458600"/>
              <a:ext cx="595800" cy="900000"/>
            </a:xfrm>
            <a:prstGeom prst="rect">
              <a:avLst/>
            </a:prstGeom>
            <a:ln w="0">
              <a:noFill/>
            </a:ln>
          </p:spPr>
        </p:pic>
        <p:pic>
          <p:nvPicPr>
            <p:cNvPr id="380" name="图片 283" descr=""/>
            <p:cNvPicPr/>
            <p:nvPr/>
          </p:nvPicPr>
          <p:blipFill>
            <a:blip r:embed="rId71"/>
            <a:stretch/>
          </p:blipFill>
          <p:spPr>
            <a:xfrm rot="1658400">
              <a:off x="4591800" y="4458600"/>
              <a:ext cx="595800" cy="900000"/>
            </a:xfrm>
            <a:prstGeom prst="rect">
              <a:avLst/>
            </a:prstGeom>
            <a:ln w="0">
              <a:noFill/>
            </a:ln>
          </p:spPr>
        </p:pic>
        <p:pic>
          <p:nvPicPr>
            <p:cNvPr id="381" name="图片 284" descr=""/>
            <p:cNvPicPr/>
            <p:nvPr/>
          </p:nvPicPr>
          <p:blipFill>
            <a:blip r:embed="rId72"/>
            <a:stretch/>
          </p:blipFill>
          <p:spPr>
            <a:xfrm rot="1658400">
              <a:off x="5806800" y="4458600"/>
              <a:ext cx="595800" cy="900000"/>
            </a:xfrm>
            <a:prstGeom prst="rect">
              <a:avLst/>
            </a:prstGeom>
            <a:ln w="0">
              <a:noFill/>
            </a:ln>
          </p:spPr>
        </p:pic>
        <p:pic>
          <p:nvPicPr>
            <p:cNvPr id="382" name="图片 285" descr=""/>
            <p:cNvPicPr/>
            <p:nvPr/>
          </p:nvPicPr>
          <p:blipFill>
            <a:blip r:embed="rId73"/>
            <a:stretch/>
          </p:blipFill>
          <p:spPr>
            <a:xfrm rot="1658400">
              <a:off x="7022160" y="4458600"/>
              <a:ext cx="595800" cy="900000"/>
            </a:xfrm>
            <a:prstGeom prst="rect">
              <a:avLst/>
            </a:prstGeom>
            <a:ln w="0">
              <a:noFill/>
            </a:ln>
          </p:spPr>
        </p:pic>
        <p:pic>
          <p:nvPicPr>
            <p:cNvPr id="383" name="图片 286" descr=""/>
            <p:cNvPicPr/>
            <p:nvPr/>
          </p:nvPicPr>
          <p:blipFill>
            <a:blip r:embed="rId74"/>
            <a:stretch/>
          </p:blipFill>
          <p:spPr>
            <a:xfrm rot="1658400">
              <a:off x="8237520" y="4458600"/>
              <a:ext cx="595800" cy="900000"/>
            </a:xfrm>
            <a:prstGeom prst="rect">
              <a:avLst/>
            </a:prstGeom>
            <a:ln w="0">
              <a:noFill/>
            </a:ln>
          </p:spPr>
        </p:pic>
        <p:pic>
          <p:nvPicPr>
            <p:cNvPr id="384" name="图片 287" descr=""/>
            <p:cNvPicPr/>
            <p:nvPr/>
          </p:nvPicPr>
          <p:blipFill>
            <a:blip r:embed="rId75"/>
            <a:stretch/>
          </p:blipFill>
          <p:spPr>
            <a:xfrm rot="1658400">
              <a:off x="9452520" y="4458600"/>
              <a:ext cx="595800" cy="900000"/>
            </a:xfrm>
            <a:prstGeom prst="rect">
              <a:avLst/>
            </a:prstGeom>
            <a:ln w="0">
              <a:noFill/>
            </a:ln>
          </p:spPr>
        </p:pic>
        <p:pic>
          <p:nvPicPr>
            <p:cNvPr id="385" name="图片 288" descr=""/>
            <p:cNvPicPr/>
            <p:nvPr/>
          </p:nvPicPr>
          <p:blipFill>
            <a:blip r:embed="rId76"/>
            <a:stretch/>
          </p:blipFill>
          <p:spPr>
            <a:xfrm rot="1658400">
              <a:off x="10667880" y="4458600"/>
              <a:ext cx="595800" cy="900000"/>
            </a:xfrm>
            <a:prstGeom prst="rect">
              <a:avLst/>
            </a:prstGeom>
            <a:ln w="0">
              <a:noFill/>
            </a:ln>
          </p:spPr>
        </p:pic>
        <p:pic>
          <p:nvPicPr>
            <p:cNvPr id="386" name="图片 289" descr=""/>
            <p:cNvPicPr/>
            <p:nvPr/>
          </p:nvPicPr>
          <p:blipFill>
            <a:blip r:embed="rId77"/>
            <a:stretch/>
          </p:blipFill>
          <p:spPr>
            <a:xfrm rot="1658400">
              <a:off x="11883240" y="4458600"/>
              <a:ext cx="595800" cy="900000"/>
            </a:xfrm>
            <a:prstGeom prst="rect">
              <a:avLst/>
            </a:prstGeom>
            <a:ln w="0">
              <a:noFill/>
            </a:ln>
          </p:spPr>
        </p:pic>
      </p:grpSp>
      <p:grpSp>
        <p:nvGrpSpPr>
          <p:cNvPr id="387" name="组合 290"/>
          <p:cNvGrpSpPr/>
          <p:nvPr/>
        </p:nvGrpSpPr>
        <p:grpSpPr>
          <a:xfrm>
            <a:off x="-1075320" y="5121720"/>
            <a:ext cx="13097880" cy="1073520"/>
            <a:chOff x="-1075320" y="5121720"/>
            <a:chExt cx="13097880" cy="1073520"/>
          </a:xfrm>
        </p:grpSpPr>
        <p:pic>
          <p:nvPicPr>
            <p:cNvPr id="388" name="图片 291" descr=""/>
            <p:cNvPicPr/>
            <p:nvPr/>
          </p:nvPicPr>
          <p:blipFill>
            <a:blip r:embed="rId78"/>
            <a:stretch/>
          </p:blipFill>
          <p:spPr>
            <a:xfrm rot="1658400">
              <a:off x="-900360" y="5208480"/>
              <a:ext cx="595800" cy="900000"/>
            </a:xfrm>
            <a:prstGeom prst="rect">
              <a:avLst/>
            </a:prstGeom>
            <a:ln w="0">
              <a:noFill/>
            </a:ln>
          </p:spPr>
        </p:pic>
        <p:pic>
          <p:nvPicPr>
            <p:cNvPr id="389" name="图片 292" descr=""/>
            <p:cNvPicPr/>
            <p:nvPr/>
          </p:nvPicPr>
          <p:blipFill>
            <a:blip r:embed="rId79"/>
            <a:stretch/>
          </p:blipFill>
          <p:spPr>
            <a:xfrm rot="1658400">
              <a:off x="314640" y="5208480"/>
              <a:ext cx="595800" cy="900000"/>
            </a:xfrm>
            <a:prstGeom prst="rect">
              <a:avLst/>
            </a:prstGeom>
            <a:ln w="0">
              <a:noFill/>
            </a:ln>
          </p:spPr>
        </p:pic>
        <p:pic>
          <p:nvPicPr>
            <p:cNvPr id="390" name="图片 293" descr=""/>
            <p:cNvPicPr/>
            <p:nvPr/>
          </p:nvPicPr>
          <p:blipFill>
            <a:blip r:embed="rId80"/>
            <a:stretch/>
          </p:blipFill>
          <p:spPr>
            <a:xfrm rot="1658400">
              <a:off x="1530000" y="5208480"/>
              <a:ext cx="595800" cy="900000"/>
            </a:xfrm>
            <a:prstGeom prst="rect">
              <a:avLst/>
            </a:prstGeom>
            <a:ln w="0">
              <a:noFill/>
            </a:ln>
          </p:spPr>
        </p:pic>
        <p:pic>
          <p:nvPicPr>
            <p:cNvPr id="391" name="图片 294" descr=""/>
            <p:cNvPicPr/>
            <p:nvPr/>
          </p:nvPicPr>
          <p:blipFill>
            <a:blip r:embed="rId81"/>
            <a:stretch/>
          </p:blipFill>
          <p:spPr>
            <a:xfrm rot="1658400">
              <a:off x="2745000" y="5208480"/>
              <a:ext cx="595800" cy="900000"/>
            </a:xfrm>
            <a:prstGeom prst="rect">
              <a:avLst/>
            </a:prstGeom>
            <a:ln w="0">
              <a:noFill/>
            </a:ln>
          </p:spPr>
        </p:pic>
        <p:pic>
          <p:nvPicPr>
            <p:cNvPr id="392" name="图片 295" descr=""/>
            <p:cNvPicPr/>
            <p:nvPr/>
          </p:nvPicPr>
          <p:blipFill>
            <a:blip r:embed="rId82"/>
            <a:stretch/>
          </p:blipFill>
          <p:spPr>
            <a:xfrm rot="1658400">
              <a:off x="3960360" y="5208480"/>
              <a:ext cx="595800" cy="900000"/>
            </a:xfrm>
            <a:prstGeom prst="rect">
              <a:avLst/>
            </a:prstGeom>
            <a:ln w="0">
              <a:noFill/>
            </a:ln>
          </p:spPr>
        </p:pic>
        <p:pic>
          <p:nvPicPr>
            <p:cNvPr id="393" name="图片 296" descr=""/>
            <p:cNvPicPr/>
            <p:nvPr/>
          </p:nvPicPr>
          <p:blipFill>
            <a:blip r:embed="rId83"/>
            <a:stretch/>
          </p:blipFill>
          <p:spPr>
            <a:xfrm rot="1658400">
              <a:off x="5175720" y="5208480"/>
              <a:ext cx="595800" cy="900000"/>
            </a:xfrm>
            <a:prstGeom prst="rect">
              <a:avLst/>
            </a:prstGeom>
            <a:ln w="0">
              <a:noFill/>
            </a:ln>
          </p:spPr>
        </p:pic>
        <p:pic>
          <p:nvPicPr>
            <p:cNvPr id="394" name="图片 297" descr=""/>
            <p:cNvPicPr/>
            <p:nvPr/>
          </p:nvPicPr>
          <p:blipFill>
            <a:blip r:embed="rId84"/>
            <a:stretch/>
          </p:blipFill>
          <p:spPr>
            <a:xfrm rot="1658400">
              <a:off x="6390720" y="5208480"/>
              <a:ext cx="595800" cy="900000"/>
            </a:xfrm>
            <a:prstGeom prst="rect">
              <a:avLst/>
            </a:prstGeom>
            <a:ln w="0">
              <a:noFill/>
            </a:ln>
          </p:spPr>
        </p:pic>
        <p:pic>
          <p:nvPicPr>
            <p:cNvPr id="395" name="图片 298" descr=""/>
            <p:cNvPicPr/>
            <p:nvPr/>
          </p:nvPicPr>
          <p:blipFill>
            <a:blip r:embed="rId85"/>
            <a:stretch/>
          </p:blipFill>
          <p:spPr>
            <a:xfrm rot="1658400">
              <a:off x="7606080" y="5208480"/>
              <a:ext cx="595800" cy="900000"/>
            </a:xfrm>
            <a:prstGeom prst="rect">
              <a:avLst/>
            </a:prstGeom>
            <a:ln w="0">
              <a:noFill/>
            </a:ln>
          </p:spPr>
        </p:pic>
        <p:pic>
          <p:nvPicPr>
            <p:cNvPr id="396" name="图片 299" descr=""/>
            <p:cNvPicPr/>
            <p:nvPr/>
          </p:nvPicPr>
          <p:blipFill>
            <a:blip r:embed="rId86"/>
            <a:stretch/>
          </p:blipFill>
          <p:spPr>
            <a:xfrm rot="1658400">
              <a:off x="8821080" y="5208480"/>
              <a:ext cx="595800" cy="900000"/>
            </a:xfrm>
            <a:prstGeom prst="rect">
              <a:avLst/>
            </a:prstGeom>
            <a:ln w="0">
              <a:noFill/>
            </a:ln>
          </p:spPr>
        </p:pic>
        <p:pic>
          <p:nvPicPr>
            <p:cNvPr id="397" name="图片 300" descr=""/>
            <p:cNvPicPr/>
            <p:nvPr/>
          </p:nvPicPr>
          <p:blipFill>
            <a:blip r:embed="rId87"/>
            <a:stretch/>
          </p:blipFill>
          <p:spPr>
            <a:xfrm rot="1658400">
              <a:off x="10036440" y="5208480"/>
              <a:ext cx="595800" cy="900000"/>
            </a:xfrm>
            <a:prstGeom prst="rect">
              <a:avLst/>
            </a:prstGeom>
            <a:ln w="0">
              <a:noFill/>
            </a:ln>
          </p:spPr>
        </p:pic>
        <p:pic>
          <p:nvPicPr>
            <p:cNvPr id="398" name="图片 301" descr=""/>
            <p:cNvPicPr/>
            <p:nvPr/>
          </p:nvPicPr>
          <p:blipFill>
            <a:blip r:embed="rId88"/>
            <a:stretch/>
          </p:blipFill>
          <p:spPr>
            <a:xfrm rot="1658400">
              <a:off x="11251800" y="5208480"/>
              <a:ext cx="595800" cy="900000"/>
            </a:xfrm>
            <a:prstGeom prst="rect">
              <a:avLst/>
            </a:prstGeom>
            <a:ln w="0">
              <a:noFill/>
            </a:ln>
          </p:spPr>
        </p:pic>
      </p:grpSp>
      <p:grpSp>
        <p:nvGrpSpPr>
          <p:cNvPr id="399" name="组合 302"/>
          <p:cNvGrpSpPr/>
          <p:nvPr/>
        </p:nvGrpSpPr>
        <p:grpSpPr>
          <a:xfrm>
            <a:off x="-443880" y="5958720"/>
            <a:ext cx="13097880" cy="1073520"/>
            <a:chOff x="-443880" y="5958720"/>
            <a:chExt cx="13097880" cy="1073520"/>
          </a:xfrm>
        </p:grpSpPr>
        <p:pic>
          <p:nvPicPr>
            <p:cNvPr id="400" name="图片 303" descr=""/>
            <p:cNvPicPr/>
            <p:nvPr/>
          </p:nvPicPr>
          <p:blipFill>
            <a:blip r:embed="rId89"/>
            <a:stretch/>
          </p:blipFill>
          <p:spPr>
            <a:xfrm rot="1658400">
              <a:off x="-268920" y="6045480"/>
              <a:ext cx="595800" cy="900000"/>
            </a:xfrm>
            <a:prstGeom prst="rect">
              <a:avLst/>
            </a:prstGeom>
            <a:ln w="0">
              <a:noFill/>
            </a:ln>
          </p:spPr>
        </p:pic>
        <p:pic>
          <p:nvPicPr>
            <p:cNvPr id="401" name="图片 304" descr=""/>
            <p:cNvPicPr/>
            <p:nvPr/>
          </p:nvPicPr>
          <p:blipFill>
            <a:blip r:embed="rId90"/>
            <a:stretch/>
          </p:blipFill>
          <p:spPr>
            <a:xfrm rot="1658400">
              <a:off x="946080" y="6045480"/>
              <a:ext cx="595800" cy="900000"/>
            </a:xfrm>
            <a:prstGeom prst="rect">
              <a:avLst/>
            </a:prstGeom>
            <a:ln w="0">
              <a:noFill/>
            </a:ln>
          </p:spPr>
        </p:pic>
        <p:pic>
          <p:nvPicPr>
            <p:cNvPr id="402" name="图片 305" descr=""/>
            <p:cNvPicPr/>
            <p:nvPr/>
          </p:nvPicPr>
          <p:blipFill>
            <a:blip r:embed="rId91"/>
            <a:stretch/>
          </p:blipFill>
          <p:spPr>
            <a:xfrm rot="1658400">
              <a:off x="2161080" y="6045480"/>
              <a:ext cx="595800" cy="900000"/>
            </a:xfrm>
            <a:prstGeom prst="rect">
              <a:avLst/>
            </a:prstGeom>
            <a:ln w="0">
              <a:noFill/>
            </a:ln>
          </p:spPr>
        </p:pic>
        <p:pic>
          <p:nvPicPr>
            <p:cNvPr id="403" name="图片 306" descr=""/>
            <p:cNvPicPr/>
            <p:nvPr/>
          </p:nvPicPr>
          <p:blipFill>
            <a:blip r:embed="rId92"/>
            <a:stretch/>
          </p:blipFill>
          <p:spPr>
            <a:xfrm rot="1658400">
              <a:off x="3376440" y="6045480"/>
              <a:ext cx="595800" cy="900000"/>
            </a:xfrm>
            <a:prstGeom prst="rect">
              <a:avLst/>
            </a:prstGeom>
            <a:ln w="0">
              <a:noFill/>
            </a:ln>
          </p:spPr>
        </p:pic>
        <p:pic>
          <p:nvPicPr>
            <p:cNvPr id="404" name="图片 307" descr=""/>
            <p:cNvPicPr/>
            <p:nvPr/>
          </p:nvPicPr>
          <p:blipFill>
            <a:blip r:embed="rId93"/>
            <a:stretch/>
          </p:blipFill>
          <p:spPr>
            <a:xfrm rot="1658400">
              <a:off x="4591800" y="6045480"/>
              <a:ext cx="595800" cy="900000"/>
            </a:xfrm>
            <a:prstGeom prst="rect">
              <a:avLst/>
            </a:prstGeom>
            <a:ln w="0">
              <a:noFill/>
            </a:ln>
          </p:spPr>
        </p:pic>
        <p:pic>
          <p:nvPicPr>
            <p:cNvPr id="405" name="图片 308" descr=""/>
            <p:cNvPicPr/>
            <p:nvPr/>
          </p:nvPicPr>
          <p:blipFill>
            <a:blip r:embed="rId94"/>
            <a:stretch/>
          </p:blipFill>
          <p:spPr>
            <a:xfrm rot="1658400">
              <a:off x="5806800" y="6045480"/>
              <a:ext cx="595800" cy="900000"/>
            </a:xfrm>
            <a:prstGeom prst="rect">
              <a:avLst/>
            </a:prstGeom>
            <a:ln w="0">
              <a:noFill/>
            </a:ln>
          </p:spPr>
        </p:pic>
        <p:pic>
          <p:nvPicPr>
            <p:cNvPr id="406" name="图片 309" descr=""/>
            <p:cNvPicPr/>
            <p:nvPr/>
          </p:nvPicPr>
          <p:blipFill>
            <a:blip r:embed="rId95"/>
            <a:stretch/>
          </p:blipFill>
          <p:spPr>
            <a:xfrm rot="1658400">
              <a:off x="7022160" y="6045480"/>
              <a:ext cx="595800" cy="900000"/>
            </a:xfrm>
            <a:prstGeom prst="rect">
              <a:avLst/>
            </a:prstGeom>
            <a:ln w="0">
              <a:noFill/>
            </a:ln>
          </p:spPr>
        </p:pic>
        <p:pic>
          <p:nvPicPr>
            <p:cNvPr id="407" name="图片 310" descr=""/>
            <p:cNvPicPr/>
            <p:nvPr/>
          </p:nvPicPr>
          <p:blipFill>
            <a:blip r:embed="rId96"/>
            <a:stretch/>
          </p:blipFill>
          <p:spPr>
            <a:xfrm rot="1658400">
              <a:off x="8237520" y="6045480"/>
              <a:ext cx="595800" cy="900000"/>
            </a:xfrm>
            <a:prstGeom prst="rect">
              <a:avLst/>
            </a:prstGeom>
            <a:ln w="0">
              <a:noFill/>
            </a:ln>
          </p:spPr>
        </p:pic>
        <p:pic>
          <p:nvPicPr>
            <p:cNvPr id="408" name="图片 311" descr=""/>
            <p:cNvPicPr/>
            <p:nvPr/>
          </p:nvPicPr>
          <p:blipFill>
            <a:blip r:embed="rId97"/>
            <a:stretch/>
          </p:blipFill>
          <p:spPr>
            <a:xfrm rot="1658400">
              <a:off x="9452520" y="6045480"/>
              <a:ext cx="595800" cy="900000"/>
            </a:xfrm>
            <a:prstGeom prst="rect">
              <a:avLst/>
            </a:prstGeom>
            <a:ln w="0">
              <a:noFill/>
            </a:ln>
          </p:spPr>
        </p:pic>
        <p:pic>
          <p:nvPicPr>
            <p:cNvPr id="409" name="图片 312" descr=""/>
            <p:cNvPicPr/>
            <p:nvPr/>
          </p:nvPicPr>
          <p:blipFill>
            <a:blip r:embed="rId98"/>
            <a:stretch/>
          </p:blipFill>
          <p:spPr>
            <a:xfrm rot="1658400">
              <a:off x="10667880" y="6045480"/>
              <a:ext cx="595800" cy="900000"/>
            </a:xfrm>
            <a:prstGeom prst="rect">
              <a:avLst/>
            </a:prstGeom>
            <a:ln w="0">
              <a:noFill/>
            </a:ln>
          </p:spPr>
        </p:pic>
        <p:pic>
          <p:nvPicPr>
            <p:cNvPr id="410" name="图片 313" descr=""/>
            <p:cNvPicPr/>
            <p:nvPr/>
          </p:nvPicPr>
          <p:blipFill>
            <a:blip r:embed="rId99"/>
            <a:stretch/>
          </p:blipFill>
          <p:spPr>
            <a:xfrm rot="1658400">
              <a:off x="11883240" y="6045480"/>
              <a:ext cx="595800" cy="900000"/>
            </a:xfrm>
            <a:prstGeom prst="rect">
              <a:avLst/>
            </a:prstGeom>
            <a:ln w="0">
              <a:noFill/>
            </a:ln>
          </p:spPr>
        </p:pic>
      </p:grpSp>
      <p:grpSp>
        <p:nvGrpSpPr>
          <p:cNvPr id="411" name="组合 314"/>
          <p:cNvGrpSpPr/>
          <p:nvPr/>
        </p:nvGrpSpPr>
        <p:grpSpPr>
          <a:xfrm>
            <a:off x="-1075320" y="-1137960"/>
            <a:ext cx="13097880" cy="1073520"/>
            <a:chOff x="-1075320" y="-1137960"/>
            <a:chExt cx="13097880" cy="1073520"/>
          </a:xfrm>
        </p:grpSpPr>
        <p:pic>
          <p:nvPicPr>
            <p:cNvPr id="412" name="图片 315" descr=""/>
            <p:cNvPicPr/>
            <p:nvPr/>
          </p:nvPicPr>
          <p:blipFill>
            <a:blip r:embed="rId100"/>
            <a:stretch/>
          </p:blipFill>
          <p:spPr>
            <a:xfrm rot="1658400">
              <a:off x="-900360" y="-1050840"/>
              <a:ext cx="595800" cy="900000"/>
            </a:xfrm>
            <a:prstGeom prst="rect">
              <a:avLst/>
            </a:prstGeom>
            <a:ln w="0">
              <a:noFill/>
            </a:ln>
          </p:spPr>
        </p:pic>
        <p:pic>
          <p:nvPicPr>
            <p:cNvPr id="413" name="图片 316" descr=""/>
            <p:cNvPicPr/>
            <p:nvPr/>
          </p:nvPicPr>
          <p:blipFill>
            <a:blip r:embed="rId101"/>
            <a:stretch/>
          </p:blipFill>
          <p:spPr>
            <a:xfrm rot="1658400">
              <a:off x="314640" y="-1050840"/>
              <a:ext cx="595800" cy="900000"/>
            </a:xfrm>
            <a:prstGeom prst="rect">
              <a:avLst/>
            </a:prstGeom>
            <a:ln w="0">
              <a:noFill/>
            </a:ln>
          </p:spPr>
        </p:pic>
        <p:pic>
          <p:nvPicPr>
            <p:cNvPr id="414" name="图片 317" descr=""/>
            <p:cNvPicPr/>
            <p:nvPr/>
          </p:nvPicPr>
          <p:blipFill>
            <a:blip r:embed="rId102"/>
            <a:stretch/>
          </p:blipFill>
          <p:spPr>
            <a:xfrm rot="1658400">
              <a:off x="1530000" y="-1050840"/>
              <a:ext cx="595800" cy="900000"/>
            </a:xfrm>
            <a:prstGeom prst="rect">
              <a:avLst/>
            </a:prstGeom>
            <a:ln w="0">
              <a:noFill/>
            </a:ln>
          </p:spPr>
        </p:pic>
        <p:pic>
          <p:nvPicPr>
            <p:cNvPr id="415" name="图片 318" descr=""/>
            <p:cNvPicPr/>
            <p:nvPr/>
          </p:nvPicPr>
          <p:blipFill>
            <a:blip r:embed="rId103"/>
            <a:stretch/>
          </p:blipFill>
          <p:spPr>
            <a:xfrm rot="1658400">
              <a:off x="2745000" y="-1050840"/>
              <a:ext cx="595800" cy="900000"/>
            </a:xfrm>
            <a:prstGeom prst="rect">
              <a:avLst/>
            </a:prstGeom>
            <a:ln w="0">
              <a:noFill/>
            </a:ln>
          </p:spPr>
        </p:pic>
        <p:pic>
          <p:nvPicPr>
            <p:cNvPr id="416" name="图片 319" descr=""/>
            <p:cNvPicPr/>
            <p:nvPr/>
          </p:nvPicPr>
          <p:blipFill>
            <a:blip r:embed="rId104"/>
            <a:stretch/>
          </p:blipFill>
          <p:spPr>
            <a:xfrm rot="1658400">
              <a:off x="3960360" y="-1050840"/>
              <a:ext cx="595800" cy="900000"/>
            </a:xfrm>
            <a:prstGeom prst="rect">
              <a:avLst/>
            </a:prstGeom>
            <a:ln w="0">
              <a:noFill/>
            </a:ln>
          </p:spPr>
        </p:pic>
        <p:pic>
          <p:nvPicPr>
            <p:cNvPr id="417" name="图片 320" descr=""/>
            <p:cNvPicPr/>
            <p:nvPr/>
          </p:nvPicPr>
          <p:blipFill>
            <a:blip r:embed="rId105"/>
            <a:stretch/>
          </p:blipFill>
          <p:spPr>
            <a:xfrm rot="1658400">
              <a:off x="5175720" y="-1050840"/>
              <a:ext cx="595800" cy="900000"/>
            </a:xfrm>
            <a:prstGeom prst="rect">
              <a:avLst/>
            </a:prstGeom>
            <a:ln w="0">
              <a:noFill/>
            </a:ln>
          </p:spPr>
        </p:pic>
        <p:pic>
          <p:nvPicPr>
            <p:cNvPr id="418" name="图片 321" descr=""/>
            <p:cNvPicPr/>
            <p:nvPr/>
          </p:nvPicPr>
          <p:blipFill>
            <a:blip r:embed="rId106"/>
            <a:stretch/>
          </p:blipFill>
          <p:spPr>
            <a:xfrm rot="1658400">
              <a:off x="6390720" y="-1050840"/>
              <a:ext cx="595800" cy="900000"/>
            </a:xfrm>
            <a:prstGeom prst="rect">
              <a:avLst/>
            </a:prstGeom>
            <a:ln w="0">
              <a:noFill/>
            </a:ln>
          </p:spPr>
        </p:pic>
        <p:pic>
          <p:nvPicPr>
            <p:cNvPr id="419" name="图片 322" descr=""/>
            <p:cNvPicPr/>
            <p:nvPr/>
          </p:nvPicPr>
          <p:blipFill>
            <a:blip r:embed="rId107"/>
            <a:stretch/>
          </p:blipFill>
          <p:spPr>
            <a:xfrm rot="1658400">
              <a:off x="7606080" y="-1050840"/>
              <a:ext cx="595800" cy="900000"/>
            </a:xfrm>
            <a:prstGeom prst="rect">
              <a:avLst/>
            </a:prstGeom>
            <a:ln w="0">
              <a:noFill/>
            </a:ln>
          </p:spPr>
        </p:pic>
        <p:pic>
          <p:nvPicPr>
            <p:cNvPr id="420" name="图片 323" descr=""/>
            <p:cNvPicPr/>
            <p:nvPr/>
          </p:nvPicPr>
          <p:blipFill>
            <a:blip r:embed="rId108"/>
            <a:stretch/>
          </p:blipFill>
          <p:spPr>
            <a:xfrm rot="1658400">
              <a:off x="8821080" y="-1050840"/>
              <a:ext cx="595800" cy="900000"/>
            </a:xfrm>
            <a:prstGeom prst="rect">
              <a:avLst/>
            </a:prstGeom>
            <a:ln w="0">
              <a:noFill/>
            </a:ln>
          </p:spPr>
        </p:pic>
        <p:pic>
          <p:nvPicPr>
            <p:cNvPr id="421" name="图片 324" descr=""/>
            <p:cNvPicPr/>
            <p:nvPr/>
          </p:nvPicPr>
          <p:blipFill>
            <a:blip r:embed="rId109"/>
            <a:stretch/>
          </p:blipFill>
          <p:spPr>
            <a:xfrm rot="1658400">
              <a:off x="10036440" y="-1050840"/>
              <a:ext cx="595800" cy="900000"/>
            </a:xfrm>
            <a:prstGeom prst="rect">
              <a:avLst/>
            </a:prstGeom>
            <a:ln w="0">
              <a:noFill/>
            </a:ln>
          </p:spPr>
        </p:pic>
        <p:pic>
          <p:nvPicPr>
            <p:cNvPr id="422" name="图片 325" descr=""/>
            <p:cNvPicPr/>
            <p:nvPr/>
          </p:nvPicPr>
          <p:blipFill>
            <a:blip r:embed="rId110"/>
            <a:stretch/>
          </p:blipFill>
          <p:spPr>
            <a:xfrm rot="1658400">
              <a:off x="11251800" y="-1050840"/>
              <a:ext cx="595800" cy="900000"/>
            </a:xfrm>
            <a:prstGeom prst="rect">
              <a:avLst/>
            </a:prstGeom>
            <a:ln w="0">
              <a:noFill/>
            </a:ln>
          </p:spPr>
        </p:pic>
      </p:grpSp>
    </p:spTree>
  </p:cSld>
  <mc:AlternateContent>
    <mc:Choice Requires="p14">
      <p:transition spd="slow" advTm="0" p14:dur="2000"/>
    </mc:Choice>
    <mc:Fallback>
      <p:transition spd="slow" advTm="0"/>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bd1"/>
        </a:solidFill>
      </p:bgPr>
    </p:bg>
    <p:spTree>
      <p:nvGrpSpPr>
        <p:cNvPr id="1" name=""/>
        <p:cNvGrpSpPr/>
        <p:nvPr/>
      </p:nvGrpSpPr>
      <p:grpSpPr>
        <a:xfrm>
          <a:off x="0" y="0"/>
          <a:ext cx="0" cy="0"/>
          <a:chOff x="0" y="0"/>
          <a:chExt cx="0" cy="0"/>
        </a:xfrm>
      </p:grpSpPr>
      <p:grpSp>
        <p:nvGrpSpPr>
          <p:cNvPr id="423" name="组合 231"/>
          <p:cNvGrpSpPr/>
          <p:nvPr/>
        </p:nvGrpSpPr>
        <p:grpSpPr>
          <a:xfrm>
            <a:off x="-53280" y="1647000"/>
            <a:ext cx="12882960" cy="821160"/>
            <a:chOff x="-53280" y="1647000"/>
            <a:chExt cx="12882960" cy="821160"/>
          </a:xfrm>
        </p:grpSpPr>
        <p:pic>
          <p:nvPicPr>
            <p:cNvPr id="424" name="图片 232" descr=""/>
            <p:cNvPicPr/>
            <p:nvPr/>
          </p:nvPicPr>
          <p:blipFill>
            <a:blip r:embed="rId1"/>
            <a:stretch/>
          </p:blipFill>
          <p:spPr>
            <a:xfrm>
              <a:off x="-53280" y="1647000"/>
              <a:ext cx="797760" cy="821160"/>
            </a:xfrm>
            <a:prstGeom prst="rect">
              <a:avLst/>
            </a:prstGeom>
            <a:ln w="0">
              <a:noFill/>
            </a:ln>
          </p:spPr>
        </p:pic>
        <p:pic>
          <p:nvPicPr>
            <p:cNvPr id="425" name="图片 233" descr=""/>
            <p:cNvPicPr/>
            <p:nvPr/>
          </p:nvPicPr>
          <p:blipFill>
            <a:blip r:embed="rId2"/>
            <a:stretch/>
          </p:blipFill>
          <p:spPr>
            <a:xfrm>
              <a:off x="1060920" y="1647000"/>
              <a:ext cx="797760" cy="821160"/>
            </a:xfrm>
            <a:prstGeom prst="rect">
              <a:avLst/>
            </a:prstGeom>
            <a:ln w="0">
              <a:noFill/>
            </a:ln>
          </p:spPr>
        </p:pic>
        <p:pic>
          <p:nvPicPr>
            <p:cNvPr id="426" name="图片 234" descr=""/>
            <p:cNvPicPr/>
            <p:nvPr/>
          </p:nvPicPr>
          <p:blipFill>
            <a:blip r:embed="rId3"/>
            <a:stretch/>
          </p:blipFill>
          <p:spPr>
            <a:xfrm>
              <a:off x="2150280" y="1647000"/>
              <a:ext cx="797760" cy="821160"/>
            </a:xfrm>
            <a:prstGeom prst="rect">
              <a:avLst/>
            </a:prstGeom>
            <a:ln w="0">
              <a:noFill/>
            </a:ln>
          </p:spPr>
        </p:pic>
        <p:pic>
          <p:nvPicPr>
            <p:cNvPr id="427" name="图片 235" descr=""/>
            <p:cNvPicPr/>
            <p:nvPr/>
          </p:nvPicPr>
          <p:blipFill>
            <a:blip r:embed="rId4"/>
            <a:stretch/>
          </p:blipFill>
          <p:spPr>
            <a:xfrm>
              <a:off x="3245040" y="1647000"/>
              <a:ext cx="797760" cy="821160"/>
            </a:xfrm>
            <a:prstGeom prst="rect">
              <a:avLst/>
            </a:prstGeom>
            <a:ln w="0">
              <a:noFill/>
            </a:ln>
          </p:spPr>
        </p:pic>
        <p:pic>
          <p:nvPicPr>
            <p:cNvPr id="428" name="图片 236" descr=""/>
            <p:cNvPicPr/>
            <p:nvPr/>
          </p:nvPicPr>
          <p:blipFill>
            <a:blip r:embed="rId5"/>
            <a:stretch/>
          </p:blipFill>
          <p:spPr>
            <a:xfrm>
              <a:off x="4359600" y="1647000"/>
              <a:ext cx="797760" cy="821160"/>
            </a:xfrm>
            <a:prstGeom prst="rect">
              <a:avLst/>
            </a:prstGeom>
            <a:ln w="0">
              <a:noFill/>
            </a:ln>
          </p:spPr>
        </p:pic>
        <p:pic>
          <p:nvPicPr>
            <p:cNvPr id="429" name="图片 237" descr=""/>
            <p:cNvPicPr/>
            <p:nvPr/>
          </p:nvPicPr>
          <p:blipFill>
            <a:blip r:embed="rId6"/>
            <a:stretch/>
          </p:blipFill>
          <p:spPr>
            <a:xfrm>
              <a:off x="5448600" y="1647000"/>
              <a:ext cx="797760" cy="821160"/>
            </a:xfrm>
            <a:prstGeom prst="rect">
              <a:avLst/>
            </a:prstGeom>
            <a:ln w="0">
              <a:noFill/>
            </a:ln>
          </p:spPr>
        </p:pic>
        <p:pic>
          <p:nvPicPr>
            <p:cNvPr id="430" name="图片 238" descr=""/>
            <p:cNvPicPr/>
            <p:nvPr/>
          </p:nvPicPr>
          <p:blipFill>
            <a:blip r:embed="rId7"/>
            <a:stretch/>
          </p:blipFill>
          <p:spPr>
            <a:xfrm>
              <a:off x="6529680" y="1647000"/>
              <a:ext cx="797760" cy="821160"/>
            </a:xfrm>
            <a:prstGeom prst="rect">
              <a:avLst/>
            </a:prstGeom>
            <a:ln w="0">
              <a:noFill/>
            </a:ln>
          </p:spPr>
        </p:pic>
        <p:pic>
          <p:nvPicPr>
            <p:cNvPr id="431" name="图片 239" descr=""/>
            <p:cNvPicPr/>
            <p:nvPr/>
          </p:nvPicPr>
          <p:blipFill>
            <a:blip r:embed="rId8"/>
            <a:stretch/>
          </p:blipFill>
          <p:spPr>
            <a:xfrm>
              <a:off x="7643880" y="1647000"/>
              <a:ext cx="797760" cy="821160"/>
            </a:xfrm>
            <a:prstGeom prst="rect">
              <a:avLst/>
            </a:prstGeom>
            <a:ln w="0">
              <a:noFill/>
            </a:ln>
          </p:spPr>
        </p:pic>
        <p:pic>
          <p:nvPicPr>
            <p:cNvPr id="432" name="图片 240" descr=""/>
            <p:cNvPicPr/>
            <p:nvPr/>
          </p:nvPicPr>
          <p:blipFill>
            <a:blip r:embed="rId9"/>
            <a:stretch/>
          </p:blipFill>
          <p:spPr>
            <a:xfrm>
              <a:off x="8733240" y="1647000"/>
              <a:ext cx="797760" cy="821160"/>
            </a:xfrm>
            <a:prstGeom prst="rect">
              <a:avLst/>
            </a:prstGeom>
            <a:ln w="0">
              <a:noFill/>
            </a:ln>
          </p:spPr>
        </p:pic>
        <p:pic>
          <p:nvPicPr>
            <p:cNvPr id="433" name="图片 241" descr=""/>
            <p:cNvPicPr/>
            <p:nvPr/>
          </p:nvPicPr>
          <p:blipFill>
            <a:blip r:embed="rId10"/>
            <a:stretch/>
          </p:blipFill>
          <p:spPr>
            <a:xfrm>
              <a:off x="9828000" y="1647000"/>
              <a:ext cx="797760" cy="821160"/>
            </a:xfrm>
            <a:prstGeom prst="rect">
              <a:avLst/>
            </a:prstGeom>
            <a:ln w="0">
              <a:noFill/>
            </a:ln>
          </p:spPr>
        </p:pic>
        <p:pic>
          <p:nvPicPr>
            <p:cNvPr id="434" name="图片 242" descr=""/>
            <p:cNvPicPr/>
            <p:nvPr/>
          </p:nvPicPr>
          <p:blipFill>
            <a:blip r:embed="rId11"/>
            <a:stretch/>
          </p:blipFill>
          <p:spPr>
            <a:xfrm>
              <a:off x="10942560" y="1647000"/>
              <a:ext cx="797760" cy="821160"/>
            </a:xfrm>
            <a:prstGeom prst="rect">
              <a:avLst/>
            </a:prstGeom>
            <a:ln w="0">
              <a:noFill/>
            </a:ln>
          </p:spPr>
        </p:pic>
        <p:pic>
          <p:nvPicPr>
            <p:cNvPr id="435" name="图片 243" descr=""/>
            <p:cNvPicPr/>
            <p:nvPr/>
          </p:nvPicPr>
          <p:blipFill>
            <a:blip r:embed="rId12"/>
            <a:stretch/>
          </p:blipFill>
          <p:spPr>
            <a:xfrm>
              <a:off x="12031920" y="1647000"/>
              <a:ext cx="797760" cy="821160"/>
            </a:xfrm>
            <a:prstGeom prst="rect">
              <a:avLst/>
            </a:prstGeom>
            <a:ln w="0">
              <a:noFill/>
            </a:ln>
          </p:spPr>
        </p:pic>
      </p:grpSp>
      <p:grpSp>
        <p:nvGrpSpPr>
          <p:cNvPr id="436" name="组合 283"/>
          <p:cNvGrpSpPr/>
          <p:nvPr/>
        </p:nvGrpSpPr>
        <p:grpSpPr>
          <a:xfrm>
            <a:off x="-617400" y="2538000"/>
            <a:ext cx="12882960" cy="821160"/>
            <a:chOff x="-617400" y="2538000"/>
            <a:chExt cx="12882960" cy="821160"/>
          </a:xfrm>
        </p:grpSpPr>
        <p:pic>
          <p:nvPicPr>
            <p:cNvPr id="437" name="图片 284" descr=""/>
            <p:cNvPicPr/>
            <p:nvPr/>
          </p:nvPicPr>
          <p:blipFill>
            <a:blip r:embed="rId13"/>
            <a:stretch/>
          </p:blipFill>
          <p:spPr>
            <a:xfrm>
              <a:off x="-617400" y="2538000"/>
              <a:ext cx="797760" cy="821160"/>
            </a:xfrm>
            <a:prstGeom prst="rect">
              <a:avLst/>
            </a:prstGeom>
            <a:ln w="0">
              <a:noFill/>
            </a:ln>
          </p:spPr>
        </p:pic>
        <p:pic>
          <p:nvPicPr>
            <p:cNvPr id="438" name="图片 285" descr=""/>
            <p:cNvPicPr/>
            <p:nvPr/>
          </p:nvPicPr>
          <p:blipFill>
            <a:blip r:embed="rId14"/>
            <a:stretch/>
          </p:blipFill>
          <p:spPr>
            <a:xfrm>
              <a:off x="497160" y="2538000"/>
              <a:ext cx="797760" cy="821160"/>
            </a:xfrm>
            <a:prstGeom prst="rect">
              <a:avLst/>
            </a:prstGeom>
            <a:ln w="0">
              <a:noFill/>
            </a:ln>
          </p:spPr>
        </p:pic>
        <p:pic>
          <p:nvPicPr>
            <p:cNvPr id="439" name="图片 286" descr=""/>
            <p:cNvPicPr/>
            <p:nvPr/>
          </p:nvPicPr>
          <p:blipFill>
            <a:blip r:embed="rId15"/>
            <a:stretch/>
          </p:blipFill>
          <p:spPr>
            <a:xfrm>
              <a:off x="1586520" y="2538000"/>
              <a:ext cx="797760" cy="821160"/>
            </a:xfrm>
            <a:prstGeom prst="rect">
              <a:avLst/>
            </a:prstGeom>
            <a:ln w="0">
              <a:noFill/>
            </a:ln>
          </p:spPr>
        </p:pic>
        <p:pic>
          <p:nvPicPr>
            <p:cNvPr id="440" name="图片 287" descr=""/>
            <p:cNvPicPr/>
            <p:nvPr/>
          </p:nvPicPr>
          <p:blipFill>
            <a:blip r:embed="rId16"/>
            <a:stretch/>
          </p:blipFill>
          <p:spPr>
            <a:xfrm>
              <a:off x="2681280" y="2538000"/>
              <a:ext cx="797760" cy="821160"/>
            </a:xfrm>
            <a:prstGeom prst="rect">
              <a:avLst/>
            </a:prstGeom>
            <a:ln w="0">
              <a:noFill/>
            </a:ln>
          </p:spPr>
        </p:pic>
        <p:pic>
          <p:nvPicPr>
            <p:cNvPr id="441" name="图片 288" descr=""/>
            <p:cNvPicPr/>
            <p:nvPr/>
          </p:nvPicPr>
          <p:blipFill>
            <a:blip r:embed="rId17"/>
            <a:stretch/>
          </p:blipFill>
          <p:spPr>
            <a:xfrm>
              <a:off x="3795840" y="2538000"/>
              <a:ext cx="797760" cy="821160"/>
            </a:xfrm>
            <a:prstGeom prst="rect">
              <a:avLst/>
            </a:prstGeom>
            <a:ln w="0">
              <a:noFill/>
            </a:ln>
          </p:spPr>
        </p:pic>
        <p:pic>
          <p:nvPicPr>
            <p:cNvPr id="442" name="图片 289" descr=""/>
            <p:cNvPicPr/>
            <p:nvPr/>
          </p:nvPicPr>
          <p:blipFill>
            <a:blip r:embed="rId18"/>
            <a:stretch/>
          </p:blipFill>
          <p:spPr>
            <a:xfrm>
              <a:off x="4884840" y="2538000"/>
              <a:ext cx="797760" cy="821160"/>
            </a:xfrm>
            <a:prstGeom prst="rect">
              <a:avLst/>
            </a:prstGeom>
            <a:ln w="0">
              <a:noFill/>
            </a:ln>
          </p:spPr>
        </p:pic>
        <p:pic>
          <p:nvPicPr>
            <p:cNvPr id="443" name="图片 290" descr=""/>
            <p:cNvPicPr/>
            <p:nvPr/>
          </p:nvPicPr>
          <p:blipFill>
            <a:blip r:embed="rId19"/>
            <a:stretch/>
          </p:blipFill>
          <p:spPr>
            <a:xfrm>
              <a:off x="5965560" y="2538000"/>
              <a:ext cx="797760" cy="821160"/>
            </a:xfrm>
            <a:prstGeom prst="rect">
              <a:avLst/>
            </a:prstGeom>
            <a:ln w="0">
              <a:noFill/>
            </a:ln>
          </p:spPr>
        </p:pic>
        <p:pic>
          <p:nvPicPr>
            <p:cNvPr id="444" name="图片 291" descr=""/>
            <p:cNvPicPr/>
            <p:nvPr/>
          </p:nvPicPr>
          <p:blipFill>
            <a:blip r:embed="rId20"/>
            <a:stretch/>
          </p:blipFill>
          <p:spPr>
            <a:xfrm>
              <a:off x="7080120" y="2538000"/>
              <a:ext cx="797760" cy="821160"/>
            </a:xfrm>
            <a:prstGeom prst="rect">
              <a:avLst/>
            </a:prstGeom>
            <a:ln w="0">
              <a:noFill/>
            </a:ln>
          </p:spPr>
        </p:pic>
        <p:pic>
          <p:nvPicPr>
            <p:cNvPr id="445" name="图片 292" descr=""/>
            <p:cNvPicPr/>
            <p:nvPr/>
          </p:nvPicPr>
          <p:blipFill>
            <a:blip r:embed="rId21"/>
            <a:stretch/>
          </p:blipFill>
          <p:spPr>
            <a:xfrm>
              <a:off x="8169480" y="2538000"/>
              <a:ext cx="797760" cy="821160"/>
            </a:xfrm>
            <a:prstGeom prst="rect">
              <a:avLst/>
            </a:prstGeom>
            <a:ln w="0">
              <a:noFill/>
            </a:ln>
          </p:spPr>
        </p:pic>
        <p:pic>
          <p:nvPicPr>
            <p:cNvPr id="446" name="图片 293" descr=""/>
            <p:cNvPicPr/>
            <p:nvPr/>
          </p:nvPicPr>
          <p:blipFill>
            <a:blip r:embed="rId22"/>
            <a:stretch/>
          </p:blipFill>
          <p:spPr>
            <a:xfrm>
              <a:off x="9264240" y="2538000"/>
              <a:ext cx="797760" cy="821160"/>
            </a:xfrm>
            <a:prstGeom prst="rect">
              <a:avLst/>
            </a:prstGeom>
            <a:ln w="0">
              <a:noFill/>
            </a:ln>
          </p:spPr>
        </p:pic>
        <p:pic>
          <p:nvPicPr>
            <p:cNvPr id="447" name="图片 294" descr=""/>
            <p:cNvPicPr/>
            <p:nvPr/>
          </p:nvPicPr>
          <p:blipFill>
            <a:blip r:embed="rId23"/>
            <a:stretch/>
          </p:blipFill>
          <p:spPr>
            <a:xfrm>
              <a:off x="10378800" y="2538000"/>
              <a:ext cx="797760" cy="821160"/>
            </a:xfrm>
            <a:prstGeom prst="rect">
              <a:avLst/>
            </a:prstGeom>
            <a:ln w="0">
              <a:noFill/>
            </a:ln>
          </p:spPr>
        </p:pic>
        <p:pic>
          <p:nvPicPr>
            <p:cNvPr id="448" name="图片 295" descr=""/>
            <p:cNvPicPr/>
            <p:nvPr/>
          </p:nvPicPr>
          <p:blipFill>
            <a:blip r:embed="rId24"/>
            <a:stretch/>
          </p:blipFill>
          <p:spPr>
            <a:xfrm>
              <a:off x="11467800" y="2538000"/>
              <a:ext cx="797760" cy="821160"/>
            </a:xfrm>
            <a:prstGeom prst="rect">
              <a:avLst/>
            </a:prstGeom>
            <a:ln w="0">
              <a:noFill/>
            </a:ln>
          </p:spPr>
        </p:pic>
      </p:grpSp>
      <p:grpSp>
        <p:nvGrpSpPr>
          <p:cNvPr id="449" name="组合 309"/>
          <p:cNvGrpSpPr/>
          <p:nvPr/>
        </p:nvGrpSpPr>
        <p:grpSpPr>
          <a:xfrm>
            <a:off x="-53280" y="3406320"/>
            <a:ext cx="12882960" cy="821160"/>
            <a:chOff x="-53280" y="3406320"/>
            <a:chExt cx="12882960" cy="821160"/>
          </a:xfrm>
        </p:grpSpPr>
        <p:pic>
          <p:nvPicPr>
            <p:cNvPr id="450" name="图片 310" descr=""/>
            <p:cNvPicPr/>
            <p:nvPr/>
          </p:nvPicPr>
          <p:blipFill>
            <a:blip r:embed="rId25"/>
            <a:stretch/>
          </p:blipFill>
          <p:spPr>
            <a:xfrm>
              <a:off x="-53280" y="3406320"/>
              <a:ext cx="797760" cy="821160"/>
            </a:xfrm>
            <a:prstGeom prst="rect">
              <a:avLst/>
            </a:prstGeom>
            <a:ln w="0">
              <a:noFill/>
            </a:ln>
          </p:spPr>
        </p:pic>
        <p:pic>
          <p:nvPicPr>
            <p:cNvPr id="451" name="图片 311" descr=""/>
            <p:cNvPicPr/>
            <p:nvPr/>
          </p:nvPicPr>
          <p:blipFill>
            <a:blip r:embed="rId26"/>
            <a:stretch/>
          </p:blipFill>
          <p:spPr>
            <a:xfrm>
              <a:off x="1060920" y="3406320"/>
              <a:ext cx="797760" cy="821160"/>
            </a:xfrm>
            <a:prstGeom prst="rect">
              <a:avLst/>
            </a:prstGeom>
            <a:ln w="0">
              <a:noFill/>
            </a:ln>
          </p:spPr>
        </p:pic>
        <p:pic>
          <p:nvPicPr>
            <p:cNvPr id="452" name="图片 312" descr=""/>
            <p:cNvPicPr/>
            <p:nvPr/>
          </p:nvPicPr>
          <p:blipFill>
            <a:blip r:embed="rId27"/>
            <a:stretch/>
          </p:blipFill>
          <p:spPr>
            <a:xfrm>
              <a:off x="2150280" y="3406320"/>
              <a:ext cx="797760" cy="821160"/>
            </a:xfrm>
            <a:prstGeom prst="rect">
              <a:avLst/>
            </a:prstGeom>
            <a:ln w="0">
              <a:noFill/>
            </a:ln>
          </p:spPr>
        </p:pic>
        <p:pic>
          <p:nvPicPr>
            <p:cNvPr id="453" name="图片 313" descr=""/>
            <p:cNvPicPr/>
            <p:nvPr/>
          </p:nvPicPr>
          <p:blipFill>
            <a:blip r:embed="rId28"/>
            <a:stretch/>
          </p:blipFill>
          <p:spPr>
            <a:xfrm>
              <a:off x="3245040" y="3406320"/>
              <a:ext cx="797760" cy="821160"/>
            </a:xfrm>
            <a:prstGeom prst="rect">
              <a:avLst/>
            </a:prstGeom>
            <a:ln w="0">
              <a:noFill/>
            </a:ln>
          </p:spPr>
        </p:pic>
        <p:pic>
          <p:nvPicPr>
            <p:cNvPr id="454" name="图片 314" descr=""/>
            <p:cNvPicPr/>
            <p:nvPr/>
          </p:nvPicPr>
          <p:blipFill>
            <a:blip r:embed="rId29"/>
            <a:stretch/>
          </p:blipFill>
          <p:spPr>
            <a:xfrm>
              <a:off x="4359600" y="3406320"/>
              <a:ext cx="797760" cy="821160"/>
            </a:xfrm>
            <a:prstGeom prst="rect">
              <a:avLst/>
            </a:prstGeom>
            <a:ln w="0">
              <a:noFill/>
            </a:ln>
          </p:spPr>
        </p:pic>
        <p:pic>
          <p:nvPicPr>
            <p:cNvPr id="455" name="图片 315" descr=""/>
            <p:cNvPicPr/>
            <p:nvPr/>
          </p:nvPicPr>
          <p:blipFill>
            <a:blip r:embed="rId30"/>
            <a:stretch/>
          </p:blipFill>
          <p:spPr>
            <a:xfrm>
              <a:off x="5448600" y="3406320"/>
              <a:ext cx="797760" cy="821160"/>
            </a:xfrm>
            <a:prstGeom prst="rect">
              <a:avLst/>
            </a:prstGeom>
            <a:ln w="0">
              <a:noFill/>
            </a:ln>
          </p:spPr>
        </p:pic>
        <p:pic>
          <p:nvPicPr>
            <p:cNvPr id="456" name="图片 316" descr=""/>
            <p:cNvPicPr/>
            <p:nvPr/>
          </p:nvPicPr>
          <p:blipFill>
            <a:blip r:embed="rId31"/>
            <a:stretch/>
          </p:blipFill>
          <p:spPr>
            <a:xfrm>
              <a:off x="6529680" y="3406320"/>
              <a:ext cx="797760" cy="821160"/>
            </a:xfrm>
            <a:prstGeom prst="rect">
              <a:avLst/>
            </a:prstGeom>
            <a:ln w="0">
              <a:noFill/>
            </a:ln>
          </p:spPr>
        </p:pic>
        <p:pic>
          <p:nvPicPr>
            <p:cNvPr id="457" name="图片 317" descr=""/>
            <p:cNvPicPr/>
            <p:nvPr/>
          </p:nvPicPr>
          <p:blipFill>
            <a:blip r:embed="rId32"/>
            <a:stretch/>
          </p:blipFill>
          <p:spPr>
            <a:xfrm>
              <a:off x="7643880" y="3406320"/>
              <a:ext cx="797760" cy="821160"/>
            </a:xfrm>
            <a:prstGeom prst="rect">
              <a:avLst/>
            </a:prstGeom>
            <a:ln w="0">
              <a:noFill/>
            </a:ln>
          </p:spPr>
        </p:pic>
        <p:pic>
          <p:nvPicPr>
            <p:cNvPr id="458" name="图片 318" descr=""/>
            <p:cNvPicPr/>
            <p:nvPr/>
          </p:nvPicPr>
          <p:blipFill>
            <a:blip r:embed="rId33"/>
            <a:stretch/>
          </p:blipFill>
          <p:spPr>
            <a:xfrm>
              <a:off x="8733240" y="3406320"/>
              <a:ext cx="797760" cy="821160"/>
            </a:xfrm>
            <a:prstGeom prst="rect">
              <a:avLst/>
            </a:prstGeom>
            <a:ln w="0">
              <a:noFill/>
            </a:ln>
          </p:spPr>
        </p:pic>
        <p:pic>
          <p:nvPicPr>
            <p:cNvPr id="459" name="图片 319" descr=""/>
            <p:cNvPicPr/>
            <p:nvPr/>
          </p:nvPicPr>
          <p:blipFill>
            <a:blip r:embed="rId34"/>
            <a:stretch/>
          </p:blipFill>
          <p:spPr>
            <a:xfrm>
              <a:off x="9828000" y="3406320"/>
              <a:ext cx="797760" cy="821160"/>
            </a:xfrm>
            <a:prstGeom prst="rect">
              <a:avLst/>
            </a:prstGeom>
            <a:ln w="0">
              <a:noFill/>
            </a:ln>
          </p:spPr>
        </p:pic>
        <p:pic>
          <p:nvPicPr>
            <p:cNvPr id="460" name="图片 320" descr=""/>
            <p:cNvPicPr/>
            <p:nvPr/>
          </p:nvPicPr>
          <p:blipFill>
            <a:blip r:embed="rId35"/>
            <a:stretch/>
          </p:blipFill>
          <p:spPr>
            <a:xfrm>
              <a:off x="10942560" y="3406320"/>
              <a:ext cx="797760" cy="821160"/>
            </a:xfrm>
            <a:prstGeom prst="rect">
              <a:avLst/>
            </a:prstGeom>
            <a:ln w="0">
              <a:noFill/>
            </a:ln>
          </p:spPr>
        </p:pic>
        <p:pic>
          <p:nvPicPr>
            <p:cNvPr id="461" name="图片 321" descr=""/>
            <p:cNvPicPr/>
            <p:nvPr/>
          </p:nvPicPr>
          <p:blipFill>
            <a:blip r:embed="rId36"/>
            <a:stretch/>
          </p:blipFill>
          <p:spPr>
            <a:xfrm>
              <a:off x="12031920" y="3406320"/>
              <a:ext cx="797760" cy="821160"/>
            </a:xfrm>
            <a:prstGeom prst="rect">
              <a:avLst/>
            </a:prstGeom>
            <a:ln w="0">
              <a:noFill/>
            </a:ln>
          </p:spPr>
        </p:pic>
      </p:grpSp>
      <p:grpSp>
        <p:nvGrpSpPr>
          <p:cNvPr id="462" name="组合 322"/>
          <p:cNvGrpSpPr/>
          <p:nvPr/>
        </p:nvGrpSpPr>
        <p:grpSpPr>
          <a:xfrm>
            <a:off x="-617400" y="4361040"/>
            <a:ext cx="12882960" cy="821160"/>
            <a:chOff x="-617400" y="4361040"/>
            <a:chExt cx="12882960" cy="821160"/>
          </a:xfrm>
        </p:grpSpPr>
        <p:pic>
          <p:nvPicPr>
            <p:cNvPr id="463" name="图片 323" descr=""/>
            <p:cNvPicPr/>
            <p:nvPr/>
          </p:nvPicPr>
          <p:blipFill>
            <a:blip r:embed="rId37"/>
            <a:stretch/>
          </p:blipFill>
          <p:spPr>
            <a:xfrm>
              <a:off x="-617400" y="4361040"/>
              <a:ext cx="797760" cy="821160"/>
            </a:xfrm>
            <a:prstGeom prst="rect">
              <a:avLst/>
            </a:prstGeom>
            <a:ln w="0">
              <a:noFill/>
            </a:ln>
          </p:spPr>
        </p:pic>
        <p:pic>
          <p:nvPicPr>
            <p:cNvPr id="464" name="图片 324" descr=""/>
            <p:cNvPicPr/>
            <p:nvPr/>
          </p:nvPicPr>
          <p:blipFill>
            <a:blip r:embed="rId38"/>
            <a:stretch/>
          </p:blipFill>
          <p:spPr>
            <a:xfrm>
              <a:off x="497160" y="4361040"/>
              <a:ext cx="797760" cy="821160"/>
            </a:xfrm>
            <a:prstGeom prst="rect">
              <a:avLst/>
            </a:prstGeom>
            <a:ln w="0">
              <a:noFill/>
            </a:ln>
          </p:spPr>
        </p:pic>
        <p:pic>
          <p:nvPicPr>
            <p:cNvPr id="465" name="图片 325" descr=""/>
            <p:cNvPicPr/>
            <p:nvPr/>
          </p:nvPicPr>
          <p:blipFill>
            <a:blip r:embed="rId39"/>
            <a:stretch/>
          </p:blipFill>
          <p:spPr>
            <a:xfrm>
              <a:off x="1586520" y="4361040"/>
              <a:ext cx="797760" cy="821160"/>
            </a:xfrm>
            <a:prstGeom prst="rect">
              <a:avLst/>
            </a:prstGeom>
            <a:ln w="0">
              <a:noFill/>
            </a:ln>
          </p:spPr>
        </p:pic>
        <p:pic>
          <p:nvPicPr>
            <p:cNvPr id="466" name="图片 326" descr=""/>
            <p:cNvPicPr/>
            <p:nvPr/>
          </p:nvPicPr>
          <p:blipFill>
            <a:blip r:embed="rId40"/>
            <a:stretch/>
          </p:blipFill>
          <p:spPr>
            <a:xfrm>
              <a:off x="2681280" y="4361040"/>
              <a:ext cx="797760" cy="821160"/>
            </a:xfrm>
            <a:prstGeom prst="rect">
              <a:avLst/>
            </a:prstGeom>
            <a:ln w="0">
              <a:noFill/>
            </a:ln>
          </p:spPr>
        </p:pic>
        <p:pic>
          <p:nvPicPr>
            <p:cNvPr id="467" name="图片 327" descr=""/>
            <p:cNvPicPr/>
            <p:nvPr/>
          </p:nvPicPr>
          <p:blipFill>
            <a:blip r:embed="rId41"/>
            <a:stretch/>
          </p:blipFill>
          <p:spPr>
            <a:xfrm>
              <a:off x="3795840" y="4361040"/>
              <a:ext cx="797760" cy="821160"/>
            </a:xfrm>
            <a:prstGeom prst="rect">
              <a:avLst/>
            </a:prstGeom>
            <a:ln w="0">
              <a:noFill/>
            </a:ln>
          </p:spPr>
        </p:pic>
        <p:pic>
          <p:nvPicPr>
            <p:cNvPr id="468" name="图片 328" descr=""/>
            <p:cNvPicPr/>
            <p:nvPr/>
          </p:nvPicPr>
          <p:blipFill>
            <a:blip r:embed="rId42"/>
            <a:stretch/>
          </p:blipFill>
          <p:spPr>
            <a:xfrm>
              <a:off x="4884840" y="4361040"/>
              <a:ext cx="797760" cy="821160"/>
            </a:xfrm>
            <a:prstGeom prst="rect">
              <a:avLst/>
            </a:prstGeom>
            <a:ln w="0">
              <a:noFill/>
            </a:ln>
          </p:spPr>
        </p:pic>
        <p:pic>
          <p:nvPicPr>
            <p:cNvPr id="469" name="图片 329" descr=""/>
            <p:cNvPicPr/>
            <p:nvPr/>
          </p:nvPicPr>
          <p:blipFill>
            <a:blip r:embed="rId43"/>
            <a:stretch/>
          </p:blipFill>
          <p:spPr>
            <a:xfrm>
              <a:off x="5965560" y="4361040"/>
              <a:ext cx="797760" cy="821160"/>
            </a:xfrm>
            <a:prstGeom prst="rect">
              <a:avLst/>
            </a:prstGeom>
            <a:ln w="0">
              <a:noFill/>
            </a:ln>
          </p:spPr>
        </p:pic>
        <p:pic>
          <p:nvPicPr>
            <p:cNvPr id="470" name="图片 330" descr=""/>
            <p:cNvPicPr/>
            <p:nvPr/>
          </p:nvPicPr>
          <p:blipFill>
            <a:blip r:embed="rId44"/>
            <a:stretch/>
          </p:blipFill>
          <p:spPr>
            <a:xfrm>
              <a:off x="7080120" y="4361040"/>
              <a:ext cx="797760" cy="821160"/>
            </a:xfrm>
            <a:prstGeom prst="rect">
              <a:avLst/>
            </a:prstGeom>
            <a:ln w="0">
              <a:noFill/>
            </a:ln>
          </p:spPr>
        </p:pic>
        <p:pic>
          <p:nvPicPr>
            <p:cNvPr id="471" name="图片 331" descr=""/>
            <p:cNvPicPr/>
            <p:nvPr/>
          </p:nvPicPr>
          <p:blipFill>
            <a:blip r:embed="rId45"/>
            <a:stretch/>
          </p:blipFill>
          <p:spPr>
            <a:xfrm>
              <a:off x="8169480" y="4361040"/>
              <a:ext cx="797760" cy="821160"/>
            </a:xfrm>
            <a:prstGeom prst="rect">
              <a:avLst/>
            </a:prstGeom>
            <a:ln w="0">
              <a:noFill/>
            </a:ln>
          </p:spPr>
        </p:pic>
        <p:pic>
          <p:nvPicPr>
            <p:cNvPr id="472" name="图片 332" descr=""/>
            <p:cNvPicPr/>
            <p:nvPr/>
          </p:nvPicPr>
          <p:blipFill>
            <a:blip r:embed="rId46"/>
            <a:stretch/>
          </p:blipFill>
          <p:spPr>
            <a:xfrm>
              <a:off x="9264240" y="4361040"/>
              <a:ext cx="797760" cy="821160"/>
            </a:xfrm>
            <a:prstGeom prst="rect">
              <a:avLst/>
            </a:prstGeom>
            <a:ln w="0">
              <a:noFill/>
            </a:ln>
          </p:spPr>
        </p:pic>
        <p:pic>
          <p:nvPicPr>
            <p:cNvPr id="473" name="图片 333" descr=""/>
            <p:cNvPicPr/>
            <p:nvPr/>
          </p:nvPicPr>
          <p:blipFill>
            <a:blip r:embed="rId47"/>
            <a:stretch/>
          </p:blipFill>
          <p:spPr>
            <a:xfrm>
              <a:off x="10378800" y="4361040"/>
              <a:ext cx="797760" cy="821160"/>
            </a:xfrm>
            <a:prstGeom prst="rect">
              <a:avLst/>
            </a:prstGeom>
            <a:ln w="0">
              <a:noFill/>
            </a:ln>
          </p:spPr>
        </p:pic>
        <p:pic>
          <p:nvPicPr>
            <p:cNvPr id="474" name="图片 334" descr=""/>
            <p:cNvPicPr/>
            <p:nvPr/>
          </p:nvPicPr>
          <p:blipFill>
            <a:blip r:embed="rId48"/>
            <a:stretch/>
          </p:blipFill>
          <p:spPr>
            <a:xfrm>
              <a:off x="11467800" y="4361040"/>
              <a:ext cx="797760" cy="821160"/>
            </a:xfrm>
            <a:prstGeom prst="rect">
              <a:avLst/>
            </a:prstGeom>
            <a:ln w="0">
              <a:noFill/>
            </a:ln>
          </p:spPr>
        </p:pic>
      </p:grpSp>
      <p:grpSp>
        <p:nvGrpSpPr>
          <p:cNvPr id="475" name="组合 348"/>
          <p:cNvGrpSpPr/>
          <p:nvPr/>
        </p:nvGrpSpPr>
        <p:grpSpPr>
          <a:xfrm>
            <a:off x="-53280" y="5296320"/>
            <a:ext cx="12882960" cy="821160"/>
            <a:chOff x="-53280" y="5296320"/>
            <a:chExt cx="12882960" cy="821160"/>
          </a:xfrm>
        </p:grpSpPr>
        <p:pic>
          <p:nvPicPr>
            <p:cNvPr id="476" name="图片 349" descr=""/>
            <p:cNvPicPr/>
            <p:nvPr/>
          </p:nvPicPr>
          <p:blipFill>
            <a:blip r:embed="rId49"/>
            <a:stretch/>
          </p:blipFill>
          <p:spPr>
            <a:xfrm>
              <a:off x="-53280" y="5296320"/>
              <a:ext cx="797760" cy="821160"/>
            </a:xfrm>
            <a:prstGeom prst="rect">
              <a:avLst/>
            </a:prstGeom>
            <a:ln w="0">
              <a:noFill/>
            </a:ln>
          </p:spPr>
        </p:pic>
        <p:pic>
          <p:nvPicPr>
            <p:cNvPr id="477" name="图片 350" descr=""/>
            <p:cNvPicPr/>
            <p:nvPr/>
          </p:nvPicPr>
          <p:blipFill>
            <a:blip r:embed="rId50"/>
            <a:stretch/>
          </p:blipFill>
          <p:spPr>
            <a:xfrm>
              <a:off x="1060920" y="5296320"/>
              <a:ext cx="797760" cy="821160"/>
            </a:xfrm>
            <a:prstGeom prst="rect">
              <a:avLst/>
            </a:prstGeom>
            <a:ln w="0">
              <a:noFill/>
            </a:ln>
          </p:spPr>
        </p:pic>
        <p:pic>
          <p:nvPicPr>
            <p:cNvPr id="478" name="图片 351" descr=""/>
            <p:cNvPicPr/>
            <p:nvPr/>
          </p:nvPicPr>
          <p:blipFill>
            <a:blip r:embed="rId51"/>
            <a:stretch/>
          </p:blipFill>
          <p:spPr>
            <a:xfrm>
              <a:off x="2150280" y="5296320"/>
              <a:ext cx="797760" cy="821160"/>
            </a:xfrm>
            <a:prstGeom prst="rect">
              <a:avLst/>
            </a:prstGeom>
            <a:ln w="0">
              <a:noFill/>
            </a:ln>
          </p:spPr>
        </p:pic>
        <p:pic>
          <p:nvPicPr>
            <p:cNvPr id="479" name="图片 352" descr=""/>
            <p:cNvPicPr/>
            <p:nvPr/>
          </p:nvPicPr>
          <p:blipFill>
            <a:blip r:embed="rId52"/>
            <a:stretch/>
          </p:blipFill>
          <p:spPr>
            <a:xfrm>
              <a:off x="3245040" y="5296320"/>
              <a:ext cx="797760" cy="821160"/>
            </a:xfrm>
            <a:prstGeom prst="rect">
              <a:avLst/>
            </a:prstGeom>
            <a:ln w="0">
              <a:noFill/>
            </a:ln>
          </p:spPr>
        </p:pic>
        <p:pic>
          <p:nvPicPr>
            <p:cNvPr id="480" name="图片 353" descr=""/>
            <p:cNvPicPr/>
            <p:nvPr/>
          </p:nvPicPr>
          <p:blipFill>
            <a:blip r:embed="rId53"/>
            <a:stretch/>
          </p:blipFill>
          <p:spPr>
            <a:xfrm>
              <a:off x="4359600" y="5296320"/>
              <a:ext cx="797760" cy="821160"/>
            </a:xfrm>
            <a:prstGeom prst="rect">
              <a:avLst/>
            </a:prstGeom>
            <a:ln w="0">
              <a:noFill/>
            </a:ln>
          </p:spPr>
        </p:pic>
        <p:pic>
          <p:nvPicPr>
            <p:cNvPr id="481" name="图片 354" descr=""/>
            <p:cNvPicPr/>
            <p:nvPr/>
          </p:nvPicPr>
          <p:blipFill>
            <a:blip r:embed="rId54"/>
            <a:stretch/>
          </p:blipFill>
          <p:spPr>
            <a:xfrm>
              <a:off x="5448600" y="5296320"/>
              <a:ext cx="797760" cy="821160"/>
            </a:xfrm>
            <a:prstGeom prst="rect">
              <a:avLst/>
            </a:prstGeom>
            <a:ln w="0">
              <a:noFill/>
            </a:ln>
          </p:spPr>
        </p:pic>
        <p:pic>
          <p:nvPicPr>
            <p:cNvPr id="482" name="图片 355" descr=""/>
            <p:cNvPicPr/>
            <p:nvPr/>
          </p:nvPicPr>
          <p:blipFill>
            <a:blip r:embed="rId55"/>
            <a:stretch/>
          </p:blipFill>
          <p:spPr>
            <a:xfrm>
              <a:off x="6529680" y="5296320"/>
              <a:ext cx="797760" cy="821160"/>
            </a:xfrm>
            <a:prstGeom prst="rect">
              <a:avLst/>
            </a:prstGeom>
            <a:ln w="0">
              <a:noFill/>
            </a:ln>
          </p:spPr>
        </p:pic>
        <p:pic>
          <p:nvPicPr>
            <p:cNvPr id="483" name="图片 356" descr=""/>
            <p:cNvPicPr/>
            <p:nvPr/>
          </p:nvPicPr>
          <p:blipFill>
            <a:blip r:embed="rId56"/>
            <a:stretch/>
          </p:blipFill>
          <p:spPr>
            <a:xfrm>
              <a:off x="7643880" y="5296320"/>
              <a:ext cx="797760" cy="821160"/>
            </a:xfrm>
            <a:prstGeom prst="rect">
              <a:avLst/>
            </a:prstGeom>
            <a:ln w="0">
              <a:noFill/>
            </a:ln>
          </p:spPr>
        </p:pic>
        <p:pic>
          <p:nvPicPr>
            <p:cNvPr id="484" name="图片 357" descr=""/>
            <p:cNvPicPr/>
            <p:nvPr/>
          </p:nvPicPr>
          <p:blipFill>
            <a:blip r:embed="rId57"/>
            <a:stretch/>
          </p:blipFill>
          <p:spPr>
            <a:xfrm>
              <a:off x="8733240" y="5296320"/>
              <a:ext cx="797760" cy="821160"/>
            </a:xfrm>
            <a:prstGeom prst="rect">
              <a:avLst/>
            </a:prstGeom>
            <a:ln w="0">
              <a:noFill/>
            </a:ln>
          </p:spPr>
        </p:pic>
        <p:pic>
          <p:nvPicPr>
            <p:cNvPr id="485" name="图片 358" descr=""/>
            <p:cNvPicPr/>
            <p:nvPr/>
          </p:nvPicPr>
          <p:blipFill>
            <a:blip r:embed="rId58"/>
            <a:stretch/>
          </p:blipFill>
          <p:spPr>
            <a:xfrm>
              <a:off x="9828000" y="5296320"/>
              <a:ext cx="797760" cy="821160"/>
            </a:xfrm>
            <a:prstGeom prst="rect">
              <a:avLst/>
            </a:prstGeom>
            <a:ln w="0">
              <a:noFill/>
            </a:ln>
          </p:spPr>
        </p:pic>
        <p:pic>
          <p:nvPicPr>
            <p:cNvPr id="486" name="图片 359" descr=""/>
            <p:cNvPicPr/>
            <p:nvPr/>
          </p:nvPicPr>
          <p:blipFill>
            <a:blip r:embed="rId59"/>
            <a:stretch/>
          </p:blipFill>
          <p:spPr>
            <a:xfrm>
              <a:off x="10942560" y="5296320"/>
              <a:ext cx="797760" cy="821160"/>
            </a:xfrm>
            <a:prstGeom prst="rect">
              <a:avLst/>
            </a:prstGeom>
            <a:ln w="0">
              <a:noFill/>
            </a:ln>
          </p:spPr>
        </p:pic>
        <p:pic>
          <p:nvPicPr>
            <p:cNvPr id="487" name="图片 360" descr=""/>
            <p:cNvPicPr/>
            <p:nvPr/>
          </p:nvPicPr>
          <p:blipFill>
            <a:blip r:embed="rId60"/>
            <a:stretch/>
          </p:blipFill>
          <p:spPr>
            <a:xfrm>
              <a:off x="12031920" y="5296320"/>
              <a:ext cx="797760" cy="821160"/>
            </a:xfrm>
            <a:prstGeom prst="rect">
              <a:avLst/>
            </a:prstGeom>
            <a:ln w="0">
              <a:noFill/>
            </a:ln>
          </p:spPr>
        </p:pic>
      </p:grpSp>
      <p:grpSp>
        <p:nvGrpSpPr>
          <p:cNvPr id="488" name="组合 361"/>
          <p:cNvGrpSpPr/>
          <p:nvPr/>
        </p:nvGrpSpPr>
        <p:grpSpPr>
          <a:xfrm>
            <a:off x="-617400" y="6120720"/>
            <a:ext cx="12882960" cy="821160"/>
            <a:chOff x="-617400" y="6120720"/>
            <a:chExt cx="12882960" cy="821160"/>
          </a:xfrm>
        </p:grpSpPr>
        <p:pic>
          <p:nvPicPr>
            <p:cNvPr id="489" name="图片 362" descr=""/>
            <p:cNvPicPr/>
            <p:nvPr/>
          </p:nvPicPr>
          <p:blipFill>
            <a:blip r:embed="rId61"/>
            <a:stretch/>
          </p:blipFill>
          <p:spPr>
            <a:xfrm>
              <a:off x="-617400" y="6120720"/>
              <a:ext cx="797760" cy="821160"/>
            </a:xfrm>
            <a:prstGeom prst="rect">
              <a:avLst/>
            </a:prstGeom>
            <a:ln w="0">
              <a:noFill/>
            </a:ln>
          </p:spPr>
        </p:pic>
        <p:pic>
          <p:nvPicPr>
            <p:cNvPr id="490" name="图片 363" descr=""/>
            <p:cNvPicPr/>
            <p:nvPr/>
          </p:nvPicPr>
          <p:blipFill>
            <a:blip r:embed="rId62"/>
            <a:stretch/>
          </p:blipFill>
          <p:spPr>
            <a:xfrm>
              <a:off x="497160" y="6120720"/>
              <a:ext cx="797760" cy="821160"/>
            </a:xfrm>
            <a:prstGeom prst="rect">
              <a:avLst/>
            </a:prstGeom>
            <a:ln w="0">
              <a:noFill/>
            </a:ln>
          </p:spPr>
        </p:pic>
        <p:pic>
          <p:nvPicPr>
            <p:cNvPr id="491" name="图片 364" descr=""/>
            <p:cNvPicPr/>
            <p:nvPr/>
          </p:nvPicPr>
          <p:blipFill>
            <a:blip r:embed="rId63"/>
            <a:stretch/>
          </p:blipFill>
          <p:spPr>
            <a:xfrm>
              <a:off x="1586520" y="6120720"/>
              <a:ext cx="797760" cy="821160"/>
            </a:xfrm>
            <a:prstGeom prst="rect">
              <a:avLst/>
            </a:prstGeom>
            <a:ln w="0">
              <a:noFill/>
            </a:ln>
          </p:spPr>
        </p:pic>
        <p:pic>
          <p:nvPicPr>
            <p:cNvPr id="492" name="图片 365" descr=""/>
            <p:cNvPicPr/>
            <p:nvPr/>
          </p:nvPicPr>
          <p:blipFill>
            <a:blip r:embed="rId64"/>
            <a:stretch/>
          </p:blipFill>
          <p:spPr>
            <a:xfrm>
              <a:off x="2681280" y="6120720"/>
              <a:ext cx="797760" cy="821160"/>
            </a:xfrm>
            <a:prstGeom prst="rect">
              <a:avLst/>
            </a:prstGeom>
            <a:ln w="0">
              <a:noFill/>
            </a:ln>
          </p:spPr>
        </p:pic>
        <p:pic>
          <p:nvPicPr>
            <p:cNvPr id="493" name="图片 366" descr=""/>
            <p:cNvPicPr/>
            <p:nvPr/>
          </p:nvPicPr>
          <p:blipFill>
            <a:blip r:embed="rId65"/>
            <a:stretch/>
          </p:blipFill>
          <p:spPr>
            <a:xfrm>
              <a:off x="3795840" y="6120720"/>
              <a:ext cx="797760" cy="821160"/>
            </a:xfrm>
            <a:prstGeom prst="rect">
              <a:avLst/>
            </a:prstGeom>
            <a:ln w="0">
              <a:noFill/>
            </a:ln>
          </p:spPr>
        </p:pic>
        <p:pic>
          <p:nvPicPr>
            <p:cNvPr id="494" name="图片 367" descr=""/>
            <p:cNvPicPr/>
            <p:nvPr/>
          </p:nvPicPr>
          <p:blipFill>
            <a:blip r:embed="rId66"/>
            <a:stretch/>
          </p:blipFill>
          <p:spPr>
            <a:xfrm>
              <a:off x="4884840" y="6120720"/>
              <a:ext cx="797760" cy="821160"/>
            </a:xfrm>
            <a:prstGeom prst="rect">
              <a:avLst/>
            </a:prstGeom>
            <a:ln w="0">
              <a:noFill/>
            </a:ln>
          </p:spPr>
        </p:pic>
        <p:pic>
          <p:nvPicPr>
            <p:cNvPr id="495" name="图片 368" descr=""/>
            <p:cNvPicPr/>
            <p:nvPr/>
          </p:nvPicPr>
          <p:blipFill>
            <a:blip r:embed="rId67"/>
            <a:stretch/>
          </p:blipFill>
          <p:spPr>
            <a:xfrm>
              <a:off x="5965560" y="6120720"/>
              <a:ext cx="797760" cy="821160"/>
            </a:xfrm>
            <a:prstGeom prst="rect">
              <a:avLst/>
            </a:prstGeom>
            <a:ln w="0">
              <a:noFill/>
            </a:ln>
          </p:spPr>
        </p:pic>
        <p:pic>
          <p:nvPicPr>
            <p:cNvPr id="496" name="图片 369" descr=""/>
            <p:cNvPicPr/>
            <p:nvPr/>
          </p:nvPicPr>
          <p:blipFill>
            <a:blip r:embed="rId68"/>
            <a:stretch/>
          </p:blipFill>
          <p:spPr>
            <a:xfrm>
              <a:off x="7080120" y="6120720"/>
              <a:ext cx="797760" cy="821160"/>
            </a:xfrm>
            <a:prstGeom prst="rect">
              <a:avLst/>
            </a:prstGeom>
            <a:ln w="0">
              <a:noFill/>
            </a:ln>
          </p:spPr>
        </p:pic>
        <p:pic>
          <p:nvPicPr>
            <p:cNvPr id="497" name="图片 370" descr=""/>
            <p:cNvPicPr/>
            <p:nvPr/>
          </p:nvPicPr>
          <p:blipFill>
            <a:blip r:embed="rId69"/>
            <a:stretch/>
          </p:blipFill>
          <p:spPr>
            <a:xfrm>
              <a:off x="8169480" y="6120720"/>
              <a:ext cx="797760" cy="821160"/>
            </a:xfrm>
            <a:prstGeom prst="rect">
              <a:avLst/>
            </a:prstGeom>
            <a:ln w="0">
              <a:noFill/>
            </a:ln>
          </p:spPr>
        </p:pic>
        <p:pic>
          <p:nvPicPr>
            <p:cNvPr id="498" name="图片 371" descr=""/>
            <p:cNvPicPr/>
            <p:nvPr/>
          </p:nvPicPr>
          <p:blipFill>
            <a:blip r:embed="rId70"/>
            <a:stretch/>
          </p:blipFill>
          <p:spPr>
            <a:xfrm>
              <a:off x="9264240" y="6120720"/>
              <a:ext cx="797760" cy="821160"/>
            </a:xfrm>
            <a:prstGeom prst="rect">
              <a:avLst/>
            </a:prstGeom>
            <a:ln w="0">
              <a:noFill/>
            </a:ln>
          </p:spPr>
        </p:pic>
        <p:pic>
          <p:nvPicPr>
            <p:cNvPr id="499" name="图片 372" descr=""/>
            <p:cNvPicPr/>
            <p:nvPr/>
          </p:nvPicPr>
          <p:blipFill>
            <a:blip r:embed="rId71"/>
            <a:stretch/>
          </p:blipFill>
          <p:spPr>
            <a:xfrm>
              <a:off x="10378800" y="6120720"/>
              <a:ext cx="797760" cy="821160"/>
            </a:xfrm>
            <a:prstGeom prst="rect">
              <a:avLst/>
            </a:prstGeom>
            <a:ln w="0">
              <a:noFill/>
            </a:ln>
          </p:spPr>
        </p:pic>
        <p:pic>
          <p:nvPicPr>
            <p:cNvPr id="500" name="图片 373" descr=""/>
            <p:cNvPicPr/>
            <p:nvPr/>
          </p:nvPicPr>
          <p:blipFill>
            <a:blip r:embed="rId72"/>
            <a:stretch/>
          </p:blipFill>
          <p:spPr>
            <a:xfrm>
              <a:off x="11467800" y="6120720"/>
              <a:ext cx="797760" cy="821160"/>
            </a:xfrm>
            <a:prstGeom prst="rect">
              <a:avLst/>
            </a:prstGeom>
            <a:ln w="0">
              <a:noFill/>
            </a:ln>
          </p:spPr>
        </p:pic>
      </p:grpSp>
      <p:grpSp>
        <p:nvGrpSpPr>
          <p:cNvPr id="501" name="组合 2"/>
          <p:cNvGrpSpPr/>
          <p:nvPr/>
        </p:nvGrpSpPr>
        <p:grpSpPr>
          <a:xfrm>
            <a:off x="-53280" y="-90000"/>
            <a:ext cx="12882960" cy="821160"/>
            <a:chOff x="-53280" y="-90000"/>
            <a:chExt cx="12882960" cy="821160"/>
          </a:xfrm>
        </p:grpSpPr>
        <p:pic>
          <p:nvPicPr>
            <p:cNvPr id="502" name="图片 1" descr=""/>
            <p:cNvPicPr/>
            <p:nvPr/>
          </p:nvPicPr>
          <p:blipFill>
            <a:blip r:embed="rId73"/>
            <a:stretch/>
          </p:blipFill>
          <p:spPr>
            <a:xfrm>
              <a:off x="-53280" y="-90000"/>
              <a:ext cx="797760" cy="821160"/>
            </a:xfrm>
            <a:prstGeom prst="rect">
              <a:avLst/>
            </a:prstGeom>
            <a:ln w="0">
              <a:noFill/>
            </a:ln>
          </p:spPr>
        </p:pic>
        <p:pic>
          <p:nvPicPr>
            <p:cNvPr id="503" name="图片 207" descr=""/>
            <p:cNvPicPr/>
            <p:nvPr/>
          </p:nvPicPr>
          <p:blipFill>
            <a:blip r:embed="rId74"/>
            <a:stretch/>
          </p:blipFill>
          <p:spPr>
            <a:xfrm>
              <a:off x="1060920" y="-90000"/>
              <a:ext cx="797760" cy="821160"/>
            </a:xfrm>
            <a:prstGeom prst="rect">
              <a:avLst/>
            </a:prstGeom>
            <a:ln w="0">
              <a:noFill/>
            </a:ln>
          </p:spPr>
        </p:pic>
        <p:pic>
          <p:nvPicPr>
            <p:cNvPr id="504" name="图片 208" descr=""/>
            <p:cNvPicPr/>
            <p:nvPr/>
          </p:nvPicPr>
          <p:blipFill>
            <a:blip r:embed="rId75"/>
            <a:stretch/>
          </p:blipFill>
          <p:spPr>
            <a:xfrm>
              <a:off x="2150280" y="-90000"/>
              <a:ext cx="797760" cy="821160"/>
            </a:xfrm>
            <a:prstGeom prst="rect">
              <a:avLst/>
            </a:prstGeom>
            <a:ln w="0">
              <a:noFill/>
            </a:ln>
          </p:spPr>
        </p:pic>
        <p:pic>
          <p:nvPicPr>
            <p:cNvPr id="505" name="图片 209" descr=""/>
            <p:cNvPicPr/>
            <p:nvPr/>
          </p:nvPicPr>
          <p:blipFill>
            <a:blip r:embed="rId76"/>
            <a:stretch/>
          </p:blipFill>
          <p:spPr>
            <a:xfrm>
              <a:off x="3245040" y="-90000"/>
              <a:ext cx="797760" cy="821160"/>
            </a:xfrm>
            <a:prstGeom prst="rect">
              <a:avLst/>
            </a:prstGeom>
            <a:ln w="0">
              <a:noFill/>
            </a:ln>
          </p:spPr>
        </p:pic>
        <p:pic>
          <p:nvPicPr>
            <p:cNvPr id="506" name="图片 210" descr=""/>
            <p:cNvPicPr/>
            <p:nvPr/>
          </p:nvPicPr>
          <p:blipFill>
            <a:blip r:embed="rId77"/>
            <a:stretch/>
          </p:blipFill>
          <p:spPr>
            <a:xfrm>
              <a:off x="4359600" y="-90000"/>
              <a:ext cx="797760" cy="821160"/>
            </a:xfrm>
            <a:prstGeom prst="rect">
              <a:avLst/>
            </a:prstGeom>
            <a:ln w="0">
              <a:noFill/>
            </a:ln>
          </p:spPr>
        </p:pic>
        <p:pic>
          <p:nvPicPr>
            <p:cNvPr id="507" name="图片 211" descr=""/>
            <p:cNvPicPr/>
            <p:nvPr/>
          </p:nvPicPr>
          <p:blipFill>
            <a:blip r:embed="rId78"/>
            <a:stretch/>
          </p:blipFill>
          <p:spPr>
            <a:xfrm>
              <a:off x="5448600" y="-90000"/>
              <a:ext cx="797760" cy="821160"/>
            </a:xfrm>
            <a:prstGeom prst="rect">
              <a:avLst/>
            </a:prstGeom>
            <a:ln w="0">
              <a:noFill/>
            </a:ln>
          </p:spPr>
        </p:pic>
        <p:pic>
          <p:nvPicPr>
            <p:cNvPr id="508" name="图片 212" descr=""/>
            <p:cNvPicPr/>
            <p:nvPr/>
          </p:nvPicPr>
          <p:blipFill>
            <a:blip r:embed="rId79"/>
            <a:stretch/>
          </p:blipFill>
          <p:spPr>
            <a:xfrm>
              <a:off x="6529680" y="-90000"/>
              <a:ext cx="797760" cy="821160"/>
            </a:xfrm>
            <a:prstGeom prst="rect">
              <a:avLst/>
            </a:prstGeom>
            <a:ln w="0">
              <a:noFill/>
            </a:ln>
          </p:spPr>
        </p:pic>
        <p:pic>
          <p:nvPicPr>
            <p:cNvPr id="509" name="图片 213" descr=""/>
            <p:cNvPicPr/>
            <p:nvPr/>
          </p:nvPicPr>
          <p:blipFill>
            <a:blip r:embed="rId80"/>
            <a:stretch/>
          </p:blipFill>
          <p:spPr>
            <a:xfrm>
              <a:off x="7643880" y="-90000"/>
              <a:ext cx="797760" cy="821160"/>
            </a:xfrm>
            <a:prstGeom prst="rect">
              <a:avLst/>
            </a:prstGeom>
            <a:ln w="0">
              <a:noFill/>
            </a:ln>
          </p:spPr>
        </p:pic>
        <p:pic>
          <p:nvPicPr>
            <p:cNvPr id="510" name="图片 214" descr=""/>
            <p:cNvPicPr/>
            <p:nvPr/>
          </p:nvPicPr>
          <p:blipFill>
            <a:blip r:embed="rId81"/>
            <a:stretch/>
          </p:blipFill>
          <p:spPr>
            <a:xfrm>
              <a:off x="8733240" y="-90000"/>
              <a:ext cx="797760" cy="821160"/>
            </a:xfrm>
            <a:prstGeom prst="rect">
              <a:avLst/>
            </a:prstGeom>
            <a:ln w="0">
              <a:noFill/>
            </a:ln>
          </p:spPr>
        </p:pic>
        <p:pic>
          <p:nvPicPr>
            <p:cNvPr id="511" name="图片 215" descr=""/>
            <p:cNvPicPr/>
            <p:nvPr/>
          </p:nvPicPr>
          <p:blipFill>
            <a:blip r:embed="rId82"/>
            <a:stretch/>
          </p:blipFill>
          <p:spPr>
            <a:xfrm>
              <a:off x="9828000" y="-90000"/>
              <a:ext cx="797760" cy="821160"/>
            </a:xfrm>
            <a:prstGeom prst="rect">
              <a:avLst/>
            </a:prstGeom>
            <a:ln w="0">
              <a:noFill/>
            </a:ln>
          </p:spPr>
        </p:pic>
        <p:pic>
          <p:nvPicPr>
            <p:cNvPr id="512" name="图片 216" descr=""/>
            <p:cNvPicPr/>
            <p:nvPr/>
          </p:nvPicPr>
          <p:blipFill>
            <a:blip r:embed="rId83"/>
            <a:stretch/>
          </p:blipFill>
          <p:spPr>
            <a:xfrm>
              <a:off x="10942560" y="-90000"/>
              <a:ext cx="797760" cy="821160"/>
            </a:xfrm>
            <a:prstGeom prst="rect">
              <a:avLst/>
            </a:prstGeom>
            <a:ln w="0">
              <a:noFill/>
            </a:ln>
          </p:spPr>
        </p:pic>
        <p:pic>
          <p:nvPicPr>
            <p:cNvPr id="513" name="图片 217" descr=""/>
            <p:cNvPicPr/>
            <p:nvPr/>
          </p:nvPicPr>
          <p:blipFill>
            <a:blip r:embed="rId84"/>
            <a:stretch/>
          </p:blipFill>
          <p:spPr>
            <a:xfrm>
              <a:off x="12031920" y="-90000"/>
              <a:ext cx="797760" cy="821160"/>
            </a:xfrm>
            <a:prstGeom prst="rect">
              <a:avLst/>
            </a:prstGeom>
            <a:ln w="0">
              <a:noFill/>
            </a:ln>
          </p:spPr>
        </p:pic>
      </p:grpSp>
      <p:grpSp>
        <p:nvGrpSpPr>
          <p:cNvPr id="514" name="组合 218"/>
          <p:cNvGrpSpPr/>
          <p:nvPr/>
        </p:nvGrpSpPr>
        <p:grpSpPr>
          <a:xfrm>
            <a:off x="-617400" y="778680"/>
            <a:ext cx="12882960" cy="821160"/>
            <a:chOff x="-617400" y="778680"/>
            <a:chExt cx="12882960" cy="821160"/>
          </a:xfrm>
        </p:grpSpPr>
        <p:pic>
          <p:nvPicPr>
            <p:cNvPr id="515" name="图片 219" descr=""/>
            <p:cNvPicPr/>
            <p:nvPr/>
          </p:nvPicPr>
          <p:blipFill>
            <a:blip r:embed="rId85"/>
            <a:stretch/>
          </p:blipFill>
          <p:spPr>
            <a:xfrm>
              <a:off x="-617400" y="778680"/>
              <a:ext cx="797760" cy="821160"/>
            </a:xfrm>
            <a:prstGeom prst="rect">
              <a:avLst/>
            </a:prstGeom>
            <a:ln w="0">
              <a:noFill/>
            </a:ln>
          </p:spPr>
        </p:pic>
        <p:pic>
          <p:nvPicPr>
            <p:cNvPr id="516" name="图片 220" descr=""/>
            <p:cNvPicPr/>
            <p:nvPr/>
          </p:nvPicPr>
          <p:blipFill>
            <a:blip r:embed="rId86"/>
            <a:stretch/>
          </p:blipFill>
          <p:spPr>
            <a:xfrm>
              <a:off x="497160" y="778680"/>
              <a:ext cx="797760" cy="821160"/>
            </a:xfrm>
            <a:prstGeom prst="rect">
              <a:avLst/>
            </a:prstGeom>
            <a:ln w="0">
              <a:noFill/>
            </a:ln>
          </p:spPr>
        </p:pic>
        <p:pic>
          <p:nvPicPr>
            <p:cNvPr id="517" name="图片 221" descr=""/>
            <p:cNvPicPr/>
            <p:nvPr/>
          </p:nvPicPr>
          <p:blipFill>
            <a:blip r:embed="rId87"/>
            <a:stretch/>
          </p:blipFill>
          <p:spPr>
            <a:xfrm>
              <a:off x="1586520" y="778680"/>
              <a:ext cx="797760" cy="821160"/>
            </a:xfrm>
            <a:prstGeom prst="rect">
              <a:avLst/>
            </a:prstGeom>
            <a:ln w="0">
              <a:noFill/>
            </a:ln>
          </p:spPr>
        </p:pic>
        <p:pic>
          <p:nvPicPr>
            <p:cNvPr id="518" name="图片 222" descr=""/>
            <p:cNvPicPr/>
            <p:nvPr/>
          </p:nvPicPr>
          <p:blipFill>
            <a:blip r:embed="rId88"/>
            <a:stretch/>
          </p:blipFill>
          <p:spPr>
            <a:xfrm>
              <a:off x="2681280" y="778680"/>
              <a:ext cx="797760" cy="821160"/>
            </a:xfrm>
            <a:prstGeom prst="rect">
              <a:avLst/>
            </a:prstGeom>
            <a:ln w="0">
              <a:noFill/>
            </a:ln>
          </p:spPr>
        </p:pic>
        <p:pic>
          <p:nvPicPr>
            <p:cNvPr id="519" name="图片 223" descr=""/>
            <p:cNvPicPr/>
            <p:nvPr/>
          </p:nvPicPr>
          <p:blipFill>
            <a:blip r:embed="rId89"/>
            <a:stretch/>
          </p:blipFill>
          <p:spPr>
            <a:xfrm>
              <a:off x="3795840" y="778680"/>
              <a:ext cx="797760" cy="821160"/>
            </a:xfrm>
            <a:prstGeom prst="rect">
              <a:avLst/>
            </a:prstGeom>
            <a:ln w="0">
              <a:noFill/>
            </a:ln>
          </p:spPr>
        </p:pic>
        <p:pic>
          <p:nvPicPr>
            <p:cNvPr id="520" name="图片 224" descr=""/>
            <p:cNvPicPr/>
            <p:nvPr/>
          </p:nvPicPr>
          <p:blipFill>
            <a:blip r:embed="rId90"/>
            <a:stretch/>
          </p:blipFill>
          <p:spPr>
            <a:xfrm>
              <a:off x="4884840" y="778680"/>
              <a:ext cx="797760" cy="821160"/>
            </a:xfrm>
            <a:prstGeom prst="rect">
              <a:avLst/>
            </a:prstGeom>
            <a:ln w="0">
              <a:noFill/>
            </a:ln>
          </p:spPr>
        </p:pic>
        <p:pic>
          <p:nvPicPr>
            <p:cNvPr id="521" name="图片 225" descr=""/>
            <p:cNvPicPr/>
            <p:nvPr/>
          </p:nvPicPr>
          <p:blipFill>
            <a:blip r:embed="rId91"/>
            <a:stretch/>
          </p:blipFill>
          <p:spPr>
            <a:xfrm>
              <a:off x="5965560" y="778680"/>
              <a:ext cx="797760" cy="821160"/>
            </a:xfrm>
            <a:prstGeom prst="rect">
              <a:avLst/>
            </a:prstGeom>
            <a:ln w="0">
              <a:noFill/>
            </a:ln>
          </p:spPr>
        </p:pic>
        <p:pic>
          <p:nvPicPr>
            <p:cNvPr id="522" name="图片 226" descr=""/>
            <p:cNvPicPr/>
            <p:nvPr/>
          </p:nvPicPr>
          <p:blipFill>
            <a:blip r:embed="rId92"/>
            <a:stretch/>
          </p:blipFill>
          <p:spPr>
            <a:xfrm>
              <a:off x="7080120" y="778680"/>
              <a:ext cx="797760" cy="821160"/>
            </a:xfrm>
            <a:prstGeom prst="rect">
              <a:avLst/>
            </a:prstGeom>
            <a:ln w="0">
              <a:noFill/>
            </a:ln>
          </p:spPr>
        </p:pic>
        <p:pic>
          <p:nvPicPr>
            <p:cNvPr id="523" name="图片 227" descr=""/>
            <p:cNvPicPr/>
            <p:nvPr/>
          </p:nvPicPr>
          <p:blipFill>
            <a:blip r:embed="rId93"/>
            <a:stretch/>
          </p:blipFill>
          <p:spPr>
            <a:xfrm>
              <a:off x="8169480" y="778680"/>
              <a:ext cx="797760" cy="821160"/>
            </a:xfrm>
            <a:prstGeom prst="rect">
              <a:avLst/>
            </a:prstGeom>
            <a:ln w="0">
              <a:noFill/>
            </a:ln>
          </p:spPr>
        </p:pic>
        <p:pic>
          <p:nvPicPr>
            <p:cNvPr id="524" name="图片 228" descr=""/>
            <p:cNvPicPr/>
            <p:nvPr/>
          </p:nvPicPr>
          <p:blipFill>
            <a:blip r:embed="rId94"/>
            <a:stretch/>
          </p:blipFill>
          <p:spPr>
            <a:xfrm>
              <a:off x="9264240" y="778680"/>
              <a:ext cx="797760" cy="821160"/>
            </a:xfrm>
            <a:prstGeom prst="rect">
              <a:avLst/>
            </a:prstGeom>
            <a:ln w="0">
              <a:noFill/>
            </a:ln>
          </p:spPr>
        </p:pic>
        <p:pic>
          <p:nvPicPr>
            <p:cNvPr id="525" name="图片 229" descr=""/>
            <p:cNvPicPr/>
            <p:nvPr/>
          </p:nvPicPr>
          <p:blipFill>
            <a:blip r:embed="rId95"/>
            <a:stretch/>
          </p:blipFill>
          <p:spPr>
            <a:xfrm>
              <a:off x="10378800" y="778680"/>
              <a:ext cx="797760" cy="821160"/>
            </a:xfrm>
            <a:prstGeom prst="rect">
              <a:avLst/>
            </a:prstGeom>
            <a:ln w="0">
              <a:noFill/>
            </a:ln>
          </p:spPr>
        </p:pic>
        <p:pic>
          <p:nvPicPr>
            <p:cNvPr id="526" name="图片 230" descr=""/>
            <p:cNvPicPr/>
            <p:nvPr/>
          </p:nvPicPr>
          <p:blipFill>
            <a:blip r:embed="rId96"/>
            <a:stretch/>
          </p:blipFill>
          <p:spPr>
            <a:xfrm>
              <a:off x="11467800" y="778680"/>
              <a:ext cx="797760" cy="821160"/>
            </a:xfrm>
            <a:prstGeom prst="rect">
              <a:avLst/>
            </a:prstGeom>
            <a:ln w="0">
              <a:noFill/>
            </a:ln>
          </p:spPr>
        </p:pic>
      </p:grpSp>
    </p:spTree>
  </p:cSld>
  <mc:AlternateContent>
    <mc:Choice Requires="p14">
      <p:transition spd="slow" advTm="0" p14:dur="2000"/>
    </mc:Choice>
    <mc:Fallback>
      <p:transition spd="slow" advTm="0"/>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f01"/>
        </a:solidFill>
      </p:bgPr>
    </p:bg>
    <p:spTree>
      <p:nvGrpSpPr>
        <p:cNvPr id="1" name=""/>
        <p:cNvGrpSpPr/>
        <p:nvPr/>
      </p:nvGrpSpPr>
      <p:grpSpPr>
        <a:xfrm>
          <a:off x="0" y="0"/>
          <a:ext cx="0" cy="0"/>
          <a:chOff x="0" y="0"/>
          <a:chExt cx="0" cy="0"/>
        </a:xfrm>
      </p:grpSpPr>
      <p:sp>
        <p:nvSpPr>
          <p:cNvPr id="89" name="六边形 1"/>
          <p:cNvSpPr/>
          <p:nvPr/>
        </p:nvSpPr>
        <p:spPr>
          <a:xfrm rot="5400000">
            <a:off x="2972160" y="2427120"/>
            <a:ext cx="2323800" cy="2003400"/>
          </a:xfrm>
          <a:prstGeom prst="hexagon">
            <a:avLst>
              <a:gd name="adj" fmla="val 25000"/>
              <a:gd name="vf" fmla="val 115470"/>
            </a:avLst>
          </a:prstGeom>
          <a:blipFill rotWithShape="0">
            <a:blip r:embed="rId1"/>
            <a:srcRect/>
            <a:stretch/>
          </a:blipFill>
          <a:ln>
            <a:noFill/>
          </a:ln>
          <a:effectLst>
            <a:innerShdw blurRad="571500" dir="11040000">
              <a:srgbClr val="000000"/>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0" name="文本框 4"/>
          <p:cNvSpPr/>
          <p:nvPr/>
        </p:nvSpPr>
        <p:spPr>
          <a:xfrm>
            <a:off x="6651720" y="2767320"/>
            <a:ext cx="263484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000" spc="-1" strike="noStrike">
                <a:solidFill>
                  <a:srgbClr val="0d0d0d"/>
                </a:solidFill>
                <a:latin typeface="方正兰亭超细黑简体"/>
                <a:ea typeface="方正兰亭超细黑简体"/>
              </a:rPr>
              <a:t>Section 01</a:t>
            </a:r>
            <a:endParaRPr b="0" lang="en-US" sz="4000" spc="-1" strike="noStrike">
              <a:solidFill>
                <a:srgbClr val="000000"/>
              </a:solidFill>
              <a:latin typeface="Arial"/>
            </a:endParaRPr>
          </a:p>
        </p:txBody>
      </p:sp>
      <p:sp>
        <p:nvSpPr>
          <p:cNvPr id="91" name="矩形 2"/>
          <p:cNvSpPr/>
          <p:nvPr/>
        </p:nvSpPr>
        <p:spPr>
          <a:xfrm>
            <a:off x="6698880" y="3357720"/>
            <a:ext cx="315900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000" spc="-1" strike="noStrike">
                <a:solidFill>
                  <a:srgbClr val="0d0d0d"/>
                </a:solidFill>
                <a:latin typeface="方正兰亭超细黑简体"/>
                <a:ea typeface="方正兰亭超细黑简体"/>
              </a:rPr>
              <a:t>Introduction</a:t>
            </a:r>
            <a:endParaRPr b="0" lang="en-US" sz="4000" spc="-1" strike="noStrike">
              <a:solidFill>
                <a:srgbClr val="000000"/>
              </a:solidFill>
              <a:latin typeface="Arial"/>
            </a:endParaRPr>
          </a:p>
        </p:txBody>
      </p:sp>
    </p:spTree>
  </p:cSld>
  <mc:AlternateContent>
    <mc:Choice Requires="p14">
      <p:transition spd="med" advTm="0" p14:dur="800"/>
    </mc:Choice>
    <mc:Fallback>
      <p:transition spd="med" advTm="0"/>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2" presetSubtype="1">
                                  <p:stCondLst>
                                    <p:cond delay="0"/>
                                  </p:stCondLst>
                                  <p:iterate type="wd">
                                    <p:tmAbs val="0"/>
                                  </p:iterate>
                                  <p:childTnLst>
                                    <p:set>
                                      <p:cBhvr>
                                        <p:cTn id="30" dur="1" fill="hold">
                                          <p:stCondLst>
                                            <p:cond delay="0"/>
                                          </p:stCondLst>
                                        </p:cTn>
                                        <p:tgtEl>
                                          <p:spTgt spid="90"/>
                                        </p:tgtEl>
                                        <p:attrNameLst>
                                          <p:attrName>style.visibility</p:attrName>
                                        </p:attrNameLst>
                                      </p:cBhvr>
                                      <p:to>
                                        <p:strVal val="visible"/>
                                      </p:to>
                                    </p:set>
                                    <p:anim calcmode="lin" valueType="num">
                                      <p:cBhvr additive="repl">
                                        <p:cTn id="31" dur="500" fill="hold"/>
                                        <p:tgtEl>
                                          <p:spTgt spid="90"/>
                                        </p:tgtEl>
                                        <p:attrNameLst>
                                          <p:attrName>ppt_x</p:attrName>
                                        </p:attrNameLst>
                                      </p:cBhvr>
                                      <p:tavLst>
                                        <p:tav tm="0">
                                          <p:val>
                                            <p:strVal val="#ppt_x"/>
                                          </p:val>
                                        </p:tav>
                                        <p:tav tm="100000">
                                          <p:val>
                                            <p:strVal val="#ppt_x"/>
                                          </p:val>
                                        </p:tav>
                                      </p:tavLst>
                                    </p:anim>
                                    <p:anim calcmode="lin" valueType="num">
                                      <p:cBhvr additive="repl">
                                        <p:cTn id="32" dur="500" fill="hold"/>
                                        <p:tgtEl>
                                          <p:spTgt spid="90"/>
                                        </p:tgtEl>
                                        <p:attrNameLst>
                                          <p:attrName>ppt_y</p:attrName>
                                        </p:attrNameLst>
                                      </p:cBhvr>
                                      <p:tavLst>
                                        <p:tav tm="0">
                                          <p:val>
                                            <p:strVal val="0-#ppt_h/2"/>
                                          </p:val>
                                        </p:tav>
                                        <p:tav tm="100000">
                                          <p:val>
                                            <p:strVal val="#ppt_y"/>
                                          </p:val>
                                        </p:tav>
                                      </p:tavLst>
                                    </p:anim>
                                  </p:childTnLst>
                                </p:cTn>
                              </p:par>
                              <p:par>
                                <p:cTn id="33" nodeType="withEffect" fill="hold" presetClass="emph" presetID="34">
                                  <p:stCondLst>
                                    <p:cond delay="500"/>
                                  </p:stCondLst>
                                  <p:iterate type="wd">
                                    <p:tmAbs val="100"/>
                                  </p:iterate>
                                  <p:childTnLst>
                                    <p:animMotion origin="layout" path="M 4.16667E-006 -2.59259E-006 L -0.00013 -0.03565 E">
                                      <p:cBhvr>
                                        <p:cTn id="34" dur="250" autoRev="1" fill="hold">
                                          <p:stCondLst>
                                            <p:cond delay="0"/>
                                          </p:stCondLst>
                                        </p:cTn>
                                        <p:tgtEl>
                                          <p:spTgt spid="90"/>
                                        </p:tgtEl>
                                        <p:attrNameLst>
                                          <p:attrName>ppt_x</p:attrName>
                                          <p:attrName>ppt_y</p:attrName>
                                        </p:attrNameLst>
                                      </p:cBhvr>
                                    </p:animMotion>
                                    <p:animRot by="1500000">
                                      <p:cBhvr>
                                        <p:cTn id="35" dur="125" fill="hold">
                                          <p:stCondLst>
                                            <p:cond delay="0"/>
                                          </p:stCondLst>
                                        </p:cTn>
                                        <p:tgtEl>
                                          <p:spTgt spid="90"/>
                                        </p:tgtEl>
                                        <p:attrNameLst>
                                          <p:attrName>r</p:attrName>
                                        </p:attrNameLst>
                                      </p:cBhvr>
                                    </p:animRot>
                                    <p:animRot by="-1500000">
                                      <p:cBhvr>
                                        <p:cTn id="36" dur="125" fill="hold">
                                          <p:stCondLst>
                                            <p:cond delay="125"/>
                                          </p:stCondLst>
                                        </p:cTn>
                                        <p:tgtEl>
                                          <p:spTgt spid="90"/>
                                        </p:tgtEl>
                                        <p:attrNameLst>
                                          <p:attrName>r</p:attrName>
                                        </p:attrNameLst>
                                      </p:cBhvr>
                                    </p:animRot>
                                    <p:animRot by="-1500000">
                                      <p:cBhvr>
                                        <p:cTn id="37" dur="125" fill="hold">
                                          <p:stCondLst>
                                            <p:cond delay="250"/>
                                          </p:stCondLst>
                                        </p:cTn>
                                        <p:tgtEl>
                                          <p:spTgt spid="90"/>
                                        </p:tgtEl>
                                        <p:attrNameLst>
                                          <p:attrName>r</p:attrName>
                                        </p:attrNameLst>
                                      </p:cBhvr>
                                    </p:animRot>
                                    <p:animRot by="1500000">
                                      <p:cBhvr>
                                        <p:cTn id="38" dur="125" fill="hold">
                                          <p:stCondLst>
                                            <p:cond delay="375"/>
                                          </p:stCondLst>
                                        </p:cTn>
                                        <p:tgtEl>
                                          <p:spTgt spid="90"/>
                                        </p:tgtEl>
                                        <p:attrNameLst>
                                          <p:attrName>r</p:attrName>
                                        </p:attrNameLst>
                                      </p:cBhvr>
                                    </p:animRot>
                                  </p:childTnLst>
                                </p:cTn>
                              </p:par>
                              <p:par>
                                <p:cTn id="39" nodeType="withEffect" fill="hold" presetClass="entr" presetID="22" presetSubtype="8">
                                  <p:stCondLst>
                                    <p:cond delay="0"/>
                                  </p:stCondLst>
                                  <p:childTnLst>
                                    <p:set>
                                      <p:cBhvr>
                                        <p:cTn id="40" dur="1" fill="hold">
                                          <p:stCondLst>
                                            <p:cond delay="0"/>
                                          </p:stCondLst>
                                        </p:cTn>
                                        <p:tgtEl>
                                          <p:spTgt spid="91"/>
                                        </p:tgtEl>
                                        <p:attrNameLst>
                                          <p:attrName>style.visibility</p:attrName>
                                        </p:attrNameLst>
                                      </p:cBhvr>
                                      <p:to>
                                        <p:strVal val="visible"/>
                                      </p:to>
                                    </p:set>
                                    <p:animEffect filter="wipe(left)" transition="in">
                                      <p:cBhvr additive="repl">
                                        <p:cTn id="41"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文本框 6"/>
          <p:cNvSpPr/>
          <p:nvPr/>
        </p:nvSpPr>
        <p:spPr>
          <a:xfrm>
            <a:off x="6334200" y="2526840"/>
            <a:ext cx="19900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404040"/>
                </a:solidFill>
                <a:latin typeface="微软雅黑"/>
                <a:ea typeface="微软雅黑"/>
              </a:rPr>
              <a:t>YOUR TEXT HERE</a:t>
            </a:r>
            <a:endParaRPr b="0" lang="en-US" sz="1800" spc="-1" strike="noStrike">
              <a:solidFill>
                <a:srgbClr val="000000"/>
              </a:solidFill>
              <a:latin typeface="Arial"/>
            </a:endParaRPr>
          </a:p>
        </p:txBody>
      </p:sp>
      <p:sp>
        <p:nvSpPr>
          <p:cNvPr id="93" name="文本框 7"/>
          <p:cNvSpPr/>
          <p:nvPr/>
        </p:nvSpPr>
        <p:spPr>
          <a:xfrm>
            <a:off x="4517280" y="2970000"/>
            <a:ext cx="5625000" cy="227988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0" lang="en-US" sz="1600" spc="-1" strike="noStrike">
                <a:solidFill>
                  <a:srgbClr val="808080"/>
                </a:solidFill>
                <a:latin typeface="微软雅黑"/>
                <a:ea typeface="微软雅黑"/>
              </a:rPr>
              <a:t>Human Resources planning is based on the concept that people are the most important strategic resources of an organization. Generally it is concerned with suitable resources to business needs both in longer tern needs and in</a:t>
            </a:r>
            <a:r>
              <a:rPr b="0" lang="en-US" sz="1600" spc="-1" strike="noStrike">
                <a:solidFill>
                  <a:srgbClr val="808080"/>
                </a:solidFill>
                <a:latin typeface="微软雅黑"/>
                <a:ea typeface="微软雅黑"/>
              </a:rPr>
              <a:t> shorter term needs in terms of both quantity and quality. It also improvement.</a:t>
            </a:r>
            <a:endParaRPr b="0" lang="en-US" sz="1600" spc="-1" strike="noStrike">
              <a:solidFill>
                <a:srgbClr val="000000"/>
              </a:solidFill>
              <a:latin typeface="Arial"/>
            </a:endParaRPr>
          </a:p>
        </p:txBody>
      </p:sp>
      <p:pic>
        <p:nvPicPr>
          <p:cNvPr id="94" name="图片 8" descr=""/>
          <p:cNvPicPr/>
          <p:nvPr/>
        </p:nvPicPr>
        <p:blipFill>
          <a:blip r:embed="rId1"/>
          <a:srcRect l="15952" t="0" r="74642" b="0"/>
          <a:stretch/>
        </p:blipFill>
        <p:spPr>
          <a:xfrm>
            <a:off x="1945080" y="0"/>
            <a:ext cx="1146240" cy="6857640"/>
          </a:xfrm>
          <a:prstGeom prst="rect">
            <a:avLst/>
          </a:prstGeom>
          <a:ln w="0">
            <a:noFill/>
          </a:ln>
        </p:spPr>
      </p:pic>
      <p:sp>
        <p:nvSpPr>
          <p:cNvPr id="95" name="文本框 1"/>
          <p:cNvSpPr/>
          <p:nvPr/>
        </p:nvSpPr>
        <p:spPr>
          <a:xfrm>
            <a:off x="6766200" y="1405080"/>
            <a:ext cx="117684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800" spc="-1" strike="noStrike">
                <a:solidFill>
                  <a:schemeClr val="accent4"/>
                </a:solidFill>
                <a:latin typeface="Calibri"/>
              </a:rPr>
              <a:t>LOGO</a:t>
            </a:r>
            <a:endParaRPr b="0" lang="en-US" sz="2800" spc="-1" strike="noStrike">
              <a:solidFill>
                <a:srgbClr val="000000"/>
              </a:solidFill>
              <a:latin typeface="Arial"/>
            </a:endParaRPr>
          </a:p>
        </p:txBody>
      </p:sp>
    </p:spTree>
  </p:cSld>
  <mc:AlternateContent>
    <mc:Choice Requires="p14">
      <p:transition spd="med" advTm="0" p14:dur="800"/>
    </mc:Choice>
    <mc:Fallback>
      <p:transition spd="med" advTm="0"/>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图片 32" descr=""/>
          <p:cNvPicPr/>
          <p:nvPr/>
        </p:nvPicPr>
        <p:blipFill>
          <a:blip r:embed="rId1"/>
          <a:stretch/>
        </p:blipFill>
        <p:spPr>
          <a:xfrm>
            <a:off x="0" y="0"/>
            <a:ext cx="12191760" cy="6857640"/>
          </a:xfrm>
          <a:prstGeom prst="rect">
            <a:avLst/>
          </a:prstGeom>
          <a:ln w="0">
            <a:noFill/>
          </a:ln>
        </p:spPr>
      </p:pic>
      <p:grpSp>
        <p:nvGrpSpPr>
          <p:cNvPr id="97" name="组合 2"/>
          <p:cNvGrpSpPr/>
          <p:nvPr/>
        </p:nvGrpSpPr>
        <p:grpSpPr>
          <a:xfrm>
            <a:off x="-362520" y="543240"/>
            <a:ext cx="2463840" cy="680760"/>
            <a:chOff x="-362520" y="543240"/>
            <a:chExt cx="2463840" cy="680760"/>
          </a:xfrm>
        </p:grpSpPr>
        <p:sp>
          <p:nvSpPr>
            <p:cNvPr id="98" name="六边形 4"/>
            <p:cNvSpPr/>
            <p:nvPr/>
          </p:nvSpPr>
          <p:spPr>
            <a:xfrm>
              <a:off x="-362520" y="543240"/>
              <a:ext cx="2463840" cy="680760"/>
            </a:xfrm>
            <a:prstGeom prst="hexagon">
              <a:avLst>
                <a:gd name="adj" fmla="val 25000"/>
                <a:gd name="vf" fmla="val 115470"/>
              </a:avLst>
            </a:prstGeom>
            <a:solidFill>
              <a:schemeClr val="bg1"/>
            </a:solidFill>
            <a:ln>
              <a:noFill/>
            </a:ln>
            <a:effectLst>
              <a:outerShdw algn="tl" blurRad="355680" dir="8401444" dist="139524" rotWithShape="0" sx="104000" sy="104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050" spc="-1" strike="noStrike">
                <a:solidFill>
                  <a:schemeClr val="lt1"/>
                </a:solidFill>
                <a:latin typeface="Calibri"/>
              </a:endParaRPr>
            </a:p>
          </p:txBody>
        </p:sp>
        <p:sp>
          <p:nvSpPr>
            <p:cNvPr id="99" name="六边形 5"/>
            <p:cNvSpPr/>
            <p:nvPr/>
          </p:nvSpPr>
          <p:spPr>
            <a:xfrm>
              <a:off x="-300960" y="583560"/>
              <a:ext cx="2341800" cy="598320"/>
            </a:xfrm>
            <a:prstGeom prst="hexagon">
              <a:avLst>
                <a:gd name="adj" fmla="val 25000"/>
                <a:gd name="vf" fmla="val 115470"/>
              </a:avLst>
            </a:prstGeom>
            <a:noFill/>
            <a:ln w="6350">
              <a:solidFill>
                <a:srgbClr val="000000">
                  <a:lumMod val="50000"/>
                  <a:lumOff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050" spc="-1" strike="noStrike">
                <a:solidFill>
                  <a:schemeClr val="lt1"/>
                </a:solidFill>
                <a:latin typeface="Calibri"/>
              </a:endParaRPr>
            </a:p>
          </p:txBody>
        </p:sp>
      </p:grpSp>
      <p:grpSp>
        <p:nvGrpSpPr>
          <p:cNvPr id="100" name="组合 3"/>
          <p:cNvGrpSpPr/>
          <p:nvPr/>
        </p:nvGrpSpPr>
        <p:grpSpPr>
          <a:xfrm>
            <a:off x="1002240" y="1914840"/>
            <a:ext cx="3027600" cy="4443480"/>
            <a:chOff x="1002240" y="1914840"/>
            <a:chExt cx="3027600" cy="4443480"/>
          </a:xfrm>
        </p:grpSpPr>
        <p:sp>
          <p:nvSpPr>
            <p:cNvPr id="101" name="矩形 9"/>
            <p:cNvSpPr/>
            <p:nvPr/>
          </p:nvSpPr>
          <p:spPr>
            <a:xfrm>
              <a:off x="1002240" y="1914840"/>
              <a:ext cx="3027600" cy="4443480"/>
            </a:xfrm>
            <a:prstGeom prst="rect">
              <a:avLst/>
            </a:prstGeom>
            <a:solidFill>
              <a:schemeClr val="bg1"/>
            </a:solidFill>
            <a:ln>
              <a:noFill/>
            </a:ln>
            <a:effectLst>
              <a:outerShdw algn="tl" blurRad="431640" dir="2700000" dist="37674" rotWithShape="0" sx="105000" sy="105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2" name="矩形 11"/>
            <p:cNvSpPr/>
            <p:nvPr/>
          </p:nvSpPr>
          <p:spPr>
            <a:xfrm>
              <a:off x="1154520" y="2067480"/>
              <a:ext cx="2727360" cy="4124520"/>
            </a:xfrm>
            <a:prstGeom prst="rect">
              <a:avLst/>
            </a:prstGeom>
            <a:noFill/>
            <a:ln>
              <a:solidFill>
                <a:srgbClr val="000000">
                  <a:lumMod val="50000"/>
                  <a:lumOff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03" name="组合 10"/>
          <p:cNvGrpSpPr/>
          <p:nvPr/>
        </p:nvGrpSpPr>
        <p:grpSpPr>
          <a:xfrm>
            <a:off x="1112040" y="2314080"/>
            <a:ext cx="2812320" cy="3629880"/>
            <a:chOff x="1112040" y="2314080"/>
            <a:chExt cx="2812320" cy="3629880"/>
          </a:xfrm>
        </p:grpSpPr>
        <p:sp>
          <p:nvSpPr>
            <p:cNvPr id="104" name="等腰三角形 12"/>
            <p:cNvSpPr/>
            <p:nvPr/>
          </p:nvSpPr>
          <p:spPr>
            <a:xfrm flipV="1">
              <a:off x="2374200" y="3286080"/>
              <a:ext cx="272520" cy="140760"/>
            </a:xfrm>
            <a:prstGeom prst="triangle">
              <a:avLst>
                <a:gd name="adj" fmla="val 50000"/>
              </a:avLst>
            </a:prstGeom>
            <a:solidFill>
              <a:schemeClr val="bg1"/>
            </a:solidFill>
            <a:ln>
              <a:solidFill>
                <a:srgbClr val="000000">
                  <a:lumMod val="50000"/>
                  <a:lumOff val="50000"/>
                </a:srgbClr>
              </a:solidFill>
            </a:ln>
          </p:spPr>
          <p:style>
            <a:lnRef idx="2">
              <a:schemeClr val="accent1">
                <a:shade val="50000"/>
              </a:schemeClr>
            </a:lnRef>
            <a:fillRef idx="1">
              <a:schemeClr val="accent1"/>
            </a:fillRef>
            <a:effectRef idx="0">
              <a:schemeClr val="accent1"/>
            </a:effectRef>
            <a:fontRef idx="minor"/>
          </p:style>
          <p:txBody>
            <a:bodyPr lIns="90000" rIns="90000" tIns="25560" bIns="25560" anchor="ctr">
              <a:noAutofit/>
            </a:bodyPr>
            <a:p>
              <a:pPr algn="ctr">
                <a:lnSpc>
                  <a:spcPct val="100000"/>
                </a:lnSpc>
              </a:pPr>
              <a:endParaRPr b="0" lang="en-US" sz="1800" spc="-1" strike="noStrike">
                <a:solidFill>
                  <a:schemeClr val="lt1"/>
                </a:solidFill>
                <a:latin typeface="Calibri"/>
              </a:endParaRPr>
            </a:p>
          </p:txBody>
        </p:sp>
        <p:sp>
          <p:nvSpPr>
            <p:cNvPr id="105" name="文本框 13"/>
            <p:cNvSpPr/>
            <p:nvPr/>
          </p:nvSpPr>
          <p:spPr>
            <a:xfrm>
              <a:off x="1112040" y="3510000"/>
              <a:ext cx="2812320" cy="243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808080"/>
                  </a:solidFill>
                  <a:latin typeface="微软雅黑"/>
                  <a:ea typeface="微软雅黑"/>
                </a:rPr>
                <a:t>Human Resources planning is based on the concept that people are the most important strategic resources of an organization. Generally it is concerned with suitable resources to business needs both in longer tern needs and in</a:t>
              </a:r>
              <a:r>
                <a:rPr b="0" lang="en-US" sz="1400" spc="-1" strike="noStrike">
                  <a:solidFill>
                    <a:srgbClr val="808080"/>
                  </a:solidFill>
                  <a:latin typeface="微软雅黑"/>
                  <a:ea typeface="微软雅黑"/>
                </a:rPr>
                <a:t> shorter term needs in terms of both quantity and quality. It also improvement.</a:t>
              </a:r>
              <a:endParaRPr b="0" lang="en-US" sz="1400" spc="-1" strike="noStrike">
                <a:solidFill>
                  <a:srgbClr val="000000"/>
                </a:solidFill>
                <a:latin typeface="Arial"/>
              </a:endParaRPr>
            </a:p>
          </p:txBody>
        </p:sp>
        <p:sp>
          <p:nvSpPr>
            <p:cNvPr id="106" name="文本框 14"/>
            <p:cNvSpPr/>
            <p:nvPr/>
          </p:nvSpPr>
          <p:spPr>
            <a:xfrm>
              <a:off x="2418120" y="2333880"/>
              <a:ext cx="82116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000000"/>
                  </a:solidFill>
                  <a:latin typeface="方正兰亭超细黑简体"/>
                  <a:ea typeface="方正兰亭超细黑简体"/>
                </a:rPr>
                <a:t>01</a:t>
              </a:r>
              <a:endParaRPr b="0" lang="en-US" sz="4400" spc="-1" strike="noStrike">
                <a:solidFill>
                  <a:srgbClr val="000000"/>
                </a:solidFill>
                <a:latin typeface="Arial"/>
              </a:endParaRPr>
            </a:p>
          </p:txBody>
        </p:sp>
        <p:sp>
          <p:nvSpPr>
            <p:cNvPr id="107" name="KSO_Shape"/>
            <p:cNvSpPr/>
            <p:nvPr/>
          </p:nvSpPr>
          <p:spPr>
            <a:xfrm>
              <a:off x="1811520" y="2314080"/>
              <a:ext cx="450360" cy="621360"/>
            </a:xfrm>
            <a:custGeom>
              <a:avLst/>
              <a:gdLst>
                <a:gd name="textAreaLeft" fmla="*/ 0 w 450360"/>
                <a:gd name="textAreaRight" fmla="*/ 450720 w 450360"/>
                <a:gd name="textAreaTop" fmla="*/ 0 h 621360"/>
                <a:gd name="textAreaBottom" fmla="*/ 621720 h 621360"/>
              </a:gdLst>
              <a:ahLst/>
              <a:rect l="textAreaLeft" t="textAreaTop" r="textAreaRight" b="textAreaBottom"/>
              <a:pathLst>
                <a:path w="779462" h="1076325">
                  <a:moveTo>
                    <a:pt x="383829" y="588255"/>
                  </a:moveTo>
                  <a:lnTo>
                    <a:pt x="382134" y="588731"/>
                  </a:lnTo>
                  <a:lnTo>
                    <a:pt x="375331" y="590773"/>
                  </a:lnTo>
                  <a:lnTo>
                    <a:pt x="368073" y="592361"/>
                  </a:lnTo>
                  <a:lnTo>
                    <a:pt x="360590" y="594176"/>
                  </a:lnTo>
                  <a:lnTo>
                    <a:pt x="355958" y="594900"/>
                  </a:lnTo>
                  <a:lnTo>
                    <a:pt x="355958" y="698378"/>
                  </a:lnTo>
                  <a:lnTo>
                    <a:pt x="383829" y="698378"/>
                  </a:lnTo>
                  <a:lnTo>
                    <a:pt x="383829" y="588255"/>
                  </a:lnTo>
                  <a:close/>
                  <a:moveTo>
                    <a:pt x="300038" y="177346"/>
                  </a:moveTo>
                  <a:lnTo>
                    <a:pt x="293688" y="177800"/>
                  </a:lnTo>
                  <a:lnTo>
                    <a:pt x="287565" y="178027"/>
                  </a:lnTo>
                  <a:lnTo>
                    <a:pt x="281215" y="178934"/>
                  </a:lnTo>
                  <a:lnTo>
                    <a:pt x="275318" y="179841"/>
                  </a:lnTo>
                  <a:lnTo>
                    <a:pt x="269422" y="181202"/>
                  </a:lnTo>
                  <a:lnTo>
                    <a:pt x="263525" y="183016"/>
                  </a:lnTo>
                  <a:lnTo>
                    <a:pt x="257856" y="184830"/>
                  </a:lnTo>
                  <a:lnTo>
                    <a:pt x="252413" y="187098"/>
                  </a:lnTo>
                  <a:lnTo>
                    <a:pt x="246970" y="189366"/>
                  </a:lnTo>
                  <a:lnTo>
                    <a:pt x="241753" y="192088"/>
                  </a:lnTo>
                  <a:lnTo>
                    <a:pt x="236310" y="195036"/>
                  </a:lnTo>
                  <a:lnTo>
                    <a:pt x="231321" y="198438"/>
                  </a:lnTo>
                  <a:lnTo>
                    <a:pt x="226785" y="201839"/>
                  </a:lnTo>
                  <a:lnTo>
                    <a:pt x="222023" y="205468"/>
                  </a:lnTo>
                  <a:lnTo>
                    <a:pt x="217487" y="209323"/>
                  </a:lnTo>
                  <a:lnTo>
                    <a:pt x="213178" y="213405"/>
                  </a:lnTo>
                  <a:lnTo>
                    <a:pt x="209323" y="217488"/>
                  </a:lnTo>
                  <a:lnTo>
                    <a:pt x="205468" y="222023"/>
                  </a:lnTo>
                  <a:lnTo>
                    <a:pt x="201839" y="226786"/>
                  </a:lnTo>
                  <a:lnTo>
                    <a:pt x="198210" y="231548"/>
                  </a:lnTo>
                  <a:lnTo>
                    <a:pt x="195035" y="236538"/>
                  </a:lnTo>
                  <a:lnTo>
                    <a:pt x="192314" y="241527"/>
                  </a:lnTo>
                  <a:lnTo>
                    <a:pt x="189593" y="246970"/>
                  </a:lnTo>
                  <a:lnTo>
                    <a:pt x="187098" y="252186"/>
                  </a:lnTo>
                  <a:lnTo>
                    <a:pt x="184830" y="257855"/>
                  </a:lnTo>
                  <a:lnTo>
                    <a:pt x="182789" y="263525"/>
                  </a:lnTo>
                  <a:lnTo>
                    <a:pt x="181428" y="269421"/>
                  </a:lnTo>
                  <a:lnTo>
                    <a:pt x="179841" y="275318"/>
                  </a:lnTo>
                  <a:lnTo>
                    <a:pt x="178934" y="281441"/>
                  </a:lnTo>
                  <a:lnTo>
                    <a:pt x="178027" y="287338"/>
                  </a:lnTo>
                  <a:lnTo>
                    <a:pt x="177573" y="293688"/>
                  </a:lnTo>
                  <a:lnTo>
                    <a:pt x="177346" y="300038"/>
                  </a:lnTo>
                  <a:lnTo>
                    <a:pt x="177573" y="306388"/>
                  </a:lnTo>
                  <a:lnTo>
                    <a:pt x="178027" y="312511"/>
                  </a:lnTo>
                  <a:lnTo>
                    <a:pt x="178934" y="318634"/>
                  </a:lnTo>
                  <a:lnTo>
                    <a:pt x="179841" y="324757"/>
                  </a:lnTo>
                  <a:lnTo>
                    <a:pt x="181428" y="330427"/>
                  </a:lnTo>
                  <a:lnTo>
                    <a:pt x="182789" y="336550"/>
                  </a:lnTo>
                  <a:lnTo>
                    <a:pt x="184830" y="342220"/>
                  </a:lnTo>
                  <a:lnTo>
                    <a:pt x="187098" y="347663"/>
                  </a:lnTo>
                  <a:lnTo>
                    <a:pt x="189593" y="353105"/>
                  </a:lnTo>
                  <a:lnTo>
                    <a:pt x="192314" y="358321"/>
                  </a:lnTo>
                  <a:lnTo>
                    <a:pt x="195035" y="363311"/>
                  </a:lnTo>
                  <a:lnTo>
                    <a:pt x="198210" y="368300"/>
                  </a:lnTo>
                  <a:lnTo>
                    <a:pt x="201839" y="373289"/>
                  </a:lnTo>
                  <a:lnTo>
                    <a:pt x="205468" y="377825"/>
                  </a:lnTo>
                  <a:lnTo>
                    <a:pt x="209323" y="382361"/>
                  </a:lnTo>
                  <a:lnTo>
                    <a:pt x="213178" y="386670"/>
                  </a:lnTo>
                  <a:lnTo>
                    <a:pt x="217487" y="390525"/>
                  </a:lnTo>
                  <a:lnTo>
                    <a:pt x="222023" y="394607"/>
                  </a:lnTo>
                  <a:lnTo>
                    <a:pt x="226785" y="398236"/>
                  </a:lnTo>
                  <a:lnTo>
                    <a:pt x="231321" y="401411"/>
                  </a:lnTo>
                  <a:lnTo>
                    <a:pt x="236310" y="404813"/>
                  </a:lnTo>
                  <a:lnTo>
                    <a:pt x="241753" y="407761"/>
                  </a:lnTo>
                  <a:lnTo>
                    <a:pt x="242887" y="408352"/>
                  </a:lnTo>
                  <a:lnTo>
                    <a:pt x="242887" y="317257"/>
                  </a:lnTo>
                  <a:lnTo>
                    <a:pt x="243114" y="311589"/>
                  </a:lnTo>
                  <a:lnTo>
                    <a:pt x="244020" y="305695"/>
                  </a:lnTo>
                  <a:lnTo>
                    <a:pt x="245380" y="300253"/>
                  </a:lnTo>
                  <a:lnTo>
                    <a:pt x="247193" y="295039"/>
                  </a:lnTo>
                  <a:lnTo>
                    <a:pt x="249685" y="290051"/>
                  </a:lnTo>
                  <a:lnTo>
                    <a:pt x="252404" y="285516"/>
                  </a:lnTo>
                  <a:lnTo>
                    <a:pt x="255803" y="281209"/>
                  </a:lnTo>
                  <a:lnTo>
                    <a:pt x="259429" y="277127"/>
                  </a:lnTo>
                  <a:lnTo>
                    <a:pt x="263281" y="273500"/>
                  </a:lnTo>
                  <a:lnTo>
                    <a:pt x="267813" y="270099"/>
                  </a:lnTo>
                  <a:lnTo>
                    <a:pt x="272571" y="267378"/>
                  </a:lnTo>
                  <a:lnTo>
                    <a:pt x="277556" y="264885"/>
                  </a:lnTo>
                  <a:lnTo>
                    <a:pt x="282768" y="263297"/>
                  </a:lnTo>
                  <a:lnTo>
                    <a:pt x="287979" y="261710"/>
                  </a:lnTo>
                  <a:lnTo>
                    <a:pt x="293644" y="260803"/>
                  </a:lnTo>
                  <a:lnTo>
                    <a:pt x="299536" y="260350"/>
                  </a:lnTo>
                  <a:lnTo>
                    <a:pt x="305201" y="260803"/>
                  </a:lnTo>
                  <a:lnTo>
                    <a:pt x="310865" y="261710"/>
                  </a:lnTo>
                  <a:lnTo>
                    <a:pt x="316304" y="263297"/>
                  </a:lnTo>
                  <a:lnTo>
                    <a:pt x="321742" y="264885"/>
                  </a:lnTo>
                  <a:lnTo>
                    <a:pt x="326274" y="267378"/>
                  </a:lnTo>
                  <a:lnTo>
                    <a:pt x="331032" y="270099"/>
                  </a:lnTo>
                  <a:lnTo>
                    <a:pt x="335564" y="273500"/>
                  </a:lnTo>
                  <a:lnTo>
                    <a:pt x="339643" y="277127"/>
                  </a:lnTo>
                  <a:lnTo>
                    <a:pt x="343042" y="281209"/>
                  </a:lnTo>
                  <a:lnTo>
                    <a:pt x="346441" y="285516"/>
                  </a:lnTo>
                  <a:lnTo>
                    <a:pt x="349387" y="290051"/>
                  </a:lnTo>
                  <a:lnTo>
                    <a:pt x="351879" y="295039"/>
                  </a:lnTo>
                  <a:lnTo>
                    <a:pt x="353465" y="300253"/>
                  </a:lnTo>
                  <a:lnTo>
                    <a:pt x="355051" y="305695"/>
                  </a:lnTo>
                  <a:lnTo>
                    <a:pt x="355731" y="311589"/>
                  </a:lnTo>
                  <a:lnTo>
                    <a:pt x="355958" y="317257"/>
                  </a:lnTo>
                  <a:lnTo>
                    <a:pt x="355958" y="408994"/>
                  </a:lnTo>
                  <a:lnTo>
                    <a:pt x="358322" y="407761"/>
                  </a:lnTo>
                  <a:lnTo>
                    <a:pt x="363311" y="404813"/>
                  </a:lnTo>
                  <a:lnTo>
                    <a:pt x="368300" y="401411"/>
                  </a:lnTo>
                  <a:lnTo>
                    <a:pt x="373290" y="398236"/>
                  </a:lnTo>
                  <a:lnTo>
                    <a:pt x="377825" y="394607"/>
                  </a:lnTo>
                  <a:lnTo>
                    <a:pt x="382134" y="390525"/>
                  </a:lnTo>
                  <a:lnTo>
                    <a:pt x="386443" y="386670"/>
                  </a:lnTo>
                  <a:lnTo>
                    <a:pt x="390525" y="382361"/>
                  </a:lnTo>
                  <a:lnTo>
                    <a:pt x="394381" y="377825"/>
                  </a:lnTo>
                  <a:lnTo>
                    <a:pt x="398009" y="373289"/>
                  </a:lnTo>
                  <a:lnTo>
                    <a:pt x="401411" y="368300"/>
                  </a:lnTo>
                  <a:lnTo>
                    <a:pt x="404586" y="363311"/>
                  </a:lnTo>
                  <a:lnTo>
                    <a:pt x="407761" y="358321"/>
                  </a:lnTo>
                  <a:lnTo>
                    <a:pt x="410482" y="353105"/>
                  </a:lnTo>
                  <a:lnTo>
                    <a:pt x="412977" y="347663"/>
                  </a:lnTo>
                  <a:lnTo>
                    <a:pt x="414791" y="342220"/>
                  </a:lnTo>
                  <a:lnTo>
                    <a:pt x="416832" y="336550"/>
                  </a:lnTo>
                  <a:lnTo>
                    <a:pt x="418647" y="330427"/>
                  </a:lnTo>
                  <a:lnTo>
                    <a:pt x="419781" y="324757"/>
                  </a:lnTo>
                  <a:lnTo>
                    <a:pt x="421141" y="318634"/>
                  </a:lnTo>
                  <a:lnTo>
                    <a:pt x="421822" y="312511"/>
                  </a:lnTo>
                  <a:lnTo>
                    <a:pt x="422275" y="306388"/>
                  </a:lnTo>
                  <a:lnTo>
                    <a:pt x="422275" y="300038"/>
                  </a:lnTo>
                  <a:lnTo>
                    <a:pt x="422275" y="293688"/>
                  </a:lnTo>
                  <a:lnTo>
                    <a:pt x="421822" y="287338"/>
                  </a:lnTo>
                  <a:lnTo>
                    <a:pt x="421141" y="281441"/>
                  </a:lnTo>
                  <a:lnTo>
                    <a:pt x="419781" y="275318"/>
                  </a:lnTo>
                  <a:lnTo>
                    <a:pt x="418647" y="269421"/>
                  </a:lnTo>
                  <a:lnTo>
                    <a:pt x="416832" y="263525"/>
                  </a:lnTo>
                  <a:lnTo>
                    <a:pt x="414791" y="257855"/>
                  </a:lnTo>
                  <a:lnTo>
                    <a:pt x="412977" y="252186"/>
                  </a:lnTo>
                  <a:lnTo>
                    <a:pt x="410482" y="246970"/>
                  </a:lnTo>
                  <a:lnTo>
                    <a:pt x="407761" y="241527"/>
                  </a:lnTo>
                  <a:lnTo>
                    <a:pt x="404586" y="236538"/>
                  </a:lnTo>
                  <a:lnTo>
                    <a:pt x="401411" y="231548"/>
                  </a:lnTo>
                  <a:lnTo>
                    <a:pt x="398009" y="226786"/>
                  </a:lnTo>
                  <a:lnTo>
                    <a:pt x="394381" y="222023"/>
                  </a:lnTo>
                  <a:lnTo>
                    <a:pt x="390525" y="217488"/>
                  </a:lnTo>
                  <a:lnTo>
                    <a:pt x="386443" y="213405"/>
                  </a:lnTo>
                  <a:lnTo>
                    <a:pt x="382134" y="209323"/>
                  </a:lnTo>
                  <a:lnTo>
                    <a:pt x="377825" y="205468"/>
                  </a:lnTo>
                  <a:lnTo>
                    <a:pt x="373290" y="201839"/>
                  </a:lnTo>
                  <a:lnTo>
                    <a:pt x="368300" y="198438"/>
                  </a:lnTo>
                  <a:lnTo>
                    <a:pt x="363311" y="195036"/>
                  </a:lnTo>
                  <a:lnTo>
                    <a:pt x="358322" y="192088"/>
                  </a:lnTo>
                  <a:lnTo>
                    <a:pt x="353106" y="189366"/>
                  </a:lnTo>
                  <a:lnTo>
                    <a:pt x="347663" y="187098"/>
                  </a:lnTo>
                  <a:lnTo>
                    <a:pt x="341993" y="184830"/>
                  </a:lnTo>
                  <a:lnTo>
                    <a:pt x="336323" y="183016"/>
                  </a:lnTo>
                  <a:lnTo>
                    <a:pt x="330427" y="181202"/>
                  </a:lnTo>
                  <a:lnTo>
                    <a:pt x="324757" y="179841"/>
                  </a:lnTo>
                  <a:lnTo>
                    <a:pt x="318634" y="178934"/>
                  </a:lnTo>
                  <a:lnTo>
                    <a:pt x="312511" y="178027"/>
                  </a:lnTo>
                  <a:lnTo>
                    <a:pt x="306161" y="177800"/>
                  </a:lnTo>
                  <a:lnTo>
                    <a:pt x="300038" y="177346"/>
                  </a:lnTo>
                  <a:close/>
                  <a:moveTo>
                    <a:pt x="300265" y="28132"/>
                  </a:moveTo>
                  <a:lnTo>
                    <a:pt x="293234" y="28359"/>
                  </a:lnTo>
                  <a:lnTo>
                    <a:pt x="286204" y="28586"/>
                  </a:lnTo>
                  <a:lnTo>
                    <a:pt x="279173" y="29040"/>
                  </a:lnTo>
                  <a:lnTo>
                    <a:pt x="272370" y="29720"/>
                  </a:lnTo>
                  <a:lnTo>
                    <a:pt x="265566" y="30401"/>
                  </a:lnTo>
                  <a:lnTo>
                    <a:pt x="258763" y="31308"/>
                  </a:lnTo>
                  <a:lnTo>
                    <a:pt x="252186" y="32443"/>
                  </a:lnTo>
                  <a:lnTo>
                    <a:pt x="245382" y="33804"/>
                  </a:lnTo>
                  <a:lnTo>
                    <a:pt x="238805" y="35165"/>
                  </a:lnTo>
                  <a:lnTo>
                    <a:pt x="232455" y="36980"/>
                  </a:lnTo>
                  <a:lnTo>
                    <a:pt x="225878" y="38568"/>
                  </a:lnTo>
                  <a:lnTo>
                    <a:pt x="219528" y="40383"/>
                  </a:lnTo>
                  <a:lnTo>
                    <a:pt x="212952" y="42652"/>
                  </a:lnTo>
                  <a:lnTo>
                    <a:pt x="206828" y="44921"/>
                  </a:lnTo>
                  <a:lnTo>
                    <a:pt x="200478" y="47189"/>
                  </a:lnTo>
                  <a:lnTo>
                    <a:pt x="194582" y="49685"/>
                  </a:lnTo>
                  <a:lnTo>
                    <a:pt x="188459" y="52407"/>
                  </a:lnTo>
                  <a:lnTo>
                    <a:pt x="182562" y="55130"/>
                  </a:lnTo>
                  <a:lnTo>
                    <a:pt x="176666" y="58079"/>
                  </a:lnTo>
                  <a:lnTo>
                    <a:pt x="170769" y="61028"/>
                  </a:lnTo>
                  <a:lnTo>
                    <a:pt x="165100" y="64205"/>
                  </a:lnTo>
                  <a:lnTo>
                    <a:pt x="159430" y="67608"/>
                  </a:lnTo>
                  <a:lnTo>
                    <a:pt x="153987" y="71011"/>
                  </a:lnTo>
                  <a:lnTo>
                    <a:pt x="148318" y="74868"/>
                  </a:lnTo>
                  <a:lnTo>
                    <a:pt x="142875" y="78498"/>
                  </a:lnTo>
                  <a:lnTo>
                    <a:pt x="137659" y="82354"/>
                  </a:lnTo>
                  <a:lnTo>
                    <a:pt x="132443" y="86211"/>
                  </a:lnTo>
                  <a:lnTo>
                    <a:pt x="127453" y="90522"/>
                  </a:lnTo>
                  <a:lnTo>
                    <a:pt x="122464" y="94832"/>
                  </a:lnTo>
                  <a:lnTo>
                    <a:pt x="117475" y="98916"/>
                  </a:lnTo>
                  <a:lnTo>
                    <a:pt x="112712" y="103453"/>
                  </a:lnTo>
                  <a:lnTo>
                    <a:pt x="107950" y="107991"/>
                  </a:lnTo>
                  <a:lnTo>
                    <a:pt x="103641" y="112755"/>
                  </a:lnTo>
                  <a:lnTo>
                    <a:pt x="99105" y="117519"/>
                  </a:lnTo>
                  <a:lnTo>
                    <a:pt x="94796" y="122057"/>
                  </a:lnTo>
                  <a:lnTo>
                    <a:pt x="90487" y="127048"/>
                  </a:lnTo>
                  <a:lnTo>
                    <a:pt x="86405" y="132266"/>
                  </a:lnTo>
                  <a:lnTo>
                    <a:pt x="82323" y="137711"/>
                  </a:lnTo>
                  <a:lnTo>
                    <a:pt x="78694" y="142929"/>
                  </a:lnTo>
                  <a:lnTo>
                    <a:pt x="74839" y="148147"/>
                  </a:lnTo>
                  <a:lnTo>
                    <a:pt x="71437" y="153592"/>
                  </a:lnTo>
                  <a:lnTo>
                    <a:pt x="67809" y="159264"/>
                  </a:lnTo>
                  <a:lnTo>
                    <a:pt x="64407" y="164709"/>
                  </a:lnTo>
                  <a:lnTo>
                    <a:pt x="61232" y="170607"/>
                  </a:lnTo>
                  <a:lnTo>
                    <a:pt x="58057" y="176506"/>
                  </a:lnTo>
                  <a:lnTo>
                    <a:pt x="55109" y="182178"/>
                  </a:lnTo>
                  <a:lnTo>
                    <a:pt x="52387" y="188303"/>
                  </a:lnTo>
                  <a:lnTo>
                    <a:pt x="49666" y="194429"/>
                  </a:lnTo>
                  <a:lnTo>
                    <a:pt x="47171" y="200554"/>
                  </a:lnTo>
                  <a:lnTo>
                    <a:pt x="44903" y="206680"/>
                  </a:lnTo>
                  <a:lnTo>
                    <a:pt x="42636" y="212805"/>
                  </a:lnTo>
                  <a:lnTo>
                    <a:pt x="40821" y="219385"/>
                  </a:lnTo>
                  <a:lnTo>
                    <a:pt x="38780" y="225737"/>
                  </a:lnTo>
                  <a:lnTo>
                    <a:pt x="36966" y="232090"/>
                  </a:lnTo>
                  <a:lnTo>
                    <a:pt x="35378" y="238896"/>
                  </a:lnTo>
                  <a:lnTo>
                    <a:pt x="34018" y="245248"/>
                  </a:lnTo>
                  <a:lnTo>
                    <a:pt x="32657" y="252054"/>
                  </a:lnTo>
                  <a:lnTo>
                    <a:pt x="31523" y="258860"/>
                  </a:lnTo>
                  <a:lnTo>
                    <a:pt x="30389" y="265440"/>
                  </a:lnTo>
                  <a:lnTo>
                    <a:pt x="29709" y="272246"/>
                  </a:lnTo>
                  <a:lnTo>
                    <a:pt x="29255" y="279279"/>
                  </a:lnTo>
                  <a:lnTo>
                    <a:pt x="28802" y="286312"/>
                  </a:lnTo>
                  <a:lnTo>
                    <a:pt x="28575" y="292891"/>
                  </a:lnTo>
                  <a:lnTo>
                    <a:pt x="28575" y="300151"/>
                  </a:lnTo>
                  <a:lnTo>
                    <a:pt x="28575" y="307184"/>
                  </a:lnTo>
                  <a:lnTo>
                    <a:pt x="28802" y="314217"/>
                  </a:lnTo>
                  <a:lnTo>
                    <a:pt x="29255" y="320796"/>
                  </a:lnTo>
                  <a:lnTo>
                    <a:pt x="29709" y="327829"/>
                  </a:lnTo>
                  <a:lnTo>
                    <a:pt x="30389" y="334635"/>
                  </a:lnTo>
                  <a:lnTo>
                    <a:pt x="31523" y="341442"/>
                  </a:lnTo>
                  <a:lnTo>
                    <a:pt x="32657" y="348021"/>
                  </a:lnTo>
                  <a:lnTo>
                    <a:pt x="34018" y="354827"/>
                  </a:lnTo>
                  <a:lnTo>
                    <a:pt x="35378" y="361179"/>
                  </a:lnTo>
                  <a:lnTo>
                    <a:pt x="36966" y="367986"/>
                  </a:lnTo>
                  <a:lnTo>
                    <a:pt x="38780" y="374565"/>
                  </a:lnTo>
                  <a:lnTo>
                    <a:pt x="40821" y="380690"/>
                  </a:lnTo>
                  <a:lnTo>
                    <a:pt x="42636" y="387270"/>
                  </a:lnTo>
                  <a:lnTo>
                    <a:pt x="44903" y="393395"/>
                  </a:lnTo>
                  <a:lnTo>
                    <a:pt x="47171" y="399748"/>
                  </a:lnTo>
                  <a:lnTo>
                    <a:pt x="49666" y="405646"/>
                  </a:lnTo>
                  <a:lnTo>
                    <a:pt x="52387" y="411999"/>
                  </a:lnTo>
                  <a:lnTo>
                    <a:pt x="55109" y="417897"/>
                  </a:lnTo>
                  <a:lnTo>
                    <a:pt x="58057" y="423569"/>
                  </a:lnTo>
                  <a:lnTo>
                    <a:pt x="61232" y="429695"/>
                  </a:lnTo>
                  <a:lnTo>
                    <a:pt x="64407" y="435366"/>
                  </a:lnTo>
                  <a:lnTo>
                    <a:pt x="67809" y="440811"/>
                  </a:lnTo>
                  <a:lnTo>
                    <a:pt x="71437" y="446483"/>
                  </a:lnTo>
                  <a:lnTo>
                    <a:pt x="74839" y="452155"/>
                  </a:lnTo>
                  <a:lnTo>
                    <a:pt x="78694" y="457373"/>
                  </a:lnTo>
                  <a:lnTo>
                    <a:pt x="82323" y="462591"/>
                  </a:lnTo>
                  <a:lnTo>
                    <a:pt x="86405" y="467809"/>
                  </a:lnTo>
                  <a:lnTo>
                    <a:pt x="90487" y="473027"/>
                  </a:lnTo>
                  <a:lnTo>
                    <a:pt x="94796" y="478018"/>
                  </a:lnTo>
                  <a:lnTo>
                    <a:pt x="99105" y="482783"/>
                  </a:lnTo>
                  <a:lnTo>
                    <a:pt x="103641" y="487547"/>
                  </a:lnTo>
                  <a:lnTo>
                    <a:pt x="107950" y="492084"/>
                  </a:lnTo>
                  <a:lnTo>
                    <a:pt x="112712" y="496622"/>
                  </a:lnTo>
                  <a:lnTo>
                    <a:pt x="117475" y="501159"/>
                  </a:lnTo>
                  <a:lnTo>
                    <a:pt x="122464" y="505697"/>
                  </a:lnTo>
                  <a:lnTo>
                    <a:pt x="127453" y="509780"/>
                  </a:lnTo>
                  <a:lnTo>
                    <a:pt x="132443" y="513864"/>
                  </a:lnTo>
                  <a:lnTo>
                    <a:pt x="137659" y="517948"/>
                  </a:lnTo>
                  <a:lnTo>
                    <a:pt x="142875" y="521578"/>
                  </a:lnTo>
                  <a:lnTo>
                    <a:pt x="148318" y="525434"/>
                  </a:lnTo>
                  <a:lnTo>
                    <a:pt x="153987" y="529064"/>
                  </a:lnTo>
                  <a:lnTo>
                    <a:pt x="159430" y="532694"/>
                  </a:lnTo>
                  <a:lnTo>
                    <a:pt x="165100" y="535870"/>
                  </a:lnTo>
                  <a:lnTo>
                    <a:pt x="170769" y="539047"/>
                  </a:lnTo>
                  <a:lnTo>
                    <a:pt x="176666" y="541996"/>
                  </a:lnTo>
                  <a:lnTo>
                    <a:pt x="182562" y="544945"/>
                  </a:lnTo>
                  <a:lnTo>
                    <a:pt x="188459" y="547895"/>
                  </a:lnTo>
                  <a:lnTo>
                    <a:pt x="194582" y="550617"/>
                  </a:lnTo>
                  <a:lnTo>
                    <a:pt x="200478" y="553113"/>
                  </a:lnTo>
                  <a:lnTo>
                    <a:pt x="206828" y="555608"/>
                  </a:lnTo>
                  <a:lnTo>
                    <a:pt x="212952" y="557423"/>
                  </a:lnTo>
                  <a:lnTo>
                    <a:pt x="219528" y="559692"/>
                  </a:lnTo>
                  <a:lnTo>
                    <a:pt x="225878" y="561507"/>
                  </a:lnTo>
                  <a:lnTo>
                    <a:pt x="232455" y="563322"/>
                  </a:lnTo>
                  <a:lnTo>
                    <a:pt x="238805" y="564910"/>
                  </a:lnTo>
                  <a:lnTo>
                    <a:pt x="242887" y="565896"/>
                  </a:lnTo>
                  <a:lnTo>
                    <a:pt x="242887" y="439533"/>
                  </a:lnTo>
                  <a:lnTo>
                    <a:pt x="241073" y="438830"/>
                  </a:lnTo>
                  <a:lnTo>
                    <a:pt x="234723" y="435882"/>
                  </a:lnTo>
                  <a:lnTo>
                    <a:pt x="227919" y="432707"/>
                  </a:lnTo>
                  <a:lnTo>
                    <a:pt x="221796" y="428852"/>
                  </a:lnTo>
                  <a:lnTo>
                    <a:pt x="215673" y="424996"/>
                  </a:lnTo>
                  <a:lnTo>
                    <a:pt x="209777" y="420688"/>
                  </a:lnTo>
                  <a:lnTo>
                    <a:pt x="204107" y="416152"/>
                  </a:lnTo>
                  <a:lnTo>
                    <a:pt x="198437" y="411389"/>
                  </a:lnTo>
                  <a:lnTo>
                    <a:pt x="193221" y="406400"/>
                  </a:lnTo>
                  <a:lnTo>
                    <a:pt x="188232" y="401184"/>
                  </a:lnTo>
                  <a:lnTo>
                    <a:pt x="183469" y="395741"/>
                  </a:lnTo>
                  <a:lnTo>
                    <a:pt x="179160" y="390298"/>
                  </a:lnTo>
                  <a:lnTo>
                    <a:pt x="174852" y="384402"/>
                  </a:lnTo>
                  <a:lnTo>
                    <a:pt x="170769" y="378052"/>
                  </a:lnTo>
                  <a:lnTo>
                    <a:pt x="167368" y="371929"/>
                  </a:lnTo>
                  <a:lnTo>
                    <a:pt x="164193" y="365352"/>
                  </a:lnTo>
                  <a:lnTo>
                    <a:pt x="160791" y="358548"/>
                  </a:lnTo>
                  <a:lnTo>
                    <a:pt x="158296" y="351972"/>
                  </a:lnTo>
                  <a:lnTo>
                    <a:pt x="155802" y="344714"/>
                  </a:lnTo>
                  <a:lnTo>
                    <a:pt x="153987" y="337684"/>
                  </a:lnTo>
                  <a:lnTo>
                    <a:pt x="152173" y="330200"/>
                  </a:lnTo>
                  <a:lnTo>
                    <a:pt x="150812" y="322943"/>
                  </a:lnTo>
                  <a:lnTo>
                    <a:pt x="149905" y="315232"/>
                  </a:lnTo>
                  <a:lnTo>
                    <a:pt x="149452" y="307748"/>
                  </a:lnTo>
                  <a:lnTo>
                    <a:pt x="149225" y="300038"/>
                  </a:lnTo>
                  <a:lnTo>
                    <a:pt x="149452" y="292100"/>
                  </a:lnTo>
                  <a:lnTo>
                    <a:pt x="149905" y="284616"/>
                  </a:lnTo>
                  <a:lnTo>
                    <a:pt x="150812" y="276905"/>
                  </a:lnTo>
                  <a:lnTo>
                    <a:pt x="152173" y="269648"/>
                  </a:lnTo>
                  <a:lnTo>
                    <a:pt x="153987" y="262164"/>
                  </a:lnTo>
                  <a:lnTo>
                    <a:pt x="155802" y="255134"/>
                  </a:lnTo>
                  <a:lnTo>
                    <a:pt x="158296" y="248330"/>
                  </a:lnTo>
                  <a:lnTo>
                    <a:pt x="160791" y="241300"/>
                  </a:lnTo>
                  <a:lnTo>
                    <a:pt x="164193" y="234496"/>
                  </a:lnTo>
                  <a:lnTo>
                    <a:pt x="167368" y="228146"/>
                  </a:lnTo>
                  <a:lnTo>
                    <a:pt x="170769" y="221796"/>
                  </a:lnTo>
                  <a:lnTo>
                    <a:pt x="174852" y="215673"/>
                  </a:lnTo>
                  <a:lnTo>
                    <a:pt x="179160" y="209777"/>
                  </a:lnTo>
                  <a:lnTo>
                    <a:pt x="183469" y="204107"/>
                  </a:lnTo>
                  <a:lnTo>
                    <a:pt x="188232" y="198664"/>
                  </a:lnTo>
                  <a:lnTo>
                    <a:pt x="193221" y="193448"/>
                  </a:lnTo>
                  <a:lnTo>
                    <a:pt x="198437" y="188459"/>
                  </a:lnTo>
                  <a:lnTo>
                    <a:pt x="204107" y="183696"/>
                  </a:lnTo>
                  <a:lnTo>
                    <a:pt x="209777" y="179161"/>
                  </a:lnTo>
                  <a:lnTo>
                    <a:pt x="215673" y="174852"/>
                  </a:lnTo>
                  <a:lnTo>
                    <a:pt x="221796" y="170996"/>
                  </a:lnTo>
                  <a:lnTo>
                    <a:pt x="227919" y="167368"/>
                  </a:lnTo>
                  <a:lnTo>
                    <a:pt x="234723" y="163966"/>
                  </a:lnTo>
                  <a:lnTo>
                    <a:pt x="241073" y="161018"/>
                  </a:lnTo>
                  <a:lnTo>
                    <a:pt x="248104" y="158523"/>
                  </a:lnTo>
                  <a:lnTo>
                    <a:pt x="255134" y="156029"/>
                  </a:lnTo>
                  <a:lnTo>
                    <a:pt x="262391" y="153988"/>
                  </a:lnTo>
                  <a:lnTo>
                    <a:pt x="269648" y="152173"/>
                  </a:lnTo>
                  <a:lnTo>
                    <a:pt x="277132" y="151039"/>
                  </a:lnTo>
                  <a:lnTo>
                    <a:pt x="284616" y="150132"/>
                  </a:lnTo>
                  <a:lnTo>
                    <a:pt x="292327" y="149452"/>
                  </a:lnTo>
                  <a:lnTo>
                    <a:pt x="300038" y="149225"/>
                  </a:lnTo>
                  <a:lnTo>
                    <a:pt x="307748" y="149452"/>
                  </a:lnTo>
                  <a:lnTo>
                    <a:pt x="315459" y="150132"/>
                  </a:lnTo>
                  <a:lnTo>
                    <a:pt x="322943" y="151039"/>
                  </a:lnTo>
                  <a:lnTo>
                    <a:pt x="330427" y="152173"/>
                  </a:lnTo>
                  <a:lnTo>
                    <a:pt x="337684" y="153988"/>
                  </a:lnTo>
                  <a:lnTo>
                    <a:pt x="344941" y="156029"/>
                  </a:lnTo>
                  <a:lnTo>
                    <a:pt x="351745" y="158523"/>
                  </a:lnTo>
                  <a:lnTo>
                    <a:pt x="358548" y="161018"/>
                  </a:lnTo>
                  <a:lnTo>
                    <a:pt x="365352" y="163966"/>
                  </a:lnTo>
                  <a:lnTo>
                    <a:pt x="371702" y="167368"/>
                  </a:lnTo>
                  <a:lnTo>
                    <a:pt x="378052" y="170996"/>
                  </a:lnTo>
                  <a:lnTo>
                    <a:pt x="384175" y="174852"/>
                  </a:lnTo>
                  <a:lnTo>
                    <a:pt x="390298" y="179161"/>
                  </a:lnTo>
                  <a:lnTo>
                    <a:pt x="395741" y="183696"/>
                  </a:lnTo>
                  <a:lnTo>
                    <a:pt x="401184" y="188459"/>
                  </a:lnTo>
                  <a:lnTo>
                    <a:pt x="406400" y="193448"/>
                  </a:lnTo>
                  <a:lnTo>
                    <a:pt x="411390" y="198664"/>
                  </a:lnTo>
                  <a:lnTo>
                    <a:pt x="416152" y="204107"/>
                  </a:lnTo>
                  <a:lnTo>
                    <a:pt x="420688" y="209777"/>
                  </a:lnTo>
                  <a:lnTo>
                    <a:pt x="424770" y="215673"/>
                  </a:lnTo>
                  <a:lnTo>
                    <a:pt x="428852" y="221796"/>
                  </a:lnTo>
                  <a:lnTo>
                    <a:pt x="432481" y="228146"/>
                  </a:lnTo>
                  <a:lnTo>
                    <a:pt x="435882" y="234496"/>
                  </a:lnTo>
                  <a:lnTo>
                    <a:pt x="438831" y="241300"/>
                  </a:lnTo>
                  <a:lnTo>
                    <a:pt x="441552" y="248330"/>
                  </a:lnTo>
                  <a:lnTo>
                    <a:pt x="443820" y="255134"/>
                  </a:lnTo>
                  <a:lnTo>
                    <a:pt x="445861" y="262164"/>
                  </a:lnTo>
                  <a:lnTo>
                    <a:pt x="447448" y="269648"/>
                  </a:lnTo>
                  <a:lnTo>
                    <a:pt x="449036" y="276905"/>
                  </a:lnTo>
                  <a:lnTo>
                    <a:pt x="449716" y="284616"/>
                  </a:lnTo>
                  <a:lnTo>
                    <a:pt x="450623" y="292100"/>
                  </a:lnTo>
                  <a:lnTo>
                    <a:pt x="450850" y="300038"/>
                  </a:lnTo>
                  <a:lnTo>
                    <a:pt x="450623" y="307748"/>
                  </a:lnTo>
                  <a:lnTo>
                    <a:pt x="449716" y="315232"/>
                  </a:lnTo>
                  <a:lnTo>
                    <a:pt x="449036" y="322943"/>
                  </a:lnTo>
                  <a:lnTo>
                    <a:pt x="447448" y="330200"/>
                  </a:lnTo>
                  <a:lnTo>
                    <a:pt x="445861" y="337684"/>
                  </a:lnTo>
                  <a:lnTo>
                    <a:pt x="443820" y="344714"/>
                  </a:lnTo>
                  <a:lnTo>
                    <a:pt x="441552" y="351972"/>
                  </a:lnTo>
                  <a:lnTo>
                    <a:pt x="438831" y="358548"/>
                  </a:lnTo>
                  <a:lnTo>
                    <a:pt x="435882" y="365352"/>
                  </a:lnTo>
                  <a:lnTo>
                    <a:pt x="432481" y="371929"/>
                  </a:lnTo>
                  <a:lnTo>
                    <a:pt x="428852" y="378052"/>
                  </a:lnTo>
                  <a:lnTo>
                    <a:pt x="424770" y="384402"/>
                  </a:lnTo>
                  <a:lnTo>
                    <a:pt x="420688" y="390298"/>
                  </a:lnTo>
                  <a:lnTo>
                    <a:pt x="416152" y="395741"/>
                  </a:lnTo>
                  <a:lnTo>
                    <a:pt x="411390" y="401184"/>
                  </a:lnTo>
                  <a:lnTo>
                    <a:pt x="406400" y="406400"/>
                  </a:lnTo>
                  <a:lnTo>
                    <a:pt x="401184" y="411389"/>
                  </a:lnTo>
                  <a:lnTo>
                    <a:pt x="395741" y="416152"/>
                  </a:lnTo>
                  <a:lnTo>
                    <a:pt x="390298" y="420688"/>
                  </a:lnTo>
                  <a:lnTo>
                    <a:pt x="384175" y="424996"/>
                  </a:lnTo>
                  <a:lnTo>
                    <a:pt x="378052" y="428852"/>
                  </a:lnTo>
                  <a:lnTo>
                    <a:pt x="371702" y="432707"/>
                  </a:lnTo>
                  <a:lnTo>
                    <a:pt x="365352" y="435882"/>
                  </a:lnTo>
                  <a:lnTo>
                    <a:pt x="358548" y="438830"/>
                  </a:lnTo>
                  <a:lnTo>
                    <a:pt x="355958" y="439867"/>
                  </a:lnTo>
                  <a:lnTo>
                    <a:pt x="355958" y="566203"/>
                  </a:lnTo>
                  <a:lnTo>
                    <a:pt x="361497" y="564910"/>
                  </a:lnTo>
                  <a:lnTo>
                    <a:pt x="368073" y="563322"/>
                  </a:lnTo>
                  <a:lnTo>
                    <a:pt x="374423" y="561507"/>
                  </a:lnTo>
                  <a:lnTo>
                    <a:pt x="381000" y="559692"/>
                  </a:lnTo>
                  <a:lnTo>
                    <a:pt x="386985" y="557475"/>
                  </a:lnTo>
                  <a:lnTo>
                    <a:pt x="388361" y="553956"/>
                  </a:lnTo>
                  <a:lnTo>
                    <a:pt x="390627" y="548968"/>
                  </a:lnTo>
                  <a:lnTo>
                    <a:pt x="393572" y="544207"/>
                  </a:lnTo>
                  <a:lnTo>
                    <a:pt x="396971" y="539672"/>
                  </a:lnTo>
                  <a:lnTo>
                    <a:pt x="400370" y="535818"/>
                  </a:lnTo>
                  <a:lnTo>
                    <a:pt x="404675" y="532417"/>
                  </a:lnTo>
                  <a:lnTo>
                    <a:pt x="408754" y="529016"/>
                  </a:lnTo>
                  <a:lnTo>
                    <a:pt x="413513" y="526069"/>
                  </a:lnTo>
                  <a:lnTo>
                    <a:pt x="418498" y="523802"/>
                  </a:lnTo>
                  <a:lnTo>
                    <a:pt x="423483" y="521761"/>
                  </a:lnTo>
                  <a:lnTo>
                    <a:pt x="428921" y="520401"/>
                  </a:lnTo>
                  <a:lnTo>
                    <a:pt x="434813" y="519494"/>
                  </a:lnTo>
                  <a:lnTo>
                    <a:pt x="440477" y="519267"/>
                  </a:lnTo>
                  <a:lnTo>
                    <a:pt x="446142" y="519494"/>
                  </a:lnTo>
                  <a:lnTo>
                    <a:pt x="451807" y="520401"/>
                  </a:lnTo>
                  <a:lnTo>
                    <a:pt x="457079" y="521667"/>
                  </a:lnTo>
                  <a:lnTo>
                    <a:pt x="457200" y="521578"/>
                  </a:lnTo>
                  <a:lnTo>
                    <a:pt x="462643" y="517948"/>
                  </a:lnTo>
                  <a:lnTo>
                    <a:pt x="467632" y="513864"/>
                  </a:lnTo>
                  <a:lnTo>
                    <a:pt x="472848" y="509780"/>
                  </a:lnTo>
                  <a:lnTo>
                    <a:pt x="477838" y="505697"/>
                  </a:lnTo>
                  <a:lnTo>
                    <a:pt x="482600" y="501159"/>
                  </a:lnTo>
                  <a:lnTo>
                    <a:pt x="487363" y="496622"/>
                  </a:lnTo>
                  <a:lnTo>
                    <a:pt x="492125" y="492084"/>
                  </a:lnTo>
                  <a:lnTo>
                    <a:pt x="496661" y="487547"/>
                  </a:lnTo>
                  <a:lnTo>
                    <a:pt x="501197" y="482783"/>
                  </a:lnTo>
                  <a:lnTo>
                    <a:pt x="505506" y="478018"/>
                  </a:lnTo>
                  <a:lnTo>
                    <a:pt x="509815" y="473027"/>
                  </a:lnTo>
                  <a:lnTo>
                    <a:pt x="513897" y="467809"/>
                  </a:lnTo>
                  <a:lnTo>
                    <a:pt x="517752" y="462591"/>
                  </a:lnTo>
                  <a:lnTo>
                    <a:pt x="521607" y="457373"/>
                  </a:lnTo>
                  <a:lnTo>
                    <a:pt x="525236" y="452155"/>
                  </a:lnTo>
                  <a:lnTo>
                    <a:pt x="529091" y="446483"/>
                  </a:lnTo>
                  <a:lnTo>
                    <a:pt x="532493" y="440811"/>
                  </a:lnTo>
                  <a:lnTo>
                    <a:pt x="535668" y="435366"/>
                  </a:lnTo>
                  <a:lnTo>
                    <a:pt x="539070" y="429695"/>
                  </a:lnTo>
                  <a:lnTo>
                    <a:pt x="542018" y="423569"/>
                  </a:lnTo>
                  <a:lnTo>
                    <a:pt x="544966" y="417897"/>
                  </a:lnTo>
                  <a:lnTo>
                    <a:pt x="547688" y="411999"/>
                  </a:lnTo>
                  <a:lnTo>
                    <a:pt x="550409" y="405646"/>
                  </a:lnTo>
                  <a:lnTo>
                    <a:pt x="552904" y="399748"/>
                  </a:lnTo>
                  <a:lnTo>
                    <a:pt x="555398" y="393395"/>
                  </a:lnTo>
                  <a:lnTo>
                    <a:pt x="557666" y="387270"/>
                  </a:lnTo>
                  <a:lnTo>
                    <a:pt x="559707" y="380690"/>
                  </a:lnTo>
                  <a:lnTo>
                    <a:pt x="561522" y="374565"/>
                  </a:lnTo>
                  <a:lnTo>
                    <a:pt x="563336" y="367986"/>
                  </a:lnTo>
                  <a:lnTo>
                    <a:pt x="564923" y="361179"/>
                  </a:lnTo>
                  <a:lnTo>
                    <a:pt x="566511" y="354827"/>
                  </a:lnTo>
                  <a:lnTo>
                    <a:pt x="567645" y="348021"/>
                  </a:lnTo>
                  <a:lnTo>
                    <a:pt x="568779" y="341442"/>
                  </a:lnTo>
                  <a:lnTo>
                    <a:pt x="569686" y="334635"/>
                  </a:lnTo>
                  <a:lnTo>
                    <a:pt x="570366" y="327829"/>
                  </a:lnTo>
                  <a:lnTo>
                    <a:pt x="571273" y="320796"/>
                  </a:lnTo>
                  <a:lnTo>
                    <a:pt x="571500" y="314217"/>
                  </a:lnTo>
                  <a:lnTo>
                    <a:pt x="571954" y="307184"/>
                  </a:lnTo>
                  <a:lnTo>
                    <a:pt x="571954" y="300151"/>
                  </a:lnTo>
                  <a:lnTo>
                    <a:pt x="571954" y="292891"/>
                  </a:lnTo>
                  <a:lnTo>
                    <a:pt x="571500" y="286312"/>
                  </a:lnTo>
                  <a:lnTo>
                    <a:pt x="571273" y="279279"/>
                  </a:lnTo>
                  <a:lnTo>
                    <a:pt x="570366" y="272246"/>
                  </a:lnTo>
                  <a:lnTo>
                    <a:pt x="569686" y="265440"/>
                  </a:lnTo>
                  <a:lnTo>
                    <a:pt x="568779" y="258860"/>
                  </a:lnTo>
                  <a:lnTo>
                    <a:pt x="567645" y="252054"/>
                  </a:lnTo>
                  <a:lnTo>
                    <a:pt x="566511" y="245248"/>
                  </a:lnTo>
                  <a:lnTo>
                    <a:pt x="564923" y="238896"/>
                  </a:lnTo>
                  <a:lnTo>
                    <a:pt x="563336" y="232090"/>
                  </a:lnTo>
                  <a:lnTo>
                    <a:pt x="561522" y="225737"/>
                  </a:lnTo>
                  <a:lnTo>
                    <a:pt x="559707" y="219385"/>
                  </a:lnTo>
                  <a:lnTo>
                    <a:pt x="557666" y="212805"/>
                  </a:lnTo>
                  <a:lnTo>
                    <a:pt x="555398" y="206680"/>
                  </a:lnTo>
                  <a:lnTo>
                    <a:pt x="552904" y="200554"/>
                  </a:lnTo>
                  <a:lnTo>
                    <a:pt x="550409" y="194429"/>
                  </a:lnTo>
                  <a:lnTo>
                    <a:pt x="547688" y="188303"/>
                  </a:lnTo>
                  <a:lnTo>
                    <a:pt x="544966" y="182178"/>
                  </a:lnTo>
                  <a:lnTo>
                    <a:pt x="542018" y="176506"/>
                  </a:lnTo>
                  <a:lnTo>
                    <a:pt x="539070" y="170607"/>
                  </a:lnTo>
                  <a:lnTo>
                    <a:pt x="535668" y="164709"/>
                  </a:lnTo>
                  <a:lnTo>
                    <a:pt x="532493" y="159264"/>
                  </a:lnTo>
                  <a:lnTo>
                    <a:pt x="529091" y="153592"/>
                  </a:lnTo>
                  <a:lnTo>
                    <a:pt x="525236" y="148147"/>
                  </a:lnTo>
                  <a:lnTo>
                    <a:pt x="521607" y="142929"/>
                  </a:lnTo>
                  <a:lnTo>
                    <a:pt x="517752" y="137711"/>
                  </a:lnTo>
                  <a:lnTo>
                    <a:pt x="513897" y="132266"/>
                  </a:lnTo>
                  <a:lnTo>
                    <a:pt x="509815" y="127048"/>
                  </a:lnTo>
                  <a:lnTo>
                    <a:pt x="505506" y="122057"/>
                  </a:lnTo>
                  <a:lnTo>
                    <a:pt x="501197" y="117519"/>
                  </a:lnTo>
                  <a:lnTo>
                    <a:pt x="496661" y="112755"/>
                  </a:lnTo>
                  <a:lnTo>
                    <a:pt x="492125" y="107991"/>
                  </a:lnTo>
                  <a:lnTo>
                    <a:pt x="487363" y="103453"/>
                  </a:lnTo>
                  <a:lnTo>
                    <a:pt x="482600" y="98916"/>
                  </a:lnTo>
                  <a:lnTo>
                    <a:pt x="477838" y="94832"/>
                  </a:lnTo>
                  <a:lnTo>
                    <a:pt x="472848" y="90522"/>
                  </a:lnTo>
                  <a:lnTo>
                    <a:pt x="467632" y="86211"/>
                  </a:lnTo>
                  <a:lnTo>
                    <a:pt x="462643" y="82354"/>
                  </a:lnTo>
                  <a:lnTo>
                    <a:pt x="457200" y="78498"/>
                  </a:lnTo>
                  <a:lnTo>
                    <a:pt x="451984" y="74868"/>
                  </a:lnTo>
                  <a:lnTo>
                    <a:pt x="446541" y="71011"/>
                  </a:lnTo>
                  <a:lnTo>
                    <a:pt x="441098" y="67608"/>
                  </a:lnTo>
                  <a:lnTo>
                    <a:pt x="435202" y="64205"/>
                  </a:lnTo>
                  <a:lnTo>
                    <a:pt x="429532" y="61028"/>
                  </a:lnTo>
                  <a:lnTo>
                    <a:pt x="423863" y="58079"/>
                  </a:lnTo>
                  <a:lnTo>
                    <a:pt x="417966" y="55130"/>
                  </a:lnTo>
                  <a:lnTo>
                    <a:pt x="411843" y="52407"/>
                  </a:lnTo>
                  <a:lnTo>
                    <a:pt x="405947" y="49685"/>
                  </a:lnTo>
                  <a:lnTo>
                    <a:pt x="399597" y="47189"/>
                  </a:lnTo>
                  <a:lnTo>
                    <a:pt x="393473" y="44921"/>
                  </a:lnTo>
                  <a:lnTo>
                    <a:pt x="387123" y="42652"/>
                  </a:lnTo>
                  <a:lnTo>
                    <a:pt x="381000" y="40383"/>
                  </a:lnTo>
                  <a:lnTo>
                    <a:pt x="374423" y="38568"/>
                  </a:lnTo>
                  <a:lnTo>
                    <a:pt x="368073" y="36980"/>
                  </a:lnTo>
                  <a:lnTo>
                    <a:pt x="361497" y="35165"/>
                  </a:lnTo>
                  <a:lnTo>
                    <a:pt x="354693" y="33804"/>
                  </a:lnTo>
                  <a:lnTo>
                    <a:pt x="348116" y="32443"/>
                  </a:lnTo>
                  <a:lnTo>
                    <a:pt x="341540" y="31308"/>
                  </a:lnTo>
                  <a:lnTo>
                    <a:pt x="334509" y="30401"/>
                  </a:lnTo>
                  <a:lnTo>
                    <a:pt x="327932" y="29720"/>
                  </a:lnTo>
                  <a:lnTo>
                    <a:pt x="320902" y="29040"/>
                  </a:lnTo>
                  <a:lnTo>
                    <a:pt x="314098" y="28586"/>
                  </a:lnTo>
                  <a:lnTo>
                    <a:pt x="307295" y="28359"/>
                  </a:lnTo>
                  <a:lnTo>
                    <a:pt x="300265" y="28132"/>
                  </a:lnTo>
                  <a:close/>
                  <a:moveTo>
                    <a:pt x="300265" y="0"/>
                  </a:moveTo>
                  <a:lnTo>
                    <a:pt x="307975" y="227"/>
                  </a:lnTo>
                  <a:lnTo>
                    <a:pt x="315686" y="454"/>
                  </a:lnTo>
                  <a:lnTo>
                    <a:pt x="323170" y="907"/>
                  </a:lnTo>
                  <a:lnTo>
                    <a:pt x="330881" y="1361"/>
                  </a:lnTo>
                  <a:lnTo>
                    <a:pt x="338365" y="2496"/>
                  </a:lnTo>
                  <a:lnTo>
                    <a:pt x="345848" y="3403"/>
                  </a:lnTo>
                  <a:lnTo>
                    <a:pt x="353332" y="4764"/>
                  </a:lnTo>
                  <a:lnTo>
                    <a:pt x="360590" y="6126"/>
                  </a:lnTo>
                  <a:lnTo>
                    <a:pt x="368073" y="7714"/>
                  </a:lnTo>
                  <a:lnTo>
                    <a:pt x="375331" y="9529"/>
                  </a:lnTo>
                  <a:lnTo>
                    <a:pt x="382134" y="11344"/>
                  </a:lnTo>
                  <a:lnTo>
                    <a:pt x="389391" y="13385"/>
                  </a:lnTo>
                  <a:lnTo>
                    <a:pt x="396422" y="15654"/>
                  </a:lnTo>
                  <a:lnTo>
                    <a:pt x="403452" y="18150"/>
                  </a:lnTo>
                  <a:lnTo>
                    <a:pt x="410029" y="20872"/>
                  </a:lnTo>
                  <a:lnTo>
                    <a:pt x="416832" y="23595"/>
                  </a:lnTo>
                  <a:lnTo>
                    <a:pt x="423636" y="26317"/>
                  </a:lnTo>
                  <a:lnTo>
                    <a:pt x="430213" y="29720"/>
                  </a:lnTo>
                  <a:lnTo>
                    <a:pt x="436790" y="32896"/>
                  </a:lnTo>
                  <a:lnTo>
                    <a:pt x="443140" y="36073"/>
                  </a:lnTo>
                  <a:lnTo>
                    <a:pt x="449490" y="39929"/>
                  </a:lnTo>
                  <a:lnTo>
                    <a:pt x="455840" y="43332"/>
                  </a:lnTo>
                  <a:lnTo>
                    <a:pt x="461736" y="47416"/>
                  </a:lnTo>
                  <a:lnTo>
                    <a:pt x="467859" y="51273"/>
                  </a:lnTo>
                  <a:lnTo>
                    <a:pt x="473756" y="55357"/>
                  </a:lnTo>
                  <a:lnTo>
                    <a:pt x="479652" y="59667"/>
                  </a:lnTo>
                  <a:lnTo>
                    <a:pt x="485322" y="63978"/>
                  </a:lnTo>
                  <a:lnTo>
                    <a:pt x="490991" y="68515"/>
                  </a:lnTo>
                  <a:lnTo>
                    <a:pt x="496434" y="73279"/>
                  </a:lnTo>
                  <a:lnTo>
                    <a:pt x="501877" y="78044"/>
                  </a:lnTo>
                  <a:lnTo>
                    <a:pt x="507093" y="82808"/>
                  </a:lnTo>
                  <a:lnTo>
                    <a:pt x="512309" y="88026"/>
                  </a:lnTo>
                  <a:lnTo>
                    <a:pt x="517298" y="93017"/>
                  </a:lnTo>
                  <a:lnTo>
                    <a:pt x="522288" y="98235"/>
                  </a:lnTo>
                  <a:lnTo>
                    <a:pt x="527050" y="103680"/>
                  </a:lnTo>
                  <a:lnTo>
                    <a:pt x="531586" y="109125"/>
                  </a:lnTo>
                  <a:lnTo>
                    <a:pt x="536348" y="115024"/>
                  </a:lnTo>
                  <a:lnTo>
                    <a:pt x="540431" y="120696"/>
                  </a:lnTo>
                  <a:lnTo>
                    <a:pt x="544740" y="126367"/>
                  </a:lnTo>
                  <a:lnTo>
                    <a:pt x="549048" y="132266"/>
                  </a:lnTo>
                  <a:lnTo>
                    <a:pt x="552904" y="138392"/>
                  </a:lnTo>
                  <a:lnTo>
                    <a:pt x="556759" y="144517"/>
                  </a:lnTo>
                  <a:lnTo>
                    <a:pt x="560388" y="150870"/>
                  </a:lnTo>
                  <a:lnTo>
                    <a:pt x="564016" y="156995"/>
                  </a:lnTo>
                  <a:lnTo>
                    <a:pt x="567418" y="163574"/>
                  </a:lnTo>
                  <a:lnTo>
                    <a:pt x="570593" y="169927"/>
                  </a:lnTo>
                  <a:lnTo>
                    <a:pt x="573541" y="176506"/>
                  </a:lnTo>
                  <a:lnTo>
                    <a:pt x="576716" y="183312"/>
                  </a:lnTo>
                  <a:lnTo>
                    <a:pt x="579438" y="189891"/>
                  </a:lnTo>
                  <a:lnTo>
                    <a:pt x="581932" y="196924"/>
                  </a:lnTo>
                  <a:lnTo>
                    <a:pt x="584427" y="203957"/>
                  </a:lnTo>
                  <a:lnTo>
                    <a:pt x="586695" y="210990"/>
                  </a:lnTo>
                  <a:lnTo>
                    <a:pt x="588963" y="217797"/>
                  </a:lnTo>
                  <a:lnTo>
                    <a:pt x="590550" y="225056"/>
                  </a:lnTo>
                  <a:lnTo>
                    <a:pt x="592365" y="232316"/>
                  </a:lnTo>
                  <a:lnTo>
                    <a:pt x="594179" y="239576"/>
                  </a:lnTo>
                  <a:lnTo>
                    <a:pt x="595313" y="247063"/>
                  </a:lnTo>
                  <a:lnTo>
                    <a:pt x="596673" y="254323"/>
                  </a:lnTo>
                  <a:lnTo>
                    <a:pt x="597807" y="261810"/>
                  </a:lnTo>
                  <a:lnTo>
                    <a:pt x="598488" y="269523"/>
                  </a:lnTo>
                  <a:lnTo>
                    <a:pt x="599395" y="277010"/>
                  </a:lnTo>
                  <a:lnTo>
                    <a:pt x="599848" y="284724"/>
                  </a:lnTo>
                  <a:lnTo>
                    <a:pt x="600075" y="292437"/>
                  </a:lnTo>
                  <a:lnTo>
                    <a:pt x="600075" y="300151"/>
                  </a:lnTo>
                  <a:lnTo>
                    <a:pt x="600075" y="307865"/>
                  </a:lnTo>
                  <a:lnTo>
                    <a:pt x="599848" y="315351"/>
                  </a:lnTo>
                  <a:lnTo>
                    <a:pt x="599395" y="323065"/>
                  </a:lnTo>
                  <a:lnTo>
                    <a:pt x="598488" y="330779"/>
                  </a:lnTo>
                  <a:lnTo>
                    <a:pt x="597807" y="338265"/>
                  </a:lnTo>
                  <a:lnTo>
                    <a:pt x="596673" y="345752"/>
                  </a:lnTo>
                  <a:lnTo>
                    <a:pt x="595313" y="353239"/>
                  </a:lnTo>
                  <a:lnTo>
                    <a:pt x="594179" y="360499"/>
                  </a:lnTo>
                  <a:lnTo>
                    <a:pt x="592365" y="367759"/>
                  </a:lnTo>
                  <a:lnTo>
                    <a:pt x="590550" y="375019"/>
                  </a:lnTo>
                  <a:lnTo>
                    <a:pt x="588963" y="382278"/>
                  </a:lnTo>
                  <a:lnTo>
                    <a:pt x="586695" y="389311"/>
                  </a:lnTo>
                  <a:lnTo>
                    <a:pt x="584427" y="396344"/>
                  </a:lnTo>
                  <a:lnTo>
                    <a:pt x="581932" y="403151"/>
                  </a:lnTo>
                  <a:lnTo>
                    <a:pt x="579438" y="410184"/>
                  </a:lnTo>
                  <a:lnTo>
                    <a:pt x="576716" y="416990"/>
                  </a:lnTo>
                  <a:lnTo>
                    <a:pt x="573541" y="423569"/>
                  </a:lnTo>
                  <a:lnTo>
                    <a:pt x="570593" y="430148"/>
                  </a:lnTo>
                  <a:lnTo>
                    <a:pt x="567418" y="436501"/>
                  </a:lnTo>
                  <a:lnTo>
                    <a:pt x="564016" y="443080"/>
                  </a:lnTo>
                  <a:lnTo>
                    <a:pt x="560388" y="449659"/>
                  </a:lnTo>
                  <a:lnTo>
                    <a:pt x="556759" y="455785"/>
                  </a:lnTo>
                  <a:lnTo>
                    <a:pt x="552904" y="461683"/>
                  </a:lnTo>
                  <a:lnTo>
                    <a:pt x="549048" y="467809"/>
                  </a:lnTo>
                  <a:lnTo>
                    <a:pt x="544740" y="473708"/>
                  </a:lnTo>
                  <a:lnTo>
                    <a:pt x="540431" y="479833"/>
                  </a:lnTo>
                  <a:lnTo>
                    <a:pt x="536348" y="485505"/>
                  </a:lnTo>
                  <a:lnTo>
                    <a:pt x="531586" y="490950"/>
                  </a:lnTo>
                  <a:lnTo>
                    <a:pt x="527050" y="496395"/>
                  </a:lnTo>
                  <a:lnTo>
                    <a:pt x="522288" y="501840"/>
                  </a:lnTo>
                  <a:lnTo>
                    <a:pt x="517298" y="507058"/>
                  </a:lnTo>
                  <a:lnTo>
                    <a:pt x="512309" y="512049"/>
                  </a:lnTo>
                  <a:lnTo>
                    <a:pt x="507093" y="517267"/>
                  </a:lnTo>
                  <a:lnTo>
                    <a:pt x="501877" y="522031"/>
                  </a:lnTo>
                  <a:lnTo>
                    <a:pt x="496434" y="527022"/>
                  </a:lnTo>
                  <a:lnTo>
                    <a:pt x="490991" y="531560"/>
                  </a:lnTo>
                  <a:lnTo>
                    <a:pt x="485322" y="536097"/>
                  </a:lnTo>
                  <a:lnTo>
                    <a:pt x="482689" y="538204"/>
                  </a:lnTo>
                  <a:lnTo>
                    <a:pt x="483983" y="539672"/>
                  </a:lnTo>
                  <a:lnTo>
                    <a:pt x="487609" y="544207"/>
                  </a:lnTo>
                  <a:lnTo>
                    <a:pt x="490328" y="548968"/>
                  </a:lnTo>
                  <a:lnTo>
                    <a:pt x="492821" y="553956"/>
                  </a:lnTo>
                  <a:lnTo>
                    <a:pt x="494407" y="559171"/>
                  </a:lnTo>
                  <a:lnTo>
                    <a:pt x="495993" y="564385"/>
                  </a:lnTo>
                  <a:lnTo>
                    <a:pt x="496673" y="570280"/>
                  </a:lnTo>
                  <a:lnTo>
                    <a:pt x="496899" y="575948"/>
                  </a:lnTo>
                  <a:lnTo>
                    <a:pt x="496899" y="698378"/>
                  </a:lnTo>
                  <a:lnTo>
                    <a:pt x="524770" y="698378"/>
                  </a:lnTo>
                  <a:lnTo>
                    <a:pt x="524770" y="575948"/>
                  </a:lnTo>
                  <a:lnTo>
                    <a:pt x="525224" y="570280"/>
                  </a:lnTo>
                  <a:lnTo>
                    <a:pt x="525903" y="564385"/>
                  </a:lnTo>
                  <a:lnTo>
                    <a:pt x="527263" y="559171"/>
                  </a:lnTo>
                  <a:lnTo>
                    <a:pt x="529302" y="553956"/>
                  </a:lnTo>
                  <a:lnTo>
                    <a:pt x="531568" y="548968"/>
                  </a:lnTo>
                  <a:lnTo>
                    <a:pt x="534514" y="544207"/>
                  </a:lnTo>
                  <a:lnTo>
                    <a:pt x="537913" y="539672"/>
                  </a:lnTo>
                  <a:lnTo>
                    <a:pt x="541312" y="535818"/>
                  </a:lnTo>
                  <a:lnTo>
                    <a:pt x="545617" y="532417"/>
                  </a:lnTo>
                  <a:lnTo>
                    <a:pt x="549696" y="529016"/>
                  </a:lnTo>
                  <a:lnTo>
                    <a:pt x="554454" y="526069"/>
                  </a:lnTo>
                  <a:lnTo>
                    <a:pt x="559439" y="523802"/>
                  </a:lnTo>
                  <a:lnTo>
                    <a:pt x="564424" y="521761"/>
                  </a:lnTo>
                  <a:lnTo>
                    <a:pt x="569863" y="520401"/>
                  </a:lnTo>
                  <a:lnTo>
                    <a:pt x="575754" y="519494"/>
                  </a:lnTo>
                  <a:lnTo>
                    <a:pt x="581419" y="519267"/>
                  </a:lnTo>
                  <a:lnTo>
                    <a:pt x="587084" y="519494"/>
                  </a:lnTo>
                  <a:lnTo>
                    <a:pt x="592975" y="520401"/>
                  </a:lnTo>
                  <a:lnTo>
                    <a:pt x="598413" y="521761"/>
                  </a:lnTo>
                  <a:lnTo>
                    <a:pt x="603399" y="523802"/>
                  </a:lnTo>
                  <a:lnTo>
                    <a:pt x="608384" y="526069"/>
                  </a:lnTo>
                  <a:lnTo>
                    <a:pt x="613142" y="529016"/>
                  </a:lnTo>
                  <a:lnTo>
                    <a:pt x="617221" y="532417"/>
                  </a:lnTo>
                  <a:lnTo>
                    <a:pt x="621526" y="535818"/>
                  </a:lnTo>
                  <a:lnTo>
                    <a:pt x="624925" y="539672"/>
                  </a:lnTo>
                  <a:lnTo>
                    <a:pt x="628324" y="544207"/>
                  </a:lnTo>
                  <a:lnTo>
                    <a:pt x="631270" y="548968"/>
                  </a:lnTo>
                  <a:lnTo>
                    <a:pt x="633536" y="553956"/>
                  </a:lnTo>
                  <a:lnTo>
                    <a:pt x="635348" y="559171"/>
                  </a:lnTo>
                  <a:lnTo>
                    <a:pt x="636934" y="564385"/>
                  </a:lnTo>
                  <a:lnTo>
                    <a:pt x="637614" y="570280"/>
                  </a:lnTo>
                  <a:lnTo>
                    <a:pt x="637841" y="575948"/>
                  </a:lnTo>
                  <a:lnTo>
                    <a:pt x="637841" y="698378"/>
                  </a:lnTo>
                  <a:lnTo>
                    <a:pt x="665939" y="698378"/>
                  </a:lnTo>
                  <a:lnTo>
                    <a:pt x="665939" y="575948"/>
                  </a:lnTo>
                  <a:lnTo>
                    <a:pt x="666165" y="570280"/>
                  </a:lnTo>
                  <a:lnTo>
                    <a:pt x="666845" y="564385"/>
                  </a:lnTo>
                  <a:lnTo>
                    <a:pt x="668431" y="559171"/>
                  </a:lnTo>
                  <a:lnTo>
                    <a:pt x="670244" y="553956"/>
                  </a:lnTo>
                  <a:lnTo>
                    <a:pt x="672510" y="548968"/>
                  </a:lnTo>
                  <a:lnTo>
                    <a:pt x="675456" y="544207"/>
                  </a:lnTo>
                  <a:lnTo>
                    <a:pt x="678854" y="539672"/>
                  </a:lnTo>
                  <a:lnTo>
                    <a:pt x="682253" y="535818"/>
                  </a:lnTo>
                  <a:lnTo>
                    <a:pt x="686332" y="532417"/>
                  </a:lnTo>
                  <a:lnTo>
                    <a:pt x="690637" y="529016"/>
                  </a:lnTo>
                  <a:lnTo>
                    <a:pt x="695396" y="526069"/>
                  </a:lnTo>
                  <a:lnTo>
                    <a:pt x="700381" y="523802"/>
                  </a:lnTo>
                  <a:lnTo>
                    <a:pt x="705366" y="521761"/>
                  </a:lnTo>
                  <a:lnTo>
                    <a:pt x="711031" y="520401"/>
                  </a:lnTo>
                  <a:lnTo>
                    <a:pt x="716696" y="519494"/>
                  </a:lnTo>
                  <a:lnTo>
                    <a:pt x="722361" y="519267"/>
                  </a:lnTo>
                  <a:lnTo>
                    <a:pt x="728025" y="519494"/>
                  </a:lnTo>
                  <a:lnTo>
                    <a:pt x="733917" y="520401"/>
                  </a:lnTo>
                  <a:lnTo>
                    <a:pt x="739355" y="521761"/>
                  </a:lnTo>
                  <a:lnTo>
                    <a:pt x="744567" y="523802"/>
                  </a:lnTo>
                  <a:lnTo>
                    <a:pt x="749325" y="526069"/>
                  </a:lnTo>
                  <a:lnTo>
                    <a:pt x="754084" y="529016"/>
                  </a:lnTo>
                  <a:lnTo>
                    <a:pt x="758389" y="532417"/>
                  </a:lnTo>
                  <a:lnTo>
                    <a:pt x="762468" y="535818"/>
                  </a:lnTo>
                  <a:lnTo>
                    <a:pt x="766320" y="539672"/>
                  </a:lnTo>
                  <a:lnTo>
                    <a:pt x="769492" y="544207"/>
                  </a:lnTo>
                  <a:lnTo>
                    <a:pt x="772211" y="548968"/>
                  </a:lnTo>
                  <a:lnTo>
                    <a:pt x="774704" y="553956"/>
                  </a:lnTo>
                  <a:lnTo>
                    <a:pt x="776516" y="559171"/>
                  </a:lnTo>
                  <a:lnTo>
                    <a:pt x="777876" y="564385"/>
                  </a:lnTo>
                  <a:lnTo>
                    <a:pt x="778556" y="570280"/>
                  </a:lnTo>
                  <a:lnTo>
                    <a:pt x="779236" y="575948"/>
                  </a:lnTo>
                  <a:lnTo>
                    <a:pt x="779236" y="810606"/>
                  </a:lnTo>
                  <a:lnTo>
                    <a:pt x="779462" y="818768"/>
                  </a:lnTo>
                  <a:lnTo>
                    <a:pt x="779462" y="955709"/>
                  </a:lnTo>
                  <a:lnTo>
                    <a:pt x="779236" y="961830"/>
                  </a:lnTo>
                  <a:lnTo>
                    <a:pt x="779009" y="967952"/>
                  </a:lnTo>
                  <a:lnTo>
                    <a:pt x="778329" y="974073"/>
                  </a:lnTo>
                  <a:lnTo>
                    <a:pt x="777423" y="979741"/>
                  </a:lnTo>
                  <a:lnTo>
                    <a:pt x="776516" y="985863"/>
                  </a:lnTo>
                  <a:lnTo>
                    <a:pt x="775384" y="991531"/>
                  </a:lnTo>
                  <a:lnTo>
                    <a:pt x="774024" y="996972"/>
                  </a:lnTo>
                  <a:lnTo>
                    <a:pt x="772438" y="1002413"/>
                  </a:lnTo>
                  <a:lnTo>
                    <a:pt x="770625" y="1008082"/>
                  </a:lnTo>
                  <a:lnTo>
                    <a:pt x="768812" y="1013296"/>
                  </a:lnTo>
                  <a:lnTo>
                    <a:pt x="766546" y="1018284"/>
                  </a:lnTo>
                  <a:lnTo>
                    <a:pt x="764280" y="1023272"/>
                  </a:lnTo>
                  <a:lnTo>
                    <a:pt x="761788" y="1028033"/>
                  </a:lnTo>
                  <a:lnTo>
                    <a:pt x="759069" y="1032341"/>
                  </a:lnTo>
                  <a:lnTo>
                    <a:pt x="756350" y="1036875"/>
                  </a:lnTo>
                  <a:lnTo>
                    <a:pt x="753177" y="1040956"/>
                  </a:lnTo>
                  <a:lnTo>
                    <a:pt x="750232" y="1044811"/>
                  </a:lnTo>
                  <a:lnTo>
                    <a:pt x="747059" y="1048892"/>
                  </a:lnTo>
                  <a:lnTo>
                    <a:pt x="743887" y="1052292"/>
                  </a:lnTo>
                  <a:lnTo>
                    <a:pt x="740261" y="1055920"/>
                  </a:lnTo>
                  <a:lnTo>
                    <a:pt x="736636" y="1058867"/>
                  </a:lnTo>
                  <a:lnTo>
                    <a:pt x="732784" y="1061815"/>
                  </a:lnTo>
                  <a:lnTo>
                    <a:pt x="729158" y="1064536"/>
                  </a:lnTo>
                  <a:lnTo>
                    <a:pt x="725080" y="1066803"/>
                  </a:lnTo>
                  <a:lnTo>
                    <a:pt x="721228" y="1069070"/>
                  </a:lnTo>
                  <a:lnTo>
                    <a:pt x="717149" y="1071110"/>
                  </a:lnTo>
                  <a:lnTo>
                    <a:pt x="712844" y="1072471"/>
                  </a:lnTo>
                  <a:lnTo>
                    <a:pt x="708765" y="1074058"/>
                  </a:lnTo>
                  <a:lnTo>
                    <a:pt x="704233" y="1074965"/>
                  </a:lnTo>
                  <a:lnTo>
                    <a:pt x="699701" y="1075872"/>
                  </a:lnTo>
                  <a:lnTo>
                    <a:pt x="695169" y="1076325"/>
                  </a:lnTo>
                  <a:lnTo>
                    <a:pt x="690637" y="1076325"/>
                  </a:lnTo>
                  <a:lnTo>
                    <a:pt x="332392" y="1076325"/>
                  </a:lnTo>
                  <a:lnTo>
                    <a:pt x="327633" y="1076325"/>
                  </a:lnTo>
                  <a:lnTo>
                    <a:pt x="323102" y="1075872"/>
                  </a:lnTo>
                  <a:lnTo>
                    <a:pt x="318570" y="1074965"/>
                  </a:lnTo>
                  <a:lnTo>
                    <a:pt x="314491" y="1074058"/>
                  </a:lnTo>
                  <a:lnTo>
                    <a:pt x="309959" y="1072471"/>
                  </a:lnTo>
                  <a:lnTo>
                    <a:pt x="305880" y="1071110"/>
                  </a:lnTo>
                  <a:lnTo>
                    <a:pt x="301802" y="1069070"/>
                  </a:lnTo>
                  <a:lnTo>
                    <a:pt x="297723" y="1066803"/>
                  </a:lnTo>
                  <a:lnTo>
                    <a:pt x="293644" y="1064536"/>
                  </a:lnTo>
                  <a:lnTo>
                    <a:pt x="290019" y="1061815"/>
                  </a:lnTo>
                  <a:lnTo>
                    <a:pt x="286167" y="1058867"/>
                  </a:lnTo>
                  <a:lnTo>
                    <a:pt x="282541" y="1055920"/>
                  </a:lnTo>
                  <a:lnTo>
                    <a:pt x="279142" y="1052292"/>
                  </a:lnTo>
                  <a:lnTo>
                    <a:pt x="275743" y="1048892"/>
                  </a:lnTo>
                  <a:lnTo>
                    <a:pt x="272571" y="1044811"/>
                  </a:lnTo>
                  <a:lnTo>
                    <a:pt x="269625" y="1040956"/>
                  </a:lnTo>
                  <a:lnTo>
                    <a:pt x="266680" y="1036875"/>
                  </a:lnTo>
                  <a:lnTo>
                    <a:pt x="263961" y="1032341"/>
                  </a:lnTo>
                  <a:lnTo>
                    <a:pt x="261015" y="1028033"/>
                  </a:lnTo>
                  <a:lnTo>
                    <a:pt x="258522" y="1023272"/>
                  </a:lnTo>
                  <a:lnTo>
                    <a:pt x="256483" y="1018284"/>
                  </a:lnTo>
                  <a:lnTo>
                    <a:pt x="254217" y="1013296"/>
                  </a:lnTo>
                  <a:lnTo>
                    <a:pt x="252178" y="1008082"/>
                  </a:lnTo>
                  <a:lnTo>
                    <a:pt x="250365" y="1002413"/>
                  </a:lnTo>
                  <a:lnTo>
                    <a:pt x="249005" y="996972"/>
                  </a:lnTo>
                  <a:lnTo>
                    <a:pt x="247419" y="991531"/>
                  </a:lnTo>
                  <a:lnTo>
                    <a:pt x="246286" y="985863"/>
                  </a:lnTo>
                  <a:lnTo>
                    <a:pt x="245153" y="979741"/>
                  </a:lnTo>
                  <a:lnTo>
                    <a:pt x="244473" y="974073"/>
                  </a:lnTo>
                  <a:lnTo>
                    <a:pt x="244020" y="967952"/>
                  </a:lnTo>
                  <a:lnTo>
                    <a:pt x="243794" y="961830"/>
                  </a:lnTo>
                  <a:lnTo>
                    <a:pt x="243340" y="955709"/>
                  </a:lnTo>
                  <a:lnTo>
                    <a:pt x="243340" y="824890"/>
                  </a:lnTo>
                  <a:lnTo>
                    <a:pt x="243114" y="821942"/>
                  </a:lnTo>
                  <a:lnTo>
                    <a:pt x="242887" y="818541"/>
                  </a:lnTo>
                  <a:lnTo>
                    <a:pt x="242887" y="594658"/>
                  </a:lnTo>
                  <a:lnTo>
                    <a:pt x="239712" y="594176"/>
                  </a:lnTo>
                  <a:lnTo>
                    <a:pt x="232455" y="592361"/>
                  </a:lnTo>
                  <a:lnTo>
                    <a:pt x="225198" y="590773"/>
                  </a:lnTo>
                  <a:lnTo>
                    <a:pt x="217941" y="588731"/>
                  </a:lnTo>
                  <a:lnTo>
                    <a:pt x="210910" y="586690"/>
                  </a:lnTo>
                  <a:lnTo>
                    <a:pt x="203880" y="584421"/>
                  </a:lnTo>
                  <a:lnTo>
                    <a:pt x="197077" y="581925"/>
                  </a:lnTo>
                  <a:lnTo>
                    <a:pt x="190046" y="579430"/>
                  </a:lnTo>
                  <a:lnTo>
                    <a:pt x="183243" y="576480"/>
                  </a:lnTo>
                  <a:lnTo>
                    <a:pt x="176666" y="573758"/>
                  </a:lnTo>
                  <a:lnTo>
                    <a:pt x="170089" y="570582"/>
                  </a:lnTo>
                  <a:lnTo>
                    <a:pt x="163512" y="567179"/>
                  </a:lnTo>
                  <a:lnTo>
                    <a:pt x="157162" y="564002"/>
                  </a:lnTo>
                  <a:lnTo>
                    <a:pt x="150812" y="560599"/>
                  </a:lnTo>
                  <a:lnTo>
                    <a:pt x="144689" y="556743"/>
                  </a:lnTo>
                  <a:lnTo>
                    <a:pt x="138339" y="552886"/>
                  </a:lnTo>
                  <a:lnTo>
                    <a:pt x="132443" y="548802"/>
                  </a:lnTo>
                  <a:lnTo>
                    <a:pt x="126546" y="544718"/>
                  </a:lnTo>
                  <a:lnTo>
                    <a:pt x="120650" y="540635"/>
                  </a:lnTo>
                  <a:lnTo>
                    <a:pt x="114980" y="536097"/>
                  </a:lnTo>
                  <a:lnTo>
                    <a:pt x="109310" y="531560"/>
                  </a:lnTo>
                  <a:lnTo>
                    <a:pt x="103868" y="527022"/>
                  </a:lnTo>
                  <a:lnTo>
                    <a:pt x="98652" y="522031"/>
                  </a:lnTo>
                  <a:lnTo>
                    <a:pt x="92982" y="517267"/>
                  </a:lnTo>
                  <a:lnTo>
                    <a:pt x="87993" y="512049"/>
                  </a:lnTo>
                  <a:lnTo>
                    <a:pt x="83003" y="507058"/>
                  </a:lnTo>
                  <a:lnTo>
                    <a:pt x="78014" y="501840"/>
                  </a:lnTo>
                  <a:lnTo>
                    <a:pt x="73478" y="496395"/>
                  </a:lnTo>
                  <a:lnTo>
                    <a:pt x="68716" y="490950"/>
                  </a:lnTo>
                  <a:lnTo>
                    <a:pt x="64180" y="485505"/>
                  </a:lnTo>
                  <a:lnTo>
                    <a:pt x="59644" y="479833"/>
                  </a:lnTo>
                  <a:lnTo>
                    <a:pt x="55336" y="473708"/>
                  </a:lnTo>
                  <a:lnTo>
                    <a:pt x="51480" y="467809"/>
                  </a:lnTo>
                  <a:lnTo>
                    <a:pt x="47398" y="461683"/>
                  </a:lnTo>
                  <a:lnTo>
                    <a:pt x="43543" y="455785"/>
                  </a:lnTo>
                  <a:lnTo>
                    <a:pt x="39914" y="449659"/>
                  </a:lnTo>
                  <a:lnTo>
                    <a:pt x="36512" y="443080"/>
                  </a:lnTo>
                  <a:lnTo>
                    <a:pt x="32884" y="436501"/>
                  </a:lnTo>
                  <a:lnTo>
                    <a:pt x="29709" y="430148"/>
                  </a:lnTo>
                  <a:lnTo>
                    <a:pt x="26761" y="423569"/>
                  </a:lnTo>
                  <a:lnTo>
                    <a:pt x="23812" y="416990"/>
                  </a:lnTo>
                  <a:lnTo>
                    <a:pt x="21091" y="410184"/>
                  </a:lnTo>
                  <a:lnTo>
                    <a:pt x="18370" y="403151"/>
                  </a:lnTo>
                  <a:lnTo>
                    <a:pt x="15875" y="396344"/>
                  </a:lnTo>
                  <a:lnTo>
                    <a:pt x="13607" y="389311"/>
                  </a:lnTo>
                  <a:lnTo>
                    <a:pt x="11566" y="382278"/>
                  </a:lnTo>
                  <a:lnTo>
                    <a:pt x="9525" y="375019"/>
                  </a:lnTo>
                  <a:lnTo>
                    <a:pt x="7711" y="367759"/>
                  </a:lnTo>
                  <a:lnTo>
                    <a:pt x="6350" y="360499"/>
                  </a:lnTo>
                  <a:lnTo>
                    <a:pt x="4762" y="353239"/>
                  </a:lnTo>
                  <a:lnTo>
                    <a:pt x="3628" y="345752"/>
                  </a:lnTo>
                  <a:lnTo>
                    <a:pt x="2495" y="338265"/>
                  </a:lnTo>
                  <a:lnTo>
                    <a:pt x="1587" y="330779"/>
                  </a:lnTo>
                  <a:lnTo>
                    <a:pt x="1134" y="323065"/>
                  </a:lnTo>
                  <a:lnTo>
                    <a:pt x="680" y="315351"/>
                  </a:lnTo>
                  <a:lnTo>
                    <a:pt x="227" y="307865"/>
                  </a:lnTo>
                  <a:lnTo>
                    <a:pt x="0" y="300151"/>
                  </a:lnTo>
                  <a:lnTo>
                    <a:pt x="227" y="292437"/>
                  </a:lnTo>
                  <a:lnTo>
                    <a:pt x="680" y="284724"/>
                  </a:lnTo>
                  <a:lnTo>
                    <a:pt x="1134" y="277010"/>
                  </a:lnTo>
                  <a:lnTo>
                    <a:pt x="1587" y="269523"/>
                  </a:lnTo>
                  <a:lnTo>
                    <a:pt x="2495" y="261810"/>
                  </a:lnTo>
                  <a:lnTo>
                    <a:pt x="3628" y="254323"/>
                  </a:lnTo>
                  <a:lnTo>
                    <a:pt x="4762" y="247063"/>
                  </a:lnTo>
                  <a:lnTo>
                    <a:pt x="6350" y="239576"/>
                  </a:lnTo>
                  <a:lnTo>
                    <a:pt x="7711" y="232316"/>
                  </a:lnTo>
                  <a:lnTo>
                    <a:pt x="9525" y="225056"/>
                  </a:lnTo>
                  <a:lnTo>
                    <a:pt x="11566" y="217797"/>
                  </a:lnTo>
                  <a:lnTo>
                    <a:pt x="13607" y="210990"/>
                  </a:lnTo>
                  <a:lnTo>
                    <a:pt x="15875" y="203957"/>
                  </a:lnTo>
                  <a:lnTo>
                    <a:pt x="18370" y="196924"/>
                  </a:lnTo>
                  <a:lnTo>
                    <a:pt x="21091" y="189891"/>
                  </a:lnTo>
                  <a:lnTo>
                    <a:pt x="23812" y="183312"/>
                  </a:lnTo>
                  <a:lnTo>
                    <a:pt x="26761" y="176506"/>
                  </a:lnTo>
                  <a:lnTo>
                    <a:pt x="29709" y="169927"/>
                  </a:lnTo>
                  <a:lnTo>
                    <a:pt x="32884" y="163574"/>
                  </a:lnTo>
                  <a:lnTo>
                    <a:pt x="36512" y="156995"/>
                  </a:lnTo>
                  <a:lnTo>
                    <a:pt x="39914" y="150870"/>
                  </a:lnTo>
                  <a:lnTo>
                    <a:pt x="43543" y="144517"/>
                  </a:lnTo>
                  <a:lnTo>
                    <a:pt x="47398" y="138392"/>
                  </a:lnTo>
                  <a:lnTo>
                    <a:pt x="51480" y="132266"/>
                  </a:lnTo>
                  <a:lnTo>
                    <a:pt x="55336" y="126367"/>
                  </a:lnTo>
                  <a:lnTo>
                    <a:pt x="59644" y="120696"/>
                  </a:lnTo>
                  <a:lnTo>
                    <a:pt x="64180" y="115024"/>
                  </a:lnTo>
                  <a:lnTo>
                    <a:pt x="68716" y="109125"/>
                  </a:lnTo>
                  <a:lnTo>
                    <a:pt x="73478" y="103680"/>
                  </a:lnTo>
                  <a:lnTo>
                    <a:pt x="78014" y="98235"/>
                  </a:lnTo>
                  <a:lnTo>
                    <a:pt x="83003" y="93017"/>
                  </a:lnTo>
                  <a:lnTo>
                    <a:pt x="87993" y="88026"/>
                  </a:lnTo>
                  <a:lnTo>
                    <a:pt x="92982" y="82808"/>
                  </a:lnTo>
                  <a:lnTo>
                    <a:pt x="98652" y="78044"/>
                  </a:lnTo>
                  <a:lnTo>
                    <a:pt x="103868" y="73279"/>
                  </a:lnTo>
                  <a:lnTo>
                    <a:pt x="109310" y="68515"/>
                  </a:lnTo>
                  <a:lnTo>
                    <a:pt x="114980" y="63978"/>
                  </a:lnTo>
                  <a:lnTo>
                    <a:pt x="120650" y="59667"/>
                  </a:lnTo>
                  <a:lnTo>
                    <a:pt x="126546" y="55357"/>
                  </a:lnTo>
                  <a:lnTo>
                    <a:pt x="132443" y="51273"/>
                  </a:lnTo>
                  <a:lnTo>
                    <a:pt x="138339" y="47416"/>
                  </a:lnTo>
                  <a:lnTo>
                    <a:pt x="144689" y="43332"/>
                  </a:lnTo>
                  <a:lnTo>
                    <a:pt x="150812" y="39929"/>
                  </a:lnTo>
                  <a:lnTo>
                    <a:pt x="157162" y="36073"/>
                  </a:lnTo>
                  <a:lnTo>
                    <a:pt x="163512" y="32896"/>
                  </a:lnTo>
                  <a:lnTo>
                    <a:pt x="170089" y="29720"/>
                  </a:lnTo>
                  <a:lnTo>
                    <a:pt x="176666" y="26317"/>
                  </a:lnTo>
                  <a:lnTo>
                    <a:pt x="183243" y="23595"/>
                  </a:lnTo>
                  <a:lnTo>
                    <a:pt x="190046" y="20872"/>
                  </a:lnTo>
                  <a:lnTo>
                    <a:pt x="197077" y="18150"/>
                  </a:lnTo>
                  <a:lnTo>
                    <a:pt x="203880" y="15654"/>
                  </a:lnTo>
                  <a:lnTo>
                    <a:pt x="210910" y="13385"/>
                  </a:lnTo>
                  <a:lnTo>
                    <a:pt x="217941" y="11344"/>
                  </a:lnTo>
                  <a:lnTo>
                    <a:pt x="225198" y="9529"/>
                  </a:lnTo>
                  <a:lnTo>
                    <a:pt x="232455" y="7714"/>
                  </a:lnTo>
                  <a:lnTo>
                    <a:pt x="239712" y="6126"/>
                  </a:lnTo>
                  <a:lnTo>
                    <a:pt x="247197" y="4764"/>
                  </a:lnTo>
                  <a:lnTo>
                    <a:pt x="254454" y="3403"/>
                  </a:lnTo>
                  <a:lnTo>
                    <a:pt x="261711" y="2496"/>
                  </a:lnTo>
                  <a:lnTo>
                    <a:pt x="269648" y="1361"/>
                  </a:lnTo>
                  <a:lnTo>
                    <a:pt x="277132" y="907"/>
                  </a:lnTo>
                  <a:lnTo>
                    <a:pt x="284843" y="454"/>
                  </a:lnTo>
                  <a:lnTo>
                    <a:pt x="292554" y="227"/>
                  </a:lnTo>
                  <a:lnTo>
                    <a:pt x="300265" y="0"/>
                  </a:lnTo>
                  <a:close/>
                </a:path>
              </a:pathLst>
            </a:custGeom>
            <a:solidFill>
              <a:schemeClr val="bg1"/>
            </a:solidFill>
            <a:ln w="0">
              <a:solidFill>
                <a:srgbClr val="000000">
                  <a:lumMod val="75000"/>
                  <a:lumOff val="25000"/>
                </a:srgbClr>
              </a:solidFill>
            </a:ln>
          </p:spPr>
          <p:style>
            <a:lnRef idx="0"/>
            <a:fillRef idx="0"/>
            <a:effectRef idx="0"/>
            <a:fontRef idx="minor"/>
          </p:style>
          <p:txBody>
            <a:bodyPr lIns="90000" rIns="90000" tIns="45000" bIns="45000" anchor="ctr">
              <a:noAutofit/>
              <a:scene3d>
                <a:camera prst="orthographicFront"/>
                <a:lightRig dir="t" rig="threePt"/>
              </a:scene3d>
              <a:sp3d>
                <a:contourClr>
                  <a:srgbClr val="ffffff"/>
                </a:contourClr>
              </a:sp3d>
            </a:bodyPr>
            <a:p>
              <a:pPr algn="ctr">
                <a:lnSpc>
                  <a:spcPct val="100000"/>
                </a:lnSpc>
              </a:pPr>
              <a:endParaRPr b="0" lang="en-US" sz="1800" spc="-1" strike="noStrike">
                <a:solidFill>
                  <a:srgbClr val="ffffff"/>
                </a:solidFill>
                <a:latin typeface="Calibri"/>
              </a:endParaRPr>
            </a:p>
          </p:txBody>
        </p:sp>
      </p:grpSp>
      <p:grpSp>
        <p:nvGrpSpPr>
          <p:cNvPr id="108" name="组合 7"/>
          <p:cNvGrpSpPr/>
          <p:nvPr/>
        </p:nvGrpSpPr>
        <p:grpSpPr>
          <a:xfrm>
            <a:off x="4594320" y="1881000"/>
            <a:ext cx="3027600" cy="4443480"/>
            <a:chOff x="4594320" y="1881000"/>
            <a:chExt cx="3027600" cy="4443480"/>
          </a:xfrm>
        </p:grpSpPr>
        <p:sp>
          <p:nvSpPr>
            <p:cNvPr id="109" name="矩形 16"/>
            <p:cNvSpPr/>
            <p:nvPr/>
          </p:nvSpPr>
          <p:spPr>
            <a:xfrm>
              <a:off x="4594320" y="1881000"/>
              <a:ext cx="3027600" cy="4443480"/>
            </a:xfrm>
            <a:prstGeom prst="rect">
              <a:avLst/>
            </a:prstGeom>
            <a:solidFill>
              <a:schemeClr val="bg1"/>
            </a:solidFill>
            <a:ln>
              <a:noFill/>
            </a:ln>
            <a:effectLst>
              <a:outerShdw algn="tl" blurRad="431640" dir="2700000" dist="37674" rotWithShape="0" sx="105000" sy="105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0" name="矩形 17"/>
            <p:cNvSpPr/>
            <p:nvPr/>
          </p:nvSpPr>
          <p:spPr>
            <a:xfrm>
              <a:off x="4746960" y="2033280"/>
              <a:ext cx="2727360" cy="4124520"/>
            </a:xfrm>
            <a:prstGeom prst="rect">
              <a:avLst/>
            </a:prstGeom>
            <a:noFill/>
            <a:ln>
              <a:solidFill>
                <a:srgbClr val="000000">
                  <a:lumMod val="50000"/>
                  <a:lumOff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11" name="组合 8"/>
          <p:cNvGrpSpPr/>
          <p:nvPr/>
        </p:nvGrpSpPr>
        <p:grpSpPr>
          <a:xfrm>
            <a:off x="8188200" y="1881000"/>
            <a:ext cx="3027600" cy="4443480"/>
            <a:chOff x="8188200" y="1881000"/>
            <a:chExt cx="3027600" cy="4443480"/>
          </a:xfrm>
        </p:grpSpPr>
        <p:sp>
          <p:nvSpPr>
            <p:cNvPr id="112" name="矩形 22"/>
            <p:cNvSpPr/>
            <p:nvPr/>
          </p:nvSpPr>
          <p:spPr>
            <a:xfrm>
              <a:off x="8188200" y="1881000"/>
              <a:ext cx="3027600" cy="4443480"/>
            </a:xfrm>
            <a:prstGeom prst="rect">
              <a:avLst/>
            </a:prstGeom>
            <a:solidFill>
              <a:schemeClr val="bg1"/>
            </a:solidFill>
            <a:ln>
              <a:noFill/>
            </a:ln>
            <a:effectLst>
              <a:outerShdw algn="tl" blurRad="431640" dir="2700000" dist="37674" rotWithShape="0" sx="105000" sy="105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3" name="矩形 23"/>
            <p:cNvSpPr/>
            <p:nvPr/>
          </p:nvSpPr>
          <p:spPr>
            <a:xfrm>
              <a:off x="8340480" y="2033280"/>
              <a:ext cx="2727360" cy="4124520"/>
            </a:xfrm>
            <a:prstGeom prst="rect">
              <a:avLst/>
            </a:prstGeom>
            <a:noFill/>
            <a:ln>
              <a:solidFill>
                <a:srgbClr val="000000">
                  <a:lumMod val="50000"/>
                  <a:lumOff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14" name="组合 21"/>
          <p:cNvGrpSpPr/>
          <p:nvPr/>
        </p:nvGrpSpPr>
        <p:grpSpPr>
          <a:xfrm>
            <a:off x="4704480" y="2299680"/>
            <a:ext cx="2812320" cy="3610440"/>
            <a:chOff x="4704480" y="2299680"/>
            <a:chExt cx="2812320" cy="3610440"/>
          </a:xfrm>
        </p:grpSpPr>
        <p:sp>
          <p:nvSpPr>
            <p:cNvPr id="115" name="等腰三角形 18"/>
            <p:cNvSpPr/>
            <p:nvPr/>
          </p:nvSpPr>
          <p:spPr>
            <a:xfrm flipV="1">
              <a:off x="5966640" y="3251880"/>
              <a:ext cx="272520" cy="140760"/>
            </a:xfrm>
            <a:prstGeom prst="triangle">
              <a:avLst>
                <a:gd name="adj" fmla="val 50000"/>
              </a:avLst>
            </a:prstGeom>
            <a:solidFill>
              <a:schemeClr val="bg1"/>
            </a:solidFill>
            <a:ln>
              <a:solidFill>
                <a:srgbClr val="000000">
                  <a:lumMod val="50000"/>
                  <a:lumOff val="50000"/>
                </a:srgbClr>
              </a:solidFill>
            </a:ln>
          </p:spPr>
          <p:style>
            <a:lnRef idx="2">
              <a:schemeClr val="accent1">
                <a:shade val="50000"/>
              </a:schemeClr>
            </a:lnRef>
            <a:fillRef idx="1">
              <a:schemeClr val="accent1"/>
            </a:fillRef>
            <a:effectRef idx="0">
              <a:schemeClr val="accent1"/>
            </a:effectRef>
            <a:fontRef idx="minor"/>
          </p:style>
          <p:txBody>
            <a:bodyPr lIns="90000" rIns="90000" tIns="25560" bIns="25560" anchor="ctr">
              <a:noAutofit/>
            </a:bodyPr>
            <a:p>
              <a:pPr algn="ctr">
                <a:lnSpc>
                  <a:spcPct val="100000"/>
                </a:lnSpc>
              </a:pPr>
              <a:endParaRPr b="0" lang="en-US" sz="1800" spc="-1" strike="noStrike">
                <a:solidFill>
                  <a:schemeClr val="lt1"/>
                </a:solidFill>
                <a:latin typeface="Calibri"/>
              </a:endParaRPr>
            </a:p>
          </p:txBody>
        </p:sp>
        <p:sp>
          <p:nvSpPr>
            <p:cNvPr id="116" name="文本框 19"/>
            <p:cNvSpPr/>
            <p:nvPr/>
          </p:nvSpPr>
          <p:spPr>
            <a:xfrm>
              <a:off x="4704480" y="3476160"/>
              <a:ext cx="2812320" cy="243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808080"/>
                  </a:solidFill>
                  <a:latin typeface="微软雅黑"/>
                  <a:ea typeface="微软雅黑"/>
                </a:rPr>
                <a:t>Human Resources planning is based on the concept that people are the most important strategic resources of an organization. Generally it is concerned with suitable resources to business needs both in longer tern needs and in</a:t>
              </a:r>
              <a:r>
                <a:rPr b="0" lang="en-US" sz="1400" spc="-1" strike="noStrike">
                  <a:solidFill>
                    <a:srgbClr val="808080"/>
                  </a:solidFill>
                  <a:latin typeface="微软雅黑"/>
                  <a:ea typeface="微软雅黑"/>
                </a:rPr>
                <a:t> shorter term needs in terms of both quantity and quality. It also improvement.</a:t>
              </a:r>
              <a:endParaRPr b="0" lang="en-US" sz="1400" spc="-1" strike="noStrike">
                <a:solidFill>
                  <a:srgbClr val="000000"/>
                </a:solidFill>
                <a:latin typeface="Arial"/>
              </a:endParaRPr>
            </a:p>
          </p:txBody>
        </p:sp>
        <p:sp>
          <p:nvSpPr>
            <p:cNvPr id="117" name="文本框 20"/>
            <p:cNvSpPr/>
            <p:nvPr/>
          </p:nvSpPr>
          <p:spPr>
            <a:xfrm>
              <a:off x="6010560" y="2299680"/>
              <a:ext cx="82116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000000"/>
                  </a:solidFill>
                  <a:latin typeface="方正兰亭超细黑简体"/>
                  <a:ea typeface="方正兰亭超细黑简体"/>
                </a:rPr>
                <a:t>02</a:t>
              </a:r>
              <a:endParaRPr b="0" lang="en-US" sz="4400" spc="-1" strike="noStrike">
                <a:solidFill>
                  <a:srgbClr val="000000"/>
                </a:solidFill>
                <a:latin typeface="Arial"/>
              </a:endParaRPr>
            </a:p>
          </p:txBody>
        </p:sp>
        <p:sp>
          <p:nvSpPr>
            <p:cNvPr id="118" name="KSO_Shape"/>
            <p:cNvSpPr/>
            <p:nvPr/>
          </p:nvSpPr>
          <p:spPr>
            <a:xfrm>
              <a:off x="5428440" y="2333880"/>
              <a:ext cx="428760" cy="649800"/>
            </a:xfrm>
            <a:custGeom>
              <a:avLst/>
              <a:gdLst>
                <a:gd name="textAreaLeft" fmla="*/ 0 w 428760"/>
                <a:gd name="textAreaRight" fmla="*/ 429120 w 428760"/>
                <a:gd name="textAreaTop" fmla="*/ 0 h 649800"/>
                <a:gd name="textAreaBottom" fmla="*/ 650160 h 649800"/>
              </a:gdLst>
              <a:ahLst/>
              <a:rect l="textAreaLeft" t="textAreaTop" r="textAreaRight" b="textAreaBottom"/>
              <a:pathLst>
                <a:path w="4113" h="6240">
                  <a:moveTo>
                    <a:pt x="552" y="0"/>
                  </a:moveTo>
                  <a:lnTo>
                    <a:pt x="3561" y="0"/>
                  </a:lnTo>
                  <a:lnTo>
                    <a:pt x="3589" y="1"/>
                  </a:lnTo>
                  <a:lnTo>
                    <a:pt x="3617" y="3"/>
                  </a:lnTo>
                  <a:lnTo>
                    <a:pt x="3645" y="7"/>
                  </a:lnTo>
                  <a:lnTo>
                    <a:pt x="3672" y="12"/>
                  </a:lnTo>
                  <a:lnTo>
                    <a:pt x="3698" y="17"/>
                  </a:lnTo>
                  <a:lnTo>
                    <a:pt x="3725" y="25"/>
                  </a:lnTo>
                  <a:lnTo>
                    <a:pt x="3751" y="34"/>
                  </a:lnTo>
                  <a:lnTo>
                    <a:pt x="3775" y="44"/>
                  </a:lnTo>
                  <a:lnTo>
                    <a:pt x="3799" y="55"/>
                  </a:lnTo>
                  <a:lnTo>
                    <a:pt x="3824" y="67"/>
                  </a:lnTo>
                  <a:lnTo>
                    <a:pt x="3847" y="80"/>
                  </a:lnTo>
                  <a:lnTo>
                    <a:pt x="3869" y="95"/>
                  </a:lnTo>
                  <a:lnTo>
                    <a:pt x="3891" y="110"/>
                  </a:lnTo>
                  <a:lnTo>
                    <a:pt x="3912" y="127"/>
                  </a:lnTo>
                  <a:lnTo>
                    <a:pt x="3932" y="144"/>
                  </a:lnTo>
                  <a:lnTo>
                    <a:pt x="3950" y="163"/>
                  </a:lnTo>
                  <a:lnTo>
                    <a:pt x="3969" y="182"/>
                  </a:lnTo>
                  <a:lnTo>
                    <a:pt x="3986" y="202"/>
                  </a:lnTo>
                  <a:lnTo>
                    <a:pt x="4002" y="223"/>
                  </a:lnTo>
                  <a:lnTo>
                    <a:pt x="4019" y="245"/>
                  </a:lnTo>
                  <a:lnTo>
                    <a:pt x="4033" y="267"/>
                  </a:lnTo>
                  <a:lnTo>
                    <a:pt x="4047" y="290"/>
                  </a:lnTo>
                  <a:lnTo>
                    <a:pt x="4058" y="313"/>
                  </a:lnTo>
                  <a:lnTo>
                    <a:pt x="4070" y="338"/>
                  </a:lnTo>
                  <a:lnTo>
                    <a:pt x="4079" y="363"/>
                  </a:lnTo>
                  <a:lnTo>
                    <a:pt x="4088" y="389"/>
                  </a:lnTo>
                  <a:lnTo>
                    <a:pt x="4095" y="414"/>
                  </a:lnTo>
                  <a:lnTo>
                    <a:pt x="4101" y="441"/>
                  </a:lnTo>
                  <a:lnTo>
                    <a:pt x="4107" y="469"/>
                  </a:lnTo>
                  <a:lnTo>
                    <a:pt x="4110" y="497"/>
                  </a:lnTo>
                  <a:lnTo>
                    <a:pt x="4113" y="525"/>
                  </a:lnTo>
                  <a:lnTo>
                    <a:pt x="4113" y="553"/>
                  </a:lnTo>
                  <a:lnTo>
                    <a:pt x="4113" y="5688"/>
                  </a:lnTo>
                  <a:lnTo>
                    <a:pt x="4113" y="5716"/>
                  </a:lnTo>
                  <a:lnTo>
                    <a:pt x="4110" y="5744"/>
                  </a:lnTo>
                  <a:lnTo>
                    <a:pt x="4107" y="5772"/>
                  </a:lnTo>
                  <a:lnTo>
                    <a:pt x="4101" y="5798"/>
                  </a:lnTo>
                  <a:lnTo>
                    <a:pt x="4095" y="5825"/>
                  </a:lnTo>
                  <a:lnTo>
                    <a:pt x="4088" y="5852"/>
                  </a:lnTo>
                  <a:lnTo>
                    <a:pt x="4079" y="5877"/>
                  </a:lnTo>
                  <a:lnTo>
                    <a:pt x="4070" y="5902"/>
                  </a:lnTo>
                  <a:lnTo>
                    <a:pt x="4058" y="5926"/>
                  </a:lnTo>
                  <a:lnTo>
                    <a:pt x="4047" y="5950"/>
                  </a:lnTo>
                  <a:lnTo>
                    <a:pt x="4033" y="5974"/>
                  </a:lnTo>
                  <a:lnTo>
                    <a:pt x="4019" y="5996"/>
                  </a:lnTo>
                  <a:lnTo>
                    <a:pt x="4002" y="6018"/>
                  </a:lnTo>
                  <a:lnTo>
                    <a:pt x="3986" y="6039"/>
                  </a:lnTo>
                  <a:lnTo>
                    <a:pt x="3969" y="6058"/>
                  </a:lnTo>
                  <a:lnTo>
                    <a:pt x="3950" y="6078"/>
                  </a:lnTo>
                  <a:lnTo>
                    <a:pt x="3932" y="6096"/>
                  </a:lnTo>
                  <a:lnTo>
                    <a:pt x="3912" y="6113"/>
                  </a:lnTo>
                  <a:lnTo>
                    <a:pt x="3891" y="6129"/>
                  </a:lnTo>
                  <a:lnTo>
                    <a:pt x="3869" y="6146"/>
                  </a:lnTo>
                  <a:lnTo>
                    <a:pt x="3847" y="6159"/>
                  </a:lnTo>
                  <a:lnTo>
                    <a:pt x="3824" y="6173"/>
                  </a:lnTo>
                  <a:lnTo>
                    <a:pt x="3799" y="6185"/>
                  </a:lnTo>
                  <a:lnTo>
                    <a:pt x="3775" y="6197"/>
                  </a:lnTo>
                  <a:lnTo>
                    <a:pt x="3751" y="6206"/>
                  </a:lnTo>
                  <a:lnTo>
                    <a:pt x="3725" y="6215"/>
                  </a:lnTo>
                  <a:lnTo>
                    <a:pt x="3698" y="6222"/>
                  </a:lnTo>
                  <a:lnTo>
                    <a:pt x="3672" y="6229"/>
                  </a:lnTo>
                  <a:lnTo>
                    <a:pt x="3645" y="6234"/>
                  </a:lnTo>
                  <a:lnTo>
                    <a:pt x="3617" y="6237"/>
                  </a:lnTo>
                  <a:lnTo>
                    <a:pt x="3589" y="6240"/>
                  </a:lnTo>
                  <a:lnTo>
                    <a:pt x="3561" y="6240"/>
                  </a:lnTo>
                  <a:lnTo>
                    <a:pt x="552" y="6240"/>
                  </a:lnTo>
                  <a:lnTo>
                    <a:pt x="523" y="6240"/>
                  </a:lnTo>
                  <a:lnTo>
                    <a:pt x="495" y="6237"/>
                  </a:lnTo>
                  <a:lnTo>
                    <a:pt x="469" y="6234"/>
                  </a:lnTo>
                  <a:lnTo>
                    <a:pt x="441" y="6229"/>
                  </a:lnTo>
                  <a:lnTo>
                    <a:pt x="414" y="6222"/>
                  </a:lnTo>
                  <a:lnTo>
                    <a:pt x="388" y="6215"/>
                  </a:lnTo>
                  <a:lnTo>
                    <a:pt x="363" y="6206"/>
                  </a:lnTo>
                  <a:lnTo>
                    <a:pt x="337" y="6197"/>
                  </a:lnTo>
                  <a:lnTo>
                    <a:pt x="313" y="6185"/>
                  </a:lnTo>
                  <a:lnTo>
                    <a:pt x="289" y="6173"/>
                  </a:lnTo>
                  <a:lnTo>
                    <a:pt x="267" y="6159"/>
                  </a:lnTo>
                  <a:lnTo>
                    <a:pt x="243" y="6146"/>
                  </a:lnTo>
                  <a:lnTo>
                    <a:pt x="222" y="6129"/>
                  </a:lnTo>
                  <a:lnTo>
                    <a:pt x="202" y="6113"/>
                  </a:lnTo>
                  <a:lnTo>
                    <a:pt x="181" y="6096"/>
                  </a:lnTo>
                  <a:lnTo>
                    <a:pt x="162" y="6078"/>
                  </a:lnTo>
                  <a:lnTo>
                    <a:pt x="143" y="6058"/>
                  </a:lnTo>
                  <a:lnTo>
                    <a:pt x="126" y="6039"/>
                  </a:lnTo>
                  <a:lnTo>
                    <a:pt x="110" y="6018"/>
                  </a:lnTo>
                  <a:lnTo>
                    <a:pt x="95" y="5996"/>
                  </a:lnTo>
                  <a:lnTo>
                    <a:pt x="80" y="5974"/>
                  </a:lnTo>
                  <a:lnTo>
                    <a:pt x="67" y="5950"/>
                  </a:lnTo>
                  <a:lnTo>
                    <a:pt x="54" y="5926"/>
                  </a:lnTo>
                  <a:lnTo>
                    <a:pt x="44" y="5902"/>
                  </a:lnTo>
                  <a:lnTo>
                    <a:pt x="33" y="5877"/>
                  </a:lnTo>
                  <a:lnTo>
                    <a:pt x="25" y="5852"/>
                  </a:lnTo>
                  <a:lnTo>
                    <a:pt x="17" y="5825"/>
                  </a:lnTo>
                  <a:lnTo>
                    <a:pt x="11" y="5798"/>
                  </a:lnTo>
                  <a:lnTo>
                    <a:pt x="6" y="5772"/>
                  </a:lnTo>
                  <a:lnTo>
                    <a:pt x="3" y="5744"/>
                  </a:lnTo>
                  <a:lnTo>
                    <a:pt x="1" y="5716"/>
                  </a:lnTo>
                  <a:lnTo>
                    <a:pt x="0" y="5688"/>
                  </a:lnTo>
                  <a:lnTo>
                    <a:pt x="0" y="553"/>
                  </a:lnTo>
                  <a:lnTo>
                    <a:pt x="1" y="525"/>
                  </a:lnTo>
                  <a:lnTo>
                    <a:pt x="3" y="497"/>
                  </a:lnTo>
                  <a:lnTo>
                    <a:pt x="6" y="469"/>
                  </a:lnTo>
                  <a:lnTo>
                    <a:pt x="11" y="441"/>
                  </a:lnTo>
                  <a:lnTo>
                    <a:pt x="17" y="414"/>
                  </a:lnTo>
                  <a:lnTo>
                    <a:pt x="25" y="389"/>
                  </a:lnTo>
                  <a:lnTo>
                    <a:pt x="33" y="363"/>
                  </a:lnTo>
                  <a:lnTo>
                    <a:pt x="44" y="338"/>
                  </a:lnTo>
                  <a:lnTo>
                    <a:pt x="54" y="313"/>
                  </a:lnTo>
                  <a:lnTo>
                    <a:pt x="67" y="290"/>
                  </a:lnTo>
                  <a:lnTo>
                    <a:pt x="80" y="267"/>
                  </a:lnTo>
                  <a:lnTo>
                    <a:pt x="95" y="245"/>
                  </a:lnTo>
                  <a:lnTo>
                    <a:pt x="110" y="223"/>
                  </a:lnTo>
                  <a:lnTo>
                    <a:pt x="126" y="202"/>
                  </a:lnTo>
                  <a:lnTo>
                    <a:pt x="143" y="182"/>
                  </a:lnTo>
                  <a:lnTo>
                    <a:pt x="162" y="163"/>
                  </a:lnTo>
                  <a:lnTo>
                    <a:pt x="181" y="144"/>
                  </a:lnTo>
                  <a:lnTo>
                    <a:pt x="202" y="127"/>
                  </a:lnTo>
                  <a:lnTo>
                    <a:pt x="222" y="110"/>
                  </a:lnTo>
                  <a:lnTo>
                    <a:pt x="243" y="95"/>
                  </a:lnTo>
                  <a:lnTo>
                    <a:pt x="267" y="80"/>
                  </a:lnTo>
                  <a:lnTo>
                    <a:pt x="289" y="67"/>
                  </a:lnTo>
                  <a:lnTo>
                    <a:pt x="313" y="55"/>
                  </a:lnTo>
                  <a:lnTo>
                    <a:pt x="337" y="44"/>
                  </a:lnTo>
                  <a:lnTo>
                    <a:pt x="363" y="34"/>
                  </a:lnTo>
                  <a:lnTo>
                    <a:pt x="388" y="25"/>
                  </a:lnTo>
                  <a:lnTo>
                    <a:pt x="414" y="17"/>
                  </a:lnTo>
                  <a:lnTo>
                    <a:pt x="441" y="12"/>
                  </a:lnTo>
                  <a:lnTo>
                    <a:pt x="469" y="7"/>
                  </a:lnTo>
                  <a:lnTo>
                    <a:pt x="495" y="3"/>
                  </a:lnTo>
                  <a:lnTo>
                    <a:pt x="523" y="1"/>
                  </a:lnTo>
                  <a:lnTo>
                    <a:pt x="552" y="0"/>
                  </a:lnTo>
                  <a:close/>
                  <a:moveTo>
                    <a:pt x="463" y="891"/>
                  </a:moveTo>
                  <a:lnTo>
                    <a:pt x="463" y="3086"/>
                  </a:lnTo>
                  <a:lnTo>
                    <a:pt x="3638" y="3086"/>
                  </a:lnTo>
                  <a:lnTo>
                    <a:pt x="3638" y="891"/>
                  </a:lnTo>
                  <a:lnTo>
                    <a:pt x="463" y="891"/>
                  </a:lnTo>
                  <a:close/>
                  <a:moveTo>
                    <a:pt x="1275" y="290"/>
                  </a:moveTo>
                  <a:lnTo>
                    <a:pt x="1275" y="525"/>
                  </a:lnTo>
                  <a:lnTo>
                    <a:pt x="2717" y="525"/>
                  </a:lnTo>
                  <a:lnTo>
                    <a:pt x="2717" y="290"/>
                  </a:lnTo>
                  <a:lnTo>
                    <a:pt x="1275" y="290"/>
                  </a:lnTo>
                  <a:close/>
                  <a:moveTo>
                    <a:pt x="1725" y="3326"/>
                  </a:moveTo>
                  <a:lnTo>
                    <a:pt x="1725" y="3326"/>
                  </a:lnTo>
                  <a:lnTo>
                    <a:pt x="1705" y="3328"/>
                  </a:lnTo>
                  <a:lnTo>
                    <a:pt x="1685" y="3330"/>
                  </a:lnTo>
                  <a:lnTo>
                    <a:pt x="1667" y="3336"/>
                  </a:lnTo>
                  <a:lnTo>
                    <a:pt x="1649" y="3342"/>
                  </a:lnTo>
                  <a:lnTo>
                    <a:pt x="1632" y="3350"/>
                  </a:lnTo>
                  <a:lnTo>
                    <a:pt x="1616" y="3360"/>
                  </a:lnTo>
                  <a:lnTo>
                    <a:pt x="1600" y="3371"/>
                  </a:lnTo>
                  <a:lnTo>
                    <a:pt x="1587" y="3383"/>
                  </a:lnTo>
                  <a:lnTo>
                    <a:pt x="1575" y="3397"/>
                  </a:lnTo>
                  <a:lnTo>
                    <a:pt x="1563" y="3412"/>
                  </a:lnTo>
                  <a:lnTo>
                    <a:pt x="1553" y="3429"/>
                  </a:lnTo>
                  <a:lnTo>
                    <a:pt x="1545" y="3446"/>
                  </a:lnTo>
                  <a:lnTo>
                    <a:pt x="1539" y="3463"/>
                  </a:lnTo>
                  <a:lnTo>
                    <a:pt x="1534" y="3482"/>
                  </a:lnTo>
                  <a:lnTo>
                    <a:pt x="1531" y="3502"/>
                  </a:lnTo>
                  <a:lnTo>
                    <a:pt x="1530" y="3522"/>
                  </a:lnTo>
                  <a:lnTo>
                    <a:pt x="1530" y="3822"/>
                  </a:lnTo>
                  <a:lnTo>
                    <a:pt x="1531" y="3842"/>
                  </a:lnTo>
                  <a:lnTo>
                    <a:pt x="1534" y="3862"/>
                  </a:lnTo>
                  <a:lnTo>
                    <a:pt x="1539" y="3880"/>
                  </a:lnTo>
                  <a:lnTo>
                    <a:pt x="1545" y="3898"/>
                  </a:lnTo>
                  <a:lnTo>
                    <a:pt x="1553" y="3915"/>
                  </a:lnTo>
                  <a:lnTo>
                    <a:pt x="1563" y="3931"/>
                  </a:lnTo>
                  <a:lnTo>
                    <a:pt x="1575" y="3946"/>
                  </a:lnTo>
                  <a:lnTo>
                    <a:pt x="1587" y="3960"/>
                  </a:lnTo>
                  <a:lnTo>
                    <a:pt x="1600" y="3973"/>
                  </a:lnTo>
                  <a:lnTo>
                    <a:pt x="1616" y="3984"/>
                  </a:lnTo>
                  <a:lnTo>
                    <a:pt x="1632" y="3994"/>
                  </a:lnTo>
                  <a:lnTo>
                    <a:pt x="1649" y="4002"/>
                  </a:lnTo>
                  <a:lnTo>
                    <a:pt x="1667" y="4009"/>
                  </a:lnTo>
                  <a:lnTo>
                    <a:pt x="1685" y="4014"/>
                  </a:lnTo>
                  <a:lnTo>
                    <a:pt x="1705" y="4016"/>
                  </a:lnTo>
                  <a:lnTo>
                    <a:pt x="1725" y="4017"/>
                  </a:lnTo>
                  <a:lnTo>
                    <a:pt x="2314" y="4017"/>
                  </a:lnTo>
                  <a:lnTo>
                    <a:pt x="2334" y="4016"/>
                  </a:lnTo>
                  <a:lnTo>
                    <a:pt x="2354" y="4014"/>
                  </a:lnTo>
                  <a:lnTo>
                    <a:pt x="2372" y="4009"/>
                  </a:lnTo>
                  <a:lnTo>
                    <a:pt x="2390" y="4002"/>
                  </a:lnTo>
                  <a:lnTo>
                    <a:pt x="2407" y="3994"/>
                  </a:lnTo>
                  <a:lnTo>
                    <a:pt x="2424" y="3984"/>
                  </a:lnTo>
                  <a:lnTo>
                    <a:pt x="2439" y="3973"/>
                  </a:lnTo>
                  <a:lnTo>
                    <a:pt x="2453" y="3960"/>
                  </a:lnTo>
                  <a:lnTo>
                    <a:pt x="2465" y="3946"/>
                  </a:lnTo>
                  <a:lnTo>
                    <a:pt x="2476" y="3931"/>
                  </a:lnTo>
                  <a:lnTo>
                    <a:pt x="2486" y="3915"/>
                  </a:lnTo>
                  <a:lnTo>
                    <a:pt x="2494" y="3898"/>
                  </a:lnTo>
                  <a:lnTo>
                    <a:pt x="2500" y="3880"/>
                  </a:lnTo>
                  <a:lnTo>
                    <a:pt x="2506" y="3862"/>
                  </a:lnTo>
                  <a:lnTo>
                    <a:pt x="2508" y="3842"/>
                  </a:lnTo>
                  <a:lnTo>
                    <a:pt x="2509" y="3822"/>
                  </a:lnTo>
                  <a:lnTo>
                    <a:pt x="2509" y="3522"/>
                  </a:lnTo>
                  <a:lnTo>
                    <a:pt x="2508" y="3502"/>
                  </a:lnTo>
                  <a:lnTo>
                    <a:pt x="2506" y="3482"/>
                  </a:lnTo>
                  <a:lnTo>
                    <a:pt x="2500" y="3463"/>
                  </a:lnTo>
                  <a:lnTo>
                    <a:pt x="2494" y="3446"/>
                  </a:lnTo>
                  <a:lnTo>
                    <a:pt x="2486" y="3429"/>
                  </a:lnTo>
                  <a:lnTo>
                    <a:pt x="2476" y="3412"/>
                  </a:lnTo>
                  <a:lnTo>
                    <a:pt x="2465" y="3397"/>
                  </a:lnTo>
                  <a:lnTo>
                    <a:pt x="2453" y="3383"/>
                  </a:lnTo>
                  <a:lnTo>
                    <a:pt x="2439" y="3371"/>
                  </a:lnTo>
                  <a:lnTo>
                    <a:pt x="2424" y="3360"/>
                  </a:lnTo>
                  <a:lnTo>
                    <a:pt x="2407" y="3350"/>
                  </a:lnTo>
                  <a:lnTo>
                    <a:pt x="2390" y="3342"/>
                  </a:lnTo>
                  <a:lnTo>
                    <a:pt x="2372" y="3336"/>
                  </a:lnTo>
                  <a:lnTo>
                    <a:pt x="2354" y="3330"/>
                  </a:lnTo>
                  <a:lnTo>
                    <a:pt x="2334" y="3328"/>
                  </a:lnTo>
                  <a:lnTo>
                    <a:pt x="2314" y="3326"/>
                  </a:lnTo>
                  <a:lnTo>
                    <a:pt x="1725" y="3326"/>
                  </a:lnTo>
                  <a:close/>
                  <a:moveTo>
                    <a:pt x="1391" y="3563"/>
                  </a:moveTo>
                  <a:lnTo>
                    <a:pt x="515" y="3563"/>
                  </a:lnTo>
                  <a:lnTo>
                    <a:pt x="515" y="3775"/>
                  </a:lnTo>
                  <a:lnTo>
                    <a:pt x="1391" y="3775"/>
                  </a:lnTo>
                  <a:lnTo>
                    <a:pt x="1391" y="3563"/>
                  </a:lnTo>
                  <a:close/>
                  <a:moveTo>
                    <a:pt x="3525" y="3563"/>
                  </a:moveTo>
                  <a:lnTo>
                    <a:pt x="2649" y="3563"/>
                  </a:lnTo>
                  <a:lnTo>
                    <a:pt x="2649" y="3775"/>
                  </a:lnTo>
                  <a:lnTo>
                    <a:pt x="3525" y="3775"/>
                  </a:lnTo>
                  <a:lnTo>
                    <a:pt x="3525" y="3563"/>
                  </a:lnTo>
                  <a:close/>
                  <a:moveTo>
                    <a:pt x="1390" y="4201"/>
                  </a:moveTo>
                  <a:lnTo>
                    <a:pt x="514" y="4201"/>
                  </a:lnTo>
                  <a:lnTo>
                    <a:pt x="514" y="4613"/>
                  </a:lnTo>
                  <a:lnTo>
                    <a:pt x="1390" y="4613"/>
                  </a:lnTo>
                  <a:lnTo>
                    <a:pt x="1390" y="4201"/>
                  </a:lnTo>
                  <a:close/>
                  <a:moveTo>
                    <a:pt x="2458" y="4201"/>
                  </a:moveTo>
                  <a:lnTo>
                    <a:pt x="1582" y="4201"/>
                  </a:lnTo>
                  <a:lnTo>
                    <a:pt x="1582" y="4613"/>
                  </a:lnTo>
                  <a:lnTo>
                    <a:pt x="2458" y="4613"/>
                  </a:lnTo>
                  <a:lnTo>
                    <a:pt x="2458" y="4201"/>
                  </a:lnTo>
                  <a:close/>
                  <a:moveTo>
                    <a:pt x="3518" y="4201"/>
                  </a:moveTo>
                  <a:lnTo>
                    <a:pt x="2642" y="4201"/>
                  </a:lnTo>
                  <a:lnTo>
                    <a:pt x="2642" y="4613"/>
                  </a:lnTo>
                  <a:lnTo>
                    <a:pt x="3518" y="4613"/>
                  </a:lnTo>
                  <a:lnTo>
                    <a:pt x="3518" y="4201"/>
                  </a:lnTo>
                  <a:close/>
                  <a:moveTo>
                    <a:pt x="1390" y="4741"/>
                  </a:moveTo>
                  <a:lnTo>
                    <a:pt x="514" y="4741"/>
                  </a:lnTo>
                  <a:lnTo>
                    <a:pt x="514" y="5153"/>
                  </a:lnTo>
                  <a:lnTo>
                    <a:pt x="1390" y="5153"/>
                  </a:lnTo>
                  <a:lnTo>
                    <a:pt x="1390" y="4741"/>
                  </a:lnTo>
                  <a:close/>
                  <a:moveTo>
                    <a:pt x="2458" y="4741"/>
                  </a:moveTo>
                  <a:lnTo>
                    <a:pt x="1582" y="4741"/>
                  </a:lnTo>
                  <a:lnTo>
                    <a:pt x="1582" y="5153"/>
                  </a:lnTo>
                  <a:lnTo>
                    <a:pt x="2458" y="5153"/>
                  </a:lnTo>
                  <a:lnTo>
                    <a:pt x="2458" y="4741"/>
                  </a:lnTo>
                  <a:close/>
                  <a:moveTo>
                    <a:pt x="3518" y="4741"/>
                  </a:moveTo>
                  <a:lnTo>
                    <a:pt x="2642" y="4741"/>
                  </a:lnTo>
                  <a:lnTo>
                    <a:pt x="2642" y="5153"/>
                  </a:lnTo>
                  <a:lnTo>
                    <a:pt x="3518" y="5153"/>
                  </a:lnTo>
                  <a:lnTo>
                    <a:pt x="3518" y="4741"/>
                  </a:lnTo>
                  <a:close/>
                  <a:moveTo>
                    <a:pt x="1390" y="5318"/>
                  </a:moveTo>
                  <a:lnTo>
                    <a:pt x="514" y="5318"/>
                  </a:lnTo>
                  <a:lnTo>
                    <a:pt x="514" y="5730"/>
                  </a:lnTo>
                  <a:lnTo>
                    <a:pt x="1390" y="5730"/>
                  </a:lnTo>
                  <a:lnTo>
                    <a:pt x="1390" y="5318"/>
                  </a:lnTo>
                  <a:close/>
                  <a:moveTo>
                    <a:pt x="2458" y="5318"/>
                  </a:moveTo>
                  <a:lnTo>
                    <a:pt x="1582" y="5318"/>
                  </a:lnTo>
                  <a:lnTo>
                    <a:pt x="1582" y="5730"/>
                  </a:lnTo>
                  <a:lnTo>
                    <a:pt x="2458" y="5730"/>
                  </a:lnTo>
                  <a:lnTo>
                    <a:pt x="2458" y="5318"/>
                  </a:lnTo>
                  <a:close/>
                  <a:moveTo>
                    <a:pt x="3518" y="5318"/>
                  </a:moveTo>
                  <a:lnTo>
                    <a:pt x="2642" y="5318"/>
                  </a:lnTo>
                  <a:lnTo>
                    <a:pt x="2642" y="5730"/>
                  </a:lnTo>
                  <a:lnTo>
                    <a:pt x="3518" y="5730"/>
                  </a:lnTo>
                  <a:lnTo>
                    <a:pt x="3518" y="5318"/>
                  </a:lnTo>
                  <a:close/>
                </a:path>
              </a:pathLst>
            </a:custGeom>
            <a:noFill/>
            <a:ln w="0">
              <a:solidFill>
                <a:srgbClr val="000000">
                  <a:lumMod val="65000"/>
                  <a:lumOff val="35000"/>
                </a:srgbClr>
              </a:solidFill>
            </a:ln>
          </p:spPr>
          <p:style>
            <a:lnRef idx="0"/>
            <a:fillRef idx="0"/>
            <a:effectRef idx="0"/>
            <a:fontRef idx="minor"/>
          </p:style>
          <p:txBody>
            <a:bodyPr lIns="90000" rIns="90000" tIns="45000" bIns="45000" anchor="ctr">
              <a:noAutofit/>
              <a:scene3d>
                <a:camera prst="orthographicFront"/>
                <a:lightRig dir="t" rig="threePt"/>
              </a:scene3d>
              <a:sp3d>
                <a:contourClr>
                  <a:srgbClr val="ffffff"/>
                </a:contourClr>
              </a:sp3d>
            </a:bodyPr>
            <a:p>
              <a:pPr algn="ctr">
                <a:lnSpc>
                  <a:spcPct val="100000"/>
                </a:lnSpc>
              </a:pPr>
              <a:endParaRPr b="0" lang="en-US" sz="1800" spc="-1" strike="noStrike">
                <a:solidFill>
                  <a:srgbClr val="ffffff"/>
                </a:solidFill>
                <a:latin typeface="Calibri"/>
              </a:endParaRPr>
            </a:p>
          </p:txBody>
        </p:sp>
      </p:grpSp>
      <p:grpSp>
        <p:nvGrpSpPr>
          <p:cNvPr id="119" name="组合 30"/>
          <p:cNvGrpSpPr/>
          <p:nvPr/>
        </p:nvGrpSpPr>
        <p:grpSpPr>
          <a:xfrm>
            <a:off x="8298000" y="2299680"/>
            <a:ext cx="2812320" cy="3610440"/>
            <a:chOff x="8298000" y="2299680"/>
            <a:chExt cx="2812320" cy="3610440"/>
          </a:xfrm>
        </p:grpSpPr>
        <p:sp>
          <p:nvSpPr>
            <p:cNvPr id="120" name="等腰三角形 24"/>
            <p:cNvSpPr/>
            <p:nvPr/>
          </p:nvSpPr>
          <p:spPr>
            <a:xfrm flipV="1">
              <a:off x="9560160" y="3251880"/>
              <a:ext cx="272520" cy="140760"/>
            </a:xfrm>
            <a:prstGeom prst="triangle">
              <a:avLst>
                <a:gd name="adj" fmla="val 50000"/>
              </a:avLst>
            </a:prstGeom>
            <a:solidFill>
              <a:schemeClr val="bg1"/>
            </a:solidFill>
            <a:ln>
              <a:solidFill>
                <a:srgbClr val="000000">
                  <a:lumMod val="50000"/>
                  <a:lumOff val="50000"/>
                </a:srgbClr>
              </a:solidFill>
            </a:ln>
          </p:spPr>
          <p:style>
            <a:lnRef idx="2">
              <a:schemeClr val="accent1">
                <a:shade val="50000"/>
              </a:schemeClr>
            </a:lnRef>
            <a:fillRef idx="1">
              <a:schemeClr val="accent1"/>
            </a:fillRef>
            <a:effectRef idx="0">
              <a:schemeClr val="accent1"/>
            </a:effectRef>
            <a:fontRef idx="minor"/>
          </p:style>
          <p:txBody>
            <a:bodyPr lIns="90000" rIns="90000" tIns="25560" bIns="25560" anchor="ctr">
              <a:noAutofit/>
            </a:bodyPr>
            <a:p>
              <a:pPr algn="ctr">
                <a:lnSpc>
                  <a:spcPct val="100000"/>
                </a:lnSpc>
              </a:pPr>
              <a:endParaRPr b="0" lang="en-US" sz="1800" spc="-1" strike="noStrike">
                <a:solidFill>
                  <a:schemeClr val="lt1"/>
                </a:solidFill>
                <a:latin typeface="Calibri"/>
              </a:endParaRPr>
            </a:p>
          </p:txBody>
        </p:sp>
        <p:sp>
          <p:nvSpPr>
            <p:cNvPr id="121" name="文本框 25"/>
            <p:cNvSpPr/>
            <p:nvPr/>
          </p:nvSpPr>
          <p:spPr>
            <a:xfrm>
              <a:off x="8298000" y="3476160"/>
              <a:ext cx="2812320" cy="243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400" spc="-1" strike="noStrike">
                  <a:solidFill>
                    <a:srgbClr val="808080"/>
                  </a:solidFill>
                  <a:latin typeface="微软雅黑"/>
                  <a:ea typeface="微软雅黑"/>
                </a:rPr>
                <a:t>Human Resources planning is based on the concept that people are the most important strategic resources of an organization. Generally it is concerned with suitable resources to business needs both in longer tern needs and in</a:t>
              </a:r>
              <a:r>
                <a:rPr b="0" lang="en-US" sz="1400" spc="-1" strike="noStrike">
                  <a:solidFill>
                    <a:srgbClr val="808080"/>
                  </a:solidFill>
                  <a:latin typeface="微软雅黑"/>
                  <a:ea typeface="微软雅黑"/>
                </a:rPr>
                <a:t> shorter term needs in terms of both quantity and quality. It also improvement.</a:t>
              </a:r>
              <a:endParaRPr b="0" lang="en-US" sz="1400" spc="-1" strike="noStrike">
                <a:solidFill>
                  <a:srgbClr val="000000"/>
                </a:solidFill>
                <a:latin typeface="Arial"/>
              </a:endParaRPr>
            </a:p>
          </p:txBody>
        </p:sp>
        <p:sp>
          <p:nvSpPr>
            <p:cNvPr id="122" name="文本框 26"/>
            <p:cNvSpPr/>
            <p:nvPr/>
          </p:nvSpPr>
          <p:spPr>
            <a:xfrm>
              <a:off x="9604080" y="2299680"/>
              <a:ext cx="82116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000000"/>
                  </a:solidFill>
                  <a:latin typeface="方正兰亭超细黑简体"/>
                  <a:ea typeface="方正兰亭超细黑简体"/>
                </a:rPr>
                <a:t>03</a:t>
              </a:r>
              <a:endParaRPr b="0" lang="en-US" sz="4400" spc="-1" strike="noStrike">
                <a:solidFill>
                  <a:srgbClr val="000000"/>
                </a:solidFill>
                <a:latin typeface="Arial"/>
              </a:endParaRPr>
            </a:p>
          </p:txBody>
        </p:sp>
        <p:sp>
          <p:nvSpPr>
            <p:cNvPr id="123" name="KSO_Shape"/>
            <p:cNvSpPr/>
            <p:nvPr/>
          </p:nvSpPr>
          <p:spPr>
            <a:xfrm>
              <a:off x="8938440" y="2356200"/>
              <a:ext cx="579240" cy="579240"/>
            </a:xfrm>
            <a:custGeom>
              <a:avLst/>
              <a:gdLst>
                <a:gd name="textAreaLeft" fmla="*/ 0 w 579240"/>
                <a:gd name="textAreaRight" fmla="*/ 579600 w 579240"/>
                <a:gd name="textAreaTop" fmla="*/ 0 h 579240"/>
                <a:gd name="textAreaBottom" fmla="*/ 579600 h 579240"/>
              </a:gdLst>
              <a:ahLst/>
              <a:rect l="textAreaLeft" t="textAreaTop" r="textAreaRight" b="textAreaBottom"/>
              <a:pathLst>
                <a:path w="5581" h="5581">
                  <a:moveTo>
                    <a:pt x="5522" y="4281"/>
                  </a:moveTo>
                  <a:lnTo>
                    <a:pt x="5522" y="4281"/>
                  </a:lnTo>
                  <a:lnTo>
                    <a:pt x="5508" y="4269"/>
                  </a:lnTo>
                  <a:lnTo>
                    <a:pt x="5494" y="4258"/>
                  </a:lnTo>
                  <a:lnTo>
                    <a:pt x="5494" y="4257"/>
                  </a:lnTo>
                  <a:lnTo>
                    <a:pt x="4294" y="3400"/>
                  </a:lnTo>
                  <a:lnTo>
                    <a:pt x="4293" y="3401"/>
                  </a:lnTo>
                  <a:lnTo>
                    <a:pt x="4278" y="3390"/>
                  </a:lnTo>
                  <a:lnTo>
                    <a:pt x="4262" y="3382"/>
                  </a:lnTo>
                  <a:lnTo>
                    <a:pt x="4245" y="3375"/>
                  </a:lnTo>
                  <a:lnTo>
                    <a:pt x="4229" y="3369"/>
                  </a:lnTo>
                  <a:lnTo>
                    <a:pt x="4211" y="3364"/>
                  </a:lnTo>
                  <a:lnTo>
                    <a:pt x="4194" y="3361"/>
                  </a:lnTo>
                  <a:lnTo>
                    <a:pt x="4176" y="3360"/>
                  </a:lnTo>
                  <a:lnTo>
                    <a:pt x="4158" y="3361"/>
                  </a:lnTo>
                  <a:lnTo>
                    <a:pt x="4140" y="3363"/>
                  </a:lnTo>
                  <a:lnTo>
                    <a:pt x="4123" y="3366"/>
                  </a:lnTo>
                  <a:lnTo>
                    <a:pt x="4105" y="3371"/>
                  </a:lnTo>
                  <a:lnTo>
                    <a:pt x="4089" y="3378"/>
                  </a:lnTo>
                  <a:lnTo>
                    <a:pt x="4072" y="3387"/>
                  </a:lnTo>
                  <a:lnTo>
                    <a:pt x="4056" y="3396"/>
                  </a:lnTo>
                  <a:lnTo>
                    <a:pt x="4042" y="3407"/>
                  </a:lnTo>
                  <a:lnTo>
                    <a:pt x="4027" y="3420"/>
                  </a:lnTo>
                  <a:lnTo>
                    <a:pt x="4018" y="3432"/>
                  </a:lnTo>
                  <a:lnTo>
                    <a:pt x="4008" y="3444"/>
                  </a:lnTo>
                  <a:lnTo>
                    <a:pt x="4004" y="3451"/>
                  </a:lnTo>
                  <a:lnTo>
                    <a:pt x="3999" y="3458"/>
                  </a:lnTo>
                  <a:lnTo>
                    <a:pt x="3971" y="3498"/>
                  </a:lnTo>
                  <a:lnTo>
                    <a:pt x="3951" y="3529"/>
                  </a:lnTo>
                  <a:lnTo>
                    <a:pt x="3920" y="3579"/>
                  </a:lnTo>
                  <a:lnTo>
                    <a:pt x="3892" y="3627"/>
                  </a:lnTo>
                  <a:lnTo>
                    <a:pt x="3875" y="3655"/>
                  </a:lnTo>
                  <a:lnTo>
                    <a:pt x="3854" y="3688"/>
                  </a:lnTo>
                  <a:lnTo>
                    <a:pt x="3818" y="3747"/>
                  </a:lnTo>
                  <a:lnTo>
                    <a:pt x="3782" y="3812"/>
                  </a:lnTo>
                  <a:lnTo>
                    <a:pt x="3745" y="3882"/>
                  </a:lnTo>
                  <a:lnTo>
                    <a:pt x="3707" y="3959"/>
                  </a:lnTo>
                  <a:lnTo>
                    <a:pt x="3667" y="4040"/>
                  </a:lnTo>
                  <a:lnTo>
                    <a:pt x="3629" y="4127"/>
                  </a:lnTo>
                  <a:lnTo>
                    <a:pt x="3589" y="4218"/>
                  </a:lnTo>
                  <a:lnTo>
                    <a:pt x="3550" y="4311"/>
                  </a:lnTo>
                  <a:lnTo>
                    <a:pt x="3517" y="4305"/>
                  </a:lnTo>
                  <a:lnTo>
                    <a:pt x="3484" y="4298"/>
                  </a:lnTo>
                  <a:lnTo>
                    <a:pt x="3450" y="4289"/>
                  </a:lnTo>
                  <a:lnTo>
                    <a:pt x="3416" y="4280"/>
                  </a:lnTo>
                  <a:lnTo>
                    <a:pt x="3380" y="4269"/>
                  </a:lnTo>
                  <a:lnTo>
                    <a:pt x="3343" y="4256"/>
                  </a:lnTo>
                  <a:lnTo>
                    <a:pt x="3306" y="4241"/>
                  </a:lnTo>
                  <a:lnTo>
                    <a:pt x="3267" y="4227"/>
                  </a:lnTo>
                  <a:lnTo>
                    <a:pt x="3229" y="4209"/>
                  </a:lnTo>
                  <a:lnTo>
                    <a:pt x="3189" y="4191"/>
                  </a:lnTo>
                  <a:lnTo>
                    <a:pt x="3149" y="4171"/>
                  </a:lnTo>
                  <a:lnTo>
                    <a:pt x="3107" y="4150"/>
                  </a:lnTo>
                  <a:lnTo>
                    <a:pt x="3065" y="4128"/>
                  </a:lnTo>
                  <a:lnTo>
                    <a:pt x="3023" y="4104"/>
                  </a:lnTo>
                  <a:lnTo>
                    <a:pt x="2980" y="4077"/>
                  </a:lnTo>
                  <a:lnTo>
                    <a:pt x="2936" y="4051"/>
                  </a:lnTo>
                  <a:lnTo>
                    <a:pt x="2891" y="4022"/>
                  </a:lnTo>
                  <a:lnTo>
                    <a:pt x="2846" y="3992"/>
                  </a:lnTo>
                  <a:lnTo>
                    <a:pt x="2800" y="3960"/>
                  </a:lnTo>
                  <a:lnTo>
                    <a:pt x="2754" y="3928"/>
                  </a:lnTo>
                  <a:lnTo>
                    <a:pt x="2707" y="3893"/>
                  </a:lnTo>
                  <a:lnTo>
                    <a:pt x="2659" y="3857"/>
                  </a:lnTo>
                  <a:lnTo>
                    <a:pt x="2612" y="3820"/>
                  </a:lnTo>
                  <a:lnTo>
                    <a:pt x="2563" y="3782"/>
                  </a:lnTo>
                  <a:lnTo>
                    <a:pt x="2515" y="3741"/>
                  </a:lnTo>
                  <a:lnTo>
                    <a:pt x="2465" y="3699"/>
                  </a:lnTo>
                  <a:lnTo>
                    <a:pt x="2416" y="3656"/>
                  </a:lnTo>
                  <a:lnTo>
                    <a:pt x="2366" y="3612"/>
                  </a:lnTo>
                  <a:lnTo>
                    <a:pt x="2315" y="3565"/>
                  </a:lnTo>
                  <a:lnTo>
                    <a:pt x="2265" y="3517"/>
                  </a:lnTo>
                  <a:lnTo>
                    <a:pt x="2214" y="3468"/>
                  </a:lnTo>
                  <a:lnTo>
                    <a:pt x="2163" y="3418"/>
                  </a:lnTo>
                  <a:lnTo>
                    <a:pt x="2112" y="3366"/>
                  </a:lnTo>
                  <a:lnTo>
                    <a:pt x="2063" y="3316"/>
                  </a:lnTo>
                  <a:lnTo>
                    <a:pt x="2015" y="3265"/>
                  </a:lnTo>
                  <a:lnTo>
                    <a:pt x="1970" y="3214"/>
                  </a:lnTo>
                  <a:lnTo>
                    <a:pt x="1925" y="3165"/>
                  </a:lnTo>
                  <a:lnTo>
                    <a:pt x="1881" y="3115"/>
                  </a:lnTo>
                  <a:lnTo>
                    <a:pt x="1840" y="3066"/>
                  </a:lnTo>
                  <a:lnTo>
                    <a:pt x="1800" y="3018"/>
                  </a:lnTo>
                  <a:lnTo>
                    <a:pt x="1761" y="2969"/>
                  </a:lnTo>
                  <a:lnTo>
                    <a:pt x="1723" y="2921"/>
                  </a:lnTo>
                  <a:lnTo>
                    <a:pt x="1688" y="2874"/>
                  </a:lnTo>
                  <a:lnTo>
                    <a:pt x="1653" y="2828"/>
                  </a:lnTo>
                  <a:lnTo>
                    <a:pt x="1620" y="2781"/>
                  </a:lnTo>
                  <a:lnTo>
                    <a:pt x="1589" y="2735"/>
                  </a:lnTo>
                  <a:lnTo>
                    <a:pt x="1559" y="2690"/>
                  </a:lnTo>
                  <a:lnTo>
                    <a:pt x="1530" y="2646"/>
                  </a:lnTo>
                  <a:lnTo>
                    <a:pt x="1504" y="2601"/>
                  </a:lnTo>
                  <a:lnTo>
                    <a:pt x="1477" y="2558"/>
                  </a:lnTo>
                  <a:lnTo>
                    <a:pt x="1454" y="2515"/>
                  </a:lnTo>
                  <a:lnTo>
                    <a:pt x="1431" y="2473"/>
                  </a:lnTo>
                  <a:lnTo>
                    <a:pt x="1410" y="2432"/>
                  </a:lnTo>
                  <a:lnTo>
                    <a:pt x="1390" y="2392"/>
                  </a:lnTo>
                  <a:lnTo>
                    <a:pt x="1372" y="2352"/>
                  </a:lnTo>
                  <a:lnTo>
                    <a:pt x="1355" y="2313"/>
                  </a:lnTo>
                  <a:lnTo>
                    <a:pt x="1340" y="2276"/>
                  </a:lnTo>
                  <a:lnTo>
                    <a:pt x="1325" y="2237"/>
                  </a:lnTo>
                  <a:lnTo>
                    <a:pt x="1312" y="2201"/>
                  </a:lnTo>
                  <a:lnTo>
                    <a:pt x="1301" y="2165"/>
                  </a:lnTo>
                  <a:lnTo>
                    <a:pt x="1292" y="2131"/>
                  </a:lnTo>
                  <a:lnTo>
                    <a:pt x="1284" y="2097"/>
                  </a:lnTo>
                  <a:lnTo>
                    <a:pt x="1276" y="2064"/>
                  </a:lnTo>
                  <a:lnTo>
                    <a:pt x="1272" y="2031"/>
                  </a:lnTo>
                  <a:lnTo>
                    <a:pt x="1365" y="1992"/>
                  </a:lnTo>
                  <a:lnTo>
                    <a:pt x="1455" y="1952"/>
                  </a:lnTo>
                  <a:lnTo>
                    <a:pt x="1541" y="1913"/>
                  </a:lnTo>
                  <a:lnTo>
                    <a:pt x="1622" y="1875"/>
                  </a:lnTo>
                  <a:lnTo>
                    <a:pt x="1699" y="1836"/>
                  </a:lnTo>
                  <a:lnTo>
                    <a:pt x="1770" y="1799"/>
                  </a:lnTo>
                  <a:lnTo>
                    <a:pt x="1835" y="1763"/>
                  </a:lnTo>
                  <a:lnTo>
                    <a:pt x="1893" y="1727"/>
                  </a:lnTo>
                  <a:lnTo>
                    <a:pt x="1926" y="1706"/>
                  </a:lnTo>
                  <a:lnTo>
                    <a:pt x="1954" y="1689"/>
                  </a:lnTo>
                  <a:lnTo>
                    <a:pt x="2002" y="1661"/>
                  </a:lnTo>
                  <a:lnTo>
                    <a:pt x="2052" y="1630"/>
                  </a:lnTo>
                  <a:lnTo>
                    <a:pt x="2083" y="1610"/>
                  </a:lnTo>
                  <a:lnTo>
                    <a:pt x="2123" y="1584"/>
                  </a:lnTo>
                  <a:lnTo>
                    <a:pt x="2137" y="1573"/>
                  </a:lnTo>
                  <a:lnTo>
                    <a:pt x="2138" y="1572"/>
                  </a:lnTo>
                  <a:lnTo>
                    <a:pt x="2149" y="1563"/>
                  </a:lnTo>
                  <a:lnTo>
                    <a:pt x="2161" y="1554"/>
                  </a:lnTo>
                  <a:lnTo>
                    <a:pt x="2174" y="1539"/>
                  </a:lnTo>
                  <a:lnTo>
                    <a:pt x="2185" y="1524"/>
                  </a:lnTo>
                  <a:lnTo>
                    <a:pt x="2195" y="1508"/>
                  </a:lnTo>
                  <a:lnTo>
                    <a:pt x="2203" y="1493"/>
                  </a:lnTo>
                  <a:lnTo>
                    <a:pt x="2210" y="1476"/>
                  </a:lnTo>
                  <a:lnTo>
                    <a:pt x="2215" y="1458"/>
                  </a:lnTo>
                  <a:lnTo>
                    <a:pt x="2219" y="1441"/>
                  </a:lnTo>
                  <a:lnTo>
                    <a:pt x="2220" y="1423"/>
                  </a:lnTo>
                  <a:lnTo>
                    <a:pt x="2221" y="1405"/>
                  </a:lnTo>
                  <a:lnTo>
                    <a:pt x="2220" y="1387"/>
                  </a:lnTo>
                  <a:lnTo>
                    <a:pt x="2217" y="1370"/>
                  </a:lnTo>
                  <a:lnTo>
                    <a:pt x="2213" y="1353"/>
                  </a:lnTo>
                  <a:lnTo>
                    <a:pt x="2208" y="1336"/>
                  </a:lnTo>
                  <a:lnTo>
                    <a:pt x="2201" y="1319"/>
                  </a:lnTo>
                  <a:lnTo>
                    <a:pt x="2191" y="1302"/>
                  </a:lnTo>
                  <a:lnTo>
                    <a:pt x="2181" y="1287"/>
                  </a:lnTo>
                  <a:lnTo>
                    <a:pt x="2181" y="1285"/>
                  </a:lnTo>
                  <a:lnTo>
                    <a:pt x="1325" y="87"/>
                  </a:lnTo>
                  <a:lnTo>
                    <a:pt x="1323" y="87"/>
                  </a:lnTo>
                  <a:lnTo>
                    <a:pt x="1312" y="73"/>
                  </a:lnTo>
                  <a:lnTo>
                    <a:pt x="1300" y="58"/>
                  </a:lnTo>
                  <a:lnTo>
                    <a:pt x="1286" y="46"/>
                  </a:lnTo>
                  <a:lnTo>
                    <a:pt x="1270" y="34"/>
                  </a:lnTo>
                  <a:lnTo>
                    <a:pt x="1255" y="25"/>
                  </a:lnTo>
                  <a:lnTo>
                    <a:pt x="1238" y="16"/>
                  </a:lnTo>
                  <a:lnTo>
                    <a:pt x="1221" y="10"/>
                  </a:lnTo>
                  <a:lnTo>
                    <a:pt x="1203" y="6"/>
                  </a:lnTo>
                  <a:lnTo>
                    <a:pt x="1187" y="2"/>
                  </a:lnTo>
                  <a:lnTo>
                    <a:pt x="1169" y="0"/>
                  </a:lnTo>
                  <a:lnTo>
                    <a:pt x="1149" y="0"/>
                  </a:lnTo>
                  <a:lnTo>
                    <a:pt x="1131" y="1"/>
                  </a:lnTo>
                  <a:lnTo>
                    <a:pt x="1114" y="3"/>
                  </a:lnTo>
                  <a:lnTo>
                    <a:pt x="1097" y="8"/>
                  </a:lnTo>
                  <a:lnTo>
                    <a:pt x="1079" y="14"/>
                  </a:lnTo>
                  <a:lnTo>
                    <a:pt x="1062" y="22"/>
                  </a:lnTo>
                  <a:lnTo>
                    <a:pt x="1046" y="31"/>
                  </a:lnTo>
                  <a:lnTo>
                    <a:pt x="1031" y="42"/>
                  </a:lnTo>
                  <a:lnTo>
                    <a:pt x="924" y="116"/>
                  </a:lnTo>
                  <a:lnTo>
                    <a:pt x="819" y="191"/>
                  </a:lnTo>
                  <a:lnTo>
                    <a:pt x="717" y="268"/>
                  </a:lnTo>
                  <a:lnTo>
                    <a:pt x="668" y="306"/>
                  </a:lnTo>
                  <a:lnTo>
                    <a:pt x="619" y="344"/>
                  </a:lnTo>
                  <a:lnTo>
                    <a:pt x="571" y="384"/>
                  </a:lnTo>
                  <a:lnTo>
                    <a:pt x="525" y="423"/>
                  </a:lnTo>
                  <a:lnTo>
                    <a:pt x="480" y="463"/>
                  </a:lnTo>
                  <a:lnTo>
                    <a:pt x="436" y="504"/>
                  </a:lnTo>
                  <a:lnTo>
                    <a:pt x="394" y="543"/>
                  </a:lnTo>
                  <a:lnTo>
                    <a:pt x="353" y="584"/>
                  </a:lnTo>
                  <a:lnTo>
                    <a:pt x="315" y="625"/>
                  </a:lnTo>
                  <a:lnTo>
                    <a:pt x="278" y="667"/>
                  </a:lnTo>
                  <a:lnTo>
                    <a:pt x="242" y="708"/>
                  </a:lnTo>
                  <a:lnTo>
                    <a:pt x="208" y="750"/>
                  </a:lnTo>
                  <a:lnTo>
                    <a:pt x="177" y="792"/>
                  </a:lnTo>
                  <a:lnTo>
                    <a:pt x="149" y="835"/>
                  </a:lnTo>
                  <a:lnTo>
                    <a:pt x="122" y="878"/>
                  </a:lnTo>
                  <a:lnTo>
                    <a:pt x="97" y="922"/>
                  </a:lnTo>
                  <a:lnTo>
                    <a:pt x="76" y="966"/>
                  </a:lnTo>
                  <a:lnTo>
                    <a:pt x="56" y="1010"/>
                  </a:lnTo>
                  <a:lnTo>
                    <a:pt x="40" y="1054"/>
                  </a:lnTo>
                  <a:lnTo>
                    <a:pt x="25" y="1100"/>
                  </a:lnTo>
                  <a:lnTo>
                    <a:pt x="20" y="1123"/>
                  </a:lnTo>
                  <a:lnTo>
                    <a:pt x="15" y="1145"/>
                  </a:lnTo>
                  <a:lnTo>
                    <a:pt x="11" y="1168"/>
                  </a:lnTo>
                  <a:lnTo>
                    <a:pt x="6" y="1191"/>
                  </a:lnTo>
                  <a:lnTo>
                    <a:pt x="4" y="1215"/>
                  </a:lnTo>
                  <a:lnTo>
                    <a:pt x="1" y="1238"/>
                  </a:lnTo>
                  <a:lnTo>
                    <a:pt x="0" y="1262"/>
                  </a:lnTo>
                  <a:lnTo>
                    <a:pt x="0" y="1284"/>
                  </a:lnTo>
                  <a:lnTo>
                    <a:pt x="0" y="1308"/>
                  </a:lnTo>
                  <a:lnTo>
                    <a:pt x="1" y="1332"/>
                  </a:lnTo>
                  <a:lnTo>
                    <a:pt x="3" y="1356"/>
                  </a:lnTo>
                  <a:lnTo>
                    <a:pt x="6" y="1380"/>
                  </a:lnTo>
                  <a:lnTo>
                    <a:pt x="15" y="1433"/>
                  </a:lnTo>
                  <a:lnTo>
                    <a:pt x="26" y="1490"/>
                  </a:lnTo>
                  <a:lnTo>
                    <a:pt x="41" y="1550"/>
                  </a:lnTo>
                  <a:lnTo>
                    <a:pt x="60" y="1615"/>
                  </a:lnTo>
                  <a:lnTo>
                    <a:pt x="82" y="1682"/>
                  </a:lnTo>
                  <a:lnTo>
                    <a:pt x="105" y="1751"/>
                  </a:lnTo>
                  <a:lnTo>
                    <a:pt x="133" y="1824"/>
                  </a:lnTo>
                  <a:lnTo>
                    <a:pt x="163" y="1900"/>
                  </a:lnTo>
                  <a:lnTo>
                    <a:pt x="196" y="1976"/>
                  </a:lnTo>
                  <a:lnTo>
                    <a:pt x="232" y="2057"/>
                  </a:lnTo>
                  <a:lnTo>
                    <a:pt x="272" y="2138"/>
                  </a:lnTo>
                  <a:lnTo>
                    <a:pt x="313" y="2222"/>
                  </a:lnTo>
                  <a:lnTo>
                    <a:pt x="357" y="2308"/>
                  </a:lnTo>
                  <a:lnTo>
                    <a:pt x="404" y="2394"/>
                  </a:lnTo>
                  <a:lnTo>
                    <a:pt x="453" y="2483"/>
                  </a:lnTo>
                  <a:lnTo>
                    <a:pt x="503" y="2571"/>
                  </a:lnTo>
                  <a:lnTo>
                    <a:pt x="557" y="2661"/>
                  </a:lnTo>
                  <a:lnTo>
                    <a:pt x="613" y="2752"/>
                  </a:lnTo>
                  <a:lnTo>
                    <a:pt x="671" y="2843"/>
                  </a:lnTo>
                  <a:lnTo>
                    <a:pt x="730" y="2935"/>
                  </a:lnTo>
                  <a:lnTo>
                    <a:pt x="793" y="3026"/>
                  </a:lnTo>
                  <a:lnTo>
                    <a:pt x="856" y="3118"/>
                  </a:lnTo>
                  <a:lnTo>
                    <a:pt x="922" y="3209"/>
                  </a:lnTo>
                  <a:lnTo>
                    <a:pt x="990" y="3300"/>
                  </a:lnTo>
                  <a:lnTo>
                    <a:pt x="1060" y="3391"/>
                  </a:lnTo>
                  <a:lnTo>
                    <a:pt x="1130" y="3481"/>
                  </a:lnTo>
                  <a:lnTo>
                    <a:pt x="1203" y="3570"/>
                  </a:lnTo>
                  <a:lnTo>
                    <a:pt x="1278" y="3657"/>
                  </a:lnTo>
                  <a:lnTo>
                    <a:pt x="1353" y="3743"/>
                  </a:lnTo>
                  <a:lnTo>
                    <a:pt x="1430" y="3828"/>
                  </a:lnTo>
                  <a:lnTo>
                    <a:pt x="1509" y="3912"/>
                  </a:lnTo>
                  <a:lnTo>
                    <a:pt x="1588" y="3994"/>
                  </a:lnTo>
                  <a:lnTo>
                    <a:pt x="1669" y="4073"/>
                  </a:lnTo>
                  <a:lnTo>
                    <a:pt x="1753" y="4150"/>
                  </a:lnTo>
                  <a:lnTo>
                    <a:pt x="1837" y="4228"/>
                  </a:lnTo>
                  <a:lnTo>
                    <a:pt x="1924" y="4304"/>
                  </a:lnTo>
                  <a:lnTo>
                    <a:pt x="2011" y="4378"/>
                  </a:lnTo>
                  <a:lnTo>
                    <a:pt x="2100" y="4451"/>
                  </a:lnTo>
                  <a:lnTo>
                    <a:pt x="2190" y="4522"/>
                  </a:lnTo>
                  <a:lnTo>
                    <a:pt x="2281" y="4591"/>
                  </a:lnTo>
                  <a:lnTo>
                    <a:pt x="2372" y="4658"/>
                  </a:lnTo>
                  <a:lnTo>
                    <a:pt x="2463" y="4724"/>
                  </a:lnTo>
                  <a:lnTo>
                    <a:pt x="2555" y="4789"/>
                  </a:lnTo>
                  <a:lnTo>
                    <a:pt x="2646" y="4851"/>
                  </a:lnTo>
                  <a:lnTo>
                    <a:pt x="2738" y="4911"/>
                  </a:lnTo>
                  <a:lnTo>
                    <a:pt x="2829" y="4968"/>
                  </a:lnTo>
                  <a:lnTo>
                    <a:pt x="2920" y="5024"/>
                  </a:lnTo>
                  <a:lnTo>
                    <a:pt x="3010" y="5078"/>
                  </a:lnTo>
                  <a:lnTo>
                    <a:pt x="3100" y="5129"/>
                  </a:lnTo>
                  <a:lnTo>
                    <a:pt x="3187" y="5178"/>
                  </a:lnTo>
                  <a:lnTo>
                    <a:pt x="3274" y="5224"/>
                  </a:lnTo>
                  <a:lnTo>
                    <a:pt x="3359" y="5269"/>
                  </a:lnTo>
                  <a:lnTo>
                    <a:pt x="3443" y="5309"/>
                  </a:lnTo>
                  <a:lnTo>
                    <a:pt x="3525" y="5349"/>
                  </a:lnTo>
                  <a:lnTo>
                    <a:pt x="3605" y="5385"/>
                  </a:lnTo>
                  <a:lnTo>
                    <a:pt x="3683" y="5417"/>
                  </a:lnTo>
                  <a:lnTo>
                    <a:pt x="3757" y="5448"/>
                  </a:lnTo>
                  <a:lnTo>
                    <a:pt x="3830" y="5476"/>
                  </a:lnTo>
                  <a:lnTo>
                    <a:pt x="3901" y="5500"/>
                  </a:lnTo>
                  <a:lnTo>
                    <a:pt x="3966" y="5521"/>
                  </a:lnTo>
                  <a:lnTo>
                    <a:pt x="4031" y="5539"/>
                  </a:lnTo>
                  <a:lnTo>
                    <a:pt x="4091" y="5555"/>
                  </a:lnTo>
                  <a:lnTo>
                    <a:pt x="4148" y="5567"/>
                  </a:lnTo>
                  <a:lnTo>
                    <a:pt x="4201" y="5575"/>
                  </a:lnTo>
                  <a:lnTo>
                    <a:pt x="4225" y="5578"/>
                  </a:lnTo>
                  <a:lnTo>
                    <a:pt x="4249" y="5580"/>
                  </a:lnTo>
                  <a:lnTo>
                    <a:pt x="4273" y="5581"/>
                  </a:lnTo>
                  <a:lnTo>
                    <a:pt x="4297" y="5581"/>
                  </a:lnTo>
                  <a:lnTo>
                    <a:pt x="4320" y="5581"/>
                  </a:lnTo>
                  <a:lnTo>
                    <a:pt x="4344" y="5579"/>
                  </a:lnTo>
                  <a:lnTo>
                    <a:pt x="4366" y="5578"/>
                  </a:lnTo>
                  <a:lnTo>
                    <a:pt x="4390" y="5574"/>
                  </a:lnTo>
                  <a:lnTo>
                    <a:pt x="4413" y="5570"/>
                  </a:lnTo>
                  <a:lnTo>
                    <a:pt x="4436" y="5567"/>
                  </a:lnTo>
                  <a:lnTo>
                    <a:pt x="4458" y="5561"/>
                  </a:lnTo>
                  <a:lnTo>
                    <a:pt x="4481" y="5555"/>
                  </a:lnTo>
                  <a:lnTo>
                    <a:pt x="4527" y="5542"/>
                  </a:lnTo>
                  <a:lnTo>
                    <a:pt x="4571" y="5525"/>
                  </a:lnTo>
                  <a:lnTo>
                    <a:pt x="4615" y="5506"/>
                  </a:lnTo>
                  <a:lnTo>
                    <a:pt x="4660" y="5483"/>
                  </a:lnTo>
                  <a:lnTo>
                    <a:pt x="4703" y="5459"/>
                  </a:lnTo>
                  <a:lnTo>
                    <a:pt x="4746" y="5433"/>
                  </a:lnTo>
                  <a:lnTo>
                    <a:pt x="4789" y="5404"/>
                  </a:lnTo>
                  <a:lnTo>
                    <a:pt x="4831" y="5373"/>
                  </a:lnTo>
                  <a:lnTo>
                    <a:pt x="4873" y="5339"/>
                  </a:lnTo>
                  <a:lnTo>
                    <a:pt x="4915" y="5303"/>
                  </a:lnTo>
                  <a:lnTo>
                    <a:pt x="4956" y="5266"/>
                  </a:lnTo>
                  <a:lnTo>
                    <a:pt x="4997" y="5228"/>
                  </a:lnTo>
                  <a:lnTo>
                    <a:pt x="5038" y="5187"/>
                  </a:lnTo>
                  <a:lnTo>
                    <a:pt x="5077" y="5145"/>
                  </a:lnTo>
                  <a:lnTo>
                    <a:pt x="5118" y="5101"/>
                  </a:lnTo>
                  <a:lnTo>
                    <a:pt x="5158" y="5057"/>
                  </a:lnTo>
                  <a:lnTo>
                    <a:pt x="5197" y="5010"/>
                  </a:lnTo>
                  <a:lnTo>
                    <a:pt x="5237" y="4962"/>
                  </a:lnTo>
                  <a:lnTo>
                    <a:pt x="5275" y="4914"/>
                  </a:lnTo>
                  <a:lnTo>
                    <a:pt x="5313" y="4864"/>
                  </a:lnTo>
                  <a:lnTo>
                    <a:pt x="5352" y="4814"/>
                  </a:lnTo>
                  <a:lnTo>
                    <a:pt x="5390" y="4762"/>
                  </a:lnTo>
                  <a:lnTo>
                    <a:pt x="5465" y="4657"/>
                  </a:lnTo>
                  <a:lnTo>
                    <a:pt x="5540" y="4550"/>
                  </a:lnTo>
                  <a:lnTo>
                    <a:pt x="5550" y="4535"/>
                  </a:lnTo>
                  <a:lnTo>
                    <a:pt x="5559" y="4518"/>
                  </a:lnTo>
                  <a:lnTo>
                    <a:pt x="5567" y="4501"/>
                  </a:lnTo>
                  <a:lnTo>
                    <a:pt x="5573" y="4484"/>
                  </a:lnTo>
                  <a:lnTo>
                    <a:pt x="5578" y="4467"/>
                  </a:lnTo>
                  <a:lnTo>
                    <a:pt x="5580" y="4449"/>
                  </a:lnTo>
                  <a:lnTo>
                    <a:pt x="5581" y="4431"/>
                  </a:lnTo>
                  <a:lnTo>
                    <a:pt x="5581" y="4413"/>
                  </a:lnTo>
                  <a:lnTo>
                    <a:pt x="5579" y="4395"/>
                  </a:lnTo>
                  <a:lnTo>
                    <a:pt x="5575" y="4377"/>
                  </a:lnTo>
                  <a:lnTo>
                    <a:pt x="5571" y="4360"/>
                  </a:lnTo>
                  <a:lnTo>
                    <a:pt x="5565" y="4343"/>
                  </a:lnTo>
                  <a:lnTo>
                    <a:pt x="5556" y="4326"/>
                  </a:lnTo>
                  <a:lnTo>
                    <a:pt x="5547" y="4310"/>
                  </a:lnTo>
                  <a:lnTo>
                    <a:pt x="5535" y="4295"/>
                  </a:lnTo>
                  <a:lnTo>
                    <a:pt x="5522" y="4281"/>
                  </a:lnTo>
                  <a:close/>
                  <a:moveTo>
                    <a:pt x="5006" y="2620"/>
                  </a:moveTo>
                  <a:lnTo>
                    <a:pt x="5286" y="2547"/>
                  </a:lnTo>
                  <a:lnTo>
                    <a:pt x="5247" y="2453"/>
                  </a:lnTo>
                  <a:lnTo>
                    <a:pt x="5206" y="2361"/>
                  </a:lnTo>
                  <a:lnTo>
                    <a:pt x="5161" y="2268"/>
                  </a:lnTo>
                  <a:lnTo>
                    <a:pt x="5115" y="2177"/>
                  </a:lnTo>
                  <a:lnTo>
                    <a:pt x="5067" y="2088"/>
                  </a:lnTo>
                  <a:lnTo>
                    <a:pt x="5015" y="1999"/>
                  </a:lnTo>
                  <a:lnTo>
                    <a:pt x="4962" y="1912"/>
                  </a:lnTo>
                  <a:lnTo>
                    <a:pt x="4906" y="1825"/>
                  </a:lnTo>
                  <a:lnTo>
                    <a:pt x="4849" y="1740"/>
                  </a:lnTo>
                  <a:lnTo>
                    <a:pt x="4789" y="1658"/>
                  </a:lnTo>
                  <a:lnTo>
                    <a:pt x="4728" y="1575"/>
                  </a:lnTo>
                  <a:lnTo>
                    <a:pt x="4663" y="1495"/>
                  </a:lnTo>
                  <a:lnTo>
                    <a:pt x="4597" y="1417"/>
                  </a:lnTo>
                  <a:lnTo>
                    <a:pt x="4530" y="1341"/>
                  </a:lnTo>
                  <a:lnTo>
                    <a:pt x="4461" y="1265"/>
                  </a:lnTo>
                  <a:lnTo>
                    <a:pt x="4389" y="1192"/>
                  </a:lnTo>
                  <a:lnTo>
                    <a:pt x="4316" y="1120"/>
                  </a:lnTo>
                  <a:lnTo>
                    <a:pt x="4241" y="1051"/>
                  </a:lnTo>
                  <a:lnTo>
                    <a:pt x="4164" y="983"/>
                  </a:lnTo>
                  <a:lnTo>
                    <a:pt x="4085" y="917"/>
                  </a:lnTo>
                  <a:lnTo>
                    <a:pt x="4005" y="853"/>
                  </a:lnTo>
                  <a:lnTo>
                    <a:pt x="3923" y="791"/>
                  </a:lnTo>
                  <a:lnTo>
                    <a:pt x="3840" y="732"/>
                  </a:lnTo>
                  <a:lnTo>
                    <a:pt x="3756" y="674"/>
                  </a:lnTo>
                  <a:lnTo>
                    <a:pt x="3670" y="619"/>
                  </a:lnTo>
                  <a:lnTo>
                    <a:pt x="3582" y="566"/>
                  </a:lnTo>
                  <a:lnTo>
                    <a:pt x="3494" y="514"/>
                  </a:lnTo>
                  <a:lnTo>
                    <a:pt x="3404" y="465"/>
                  </a:lnTo>
                  <a:lnTo>
                    <a:pt x="3313" y="420"/>
                  </a:lnTo>
                  <a:lnTo>
                    <a:pt x="3221" y="376"/>
                  </a:lnTo>
                  <a:lnTo>
                    <a:pt x="3128" y="334"/>
                  </a:lnTo>
                  <a:lnTo>
                    <a:pt x="3034" y="295"/>
                  </a:lnTo>
                  <a:lnTo>
                    <a:pt x="2961" y="576"/>
                  </a:lnTo>
                  <a:lnTo>
                    <a:pt x="3047" y="610"/>
                  </a:lnTo>
                  <a:lnTo>
                    <a:pt x="3131" y="647"/>
                  </a:lnTo>
                  <a:lnTo>
                    <a:pt x="3215" y="687"/>
                  </a:lnTo>
                  <a:lnTo>
                    <a:pt x="3297" y="729"/>
                  </a:lnTo>
                  <a:lnTo>
                    <a:pt x="3380" y="772"/>
                  </a:lnTo>
                  <a:lnTo>
                    <a:pt x="3460" y="819"/>
                  </a:lnTo>
                  <a:lnTo>
                    <a:pt x="3540" y="866"/>
                  </a:lnTo>
                  <a:lnTo>
                    <a:pt x="3618" y="917"/>
                  </a:lnTo>
                  <a:lnTo>
                    <a:pt x="3696" y="968"/>
                  </a:lnTo>
                  <a:lnTo>
                    <a:pt x="3771" y="1022"/>
                  </a:lnTo>
                  <a:lnTo>
                    <a:pt x="3846" y="1078"/>
                  </a:lnTo>
                  <a:lnTo>
                    <a:pt x="3919" y="1136"/>
                  </a:lnTo>
                  <a:lnTo>
                    <a:pt x="3990" y="1196"/>
                  </a:lnTo>
                  <a:lnTo>
                    <a:pt x="4061" y="1257"/>
                  </a:lnTo>
                  <a:lnTo>
                    <a:pt x="4129" y="1320"/>
                  </a:lnTo>
                  <a:lnTo>
                    <a:pt x="4195" y="1386"/>
                  </a:lnTo>
                  <a:lnTo>
                    <a:pt x="4261" y="1452"/>
                  </a:lnTo>
                  <a:lnTo>
                    <a:pt x="4324" y="1520"/>
                  </a:lnTo>
                  <a:lnTo>
                    <a:pt x="4385" y="1591"/>
                  </a:lnTo>
                  <a:lnTo>
                    <a:pt x="4445" y="1663"/>
                  </a:lnTo>
                  <a:lnTo>
                    <a:pt x="4503" y="1736"/>
                  </a:lnTo>
                  <a:lnTo>
                    <a:pt x="4559" y="1810"/>
                  </a:lnTo>
                  <a:lnTo>
                    <a:pt x="4613" y="1885"/>
                  </a:lnTo>
                  <a:lnTo>
                    <a:pt x="4664" y="1963"/>
                  </a:lnTo>
                  <a:lnTo>
                    <a:pt x="4715" y="2041"/>
                  </a:lnTo>
                  <a:lnTo>
                    <a:pt x="4763" y="2121"/>
                  </a:lnTo>
                  <a:lnTo>
                    <a:pt x="4809" y="2201"/>
                  </a:lnTo>
                  <a:lnTo>
                    <a:pt x="4852" y="2284"/>
                  </a:lnTo>
                  <a:lnTo>
                    <a:pt x="4894" y="2367"/>
                  </a:lnTo>
                  <a:lnTo>
                    <a:pt x="4934" y="2450"/>
                  </a:lnTo>
                  <a:lnTo>
                    <a:pt x="4971" y="2534"/>
                  </a:lnTo>
                  <a:lnTo>
                    <a:pt x="5006" y="2620"/>
                  </a:lnTo>
                  <a:close/>
                  <a:moveTo>
                    <a:pt x="3200" y="1125"/>
                  </a:moveTo>
                  <a:lnTo>
                    <a:pt x="3104" y="1404"/>
                  </a:lnTo>
                  <a:lnTo>
                    <a:pt x="3150" y="1424"/>
                  </a:lnTo>
                  <a:lnTo>
                    <a:pt x="3194" y="1445"/>
                  </a:lnTo>
                  <a:lnTo>
                    <a:pt x="3240" y="1466"/>
                  </a:lnTo>
                  <a:lnTo>
                    <a:pt x="3285" y="1489"/>
                  </a:lnTo>
                  <a:lnTo>
                    <a:pt x="3330" y="1512"/>
                  </a:lnTo>
                  <a:lnTo>
                    <a:pt x="3374" y="1536"/>
                  </a:lnTo>
                  <a:lnTo>
                    <a:pt x="3418" y="1561"/>
                  </a:lnTo>
                  <a:lnTo>
                    <a:pt x="3461" y="1586"/>
                  </a:lnTo>
                  <a:lnTo>
                    <a:pt x="3503" y="1614"/>
                  </a:lnTo>
                  <a:lnTo>
                    <a:pt x="3545" y="1641"/>
                  </a:lnTo>
                  <a:lnTo>
                    <a:pt x="3586" y="1670"/>
                  </a:lnTo>
                  <a:lnTo>
                    <a:pt x="3626" y="1700"/>
                  </a:lnTo>
                  <a:lnTo>
                    <a:pt x="3666" y="1731"/>
                  </a:lnTo>
                  <a:lnTo>
                    <a:pt x="3703" y="1763"/>
                  </a:lnTo>
                  <a:lnTo>
                    <a:pt x="3740" y="1797"/>
                  </a:lnTo>
                  <a:lnTo>
                    <a:pt x="3776" y="1831"/>
                  </a:lnTo>
                  <a:lnTo>
                    <a:pt x="3811" y="1867"/>
                  </a:lnTo>
                  <a:lnTo>
                    <a:pt x="3844" y="1904"/>
                  </a:lnTo>
                  <a:lnTo>
                    <a:pt x="3877" y="1943"/>
                  </a:lnTo>
                  <a:lnTo>
                    <a:pt x="3908" y="1982"/>
                  </a:lnTo>
                  <a:lnTo>
                    <a:pt x="3939" y="2023"/>
                  </a:lnTo>
                  <a:lnTo>
                    <a:pt x="3968" y="2064"/>
                  </a:lnTo>
                  <a:lnTo>
                    <a:pt x="3995" y="2106"/>
                  </a:lnTo>
                  <a:lnTo>
                    <a:pt x="4023" y="2149"/>
                  </a:lnTo>
                  <a:lnTo>
                    <a:pt x="4049" y="2192"/>
                  </a:lnTo>
                  <a:lnTo>
                    <a:pt x="4074" y="2236"/>
                  </a:lnTo>
                  <a:lnTo>
                    <a:pt x="4098" y="2280"/>
                  </a:lnTo>
                  <a:lnTo>
                    <a:pt x="4121" y="2326"/>
                  </a:lnTo>
                  <a:lnTo>
                    <a:pt x="4144" y="2370"/>
                  </a:lnTo>
                  <a:lnTo>
                    <a:pt x="4165" y="2416"/>
                  </a:lnTo>
                  <a:lnTo>
                    <a:pt x="4186" y="2461"/>
                  </a:lnTo>
                  <a:lnTo>
                    <a:pt x="4206" y="2507"/>
                  </a:lnTo>
                  <a:lnTo>
                    <a:pt x="4446" y="2391"/>
                  </a:lnTo>
                  <a:lnTo>
                    <a:pt x="4424" y="2337"/>
                  </a:lnTo>
                  <a:lnTo>
                    <a:pt x="4400" y="2284"/>
                  </a:lnTo>
                  <a:lnTo>
                    <a:pt x="4376" y="2231"/>
                  </a:lnTo>
                  <a:lnTo>
                    <a:pt x="4351" y="2180"/>
                  </a:lnTo>
                  <a:lnTo>
                    <a:pt x="4326" y="2130"/>
                  </a:lnTo>
                  <a:lnTo>
                    <a:pt x="4298" y="2080"/>
                  </a:lnTo>
                  <a:lnTo>
                    <a:pt x="4271" y="2031"/>
                  </a:lnTo>
                  <a:lnTo>
                    <a:pt x="4242" y="1983"/>
                  </a:lnTo>
                  <a:lnTo>
                    <a:pt x="4212" y="1937"/>
                  </a:lnTo>
                  <a:lnTo>
                    <a:pt x="4180" y="1890"/>
                  </a:lnTo>
                  <a:lnTo>
                    <a:pt x="4147" y="1845"/>
                  </a:lnTo>
                  <a:lnTo>
                    <a:pt x="4114" y="1799"/>
                  </a:lnTo>
                  <a:lnTo>
                    <a:pt x="4078" y="1755"/>
                  </a:lnTo>
                  <a:lnTo>
                    <a:pt x="4041" y="1712"/>
                  </a:lnTo>
                  <a:lnTo>
                    <a:pt x="4002" y="1670"/>
                  </a:lnTo>
                  <a:lnTo>
                    <a:pt x="3962" y="1628"/>
                  </a:lnTo>
                  <a:lnTo>
                    <a:pt x="3921" y="1588"/>
                  </a:lnTo>
                  <a:lnTo>
                    <a:pt x="3879" y="1549"/>
                  </a:lnTo>
                  <a:lnTo>
                    <a:pt x="3836" y="1512"/>
                  </a:lnTo>
                  <a:lnTo>
                    <a:pt x="3792" y="1476"/>
                  </a:lnTo>
                  <a:lnTo>
                    <a:pt x="3747" y="1440"/>
                  </a:lnTo>
                  <a:lnTo>
                    <a:pt x="3701" y="1406"/>
                  </a:lnTo>
                  <a:lnTo>
                    <a:pt x="3654" y="1373"/>
                  </a:lnTo>
                  <a:lnTo>
                    <a:pt x="3607" y="1342"/>
                  </a:lnTo>
                  <a:lnTo>
                    <a:pt x="3558" y="1311"/>
                  </a:lnTo>
                  <a:lnTo>
                    <a:pt x="3509" y="1281"/>
                  </a:lnTo>
                  <a:lnTo>
                    <a:pt x="3459" y="1252"/>
                  </a:lnTo>
                  <a:lnTo>
                    <a:pt x="3409" y="1226"/>
                  </a:lnTo>
                  <a:lnTo>
                    <a:pt x="3357" y="1198"/>
                  </a:lnTo>
                  <a:lnTo>
                    <a:pt x="3306" y="1173"/>
                  </a:lnTo>
                  <a:lnTo>
                    <a:pt x="3253" y="1149"/>
                  </a:lnTo>
                  <a:lnTo>
                    <a:pt x="3200" y="1125"/>
                  </a:lnTo>
                  <a:close/>
                </a:path>
              </a:pathLst>
            </a:custGeom>
            <a:solidFill>
              <a:schemeClr val="bg1"/>
            </a:solidFill>
            <a:ln w="9525">
              <a:solidFill>
                <a:srgbClr val="000000">
                  <a:lumMod val="65000"/>
                  <a:lumOff val="35000"/>
                </a:srgbClr>
              </a:solidFill>
              <a:round/>
            </a:ln>
          </p:spPr>
          <p:style>
            <a:lnRef idx="0"/>
            <a:fillRef idx="0"/>
            <a:effectRef idx="0"/>
            <a:fontRef idx="minor"/>
          </p:style>
          <p:txBody>
            <a:bodyPr lIns="90000" rIns="90000" tIns="45000" bIns="45000" anchor="ctr">
              <a:noAutofit/>
              <a:scene3d>
                <a:camera prst="orthographicFront"/>
                <a:lightRig dir="t" rig="threePt"/>
              </a:scene3d>
              <a:sp3d>
                <a:contourClr>
                  <a:srgbClr val="ffffff"/>
                </a:contourClr>
              </a:sp3d>
            </a:bodyPr>
            <a:p>
              <a:pPr algn="ctr">
                <a:lnSpc>
                  <a:spcPct val="100000"/>
                </a:lnSpc>
              </a:pPr>
              <a:endParaRPr b="0" lang="en-US" sz="1800" spc="-1" strike="noStrike">
                <a:solidFill>
                  <a:srgbClr val="ffffff"/>
                </a:solidFill>
                <a:latin typeface="Calibri"/>
              </a:endParaRPr>
            </a:p>
          </p:txBody>
        </p:sp>
      </p:grpSp>
      <p:sp>
        <p:nvSpPr>
          <p:cNvPr id="124" name="文本框 27"/>
          <p:cNvSpPr/>
          <p:nvPr/>
        </p:nvSpPr>
        <p:spPr>
          <a:xfrm>
            <a:off x="213120" y="682920"/>
            <a:ext cx="15771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808080"/>
                </a:solidFill>
                <a:latin typeface="方正兰亭超细黑简体"/>
                <a:ea typeface="方正兰亭超细黑简体"/>
              </a:rPr>
              <a:t>TITLE HERE</a:t>
            </a:r>
            <a:endParaRPr b="0" lang="en-US" sz="2000" spc="-1" strike="noStrike">
              <a:solidFill>
                <a:srgbClr val="000000"/>
              </a:solidFill>
              <a:latin typeface="Arial"/>
            </a:endParaRPr>
          </a:p>
        </p:txBody>
      </p:sp>
    </p:spTree>
  </p:cSld>
  <mc:AlternateContent>
    <mc:Choice Requires="p14">
      <p:transition spd="med" advTm="0" p14:dur="800"/>
    </mc:Choice>
    <mc:Fallback>
      <p:transition spd="med" advTm="0"/>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 presetSubtype="8">
                                  <p:stCondLst>
                                    <p:cond delay="0"/>
                                  </p:stCondLst>
                                  <p:childTnLst>
                                    <p:set>
                                      <p:cBhvr>
                                        <p:cTn id="47" dur="1" fill="hold">
                                          <p:stCondLst>
                                            <p:cond delay="0"/>
                                          </p:stCondLst>
                                        </p:cTn>
                                        <p:tgtEl>
                                          <p:spTgt spid="97"/>
                                        </p:tgtEl>
                                        <p:attrNameLst>
                                          <p:attrName>style.visibility</p:attrName>
                                        </p:attrNameLst>
                                      </p:cBhvr>
                                      <p:to>
                                        <p:strVal val="visible"/>
                                      </p:to>
                                    </p:set>
                                    <p:anim calcmode="lin" valueType="num">
                                      <p:cBhvr additive="repl">
                                        <p:cTn id="48" dur="500" fill="hold"/>
                                        <p:tgtEl>
                                          <p:spTgt spid="97"/>
                                        </p:tgtEl>
                                        <p:attrNameLst>
                                          <p:attrName>ppt_x</p:attrName>
                                        </p:attrNameLst>
                                      </p:cBhvr>
                                      <p:tavLst>
                                        <p:tav tm="0">
                                          <p:val>
                                            <p:strVal val="0-#ppt_w/2"/>
                                          </p:val>
                                        </p:tav>
                                        <p:tav tm="100000">
                                          <p:val>
                                            <p:strVal val="#ppt_x"/>
                                          </p:val>
                                        </p:tav>
                                      </p:tavLst>
                                    </p:anim>
                                    <p:anim calcmode="lin" valueType="num">
                                      <p:cBhvr additive="repl">
                                        <p:cTn id="49" dur="500" fill="hold"/>
                                        <p:tgtEl>
                                          <p:spTgt spid="97"/>
                                        </p:tgtEl>
                                        <p:attrNameLst>
                                          <p:attrName>ppt_y</p:attrName>
                                        </p:attrNameLst>
                                      </p:cBhvr>
                                      <p:tavLst>
                                        <p:tav tm="0">
                                          <p:val>
                                            <p:strVal val="#ppt_y"/>
                                          </p:val>
                                        </p:tav>
                                        <p:tav tm="100000">
                                          <p:val>
                                            <p:strVal val="#ppt_y"/>
                                          </p:val>
                                        </p:tav>
                                      </p:tavLst>
                                    </p:anim>
                                  </p:childTnLst>
                                </p:cTn>
                              </p:par>
                              <p:par>
                                <p:cTn id="50" nodeType="withEffect" fill="hold" presetClass="emph" presetID="32">
                                  <p:stCondLst>
                                    <p:cond delay="500"/>
                                  </p:stCondLst>
                                  <p:childTnLst>
                                    <p:animRot by="120000">
                                      <p:cBhvr>
                                        <p:cTn id="51" dur="100" fill="hold">
                                          <p:stCondLst>
                                            <p:cond delay="0"/>
                                          </p:stCondLst>
                                        </p:cTn>
                                        <p:tgtEl>
                                          <p:spTgt spid="97"/>
                                        </p:tgtEl>
                                        <p:attrNameLst>
                                          <p:attrName>r</p:attrName>
                                        </p:attrNameLst>
                                      </p:cBhvr>
                                    </p:animRot>
                                    <p:animRot by="-240000">
                                      <p:cBhvr>
                                        <p:cTn id="52" dur="200" fill="hold">
                                          <p:stCondLst>
                                            <p:cond delay="200"/>
                                          </p:stCondLst>
                                        </p:cTn>
                                        <p:tgtEl>
                                          <p:spTgt spid="97"/>
                                        </p:tgtEl>
                                        <p:attrNameLst>
                                          <p:attrName>r</p:attrName>
                                        </p:attrNameLst>
                                      </p:cBhvr>
                                    </p:animRot>
                                    <p:animRot by="240000">
                                      <p:cBhvr>
                                        <p:cTn id="53" dur="200" fill="hold">
                                          <p:stCondLst>
                                            <p:cond delay="400"/>
                                          </p:stCondLst>
                                        </p:cTn>
                                        <p:tgtEl>
                                          <p:spTgt spid="97"/>
                                        </p:tgtEl>
                                        <p:attrNameLst>
                                          <p:attrName>r</p:attrName>
                                        </p:attrNameLst>
                                      </p:cBhvr>
                                    </p:animRot>
                                    <p:animRot by="-240000">
                                      <p:cBhvr>
                                        <p:cTn id="54" dur="200" fill="hold">
                                          <p:stCondLst>
                                            <p:cond delay="600"/>
                                          </p:stCondLst>
                                        </p:cTn>
                                        <p:tgtEl>
                                          <p:spTgt spid="97"/>
                                        </p:tgtEl>
                                        <p:attrNameLst>
                                          <p:attrName>r</p:attrName>
                                        </p:attrNameLst>
                                      </p:cBhvr>
                                    </p:animRot>
                                    <p:animRot by="120000">
                                      <p:cBhvr>
                                        <p:cTn id="55" dur="200" fill="hold">
                                          <p:stCondLst>
                                            <p:cond delay="800"/>
                                          </p:stCondLst>
                                        </p:cTn>
                                        <p:tgtEl>
                                          <p:spTgt spid="97"/>
                                        </p:tgtEl>
                                        <p:attrNameLst>
                                          <p:attrName>r</p:attrName>
                                        </p:attrNameLst>
                                      </p:cBhvr>
                                    </p:animRot>
                                  </p:childTnLst>
                                </p:cTn>
                              </p:par>
                              <p:par>
                                <p:cTn id="56" nodeType="withEffect" fill="hold" presetClass="entr" presetID="10">
                                  <p:stCondLst>
                                    <p:cond delay="1500"/>
                                  </p:stCondLst>
                                  <p:childTnLst>
                                    <p:set>
                                      <p:cBhvr>
                                        <p:cTn id="57" dur="1" fill="hold">
                                          <p:stCondLst>
                                            <p:cond delay="0"/>
                                          </p:stCondLst>
                                        </p:cTn>
                                        <p:tgtEl>
                                          <p:spTgt spid="124"/>
                                        </p:tgtEl>
                                        <p:attrNameLst>
                                          <p:attrName>style.visibility</p:attrName>
                                        </p:attrNameLst>
                                      </p:cBhvr>
                                      <p:to>
                                        <p:strVal val="visible"/>
                                      </p:to>
                                    </p:set>
                                    <p:animEffect filter="fade" transition="in">
                                      <p:cBhvr additive="repl">
                                        <p:cTn id="58" dur="500"/>
                                        <p:tgtEl>
                                          <p:spTgt spid="124"/>
                                        </p:tgtEl>
                                      </p:cBhvr>
                                    </p:animEffect>
                                  </p:childTnLst>
                                </p:cTn>
                              </p:par>
                              <p:par>
                                <p:cTn id="59" nodeType="withEffect" fill="hold" presetClass="entr" presetID="10">
                                  <p:stCondLst>
                                    <p:cond delay="2000"/>
                                  </p:stCondLst>
                                  <p:childTnLst>
                                    <p:set>
                                      <p:cBhvr>
                                        <p:cTn id="60" dur="1" fill="hold">
                                          <p:stCondLst>
                                            <p:cond delay="0"/>
                                          </p:stCondLst>
                                        </p:cTn>
                                        <p:tgtEl>
                                          <p:spTgt spid="100"/>
                                        </p:tgtEl>
                                        <p:attrNameLst>
                                          <p:attrName>style.visibility</p:attrName>
                                        </p:attrNameLst>
                                      </p:cBhvr>
                                      <p:to>
                                        <p:strVal val="visible"/>
                                      </p:to>
                                    </p:set>
                                    <p:animEffect filter="fade" transition="in">
                                      <p:cBhvr additive="repl">
                                        <p:cTn id="61" dur="500"/>
                                        <p:tgtEl>
                                          <p:spTgt spid="100"/>
                                        </p:tgtEl>
                                      </p:cBhvr>
                                    </p:animEffect>
                                  </p:childTnLst>
                                </p:cTn>
                              </p:par>
                              <p:par>
                                <p:cTn id="62" nodeType="withEffect" fill="hold" presetClass="entr" presetID="10">
                                  <p:stCondLst>
                                    <p:cond delay="2500"/>
                                  </p:stCondLst>
                                  <p:childTnLst>
                                    <p:set>
                                      <p:cBhvr>
                                        <p:cTn id="63" dur="1" fill="hold">
                                          <p:stCondLst>
                                            <p:cond delay="0"/>
                                          </p:stCondLst>
                                        </p:cTn>
                                        <p:tgtEl>
                                          <p:spTgt spid="108"/>
                                        </p:tgtEl>
                                        <p:attrNameLst>
                                          <p:attrName>style.visibility</p:attrName>
                                        </p:attrNameLst>
                                      </p:cBhvr>
                                      <p:to>
                                        <p:strVal val="visible"/>
                                      </p:to>
                                    </p:set>
                                    <p:animEffect filter="fade" transition="in">
                                      <p:cBhvr additive="repl">
                                        <p:cTn id="64" dur="500"/>
                                        <p:tgtEl>
                                          <p:spTgt spid="108"/>
                                        </p:tgtEl>
                                      </p:cBhvr>
                                    </p:animEffect>
                                  </p:childTnLst>
                                </p:cTn>
                              </p:par>
                              <p:par>
                                <p:cTn id="65" nodeType="withEffect" fill="hold" presetClass="entr" presetID="10">
                                  <p:stCondLst>
                                    <p:cond delay="3000"/>
                                  </p:stCondLst>
                                  <p:childTnLst>
                                    <p:set>
                                      <p:cBhvr>
                                        <p:cTn id="66" dur="1" fill="hold">
                                          <p:stCondLst>
                                            <p:cond delay="0"/>
                                          </p:stCondLst>
                                        </p:cTn>
                                        <p:tgtEl>
                                          <p:spTgt spid="111"/>
                                        </p:tgtEl>
                                        <p:attrNameLst>
                                          <p:attrName>style.visibility</p:attrName>
                                        </p:attrNameLst>
                                      </p:cBhvr>
                                      <p:to>
                                        <p:strVal val="visible"/>
                                      </p:to>
                                    </p:set>
                                    <p:animEffect filter="fade" transition="in">
                                      <p:cBhvr additive="repl">
                                        <p:cTn id="67" dur="500"/>
                                        <p:tgtEl>
                                          <p:spTgt spid="111"/>
                                        </p:tgtEl>
                                      </p:cBhvr>
                                    </p:animEffect>
                                  </p:childTnLst>
                                </p:cTn>
                              </p:par>
                              <p:par>
                                <p:cTn id="68" nodeType="withEffect" fill="hold" presetClass="entr" presetID="10">
                                  <p:stCondLst>
                                    <p:cond delay="3500"/>
                                  </p:stCondLst>
                                  <p:childTnLst>
                                    <p:set>
                                      <p:cBhvr>
                                        <p:cTn id="69" dur="1" fill="hold">
                                          <p:stCondLst>
                                            <p:cond delay="0"/>
                                          </p:stCondLst>
                                        </p:cTn>
                                        <p:tgtEl>
                                          <p:spTgt spid="103"/>
                                        </p:tgtEl>
                                        <p:attrNameLst>
                                          <p:attrName>style.visibility</p:attrName>
                                        </p:attrNameLst>
                                      </p:cBhvr>
                                      <p:to>
                                        <p:strVal val="visible"/>
                                      </p:to>
                                    </p:set>
                                    <p:animEffect filter="fade" transition="in">
                                      <p:cBhvr additive="repl">
                                        <p:cTn id="70" dur="500"/>
                                        <p:tgtEl>
                                          <p:spTgt spid="103"/>
                                        </p:tgtEl>
                                      </p:cBhvr>
                                    </p:animEffect>
                                  </p:childTnLst>
                                </p:cTn>
                              </p:par>
                              <p:par>
                                <p:cTn id="71" nodeType="withEffect" fill="hold" presetClass="entr" presetID="10">
                                  <p:stCondLst>
                                    <p:cond delay="3500"/>
                                  </p:stCondLst>
                                  <p:childTnLst>
                                    <p:set>
                                      <p:cBhvr>
                                        <p:cTn id="72" dur="1" fill="hold">
                                          <p:stCondLst>
                                            <p:cond delay="0"/>
                                          </p:stCondLst>
                                        </p:cTn>
                                        <p:tgtEl>
                                          <p:spTgt spid="114"/>
                                        </p:tgtEl>
                                        <p:attrNameLst>
                                          <p:attrName>style.visibility</p:attrName>
                                        </p:attrNameLst>
                                      </p:cBhvr>
                                      <p:to>
                                        <p:strVal val="visible"/>
                                      </p:to>
                                    </p:set>
                                    <p:animEffect filter="fade" transition="in">
                                      <p:cBhvr additive="repl">
                                        <p:cTn id="73" dur="500"/>
                                        <p:tgtEl>
                                          <p:spTgt spid="114"/>
                                        </p:tgtEl>
                                      </p:cBhvr>
                                    </p:animEffect>
                                  </p:childTnLst>
                                </p:cTn>
                              </p:par>
                              <p:par>
                                <p:cTn id="74" nodeType="withEffect" fill="hold" presetClass="entr" presetID="10">
                                  <p:stCondLst>
                                    <p:cond delay="3500"/>
                                  </p:stCondLst>
                                  <p:childTnLst>
                                    <p:set>
                                      <p:cBhvr>
                                        <p:cTn id="75" dur="1" fill="hold">
                                          <p:stCondLst>
                                            <p:cond delay="0"/>
                                          </p:stCondLst>
                                        </p:cTn>
                                        <p:tgtEl>
                                          <p:spTgt spid="119"/>
                                        </p:tgtEl>
                                        <p:attrNameLst>
                                          <p:attrName>style.visibility</p:attrName>
                                        </p:attrNameLst>
                                      </p:cBhvr>
                                      <p:to>
                                        <p:strVal val="visible"/>
                                      </p:to>
                                    </p:set>
                                    <p:animEffect filter="fade" transition="in">
                                      <p:cBhvr additive="repl">
                                        <p:cTn id="76" dur="500"/>
                                        <p:tgtEl>
                                          <p:spTgt spid="119"/>
                                        </p:tgtEl>
                                      </p:cBhvr>
                                    </p:animEffect>
                                  </p:childTnLst>
                                </p:cTn>
                              </p:par>
                              <p:par>
                                <p:cTn id="77" nodeType="withEffect" fill="hold" presetClass="exit" presetID="2" presetSubtype="8">
                                  <p:stCondLst>
                                    <p:cond delay="4000"/>
                                  </p:stCondLst>
                                  <p:childTnLst>
                                    <p:anim calcmode="lin" valueType="num">
                                      <p:cBhvr additive="repl">
                                        <p:cTn id="78" dur="500"/>
                                        <p:tgtEl>
                                          <p:spTgt spid="97"/>
                                        </p:tgtEl>
                                        <p:attrNameLst>
                                          <p:attrName>ppt_x</p:attrName>
                                        </p:attrNameLst>
                                      </p:cBhvr>
                                      <p:tavLst>
                                        <p:tav tm="0">
                                          <p:val>
                                            <p:strVal val="#ppt_x"/>
                                          </p:val>
                                        </p:tav>
                                        <p:tav tm="100000">
                                          <p:val>
                                            <p:strVal val="0-#ppt_w/2"/>
                                          </p:val>
                                        </p:tav>
                                      </p:tavLst>
                                    </p:anim>
                                    <p:anim calcmode="lin" valueType="num">
                                      <p:cBhvr additive="repl">
                                        <p:cTn id="79" dur="500"/>
                                        <p:tgtEl>
                                          <p:spTgt spid="97"/>
                                        </p:tgtEl>
                                        <p:attrNameLst>
                                          <p:attrName>ppt_y</p:attrName>
                                        </p:attrNameLst>
                                      </p:cBhvr>
                                      <p:tavLst>
                                        <p:tav tm="0">
                                          <p:val>
                                            <p:strVal val="#ppt_y"/>
                                          </p:val>
                                        </p:tav>
                                        <p:tav tm="100000">
                                          <p:val>
                                            <p:strVal val="#ppt_y"/>
                                          </p:val>
                                        </p:tav>
                                      </p:tavLst>
                                    </p:anim>
                                    <p:set>
                                      <p:cBhvr>
                                        <p:cTn id="80" dur="1" fill="hold">
                                          <p:stCondLst>
                                            <p:cond delay="499"/>
                                          </p:stCondLst>
                                        </p:cTn>
                                        <p:tgtEl>
                                          <p:spTgt spid="97"/>
                                        </p:tgtEl>
                                        <p:attrNameLst>
                                          <p:attrName>style.visibility</p:attrName>
                                        </p:attrNameLst>
                                      </p:cBhvr>
                                      <p:to>
                                        <p:strVal val="hidden"/>
                                      </p:to>
                                    </p:set>
                                  </p:childTnLst>
                                </p:cTn>
                              </p:par>
                              <p:par>
                                <p:cTn id="81" nodeType="withEffect" fill="hold" presetClass="exit" presetID="2" presetSubtype="8">
                                  <p:stCondLst>
                                    <p:cond delay="4000"/>
                                  </p:stCondLst>
                                  <p:childTnLst>
                                    <p:anim calcmode="lin" valueType="num">
                                      <p:cBhvr additive="repl">
                                        <p:cTn id="82" dur="500"/>
                                        <p:tgtEl>
                                          <p:spTgt spid="124"/>
                                        </p:tgtEl>
                                        <p:attrNameLst>
                                          <p:attrName>ppt_x</p:attrName>
                                        </p:attrNameLst>
                                      </p:cBhvr>
                                      <p:tavLst>
                                        <p:tav tm="0">
                                          <p:val>
                                            <p:strVal val="#ppt_x"/>
                                          </p:val>
                                        </p:tav>
                                        <p:tav tm="100000">
                                          <p:val>
                                            <p:strVal val="0-#ppt_w/2"/>
                                          </p:val>
                                        </p:tav>
                                      </p:tavLst>
                                    </p:anim>
                                    <p:anim calcmode="lin" valueType="num">
                                      <p:cBhvr additive="repl">
                                        <p:cTn id="83" dur="500"/>
                                        <p:tgtEl>
                                          <p:spTgt spid="124"/>
                                        </p:tgtEl>
                                        <p:attrNameLst>
                                          <p:attrName>ppt_y</p:attrName>
                                        </p:attrNameLst>
                                      </p:cBhvr>
                                      <p:tavLst>
                                        <p:tav tm="0">
                                          <p:val>
                                            <p:strVal val="#ppt_y"/>
                                          </p:val>
                                        </p:tav>
                                        <p:tav tm="100000">
                                          <p:val>
                                            <p:strVal val="#ppt_y"/>
                                          </p:val>
                                        </p:tav>
                                      </p:tavLst>
                                    </p:anim>
                                    <p:set>
                                      <p:cBhvr>
                                        <p:cTn id="84" dur="1" fill="hold">
                                          <p:stCondLst>
                                            <p:cond delay="499"/>
                                          </p:stCondLst>
                                        </p:cTn>
                                        <p:tgtEl>
                                          <p:spTgt spid="124"/>
                                        </p:tgtEl>
                                        <p:attrNameLst>
                                          <p:attrName>style.visibility</p:attrName>
                                        </p:attrNameLst>
                                      </p:cBhvr>
                                      <p:to>
                                        <p:strVal val="hidden"/>
                                      </p:to>
                                    </p:set>
                                  </p:childTnLst>
                                </p:cTn>
                              </p:par>
                              <p:par>
                                <p:cTn id="85" nodeType="withEffect" fill="hold" presetClass="exit" presetID="2" presetSubtype="4">
                                  <p:stCondLst>
                                    <p:cond delay="4000"/>
                                  </p:stCondLst>
                                  <p:childTnLst>
                                    <p:anim calcmode="lin" valueType="num">
                                      <p:cBhvr additive="repl">
                                        <p:cTn id="86" dur="500"/>
                                        <p:tgtEl>
                                          <p:spTgt spid="100"/>
                                        </p:tgtEl>
                                        <p:attrNameLst>
                                          <p:attrName>ppt_x</p:attrName>
                                        </p:attrNameLst>
                                      </p:cBhvr>
                                      <p:tavLst>
                                        <p:tav tm="0">
                                          <p:val>
                                            <p:strVal val="#ppt_x"/>
                                          </p:val>
                                        </p:tav>
                                        <p:tav tm="100000">
                                          <p:val>
                                            <p:strVal val="#ppt_x"/>
                                          </p:val>
                                        </p:tav>
                                      </p:tavLst>
                                    </p:anim>
                                    <p:anim calcmode="lin" valueType="num">
                                      <p:cBhvr additive="repl">
                                        <p:cTn id="87" dur="500"/>
                                        <p:tgtEl>
                                          <p:spTgt spid="100"/>
                                        </p:tgtEl>
                                        <p:attrNameLst>
                                          <p:attrName>ppt_y</p:attrName>
                                        </p:attrNameLst>
                                      </p:cBhvr>
                                      <p:tavLst>
                                        <p:tav tm="0">
                                          <p:val>
                                            <p:strVal val="#ppt_y"/>
                                          </p:val>
                                        </p:tav>
                                        <p:tav tm="100000">
                                          <p:val>
                                            <p:strVal val="1+#ppt_h/2"/>
                                          </p:val>
                                        </p:tav>
                                      </p:tavLst>
                                    </p:anim>
                                    <p:set>
                                      <p:cBhvr>
                                        <p:cTn id="88" dur="1" fill="hold">
                                          <p:stCondLst>
                                            <p:cond delay="499"/>
                                          </p:stCondLst>
                                        </p:cTn>
                                        <p:tgtEl>
                                          <p:spTgt spid="100"/>
                                        </p:tgtEl>
                                        <p:attrNameLst>
                                          <p:attrName>style.visibility</p:attrName>
                                        </p:attrNameLst>
                                      </p:cBhvr>
                                      <p:to>
                                        <p:strVal val="hidden"/>
                                      </p:to>
                                    </p:set>
                                  </p:childTnLst>
                                </p:cTn>
                              </p:par>
                              <p:par>
                                <p:cTn id="89" nodeType="withEffect" fill="hold" presetClass="exit" presetID="2" presetSubtype="4">
                                  <p:stCondLst>
                                    <p:cond delay="4000"/>
                                  </p:stCondLst>
                                  <p:childTnLst>
                                    <p:anim calcmode="lin" valueType="num">
                                      <p:cBhvr additive="repl">
                                        <p:cTn id="90" dur="500"/>
                                        <p:tgtEl>
                                          <p:spTgt spid="108"/>
                                        </p:tgtEl>
                                        <p:attrNameLst>
                                          <p:attrName>ppt_x</p:attrName>
                                        </p:attrNameLst>
                                      </p:cBhvr>
                                      <p:tavLst>
                                        <p:tav tm="0">
                                          <p:val>
                                            <p:strVal val="#ppt_x"/>
                                          </p:val>
                                        </p:tav>
                                        <p:tav tm="100000">
                                          <p:val>
                                            <p:strVal val="#ppt_x"/>
                                          </p:val>
                                        </p:tav>
                                      </p:tavLst>
                                    </p:anim>
                                    <p:anim calcmode="lin" valueType="num">
                                      <p:cBhvr additive="repl">
                                        <p:cTn id="91" dur="500"/>
                                        <p:tgtEl>
                                          <p:spTgt spid="108"/>
                                        </p:tgtEl>
                                        <p:attrNameLst>
                                          <p:attrName>ppt_y</p:attrName>
                                        </p:attrNameLst>
                                      </p:cBhvr>
                                      <p:tavLst>
                                        <p:tav tm="0">
                                          <p:val>
                                            <p:strVal val="#ppt_y"/>
                                          </p:val>
                                        </p:tav>
                                        <p:tav tm="100000">
                                          <p:val>
                                            <p:strVal val="1+#ppt_h/2"/>
                                          </p:val>
                                        </p:tav>
                                      </p:tavLst>
                                    </p:anim>
                                    <p:set>
                                      <p:cBhvr>
                                        <p:cTn id="92" dur="1" fill="hold">
                                          <p:stCondLst>
                                            <p:cond delay="499"/>
                                          </p:stCondLst>
                                        </p:cTn>
                                        <p:tgtEl>
                                          <p:spTgt spid="108"/>
                                        </p:tgtEl>
                                        <p:attrNameLst>
                                          <p:attrName>style.visibility</p:attrName>
                                        </p:attrNameLst>
                                      </p:cBhvr>
                                      <p:to>
                                        <p:strVal val="hidden"/>
                                      </p:to>
                                    </p:set>
                                  </p:childTnLst>
                                </p:cTn>
                              </p:par>
                              <p:par>
                                <p:cTn id="93" nodeType="withEffect" fill="hold" presetClass="exit" presetID="2" presetSubtype="4">
                                  <p:stCondLst>
                                    <p:cond delay="4000"/>
                                  </p:stCondLst>
                                  <p:childTnLst>
                                    <p:anim calcmode="lin" valueType="num">
                                      <p:cBhvr additive="repl">
                                        <p:cTn id="94" dur="500"/>
                                        <p:tgtEl>
                                          <p:spTgt spid="111"/>
                                        </p:tgtEl>
                                        <p:attrNameLst>
                                          <p:attrName>ppt_x</p:attrName>
                                        </p:attrNameLst>
                                      </p:cBhvr>
                                      <p:tavLst>
                                        <p:tav tm="0">
                                          <p:val>
                                            <p:strVal val="#ppt_x"/>
                                          </p:val>
                                        </p:tav>
                                        <p:tav tm="100000">
                                          <p:val>
                                            <p:strVal val="#ppt_x"/>
                                          </p:val>
                                        </p:tav>
                                      </p:tavLst>
                                    </p:anim>
                                    <p:anim calcmode="lin" valueType="num">
                                      <p:cBhvr additive="repl">
                                        <p:cTn id="95" dur="500"/>
                                        <p:tgtEl>
                                          <p:spTgt spid="111"/>
                                        </p:tgtEl>
                                        <p:attrNameLst>
                                          <p:attrName>ppt_y</p:attrName>
                                        </p:attrNameLst>
                                      </p:cBhvr>
                                      <p:tavLst>
                                        <p:tav tm="0">
                                          <p:val>
                                            <p:strVal val="#ppt_y"/>
                                          </p:val>
                                        </p:tav>
                                        <p:tav tm="100000">
                                          <p:val>
                                            <p:strVal val="1+#ppt_h/2"/>
                                          </p:val>
                                        </p:tav>
                                      </p:tavLst>
                                    </p:anim>
                                    <p:set>
                                      <p:cBhvr>
                                        <p:cTn id="96" dur="1" fill="hold">
                                          <p:stCondLst>
                                            <p:cond delay="499"/>
                                          </p:stCondLst>
                                        </p:cTn>
                                        <p:tgtEl>
                                          <p:spTgt spid="111"/>
                                        </p:tgtEl>
                                        <p:attrNameLst>
                                          <p:attrName>style.visibility</p:attrName>
                                        </p:attrNameLst>
                                      </p:cBhvr>
                                      <p:to>
                                        <p:strVal val="hidden"/>
                                      </p:to>
                                    </p:set>
                                  </p:childTnLst>
                                </p:cTn>
                              </p:par>
                              <p:par>
                                <p:cTn id="97" nodeType="withEffect" fill="hold" presetClass="exit" presetID="2" presetSubtype="4">
                                  <p:stCondLst>
                                    <p:cond delay="4000"/>
                                  </p:stCondLst>
                                  <p:childTnLst>
                                    <p:anim calcmode="lin" valueType="num">
                                      <p:cBhvr additive="repl">
                                        <p:cTn id="98" dur="500"/>
                                        <p:tgtEl>
                                          <p:spTgt spid="103"/>
                                        </p:tgtEl>
                                        <p:attrNameLst>
                                          <p:attrName>ppt_x</p:attrName>
                                        </p:attrNameLst>
                                      </p:cBhvr>
                                      <p:tavLst>
                                        <p:tav tm="0">
                                          <p:val>
                                            <p:strVal val="#ppt_x"/>
                                          </p:val>
                                        </p:tav>
                                        <p:tav tm="100000">
                                          <p:val>
                                            <p:strVal val="#ppt_x"/>
                                          </p:val>
                                        </p:tav>
                                      </p:tavLst>
                                    </p:anim>
                                    <p:anim calcmode="lin" valueType="num">
                                      <p:cBhvr additive="repl">
                                        <p:cTn id="99" dur="500"/>
                                        <p:tgtEl>
                                          <p:spTgt spid="103"/>
                                        </p:tgtEl>
                                        <p:attrNameLst>
                                          <p:attrName>ppt_y</p:attrName>
                                        </p:attrNameLst>
                                      </p:cBhvr>
                                      <p:tavLst>
                                        <p:tav tm="0">
                                          <p:val>
                                            <p:strVal val="#ppt_y"/>
                                          </p:val>
                                        </p:tav>
                                        <p:tav tm="100000">
                                          <p:val>
                                            <p:strVal val="1+#ppt_h/2"/>
                                          </p:val>
                                        </p:tav>
                                      </p:tavLst>
                                    </p:anim>
                                    <p:set>
                                      <p:cBhvr>
                                        <p:cTn id="100" dur="1" fill="hold">
                                          <p:stCondLst>
                                            <p:cond delay="499"/>
                                          </p:stCondLst>
                                        </p:cTn>
                                        <p:tgtEl>
                                          <p:spTgt spid="103"/>
                                        </p:tgtEl>
                                        <p:attrNameLst>
                                          <p:attrName>style.visibility</p:attrName>
                                        </p:attrNameLst>
                                      </p:cBhvr>
                                      <p:to>
                                        <p:strVal val="hidden"/>
                                      </p:to>
                                    </p:set>
                                  </p:childTnLst>
                                </p:cTn>
                              </p:par>
                              <p:par>
                                <p:cTn id="101" nodeType="withEffect" fill="hold" presetClass="exit" presetID="2" presetSubtype="4">
                                  <p:stCondLst>
                                    <p:cond delay="4000"/>
                                  </p:stCondLst>
                                  <p:childTnLst>
                                    <p:anim calcmode="lin" valueType="num">
                                      <p:cBhvr additive="repl">
                                        <p:cTn id="102" dur="500"/>
                                        <p:tgtEl>
                                          <p:spTgt spid="114"/>
                                        </p:tgtEl>
                                        <p:attrNameLst>
                                          <p:attrName>ppt_x</p:attrName>
                                        </p:attrNameLst>
                                      </p:cBhvr>
                                      <p:tavLst>
                                        <p:tav tm="0">
                                          <p:val>
                                            <p:strVal val="#ppt_x"/>
                                          </p:val>
                                        </p:tav>
                                        <p:tav tm="100000">
                                          <p:val>
                                            <p:strVal val="#ppt_x"/>
                                          </p:val>
                                        </p:tav>
                                      </p:tavLst>
                                    </p:anim>
                                    <p:anim calcmode="lin" valueType="num">
                                      <p:cBhvr additive="repl">
                                        <p:cTn id="103" dur="500"/>
                                        <p:tgtEl>
                                          <p:spTgt spid="114"/>
                                        </p:tgtEl>
                                        <p:attrNameLst>
                                          <p:attrName>ppt_y</p:attrName>
                                        </p:attrNameLst>
                                      </p:cBhvr>
                                      <p:tavLst>
                                        <p:tav tm="0">
                                          <p:val>
                                            <p:strVal val="#ppt_y"/>
                                          </p:val>
                                        </p:tav>
                                        <p:tav tm="100000">
                                          <p:val>
                                            <p:strVal val="1+#ppt_h/2"/>
                                          </p:val>
                                        </p:tav>
                                      </p:tavLst>
                                    </p:anim>
                                    <p:set>
                                      <p:cBhvr>
                                        <p:cTn id="104" dur="1" fill="hold">
                                          <p:stCondLst>
                                            <p:cond delay="499"/>
                                          </p:stCondLst>
                                        </p:cTn>
                                        <p:tgtEl>
                                          <p:spTgt spid="114"/>
                                        </p:tgtEl>
                                        <p:attrNameLst>
                                          <p:attrName>style.visibility</p:attrName>
                                        </p:attrNameLst>
                                      </p:cBhvr>
                                      <p:to>
                                        <p:strVal val="hidden"/>
                                      </p:to>
                                    </p:set>
                                  </p:childTnLst>
                                </p:cTn>
                              </p:par>
                              <p:par>
                                <p:cTn id="105" nodeType="withEffect" fill="hold" presetClass="exit" presetID="2" presetSubtype="4">
                                  <p:stCondLst>
                                    <p:cond delay="4000"/>
                                  </p:stCondLst>
                                  <p:childTnLst>
                                    <p:anim calcmode="lin" valueType="num">
                                      <p:cBhvr additive="repl">
                                        <p:cTn id="106" dur="500"/>
                                        <p:tgtEl>
                                          <p:spTgt spid="119"/>
                                        </p:tgtEl>
                                        <p:attrNameLst>
                                          <p:attrName>ppt_x</p:attrName>
                                        </p:attrNameLst>
                                      </p:cBhvr>
                                      <p:tavLst>
                                        <p:tav tm="0">
                                          <p:val>
                                            <p:strVal val="#ppt_x"/>
                                          </p:val>
                                        </p:tav>
                                        <p:tav tm="100000">
                                          <p:val>
                                            <p:strVal val="#ppt_x"/>
                                          </p:val>
                                        </p:tav>
                                      </p:tavLst>
                                    </p:anim>
                                    <p:anim calcmode="lin" valueType="num">
                                      <p:cBhvr additive="repl">
                                        <p:cTn id="107" dur="500"/>
                                        <p:tgtEl>
                                          <p:spTgt spid="119"/>
                                        </p:tgtEl>
                                        <p:attrNameLst>
                                          <p:attrName>ppt_y</p:attrName>
                                        </p:attrNameLst>
                                      </p:cBhvr>
                                      <p:tavLst>
                                        <p:tav tm="0">
                                          <p:val>
                                            <p:strVal val="#ppt_y"/>
                                          </p:val>
                                        </p:tav>
                                        <p:tav tm="100000">
                                          <p:val>
                                            <p:strVal val="1+#ppt_h/2"/>
                                          </p:val>
                                        </p:tav>
                                      </p:tavLst>
                                    </p:anim>
                                    <p:set>
                                      <p:cBhvr>
                                        <p:cTn id="108" dur="1" fill="hold">
                                          <p:stCondLst>
                                            <p:cond delay="499"/>
                                          </p:stCondLst>
                                        </p:cTn>
                                        <p:tgtEl>
                                          <p:spTgt spid="1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图片 20" descr=""/>
          <p:cNvPicPr/>
          <p:nvPr/>
        </p:nvPicPr>
        <p:blipFill>
          <a:blip r:embed="rId1"/>
          <a:stretch/>
        </p:blipFill>
        <p:spPr>
          <a:xfrm>
            <a:off x="0" y="0"/>
            <a:ext cx="12191760" cy="6857640"/>
          </a:xfrm>
          <a:prstGeom prst="rect">
            <a:avLst/>
          </a:prstGeom>
          <a:ln w="0">
            <a:noFill/>
          </a:ln>
        </p:spPr>
      </p:pic>
      <p:grpSp>
        <p:nvGrpSpPr>
          <p:cNvPr id="126" name="组合 7"/>
          <p:cNvGrpSpPr/>
          <p:nvPr/>
        </p:nvGrpSpPr>
        <p:grpSpPr>
          <a:xfrm>
            <a:off x="994680" y="1914840"/>
            <a:ext cx="10138320" cy="4443480"/>
            <a:chOff x="994680" y="1914840"/>
            <a:chExt cx="10138320" cy="4443480"/>
          </a:xfrm>
        </p:grpSpPr>
        <p:sp>
          <p:nvSpPr>
            <p:cNvPr id="127" name="矩形 9"/>
            <p:cNvSpPr/>
            <p:nvPr/>
          </p:nvSpPr>
          <p:spPr>
            <a:xfrm>
              <a:off x="994680" y="1914840"/>
              <a:ext cx="10138320" cy="4443480"/>
            </a:xfrm>
            <a:prstGeom prst="rect">
              <a:avLst/>
            </a:prstGeom>
            <a:solidFill>
              <a:schemeClr val="bg1"/>
            </a:solidFill>
            <a:ln>
              <a:noFill/>
            </a:ln>
            <a:effectLst>
              <a:outerShdw algn="tl" blurRad="343080" dir="2700000" dist="37674" rotWithShape="0" sx="102000" sy="102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8" name="矩形 11"/>
            <p:cNvSpPr/>
            <p:nvPr/>
          </p:nvSpPr>
          <p:spPr>
            <a:xfrm>
              <a:off x="1147680" y="2067480"/>
              <a:ext cx="9824760" cy="4124520"/>
            </a:xfrm>
            <a:prstGeom prst="rect">
              <a:avLst/>
            </a:prstGeom>
            <a:noFill/>
            <a:ln>
              <a:solidFill>
                <a:srgbClr val="000000">
                  <a:lumMod val="50000"/>
                  <a:lumOff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9" name="等腰三角形 12"/>
            <p:cNvSpPr/>
            <p:nvPr/>
          </p:nvSpPr>
          <p:spPr>
            <a:xfrm flipV="1">
              <a:off x="3639600" y="2693520"/>
              <a:ext cx="272520" cy="140760"/>
            </a:xfrm>
            <a:prstGeom prst="triangle">
              <a:avLst>
                <a:gd name="adj" fmla="val 50000"/>
              </a:avLst>
            </a:prstGeom>
            <a:solidFill>
              <a:schemeClr val="bg1"/>
            </a:solidFill>
            <a:ln>
              <a:solidFill>
                <a:srgbClr val="000000">
                  <a:lumMod val="50000"/>
                  <a:lumOff val="50000"/>
                </a:srgbClr>
              </a:solidFill>
            </a:ln>
          </p:spPr>
          <p:style>
            <a:lnRef idx="2">
              <a:schemeClr val="accent1">
                <a:shade val="50000"/>
              </a:schemeClr>
            </a:lnRef>
            <a:fillRef idx="1">
              <a:schemeClr val="accent1"/>
            </a:fillRef>
            <a:effectRef idx="0">
              <a:schemeClr val="accent1"/>
            </a:effectRef>
            <a:fontRef idx="minor"/>
          </p:style>
          <p:txBody>
            <a:bodyPr lIns="90000" rIns="90000" tIns="25560" bIns="25560" anchor="ctr">
              <a:noAutofit/>
            </a:bodyPr>
            <a:p>
              <a:pPr algn="ctr">
                <a:lnSpc>
                  <a:spcPct val="100000"/>
                </a:lnSpc>
              </a:pPr>
              <a:endParaRPr b="0" lang="en-US" sz="1800" spc="-1" strike="noStrike">
                <a:solidFill>
                  <a:schemeClr val="lt1"/>
                </a:solidFill>
                <a:latin typeface="Calibri"/>
              </a:endParaRPr>
            </a:p>
          </p:txBody>
        </p:sp>
        <p:sp>
          <p:nvSpPr>
            <p:cNvPr id="130" name="文本框 13"/>
            <p:cNvSpPr/>
            <p:nvPr/>
          </p:nvSpPr>
          <p:spPr>
            <a:xfrm>
              <a:off x="1336680" y="3012120"/>
              <a:ext cx="5144040" cy="13683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400" spc="-1" strike="noStrike">
                  <a:solidFill>
                    <a:srgbClr val="808080"/>
                  </a:solidFill>
                  <a:latin typeface="微软雅黑"/>
                  <a:ea typeface="微软雅黑"/>
                </a:rPr>
                <a:t>Human Resources planning is based on the concept that people are the most important strategic resources of an organization. Generally it is concerned with suitable resources to business needs both in longer tern needs and in</a:t>
              </a:r>
              <a:r>
                <a:rPr b="0" lang="en-US" sz="1400" spc="-1" strike="noStrike">
                  <a:solidFill>
                    <a:srgbClr val="808080"/>
                  </a:solidFill>
                  <a:latin typeface="微软雅黑"/>
                  <a:ea typeface="微软雅黑"/>
                </a:rPr>
                <a:t> shorter term needs in terms of both quantity and quality. It also improvement.</a:t>
              </a:r>
              <a:endParaRPr b="0" lang="en-US" sz="1400" spc="-1" strike="noStrike">
                <a:solidFill>
                  <a:srgbClr val="000000"/>
                </a:solidFill>
                <a:latin typeface="Arial"/>
              </a:endParaRPr>
            </a:p>
          </p:txBody>
        </p:sp>
        <p:sp>
          <p:nvSpPr>
            <p:cNvPr id="131" name="文本框 27"/>
            <p:cNvSpPr/>
            <p:nvPr/>
          </p:nvSpPr>
          <p:spPr>
            <a:xfrm>
              <a:off x="1336680" y="4467240"/>
              <a:ext cx="5144040" cy="13683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400" spc="-1" strike="noStrike">
                  <a:solidFill>
                    <a:srgbClr val="808080"/>
                  </a:solidFill>
                  <a:latin typeface="微软雅黑"/>
                  <a:ea typeface="微软雅黑"/>
                </a:rPr>
                <a:t>Human Resources planning is based on the concept that people are the most important strategic resources of an organization. Generally it is concerned with suitable resources to business needs both in longer tern needs and in</a:t>
              </a:r>
              <a:r>
                <a:rPr b="0" lang="en-US" sz="1400" spc="-1" strike="noStrike">
                  <a:solidFill>
                    <a:srgbClr val="808080"/>
                  </a:solidFill>
                  <a:latin typeface="微软雅黑"/>
                  <a:ea typeface="微软雅黑"/>
                </a:rPr>
                <a:t> shorter term needs in terms of both quantity and quality. It also improvement.</a:t>
              </a:r>
              <a:endParaRPr b="0" lang="en-US" sz="1400" spc="-1" strike="noStrike">
                <a:solidFill>
                  <a:srgbClr val="000000"/>
                </a:solidFill>
                <a:latin typeface="Arial"/>
              </a:endParaRPr>
            </a:p>
          </p:txBody>
        </p:sp>
        <p:sp>
          <p:nvSpPr>
            <p:cNvPr id="132" name="矩形 3"/>
            <p:cNvSpPr/>
            <p:nvPr/>
          </p:nvSpPr>
          <p:spPr>
            <a:xfrm>
              <a:off x="1360440" y="2588760"/>
              <a:ext cx="21942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808080"/>
                  </a:solidFill>
                  <a:latin typeface="微软雅黑"/>
                  <a:ea typeface="微软雅黑"/>
                </a:rPr>
                <a:t>Human Resources </a:t>
              </a:r>
              <a:endParaRPr b="0" lang="en-US" sz="1800" spc="-1" strike="noStrike">
                <a:solidFill>
                  <a:srgbClr val="000000"/>
                </a:solidFill>
                <a:latin typeface="Arial"/>
              </a:endParaRPr>
            </a:p>
          </p:txBody>
        </p:sp>
        <p:graphicFrame>
          <p:nvGraphicFramePr>
            <p:cNvPr id="133" name="图表 30"/>
            <p:cNvGraphicFramePr/>
            <p:nvPr/>
          </p:nvGraphicFramePr>
          <p:xfrm>
            <a:off x="6737760" y="2831760"/>
            <a:ext cx="4048920" cy="2698920"/>
          </p:xfrm>
          <a:graphic>
            <a:graphicData uri="http://schemas.openxmlformats.org/drawingml/2006/chart">
              <c:chart xmlns:c="http://schemas.openxmlformats.org/drawingml/2006/chart" xmlns:r="http://schemas.openxmlformats.org/officeDocument/2006/relationships" r:id="rId2"/>
            </a:graphicData>
          </a:graphic>
        </p:graphicFrame>
      </p:grpSp>
      <p:grpSp>
        <p:nvGrpSpPr>
          <p:cNvPr id="134" name="组合 15"/>
          <p:cNvGrpSpPr/>
          <p:nvPr/>
        </p:nvGrpSpPr>
        <p:grpSpPr>
          <a:xfrm>
            <a:off x="-362520" y="543240"/>
            <a:ext cx="2463840" cy="680760"/>
            <a:chOff x="-362520" y="543240"/>
            <a:chExt cx="2463840" cy="680760"/>
          </a:xfrm>
        </p:grpSpPr>
        <p:sp>
          <p:nvSpPr>
            <p:cNvPr id="135" name="六边形 16"/>
            <p:cNvSpPr/>
            <p:nvPr/>
          </p:nvSpPr>
          <p:spPr>
            <a:xfrm>
              <a:off x="-362520" y="543240"/>
              <a:ext cx="2463840" cy="680760"/>
            </a:xfrm>
            <a:prstGeom prst="hexagon">
              <a:avLst>
                <a:gd name="adj" fmla="val 25000"/>
                <a:gd name="vf" fmla="val 115470"/>
              </a:avLst>
            </a:prstGeom>
            <a:solidFill>
              <a:schemeClr val="bg1"/>
            </a:solidFill>
            <a:ln>
              <a:noFill/>
            </a:ln>
            <a:effectLst>
              <a:outerShdw algn="tl" blurRad="355680" dir="8401444" dist="139524" rotWithShape="0" sx="104000" sy="104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050" spc="-1" strike="noStrike">
                <a:solidFill>
                  <a:schemeClr val="lt1"/>
                </a:solidFill>
                <a:latin typeface="Calibri"/>
              </a:endParaRPr>
            </a:p>
          </p:txBody>
        </p:sp>
        <p:sp>
          <p:nvSpPr>
            <p:cNvPr id="136" name="六边形 17"/>
            <p:cNvSpPr/>
            <p:nvPr/>
          </p:nvSpPr>
          <p:spPr>
            <a:xfrm>
              <a:off x="-300960" y="583560"/>
              <a:ext cx="2341800" cy="598320"/>
            </a:xfrm>
            <a:prstGeom prst="hexagon">
              <a:avLst>
                <a:gd name="adj" fmla="val 25000"/>
                <a:gd name="vf" fmla="val 115470"/>
              </a:avLst>
            </a:prstGeom>
            <a:noFill/>
            <a:ln w="6350">
              <a:solidFill>
                <a:srgbClr val="000000">
                  <a:lumMod val="50000"/>
                  <a:lumOff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050" spc="-1" strike="noStrike">
                <a:solidFill>
                  <a:schemeClr val="lt1"/>
                </a:solidFill>
                <a:latin typeface="Calibri"/>
              </a:endParaRPr>
            </a:p>
          </p:txBody>
        </p:sp>
      </p:grpSp>
      <p:sp>
        <p:nvSpPr>
          <p:cNvPr id="137" name="文本框 18"/>
          <p:cNvSpPr/>
          <p:nvPr/>
        </p:nvSpPr>
        <p:spPr>
          <a:xfrm>
            <a:off x="213120" y="682920"/>
            <a:ext cx="15771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808080"/>
                </a:solidFill>
                <a:latin typeface="方正兰亭超细黑简体"/>
                <a:ea typeface="方正兰亭超细黑简体"/>
              </a:rPr>
              <a:t>TITLE HERE</a:t>
            </a:r>
            <a:endParaRPr b="0" lang="en-US" sz="2000" spc="-1" strike="noStrike">
              <a:solidFill>
                <a:srgbClr val="000000"/>
              </a:solidFill>
              <a:latin typeface="Arial"/>
            </a:endParaRPr>
          </a:p>
        </p:txBody>
      </p:sp>
    </p:spTree>
  </p:cSld>
  <mc:AlternateContent>
    <mc:Choice Requires="p14">
      <p:transition spd="slow" advTm="0" p14:dur="2000"/>
    </mc:Choice>
    <mc:Fallback>
      <p:transition spd="slow" advTm="0"/>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2" presetSubtype="8">
                                  <p:stCondLst>
                                    <p:cond delay="0"/>
                                  </p:stCondLst>
                                  <p:childTnLst>
                                    <p:set>
                                      <p:cBhvr>
                                        <p:cTn id="114" dur="1" fill="hold">
                                          <p:stCondLst>
                                            <p:cond delay="0"/>
                                          </p:stCondLst>
                                        </p:cTn>
                                        <p:tgtEl>
                                          <p:spTgt spid="134"/>
                                        </p:tgtEl>
                                        <p:attrNameLst>
                                          <p:attrName>style.visibility</p:attrName>
                                        </p:attrNameLst>
                                      </p:cBhvr>
                                      <p:to>
                                        <p:strVal val="visible"/>
                                      </p:to>
                                    </p:set>
                                    <p:anim calcmode="lin" valueType="num">
                                      <p:cBhvr additive="repl">
                                        <p:cTn id="115" dur="500" fill="hold"/>
                                        <p:tgtEl>
                                          <p:spTgt spid="134"/>
                                        </p:tgtEl>
                                        <p:attrNameLst>
                                          <p:attrName>ppt_x</p:attrName>
                                        </p:attrNameLst>
                                      </p:cBhvr>
                                      <p:tavLst>
                                        <p:tav tm="0">
                                          <p:val>
                                            <p:strVal val="0-#ppt_w/2"/>
                                          </p:val>
                                        </p:tav>
                                        <p:tav tm="100000">
                                          <p:val>
                                            <p:strVal val="#ppt_x"/>
                                          </p:val>
                                        </p:tav>
                                      </p:tavLst>
                                    </p:anim>
                                    <p:anim calcmode="lin" valueType="num">
                                      <p:cBhvr additive="repl">
                                        <p:cTn id="116" dur="500" fill="hold"/>
                                        <p:tgtEl>
                                          <p:spTgt spid="134"/>
                                        </p:tgtEl>
                                        <p:attrNameLst>
                                          <p:attrName>ppt_y</p:attrName>
                                        </p:attrNameLst>
                                      </p:cBhvr>
                                      <p:tavLst>
                                        <p:tav tm="0">
                                          <p:val>
                                            <p:strVal val="#ppt_y"/>
                                          </p:val>
                                        </p:tav>
                                        <p:tav tm="100000">
                                          <p:val>
                                            <p:strVal val="#ppt_y"/>
                                          </p:val>
                                        </p:tav>
                                      </p:tavLst>
                                    </p:anim>
                                  </p:childTnLst>
                                </p:cTn>
                              </p:par>
                              <p:par>
                                <p:cTn id="117" nodeType="withEffect" fill="hold" presetClass="emph" presetID="32">
                                  <p:stCondLst>
                                    <p:cond delay="500"/>
                                  </p:stCondLst>
                                  <p:childTnLst>
                                    <p:animRot by="120000">
                                      <p:cBhvr>
                                        <p:cTn id="118" dur="100" fill="hold">
                                          <p:stCondLst>
                                            <p:cond delay="0"/>
                                          </p:stCondLst>
                                        </p:cTn>
                                        <p:tgtEl>
                                          <p:spTgt spid="134"/>
                                        </p:tgtEl>
                                        <p:attrNameLst>
                                          <p:attrName>r</p:attrName>
                                        </p:attrNameLst>
                                      </p:cBhvr>
                                    </p:animRot>
                                    <p:animRot by="-240000">
                                      <p:cBhvr>
                                        <p:cTn id="119" dur="200" fill="hold">
                                          <p:stCondLst>
                                            <p:cond delay="200"/>
                                          </p:stCondLst>
                                        </p:cTn>
                                        <p:tgtEl>
                                          <p:spTgt spid="134"/>
                                        </p:tgtEl>
                                        <p:attrNameLst>
                                          <p:attrName>r</p:attrName>
                                        </p:attrNameLst>
                                      </p:cBhvr>
                                    </p:animRot>
                                    <p:animRot by="240000">
                                      <p:cBhvr>
                                        <p:cTn id="120" dur="200" fill="hold">
                                          <p:stCondLst>
                                            <p:cond delay="400"/>
                                          </p:stCondLst>
                                        </p:cTn>
                                        <p:tgtEl>
                                          <p:spTgt spid="134"/>
                                        </p:tgtEl>
                                        <p:attrNameLst>
                                          <p:attrName>r</p:attrName>
                                        </p:attrNameLst>
                                      </p:cBhvr>
                                    </p:animRot>
                                    <p:animRot by="-240000">
                                      <p:cBhvr>
                                        <p:cTn id="121" dur="200" fill="hold">
                                          <p:stCondLst>
                                            <p:cond delay="600"/>
                                          </p:stCondLst>
                                        </p:cTn>
                                        <p:tgtEl>
                                          <p:spTgt spid="134"/>
                                        </p:tgtEl>
                                        <p:attrNameLst>
                                          <p:attrName>r</p:attrName>
                                        </p:attrNameLst>
                                      </p:cBhvr>
                                    </p:animRot>
                                    <p:animRot by="120000">
                                      <p:cBhvr>
                                        <p:cTn id="122" dur="200" fill="hold">
                                          <p:stCondLst>
                                            <p:cond delay="800"/>
                                          </p:stCondLst>
                                        </p:cTn>
                                        <p:tgtEl>
                                          <p:spTgt spid="134"/>
                                        </p:tgtEl>
                                        <p:attrNameLst>
                                          <p:attrName>r</p:attrName>
                                        </p:attrNameLst>
                                      </p:cBhvr>
                                    </p:animRot>
                                  </p:childTnLst>
                                </p:cTn>
                              </p:par>
                              <p:par>
                                <p:cTn id="123" nodeType="withEffect" fill="hold" presetClass="entr" presetID="10">
                                  <p:stCondLst>
                                    <p:cond delay="1500"/>
                                  </p:stCondLst>
                                  <p:childTnLst>
                                    <p:set>
                                      <p:cBhvr>
                                        <p:cTn id="124" dur="1" fill="hold">
                                          <p:stCondLst>
                                            <p:cond delay="0"/>
                                          </p:stCondLst>
                                        </p:cTn>
                                        <p:tgtEl>
                                          <p:spTgt spid="137"/>
                                        </p:tgtEl>
                                        <p:attrNameLst>
                                          <p:attrName>style.visibility</p:attrName>
                                        </p:attrNameLst>
                                      </p:cBhvr>
                                      <p:to>
                                        <p:strVal val="visible"/>
                                      </p:to>
                                    </p:set>
                                    <p:animEffect filter="fade" transition="in">
                                      <p:cBhvr additive="repl">
                                        <p:cTn id="125" dur="500"/>
                                        <p:tgtEl>
                                          <p:spTgt spid="137"/>
                                        </p:tgtEl>
                                      </p:cBhvr>
                                    </p:animEffect>
                                  </p:childTnLst>
                                </p:cTn>
                              </p:par>
                              <p:par>
                                <p:cTn id="126" nodeType="withEffect" fill="hold" presetClass="entr" presetID="10">
                                  <p:stCondLst>
                                    <p:cond delay="2000"/>
                                  </p:stCondLst>
                                  <p:childTnLst>
                                    <p:set>
                                      <p:cBhvr>
                                        <p:cTn id="127" dur="1" fill="hold">
                                          <p:stCondLst>
                                            <p:cond delay="0"/>
                                          </p:stCondLst>
                                        </p:cTn>
                                        <p:tgtEl>
                                          <p:spTgt spid="126"/>
                                        </p:tgtEl>
                                        <p:attrNameLst>
                                          <p:attrName>style.visibility</p:attrName>
                                        </p:attrNameLst>
                                      </p:cBhvr>
                                      <p:to>
                                        <p:strVal val="visible"/>
                                      </p:to>
                                    </p:set>
                                    <p:animEffect filter="fade" transition="in">
                                      <p:cBhvr additive="repl">
                                        <p:cTn id="128" dur="500"/>
                                        <p:tgtEl>
                                          <p:spTgt spid="126"/>
                                        </p:tgtEl>
                                      </p:cBhvr>
                                    </p:animEffect>
                                  </p:childTnLst>
                                </p:cTn>
                              </p:par>
                              <p:par>
                                <p:cTn id="129" nodeType="withEffect" fill="hold" presetClass="exit" presetID="2" presetSubtype="8">
                                  <p:stCondLst>
                                    <p:cond delay="2500"/>
                                  </p:stCondLst>
                                  <p:childTnLst>
                                    <p:anim calcmode="lin" valueType="num">
                                      <p:cBhvr additive="repl">
                                        <p:cTn id="130" dur="500"/>
                                        <p:tgtEl>
                                          <p:spTgt spid="134"/>
                                        </p:tgtEl>
                                        <p:attrNameLst>
                                          <p:attrName>ppt_x</p:attrName>
                                        </p:attrNameLst>
                                      </p:cBhvr>
                                      <p:tavLst>
                                        <p:tav tm="0">
                                          <p:val>
                                            <p:strVal val="#ppt_x"/>
                                          </p:val>
                                        </p:tav>
                                        <p:tav tm="100000">
                                          <p:val>
                                            <p:strVal val="0-#ppt_w/2"/>
                                          </p:val>
                                        </p:tav>
                                      </p:tavLst>
                                    </p:anim>
                                    <p:anim calcmode="lin" valueType="num">
                                      <p:cBhvr additive="repl">
                                        <p:cTn id="131" dur="500"/>
                                        <p:tgtEl>
                                          <p:spTgt spid="134"/>
                                        </p:tgtEl>
                                        <p:attrNameLst>
                                          <p:attrName>ppt_y</p:attrName>
                                        </p:attrNameLst>
                                      </p:cBhvr>
                                      <p:tavLst>
                                        <p:tav tm="0">
                                          <p:val>
                                            <p:strVal val="#ppt_y"/>
                                          </p:val>
                                        </p:tav>
                                        <p:tav tm="100000">
                                          <p:val>
                                            <p:strVal val="#ppt_y"/>
                                          </p:val>
                                        </p:tav>
                                      </p:tavLst>
                                    </p:anim>
                                    <p:set>
                                      <p:cBhvr>
                                        <p:cTn id="132" dur="1" fill="hold">
                                          <p:stCondLst>
                                            <p:cond delay="499"/>
                                          </p:stCondLst>
                                        </p:cTn>
                                        <p:tgtEl>
                                          <p:spTgt spid="134"/>
                                        </p:tgtEl>
                                        <p:attrNameLst>
                                          <p:attrName>style.visibility</p:attrName>
                                        </p:attrNameLst>
                                      </p:cBhvr>
                                      <p:to>
                                        <p:strVal val="hidden"/>
                                      </p:to>
                                    </p:set>
                                  </p:childTnLst>
                                </p:cTn>
                              </p:par>
                              <p:par>
                                <p:cTn id="133" nodeType="withEffect" fill="hold" presetClass="exit" presetID="2" presetSubtype="8">
                                  <p:stCondLst>
                                    <p:cond delay="2500"/>
                                  </p:stCondLst>
                                  <p:childTnLst>
                                    <p:anim calcmode="lin" valueType="num">
                                      <p:cBhvr additive="repl">
                                        <p:cTn id="134" dur="500"/>
                                        <p:tgtEl>
                                          <p:spTgt spid="137"/>
                                        </p:tgtEl>
                                        <p:attrNameLst>
                                          <p:attrName>ppt_x</p:attrName>
                                        </p:attrNameLst>
                                      </p:cBhvr>
                                      <p:tavLst>
                                        <p:tav tm="0">
                                          <p:val>
                                            <p:strVal val="#ppt_x"/>
                                          </p:val>
                                        </p:tav>
                                        <p:tav tm="100000">
                                          <p:val>
                                            <p:strVal val="0-#ppt_w/2"/>
                                          </p:val>
                                        </p:tav>
                                      </p:tavLst>
                                    </p:anim>
                                    <p:anim calcmode="lin" valueType="num">
                                      <p:cBhvr additive="repl">
                                        <p:cTn id="135" dur="500"/>
                                        <p:tgtEl>
                                          <p:spTgt spid="137"/>
                                        </p:tgtEl>
                                        <p:attrNameLst>
                                          <p:attrName>ppt_y</p:attrName>
                                        </p:attrNameLst>
                                      </p:cBhvr>
                                      <p:tavLst>
                                        <p:tav tm="0">
                                          <p:val>
                                            <p:strVal val="#ppt_y"/>
                                          </p:val>
                                        </p:tav>
                                        <p:tav tm="100000">
                                          <p:val>
                                            <p:strVal val="#ppt_y"/>
                                          </p:val>
                                        </p:tav>
                                      </p:tavLst>
                                    </p:anim>
                                    <p:set>
                                      <p:cBhvr>
                                        <p:cTn id="136" dur="1" fill="hold">
                                          <p:stCondLst>
                                            <p:cond delay="499"/>
                                          </p:stCondLst>
                                        </p:cTn>
                                        <p:tgtEl>
                                          <p:spTgt spid="137"/>
                                        </p:tgtEl>
                                        <p:attrNameLst>
                                          <p:attrName>style.visibility</p:attrName>
                                        </p:attrNameLst>
                                      </p:cBhvr>
                                      <p:to>
                                        <p:strVal val="hidden"/>
                                      </p:to>
                                    </p:set>
                                  </p:childTnLst>
                                </p:cTn>
                              </p:par>
                              <p:par>
                                <p:cTn id="137" nodeType="withEffect" fill="hold" presetClass="exit" presetID="2" presetSubtype="4">
                                  <p:stCondLst>
                                    <p:cond delay="2500"/>
                                  </p:stCondLst>
                                  <p:childTnLst>
                                    <p:anim calcmode="lin" valueType="num">
                                      <p:cBhvr additive="repl">
                                        <p:cTn id="138" dur="500"/>
                                        <p:tgtEl>
                                          <p:spTgt spid="126"/>
                                        </p:tgtEl>
                                        <p:attrNameLst>
                                          <p:attrName>ppt_x</p:attrName>
                                        </p:attrNameLst>
                                      </p:cBhvr>
                                      <p:tavLst>
                                        <p:tav tm="0">
                                          <p:val>
                                            <p:strVal val="#ppt_x"/>
                                          </p:val>
                                        </p:tav>
                                        <p:tav tm="100000">
                                          <p:val>
                                            <p:strVal val="#ppt_x"/>
                                          </p:val>
                                        </p:tav>
                                      </p:tavLst>
                                    </p:anim>
                                    <p:anim calcmode="lin" valueType="num">
                                      <p:cBhvr additive="repl">
                                        <p:cTn id="139" dur="500"/>
                                        <p:tgtEl>
                                          <p:spTgt spid="126"/>
                                        </p:tgtEl>
                                        <p:attrNameLst>
                                          <p:attrName>ppt_y</p:attrName>
                                        </p:attrNameLst>
                                      </p:cBhvr>
                                      <p:tavLst>
                                        <p:tav tm="0">
                                          <p:val>
                                            <p:strVal val="#ppt_y"/>
                                          </p:val>
                                        </p:tav>
                                        <p:tav tm="100000">
                                          <p:val>
                                            <p:strVal val="1+#ppt_h/2"/>
                                          </p:val>
                                        </p:tav>
                                      </p:tavLst>
                                    </p:anim>
                                    <p:set>
                                      <p:cBhvr>
                                        <p:cTn id="140" dur="1" fill="hold">
                                          <p:stCondLst>
                                            <p:cond delay="499"/>
                                          </p:stCondLst>
                                        </p:cTn>
                                        <p:tgtEl>
                                          <p:spTgt spid="1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图片 23" descr=""/>
          <p:cNvPicPr/>
          <p:nvPr/>
        </p:nvPicPr>
        <p:blipFill>
          <a:blip r:embed="rId1"/>
          <a:stretch/>
        </p:blipFill>
        <p:spPr>
          <a:xfrm>
            <a:off x="0" y="0"/>
            <a:ext cx="12191760" cy="6857640"/>
          </a:xfrm>
          <a:prstGeom prst="rect">
            <a:avLst/>
          </a:prstGeom>
          <a:ln w="0">
            <a:noFill/>
          </a:ln>
        </p:spPr>
      </p:pic>
      <p:grpSp>
        <p:nvGrpSpPr>
          <p:cNvPr id="139" name="组合 15"/>
          <p:cNvGrpSpPr/>
          <p:nvPr/>
        </p:nvGrpSpPr>
        <p:grpSpPr>
          <a:xfrm>
            <a:off x="5470200" y="1914840"/>
            <a:ext cx="5662440" cy="5720760"/>
            <a:chOff x="5470200" y="1914840"/>
            <a:chExt cx="5662440" cy="5720760"/>
          </a:xfrm>
        </p:grpSpPr>
        <p:sp>
          <p:nvSpPr>
            <p:cNvPr id="140" name="矩形 9"/>
            <p:cNvSpPr/>
            <p:nvPr/>
          </p:nvSpPr>
          <p:spPr>
            <a:xfrm>
              <a:off x="5470200" y="1914840"/>
              <a:ext cx="5662440" cy="5720760"/>
            </a:xfrm>
            <a:prstGeom prst="rect">
              <a:avLst/>
            </a:prstGeom>
            <a:solidFill>
              <a:schemeClr val="bg1"/>
            </a:solidFill>
            <a:ln>
              <a:noFill/>
            </a:ln>
            <a:effectLst>
              <a:outerShdw algn="tl" blurRad="343080" dir="2700000" dist="37674" rotWithShape="0" sx="102000" sy="102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1" name="矩形 11"/>
            <p:cNvSpPr/>
            <p:nvPr/>
          </p:nvSpPr>
          <p:spPr>
            <a:xfrm>
              <a:off x="5630760" y="2067480"/>
              <a:ext cx="5341680" cy="5310360"/>
            </a:xfrm>
            <a:prstGeom prst="rect">
              <a:avLst/>
            </a:prstGeom>
            <a:noFill/>
            <a:ln>
              <a:solidFill>
                <a:srgbClr val="000000">
                  <a:lumMod val="50000"/>
                  <a:lumOff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42" name="等腰三角形 12"/>
            <p:cNvSpPr/>
            <p:nvPr/>
          </p:nvSpPr>
          <p:spPr>
            <a:xfrm flipV="1">
              <a:off x="8398800" y="4581000"/>
              <a:ext cx="272520" cy="140760"/>
            </a:xfrm>
            <a:prstGeom prst="triangle">
              <a:avLst>
                <a:gd name="adj" fmla="val 50000"/>
              </a:avLst>
            </a:prstGeom>
            <a:solidFill>
              <a:schemeClr val="bg1"/>
            </a:solidFill>
            <a:ln>
              <a:solidFill>
                <a:srgbClr val="000000">
                  <a:lumMod val="50000"/>
                  <a:lumOff val="50000"/>
                </a:srgbClr>
              </a:solidFill>
            </a:ln>
          </p:spPr>
          <p:style>
            <a:lnRef idx="2">
              <a:schemeClr val="accent1">
                <a:shade val="50000"/>
              </a:schemeClr>
            </a:lnRef>
            <a:fillRef idx="1">
              <a:schemeClr val="accent1"/>
            </a:fillRef>
            <a:effectRef idx="0">
              <a:schemeClr val="accent1"/>
            </a:effectRef>
            <a:fontRef idx="minor"/>
          </p:style>
          <p:txBody>
            <a:bodyPr lIns="90000" rIns="90000" tIns="25560" bIns="25560" anchor="ctr">
              <a:noAutofit/>
            </a:bodyPr>
            <a:p>
              <a:pPr algn="ctr">
                <a:lnSpc>
                  <a:spcPct val="100000"/>
                </a:lnSpc>
              </a:pPr>
              <a:endParaRPr b="0" lang="en-US" sz="1800" spc="-1" strike="noStrike">
                <a:solidFill>
                  <a:schemeClr val="lt1"/>
                </a:solidFill>
                <a:latin typeface="Calibri"/>
              </a:endParaRPr>
            </a:p>
          </p:txBody>
        </p:sp>
        <p:sp>
          <p:nvSpPr>
            <p:cNvPr id="143" name="文本框 13"/>
            <p:cNvSpPr/>
            <p:nvPr/>
          </p:nvSpPr>
          <p:spPr>
            <a:xfrm>
              <a:off x="6095880" y="4845600"/>
              <a:ext cx="4411080" cy="15814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400" spc="-1" strike="noStrike">
                  <a:solidFill>
                    <a:srgbClr val="808080"/>
                  </a:solidFill>
                  <a:latin typeface="微软雅黑"/>
                  <a:ea typeface="微软雅黑"/>
                </a:rPr>
                <a:t>Human Resources planning is based on the concept that people are the most important strategic resources of an organization. Generally it is concerned with suitable resources to business needs both in longer tern needs and in</a:t>
              </a:r>
              <a:r>
                <a:rPr b="0" lang="en-US" sz="1400" spc="-1" strike="noStrike">
                  <a:solidFill>
                    <a:srgbClr val="808080"/>
                  </a:solidFill>
                  <a:latin typeface="微软雅黑"/>
                  <a:ea typeface="微软雅黑"/>
                </a:rPr>
                <a:t> shorter term needs in terms of both quantity and quality. It also improvement.</a:t>
              </a:r>
              <a:endParaRPr b="0" lang="en-US" sz="1400" spc="-1" strike="noStrike">
                <a:solidFill>
                  <a:srgbClr val="000000"/>
                </a:solidFill>
                <a:latin typeface="Arial"/>
              </a:endParaRPr>
            </a:p>
          </p:txBody>
        </p:sp>
        <p:sp>
          <p:nvSpPr>
            <p:cNvPr id="144" name="矩形 3"/>
            <p:cNvSpPr/>
            <p:nvPr/>
          </p:nvSpPr>
          <p:spPr>
            <a:xfrm>
              <a:off x="6119640" y="4476240"/>
              <a:ext cx="21942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262626"/>
                  </a:solidFill>
                  <a:latin typeface="微软雅黑"/>
                  <a:ea typeface="微软雅黑"/>
                </a:rPr>
                <a:t>Human Resources </a:t>
              </a:r>
              <a:endParaRPr b="0" lang="en-US" sz="1800" spc="-1" strike="noStrike">
                <a:solidFill>
                  <a:srgbClr val="000000"/>
                </a:solidFill>
                <a:latin typeface="Arial"/>
              </a:endParaRPr>
            </a:p>
          </p:txBody>
        </p:sp>
        <p:sp>
          <p:nvSpPr>
            <p:cNvPr id="145" name="文本框 14"/>
            <p:cNvSpPr/>
            <p:nvPr/>
          </p:nvSpPr>
          <p:spPr>
            <a:xfrm>
              <a:off x="6251760" y="3303360"/>
              <a:ext cx="238572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3200" spc="-1" strike="noStrike">
                  <a:solidFill>
                    <a:srgbClr val="000000"/>
                  </a:solidFill>
                  <a:latin typeface="方正兰亭超细黑简体"/>
                  <a:ea typeface="方正兰亭超细黑简体"/>
                </a:rPr>
                <a:t>＄</a:t>
              </a:r>
              <a:r>
                <a:rPr b="1" lang="en-US" sz="3200" spc="-1" strike="noStrike">
                  <a:solidFill>
                    <a:srgbClr val="000000"/>
                  </a:solidFill>
                  <a:latin typeface="方正兰亭超细黑简体"/>
                  <a:ea typeface="方正兰亭超细黑简体"/>
                </a:rPr>
                <a:t>5,133,578</a:t>
              </a:r>
              <a:endParaRPr b="0" lang="en-US" sz="3200" spc="-1" strike="noStrike">
                <a:solidFill>
                  <a:srgbClr val="000000"/>
                </a:solidFill>
                <a:latin typeface="Arial"/>
              </a:endParaRPr>
            </a:p>
          </p:txBody>
        </p:sp>
        <p:sp>
          <p:nvSpPr>
            <p:cNvPr id="146" name="下箭头 7"/>
            <p:cNvSpPr/>
            <p:nvPr/>
          </p:nvSpPr>
          <p:spPr>
            <a:xfrm flipV="1">
              <a:off x="9259560" y="3158280"/>
              <a:ext cx="720000" cy="623880"/>
            </a:xfrm>
            <a:prstGeom prst="downArrow">
              <a:avLst>
                <a:gd name="adj1" fmla="val 50000"/>
                <a:gd name="adj2" fmla="val 50000"/>
              </a:avLst>
            </a:prstGeom>
            <a:noFill/>
            <a:ln>
              <a:solidFill>
                <a:srgbClr val="000000">
                  <a:lumMod val="65000"/>
                  <a:lumOff val="3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47" name="组合 10"/>
          <p:cNvGrpSpPr/>
          <p:nvPr/>
        </p:nvGrpSpPr>
        <p:grpSpPr>
          <a:xfrm>
            <a:off x="397440" y="1914840"/>
            <a:ext cx="4675320" cy="3328920"/>
            <a:chOff x="397440" y="1914840"/>
            <a:chExt cx="4675320" cy="3328920"/>
          </a:xfrm>
        </p:grpSpPr>
        <p:sp>
          <p:nvSpPr>
            <p:cNvPr id="148" name="椭圆 8"/>
            <p:cNvSpPr/>
            <p:nvPr/>
          </p:nvSpPr>
          <p:spPr>
            <a:xfrm>
              <a:off x="1082520" y="1914840"/>
              <a:ext cx="3328920" cy="3328920"/>
            </a:xfrm>
            <a:prstGeom prst="ellipse">
              <a:avLst/>
            </a:prstGeom>
            <a:solidFill>
              <a:schemeClr val="bg1"/>
            </a:solidFill>
            <a:ln>
              <a:noFill/>
            </a:ln>
            <a:effectLst>
              <a:outerShdw algn="tl" blurRad="190440" dir="2700000" dist="37674" rotWithShape="0" sx="102000" sy="102000">
                <a:srgbClr val="000000">
                  <a:alpha val="38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aphicFrame>
          <p:nvGraphicFramePr>
            <p:cNvPr id="149" name="图表 18"/>
            <p:cNvGraphicFramePr/>
            <p:nvPr/>
          </p:nvGraphicFramePr>
          <p:xfrm>
            <a:off x="397440" y="2021040"/>
            <a:ext cx="4675320" cy="3116880"/>
          </p:xfrm>
          <a:graphic>
            <a:graphicData uri="http://schemas.openxmlformats.org/drawingml/2006/chart">
              <c:chart xmlns:c="http://schemas.openxmlformats.org/drawingml/2006/chart" xmlns:r="http://schemas.openxmlformats.org/officeDocument/2006/relationships" r:id="rId2"/>
            </a:graphicData>
          </a:graphic>
        </p:graphicFrame>
        <p:sp>
          <p:nvSpPr>
            <p:cNvPr id="150" name="文本框 19"/>
            <p:cNvSpPr/>
            <p:nvPr/>
          </p:nvSpPr>
          <p:spPr>
            <a:xfrm>
              <a:off x="2261520" y="3219120"/>
              <a:ext cx="970560" cy="759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400" spc="-1" strike="noStrike">
                  <a:solidFill>
                    <a:srgbClr val="262626"/>
                  </a:solidFill>
                  <a:latin typeface="微软雅黑"/>
                  <a:ea typeface="微软雅黑"/>
                </a:rPr>
                <a:t>8.2</a:t>
              </a:r>
              <a:endParaRPr b="0" lang="en-US" sz="4400" spc="-1" strike="noStrike">
                <a:solidFill>
                  <a:srgbClr val="000000"/>
                </a:solidFill>
                <a:latin typeface="Arial"/>
              </a:endParaRPr>
            </a:p>
          </p:txBody>
        </p:sp>
      </p:grpSp>
      <p:grpSp>
        <p:nvGrpSpPr>
          <p:cNvPr id="151" name="组合 16"/>
          <p:cNvGrpSpPr/>
          <p:nvPr/>
        </p:nvGrpSpPr>
        <p:grpSpPr>
          <a:xfrm>
            <a:off x="-362520" y="543240"/>
            <a:ext cx="2463840" cy="680760"/>
            <a:chOff x="-362520" y="543240"/>
            <a:chExt cx="2463840" cy="680760"/>
          </a:xfrm>
        </p:grpSpPr>
        <p:sp>
          <p:nvSpPr>
            <p:cNvPr id="152" name="六边形 17"/>
            <p:cNvSpPr/>
            <p:nvPr/>
          </p:nvSpPr>
          <p:spPr>
            <a:xfrm>
              <a:off x="-362520" y="543240"/>
              <a:ext cx="2463840" cy="680760"/>
            </a:xfrm>
            <a:prstGeom prst="hexagon">
              <a:avLst>
                <a:gd name="adj" fmla="val 25000"/>
                <a:gd name="vf" fmla="val 115470"/>
              </a:avLst>
            </a:prstGeom>
            <a:solidFill>
              <a:schemeClr val="bg1"/>
            </a:solidFill>
            <a:ln>
              <a:noFill/>
            </a:ln>
            <a:effectLst>
              <a:outerShdw algn="tl" blurRad="355680" dir="8401444" dist="139524" rotWithShape="0" sx="104000" sy="104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050" spc="-1" strike="noStrike">
                <a:solidFill>
                  <a:schemeClr val="lt1"/>
                </a:solidFill>
                <a:latin typeface="Calibri"/>
              </a:endParaRPr>
            </a:p>
          </p:txBody>
        </p:sp>
        <p:sp>
          <p:nvSpPr>
            <p:cNvPr id="153" name="六边形 20"/>
            <p:cNvSpPr/>
            <p:nvPr/>
          </p:nvSpPr>
          <p:spPr>
            <a:xfrm>
              <a:off x="-300960" y="583560"/>
              <a:ext cx="2341800" cy="598320"/>
            </a:xfrm>
            <a:prstGeom prst="hexagon">
              <a:avLst>
                <a:gd name="adj" fmla="val 25000"/>
                <a:gd name="vf" fmla="val 115470"/>
              </a:avLst>
            </a:prstGeom>
            <a:noFill/>
            <a:ln w="6350">
              <a:solidFill>
                <a:srgbClr val="000000">
                  <a:lumMod val="50000"/>
                  <a:lumOff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050" spc="-1" strike="noStrike">
                <a:solidFill>
                  <a:schemeClr val="lt1"/>
                </a:solidFill>
                <a:latin typeface="Calibri"/>
              </a:endParaRPr>
            </a:p>
          </p:txBody>
        </p:sp>
      </p:grpSp>
      <p:sp>
        <p:nvSpPr>
          <p:cNvPr id="154" name="文本框 21"/>
          <p:cNvSpPr/>
          <p:nvPr/>
        </p:nvSpPr>
        <p:spPr>
          <a:xfrm>
            <a:off x="213120" y="682920"/>
            <a:ext cx="157716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808080"/>
                </a:solidFill>
                <a:latin typeface="方正兰亭超细黑简体"/>
                <a:ea typeface="方正兰亭超细黑简体"/>
              </a:rPr>
              <a:t>TITLE HERE</a:t>
            </a:r>
            <a:endParaRPr b="0" lang="en-US" sz="2000" spc="-1" strike="noStrike">
              <a:solidFill>
                <a:srgbClr val="000000"/>
              </a:solidFill>
              <a:latin typeface="Arial"/>
            </a:endParaRPr>
          </a:p>
        </p:txBody>
      </p:sp>
      <p:sp>
        <p:nvSpPr>
          <p:cNvPr id="155" name="Text Box 6"/>
          <p:cNvSpPr/>
          <p:nvPr/>
        </p:nvSpPr>
        <p:spPr>
          <a:xfrm>
            <a:off x="455040" y="6675480"/>
            <a:ext cx="58273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en-US" sz="1600" spc="-1" strike="noStrike" u="sng">
                <a:solidFill>
                  <a:srgbClr val="0563c1"/>
                </a:solidFill>
                <a:uFillTx/>
                <a:latin typeface="Arial"/>
                <a:ea typeface="宋体"/>
                <a:hlinkClick r:id="rId3"/>
              </a:rPr>
              <a:t>http://www.eeppt.com/moban/</a:t>
            </a:r>
            <a:endParaRPr b="0" lang="en-US" sz="1600" spc="-1" strike="noStrike">
              <a:solidFill>
                <a:srgbClr val="000000"/>
              </a:solidFill>
              <a:latin typeface="Arial"/>
            </a:endParaRPr>
          </a:p>
        </p:txBody>
      </p:sp>
    </p:spTree>
  </p:cSld>
  <mc:AlternateContent>
    <mc:Choice Requires="p14">
      <p:transition spd="slow" advTm="0" p14:dur="2000"/>
    </mc:Choice>
    <mc:Fallback>
      <p:transition spd="slow" advTm="0"/>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2" presetSubtype="8">
                                  <p:stCondLst>
                                    <p:cond delay="0"/>
                                  </p:stCondLst>
                                  <p:childTnLst>
                                    <p:set>
                                      <p:cBhvr>
                                        <p:cTn id="146" dur="1" fill="hold">
                                          <p:stCondLst>
                                            <p:cond delay="0"/>
                                          </p:stCondLst>
                                        </p:cTn>
                                        <p:tgtEl>
                                          <p:spTgt spid="151"/>
                                        </p:tgtEl>
                                        <p:attrNameLst>
                                          <p:attrName>style.visibility</p:attrName>
                                        </p:attrNameLst>
                                      </p:cBhvr>
                                      <p:to>
                                        <p:strVal val="visible"/>
                                      </p:to>
                                    </p:set>
                                    <p:anim calcmode="lin" valueType="num">
                                      <p:cBhvr additive="repl">
                                        <p:cTn id="147" dur="500" fill="hold"/>
                                        <p:tgtEl>
                                          <p:spTgt spid="151"/>
                                        </p:tgtEl>
                                        <p:attrNameLst>
                                          <p:attrName>ppt_x</p:attrName>
                                        </p:attrNameLst>
                                      </p:cBhvr>
                                      <p:tavLst>
                                        <p:tav tm="0">
                                          <p:val>
                                            <p:strVal val="0-#ppt_w/2"/>
                                          </p:val>
                                        </p:tav>
                                        <p:tav tm="100000">
                                          <p:val>
                                            <p:strVal val="#ppt_x"/>
                                          </p:val>
                                        </p:tav>
                                      </p:tavLst>
                                    </p:anim>
                                    <p:anim calcmode="lin" valueType="num">
                                      <p:cBhvr additive="repl">
                                        <p:cTn id="148" dur="500" fill="hold"/>
                                        <p:tgtEl>
                                          <p:spTgt spid="151"/>
                                        </p:tgtEl>
                                        <p:attrNameLst>
                                          <p:attrName>ppt_y</p:attrName>
                                        </p:attrNameLst>
                                      </p:cBhvr>
                                      <p:tavLst>
                                        <p:tav tm="0">
                                          <p:val>
                                            <p:strVal val="#ppt_y"/>
                                          </p:val>
                                        </p:tav>
                                        <p:tav tm="100000">
                                          <p:val>
                                            <p:strVal val="#ppt_y"/>
                                          </p:val>
                                        </p:tav>
                                      </p:tavLst>
                                    </p:anim>
                                  </p:childTnLst>
                                </p:cTn>
                              </p:par>
                              <p:par>
                                <p:cTn id="149" nodeType="withEffect" fill="hold" presetClass="emph" presetID="32">
                                  <p:stCondLst>
                                    <p:cond delay="500"/>
                                  </p:stCondLst>
                                  <p:childTnLst>
                                    <p:animRot by="120000">
                                      <p:cBhvr>
                                        <p:cTn id="150" dur="100" fill="hold">
                                          <p:stCondLst>
                                            <p:cond delay="0"/>
                                          </p:stCondLst>
                                        </p:cTn>
                                        <p:tgtEl>
                                          <p:spTgt spid="151"/>
                                        </p:tgtEl>
                                        <p:attrNameLst>
                                          <p:attrName>r</p:attrName>
                                        </p:attrNameLst>
                                      </p:cBhvr>
                                    </p:animRot>
                                    <p:animRot by="-240000">
                                      <p:cBhvr>
                                        <p:cTn id="151" dur="200" fill="hold">
                                          <p:stCondLst>
                                            <p:cond delay="200"/>
                                          </p:stCondLst>
                                        </p:cTn>
                                        <p:tgtEl>
                                          <p:spTgt spid="151"/>
                                        </p:tgtEl>
                                        <p:attrNameLst>
                                          <p:attrName>r</p:attrName>
                                        </p:attrNameLst>
                                      </p:cBhvr>
                                    </p:animRot>
                                    <p:animRot by="240000">
                                      <p:cBhvr>
                                        <p:cTn id="152" dur="200" fill="hold">
                                          <p:stCondLst>
                                            <p:cond delay="400"/>
                                          </p:stCondLst>
                                        </p:cTn>
                                        <p:tgtEl>
                                          <p:spTgt spid="151"/>
                                        </p:tgtEl>
                                        <p:attrNameLst>
                                          <p:attrName>r</p:attrName>
                                        </p:attrNameLst>
                                      </p:cBhvr>
                                    </p:animRot>
                                    <p:animRot by="-240000">
                                      <p:cBhvr>
                                        <p:cTn id="153" dur="200" fill="hold">
                                          <p:stCondLst>
                                            <p:cond delay="600"/>
                                          </p:stCondLst>
                                        </p:cTn>
                                        <p:tgtEl>
                                          <p:spTgt spid="151"/>
                                        </p:tgtEl>
                                        <p:attrNameLst>
                                          <p:attrName>r</p:attrName>
                                        </p:attrNameLst>
                                      </p:cBhvr>
                                    </p:animRot>
                                    <p:animRot by="120000">
                                      <p:cBhvr>
                                        <p:cTn id="154" dur="200" fill="hold">
                                          <p:stCondLst>
                                            <p:cond delay="800"/>
                                          </p:stCondLst>
                                        </p:cTn>
                                        <p:tgtEl>
                                          <p:spTgt spid="151"/>
                                        </p:tgtEl>
                                        <p:attrNameLst>
                                          <p:attrName>r</p:attrName>
                                        </p:attrNameLst>
                                      </p:cBhvr>
                                    </p:animRot>
                                  </p:childTnLst>
                                </p:cTn>
                              </p:par>
                              <p:par>
                                <p:cTn id="155" nodeType="withEffect" fill="hold" presetClass="entr" presetID="10">
                                  <p:stCondLst>
                                    <p:cond delay="1500"/>
                                  </p:stCondLst>
                                  <p:childTnLst>
                                    <p:set>
                                      <p:cBhvr>
                                        <p:cTn id="156" dur="1" fill="hold">
                                          <p:stCondLst>
                                            <p:cond delay="0"/>
                                          </p:stCondLst>
                                        </p:cTn>
                                        <p:tgtEl>
                                          <p:spTgt spid="154"/>
                                        </p:tgtEl>
                                        <p:attrNameLst>
                                          <p:attrName>style.visibility</p:attrName>
                                        </p:attrNameLst>
                                      </p:cBhvr>
                                      <p:to>
                                        <p:strVal val="visible"/>
                                      </p:to>
                                    </p:set>
                                    <p:animEffect filter="fade" transition="in">
                                      <p:cBhvr additive="repl">
                                        <p:cTn id="157" dur="500"/>
                                        <p:tgtEl>
                                          <p:spTgt spid="154"/>
                                        </p:tgtEl>
                                      </p:cBhvr>
                                    </p:animEffect>
                                  </p:childTnLst>
                                </p:cTn>
                              </p:par>
                              <p:par>
                                <p:cTn id="158" nodeType="withEffect" fill="hold" presetClass="entr" presetID="6" presetSubtype="32">
                                  <p:stCondLst>
                                    <p:cond delay="2000"/>
                                  </p:stCondLst>
                                  <p:childTnLst>
                                    <p:set>
                                      <p:cBhvr>
                                        <p:cTn id="159" dur="1" fill="hold">
                                          <p:stCondLst>
                                            <p:cond delay="0"/>
                                          </p:stCondLst>
                                        </p:cTn>
                                        <p:tgtEl>
                                          <p:spTgt spid="147"/>
                                        </p:tgtEl>
                                        <p:attrNameLst>
                                          <p:attrName>style.visibility</p:attrName>
                                        </p:attrNameLst>
                                      </p:cBhvr>
                                      <p:to>
                                        <p:strVal val="visible"/>
                                      </p:to>
                                    </p:set>
                                    <p:animEffect filter="circle(out)" transition="in">
                                      <p:cBhvr additive="repl">
                                        <p:cTn id="160" dur="500"/>
                                        <p:tgtEl>
                                          <p:spTgt spid="147"/>
                                        </p:tgtEl>
                                      </p:cBhvr>
                                    </p:animEffect>
                                  </p:childTnLst>
                                </p:cTn>
                              </p:par>
                              <p:par>
                                <p:cTn id="161" nodeType="withEffect" fill="hold" presetClass="entr" presetID="2" presetSubtype="4">
                                  <p:stCondLst>
                                    <p:cond delay="2000"/>
                                  </p:stCondLst>
                                  <p:childTnLst>
                                    <p:set>
                                      <p:cBhvr>
                                        <p:cTn id="162" dur="1" fill="hold">
                                          <p:stCondLst>
                                            <p:cond delay="0"/>
                                          </p:stCondLst>
                                        </p:cTn>
                                        <p:tgtEl>
                                          <p:spTgt spid="139"/>
                                        </p:tgtEl>
                                        <p:attrNameLst>
                                          <p:attrName>style.visibility</p:attrName>
                                        </p:attrNameLst>
                                      </p:cBhvr>
                                      <p:to>
                                        <p:strVal val="visible"/>
                                      </p:to>
                                    </p:set>
                                    <p:anim calcmode="lin" valueType="num">
                                      <p:cBhvr additive="repl">
                                        <p:cTn id="163" dur="500" fill="hold"/>
                                        <p:tgtEl>
                                          <p:spTgt spid="139"/>
                                        </p:tgtEl>
                                        <p:attrNameLst>
                                          <p:attrName>ppt_x</p:attrName>
                                        </p:attrNameLst>
                                      </p:cBhvr>
                                      <p:tavLst>
                                        <p:tav tm="0">
                                          <p:val>
                                            <p:strVal val="#ppt_x"/>
                                          </p:val>
                                        </p:tav>
                                        <p:tav tm="100000">
                                          <p:val>
                                            <p:strVal val="#ppt_x"/>
                                          </p:val>
                                        </p:tav>
                                      </p:tavLst>
                                    </p:anim>
                                    <p:anim calcmode="lin" valueType="num">
                                      <p:cBhvr additive="repl">
                                        <p:cTn id="164" dur="500" fill="hold"/>
                                        <p:tgtEl>
                                          <p:spTgt spid="139"/>
                                        </p:tgtEl>
                                        <p:attrNameLst>
                                          <p:attrName>ppt_y</p:attrName>
                                        </p:attrNameLst>
                                      </p:cBhvr>
                                      <p:tavLst>
                                        <p:tav tm="0">
                                          <p:val>
                                            <p:strVal val="1+#ppt_h/2"/>
                                          </p:val>
                                        </p:tav>
                                        <p:tav tm="100000">
                                          <p:val>
                                            <p:strVal val="#ppt_y"/>
                                          </p:val>
                                        </p:tav>
                                      </p:tavLst>
                                    </p:anim>
                                  </p:childTnLst>
                                </p:cTn>
                              </p:par>
                              <p:par>
                                <p:cTn id="165" nodeType="withEffect" fill="hold" presetClass="exit" presetID="6" presetSubtype="16">
                                  <p:stCondLst>
                                    <p:cond delay="3000"/>
                                  </p:stCondLst>
                                  <p:childTnLst>
                                    <p:animEffect filter="circle(in)" transition="out">
                                      <p:cBhvr additive="repl">
                                        <p:cTn id="166" dur="500"/>
                                        <p:tgtEl>
                                          <p:spTgt spid="147"/>
                                        </p:tgtEl>
                                      </p:cBhvr>
                                    </p:animEffect>
                                    <p:set>
                                      <p:cBhvr>
                                        <p:cTn id="167" dur="1" fill="hold">
                                          <p:stCondLst>
                                            <p:cond delay="499"/>
                                          </p:stCondLst>
                                        </p:cTn>
                                        <p:tgtEl>
                                          <p:spTgt spid="147"/>
                                        </p:tgtEl>
                                        <p:attrNameLst>
                                          <p:attrName>style.visibility</p:attrName>
                                        </p:attrNameLst>
                                      </p:cBhvr>
                                      <p:to>
                                        <p:strVal val="hidden"/>
                                      </p:to>
                                    </p:set>
                                  </p:childTnLst>
                                </p:cTn>
                              </p:par>
                              <p:par>
                                <p:cTn id="168" nodeType="withEffect" fill="hold" presetClass="exit" presetID="2" presetSubtype="4">
                                  <p:stCondLst>
                                    <p:cond delay="3000"/>
                                  </p:stCondLst>
                                  <p:childTnLst>
                                    <p:anim calcmode="lin" valueType="num">
                                      <p:cBhvr additive="repl">
                                        <p:cTn id="169" dur="500"/>
                                        <p:tgtEl>
                                          <p:spTgt spid="139"/>
                                        </p:tgtEl>
                                        <p:attrNameLst>
                                          <p:attrName>ppt_x</p:attrName>
                                        </p:attrNameLst>
                                      </p:cBhvr>
                                      <p:tavLst>
                                        <p:tav tm="0">
                                          <p:val>
                                            <p:strVal val="#ppt_x"/>
                                          </p:val>
                                        </p:tav>
                                        <p:tav tm="100000">
                                          <p:val>
                                            <p:strVal val="#ppt_x"/>
                                          </p:val>
                                        </p:tav>
                                      </p:tavLst>
                                    </p:anim>
                                    <p:anim calcmode="lin" valueType="num">
                                      <p:cBhvr additive="repl">
                                        <p:cTn id="170" dur="500"/>
                                        <p:tgtEl>
                                          <p:spTgt spid="139"/>
                                        </p:tgtEl>
                                        <p:attrNameLst>
                                          <p:attrName>ppt_y</p:attrName>
                                        </p:attrNameLst>
                                      </p:cBhvr>
                                      <p:tavLst>
                                        <p:tav tm="0">
                                          <p:val>
                                            <p:strVal val="#ppt_y"/>
                                          </p:val>
                                        </p:tav>
                                        <p:tav tm="100000">
                                          <p:val>
                                            <p:strVal val="1+#ppt_h/2"/>
                                          </p:val>
                                        </p:tav>
                                      </p:tavLst>
                                    </p:anim>
                                    <p:set>
                                      <p:cBhvr>
                                        <p:cTn id="171" dur="1" fill="hold">
                                          <p:stCondLst>
                                            <p:cond delay="499"/>
                                          </p:stCondLst>
                                        </p:cTn>
                                        <p:tgtEl>
                                          <p:spTgt spid="139"/>
                                        </p:tgtEl>
                                        <p:attrNameLst>
                                          <p:attrName>style.visibility</p:attrName>
                                        </p:attrNameLst>
                                      </p:cBhvr>
                                      <p:to>
                                        <p:strVal val="hidden"/>
                                      </p:to>
                                    </p:set>
                                  </p:childTnLst>
                                </p:cTn>
                              </p:par>
                              <p:par>
                                <p:cTn id="172" nodeType="withEffect" fill="hold" presetClass="exit" presetID="2" presetSubtype="8">
                                  <p:stCondLst>
                                    <p:cond delay="3000"/>
                                  </p:stCondLst>
                                  <p:childTnLst>
                                    <p:anim calcmode="lin" valueType="num">
                                      <p:cBhvr additive="repl">
                                        <p:cTn id="173" dur="500"/>
                                        <p:tgtEl>
                                          <p:spTgt spid="151"/>
                                        </p:tgtEl>
                                        <p:attrNameLst>
                                          <p:attrName>ppt_x</p:attrName>
                                        </p:attrNameLst>
                                      </p:cBhvr>
                                      <p:tavLst>
                                        <p:tav tm="0">
                                          <p:val>
                                            <p:strVal val="#ppt_x"/>
                                          </p:val>
                                        </p:tav>
                                        <p:tav tm="100000">
                                          <p:val>
                                            <p:strVal val="0-#ppt_w/2"/>
                                          </p:val>
                                        </p:tav>
                                      </p:tavLst>
                                    </p:anim>
                                    <p:anim calcmode="lin" valueType="num">
                                      <p:cBhvr additive="repl">
                                        <p:cTn id="174" dur="500"/>
                                        <p:tgtEl>
                                          <p:spTgt spid="151"/>
                                        </p:tgtEl>
                                        <p:attrNameLst>
                                          <p:attrName>ppt_y</p:attrName>
                                        </p:attrNameLst>
                                      </p:cBhvr>
                                      <p:tavLst>
                                        <p:tav tm="0">
                                          <p:val>
                                            <p:strVal val="#ppt_y"/>
                                          </p:val>
                                        </p:tav>
                                        <p:tav tm="100000">
                                          <p:val>
                                            <p:strVal val="#ppt_y"/>
                                          </p:val>
                                        </p:tav>
                                      </p:tavLst>
                                    </p:anim>
                                    <p:set>
                                      <p:cBhvr>
                                        <p:cTn id="175" dur="1" fill="hold">
                                          <p:stCondLst>
                                            <p:cond delay="499"/>
                                          </p:stCondLst>
                                        </p:cTn>
                                        <p:tgtEl>
                                          <p:spTgt spid="151"/>
                                        </p:tgtEl>
                                        <p:attrNameLst>
                                          <p:attrName>style.visibility</p:attrName>
                                        </p:attrNameLst>
                                      </p:cBhvr>
                                      <p:to>
                                        <p:strVal val="hidden"/>
                                      </p:to>
                                    </p:set>
                                  </p:childTnLst>
                                </p:cTn>
                              </p:par>
                              <p:par>
                                <p:cTn id="176" nodeType="withEffect" fill="hold" presetClass="exit" presetID="2" presetSubtype="8">
                                  <p:stCondLst>
                                    <p:cond delay="3000"/>
                                  </p:stCondLst>
                                  <p:childTnLst>
                                    <p:anim calcmode="lin" valueType="num">
                                      <p:cBhvr additive="repl">
                                        <p:cTn id="177" dur="500"/>
                                        <p:tgtEl>
                                          <p:spTgt spid="154"/>
                                        </p:tgtEl>
                                        <p:attrNameLst>
                                          <p:attrName>ppt_x</p:attrName>
                                        </p:attrNameLst>
                                      </p:cBhvr>
                                      <p:tavLst>
                                        <p:tav tm="0">
                                          <p:val>
                                            <p:strVal val="#ppt_x"/>
                                          </p:val>
                                        </p:tav>
                                        <p:tav tm="100000">
                                          <p:val>
                                            <p:strVal val="0-#ppt_w/2"/>
                                          </p:val>
                                        </p:tav>
                                      </p:tavLst>
                                    </p:anim>
                                    <p:anim calcmode="lin" valueType="num">
                                      <p:cBhvr additive="repl">
                                        <p:cTn id="178" dur="500"/>
                                        <p:tgtEl>
                                          <p:spTgt spid="154"/>
                                        </p:tgtEl>
                                        <p:attrNameLst>
                                          <p:attrName>ppt_y</p:attrName>
                                        </p:attrNameLst>
                                      </p:cBhvr>
                                      <p:tavLst>
                                        <p:tav tm="0">
                                          <p:val>
                                            <p:strVal val="#ppt_y"/>
                                          </p:val>
                                        </p:tav>
                                        <p:tav tm="100000">
                                          <p:val>
                                            <p:strVal val="#ppt_y"/>
                                          </p:val>
                                        </p:tav>
                                      </p:tavLst>
                                    </p:anim>
                                    <p:set>
                                      <p:cBhvr>
                                        <p:cTn id="179" dur="1" fill="hold">
                                          <p:stCondLst>
                                            <p:cond delay="499"/>
                                          </p:stCondLst>
                                        </p:cTn>
                                        <p:tgtEl>
                                          <p:spTgt spid="1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 name="组合 2"/>
          <p:cNvGrpSpPr/>
          <p:nvPr/>
        </p:nvGrpSpPr>
        <p:grpSpPr>
          <a:xfrm>
            <a:off x="4500000" y="601200"/>
            <a:ext cx="6792840" cy="5775120"/>
            <a:chOff x="4500000" y="601200"/>
            <a:chExt cx="6792840" cy="5775120"/>
          </a:xfrm>
        </p:grpSpPr>
        <p:grpSp>
          <p:nvGrpSpPr>
            <p:cNvPr id="157" name="组合 12"/>
            <p:cNvGrpSpPr/>
            <p:nvPr/>
          </p:nvGrpSpPr>
          <p:grpSpPr>
            <a:xfrm>
              <a:off x="4500720" y="1086120"/>
              <a:ext cx="3190680" cy="2138040"/>
              <a:chOff x="4500720" y="1086120"/>
              <a:chExt cx="3190680" cy="2138040"/>
            </a:xfrm>
          </p:grpSpPr>
          <p:sp>
            <p:nvSpPr>
              <p:cNvPr id="158" name="矩形 11"/>
              <p:cNvSpPr/>
              <p:nvPr/>
            </p:nvSpPr>
            <p:spPr>
              <a:xfrm>
                <a:off x="4500720" y="1086120"/>
                <a:ext cx="3190680" cy="2138040"/>
              </a:xfrm>
              <a:prstGeom prst="rect">
                <a:avLst/>
              </a:prstGeom>
              <a:solidFill>
                <a:srgbClr val="f6d403"/>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159" name="Picture 2" descr="http://pic12.nipic.com/20110226/2531170_112219452521_2.jpg"/>
              <p:cNvPicPr/>
              <p:nvPr/>
            </p:nvPicPr>
            <p:blipFill>
              <a:blip r:embed="rId1"/>
              <a:srcRect l="0" t="0" r="0" b="4294"/>
              <a:stretch/>
            </p:blipFill>
            <p:spPr>
              <a:xfrm>
                <a:off x="4615560" y="1224360"/>
                <a:ext cx="2959560" cy="1888920"/>
              </a:xfrm>
              <a:prstGeom prst="rect">
                <a:avLst/>
              </a:prstGeom>
              <a:ln w="0">
                <a:noFill/>
              </a:ln>
              <a:effectLst>
                <a:outerShdw algn="tl" blurRad="50760" dir="2700000" dist="37674" rotWithShape="0">
                  <a:srgbClr val="000000">
                    <a:alpha val="40000"/>
                  </a:srgbClr>
                </a:outerShdw>
              </a:effectLst>
            </p:spPr>
          </p:pic>
        </p:grpSp>
        <p:grpSp>
          <p:nvGrpSpPr>
            <p:cNvPr id="160" name="组合 14"/>
            <p:cNvGrpSpPr/>
            <p:nvPr/>
          </p:nvGrpSpPr>
          <p:grpSpPr>
            <a:xfrm>
              <a:off x="8102160" y="1100160"/>
              <a:ext cx="3190680" cy="2138040"/>
              <a:chOff x="8102160" y="1100160"/>
              <a:chExt cx="3190680" cy="2138040"/>
            </a:xfrm>
          </p:grpSpPr>
          <p:sp>
            <p:nvSpPr>
              <p:cNvPr id="161" name="矩形 15"/>
              <p:cNvSpPr/>
              <p:nvPr/>
            </p:nvSpPr>
            <p:spPr>
              <a:xfrm>
                <a:off x="8102160" y="1100160"/>
                <a:ext cx="3190680" cy="2138040"/>
              </a:xfrm>
              <a:prstGeom prst="rect">
                <a:avLst/>
              </a:prstGeom>
              <a:solidFill>
                <a:srgbClr val="f6d403"/>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162" name="Picture 2" descr="http://pic12.nipic.com/20110226/2531170_112219452521_2.jpg"/>
              <p:cNvPicPr/>
              <p:nvPr/>
            </p:nvPicPr>
            <p:blipFill>
              <a:blip r:embed="rId2"/>
              <a:srcRect l="0" t="0" r="0" b="4294"/>
              <a:stretch/>
            </p:blipFill>
            <p:spPr>
              <a:xfrm>
                <a:off x="8217000" y="1238400"/>
                <a:ext cx="2959560" cy="1888920"/>
              </a:xfrm>
              <a:prstGeom prst="rect">
                <a:avLst/>
              </a:prstGeom>
              <a:ln w="0">
                <a:noFill/>
              </a:ln>
              <a:effectLst>
                <a:outerShdw algn="tl" blurRad="50760" dir="2700000" dist="37674" rotWithShape="0">
                  <a:srgbClr val="000000">
                    <a:alpha val="40000"/>
                  </a:srgbClr>
                </a:outerShdw>
              </a:effectLst>
            </p:spPr>
          </p:pic>
        </p:grpSp>
        <p:grpSp>
          <p:nvGrpSpPr>
            <p:cNvPr id="163" name="组合 17"/>
            <p:cNvGrpSpPr/>
            <p:nvPr/>
          </p:nvGrpSpPr>
          <p:grpSpPr>
            <a:xfrm>
              <a:off x="4500000" y="4238280"/>
              <a:ext cx="3190680" cy="2138040"/>
              <a:chOff x="4500000" y="4238280"/>
              <a:chExt cx="3190680" cy="2138040"/>
            </a:xfrm>
          </p:grpSpPr>
          <p:sp>
            <p:nvSpPr>
              <p:cNvPr id="164" name="矩形 18"/>
              <p:cNvSpPr/>
              <p:nvPr/>
            </p:nvSpPr>
            <p:spPr>
              <a:xfrm>
                <a:off x="4500000" y="4238280"/>
                <a:ext cx="3190680" cy="2138040"/>
              </a:xfrm>
              <a:prstGeom prst="rect">
                <a:avLst/>
              </a:prstGeom>
              <a:solidFill>
                <a:srgbClr val="f6d403"/>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165" name="Picture 2" descr="http://pic12.nipic.com/20110226/2531170_112219452521_2.jpg"/>
              <p:cNvPicPr/>
              <p:nvPr/>
            </p:nvPicPr>
            <p:blipFill>
              <a:blip r:embed="rId3"/>
              <a:srcRect l="0" t="0" r="0" b="4294"/>
              <a:stretch/>
            </p:blipFill>
            <p:spPr>
              <a:xfrm>
                <a:off x="4614840" y="4376880"/>
                <a:ext cx="2959560" cy="1888920"/>
              </a:xfrm>
              <a:prstGeom prst="rect">
                <a:avLst/>
              </a:prstGeom>
              <a:ln w="0">
                <a:noFill/>
              </a:ln>
              <a:effectLst>
                <a:outerShdw algn="tl" blurRad="50760" dir="2700000" dist="37674" rotWithShape="0">
                  <a:srgbClr val="000000">
                    <a:alpha val="40000"/>
                  </a:srgbClr>
                </a:outerShdw>
              </a:effectLst>
            </p:spPr>
          </p:pic>
        </p:grpSp>
        <p:grpSp>
          <p:nvGrpSpPr>
            <p:cNvPr id="166" name="组合 20"/>
            <p:cNvGrpSpPr/>
            <p:nvPr/>
          </p:nvGrpSpPr>
          <p:grpSpPr>
            <a:xfrm>
              <a:off x="8102160" y="4236840"/>
              <a:ext cx="3190680" cy="2138040"/>
              <a:chOff x="8102160" y="4236840"/>
              <a:chExt cx="3190680" cy="2138040"/>
            </a:xfrm>
          </p:grpSpPr>
          <p:sp>
            <p:nvSpPr>
              <p:cNvPr id="167" name="矩形 21"/>
              <p:cNvSpPr/>
              <p:nvPr/>
            </p:nvSpPr>
            <p:spPr>
              <a:xfrm>
                <a:off x="8102160" y="4236840"/>
                <a:ext cx="3190680" cy="2138040"/>
              </a:xfrm>
              <a:prstGeom prst="rect">
                <a:avLst/>
              </a:prstGeom>
              <a:solidFill>
                <a:srgbClr val="f6d403"/>
              </a:solidFill>
              <a:ln>
                <a:noFill/>
              </a:ln>
              <a:effectLst>
                <a:outerShdw algn="tl" blurRad="50760" dir="2700000" dist="37674" rotWithShape="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pic>
            <p:nvPicPr>
              <p:cNvPr id="168" name="Picture 2" descr="http://pic12.nipic.com/20110226/2531170_112219452521_2.jpg"/>
              <p:cNvPicPr/>
              <p:nvPr/>
            </p:nvPicPr>
            <p:blipFill>
              <a:blip r:embed="rId4"/>
              <a:srcRect l="0" t="0" r="0" b="4294"/>
              <a:stretch/>
            </p:blipFill>
            <p:spPr>
              <a:xfrm>
                <a:off x="8217000" y="4375080"/>
                <a:ext cx="2959560" cy="1888920"/>
              </a:xfrm>
              <a:prstGeom prst="rect">
                <a:avLst/>
              </a:prstGeom>
              <a:ln w="0">
                <a:noFill/>
              </a:ln>
              <a:effectLst>
                <a:outerShdw algn="tl" blurRad="50760" dir="2700000" dist="37674" rotWithShape="0">
                  <a:srgbClr val="000000">
                    <a:alpha val="40000"/>
                  </a:srgbClr>
                </a:outerShdw>
              </a:effectLst>
            </p:spPr>
          </p:pic>
        </p:grpSp>
        <p:sp>
          <p:nvSpPr>
            <p:cNvPr id="169" name="文本框 13"/>
            <p:cNvSpPr/>
            <p:nvPr/>
          </p:nvSpPr>
          <p:spPr>
            <a:xfrm>
              <a:off x="4510440" y="601200"/>
              <a:ext cx="1080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404040"/>
                  </a:solidFill>
                  <a:latin typeface="微软雅黑"/>
                  <a:ea typeface="微软雅黑"/>
                </a:rPr>
                <a:t>TITLE 01</a:t>
              </a:r>
              <a:endParaRPr b="0" lang="en-US" sz="1800" spc="-1" strike="noStrike">
                <a:solidFill>
                  <a:srgbClr val="000000"/>
                </a:solidFill>
                <a:latin typeface="Arial"/>
              </a:endParaRPr>
            </a:p>
          </p:txBody>
        </p:sp>
        <p:sp>
          <p:nvSpPr>
            <p:cNvPr id="170" name="文本框 24"/>
            <p:cNvSpPr/>
            <p:nvPr/>
          </p:nvSpPr>
          <p:spPr>
            <a:xfrm>
              <a:off x="8112600" y="601200"/>
              <a:ext cx="1080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404040"/>
                  </a:solidFill>
                  <a:latin typeface="微软雅黑"/>
                  <a:ea typeface="微软雅黑"/>
                </a:rPr>
                <a:t>TITLE 02</a:t>
              </a:r>
              <a:endParaRPr b="0" lang="en-US" sz="1800" spc="-1" strike="noStrike">
                <a:solidFill>
                  <a:srgbClr val="000000"/>
                </a:solidFill>
                <a:latin typeface="Arial"/>
              </a:endParaRPr>
            </a:p>
          </p:txBody>
        </p:sp>
        <p:sp>
          <p:nvSpPr>
            <p:cNvPr id="171" name="文本框 25"/>
            <p:cNvSpPr/>
            <p:nvPr/>
          </p:nvSpPr>
          <p:spPr>
            <a:xfrm>
              <a:off x="4510440" y="3753720"/>
              <a:ext cx="1080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404040"/>
                  </a:solidFill>
                  <a:latin typeface="微软雅黑"/>
                  <a:ea typeface="微软雅黑"/>
                </a:rPr>
                <a:t>TITLE 03</a:t>
              </a:r>
              <a:endParaRPr b="0" lang="en-US" sz="1800" spc="-1" strike="noStrike">
                <a:solidFill>
                  <a:srgbClr val="000000"/>
                </a:solidFill>
                <a:latin typeface="Arial"/>
              </a:endParaRPr>
            </a:p>
          </p:txBody>
        </p:sp>
        <p:sp>
          <p:nvSpPr>
            <p:cNvPr id="172" name="文本框 26"/>
            <p:cNvSpPr/>
            <p:nvPr/>
          </p:nvSpPr>
          <p:spPr>
            <a:xfrm>
              <a:off x="8112600" y="3753720"/>
              <a:ext cx="10803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404040"/>
                  </a:solidFill>
                  <a:latin typeface="微软雅黑"/>
                  <a:ea typeface="微软雅黑"/>
                </a:rPr>
                <a:t>TITLE 04</a:t>
              </a:r>
              <a:endParaRPr b="0" lang="en-US" sz="1800" spc="-1" strike="noStrike">
                <a:solidFill>
                  <a:srgbClr val="000000"/>
                </a:solidFill>
                <a:latin typeface="Arial"/>
              </a:endParaRPr>
            </a:p>
          </p:txBody>
        </p:sp>
        <p:pic>
          <p:nvPicPr>
            <p:cNvPr id="173" name="Picture 4" descr="http://pic.nipic.com/2008-05-16/200851610241988_2.jpg"/>
            <p:cNvPicPr/>
            <p:nvPr/>
          </p:nvPicPr>
          <p:blipFill>
            <a:blip r:embed="rId5"/>
            <a:srcRect l="0" t="0" r="0" b="6701"/>
            <a:stretch/>
          </p:blipFill>
          <p:spPr>
            <a:xfrm>
              <a:off x="8217000" y="1205280"/>
              <a:ext cx="2959560" cy="1908000"/>
            </a:xfrm>
            <a:prstGeom prst="rect">
              <a:avLst/>
            </a:prstGeom>
            <a:ln w="0">
              <a:noFill/>
            </a:ln>
          </p:spPr>
        </p:pic>
        <p:pic>
          <p:nvPicPr>
            <p:cNvPr id="174" name="Picture 4" descr="http://pic.nipic.com/2008-05-16/200851610241988_2.jpg"/>
            <p:cNvPicPr/>
            <p:nvPr/>
          </p:nvPicPr>
          <p:blipFill>
            <a:blip r:embed="rId6"/>
            <a:srcRect l="0" t="0" r="0" b="6701"/>
            <a:stretch/>
          </p:blipFill>
          <p:spPr>
            <a:xfrm>
              <a:off x="4614840" y="4375080"/>
              <a:ext cx="2959560" cy="1888920"/>
            </a:xfrm>
            <a:prstGeom prst="rect">
              <a:avLst/>
            </a:prstGeom>
            <a:ln w="0">
              <a:noFill/>
            </a:ln>
          </p:spPr>
        </p:pic>
      </p:grpSp>
      <p:pic>
        <p:nvPicPr>
          <p:cNvPr id="175" name="图片 31" descr=""/>
          <p:cNvPicPr/>
          <p:nvPr/>
        </p:nvPicPr>
        <p:blipFill>
          <a:blip r:embed="rId7"/>
          <a:stretch/>
        </p:blipFill>
        <p:spPr>
          <a:xfrm>
            <a:off x="0" y="0"/>
            <a:ext cx="12191760" cy="6857640"/>
          </a:xfrm>
          <a:prstGeom prst="rect">
            <a:avLst/>
          </a:prstGeom>
          <a:ln w="0">
            <a:noFill/>
          </a:ln>
          <a:effectLst>
            <a:outerShdw algn="tl" blurRad="330120" dir="2700000" dist="37674" rotWithShape="0" sx="101000" sy="101000">
              <a:srgbClr val="000000">
                <a:alpha val="40000"/>
              </a:srgbClr>
            </a:outerShdw>
          </a:effectLst>
        </p:spPr>
      </p:pic>
      <p:grpSp>
        <p:nvGrpSpPr>
          <p:cNvPr id="176" name="组合 10"/>
          <p:cNvGrpSpPr/>
          <p:nvPr/>
        </p:nvGrpSpPr>
        <p:grpSpPr>
          <a:xfrm>
            <a:off x="1135440" y="1785600"/>
            <a:ext cx="1354320" cy="3286440"/>
            <a:chOff x="1135440" y="1785600"/>
            <a:chExt cx="1354320" cy="3286440"/>
          </a:xfrm>
        </p:grpSpPr>
        <p:sp>
          <p:nvSpPr>
            <p:cNvPr id="177" name="矩形 4"/>
            <p:cNvSpPr/>
            <p:nvPr/>
          </p:nvSpPr>
          <p:spPr>
            <a:xfrm>
              <a:off x="1135440" y="1785600"/>
              <a:ext cx="1354320" cy="3286440"/>
            </a:xfrm>
            <a:prstGeom prst="rect">
              <a:avLst/>
            </a:prstGeom>
            <a:solidFill>
              <a:schemeClr val="bg1"/>
            </a:solidFill>
            <a:ln>
              <a:noFill/>
            </a:ln>
            <a:effectLst>
              <a:outerShdw algn="tl" blurRad="431640" dir="2700000" dist="37674" rotWithShape="0" sx="105000" sy="105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8" name="矩形 5"/>
            <p:cNvSpPr/>
            <p:nvPr/>
          </p:nvSpPr>
          <p:spPr>
            <a:xfrm>
              <a:off x="1230480" y="1898280"/>
              <a:ext cx="1149840" cy="3050640"/>
            </a:xfrm>
            <a:prstGeom prst="rect">
              <a:avLst/>
            </a:prstGeom>
            <a:noFill/>
            <a:ln>
              <a:solidFill>
                <a:srgbClr val="000000">
                  <a:lumMod val="50000"/>
                  <a:lumOff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79" name="文本框 29"/>
          <p:cNvSpPr/>
          <p:nvPr/>
        </p:nvSpPr>
        <p:spPr>
          <a:xfrm rot="5400000">
            <a:off x="715320" y="2926440"/>
            <a:ext cx="2206080" cy="10040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6000" spc="-1" strike="noStrike">
                <a:solidFill>
                  <a:srgbClr val="f6d403"/>
                </a:solidFill>
                <a:latin typeface="微软雅黑"/>
                <a:ea typeface="微软雅黑"/>
              </a:rPr>
              <a:t>BABY</a:t>
            </a:r>
            <a:endParaRPr b="0" lang="en-US" sz="6000" spc="-1" strike="noStrike">
              <a:solidFill>
                <a:srgbClr val="000000"/>
              </a:solidFill>
              <a:latin typeface="Arial"/>
            </a:endParaRPr>
          </a:p>
        </p:txBody>
      </p:sp>
    </p:spTree>
  </p:cSld>
  <mc:AlternateContent>
    <mc:Choice Requires="p14">
      <p:transition advTm="0" p14:dur="10"/>
    </mc:Choice>
    <mc:Fallback>
      <p:transition advTm="0"/>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withEffect" fill="hold" presetClass="entr" presetID="2" presetSubtype="8">
                                  <p:stCondLst>
                                    <p:cond delay="2000"/>
                                  </p:stCondLst>
                                  <p:childTnLst>
                                    <p:set>
                                      <p:cBhvr>
                                        <p:cTn id="185" dur="1" fill="hold">
                                          <p:stCondLst>
                                            <p:cond delay="0"/>
                                          </p:stCondLst>
                                        </p:cTn>
                                        <p:tgtEl>
                                          <p:spTgt spid="179"/>
                                        </p:tgtEl>
                                        <p:attrNameLst>
                                          <p:attrName>style.visibility</p:attrName>
                                        </p:attrNameLst>
                                      </p:cBhvr>
                                      <p:to>
                                        <p:strVal val="visible"/>
                                      </p:to>
                                    </p:set>
                                    <p:anim calcmode="lin" valueType="num">
                                      <p:cBhvr additive="repl">
                                        <p:cTn id="186" dur="500" fill="hold"/>
                                        <p:tgtEl>
                                          <p:spTgt spid="179"/>
                                        </p:tgtEl>
                                        <p:attrNameLst>
                                          <p:attrName>ppt_x</p:attrName>
                                        </p:attrNameLst>
                                      </p:cBhvr>
                                      <p:tavLst>
                                        <p:tav tm="0">
                                          <p:val>
                                            <p:strVal val="0-#ppt_w/2"/>
                                          </p:val>
                                        </p:tav>
                                        <p:tav tm="100000">
                                          <p:val>
                                            <p:strVal val="#ppt_x"/>
                                          </p:val>
                                        </p:tav>
                                      </p:tavLst>
                                    </p:anim>
                                    <p:anim calcmode="lin" valueType="num">
                                      <p:cBhvr additive="repl">
                                        <p:cTn id="187" dur="500" fill="hold"/>
                                        <p:tgtEl>
                                          <p:spTgt spid="179"/>
                                        </p:tgtEl>
                                        <p:attrNameLst>
                                          <p:attrName>ppt_y</p:attrName>
                                        </p:attrNameLst>
                                      </p:cBhvr>
                                      <p:tavLst>
                                        <p:tav tm="0">
                                          <p:val>
                                            <p:strVal val="#ppt_y"/>
                                          </p:val>
                                        </p:tav>
                                        <p:tav tm="100000">
                                          <p:val>
                                            <p:strVal val="#ppt_y"/>
                                          </p:val>
                                        </p:tav>
                                      </p:tavLst>
                                    </p:anim>
                                  </p:childTnLst>
                                </p:cTn>
                              </p:par>
                              <p:par>
                                <p:cTn id="188" nodeType="withEffect" fill="hold" presetClass="entr" presetID="2" presetSubtype="8">
                                  <p:stCondLst>
                                    <p:cond delay="2000"/>
                                  </p:stCondLst>
                                  <p:childTnLst>
                                    <p:set>
                                      <p:cBhvr>
                                        <p:cTn id="189" dur="1" fill="hold">
                                          <p:stCondLst>
                                            <p:cond delay="0"/>
                                          </p:stCondLst>
                                        </p:cTn>
                                        <p:tgtEl>
                                          <p:spTgt spid="176"/>
                                        </p:tgtEl>
                                        <p:attrNameLst>
                                          <p:attrName>style.visibility</p:attrName>
                                        </p:attrNameLst>
                                      </p:cBhvr>
                                      <p:to>
                                        <p:strVal val="visible"/>
                                      </p:to>
                                    </p:set>
                                    <p:anim calcmode="lin" valueType="num">
                                      <p:cBhvr additive="repl">
                                        <p:cTn id="190" dur="500" fill="hold"/>
                                        <p:tgtEl>
                                          <p:spTgt spid="176"/>
                                        </p:tgtEl>
                                        <p:attrNameLst>
                                          <p:attrName>ppt_x</p:attrName>
                                        </p:attrNameLst>
                                      </p:cBhvr>
                                      <p:tavLst>
                                        <p:tav tm="0">
                                          <p:val>
                                            <p:strVal val="0-#ppt_w/2"/>
                                          </p:val>
                                        </p:tav>
                                        <p:tav tm="100000">
                                          <p:val>
                                            <p:strVal val="#ppt_x"/>
                                          </p:val>
                                        </p:tav>
                                      </p:tavLst>
                                    </p:anim>
                                    <p:anim calcmode="lin" valueType="num">
                                      <p:cBhvr additive="repl">
                                        <p:cTn id="191" dur="500" fill="hold"/>
                                        <p:tgtEl>
                                          <p:spTgt spid="176"/>
                                        </p:tgtEl>
                                        <p:attrNameLst>
                                          <p:attrName>ppt_y</p:attrName>
                                        </p:attrNameLst>
                                      </p:cBhvr>
                                      <p:tavLst>
                                        <p:tav tm="0">
                                          <p:val>
                                            <p:strVal val="#ppt_y"/>
                                          </p:val>
                                        </p:tav>
                                        <p:tav tm="100000">
                                          <p:val>
                                            <p:strVal val="#ppt_y"/>
                                          </p:val>
                                        </p:tav>
                                      </p:tavLst>
                                    </p:anim>
                                  </p:childTnLst>
                                </p:cTn>
                              </p:par>
                              <p:par>
                                <p:cTn id="192" nodeType="withEffect" fill="hold" presetClass="emph" presetID="32">
                                  <p:stCondLst>
                                    <p:cond delay="2000"/>
                                  </p:stCondLst>
                                  <p:childTnLst>
                                    <p:animRot by="120000">
                                      <p:cBhvr>
                                        <p:cTn id="193" dur="100" fill="hold">
                                          <p:stCondLst>
                                            <p:cond delay="0"/>
                                          </p:stCondLst>
                                        </p:cTn>
                                        <p:tgtEl>
                                          <p:spTgt spid="179"/>
                                        </p:tgtEl>
                                        <p:attrNameLst>
                                          <p:attrName>r</p:attrName>
                                        </p:attrNameLst>
                                      </p:cBhvr>
                                    </p:animRot>
                                    <p:animRot by="-240000">
                                      <p:cBhvr>
                                        <p:cTn id="194" dur="200" fill="hold">
                                          <p:stCondLst>
                                            <p:cond delay="200"/>
                                          </p:stCondLst>
                                        </p:cTn>
                                        <p:tgtEl>
                                          <p:spTgt spid="179"/>
                                        </p:tgtEl>
                                        <p:attrNameLst>
                                          <p:attrName>r</p:attrName>
                                        </p:attrNameLst>
                                      </p:cBhvr>
                                    </p:animRot>
                                    <p:animRot by="240000">
                                      <p:cBhvr>
                                        <p:cTn id="195" dur="200" fill="hold">
                                          <p:stCondLst>
                                            <p:cond delay="400"/>
                                          </p:stCondLst>
                                        </p:cTn>
                                        <p:tgtEl>
                                          <p:spTgt spid="179"/>
                                        </p:tgtEl>
                                        <p:attrNameLst>
                                          <p:attrName>r</p:attrName>
                                        </p:attrNameLst>
                                      </p:cBhvr>
                                    </p:animRot>
                                    <p:animRot by="-240000">
                                      <p:cBhvr>
                                        <p:cTn id="196" dur="200" fill="hold">
                                          <p:stCondLst>
                                            <p:cond delay="600"/>
                                          </p:stCondLst>
                                        </p:cTn>
                                        <p:tgtEl>
                                          <p:spTgt spid="179"/>
                                        </p:tgtEl>
                                        <p:attrNameLst>
                                          <p:attrName>r</p:attrName>
                                        </p:attrNameLst>
                                      </p:cBhvr>
                                    </p:animRot>
                                    <p:animRot by="120000">
                                      <p:cBhvr>
                                        <p:cTn id="197" dur="200" fill="hold">
                                          <p:stCondLst>
                                            <p:cond delay="800"/>
                                          </p:stCondLst>
                                        </p:cTn>
                                        <p:tgtEl>
                                          <p:spTgt spid="179"/>
                                        </p:tgtEl>
                                        <p:attrNameLst>
                                          <p:attrName>r</p:attrName>
                                        </p:attrNameLst>
                                      </p:cBhvr>
                                    </p:animRot>
                                  </p:childTnLst>
                                </p:cTn>
                              </p:par>
                              <p:par>
                                <p:cTn id="198" nodeType="withEffect" fill="hold" presetClass="emph" presetID="32">
                                  <p:stCondLst>
                                    <p:cond delay="2000"/>
                                  </p:stCondLst>
                                  <p:childTnLst>
                                    <p:animRot by="120000">
                                      <p:cBhvr>
                                        <p:cTn id="199" dur="100" fill="hold">
                                          <p:stCondLst>
                                            <p:cond delay="0"/>
                                          </p:stCondLst>
                                        </p:cTn>
                                        <p:tgtEl>
                                          <p:spTgt spid="176"/>
                                        </p:tgtEl>
                                        <p:attrNameLst>
                                          <p:attrName>r</p:attrName>
                                        </p:attrNameLst>
                                      </p:cBhvr>
                                    </p:animRot>
                                    <p:animRot by="-240000">
                                      <p:cBhvr>
                                        <p:cTn id="200" dur="200" fill="hold">
                                          <p:stCondLst>
                                            <p:cond delay="200"/>
                                          </p:stCondLst>
                                        </p:cTn>
                                        <p:tgtEl>
                                          <p:spTgt spid="176"/>
                                        </p:tgtEl>
                                        <p:attrNameLst>
                                          <p:attrName>r</p:attrName>
                                        </p:attrNameLst>
                                      </p:cBhvr>
                                    </p:animRot>
                                    <p:animRot by="240000">
                                      <p:cBhvr>
                                        <p:cTn id="201" dur="200" fill="hold">
                                          <p:stCondLst>
                                            <p:cond delay="400"/>
                                          </p:stCondLst>
                                        </p:cTn>
                                        <p:tgtEl>
                                          <p:spTgt spid="176"/>
                                        </p:tgtEl>
                                        <p:attrNameLst>
                                          <p:attrName>r</p:attrName>
                                        </p:attrNameLst>
                                      </p:cBhvr>
                                    </p:animRot>
                                    <p:animRot by="-240000">
                                      <p:cBhvr>
                                        <p:cTn id="202" dur="200" fill="hold">
                                          <p:stCondLst>
                                            <p:cond delay="600"/>
                                          </p:stCondLst>
                                        </p:cTn>
                                        <p:tgtEl>
                                          <p:spTgt spid="176"/>
                                        </p:tgtEl>
                                        <p:attrNameLst>
                                          <p:attrName>r</p:attrName>
                                        </p:attrNameLst>
                                      </p:cBhvr>
                                    </p:animRot>
                                    <p:animRot by="120000">
                                      <p:cBhvr>
                                        <p:cTn id="203" dur="200" fill="hold">
                                          <p:stCondLst>
                                            <p:cond delay="800"/>
                                          </p:stCondLst>
                                        </p:cTn>
                                        <p:tgtEl>
                                          <p:spTgt spid="176"/>
                                        </p:tgtEl>
                                        <p:attrNameLst>
                                          <p:attrName>r</p:attrName>
                                        </p:attrNameLst>
                                      </p:cBhvr>
                                    </p:animRot>
                                  </p:childTnLst>
                                </p:cTn>
                              </p:par>
                              <p:par>
                                <p:cTn id="204" nodeType="withEffect" fill="hold" presetClass="exit" presetID="10">
                                  <p:stCondLst>
                                    <p:cond delay="3000"/>
                                  </p:stCondLst>
                                  <p:childTnLst>
                                    <p:animEffect filter="fade" transition="out">
                                      <p:cBhvr additive="repl">
                                        <p:cTn id="205" dur="500"/>
                                        <p:tgtEl>
                                          <p:spTgt spid="179"/>
                                        </p:tgtEl>
                                      </p:cBhvr>
                                    </p:animEffect>
                                    <p:set>
                                      <p:cBhvr>
                                        <p:cTn id="206" dur="1" fill="hold">
                                          <p:stCondLst>
                                            <p:cond delay="499"/>
                                          </p:stCondLst>
                                        </p:cTn>
                                        <p:tgtEl>
                                          <p:spTgt spid="179"/>
                                        </p:tgtEl>
                                        <p:attrNameLst>
                                          <p:attrName>style.visibility</p:attrName>
                                        </p:attrNameLst>
                                      </p:cBhvr>
                                      <p:to>
                                        <p:strVal val="hidden"/>
                                      </p:to>
                                    </p:set>
                                  </p:childTnLst>
                                </p:cTn>
                              </p:par>
                              <p:par>
                                <p:cTn id="207" nodeType="withEffect" fill="hold" presetClass="exit" presetID="10">
                                  <p:stCondLst>
                                    <p:cond delay="3000"/>
                                  </p:stCondLst>
                                  <p:childTnLst>
                                    <p:animEffect filter="fade" transition="out">
                                      <p:cBhvr additive="repl">
                                        <p:cTn id="208" dur="500"/>
                                        <p:tgtEl>
                                          <p:spTgt spid="176"/>
                                        </p:tgtEl>
                                      </p:cBhvr>
                                    </p:animEffect>
                                    <p:set>
                                      <p:cBhvr>
                                        <p:cTn id="209" dur="1" fill="hold">
                                          <p:stCondLst>
                                            <p:cond delay="499"/>
                                          </p:stCondLst>
                                        </p:cTn>
                                        <p:tgtEl>
                                          <p:spTgt spid="176"/>
                                        </p:tgtEl>
                                        <p:attrNameLst>
                                          <p:attrName>style.visibility</p:attrName>
                                        </p:attrNameLst>
                                      </p:cBhvr>
                                      <p:to>
                                        <p:strVal val="hidden"/>
                                      </p:to>
                                    </p:set>
                                  </p:childTnLst>
                                </p:cTn>
                              </p:par>
                              <p:par>
                                <p:cTn id="210" nodeType="withEffect" fill="hold" presetClass="exit" presetID="10">
                                  <p:stCondLst>
                                    <p:cond delay="3000"/>
                                  </p:stCondLst>
                                  <p:childTnLst>
                                    <p:animEffect filter="fade" transition="out">
                                      <p:cBhvr additive="repl">
                                        <p:cTn id="211" dur="500"/>
                                        <p:tgtEl>
                                          <p:spTgt spid="156"/>
                                        </p:tgtEl>
                                      </p:cBhvr>
                                    </p:animEffect>
                                    <p:set>
                                      <p:cBhvr>
                                        <p:cTn id="212" dur="1" fill="hold">
                                          <p:stCondLst>
                                            <p:cond delay="499"/>
                                          </p:stCondLst>
                                        </p:cTn>
                                        <p:tgtEl>
                                          <p:spTgt spid="156"/>
                                        </p:tgtEl>
                                        <p:attrNameLst>
                                          <p:attrName>style.visibility</p:attrName>
                                        </p:attrNameLst>
                                      </p:cBhvr>
                                      <p:to>
                                        <p:strVal val="hidden"/>
                                      </p:to>
                                    </p:set>
                                  </p:childTnLst>
                                </p:cTn>
                              </p:par>
                              <p:par>
                                <p:cTn id="213" nodeType="withEffect" fill="hold" presetClass="path" presetID="35">
                                  <p:stCondLst>
                                    <p:cond delay="0"/>
                                  </p:stCondLst>
                                  <p:childTnLst>
                                    <p:animMotion origin="layout" path="M 0 3.33333E-006 L -0.70313 3.33333E-006 E">
                                      <p:cBhvr>
                                        <p:cTn id="214" dur="2000" fill="hold"/>
                                        <p:tgtEl>
                                          <p:spTgt spid="175"/>
                                        </p:tgtEl>
                                        <p:attrNameLst>
                                          <p:attrName>ppt_x</p:attrName>
                                          <p:attrName>ppt_y</p:attrName>
                                        </p:attrNameLst>
                                      </p:cBhvr>
                                    </p:animMotion>
                                  </p:childTnLst>
                                </p:cTn>
                              </p:par>
                              <p:par>
                                <p:cTn id="215" nodeType="withEffect" fill="hold" presetClass="exit" presetID="2" presetSubtype="8">
                                  <p:stCondLst>
                                    <p:cond delay="3000"/>
                                  </p:stCondLst>
                                  <p:childTnLst>
                                    <p:anim calcmode="lin" valueType="num">
                                      <p:cBhvr additive="repl">
                                        <p:cTn id="216" dur="500"/>
                                        <p:tgtEl>
                                          <p:spTgt spid="175"/>
                                        </p:tgtEl>
                                        <p:attrNameLst>
                                          <p:attrName>ppt_x</p:attrName>
                                        </p:attrNameLst>
                                      </p:cBhvr>
                                      <p:tavLst>
                                        <p:tav tm="0">
                                          <p:val>
                                            <p:strVal val="#ppt_x"/>
                                          </p:val>
                                        </p:tav>
                                        <p:tav tm="100000">
                                          <p:val>
                                            <p:strVal val="0-#ppt_w/2"/>
                                          </p:val>
                                        </p:tav>
                                      </p:tavLst>
                                    </p:anim>
                                    <p:anim calcmode="lin" valueType="num">
                                      <p:cBhvr additive="repl">
                                        <p:cTn id="217" dur="500"/>
                                        <p:tgtEl>
                                          <p:spTgt spid="175"/>
                                        </p:tgtEl>
                                        <p:attrNameLst>
                                          <p:attrName>ppt_y</p:attrName>
                                        </p:attrNameLst>
                                      </p:cBhvr>
                                      <p:tavLst>
                                        <p:tav tm="0">
                                          <p:val>
                                            <p:strVal val="#ppt_y"/>
                                          </p:val>
                                        </p:tav>
                                        <p:tav tm="100000">
                                          <p:val>
                                            <p:strVal val="#ppt_y"/>
                                          </p:val>
                                        </p:tav>
                                      </p:tavLst>
                                    </p:anim>
                                    <p:set>
                                      <p:cBhvr>
                                        <p:cTn id="218" dur="1" fill="hold">
                                          <p:stCondLst>
                                            <p:cond delay="499"/>
                                          </p:stCondLst>
                                        </p:cTn>
                                        <p:tgtEl>
                                          <p:spTgt spid="1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图片 27" descr=""/>
          <p:cNvPicPr/>
          <p:nvPr/>
        </p:nvPicPr>
        <p:blipFill>
          <a:blip r:embed="rId1"/>
          <a:srcRect l="0" t="74732" r="0" b="9437"/>
          <a:stretch/>
        </p:blipFill>
        <p:spPr>
          <a:xfrm>
            <a:off x="2880" y="285840"/>
            <a:ext cx="12191760" cy="1085400"/>
          </a:xfrm>
          <a:prstGeom prst="rect">
            <a:avLst/>
          </a:prstGeom>
          <a:ln w="0">
            <a:noFill/>
          </a:ln>
        </p:spPr>
      </p:pic>
      <p:grpSp>
        <p:nvGrpSpPr>
          <p:cNvPr id="181" name="组合 9"/>
          <p:cNvGrpSpPr/>
          <p:nvPr/>
        </p:nvGrpSpPr>
        <p:grpSpPr>
          <a:xfrm>
            <a:off x="361800" y="378360"/>
            <a:ext cx="2196360" cy="905040"/>
            <a:chOff x="361800" y="378360"/>
            <a:chExt cx="2196360" cy="905040"/>
          </a:xfrm>
        </p:grpSpPr>
        <p:grpSp>
          <p:nvGrpSpPr>
            <p:cNvPr id="182" name="组合 4"/>
            <p:cNvGrpSpPr/>
            <p:nvPr/>
          </p:nvGrpSpPr>
          <p:grpSpPr>
            <a:xfrm>
              <a:off x="361800" y="378360"/>
              <a:ext cx="2196360" cy="905040"/>
              <a:chOff x="361800" y="378360"/>
              <a:chExt cx="2196360" cy="905040"/>
            </a:xfrm>
          </p:grpSpPr>
          <p:sp>
            <p:nvSpPr>
              <p:cNvPr id="183" name="矩形 5"/>
              <p:cNvSpPr/>
              <p:nvPr/>
            </p:nvSpPr>
            <p:spPr>
              <a:xfrm rot="16200000">
                <a:off x="1007280" y="-267120"/>
                <a:ext cx="905040" cy="2196360"/>
              </a:xfrm>
              <a:prstGeom prst="rect">
                <a:avLst/>
              </a:prstGeom>
              <a:solidFill>
                <a:schemeClr val="bg1"/>
              </a:solidFill>
              <a:ln>
                <a:noFill/>
              </a:ln>
              <a:effectLst>
                <a:outerShdw algn="tl" blurRad="431640" dir="2700000" dist="37674" rotWithShape="0" sx="105000" sy="105000">
                  <a:srgbClr val="000000">
                    <a:alpha val="40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4" name="矩形 6"/>
              <p:cNvSpPr/>
              <p:nvPr/>
            </p:nvSpPr>
            <p:spPr>
              <a:xfrm rot="16200000">
                <a:off x="1072440" y="-183600"/>
                <a:ext cx="768600" cy="2039040"/>
              </a:xfrm>
              <a:prstGeom prst="rect">
                <a:avLst/>
              </a:prstGeom>
              <a:noFill/>
              <a:ln>
                <a:solidFill>
                  <a:srgbClr val="000000">
                    <a:lumMod val="50000"/>
                    <a:lumOff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85" name="文本框 7"/>
            <p:cNvSpPr/>
            <p:nvPr/>
          </p:nvSpPr>
          <p:spPr>
            <a:xfrm>
              <a:off x="724680" y="491040"/>
              <a:ext cx="153144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4000" spc="-1" strike="noStrike">
                  <a:solidFill>
                    <a:srgbClr val="f6d403"/>
                  </a:solidFill>
                  <a:latin typeface="微软雅黑"/>
                  <a:ea typeface="微软雅黑"/>
                </a:rPr>
                <a:t>BABY</a:t>
              </a:r>
              <a:endParaRPr b="0" lang="en-US" sz="4000" spc="-1" strike="noStrike">
                <a:solidFill>
                  <a:srgbClr val="000000"/>
                </a:solidFill>
                <a:latin typeface="Arial"/>
              </a:endParaRPr>
            </a:p>
          </p:txBody>
        </p:sp>
      </p:grpSp>
      <p:sp>
        <p:nvSpPr>
          <p:cNvPr id="186" name="矩形 18"/>
          <p:cNvSpPr/>
          <p:nvPr/>
        </p:nvSpPr>
        <p:spPr>
          <a:xfrm>
            <a:off x="1907640" y="4838760"/>
            <a:ext cx="2439720" cy="1002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200" spc="-1" strike="noStrike">
                <a:solidFill>
                  <a:srgbClr val="808080"/>
                </a:solidFill>
                <a:latin typeface="微软雅黑"/>
                <a:ea typeface="微软雅黑"/>
              </a:rPr>
              <a:t>Human Resources planning is based on the concept that people are the most important strategic resources of an organization. </a:t>
            </a:r>
            <a:endParaRPr b="0" lang="en-US" sz="1200" spc="-1" strike="noStrike">
              <a:solidFill>
                <a:srgbClr val="000000"/>
              </a:solidFill>
              <a:latin typeface="Arial"/>
            </a:endParaRPr>
          </a:p>
        </p:txBody>
      </p:sp>
      <p:sp>
        <p:nvSpPr>
          <p:cNvPr id="187" name="矩形 19"/>
          <p:cNvSpPr/>
          <p:nvPr/>
        </p:nvSpPr>
        <p:spPr>
          <a:xfrm>
            <a:off x="4875840" y="4838760"/>
            <a:ext cx="2439720" cy="1002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200" spc="-1" strike="noStrike">
                <a:solidFill>
                  <a:srgbClr val="808080"/>
                </a:solidFill>
                <a:latin typeface="微软雅黑"/>
                <a:ea typeface="微软雅黑"/>
              </a:rPr>
              <a:t>Human Resources planning is based on the concept that people are the most important strategic resources of an organization. </a:t>
            </a:r>
            <a:endParaRPr b="0" lang="en-US" sz="1200" spc="-1" strike="noStrike">
              <a:solidFill>
                <a:srgbClr val="000000"/>
              </a:solidFill>
              <a:latin typeface="Arial"/>
            </a:endParaRPr>
          </a:p>
        </p:txBody>
      </p:sp>
      <p:sp>
        <p:nvSpPr>
          <p:cNvPr id="188" name="矩形 20"/>
          <p:cNvSpPr/>
          <p:nvPr/>
        </p:nvSpPr>
        <p:spPr>
          <a:xfrm>
            <a:off x="7795800" y="4834800"/>
            <a:ext cx="2439720" cy="1002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200" spc="-1" strike="noStrike">
                <a:solidFill>
                  <a:srgbClr val="808080"/>
                </a:solidFill>
                <a:latin typeface="微软雅黑"/>
                <a:ea typeface="微软雅黑"/>
              </a:rPr>
              <a:t>Human Resources planning is based on the concept that people are the most important strategic resources of an organization. </a:t>
            </a:r>
            <a:endParaRPr b="0" lang="en-US" sz="1200" spc="-1" strike="noStrike">
              <a:solidFill>
                <a:srgbClr val="000000"/>
              </a:solidFill>
              <a:latin typeface="Arial"/>
            </a:endParaRPr>
          </a:p>
        </p:txBody>
      </p:sp>
      <p:grpSp>
        <p:nvGrpSpPr>
          <p:cNvPr id="189" name="组合 1"/>
          <p:cNvGrpSpPr/>
          <p:nvPr/>
        </p:nvGrpSpPr>
        <p:grpSpPr>
          <a:xfrm>
            <a:off x="2152440" y="2539440"/>
            <a:ext cx="1948320" cy="2131920"/>
            <a:chOff x="2152440" y="2539440"/>
            <a:chExt cx="1948320" cy="2131920"/>
          </a:xfrm>
        </p:grpSpPr>
        <p:sp>
          <p:nvSpPr>
            <p:cNvPr id="190" name="椭圆 8"/>
            <p:cNvSpPr/>
            <p:nvPr/>
          </p:nvSpPr>
          <p:spPr>
            <a:xfrm>
              <a:off x="2545200" y="3124800"/>
              <a:ext cx="1164600" cy="1164600"/>
            </a:xfrm>
            <a:prstGeom prst="ellipse">
              <a:avLst/>
            </a:prstGeom>
            <a:solidFill>
              <a:srgbClr val="00cbd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1" name="椭圆 10"/>
            <p:cNvSpPr/>
            <p:nvPr/>
          </p:nvSpPr>
          <p:spPr>
            <a:xfrm>
              <a:off x="2163240" y="2743200"/>
              <a:ext cx="1928160" cy="1928160"/>
            </a:xfrm>
            <a:prstGeom prst="ellipse">
              <a:avLst/>
            </a:prstGeom>
            <a:noFill/>
            <a:ln>
              <a:solidFill>
                <a:srgbClr val="000000">
                  <a:lumMod val="50000"/>
                  <a:lumOff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2" name="矩形 15"/>
            <p:cNvSpPr/>
            <p:nvPr/>
          </p:nvSpPr>
          <p:spPr>
            <a:xfrm>
              <a:off x="2687760" y="3291840"/>
              <a:ext cx="87912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4800" spc="-1" strike="noStrike">
                  <a:solidFill>
                    <a:srgbClr val="f6d403"/>
                  </a:solidFill>
                  <a:latin typeface="微软雅黑"/>
                  <a:ea typeface="微软雅黑"/>
                </a:rPr>
                <a:t>01</a:t>
              </a:r>
              <a:endParaRPr b="0" lang="en-US" sz="4800" spc="-1" strike="noStrike">
                <a:solidFill>
                  <a:srgbClr val="000000"/>
                </a:solidFill>
                <a:latin typeface="Arial"/>
              </a:endParaRPr>
            </a:p>
          </p:txBody>
        </p:sp>
        <p:sp>
          <p:nvSpPr>
            <p:cNvPr id="193" name="文本框 21"/>
            <p:cNvSpPr txBox="1"/>
            <p:nvPr/>
          </p:nvSpPr>
          <p:spPr>
            <a:xfrm rot="16669800">
              <a:off x="2200320" y="2717280"/>
              <a:ext cx="1852200" cy="1711800"/>
            </a:xfrm>
            <a:prstGeom prst="rect">
              <a:avLst/>
            </a:prstGeom>
          </p:spPr>
          <p:txBody>
            <a:bodyPr wrap="none" lIns="90000" rIns="90000" tIns="45000" bIns="45000" anchor="t">
              <a:prstTxWarp prst="textArchDown">
                <a:avLst>
                  <a:gd name="adj" fmla="val 18835942"/>
                </a:avLst>
              </a:prstTxWarp>
              <a:noAutofit/>
            </a:bodyPr>
            <a:p>
              <a:pPr>
                <a:lnSpc>
                  <a:spcPct val="100000"/>
                </a:lnSpc>
              </a:pPr>
              <a:r>
                <a:rPr b="0" lang="en-US" sz="1800" spc="-1" strike="noStrike">
                  <a:ln w="0">
                    <a:noFill/>
                  </a:ln>
                  <a:solidFill>
                    <a:srgbClr val="000000"/>
                  </a:solidFill>
                  <a:latin typeface="微软雅黑"/>
                  <a:ea typeface="微软雅黑"/>
                </a:rPr>
                <a:t>SUPER POWER</a:t>
              </a:r>
              <a:endParaRPr b="0" lang="en-US" sz="1800" spc="-1" strike="noStrike">
                <a:ln w="0">
                  <a:noFill/>
                </a:ln>
                <a:solidFill>
                  <a:srgbClr val="000000"/>
                </a:solidFill>
                <a:latin typeface="Arial"/>
              </a:endParaRPr>
            </a:p>
          </p:txBody>
        </p:sp>
      </p:grpSp>
      <p:grpSp>
        <p:nvGrpSpPr>
          <p:cNvPr id="194" name="组合 2"/>
          <p:cNvGrpSpPr/>
          <p:nvPr/>
        </p:nvGrpSpPr>
        <p:grpSpPr>
          <a:xfrm>
            <a:off x="5014080" y="2458080"/>
            <a:ext cx="2131200" cy="2230560"/>
            <a:chOff x="5014080" y="2458080"/>
            <a:chExt cx="2131200" cy="2230560"/>
          </a:xfrm>
        </p:grpSpPr>
        <p:sp>
          <p:nvSpPr>
            <p:cNvPr id="195" name="椭圆 11"/>
            <p:cNvSpPr/>
            <p:nvPr/>
          </p:nvSpPr>
          <p:spPr>
            <a:xfrm>
              <a:off x="5513400" y="3124800"/>
              <a:ext cx="1164600" cy="1164600"/>
            </a:xfrm>
            <a:prstGeom prst="ellipse">
              <a:avLst/>
            </a:prstGeom>
            <a:solidFill>
              <a:srgbClr val="00cbd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6" name="椭圆 12"/>
            <p:cNvSpPr/>
            <p:nvPr/>
          </p:nvSpPr>
          <p:spPr>
            <a:xfrm>
              <a:off x="5131800" y="2743200"/>
              <a:ext cx="1928160" cy="1928160"/>
            </a:xfrm>
            <a:prstGeom prst="ellipse">
              <a:avLst/>
            </a:prstGeom>
            <a:noFill/>
            <a:ln>
              <a:solidFill>
                <a:srgbClr val="000000">
                  <a:lumMod val="50000"/>
                  <a:lumOff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7" name="矩形 16"/>
            <p:cNvSpPr/>
            <p:nvPr/>
          </p:nvSpPr>
          <p:spPr>
            <a:xfrm>
              <a:off x="5656320" y="3291840"/>
              <a:ext cx="87912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4800" spc="-1" strike="noStrike">
                  <a:solidFill>
                    <a:srgbClr val="f6d403"/>
                  </a:solidFill>
                  <a:latin typeface="微软雅黑"/>
                  <a:ea typeface="微软雅黑"/>
                </a:rPr>
                <a:t>02</a:t>
              </a:r>
              <a:endParaRPr b="0" lang="en-US" sz="4800" spc="-1" strike="noStrike">
                <a:solidFill>
                  <a:srgbClr val="000000"/>
                </a:solidFill>
                <a:latin typeface="Arial"/>
              </a:endParaRPr>
            </a:p>
          </p:txBody>
        </p:sp>
        <p:sp>
          <p:nvSpPr>
            <p:cNvPr id="198" name="文本框 22"/>
            <p:cNvSpPr txBox="1"/>
            <p:nvPr/>
          </p:nvSpPr>
          <p:spPr>
            <a:xfrm rot="15304800">
              <a:off x="5153400" y="2717280"/>
              <a:ext cx="1852200" cy="1711800"/>
            </a:xfrm>
            <a:prstGeom prst="rect">
              <a:avLst/>
            </a:prstGeom>
          </p:spPr>
          <p:txBody>
            <a:bodyPr wrap="none" lIns="90000" rIns="90000" tIns="45000" bIns="45000" anchor="t">
              <a:prstTxWarp prst="textArchDown">
                <a:avLst>
                  <a:gd name="adj" fmla="val 18835942"/>
                </a:avLst>
              </a:prstTxWarp>
              <a:noAutofit/>
            </a:bodyPr>
            <a:p>
              <a:pPr>
                <a:lnSpc>
                  <a:spcPct val="100000"/>
                </a:lnSpc>
              </a:pPr>
              <a:r>
                <a:rPr b="0" lang="en-US" sz="1800" spc="-1" strike="noStrike">
                  <a:ln w="0">
                    <a:noFill/>
                  </a:ln>
                  <a:solidFill>
                    <a:srgbClr val="000000"/>
                  </a:solidFill>
                  <a:latin typeface="微软雅黑"/>
                  <a:ea typeface="微软雅黑"/>
                </a:rPr>
                <a:t>NEW ART</a:t>
              </a:r>
              <a:endParaRPr b="0" lang="en-US" sz="1800" spc="-1" strike="noStrike">
                <a:ln w="0">
                  <a:noFill/>
                </a:ln>
                <a:solidFill>
                  <a:srgbClr val="000000"/>
                </a:solidFill>
                <a:latin typeface="Arial"/>
              </a:endParaRPr>
            </a:p>
          </p:txBody>
        </p:sp>
      </p:grpSp>
      <p:grpSp>
        <p:nvGrpSpPr>
          <p:cNvPr id="199" name="组合 24"/>
          <p:cNvGrpSpPr/>
          <p:nvPr/>
        </p:nvGrpSpPr>
        <p:grpSpPr>
          <a:xfrm>
            <a:off x="8001360" y="2502360"/>
            <a:ext cx="2031120" cy="2169000"/>
            <a:chOff x="8001360" y="2502360"/>
            <a:chExt cx="2031120" cy="2169000"/>
          </a:xfrm>
        </p:grpSpPr>
        <p:sp>
          <p:nvSpPr>
            <p:cNvPr id="200" name="椭圆 13"/>
            <p:cNvSpPr/>
            <p:nvPr/>
          </p:nvSpPr>
          <p:spPr>
            <a:xfrm>
              <a:off x="8433360" y="3124800"/>
              <a:ext cx="1164600" cy="1164600"/>
            </a:xfrm>
            <a:prstGeom prst="ellipse">
              <a:avLst/>
            </a:prstGeom>
            <a:solidFill>
              <a:srgbClr val="00cbd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1" name="椭圆 14"/>
            <p:cNvSpPr/>
            <p:nvPr/>
          </p:nvSpPr>
          <p:spPr>
            <a:xfrm>
              <a:off x="8051400" y="2743200"/>
              <a:ext cx="1928160" cy="1928160"/>
            </a:xfrm>
            <a:prstGeom prst="ellipse">
              <a:avLst/>
            </a:prstGeom>
            <a:noFill/>
            <a:ln>
              <a:solidFill>
                <a:srgbClr val="000000">
                  <a:lumMod val="50000"/>
                  <a:lumOff val="5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2" name="矩形 17"/>
            <p:cNvSpPr/>
            <p:nvPr/>
          </p:nvSpPr>
          <p:spPr>
            <a:xfrm>
              <a:off x="8575920" y="3287880"/>
              <a:ext cx="87912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4800" spc="-1" strike="noStrike">
                  <a:solidFill>
                    <a:srgbClr val="f6d403"/>
                  </a:solidFill>
                  <a:latin typeface="微软雅黑"/>
                  <a:ea typeface="微软雅黑"/>
                </a:rPr>
                <a:t>03</a:t>
              </a:r>
              <a:endParaRPr b="0" lang="en-US" sz="4800" spc="-1" strike="noStrike">
                <a:solidFill>
                  <a:srgbClr val="000000"/>
                </a:solidFill>
                <a:latin typeface="Arial"/>
              </a:endParaRPr>
            </a:p>
          </p:txBody>
        </p:sp>
        <p:sp>
          <p:nvSpPr>
            <p:cNvPr id="203" name="文本框 23"/>
            <p:cNvSpPr txBox="1"/>
            <p:nvPr/>
          </p:nvSpPr>
          <p:spPr>
            <a:xfrm rot="15546000">
              <a:off x="8090640" y="2717280"/>
              <a:ext cx="1852200" cy="1711800"/>
            </a:xfrm>
            <a:prstGeom prst="rect">
              <a:avLst/>
            </a:prstGeom>
          </p:spPr>
          <p:txBody>
            <a:bodyPr wrap="none" lIns="90000" rIns="90000" tIns="45000" bIns="45000" anchor="t">
              <a:prstTxWarp prst="textArchDown">
                <a:avLst>
                  <a:gd name="adj" fmla="val 18835942"/>
                </a:avLst>
              </a:prstTxWarp>
              <a:noAutofit/>
            </a:bodyPr>
            <a:p>
              <a:pPr>
                <a:lnSpc>
                  <a:spcPct val="100000"/>
                </a:lnSpc>
              </a:pPr>
              <a:r>
                <a:rPr b="0" lang="en-US" sz="1800" spc="-1" strike="noStrike">
                  <a:ln w="0">
                    <a:noFill/>
                  </a:ln>
                  <a:solidFill>
                    <a:srgbClr val="000000"/>
                  </a:solidFill>
                  <a:latin typeface="微软雅黑"/>
                  <a:ea typeface="微软雅黑"/>
                </a:rPr>
                <a:t>LENGAND</a:t>
              </a:r>
              <a:endParaRPr b="0" lang="en-US" sz="1800" spc="-1" strike="noStrike">
                <a:ln w="0">
                  <a:noFill/>
                </a:ln>
                <a:solidFill>
                  <a:srgbClr val="000000"/>
                </a:solidFill>
                <a:latin typeface="Arial"/>
              </a:endParaRPr>
            </a:p>
          </p:txBody>
        </p:sp>
      </p:grpSp>
    </p:spTree>
  </p:cSld>
  <p:transition spd="slow" advTm="0">
    <p:comb dir="horz"/>
  </p:transition>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withEffect" fill="hold" presetClass="entr" presetID="10">
                                  <p:stCondLst>
                                    <p:cond delay="500"/>
                                  </p:stCondLst>
                                  <p:childTnLst>
                                    <p:set>
                                      <p:cBhvr>
                                        <p:cTn id="224" dur="1" fill="hold">
                                          <p:stCondLst>
                                            <p:cond delay="0"/>
                                          </p:stCondLst>
                                        </p:cTn>
                                        <p:tgtEl>
                                          <p:spTgt spid="181"/>
                                        </p:tgtEl>
                                        <p:attrNameLst>
                                          <p:attrName>style.visibility</p:attrName>
                                        </p:attrNameLst>
                                      </p:cBhvr>
                                      <p:to>
                                        <p:strVal val="visible"/>
                                      </p:to>
                                    </p:set>
                                    <p:animEffect filter="fade" transition="in">
                                      <p:cBhvr additive="repl">
                                        <p:cTn id="225" dur="500"/>
                                        <p:tgtEl>
                                          <p:spTgt spid="181"/>
                                        </p:tgtEl>
                                      </p:cBhvr>
                                    </p:animEffect>
                                  </p:childTnLst>
                                </p:cTn>
                              </p:par>
                              <p:par>
                                <p:cTn id="226" nodeType="withEffect" fill="hold" presetClass="entr" presetID="21" presetSubtype="1">
                                  <p:stCondLst>
                                    <p:cond delay="1000"/>
                                  </p:stCondLst>
                                  <p:childTnLst>
                                    <p:set>
                                      <p:cBhvr>
                                        <p:cTn id="227" dur="1" fill="hold">
                                          <p:stCondLst>
                                            <p:cond delay="0"/>
                                          </p:stCondLst>
                                        </p:cTn>
                                        <p:tgtEl>
                                          <p:spTgt spid="189"/>
                                        </p:tgtEl>
                                        <p:attrNameLst>
                                          <p:attrName>style.visibility</p:attrName>
                                        </p:attrNameLst>
                                      </p:cBhvr>
                                      <p:to>
                                        <p:strVal val="visible"/>
                                      </p:to>
                                    </p:set>
                                    <p:animEffect filter="wheel(1)" transition="in">
                                      <p:cBhvr additive="repl">
                                        <p:cTn id="228" dur="1000"/>
                                        <p:tgtEl>
                                          <p:spTgt spid="189"/>
                                        </p:tgtEl>
                                      </p:cBhvr>
                                    </p:animEffect>
                                  </p:childTnLst>
                                </p:cTn>
                              </p:par>
                              <p:par>
                                <p:cTn id="229" nodeType="withEffect" fill="hold" presetClass="entr" presetID="21" presetSubtype="1">
                                  <p:stCondLst>
                                    <p:cond delay="1000"/>
                                  </p:stCondLst>
                                  <p:childTnLst>
                                    <p:set>
                                      <p:cBhvr>
                                        <p:cTn id="230" dur="1" fill="hold">
                                          <p:stCondLst>
                                            <p:cond delay="0"/>
                                          </p:stCondLst>
                                        </p:cTn>
                                        <p:tgtEl>
                                          <p:spTgt spid="194"/>
                                        </p:tgtEl>
                                        <p:attrNameLst>
                                          <p:attrName>style.visibility</p:attrName>
                                        </p:attrNameLst>
                                      </p:cBhvr>
                                      <p:to>
                                        <p:strVal val="visible"/>
                                      </p:to>
                                    </p:set>
                                    <p:animEffect filter="wheel(1)" transition="in">
                                      <p:cBhvr additive="repl">
                                        <p:cTn id="231" dur="1000"/>
                                        <p:tgtEl>
                                          <p:spTgt spid="194"/>
                                        </p:tgtEl>
                                      </p:cBhvr>
                                    </p:animEffect>
                                  </p:childTnLst>
                                </p:cTn>
                              </p:par>
                              <p:par>
                                <p:cTn id="232" nodeType="withEffect" fill="hold" presetClass="entr" presetID="21" presetSubtype="1">
                                  <p:stCondLst>
                                    <p:cond delay="1000"/>
                                  </p:stCondLst>
                                  <p:childTnLst>
                                    <p:set>
                                      <p:cBhvr>
                                        <p:cTn id="233" dur="1" fill="hold">
                                          <p:stCondLst>
                                            <p:cond delay="0"/>
                                          </p:stCondLst>
                                        </p:cTn>
                                        <p:tgtEl>
                                          <p:spTgt spid="199"/>
                                        </p:tgtEl>
                                        <p:attrNameLst>
                                          <p:attrName>style.visibility</p:attrName>
                                        </p:attrNameLst>
                                      </p:cBhvr>
                                      <p:to>
                                        <p:strVal val="visible"/>
                                      </p:to>
                                    </p:set>
                                    <p:animEffect filter="wheel(1)" transition="in">
                                      <p:cBhvr additive="repl">
                                        <p:cTn id="234" dur="1000"/>
                                        <p:tgtEl>
                                          <p:spTgt spid="199"/>
                                        </p:tgtEl>
                                      </p:cBhvr>
                                    </p:animEffect>
                                  </p:childTnLst>
                                </p:cTn>
                              </p:par>
                              <p:par>
                                <p:cTn id="235" nodeType="withEffect" fill="hold" presetClass="entr" presetID="10">
                                  <p:stCondLst>
                                    <p:cond delay="2000"/>
                                  </p:stCondLst>
                                  <p:childTnLst>
                                    <p:set>
                                      <p:cBhvr>
                                        <p:cTn id="236" dur="1" fill="hold">
                                          <p:stCondLst>
                                            <p:cond delay="0"/>
                                          </p:stCondLst>
                                        </p:cTn>
                                        <p:tgtEl>
                                          <p:spTgt spid="186"/>
                                        </p:tgtEl>
                                        <p:attrNameLst>
                                          <p:attrName>style.visibility</p:attrName>
                                        </p:attrNameLst>
                                      </p:cBhvr>
                                      <p:to>
                                        <p:strVal val="visible"/>
                                      </p:to>
                                    </p:set>
                                    <p:animEffect filter="fade" transition="in">
                                      <p:cBhvr additive="repl">
                                        <p:cTn id="237" dur="500"/>
                                        <p:tgtEl>
                                          <p:spTgt spid="186"/>
                                        </p:tgtEl>
                                      </p:cBhvr>
                                    </p:animEffect>
                                  </p:childTnLst>
                                </p:cTn>
                              </p:par>
                              <p:par>
                                <p:cTn id="238" nodeType="withEffect" fill="hold" presetClass="entr" presetID="10">
                                  <p:stCondLst>
                                    <p:cond delay="2000"/>
                                  </p:stCondLst>
                                  <p:childTnLst>
                                    <p:set>
                                      <p:cBhvr>
                                        <p:cTn id="239" dur="1" fill="hold">
                                          <p:stCondLst>
                                            <p:cond delay="0"/>
                                          </p:stCondLst>
                                        </p:cTn>
                                        <p:tgtEl>
                                          <p:spTgt spid="187"/>
                                        </p:tgtEl>
                                        <p:attrNameLst>
                                          <p:attrName>style.visibility</p:attrName>
                                        </p:attrNameLst>
                                      </p:cBhvr>
                                      <p:to>
                                        <p:strVal val="visible"/>
                                      </p:to>
                                    </p:set>
                                    <p:animEffect filter="fade" transition="in">
                                      <p:cBhvr additive="repl">
                                        <p:cTn id="240" dur="500"/>
                                        <p:tgtEl>
                                          <p:spTgt spid="187"/>
                                        </p:tgtEl>
                                      </p:cBhvr>
                                    </p:animEffect>
                                  </p:childTnLst>
                                </p:cTn>
                              </p:par>
                              <p:par>
                                <p:cTn id="241" nodeType="withEffect" fill="hold" presetClass="entr" presetID="10">
                                  <p:stCondLst>
                                    <p:cond delay="2000"/>
                                  </p:stCondLst>
                                  <p:childTnLst>
                                    <p:set>
                                      <p:cBhvr>
                                        <p:cTn id="242" dur="1" fill="hold">
                                          <p:stCondLst>
                                            <p:cond delay="0"/>
                                          </p:stCondLst>
                                        </p:cTn>
                                        <p:tgtEl>
                                          <p:spTgt spid="188"/>
                                        </p:tgtEl>
                                        <p:attrNameLst>
                                          <p:attrName>style.visibility</p:attrName>
                                        </p:attrNameLst>
                                      </p:cBhvr>
                                      <p:to>
                                        <p:strVal val="visible"/>
                                      </p:to>
                                    </p:set>
                                    <p:animEffect filter="fade" transition="in">
                                      <p:cBhvr additive="repl">
                                        <p:cTn id="243"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d403"/>
        </a:solidFill>
      </p:bgPr>
    </p:bg>
    <p:spTree>
      <p:nvGrpSpPr>
        <p:cNvPr id="1" name=""/>
        <p:cNvGrpSpPr/>
        <p:nvPr/>
      </p:nvGrpSpPr>
      <p:grpSpPr>
        <a:xfrm>
          <a:off x="0" y="0"/>
          <a:ext cx="0" cy="0"/>
          <a:chOff x="0" y="0"/>
          <a:chExt cx="0" cy="0"/>
        </a:xfrm>
      </p:grpSpPr>
      <p:sp>
        <p:nvSpPr>
          <p:cNvPr id="204" name="文本框 3"/>
          <p:cNvSpPr/>
          <p:nvPr/>
        </p:nvSpPr>
        <p:spPr>
          <a:xfrm>
            <a:off x="6701400" y="2767320"/>
            <a:ext cx="263484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000" spc="-1" strike="noStrike">
                <a:solidFill>
                  <a:srgbClr val="0d0d0d"/>
                </a:solidFill>
                <a:latin typeface="方正兰亭超细黑简体"/>
                <a:ea typeface="方正兰亭超细黑简体"/>
              </a:rPr>
              <a:t>Section 02</a:t>
            </a:r>
            <a:endParaRPr b="0" lang="en-US" sz="4000" spc="-1" strike="noStrike">
              <a:solidFill>
                <a:srgbClr val="000000"/>
              </a:solidFill>
              <a:latin typeface="Arial"/>
            </a:endParaRPr>
          </a:p>
        </p:txBody>
      </p:sp>
      <p:sp>
        <p:nvSpPr>
          <p:cNvPr id="205" name="矩形 5"/>
          <p:cNvSpPr/>
          <p:nvPr/>
        </p:nvSpPr>
        <p:spPr>
          <a:xfrm>
            <a:off x="6698880" y="3357720"/>
            <a:ext cx="315900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4000" spc="-1" strike="noStrike">
                <a:solidFill>
                  <a:srgbClr val="0d0d0d"/>
                </a:solidFill>
                <a:latin typeface="方正兰亭超细黑简体"/>
                <a:ea typeface="方正兰亭超细黑简体"/>
              </a:rPr>
              <a:t>Introduction</a:t>
            </a:r>
            <a:endParaRPr b="0" lang="en-US" sz="4000" spc="-1" strike="noStrike">
              <a:solidFill>
                <a:srgbClr val="000000"/>
              </a:solidFill>
              <a:latin typeface="Arial"/>
            </a:endParaRPr>
          </a:p>
        </p:txBody>
      </p:sp>
      <p:sp>
        <p:nvSpPr>
          <p:cNvPr id="206" name="六边形 4"/>
          <p:cNvSpPr/>
          <p:nvPr/>
        </p:nvSpPr>
        <p:spPr>
          <a:xfrm rot="5400000">
            <a:off x="2972160" y="2427120"/>
            <a:ext cx="2323800" cy="2003400"/>
          </a:xfrm>
          <a:prstGeom prst="hexagon">
            <a:avLst>
              <a:gd name="adj" fmla="val 25000"/>
              <a:gd name="vf" fmla="val 115470"/>
            </a:avLst>
          </a:prstGeom>
          <a:blipFill rotWithShape="0">
            <a:blip r:embed="rId1"/>
            <a:srcRect/>
            <a:stretch/>
          </a:blipFill>
          <a:ln>
            <a:noFill/>
          </a:ln>
          <a:effectLst>
            <a:innerShdw blurRad="571500" dir="11040000">
              <a:srgbClr val="000000"/>
            </a:inn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med" advTm="0" p14:dur="800"/>
    </mc:Choice>
    <mc:Fallback>
      <p:transition spd="med" advTm="0"/>
    </mc:Fallback>
  </mc:AlternateContent>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withEffect" fill="hold" presetClass="entr" presetID="2" presetSubtype="1">
                                  <p:stCondLst>
                                    <p:cond delay="0"/>
                                  </p:stCondLst>
                                  <p:iterate type="wd">
                                    <p:tmAbs val="0"/>
                                  </p:iterate>
                                  <p:childTnLst>
                                    <p:set>
                                      <p:cBhvr>
                                        <p:cTn id="249" dur="1" fill="hold">
                                          <p:stCondLst>
                                            <p:cond delay="0"/>
                                          </p:stCondLst>
                                        </p:cTn>
                                        <p:tgtEl>
                                          <p:spTgt spid="204"/>
                                        </p:tgtEl>
                                        <p:attrNameLst>
                                          <p:attrName>style.visibility</p:attrName>
                                        </p:attrNameLst>
                                      </p:cBhvr>
                                      <p:to>
                                        <p:strVal val="visible"/>
                                      </p:to>
                                    </p:set>
                                    <p:anim calcmode="lin" valueType="num">
                                      <p:cBhvr additive="repl">
                                        <p:cTn id="250" dur="500" fill="hold"/>
                                        <p:tgtEl>
                                          <p:spTgt spid="204"/>
                                        </p:tgtEl>
                                        <p:attrNameLst>
                                          <p:attrName>ppt_x</p:attrName>
                                        </p:attrNameLst>
                                      </p:cBhvr>
                                      <p:tavLst>
                                        <p:tav tm="0">
                                          <p:val>
                                            <p:strVal val="#ppt_x"/>
                                          </p:val>
                                        </p:tav>
                                        <p:tav tm="100000">
                                          <p:val>
                                            <p:strVal val="#ppt_x"/>
                                          </p:val>
                                        </p:tav>
                                      </p:tavLst>
                                    </p:anim>
                                    <p:anim calcmode="lin" valueType="num">
                                      <p:cBhvr additive="repl">
                                        <p:cTn id="251" dur="500" fill="hold"/>
                                        <p:tgtEl>
                                          <p:spTgt spid="204"/>
                                        </p:tgtEl>
                                        <p:attrNameLst>
                                          <p:attrName>ppt_y</p:attrName>
                                        </p:attrNameLst>
                                      </p:cBhvr>
                                      <p:tavLst>
                                        <p:tav tm="0">
                                          <p:val>
                                            <p:strVal val="0-#ppt_h/2"/>
                                          </p:val>
                                        </p:tav>
                                        <p:tav tm="100000">
                                          <p:val>
                                            <p:strVal val="#ppt_y"/>
                                          </p:val>
                                        </p:tav>
                                      </p:tavLst>
                                    </p:anim>
                                  </p:childTnLst>
                                </p:cTn>
                              </p:par>
                              <p:par>
                                <p:cTn id="252" nodeType="withEffect" fill="hold" presetClass="emph" presetID="34">
                                  <p:stCondLst>
                                    <p:cond delay="500"/>
                                  </p:stCondLst>
                                  <p:iterate type="wd">
                                    <p:tmAbs val="100"/>
                                  </p:iterate>
                                  <p:childTnLst>
                                    <p:animMotion origin="layout" path="M -2.29167E-006 -2.59259E-006 L -0.00013 -0.03565 E">
                                      <p:cBhvr>
                                        <p:cTn id="253" dur="250" autoRev="1" fill="hold">
                                          <p:stCondLst>
                                            <p:cond delay="0"/>
                                          </p:stCondLst>
                                        </p:cTn>
                                        <p:tgtEl>
                                          <p:spTgt spid="204"/>
                                        </p:tgtEl>
                                        <p:attrNameLst>
                                          <p:attrName>ppt_x</p:attrName>
                                          <p:attrName>ppt_y</p:attrName>
                                        </p:attrNameLst>
                                      </p:cBhvr>
                                    </p:animMotion>
                                    <p:animRot by="1500000">
                                      <p:cBhvr>
                                        <p:cTn id="254" dur="125" fill="hold">
                                          <p:stCondLst>
                                            <p:cond delay="0"/>
                                          </p:stCondLst>
                                        </p:cTn>
                                        <p:tgtEl>
                                          <p:spTgt spid="204"/>
                                        </p:tgtEl>
                                        <p:attrNameLst>
                                          <p:attrName>r</p:attrName>
                                        </p:attrNameLst>
                                      </p:cBhvr>
                                    </p:animRot>
                                    <p:animRot by="-1500000">
                                      <p:cBhvr>
                                        <p:cTn id="255" dur="125" fill="hold">
                                          <p:stCondLst>
                                            <p:cond delay="125"/>
                                          </p:stCondLst>
                                        </p:cTn>
                                        <p:tgtEl>
                                          <p:spTgt spid="204"/>
                                        </p:tgtEl>
                                        <p:attrNameLst>
                                          <p:attrName>r</p:attrName>
                                        </p:attrNameLst>
                                      </p:cBhvr>
                                    </p:animRot>
                                    <p:animRot by="-1500000">
                                      <p:cBhvr>
                                        <p:cTn id="256" dur="125" fill="hold">
                                          <p:stCondLst>
                                            <p:cond delay="250"/>
                                          </p:stCondLst>
                                        </p:cTn>
                                        <p:tgtEl>
                                          <p:spTgt spid="204"/>
                                        </p:tgtEl>
                                        <p:attrNameLst>
                                          <p:attrName>r</p:attrName>
                                        </p:attrNameLst>
                                      </p:cBhvr>
                                    </p:animRot>
                                    <p:animRot by="1500000">
                                      <p:cBhvr>
                                        <p:cTn id="257" dur="125" fill="hold">
                                          <p:stCondLst>
                                            <p:cond delay="375"/>
                                          </p:stCondLst>
                                        </p:cTn>
                                        <p:tgtEl>
                                          <p:spTgt spid="204"/>
                                        </p:tgtEl>
                                        <p:attrNameLst>
                                          <p:attrName>r</p:attrName>
                                        </p:attrNameLst>
                                      </p:cBhvr>
                                    </p:animRot>
                                  </p:childTnLst>
                                </p:cTn>
                              </p:par>
                              <p:par>
                                <p:cTn id="258" nodeType="withEffect" fill="hold" presetClass="entr" presetID="22" presetSubtype="8">
                                  <p:stCondLst>
                                    <p:cond delay="0"/>
                                  </p:stCondLst>
                                  <p:childTnLst>
                                    <p:set>
                                      <p:cBhvr>
                                        <p:cTn id="259" dur="1" fill="hold">
                                          <p:stCondLst>
                                            <p:cond delay="0"/>
                                          </p:stCondLst>
                                        </p:cTn>
                                        <p:tgtEl>
                                          <p:spTgt spid="205"/>
                                        </p:tgtEl>
                                        <p:attrNameLst>
                                          <p:attrName>style.visibility</p:attrName>
                                        </p:attrNameLst>
                                      </p:cBhvr>
                                      <p:to>
                                        <p:strVal val="visible"/>
                                      </p:to>
                                    </p:set>
                                    <p:animEffect filter="wipe(left)" transition="in">
                                      <p:cBhvr additive="repl">
                                        <p:cTn id="260"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5</TotalTime>
  <Application>LibreOffice/7.4.7.2$Linux_X86_64 LibreOffice_project/40$Build-2</Application>
  <AppVersion>15.0000</AppVersion>
  <Words>799</Words>
  <Paragraphs>93</Paragraphs>
  <Company>Lenovo</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07T08:56:12Z</dcterms:created>
  <dc:creator>lenovo</dc:creator>
  <dc:description/>
  <dc:language>en-US</dc:language>
  <cp:lastModifiedBy>王玉清</cp:lastModifiedBy>
  <dcterms:modified xsi:type="dcterms:W3CDTF">2016-03-05T12:36:06Z</dcterms:modified>
  <cp:revision>5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宽屏</vt:lpwstr>
  </property>
  <property fmtid="{D5CDD505-2E9C-101B-9397-08002B2CF9AE}" pid="3" name="Slides">
    <vt:r8>18</vt:r8>
  </property>
</Properties>
</file>