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D2E-CD57-4989-891E-423DC9F4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073-C64D-47AF-8686-325BBE2E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58541-94EF-4732-9562-77DE3264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C14FC-73BE-4ACA-9C45-D663E44B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A3097-454B-4C54-8797-CFAC791C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0B6C0-0547-4477-9DA4-33A2C620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DA0E1-76A8-4E15-A930-E60E68DF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824EE-2FBB-40BD-99EE-1507DFD9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1F441-ACDE-488E-8ABA-85A31D02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B670E-D70E-4838-8832-33652D70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C1465-3BF6-4B71-A0BE-D0BF7184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4532E-2F19-44DC-8F02-3A4C26A3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197-CEA6-4196-A159-1D0ED7E4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A9F44-29FD-49FC-B817-903B301E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D3DF7-3905-45DD-9CA4-9195ECF3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80B9C-D70A-45D2-901A-A3A349CA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20A66-48E7-487E-B935-FE806A9D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9B651-9E10-417B-BF87-EE9C25E9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B32BD-EFC1-4F3C-B325-D75DDA81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F54FC-25AF-48FB-8484-0BE97C69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66405-0FAA-4274-AB61-2BA7141E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70290-B158-46C2-A974-BCE2F4ED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F6FD7-09E3-4F50-BBF7-2C0672BC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578-85EC-487F-AB1E-58108A3D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92416-3A1D-46F4-9D50-E38D4EEF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D4002-E328-4B53-AEA8-EA40BF5A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39230-B69F-4F1D-AE2E-71199727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CEC7D-F6A7-4892-A6D7-1690639D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F95DB-E5B0-4566-9D12-DE691A29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5DE14-B8AA-4966-820E-5CDF8BAB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D99AC-801D-48D1-B9D2-D3215E39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B13F5-50BF-4248-8775-3FD4CCE0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88450-41F1-4BE8-A155-2E3FD136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8E801-068E-4812-B29D-A490C828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D80C-F9AD-4E91-9732-2E00EF62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93F0E-72F3-45A5-929F-535EEF4B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C9372-0A49-4521-9CF3-5DCD1214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0A9ED-87EB-404A-9476-3C1F0291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5D57F-A6F7-47D4-9102-DF6E675B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85CC8-628C-4D98-B82F-99A87E07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2C985-4DE4-473C-9D82-00BDBA81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FCBAD-5826-4D4C-A62D-8FD0D523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2AA3A-CDC3-4FF7-957A-5769AF39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B1AF1-6A85-4B84-A4EA-134FFFE0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5ECB5-AB65-4D62-969D-5BCCF138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6E14-7E69-4E9C-903A-68098502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D1527-B298-4758-9ED4-22C3BFE6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13E9D-BE66-4921-8C42-667B4A7F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35350-43C2-4427-92F2-5346B831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A0C6B-389F-463B-9C9D-DDB96D2D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F9AB3-F999-4C1C-AD27-76849BB0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52044-75FD-4CCB-AB48-020AB05D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9EE44-69EC-4042-B45F-B0636556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D5B55-156F-4BF4-9E3F-3455C5BE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88103-4831-403E-96DA-4BD42EA7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AEB79-6B3A-44DE-B041-5B8B72F2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F25A-7689-409B-9A9C-620165D5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1827B-63BC-41CB-BC52-923236EE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E579F-FCC0-4D8D-A759-2817B2C7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5632D-F651-4F5F-A5D4-27403DB7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E8DA7-8956-4BD4-9E14-CD43A5F9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DFC69-FCC0-4042-B34A-65436996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CC415-ABA7-4565-8E4A-9331E102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95598-44A3-4D87-B2CB-7793EE47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7890-ED40-4AE5-BA4D-D3367C9D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AC36-BE11-416F-8ADA-FAE020BE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CD80-ECEE-433C-B335-4C92FAF5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9A9D-985A-477B-B62D-D34205E7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E8E-B085-42CB-B9EC-2D156865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DEC5-F9F0-4E40-9CF1-16A862CA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8025-6788-4632-AFFD-575748A4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427F-5626-49F8-816F-EE275DD2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23F8-9F31-473F-BC0E-7524BA34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B2A7-A8DE-47B3-B6C5-59BE36C9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5AC0-9712-4441-B8DA-52E48605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D9EB8-380A-46E8-8788-F94B1E2A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76706-9606-4588-864C-BBD8988C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EE6F9-308E-40D8-831B-66D8E8E9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D6A15-6963-4AC1-8378-557F3D81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650-0065-47FC-B7FA-4D0B8080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8AFB-91AA-459D-B405-FAADD9C6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0F227-D4B1-4CB1-8085-202B70BE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F749-2E21-40A7-BE82-A687498D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7B608-8166-431F-A71A-72047311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42F47-DB6E-4145-8655-BEA1248A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F3734-CB40-4736-A3EB-DE5F577A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91B97-D562-41B1-991A-E2E3E4A3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2FC40-AFC6-4597-A245-49C0FDFA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4BFF0-3ABE-475F-AD83-AC8546C4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4743D-C3EB-4305-BEA7-D31C3777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A93-50D9-4B98-ABC4-CB6918BA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D98CF-8E32-46C5-9F84-4F656CEE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AAC4E-75DB-4798-8E24-9CF6632B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7DD79-E238-425E-91B4-0210A810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F68D0-E0DE-49BF-BC9F-0D204CB6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63A7-C444-408E-B432-C72D07FC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9D204-CD7B-401B-BC40-98AA918E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B90A5-DBA3-473C-827B-BE7FA870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F338B-23B1-4F74-BBD1-07E76AAB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07D2A-7934-4A22-A191-C0C6819E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19D03-C280-43F6-8D7A-CB920AA1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92B-B916-4808-B21A-A05AD5C0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5FFFA-A420-4C93-BCFF-06C4C876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E3109-D72A-4D8D-9CD8-4B8B3F19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C183E-5045-438C-AA60-E6DA053D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30597-A030-47C3-ACD6-58319AB4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B4367-8A39-4634-9DB8-F5CD3884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E27CA-6AE2-4F16-A6AF-8DDBE71B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A1C5C-0969-417C-926F-F3445872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C4634-E16A-4709-9505-769FA926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8E635-7249-4BD0-916C-B1A70F55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92510-6C6F-419D-815C-334464A4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A42-2069-4C2C-BBF0-6BAE4822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05971-4E05-45AC-9124-69FD0223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6298C-336F-4739-A74E-62B1D8FE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A2ABA-8CF8-4F15-AA98-A06EEC66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FE39C-00AE-4A6C-B63B-4CD1FDB8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2E3B9-EFA7-4D62-9FC6-C245001B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93850-E6DA-4A1B-B9C5-A11FAA85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BFF78-A82A-4463-B224-AF9868D4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7B0E0-4617-468E-B864-B8420BF4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DD59D-53ED-4119-BF6F-7971AE41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DDD64-F028-47E6-8FA3-7CE6F764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259-1A1A-4335-AF90-A73007DA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6DC2B-B0AD-4164-B5FD-64288655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3E5E1-9488-4ECF-BBB9-67E0840C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7C38B-6C20-4A51-861F-F3AB04C0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05EB5-52D9-4806-87B9-00A6D68A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898B9-EC3E-4980-89E3-FE9C7E4C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0E566-F43B-409E-A478-04DEF84E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98453-FF9B-48E0-A6B7-5E6FB491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5CC86-C458-4267-A18F-4AB84D8E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FC7ED-12A9-46A6-AE78-38A31FF2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AB541-0D30-46D5-8833-7D5C5780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BD9-C819-4D8A-AEDE-461B26AE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7A64C-BBE2-4E18-85DC-90B57F8C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166CF-B1E3-4AAB-A3EC-1A24A579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15B0C-C49C-4225-8E93-8A1B7715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032A6-BD1E-49BA-AD35-443D57A9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61846-DCE2-4263-85B0-FBB2CEBC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67415-693A-4A4B-BD47-7F7568F7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1C4EC-F305-4377-9A15-9CD474D7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827C3-8673-4944-91EE-07861B1B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4CE96-F18F-4B27-A3C4-7E61CD9D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C3B1E-BF8C-45F3-A00A-7F4254A8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4E6-F1CD-4C34-B290-6FEF4E5B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A9948-4B8E-43F9-9B23-214502CB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42E37-6CBE-472F-AF04-88CAB110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CC815-792C-4C6A-BA93-6B7431D1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CC8A3-6C70-41C9-A46D-B476D389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4634D-713E-407B-8774-A41F163A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7FC87-A9BF-442E-9954-5F574D43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A217D-54E9-45BA-869C-D8042260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15BE4-62D4-44C4-BE46-16E81EFC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FE6DD-9C9C-46C9-8371-5C74CFC3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E924A-6227-4E14-ACEE-F0A53EF5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4620-8536-48FE-AF44-2B1721DEAB1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F7D2-7E7F-497A-A031-1055E5374FE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5B7B-CBA3-4E00-A251-984274C3392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9A2D-F9B5-48AE-9023-E99EA4EEB8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4E6B-E75E-4955-B98A-C59532C4FA1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6656-78AC-4A29-8BDE-C162E4804E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3BBA-33AC-4427-88B5-AEE1CDCB5FB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52EA-2D84-4E96-A8A3-99F1A57A4D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803B-C95F-4BE7-8D8D-E2A1F20339B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0801-ABBC-4C83-B7D4-E1149EEC6F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9F53-5F4A-480E-8E1D-519CA95587D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9F4A-AC5E-4772-8831-362ECF6A65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028E-257D-4025-8BBA-D528CE9732D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F28C-03F9-44E0-A4C6-CAF07BE3C6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C766-5695-470B-91DF-A4126CECF63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ED4D-1831-428C-AFCF-B81E61FE36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2090-B8C6-4B90-AD9B-46A3809C6D7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FBBB-4867-43A5-B5C3-0F8ACDA1A1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934B-0833-458C-B89A-733E053DA7B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2282-BB9D-45AF-8610-78F72755D8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8517-21F7-4B7E-9BA7-EBCFD988E7E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775D-464D-456C-854D-42B411A6B5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1E49-FDD5-4A7A-BABB-062F0D50C52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9C8F-15CC-47D4-967F-95D0D2F760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59D5-FF1B-4D51-8AD9-06ED561D4A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5E20-6D9A-4D74-8410-316F1EE2F1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0" y="0"/>
            <a:ext cx="5016600" cy="6858000"/>
          </a:xfrm>
          <a:prstGeom prst="rect">
            <a:avLst/>
          </a:prstGeom>
          <a:solidFill>
            <a:srgbClr val="481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8"/>
          <p:cNvSpPr/>
          <p:nvPr/>
        </p:nvSpPr>
        <p:spPr>
          <a:xfrm>
            <a:off x="7175520" y="0"/>
            <a:ext cx="5016600" cy="68580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平行四边形 9"/>
          <p:cNvSpPr/>
          <p:nvPr/>
        </p:nvSpPr>
        <p:spPr>
          <a:xfrm>
            <a:off x="2635200" y="0"/>
            <a:ext cx="7221600" cy="6858000"/>
          </a:xfrm>
          <a:prstGeom prst="parallelogram">
            <a:avLst>
              <a:gd name="adj" fmla="val 24999"/>
            </a:avLst>
          </a:prstGeom>
          <a:solidFill>
            <a:srgbClr val="f3c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等腰三角形 10"/>
          <p:cNvSpPr/>
          <p:nvPr/>
        </p:nvSpPr>
        <p:spPr>
          <a:xfrm rot="624600">
            <a:off x="3250800" y="137880"/>
            <a:ext cx="479520" cy="6858000"/>
          </a:xfrm>
          <a:prstGeom prst="triangle">
            <a:avLst>
              <a:gd name="adj" fmla="val 88981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等腰三角形 11"/>
          <p:cNvSpPr/>
          <p:nvPr/>
        </p:nvSpPr>
        <p:spPr>
          <a:xfrm rot="11444400">
            <a:off x="8755920" y="-122040"/>
            <a:ext cx="477720" cy="6858000"/>
          </a:xfrm>
          <a:prstGeom prst="triangle">
            <a:avLst>
              <a:gd name="adj" fmla="val 82417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平行四边形 13"/>
          <p:cNvSpPr/>
          <p:nvPr/>
        </p:nvSpPr>
        <p:spPr>
          <a:xfrm>
            <a:off x="1962000" y="3746520"/>
            <a:ext cx="7866360" cy="1493640"/>
          </a:xfrm>
          <a:prstGeom prst="parallelogram">
            <a:avLst>
              <a:gd name="adj" fmla="val -24108"/>
            </a:avLst>
          </a:prstGeom>
          <a:gradFill rotWithShape="0">
            <a:gsLst>
              <a:gs pos="0">
                <a:srgbClr val="5e0041"/>
              </a:gs>
              <a:gs pos="100000">
                <a:srgbClr val="a200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平行四边形 12"/>
          <p:cNvSpPr/>
          <p:nvPr/>
        </p:nvSpPr>
        <p:spPr>
          <a:xfrm>
            <a:off x="793800" y="2286000"/>
            <a:ext cx="10353600" cy="2098800"/>
          </a:xfrm>
          <a:prstGeom prst="parallelogram">
            <a:avLst>
              <a:gd name="adj" fmla="val -12327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6296040" y="460368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方正兰亭黑简体"/>
              </a:rPr>
              <a:t>谁才是真正的预言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3"/>
          <p:cNvSpPr/>
          <p:nvPr/>
        </p:nvSpPr>
        <p:spPr>
          <a:xfrm>
            <a:off x="1933560" y="2565360"/>
            <a:ext cx="83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方正兰亭粗黑简体"/>
              </a:rPr>
              <a:t>年终奖离你有多远动态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方正兰亭粗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方正兰亭粗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燕尾形 14"/>
          <p:cNvSpPr/>
          <p:nvPr/>
        </p:nvSpPr>
        <p:spPr>
          <a:xfrm>
            <a:off x="437508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燕尾形 15"/>
          <p:cNvSpPr/>
          <p:nvPr/>
        </p:nvSpPr>
        <p:spPr>
          <a:xfrm>
            <a:off x="400356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燕尾形 16"/>
          <p:cNvSpPr/>
          <p:nvPr/>
        </p:nvSpPr>
        <p:spPr>
          <a:xfrm>
            <a:off x="363204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燕尾形 17"/>
          <p:cNvSpPr/>
          <p:nvPr/>
        </p:nvSpPr>
        <p:spPr>
          <a:xfrm>
            <a:off x="326088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燕尾形 18"/>
          <p:cNvSpPr/>
          <p:nvPr/>
        </p:nvSpPr>
        <p:spPr>
          <a:xfrm>
            <a:off x="288936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燕尾形 19"/>
          <p:cNvSpPr/>
          <p:nvPr/>
        </p:nvSpPr>
        <p:spPr>
          <a:xfrm>
            <a:off x="251784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20"/>
          <p:cNvSpPr/>
          <p:nvPr/>
        </p:nvSpPr>
        <p:spPr>
          <a:xfrm>
            <a:off x="4175280" y="808200"/>
            <a:ext cx="505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的职业是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们单位是怎么发年终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1"/>
          <p:cNvSpPr/>
          <p:nvPr/>
        </p:nvSpPr>
        <p:spPr>
          <a:xfrm>
            <a:off x="9607680" y="19782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为年终奖达不到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期在次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选择离职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2"/>
          <p:cNvSpPr/>
          <p:nvPr/>
        </p:nvSpPr>
        <p:spPr>
          <a:xfrm>
            <a:off x="7689960" y="60530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17171"/>
                </a:solidFill>
                <a:latin typeface="黑体"/>
                <a:ea typeface="方正兰亭黑简体"/>
              </a:rPr>
              <a:t>你目前月收入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3"/>
          <p:cNvSpPr/>
          <p:nvPr/>
        </p:nvSpPr>
        <p:spPr>
          <a:xfrm>
            <a:off x="3705120" y="5578560"/>
            <a:ext cx="50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1a1a1"/>
                </a:solidFill>
                <a:latin typeface="黑体"/>
                <a:ea typeface="方正兰亭黑简体"/>
              </a:rPr>
              <a:t>你拿到手最多的一笔年终奖有多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4"/>
          <p:cNvSpPr/>
          <p:nvPr/>
        </p:nvSpPr>
        <p:spPr>
          <a:xfrm>
            <a:off x="163440" y="2065320"/>
            <a:ext cx="14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和同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等披露年终奖数字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任意多边形 67"/>
          <p:cNvSpPr/>
          <p:nvPr/>
        </p:nvSpPr>
        <p:spPr>
          <a:xfrm>
            <a:off x="6989760" y="2924280"/>
            <a:ext cx="806400" cy="722160"/>
          </a:xfrm>
          <a:custGeom>
            <a:avLst/>
            <a:gdLst>
              <a:gd name="textAreaLeft" fmla="*/ 0 w 806400"/>
              <a:gd name="textAreaRight" fmla="*/ 806760 w 806400"/>
              <a:gd name="textAreaTop" fmla="*/ 0 h 722160"/>
              <a:gd name="textAreaBottom" fmla="*/ 722160 h 722160"/>
            </a:gdLst>
            <a:ahLst/>
            <a:rect l="textAreaLeft" t="textAreaTop" r="textAreaRight" b="textAreaBottom"/>
            <a:pathLst>
              <a:path w="809625" h="714375">
                <a:moveTo>
                  <a:pt x="0" y="504825"/>
                </a:moveTo>
                <a:lnTo>
                  <a:pt x="809625" y="0"/>
                </a:lnTo>
                <a:cubicBezTo>
                  <a:pt x="808037" y="238125"/>
                  <a:pt x="806450" y="476250"/>
                  <a:pt x="804862" y="714375"/>
                </a:cubicBezTo>
                <a:lnTo>
                  <a:pt x="0" y="504825"/>
                </a:lnTo>
                <a:close/>
              </a:path>
            </a:pathLst>
          </a:cu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9"/>
          <p:cNvSpPr/>
          <p:nvPr/>
        </p:nvSpPr>
        <p:spPr>
          <a:xfrm>
            <a:off x="6989760" y="5519880"/>
            <a:ext cx="809640" cy="742680"/>
          </a:xfrm>
          <a:custGeom>
            <a:avLst/>
            <a:gdLst>
              <a:gd name="textAreaLeft" fmla="*/ 0 w 809640"/>
              <a:gd name="textAreaRight" fmla="*/ 810000 w 809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809625" h="742950">
                <a:moveTo>
                  <a:pt x="804862" y="742950"/>
                </a:moveTo>
                <a:cubicBezTo>
                  <a:pt x="806450" y="495300"/>
                  <a:pt x="808037" y="247650"/>
                  <a:pt x="809625" y="0"/>
                </a:cubicBezTo>
                <a:lnTo>
                  <a:pt x="0" y="200025"/>
                </a:lnTo>
                <a:lnTo>
                  <a:pt x="804862" y="742950"/>
                </a:lnTo>
                <a:close/>
              </a:path>
            </a:pathLst>
          </a:cu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梯形 65"/>
          <p:cNvSpPr/>
          <p:nvPr/>
        </p:nvSpPr>
        <p:spPr>
          <a:xfrm flipV="1" rot="5400000">
            <a:off x="6729480" y="3686040"/>
            <a:ext cx="2325600" cy="1789200"/>
          </a:xfrm>
          <a:custGeom>
            <a:avLst/>
            <a:gdLst>
              <a:gd name="textAreaLeft" fmla="*/ 417240 w 2325600"/>
              <a:gd name="textAreaRight" fmla="*/ 1908360 w 2325600"/>
              <a:gd name="textAreaTop" fmla="*/ 321120 h 1789200"/>
              <a:gd name="textAreaBottom" fmla="*/ 1468080 h 17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153" y="21600"/>
                </a:lnTo>
                <a:lnTo>
                  <a:pt x="174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4c00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圆角矩形 57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圆角矩形 48"/>
          <p:cNvSpPr/>
          <p:nvPr/>
        </p:nvSpPr>
        <p:spPr>
          <a:xfrm>
            <a:off x="800280" y="428760"/>
            <a:ext cx="443196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图片 1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grpSp>
        <p:nvGrpSpPr>
          <p:cNvPr id="560" name="组合 47"/>
          <p:cNvGrpSpPr/>
          <p:nvPr/>
        </p:nvGrpSpPr>
        <p:grpSpPr>
          <a:xfrm>
            <a:off x="317520" y="254160"/>
            <a:ext cx="1155600" cy="1155600"/>
            <a:chOff x="317520" y="254160"/>
            <a:chExt cx="1155600" cy="1155600"/>
          </a:xfrm>
        </p:grpSpPr>
        <p:sp>
          <p:nvSpPr>
            <p:cNvPr id="561" name="椭圆 46"/>
            <p:cNvSpPr/>
            <p:nvPr/>
          </p:nvSpPr>
          <p:spPr>
            <a:xfrm>
              <a:off x="317520" y="254160"/>
              <a:ext cx="1155600" cy="1155600"/>
            </a:xfrm>
            <a:prstGeom prst="ellipse">
              <a:avLst/>
            </a:prstGeom>
            <a:solidFill>
              <a:srgbClr val="cb1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任意多边形 45"/>
            <p:cNvSpPr/>
            <p:nvPr/>
          </p:nvSpPr>
          <p:spPr>
            <a:xfrm>
              <a:off x="465840" y="305280"/>
              <a:ext cx="855360" cy="86868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868680"/>
                <a:gd name="textAreaBottom" fmla="*/ 868680 h 868680"/>
              </a:gdLst>
              <a:ahLst/>
              <a:rect l="textAreaLeft" t="textAreaTop" r="textAreaRight" b="textAreaBottom"/>
              <a:pathLst>
                <a:path w="2346011" h="2382139">
                  <a:moveTo>
                    <a:pt x="1732806" y="1395175"/>
                  </a:moveTo>
                  <a:lnTo>
                    <a:pt x="2276482" y="1538723"/>
                  </a:lnTo>
                  <a:lnTo>
                    <a:pt x="2263209" y="1538723"/>
                  </a:lnTo>
                  <a:cubicBezTo>
                    <a:pt x="2308939" y="1538723"/>
                    <a:pt x="2346011" y="1575110"/>
                    <a:pt x="2346011" y="1619995"/>
                  </a:cubicBezTo>
                  <a:lnTo>
                    <a:pt x="2346011" y="2382139"/>
                  </a:lnTo>
                  <a:lnTo>
                    <a:pt x="1913338" y="2382139"/>
                  </a:lnTo>
                  <a:lnTo>
                    <a:pt x="1913338" y="2190845"/>
                  </a:lnTo>
                  <a:lnTo>
                    <a:pt x="1795619" y="2382139"/>
                  </a:lnTo>
                  <a:lnTo>
                    <a:pt x="1431622" y="2382139"/>
                  </a:lnTo>
                  <a:lnTo>
                    <a:pt x="1434518" y="2377151"/>
                  </a:lnTo>
                  <a:cubicBezTo>
                    <a:pt x="1457079" y="2337074"/>
                    <a:pt x="1480815" y="2292495"/>
                    <a:pt x="1504595" y="2245151"/>
                  </a:cubicBezTo>
                  <a:cubicBezTo>
                    <a:pt x="1552155" y="2150464"/>
                    <a:pt x="1590888" y="2062648"/>
                    <a:pt x="1615062" y="1997213"/>
                  </a:cubicBezTo>
                  <a:lnTo>
                    <a:pt x="1629850" y="1954105"/>
                  </a:lnTo>
                  <a:lnTo>
                    <a:pt x="1633396" y="1951211"/>
                  </a:lnTo>
                  <a:cubicBezTo>
                    <a:pt x="1658108" y="1912084"/>
                    <a:pt x="1694317" y="1734792"/>
                    <a:pt x="1719884" y="1520247"/>
                  </a:cubicBezTo>
                  <a:cubicBezTo>
                    <a:pt x="1723536" y="1489599"/>
                    <a:pt x="1726798" y="1459640"/>
                    <a:pt x="1729664" y="1430673"/>
                  </a:cubicBezTo>
                  <a:lnTo>
                    <a:pt x="1732806" y="1395175"/>
                  </a:lnTo>
                  <a:close/>
                  <a:moveTo>
                    <a:pt x="613204" y="1395175"/>
                  </a:moveTo>
                  <a:lnTo>
                    <a:pt x="616346" y="1430673"/>
                  </a:lnTo>
                  <a:cubicBezTo>
                    <a:pt x="619211" y="1459640"/>
                    <a:pt x="622474" y="1489599"/>
                    <a:pt x="626126" y="1520247"/>
                  </a:cubicBezTo>
                  <a:cubicBezTo>
                    <a:pt x="651693" y="1734792"/>
                    <a:pt x="687901" y="1912084"/>
                    <a:pt x="712614" y="1951211"/>
                  </a:cubicBezTo>
                  <a:lnTo>
                    <a:pt x="716162" y="1954107"/>
                  </a:lnTo>
                  <a:lnTo>
                    <a:pt x="730948" y="1997212"/>
                  </a:lnTo>
                  <a:cubicBezTo>
                    <a:pt x="755123" y="2062647"/>
                    <a:pt x="793856" y="2150463"/>
                    <a:pt x="841416" y="2245150"/>
                  </a:cubicBezTo>
                  <a:cubicBezTo>
                    <a:pt x="865196" y="2292494"/>
                    <a:pt x="888932" y="2337074"/>
                    <a:pt x="911493" y="2377150"/>
                  </a:cubicBezTo>
                  <a:lnTo>
                    <a:pt x="914390" y="2382139"/>
                  </a:lnTo>
                  <a:lnTo>
                    <a:pt x="572738" y="2382139"/>
                  </a:lnTo>
                  <a:lnTo>
                    <a:pt x="455019" y="2190845"/>
                  </a:lnTo>
                  <a:lnTo>
                    <a:pt x="455019" y="2382139"/>
                  </a:lnTo>
                  <a:lnTo>
                    <a:pt x="0" y="2382139"/>
                  </a:lnTo>
                  <a:lnTo>
                    <a:pt x="0" y="1619995"/>
                  </a:lnTo>
                  <a:cubicBezTo>
                    <a:pt x="0" y="1575110"/>
                    <a:pt x="37072" y="1538723"/>
                    <a:pt x="82802" y="1538723"/>
                  </a:cubicBezTo>
                  <a:lnTo>
                    <a:pt x="69528" y="1538723"/>
                  </a:lnTo>
                  <a:lnTo>
                    <a:pt x="613204" y="1395175"/>
                  </a:lnTo>
                  <a:close/>
                  <a:moveTo>
                    <a:pt x="899156" y="1319674"/>
                  </a:moveTo>
                  <a:lnTo>
                    <a:pt x="902612" y="1402211"/>
                  </a:lnTo>
                  <a:cubicBezTo>
                    <a:pt x="921914" y="1629297"/>
                    <a:pt x="989335" y="1814186"/>
                    <a:pt x="1078107" y="1892437"/>
                  </a:cubicBezTo>
                  <a:lnTo>
                    <a:pt x="1083582" y="1895998"/>
                  </a:lnTo>
                  <a:lnTo>
                    <a:pt x="1123556" y="1465319"/>
                  </a:lnTo>
                  <a:lnTo>
                    <a:pt x="1104180" y="1465319"/>
                  </a:lnTo>
                  <a:lnTo>
                    <a:pt x="1104180" y="1405745"/>
                  </a:lnTo>
                  <a:lnTo>
                    <a:pt x="1138865" y="1371702"/>
                  </a:lnTo>
                  <a:lnTo>
                    <a:pt x="1207147" y="1371702"/>
                  </a:lnTo>
                  <a:lnTo>
                    <a:pt x="1241831" y="1405745"/>
                  </a:lnTo>
                  <a:lnTo>
                    <a:pt x="1241831" y="1465319"/>
                  </a:lnTo>
                  <a:lnTo>
                    <a:pt x="1222457" y="1465319"/>
                  </a:lnTo>
                  <a:lnTo>
                    <a:pt x="1262431" y="1895997"/>
                  </a:lnTo>
                  <a:lnTo>
                    <a:pt x="1267904" y="1892437"/>
                  </a:lnTo>
                  <a:cubicBezTo>
                    <a:pt x="1356677" y="1814186"/>
                    <a:pt x="1424097" y="1629297"/>
                    <a:pt x="1443399" y="1402211"/>
                  </a:cubicBezTo>
                  <a:lnTo>
                    <a:pt x="1446855" y="1319674"/>
                  </a:lnTo>
                  <a:lnTo>
                    <a:pt x="1711959" y="1389671"/>
                  </a:lnTo>
                  <a:lnTo>
                    <a:pt x="1698181" y="1517755"/>
                  </a:lnTo>
                  <a:cubicBezTo>
                    <a:pt x="1687773" y="1605093"/>
                    <a:pt x="1675659" y="1689651"/>
                    <a:pt x="1662878" y="1765281"/>
                  </a:cubicBezTo>
                  <a:lnTo>
                    <a:pt x="1645508" y="1859478"/>
                  </a:lnTo>
                  <a:lnTo>
                    <a:pt x="1559236" y="1833895"/>
                  </a:lnTo>
                  <a:lnTo>
                    <a:pt x="1616816" y="1942433"/>
                  </a:lnTo>
                  <a:lnTo>
                    <a:pt x="1611799" y="1956257"/>
                  </a:lnTo>
                  <a:cubicBezTo>
                    <a:pt x="1580668" y="2035917"/>
                    <a:pt x="1536096" y="2134619"/>
                    <a:pt x="1485273" y="2235801"/>
                  </a:cubicBezTo>
                  <a:cubicBezTo>
                    <a:pt x="1468332" y="2269529"/>
                    <a:pt x="1451191" y="2302547"/>
                    <a:pt x="1434183" y="2334277"/>
                  </a:cubicBezTo>
                  <a:lnTo>
                    <a:pt x="1407657" y="2382139"/>
                  </a:lnTo>
                  <a:lnTo>
                    <a:pt x="938355" y="2382139"/>
                  </a:lnTo>
                  <a:lnTo>
                    <a:pt x="911828" y="2334276"/>
                  </a:lnTo>
                  <a:cubicBezTo>
                    <a:pt x="894820" y="2302547"/>
                    <a:pt x="877679" y="2269528"/>
                    <a:pt x="860738" y="2235800"/>
                  </a:cubicBezTo>
                  <a:cubicBezTo>
                    <a:pt x="809915" y="2134618"/>
                    <a:pt x="765343" y="2035916"/>
                    <a:pt x="734212" y="1956257"/>
                  </a:cubicBezTo>
                  <a:lnTo>
                    <a:pt x="729195" y="1942433"/>
                  </a:lnTo>
                  <a:lnTo>
                    <a:pt x="786775" y="1833894"/>
                  </a:lnTo>
                  <a:lnTo>
                    <a:pt x="700501" y="1859477"/>
                  </a:lnTo>
                  <a:lnTo>
                    <a:pt x="683131" y="1765281"/>
                  </a:lnTo>
                  <a:cubicBezTo>
                    <a:pt x="670351" y="1689651"/>
                    <a:pt x="658236" y="1605093"/>
                    <a:pt x="647829" y="1517755"/>
                  </a:cubicBezTo>
                  <a:lnTo>
                    <a:pt x="634050" y="1389671"/>
                  </a:lnTo>
                  <a:lnTo>
                    <a:pt x="899156" y="1319674"/>
                  </a:lnTo>
                  <a:close/>
                  <a:moveTo>
                    <a:pt x="1059539" y="0"/>
                  </a:moveTo>
                  <a:lnTo>
                    <a:pt x="1212261" y="0"/>
                  </a:lnTo>
                  <a:cubicBezTo>
                    <a:pt x="1525808" y="0"/>
                    <a:pt x="1779988" y="254180"/>
                    <a:pt x="1779988" y="567726"/>
                  </a:cubicBezTo>
                  <a:lnTo>
                    <a:pt x="1779988" y="715184"/>
                  </a:lnTo>
                  <a:cubicBezTo>
                    <a:pt x="1779988" y="871958"/>
                    <a:pt x="1716443" y="1013889"/>
                    <a:pt x="1613705" y="1116628"/>
                  </a:cubicBezTo>
                  <a:lnTo>
                    <a:pt x="1600104" y="1127850"/>
                  </a:lnTo>
                  <a:lnTo>
                    <a:pt x="1624628" y="1082667"/>
                  </a:lnTo>
                  <a:cubicBezTo>
                    <a:pt x="1647964" y="1027495"/>
                    <a:pt x="1660868" y="966837"/>
                    <a:pt x="1660868" y="903166"/>
                  </a:cubicBezTo>
                  <a:lnTo>
                    <a:pt x="1660868" y="595719"/>
                  </a:lnTo>
                  <a:cubicBezTo>
                    <a:pt x="1660868" y="510820"/>
                    <a:pt x="1592043" y="441995"/>
                    <a:pt x="1507144" y="441995"/>
                  </a:cubicBezTo>
                  <a:lnTo>
                    <a:pt x="784050" y="441995"/>
                  </a:lnTo>
                  <a:cubicBezTo>
                    <a:pt x="699152" y="441995"/>
                    <a:pt x="630327" y="510820"/>
                    <a:pt x="630327" y="595719"/>
                  </a:cubicBezTo>
                  <a:lnTo>
                    <a:pt x="630327" y="903166"/>
                  </a:lnTo>
                  <a:cubicBezTo>
                    <a:pt x="630327" y="966837"/>
                    <a:pt x="643230" y="1027495"/>
                    <a:pt x="666566" y="1082667"/>
                  </a:cubicBezTo>
                  <a:lnTo>
                    <a:pt x="706820" y="1156830"/>
                  </a:lnTo>
                  <a:lnTo>
                    <a:pt x="658096" y="1116628"/>
                  </a:lnTo>
                  <a:cubicBezTo>
                    <a:pt x="555357" y="1013889"/>
                    <a:pt x="491812" y="871958"/>
                    <a:pt x="491812" y="715184"/>
                  </a:cubicBezTo>
                  <a:lnTo>
                    <a:pt x="491812" y="567726"/>
                  </a:lnTo>
                  <a:cubicBezTo>
                    <a:pt x="491812" y="254180"/>
                    <a:pt x="745992" y="0"/>
                    <a:pt x="105953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文本框 49"/>
          <p:cNvSpPr/>
          <p:nvPr/>
        </p:nvSpPr>
        <p:spPr>
          <a:xfrm>
            <a:off x="1825560" y="54144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的职业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任意多边形 50"/>
          <p:cNvSpPr/>
          <p:nvPr/>
        </p:nvSpPr>
        <p:spPr>
          <a:xfrm>
            <a:off x="947880" y="4708440"/>
            <a:ext cx="691920" cy="703440"/>
          </a:xfrm>
          <a:custGeom>
            <a:avLst/>
            <a:gdLst>
              <a:gd name="textAreaLeft" fmla="*/ 0 w 691920"/>
              <a:gd name="textAreaRight" fmla="*/ 691920 w 69192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2346011" h="2382139">
                <a:moveTo>
                  <a:pt x="1732806" y="1395175"/>
                </a:moveTo>
                <a:lnTo>
                  <a:pt x="2276482" y="1538723"/>
                </a:lnTo>
                <a:lnTo>
                  <a:pt x="2263209" y="1538723"/>
                </a:lnTo>
                <a:cubicBezTo>
                  <a:pt x="2308939" y="1538723"/>
                  <a:pt x="2346011" y="1575110"/>
                  <a:pt x="2346011" y="1619995"/>
                </a:cubicBezTo>
                <a:lnTo>
                  <a:pt x="2346011" y="2382139"/>
                </a:lnTo>
                <a:lnTo>
                  <a:pt x="1913338" y="2382139"/>
                </a:lnTo>
                <a:lnTo>
                  <a:pt x="1913338" y="2190845"/>
                </a:lnTo>
                <a:lnTo>
                  <a:pt x="1795619" y="2382139"/>
                </a:lnTo>
                <a:lnTo>
                  <a:pt x="1431622" y="2382139"/>
                </a:lnTo>
                <a:lnTo>
                  <a:pt x="1434518" y="2377151"/>
                </a:lnTo>
                <a:cubicBezTo>
                  <a:pt x="1457079" y="2337074"/>
                  <a:pt x="1480815" y="2292495"/>
                  <a:pt x="1504595" y="2245151"/>
                </a:cubicBezTo>
                <a:cubicBezTo>
                  <a:pt x="1552155" y="2150464"/>
                  <a:pt x="1590888" y="2062648"/>
                  <a:pt x="1615062" y="1997213"/>
                </a:cubicBezTo>
                <a:lnTo>
                  <a:pt x="1629850" y="1954105"/>
                </a:lnTo>
                <a:lnTo>
                  <a:pt x="1633396" y="1951211"/>
                </a:lnTo>
                <a:cubicBezTo>
                  <a:pt x="1658108" y="1912084"/>
                  <a:pt x="1694317" y="1734792"/>
                  <a:pt x="1719884" y="1520247"/>
                </a:cubicBezTo>
                <a:cubicBezTo>
                  <a:pt x="1723536" y="1489599"/>
                  <a:pt x="1726798" y="1459640"/>
                  <a:pt x="1729664" y="1430673"/>
                </a:cubicBezTo>
                <a:lnTo>
                  <a:pt x="1732806" y="1395175"/>
                </a:lnTo>
                <a:close/>
                <a:moveTo>
                  <a:pt x="613204" y="1395175"/>
                </a:moveTo>
                <a:lnTo>
                  <a:pt x="616346" y="1430673"/>
                </a:lnTo>
                <a:cubicBezTo>
                  <a:pt x="619211" y="1459640"/>
                  <a:pt x="622474" y="1489599"/>
                  <a:pt x="626126" y="1520247"/>
                </a:cubicBezTo>
                <a:cubicBezTo>
                  <a:pt x="651693" y="1734792"/>
                  <a:pt x="687901" y="1912084"/>
                  <a:pt x="712614" y="1951211"/>
                </a:cubicBezTo>
                <a:lnTo>
                  <a:pt x="716162" y="1954107"/>
                </a:lnTo>
                <a:lnTo>
                  <a:pt x="730948" y="1997212"/>
                </a:lnTo>
                <a:cubicBezTo>
                  <a:pt x="755123" y="2062647"/>
                  <a:pt x="793856" y="2150463"/>
                  <a:pt x="841416" y="2245150"/>
                </a:cubicBezTo>
                <a:cubicBezTo>
                  <a:pt x="865196" y="2292494"/>
                  <a:pt x="888932" y="2337074"/>
                  <a:pt x="911493" y="2377150"/>
                </a:cubicBezTo>
                <a:lnTo>
                  <a:pt x="914390" y="2382139"/>
                </a:lnTo>
                <a:lnTo>
                  <a:pt x="572738" y="2382139"/>
                </a:lnTo>
                <a:lnTo>
                  <a:pt x="455019" y="2190845"/>
                </a:lnTo>
                <a:lnTo>
                  <a:pt x="455019" y="2382139"/>
                </a:lnTo>
                <a:lnTo>
                  <a:pt x="0" y="2382139"/>
                </a:lnTo>
                <a:lnTo>
                  <a:pt x="0" y="1619995"/>
                </a:lnTo>
                <a:cubicBezTo>
                  <a:pt x="0" y="1575110"/>
                  <a:pt x="37072" y="1538723"/>
                  <a:pt x="82802" y="1538723"/>
                </a:cubicBezTo>
                <a:lnTo>
                  <a:pt x="69528" y="1538723"/>
                </a:lnTo>
                <a:lnTo>
                  <a:pt x="613204" y="1395175"/>
                </a:lnTo>
                <a:close/>
                <a:moveTo>
                  <a:pt x="899156" y="1319674"/>
                </a:moveTo>
                <a:lnTo>
                  <a:pt x="902612" y="1402211"/>
                </a:lnTo>
                <a:cubicBezTo>
                  <a:pt x="921914" y="1629297"/>
                  <a:pt x="989335" y="1814186"/>
                  <a:pt x="1078107" y="1892437"/>
                </a:cubicBezTo>
                <a:lnTo>
                  <a:pt x="1083582" y="1895998"/>
                </a:lnTo>
                <a:lnTo>
                  <a:pt x="1123556" y="1465319"/>
                </a:lnTo>
                <a:lnTo>
                  <a:pt x="1104180" y="1465319"/>
                </a:lnTo>
                <a:lnTo>
                  <a:pt x="1104180" y="1405745"/>
                </a:lnTo>
                <a:lnTo>
                  <a:pt x="1138865" y="1371702"/>
                </a:lnTo>
                <a:lnTo>
                  <a:pt x="1207147" y="1371702"/>
                </a:lnTo>
                <a:lnTo>
                  <a:pt x="1241831" y="1405745"/>
                </a:lnTo>
                <a:lnTo>
                  <a:pt x="1241831" y="1465319"/>
                </a:lnTo>
                <a:lnTo>
                  <a:pt x="1222457" y="1465319"/>
                </a:lnTo>
                <a:lnTo>
                  <a:pt x="1262431" y="1895997"/>
                </a:lnTo>
                <a:lnTo>
                  <a:pt x="1267904" y="1892437"/>
                </a:lnTo>
                <a:cubicBezTo>
                  <a:pt x="1356677" y="1814186"/>
                  <a:pt x="1424097" y="1629297"/>
                  <a:pt x="1443399" y="1402211"/>
                </a:cubicBezTo>
                <a:lnTo>
                  <a:pt x="1446855" y="1319674"/>
                </a:lnTo>
                <a:lnTo>
                  <a:pt x="1711959" y="1389671"/>
                </a:lnTo>
                <a:lnTo>
                  <a:pt x="1698181" y="1517755"/>
                </a:lnTo>
                <a:cubicBezTo>
                  <a:pt x="1687773" y="1605093"/>
                  <a:pt x="1675659" y="1689651"/>
                  <a:pt x="1662878" y="1765281"/>
                </a:cubicBezTo>
                <a:lnTo>
                  <a:pt x="1645508" y="1859478"/>
                </a:lnTo>
                <a:lnTo>
                  <a:pt x="1559236" y="1833895"/>
                </a:lnTo>
                <a:lnTo>
                  <a:pt x="1616816" y="1942433"/>
                </a:lnTo>
                <a:lnTo>
                  <a:pt x="1611799" y="1956257"/>
                </a:lnTo>
                <a:cubicBezTo>
                  <a:pt x="1580668" y="2035917"/>
                  <a:pt x="1536096" y="2134619"/>
                  <a:pt x="1485273" y="2235801"/>
                </a:cubicBezTo>
                <a:cubicBezTo>
                  <a:pt x="1468332" y="2269529"/>
                  <a:pt x="1451191" y="2302547"/>
                  <a:pt x="1434183" y="2334277"/>
                </a:cubicBezTo>
                <a:lnTo>
                  <a:pt x="1407657" y="2382139"/>
                </a:lnTo>
                <a:lnTo>
                  <a:pt x="938355" y="2382139"/>
                </a:lnTo>
                <a:lnTo>
                  <a:pt x="911828" y="2334276"/>
                </a:lnTo>
                <a:cubicBezTo>
                  <a:pt x="894820" y="2302547"/>
                  <a:pt x="877679" y="2269528"/>
                  <a:pt x="860738" y="2235800"/>
                </a:cubicBezTo>
                <a:cubicBezTo>
                  <a:pt x="809915" y="2134618"/>
                  <a:pt x="765343" y="2035916"/>
                  <a:pt x="734212" y="1956257"/>
                </a:cubicBezTo>
                <a:lnTo>
                  <a:pt x="729195" y="1942433"/>
                </a:lnTo>
                <a:lnTo>
                  <a:pt x="786775" y="1833894"/>
                </a:lnTo>
                <a:lnTo>
                  <a:pt x="700501" y="1859477"/>
                </a:lnTo>
                <a:lnTo>
                  <a:pt x="683131" y="1765281"/>
                </a:lnTo>
                <a:cubicBezTo>
                  <a:pt x="670351" y="1689651"/>
                  <a:pt x="658236" y="1605093"/>
                  <a:pt x="647829" y="1517755"/>
                </a:cubicBezTo>
                <a:lnTo>
                  <a:pt x="634050" y="1389671"/>
                </a:lnTo>
                <a:lnTo>
                  <a:pt x="899156" y="1319674"/>
                </a:lnTo>
                <a:close/>
                <a:moveTo>
                  <a:pt x="1059539" y="0"/>
                </a:moveTo>
                <a:lnTo>
                  <a:pt x="1212261" y="0"/>
                </a:lnTo>
                <a:cubicBezTo>
                  <a:pt x="1525808" y="0"/>
                  <a:pt x="1779988" y="254180"/>
                  <a:pt x="1779988" y="567726"/>
                </a:cubicBezTo>
                <a:lnTo>
                  <a:pt x="1779988" y="715184"/>
                </a:lnTo>
                <a:cubicBezTo>
                  <a:pt x="1779988" y="871958"/>
                  <a:pt x="1716443" y="1013889"/>
                  <a:pt x="1613705" y="1116628"/>
                </a:cubicBezTo>
                <a:lnTo>
                  <a:pt x="1600104" y="1127850"/>
                </a:lnTo>
                <a:lnTo>
                  <a:pt x="1624628" y="1082667"/>
                </a:lnTo>
                <a:cubicBezTo>
                  <a:pt x="1647964" y="1027495"/>
                  <a:pt x="1660868" y="966837"/>
                  <a:pt x="1660868" y="903166"/>
                </a:cubicBezTo>
                <a:lnTo>
                  <a:pt x="1660868" y="595719"/>
                </a:lnTo>
                <a:cubicBezTo>
                  <a:pt x="1660868" y="510820"/>
                  <a:pt x="1592043" y="441995"/>
                  <a:pt x="1507144" y="441995"/>
                </a:cubicBezTo>
                <a:lnTo>
                  <a:pt x="784050" y="441995"/>
                </a:lnTo>
                <a:cubicBezTo>
                  <a:pt x="699152" y="441995"/>
                  <a:pt x="630327" y="510820"/>
                  <a:pt x="630327" y="595719"/>
                </a:cubicBezTo>
                <a:lnTo>
                  <a:pt x="630327" y="903166"/>
                </a:lnTo>
                <a:cubicBezTo>
                  <a:pt x="630327" y="966837"/>
                  <a:pt x="643230" y="1027495"/>
                  <a:pt x="666566" y="1082667"/>
                </a:cubicBezTo>
                <a:lnTo>
                  <a:pt x="706820" y="1156830"/>
                </a:lnTo>
                <a:lnTo>
                  <a:pt x="658096" y="1116628"/>
                </a:lnTo>
                <a:cubicBezTo>
                  <a:pt x="555357" y="1013889"/>
                  <a:pt x="491812" y="871958"/>
                  <a:pt x="491812" y="715184"/>
                </a:cubicBezTo>
                <a:lnTo>
                  <a:pt x="491812" y="567726"/>
                </a:lnTo>
                <a:cubicBezTo>
                  <a:pt x="491812" y="254180"/>
                  <a:pt x="745992" y="0"/>
                  <a:pt x="10595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51"/>
          <p:cNvSpPr/>
          <p:nvPr/>
        </p:nvSpPr>
        <p:spPr>
          <a:xfrm>
            <a:off x="1577880" y="457848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7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52"/>
          <p:cNvSpPr/>
          <p:nvPr/>
        </p:nvSpPr>
        <p:spPr>
          <a:xfrm>
            <a:off x="3867120" y="2895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53"/>
          <p:cNvSpPr/>
          <p:nvPr/>
        </p:nvSpPr>
        <p:spPr>
          <a:xfrm>
            <a:off x="1577880" y="5119560"/>
            <a:ext cx="17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54"/>
          <p:cNvSpPr/>
          <p:nvPr/>
        </p:nvSpPr>
        <p:spPr>
          <a:xfrm>
            <a:off x="3867120" y="244620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单位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56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母都知道我们是上班族，但福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第二大职业是事业单位员工，小编现在才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59"/>
          <p:cNvSpPr/>
          <p:nvPr/>
        </p:nvSpPr>
        <p:spPr>
          <a:xfrm>
            <a:off x="7781760" y="2924280"/>
            <a:ext cx="1435320" cy="82548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60"/>
          <p:cNvSpPr/>
          <p:nvPr/>
        </p:nvSpPr>
        <p:spPr>
          <a:xfrm>
            <a:off x="7781760" y="3728880"/>
            <a:ext cx="1435320" cy="449280"/>
          </a:xfrm>
          <a:prstGeom prst="rect">
            <a:avLst/>
          </a:prstGeom>
          <a:solidFill>
            <a:srgbClr val="e60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58"/>
          <p:cNvSpPr/>
          <p:nvPr/>
        </p:nvSpPr>
        <p:spPr>
          <a:xfrm>
            <a:off x="8099280" y="31100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1"/>
          <p:cNvSpPr/>
          <p:nvPr/>
        </p:nvSpPr>
        <p:spPr>
          <a:xfrm>
            <a:off x="7781760" y="4178160"/>
            <a:ext cx="1435320" cy="42552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2"/>
          <p:cNvSpPr/>
          <p:nvPr/>
        </p:nvSpPr>
        <p:spPr>
          <a:xfrm>
            <a:off x="7781760" y="4603680"/>
            <a:ext cx="1435320" cy="425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3"/>
          <p:cNvSpPr/>
          <p:nvPr/>
        </p:nvSpPr>
        <p:spPr>
          <a:xfrm>
            <a:off x="7781760" y="5024520"/>
            <a:ext cx="1435320" cy="4255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4"/>
          <p:cNvSpPr/>
          <p:nvPr/>
        </p:nvSpPr>
        <p:spPr>
          <a:xfrm>
            <a:off x="7781760" y="5454720"/>
            <a:ext cx="1435320" cy="80784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70"/>
          <p:cNvSpPr/>
          <p:nvPr/>
        </p:nvSpPr>
        <p:spPr>
          <a:xfrm>
            <a:off x="8099280" y="37450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4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71"/>
          <p:cNvSpPr/>
          <p:nvPr/>
        </p:nvSpPr>
        <p:spPr>
          <a:xfrm>
            <a:off x="8099280" y="41655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72"/>
          <p:cNvSpPr/>
          <p:nvPr/>
        </p:nvSpPr>
        <p:spPr>
          <a:xfrm>
            <a:off x="8099280" y="46004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73"/>
          <p:cNvSpPr/>
          <p:nvPr/>
        </p:nvSpPr>
        <p:spPr>
          <a:xfrm>
            <a:off x="8099280" y="499752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74"/>
          <p:cNvSpPr/>
          <p:nvPr/>
        </p:nvSpPr>
        <p:spPr>
          <a:xfrm>
            <a:off x="8042400" y="55864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75"/>
          <p:cNvSpPr/>
          <p:nvPr/>
        </p:nvSpPr>
        <p:spPr>
          <a:xfrm>
            <a:off x="9340920" y="3095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务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76"/>
          <p:cNvSpPr/>
          <p:nvPr/>
        </p:nvSpPr>
        <p:spPr>
          <a:xfrm>
            <a:off x="9340920" y="37958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由职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77"/>
          <p:cNvSpPr/>
          <p:nvPr/>
        </p:nvSpPr>
        <p:spPr>
          <a:xfrm>
            <a:off x="9340920" y="42354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职太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78"/>
          <p:cNvSpPr/>
          <p:nvPr/>
        </p:nvSpPr>
        <p:spPr>
          <a:xfrm>
            <a:off x="9340920" y="46386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9"/>
          <p:cNvSpPr/>
          <p:nvPr/>
        </p:nvSpPr>
        <p:spPr>
          <a:xfrm>
            <a:off x="9340920" y="5084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80"/>
          <p:cNvSpPr/>
          <p:nvPr/>
        </p:nvSpPr>
        <p:spPr>
          <a:xfrm>
            <a:off x="9340920" y="5751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右箭头 81"/>
          <p:cNvSpPr/>
          <p:nvPr/>
        </p:nvSpPr>
        <p:spPr>
          <a:xfrm>
            <a:off x="4827600" y="4048200"/>
            <a:ext cx="1871640" cy="1071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任意多边形 82"/>
          <p:cNvSpPr/>
          <p:nvPr/>
        </p:nvSpPr>
        <p:spPr>
          <a:xfrm>
            <a:off x="3365640" y="3497400"/>
            <a:ext cx="488880" cy="496800"/>
          </a:xfrm>
          <a:custGeom>
            <a:avLst/>
            <a:gdLst>
              <a:gd name="textAreaLeft" fmla="*/ 0 w 488880"/>
              <a:gd name="textAreaRight" fmla="*/ 489240 w 48888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346011" h="2382139">
                <a:moveTo>
                  <a:pt x="1732806" y="1395175"/>
                </a:moveTo>
                <a:lnTo>
                  <a:pt x="2276482" y="1538723"/>
                </a:lnTo>
                <a:lnTo>
                  <a:pt x="2263209" y="1538723"/>
                </a:lnTo>
                <a:cubicBezTo>
                  <a:pt x="2308939" y="1538723"/>
                  <a:pt x="2346011" y="1575110"/>
                  <a:pt x="2346011" y="1619995"/>
                </a:cubicBezTo>
                <a:lnTo>
                  <a:pt x="2346011" y="2382139"/>
                </a:lnTo>
                <a:lnTo>
                  <a:pt x="1913338" y="2382139"/>
                </a:lnTo>
                <a:lnTo>
                  <a:pt x="1913338" y="2190845"/>
                </a:lnTo>
                <a:lnTo>
                  <a:pt x="1795619" y="2382139"/>
                </a:lnTo>
                <a:lnTo>
                  <a:pt x="1431622" y="2382139"/>
                </a:lnTo>
                <a:lnTo>
                  <a:pt x="1434518" y="2377151"/>
                </a:lnTo>
                <a:cubicBezTo>
                  <a:pt x="1457079" y="2337074"/>
                  <a:pt x="1480815" y="2292495"/>
                  <a:pt x="1504595" y="2245151"/>
                </a:cubicBezTo>
                <a:cubicBezTo>
                  <a:pt x="1552155" y="2150464"/>
                  <a:pt x="1590888" y="2062648"/>
                  <a:pt x="1615062" y="1997213"/>
                </a:cubicBezTo>
                <a:lnTo>
                  <a:pt x="1629850" y="1954105"/>
                </a:lnTo>
                <a:lnTo>
                  <a:pt x="1633396" y="1951211"/>
                </a:lnTo>
                <a:cubicBezTo>
                  <a:pt x="1658108" y="1912084"/>
                  <a:pt x="1694317" y="1734792"/>
                  <a:pt x="1719884" y="1520247"/>
                </a:cubicBezTo>
                <a:cubicBezTo>
                  <a:pt x="1723536" y="1489599"/>
                  <a:pt x="1726798" y="1459640"/>
                  <a:pt x="1729664" y="1430673"/>
                </a:cubicBezTo>
                <a:lnTo>
                  <a:pt x="1732806" y="1395175"/>
                </a:lnTo>
                <a:close/>
                <a:moveTo>
                  <a:pt x="613204" y="1395175"/>
                </a:moveTo>
                <a:lnTo>
                  <a:pt x="616346" y="1430673"/>
                </a:lnTo>
                <a:cubicBezTo>
                  <a:pt x="619211" y="1459640"/>
                  <a:pt x="622474" y="1489599"/>
                  <a:pt x="626126" y="1520247"/>
                </a:cubicBezTo>
                <a:cubicBezTo>
                  <a:pt x="651693" y="1734792"/>
                  <a:pt x="687901" y="1912084"/>
                  <a:pt x="712614" y="1951211"/>
                </a:cubicBezTo>
                <a:lnTo>
                  <a:pt x="716162" y="1954107"/>
                </a:lnTo>
                <a:lnTo>
                  <a:pt x="730948" y="1997212"/>
                </a:lnTo>
                <a:cubicBezTo>
                  <a:pt x="755123" y="2062647"/>
                  <a:pt x="793856" y="2150463"/>
                  <a:pt x="841416" y="2245150"/>
                </a:cubicBezTo>
                <a:cubicBezTo>
                  <a:pt x="865196" y="2292494"/>
                  <a:pt x="888932" y="2337074"/>
                  <a:pt x="911493" y="2377150"/>
                </a:cubicBezTo>
                <a:lnTo>
                  <a:pt x="914390" y="2382139"/>
                </a:lnTo>
                <a:lnTo>
                  <a:pt x="572738" y="2382139"/>
                </a:lnTo>
                <a:lnTo>
                  <a:pt x="455019" y="2190845"/>
                </a:lnTo>
                <a:lnTo>
                  <a:pt x="455019" y="2382139"/>
                </a:lnTo>
                <a:lnTo>
                  <a:pt x="0" y="2382139"/>
                </a:lnTo>
                <a:lnTo>
                  <a:pt x="0" y="1619995"/>
                </a:lnTo>
                <a:cubicBezTo>
                  <a:pt x="0" y="1575110"/>
                  <a:pt x="37072" y="1538723"/>
                  <a:pt x="82802" y="1538723"/>
                </a:cubicBezTo>
                <a:lnTo>
                  <a:pt x="69528" y="1538723"/>
                </a:lnTo>
                <a:lnTo>
                  <a:pt x="613204" y="1395175"/>
                </a:lnTo>
                <a:close/>
                <a:moveTo>
                  <a:pt x="899156" y="1319674"/>
                </a:moveTo>
                <a:lnTo>
                  <a:pt x="902612" y="1402211"/>
                </a:lnTo>
                <a:cubicBezTo>
                  <a:pt x="921914" y="1629297"/>
                  <a:pt x="989335" y="1814186"/>
                  <a:pt x="1078107" y="1892437"/>
                </a:cubicBezTo>
                <a:lnTo>
                  <a:pt x="1083582" y="1895998"/>
                </a:lnTo>
                <a:lnTo>
                  <a:pt x="1123556" y="1465319"/>
                </a:lnTo>
                <a:lnTo>
                  <a:pt x="1104180" y="1465319"/>
                </a:lnTo>
                <a:lnTo>
                  <a:pt x="1104180" y="1405745"/>
                </a:lnTo>
                <a:lnTo>
                  <a:pt x="1138865" y="1371702"/>
                </a:lnTo>
                <a:lnTo>
                  <a:pt x="1207147" y="1371702"/>
                </a:lnTo>
                <a:lnTo>
                  <a:pt x="1241831" y="1405745"/>
                </a:lnTo>
                <a:lnTo>
                  <a:pt x="1241831" y="1465319"/>
                </a:lnTo>
                <a:lnTo>
                  <a:pt x="1222457" y="1465319"/>
                </a:lnTo>
                <a:lnTo>
                  <a:pt x="1262431" y="1895997"/>
                </a:lnTo>
                <a:lnTo>
                  <a:pt x="1267904" y="1892437"/>
                </a:lnTo>
                <a:cubicBezTo>
                  <a:pt x="1356677" y="1814186"/>
                  <a:pt x="1424097" y="1629297"/>
                  <a:pt x="1443399" y="1402211"/>
                </a:cubicBezTo>
                <a:lnTo>
                  <a:pt x="1446855" y="1319674"/>
                </a:lnTo>
                <a:lnTo>
                  <a:pt x="1711959" y="1389671"/>
                </a:lnTo>
                <a:lnTo>
                  <a:pt x="1698181" y="1517755"/>
                </a:lnTo>
                <a:cubicBezTo>
                  <a:pt x="1687773" y="1605093"/>
                  <a:pt x="1675659" y="1689651"/>
                  <a:pt x="1662878" y="1765281"/>
                </a:cubicBezTo>
                <a:lnTo>
                  <a:pt x="1645508" y="1859478"/>
                </a:lnTo>
                <a:lnTo>
                  <a:pt x="1559236" y="1833895"/>
                </a:lnTo>
                <a:lnTo>
                  <a:pt x="1616816" y="1942433"/>
                </a:lnTo>
                <a:lnTo>
                  <a:pt x="1611799" y="1956257"/>
                </a:lnTo>
                <a:cubicBezTo>
                  <a:pt x="1580668" y="2035917"/>
                  <a:pt x="1536096" y="2134619"/>
                  <a:pt x="1485273" y="2235801"/>
                </a:cubicBezTo>
                <a:cubicBezTo>
                  <a:pt x="1468332" y="2269529"/>
                  <a:pt x="1451191" y="2302547"/>
                  <a:pt x="1434183" y="2334277"/>
                </a:cubicBezTo>
                <a:lnTo>
                  <a:pt x="1407657" y="2382139"/>
                </a:lnTo>
                <a:lnTo>
                  <a:pt x="938355" y="2382139"/>
                </a:lnTo>
                <a:lnTo>
                  <a:pt x="911828" y="2334276"/>
                </a:lnTo>
                <a:cubicBezTo>
                  <a:pt x="894820" y="2302547"/>
                  <a:pt x="877679" y="2269528"/>
                  <a:pt x="860738" y="2235800"/>
                </a:cubicBezTo>
                <a:cubicBezTo>
                  <a:pt x="809915" y="2134618"/>
                  <a:pt x="765343" y="2035916"/>
                  <a:pt x="734212" y="1956257"/>
                </a:cubicBezTo>
                <a:lnTo>
                  <a:pt x="729195" y="1942433"/>
                </a:lnTo>
                <a:lnTo>
                  <a:pt x="786775" y="1833894"/>
                </a:lnTo>
                <a:lnTo>
                  <a:pt x="700501" y="1859477"/>
                </a:lnTo>
                <a:lnTo>
                  <a:pt x="683131" y="1765281"/>
                </a:lnTo>
                <a:cubicBezTo>
                  <a:pt x="670351" y="1689651"/>
                  <a:pt x="658236" y="1605093"/>
                  <a:pt x="647829" y="1517755"/>
                </a:cubicBezTo>
                <a:lnTo>
                  <a:pt x="634050" y="1389671"/>
                </a:lnTo>
                <a:lnTo>
                  <a:pt x="899156" y="1319674"/>
                </a:lnTo>
                <a:close/>
                <a:moveTo>
                  <a:pt x="1059539" y="0"/>
                </a:moveTo>
                <a:lnTo>
                  <a:pt x="1212261" y="0"/>
                </a:lnTo>
                <a:cubicBezTo>
                  <a:pt x="1525808" y="0"/>
                  <a:pt x="1779988" y="254180"/>
                  <a:pt x="1779988" y="567726"/>
                </a:cubicBezTo>
                <a:lnTo>
                  <a:pt x="1779988" y="715184"/>
                </a:lnTo>
                <a:cubicBezTo>
                  <a:pt x="1779988" y="871958"/>
                  <a:pt x="1716443" y="1013889"/>
                  <a:pt x="1613705" y="1116628"/>
                </a:cubicBezTo>
                <a:lnTo>
                  <a:pt x="1600104" y="1127850"/>
                </a:lnTo>
                <a:lnTo>
                  <a:pt x="1624628" y="1082667"/>
                </a:lnTo>
                <a:cubicBezTo>
                  <a:pt x="1647964" y="1027495"/>
                  <a:pt x="1660868" y="966837"/>
                  <a:pt x="1660868" y="903166"/>
                </a:cubicBezTo>
                <a:lnTo>
                  <a:pt x="1660868" y="595719"/>
                </a:lnTo>
                <a:cubicBezTo>
                  <a:pt x="1660868" y="510820"/>
                  <a:pt x="1592043" y="441995"/>
                  <a:pt x="1507144" y="441995"/>
                </a:cubicBezTo>
                <a:lnTo>
                  <a:pt x="784050" y="441995"/>
                </a:lnTo>
                <a:cubicBezTo>
                  <a:pt x="699152" y="441995"/>
                  <a:pt x="630327" y="510820"/>
                  <a:pt x="630327" y="595719"/>
                </a:cubicBezTo>
                <a:lnTo>
                  <a:pt x="630327" y="903166"/>
                </a:lnTo>
                <a:cubicBezTo>
                  <a:pt x="630327" y="966837"/>
                  <a:pt x="643230" y="1027495"/>
                  <a:pt x="666566" y="1082667"/>
                </a:cubicBezTo>
                <a:lnTo>
                  <a:pt x="706820" y="1156830"/>
                </a:lnTo>
                <a:lnTo>
                  <a:pt x="658096" y="1116628"/>
                </a:lnTo>
                <a:cubicBezTo>
                  <a:pt x="555357" y="1013889"/>
                  <a:pt x="491812" y="871958"/>
                  <a:pt x="491812" y="715184"/>
                </a:cubicBezTo>
                <a:lnTo>
                  <a:pt x="491812" y="567726"/>
                </a:lnTo>
                <a:cubicBezTo>
                  <a:pt x="491812" y="254180"/>
                  <a:pt x="745992" y="0"/>
                  <a:pt x="10595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任意多边形 401"/>
          <p:cNvSpPr/>
          <p:nvPr/>
        </p:nvSpPr>
        <p:spPr>
          <a:xfrm>
            <a:off x="669960" y="3746520"/>
            <a:ext cx="11179080" cy="2095560"/>
          </a:xfrm>
          <a:custGeom>
            <a:avLst/>
            <a:gdLst>
              <a:gd name="textAreaLeft" fmla="*/ 0 w 11179080"/>
              <a:gd name="textAreaRight" fmla="*/ 11179440 w 11179080"/>
              <a:gd name="textAreaTop" fmla="*/ 0 h 2095560"/>
              <a:gd name="textAreaBottom" fmla="*/ 2095920 h 2095560"/>
            </a:gdLst>
            <a:ahLst/>
            <a:rect l="textAreaLeft" t="textAreaTop" r="textAreaRight" b="textAreaBottom"/>
            <a:pathLst>
              <a:path w="10909300" h="2095500">
                <a:moveTo>
                  <a:pt x="0" y="584200"/>
                </a:moveTo>
                <a:lnTo>
                  <a:pt x="1308100" y="152400"/>
                </a:lnTo>
                <a:lnTo>
                  <a:pt x="3162300" y="0"/>
                </a:lnTo>
                <a:lnTo>
                  <a:pt x="4711700" y="1054100"/>
                </a:lnTo>
                <a:lnTo>
                  <a:pt x="6248400" y="1562100"/>
                </a:lnTo>
                <a:lnTo>
                  <a:pt x="7493000" y="952500"/>
                </a:lnTo>
                <a:lnTo>
                  <a:pt x="8445500" y="1790700"/>
                </a:lnTo>
                <a:lnTo>
                  <a:pt x="9512300" y="2044700"/>
                </a:lnTo>
                <a:lnTo>
                  <a:pt x="10299700" y="2095500"/>
                </a:lnTo>
                <a:lnTo>
                  <a:pt x="10909300" y="2032000"/>
                </a:lnTo>
                <a:lnTo>
                  <a:pt x="10909300" y="2019300"/>
                </a:lnTo>
              </a:path>
            </a:pathLst>
          </a:custGeom>
          <a:noFill/>
          <a:ln w="209520">
            <a:solidFill>
              <a:srgbClr val="bfbfbf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圆角矩形 1"/>
          <p:cNvSpPr/>
          <p:nvPr/>
        </p:nvSpPr>
        <p:spPr>
          <a:xfrm>
            <a:off x="800280" y="428760"/>
            <a:ext cx="458460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3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5"/>
          <p:cNvSpPr/>
          <p:nvPr/>
        </p:nvSpPr>
        <p:spPr>
          <a:xfrm>
            <a:off x="1469880" y="55404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目前的月收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44"/>
          <p:cNvGrpSpPr/>
          <p:nvPr/>
        </p:nvGrpSpPr>
        <p:grpSpPr>
          <a:xfrm>
            <a:off x="458640" y="469800"/>
            <a:ext cx="873360" cy="722520"/>
            <a:chOff x="458640" y="469800"/>
            <a:chExt cx="873360" cy="722520"/>
          </a:xfrm>
        </p:grpSpPr>
        <p:grpSp>
          <p:nvGrpSpPr>
            <p:cNvPr id="595" name="组合 9"/>
            <p:cNvGrpSpPr/>
            <p:nvPr/>
          </p:nvGrpSpPr>
          <p:grpSpPr>
            <a:xfrm>
              <a:off x="937440" y="1052640"/>
              <a:ext cx="326880" cy="136800"/>
              <a:chOff x="937440" y="1052640"/>
              <a:chExt cx="326880" cy="136800"/>
            </a:xfrm>
          </p:grpSpPr>
          <p:sp>
            <p:nvSpPr>
              <p:cNvPr id="596" name="圆角矩形 6"/>
              <p:cNvSpPr/>
              <p:nvPr/>
            </p:nvSpPr>
            <p:spPr>
              <a:xfrm>
                <a:off x="937440" y="10638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椭圆 7"/>
              <p:cNvSpPr/>
              <p:nvPr/>
            </p:nvSpPr>
            <p:spPr>
              <a:xfrm>
                <a:off x="946440" y="10526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10"/>
            <p:cNvGrpSpPr/>
            <p:nvPr/>
          </p:nvGrpSpPr>
          <p:grpSpPr>
            <a:xfrm>
              <a:off x="951840" y="928080"/>
              <a:ext cx="326880" cy="136800"/>
              <a:chOff x="951840" y="928080"/>
              <a:chExt cx="326880" cy="136800"/>
            </a:xfrm>
          </p:grpSpPr>
          <p:sp>
            <p:nvSpPr>
              <p:cNvPr id="599" name="圆角矩形 11"/>
              <p:cNvSpPr/>
              <p:nvPr/>
            </p:nvSpPr>
            <p:spPr>
              <a:xfrm>
                <a:off x="951840" y="93924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椭圆 12"/>
              <p:cNvSpPr/>
              <p:nvPr/>
            </p:nvSpPr>
            <p:spPr>
              <a:xfrm>
                <a:off x="960840" y="92808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13"/>
            <p:cNvGrpSpPr/>
            <p:nvPr/>
          </p:nvGrpSpPr>
          <p:grpSpPr>
            <a:xfrm>
              <a:off x="918360" y="804240"/>
              <a:ext cx="326880" cy="136800"/>
              <a:chOff x="918360" y="804240"/>
              <a:chExt cx="326880" cy="136800"/>
            </a:xfrm>
          </p:grpSpPr>
          <p:sp>
            <p:nvSpPr>
              <p:cNvPr id="602" name="圆角矩形 14"/>
              <p:cNvSpPr/>
              <p:nvPr/>
            </p:nvSpPr>
            <p:spPr>
              <a:xfrm>
                <a:off x="918360" y="8154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椭圆 15"/>
              <p:cNvSpPr/>
              <p:nvPr/>
            </p:nvSpPr>
            <p:spPr>
              <a:xfrm>
                <a:off x="927360" y="8042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16"/>
            <p:cNvGrpSpPr/>
            <p:nvPr/>
          </p:nvGrpSpPr>
          <p:grpSpPr>
            <a:xfrm>
              <a:off x="1005120" y="707040"/>
              <a:ext cx="326880" cy="136800"/>
              <a:chOff x="1005120" y="707040"/>
              <a:chExt cx="326880" cy="136800"/>
            </a:xfrm>
          </p:grpSpPr>
          <p:sp>
            <p:nvSpPr>
              <p:cNvPr id="605" name="圆角矩形 17"/>
              <p:cNvSpPr/>
              <p:nvPr/>
            </p:nvSpPr>
            <p:spPr>
              <a:xfrm>
                <a:off x="1005120" y="7182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18"/>
              <p:cNvSpPr/>
              <p:nvPr/>
            </p:nvSpPr>
            <p:spPr>
              <a:xfrm>
                <a:off x="1014120" y="7070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组合 23"/>
            <p:cNvGrpSpPr/>
            <p:nvPr/>
          </p:nvGrpSpPr>
          <p:grpSpPr>
            <a:xfrm>
              <a:off x="927360" y="592920"/>
              <a:ext cx="326880" cy="136800"/>
              <a:chOff x="927360" y="592920"/>
              <a:chExt cx="326880" cy="136800"/>
            </a:xfrm>
          </p:grpSpPr>
          <p:sp>
            <p:nvSpPr>
              <p:cNvPr id="608" name="圆角矩形 24"/>
              <p:cNvSpPr/>
              <p:nvPr/>
            </p:nvSpPr>
            <p:spPr>
              <a:xfrm>
                <a:off x="927360" y="6040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椭圆 25"/>
              <p:cNvSpPr/>
              <p:nvPr/>
            </p:nvSpPr>
            <p:spPr>
              <a:xfrm>
                <a:off x="936360" y="5929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组合 26"/>
            <p:cNvGrpSpPr/>
            <p:nvPr/>
          </p:nvGrpSpPr>
          <p:grpSpPr>
            <a:xfrm>
              <a:off x="900360" y="469800"/>
              <a:ext cx="326880" cy="136800"/>
              <a:chOff x="900360" y="469800"/>
              <a:chExt cx="326880" cy="136800"/>
            </a:xfrm>
          </p:grpSpPr>
          <p:sp>
            <p:nvSpPr>
              <p:cNvPr id="611" name="圆角矩形 27"/>
              <p:cNvSpPr/>
              <p:nvPr/>
            </p:nvSpPr>
            <p:spPr>
              <a:xfrm>
                <a:off x="900360" y="4809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28"/>
              <p:cNvSpPr/>
              <p:nvPr/>
            </p:nvSpPr>
            <p:spPr>
              <a:xfrm>
                <a:off x="909360" y="4698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组合 29"/>
            <p:cNvGrpSpPr/>
            <p:nvPr/>
          </p:nvGrpSpPr>
          <p:grpSpPr>
            <a:xfrm>
              <a:off x="458640" y="1055520"/>
              <a:ext cx="326880" cy="136800"/>
              <a:chOff x="458640" y="1055520"/>
              <a:chExt cx="326880" cy="136800"/>
            </a:xfrm>
          </p:grpSpPr>
          <p:sp>
            <p:nvSpPr>
              <p:cNvPr id="614" name="圆角矩形 30"/>
              <p:cNvSpPr/>
              <p:nvPr/>
            </p:nvSpPr>
            <p:spPr>
              <a:xfrm>
                <a:off x="458640" y="10666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31"/>
              <p:cNvSpPr/>
              <p:nvPr/>
            </p:nvSpPr>
            <p:spPr>
              <a:xfrm>
                <a:off x="467640" y="10555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32"/>
            <p:cNvGrpSpPr/>
            <p:nvPr/>
          </p:nvGrpSpPr>
          <p:grpSpPr>
            <a:xfrm>
              <a:off x="528840" y="941400"/>
              <a:ext cx="326880" cy="136800"/>
              <a:chOff x="528840" y="941400"/>
              <a:chExt cx="326880" cy="136800"/>
            </a:xfrm>
          </p:grpSpPr>
          <p:sp>
            <p:nvSpPr>
              <p:cNvPr id="617" name="圆角矩形 33"/>
              <p:cNvSpPr/>
              <p:nvPr/>
            </p:nvSpPr>
            <p:spPr>
              <a:xfrm>
                <a:off x="528840" y="9525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椭圆 34"/>
              <p:cNvSpPr/>
              <p:nvPr/>
            </p:nvSpPr>
            <p:spPr>
              <a:xfrm>
                <a:off x="537840" y="9414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35"/>
            <p:cNvGrpSpPr/>
            <p:nvPr/>
          </p:nvGrpSpPr>
          <p:grpSpPr>
            <a:xfrm>
              <a:off x="478080" y="823320"/>
              <a:ext cx="326880" cy="136800"/>
              <a:chOff x="478080" y="823320"/>
              <a:chExt cx="326880" cy="136800"/>
            </a:xfrm>
          </p:grpSpPr>
          <p:sp>
            <p:nvSpPr>
              <p:cNvPr id="620" name="圆角矩形 36"/>
              <p:cNvSpPr/>
              <p:nvPr/>
            </p:nvSpPr>
            <p:spPr>
              <a:xfrm>
                <a:off x="478080" y="8344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椭圆 37"/>
              <p:cNvSpPr/>
              <p:nvPr/>
            </p:nvSpPr>
            <p:spPr>
              <a:xfrm>
                <a:off x="487080" y="8233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组合 38"/>
            <p:cNvGrpSpPr/>
            <p:nvPr/>
          </p:nvGrpSpPr>
          <p:grpSpPr>
            <a:xfrm>
              <a:off x="582120" y="720720"/>
              <a:ext cx="326880" cy="136800"/>
              <a:chOff x="582120" y="720720"/>
              <a:chExt cx="326880" cy="136800"/>
            </a:xfrm>
          </p:grpSpPr>
          <p:sp>
            <p:nvSpPr>
              <p:cNvPr id="623" name="圆角矩形 39"/>
              <p:cNvSpPr/>
              <p:nvPr/>
            </p:nvSpPr>
            <p:spPr>
              <a:xfrm>
                <a:off x="582120" y="7318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椭圆 40"/>
              <p:cNvSpPr/>
              <p:nvPr/>
            </p:nvSpPr>
            <p:spPr>
              <a:xfrm>
                <a:off x="591120" y="7207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41"/>
            <p:cNvGrpSpPr/>
            <p:nvPr/>
          </p:nvGrpSpPr>
          <p:grpSpPr>
            <a:xfrm>
              <a:off x="504360" y="606600"/>
              <a:ext cx="326880" cy="136800"/>
              <a:chOff x="504360" y="606600"/>
              <a:chExt cx="326880" cy="136800"/>
            </a:xfrm>
          </p:grpSpPr>
          <p:sp>
            <p:nvSpPr>
              <p:cNvPr id="626" name="圆角矩形 42"/>
              <p:cNvSpPr/>
              <p:nvPr/>
            </p:nvSpPr>
            <p:spPr>
              <a:xfrm>
                <a:off x="504360" y="6177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43"/>
              <p:cNvSpPr/>
              <p:nvPr/>
            </p:nvSpPr>
            <p:spPr>
              <a:xfrm>
                <a:off x="513360" y="6066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圆角矩形 45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46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47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达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2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而近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万元户竟然有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7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1"/>
          <p:cNvGrpSpPr/>
          <p:nvPr/>
        </p:nvGrpSpPr>
        <p:grpSpPr>
          <a:xfrm>
            <a:off x="314280" y="3863880"/>
            <a:ext cx="919080" cy="584280"/>
            <a:chOff x="314280" y="3863880"/>
            <a:chExt cx="919080" cy="584280"/>
          </a:xfrm>
        </p:grpSpPr>
        <p:grpSp>
          <p:nvGrpSpPr>
            <p:cNvPr id="632" name="组合 134"/>
            <p:cNvGrpSpPr/>
            <p:nvPr/>
          </p:nvGrpSpPr>
          <p:grpSpPr>
            <a:xfrm>
              <a:off x="760680" y="3863880"/>
              <a:ext cx="472680" cy="584280"/>
              <a:chOff x="760680" y="3863880"/>
              <a:chExt cx="472680" cy="584280"/>
            </a:xfrm>
          </p:grpSpPr>
          <p:grpSp>
            <p:nvGrpSpPr>
              <p:cNvPr id="633" name="组合 55"/>
              <p:cNvGrpSpPr/>
              <p:nvPr/>
            </p:nvGrpSpPr>
            <p:grpSpPr>
              <a:xfrm>
                <a:off x="905760" y="4311720"/>
                <a:ext cx="327600" cy="136440"/>
                <a:chOff x="905760" y="4311720"/>
                <a:chExt cx="327600" cy="136440"/>
              </a:xfrm>
            </p:grpSpPr>
            <p:sp>
              <p:nvSpPr>
                <p:cNvPr id="634" name="圆角矩形 68"/>
                <p:cNvSpPr/>
                <p:nvPr/>
              </p:nvSpPr>
              <p:spPr>
                <a:xfrm flipH="1">
                  <a:off x="9057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69"/>
                <p:cNvSpPr/>
                <p:nvPr/>
              </p:nvSpPr>
              <p:spPr>
                <a:xfrm flipH="1">
                  <a:off x="9198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组合 56"/>
              <p:cNvGrpSpPr/>
              <p:nvPr/>
            </p:nvGrpSpPr>
            <p:grpSpPr>
              <a:xfrm>
                <a:off x="835200" y="4197960"/>
                <a:ext cx="327600" cy="136440"/>
                <a:chOff x="835200" y="4197960"/>
                <a:chExt cx="327600" cy="136440"/>
              </a:xfrm>
            </p:grpSpPr>
            <p:sp>
              <p:nvSpPr>
                <p:cNvPr id="637" name="圆角矩形 66"/>
                <p:cNvSpPr/>
                <p:nvPr/>
              </p:nvSpPr>
              <p:spPr>
                <a:xfrm flipH="1">
                  <a:off x="8352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67"/>
                <p:cNvSpPr/>
                <p:nvPr/>
              </p:nvSpPr>
              <p:spPr>
                <a:xfrm flipH="1">
                  <a:off x="8492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组合 57"/>
              <p:cNvGrpSpPr/>
              <p:nvPr/>
            </p:nvGrpSpPr>
            <p:grpSpPr>
              <a:xfrm>
                <a:off x="886320" y="4079880"/>
                <a:ext cx="327600" cy="136440"/>
                <a:chOff x="886320" y="4079880"/>
                <a:chExt cx="327600" cy="136440"/>
              </a:xfrm>
            </p:grpSpPr>
            <p:sp>
              <p:nvSpPr>
                <p:cNvPr id="640" name="圆角矩形 64"/>
                <p:cNvSpPr/>
                <p:nvPr/>
              </p:nvSpPr>
              <p:spPr>
                <a:xfrm flipH="1">
                  <a:off x="8863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椭圆 65"/>
                <p:cNvSpPr/>
                <p:nvPr/>
              </p:nvSpPr>
              <p:spPr>
                <a:xfrm flipH="1">
                  <a:off x="9003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组合 58"/>
              <p:cNvGrpSpPr/>
              <p:nvPr/>
            </p:nvGrpSpPr>
            <p:grpSpPr>
              <a:xfrm>
                <a:off x="820080" y="3977640"/>
                <a:ext cx="327600" cy="136440"/>
                <a:chOff x="820080" y="3977640"/>
                <a:chExt cx="327600" cy="136440"/>
              </a:xfrm>
            </p:grpSpPr>
            <p:sp>
              <p:nvSpPr>
                <p:cNvPr id="643" name="圆角矩形 62"/>
                <p:cNvSpPr/>
                <p:nvPr/>
              </p:nvSpPr>
              <p:spPr>
                <a:xfrm flipH="1">
                  <a:off x="8200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椭圆 63"/>
                <p:cNvSpPr/>
                <p:nvPr/>
              </p:nvSpPr>
              <p:spPr>
                <a:xfrm flipH="1">
                  <a:off x="8341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组合 59"/>
              <p:cNvGrpSpPr/>
              <p:nvPr/>
            </p:nvGrpSpPr>
            <p:grpSpPr>
              <a:xfrm>
                <a:off x="760680" y="3863880"/>
                <a:ext cx="327600" cy="136440"/>
                <a:chOff x="760680" y="3863880"/>
                <a:chExt cx="327600" cy="136440"/>
              </a:xfrm>
            </p:grpSpPr>
            <p:sp>
              <p:nvSpPr>
                <p:cNvPr id="646" name="圆角矩形 60"/>
                <p:cNvSpPr/>
                <p:nvPr/>
              </p:nvSpPr>
              <p:spPr>
                <a:xfrm flipH="1">
                  <a:off x="7606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椭圆 61"/>
                <p:cNvSpPr/>
                <p:nvPr/>
              </p:nvSpPr>
              <p:spPr>
                <a:xfrm flipH="1">
                  <a:off x="7747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8" name="组合 135"/>
            <p:cNvGrpSpPr/>
            <p:nvPr/>
          </p:nvGrpSpPr>
          <p:grpSpPr>
            <a:xfrm>
              <a:off x="314280" y="3863880"/>
              <a:ext cx="472680" cy="584280"/>
              <a:chOff x="314280" y="3863880"/>
              <a:chExt cx="472680" cy="584280"/>
            </a:xfrm>
          </p:grpSpPr>
          <p:grpSp>
            <p:nvGrpSpPr>
              <p:cNvPr id="649" name="组合 136"/>
              <p:cNvGrpSpPr/>
              <p:nvPr/>
            </p:nvGrpSpPr>
            <p:grpSpPr>
              <a:xfrm>
                <a:off x="459360" y="4311720"/>
                <a:ext cx="327600" cy="136440"/>
                <a:chOff x="459360" y="4311720"/>
                <a:chExt cx="327600" cy="136440"/>
              </a:xfrm>
            </p:grpSpPr>
            <p:sp>
              <p:nvSpPr>
                <p:cNvPr id="650" name="圆角矩形 149"/>
                <p:cNvSpPr/>
                <p:nvPr/>
              </p:nvSpPr>
              <p:spPr>
                <a:xfrm flipH="1">
                  <a:off x="4593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150"/>
                <p:cNvSpPr/>
                <p:nvPr/>
              </p:nvSpPr>
              <p:spPr>
                <a:xfrm flipH="1">
                  <a:off x="4734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组合 137"/>
              <p:cNvGrpSpPr/>
              <p:nvPr/>
            </p:nvGrpSpPr>
            <p:grpSpPr>
              <a:xfrm>
                <a:off x="388800" y="4197960"/>
                <a:ext cx="327600" cy="136440"/>
                <a:chOff x="388800" y="4197960"/>
                <a:chExt cx="327600" cy="136440"/>
              </a:xfrm>
            </p:grpSpPr>
            <p:sp>
              <p:nvSpPr>
                <p:cNvPr id="653" name="圆角矩形 147"/>
                <p:cNvSpPr/>
                <p:nvPr/>
              </p:nvSpPr>
              <p:spPr>
                <a:xfrm flipH="1">
                  <a:off x="3888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148"/>
                <p:cNvSpPr/>
                <p:nvPr/>
              </p:nvSpPr>
              <p:spPr>
                <a:xfrm flipH="1">
                  <a:off x="4028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组合 138"/>
              <p:cNvGrpSpPr/>
              <p:nvPr/>
            </p:nvGrpSpPr>
            <p:grpSpPr>
              <a:xfrm>
                <a:off x="439920" y="4079880"/>
                <a:ext cx="327600" cy="136440"/>
                <a:chOff x="439920" y="4079880"/>
                <a:chExt cx="327600" cy="136440"/>
              </a:xfrm>
            </p:grpSpPr>
            <p:sp>
              <p:nvSpPr>
                <p:cNvPr id="656" name="圆角矩形 145"/>
                <p:cNvSpPr/>
                <p:nvPr/>
              </p:nvSpPr>
              <p:spPr>
                <a:xfrm flipH="1">
                  <a:off x="4399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146"/>
                <p:cNvSpPr/>
                <p:nvPr/>
              </p:nvSpPr>
              <p:spPr>
                <a:xfrm flipH="1">
                  <a:off x="4539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组合 139"/>
              <p:cNvGrpSpPr/>
              <p:nvPr/>
            </p:nvGrpSpPr>
            <p:grpSpPr>
              <a:xfrm>
                <a:off x="373680" y="3977640"/>
                <a:ext cx="327600" cy="136440"/>
                <a:chOff x="373680" y="3977640"/>
                <a:chExt cx="327600" cy="136440"/>
              </a:xfrm>
            </p:grpSpPr>
            <p:sp>
              <p:nvSpPr>
                <p:cNvPr id="659" name="圆角矩形 143"/>
                <p:cNvSpPr/>
                <p:nvPr/>
              </p:nvSpPr>
              <p:spPr>
                <a:xfrm flipH="1">
                  <a:off x="3736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144"/>
                <p:cNvSpPr/>
                <p:nvPr/>
              </p:nvSpPr>
              <p:spPr>
                <a:xfrm flipH="1">
                  <a:off x="3877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组合 140"/>
              <p:cNvGrpSpPr/>
              <p:nvPr/>
            </p:nvGrpSpPr>
            <p:grpSpPr>
              <a:xfrm>
                <a:off x="314280" y="3863880"/>
                <a:ext cx="327600" cy="136440"/>
                <a:chOff x="314280" y="3863880"/>
                <a:chExt cx="327600" cy="136440"/>
              </a:xfrm>
            </p:grpSpPr>
            <p:sp>
              <p:nvSpPr>
                <p:cNvPr id="662" name="圆角矩形 141"/>
                <p:cNvSpPr/>
                <p:nvPr/>
              </p:nvSpPr>
              <p:spPr>
                <a:xfrm flipH="1">
                  <a:off x="3142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142"/>
                <p:cNvSpPr/>
                <p:nvPr/>
              </p:nvSpPr>
              <p:spPr>
                <a:xfrm flipH="1">
                  <a:off x="3283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4" name="组合 172"/>
          <p:cNvGrpSpPr/>
          <p:nvPr/>
        </p:nvGrpSpPr>
        <p:grpSpPr>
          <a:xfrm>
            <a:off x="1778040" y="3351240"/>
            <a:ext cx="942840" cy="739800"/>
            <a:chOff x="1778040" y="3351240"/>
            <a:chExt cx="942840" cy="739800"/>
          </a:xfrm>
        </p:grpSpPr>
        <p:grpSp>
          <p:nvGrpSpPr>
            <p:cNvPr id="665" name="组合 155"/>
            <p:cNvGrpSpPr/>
            <p:nvPr/>
          </p:nvGrpSpPr>
          <p:grpSpPr>
            <a:xfrm>
              <a:off x="1778040" y="3496680"/>
              <a:ext cx="471600" cy="594360"/>
              <a:chOff x="1778040" y="3496680"/>
              <a:chExt cx="471600" cy="594360"/>
            </a:xfrm>
          </p:grpSpPr>
          <p:grpSp>
            <p:nvGrpSpPr>
              <p:cNvPr id="666" name="组合 133"/>
              <p:cNvGrpSpPr/>
              <p:nvPr/>
            </p:nvGrpSpPr>
            <p:grpSpPr>
              <a:xfrm>
                <a:off x="1922760" y="3954600"/>
                <a:ext cx="326880" cy="136440"/>
                <a:chOff x="1922760" y="3954600"/>
                <a:chExt cx="326880" cy="136440"/>
              </a:xfrm>
            </p:grpSpPr>
            <p:sp>
              <p:nvSpPr>
                <p:cNvPr id="667" name="圆角矩形 84"/>
                <p:cNvSpPr/>
                <p:nvPr/>
              </p:nvSpPr>
              <p:spPr>
                <a:xfrm flipH="1">
                  <a:off x="1922760" y="39657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椭圆 85"/>
                <p:cNvSpPr/>
                <p:nvPr/>
              </p:nvSpPr>
              <p:spPr>
                <a:xfrm flipH="1">
                  <a:off x="1936440" y="39546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组合 132"/>
              <p:cNvGrpSpPr/>
              <p:nvPr/>
            </p:nvGrpSpPr>
            <p:grpSpPr>
              <a:xfrm>
                <a:off x="1852560" y="3835800"/>
                <a:ext cx="326880" cy="136440"/>
                <a:chOff x="1852560" y="3835800"/>
                <a:chExt cx="326880" cy="136440"/>
              </a:xfrm>
            </p:grpSpPr>
            <p:sp>
              <p:nvSpPr>
                <p:cNvPr id="670" name="圆角矩形 87"/>
                <p:cNvSpPr/>
                <p:nvPr/>
              </p:nvSpPr>
              <p:spPr>
                <a:xfrm flipH="1">
                  <a:off x="1852560" y="38469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椭圆 88"/>
                <p:cNvSpPr/>
                <p:nvPr/>
              </p:nvSpPr>
              <p:spPr>
                <a:xfrm flipH="1">
                  <a:off x="1866240" y="38358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组合 131"/>
              <p:cNvGrpSpPr/>
              <p:nvPr/>
            </p:nvGrpSpPr>
            <p:grpSpPr>
              <a:xfrm>
                <a:off x="1903320" y="3717720"/>
                <a:ext cx="326880" cy="136440"/>
                <a:chOff x="1903320" y="3717720"/>
                <a:chExt cx="326880" cy="136440"/>
              </a:xfrm>
            </p:grpSpPr>
            <p:sp>
              <p:nvSpPr>
                <p:cNvPr id="673" name="圆角矩形 90"/>
                <p:cNvSpPr/>
                <p:nvPr/>
              </p:nvSpPr>
              <p:spPr>
                <a:xfrm flipH="1">
                  <a:off x="1903320" y="37288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椭圆 91"/>
                <p:cNvSpPr/>
                <p:nvPr/>
              </p:nvSpPr>
              <p:spPr>
                <a:xfrm flipH="1">
                  <a:off x="191700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组合 130"/>
              <p:cNvGrpSpPr/>
              <p:nvPr/>
            </p:nvGrpSpPr>
            <p:grpSpPr>
              <a:xfrm>
                <a:off x="1837440" y="3615120"/>
                <a:ext cx="326880" cy="136440"/>
                <a:chOff x="1837440" y="3615120"/>
                <a:chExt cx="326880" cy="136440"/>
              </a:xfrm>
            </p:grpSpPr>
            <p:sp>
              <p:nvSpPr>
                <p:cNvPr id="676" name="圆角矩形 93"/>
                <p:cNvSpPr/>
                <p:nvPr/>
              </p:nvSpPr>
              <p:spPr>
                <a:xfrm flipH="1">
                  <a:off x="1837440" y="3626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椭圆 94"/>
                <p:cNvSpPr/>
                <p:nvPr/>
              </p:nvSpPr>
              <p:spPr>
                <a:xfrm flipH="1">
                  <a:off x="1851120" y="3615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组合 129"/>
              <p:cNvGrpSpPr/>
              <p:nvPr/>
            </p:nvGrpSpPr>
            <p:grpSpPr>
              <a:xfrm>
                <a:off x="1778040" y="3496680"/>
                <a:ext cx="326880" cy="136440"/>
                <a:chOff x="1778040" y="3496680"/>
                <a:chExt cx="326880" cy="136440"/>
              </a:xfrm>
            </p:grpSpPr>
            <p:sp>
              <p:nvSpPr>
                <p:cNvPr id="679" name="圆角矩形 96"/>
                <p:cNvSpPr/>
                <p:nvPr/>
              </p:nvSpPr>
              <p:spPr>
                <a:xfrm flipH="1">
                  <a:off x="1778040" y="3507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椭圆 97"/>
                <p:cNvSpPr/>
                <p:nvPr/>
              </p:nvSpPr>
              <p:spPr>
                <a:xfrm flipH="1">
                  <a:off x="1791720" y="3496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1" name="组合 152"/>
            <p:cNvGrpSpPr/>
            <p:nvPr/>
          </p:nvGrpSpPr>
          <p:grpSpPr>
            <a:xfrm>
              <a:off x="2007360" y="3351240"/>
              <a:ext cx="326880" cy="136440"/>
              <a:chOff x="2007360" y="3351240"/>
              <a:chExt cx="326880" cy="136440"/>
            </a:xfrm>
          </p:grpSpPr>
          <p:sp>
            <p:nvSpPr>
              <p:cNvPr id="682" name="圆角矩形 153"/>
              <p:cNvSpPr/>
              <p:nvPr/>
            </p:nvSpPr>
            <p:spPr>
              <a:xfrm flipH="1">
                <a:off x="2007360" y="3362400"/>
                <a:ext cx="326880" cy="125280"/>
              </a:xfrm>
              <a:prstGeom prst="roundRect">
                <a:avLst>
                  <a:gd name="adj" fmla="val 16667"/>
                </a:avLst>
              </a:prstGeom>
              <a:solidFill>
                <a:srgbClr val="cb1b5e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椭圆 154"/>
              <p:cNvSpPr/>
              <p:nvPr/>
            </p:nvSpPr>
            <p:spPr>
              <a:xfrm flipH="1">
                <a:off x="2021040" y="3351240"/>
                <a:ext cx="30348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组合 156"/>
            <p:cNvGrpSpPr/>
            <p:nvPr/>
          </p:nvGrpSpPr>
          <p:grpSpPr>
            <a:xfrm>
              <a:off x="2249280" y="3483000"/>
              <a:ext cx="471600" cy="594360"/>
              <a:chOff x="2249280" y="3483000"/>
              <a:chExt cx="471600" cy="594360"/>
            </a:xfrm>
          </p:grpSpPr>
          <p:grpSp>
            <p:nvGrpSpPr>
              <p:cNvPr id="685" name="组合 157"/>
              <p:cNvGrpSpPr/>
              <p:nvPr/>
            </p:nvGrpSpPr>
            <p:grpSpPr>
              <a:xfrm>
                <a:off x="2394000" y="3940920"/>
                <a:ext cx="326880" cy="136440"/>
                <a:chOff x="2394000" y="3940920"/>
                <a:chExt cx="326880" cy="136440"/>
              </a:xfrm>
            </p:grpSpPr>
            <p:sp>
              <p:nvSpPr>
                <p:cNvPr id="686" name="圆角矩形 170"/>
                <p:cNvSpPr/>
                <p:nvPr/>
              </p:nvSpPr>
              <p:spPr>
                <a:xfrm flipH="1">
                  <a:off x="2394000" y="39520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171"/>
                <p:cNvSpPr/>
                <p:nvPr/>
              </p:nvSpPr>
              <p:spPr>
                <a:xfrm flipH="1">
                  <a:off x="2407680" y="39409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组合 158"/>
              <p:cNvGrpSpPr/>
              <p:nvPr/>
            </p:nvGrpSpPr>
            <p:grpSpPr>
              <a:xfrm>
                <a:off x="2323800" y="3822120"/>
                <a:ext cx="326880" cy="136440"/>
                <a:chOff x="2323800" y="3822120"/>
                <a:chExt cx="326880" cy="136440"/>
              </a:xfrm>
            </p:grpSpPr>
            <p:sp>
              <p:nvSpPr>
                <p:cNvPr id="689" name="圆角矩形 168"/>
                <p:cNvSpPr/>
                <p:nvPr/>
              </p:nvSpPr>
              <p:spPr>
                <a:xfrm flipH="1">
                  <a:off x="2323800" y="3833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169"/>
                <p:cNvSpPr/>
                <p:nvPr/>
              </p:nvSpPr>
              <p:spPr>
                <a:xfrm flipH="1">
                  <a:off x="2337480" y="3822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组合 159"/>
              <p:cNvGrpSpPr/>
              <p:nvPr/>
            </p:nvGrpSpPr>
            <p:grpSpPr>
              <a:xfrm>
                <a:off x="2374560" y="3704040"/>
                <a:ext cx="326880" cy="136440"/>
                <a:chOff x="2374560" y="3704040"/>
                <a:chExt cx="326880" cy="136440"/>
              </a:xfrm>
            </p:grpSpPr>
            <p:sp>
              <p:nvSpPr>
                <p:cNvPr id="692" name="圆角矩形 166"/>
                <p:cNvSpPr/>
                <p:nvPr/>
              </p:nvSpPr>
              <p:spPr>
                <a:xfrm flipH="1">
                  <a:off x="2374560" y="37152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167"/>
                <p:cNvSpPr/>
                <p:nvPr/>
              </p:nvSpPr>
              <p:spPr>
                <a:xfrm flipH="1">
                  <a:off x="2388240" y="37040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组合 160"/>
              <p:cNvGrpSpPr/>
              <p:nvPr/>
            </p:nvGrpSpPr>
            <p:grpSpPr>
              <a:xfrm>
                <a:off x="2308680" y="3601440"/>
                <a:ext cx="326880" cy="136440"/>
                <a:chOff x="2308680" y="3601440"/>
                <a:chExt cx="326880" cy="136440"/>
              </a:xfrm>
            </p:grpSpPr>
            <p:sp>
              <p:nvSpPr>
                <p:cNvPr id="695" name="圆角矩形 164"/>
                <p:cNvSpPr/>
                <p:nvPr/>
              </p:nvSpPr>
              <p:spPr>
                <a:xfrm flipH="1">
                  <a:off x="2308680" y="3612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椭圆 165"/>
                <p:cNvSpPr/>
                <p:nvPr/>
              </p:nvSpPr>
              <p:spPr>
                <a:xfrm flipH="1">
                  <a:off x="2322360" y="3601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组合 161"/>
              <p:cNvGrpSpPr/>
              <p:nvPr/>
            </p:nvGrpSpPr>
            <p:grpSpPr>
              <a:xfrm>
                <a:off x="2249280" y="3483000"/>
                <a:ext cx="326880" cy="136440"/>
                <a:chOff x="2249280" y="3483000"/>
                <a:chExt cx="326880" cy="136440"/>
              </a:xfrm>
            </p:grpSpPr>
            <p:sp>
              <p:nvSpPr>
                <p:cNvPr id="698" name="圆角矩形 162"/>
                <p:cNvSpPr/>
                <p:nvPr/>
              </p:nvSpPr>
              <p:spPr>
                <a:xfrm flipH="1">
                  <a:off x="2249280" y="34941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163"/>
                <p:cNvSpPr/>
                <p:nvPr/>
              </p:nvSpPr>
              <p:spPr>
                <a:xfrm flipH="1">
                  <a:off x="2262960" y="34830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0" name="组合 206"/>
          <p:cNvGrpSpPr/>
          <p:nvPr/>
        </p:nvGrpSpPr>
        <p:grpSpPr>
          <a:xfrm>
            <a:off x="3200400" y="3254400"/>
            <a:ext cx="1282680" cy="611280"/>
            <a:chOff x="3200400" y="3254400"/>
            <a:chExt cx="1282680" cy="611280"/>
          </a:xfrm>
        </p:grpSpPr>
        <p:grpSp>
          <p:nvGrpSpPr>
            <p:cNvPr id="701" name="组合 173"/>
            <p:cNvGrpSpPr/>
            <p:nvPr/>
          </p:nvGrpSpPr>
          <p:grpSpPr>
            <a:xfrm>
              <a:off x="3622680" y="3269880"/>
              <a:ext cx="471960" cy="595800"/>
              <a:chOff x="3622680" y="3269880"/>
              <a:chExt cx="471960" cy="595800"/>
            </a:xfrm>
          </p:grpSpPr>
          <p:grpSp>
            <p:nvGrpSpPr>
              <p:cNvPr id="702" name="组合 128"/>
              <p:cNvGrpSpPr/>
              <p:nvPr/>
            </p:nvGrpSpPr>
            <p:grpSpPr>
              <a:xfrm>
                <a:off x="3767760" y="3728880"/>
                <a:ext cx="326880" cy="136800"/>
                <a:chOff x="3767760" y="3728880"/>
                <a:chExt cx="326880" cy="136800"/>
              </a:xfrm>
            </p:grpSpPr>
            <p:sp>
              <p:nvSpPr>
                <p:cNvPr id="703" name="圆角矩形 99"/>
                <p:cNvSpPr/>
                <p:nvPr/>
              </p:nvSpPr>
              <p:spPr>
                <a:xfrm flipH="1">
                  <a:off x="3767760" y="3740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椭圆 100"/>
                <p:cNvSpPr/>
                <p:nvPr/>
              </p:nvSpPr>
              <p:spPr>
                <a:xfrm flipH="1">
                  <a:off x="3781440" y="3728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组合 127"/>
              <p:cNvGrpSpPr/>
              <p:nvPr/>
            </p:nvGrpSpPr>
            <p:grpSpPr>
              <a:xfrm>
                <a:off x="3697200" y="3609720"/>
                <a:ext cx="326880" cy="136800"/>
                <a:chOff x="3697200" y="3609720"/>
                <a:chExt cx="326880" cy="136800"/>
              </a:xfrm>
            </p:grpSpPr>
            <p:sp>
              <p:nvSpPr>
                <p:cNvPr id="706" name="圆角矩形 101"/>
                <p:cNvSpPr/>
                <p:nvPr/>
              </p:nvSpPr>
              <p:spPr>
                <a:xfrm flipH="1">
                  <a:off x="3697200" y="3620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椭圆 102"/>
                <p:cNvSpPr/>
                <p:nvPr/>
              </p:nvSpPr>
              <p:spPr>
                <a:xfrm flipH="1">
                  <a:off x="3710880" y="3609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组合 126"/>
              <p:cNvGrpSpPr/>
              <p:nvPr/>
            </p:nvGrpSpPr>
            <p:grpSpPr>
              <a:xfrm>
                <a:off x="3747960" y="3491640"/>
                <a:ext cx="326880" cy="136800"/>
                <a:chOff x="3747960" y="3491640"/>
                <a:chExt cx="326880" cy="136800"/>
              </a:xfrm>
            </p:grpSpPr>
            <p:sp>
              <p:nvSpPr>
                <p:cNvPr id="709" name="圆角矩形 103"/>
                <p:cNvSpPr/>
                <p:nvPr/>
              </p:nvSpPr>
              <p:spPr>
                <a:xfrm flipH="1">
                  <a:off x="3747960" y="35028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椭圆 104"/>
                <p:cNvSpPr/>
                <p:nvPr/>
              </p:nvSpPr>
              <p:spPr>
                <a:xfrm flipH="1">
                  <a:off x="3761640" y="34916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组合 125"/>
              <p:cNvGrpSpPr/>
              <p:nvPr/>
            </p:nvGrpSpPr>
            <p:grpSpPr>
              <a:xfrm>
                <a:off x="3682080" y="3388680"/>
                <a:ext cx="326880" cy="136800"/>
                <a:chOff x="3682080" y="3388680"/>
                <a:chExt cx="326880" cy="136800"/>
              </a:xfrm>
            </p:grpSpPr>
            <p:sp>
              <p:nvSpPr>
                <p:cNvPr id="712" name="圆角矩形 105"/>
                <p:cNvSpPr/>
                <p:nvPr/>
              </p:nvSpPr>
              <p:spPr>
                <a:xfrm flipH="1">
                  <a:off x="3682080" y="33998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椭圆 106"/>
                <p:cNvSpPr/>
                <p:nvPr/>
              </p:nvSpPr>
              <p:spPr>
                <a:xfrm flipH="1">
                  <a:off x="3695760" y="3388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组合 124"/>
              <p:cNvGrpSpPr/>
              <p:nvPr/>
            </p:nvGrpSpPr>
            <p:grpSpPr>
              <a:xfrm>
                <a:off x="3622680" y="3269880"/>
                <a:ext cx="326880" cy="136800"/>
                <a:chOff x="3622680" y="3269880"/>
                <a:chExt cx="326880" cy="136800"/>
              </a:xfrm>
            </p:grpSpPr>
            <p:sp>
              <p:nvSpPr>
                <p:cNvPr id="715" name="圆角矩形 107"/>
                <p:cNvSpPr/>
                <p:nvPr/>
              </p:nvSpPr>
              <p:spPr>
                <a:xfrm flipH="1">
                  <a:off x="3622680" y="3281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椭圆 108"/>
                <p:cNvSpPr/>
                <p:nvPr/>
              </p:nvSpPr>
              <p:spPr>
                <a:xfrm flipH="1">
                  <a:off x="3636360" y="3269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组合 174"/>
            <p:cNvGrpSpPr/>
            <p:nvPr/>
          </p:nvGrpSpPr>
          <p:grpSpPr>
            <a:xfrm>
              <a:off x="3200400" y="3258720"/>
              <a:ext cx="471960" cy="595800"/>
              <a:chOff x="3200400" y="3258720"/>
              <a:chExt cx="471960" cy="595800"/>
            </a:xfrm>
          </p:grpSpPr>
          <p:grpSp>
            <p:nvGrpSpPr>
              <p:cNvPr id="718" name="组合 175"/>
              <p:cNvGrpSpPr/>
              <p:nvPr/>
            </p:nvGrpSpPr>
            <p:grpSpPr>
              <a:xfrm>
                <a:off x="3345480" y="3717720"/>
                <a:ext cx="326880" cy="136800"/>
                <a:chOff x="3345480" y="3717720"/>
                <a:chExt cx="326880" cy="136800"/>
              </a:xfrm>
            </p:grpSpPr>
            <p:sp>
              <p:nvSpPr>
                <p:cNvPr id="719" name="圆角矩形 188"/>
                <p:cNvSpPr/>
                <p:nvPr/>
              </p:nvSpPr>
              <p:spPr>
                <a:xfrm flipH="1">
                  <a:off x="3345480" y="3728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椭圆 189"/>
                <p:cNvSpPr/>
                <p:nvPr/>
              </p:nvSpPr>
              <p:spPr>
                <a:xfrm flipH="1">
                  <a:off x="335916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组合 176"/>
              <p:cNvGrpSpPr/>
              <p:nvPr/>
            </p:nvGrpSpPr>
            <p:grpSpPr>
              <a:xfrm>
                <a:off x="3274920" y="3598560"/>
                <a:ext cx="326880" cy="136800"/>
                <a:chOff x="3274920" y="3598560"/>
                <a:chExt cx="326880" cy="136800"/>
              </a:xfrm>
            </p:grpSpPr>
            <p:sp>
              <p:nvSpPr>
                <p:cNvPr id="722" name="圆角矩形 186"/>
                <p:cNvSpPr/>
                <p:nvPr/>
              </p:nvSpPr>
              <p:spPr>
                <a:xfrm flipH="1">
                  <a:off x="3274920" y="36097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椭圆 187"/>
                <p:cNvSpPr/>
                <p:nvPr/>
              </p:nvSpPr>
              <p:spPr>
                <a:xfrm flipH="1">
                  <a:off x="3288600" y="35985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组合 177"/>
              <p:cNvGrpSpPr/>
              <p:nvPr/>
            </p:nvGrpSpPr>
            <p:grpSpPr>
              <a:xfrm>
                <a:off x="3325680" y="3480480"/>
                <a:ext cx="326880" cy="136800"/>
                <a:chOff x="3325680" y="3480480"/>
                <a:chExt cx="326880" cy="136800"/>
              </a:xfrm>
            </p:grpSpPr>
            <p:sp>
              <p:nvSpPr>
                <p:cNvPr id="725" name="圆角矩形 184"/>
                <p:cNvSpPr/>
                <p:nvPr/>
              </p:nvSpPr>
              <p:spPr>
                <a:xfrm flipH="1">
                  <a:off x="3325680" y="34916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椭圆 185"/>
                <p:cNvSpPr/>
                <p:nvPr/>
              </p:nvSpPr>
              <p:spPr>
                <a:xfrm flipH="1">
                  <a:off x="3339360" y="34804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组合 178"/>
              <p:cNvGrpSpPr/>
              <p:nvPr/>
            </p:nvGrpSpPr>
            <p:grpSpPr>
              <a:xfrm>
                <a:off x="3259800" y="3377520"/>
                <a:ext cx="326880" cy="136800"/>
                <a:chOff x="3259800" y="3377520"/>
                <a:chExt cx="326880" cy="136800"/>
              </a:xfrm>
            </p:grpSpPr>
            <p:sp>
              <p:nvSpPr>
                <p:cNvPr id="728" name="圆角矩形 182"/>
                <p:cNvSpPr/>
                <p:nvPr/>
              </p:nvSpPr>
              <p:spPr>
                <a:xfrm flipH="1">
                  <a:off x="3259800" y="33886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椭圆 183"/>
                <p:cNvSpPr/>
                <p:nvPr/>
              </p:nvSpPr>
              <p:spPr>
                <a:xfrm flipH="1">
                  <a:off x="3273480" y="3377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组合 179"/>
              <p:cNvGrpSpPr/>
              <p:nvPr/>
            </p:nvGrpSpPr>
            <p:grpSpPr>
              <a:xfrm>
                <a:off x="3200400" y="3258720"/>
                <a:ext cx="326880" cy="136800"/>
                <a:chOff x="3200400" y="3258720"/>
                <a:chExt cx="326880" cy="136800"/>
              </a:xfrm>
            </p:grpSpPr>
            <p:sp>
              <p:nvSpPr>
                <p:cNvPr id="731" name="圆角矩形 180"/>
                <p:cNvSpPr/>
                <p:nvPr/>
              </p:nvSpPr>
              <p:spPr>
                <a:xfrm flipH="1">
                  <a:off x="3200400" y="3269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椭圆 181"/>
                <p:cNvSpPr/>
                <p:nvPr/>
              </p:nvSpPr>
              <p:spPr>
                <a:xfrm flipH="1">
                  <a:off x="3214080" y="3258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3" name="组合 190"/>
            <p:cNvGrpSpPr/>
            <p:nvPr/>
          </p:nvGrpSpPr>
          <p:grpSpPr>
            <a:xfrm>
              <a:off x="4011120" y="3254400"/>
              <a:ext cx="471960" cy="595800"/>
              <a:chOff x="4011120" y="3254400"/>
              <a:chExt cx="471960" cy="595800"/>
            </a:xfrm>
          </p:grpSpPr>
          <p:grpSp>
            <p:nvGrpSpPr>
              <p:cNvPr id="734" name="组合 191"/>
              <p:cNvGrpSpPr/>
              <p:nvPr/>
            </p:nvGrpSpPr>
            <p:grpSpPr>
              <a:xfrm>
                <a:off x="4156200" y="3713400"/>
                <a:ext cx="326880" cy="136800"/>
                <a:chOff x="4156200" y="3713400"/>
                <a:chExt cx="326880" cy="136800"/>
              </a:xfrm>
            </p:grpSpPr>
            <p:sp>
              <p:nvSpPr>
                <p:cNvPr id="735" name="圆角矩形 204"/>
                <p:cNvSpPr/>
                <p:nvPr/>
              </p:nvSpPr>
              <p:spPr>
                <a:xfrm flipH="1">
                  <a:off x="4156200" y="3724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椭圆 205"/>
                <p:cNvSpPr/>
                <p:nvPr/>
              </p:nvSpPr>
              <p:spPr>
                <a:xfrm flipH="1">
                  <a:off x="4169880" y="3713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组合 192"/>
              <p:cNvGrpSpPr/>
              <p:nvPr/>
            </p:nvGrpSpPr>
            <p:grpSpPr>
              <a:xfrm>
                <a:off x="4085640" y="3594240"/>
                <a:ext cx="326880" cy="136800"/>
                <a:chOff x="4085640" y="3594240"/>
                <a:chExt cx="326880" cy="136800"/>
              </a:xfrm>
            </p:grpSpPr>
            <p:sp>
              <p:nvSpPr>
                <p:cNvPr id="738" name="圆角矩形 202"/>
                <p:cNvSpPr/>
                <p:nvPr/>
              </p:nvSpPr>
              <p:spPr>
                <a:xfrm flipH="1">
                  <a:off x="4085640" y="36054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椭圆 203"/>
                <p:cNvSpPr/>
                <p:nvPr/>
              </p:nvSpPr>
              <p:spPr>
                <a:xfrm flipH="1">
                  <a:off x="4099320" y="35942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组合 193"/>
              <p:cNvGrpSpPr/>
              <p:nvPr/>
            </p:nvGrpSpPr>
            <p:grpSpPr>
              <a:xfrm>
                <a:off x="4136400" y="3476160"/>
                <a:ext cx="326880" cy="136800"/>
                <a:chOff x="4136400" y="3476160"/>
                <a:chExt cx="326880" cy="136800"/>
              </a:xfrm>
            </p:grpSpPr>
            <p:sp>
              <p:nvSpPr>
                <p:cNvPr id="741" name="圆角矩形 200"/>
                <p:cNvSpPr/>
                <p:nvPr/>
              </p:nvSpPr>
              <p:spPr>
                <a:xfrm flipH="1">
                  <a:off x="4136400" y="34873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椭圆 201"/>
                <p:cNvSpPr/>
                <p:nvPr/>
              </p:nvSpPr>
              <p:spPr>
                <a:xfrm flipH="1">
                  <a:off x="4150080" y="34761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4"/>
              <p:cNvGrpSpPr/>
              <p:nvPr/>
            </p:nvGrpSpPr>
            <p:grpSpPr>
              <a:xfrm>
                <a:off x="4070520" y="3373200"/>
                <a:ext cx="326880" cy="136800"/>
                <a:chOff x="4070520" y="3373200"/>
                <a:chExt cx="326880" cy="136800"/>
              </a:xfrm>
            </p:grpSpPr>
            <p:sp>
              <p:nvSpPr>
                <p:cNvPr id="744" name="圆角矩形 198"/>
                <p:cNvSpPr/>
                <p:nvPr/>
              </p:nvSpPr>
              <p:spPr>
                <a:xfrm flipH="1">
                  <a:off x="4070520" y="33843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椭圆 199"/>
                <p:cNvSpPr/>
                <p:nvPr/>
              </p:nvSpPr>
              <p:spPr>
                <a:xfrm flipH="1">
                  <a:off x="4084200" y="33732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组合 195"/>
              <p:cNvGrpSpPr/>
              <p:nvPr/>
            </p:nvGrpSpPr>
            <p:grpSpPr>
              <a:xfrm>
                <a:off x="4011120" y="3254400"/>
                <a:ext cx="326880" cy="136800"/>
                <a:chOff x="4011120" y="3254400"/>
                <a:chExt cx="326880" cy="136800"/>
              </a:xfrm>
            </p:grpSpPr>
            <p:sp>
              <p:nvSpPr>
                <p:cNvPr id="747" name="圆角矩形 196"/>
                <p:cNvSpPr/>
                <p:nvPr/>
              </p:nvSpPr>
              <p:spPr>
                <a:xfrm flipH="1">
                  <a:off x="4011120" y="3265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椭圆 197"/>
                <p:cNvSpPr/>
                <p:nvPr/>
              </p:nvSpPr>
              <p:spPr>
                <a:xfrm flipH="1">
                  <a:off x="4024800" y="3254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9" name="组合 224"/>
          <p:cNvGrpSpPr/>
          <p:nvPr/>
        </p:nvGrpSpPr>
        <p:grpSpPr>
          <a:xfrm>
            <a:off x="4998960" y="4260960"/>
            <a:ext cx="928800" cy="595080"/>
            <a:chOff x="4998960" y="4260960"/>
            <a:chExt cx="928800" cy="595080"/>
          </a:xfrm>
        </p:grpSpPr>
        <p:grpSp>
          <p:nvGrpSpPr>
            <p:cNvPr id="750" name="组合 223"/>
            <p:cNvGrpSpPr/>
            <p:nvPr/>
          </p:nvGrpSpPr>
          <p:grpSpPr>
            <a:xfrm>
              <a:off x="4998960" y="4260960"/>
              <a:ext cx="472680" cy="595080"/>
              <a:chOff x="4998960" y="4260960"/>
              <a:chExt cx="472680" cy="595080"/>
            </a:xfrm>
          </p:grpSpPr>
          <p:grpSp>
            <p:nvGrpSpPr>
              <p:cNvPr id="751" name="组合 123"/>
              <p:cNvGrpSpPr/>
              <p:nvPr/>
            </p:nvGrpSpPr>
            <p:grpSpPr>
              <a:xfrm>
                <a:off x="5144040" y="4719240"/>
                <a:ext cx="327600" cy="136800"/>
                <a:chOff x="5144040" y="4719240"/>
                <a:chExt cx="327600" cy="136800"/>
              </a:xfrm>
            </p:grpSpPr>
            <p:sp>
              <p:nvSpPr>
                <p:cNvPr id="752" name="圆角矩形 109"/>
                <p:cNvSpPr/>
                <p:nvPr/>
              </p:nvSpPr>
              <p:spPr>
                <a:xfrm flipH="1">
                  <a:off x="5144040" y="47304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椭圆 110"/>
                <p:cNvSpPr/>
                <p:nvPr/>
              </p:nvSpPr>
              <p:spPr>
                <a:xfrm flipH="1">
                  <a:off x="5157720" y="47192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组合 122"/>
              <p:cNvGrpSpPr/>
              <p:nvPr/>
            </p:nvGrpSpPr>
            <p:grpSpPr>
              <a:xfrm>
                <a:off x="5073480" y="4600440"/>
                <a:ext cx="327600" cy="136800"/>
                <a:chOff x="5073480" y="4600440"/>
                <a:chExt cx="327600" cy="136800"/>
              </a:xfrm>
            </p:grpSpPr>
            <p:sp>
              <p:nvSpPr>
                <p:cNvPr id="755" name="圆角矩形 111"/>
                <p:cNvSpPr/>
                <p:nvPr/>
              </p:nvSpPr>
              <p:spPr>
                <a:xfrm flipH="1">
                  <a:off x="5073480" y="46116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椭圆 112"/>
                <p:cNvSpPr/>
                <p:nvPr/>
              </p:nvSpPr>
              <p:spPr>
                <a:xfrm flipH="1">
                  <a:off x="5087160" y="46004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组合 121"/>
              <p:cNvGrpSpPr/>
              <p:nvPr/>
            </p:nvGrpSpPr>
            <p:grpSpPr>
              <a:xfrm>
                <a:off x="5124600" y="4482360"/>
                <a:ext cx="327600" cy="136800"/>
                <a:chOff x="5124600" y="4482360"/>
                <a:chExt cx="327600" cy="136800"/>
              </a:xfrm>
            </p:grpSpPr>
            <p:sp>
              <p:nvSpPr>
                <p:cNvPr id="758" name="圆角矩形 113"/>
                <p:cNvSpPr/>
                <p:nvPr/>
              </p:nvSpPr>
              <p:spPr>
                <a:xfrm flipH="1">
                  <a:off x="5124600" y="44935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椭圆 114"/>
                <p:cNvSpPr/>
                <p:nvPr/>
              </p:nvSpPr>
              <p:spPr>
                <a:xfrm flipH="1">
                  <a:off x="5138280" y="44823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组合 120"/>
              <p:cNvGrpSpPr/>
              <p:nvPr/>
            </p:nvGrpSpPr>
            <p:grpSpPr>
              <a:xfrm>
                <a:off x="5058360" y="4379760"/>
                <a:ext cx="327600" cy="136800"/>
                <a:chOff x="5058360" y="4379760"/>
                <a:chExt cx="327600" cy="136800"/>
              </a:xfrm>
            </p:grpSpPr>
            <p:sp>
              <p:nvSpPr>
                <p:cNvPr id="761" name="圆角矩形 115"/>
                <p:cNvSpPr/>
                <p:nvPr/>
              </p:nvSpPr>
              <p:spPr>
                <a:xfrm flipH="1">
                  <a:off x="5058360" y="43909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椭圆 116"/>
                <p:cNvSpPr/>
                <p:nvPr/>
              </p:nvSpPr>
              <p:spPr>
                <a:xfrm flipH="1">
                  <a:off x="5072040" y="43797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组合 119"/>
              <p:cNvGrpSpPr/>
              <p:nvPr/>
            </p:nvGrpSpPr>
            <p:grpSpPr>
              <a:xfrm>
                <a:off x="4998960" y="4260960"/>
                <a:ext cx="327600" cy="136800"/>
                <a:chOff x="4998960" y="4260960"/>
                <a:chExt cx="327600" cy="136800"/>
              </a:xfrm>
            </p:grpSpPr>
            <p:sp>
              <p:nvSpPr>
                <p:cNvPr id="764" name="圆角矩形 117"/>
                <p:cNvSpPr/>
                <p:nvPr/>
              </p:nvSpPr>
              <p:spPr>
                <a:xfrm flipH="1">
                  <a:off x="4998960" y="42721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椭圆 118"/>
                <p:cNvSpPr/>
                <p:nvPr/>
              </p:nvSpPr>
              <p:spPr>
                <a:xfrm flipH="1">
                  <a:off x="5012640" y="4260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6" name="组合 222"/>
            <p:cNvGrpSpPr/>
            <p:nvPr/>
          </p:nvGrpSpPr>
          <p:grpSpPr>
            <a:xfrm>
              <a:off x="5514480" y="4354200"/>
              <a:ext cx="413280" cy="476280"/>
              <a:chOff x="5514480" y="4354200"/>
              <a:chExt cx="413280" cy="476280"/>
            </a:xfrm>
          </p:grpSpPr>
          <p:grpSp>
            <p:nvGrpSpPr>
              <p:cNvPr id="767" name="组合 207"/>
              <p:cNvGrpSpPr/>
              <p:nvPr/>
            </p:nvGrpSpPr>
            <p:grpSpPr>
              <a:xfrm>
                <a:off x="5600160" y="4693680"/>
                <a:ext cx="327600" cy="136800"/>
                <a:chOff x="5600160" y="4693680"/>
                <a:chExt cx="327600" cy="136800"/>
              </a:xfrm>
            </p:grpSpPr>
            <p:sp>
              <p:nvSpPr>
                <p:cNvPr id="768" name="圆角矩形 208"/>
                <p:cNvSpPr/>
                <p:nvPr/>
              </p:nvSpPr>
              <p:spPr>
                <a:xfrm flipH="1">
                  <a:off x="5600160" y="47048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椭圆 209"/>
                <p:cNvSpPr/>
                <p:nvPr/>
              </p:nvSpPr>
              <p:spPr>
                <a:xfrm flipH="1">
                  <a:off x="561384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组合 210"/>
              <p:cNvGrpSpPr/>
              <p:nvPr/>
            </p:nvGrpSpPr>
            <p:grpSpPr>
              <a:xfrm>
                <a:off x="5529600" y="4574880"/>
                <a:ext cx="327600" cy="136800"/>
                <a:chOff x="5529600" y="4574880"/>
                <a:chExt cx="327600" cy="136800"/>
              </a:xfrm>
            </p:grpSpPr>
            <p:sp>
              <p:nvSpPr>
                <p:cNvPr id="771" name="圆角矩形 211"/>
                <p:cNvSpPr/>
                <p:nvPr/>
              </p:nvSpPr>
              <p:spPr>
                <a:xfrm flipH="1">
                  <a:off x="5529600" y="45860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椭圆 212"/>
                <p:cNvSpPr/>
                <p:nvPr/>
              </p:nvSpPr>
              <p:spPr>
                <a:xfrm flipH="1">
                  <a:off x="554328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组合 213"/>
              <p:cNvGrpSpPr/>
              <p:nvPr/>
            </p:nvGrpSpPr>
            <p:grpSpPr>
              <a:xfrm>
                <a:off x="5580360" y="4456800"/>
                <a:ext cx="327600" cy="136800"/>
                <a:chOff x="5580360" y="4456800"/>
                <a:chExt cx="327600" cy="136800"/>
              </a:xfrm>
            </p:grpSpPr>
            <p:sp>
              <p:nvSpPr>
                <p:cNvPr id="774" name="圆角矩形 214"/>
                <p:cNvSpPr/>
                <p:nvPr/>
              </p:nvSpPr>
              <p:spPr>
                <a:xfrm flipH="1">
                  <a:off x="5580360" y="44679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椭圆 215"/>
                <p:cNvSpPr/>
                <p:nvPr/>
              </p:nvSpPr>
              <p:spPr>
                <a:xfrm flipH="1">
                  <a:off x="559404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组合 216"/>
              <p:cNvGrpSpPr/>
              <p:nvPr/>
            </p:nvGrpSpPr>
            <p:grpSpPr>
              <a:xfrm>
                <a:off x="5514480" y="4354200"/>
                <a:ext cx="327600" cy="136800"/>
                <a:chOff x="5514480" y="4354200"/>
                <a:chExt cx="327600" cy="136800"/>
              </a:xfrm>
            </p:grpSpPr>
            <p:sp>
              <p:nvSpPr>
                <p:cNvPr id="777" name="圆角矩形 217"/>
                <p:cNvSpPr/>
                <p:nvPr/>
              </p:nvSpPr>
              <p:spPr>
                <a:xfrm flipH="1">
                  <a:off x="5514480" y="43653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椭圆 218"/>
                <p:cNvSpPr/>
                <p:nvPr/>
              </p:nvSpPr>
              <p:spPr>
                <a:xfrm flipH="1">
                  <a:off x="552816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9" name="组合 259"/>
          <p:cNvGrpSpPr/>
          <p:nvPr/>
        </p:nvGrpSpPr>
        <p:grpSpPr>
          <a:xfrm>
            <a:off x="6413400" y="4873680"/>
            <a:ext cx="917280" cy="584280"/>
            <a:chOff x="6413400" y="4873680"/>
            <a:chExt cx="917280" cy="584280"/>
          </a:xfrm>
        </p:grpSpPr>
        <p:grpSp>
          <p:nvGrpSpPr>
            <p:cNvPr id="780" name="组合 258"/>
            <p:cNvGrpSpPr/>
            <p:nvPr/>
          </p:nvGrpSpPr>
          <p:grpSpPr>
            <a:xfrm>
              <a:off x="6933240" y="5207760"/>
              <a:ext cx="397440" cy="250200"/>
              <a:chOff x="6933240" y="5207760"/>
              <a:chExt cx="397440" cy="250200"/>
            </a:xfrm>
          </p:grpSpPr>
          <p:grpSp>
            <p:nvGrpSpPr>
              <p:cNvPr id="781" name="组合 243"/>
              <p:cNvGrpSpPr/>
              <p:nvPr/>
            </p:nvGrpSpPr>
            <p:grpSpPr>
              <a:xfrm>
                <a:off x="7003440" y="5321520"/>
                <a:ext cx="327240" cy="136440"/>
                <a:chOff x="7003440" y="5321520"/>
                <a:chExt cx="327240" cy="136440"/>
              </a:xfrm>
            </p:grpSpPr>
            <p:sp>
              <p:nvSpPr>
                <p:cNvPr id="782" name="圆角矩形 256"/>
                <p:cNvSpPr/>
                <p:nvPr/>
              </p:nvSpPr>
              <p:spPr>
                <a:xfrm flipH="1">
                  <a:off x="7003080" y="533268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椭圆 257"/>
                <p:cNvSpPr/>
                <p:nvPr/>
              </p:nvSpPr>
              <p:spPr>
                <a:xfrm flipH="1">
                  <a:off x="7017840" y="532152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组合 244"/>
              <p:cNvGrpSpPr/>
              <p:nvPr/>
            </p:nvGrpSpPr>
            <p:grpSpPr>
              <a:xfrm>
                <a:off x="6933240" y="5207760"/>
                <a:ext cx="327240" cy="136440"/>
                <a:chOff x="6933240" y="5207760"/>
                <a:chExt cx="327240" cy="136440"/>
              </a:xfrm>
            </p:grpSpPr>
            <p:sp>
              <p:nvSpPr>
                <p:cNvPr id="785" name="圆角矩形 254"/>
                <p:cNvSpPr/>
                <p:nvPr/>
              </p:nvSpPr>
              <p:spPr>
                <a:xfrm flipH="1">
                  <a:off x="6932880" y="521892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椭圆 255"/>
                <p:cNvSpPr/>
                <p:nvPr/>
              </p:nvSpPr>
              <p:spPr>
                <a:xfrm flipH="1">
                  <a:off x="6947640" y="520776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组合 227"/>
            <p:cNvGrpSpPr/>
            <p:nvPr/>
          </p:nvGrpSpPr>
          <p:grpSpPr>
            <a:xfrm>
              <a:off x="6413400" y="4873680"/>
              <a:ext cx="471960" cy="584280"/>
              <a:chOff x="6413400" y="4873680"/>
              <a:chExt cx="471960" cy="584280"/>
            </a:xfrm>
          </p:grpSpPr>
          <p:grpSp>
            <p:nvGrpSpPr>
              <p:cNvPr id="788" name="组合 228"/>
              <p:cNvGrpSpPr/>
              <p:nvPr/>
            </p:nvGrpSpPr>
            <p:grpSpPr>
              <a:xfrm>
                <a:off x="6558480" y="5321520"/>
                <a:ext cx="326880" cy="136440"/>
                <a:chOff x="6558480" y="5321520"/>
                <a:chExt cx="326880" cy="136440"/>
              </a:xfrm>
            </p:grpSpPr>
            <p:sp>
              <p:nvSpPr>
                <p:cNvPr id="789" name="圆角矩形 241"/>
                <p:cNvSpPr/>
                <p:nvPr/>
              </p:nvSpPr>
              <p:spPr>
                <a:xfrm flipH="1">
                  <a:off x="6558480" y="53326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椭圆 242"/>
                <p:cNvSpPr/>
                <p:nvPr/>
              </p:nvSpPr>
              <p:spPr>
                <a:xfrm flipH="1">
                  <a:off x="6572520" y="5321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组合 229"/>
              <p:cNvGrpSpPr/>
              <p:nvPr/>
            </p:nvGrpSpPr>
            <p:grpSpPr>
              <a:xfrm>
                <a:off x="6487920" y="5207760"/>
                <a:ext cx="326880" cy="136440"/>
                <a:chOff x="6487920" y="5207760"/>
                <a:chExt cx="326880" cy="136440"/>
              </a:xfrm>
            </p:grpSpPr>
            <p:sp>
              <p:nvSpPr>
                <p:cNvPr id="792" name="圆角矩形 239"/>
                <p:cNvSpPr/>
                <p:nvPr/>
              </p:nvSpPr>
              <p:spPr>
                <a:xfrm flipH="1">
                  <a:off x="6487920" y="521892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椭圆 240"/>
                <p:cNvSpPr/>
                <p:nvPr/>
              </p:nvSpPr>
              <p:spPr>
                <a:xfrm flipH="1">
                  <a:off x="6501960" y="52077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组合 230"/>
              <p:cNvGrpSpPr/>
              <p:nvPr/>
            </p:nvGrpSpPr>
            <p:grpSpPr>
              <a:xfrm>
                <a:off x="6538680" y="5089680"/>
                <a:ext cx="326880" cy="136440"/>
                <a:chOff x="6538680" y="5089680"/>
                <a:chExt cx="326880" cy="136440"/>
              </a:xfrm>
            </p:grpSpPr>
            <p:sp>
              <p:nvSpPr>
                <p:cNvPr id="795" name="圆角矩形 237"/>
                <p:cNvSpPr/>
                <p:nvPr/>
              </p:nvSpPr>
              <p:spPr>
                <a:xfrm flipH="1">
                  <a:off x="6538680" y="5100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椭圆 238"/>
                <p:cNvSpPr/>
                <p:nvPr/>
              </p:nvSpPr>
              <p:spPr>
                <a:xfrm flipH="1">
                  <a:off x="6552720" y="5089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组合 231"/>
              <p:cNvGrpSpPr/>
              <p:nvPr/>
            </p:nvGrpSpPr>
            <p:grpSpPr>
              <a:xfrm>
                <a:off x="6472800" y="4987440"/>
                <a:ext cx="326880" cy="136440"/>
                <a:chOff x="6472800" y="4987440"/>
                <a:chExt cx="326880" cy="136440"/>
              </a:xfrm>
            </p:grpSpPr>
            <p:sp>
              <p:nvSpPr>
                <p:cNvPr id="798" name="圆角矩形 235"/>
                <p:cNvSpPr/>
                <p:nvPr/>
              </p:nvSpPr>
              <p:spPr>
                <a:xfrm flipH="1">
                  <a:off x="6472800" y="4998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椭圆 236"/>
                <p:cNvSpPr/>
                <p:nvPr/>
              </p:nvSpPr>
              <p:spPr>
                <a:xfrm flipH="1">
                  <a:off x="6486840" y="4987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组合 232"/>
              <p:cNvGrpSpPr/>
              <p:nvPr/>
            </p:nvGrpSpPr>
            <p:grpSpPr>
              <a:xfrm>
                <a:off x="6413400" y="4873680"/>
                <a:ext cx="326880" cy="136440"/>
                <a:chOff x="6413400" y="4873680"/>
                <a:chExt cx="326880" cy="136440"/>
              </a:xfrm>
            </p:grpSpPr>
            <p:sp>
              <p:nvSpPr>
                <p:cNvPr id="801" name="圆角矩形 233"/>
                <p:cNvSpPr/>
                <p:nvPr/>
              </p:nvSpPr>
              <p:spPr>
                <a:xfrm flipH="1">
                  <a:off x="6413400" y="4884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椭圆 234"/>
                <p:cNvSpPr/>
                <p:nvPr/>
              </p:nvSpPr>
              <p:spPr>
                <a:xfrm flipH="1">
                  <a:off x="6427440" y="4873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3" name="组合 296"/>
          <p:cNvGrpSpPr/>
          <p:nvPr/>
        </p:nvGrpSpPr>
        <p:grpSpPr>
          <a:xfrm>
            <a:off x="7670880" y="4235400"/>
            <a:ext cx="944640" cy="608040"/>
            <a:chOff x="7670880" y="4235400"/>
            <a:chExt cx="944640" cy="608040"/>
          </a:xfrm>
        </p:grpSpPr>
        <p:grpSp>
          <p:nvGrpSpPr>
            <p:cNvPr id="804" name="组合 261"/>
            <p:cNvGrpSpPr/>
            <p:nvPr/>
          </p:nvGrpSpPr>
          <p:grpSpPr>
            <a:xfrm>
              <a:off x="7670880" y="4248720"/>
              <a:ext cx="472680" cy="594720"/>
              <a:chOff x="7670880" y="4248720"/>
              <a:chExt cx="472680" cy="594720"/>
            </a:xfrm>
          </p:grpSpPr>
          <p:grpSp>
            <p:nvGrpSpPr>
              <p:cNvPr id="805" name="组合 281"/>
              <p:cNvGrpSpPr/>
              <p:nvPr/>
            </p:nvGrpSpPr>
            <p:grpSpPr>
              <a:xfrm>
                <a:off x="7815960" y="4707000"/>
                <a:ext cx="327600" cy="136440"/>
                <a:chOff x="7815960" y="4707000"/>
                <a:chExt cx="327600" cy="136440"/>
              </a:xfrm>
            </p:grpSpPr>
            <p:sp>
              <p:nvSpPr>
                <p:cNvPr id="806" name="圆角矩形 294"/>
                <p:cNvSpPr/>
                <p:nvPr/>
              </p:nvSpPr>
              <p:spPr>
                <a:xfrm flipH="1">
                  <a:off x="7815960" y="47181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椭圆 295"/>
                <p:cNvSpPr/>
                <p:nvPr/>
              </p:nvSpPr>
              <p:spPr>
                <a:xfrm flipH="1">
                  <a:off x="7829640" y="47070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组合 282"/>
              <p:cNvGrpSpPr/>
              <p:nvPr/>
            </p:nvGrpSpPr>
            <p:grpSpPr>
              <a:xfrm>
                <a:off x="7745400" y="4588200"/>
                <a:ext cx="327600" cy="136440"/>
                <a:chOff x="7745400" y="4588200"/>
                <a:chExt cx="327600" cy="136440"/>
              </a:xfrm>
            </p:grpSpPr>
            <p:sp>
              <p:nvSpPr>
                <p:cNvPr id="809" name="圆角矩形 292"/>
                <p:cNvSpPr/>
                <p:nvPr/>
              </p:nvSpPr>
              <p:spPr>
                <a:xfrm flipH="1">
                  <a:off x="7745400" y="4599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椭圆 293"/>
                <p:cNvSpPr/>
                <p:nvPr/>
              </p:nvSpPr>
              <p:spPr>
                <a:xfrm flipH="1">
                  <a:off x="7759080" y="4588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组合 283"/>
              <p:cNvGrpSpPr/>
              <p:nvPr/>
            </p:nvGrpSpPr>
            <p:grpSpPr>
              <a:xfrm>
                <a:off x="7796520" y="4470120"/>
                <a:ext cx="327600" cy="136440"/>
                <a:chOff x="7796520" y="4470120"/>
                <a:chExt cx="327600" cy="136440"/>
              </a:xfrm>
            </p:grpSpPr>
            <p:sp>
              <p:nvSpPr>
                <p:cNvPr id="812" name="圆角矩形 290"/>
                <p:cNvSpPr/>
                <p:nvPr/>
              </p:nvSpPr>
              <p:spPr>
                <a:xfrm flipH="1">
                  <a:off x="7796520" y="44812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椭圆 291"/>
                <p:cNvSpPr/>
                <p:nvPr/>
              </p:nvSpPr>
              <p:spPr>
                <a:xfrm flipH="1">
                  <a:off x="7810200" y="44701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组合 284"/>
              <p:cNvGrpSpPr/>
              <p:nvPr/>
            </p:nvGrpSpPr>
            <p:grpSpPr>
              <a:xfrm>
                <a:off x="7730280" y="4367520"/>
                <a:ext cx="327600" cy="136440"/>
                <a:chOff x="7730280" y="4367520"/>
                <a:chExt cx="327600" cy="136440"/>
              </a:xfrm>
            </p:grpSpPr>
            <p:sp>
              <p:nvSpPr>
                <p:cNvPr id="815" name="圆角矩形 288"/>
                <p:cNvSpPr/>
                <p:nvPr/>
              </p:nvSpPr>
              <p:spPr>
                <a:xfrm flipH="1">
                  <a:off x="7730280" y="43786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89"/>
                <p:cNvSpPr/>
                <p:nvPr/>
              </p:nvSpPr>
              <p:spPr>
                <a:xfrm flipH="1">
                  <a:off x="7743960" y="43675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组合 285"/>
              <p:cNvGrpSpPr/>
              <p:nvPr/>
            </p:nvGrpSpPr>
            <p:grpSpPr>
              <a:xfrm>
                <a:off x="7670880" y="4248720"/>
                <a:ext cx="327600" cy="136440"/>
                <a:chOff x="7670880" y="4248720"/>
                <a:chExt cx="327600" cy="136440"/>
              </a:xfrm>
            </p:grpSpPr>
            <p:sp>
              <p:nvSpPr>
                <p:cNvPr id="818" name="圆角矩形 286"/>
                <p:cNvSpPr/>
                <p:nvPr/>
              </p:nvSpPr>
              <p:spPr>
                <a:xfrm flipH="1">
                  <a:off x="7670880" y="4259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椭圆 287"/>
                <p:cNvSpPr/>
                <p:nvPr/>
              </p:nvSpPr>
              <p:spPr>
                <a:xfrm flipH="1">
                  <a:off x="7684560" y="4248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0" name="组合 263"/>
            <p:cNvGrpSpPr/>
            <p:nvPr/>
          </p:nvGrpSpPr>
          <p:grpSpPr>
            <a:xfrm>
              <a:off x="8142840" y="4235400"/>
              <a:ext cx="472680" cy="594720"/>
              <a:chOff x="8142840" y="4235400"/>
              <a:chExt cx="472680" cy="594720"/>
            </a:xfrm>
          </p:grpSpPr>
          <p:grpSp>
            <p:nvGrpSpPr>
              <p:cNvPr id="821" name="组合 264"/>
              <p:cNvGrpSpPr/>
              <p:nvPr/>
            </p:nvGrpSpPr>
            <p:grpSpPr>
              <a:xfrm>
                <a:off x="8287920" y="4693680"/>
                <a:ext cx="327600" cy="136440"/>
                <a:chOff x="8287920" y="4693680"/>
                <a:chExt cx="327600" cy="136440"/>
              </a:xfrm>
            </p:grpSpPr>
            <p:sp>
              <p:nvSpPr>
                <p:cNvPr id="822" name="圆角矩形 277"/>
                <p:cNvSpPr/>
                <p:nvPr/>
              </p:nvSpPr>
              <p:spPr>
                <a:xfrm flipH="1">
                  <a:off x="8287920" y="47048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椭圆 278"/>
                <p:cNvSpPr/>
                <p:nvPr/>
              </p:nvSpPr>
              <p:spPr>
                <a:xfrm flipH="1">
                  <a:off x="830160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组合 265"/>
              <p:cNvGrpSpPr/>
              <p:nvPr/>
            </p:nvGrpSpPr>
            <p:grpSpPr>
              <a:xfrm>
                <a:off x="8217360" y="4574880"/>
                <a:ext cx="327600" cy="136440"/>
                <a:chOff x="8217360" y="4574880"/>
                <a:chExt cx="327600" cy="136440"/>
              </a:xfrm>
            </p:grpSpPr>
            <p:sp>
              <p:nvSpPr>
                <p:cNvPr id="825" name="圆角矩形 275"/>
                <p:cNvSpPr/>
                <p:nvPr/>
              </p:nvSpPr>
              <p:spPr>
                <a:xfrm flipH="1">
                  <a:off x="8217360" y="4586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椭圆 276"/>
                <p:cNvSpPr/>
                <p:nvPr/>
              </p:nvSpPr>
              <p:spPr>
                <a:xfrm flipH="1">
                  <a:off x="823104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组合 266"/>
              <p:cNvGrpSpPr/>
              <p:nvPr/>
            </p:nvGrpSpPr>
            <p:grpSpPr>
              <a:xfrm>
                <a:off x="8268480" y="4456800"/>
                <a:ext cx="327600" cy="136440"/>
                <a:chOff x="8268480" y="4456800"/>
                <a:chExt cx="327600" cy="136440"/>
              </a:xfrm>
            </p:grpSpPr>
            <p:sp>
              <p:nvSpPr>
                <p:cNvPr id="828" name="圆角矩形 273"/>
                <p:cNvSpPr/>
                <p:nvPr/>
              </p:nvSpPr>
              <p:spPr>
                <a:xfrm flipH="1">
                  <a:off x="8268480" y="44679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74"/>
                <p:cNvSpPr/>
                <p:nvPr/>
              </p:nvSpPr>
              <p:spPr>
                <a:xfrm flipH="1">
                  <a:off x="828216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组合 267"/>
              <p:cNvGrpSpPr/>
              <p:nvPr/>
            </p:nvGrpSpPr>
            <p:grpSpPr>
              <a:xfrm>
                <a:off x="8202240" y="4354200"/>
                <a:ext cx="327600" cy="136440"/>
                <a:chOff x="8202240" y="4354200"/>
                <a:chExt cx="327600" cy="136440"/>
              </a:xfrm>
            </p:grpSpPr>
            <p:sp>
              <p:nvSpPr>
                <p:cNvPr id="831" name="圆角矩形 271"/>
                <p:cNvSpPr/>
                <p:nvPr/>
              </p:nvSpPr>
              <p:spPr>
                <a:xfrm flipH="1">
                  <a:off x="8202240" y="4365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72"/>
                <p:cNvSpPr/>
                <p:nvPr/>
              </p:nvSpPr>
              <p:spPr>
                <a:xfrm flipH="1">
                  <a:off x="821592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组合 268"/>
              <p:cNvGrpSpPr/>
              <p:nvPr/>
            </p:nvGrpSpPr>
            <p:grpSpPr>
              <a:xfrm>
                <a:off x="8142840" y="4235400"/>
                <a:ext cx="327600" cy="136440"/>
                <a:chOff x="8142840" y="4235400"/>
                <a:chExt cx="327600" cy="136440"/>
              </a:xfrm>
            </p:grpSpPr>
            <p:sp>
              <p:nvSpPr>
                <p:cNvPr id="834" name="圆角矩形 269"/>
                <p:cNvSpPr/>
                <p:nvPr/>
              </p:nvSpPr>
              <p:spPr>
                <a:xfrm flipH="1">
                  <a:off x="8142840" y="42465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椭圆 270"/>
                <p:cNvSpPr/>
                <p:nvPr/>
              </p:nvSpPr>
              <p:spPr>
                <a:xfrm flipH="1">
                  <a:off x="8156520" y="42354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6" name="组合 400"/>
          <p:cNvGrpSpPr/>
          <p:nvPr/>
        </p:nvGrpSpPr>
        <p:grpSpPr>
          <a:xfrm>
            <a:off x="9105480" y="5345280"/>
            <a:ext cx="398520" cy="255600"/>
            <a:chOff x="9105480" y="5345280"/>
            <a:chExt cx="398520" cy="255600"/>
          </a:xfrm>
        </p:grpSpPr>
        <p:grpSp>
          <p:nvGrpSpPr>
            <p:cNvPr id="837" name="组合 316"/>
            <p:cNvGrpSpPr/>
            <p:nvPr/>
          </p:nvGrpSpPr>
          <p:grpSpPr>
            <a:xfrm>
              <a:off x="9176040" y="5464080"/>
              <a:ext cx="327960" cy="136800"/>
              <a:chOff x="9176040" y="5464080"/>
              <a:chExt cx="327960" cy="136800"/>
            </a:xfrm>
          </p:grpSpPr>
          <p:sp>
            <p:nvSpPr>
              <p:cNvPr id="838" name="圆角矩形 329"/>
              <p:cNvSpPr/>
              <p:nvPr/>
            </p:nvSpPr>
            <p:spPr>
              <a:xfrm flipH="1">
                <a:off x="9175680" y="54752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椭圆 330"/>
              <p:cNvSpPr/>
              <p:nvPr/>
            </p:nvSpPr>
            <p:spPr>
              <a:xfrm flipH="1">
                <a:off x="9190800" y="54640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组合 317"/>
            <p:cNvGrpSpPr/>
            <p:nvPr/>
          </p:nvGrpSpPr>
          <p:grpSpPr>
            <a:xfrm>
              <a:off x="9105480" y="5345280"/>
              <a:ext cx="327960" cy="136800"/>
              <a:chOff x="9105480" y="5345280"/>
              <a:chExt cx="327960" cy="136800"/>
            </a:xfrm>
          </p:grpSpPr>
          <p:sp>
            <p:nvSpPr>
              <p:cNvPr id="841" name="圆角矩形 327"/>
              <p:cNvSpPr/>
              <p:nvPr/>
            </p:nvSpPr>
            <p:spPr>
              <a:xfrm flipH="1">
                <a:off x="9105120" y="53564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椭圆 328"/>
              <p:cNvSpPr/>
              <p:nvPr/>
            </p:nvSpPr>
            <p:spPr>
              <a:xfrm flipH="1">
                <a:off x="9120240" y="53452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361"/>
          <p:cNvGrpSpPr/>
          <p:nvPr/>
        </p:nvGrpSpPr>
        <p:grpSpPr>
          <a:xfrm>
            <a:off x="10067400" y="5646600"/>
            <a:ext cx="327240" cy="136800"/>
            <a:chOff x="10067400" y="5646600"/>
            <a:chExt cx="327240" cy="136800"/>
          </a:xfrm>
        </p:grpSpPr>
        <p:sp>
          <p:nvSpPr>
            <p:cNvPr id="844" name="圆角矩形 374"/>
            <p:cNvSpPr/>
            <p:nvPr/>
          </p:nvSpPr>
          <p:spPr>
            <a:xfrm flipH="1">
              <a:off x="10067040" y="5657760"/>
              <a:ext cx="327240" cy="125640"/>
            </a:xfrm>
            <a:prstGeom prst="roundRect">
              <a:avLst>
                <a:gd name="adj" fmla="val 16667"/>
              </a:avLst>
            </a:prstGeom>
            <a:solidFill>
              <a:srgbClr val="f2b800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椭圆 375"/>
            <p:cNvSpPr/>
            <p:nvPr/>
          </p:nvSpPr>
          <p:spPr>
            <a:xfrm flipH="1">
              <a:off x="10082160" y="5646600"/>
              <a:ext cx="30384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组合 394"/>
          <p:cNvGrpSpPr/>
          <p:nvPr/>
        </p:nvGrpSpPr>
        <p:grpSpPr>
          <a:xfrm>
            <a:off x="10848960" y="5724360"/>
            <a:ext cx="326880" cy="136800"/>
            <a:chOff x="10848960" y="5724360"/>
            <a:chExt cx="326880" cy="136800"/>
          </a:xfrm>
        </p:grpSpPr>
        <p:sp>
          <p:nvSpPr>
            <p:cNvPr id="847" name="圆角矩形 398"/>
            <p:cNvSpPr/>
            <p:nvPr/>
          </p:nvSpPr>
          <p:spPr>
            <a:xfrm flipH="1">
              <a:off x="10848960" y="5735520"/>
              <a:ext cx="326880" cy="125640"/>
            </a:xfrm>
            <a:prstGeom prst="roundRect">
              <a:avLst>
                <a:gd name="adj" fmla="val 16667"/>
              </a:avLst>
            </a:prstGeom>
            <a:solidFill>
              <a:srgbClr val="b8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椭圆 399"/>
            <p:cNvSpPr/>
            <p:nvPr/>
          </p:nvSpPr>
          <p:spPr>
            <a:xfrm flipH="1">
              <a:off x="10863000" y="5724360"/>
              <a:ext cx="30348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800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圆角矩形标注 402"/>
          <p:cNvSpPr/>
          <p:nvPr/>
        </p:nvSpPr>
        <p:spPr>
          <a:xfrm>
            <a:off x="212760" y="28702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403"/>
          <p:cNvSpPr/>
          <p:nvPr/>
        </p:nvSpPr>
        <p:spPr>
          <a:xfrm>
            <a:off x="263520" y="29908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标注 404"/>
          <p:cNvSpPr/>
          <p:nvPr/>
        </p:nvSpPr>
        <p:spPr>
          <a:xfrm>
            <a:off x="1623960" y="23986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405"/>
          <p:cNvSpPr/>
          <p:nvPr/>
        </p:nvSpPr>
        <p:spPr>
          <a:xfrm>
            <a:off x="1674720" y="25192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.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圆角矩形标注 406"/>
          <p:cNvSpPr/>
          <p:nvPr/>
        </p:nvSpPr>
        <p:spPr>
          <a:xfrm>
            <a:off x="3238560" y="2235240"/>
            <a:ext cx="11970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407"/>
          <p:cNvSpPr/>
          <p:nvPr/>
        </p:nvSpPr>
        <p:spPr>
          <a:xfrm>
            <a:off x="3289320" y="235584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.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圆角矩形标注 408"/>
          <p:cNvSpPr/>
          <p:nvPr/>
        </p:nvSpPr>
        <p:spPr>
          <a:xfrm>
            <a:off x="4776840" y="327492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409"/>
          <p:cNvSpPr/>
          <p:nvPr/>
        </p:nvSpPr>
        <p:spPr>
          <a:xfrm>
            <a:off x="4827600" y="33955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.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标注 410"/>
          <p:cNvSpPr/>
          <p:nvPr/>
        </p:nvSpPr>
        <p:spPr>
          <a:xfrm>
            <a:off x="6151680" y="382104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411"/>
          <p:cNvSpPr/>
          <p:nvPr/>
        </p:nvSpPr>
        <p:spPr>
          <a:xfrm>
            <a:off x="6200640" y="394164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.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标注 412"/>
          <p:cNvSpPr/>
          <p:nvPr/>
        </p:nvSpPr>
        <p:spPr>
          <a:xfrm>
            <a:off x="7588080" y="3263760"/>
            <a:ext cx="11988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413"/>
          <p:cNvSpPr/>
          <p:nvPr/>
        </p:nvSpPr>
        <p:spPr>
          <a:xfrm>
            <a:off x="7639200" y="33847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标注 414"/>
          <p:cNvSpPr/>
          <p:nvPr/>
        </p:nvSpPr>
        <p:spPr>
          <a:xfrm>
            <a:off x="8740800" y="4417920"/>
            <a:ext cx="990720" cy="63684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415"/>
          <p:cNvSpPr/>
          <p:nvPr/>
        </p:nvSpPr>
        <p:spPr>
          <a:xfrm>
            <a:off x="8791560" y="447840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7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标注 416"/>
          <p:cNvSpPr/>
          <p:nvPr/>
        </p:nvSpPr>
        <p:spPr>
          <a:xfrm>
            <a:off x="9858240" y="473400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417"/>
          <p:cNvSpPr/>
          <p:nvPr/>
        </p:nvSpPr>
        <p:spPr>
          <a:xfrm>
            <a:off x="9871200" y="486720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标注 418"/>
          <p:cNvSpPr/>
          <p:nvPr/>
        </p:nvSpPr>
        <p:spPr>
          <a:xfrm>
            <a:off x="10823400" y="479736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419"/>
          <p:cNvSpPr/>
          <p:nvPr/>
        </p:nvSpPr>
        <p:spPr>
          <a:xfrm>
            <a:off x="10874520" y="49179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420"/>
          <p:cNvSpPr/>
          <p:nvPr/>
        </p:nvSpPr>
        <p:spPr>
          <a:xfrm>
            <a:off x="423720" y="44704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2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421"/>
          <p:cNvSpPr/>
          <p:nvPr/>
        </p:nvSpPr>
        <p:spPr>
          <a:xfrm>
            <a:off x="1909800" y="41641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3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422"/>
          <p:cNvSpPr/>
          <p:nvPr/>
        </p:nvSpPr>
        <p:spPr>
          <a:xfrm>
            <a:off x="3395520" y="3884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423"/>
          <p:cNvSpPr/>
          <p:nvPr/>
        </p:nvSpPr>
        <p:spPr>
          <a:xfrm>
            <a:off x="5060880" y="48513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-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424"/>
          <p:cNvSpPr/>
          <p:nvPr/>
        </p:nvSpPr>
        <p:spPr>
          <a:xfrm>
            <a:off x="6434280" y="54579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425"/>
          <p:cNvSpPr/>
          <p:nvPr/>
        </p:nvSpPr>
        <p:spPr>
          <a:xfrm>
            <a:off x="7648560" y="48481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K-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426"/>
          <p:cNvSpPr/>
          <p:nvPr/>
        </p:nvSpPr>
        <p:spPr>
          <a:xfrm>
            <a:off x="8734320" y="561168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1.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427"/>
          <p:cNvSpPr/>
          <p:nvPr/>
        </p:nvSpPr>
        <p:spPr>
          <a:xfrm>
            <a:off x="9609120" y="59022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文本框 428"/>
          <p:cNvSpPr/>
          <p:nvPr/>
        </p:nvSpPr>
        <p:spPr>
          <a:xfrm>
            <a:off x="10823400" y="58500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圆角矩形 1"/>
          <p:cNvSpPr/>
          <p:nvPr/>
        </p:nvSpPr>
        <p:spPr>
          <a:xfrm>
            <a:off x="800280" y="428760"/>
            <a:ext cx="50162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2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3"/>
          <p:cNvSpPr/>
          <p:nvPr/>
        </p:nvSpPr>
        <p:spPr>
          <a:xfrm>
            <a:off x="1469880" y="554040"/>
            <a:ext cx="43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们单位怎么发年终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46"/>
          <p:cNvGrpSpPr/>
          <p:nvPr/>
        </p:nvGrpSpPr>
        <p:grpSpPr>
          <a:xfrm>
            <a:off x="453960" y="449640"/>
            <a:ext cx="831960" cy="705960"/>
            <a:chOff x="453960" y="449640"/>
            <a:chExt cx="831960" cy="705960"/>
          </a:xfrm>
        </p:grpSpPr>
        <p:sp>
          <p:nvSpPr>
            <p:cNvPr id="880" name="任意多边形 5"/>
            <p:cNvSpPr/>
            <p:nvPr/>
          </p:nvSpPr>
          <p:spPr>
            <a:xfrm>
              <a:off x="453960" y="702720"/>
              <a:ext cx="831960" cy="452880"/>
            </a:xfrm>
            <a:custGeom>
              <a:avLst/>
              <a:gdLst>
                <a:gd name="textAreaLeft" fmla="*/ 0 w 831960"/>
                <a:gd name="textAreaRight" fmla="*/ 832320 w 83196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1676400" h="914400">
                  <a:moveTo>
                    <a:pt x="1663700" y="914400"/>
                  </a:moveTo>
                  <a:lnTo>
                    <a:pt x="1676400" y="254000"/>
                  </a:lnTo>
                  <a:lnTo>
                    <a:pt x="1460500" y="254000"/>
                  </a:lnTo>
                  <a:lnTo>
                    <a:pt x="1422400" y="317500"/>
                  </a:lnTo>
                  <a:lnTo>
                    <a:pt x="1206500" y="0"/>
                  </a:lnTo>
                  <a:lnTo>
                    <a:pt x="622300" y="114300"/>
                  </a:lnTo>
                  <a:lnTo>
                    <a:pt x="596900" y="203200"/>
                  </a:lnTo>
                  <a:lnTo>
                    <a:pt x="825500" y="241300"/>
                  </a:lnTo>
                  <a:lnTo>
                    <a:pt x="558800" y="342900"/>
                  </a:lnTo>
                  <a:lnTo>
                    <a:pt x="12700" y="228600"/>
                  </a:lnTo>
                  <a:lnTo>
                    <a:pt x="0" y="444500"/>
                  </a:lnTo>
                  <a:lnTo>
                    <a:pt x="63500" y="584200"/>
                  </a:lnTo>
                  <a:lnTo>
                    <a:pt x="381000" y="762000"/>
                  </a:lnTo>
                  <a:lnTo>
                    <a:pt x="1092200" y="685800"/>
                  </a:lnTo>
                  <a:lnTo>
                    <a:pt x="1397000" y="787400"/>
                  </a:lnTo>
                  <a:lnTo>
                    <a:pt x="1422400" y="901700"/>
                  </a:lnTo>
                  <a:lnTo>
                    <a:pt x="1663700" y="9144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组合 7"/>
            <p:cNvGrpSpPr/>
            <p:nvPr/>
          </p:nvGrpSpPr>
          <p:grpSpPr>
            <a:xfrm>
              <a:off x="484920" y="703800"/>
              <a:ext cx="217080" cy="130680"/>
              <a:chOff x="484920" y="703800"/>
              <a:chExt cx="217080" cy="130680"/>
            </a:xfrm>
          </p:grpSpPr>
          <p:sp>
            <p:nvSpPr>
              <p:cNvPr id="882" name="圆角矩形 38"/>
              <p:cNvSpPr/>
              <p:nvPr/>
            </p:nvSpPr>
            <p:spPr>
              <a:xfrm rot="844200">
                <a:off x="491400" y="732600"/>
                <a:ext cx="204120" cy="7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椭圆 39"/>
              <p:cNvSpPr/>
              <p:nvPr/>
            </p:nvSpPr>
            <p:spPr>
              <a:xfrm rot="844200">
                <a:off x="505080" y="726480"/>
                <a:ext cx="18972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组合 40"/>
            <p:cNvGrpSpPr/>
            <p:nvPr/>
          </p:nvGrpSpPr>
          <p:grpSpPr>
            <a:xfrm>
              <a:off x="641520" y="516240"/>
              <a:ext cx="184320" cy="210600"/>
              <a:chOff x="641520" y="516240"/>
              <a:chExt cx="184320" cy="210600"/>
            </a:xfrm>
          </p:grpSpPr>
          <p:sp>
            <p:nvSpPr>
              <p:cNvPr id="885" name="圆角矩形 41"/>
              <p:cNvSpPr/>
              <p:nvPr/>
            </p:nvSpPr>
            <p:spPr>
              <a:xfrm rot="3223800">
                <a:off x="631440" y="58212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椭圆 42"/>
              <p:cNvSpPr/>
              <p:nvPr/>
            </p:nvSpPr>
            <p:spPr>
              <a:xfrm rot="3223800">
                <a:off x="666360" y="588240"/>
                <a:ext cx="18936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组合 43"/>
            <p:cNvGrpSpPr/>
            <p:nvPr/>
          </p:nvGrpSpPr>
          <p:grpSpPr>
            <a:xfrm>
              <a:off x="834840" y="449640"/>
              <a:ext cx="145080" cy="218520"/>
              <a:chOff x="834840" y="449640"/>
              <a:chExt cx="145080" cy="218520"/>
            </a:xfrm>
          </p:grpSpPr>
          <p:sp>
            <p:nvSpPr>
              <p:cNvPr id="888" name="圆角矩形 44"/>
              <p:cNvSpPr/>
              <p:nvPr/>
            </p:nvSpPr>
            <p:spPr>
              <a:xfrm flipH="1" rot="17367000">
                <a:off x="806760" y="51948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椭圆 45"/>
              <p:cNvSpPr/>
              <p:nvPr/>
            </p:nvSpPr>
            <p:spPr>
              <a:xfrm flipH="1" rot="17367000">
                <a:off x="781200" y="534600"/>
                <a:ext cx="189360" cy="2124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90" name="图片 47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1305000" y="1825560"/>
            <a:ext cx="558720" cy="1376280"/>
          </a:xfrm>
          <a:prstGeom prst="rect">
            <a:avLst/>
          </a:prstGeom>
          <a:ln w="0">
            <a:noFill/>
          </a:ln>
        </p:spPr>
      </p:pic>
      <p:sp>
        <p:nvSpPr>
          <p:cNvPr id="891" name="任意多边形 81"/>
          <p:cNvSpPr/>
          <p:nvPr/>
        </p:nvSpPr>
        <p:spPr>
          <a:xfrm>
            <a:off x="341280" y="3151080"/>
            <a:ext cx="6492960" cy="3160800"/>
          </a:xfrm>
          <a:custGeom>
            <a:avLst/>
            <a:gdLst>
              <a:gd name="textAreaLeft" fmla="*/ 0 w 6492960"/>
              <a:gd name="textAreaRight" fmla="*/ 6493320 w 6492960"/>
              <a:gd name="textAreaTop" fmla="*/ 0 h 3160800"/>
              <a:gd name="textAreaBottom" fmla="*/ 3161160 h 3160800"/>
            </a:gdLst>
            <a:ahLst/>
            <a:rect l="textAreaLeft" t="textAreaTop" r="textAreaRight" b="textAreaBottom"/>
            <a:pathLst>
              <a:path w="6493320" h="3161295">
                <a:moveTo>
                  <a:pt x="0" y="0"/>
                </a:moveTo>
                <a:lnTo>
                  <a:pt x="329723" y="0"/>
                </a:lnTo>
                <a:lnTo>
                  <a:pt x="340267" y="208800"/>
                </a:lnTo>
                <a:cubicBezTo>
                  <a:pt x="489875" y="1681974"/>
                  <a:pt x="1734016" y="2831574"/>
                  <a:pt x="3246661" y="2831574"/>
                </a:cubicBezTo>
                <a:cubicBezTo>
                  <a:pt x="4759306" y="2831574"/>
                  <a:pt x="6003447" y="1681974"/>
                  <a:pt x="6153056" y="208800"/>
                </a:cubicBezTo>
                <a:lnTo>
                  <a:pt x="6163599" y="0"/>
                </a:lnTo>
                <a:lnTo>
                  <a:pt x="6493320" y="0"/>
                </a:lnTo>
                <a:lnTo>
                  <a:pt x="6481074" y="242511"/>
                </a:lnTo>
                <a:cubicBezTo>
                  <a:pt x="6314580" y="1881949"/>
                  <a:pt x="4930024" y="3161295"/>
                  <a:pt x="3246660" y="3161295"/>
                </a:cubicBezTo>
                <a:cubicBezTo>
                  <a:pt x="1563297" y="3161295"/>
                  <a:pt x="178740" y="1881949"/>
                  <a:pt x="12246" y="242511"/>
                </a:cubicBezTo>
                <a:lnTo>
                  <a:pt x="0" y="0"/>
                </a:lnTo>
                <a:close/>
              </a:path>
            </a:pathLst>
          </a:cu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91"/>
          <p:cNvSpPr/>
          <p:nvPr/>
        </p:nvSpPr>
        <p:spPr>
          <a:xfrm>
            <a:off x="4906800" y="3151080"/>
            <a:ext cx="1341720" cy="2044800"/>
          </a:xfrm>
          <a:custGeom>
            <a:avLst/>
            <a:gdLst>
              <a:gd name="textAreaLeft" fmla="*/ 0 w 1341720"/>
              <a:gd name="textAreaRight" fmla="*/ 1342080 w 134172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1341616" h="2043768">
                <a:moveTo>
                  <a:pt x="1035419" y="0"/>
                </a:moveTo>
                <a:lnTo>
                  <a:pt x="1341616" y="0"/>
                </a:lnTo>
                <a:lnTo>
                  <a:pt x="1333719" y="156378"/>
                </a:lnTo>
                <a:cubicBezTo>
                  <a:pt x="1252994" y="951272"/>
                  <a:pt x="803151" y="1637045"/>
                  <a:pt x="158297" y="2039593"/>
                </a:cubicBezTo>
                <a:lnTo>
                  <a:pt x="150879" y="2043768"/>
                </a:lnTo>
                <a:lnTo>
                  <a:pt x="0" y="1777167"/>
                </a:lnTo>
                <a:lnTo>
                  <a:pt x="161055" y="1666246"/>
                </a:lnTo>
                <a:cubicBezTo>
                  <a:pt x="638750" y="1304521"/>
                  <a:pt x="965270" y="753624"/>
                  <a:pt x="1029103" y="125071"/>
                </a:cubicBezTo>
                <a:lnTo>
                  <a:pt x="1035419" y="0"/>
                </a:lnTo>
                <a:close/>
              </a:path>
            </a:pathLst>
          </a:cu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任意多边形 93"/>
          <p:cNvSpPr/>
          <p:nvPr/>
        </p:nvSpPr>
        <p:spPr>
          <a:xfrm>
            <a:off x="4807080" y="3151080"/>
            <a:ext cx="933480" cy="1494000"/>
          </a:xfrm>
          <a:custGeom>
            <a:avLst/>
            <a:gdLst>
              <a:gd name="textAreaLeft" fmla="*/ 0 w 933480"/>
              <a:gd name="textAreaRight" fmla="*/ 933840 w 933480"/>
              <a:gd name="textAreaTop" fmla="*/ 0 h 1494000"/>
              <a:gd name="textAreaBottom" fmla="*/ 1494360 h 1494000"/>
            </a:gdLst>
            <a:ahLst/>
            <a:rect l="textAreaLeft" t="textAreaTop" r="textAreaRight" b="textAreaBottom"/>
            <a:pathLst>
              <a:path w="932716" h="1492946">
                <a:moveTo>
                  <a:pt x="631249" y="0"/>
                </a:moveTo>
                <a:lnTo>
                  <a:pt x="932716" y="0"/>
                </a:lnTo>
                <a:lnTo>
                  <a:pt x="926997" y="113270"/>
                </a:lnTo>
                <a:cubicBezTo>
                  <a:pt x="876116" y="614289"/>
                  <a:pt x="639112" y="1060285"/>
                  <a:pt x="286218" y="1381026"/>
                </a:cubicBezTo>
                <a:lnTo>
                  <a:pt x="151417" y="1492946"/>
                </a:lnTo>
                <a:lnTo>
                  <a:pt x="0" y="1203905"/>
                </a:lnTo>
                <a:lnTo>
                  <a:pt x="83574" y="1135750"/>
                </a:lnTo>
                <a:cubicBezTo>
                  <a:pt x="382946" y="868492"/>
                  <a:pt x="584003" y="496865"/>
                  <a:pt x="627167" y="79390"/>
                </a:cubicBezTo>
                <a:lnTo>
                  <a:pt x="631249" y="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任意多边形 96"/>
          <p:cNvSpPr/>
          <p:nvPr/>
        </p:nvSpPr>
        <p:spPr>
          <a:xfrm>
            <a:off x="4573440" y="3151080"/>
            <a:ext cx="668520" cy="1041480"/>
          </a:xfrm>
          <a:custGeom>
            <a:avLst/>
            <a:gdLst>
              <a:gd name="textAreaLeft" fmla="*/ 0 w 668520"/>
              <a:gd name="textAreaRight" fmla="*/ 668880 w 6685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667541" h="1041509">
                <a:moveTo>
                  <a:pt x="361643" y="0"/>
                </a:moveTo>
                <a:lnTo>
                  <a:pt x="667541" y="0"/>
                </a:lnTo>
                <a:lnTo>
                  <a:pt x="663781" y="74455"/>
                </a:lnTo>
                <a:cubicBezTo>
                  <a:pt x="627766" y="429096"/>
                  <a:pt x="476473" y="749658"/>
                  <a:pt x="247966" y="998081"/>
                </a:cubicBezTo>
                <a:lnTo>
                  <a:pt x="204278" y="1041509"/>
                </a:lnTo>
                <a:lnTo>
                  <a:pt x="0" y="797733"/>
                </a:lnTo>
                <a:lnTo>
                  <a:pt x="22833" y="775439"/>
                </a:lnTo>
                <a:cubicBezTo>
                  <a:pt x="207869" y="577853"/>
                  <a:pt x="330380" y="322889"/>
                  <a:pt x="359544" y="40820"/>
                </a:cubicBezTo>
                <a:lnTo>
                  <a:pt x="36164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任意多边形 98"/>
          <p:cNvSpPr/>
          <p:nvPr/>
        </p:nvSpPr>
        <p:spPr>
          <a:xfrm>
            <a:off x="4395960" y="3151080"/>
            <a:ext cx="336240" cy="352440"/>
          </a:xfrm>
          <a:custGeom>
            <a:avLst/>
            <a:gdLst>
              <a:gd name="textAreaLeft" fmla="*/ 0 w 336240"/>
              <a:gd name="textAreaRight" fmla="*/ 336600 w 33624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336453" h="352724">
                <a:moveTo>
                  <a:pt x="22850" y="0"/>
                </a:moveTo>
                <a:lnTo>
                  <a:pt x="336453" y="0"/>
                </a:lnTo>
                <a:lnTo>
                  <a:pt x="334967" y="29425"/>
                </a:lnTo>
                <a:cubicBezTo>
                  <a:pt x="327037" y="107509"/>
                  <a:pt x="311856" y="183449"/>
                  <a:pt x="290106" y="256561"/>
                </a:cubicBezTo>
                <a:lnTo>
                  <a:pt x="256581" y="352724"/>
                </a:lnTo>
                <a:lnTo>
                  <a:pt x="0" y="132980"/>
                </a:lnTo>
                <a:lnTo>
                  <a:pt x="13930" y="86912"/>
                </a:lnTo>
                <a:lnTo>
                  <a:pt x="22850" y="0"/>
                </a:lnTo>
                <a:close/>
              </a:path>
            </a:pathLst>
          </a:cu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99"/>
          <p:cNvSpPr/>
          <p:nvPr/>
        </p:nvSpPr>
        <p:spPr>
          <a:xfrm>
            <a:off x="6389640" y="28494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9.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100"/>
          <p:cNvSpPr/>
          <p:nvPr/>
        </p:nvSpPr>
        <p:spPr>
          <a:xfrm>
            <a:off x="5740560" y="284796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9.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文本框 101"/>
          <p:cNvSpPr/>
          <p:nvPr/>
        </p:nvSpPr>
        <p:spPr>
          <a:xfrm>
            <a:off x="523224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102"/>
          <p:cNvSpPr/>
          <p:nvPr/>
        </p:nvSpPr>
        <p:spPr>
          <a:xfrm>
            <a:off x="474336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103"/>
          <p:cNvSpPr/>
          <p:nvPr/>
        </p:nvSpPr>
        <p:spPr>
          <a:xfrm>
            <a:off x="4262400" y="28638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.8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圆角矩形 104"/>
          <p:cNvSpPr/>
          <p:nvPr/>
        </p:nvSpPr>
        <p:spPr>
          <a:xfrm>
            <a:off x="1093680" y="3290760"/>
            <a:ext cx="3360960" cy="1482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105"/>
          <p:cNvSpPr/>
          <p:nvPr/>
        </p:nvSpPr>
        <p:spPr>
          <a:xfrm>
            <a:off x="1093680" y="3381480"/>
            <a:ext cx="34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一半的公司年终奖都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。没有年终奖和看老板发年终奖的比例却是高度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椭圆 106"/>
          <p:cNvSpPr/>
          <p:nvPr/>
        </p:nvSpPr>
        <p:spPr>
          <a:xfrm>
            <a:off x="7236000" y="3162240"/>
            <a:ext cx="393480" cy="39384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椭圆 107"/>
          <p:cNvSpPr/>
          <p:nvPr/>
        </p:nvSpPr>
        <p:spPr>
          <a:xfrm>
            <a:off x="7236000" y="3679920"/>
            <a:ext cx="393480" cy="393480"/>
          </a:xfrm>
          <a:prstGeom prst="ellips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08"/>
          <p:cNvSpPr/>
          <p:nvPr/>
        </p:nvSpPr>
        <p:spPr>
          <a:xfrm>
            <a:off x="7236000" y="4195800"/>
            <a:ext cx="393480" cy="39384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109"/>
          <p:cNvSpPr/>
          <p:nvPr/>
        </p:nvSpPr>
        <p:spPr>
          <a:xfrm>
            <a:off x="7236000" y="4713120"/>
            <a:ext cx="393480" cy="393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10"/>
          <p:cNvSpPr/>
          <p:nvPr/>
        </p:nvSpPr>
        <p:spPr>
          <a:xfrm>
            <a:off x="7236000" y="5230800"/>
            <a:ext cx="393480" cy="393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11"/>
          <p:cNvSpPr/>
          <p:nvPr/>
        </p:nvSpPr>
        <p:spPr>
          <a:xfrm>
            <a:off x="7629480" y="3105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，多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工资而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12"/>
          <p:cNvSpPr/>
          <p:nvPr/>
        </p:nvSpPr>
        <p:spPr>
          <a:xfrm>
            <a:off x="7629480" y="362592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额外发的，看公司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113"/>
          <p:cNvSpPr/>
          <p:nvPr/>
        </p:nvSpPr>
        <p:spPr>
          <a:xfrm>
            <a:off x="7629480" y="414324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全看老板心情发的，不能当回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文本框 114"/>
          <p:cNvSpPr/>
          <p:nvPr/>
        </p:nvSpPr>
        <p:spPr>
          <a:xfrm>
            <a:off x="7629480" y="4680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无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115"/>
          <p:cNvSpPr/>
          <p:nvPr/>
        </p:nvSpPr>
        <p:spPr>
          <a:xfrm>
            <a:off x="7629480" y="526104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拿基础工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底按项目提成算总账，当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圆角矩形 1"/>
          <p:cNvSpPr/>
          <p:nvPr/>
        </p:nvSpPr>
        <p:spPr>
          <a:xfrm>
            <a:off x="628560" y="428760"/>
            <a:ext cx="58676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椭圆 2"/>
          <p:cNvSpPr/>
          <p:nvPr/>
        </p:nvSpPr>
        <p:spPr>
          <a:xfrm>
            <a:off x="14616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3"/>
          <p:cNvSpPr/>
          <p:nvPr/>
        </p:nvSpPr>
        <p:spPr>
          <a:xfrm>
            <a:off x="1298520" y="55404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获得的年终奖最多一次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任意多边形 17"/>
          <p:cNvSpPr/>
          <p:nvPr/>
        </p:nvSpPr>
        <p:spPr>
          <a:xfrm>
            <a:off x="5848200" y="673200"/>
            <a:ext cx="5727960" cy="5727600"/>
          </a:xfrm>
          <a:custGeom>
            <a:avLst/>
            <a:gdLst>
              <a:gd name="textAreaLeft" fmla="*/ 0 w 5727960"/>
              <a:gd name="textAreaRight" fmla="*/ 5728320 w 5727960"/>
              <a:gd name="textAreaTop" fmla="*/ 0 h 5727600"/>
              <a:gd name="textAreaBottom" fmla="*/ 5727960 h 5727600"/>
            </a:gdLst>
            <a:ahLst/>
            <a:rect l="textAreaLeft" t="textAreaTop" r="textAreaRight" b="textAreaBottom"/>
            <a:pathLst>
              <a:path w="5727700" h="5727700">
                <a:moveTo>
                  <a:pt x="2863851" y="469782"/>
                </a:moveTo>
                <a:cubicBezTo>
                  <a:pt x="1541643" y="469782"/>
                  <a:pt x="469782" y="1541643"/>
                  <a:pt x="469782" y="2863851"/>
                </a:cubicBezTo>
                <a:cubicBezTo>
                  <a:pt x="469782" y="4186059"/>
                  <a:pt x="1541643" y="5257920"/>
                  <a:pt x="2863851" y="5257920"/>
                </a:cubicBezTo>
                <a:cubicBezTo>
                  <a:pt x="4186059" y="5257920"/>
                  <a:pt x="5257920" y="4186059"/>
                  <a:pt x="5257920" y="2863851"/>
                </a:cubicBezTo>
                <a:cubicBezTo>
                  <a:pt x="5257920" y="1541643"/>
                  <a:pt x="4186059" y="469782"/>
                  <a:pt x="2863851" y="469782"/>
                </a:cubicBezTo>
                <a:close/>
                <a:moveTo>
                  <a:pt x="2863850" y="0"/>
                </a:moveTo>
                <a:cubicBezTo>
                  <a:pt x="4445511" y="0"/>
                  <a:pt x="5727700" y="1282189"/>
                  <a:pt x="5727700" y="2863850"/>
                </a:cubicBezTo>
                <a:cubicBezTo>
                  <a:pt x="5727700" y="4445511"/>
                  <a:pt x="4445511" y="5727700"/>
                  <a:pt x="2863850" y="5727700"/>
                </a:cubicBezTo>
                <a:cubicBezTo>
                  <a:pt x="1282189" y="5727700"/>
                  <a:pt x="0" y="4445511"/>
                  <a:pt x="0" y="2863850"/>
                </a:cubicBezTo>
                <a:cubicBezTo>
                  <a:pt x="0" y="1282189"/>
                  <a:pt x="1282189" y="0"/>
                  <a:pt x="2863850" y="0"/>
                </a:cubicBezTo>
                <a:close/>
              </a:path>
            </a:pathLst>
          </a:custGeom>
          <a:solidFill>
            <a:srgbClr val="d8d8d8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8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800280" y="3463920"/>
            <a:ext cx="669600" cy="1649520"/>
          </a:xfrm>
          <a:prstGeom prst="rect">
            <a:avLst/>
          </a:prstGeom>
          <a:ln w="0">
            <a:noFill/>
          </a:ln>
        </p:spPr>
      </p:pic>
      <p:sp>
        <p:nvSpPr>
          <p:cNvPr id="918" name="圆角矩形 19"/>
          <p:cNvSpPr/>
          <p:nvPr/>
        </p:nvSpPr>
        <p:spPr>
          <a:xfrm>
            <a:off x="1666800" y="3736800"/>
            <a:ext cx="3686400" cy="1428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文本框 20"/>
          <p:cNvSpPr/>
          <p:nvPr/>
        </p:nvSpPr>
        <p:spPr>
          <a:xfrm>
            <a:off x="1666800" y="382752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最多的年终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下，而年终奖在以上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上占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25"/>
          <p:cNvGrpSpPr/>
          <p:nvPr/>
        </p:nvGrpSpPr>
        <p:grpSpPr>
          <a:xfrm>
            <a:off x="6318360" y="1127160"/>
            <a:ext cx="4787640" cy="4788000"/>
            <a:chOff x="6318360" y="1127160"/>
            <a:chExt cx="4787640" cy="4788000"/>
          </a:xfrm>
        </p:grpSpPr>
        <p:sp>
          <p:nvSpPr>
            <p:cNvPr id="921" name="直接连接符 22"/>
            <p:cNvSpPr/>
            <p:nvPr/>
          </p:nvSpPr>
          <p:spPr>
            <a:xfrm>
              <a:off x="6318360" y="3521160"/>
              <a:ext cx="4787640" cy="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24"/>
            <p:cNvSpPr/>
            <p:nvPr/>
          </p:nvSpPr>
          <p:spPr>
            <a:xfrm>
              <a:off x="8712000" y="1127160"/>
              <a:ext cx="0" cy="478800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6"/>
          <p:cNvGrpSpPr/>
          <p:nvPr/>
        </p:nvGrpSpPr>
        <p:grpSpPr>
          <a:xfrm>
            <a:off x="7024320" y="1834560"/>
            <a:ext cx="3385440" cy="3385440"/>
            <a:chOff x="7024320" y="1834560"/>
            <a:chExt cx="3385440" cy="3385440"/>
          </a:xfrm>
        </p:grpSpPr>
        <p:sp>
          <p:nvSpPr>
            <p:cNvPr id="924" name="直接连接符 27"/>
            <p:cNvSpPr/>
            <p:nvPr/>
          </p:nvSpPr>
          <p:spPr>
            <a:xfrm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直接连接符 28"/>
            <p:cNvSpPr/>
            <p:nvPr/>
          </p:nvSpPr>
          <p:spPr>
            <a:xfrm flipH="1"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文本框 38"/>
          <p:cNvSpPr/>
          <p:nvPr/>
        </p:nvSpPr>
        <p:spPr>
          <a:xfrm rot="20168400">
            <a:off x="7200000" y="803160"/>
            <a:ext cx="11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39"/>
          <p:cNvSpPr/>
          <p:nvPr/>
        </p:nvSpPr>
        <p:spPr>
          <a:xfrm rot="20281800">
            <a:off x="9127440" y="560880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4.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40"/>
          <p:cNvSpPr/>
          <p:nvPr/>
        </p:nvSpPr>
        <p:spPr>
          <a:xfrm rot="17493000">
            <a:off x="10486440" y="418572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文本框 41"/>
          <p:cNvSpPr/>
          <p:nvPr/>
        </p:nvSpPr>
        <p:spPr>
          <a:xfrm rot="17397600">
            <a:off x="5669280" y="218844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42"/>
          <p:cNvSpPr/>
          <p:nvPr/>
        </p:nvSpPr>
        <p:spPr>
          <a:xfrm rot="3653400">
            <a:off x="5745240" y="440460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文本框 43"/>
          <p:cNvSpPr/>
          <p:nvPr/>
        </p:nvSpPr>
        <p:spPr>
          <a:xfrm rot="3870600">
            <a:off x="10514160" y="226368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9.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44"/>
          <p:cNvSpPr/>
          <p:nvPr/>
        </p:nvSpPr>
        <p:spPr>
          <a:xfrm rot="1566000">
            <a:off x="9183960" y="87804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文本框 45"/>
          <p:cNvSpPr/>
          <p:nvPr/>
        </p:nvSpPr>
        <p:spPr>
          <a:xfrm rot="1566000">
            <a:off x="7188840" y="573408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46"/>
          <p:cNvSpPr/>
          <p:nvPr/>
        </p:nvSpPr>
        <p:spPr>
          <a:xfrm>
            <a:off x="8105760" y="3459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（</a:t>
            </a: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&gt;20W</a:t>
            </a: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47"/>
          <p:cNvSpPr/>
          <p:nvPr/>
        </p:nvSpPr>
        <p:spPr>
          <a:xfrm>
            <a:off x="10572840" y="11523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8"/>
          <p:cNvSpPr/>
          <p:nvPr/>
        </p:nvSpPr>
        <p:spPr>
          <a:xfrm>
            <a:off x="11531520" y="33814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49"/>
          <p:cNvSpPr/>
          <p:nvPr/>
        </p:nvSpPr>
        <p:spPr>
          <a:xfrm>
            <a:off x="10748880" y="55227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50"/>
          <p:cNvSpPr/>
          <p:nvPr/>
        </p:nvSpPr>
        <p:spPr>
          <a:xfrm>
            <a:off x="8461440" y="63388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51"/>
          <p:cNvSpPr/>
          <p:nvPr/>
        </p:nvSpPr>
        <p:spPr>
          <a:xfrm>
            <a:off x="6191280" y="55134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52"/>
          <p:cNvSpPr/>
          <p:nvPr/>
        </p:nvSpPr>
        <p:spPr>
          <a:xfrm>
            <a:off x="5278320" y="33433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53"/>
          <p:cNvSpPr/>
          <p:nvPr/>
        </p:nvSpPr>
        <p:spPr>
          <a:xfrm>
            <a:off x="6048360" y="129528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54"/>
          <p:cNvSpPr/>
          <p:nvPr/>
        </p:nvSpPr>
        <p:spPr>
          <a:xfrm>
            <a:off x="8542440" y="540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60"/>
          <p:cNvGrpSpPr/>
          <p:nvPr/>
        </p:nvGrpSpPr>
        <p:grpSpPr>
          <a:xfrm>
            <a:off x="444600" y="441360"/>
            <a:ext cx="569880" cy="847080"/>
            <a:chOff x="444600" y="441360"/>
            <a:chExt cx="569880" cy="847080"/>
          </a:xfrm>
        </p:grpSpPr>
        <p:sp>
          <p:nvSpPr>
            <p:cNvPr id="944" name="任意多边形 56"/>
            <p:cNvSpPr/>
            <p:nvPr/>
          </p:nvSpPr>
          <p:spPr>
            <a:xfrm rot="10800000">
              <a:off x="525240" y="441360"/>
              <a:ext cx="384840" cy="21528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1610916" h="900112">
                  <a:moveTo>
                    <a:pt x="1610916" y="900112"/>
                  </a:moveTo>
                  <a:lnTo>
                    <a:pt x="1340637" y="900112"/>
                  </a:lnTo>
                  <a:lnTo>
                    <a:pt x="1246694" y="414345"/>
                  </a:lnTo>
                  <a:lnTo>
                    <a:pt x="1152750" y="900112"/>
                  </a:lnTo>
                  <a:lnTo>
                    <a:pt x="879759" y="900112"/>
                  </a:lnTo>
                  <a:lnTo>
                    <a:pt x="785816" y="414345"/>
                  </a:lnTo>
                  <a:lnTo>
                    <a:pt x="691872" y="900112"/>
                  </a:lnTo>
                  <a:lnTo>
                    <a:pt x="426027" y="900112"/>
                  </a:lnTo>
                  <a:lnTo>
                    <a:pt x="332084" y="414345"/>
                  </a:lnTo>
                  <a:lnTo>
                    <a:pt x="238140" y="900112"/>
                  </a:lnTo>
                  <a:lnTo>
                    <a:pt x="0" y="900112"/>
                  </a:lnTo>
                  <a:lnTo>
                    <a:pt x="225028" y="0"/>
                  </a:lnTo>
                  <a:lnTo>
                    <a:pt x="1385888" y="0"/>
                  </a:lnTo>
                  <a:lnTo>
                    <a:pt x="1610916" y="900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圆角矩形 6"/>
            <p:cNvSpPr/>
            <p:nvPr/>
          </p:nvSpPr>
          <p:spPr>
            <a:xfrm>
              <a:off x="444600" y="707760"/>
              <a:ext cx="569880" cy="50940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2386012" h="3514541">
                  <a:moveTo>
                    <a:pt x="0" y="3202594"/>
                  </a:moveTo>
                  <a:lnTo>
                    <a:pt x="454159" y="14103"/>
                  </a:lnTo>
                  <a:lnTo>
                    <a:pt x="1884448" y="0"/>
                  </a:lnTo>
                  <a:cubicBezTo>
                    <a:pt x="1944376" y="588565"/>
                    <a:pt x="2300287" y="2133413"/>
                    <a:pt x="2386012" y="3202594"/>
                  </a:cubicBezTo>
                  <a:cubicBezTo>
                    <a:pt x="2386012" y="3374878"/>
                    <a:pt x="2246349" y="3514541"/>
                    <a:pt x="2074065" y="3514541"/>
                  </a:cubicBezTo>
                  <a:lnTo>
                    <a:pt x="311947" y="3514541"/>
                  </a:lnTo>
                  <a:cubicBezTo>
                    <a:pt x="139663" y="3514541"/>
                    <a:pt x="0" y="3374878"/>
                    <a:pt x="0" y="3202594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圆角矩形 58"/>
            <p:cNvSpPr/>
            <p:nvPr/>
          </p:nvSpPr>
          <p:spPr>
            <a:xfrm>
              <a:off x="505080" y="659880"/>
              <a:ext cx="42840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文本框 59"/>
            <p:cNvSpPr/>
            <p:nvPr/>
          </p:nvSpPr>
          <p:spPr>
            <a:xfrm>
              <a:off x="510120" y="645840"/>
              <a:ext cx="3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b1b5e"/>
                  </a:solidFill>
                  <a:latin typeface="Calibri"/>
                </a:rPr>
                <a:t>$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圆角矩形 1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椭圆 1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文本框 1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为年终奖达不到预期次年选择离职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组合 79"/>
          <p:cNvGrpSpPr/>
          <p:nvPr/>
        </p:nvGrpSpPr>
        <p:grpSpPr>
          <a:xfrm>
            <a:off x="1214280" y="3029040"/>
            <a:ext cx="2325960" cy="1639800"/>
            <a:chOff x="1214280" y="3029040"/>
            <a:chExt cx="2325960" cy="1639800"/>
          </a:xfrm>
        </p:grpSpPr>
        <p:sp>
          <p:nvSpPr>
            <p:cNvPr id="953" name="矩形 25"/>
            <p:cNvSpPr/>
            <p:nvPr/>
          </p:nvSpPr>
          <p:spPr>
            <a:xfrm>
              <a:off x="1214280" y="3029040"/>
              <a:ext cx="2325960" cy="2610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26"/>
            <p:cNvSpPr/>
            <p:nvPr/>
          </p:nvSpPr>
          <p:spPr>
            <a:xfrm>
              <a:off x="12762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27"/>
            <p:cNvSpPr/>
            <p:nvPr/>
          </p:nvSpPr>
          <p:spPr>
            <a:xfrm>
              <a:off x="173664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28"/>
            <p:cNvSpPr/>
            <p:nvPr/>
          </p:nvSpPr>
          <p:spPr>
            <a:xfrm>
              <a:off x="219672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29"/>
            <p:cNvSpPr/>
            <p:nvPr/>
          </p:nvSpPr>
          <p:spPr>
            <a:xfrm>
              <a:off x="265716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30"/>
            <p:cNvSpPr/>
            <p:nvPr/>
          </p:nvSpPr>
          <p:spPr>
            <a:xfrm>
              <a:off x="31176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31"/>
            <p:cNvSpPr/>
            <p:nvPr/>
          </p:nvSpPr>
          <p:spPr>
            <a:xfrm>
              <a:off x="12762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32"/>
            <p:cNvSpPr/>
            <p:nvPr/>
          </p:nvSpPr>
          <p:spPr>
            <a:xfrm>
              <a:off x="173664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33"/>
            <p:cNvSpPr/>
            <p:nvPr/>
          </p:nvSpPr>
          <p:spPr>
            <a:xfrm>
              <a:off x="219672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34"/>
            <p:cNvSpPr/>
            <p:nvPr/>
          </p:nvSpPr>
          <p:spPr>
            <a:xfrm>
              <a:off x="265716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35"/>
            <p:cNvSpPr/>
            <p:nvPr/>
          </p:nvSpPr>
          <p:spPr>
            <a:xfrm>
              <a:off x="31176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36"/>
            <p:cNvSpPr/>
            <p:nvPr/>
          </p:nvSpPr>
          <p:spPr>
            <a:xfrm>
              <a:off x="12762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37"/>
            <p:cNvSpPr/>
            <p:nvPr/>
          </p:nvSpPr>
          <p:spPr>
            <a:xfrm>
              <a:off x="173664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38"/>
            <p:cNvSpPr/>
            <p:nvPr/>
          </p:nvSpPr>
          <p:spPr>
            <a:xfrm>
              <a:off x="2196720" y="4310640"/>
              <a:ext cx="372960" cy="3582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39"/>
            <p:cNvSpPr/>
            <p:nvPr/>
          </p:nvSpPr>
          <p:spPr>
            <a:xfrm>
              <a:off x="265716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40"/>
            <p:cNvSpPr/>
            <p:nvPr/>
          </p:nvSpPr>
          <p:spPr>
            <a:xfrm>
              <a:off x="31176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矩形 41"/>
            <p:cNvSpPr/>
            <p:nvPr/>
          </p:nvSpPr>
          <p:spPr>
            <a:xfrm>
              <a:off x="1214280" y="3029040"/>
              <a:ext cx="2325960" cy="163980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组合 81"/>
          <p:cNvGrpSpPr/>
          <p:nvPr/>
        </p:nvGrpSpPr>
        <p:grpSpPr>
          <a:xfrm>
            <a:off x="8443800" y="3029040"/>
            <a:ext cx="2325960" cy="1614240"/>
            <a:chOff x="8443800" y="3029040"/>
            <a:chExt cx="2325960" cy="1614240"/>
          </a:xfrm>
        </p:grpSpPr>
        <p:sp>
          <p:nvSpPr>
            <p:cNvPr id="971" name="矩形 42"/>
            <p:cNvSpPr/>
            <p:nvPr/>
          </p:nvSpPr>
          <p:spPr>
            <a:xfrm>
              <a:off x="8443800" y="3029040"/>
              <a:ext cx="2325960" cy="261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43"/>
            <p:cNvSpPr/>
            <p:nvPr/>
          </p:nvSpPr>
          <p:spPr>
            <a:xfrm>
              <a:off x="85057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44"/>
            <p:cNvSpPr/>
            <p:nvPr/>
          </p:nvSpPr>
          <p:spPr>
            <a:xfrm>
              <a:off x="896616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矩形 45"/>
            <p:cNvSpPr/>
            <p:nvPr/>
          </p:nvSpPr>
          <p:spPr>
            <a:xfrm>
              <a:off x="942624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矩形 46"/>
            <p:cNvSpPr/>
            <p:nvPr/>
          </p:nvSpPr>
          <p:spPr>
            <a:xfrm>
              <a:off x="988668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矩形 47"/>
            <p:cNvSpPr/>
            <p:nvPr/>
          </p:nvSpPr>
          <p:spPr>
            <a:xfrm>
              <a:off x="103471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矩形 48"/>
            <p:cNvSpPr/>
            <p:nvPr/>
          </p:nvSpPr>
          <p:spPr>
            <a:xfrm>
              <a:off x="85057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49"/>
            <p:cNvSpPr/>
            <p:nvPr/>
          </p:nvSpPr>
          <p:spPr>
            <a:xfrm>
              <a:off x="896616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50"/>
            <p:cNvSpPr/>
            <p:nvPr/>
          </p:nvSpPr>
          <p:spPr>
            <a:xfrm>
              <a:off x="942624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1"/>
            <p:cNvSpPr/>
            <p:nvPr/>
          </p:nvSpPr>
          <p:spPr>
            <a:xfrm>
              <a:off x="988668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2"/>
            <p:cNvSpPr/>
            <p:nvPr/>
          </p:nvSpPr>
          <p:spPr>
            <a:xfrm>
              <a:off x="103471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3"/>
            <p:cNvSpPr/>
            <p:nvPr/>
          </p:nvSpPr>
          <p:spPr>
            <a:xfrm>
              <a:off x="85057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矩形 54"/>
            <p:cNvSpPr/>
            <p:nvPr/>
          </p:nvSpPr>
          <p:spPr>
            <a:xfrm>
              <a:off x="896616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55"/>
            <p:cNvSpPr/>
            <p:nvPr/>
          </p:nvSpPr>
          <p:spPr>
            <a:xfrm>
              <a:off x="9426240" y="4310280"/>
              <a:ext cx="372960" cy="333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矩形 56"/>
            <p:cNvSpPr/>
            <p:nvPr/>
          </p:nvSpPr>
          <p:spPr>
            <a:xfrm>
              <a:off x="988668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矩形 57"/>
            <p:cNvSpPr/>
            <p:nvPr/>
          </p:nvSpPr>
          <p:spPr>
            <a:xfrm>
              <a:off x="103471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矩形 58"/>
            <p:cNvSpPr/>
            <p:nvPr/>
          </p:nvSpPr>
          <p:spPr>
            <a:xfrm>
              <a:off x="8443800" y="3029040"/>
              <a:ext cx="232596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组合 80"/>
          <p:cNvGrpSpPr/>
          <p:nvPr/>
        </p:nvGrpSpPr>
        <p:grpSpPr>
          <a:xfrm>
            <a:off x="4829040" y="3029040"/>
            <a:ext cx="2327400" cy="1614240"/>
            <a:chOff x="4829040" y="3029040"/>
            <a:chExt cx="2327400" cy="1614240"/>
          </a:xfrm>
        </p:grpSpPr>
        <p:sp>
          <p:nvSpPr>
            <p:cNvPr id="989" name="矩形 59"/>
            <p:cNvSpPr/>
            <p:nvPr/>
          </p:nvSpPr>
          <p:spPr>
            <a:xfrm>
              <a:off x="4829040" y="3029040"/>
              <a:ext cx="2327400" cy="261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矩形 60"/>
            <p:cNvSpPr/>
            <p:nvPr/>
          </p:nvSpPr>
          <p:spPr>
            <a:xfrm>
              <a:off x="48909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矩形 61"/>
            <p:cNvSpPr/>
            <p:nvPr/>
          </p:nvSpPr>
          <p:spPr>
            <a:xfrm>
              <a:off x="53517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62"/>
            <p:cNvSpPr/>
            <p:nvPr/>
          </p:nvSpPr>
          <p:spPr>
            <a:xfrm>
              <a:off x="58122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63"/>
            <p:cNvSpPr/>
            <p:nvPr/>
          </p:nvSpPr>
          <p:spPr>
            <a:xfrm>
              <a:off x="62730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64"/>
            <p:cNvSpPr/>
            <p:nvPr/>
          </p:nvSpPr>
          <p:spPr>
            <a:xfrm>
              <a:off x="673344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矩形 65"/>
            <p:cNvSpPr/>
            <p:nvPr/>
          </p:nvSpPr>
          <p:spPr>
            <a:xfrm>
              <a:off x="48909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矩形 66"/>
            <p:cNvSpPr/>
            <p:nvPr/>
          </p:nvSpPr>
          <p:spPr>
            <a:xfrm>
              <a:off x="53517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矩形 67"/>
            <p:cNvSpPr/>
            <p:nvPr/>
          </p:nvSpPr>
          <p:spPr>
            <a:xfrm>
              <a:off x="58122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矩形 68"/>
            <p:cNvSpPr/>
            <p:nvPr/>
          </p:nvSpPr>
          <p:spPr>
            <a:xfrm>
              <a:off x="62730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矩形 69"/>
            <p:cNvSpPr/>
            <p:nvPr/>
          </p:nvSpPr>
          <p:spPr>
            <a:xfrm>
              <a:off x="673344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70"/>
            <p:cNvSpPr/>
            <p:nvPr/>
          </p:nvSpPr>
          <p:spPr>
            <a:xfrm>
              <a:off x="48909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矩形 71"/>
            <p:cNvSpPr/>
            <p:nvPr/>
          </p:nvSpPr>
          <p:spPr>
            <a:xfrm>
              <a:off x="53517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矩形 72"/>
            <p:cNvSpPr/>
            <p:nvPr/>
          </p:nvSpPr>
          <p:spPr>
            <a:xfrm>
              <a:off x="5812200" y="4310280"/>
              <a:ext cx="373320" cy="333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73"/>
            <p:cNvSpPr/>
            <p:nvPr/>
          </p:nvSpPr>
          <p:spPr>
            <a:xfrm>
              <a:off x="627300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矩形 74"/>
            <p:cNvSpPr/>
            <p:nvPr/>
          </p:nvSpPr>
          <p:spPr>
            <a:xfrm>
              <a:off x="673344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矩形 75"/>
            <p:cNvSpPr/>
            <p:nvPr/>
          </p:nvSpPr>
          <p:spPr>
            <a:xfrm>
              <a:off x="4829040" y="3029040"/>
              <a:ext cx="232740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圆角矩形标注 82"/>
          <p:cNvSpPr/>
          <p:nvPr/>
        </p:nvSpPr>
        <p:spPr>
          <a:xfrm rot="10800000">
            <a:off x="1356840" y="4978440"/>
            <a:ext cx="209412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83"/>
          <p:cNvSpPr/>
          <p:nvPr/>
        </p:nvSpPr>
        <p:spPr>
          <a:xfrm>
            <a:off x="1295280" y="5013360"/>
            <a:ext cx="20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啊，辛苦一年就看年终奖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圆角矩形标注 84"/>
          <p:cNvSpPr/>
          <p:nvPr/>
        </p:nvSpPr>
        <p:spPr>
          <a:xfrm rot="10800000">
            <a:off x="4995360" y="4916520"/>
            <a:ext cx="205596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5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85"/>
          <p:cNvSpPr/>
          <p:nvPr/>
        </p:nvSpPr>
        <p:spPr>
          <a:xfrm>
            <a:off x="4932360" y="4951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会综合考虑一下值不值得留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圆角矩形标注 86"/>
          <p:cNvSpPr/>
          <p:nvPr/>
        </p:nvSpPr>
        <p:spPr>
          <a:xfrm rot="10800000">
            <a:off x="8656200" y="4882680"/>
            <a:ext cx="1932120" cy="72396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5d0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87"/>
          <p:cNvSpPr/>
          <p:nvPr/>
        </p:nvSpPr>
        <p:spPr>
          <a:xfrm>
            <a:off x="8593200" y="49179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会，不要在意一时的得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88"/>
          <p:cNvSpPr/>
          <p:nvPr/>
        </p:nvSpPr>
        <p:spPr>
          <a:xfrm>
            <a:off x="1417680" y="220824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89"/>
          <p:cNvSpPr/>
          <p:nvPr/>
        </p:nvSpPr>
        <p:spPr>
          <a:xfrm>
            <a:off x="5018040" y="221940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文本框 90"/>
          <p:cNvSpPr/>
          <p:nvPr/>
        </p:nvSpPr>
        <p:spPr>
          <a:xfrm>
            <a:off x="8642520" y="2208240"/>
            <a:ext cx="20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.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94"/>
          <p:cNvGrpSpPr/>
          <p:nvPr/>
        </p:nvGrpSpPr>
        <p:grpSpPr>
          <a:xfrm>
            <a:off x="766800" y="3800520"/>
            <a:ext cx="360360" cy="868320"/>
            <a:chOff x="766800" y="3800520"/>
            <a:chExt cx="360360" cy="868320"/>
          </a:xfrm>
        </p:grpSpPr>
        <p:sp>
          <p:nvSpPr>
            <p:cNvPr id="1016" name="矩形 91"/>
            <p:cNvSpPr/>
            <p:nvPr/>
          </p:nvSpPr>
          <p:spPr>
            <a:xfrm>
              <a:off x="882000" y="4184640"/>
              <a:ext cx="12348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等腰三角形 92"/>
            <p:cNvSpPr/>
            <p:nvPr/>
          </p:nvSpPr>
          <p:spPr>
            <a:xfrm>
              <a:off x="766800" y="396648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等腰三角形 93"/>
            <p:cNvSpPr/>
            <p:nvPr/>
          </p:nvSpPr>
          <p:spPr>
            <a:xfrm>
              <a:off x="772920" y="380052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组合 95"/>
          <p:cNvGrpSpPr/>
          <p:nvPr/>
        </p:nvGrpSpPr>
        <p:grpSpPr>
          <a:xfrm>
            <a:off x="3537000" y="3959280"/>
            <a:ext cx="284040" cy="684000"/>
            <a:chOff x="3537000" y="3959280"/>
            <a:chExt cx="284040" cy="684000"/>
          </a:xfrm>
        </p:grpSpPr>
        <p:sp>
          <p:nvSpPr>
            <p:cNvPr id="1020" name="矩形 96"/>
            <p:cNvSpPr/>
            <p:nvPr/>
          </p:nvSpPr>
          <p:spPr>
            <a:xfrm>
              <a:off x="362772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等腰三角形 97"/>
            <p:cNvSpPr/>
            <p:nvPr/>
          </p:nvSpPr>
          <p:spPr>
            <a:xfrm>
              <a:off x="353700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等腰三角形 98"/>
            <p:cNvSpPr/>
            <p:nvPr/>
          </p:nvSpPr>
          <p:spPr>
            <a:xfrm>
              <a:off x="354204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组合 99"/>
          <p:cNvGrpSpPr/>
          <p:nvPr/>
        </p:nvGrpSpPr>
        <p:grpSpPr>
          <a:xfrm>
            <a:off x="4479840" y="3762360"/>
            <a:ext cx="362160" cy="868320"/>
            <a:chOff x="4479840" y="3762360"/>
            <a:chExt cx="362160" cy="868320"/>
          </a:xfrm>
        </p:grpSpPr>
        <p:sp>
          <p:nvSpPr>
            <p:cNvPr id="1024" name="矩形 100"/>
            <p:cNvSpPr/>
            <p:nvPr/>
          </p:nvSpPr>
          <p:spPr>
            <a:xfrm>
              <a:off x="4595400" y="41464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等腰三角形 101"/>
            <p:cNvSpPr/>
            <p:nvPr/>
          </p:nvSpPr>
          <p:spPr>
            <a:xfrm>
              <a:off x="4479840" y="39283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等腰三角形 102"/>
            <p:cNvSpPr/>
            <p:nvPr/>
          </p:nvSpPr>
          <p:spPr>
            <a:xfrm>
              <a:off x="4486320" y="37623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组合 103"/>
          <p:cNvGrpSpPr/>
          <p:nvPr/>
        </p:nvGrpSpPr>
        <p:grpSpPr>
          <a:xfrm>
            <a:off x="7182000" y="3933720"/>
            <a:ext cx="282600" cy="684360"/>
            <a:chOff x="7182000" y="3933720"/>
            <a:chExt cx="282600" cy="684360"/>
          </a:xfrm>
        </p:grpSpPr>
        <p:sp>
          <p:nvSpPr>
            <p:cNvPr id="1028" name="矩形 104"/>
            <p:cNvSpPr/>
            <p:nvPr/>
          </p:nvSpPr>
          <p:spPr>
            <a:xfrm>
              <a:off x="7272360" y="4236480"/>
              <a:ext cx="9684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等腰三角形 105"/>
            <p:cNvSpPr/>
            <p:nvPr/>
          </p:nvSpPr>
          <p:spPr>
            <a:xfrm>
              <a:off x="7182000" y="406440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等腰三角形 106"/>
            <p:cNvSpPr/>
            <p:nvPr/>
          </p:nvSpPr>
          <p:spPr>
            <a:xfrm>
              <a:off x="7187040" y="393372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组合 107"/>
          <p:cNvGrpSpPr/>
          <p:nvPr/>
        </p:nvGrpSpPr>
        <p:grpSpPr>
          <a:xfrm>
            <a:off x="8080200" y="3749760"/>
            <a:ext cx="362160" cy="868320"/>
            <a:chOff x="8080200" y="3749760"/>
            <a:chExt cx="362160" cy="868320"/>
          </a:xfrm>
        </p:grpSpPr>
        <p:sp>
          <p:nvSpPr>
            <p:cNvPr id="1032" name="矩形 108"/>
            <p:cNvSpPr/>
            <p:nvPr/>
          </p:nvSpPr>
          <p:spPr>
            <a:xfrm>
              <a:off x="8195760" y="41338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等腰三角形 109"/>
            <p:cNvSpPr/>
            <p:nvPr/>
          </p:nvSpPr>
          <p:spPr>
            <a:xfrm>
              <a:off x="8080200" y="39157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等腰三角形 110"/>
            <p:cNvSpPr/>
            <p:nvPr/>
          </p:nvSpPr>
          <p:spPr>
            <a:xfrm>
              <a:off x="8086680" y="37497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组合 111"/>
          <p:cNvGrpSpPr/>
          <p:nvPr/>
        </p:nvGrpSpPr>
        <p:grpSpPr>
          <a:xfrm>
            <a:off x="10817280" y="3959280"/>
            <a:ext cx="284040" cy="684000"/>
            <a:chOff x="10817280" y="3959280"/>
            <a:chExt cx="284040" cy="684000"/>
          </a:xfrm>
        </p:grpSpPr>
        <p:sp>
          <p:nvSpPr>
            <p:cNvPr id="1036" name="矩形 112"/>
            <p:cNvSpPr/>
            <p:nvPr/>
          </p:nvSpPr>
          <p:spPr>
            <a:xfrm>
              <a:off x="1090800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等腰三角形 113"/>
            <p:cNvSpPr/>
            <p:nvPr/>
          </p:nvSpPr>
          <p:spPr>
            <a:xfrm>
              <a:off x="1081728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等腰三角形 114"/>
            <p:cNvSpPr/>
            <p:nvPr/>
          </p:nvSpPr>
          <p:spPr>
            <a:xfrm>
              <a:off x="1082232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任意多边形 116"/>
          <p:cNvSpPr/>
          <p:nvPr/>
        </p:nvSpPr>
        <p:spPr>
          <a:xfrm>
            <a:off x="2867040" y="2921040"/>
            <a:ext cx="1112760" cy="1012680"/>
          </a:xfrm>
          <a:custGeom>
            <a:avLst/>
            <a:gdLst>
              <a:gd name="textAreaLeft" fmla="*/ 0 w 1112760"/>
              <a:gd name="textAreaRight" fmla="*/ 1113120 w 111276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771650" h="1614487">
                <a:moveTo>
                  <a:pt x="0" y="1614487"/>
                </a:moveTo>
                <a:lnTo>
                  <a:pt x="0" y="1614487"/>
                </a:lnTo>
                <a:lnTo>
                  <a:pt x="171450" y="1457325"/>
                </a:lnTo>
                <a:lnTo>
                  <a:pt x="1457325" y="485775"/>
                </a:lnTo>
                <a:lnTo>
                  <a:pt x="1528762" y="471487"/>
                </a:lnTo>
                <a:lnTo>
                  <a:pt x="1571625" y="500062"/>
                </a:lnTo>
                <a:lnTo>
                  <a:pt x="1614487" y="642937"/>
                </a:lnTo>
                <a:lnTo>
                  <a:pt x="1614487" y="785812"/>
                </a:lnTo>
                <a:lnTo>
                  <a:pt x="1771650" y="0"/>
                </a:lnTo>
                <a:lnTo>
                  <a:pt x="600075" y="128587"/>
                </a:lnTo>
                <a:lnTo>
                  <a:pt x="1000125" y="142875"/>
                </a:lnTo>
                <a:lnTo>
                  <a:pt x="1100137" y="171450"/>
                </a:lnTo>
                <a:lnTo>
                  <a:pt x="1028700" y="285750"/>
                </a:lnTo>
                <a:lnTo>
                  <a:pt x="0" y="1614487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117"/>
          <p:cNvSpPr/>
          <p:nvPr/>
        </p:nvSpPr>
        <p:spPr>
          <a:xfrm rot="19798800">
            <a:off x="4563360" y="261288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118"/>
          <p:cNvSpPr/>
          <p:nvPr/>
        </p:nvSpPr>
        <p:spPr>
          <a:xfrm rot="645600">
            <a:off x="7053120" y="290484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心形 119"/>
          <p:cNvSpPr/>
          <p:nvPr/>
        </p:nvSpPr>
        <p:spPr>
          <a:xfrm rot="1508400">
            <a:off x="10509120" y="2785680"/>
            <a:ext cx="330480" cy="541440"/>
          </a:xfrm>
          <a:custGeom>
            <a:avLst/>
            <a:gdLst>
              <a:gd name="textAreaLeft" fmla="*/ 77040 w 330480"/>
              <a:gd name="textAreaRight" fmla="*/ 253440 w 330480"/>
              <a:gd name="textAreaTop" fmla="*/ 56880 h 541440"/>
              <a:gd name="textAreaBottom" fmla="*/ 342720 h 54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心形 120"/>
          <p:cNvSpPr/>
          <p:nvPr/>
        </p:nvSpPr>
        <p:spPr>
          <a:xfrm>
            <a:off x="10277640" y="3533760"/>
            <a:ext cx="183960" cy="304920"/>
          </a:xfrm>
          <a:custGeom>
            <a:avLst/>
            <a:gdLst>
              <a:gd name="textAreaLeft" fmla="*/ 42840 w 183960"/>
              <a:gd name="textAreaRight" fmla="*/ 141120 w 183960"/>
              <a:gd name="textAreaTop" fmla="*/ 32040 h 304920"/>
              <a:gd name="textAreaBottom" fmla="*/ 192960 h 304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组合 121"/>
          <p:cNvGrpSpPr/>
          <p:nvPr/>
        </p:nvGrpSpPr>
        <p:grpSpPr>
          <a:xfrm>
            <a:off x="469800" y="339840"/>
            <a:ext cx="622440" cy="863640"/>
            <a:chOff x="469800" y="339840"/>
            <a:chExt cx="622440" cy="863640"/>
          </a:xfrm>
        </p:grpSpPr>
        <p:sp>
          <p:nvSpPr>
            <p:cNvPr id="1045" name="任意多边形 122"/>
            <p:cNvSpPr/>
            <p:nvPr/>
          </p:nvSpPr>
          <p:spPr>
            <a:xfrm>
              <a:off x="469800" y="920160"/>
              <a:ext cx="622440" cy="28332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2293257" h="1045028">
                  <a:moveTo>
                    <a:pt x="1582057" y="493485"/>
                  </a:moveTo>
                  <a:lnTo>
                    <a:pt x="1973943" y="261257"/>
                  </a:lnTo>
                  <a:lnTo>
                    <a:pt x="2191657" y="319314"/>
                  </a:lnTo>
                  <a:lnTo>
                    <a:pt x="2293257" y="0"/>
                  </a:lnTo>
                  <a:lnTo>
                    <a:pt x="1669143" y="14514"/>
                  </a:lnTo>
                  <a:lnTo>
                    <a:pt x="1785257" y="130628"/>
                  </a:lnTo>
                  <a:lnTo>
                    <a:pt x="1451428" y="275771"/>
                  </a:lnTo>
                  <a:lnTo>
                    <a:pt x="1349828" y="406400"/>
                  </a:lnTo>
                  <a:lnTo>
                    <a:pt x="986971" y="362857"/>
                  </a:lnTo>
                  <a:lnTo>
                    <a:pt x="595086" y="130628"/>
                  </a:lnTo>
                  <a:lnTo>
                    <a:pt x="682171" y="58057"/>
                  </a:lnTo>
                  <a:lnTo>
                    <a:pt x="58057" y="0"/>
                  </a:lnTo>
                  <a:lnTo>
                    <a:pt x="116114" y="275771"/>
                  </a:lnTo>
                  <a:lnTo>
                    <a:pt x="333828" y="217714"/>
                  </a:lnTo>
                  <a:lnTo>
                    <a:pt x="725714" y="420914"/>
                  </a:lnTo>
                  <a:lnTo>
                    <a:pt x="798286" y="493485"/>
                  </a:lnTo>
                  <a:lnTo>
                    <a:pt x="333828" y="754743"/>
                  </a:lnTo>
                  <a:lnTo>
                    <a:pt x="130628" y="725714"/>
                  </a:lnTo>
                  <a:lnTo>
                    <a:pt x="0" y="1045028"/>
                  </a:lnTo>
                  <a:lnTo>
                    <a:pt x="682171" y="986971"/>
                  </a:lnTo>
                  <a:lnTo>
                    <a:pt x="551543" y="914400"/>
                  </a:lnTo>
                  <a:lnTo>
                    <a:pt x="885371" y="725714"/>
                  </a:lnTo>
                  <a:lnTo>
                    <a:pt x="1364343" y="711200"/>
                  </a:lnTo>
                  <a:lnTo>
                    <a:pt x="1727200" y="870857"/>
                  </a:lnTo>
                  <a:lnTo>
                    <a:pt x="1582057" y="986971"/>
                  </a:lnTo>
                  <a:lnTo>
                    <a:pt x="2278743" y="1001485"/>
                  </a:lnTo>
                  <a:lnTo>
                    <a:pt x="2191657" y="696685"/>
                  </a:lnTo>
                  <a:lnTo>
                    <a:pt x="2046514" y="783771"/>
                  </a:lnTo>
                  <a:lnTo>
                    <a:pt x="1582057" y="4934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123"/>
            <p:cNvSpPr/>
            <p:nvPr/>
          </p:nvSpPr>
          <p:spPr>
            <a:xfrm>
              <a:off x="660600" y="981000"/>
              <a:ext cx="248040" cy="16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组合 124"/>
            <p:cNvGrpSpPr/>
            <p:nvPr/>
          </p:nvGrpSpPr>
          <p:grpSpPr>
            <a:xfrm>
              <a:off x="609120" y="339840"/>
              <a:ext cx="350640" cy="702360"/>
              <a:chOff x="609120" y="339840"/>
              <a:chExt cx="350640" cy="702360"/>
            </a:xfrm>
          </p:grpSpPr>
          <p:sp>
            <p:nvSpPr>
              <p:cNvPr id="1048" name="任意多边形 125"/>
              <p:cNvSpPr/>
              <p:nvPr/>
            </p:nvSpPr>
            <p:spPr>
              <a:xfrm>
                <a:off x="687240" y="528840"/>
                <a:ext cx="194040" cy="51336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513360"/>
                  <a:gd name="textAreaBottom" fmla="*/ 513720 h 513360"/>
                </a:gdLst>
                <a:ahLst/>
                <a:rect l="textAreaLeft" t="textAreaTop" r="textAreaRight" b="textAreaBottom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圆角矩形 126"/>
              <p:cNvSpPr/>
              <p:nvPr/>
            </p:nvSpPr>
            <p:spPr>
              <a:xfrm>
                <a:off x="609120" y="5364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椭圆 127"/>
              <p:cNvSpPr/>
              <p:nvPr/>
            </p:nvSpPr>
            <p:spPr>
              <a:xfrm>
                <a:off x="702000" y="339840"/>
                <a:ext cx="164880" cy="16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圆角矩形 128"/>
              <p:cNvSpPr/>
              <p:nvPr/>
            </p:nvSpPr>
            <p:spPr>
              <a:xfrm>
                <a:off x="898200" y="5292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2" name="矩形 1"/>
          <p:cNvSpPr/>
          <p:nvPr/>
        </p:nvSpPr>
        <p:spPr>
          <a:xfrm>
            <a:off x="209520" y="6111720"/>
            <a:ext cx="609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哎呀小小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800sucai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微信号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yaxxc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关注后资料永久免费更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1" descr=""/>
          <p:cNvPicPr/>
          <p:nvPr/>
        </p:nvPicPr>
        <p:blipFill>
          <a:blip r:embed="rId1"/>
          <a:srcRect l="11793" t="26255" r="9118" b="0"/>
          <a:stretch/>
        </p:blipFill>
        <p:spPr>
          <a:xfrm>
            <a:off x="9194760" y="4021200"/>
            <a:ext cx="2629080" cy="2247840"/>
          </a:xfrm>
          <a:prstGeom prst="rect">
            <a:avLst/>
          </a:prstGeom>
          <a:ln w="0">
            <a:noFill/>
          </a:ln>
        </p:spPr>
      </p:pic>
      <p:grpSp>
        <p:nvGrpSpPr>
          <p:cNvPr id="1054" name="组合 21"/>
          <p:cNvGrpSpPr/>
          <p:nvPr/>
        </p:nvGrpSpPr>
        <p:grpSpPr>
          <a:xfrm>
            <a:off x="4186080" y="1441440"/>
            <a:ext cx="868680" cy="868320"/>
            <a:chOff x="4186080" y="1441440"/>
            <a:chExt cx="868680" cy="868320"/>
          </a:xfrm>
        </p:grpSpPr>
        <p:sp>
          <p:nvSpPr>
            <p:cNvPr id="1055" name="椭圆 19"/>
            <p:cNvSpPr/>
            <p:nvPr/>
          </p:nvSpPr>
          <p:spPr>
            <a:xfrm>
              <a:off x="4186080" y="14414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6" name="图片 2" descr=""/>
            <p:cNvPicPr/>
            <p:nvPr/>
          </p:nvPicPr>
          <p:blipFill>
            <a:blip r:embed="rId2"/>
            <a:srcRect l="28062" t="62413" r="42534" b="22777"/>
            <a:stretch/>
          </p:blipFill>
          <p:spPr>
            <a:xfrm>
              <a:off x="4290480" y="1661760"/>
              <a:ext cx="6462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7" name="组合 29"/>
          <p:cNvGrpSpPr/>
          <p:nvPr/>
        </p:nvGrpSpPr>
        <p:grpSpPr>
          <a:xfrm>
            <a:off x="4186080" y="5388120"/>
            <a:ext cx="868680" cy="869760"/>
            <a:chOff x="4186080" y="5388120"/>
            <a:chExt cx="868680" cy="869760"/>
          </a:xfrm>
        </p:grpSpPr>
        <p:sp>
          <p:nvSpPr>
            <p:cNvPr id="1058" name="椭圆 20"/>
            <p:cNvSpPr/>
            <p:nvPr/>
          </p:nvSpPr>
          <p:spPr>
            <a:xfrm>
              <a:off x="4186080" y="5388120"/>
              <a:ext cx="868680" cy="86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9" name="图片 3" descr=""/>
            <p:cNvPicPr/>
            <p:nvPr/>
          </p:nvPicPr>
          <p:blipFill>
            <a:blip r:embed="rId3"/>
            <a:srcRect l="46137" t="29071" r="37008" b="44822"/>
            <a:stretch/>
          </p:blipFill>
          <p:spPr>
            <a:xfrm>
              <a:off x="4370400" y="5475600"/>
              <a:ext cx="468000" cy="68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组合 26"/>
          <p:cNvGrpSpPr/>
          <p:nvPr/>
        </p:nvGrpSpPr>
        <p:grpSpPr>
          <a:xfrm>
            <a:off x="4186080" y="2463840"/>
            <a:ext cx="868680" cy="868320"/>
            <a:chOff x="4186080" y="2463840"/>
            <a:chExt cx="868680" cy="868320"/>
          </a:xfrm>
        </p:grpSpPr>
        <p:sp>
          <p:nvSpPr>
            <p:cNvPr id="1061" name="椭圆 22"/>
            <p:cNvSpPr/>
            <p:nvPr/>
          </p:nvSpPr>
          <p:spPr>
            <a:xfrm>
              <a:off x="4186080" y="24638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2" name="图片 4" descr=""/>
            <p:cNvPicPr/>
            <p:nvPr/>
          </p:nvPicPr>
          <p:blipFill>
            <a:blip r:embed="rId4"/>
            <a:srcRect l="28867" t="56" r="0" b="0"/>
            <a:stretch/>
          </p:blipFill>
          <p:spPr>
            <a:xfrm>
              <a:off x="4395600" y="2554560"/>
              <a:ext cx="470520" cy="64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3" name="组合 28"/>
          <p:cNvGrpSpPr/>
          <p:nvPr/>
        </p:nvGrpSpPr>
        <p:grpSpPr>
          <a:xfrm>
            <a:off x="4186080" y="4411800"/>
            <a:ext cx="868680" cy="868320"/>
            <a:chOff x="4186080" y="4411800"/>
            <a:chExt cx="868680" cy="868320"/>
          </a:xfrm>
        </p:grpSpPr>
        <p:sp>
          <p:nvSpPr>
            <p:cNvPr id="1064" name="椭圆 25"/>
            <p:cNvSpPr/>
            <p:nvPr/>
          </p:nvSpPr>
          <p:spPr>
            <a:xfrm>
              <a:off x="4186080" y="441180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5" name="图片 5" descr=""/>
            <p:cNvPicPr/>
            <p:nvPr/>
          </p:nvPicPr>
          <p:blipFill>
            <a:blip r:embed="rId5"/>
            <a:stretch/>
          </p:blipFill>
          <p:spPr>
            <a:xfrm>
              <a:off x="4367160" y="4609080"/>
              <a:ext cx="537480" cy="5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6" name="圆角矩形 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椭圆 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和同事、朋友等披露年终奖数字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组合 27"/>
          <p:cNvGrpSpPr/>
          <p:nvPr/>
        </p:nvGrpSpPr>
        <p:grpSpPr>
          <a:xfrm>
            <a:off x="4186080" y="3435480"/>
            <a:ext cx="868680" cy="868320"/>
            <a:chOff x="4186080" y="3435480"/>
            <a:chExt cx="868680" cy="868320"/>
          </a:xfrm>
        </p:grpSpPr>
        <p:sp>
          <p:nvSpPr>
            <p:cNvPr id="1070" name="椭圆 24"/>
            <p:cNvSpPr/>
            <p:nvPr/>
          </p:nvSpPr>
          <p:spPr>
            <a:xfrm>
              <a:off x="4186080" y="343548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1" name="图片 18" descr=""/>
            <p:cNvPicPr/>
            <p:nvPr/>
          </p:nvPicPr>
          <p:blipFill>
            <a:blip r:embed="rId6"/>
            <a:srcRect l="8341" t="552" r="76394" b="73158"/>
            <a:stretch/>
          </p:blipFill>
          <p:spPr>
            <a:xfrm>
              <a:off x="4420440" y="3543480"/>
              <a:ext cx="39960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2" name="矩形 30"/>
          <p:cNvSpPr/>
          <p:nvPr/>
        </p:nvSpPr>
        <p:spPr>
          <a:xfrm>
            <a:off x="5295960" y="1623960"/>
            <a:ext cx="4432320" cy="547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31"/>
          <p:cNvSpPr/>
          <p:nvPr/>
        </p:nvSpPr>
        <p:spPr>
          <a:xfrm>
            <a:off x="5295960" y="2622600"/>
            <a:ext cx="3898800" cy="54756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32"/>
          <p:cNvSpPr/>
          <p:nvPr/>
        </p:nvSpPr>
        <p:spPr>
          <a:xfrm>
            <a:off x="5289480" y="3595680"/>
            <a:ext cx="946080" cy="54756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33"/>
          <p:cNvSpPr/>
          <p:nvPr/>
        </p:nvSpPr>
        <p:spPr>
          <a:xfrm>
            <a:off x="5289480" y="4568760"/>
            <a:ext cx="1695600" cy="547920"/>
          </a:xfrm>
          <a:prstGeom prst="rect">
            <a:avLst/>
          </a:prstGeom>
          <a:solidFill>
            <a:srgbClr val="e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34"/>
          <p:cNvSpPr/>
          <p:nvPr/>
        </p:nvSpPr>
        <p:spPr>
          <a:xfrm>
            <a:off x="5289480" y="5546880"/>
            <a:ext cx="2076480" cy="54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35"/>
          <p:cNvSpPr/>
          <p:nvPr/>
        </p:nvSpPr>
        <p:spPr>
          <a:xfrm>
            <a:off x="8477280" y="16128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36"/>
          <p:cNvSpPr/>
          <p:nvPr/>
        </p:nvSpPr>
        <p:spPr>
          <a:xfrm>
            <a:off x="7943760" y="26384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.7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37"/>
          <p:cNvSpPr/>
          <p:nvPr/>
        </p:nvSpPr>
        <p:spPr>
          <a:xfrm>
            <a:off x="5369040" y="3578400"/>
            <a:ext cx="9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38"/>
          <p:cNvSpPr/>
          <p:nvPr/>
        </p:nvSpPr>
        <p:spPr>
          <a:xfrm>
            <a:off x="5848200" y="45864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39"/>
          <p:cNvSpPr/>
          <p:nvPr/>
        </p:nvSpPr>
        <p:spPr>
          <a:xfrm>
            <a:off x="6213600" y="55436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40"/>
          <p:cNvSpPr/>
          <p:nvPr/>
        </p:nvSpPr>
        <p:spPr>
          <a:xfrm>
            <a:off x="581040" y="16239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会，这是个人隐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41"/>
          <p:cNvSpPr/>
          <p:nvPr/>
        </p:nvSpPr>
        <p:spPr>
          <a:xfrm>
            <a:off x="581040" y="262728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心的人可以披露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42"/>
          <p:cNvSpPr/>
          <p:nvPr/>
        </p:nvSpPr>
        <p:spPr>
          <a:xfrm>
            <a:off x="596880" y="343548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人先跟我说的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也会说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43"/>
          <p:cNvSpPr/>
          <p:nvPr/>
        </p:nvSpPr>
        <p:spPr>
          <a:xfrm>
            <a:off x="581040" y="465444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私下大方讨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44"/>
          <p:cNvSpPr/>
          <p:nvPr/>
        </p:nvSpPr>
        <p:spPr>
          <a:xfrm>
            <a:off x="581040" y="55911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很透明，拿多少都是公开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组合 56"/>
          <p:cNvGrpSpPr/>
          <p:nvPr/>
        </p:nvGrpSpPr>
        <p:grpSpPr>
          <a:xfrm>
            <a:off x="304920" y="495360"/>
            <a:ext cx="981000" cy="638280"/>
            <a:chOff x="304920" y="495360"/>
            <a:chExt cx="981000" cy="638280"/>
          </a:xfrm>
        </p:grpSpPr>
        <p:grpSp>
          <p:nvGrpSpPr>
            <p:cNvPr id="1088" name="组合 57"/>
            <p:cNvGrpSpPr/>
            <p:nvPr/>
          </p:nvGrpSpPr>
          <p:grpSpPr>
            <a:xfrm>
              <a:off x="1109880" y="640800"/>
              <a:ext cx="176040" cy="353520"/>
              <a:chOff x="1109880" y="640800"/>
              <a:chExt cx="176040" cy="353520"/>
            </a:xfrm>
          </p:grpSpPr>
          <p:sp>
            <p:nvSpPr>
              <p:cNvPr id="1089" name="任意多边形 78"/>
              <p:cNvSpPr/>
              <p:nvPr/>
            </p:nvSpPr>
            <p:spPr>
              <a:xfrm>
                <a:off x="1149120" y="735840"/>
                <a:ext cx="97560" cy="25848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圆角矩形 79"/>
              <p:cNvSpPr/>
              <p:nvPr/>
            </p:nvSpPr>
            <p:spPr>
              <a:xfrm>
                <a:off x="110988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椭圆 80"/>
              <p:cNvSpPr/>
              <p:nvPr/>
            </p:nvSpPr>
            <p:spPr>
              <a:xfrm>
                <a:off x="115632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圆角矩形 81"/>
              <p:cNvSpPr/>
              <p:nvPr/>
            </p:nvSpPr>
            <p:spPr>
              <a:xfrm>
                <a:off x="125496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3" name="组合 58"/>
            <p:cNvGrpSpPr/>
            <p:nvPr/>
          </p:nvGrpSpPr>
          <p:grpSpPr>
            <a:xfrm>
              <a:off x="304920" y="640800"/>
              <a:ext cx="176040" cy="353520"/>
              <a:chOff x="304920" y="640800"/>
              <a:chExt cx="176040" cy="353520"/>
            </a:xfrm>
          </p:grpSpPr>
          <p:sp>
            <p:nvSpPr>
              <p:cNvPr id="1094" name="任意多边形 74"/>
              <p:cNvSpPr/>
              <p:nvPr/>
            </p:nvSpPr>
            <p:spPr>
              <a:xfrm>
                <a:off x="344160" y="735840"/>
                <a:ext cx="97560" cy="25848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圆角矩形 75"/>
              <p:cNvSpPr/>
              <p:nvPr/>
            </p:nvSpPr>
            <p:spPr>
              <a:xfrm>
                <a:off x="30492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椭圆 76"/>
              <p:cNvSpPr/>
              <p:nvPr/>
            </p:nvSpPr>
            <p:spPr>
              <a:xfrm>
                <a:off x="35136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圆角矩形 77"/>
              <p:cNvSpPr/>
              <p:nvPr/>
            </p:nvSpPr>
            <p:spPr>
              <a:xfrm>
                <a:off x="45000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组合 59"/>
            <p:cNvGrpSpPr/>
            <p:nvPr/>
          </p:nvGrpSpPr>
          <p:grpSpPr>
            <a:xfrm>
              <a:off x="454320" y="597240"/>
              <a:ext cx="222840" cy="446400"/>
              <a:chOff x="454320" y="597240"/>
              <a:chExt cx="222840" cy="446400"/>
            </a:xfrm>
          </p:grpSpPr>
          <p:sp>
            <p:nvSpPr>
              <p:cNvPr id="1099" name="任意多边形 70"/>
              <p:cNvSpPr/>
              <p:nvPr/>
            </p:nvSpPr>
            <p:spPr>
              <a:xfrm>
                <a:off x="504000" y="717480"/>
                <a:ext cx="123120" cy="32616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圆角矩形 71"/>
              <p:cNvSpPr/>
              <p:nvPr/>
            </p:nvSpPr>
            <p:spPr>
              <a:xfrm>
                <a:off x="45432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椭圆 72"/>
              <p:cNvSpPr/>
              <p:nvPr/>
            </p:nvSpPr>
            <p:spPr>
              <a:xfrm>
                <a:off x="51336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圆角矩形 73"/>
              <p:cNvSpPr/>
              <p:nvPr/>
            </p:nvSpPr>
            <p:spPr>
              <a:xfrm>
                <a:off x="63828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组合 60"/>
            <p:cNvGrpSpPr/>
            <p:nvPr/>
          </p:nvGrpSpPr>
          <p:grpSpPr>
            <a:xfrm>
              <a:off x="911880" y="597240"/>
              <a:ext cx="222840" cy="446400"/>
              <a:chOff x="911880" y="597240"/>
              <a:chExt cx="222840" cy="446400"/>
            </a:xfrm>
          </p:grpSpPr>
          <p:sp>
            <p:nvSpPr>
              <p:cNvPr id="1104" name="任意多边形 66"/>
              <p:cNvSpPr/>
              <p:nvPr/>
            </p:nvSpPr>
            <p:spPr>
              <a:xfrm>
                <a:off x="961560" y="717480"/>
                <a:ext cx="123120" cy="32616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圆角矩形 67"/>
              <p:cNvSpPr/>
              <p:nvPr/>
            </p:nvSpPr>
            <p:spPr>
              <a:xfrm>
                <a:off x="91188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椭圆 68"/>
              <p:cNvSpPr/>
              <p:nvPr/>
            </p:nvSpPr>
            <p:spPr>
              <a:xfrm>
                <a:off x="97092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圆角矩形 69"/>
              <p:cNvSpPr/>
              <p:nvPr/>
            </p:nvSpPr>
            <p:spPr>
              <a:xfrm>
                <a:off x="109584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组合 61"/>
            <p:cNvGrpSpPr/>
            <p:nvPr/>
          </p:nvGrpSpPr>
          <p:grpSpPr>
            <a:xfrm>
              <a:off x="633960" y="495360"/>
              <a:ext cx="318600" cy="638280"/>
              <a:chOff x="633960" y="495360"/>
              <a:chExt cx="318600" cy="638280"/>
            </a:xfrm>
          </p:grpSpPr>
          <p:sp>
            <p:nvSpPr>
              <p:cNvPr id="1109" name="任意多边形 62"/>
              <p:cNvSpPr/>
              <p:nvPr/>
            </p:nvSpPr>
            <p:spPr>
              <a:xfrm>
                <a:off x="704880" y="667080"/>
                <a:ext cx="176400" cy="46656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圆角矩形 63"/>
              <p:cNvSpPr/>
              <p:nvPr/>
            </p:nvSpPr>
            <p:spPr>
              <a:xfrm>
                <a:off x="633960" y="67392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椭圆 64"/>
              <p:cNvSpPr/>
              <p:nvPr/>
            </p:nvSpPr>
            <p:spPr>
              <a:xfrm>
                <a:off x="718200" y="495360"/>
                <a:ext cx="149760" cy="14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圆角矩形 65"/>
              <p:cNvSpPr/>
              <p:nvPr/>
            </p:nvSpPr>
            <p:spPr>
              <a:xfrm>
                <a:off x="896760" y="66744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组合 372"/>
          <p:cNvGrpSpPr/>
          <p:nvPr/>
        </p:nvGrpSpPr>
        <p:grpSpPr>
          <a:xfrm>
            <a:off x="923760" y="1292400"/>
            <a:ext cx="10474560" cy="5422680"/>
            <a:chOff x="923760" y="1292400"/>
            <a:chExt cx="10474560" cy="5422680"/>
          </a:xfrm>
        </p:grpSpPr>
        <p:sp>
          <p:nvSpPr>
            <p:cNvPr id="1114" name="矩形 363"/>
            <p:cNvSpPr/>
            <p:nvPr/>
          </p:nvSpPr>
          <p:spPr>
            <a:xfrm>
              <a:off x="923760" y="12942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364"/>
            <p:cNvSpPr/>
            <p:nvPr/>
          </p:nvSpPr>
          <p:spPr>
            <a:xfrm>
              <a:off x="4420440" y="129240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365"/>
            <p:cNvSpPr/>
            <p:nvPr/>
          </p:nvSpPr>
          <p:spPr>
            <a:xfrm>
              <a:off x="7913520" y="129420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366"/>
            <p:cNvSpPr/>
            <p:nvPr/>
          </p:nvSpPr>
          <p:spPr>
            <a:xfrm>
              <a:off x="923760" y="310860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367"/>
            <p:cNvSpPr/>
            <p:nvPr/>
          </p:nvSpPr>
          <p:spPr>
            <a:xfrm>
              <a:off x="4420440" y="3106800"/>
              <a:ext cx="3484800" cy="180396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368"/>
            <p:cNvSpPr/>
            <p:nvPr/>
          </p:nvSpPr>
          <p:spPr>
            <a:xfrm>
              <a:off x="7913520" y="31086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369"/>
            <p:cNvSpPr/>
            <p:nvPr/>
          </p:nvSpPr>
          <p:spPr>
            <a:xfrm>
              <a:off x="923760" y="491112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矩形 370"/>
            <p:cNvSpPr/>
            <p:nvPr/>
          </p:nvSpPr>
          <p:spPr>
            <a:xfrm>
              <a:off x="4420440" y="490932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矩形 371"/>
            <p:cNvSpPr/>
            <p:nvPr/>
          </p:nvSpPr>
          <p:spPr>
            <a:xfrm>
              <a:off x="7913520" y="491112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圆角矩形 28"/>
          <p:cNvSpPr/>
          <p:nvPr/>
        </p:nvSpPr>
        <p:spPr>
          <a:xfrm>
            <a:off x="584280" y="341280"/>
            <a:ext cx="62974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椭圆 29"/>
          <p:cNvSpPr/>
          <p:nvPr/>
        </p:nvSpPr>
        <p:spPr>
          <a:xfrm>
            <a:off x="101520" y="166680"/>
            <a:ext cx="115596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30"/>
          <p:cNvSpPr/>
          <p:nvPr/>
        </p:nvSpPr>
        <p:spPr>
          <a:xfrm>
            <a:off x="1317600" y="466560"/>
            <a:ext cx="55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福州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楼土豪预期的年终奖有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组合 81"/>
          <p:cNvGrpSpPr/>
          <p:nvPr/>
        </p:nvGrpSpPr>
        <p:grpSpPr>
          <a:xfrm>
            <a:off x="1182600" y="1514520"/>
            <a:ext cx="1067040" cy="1150920"/>
            <a:chOff x="1182600" y="1514520"/>
            <a:chExt cx="1067040" cy="1150920"/>
          </a:xfrm>
        </p:grpSpPr>
        <p:sp>
          <p:nvSpPr>
            <p:cNvPr id="1127" name="矩形 58"/>
            <p:cNvSpPr/>
            <p:nvPr/>
          </p:nvSpPr>
          <p:spPr>
            <a:xfrm>
              <a:off x="1182600" y="1971360"/>
              <a:ext cx="716040" cy="67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8" name="组合 80"/>
            <p:cNvGrpSpPr/>
            <p:nvPr/>
          </p:nvGrpSpPr>
          <p:grpSpPr>
            <a:xfrm>
              <a:off x="1540080" y="1514520"/>
              <a:ext cx="626040" cy="825840"/>
              <a:chOff x="1540080" y="1514520"/>
              <a:chExt cx="626040" cy="825840"/>
            </a:xfrm>
          </p:grpSpPr>
          <p:sp>
            <p:nvSpPr>
              <p:cNvPr id="1129" name="圆角矩形 59"/>
              <p:cNvSpPr/>
              <p:nvPr/>
            </p:nvSpPr>
            <p:spPr>
              <a:xfrm>
                <a:off x="1928160" y="1754640"/>
                <a:ext cx="237960" cy="585720"/>
              </a:xfrm>
              <a:custGeom>
                <a:avLst/>
                <a:gdLst>
                  <a:gd name="textAreaLeft" fmla="*/ 27720 w 237960"/>
                  <a:gd name="textAreaRight" fmla="*/ 210240 w 237960"/>
                  <a:gd name="textAreaTop" fmla="*/ 27720 h 585720"/>
                  <a:gd name="textAreaBottom" fmla="*/ 558000 h 585720"/>
                </a:gdLst>
                <a:ahLst/>
                <a:rect l="textAreaLeft" t="textAreaTop" r="textAreaRight" b="textAreaBottom"/>
                <a:pathLst>
                  <a:path w="21600" h="53119">
                    <a:moveTo>
                      <a:pt x="8603" y="0"/>
                    </a:moveTo>
                    <a:arcTo wR="8603" hR="8603" stAng="16200000" swAng="-5400000"/>
                    <a:lnTo>
                      <a:pt x="0" y="44516"/>
                    </a:lnTo>
                    <a:arcTo wR="8603" hR="8603" stAng="10800000" swAng="-5400000"/>
                    <a:lnTo>
                      <a:pt x="12997" y="53119"/>
                    </a:lnTo>
                    <a:arcTo wR="8603" hR="8603" stAng="5400000" swAng="-5400000"/>
                    <a:lnTo>
                      <a:pt x="21600" y="8603"/>
                    </a:lnTo>
                    <a:arcTo wR="8603" hR="8603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圆角矩形 60"/>
              <p:cNvSpPr/>
              <p:nvPr/>
            </p:nvSpPr>
            <p:spPr>
              <a:xfrm>
                <a:off x="1681920" y="2194200"/>
                <a:ext cx="439200" cy="14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圆角矩形 61"/>
              <p:cNvSpPr/>
              <p:nvPr/>
            </p:nvSpPr>
            <p:spPr>
              <a:xfrm rot="19995600">
                <a:off x="1757880" y="181152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圆角矩形 62"/>
              <p:cNvSpPr/>
              <p:nvPr/>
            </p:nvSpPr>
            <p:spPr>
              <a:xfrm>
                <a:off x="1540080" y="186264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矩形 63"/>
              <p:cNvSpPr/>
              <p:nvPr/>
            </p:nvSpPr>
            <p:spPr>
              <a:xfrm rot="660000">
                <a:off x="1626840" y="1719000"/>
                <a:ext cx="20880" cy="125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椭圆 64"/>
              <p:cNvSpPr/>
              <p:nvPr/>
            </p:nvSpPr>
            <p:spPr>
              <a:xfrm>
                <a:off x="1898640" y="1514520"/>
                <a:ext cx="216720" cy="21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5" name="矩形 66"/>
            <p:cNvSpPr/>
            <p:nvPr/>
          </p:nvSpPr>
          <p:spPr>
            <a:xfrm>
              <a:off x="2205000" y="1862640"/>
              <a:ext cx="44640" cy="80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6" name="组合 79"/>
            <p:cNvGrpSpPr/>
            <p:nvPr/>
          </p:nvGrpSpPr>
          <p:grpSpPr>
            <a:xfrm>
              <a:off x="1202040" y="1558800"/>
              <a:ext cx="256680" cy="389520"/>
              <a:chOff x="1202040" y="1558800"/>
              <a:chExt cx="256680" cy="389520"/>
            </a:xfrm>
          </p:grpSpPr>
          <p:sp>
            <p:nvSpPr>
              <p:cNvPr id="1137" name="矩形 67"/>
              <p:cNvSpPr/>
              <p:nvPr/>
            </p:nvSpPr>
            <p:spPr>
              <a:xfrm>
                <a:off x="1229400" y="1905480"/>
                <a:ext cx="229320" cy="4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圆角矩形 68"/>
              <p:cNvSpPr/>
              <p:nvPr/>
            </p:nvSpPr>
            <p:spPr>
              <a:xfrm>
                <a:off x="1225080" y="18640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圆角矩形 69"/>
              <p:cNvSpPr/>
              <p:nvPr/>
            </p:nvSpPr>
            <p:spPr>
              <a:xfrm>
                <a:off x="1247760" y="182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圆角矩形 70"/>
              <p:cNvSpPr/>
              <p:nvPr/>
            </p:nvSpPr>
            <p:spPr>
              <a:xfrm>
                <a:off x="1202040" y="18054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圆角矩形 71"/>
              <p:cNvSpPr/>
              <p:nvPr/>
            </p:nvSpPr>
            <p:spPr>
              <a:xfrm>
                <a:off x="1250640" y="17701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圆角矩形 72"/>
              <p:cNvSpPr/>
              <p:nvPr/>
            </p:nvSpPr>
            <p:spPr>
              <a:xfrm>
                <a:off x="1233720" y="173484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圆角矩形 73"/>
              <p:cNvSpPr/>
              <p:nvPr/>
            </p:nvSpPr>
            <p:spPr>
              <a:xfrm>
                <a:off x="1229400" y="169956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圆角矩形 74"/>
              <p:cNvSpPr/>
              <p:nvPr/>
            </p:nvSpPr>
            <p:spPr>
              <a:xfrm>
                <a:off x="1247760" y="16642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圆角矩形 75"/>
              <p:cNvSpPr/>
              <p:nvPr/>
            </p:nvSpPr>
            <p:spPr>
              <a:xfrm>
                <a:off x="1225080" y="16290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圆角矩形 76"/>
              <p:cNvSpPr/>
              <p:nvPr/>
            </p:nvSpPr>
            <p:spPr>
              <a:xfrm>
                <a:off x="1225080" y="15937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圆角矩形 77"/>
              <p:cNvSpPr/>
              <p:nvPr/>
            </p:nvSpPr>
            <p:spPr>
              <a:xfrm>
                <a:off x="1247760" y="155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8" name="组合 92"/>
          <p:cNvGrpSpPr/>
          <p:nvPr/>
        </p:nvGrpSpPr>
        <p:grpSpPr>
          <a:xfrm>
            <a:off x="4624560" y="1581120"/>
            <a:ext cx="1147680" cy="1133640"/>
            <a:chOff x="4624560" y="1581120"/>
            <a:chExt cx="1147680" cy="1133640"/>
          </a:xfrm>
        </p:grpSpPr>
        <p:sp>
          <p:nvSpPr>
            <p:cNvPr id="1149" name="矩形 82"/>
            <p:cNvSpPr/>
            <p:nvPr/>
          </p:nvSpPr>
          <p:spPr>
            <a:xfrm>
              <a:off x="4624560" y="2204280"/>
              <a:ext cx="795960" cy="51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0" name="组合 88"/>
            <p:cNvGrpSpPr/>
            <p:nvPr/>
          </p:nvGrpSpPr>
          <p:grpSpPr>
            <a:xfrm>
              <a:off x="5018400" y="1581120"/>
              <a:ext cx="726120" cy="864360"/>
              <a:chOff x="5018400" y="1581120"/>
              <a:chExt cx="726120" cy="864360"/>
            </a:xfrm>
          </p:grpSpPr>
          <p:sp>
            <p:nvSpPr>
              <p:cNvPr id="1151" name="空心弧 83"/>
              <p:cNvSpPr/>
              <p:nvPr/>
            </p:nvSpPr>
            <p:spPr>
              <a:xfrm rot="4241400">
                <a:off x="5214240" y="1989720"/>
                <a:ext cx="626400" cy="240480"/>
              </a:xfrm>
              <a:custGeom>
                <a:avLst/>
                <a:gdLst>
                  <a:gd name="textAreaLeft" fmla="*/ 0 w 626400"/>
                  <a:gd name="textAreaRight" fmla="*/ 626760 w 626400"/>
                  <a:gd name="textAreaTop" fmla="*/ 0 h 240480"/>
                  <a:gd name="textAreaBottom" fmla="*/ 85680 h 24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矩形 84"/>
              <p:cNvSpPr/>
              <p:nvPr/>
            </p:nvSpPr>
            <p:spPr>
              <a:xfrm>
                <a:off x="5018400" y="2085120"/>
                <a:ext cx="616680" cy="320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等腰三角形 85"/>
              <p:cNvSpPr/>
              <p:nvPr/>
            </p:nvSpPr>
            <p:spPr>
              <a:xfrm>
                <a:off x="5176800" y="1814760"/>
                <a:ext cx="458280" cy="287640"/>
              </a:xfrm>
              <a:prstGeom prst="triangle">
                <a:avLst>
                  <a:gd name="adj" fmla="val 54134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椭圆 86"/>
              <p:cNvSpPr/>
              <p:nvPr/>
            </p:nvSpPr>
            <p:spPr>
              <a:xfrm>
                <a:off x="5154120" y="1581120"/>
                <a:ext cx="264600" cy="264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5" name="矩形 89"/>
            <p:cNvSpPr/>
            <p:nvPr/>
          </p:nvSpPr>
          <p:spPr>
            <a:xfrm>
              <a:off x="5477400" y="2443320"/>
              <a:ext cx="6408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矩形 90"/>
            <p:cNvSpPr/>
            <p:nvPr/>
          </p:nvSpPr>
          <p:spPr>
            <a:xfrm rot="16200000">
              <a:off x="5574600" y="2347200"/>
              <a:ext cx="64080" cy="25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矩形 91"/>
            <p:cNvSpPr/>
            <p:nvPr/>
          </p:nvSpPr>
          <p:spPr>
            <a:xfrm>
              <a:off x="5708160" y="1837080"/>
              <a:ext cx="64080" cy="67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任意多边形 362"/>
          <p:cNvSpPr/>
          <p:nvPr/>
        </p:nvSpPr>
        <p:spPr>
          <a:xfrm rot="877200">
            <a:off x="8091360" y="1528920"/>
            <a:ext cx="986040" cy="1250640"/>
          </a:xfrm>
          <a:custGeom>
            <a:avLst/>
            <a:gdLst>
              <a:gd name="textAreaLeft" fmla="*/ 0 w 986040"/>
              <a:gd name="textAreaRight" fmla="*/ 986400 w 986040"/>
              <a:gd name="textAreaTop" fmla="*/ 0 h 1250640"/>
              <a:gd name="textAreaBottom" fmla="*/ 1251000 h 1250640"/>
            </a:gdLst>
            <a:ahLst/>
            <a:rect l="textAreaLeft" t="textAreaTop" r="textAreaRight" b="textAreaBottom"/>
            <a:pathLst>
              <a:path w="1479681" h="1880129">
                <a:moveTo>
                  <a:pt x="867509" y="1195779"/>
                </a:moveTo>
                <a:cubicBezTo>
                  <a:pt x="798247" y="1204744"/>
                  <a:pt x="749368" y="1268159"/>
                  <a:pt x="758332" y="1337420"/>
                </a:cubicBezTo>
                <a:cubicBezTo>
                  <a:pt x="767297" y="1406682"/>
                  <a:pt x="830713" y="1455561"/>
                  <a:pt x="899973" y="1446597"/>
                </a:cubicBezTo>
                <a:cubicBezTo>
                  <a:pt x="917289" y="1444355"/>
                  <a:pt x="933331" y="1438710"/>
                  <a:pt x="947513" y="1430422"/>
                </a:cubicBezTo>
                <a:lnTo>
                  <a:pt x="957724" y="1421432"/>
                </a:lnTo>
                <a:lnTo>
                  <a:pt x="1113467" y="1553072"/>
                </a:lnTo>
                <a:lnTo>
                  <a:pt x="1158421" y="1499887"/>
                </a:lnTo>
                <a:lnTo>
                  <a:pt x="1000093" y="1366063"/>
                </a:lnTo>
                <a:lnTo>
                  <a:pt x="1005613" y="1355046"/>
                </a:lnTo>
                <a:cubicBezTo>
                  <a:pt x="1010017" y="1339220"/>
                  <a:pt x="1011391" y="1322270"/>
                  <a:pt x="1009150" y="1304955"/>
                </a:cubicBezTo>
                <a:cubicBezTo>
                  <a:pt x="1000185" y="1235693"/>
                  <a:pt x="936769" y="1186814"/>
                  <a:pt x="867509" y="1195779"/>
                </a:cubicBezTo>
                <a:close/>
                <a:moveTo>
                  <a:pt x="1066467" y="792150"/>
                </a:moveTo>
                <a:lnTo>
                  <a:pt x="1052741" y="917310"/>
                </a:lnTo>
                <a:lnTo>
                  <a:pt x="1074153" y="926063"/>
                </a:lnTo>
                <a:lnTo>
                  <a:pt x="1044908" y="1037874"/>
                </a:lnTo>
                <a:lnTo>
                  <a:pt x="1067066" y="1049491"/>
                </a:lnTo>
                <a:lnTo>
                  <a:pt x="1042055" y="1230447"/>
                </a:lnTo>
                <a:lnTo>
                  <a:pt x="1124071" y="1075375"/>
                </a:lnTo>
                <a:lnTo>
                  <a:pt x="1097671" y="1063704"/>
                </a:lnTo>
                <a:lnTo>
                  <a:pt x="1148004" y="964949"/>
                </a:lnTo>
                <a:lnTo>
                  <a:pt x="1116013" y="946838"/>
                </a:lnTo>
                <a:lnTo>
                  <a:pt x="1169297" y="843113"/>
                </a:lnTo>
                <a:lnTo>
                  <a:pt x="1066467" y="792150"/>
                </a:lnTo>
                <a:close/>
                <a:moveTo>
                  <a:pt x="276747" y="632412"/>
                </a:moveTo>
                <a:lnTo>
                  <a:pt x="231987" y="701438"/>
                </a:lnTo>
                <a:lnTo>
                  <a:pt x="670086" y="985519"/>
                </a:lnTo>
                <a:lnTo>
                  <a:pt x="714845" y="916493"/>
                </a:lnTo>
                <a:lnTo>
                  <a:pt x="276747" y="632412"/>
                </a:lnTo>
                <a:close/>
                <a:moveTo>
                  <a:pt x="1083396" y="419609"/>
                </a:moveTo>
                <a:lnTo>
                  <a:pt x="1097854" y="591613"/>
                </a:lnTo>
                <a:lnTo>
                  <a:pt x="974476" y="661542"/>
                </a:lnTo>
                <a:lnTo>
                  <a:pt x="1116291" y="662294"/>
                </a:lnTo>
                <a:lnTo>
                  <a:pt x="1187695" y="819444"/>
                </a:lnTo>
                <a:lnTo>
                  <a:pt x="1173236" y="647440"/>
                </a:lnTo>
                <a:lnTo>
                  <a:pt x="1296614" y="577511"/>
                </a:lnTo>
                <a:lnTo>
                  <a:pt x="1154799" y="576759"/>
                </a:lnTo>
                <a:lnTo>
                  <a:pt x="1083396" y="419609"/>
                </a:lnTo>
                <a:close/>
                <a:moveTo>
                  <a:pt x="533141" y="368666"/>
                </a:moveTo>
                <a:lnTo>
                  <a:pt x="694750" y="463406"/>
                </a:lnTo>
                <a:cubicBezTo>
                  <a:pt x="663126" y="492814"/>
                  <a:pt x="615956" y="497997"/>
                  <a:pt x="578701" y="476157"/>
                </a:cubicBezTo>
                <a:cubicBezTo>
                  <a:pt x="541446" y="454317"/>
                  <a:pt x="522927" y="410626"/>
                  <a:pt x="533141" y="368666"/>
                </a:cubicBezTo>
                <a:close/>
                <a:moveTo>
                  <a:pt x="617476" y="294590"/>
                </a:moveTo>
                <a:cubicBezTo>
                  <a:pt x="637878" y="292348"/>
                  <a:pt x="658985" y="296512"/>
                  <a:pt x="677612" y="307432"/>
                </a:cubicBezTo>
                <a:cubicBezTo>
                  <a:pt x="714867" y="329272"/>
                  <a:pt x="733385" y="372963"/>
                  <a:pt x="723172" y="414923"/>
                </a:cubicBezTo>
                <a:lnTo>
                  <a:pt x="561563" y="320183"/>
                </a:lnTo>
                <a:cubicBezTo>
                  <a:pt x="577375" y="305479"/>
                  <a:pt x="597074" y="296831"/>
                  <a:pt x="617476" y="294590"/>
                </a:cubicBezTo>
                <a:close/>
                <a:moveTo>
                  <a:pt x="588664" y="240397"/>
                </a:moveTo>
                <a:cubicBezTo>
                  <a:pt x="505049" y="262208"/>
                  <a:pt x="454947" y="347672"/>
                  <a:pt x="476759" y="431287"/>
                </a:cubicBezTo>
                <a:cubicBezTo>
                  <a:pt x="498570" y="514902"/>
                  <a:pt x="584034" y="565004"/>
                  <a:pt x="667649" y="543192"/>
                </a:cubicBezTo>
                <a:cubicBezTo>
                  <a:pt x="751264" y="521381"/>
                  <a:pt x="801366" y="435917"/>
                  <a:pt x="779554" y="352302"/>
                </a:cubicBezTo>
                <a:cubicBezTo>
                  <a:pt x="757743" y="268687"/>
                  <a:pt x="672279" y="218585"/>
                  <a:pt x="588664" y="240397"/>
                </a:cubicBezTo>
                <a:close/>
                <a:moveTo>
                  <a:pt x="592078" y="17634"/>
                </a:moveTo>
                <a:cubicBezTo>
                  <a:pt x="948391" y="-75311"/>
                  <a:pt x="1330898" y="208386"/>
                  <a:pt x="1446431" y="651291"/>
                </a:cubicBezTo>
                <a:cubicBezTo>
                  <a:pt x="1518639" y="928106"/>
                  <a:pt x="1469471" y="1201596"/>
                  <a:pt x="1335450" y="1390478"/>
                </a:cubicBezTo>
                <a:lnTo>
                  <a:pt x="1317419" y="1410950"/>
                </a:lnTo>
                <a:lnTo>
                  <a:pt x="1395607" y="1710688"/>
                </a:lnTo>
                <a:lnTo>
                  <a:pt x="1400275" y="1740617"/>
                </a:lnTo>
                <a:lnTo>
                  <a:pt x="865447" y="1880129"/>
                </a:lnTo>
                <a:lnTo>
                  <a:pt x="854901" y="1851733"/>
                </a:lnTo>
                <a:lnTo>
                  <a:pt x="804029" y="1656715"/>
                </a:lnTo>
                <a:lnTo>
                  <a:pt x="772772" y="1676144"/>
                </a:lnTo>
                <a:cubicBezTo>
                  <a:pt x="751782" y="1686466"/>
                  <a:pt x="729445" y="1694837"/>
                  <a:pt x="705929" y="1700971"/>
                </a:cubicBezTo>
                <a:lnTo>
                  <a:pt x="705929" y="1700970"/>
                </a:lnTo>
                <a:cubicBezTo>
                  <a:pt x="635383" y="1719372"/>
                  <a:pt x="564251" y="1715022"/>
                  <a:pt x="500304" y="1692475"/>
                </a:cubicBezTo>
                <a:lnTo>
                  <a:pt x="452384" y="1670227"/>
                </a:lnTo>
                <a:lnTo>
                  <a:pt x="510778" y="1627691"/>
                </a:lnTo>
                <a:cubicBezTo>
                  <a:pt x="575076" y="1567556"/>
                  <a:pt x="610824" y="1501237"/>
                  <a:pt x="611232" y="1431405"/>
                </a:cubicBezTo>
                <a:lnTo>
                  <a:pt x="611232" y="1431404"/>
                </a:lnTo>
                <a:cubicBezTo>
                  <a:pt x="536424" y="1470767"/>
                  <a:pt x="451024" y="1505972"/>
                  <a:pt x="357234" y="1536595"/>
                </a:cubicBezTo>
                <a:lnTo>
                  <a:pt x="323854" y="1546252"/>
                </a:lnTo>
                <a:lnTo>
                  <a:pt x="276444" y="1449194"/>
                </a:lnTo>
                <a:lnTo>
                  <a:pt x="237349" y="1299322"/>
                </a:lnTo>
                <a:lnTo>
                  <a:pt x="0" y="1299322"/>
                </a:lnTo>
                <a:lnTo>
                  <a:pt x="175516" y="1062280"/>
                </a:lnTo>
                <a:lnTo>
                  <a:pt x="143213" y="938443"/>
                </a:lnTo>
                <a:cubicBezTo>
                  <a:pt x="137079" y="914928"/>
                  <a:pt x="133473" y="891347"/>
                  <a:pt x="132226" y="867989"/>
                </a:cubicBezTo>
                <a:lnTo>
                  <a:pt x="132800" y="855465"/>
                </a:lnTo>
                <a:lnTo>
                  <a:pt x="127056" y="822836"/>
                </a:lnTo>
                <a:cubicBezTo>
                  <a:pt x="91890" y="441709"/>
                  <a:pt x="280305" y="98961"/>
                  <a:pt x="592078" y="17634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组合 152"/>
          <p:cNvGrpSpPr/>
          <p:nvPr/>
        </p:nvGrpSpPr>
        <p:grpSpPr>
          <a:xfrm>
            <a:off x="1044720" y="3633840"/>
            <a:ext cx="1309680" cy="887400"/>
            <a:chOff x="1044720" y="3633840"/>
            <a:chExt cx="1309680" cy="887400"/>
          </a:xfrm>
        </p:grpSpPr>
        <p:sp>
          <p:nvSpPr>
            <p:cNvPr id="1160" name="任意多边形 146"/>
            <p:cNvSpPr/>
            <p:nvPr/>
          </p:nvSpPr>
          <p:spPr>
            <a:xfrm>
              <a:off x="1044720" y="3647160"/>
              <a:ext cx="559440" cy="874080"/>
            </a:xfrm>
            <a:custGeom>
              <a:avLst/>
              <a:gdLst>
                <a:gd name="textAreaLeft" fmla="*/ 0 w 559440"/>
                <a:gd name="textAreaRight" fmla="*/ 559800 w 559440"/>
                <a:gd name="textAreaTop" fmla="*/ 0 h 874080"/>
                <a:gd name="textAreaBottom" fmla="*/ 874440 h 874080"/>
              </a:gdLst>
              <a:ahLst/>
              <a:rect l="textAreaLeft" t="textAreaTop" r="textAreaRight" b="textAreaBottom"/>
              <a:pathLst>
                <a:path w="1041400" h="1627786">
                  <a:moveTo>
                    <a:pt x="704985" y="1440749"/>
                  </a:moveTo>
                  <a:lnTo>
                    <a:pt x="704985" y="1536688"/>
                  </a:lnTo>
                  <a:lnTo>
                    <a:pt x="920885" y="1536688"/>
                  </a:lnTo>
                  <a:lnTo>
                    <a:pt x="920885" y="1440749"/>
                  </a:lnTo>
                  <a:lnTo>
                    <a:pt x="704985" y="1440749"/>
                  </a:lnTo>
                  <a:close/>
                  <a:moveTo>
                    <a:pt x="413658" y="1440749"/>
                  </a:moveTo>
                  <a:lnTo>
                    <a:pt x="413658" y="1536688"/>
                  </a:lnTo>
                  <a:lnTo>
                    <a:pt x="629558" y="1536688"/>
                  </a:lnTo>
                  <a:lnTo>
                    <a:pt x="629558" y="1440749"/>
                  </a:lnTo>
                  <a:lnTo>
                    <a:pt x="413658" y="1440749"/>
                  </a:lnTo>
                  <a:close/>
                  <a:moveTo>
                    <a:pt x="122330" y="1440749"/>
                  </a:moveTo>
                  <a:lnTo>
                    <a:pt x="122330" y="1536688"/>
                  </a:lnTo>
                  <a:lnTo>
                    <a:pt x="338230" y="1536688"/>
                  </a:lnTo>
                  <a:lnTo>
                    <a:pt x="338230" y="1440749"/>
                  </a:lnTo>
                  <a:lnTo>
                    <a:pt x="122330" y="1440749"/>
                  </a:lnTo>
                  <a:close/>
                  <a:moveTo>
                    <a:pt x="719912" y="1236155"/>
                  </a:moveTo>
                  <a:lnTo>
                    <a:pt x="719912" y="1332094"/>
                  </a:lnTo>
                  <a:lnTo>
                    <a:pt x="935812" y="1332094"/>
                  </a:lnTo>
                  <a:lnTo>
                    <a:pt x="935812" y="1236155"/>
                  </a:lnTo>
                  <a:lnTo>
                    <a:pt x="719912" y="1236155"/>
                  </a:lnTo>
                  <a:close/>
                  <a:moveTo>
                    <a:pt x="428585" y="1236155"/>
                  </a:moveTo>
                  <a:lnTo>
                    <a:pt x="428585" y="1332094"/>
                  </a:lnTo>
                  <a:lnTo>
                    <a:pt x="644485" y="1332094"/>
                  </a:lnTo>
                  <a:lnTo>
                    <a:pt x="644485" y="1236155"/>
                  </a:lnTo>
                  <a:lnTo>
                    <a:pt x="428585" y="1236155"/>
                  </a:lnTo>
                  <a:close/>
                  <a:moveTo>
                    <a:pt x="137257" y="1236155"/>
                  </a:moveTo>
                  <a:lnTo>
                    <a:pt x="137257" y="1332094"/>
                  </a:lnTo>
                  <a:lnTo>
                    <a:pt x="353157" y="1332094"/>
                  </a:lnTo>
                  <a:lnTo>
                    <a:pt x="353157" y="1236155"/>
                  </a:lnTo>
                  <a:lnTo>
                    <a:pt x="137257" y="1236155"/>
                  </a:lnTo>
                  <a:close/>
                  <a:moveTo>
                    <a:pt x="719912" y="1005633"/>
                  </a:moveTo>
                  <a:lnTo>
                    <a:pt x="719912" y="1101572"/>
                  </a:lnTo>
                  <a:lnTo>
                    <a:pt x="935812" y="1101572"/>
                  </a:lnTo>
                  <a:lnTo>
                    <a:pt x="935812" y="1005633"/>
                  </a:lnTo>
                  <a:lnTo>
                    <a:pt x="719912" y="1005633"/>
                  </a:lnTo>
                  <a:close/>
                  <a:moveTo>
                    <a:pt x="428585" y="1005633"/>
                  </a:moveTo>
                  <a:lnTo>
                    <a:pt x="428585" y="1101572"/>
                  </a:lnTo>
                  <a:lnTo>
                    <a:pt x="644485" y="1101572"/>
                  </a:lnTo>
                  <a:lnTo>
                    <a:pt x="644485" y="1005633"/>
                  </a:lnTo>
                  <a:lnTo>
                    <a:pt x="428585" y="1005633"/>
                  </a:lnTo>
                  <a:close/>
                  <a:moveTo>
                    <a:pt x="137257" y="1005633"/>
                  </a:moveTo>
                  <a:lnTo>
                    <a:pt x="137257" y="1101572"/>
                  </a:lnTo>
                  <a:lnTo>
                    <a:pt x="353157" y="1101572"/>
                  </a:lnTo>
                  <a:lnTo>
                    <a:pt x="353157" y="1005633"/>
                  </a:lnTo>
                  <a:lnTo>
                    <a:pt x="137257" y="1005633"/>
                  </a:lnTo>
                  <a:close/>
                  <a:moveTo>
                    <a:pt x="719912" y="801534"/>
                  </a:moveTo>
                  <a:lnTo>
                    <a:pt x="719912" y="897473"/>
                  </a:lnTo>
                  <a:lnTo>
                    <a:pt x="935812" y="897473"/>
                  </a:lnTo>
                  <a:lnTo>
                    <a:pt x="935812" y="801534"/>
                  </a:lnTo>
                  <a:lnTo>
                    <a:pt x="719912" y="801534"/>
                  </a:lnTo>
                  <a:close/>
                  <a:moveTo>
                    <a:pt x="428585" y="801534"/>
                  </a:moveTo>
                  <a:lnTo>
                    <a:pt x="428585" y="897473"/>
                  </a:lnTo>
                  <a:lnTo>
                    <a:pt x="644485" y="897473"/>
                  </a:lnTo>
                  <a:lnTo>
                    <a:pt x="644485" y="801534"/>
                  </a:lnTo>
                  <a:lnTo>
                    <a:pt x="428585" y="801534"/>
                  </a:lnTo>
                  <a:close/>
                  <a:moveTo>
                    <a:pt x="137257" y="801534"/>
                  </a:moveTo>
                  <a:lnTo>
                    <a:pt x="137257" y="897473"/>
                  </a:lnTo>
                  <a:lnTo>
                    <a:pt x="353157" y="897473"/>
                  </a:lnTo>
                  <a:lnTo>
                    <a:pt x="353157" y="801534"/>
                  </a:lnTo>
                  <a:lnTo>
                    <a:pt x="137257" y="801534"/>
                  </a:lnTo>
                  <a:close/>
                  <a:moveTo>
                    <a:pt x="719912" y="596279"/>
                  </a:moveTo>
                  <a:lnTo>
                    <a:pt x="719912" y="692218"/>
                  </a:lnTo>
                  <a:lnTo>
                    <a:pt x="935812" y="692218"/>
                  </a:lnTo>
                  <a:lnTo>
                    <a:pt x="935812" y="596279"/>
                  </a:lnTo>
                  <a:lnTo>
                    <a:pt x="719912" y="596279"/>
                  </a:lnTo>
                  <a:close/>
                  <a:moveTo>
                    <a:pt x="428585" y="596279"/>
                  </a:moveTo>
                  <a:lnTo>
                    <a:pt x="428585" y="692218"/>
                  </a:lnTo>
                  <a:lnTo>
                    <a:pt x="644485" y="692218"/>
                  </a:lnTo>
                  <a:lnTo>
                    <a:pt x="644485" y="596279"/>
                  </a:lnTo>
                  <a:lnTo>
                    <a:pt x="428585" y="596279"/>
                  </a:lnTo>
                  <a:close/>
                  <a:moveTo>
                    <a:pt x="137257" y="596279"/>
                  </a:moveTo>
                  <a:lnTo>
                    <a:pt x="137257" y="692218"/>
                  </a:lnTo>
                  <a:lnTo>
                    <a:pt x="353157" y="692218"/>
                  </a:lnTo>
                  <a:lnTo>
                    <a:pt x="353157" y="596279"/>
                  </a:lnTo>
                  <a:lnTo>
                    <a:pt x="137257" y="596279"/>
                  </a:lnTo>
                  <a:close/>
                  <a:moveTo>
                    <a:pt x="719912" y="343054"/>
                  </a:moveTo>
                  <a:lnTo>
                    <a:pt x="719912" y="438993"/>
                  </a:lnTo>
                  <a:lnTo>
                    <a:pt x="935812" y="438993"/>
                  </a:lnTo>
                  <a:lnTo>
                    <a:pt x="935812" y="343054"/>
                  </a:lnTo>
                  <a:lnTo>
                    <a:pt x="719912" y="343054"/>
                  </a:lnTo>
                  <a:close/>
                  <a:moveTo>
                    <a:pt x="428585" y="343054"/>
                  </a:moveTo>
                  <a:lnTo>
                    <a:pt x="428585" y="438993"/>
                  </a:lnTo>
                  <a:lnTo>
                    <a:pt x="644485" y="438993"/>
                  </a:lnTo>
                  <a:lnTo>
                    <a:pt x="644485" y="343054"/>
                  </a:lnTo>
                  <a:lnTo>
                    <a:pt x="428585" y="343054"/>
                  </a:lnTo>
                  <a:close/>
                  <a:moveTo>
                    <a:pt x="137257" y="343054"/>
                  </a:moveTo>
                  <a:lnTo>
                    <a:pt x="137257" y="438993"/>
                  </a:lnTo>
                  <a:lnTo>
                    <a:pt x="353157" y="438993"/>
                  </a:lnTo>
                  <a:lnTo>
                    <a:pt x="353157" y="343054"/>
                  </a:lnTo>
                  <a:lnTo>
                    <a:pt x="137257" y="343054"/>
                  </a:lnTo>
                  <a:close/>
                  <a:moveTo>
                    <a:pt x="719912" y="137520"/>
                  </a:moveTo>
                  <a:lnTo>
                    <a:pt x="719912" y="233459"/>
                  </a:lnTo>
                  <a:lnTo>
                    <a:pt x="935812" y="233459"/>
                  </a:lnTo>
                  <a:lnTo>
                    <a:pt x="935812" y="137520"/>
                  </a:lnTo>
                  <a:lnTo>
                    <a:pt x="719912" y="137520"/>
                  </a:lnTo>
                  <a:close/>
                  <a:moveTo>
                    <a:pt x="428585" y="137520"/>
                  </a:moveTo>
                  <a:lnTo>
                    <a:pt x="428585" y="233459"/>
                  </a:lnTo>
                  <a:lnTo>
                    <a:pt x="644485" y="233459"/>
                  </a:lnTo>
                  <a:lnTo>
                    <a:pt x="644485" y="137520"/>
                  </a:lnTo>
                  <a:lnTo>
                    <a:pt x="428585" y="137520"/>
                  </a:lnTo>
                  <a:close/>
                  <a:moveTo>
                    <a:pt x="137257" y="137520"/>
                  </a:moveTo>
                  <a:lnTo>
                    <a:pt x="137257" y="233459"/>
                  </a:lnTo>
                  <a:lnTo>
                    <a:pt x="353157" y="233459"/>
                  </a:lnTo>
                  <a:lnTo>
                    <a:pt x="353157" y="137520"/>
                  </a:lnTo>
                  <a:lnTo>
                    <a:pt x="137257" y="137520"/>
                  </a:lnTo>
                  <a:close/>
                  <a:moveTo>
                    <a:pt x="0" y="0"/>
                  </a:moveTo>
                  <a:lnTo>
                    <a:pt x="1041400" y="0"/>
                  </a:lnTo>
                  <a:lnTo>
                    <a:pt x="1041400" y="1627786"/>
                  </a:lnTo>
                  <a:lnTo>
                    <a:pt x="0" y="16277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1" name="组合 151"/>
            <p:cNvGrpSpPr/>
            <p:nvPr/>
          </p:nvGrpSpPr>
          <p:grpSpPr>
            <a:xfrm>
              <a:off x="1779480" y="3633840"/>
              <a:ext cx="574920" cy="778680"/>
              <a:chOff x="1779480" y="3633840"/>
              <a:chExt cx="574920" cy="778680"/>
            </a:xfrm>
          </p:grpSpPr>
          <p:sp>
            <p:nvSpPr>
              <p:cNvPr id="1162" name="任意多边形 147"/>
              <p:cNvSpPr/>
              <p:nvPr/>
            </p:nvSpPr>
            <p:spPr>
              <a:xfrm>
                <a:off x="1779480" y="3633840"/>
                <a:ext cx="574920" cy="778680"/>
              </a:xfrm>
              <a:custGeom>
                <a:avLst/>
                <a:gdLst>
                  <a:gd name="textAreaLeft" fmla="*/ 0 w 574920"/>
                  <a:gd name="textAreaRight" fmla="*/ 575280 w 574920"/>
                  <a:gd name="textAreaTop" fmla="*/ 0 h 778680"/>
                  <a:gd name="textAreaBottom" fmla="*/ 779040 h 778680"/>
                </a:gdLst>
                <a:ahLst/>
                <a:rect l="textAreaLeft" t="textAreaTop" r="textAreaRight" b="textAreaBottom"/>
                <a:pathLst>
                  <a:path w="1563165" h="1871189">
                    <a:moveTo>
                      <a:pt x="896415" y="0"/>
                    </a:moveTo>
                    <a:cubicBezTo>
                      <a:pt x="1264651" y="0"/>
                      <a:pt x="1563165" y="371059"/>
                      <a:pt x="1563165" y="828784"/>
                    </a:cubicBezTo>
                    <a:cubicBezTo>
                      <a:pt x="1563165" y="1114862"/>
                      <a:pt x="1446558" y="1367086"/>
                      <a:pt x="1269202" y="1516025"/>
                    </a:cubicBezTo>
                    <a:lnTo>
                      <a:pt x="1246587" y="1531283"/>
                    </a:lnTo>
                    <a:lnTo>
                      <a:pt x="1246587" y="1841051"/>
                    </a:lnTo>
                    <a:lnTo>
                      <a:pt x="1243549" y="1871189"/>
                    </a:lnTo>
                    <a:lnTo>
                      <a:pt x="690825" y="1871189"/>
                    </a:lnTo>
                    <a:lnTo>
                      <a:pt x="687787" y="1841051"/>
                    </a:lnTo>
                    <a:lnTo>
                      <a:pt x="687787" y="1639507"/>
                    </a:lnTo>
                    <a:lnTo>
                      <a:pt x="652638" y="1650418"/>
                    </a:lnTo>
                    <a:cubicBezTo>
                      <a:pt x="629722" y="1655107"/>
                      <a:pt x="605995" y="1657569"/>
                      <a:pt x="581692" y="1657569"/>
                    </a:cubicBezTo>
                    <a:lnTo>
                      <a:pt x="581693" y="1657568"/>
                    </a:lnTo>
                    <a:cubicBezTo>
                      <a:pt x="508786" y="1657568"/>
                      <a:pt x="441055" y="1635404"/>
                      <a:pt x="384870" y="1597447"/>
                    </a:cubicBezTo>
                    <a:lnTo>
                      <a:pt x="344117" y="1563823"/>
                    </a:lnTo>
                    <a:lnTo>
                      <a:pt x="411357" y="1537404"/>
                    </a:lnTo>
                    <a:cubicBezTo>
                      <a:pt x="488751" y="1495445"/>
                      <a:pt x="540081" y="1440297"/>
                      <a:pt x="558102" y="1372829"/>
                    </a:cubicBezTo>
                    <a:lnTo>
                      <a:pt x="558102" y="1372828"/>
                    </a:lnTo>
                    <a:cubicBezTo>
                      <a:pt x="475781" y="1392034"/>
                      <a:pt x="384260" y="1404544"/>
                      <a:pt x="285778" y="1410502"/>
                    </a:cubicBezTo>
                    <a:lnTo>
                      <a:pt x="251041" y="1411421"/>
                    </a:lnTo>
                    <a:lnTo>
                      <a:pt x="229664" y="1305539"/>
                    </a:lnTo>
                    <a:lnTo>
                      <a:pt x="229664" y="1150652"/>
                    </a:lnTo>
                    <a:lnTo>
                      <a:pt x="0" y="1090743"/>
                    </a:lnTo>
                    <a:lnTo>
                      <a:pt x="229664" y="905678"/>
                    </a:lnTo>
                    <a:lnTo>
                      <a:pt x="229664" y="777697"/>
                    </a:lnTo>
                    <a:cubicBezTo>
                      <a:pt x="229664" y="753395"/>
                      <a:pt x="232127" y="729667"/>
                      <a:pt x="236816" y="706751"/>
                    </a:cubicBezTo>
                    <a:lnTo>
                      <a:pt x="240533" y="694777"/>
                    </a:lnTo>
                    <a:lnTo>
                      <a:pt x="243211" y="661755"/>
                    </a:lnTo>
                    <a:cubicBezTo>
                      <a:pt x="305383" y="284092"/>
                      <a:pt x="574209" y="0"/>
                      <a:pt x="896415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椭圆 148"/>
              <p:cNvSpPr/>
              <p:nvPr/>
            </p:nvSpPr>
            <p:spPr>
              <a:xfrm>
                <a:off x="1949040" y="3888000"/>
                <a:ext cx="69480" cy="78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直接连接符 150"/>
            <p:cNvSpPr/>
            <p:nvPr/>
          </p:nvSpPr>
          <p:spPr>
            <a:xfrm>
              <a:off x="1298520" y="3926520"/>
              <a:ext cx="619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任意多边形 230"/>
          <p:cNvSpPr/>
          <p:nvPr/>
        </p:nvSpPr>
        <p:spPr>
          <a:xfrm>
            <a:off x="7974000" y="3476520"/>
            <a:ext cx="1130400" cy="110484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2133600" h="2082891">
                <a:moveTo>
                  <a:pt x="1592351" y="966456"/>
                </a:moveTo>
                <a:lnTo>
                  <a:pt x="1592351" y="1017132"/>
                </a:lnTo>
                <a:lnTo>
                  <a:pt x="1706651" y="1017132"/>
                </a:lnTo>
                <a:lnTo>
                  <a:pt x="1706651" y="966456"/>
                </a:lnTo>
                <a:lnTo>
                  <a:pt x="1592351" y="966456"/>
                </a:lnTo>
                <a:close/>
                <a:moveTo>
                  <a:pt x="957945" y="966456"/>
                </a:moveTo>
                <a:lnTo>
                  <a:pt x="957945" y="1017132"/>
                </a:lnTo>
                <a:lnTo>
                  <a:pt x="1072245" y="1017132"/>
                </a:lnTo>
                <a:lnTo>
                  <a:pt x="1072245" y="966456"/>
                </a:lnTo>
                <a:lnTo>
                  <a:pt x="957945" y="966456"/>
                </a:lnTo>
                <a:close/>
                <a:moveTo>
                  <a:pt x="293571" y="966456"/>
                </a:moveTo>
                <a:lnTo>
                  <a:pt x="293571" y="1017132"/>
                </a:lnTo>
                <a:lnTo>
                  <a:pt x="407871" y="1017132"/>
                </a:lnTo>
                <a:lnTo>
                  <a:pt x="407871" y="966456"/>
                </a:lnTo>
                <a:lnTo>
                  <a:pt x="293571" y="966456"/>
                </a:lnTo>
                <a:close/>
                <a:moveTo>
                  <a:pt x="1253322" y="849219"/>
                </a:moveTo>
                <a:lnTo>
                  <a:pt x="1253322" y="899895"/>
                </a:lnTo>
                <a:lnTo>
                  <a:pt x="1367622" y="899895"/>
                </a:lnTo>
                <a:lnTo>
                  <a:pt x="1367622" y="849219"/>
                </a:lnTo>
                <a:lnTo>
                  <a:pt x="1253322" y="849219"/>
                </a:lnTo>
                <a:close/>
                <a:moveTo>
                  <a:pt x="920474" y="849219"/>
                </a:moveTo>
                <a:lnTo>
                  <a:pt x="920474" y="899895"/>
                </a:lnTo>
                <a:lnTo>
                  <a:pt x="1034774" y="899895"/>
                </a:lnTo>
                <a:lnTo>
                  <a:pt x="1034774" y="849219"/>
                </a:lnTo>
                <a:lnTo>
                  <a:pt x="920474" y="849219"/>
                </a:lnTo>
                <a:close/>
                <a:moveTo>
                  <a:pt x="753171" y="849219"/>
                </a:moveTo>
                <a:lnTo>
                  <a:pt x="753171" y="899895"/>
                </a:lnTo>
                <a:lnTo>
                  <a:pt x="867471" y="899895"/>
                </a:lnTo>
                <a:lnTo>
                  <a:pt x="867471" y="849219"/>
                </a:lnTo>
                <a:lnTo>
                  <a:pt x="753171" y="849219"/>
                </a:lnTo>
                <a:close/>
                <a:moveTo>
                  <a:pt x="588948" y="849219"/>
                </a:moveTo>
                <a:lnTo>
                  <a:pt x="588948" y="899895"/>
                </a:lnTo>
                <a:lnTo>
                  <a:pt x="703248" y="899895"/>
                </a:lnTo>
                <a:lnTo>
                  <a:pt x="703248" y="849219"/>
                </a:lnTo>
                <a:lnTo>
                  <a:pt x="588948" y="849219"/>
                </a:lnTo>
                <a:close/>
                <a:moveTo>
                  <a:pt x="421645" y="849219"/>
                </a:moveTo>
                <a:lnTo>
                  <a:pt x="421645" y="899895"/>
                </a:lnTo>
                <a:lnTo>
                  <a:pt x="535945" y="899895"/>
                </a:lnTo>
                <a:lnTo>
                  <a:pt x="535945" y="849219"/>
                </a:lnTo>
                <a:lnTo>
                  <a:pt x="421645" y="849219"/>
                </a:lnTo>
                <a:close/>
                <a:moveTo>
                  <a:pt x="1606125" y="741186"/>
                </a:moveTo>
                <a:lnTo>
                  <a:pt x="1606125" y="791862"/>
                </a:lnTo>
                <a:lnTo>
                  <a:pt x="1720425" y="791862"/>
                </a:lnTo>
                <a:lnTo>
                  <a:pt x="1720425" y="741186"/>
                </a:lnTo>
                <a:lnTo>
                  <a:pt x="1606125" y="741186"/>
                </a:lnTo>
                <a:close/>
                <a:moveTo>
                  <a:pt x="1470548" y="741186"/>
                </a:moveTo>
                <a:lnTo>
                  <a:pt x="1470548" y="791862"/>
                </a:lnTo>
                <a:lnTo>
                  <a:pt x="1584848" y="791862"/>
                </a:lnTo>
                <a:lnTo>
                  <a:pt x="1584848" y="741186"/>
                </a:lnTo>
                <a:lnTo>
                  <a:pt x="1470548" y="741186"/>
                </a:lnTo>
                <a:close/>
                <a:moveTo>
                  <a:pt x="1303245" y="741186"/>
                </a:moveTo>
                <a:lnTo>
                  <a:pt x="1303245" y="791862"/>
                </a:lnTo>
                <a:lnTo>
                  <a:pt x="1417545" y="791862"/>
                </a:lnTo>
                <a:lnTo>
                  <a:pt x="1417545" y="741186"/>
                </a:lnTo>
                <a:lnTo>
                  <a:pt x="1303245" y="741186"/>
                </a:lnTo>
                <a:close/>
                <a:moveTo>
                  <a:pt x="971719" y="741186"/>
                </a:moveTo>
                <a:lnTo>
                  <a:pt x="971719" y="791862"/>
                </a:lnTo>
                <a:lnTo>
                  <a:pt x="1086019" y="791862"/>
                </a:lnTo>
                <a:lnTo>
                  <a:pt x="1086019" y="741186"/>
                </a:lnTo>
                <a:lnTo>
                  <a:pt x="971719" y="741186"/>
                </a:lnTo>
                <a:close/>
                <a:moveTo>
                  <a:pt x="806174" y="741186"/>
                </a:moveTo>
                <a:lnTo>
                  <a:pt x="806174" y="791862"/>
                </a:lnTo>
                <a:lnTo>
                  <a:pt x="920474" y="791862"/>
                </a:lnTo>
                <a:lnTo>
                  <a:pt x="920474" y="741186"/>
                </a:lnTo>
                <a:lnTo>
                  <a:pt x="806174" y="741186"/>
                </a:lnTo>
                <a:close/>
                <a:moveTo>
                  <a:pt x="474648" y="741186"/>
                </a:moveTo>
                <a:lnTo>
                  <a:pt x="474648" y="791862"/>
                </a:lnTo>
                <a:lnTo>
                  <a:pt x="588948" y="791862"/>
                </a:lnTo>
                <a:lnTo>
                  <a:pt x="588948" y="741186"/>
                </a:lnTo>
                <a:lnTo>
                  <a:pt x="474648" y="741186"/>
                </a:lnTo>
                <a:close/>
                <a:moveTo>
                  <a:pt x="307345" y="741186"/>
                </a:moveTo>
                <a:lnTo>
                  <a:pt x="307345" y="791862"/>
                </a:lnTo>
                <a:lnTo>
                  <a:pt x="421645" y="791862"/>
                </a:lnTo>
                <a:lnTo>
                  <a:pt x="421645" y="741186"/>
                </a:lnTo>
                <a:lnTo>
                  <a:pt x="307345" y="741186"/>
                </a:lnTo>
                <a:close/>
                <a:moveTo>
                  <a:pt x="1663275" y="633151"/>
                </a:moveTo>
                <a:lnTo>
                  <a:pt x="1663275" y="683827"/>
                </a:lnTo>
                <a:lnTo>
                  <a:pt x="1777575" y="683827"/>
                </a:lnTo>
                <a:lnTo>
                  <a:pt x="1777575" y="633151"/>
                </a:lnTo>
                <a:lnTo>
                  <a:pt x="1663275" y="633151"/>
                </a:lnTo>
                <a:close/>
                <a:moveTo>
                  <a:pt x="1527698" y="633151"/>
                </a:moveTo>
                <a:lnTo>
                  <a:pt x="1527698" y="683827"/>
                </a:lnTo>
                <a:lnTo>
                  <a:pt x="1641998" y="683827"/>
                </a:lnTo>
                <a:lnTo>
                  <a:pt x="1641998" y="633151"/>
                </a:lnTo>
                <a:lnTo>
                  <a:pt x="1527698" y="633151"/>
                </a:lnTo>
                <a:close/>
                <a:moveTo>
                  <a:pt x="1360395" y="633151"/>
                </a:moveTo>
                <a:lnTo>
                  <a:pt x="1360395" y="683827"/>
                </a:lnTo>
                <a:lnTo>
                  <a:pt x="1474695" y="683827"/>
                </a:lnTo>
                <a:lnTo>
                  <a:pt x="1474695" y="633151"/>
                </a:lnTo>
                <a:lnTo>
                  <a:pt x="1360395" y="633151"/>
                </a:lnTo>
                <a:close/>
                <a:moveTo>
                  <a:pt x="1196172" y="633151"/>
                </a:moveTo>
                <a:lnTo>
                  <a:pt x="1196172" y="683827"/>
                </a:lnTo>
                <a:lnTo>
                  <a:pt x="1310472" y="683827"/>
                </a:lnTo>
                <a:lnTo>
                  <a:pt x="1310472" y="633151"/>
                </a:lnTo>
                <a:lnTo>
                  <a:pt x="1196172" y="633151"/>
                </a:lnTo>
                <a:close/>
                <a:moveTo>
                  <a:pt x="1028869" y="633151"/>
                </a:moveTo>
                <a:lnTo>
                  <a:pt x="1028869" y="683827"/>
                </a:lnTo>
                <a:lnTo>
                  <a:pt x="1143169" y="683827"/>
                </a:lnTo>
                <a:lnTo>
                  <a:pt x="1143169" y="633151"/>
                </a:lnTo>
                <a:lnTo>
                  <a:pt x="1028869" y="633151"/>
                </a:lnTo>
                <a:close/>
                <a:moveTo>
                  <a:pt x="696021" y="633151"/>
                </a:moveTo>
                <a:lnTo>
                  <a:pt x="696021" y="683827"/>
                </a:lnTo>
                <a:lnTo>
                  <a:pt x="810321" y="683827"/>
                </a:lnTo>
                <a:lnTo>
                  <a:pt x="810321" y="633151"/>
                </a:lnTo>
                <a:lnTo>
                  <a:pt x="696021" y="633151"/>
                </a:lnTo>
                <a:close/>
                <a:moveTo>
                  <a:pt x="531798" y="633151"/>
                </a:moveTo>
                <a:lnTo>
                  <a:pt x="531798" y="683827"/>
                </a:lnTo>
                <a:lnTo>
                  <a:pt x="646098" y="683827"/>
                </a:lnTo>
                <a:lnTo>
                  <a:pt x="646098" y="633151"/>
                </a:lnTo>
                <a:lnTo>
                  <a:pt x="531798" y="633151"/>
                </a:lnTo>
                <a:close/>
                <a:moveTo>
                  <a:pt x="364495" y="633151"/>
                </a:moveTo>
                <a:lnTo>
                  <a:pt x="364495" y="683827"/>
                </a:lnTo>
                <a:lnTo>
                  <a:pt x="478795" y="683827"/>
                </a:lnTo>
                <a:lnTo>
                  <a:pt x="478795" y="633151"/>
                </a:lnTo>
                <a:lnTo>
                  <a:pt x="364495" y="633151"/>
                </a:lnTo>
                <a:close/>
                <a:moveTo>
                  <a:pt x="1654380" y="519742"/>
                </a:moveTo>
                <a:lnTo>
                  <a:pt x="1654380" y="570418"/>
                </a:lnTo>
                <a:lnTo>
                  <a:pt x="1768680" y="570418"/>
                </a:lnTo>
                <a:lnTo>
                  <a:pt x="1768680" y="519742"/>
                </a:lnTo>
                <a:lnTo>
                  <a:pt x="1654380" y="519742"/>
                </a:lnTo>
                <a:close/>
                <a:moveTo>
                  <a:pt x="1518803" y="519742"/>
                </a:moveTo>
                <a:lnTo>
                  <a:pt x="1518803" y="570418"/>
                </a:lnTo>
                <a:lnTo>
                  <a:pt x="1633103" y="570418"/>
                </a:lnTo>
                <a:lnTo>
                  <a:pt x="1633103" y="519742"/>
                </a:lnTo>
                <a:lnTo>
                  <a:pt x="1518803" y="519742"/>
                </a:lnTo>
                <a:close/>
                <a:moveTo>
                  <a:pt x="1187277" y="519742"/>
                </a:moveTo>
                <a:lnTo>
                  <a:pt x="1187277" y="570418"/>
                </a:lnTo>
                <a:lnTo>
                  <a:pt x="1301577" y="570418"/>
                </a:lnTo>
                <a:lnTo>
                  <a:pt x="1301577" y="519742"/>
                </a:lnTo>
                <a:lnTo>
                  <a:pt x="1187277" y="519742"/>
                </a:lnTo>
                <a:close/>
                <a:moveTo>
                  <a:pt x="1019974" y="519742"/>
                </a:moveTo>
                <a:lnTo>
                  <a:pt x="1019974" y="570418"/>
                </a:lnTo>
                <a:lnTo>
                  <a:pt x="1134274" y="570418"/>
                </a:lnTo>
                <a:lnTo>
                  <a:pt x="1134274" y="519742"/>
                </a:lnTo>
                <a:lnTo>
                  <a:pt x="1019974" y="519742"/>
                </a:lnTo>
                <a:close/>
                <a:moveTo>
                  <a:pt x="854429" y="519742"/>
                </a:moveTo>
                <a:lnTo>
                  <a:pt x="854429" y="570418"/>
                </a:lnTo>
                <a:lnTo>
                  <a:pt x="968729" y="570418"/>
                </a:lnTo>
                <a:lnTo>
                  <a:pt x="968729" y="519742"/>
                </a:lnTo>
                <a:lnTo>
                  <a:pt x="854429" y="519742"/>
                </a:lnTo>
                <a:close/>
                <a:moveTo>
                  <a:pt x="687126" y="519742"/>
                </a:moveTo>
                <a:lnTo>
                  <a:pt x="687126" y="570418"/>
                </a:lnTo>
                <a:lnTo>
                  <a:pt x="801426" y="570418"/>
                </a:lnTo>
                <a:lnTo>
                  <a:pt x="801426" y="519742"/>
                </a:lnTo>
                <a:lnTo>
                  <a:pt x="687126" y="519742"/>
                </a:lnTo>
                <a:close/>
                <a:moveTo>
                  <a:pt x="355600" y="519742"/>
                </a:moveTo>
                <a:lnTo>
                  <a:pt x="355600" y="570418"/>
                </a:lnTo>
                <a:lnTo>
                  <a:pt x="469900" y="570418"/>
                </a:lnTo>
                <a:lnTo>
                  <a:pt x="469900" y="519742"/>
                </a:lnTo>
                <a:lnTo>
                  <a:pt x="355600" y="519742"/>
                </a:lnTo>
                <a:close/>
                <a:moveTo>
                  <a:pt x="1254479" y="392809"/>
                </a:moveTo>
                <a:lnTo>
                  <a:pt x="1254479" y="443485"/>
                </a:lnTo>
                <a:lnTo>
                  <a:pt x="1368779" y="443485"/>
                </a:lnTo>
                <a:lnTo>
                  <a:pt x="1368779" y="392809"/>
                </a:lnTo>
                <a:lnTo>
                  <a:pt x="1254479" y="392809"/>
                </a:lnTo>
                <a:close/>
                <a:moveTo>
                  <a:pt x="1087176" y="392809"/>
                </a:moveTo>
                <a:lnTo>
                  <a:pt x="1087176" y="443485"/>
                </a:lnTo>
                <a:lnTo>
                  <a:pt x="1201476" y="443485"/>
                </a:lnTo>
                <a:lnTo>
                  <a:pt x="1201476" y="392809"/>
                </a:lnTo>
                <a:lnTo>
                  <a:pt x="1087176" y="392809"/>
                </a:lnTo>
                <a:close/>
                <a:moveTo>
                  <a:pt x="922953" y="392809"/>
                </a:moveTo>
                <a:lnTo>
                  <a:pt x="922953" y="443485"/>
                </a:lnTo>
                <a:lnTo>
                  <a:pt x="1037253" y="443485"/>
                </a:lnTo>
                <a:lnTo>
                  <a:pt x="1037253" y="392809"/>
                </a:lnTo>
                <a:lnTo>
                  <a:pt x="922953" y="392809"/>
                </a:lnTo>
                <a:close/>
                <a:moveTo>
                  <a:pt x="755650" y="392809"/>
                </a:moveTo>
                <a:lnTo>
                  <a:pt x="755650" y="443485"/>
                </a:lnTo>
                <a:lnTo>
                  <a:pt x="869950" y="443485"/>
                </a:lnTo>
                <a:lnTo>
                  <a:pt x="869950" y="392809"/>
                </a:lnTo>
                <a:lnTo>
                  <a:pt x="755650" y="392809"/>
                </a:lnTo>
                <a:close/>
                <a:moveTo>
                  <a:pt x="1254479" y="279400"/>
                </a:moveTo>
                <a:lnTo>
                  <a:pt x="1254479" y="330076"/>
                </a:lnTo>
                <a:lnTo>
                  <a:pt x="1368779" y="330076"/>
                </a:lnTo>
                <a:lnTo>
                  <a:pt x="1368779" y="279400"/>
                </a:lnTo>
                <a:lnTo>
                  <a:pt x="1254479" y="279400"/>
                </a:lnTo>
                <a:close/>
                <a:moveTo>
                  <a:pt x="1087176" y="279400"/>
                </a:moveTo>
                <a:lnTo>
                  <a:pt x="1087176" y="330076"/>
                </a:lnTo>
                <a:lnTo>
                  <a:pt x="1201476" y="330076"/>
                </a:lnTo>
                <a:lnTo>
                  <a:pt x="1201476" y="279400"/>
                </a:lnTo>
                <a:lnTo>
                  <a:pt x="1087176" y="279400"/>
                </a:lnTo>
                <a:close/>
                <a:moveTo>
                  <a:pt x="755650" y="279400"/>
                </a:moveTo>
                <a:lnTo>
                  <a:pt x="755650" y="330076"/>
                </a:lnTo>
                <a:lnTo>
                  <a:pt x="869950" y="330076"/>
                </a:lnTo>
                <a:lnTo>
                  <a:pt x="869950" y="279400"/>
                </a:lnTo>
                <a:lnTo>
                  <a:pt x="755650" y="279400"/>
                </a:lnTo>
                <a:close/>
                <a:moveTo>
                  <a:pt x="1254479" y="177800"/>
                </a:moveTo>
                <a:lnTo>
                  <a:pt x="1254479" y="228476"/>
                </a:lnTo>
                <a:lnTo>
                  <a:pt x="1368779" y="228476"/>
                </a:lnTo>
                <a:lnTo>
                  <a:pt x="1368779" y="177800"/>
                </a:lnTo>
                <a:lnTo>
                  <a:pt x="1254479" y="177800"/>
                </a:lnTo>
                <a:close/>
                <a:moveTo>
                  <a:pt x="922953" y="177800"/>
                </a:moveTo>
                <a:lnTo>
                  <a:pt x="922953" y="228476"/>
                </a:lnTo>
                <a:lnTo>
                  <a:pt x="1037253" y="228476"/>
                </a:lnTo>
                <a:lnTo>
                  <a:pt x="1037253" y="177800"/>
                </a:lnTo>
                <a:lnTo>
                  <a:pt x="922953" y="177800"/>
                </a:lnTo>
                <a:close/>
                <a:moveTo>
                  <a:pt x="755650" y="177800"/>
                </a:moveTo>
                <a:lnTo>
                  <a:pt x="755650" y="228476"/>
                </a:lnTo>
                <a:lnTo>
                  <a:pt x="869950" y="228476"/>
                </a:lnTo>
                <a:lnTo>
                  <a:pt x="869950" y="177800"/>
                </a:lnTo>
                <a:lnTo>
                  <a:pt x="755650" y="177800"/>
                </a:lnTo>
                <a:close/>
                <a:moveTo>
                  <a:pt x="1254479" y="76200"/>
                </a:moveTo>
                <a:lnTo>
                  <a:pt x="1254479" y="126876"/>
                </a:lnTo>
                <a:lnTo>
                  <a:pt x="1368779" y="126876"/>
                </a:lnTo>
                <a:lnTo>
                  <a:pt x="1368779" y="76200"/>
                </a:lnTo>
                <a:lnTo>
                  <a:pt x="1254479" y="76200"/>
                </a:lnTo>
                <a:close/>
                <a:moveTo>
                  <a:pt x="1087176" y="76200"/>
                </a:moveTo>
                <a:lnTo>
                  <a:pt x="1087176" y="126876"/>
                </a:lnTo>
                <a:lnTo>
                  <a:pt x="1201476" y="126876"/>
                </a:lnTo>
                <a:lnTo>
                  <a:pt x="1201476" y="76200"/>
                </a:lnTo>
                <a:lnTo>
                  <a:pt x="1087176" y="76200"/>
                </a:lnTo>
                <a:close/>
                <a:moveTo>
                  <a:pt x="922953" y="76200"/>
                </a:moveTo>
                <a:lnTo>
                  <a:pt x="922953" y="126876"/>
                </a:lnTo>
                <a:lnTo>
                  <a:pt x="1037253" y="126876"/>
                </a:lnTo>
                <a:lnTo>
                  <a:pt x="1037253" y="76200"/>
                </a:lnTo>
                <a:lnTo>
                  <a:pt x="922953" y="76200"/>
                </a:lnTo>
                <a:close/>
                <a:moveTo>
                  <a:pt x="755650" y="76200"/>
                </a:moveTo>
                <a:lnTo>
                  <a:pt x="755650" y="126876"/>
                </a:lnTo>
                <a:lnTo>
                  <a:pt x="869950" y="126876"/>
                </a:lnTo>
                <a:lnTo>
                  <a:pt x="869950" y="76200"/>
                </a:lnTo>
                <a:lnTo>
                  <a:pt x="755650" y="76200"/>
                </a:lnTo>
                <a:close/>
                <a:moveTo>
                  <a:pt x="685800" y="0"/>
                </a:moveTo>
                <a:lnTo>
                  <a:pt x="1447800" y="0"/>
                </a:lnTo>
                <a:lnTo>
                  <a:pt x="1447800" y="453859"/>
                </a:lnTo>
                <a:lnTo>
                  <a:pt x="1815238" y="453859"/>
                </a:lnTo>
                <a:lnTo>
                  <a:pt x="2133600" y="2082891"/>
                </a:lnTo>
                <a:lnTo>
                  <a:pt x="1861699" y="2082891"/>
                </a:lnTo>
                <a:lnTo>
                  <a:pt x="1853108" y="2061678"/>
                </a:lnTo>
                <a:cubicBezTo>
                  <a:pt x="1754524" y="1882098"/>
                  <a:pt x="1521596" y="1745710"/>
                  <a:pt x="1235506" y="1706663"/>
                </a:cubicBezTo>
                <a:lnTo>
                  <a:pt x="1200064" y="1704280"/>
                </a:lnTo>
                <a:lnTo>
                  <a:pt x="1238992" y="1683151"/>
                </a:lnTo>
                <a:cubicBezTo>
                  <a:pt x="1320914" y="1627805"/>
                  <a:pt x="1374775" y="1534079"/>
                  <a:pt x="1374775" y="1427773"/>
                </a:cubicBezTo>
                <a:cubicBezTo>
                  <a:pt x="1374775" y="1257683"/>
                  <a:pt x="1236890" y="1119798"/>
                  <a:pt x="1066800" y="1119798"/>
                </a:cubicBezTo>
                <a:cubicBezTo>
                  <a:pt x="896710" y="1119798"/>
                  <a:pt x="758825" y="1257683"/>
                  <a:pt x="758825" y="1427773"/>
                </a:cubicBezTo>
                <a:cubicBezTo>
                  <a:pt x="758825" y="1534079"/>
                  <a:pt x="812686" y="1627805"/>
                  <a:pt x="894608" y="1683151"/>
                </a:cubicBezTo>
                <a:lnTo>
                  <a:pt x="933537" y="1704280"/>
                </a:lnTo>
                <a:lnTo>
                  <a:pt x="898095" y="1706663"/>
                </a:lnTo>
                <a:cubicBezTo>
                  <a:pt x="612005" y="1745710"/>
                  <a:pt x="379076" y="1882098"/>
                  <a:pt x="280492" y="2061678"/>
                </a:cubicBezTo>
                <a:lnTo>
                  <a:pt x="271901" y="2082891"/>
                </a:lnTo>
                <a:lnTo>
                  <a:pt x="0" y="2082891"/>
                </a:lnTo>
                <a:lnTo>
                  <a:pt x="318362" y="453859"/>
                </a:lnTo>
                <a:lnTo>
                  <a:pt x="685800" y="453859"/>
                </a:lnTo>
                <a:lnTo>
                  <a:pt x="685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266"/>
          <p:cNvSpPr/>
          <p:nvPr/>
        </p:nvSpPr>
        <p:spPr>
          <a:xfrm>
            <a:off x="3122640" y="2824200"/>
            <a:ext cx="46080" cy="68400"/>
          </a:xfrm>
          <a:custGeom>
            <a:avLst/>
            <a:gdLst>
              <a:gd name="textAreaLeft" fmla="*/ 0 w 46080"/>
              <a:gd name="textAreaRight" fmla="*/ 46440 w 4608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7131" h="68520">
                <a:moveTo>
                  <a:pt x="47131" y="0"/>
                </a:moveTo>
                <a:lnTo>
                  <a:pt x="0" y="68520"/>
                </a:lnTo>
                <a:lnTo>
                  <a:pt x="849" y="64906"/>
                </a:lnTo>
                <a:cubicBezTo>
                  <a:pt x="6979" y="49590"/>
                  <a:pt x="18681" y="31617"/>
                  <a:pt x="34990" y="12141"/>
                </a:cubicBezTo>
                <a:lnTo>
                  <a:pt x="47131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265"/>
          <p:cNvSpPr/>
          <p:nvPr/>
        </p:nvSpPr>
        <p:spPr>
          <a:xfrm>
            <a:off x="4456080" y="2828880"/>
            <a:ext cx="38160" cy="55440"/>
          </a:xfrm>
          <a:custGeom>
            <a:avLst/>
            <a:gdLst>
              <a:gd name="textAreaLeft" fmla="*/ 0 w 38160"/>
              <a:gd name="textAreaRight" fmla="*/ 38520 w 381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38200" h="55536">
                <a:moveTo>
                  <a:pt x="0" y="0"/>
                </a:moveTo>
                <a:lnTo>
                  <a:pt x="5534" y="5534"/>
                </a:lnTo>
                <a:cubicBezTo>
                  <a:pt x="13688" y="15272"/>
                  <a:pt x="20691" y="24634"/>
                  <a:pt x="26422" y="-32060"/>
                </a:cubicBezTo>
                <a:lnTo>
                  <a:pt x="-27336" y="-1000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262"/>
          <p:cNvSpPr/>
          <p:nvPr/>
        </p:nvSpPr>
        <p:spPr>
          <a:xfrm>
            <a:off x="3133800" y="2933640"/>
            <a:ext cx="44280" cy="4680"/>
          </a:xfrm>
          <a:custGeom>
            <a:avLst/>
            <a:gdLst>
              <a:gd name="textAreaLeft" fmla="*/ 0 w 44280"/>
              <a:gd name="textAreaRight" fmla="*/ 44280 w 442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44455" h="4266">
                <a:moveTo>
                  <a:pt x="0" y="0"/>
                </a:moveTo>
                <a:lnTo>
                  <a:pt x="-21081" y="0"/>
                </a:lnTo>
                <a:lnTo>
                  <a:pt x="22566" y="4266"/>
                </a:lnTo>
                <a:cubicBezTo>
                  <a:pt x="14318" y="4257"/>
                  <a:pt x="7204" y="3202"/>
                  <a:pt x="1406" y="1043"/>
                </a:cubicBez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261"/>
          <p:cNvSpPr/>
          <p:nvPr/>
        </p:nvSpPr>
        <p:spPr>
          <a:xfrm>
            <a:off x="4448160" y="2933640"/>
            <a:ext cx="31680" cy="3240"/>
          </a:xfrm>
          <a:custGeom>
            <a:avLst/>
            <a:gdLst>
              <a:gd name="textAreaLeft" fmla="*/ 0 w 31680"/>
              <a:gd name="textAreaRight" fmla="*/ 32040 w 31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1336" h="2679">
                <a:moveTo>
                  <a:pt x="0" y="0"/>
                </a:moveTo>
                <a:lnTo>
                  <a:pt x="31336" y="0"/>
                </a:lnTo>
                <a:lnTo>
                  <a:pt x="13746" y="2679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组合 289"/>
          <p:cNvGrpSpPr/>
          <p:nvPr/>
        </p:nvGrpSpPr>
        <p:grpSpPr>
          <a:xfrm>
            <a:off x="1044720" y="5056200"/>
            <a:ext cx="1001520" cy="1442880"/>
            <a:chOff x="1044720" y="5056200"/>
            <a:chExt cx="1001520" cy="1442880"/>
          </a:xfrm>
        </p:grpSpPr>
        <p:sp>
          <p:nvSpPr>
            <p:cNvPr id="1171" name="圆角矩形 279"/>
            <p:cNvSpPr/>
            <p:nvPr/>
          </p:nvSpPr>
          <p:spPr>
            <a:xfrm>
              <a:off x="1702440" y="5966280"/>
              <a:ext cx="191880" cy="528120"/>
            </a:xfrm>
            <a:custGeom>
              <a:avLst/>
              <a:gdLst>
                <a:gd name="textAreaLeft" fmla="*/ 28080 w 191880"/>
                <a:gd name="textAreaRight" fmla="*/ 163800 w 191880"/>
                <a:gd name="textAreaTop" fmla="*/ 28080 h 528120"/>
                <a:gd name="textAreaBottom" fmla="*/ 500040 h 528120"/>
              </a:gdLst>
              <a:ahLst/>
              <a:rect l="textAreaLeft" t="textAreaTop" r="textAreaRight" b="textAreaBottom"/>
              <a:pathLst>
                <a:path w="21600" h="59380">
                  <a:moveTo>
                    <a:pt x="10800" y="0"/>
                  </a:moveTo>
                  <a:arcTo wR="10800" hR="10800" stAng="16200000" swAng="-5400000"/>
                  <a:lnTo>
                    <a:pt x="0" y="48580"/>
                  </a:lnTo>
                  <a:arcTo wR="10800" hR="10800" stAng="10800000" swAng="-5400000"/>
                  <a:lnTo>
                    <a:pt x="10800" y="5938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2" name="组合 288"/>
            <p:cNvGrpSpPr/>
            <p:nvPr/>
          </p:nvGrpSpPr>
          <p:grpSpPr>
            <a:xfrm>
              <a:off x="1044720" y="5056200"/>
              <a:ext cx="1001520" cy="1442880"/>
              <a:chOff x="1044720" y="5056200"/>
              <a:chExt cx="1001520" cy="1442880"/>
            </a:xfrm>
          </p:grpSpPr>
          <p:sp>
            <p:nvSpPr>
              <p:cNvPr id="1173" name="任意多边形 275"/>
              <p:cNvSpPr/>
              <p:nvPr/>
            </p:nvSpPr>
            <p:spPr>
              <a:xfrm>
                <a:off x="1084680" y="5442120"/>
                <a:ext cx="921240" cy="524160"/>
              </a:xfrm>
              <a:custGeom>
                <a:avLst/>
                <a:gdLst>
                  <a:gd name="textAreaLeft" fmla="*/ 0 w 921240"/>
                  <a:gd name="textAreaRight" fmla="*/ 921240 w 921240"/>
                  <a:gd name="textAreaTop" fmla="*/ 0 h 524160"/>
                  <a:gd name="textAreaBottom" fmla="*/ 524520 h 524160"/>
                </a:gdLst>
                <a:ahLst/>
                <a:rect l="textAreaLeft" t="textAreaTop" r="textAreaRight" b="textAreaBottom"/>
                <a:pathLst>
                  <a:path w="2618293" h="1266417">
                    <a:moveTo>
                      <a:pt x="2539226" y="1237942"/>
                    </a:moveTo>
                    <a:lnTo>
                      <a:pt x="2539225" y="1237943"/>
                    </a:lnTo>
                    <a:lnTo>
                      <a:pt x="2539225" y="1237942"/>
                    </a:lnTo>
                    <a:lnTo>
                      <a:pt x="2539226" y="1237942"/>
                    </a:lnTo>
                    <a:close/>
                    <a:moveTo>
                      <a:pt x="73664" y="1230975"/>
                    </a:moveTo>
                    <a:lnTo>
                      <a:pt x="73664" y="1230976"/>
                    </a:lnTo>
                    <a:lnTo>
                      <a:pt x="73664" y="1230975"/>
                    </a:lnTo>
                    <a:close/>
                    <a:moveTo>
                      <a:pt x="661662" y="0"/>
                    </a:moveTo>
                    <a:lnTo>
                      <a:pt x="1969734" y="0"/>
                    </a:lnTo>
                    <a:lnTo>
                      <a:pt x="2477315" y="824209"/>
                    </a:lnTo>
                    <a:lnTo>
                      <a:pt x="2589818" y="996294"/>
                    </a:lnTo>
                    <a:lnTo>
                      <a:pt x="2601842" y="1026415"/>
                    </a:lnTo>
                    <a:lnTo>
                      <a:pt x="2611098" y="1041446"/>
                    </a:lnTo>
                    <a:lnTo>
                      <a:pt x="2607842" y="1041446"/>
                    </a:lnTo>
                    <a:lnTo>
                      <a:pt x="2615519" y="1060678"/>
                    </a:lnTo>
                    <a:cubicBezTo>
                      <a:pt x="2623588" y="1105309"/>
                      <a:pt x="2613890" y="1151630"/>
                      <a:pt x="2588595" y="1189276"/>
                    </a:cubicBezTo>
                    <a:lnTo>
                      <a:pt x="2539225" y="1237942"/>
                    </a:lnTo>
                    <a:lnTo>
                      <a:pt x="2474842" y="1263643"/>
                    </a:lnTo>
                    <a:cubicBezTo>
                      <a:pt x="2407896" y="1275748"/>
                      <a:pt x="2337147" y="1247875"/>
                      <a:pt x="2297578" y="1187350"/>
                    </a:cubicBezTo>
                    <a:lnTo>
                      <a:pt x="2202191" y="1041446"/>
                    </a:lnTo>
                    <a:lnTo>
                      <a:pt x="421902" y="1041446"/>
                    </a:lnTo>
                    <a:lnTo>
                      <a:pt x="317035" y="1189455"/>
                    </a:lnTo>
                    <a:cubicBezTo>
                      <a:pt x="275230" y="1248458"/>
                      <a:pt x="203488" y="1273666"/>
                      <a:pt x="137041" y="1259066"/>
                    </a:cubicBezTo>
                    <a:lnTo>
                      <a:pt x="73664" y="1230976"/>
                    </a:lnTo>
                    <a:lnTo>
                      <a:pt x="26149" y="1180497"/>
                    </a:lnTo>
                    <a:cubicBezTo>
                      <a:pt x="-9656" y="1122649"/>
                      <a:pt x="-9661" y="1046608"/>
                      <a:pt x="32144" y="987605"/>
                    </a:cubicBezTo>
                    <a:lnTo>
                      <a:pt x="195069" y="757654"/>
                    </a:lnTo>
                    <a:lnTo>
                      <a:pt x="6616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矩形 276"/>
              <p:cNvSpPr/>
              <p:nvPr/>
            </p:nvSpPr>
            <p:spPr>
              <a:xfrm>
                <a:off x="1264680" y="5836680"/>
                <a:ext cx="56808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矩形 277"/>
              <p:cNvSpPr/>
              <p:nvPr/>
            </p:nvSpPr>
            <p:spPr>
              <a:xfrm>
                <a:off x="1196640" y="5941080"/>
                <a:ext cx="69912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圆角矩形 278"/>
              <p:cNvSpPr/>
              <p:nvPr/>
            </p:nvSpPr>
            <p:spPr>
              <a:xfrm>
                <a:off x="1196640" y="5969520"/>
                <a:ext cx="191880" cy="528120"/>
              </a:xfrm>
              <a:custGeom>
                <a:avLst/>
                <a:gdLst>
                  <a:gd name="textAreaLeft" fmla="*/ 28080 w 191880"/>
                  <a:gd name="textAreaRight" fmla="*/ 163800 w 191880"/>
                  <a:gd name="textAreaTop" fmla="*/ 28080 h 528120"/>
                  <a:gd name="textAreaBottom" fmla="*/ 500040 h 528120"/>
                </a:gdLst>
                <a:ahLst/>
                <a:rect l="textAreaLeft" t="textAreaTop" r="textAreaRight" b="textAreaBottom"/>
                <a:pathLst>
                  <a:path w="21600" h="59380">
                    <a:moveTo>
                      <a:pt x="10800" y="0"/>
                    </a:moveTo>
                    <a:arcTo wR="10800" hR="10800" stAng="16200000" swAng="-5400000"/>
                    <a:lnTo>
                      <a:pt x="0" y="48580"/>
                    </a:lnTo>
                    <a:arcTo wR="10800" hR="10800" stAng="10800000" swAng="-5400000"/>
                    <a:lnTo>
                      <a:pt x="10800" y="5938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椭圆 280"/>
              <p:cNvSpPr/>
              <p:nvPr/>
            </p:nvSpPr>
            <p:spPr>
              <a:xfrm>
                <a:off x="1355040" y="5056200"/>
                <a:ext cx="361800" cy="36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圆角矩形 281"/>
              <p:cNvSpPr/>
              <p:nvPr/>
            </p:nvSpPr>
            <p:spPr>
              <a:xfrm>
                <a:off x="1044720" y="5902200"/>
                <a:ext cx="146160" cy="595440"/>
              </a:xfrm>
              <a:custGeom>
                <a:avLst/>
                <a:gdLst>
                  <a:gd name="textAreaLeft" fmla="*/ 21240 w 146160"/>
                  <a:gd name="textAreaRight" fmla="*/ 124920 w 146160"/>
                  <a:gd name="textAreaTop" fmla="*/ 21240 h 595440"/>
                  <a:gd name="textAreaBottom" fmla="*/ 574200 h 595440"/>
                </a:gdLst>
                <a:ahLst/>
                <a:rect l="textAreaLeft" t="textAreaTop" r="textAreaRight" b="textAreaBottom"/>
                <a:pathLst>
                  <a:path w="21600" h="87833">
                    <a:moveTo>
                      <a:pt x="10800" y="0"/>
                    </a:moveTo>
                    <a:arcTo wR="10800" hR="10800" stAng="16200000" swAng="-5400000"/>
                    <a:lnTo>
                      <a:pt x="0" y="77033"/>
                    </a:lnTo>
                    <a:arcTo wR="10800" hR="10800" stAng="10800000" swAng="-5400000"/>
                    <a:lnTo>
                      <a:pt x="10800" y="878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圆角矩形 284"/>
              <p:cNvSpPr/>
              <p:nvPr/>
            </p:nvSpPr>
            <p:spPr>
              <a:xfrm>
                <a:off x="1896840" y="5903640"/>
                <a:ext cx="149400" cy="595440"/>
              </a:xfrm>
              <a:custGeom>
                <a:avLst/>
                <a:gdLst>
                  <a:gd name="textAreaLeft" fmla="*/ 21600 w 149400"/>
                  <a:gd name="textAreaRight" fmla="*/ 127800 w 149400"/>
                  <a:gd name="textAreaTop" fmla="*/ 21600 h 595440"/>
                  <a:gd name="textAreaBottom" fmla="*/ 573840 h 595440"/>
                </a:gdLst>
                <a:ahLst/>
                <a:rect l="textAreaLeft" t="textAreaTop" r="textAreaRight" b="textAreaBottom"/>
                <a:pathLst>
                  <a:path w="21600" h="85933">
                    <a:moveTo>
                      <a:pt x="10800" y="0"/>
                    </a:moveTo>
                    <a:arcTo wR="10800" hR="10800" stAng="16200000" swAng="-5400000"/>
                    <a:lnTo>
                      <a:pt x="0" y="75133"/>
                    </a:lnTo>
                    <a:arcTo wR="10800" hR="10800" stAng="10800000" swAng="-5400000"/>
                    <a:lnTo>
                      <a:pt x="10800" y="859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圆角矩形 285"/>
              <p:cNvSpPr/>
              <p:nvPr/>
            </p:nvSpPr>
            <p:spPr>
              <a:xfrm>
                <a:off x="1127880" y="5193720"/>
                <a:ext cx="844200" cy="676440"/>
              </a:xfrm>
              <a:prstGeom prst="roundRect">
                <a:avLst>
                  <a:gd name="adj" fmla="val 11602"/>
                </a:avLst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直接连接符 287"/>
              <p:cNvSpPr/>
              <p:nvPr/>
            </p:nvSpPr>
            <p:spPr>
              <a:xfrm>
                <a:off x="1388880" y="6372000"/>
                <a:ext cx="327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组合 335"/>
          <p:cNvGrpSpPr/>
          <p:nvPr/>
        </p:nvGrpSpPr>
        <p:grpSpPr>
          <a:xfrm>
            <a:off x="4494240" y="5178600"/>
            <a:ext cx="1182600" cy="1247760"/>
            <a:chOff x="4494240" y="5178600"/>
            <a:chExt cx="1182600" cy="1247760"/>
          </a:xfrm>
        </p:grpSpPr>
        <p:grpSp>
          <p:nvGrpSpPr>
            <p:cNvPr id="1183" name="组合 298"/>
            <p:cNvGrpSpPr/>
            <p:nvPr/>
          </p:nvGrpSpPr>
          <p:grpSpPr>
            <a:xfrm>
              <a:off x="4494240" y="5729400"/>
              <a:ext cx="1182600" cy="696960"/>
              <a:chOff x="4494240" y="5729400"/>
              <a:chExt cx="1182600" cy="696960"/>
            </a:xfrm>
          </p:grpSpPr>
          <p:sp>
            <p:nvSpPr>
              <p:cNvPr id="1184" name="圆角矩形 291"/>
              <p:cNvSpPr/>
              <p:nvPr/>
            </p:nvSpPr>
            <p:spPr>
              <a:xfrm rot="19838400">
                <a:off x="4735800" y="5715360"/>
                <a:ext cx="110880" cy="71856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560"/>
                  <a:gd name="textAreaBottom" fmla="*/ 713160 h 718560"/>
                </a:gdLst>
                <a:ahLst/>
                <a:rect l="textAreaLeft" t="textAreaTop" r="textAreaRight" b="textAreaBottom"/>
                <a:pathLst>
                  <a:path w="21600" h="139596">
                    <a:moveTo>
                      <a:pt x="3600" y="0"/>
                    </a:moveTo>
                    <a:arcTo wR="3600" hR="3600" stAng="16200000" swAng="-5400000"/>
                    <a:lnTo>
                      <a:pt x="0" y="135996"/>
                    </a:lnTo>
                    <a:arcTo wR="3600" hR="3600" stAng="10800000" swAng="-5400000"/>
                    <a:lnTo>
                      <a:pt x="18000" y="1395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矩形 292"/>
              <p:cNvSpPr/>
              <p:nvPr/>
            </p:nvSpPr>
            <p:spPr>
              <a:xfrm>
                <a:off x="4494240" y="5729400"/>
                <a:ext cx="22176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矩形 294"/>
              <p:cNvSpPr/>
              <p:nvPr/>
            </p:nvSpPr>
            <p:spPr>
              <a:xfrm>
                <a:off x="5465160" y="5740920"/>
                <a:ext cx="21168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椭圆 295"/>
              <p:cNvSpPr/>
              <p:nvPr/>
            </p:nvSpPr>
            <p:spPr>
              <a:xfrm>
                <a:off x="4944600" y="5778360"/>
                <a:ext cx="276120" cy="41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圆角矩形 296"/>
              <p:cNvSpPr/>
              <p:nvPr/>
            </p:nvSpPr>
            <p:spPr>
              <a:xfrm flipH="1" rot="1761600">
                <a:off x="5329800" y="5726160"/>
                <a:ext cx="110880" cy="7189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920"/>
                  <a:gd name="textAreaBottom" fmla="*/ 713520 h 718920"/>
                </a:gdLst>
                <a:ahLst/>
                <a:rect l="textAreaLeft" t="textAreaTop" r="textAreaRight" b="textAreaBottom"/>
                <a:pathLst>
                  <a:path w="21600" h="139666">
                    <a:moveTo>
                      <a:pt x="3600" y="0"/>
                    </a:moveTo>
                    <a:arcTo wR="3600" hR="3600" stAng="16200000" swAng="-5400000"/>
                    <a:lnTo>
                      <a:pt x="0" y="136066"/>
                    </a:lnTo>
                    <a:arcTo wR="3600" hR="3600" stAng="10800000" swAng="-5400000"/>
                    <a:lnTo>
                      <a:pt x="18000" y="139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9" name="任意多边形 334"/>
            <p:cNvSpPr/>
            <p:nvPr/>
          </p:nvSpPr>
          <p:spPr>
            <a:xfrm>
              <a:off x="4494240" y="5178600"/>
              <a:ext cx="1180080" cy="513720"/>
            </a:xfrm>
            <a:custGeom>
              <a:avLst/>
              <a:gdLst>
                <a:gd name="textAreaLeft" fmla="*/ 0 w 1180080"/>
                <a:gd name="textAreaRight" fmla="*/ 1180440 w 118008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3574748" h="1556557">
                  <a:moveTo>
                    <a:pt x="670236" y="1152533"/>
                  </a:moveTo>
                  <a:lnTo>
                    <a:pt x="670236" y="1237851"/>
                  </a:lnTo>
                  <a:lnTo>
                    <a:pt x="871423" y="1237851"/>
                  </a:lnTo>
                  <a:lnTo>
                    <a:pt x="871423" y="1152533"/>
                  </a:lnTo>
                  <a:lnTo>
                    <a:pt x="670236" y="1152533"/>
                  </a:lnTo>
                  <a:close/>
                  <a:moveTo>
                    <a:pt x="938823" y="1144757"/>
                  </a:moveTo>
                  <a:lnTo>
                    <a:pt x="938823" y="1230075"/>
                  </a:lnTo>
                  <a:lnTo>
                    <a:pt x="1140010" y="1230075"/>
                  </a:lnTo>
                  <a:lnTo>
                    <a:pt x="1140010" y="1144757"/>
                  </a:lnTo>
                  <a:lnTo>
                    <a:pt x="938823" y="1144757"/>
                  </a:lnTo>
                  <a:close/>
                  <a:moveTo>
                    <a:pt x="3008929" y="1039466"/>
                  </a:moveTo>
                  <a:lnTo>
                    <a:pt x="3008929" y="1124784"/>
                  </a:lnTo>
                  <a:lnTo>
                    <a:pt x="3210116" y="1124784"/>
                  </a:lnTo>
                  <a:lnTo>
                    <a:pt x="3210116" y="1039466"/>
                  </a:lnTo>
                  <a:lnTo>
                    <a:pt x="3008929" y="1039466"/>
                  </a:lnTo>
                  <a:close/>
                  <a:moveTo>
                    <a:pt x="2198449" y="1039466"/>
                  </a:moveTo>
                  <a:lnTo>
                    <a:pt x="2198449" y="1124784"/>
                  </a:lnTo>
                  <a:lnTo>
                    <a:pt x="2399636" y="1124784"/>
                  </a:lnTo>
                  <a:lnTo>
                    <a:pt x="2399636" y="1039466"/>
                  </a:lnTo>
                  <a:lnTo>
                    <a:pt x="2198449" y="1039466"/>
                  </a:lnTo>
                  <a:close/>
                  <a:moveTo>
                    <a:pt x="2467036" y="1031690"/>
                  </a:moveTo>
                  <a:lnTo>
                    <a:pt x="2467036" y="1117008"/>
                  </a:lnTo>
                  <a:lnTo>
                    <a:pt x="2668223" y="1117008"/>
                  </a:lnTo>
                  <a:lnTo>
                    <a:pt x="2668223" y="1031690"/>
                  </a:lnTo>
                  <a:lnTo>
                    <a:pt x="2467036" y="1031690"/>
                  </a:lnTo>
                  <a:close/>
                  <a:moveTo>
                    <a:pt x="130301" y="978739"/>
                  </a:moveTo>
                  <a:lnTo>
                    <a:pt x="130301" y="1064057"/>
                  </a:lnTo>
                  <a:lnTo>
                    <a:pt x="331488" y="1064057"/>
                  </a:lnTo>
                  <a:lnTo>
                    <a:pt x="331488" y="978739"/>
                  </a:lnTo>
                  <a:lnTo>
                    <a:pt x="130301" y="978739"/>
                  </a:lnTo>
                  <a:close/>
                  <a:moveTo>
                    <a:pt x="2789397" y="865559"/>
                  </a:moveTo>
                  <a:lnTo>
                    <a:pt x="2789397" y="950877"/>
                  </a:lnTo>
                  <a:lnTo>
                    <a:pt x="2990584" y="950877"/>
                  </a:lnTo>
                  <a:lnTo>
                    <a:pt x="2990584" y="865559"/>
                  </a:lnTo>
                  <a:lnTo>
                    <a:pt x="2789397" y="865559"/>
                  </a:lnTo>
                  <a:close/>
                  <a:moveTo>
                    <a:pt x="2198449" y="865559"/>
                  </a:moveTo>
                  <a:lnTo>
                    <a:pt x="2198449" y="950877"/>
                  </a:lnTo>
                  <a:lnTo>
                    <a:pt x="2399636" y="950877"/>
                  </a:lnTo>
                  <a:lnTo>
                    <a:pt x="2399636" y="865559"/>
                  </a:lnTo>
                  <a:lnTo>
                    <a:pt x="2198449" y="865559"/>
                  </a:lnTo>
                  <a:close/>
                  <a:moveTo>
                    <a:pt x="2467036" y="857783"/>
                  </a:moveTo>
                  <a:lnTo>
                    <a:pt x="2467036" y="943101"/>
                  </a:lnTo>
                  <a:lnTo>
                    <a:pt x="2668223" y="943101"/>
                  </a:lnTo>
                  <a:lnTo>
                    <a:pt x="2668223" y="857783"/>
                  </a:lnTo>
                  <a:lnTo>
                    <a:pt x="2467036" y="857783"/>
                  </a:lnTo>
                  <a:close/>
                  <a:moveTo>
                    <a:pt x="130301" y="836840"/>
                  </a:moveTo>
                  <a:lnTo>
                    <a:pt x="130301" y="922158"/>
                  </a:lnTo>
                  <a:lnTo>
                    <a:pt x="331488" y="922158"/>
                  </a:lnTo>
                  <a:lnTo>
                    <a:pt x="331488" y="836840"/>
                  </a:lnTo>
                  <a:lnTo>
                    <a:pt x="130301" y="836840"/>
                  </a:lnTo>
                  <a:close/>
                  <a:moveTo>
                    <a:pt x="899320" y="740650"/>
                  </a:moveTo>
                  <a:lnTo>
                    <a:pt x="899320" y="825968"/>
                  </a:lnTo>
                  <a:lnTo>
                    <a:pt x="1100507" y="825968"/>
                  </a:lnTo>
                  <a:lnTo>
                    <a:pt x="1100507" y="740650"/>
                  </a:lnTo>
                  <a:lnTo>
                    <a:pt x="899320" y="740650"/>
                  </a:lnTo>
                  <a:close/>
                  <a:moveTo>
                    <a:pt x="1167907" y="732874"/>
                  </a:moveTo>
                  <a:lnTo>
                    <a:pt x="1167907" y="818192"/>
                  </a:lnTo>
                  <a:lnTo>
                    <a:pt x="1369094" y="818192"/>
                  </a:lnTo>
                  <a:lnTo>
                    <a:pt x="1369094" y="732874"/>
                  </a:lnTo>
                  <a:lnTo>
                    <a:pt x="1167907" y="732874"/>
                  </a:lnTo>
                  <a:close/>
                  <a:moveTo>
                    <a:pt x="2198449" y="720634"/>
                  </a:moveTo>
                  <a:lnTo>
                    <a:pt x="2198449" y="805952"/>
                  </a:lnTo>
                  <a:lnTo>
                    <a:pt x="2399636" y="805952"/>
                  </a:lnTo>
                  <a:lnTo>
                    <a:pt x="2399636" y="720634"/>
                  </a:lnTo>
                  <a:lnTo>
                    <a:pt x="2198449" y="720634"/>
                  </a:lnTo>
                  <a:close/>
                  <a:moveTo>
                    <a:pt x="2467036" y="712858"/>
                  </a:moveTo>
                  <a:lnTo>
                    <a:pt x="2467036" y="798176"/>
                  </a:lnTo>
                  <a:lnTo>
                    <a:pt x="2668223" y="798176"/>
                  </a:lnTo>
                  <a:lnTo>
                    <a:pt x="2668223" y="712858"/>
                  </a:lnTo>
                  <a:lnTo>
                    <a:pt x="2467036" y="712858"/>
                  </a:lnTo>
                  <a:close/>
                  <a:moveTo>
                    <a:pt x="130301" y="675249"/>
                  </a:moveTo>
                  <a:lnTo>
                    <a:pt x="130301" y="760567"/>
                  </a:lnTo>
                  <a:lnTo>
                    <a:pt x="331488" y="760567"/>
                  </a:lnTo>
                  <a:lnTo>
                    <a:pt x="331488" y="675249"/>
                  </a:lnTo>
                  <a:lnTo>
                    <a:pt x="130301" y="675249"/>
                  </a:lnTo>
                  <a:close/>
                  <a:moveTo>
                    <a:pt x="2198449" y="583674"/>
                  </a:moveTo>
                  <a:lnTo>
                    <a:pt x="2198449" y="668992"/>
                  </a:lnTo>
                  <a:lnTo>
                    <a:pt x="2399636" y="668992"/>
                  </a:lnTo>
                  <a:lnTo>
                    <a:pt x="2399636" y="583674"/>
                  </a:lnTo>
                  <a:lnTo>
                    <a:pt x="2198449" y="583674"/>
                  </a:lnTo>
                  <a:close/>
                  <a:moveTo>
                    <a:pt x="2467036" y="575898"/>
                  </a:moveTo>
                  <a:lnTo>
                    <a:pt x="2467036" y="661216"/>
                  </a:lnTo>
                  <a:lnTo>
                    <a:pt x="2668223" y="661216"/>
                  </a:lnTo>
                  <a:lnTo>
                    <a:pt x="2668223" y="575898"/>
                  </a:lnTo>
                  <a:lnTo>
                    <a:pt x="2467036" y="575898"/>
                  </a:lnTo>
                  <a:close/>
                  <a:moveTo>
                    <a:pt x="3023843" y="559365"/>
                  </a:moveTo>
                  <a:lnTo>
                    <a:pt x="3023843" y="644683"/>
                  </a:lnTo>
                  <a:lnTo>
                    <a:pt x="3225030" y="644683"/>
                  </a:lnTo>
                  <a:lnTo>
                    <a:pt x="3225030" y="559365"/>
                  </a:lnTo>
                  <a:lnTo>
                    <a:pt x="3023843" y="559365"/>
                  </a:lnTo>
                  <a:close/>
                  <a:moveTo>
                    <a:pt x="134855" y="513658"/>
                  </a:moveTo>
                  <a:lnTo>
                    <a:pt x="134855" y="598976"/>
                  </a:lnTo>
                  <a:lnTo>
                    <a:pt x="336042" y="598976"/>
                  </a:lnTo>
                  <a:lnTo>
                    <a:pt x="336042" y="513658"/>
                  </a:lnTo>
                  <a:lnTo>
                    <a:pt x="134855" y="513658"/>
                  </a:lnTo>
                  <a:close/>
                  <a:moveTo>
                    <a:pt x="134855" y="347963"/>
                  </a:moveTo>
                  <a:lnTo>
                    <a:pt x="134855" y="433281"/>
                  </a:lnTo>
                  <a:lnTo>
                    <a:pt x="336042" y="433281"/>
                  </a:lnTo>
                  <a:lnTo>
                    <a:pt x="336042" y="347963"/>
                  </a:lnTo>
                  <a:lnTo>
                    <a:pt x="134855" y="347963"/>
                  </a:lnTo>
                  <a:close/>
                  <a:moveTo>
                    <a:pt x="1104379" y="318396"/>
                  </a:moveTo>
                  <a:lnTo>
                    <a:pt x="1104379" y="403714"/>
                  </a:lnTo>
                  <a:lnTo>
                    <a:pt x="1305566" y="403714"/>
                  </a:lnTo>
                  <a:lnTo>
                    <a:pt x="1305566" y="318396"/>
                  </a:lnTo>
                  <a:lnTo>
                    <a:pt x="1104379" y="318396"/>
                  </a:lnTo>
                  <a:close/>
                  <a:moveTo>
                    <a:pt x="1104380" y="142738"/>
                  </a:moveTo>
                  <a:lnTo>
                    <a:pt x="1104380" y="228056"/>
                  </a:lnTo>
                  <a:lnTo>
                    <a:pt x="1305567" y="228056"/>
                  </a:lnTo>
                  <a:lnTo>
                    <a:pt x="1305567" y="142738"/>
                  </a:lnTo>
                  <a:lnTo>
                    <a:pt x="1104380" y="142738"/>
                  </a:lnTo>
                  <a:close/>
                  <a:moveTo>
                    <a:pt x="942223" y="0"/>
                  </a:moveTo>
                  <a:lnTo>
                    <a:pt x="1435141" y="0"/>
                  </a:lnTo>
                  <a:lnTo>
                    <a:pt x="1435141" y="616233"/>
                  </a:lnTo>
                  <a:lnTo>
                    <a:pt x="1853445" y="616233"/>
                  </a:lnTo>
                  <a:lnTo>
                    <a:pt x="1853445" y="908218"/>
                  </a:lnTo>
                  <a:lnTo>
                    <a:pt x="2036161" y="908218"/>
                  </a:lnTo>
                  <a:lnTo>
                    <a:pt x="2036161" y="433281"/>
                  </a:lnTo>
                  <a:lnTo>
                    <a:pt x="2453882" y="433281"/>
                  </a:lnTo>
                  <a:lnTo>
                    <a:pt x="2453882" y="103152"/>
                  </a:lnTo>
                  <a:lnTo>
                    <a:pt x="2946800" y="103152"/>
                  </a:lnTo>
                  <a:lnTo>
                    <a:pt x="2946800" y="316662"/>
                  </a:lnTo>
                  <a:lnTo>
                    <a:pt x="3347033" y="316662"/>
                  </a:lnTo>
                  <a:lnTo>
                    <a:pt x="3347033" y="908218"/>
                  </a:lnTo>
                  <a:lnTo>
                    <a:pt x="3574748" y="908218"/>
                  </a:lnTo>
                  <a:lnTo>
                    <a:pt x="3574748" y="1556557"/>
                  </a:lnTo>
                  <a:lnTo>
                    <a:pt x="0" y="1556557"/>
                  </a:lnTo>
                  <a:lnTo>
                    <a:pt x="0" y="908218"/>
                  </a:lnTo>
                  <a:lnTo>
                    <a:pt x="866" y="908218"/>
                  </a:lnTo>
                  <a:lnTo>
                    <a:pt x="866" y="235301"/>
                  </a:lnTo>
                  <a:lnTo>
                    <a:pt x="493784" y="235301"/>
                  </a:lnTo>
                  <a:lnTo>
                    <a:pt x="493784" y="908218"/>
                  </a:lnTo>
                  <a:lnTo>
                    <a:pt x="719899" y="908218"/>
                  </a:lnTo>
                  <a:lnTo>
                    <a:pt x="719899" y="616233"/>
                  </a:lnTo>
                  <a:lnTo>
                    <a:pt x="942223" y="616233"/>
                  </a:lnTo>
                  <a:lnTo>
                    <a:pt x="9422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任意多边形 359"/>
          <p:cNvSpPr/>
          <p:nvPr/>
        </p:nvSpPr>
        <p:spPr>
          <a:xfrm>
            <a:off x="7985160" y="5243400"/>
            <a:ext cx="1177920" cy="115596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2276552" h="2231118">
                <a:moveTo>
                  <a:pt x="750891" y="0"/>
                </a:moveTo>
                <a:lnTo>
                  <a:pt x="1323477" y="0"/>
                </a:lnTo>
                <a:lnTo>
                  <a:pt x="1323477" y="398569"/>
                </a:lnTo>
                <a:lnTo>
                  <a:pt x="1519405" y="398569"/>
                </a:lnTo>
                <a:lnTo>
                  <a:pt x="1519405" y="285592"/>
                </a:lnTo>
                <a:lnTo>
                  <a:pt x="2091991" y="285592"/>
                </a:lnTo>
                <a:lnTo>
                  <a:pt x="2091991" y="1288501"/>
                </a:lnTo>
                <a:lnTo>
                  <a:pt x="2276552" y="1288501"/>
                </a:lnTo>
                <a:lnTo>
                  <a:pt x="2276552" y="2231118"/>
                </a:lnTo>
                <a:lnTo>
                  <a:pt x="1369866" y="2231118"/>
                </a:lnTo>
                <a:lnTo>
                  <a:pt x="1369866" y="1883954"/>
                </a:lnTo>
                <a:lnTo>
                  <a:pt x="1152311" y="1680897"/>
                </a:lnTo>
                <a:lnTo>
                  <a:pt x="1128022" y="1680897"/>
                </a:lnTo>
                <a:lnTo>
                  <a:pt x="1128022" y="1460733"/>
                </a:lnTo>
                <a:lnTo>
                  <a:pt x="904978" y="1100731"/>
                </a:lnTo>
                <a:lnTo>
                  <a:pt x="850619" y="1137381"/>
                </a:lnTo>
                <a:cubicBezTo>
                  <a:pt x="805157" y="1182843"/>
                  <a:pt x="777036" y="1245651"/>
                  <a:pt x="777036" y="1315025"/>
                </a:cubicBezTo>
                <a:lnTo>
                  <a:pt x="777036" y="1485300"/>
                </a:lnTo>
                <a:lnTo>
                  <a:pt x="693872" y="1540367"/>
                </a:lnTo>
                <a:lnTo>
                  <a:pt x="777036" y="1540367"/>
                </a:lnTo>
                <a:lnTo>
                  <a:pt x="777036" y="1676074"/>
                </a:lnTo>
                <a:cubicBezTo>
                  <a:pt x="777036" y="1814823"/>
                  <a:pt x="889515" y="1927302"/>
                  <a:pt x="1028264" y="1927302"/>
                </a:cubicBezTo>
                <a:lnTo>
                  <a:pt x="1085466" y="1927302"/>
                </a:lnTo>
                <a:lnTo>
                  <a:pt x="1085466" y="2231118"/>
                </a:lnTo>
                <a:lnTo>
                  <a:pt x="5796" y="2231118"/>
                </a:lnTo>
                <a:lnTo>
                  <a:pt x="5796" y="1888286"/>
                </a:lnTo>
                <a:lnTo>
                  <a:pt x="0" y="1888286"/>
                </a:lnTo>
                <a:lnTo>
                  <a:pt x="0" y="945669"/>
                </a:lnTo>
                <a:lnTo>
                  <a:pt x="126240" y="945669"/>
                </a:lnTo>
                <a:lnTo>
                  <a:pt x="126240" y="471258"/>
                </a:lnTo>
                <a:lnTo>
                  <a:pt x="698826" y="471258"/>
                </a:lnTo>
                <a:lnTo>
                  <a:pt x="698826" y="602837"/>
                </a:lnTo>
                <a:lnTo>
                  <a:pt x="750891" y="602837"/>
                </a:lnTo>
                <a:lnTo>
                  <a:pt x="7508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373"/>
          <p:cNvSpPr/>
          <p:nvPr/>
        </p:nvSpPr>
        <p:spPr>
          <a:xfrm>
            <a:off x="2440080" y="1523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374"/>
          <p:cNvSpPr/>
          <p:nvPr/>
        </p:nvSpPr>
        <p:spPr>
          <a:xfrm>
            <a:off x="9112320" y="32259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建一级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375"/>
          <p:cNvSpPr/>
          <p:nvPr/>
        </p:nvSpPr>
        <p:spPr>
          <a:xfrm>
            <a:off x="2340000" y="3397320"/>
            <a:ext cx="2322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公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私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376"/>
          <p:cNvSpPr/>
          <p:nvPr/>
        </p:nvSpPr>
        <p:spPr>
          <a:xfrm>
            <a:off x="2206800" y="5342040"/>
            <a:ext cx="232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个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377"/>
          <p:cNvSpPr/>
          <p:nvPr/>
        </p:nvSpPr>
        <p:spPr>
          <a:xfrm>
            <a:off x="5661000" y="530712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工程造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378"/>
          <p:cNvSpPr/>
          <p:nvPr/>
        </p:nvSpPr>
        <p:spPr>
          <a:xfrm>
            <a:off x="5992920" y="16095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379"/>
          <p:cNvSpPr/>
          <p:nvPr/>
        </p:nvSpPr>
        <p:spPr>
          <a:xfrm>
            <a:off x="9218520" y="165564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文本框 380"/>
          <p:cNvSpPr/>
          <p:nvPr/>
        </p:nvSpPr>
        <p:spPr>
          <a:xfrm>
            <a:off x="9236160" y="540072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土建造价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文本框 381"/>
          <p:cNvSpPr/>
          <p:nvPr/>
        </p:nvSpPr>
        <p:spPr>
          <a:xfrm>
            <a:off x="4346640" y="35751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a3838"/>
                </a:solidFill>
                <a:latin typeface="微软雅黑"/>
                <a:ea typeface="微软雅黑"/>
              </a:rPr>
              <a:t>土豪年终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组合 386"/>
          <p:cNvGrpSpPr/>
          <p:nvPr/>
        </p:nvGrpSpPr>
        <p:grpSpPr>
          <a:xfrm>
            <a:off x="290520" y="393840"/>
            <a:ext cx="812880" cy="701640"/>
            <a:chOff x="290520" y="393840"/>
            <a:chExt cx="812880" cy="701640"/>
          </a:xfrm>
        </p:grpSpPr>
        <p:sp>
          <p:nvSpPr>
            <p:cNvPr id="1201" name="任意多边形 382"/>
            <p:cNvSpPr/>
            <p:nvPr/>
          </p:nvSpPr>
          <p:spPr>
            <a:xfrm>
              <a:off x="290520" y="551880"/>
              <a:ext cx="784440" cy="543600"/>
            </a:xfrm>
            <a:custGeom>
              <a:avLst/>
              <a:gdLst>
                <a:gd name="textAreaLeft" fmla="*/ 0 w 784440"/>
                <a:gd name="textAreaRight" fmla="*/ 784800 w 784440"/>
                <a:gd name="textAreaTop" fmla="*/ 0 h 543600"/>
                <a:gd name="textAreaBottom" fmla="*/ 543960 h 543600"/>
              </a:gdLst>
              <a:ahLst/>
              <a:rect l="textAreaLeft" t="textAreaTop" r="textAreaRight" b="textAreaBottom"/>
              <a:pathLst>
                <a:path w="2133600" h="1480457">
                  <a:moveTo>
                    <a:pt x="1005114" y="914401"/>
                  </a:moveTo>
                  <a:lnTo>
                    <a:pt x="943428" y="1262744"/>
                  </a:lnTo>
                  <a:lnTo>
                    <a:pt x="1190171" y="1262744"/>
                  </a:lnTo>
                  <a:lnTo>
                    <a:pt x="1128485" y="914401"/>
                  </a:lnTo>
                  <a:lnTo>
                    <a:pt x="1005114" y="914401"/>
                  </a:lnTo>
                  <a:close/>
                  <a:moveTo>
                    <a:pt x="1689758" y="865885"/>
                  </a:moveTo>
                  <a:lnTo>
                    <a:pt x="1568583" y="889058"/>
                  </a:lnTo>
                  <a:lnTo>
                    <a:pt x="1573425" y="1242787"/>
                  </a:lnTo>
                  <a:lnTo>
                    <a:pt x="1815776" y="1196441"/>
                  </a:lnTo>
                  <a:lnTo>
                    <a:pt x="1689758" y="865885"/>
                  </a:lnTo>
                  <a:close/>
                  <a:moveTo>
                    <a:pt x="419060" y="853141"/>
                  </a:moveTo>
                  <a:lnTo>
                    <a:pt x="295123" y="1184482"/>
                  </a:lnTo>
                  <a:lnTo>
                    <a:pt x="537760" y="1229304"/>
                  </a:lnTo>
                  <a:lnTo>
                    <a:pt x="540379" y="875552"/>
                  </a:lnTo>
                  <a:lnTo>
                    <a:pt x="419060" y="853141"/>
                  </a:lnTo>
                  <a:close/>
                  <a:moveTo>
                    <a:pt x="1066800" y="0"/>
                  </a:moveTo>
                  <a:cubicBezTo>
                    <a:pt x="1655977" y="0"/>
                    <a:pt x="2133600" y="157178"/>
                    <a:pt x="2133600" y="351068"/>
                  </a:cubicBezTo>
                  <a:lnTo>
                    <a:pt x="2133600" y="1129389"/>
                  </a:lnTo>
                  <a:cubicBezTo>
                    <a:pt x="2133600" y="1323279"/>
                    <a:pt x="1655977" y="1480457"/>
                    <a:pt x="1066800" y="1480457"/>
                  </a:cubicBezTo>
                  <a:cubicBezTo>
                    <a:pt x="477623" y="1480457"/>
                    <a:pt x="0" y="1323279"/>
                    <a:pt x="0" y="1129389"/>
                  </a:cubicBezTo>
                  <a:lnTo>
                    <a:pt x="0" y="351068"/>
                  </a:lnTo>
                  <a:cubicBezTo>
                    <a:pt x="0" y="157178"/>
                    <a:pt x="477623" y="0"/>
                    <a:pt x="1066800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椭圆 384"/>
            <p:cNvSpPr/>
            <p:nvPr/>
          </p:nvSpPr>
          <p:spPr>
            <a:xfrm>
              <a:off x="290520" y="551880"/>
              <a:ext cx="784440" cy="255600"/>
            </a:xfrm>
            <a:prstGeom prst="ellipse">
              <a:avLst/>
            </a:prstGeom>
            <a:solidFill>
              <a:srgbClr val="cb1b5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3" name="图片 385" descr=""/>
            <p:cNvPicPr/>
            <p:nvPr/>
          </p:nvPicPr>
          <p:blipFill>
            <a:blip r:embed="rId1"/>
            <a:srcRect l="0" t="0" r="0" b="38388"/>
            <a:stretch/>
          </p:blipFill>
          <p:spPr>
            <a:xfrm>
              <a:off x="291960" y="393840"/>
              <a:ext cx="811440" cy="36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5" name="组合 176"/>
          <p:cNvGrpSpPr/>
          <p:nvPr/>
        </p:nvGrpSpPr>
        <p:grpSpPr>
          <a:xfrm>
            <a:off x="46080" y="1206360"/>
            <a:ext cx="12106080" cy="4424400"/>
            <a:chOff x="46080" y="1206360"/>
            <a:chExt cx="12106080" cy="4424400"/>
          </a:xfrm>
        </p:grpSpPr>
        <p:sp>
          <p:nvSpPr>
            <p:cNvPr id="1206" name="矩形 168"/>
            <p:cNvSpPr/>
            <p:nvPr/>
          </p:nvSpPr>
          <p:spPr>
            <a:xfrm>
              <a:off x="47160" y="342828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169"/>
            <p:cNvSpPr/>
            <p:nvPr/>
          </p:nvSpPr>
          <p:spPr>
            <a:xfrm>
              <a:off x="3068640" y="342828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170"/>
            <p:cNvSpPr/>
            <p:nvPr/>
          </p:nvSpPr>
          <p:spPr>
            <a:xfrm>
              <a:off x="6099480" y="342864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171"/>
            <p:cNvSpPr/>
            <p:nvPr/>
          </p:nvSpPr>
          <p:spPr>
            <a:xfrm>
              <a:off x="9122760" y="342828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172"/>
            <p:cNvSpPr/>
            <p:nvPr/>
          </p:nvSpPr>
          <p:spPr>
            <a:xfrm>
              <a:off x="46080" y="120636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矩形 173"/>
            <p:cNvSpPr/>
            <p:nvPr/>
          </p:nvSpPr>
          <p:spPr>
            <a:xfrm>
              <a:off x="3067560" y="120636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矩形 174"/>
            <p:cNvSpPr/>
            <p:nvPr/>
          </p:nvSpPr>
          <p:spPr>
            <a:xfrm>
              <a:off x="6098040" y="120636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矩形 175"/>
            <p:cNvSpPr/>
            <p:nvPr/>
          </p:nvSpPr>
          <p:spPr>
            <a:xfrm>
              <a:off x="9136080" y="120636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组合 46"/>
          <p:cNvGrpSpPr/>
          <p:nvPr/>
        </p:nvGrpSpPr>
        <p:grpSpPr>
          <a:xfrm>
            <a:off x="145800" y="1851120"/>
            <a:ext cx="939960" cy="741240"/>
            <a:chOff x="145800" y="1851120"/>
            <a:chExt cx="939960" cy="741240"/>
          </a:xfrm>
        </p:grpSpPr>
        <p:grpSp>
          <p:nvGrpSpPr>
            <p:cNvPr id="1215" name="组合 33"/>
            <p:cNvGrpSpPr/>
            <p:nvPr/>
          </p:nvGrpSpPr>
          <p:grpSpPr>
            <a:xfrm>
              <a:off x="664920" y="1905840"/>
              <a:ext cx="420840" cy="686520"/>
              <a:chOff x="664920" y="1905840"/>
              <a:chExt cx="420840" cy="686520"/>
            </a:xfrm>
          </p:grpSpPr>
          <p:grpSp>
            <p:nvGrpSpPr>
              <p:cNvPr id="1216" name="组合 13"/>
              <p:cNvGrpSpPr/>
              <p:nvPr/>
            </p:nvGrpSpPr>
            <p:grpSpPr>
              <a:xfrm>
                <a:off x="664920" y="1905840"/>
                <a:ext cx="371160" cy="492480"/>
                <a:chOff x="664920" y="1905840"/>
                <a:chExt cx="371160" cy="492480"/>
              </a:xfrm>
            </p:grpSpPr>
            <p:sp>
              <p:nvSpPr>
                <p:cNvPr id="1217" name="圆角矩形 27"/>
                <p:cNvSpPr/>
                <p:nvPr/>
              </p:nvSpPr>
              <p:spPr>
                <a:xfrm>
                  <a:off x="894960" y="204912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圆角矩形 28"/>
                <p:cNvSpPr/>
                <p:nvPr/>
              </p:nvSpPr>
              <p:spPr>
                <a:xfrm>
                  <a:off x="749160" y="231120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圆角矩形 29"/>
                <p:cNvSpPr/>
                <p:nvPr/>
              </p:nvSpPr>
              <p:spPr>
                <a:xfrm rot="19995600">
                  <a:off x="793800" y="20829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圆角矩形 30"/>
                <p:cNvSpPr/>
                <p:nvPr/>
              </p:nvSpPr>
              <p:spPr>
                <a:xfrm>
                  <a:off x="664920" y="21135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矩形 31"/>
                <p:cNvSpPr/>
                <p:nvPr/>
              </p:nvSpPr>
              <p:spPr>
                <a:xfrm rot="660000">
                  <a:off x="716040" y="2027520"/>
                  <a:ext cx="12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椭圆 32"/>
                <p:cNvSpPr/>
                <p:nvPr/>
              </p:nvSpPr>
              <p:spPr>
                <a:xfrm>
                  <a:off x="877680" y="190584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3" name="矩形 14"/>
              <p:cNvSpPr/>
              <p:nvPr/>
            </p:nvSpPr>
            <p:spPr>
              <a:xfrm>
                <a:off x="1059480" y="211356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组合 34"/>
            <p:cNvGrpSpPr/>
            <p:nvPr/>
          </p:nvGrpSpPr>
          <p:grpSpPr>
            <a:xfrm>
              <a:off x="145800" y="1904400"/>
              <a:ext cx="420840" cy="686520"/>
              <a:chOff x="145800" y="1904400"/>
              <a:chExt cx="420840" cy="686520"/>
            </a:xfrm>
          </p:grpSpPr>
          <p:grpSp>
            <p:nvGrpSpPr>
              <p:cNvPr id="1225" name="组合 35"/>
              <p:cNvGrpSpPr/>
              <p:nvPr/>
            </p:nvGrpSpPr>
            <p:grpSpPr>
              <a:xfrm>
                <a:off x="195480" y="1904400"/>
                <a:ext cx="371160" cy="492480"/>
                <a:chOff x="195480" y="1904400"/>
                <a:chExt cx="371160" cy="492480"/>
              </a:xfrm>
            </p:grpSpPr>
            <p:sp>
              <p:nvSpPr>
                <p:cNvPr id="1226" name="圆角矩形 37"/>
                <p:cNvSpPr/>
                <p:nvPr/>
              </p:nvSpPr>
              <p:spPr>
                <a:xfrm flipH="1">
                  <a:off x="195480" y="204768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38"/>
                <p:cNvSpPr/>
                <p:nvPr/>
              </p:nvSpPr>
              <p:spPr>
                <a:xfrm flipH="1">
                  <a:off x="221760" y="230976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圆角矩形 39"/>
                <p:cNvSpPr/>
                <p:nvPr/>
              </p:nvSpPr>
              <p:spPr>
                <a:xfrm flipH="1" rot="1604400">
                  <a:off x="260640" y="20815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圆角矩形 40"/>
                <p:cNvSpPr/>
                <p:nvPr/>
              </p:nvSpPr>
              <p:spPr>
                <a:xfrm flipH="1">
                  <a:off x="389520" y="21121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矩形 41"/>
                <p:cNvSpPr/>
                <p:nvPr/>
              </p:nvSpPr>
              <p:spPr>
                <a:xfrm flipH="1" rot="20940000">
                  <a:off x="502560" y="2026080"/>
                  <a:ext cx="1224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椭圆 42"/>
                <p:cNvSpPr/>
                <p:nvPr/>
              </p:nvSpPr>
              <p:spPr>
                <a:xfrm flipH="1">
                  <a:off x="225000" y="190440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2" name="矩形 36"/>
              <p:cNvSpPr/>
              <p:nvPr/>
            </p:nvSpPr>
            <p:spPr>
              <a:xfrm flipH="1">
                <a:off x="145440" y="211212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3" name="圆角矩形 43"/>
            <p:cNvSpPr/>
            <p:nvPr/>
          </p:nvSpPr>
          <p:spPr>
            <a:xfrm>
              <a:off x="482760" y="2025720"/>
              <a:ext cx="265320" cy="301680"/>
            </a:xfrm>
            <a:custGeom>
              <a:avLst/>
              <a:gdLst>
                <a:gd name="textAreaLeft" fmla="*/ 12960 w 265320"/>
                <a:gd name="textAreaRight" fmla="*/ 252360 w 265320"/>
                <a:gd name="textAreaTop" fmla="*/ 12960 h 301680"/>
                <a:gd name="textAreaBottom" fmla="*/ 288720 h 301680"/>
              </a:gdLst>
              <a:ahLst/>
              <a:rect l="textAreaLeft" t="textAreaTop" r="textAreaRight" b="textAreaBottom"/>
              <a:pathLst>
                <a:path w="21600" h="24556">
                  <a:moveTo>
                    <a:pt x="3600" y="0"/>
                  </a:moveTo>
                  <a:arcTo wR="3600" hR="3600" stAng="16200000" swAng="-5400000"/>
                  <a:lnTo>
                    <a:pt x="0" y="20956"/>
                  </a:lnTo>
                  <a:arcTo wR="3600" hR="3600" stAng="10800000" swAng="-5400000"/>
                  <a:lnTo>
                    <a:pt x="18000" y="245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椭圆 44"/>
            <p:cNvSpPr/>
            <p:nvPr/>
          </p:nvSpPr>
          <p:spPr>
            <a:xfrm>
              <a:off x="528840" y="1851120"/>
              <a:ext cx="141480" cy="142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矩形 45"/>
            <p:cNvSpPr/>
            <p:nvPr/>
          </p:nvSpPr>
          <p:spPr>
            <a:xfrm>
              <a:off x="412560" y="2202120"/>
              <a:ext cx="4053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组合 58"/>
          <p:cNvGrpSpPr/>
          <p:nvPr/>
        </p:nvGrpSpPr>
        <p:grpSpPr>
          <a:xfrm>
            <a:off x="3187800" y="1542960"/>
            <a:ext cx="1015920" cy="1136520"/>
            <a:chOff x="3187800" y="1542960"/>
            <a:chExt cx="1015920" cy="1136520"/>
          </a:xfrm>
        </p:grpSpPr>
        <p:sp>
          <p:nvSpPr>
            <p:cNvPr id="1237" name="任意多边形 49"/>
            <p:cNvSpPr/>
            <p:nvPr/>
          </p:nvSpPr>
          <p:spPr>
            <a:xfrm>
              <a:off x="3299040" y="1664280"/>
              <a:ext cx="196560" cy="439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任意多边形 50"/>
            <p:cNvSpPr/>
            <p:nvPr/>
          </p:nvSpPr>
          <p:spPr>
            <a:xfrm>
              <a:off x="3594240" y="1542960"/>
              <a:ext cx="196560" cy="439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任意多边形 51"/>
            <p:cNvSpPr/>
            <p:nvPr/>
          </p:nvSpPr>
          <p:spPr>
            <a:xfrm>
              <a:off x="3243240" y="1922040"/>
              <a:ext cx="196560" cy="439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任意多边形 52"/>
            <p:cNvSpPr/>
            <p:nvPr/>
          </p:nvSpPr>
          <p:spPr>
            <a:xfrm>
              <a:off x="3187800" y="2225520"/>
              <a:ext cx="196560" cy="439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任意多边形 53"/>
            <p:cNvSpPr/>
            <p:nvPr/>
          </p:nvSpPr>
          <p:spPr>
            <a:xfrm>
              <a:off x="3889080" y="1664280"/>
              <a:ext cx="196560" cy="439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任意多边形 54"/>
            <p:cNvSpPr/>
            <p:nvPr/>
          </p:nvSpPr>
          <p:spPr>
            <a:xfrm>
              <a:off x="3958200" y="1918440"/>
              <a:ext cx="196560" cy="439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任意多边形 55"/>
            <p:cNvSpPr/>
            <p:nvPr/>
          </p:nvSpPr>
          <p:spPr>
            <a:xfrm>
              <a:off x="4007160" y="2225520"/>
              <a:ext cx="196560" cy="439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梯形 57"/>
            <p:cNvSpPr/>
            <p:nvPr/>
          </p:nvSpPr>
          <p:spPr>
            <a:xfrm flipV="1">
              <a:off x="3305520" y="1876680"/>
              <a:ext cx="786600" cy="802440"/>
            </a:xfrm>
            <a:custGeom>
              <a:avLst/>
              <a:gdLst>
                <a:gd name="textAreaLeft" fmla="*/ 163800 w 786600"/>
                <a:gd name="textAreaRight" fmla="*/ 622800 w 786600"/>
                <a:gd name="textAreaTop" fmla="*/ 167040 h 802440"/>
                <a:gd name="textAreaBottom" fmla="*/ 635400 h 80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组合 105"/>
          <p:cNvGrpSpPr/>
          <p:nvPr/>
        </p:nvGrpSpPr>
        <p:grpSpPr>
          <a:xfrm>
            <a:off x="6184800" y="4157640"/>
            <a:ext cx="906480" cy="835200"/>
            <a:chOff x="6184800" y="4157640"/>
            <a:chExt cx="906480" cy="835200"/>
          </a:xfrm>
        </p:grpSpPr>
        <p:sp>
          <p:nvSpPr>
            <p:cNvPr id="1246" name="直接连接符 104"/>
            <p:cNvSpPr/>
            <p:nvPr/>
          </p:nvSpPr>
          <p:spPr>
            <a:xfrm flipV="1">
              <a:off x="6618240" y="4255560"/>
              <a:ext cx="236520" cy="216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7" name="组合 64"/>
            <p:cNvGrpSpPr/>
            <p:nvPr/>
          </p:nvGrpSpPr>
          <p:grpSpPr>
            <a:xfrm>
              <a:off x="6769800" y="4157640"/>
              <a:ext cx="321480" cy="835200"/>
              <a:chOff x="6769800" y="4157640"/>
              <a:chExt cx="321480" cy="835200"/>
            </a:xfrm>
          </p:grpSpPr>
          <p:sp>
            <p:nvSpPr>
              <p:cNvPr id="1248" name="任意多边形 65"/>
              <p:cNvSpPr/>
              <p:nvPr/>
            </p:nvSpPr>
            <p:spPr>
              <a:xfrm>
                <a:off x="6841440" y="4382280"/>
                <a:ext cx="177840" cy="61056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610560"/>
                  <a:gd name="textAreaBottom" fmla="*/ 610920 h 610560"/>
                </a:gdLst>
                <a:ahLst/>
                <a:rect l="textAreaLeft" t="textAreaTop" r="textAreaRight" b="textAreaBottom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圆角矩形 66"/>
              <p:cNvSpPr/>
              <p:nvPr/>
            </p:nvSpPr>
            <p:spPr>
              <a:xfrm>
                <a:off x="6769800" y="4391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椭圆 67"/>
              <p:cNvSpPr/>
              <p:nvPr/>
            </p:nvSpPr>
            <p:spPr>
              <a:xfrm>
                <a:off x="6854760" y="4157640"/>
                <a:ext cx="151200" cy="19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圆角矩形 68"/>
              <p:cNvSpPr/>
              <p:nvPr/>
            </p:nvSpPr>
            <p:spPr>
              <a:xfrm>
                <a:off x="7034760" y="4382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2" name="组合 102"/>
            <p:cNvGrpSpPr/>
            <p:nvPr/>
          </p:nvGrpSpPr>
          <p:grpSpPr>
            <a:xfrm>
              <a:off x="6184800" y="4204080"/>
              <a:ext cx="459720" cy="781920"/>
              <a:chOff x="6184800" y="4204080"/>
              <a:chExt cx="459720" cy="781920"/>
            </a:xfrm>
          </p:grpSpPr>
          <p:sp>
            <p:nvSpPr>
              <p:cNvPr id="1253" name="矩形 85"/>
              <p:cNvSpPr/>
              <p:nvPr/>
            </p:nvSpPr>
            <p:spPr>
              <a:xfrm>
                <a:off x="6184800" y="4204080"/>
                <a:ext cx="18972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矩形 86"/>
              <p:cNvSpPr/>
              <p:nvPr/>
            </p:nvSpPr>
            <p:spPr>
              <a:xfrm>
                <a:off x="618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矩形 88"/>
              <p:cNvSpPr/>
              <p:nvPr/>
            </p:nvSpPr>
            <p:spPr>
              <a:xfrm>
                <a:off x="6184800" y="46918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矩形 89"/>
              <p:cNvSpPr/>
              <p:nvPr/>
            </p:nvSpPr>
            <p:spPr>
              <a:xfrm>
                <a:off x="645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矩形 90"/>
              <p:cNvSpPr/>
              <p:nvPr/>
            </p:nvSpPr>
            <p:spPr>
              <a:xfrm>
                <a:off x="6454800" y="469224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矩形 91"/>
              <p:cNvSpPr/>
              <p:nvPr/>
            </p:nvSpPr>
            <p:spPr>
              <a:xfrm>
                <a:off x="6185880" y="4887720"/>
                <a:ext cx="458640" cy="9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矩形 92"/>
              <p:cNvSpPr/>
              <p:nvPr/>
            </p:nvSpPr>
            <p:spPr>
              <a:xfrm>
                <a:off x="6461280" y="4209120"/>
                <a:ext cx="156960" cy="9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直接连接符 94"/>
              <p:cNvSpPr/>
              <p:nvPr/>
            </p:nvSpPr>
            <p:spPr>
              <a:xfrm>
                <a:off x="6279480" y="4358880"/>
                <a:ext cx="0" cy="52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直接连接符 96"/>
              <p:cNvSpPr/>
              <p:nvPr/>
            </p:nvSpPr>
            <p:spPr>
              <a:xfrm>
                <a:off x="6539760" y="4306320"/>
                <a:ext cx="6480" cy="66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直接连接符 98"/>
              <p:cNvSpPr/>
              <p:nvPr/>
            </p:nvSpPr>
            <p:spPr>
              <a:xfrm>
                <a:off x="6374520" y="475740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直接连接符 99"/>
              <p:cNvSpPr/>
              <p:nvPr/>
            </p:nvSpPr>
            <p:spPr>
              <a:xfrm>
                <a:off x="6380280" y="454284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直接连接符 100"/>
              <p:cNvSpPr/>
              <p:nvPr/>
            </p:nvSpPr>
            <p:spPr>
              <a:xfrm>
                <a:off x="6368400" y="4257360"/>
                <a:ext cx="9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5" name="组合 163"/>
          <p:cNvGrpSpPr/>
          <p:nvPr/>
        </p:nvGrpSpPr>
        <p:grpSpPr>
          <a:xfrm>
            <a:off x="9223200" y="4051440"/>
            <a:ext cx="1128960" cy="811080"/>
            <a:chOff x="9223200" y="4051440"/>
            <a:chExt cx="1128960" cy="811080"/>
          </a:xfrm>
        </p:grpSpPr>
        <p:sp>
          <p:nvSpPr>
            <p:cNvPr id="1266" name="任意多边形 118"/>
            <p:cNvSpPr/>
            <p:nvPr/>
          </p:nvSpPr>
          <p:spPr>
            <a:xfrm>
              <a:off x="9223200" y="4162320"/>
              <a:ext cx="852840" cy="700200"/>
            </a:xfrm>
            <a:custGeom>
              <a:avLst/>
              <a:gdLst>
                <a:gd name="textAreaLeft" fmla="*/ 0 w 852840"/>
                <a:gd name="textAreaRight" fmla="*/ 853200 w 85284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2452914" h="1466019">
                  <a:moveTo>
                    <a:pt x="2039258" y="722161"/>
                  </a:moveTo>
                  <a:cubicBezTo>
                    <a:pt x="1955090" y="722161"/>
                    <a:pt x="1886858" y="790393"/>
                    <a:pt x="1886858" y="874561"/>
                  </a:cubicBezTo>
                  <a:cubicBezTo>
                    <a:pt x="1886858" y="958729"/>
                    <a:pt x="1955090" y="1026961"/>
                    <a:pt x="2039258" y="1026961"/>
                  </a:cubicBezTo>
                  <a:cubicBezTo>
                    <a:pt x="2123426" y="1026961"/>
                    <a:pt x="2191658" y="958729"/>
                    <a:pt x="2191658" y="874561"/>
                  </a:cubicBezTo>
                  <a:cubicBezTo>
                    <a:pt x="2191658" y="790393"/>
                    <a:pt x="2123426" y="722161"/>
                    <a:pt x="2039258" y="722161"/>
                  </a:cubicBezTo>
                  <a:close/>
                  <a:moveTo>
                    <a:pt x="471714" y="722161"/>
                  </a:moveTo>
                  <a:cubicBezTo>
                    <a:pt x="387546" y="722161"/>
                    <a:pt x="319314" y="790393"/>
                    <a:pt x="319314" y="874561"/>
                  </a:cubicBezTo>
                  <a:cubicBezTo>
                    <a:pt x="319314" y="958729"/>
                    <a:pt x="387546" y="1026961"/>
                    <a:pt x="471714" y="1026961"/>
                  </a:cubicBezTo>
                  <a:cubicBezTo>
                    <a:pt x="555882" y="1026961"/>
                    <a:pt x="624114" y="958729"/>
                    <a:pt x="624114" y="874561"/>
                  </a:cubicBezTo>
                  <a:cubicBezTo>
                    <a:pt x="624114" y="790393"/>
                    <a:pt x="555882" y="722161"/>
                    <a:pt x="471714" y="722161"/>
                  </a:cubicBezTo>
                  <a:close/>
                  <a:moveTo>
                    <a:pt x="684626" y="58728"/>
                  </a:moveTo>
                  <a:lnTo>
                    <a:pt x="565032" y="537103"/>
                  </a:lnTo>
                  <a:lnTo>
                    <a:pt x="1931424" y="537103"/>
                  </a:lnTo>
                  <a:lnTo>
                    <a:pt x="1811830" y="58728"/>
                  </a:lnTo>
                  <a:lnTo>
                    <a:pt x="684626" y="58728"/>
                  </a:lnTo>
                  <a:close/>
                  <a:moveTo>
                    <a:pt x="574101" y="0"/>
                  </a:moveTo>
                  <a:lnTo>
                    <a:pt x="1922356" y="0"/>
                  </a:lnTo>
                  <a:lnTo>
                    <a:pt x="2056632" y="537103"/>
                  </a:lnTo>
                  <a:lnTo>
                    <a:pt x="2089542" y="537103"/>
                  </a:lnTo>
                  <a:cubicBezTo>
                    <a:pt x="2290227" y="537103"/>
                    <a:pt x="2452914" y="699790"/>
                    <a:pt x="2452914" y="900475"/>
                  </a:cubicBezTo>
                  <a:lnTo>
                    <a:pt x="2452914" y="960574"/>
                  </a:lnTo>
                  <a:cubicBezTo>
                    <a:pt x="2452914" y="1010745"/>
                    <a:pt x="2442746" y="1058542"/>
                    <a:pt x="2424359" y="1102015"/>
                  </a:cubicBezTo>
                  <a:lnTo>
                    <a:pt x="2396466" y="1153404"/>
                  </a:lnTo>
                  <a:lnTo>
                    <a:pt x="2152367" y="1153404"/>
                  </a:lnTo>
                  <a:lnTo>
                    <a:pt x="2155373" y="1160662"/>
                  </a:lnTo>
                  <a:lnTo>
                    <a:pt x="2155373" y="1415217"/>
                  </a:lnTo>
                  <a:cubicBezTo>
                    <a:pt x="2155373" y="1443274"/>
                    <a:pt x="2132629" y="1466018"/>
                    <a:pt x="2104572" y="1466018"/>
                  </a:cubicBezTo>
                  <a:lnTo>
                    <a:pt x="1901374" y="1466018"/>
                  </a:lnTo>
                  <a:cubicBezTo>
                    <a:pt x="1873317" y="1466018"/>
                    <a:pt x="1850573" y="1443274"/>
                    <a:pt x="1850573" y="1415217"/>
                  </a:cubicBezTo>
                  <a:lnTo>
                    <a:pt x="1850573" y="1160662"/>
                  </a:lnTo>
                  <a:lnTo>
                    <a:pt x="1853580" y="1153404"/>
                  </a:lnTo>
                  <a:lnTo>
                    <a:pt x="621107" y="1153404"/>
                  </a:lnTo>
                  <a:lnTo>
                    <a:pt x="624114" y="1160663"/>
                  </a:lnTo>
                  <a:lnTo>
                    <a:pt x="624114" y="1415218"/>
                  </a:lnTo>
                  <a:cubicBezTo>
                    <a:pt x="624114" y="1443275"/>
                    <a:pt x="601370" y="1466019"/>
                    <a:pt x="573313" y="1466019"/>
                  </a:cubicBezTo>
                  <a:lnTo>
                    <a:pt x="370115" y="1466019"/>
                  </a:lnTo>
                  <a:cubicBezTo>
                    <a:pt x="342058" y="1466019"/>
                    <a:pt x="319314" y="1443275"/>
                    <a:pt x="319314" y="1415218"/>
                  </a:cubicBezTo>
                  <a:lnTo>
                    <a:pt x="319314" y="1160663"/>
                  </a:lnTo>
                  <a:lnTo>
                    <a:pt x="322321" y="1153404"/>
                  </a:lnTo>
                  <a:lnTo>
                    <a:pt x="56449" y="1153404"/>
                  </a:lnTo>
                  <a:lnTo>
                    <a:pt x="28556" y="1102015"/>
                  </a:lnTo>
                  <a:cubicBezTo>
                    <a:pt x="10168" y="1058542"/>
                    <a:pt x="0" y="1010745"/>
                    <a:pt x="0" y="960574"/>
                  </a:cubicBezTo>
                  <a:lnTo>
                    <a:pt x="0" y="900475"/>
                  </a:lnTo>
                  <a:cubicBezTo>
                    <a:pt x="0" y="699790"/>
                    <a:pt x="162687" y="537103"/>
                    <a:pt x="363372" y="537103"/>
                  </a:cubicBezTo>
                  <a:lnTo>
                    <a:pt x="439825" y="537103"/>
                  </a:lnTo>
                  <a:lnTo>
                    <a:pt x="57410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7" name="组合 124"/>
            <p:cNvGrpSpPr/>
            <p:nvPr/>
          </p:nvGrpSpPr>
          <p:grpSpPr>
            <a:xfrm>
              <a:off x="10076040" y="4051440"/>
              <a:ext cx="276120" cy="808200"/>
              <a:chOff x="10076040" y="4051440"/>
              <a:chExt cx="276120" cy="808200"/>
            </a:xfrm>
          </p:grpSpPr>
          <p:sp>
            <p:nvSpPr>
              <p:cNvPr id="1268" name="任意多边形 125"/>
              <p:cNvSpPr/>
              <p:nvPr/>
            </p:nvSpPr>
            <p:spPr>
              <a:xfrm>
                <a:off x="10137600" y="4268880"/>
                <a:ext cx="152640" cy="59076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590760"/>
                  <a:gd name="textAreaBottom" fmla="*/ 591120 h 590760"/>
                </a:gdLst>
                <a:ahLst/>
                <a:rect l="textAreaLeft" t="textAreaTop" r="textAreaRight" b="textAreaBottom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圆角矩形 126"/>
              <p:cNvSpPr/>
              <p:nvPr/>
            </p:nvSpPr>
            <p:spPr>
              <a:xfrm>
                <a:off x="10076040" y="427788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椭圆 127"/>
              <p:cNvSpPr/>
              <p:nvPr/>
            </p:nvSpPr>
            <p:spPr>
              <a:xfrm>
                <a:off x="10149120" y="4051440"/>
                <a:ext cx="129600" cy="18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圆角矩形 128"/>
              <p:cNvSpPr/>
              <p:nvPr/>
            </p:nvSpPr>
            <p:spPr>
              <a:xfrm>
                <a:off x="10303560" y="426924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2" name="组合 158"/>
          <p:cNvGrpSpPr/>
          <p:nvPr/>
        </p:nvGrpSpPr>
        <p:grpSpPr>
          <a:xfrm>
            <a:off x="3249720" y="3940200"/>
            <a:ext cx="565200" cy="1271520"/>
            <a:chOff x="3249720" y="3940200"/>
            <a:chExt cx="565200" cy="1271520"/>
          </a:xfrm>
        </p:grpSpPr>
        <p:sp>
          <p:nvSpPr>
            <p:cNvPr id="1273" name="任意多边形 159"/>
            <p:cNvSpPr/>
            <p:nvPr/>
          </p:nvSpPr>
          <p:spPr>
            <a:xfrm>
              <a:off x="3375720" y="4282560"/>
              <a:ext cx="312840" cy="92916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929160"/>
                <a:gd name="textAreaBottom" fmla="*/ 929520 h 929160"/>
              </a:gdLst>
              <a:ahLst/>
              <a:rect l="textAreaLeft" t="textAreaTop" r="textAreaRight" b="textAreaBottom"/>
              <a:pathLst>
                <a:path w="1404185" h="3717757">
                  <a:moveTo>
                    <a:pt x="703514" y="184150"/>
                  </a:moveTo>
                  <a:cubicBezTo>
                    <a:pt x="634160" y="184150"/>
                    <a:pt x="577938" y="223864"/>
                    <a:pt x="577938" y="272852"/>
                  </a:cubicBezTo>
                  <a:cubicBezTo>
                    <a:pt x="577938" y="297346"/>
                    <a:pt x="591994" y="319522"/>
                    <a:pt x="614719" y="335573"/>
                  </a:cubicBezTo>
                  <a:lnTo>
                    <a:pt x="639676" y="347459"/>
                  </a:lnTo>
                  <a:lnTo>
                    <a:pt x="577939" y="1222436"/>
                  </a:lnTo>
                  <a:lnTo>
                    <a:pt x="703514" y="1439778"/>
                  </a:lnTo>
                  <a:lnTo>
                    <a:pt x="829090" y="1222436"/>
                  </a:lnTo>
                  <a:lnTo>
                    <a:pt x="767353" y="347459"/>
                  </a:lnTo>
                  <a:lnTo>
                    <a:pt x="792310" y="335573"/>
                  </a:lnTo>
                  <a:cubicBezTo>
                    <a:pt x="815036" y="319522"/>
                    <a:pt x="829091" y="297346"/>
                    <a:pt x="829091" y="272852"/>
                  </a:cubicBezTo>
                  <a:cubicBezTo>
                    <a:pt x="829091" y="223864"/>
                    <a:pt x="772869" y="184150"/>
                    <a:pt x="703514" y="184150"/>
                  </a:cubicBezTo>
                  <a:close/>
                  <a:moveTo>
                    <a:pt x="234035" y="0"/>
                  </a:moveTo>
                  <a:lnTo>
                    <a:pt x="1170149" y="0"/>
                  </a:lnTo>
                  <a:cubicBezTo>
                    <a:pt x="1299403" y="0"/>
                    <a:pt x="1404184" y="104781"/>
                    <a:pt x="1404184" y="234035"/>
                  </a:cubicBezTo>
                  <a:lnTo>
                    <a:pt x="1404184" y="1774647"/>
                  </a:lnTo>
                  <a:lnTo>
                    <a:pt x="1404185" y="1774657"/>
                  </a:lnTo>
                  <a:lnTo>
                    <a:pt x="1404185" y="3489157"/>
                  </a:lnTo>
                  <a:cubicBezTo>
                    <a:pt x="1404185" y="3615409"/>
                    <a:pt x="1301837" y="3717757"/>
                    <a:pt x="1175585" y="3717757"/>
                  </a:cubicBezTo>
                  <a:cubicBezTo>
                    <a:pt x="1049333" y="3717757"/>
                    <a:pt x="946985" y="3615409"/>
                    <a:pt x="946985" y="3489157"/>
                  </a:cubicBezTo>
                  <a:lnTo>
                    <a:pt x="946985" y="2071687"/>
                  </a:lnTo>
                  <a:lnTo>
                    <a:pt x="468126" y="2071687"/>
                  </a:lnTo>
                  <a:lnTo>
                    <a:pt x="468126" y="3480687"/>
                  </a:lnTo>
                  <a:cubicBezTo>
                    <a:pt x="468126" y="3609956"/>
                    <a:pt x="363332" y="3714750"/>
                    <a:pt x="234063" y="3714750"/>
                  </a:cubicBezTo>
                  <a:cubicBezTo>
                    <a:pt x="104794" y="3714750"/>
                    <a:pt x="0" y="3609956"/>
                    <a:pt x="0" y="3480687"/>
                  </a:cubicBezTo>
                  <a:lnTo>
                    <a:pt x="0" y="1837652"/>
                  </a:lnTo>
                  <a:lnTo>
                    <a:pt x="0" y="1777113"/>
                  </a:lnTo>
                  <a:lnTo>
                    <a:pt x="0" y="234035"/>
                  </a:lnTo>
                  <a:cubicBezTo>
                    <a:pt x="0" y="104781"/>
                    <a:pt x="104781" y="0"/>
                    <a:pt x="234035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圆角矩形 160"/>
            <p:cNvSpPr/>
            <p:nvPr/>
          </p:nvSpPr>
          <p:spPr>
            <a:xfrm>
              <a:off x="3249720" y="429624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椭圆 161"/>
            <p:cNvSpPr/>
            <p:nvPr/>
          </p:nvSpPr>
          <p:spPr>
            <a:xfrm>
              <a:off x="3399480" y="3940200"/>
              <a:ext cx="265680" cy="298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</a:rPr>
                <a:t>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圆角矩形 162"/>
            <p:cNvSpPr/>
            <p:nvPr/>
          </p:nvSpPr>
          <p:spPr>
            <a:xfrm>
              <a:off x="3715560" y="428292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组合 177"/>
          <p:cNvGrpSpPr/>
          <p:nvPr/>
        </p:nvGrpSpPr>
        <p:grpSpPr>
          <a:xfrm>
            <a:off x="6213600" y="1739880"/>
            <a:ext cx="1152360" cy="736560"/>
            <a:chOff x="6213600" y="1739880"/>
            <a:chExt cx="1152360" cy="736560"/>
          </a:xfrm>
        </p:grpSpPr>
        <p:sp>
          <p:nvSpPr>
            <p:cNvPr id="1278" name="任意多边形 150"/>
            <p:cNvSpPr/>
            <p:nvPr/>
          </p:nvSpPr>
          <p:spPr>
            <a:xfrm>
              <a:off x="6213600" y="1970640"/>
              <a:ext cx="1152360" cy="50580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1930400" h="846186">
                  <a:moveTo>
                    <a:pt x="965200" y="0"/>
                  </a:moveTo>
                  <a:cubicBezTo>
                    <a:pt x="1498265" y="0"/>
                    <a:pt x="1930400" y="289860"/>
                    <a:pt x="1930400" y="647421"/>
                  </a:cubicBezTo>
                  <a:cubicBezTo>
                    <a:pt x="1930400" y="692116"/>
                    <a:pt x="1923648" y="735754"/>
                    <a:pt x="1910791" y="777899"/>
                  </a:cubicBezTo>
                  <a:lnTo>
                    <a:pt x="1879189" y="846186"/>
                  </a:lnTo>
                  <a:lnTo>
                    <a:pt x="1110343" y="846186"/>
                  </a:lnTo>
                  <a:lnTo>
                    <a:pt x="1110343" y="662037"/>
                  </a:lnTo>
                  <a:lnTo>
                    <a:pt x="820057" y="662037"/>
                  </a:lnTo>
                  <a:lnTo>
                    <a:pt x="820057" y="846186"/>
                  </a:lnTo>
                  <a:lnTo>
                    <a:pt x="51212" y="846186"/>
                  </a:lnTo>
                  <a:lnTo>
                    <a:pt x="19610" y="777899"/>
                  </a:lnTo>
                  <a:cubicBezTo>
                    <a:pt x="6752" y="735754"/>
                    <a:pt x="0" y="692116"/>
                    <a:pt x="0" y="647421"/>
                  </a:cubicBezTo>
                  <a:cubicBezTo>
                    <a:pt x="0" y="289860"/>
                    <a:pt x="432135" y="0"/>
                    <a:pt x="965200" y="0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直接连接符 152"/>
            <p:cNvSpPr/>
            <p:nvPr/>
          </p:nvSpPr>
          <p:spPr>
            <a:xfrm flipH="1" flipV="1">
              <a:off x="6481800" y="227412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直接连接符 154"/>
            <p:cNvSpPr/>
            <p:nvPr/>
          </p:nvSpPr>
          <p:spPr>
            <a:xfrm flipV="1">
              <a:off x="6876360" y="227412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椭圆 156"/>
            <p:cNvSpPr/>
            <p:nvPr/>
          </p:nvSpPr>
          <p:spPr>
            <a:xfrm>
              <a:off x="6604560" y="173988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组合 200"/>
          <p:cNvGrpSpPr/>
          <p:nvPr/>
        </p:nvGrpSpPr>
        <p:grpSpPr>
          <a:xfrm>
            <a:off x="9255240" y="1757520"/>
            <a:ext cx="772920" cy="833400"/>
            <a:chOff x="9255240" y="1757520"/>
            <a:chExt cx="772920" cy="833400"/>
          </a:xfrm>
        </p:grpSpPr>
        <p:sp>
          <p:nvSpPr>
            <p:cNvPr id="1283" name="爆炸形 1 199"/>
            <p:cNvSpPr/>
            <p:nvPr/>
          </p:nvSpPr>
          <p:spPr>
            <a:xfrm>
              <a:off x="9398520" y="1757520"/>
              <a:ext cx="501120" cy="427320"/>
            </a:xfrm>
            <a:prstGeom prst="irregularSeal1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4" name="组合 198"/>
            <p:cNvGrpSpPr/>
            <p:nvPr/>
          </p:nvGrpSpPr>
          <p:grpSpPr>
            <a:xfrm>
              <a:off x="9255240" y="1945080"/>
              <a:ext cx="772920" cy="645840"/>
              <a:chOff x="9255240" y="1945080"/>
              <a:chExt cx="772920" cy="645840"/>
            </a:xfrm>
          </p:grpSpPr>
          <p:sp>
            <p:nvSpPr>
              <p:cNvPr id="1285" name="矩形 191"/>
              <p:cNvSpPr/>
              <p:nvPr/>
            </p:nvSpPr>
            <p:spPr>
              <a:xfrm>
                <a:off x="9255240" y="2121480"/>
                <a:ext cx="772920" cy="46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矩形 192"/>
              <p:cNvSpPr/>
              <p:nvPr/>
            </p:nvSpPr>
            <p:spPr>
              <a:xfrm>
                <a:off x="9295200" y="2148480"/>
                <a:ext cx="695160" cy="42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椭圆 193"/>
              <p:cNvSpPr/>
              <p:nvPr/>
            </p:nvSpPr>
            <p:spPr>
              <a:xfrm>
                <a:off x="9468000" y="2188800"/>
                <a:ext cx="349200" cy="349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椭圆 194"/>
              <p:cNvSpPr/>
              <p:nvPr/>
            </p:nvSpPr>
            <p:spPr>
              <a:xfrm>
                <a:off x="9504000" y="2228400"/>
                <a:ext cx="277200" cy="277560"/>
              </a:xfrm>
              <a:prstGeom prst="ellipse">
                <a:avLst/>
              </a:prstGeom>
              <a:solidFill>
                <a:srgbClr val="e2266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矩形 195"/>
              <p:cNvSpPr/>
              <p:nvPr/>
            </p:nvSpPr>
            <p:spPr>
              <a:xfrm>
                <a:off x="9576720" y="2080080"/>
                <a:ext cx="137520" cy="7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矩形 196"/>
              <p:cNvSpPr/>
              <p:nvPr/>
            </p:nvSpPr>
            <p:spPr>
              <a:xfrm>
                <a:off x="9546840" y="1945080"/>
                <a:ext cx="204480" cy="133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矩形 197"/>
              <p:cNvSpPr/>
              <p:nvPr/>
            </p:nvSpPr>
            <p:spPr>
              <a:xfrm>
                <a:off x="9568080" y="1956960"/>
                <a:ext cx="162000" cy="105840"/>
              </a:xfrm>
              <a:prstGeom prst="rect">
                <a:avLst/>
              </a:prstGeom>
              <a:solidFill>
                <a:srgbClr val="bfbfb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2" name="组合 201"/>
          <p:cNvGrpSpPr/>
          <p:nvPr/>
        </p:nvGrpSpPr>
        <p:grpSpPr>
          <a:xfrm>
            <a:off x="130320" y="4191120"/>
            <a:ext cx="1152360" cy="736560"/>
            <a:chOff x="130320" y="4191120"/>
            <a:chExt cx="1152360" cy="736560"/>
          </a:xfrm>
        </p:grpSpPr>
        <p:sp>
          <p:nvSpPr>
            <p:cNvPr id="1293" name="任意多边形 202"/>
            <p:cNvSpPr/>
            <p:nvPr/>
          </p:nvSpPr>
          <p:spPr>
            <a:xfrm>
              <a:off x="130320" y="4421880"/>
              <a:ext cx="1152360" cy="50580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1930400" h="846186">
                  <a:moveTo>
                    <a:pt x="965200" y="0"/>
                  </a:moveTo>
                  <a:cubicBezTo>
                    <a:pt x="1498265" y="0"/>
                    <a:pt x="1930400" y="289860"/>
                    <a:pt x="1930400" y="647421"/>
                  </a:cubicBezTo>
                  <a:cubicBezTo>
                    <a:pt x="1930400" y="692116"/>
                    <a:pt x="1923648" y="735754"/>
                    <a:pt x="1910791" y="777899"/>
                  </a:cubicBezTo>
                  <a:lnTo>
                    <a:pt x="1879189" y="846186"/>
                  </a:lnTo>
                  <a:lnTo>
                    <a:pt x="1110343" y="846186"/>
                  </a:lnTo>
                  <a:lnTo>
                    <a:pt x="1110343" y="662037"/>
                  </a:lnTo>
                  <a:lnTo>
                    <a:pt x="820057" y="662037"/>
                  </a:lnTo>
                  <a:lnTo>
                    <a:pt x="820057" y="846186"/>
                  </a:lnTo>
                  <a:lnTo>
                    <a:pt x="51212" y="846186"/>
                  </a:lnTo>
                  <a:lnTo>
                    <a:pt x="19610" y="777899"/>
                  </a:lnTo>
                  <a:cubicBezTo>
                    <a:pt x="6752" y="735754"/>
                    <a:pt x="0" y="692116"/>
                    <a:pt x="0" y="647421"/>
                  </a:cubicBezTo>
                  <a:cubicBezTo>
                    <a:pt x="0" y="289860"/>
                    <a:pt x="432135" y="0"/>
                    <a:pt x="965200" y="0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直接连接符 203"/>
            <p:cNvSpPr/>
            <p:nvPr/>
          </p:nvSpPr>
          <p:spPr>
            <a:xfrm flipH="1" flipV="1">
              <a:off x="398520" y="472536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直接连接符 204"/>
            <p:cNvSpPr/>
            <p:nvPr/>
          </p:nvSpPr>
          <p:spPr>
            <a:xfrm flipV="1">
              <a:off x="793080" y="472536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椭圆 205"/>
            <p:cNvSpPr/>
            <p:nvPr/>
          </p:nvSpPr>
          <p:spPr>
            <a:xfrm>
              <a:off x="521280" y="419112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文本框 206"/>
          <p:cNvSpPr/>
          <p:nvPr/>
        </p:nvSpPr>
        <p:spPr>
          <a:xfrm>
            <a:off x="1206360" y="1600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207"/>
          <p:cNvSpPr/>
          <p:nvPr/>
        </p:nvSpPr>
        <p:spPr>
          <a:xfrm>
            <a:off x="4322880" y="162720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208"/>
          <p:cNvSpPr/>
          <p:nvPr/>
        </p:nvSpPr>
        <p:spPr>
          <a:xfrm>
            <a:off x="7343640" y="1654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209"/>
          <p:cNvSpPr/>
          <p:nvPr/>
        </p:nvSpPr>
        <p:spPr>
          <a:xfrm>
            <a:off x="10252080" y="173664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210"/>
          <p:cNvSpPr/>
          <p:nvPr/>
        </p:nvSpPr>
        <p:spPr>
          <a:xfrm>
            <a:off x="1351080" y="4052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文本框 211"/>
          <p:cNvSpPr/>
          <p:nvPr/>
        </p:nvSpPr>
        <p:spPr>
          <a:xfrm>
            <a:off x="4006800" y="407196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文本框 212"/>
          <p:cNvSpPr/>
          <p:nvPr/>
        </p:nvSpPr>
        <p:spPr>
          <a:xfrm>
            <a:off x="7199280" y="407196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运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文本框 213"/>
          <p:cNvSpPr/>
          <p:nvPr/>
        </p:nvSpPr>
        <p:spPr>
          <a:xfrm>
            <a:off x="10302840" y="397188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司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2:55:00Z</dcterms:created>
  <dc:creator>李付</dc:creator>
  <dc:description/>
  <cp:keywords/>
  <dc:language>en-US</dc:language>
  <cp:lastModifiedBy>王玉清</cp:lastModifiedBy>
  <dcterms:modified xsi:type="dcterms:W3CDTF">2016-02-19T03:23:35Z</dcterms:modified>
  <cp:revision>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