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792-02B8-4904-88B6-19FD8D3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7DD-EB91-44FA-9E7F-19517175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172-DD1F-482D-8954-5D89B01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809-4CD8-4F4C-8190-085524A5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8E3-9FBB-4E14-8C41-E29B8EFF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A02-DFED-4A0D-AEC4-223804C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FCF-0469-4887-B35D-32A267D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56D-3DE9-4D13-8462-92F34D6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BF8-E42A-4462-8F50-9F88E99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0A4-25B3-4431-B06B-94528DFF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FC2-9D0D-4DC6-A65A-62D1B2D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2C8-98B8-4EF0-A0CD-74C9D18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D27-588C-4D38-AC6A-5A4248A235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369440" y="6206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偏倒倒出水的水杯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84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854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2652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64304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1430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997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6783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314064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3520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569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426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92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715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18:03Z</dcterms:modified>
  <cp:revision>53</cp:revision>
  <dc:subject/>
  <dc:title>幻灯片 1</dc:title>
</cp:coreProperties>
</file>