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A45-32F8-4FCE-AAF4-5E0E6A6A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BF5-ED79-465F-A033-2D15351B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11C-A4D9-4AB2-AB42-A02C8642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CC4-9580-45F8-9995-4C4E8625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1D1-A99E-4D87-A9F1-771EB893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23D-6575-4B91-8767-52540F47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2B1-8B55-4375-9C02-D71F24C6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CFF-66C5-4143-9E80-171BE69C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470-01E7-4059-B170-5BF3F35B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6E2-6D3D-4F59-949E-A84506AE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5B5-916D-4499-9838-FFA9398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E2B-CE3B-4D6B-9C48-5934953A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613F-407D-4FD6-8AED-FD5D78D62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Administrator\My Documents\My Pictures\铅笔\2548970_154625052371_2.jpg"/>
          <p:cNvPicPr/>
          <p:nvPr/>
        </p:nvPicPr>
        <p:blipFill>
          <a:blip r:embed="rId1"/>
          <a:srcRect l="0" t="16169" r="0" b="29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877520" y="838080"/>
            <a:ext cx="8506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铅 笔 的 智 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1677600" y="3049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铅笔带来的启发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Administrator\My Documents\My Pictures\铅笔\2106702_173141057432_2.jpg"/>
          <p:cNvPicPr/>
          <p:nvPr/>
        </p:nvPicPr>
        <p:blipFill>
          <a:blip r:embed="rId1"/>
          <a:srcRect l="13124" t="0" r="5791" b="90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380880" y="5124600"/>
            <a:ext cx="8229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你站在高处的时候也就意味着你有倒下来的危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良好的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基础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能让立于不倒之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Administrator\My Documents\My Pictures\铅笔\4075160_103700773693_2.jpg"/>
          <p:cNvPicPr/>
          <p:nvPr/>
        </p:nvPicPr>
        <p:blipFill>
          <a:blip r:embed="rId1"/>
          <a:srcRect l="3125" t="6601" r="3125" b="5365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istrator\桌面\33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5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380880" y="139680"/>
            <a:ext cx="83822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珍惜自己，因为你的生命只有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次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写一个字笔芯都会有消耗而无法回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38240" y="6324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Documents and Settings\Administrator\My Documents\My Pictures\铅笔\2007121831038309_2.jpg"/>
          <p:cNvPicPr/>
          <p:nvPr/>
        </p:nvPicPr>
        <p:blipFill>
          <a:blip r:embed="rId1"/>
          <a:srcRect l="16706" t="537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0" y="5638680"/>
            <a:ext cx="9144000" cy="8384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来自于网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istrator\My Documents\My Pictures\铅笔\MP9004333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0" y="4876920"/>
            <a:ext cx="9144000" cy="15238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380880" y="4971960"/>
            <a:ext cx="8382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是一支铅笔，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独一无二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不可替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存在一定具备某种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istrator\My Documents\My Pictures\铅笔\4810590_114433538905_2.jpg"/>
          <p:cNvPicPr/>
          <p:nvPr/>
        </p:nvPicPr>
        <p:blipFill>
          <a:blip r:embed="rId1"/>
          <a:srcRect l="0" t="0" r="0" b="4056"/>
          <a:stretch/>
        </p:blipFill>
        <p:spPr>
          <a:xfrm>
            <a:off x="0" y="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380880" y="552600"/>
            <a:ext cx="8458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将来能做很多大事，但是有一个前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是你不能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盲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，你要允许自己被一只手握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istrator\My Documents\My Pictures\铅笔\2687531_134436439565_2.jpg"/>
          <p:cNvPicPr/>
          <p:nvPr/>
        </p:nvPicPr>
        <p:blipFill>
          <a:blip r:embed="rId1"/>
          <a:srcRect l="0" t="0" r="0" b="5194"/>
          <a:stretch/>
        </p:blipFill>
        <p:spPr>
          <a:xfrm>
            <a:off x="0" y="0"/>
            <a:ext cx="9158400" cy="556272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380880" y="5105520"/>
            <a:ext cx="8763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可能经常会感受到刀削般的疼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是这些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痛苦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是必须的，它会使你成为一支更好的铅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Administrator\My Documents\My Pictures\铅笔\MP900431118.JPG"/>
          <p:cNvPicPr/>
          <p:nvPr/>
        </p:nvPicPr>
        <p:blipFill>
          <a:blip r:embed="rId1"/>
          <a:srcRect l="9376" t="10937" r="0" b="210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380880" y="9097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需要一张白纸，这样的你的工作才可能体现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38240" y="6324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Administrator\My Documents\My Pictures\铅笔\1433336_175853504511_2.jpg"/>
          <p:cNvPicPr/>
          <p:nvPr/>
        </p:nvPicPr>
        <p:blipFill>
          <a:blip r:embed="rId1"/>
          <a:srcRect l="0" t="0" r="4950" b="49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3"/>
          <p:cNvSpPr/>
          <p:nvPr/>
        </p:nvSpPr>
        <p:spPr>
          <a:xfrm>
            <a:off x="380880" y="909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过于固执，要承认你所犯的任何错误，并且勇于改正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istrator\My Documents\My Pictures\铅笔\1433336_175849561506_2.jpg"/>
          <p:cNvPicPr/>
          <p:nvPr/>
        </p:nvPicPr>
        <p:blipFill>
          <a:blip r:embed="rId1"/>
          <a:srcRect l="0" t="0" r="0" b="6432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"/>
          <p:cNvSpPr/>
          <p:nvPr/>
        </p:nvSpPr>
        <p:spPr>
          <a:xfrm>
            <a:off x="380880" y="51134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要想清楚才开始动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使你能改正，涂改的痕迹也是很难清除掉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Administrator\My Documents\My Pictures\铅笔\1433336_175928322642_2.jpg"/>
          <p:cNvPicPr/>
          <p:nvPr/>
        </p:nvPicPr>
        <p:blipFill>
          <a:blip r:embed="rId1"/>
          <a:srcRect l="14583" t="0" r="0" b="39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5"/>
          <p:cNvSpPr/>
          <p:nvPr/>
        </p:nvSpPr>
        <p:spPr>
          <a:xfrm>
            <a:off x="0" y="380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380880" y="533520"/>
            <a:ext cx="8077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管穿上什么外衣，你都要清楚一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最重要的部分在</a:t>
            </a: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里面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Administrator\My Documents\My Pictures\铅笔\20071111945829_2.jpg"/>
          <p:cNvPicPr/>
          <p:nvPr/>
        </p:nvPicPr>
        <p:blipFill>
          <a:blip r:embed="rId1"/>
          <a:srcRect l="0" t="0" r="0" b="77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5"/>
          <p:cNvSpPr/>
          <p:nvPr/>
        </p:nvSpPr>
        <p:spPr>
          <a:xfrm>
            <a:off x="0" y="4952880"/>
            <a:ext cx="9144000" cy="1524240"/>
          </a:xfrm>
          <a:prstGeom prst="rect">
            <a:avLst/>
          </a:prstGeom>
          <a:solidFill>
            <a:srgbClr val="f1de7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304920" y="5029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你走过的任何地方，都必须留下不可磨灭的痕迹，不管是什么状态，你必须写下去。要记住，生活永远不会毫无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mp</dc:creator>
  <dc:description/>
  <dc:language>en-US</dc:language>
  <cp:lastModifiedBy>王玉清</cp:lastModifiedBy>
  <dcterms:modified xsi:type="dcterms:W3CDTF">2016-03-01T06:48:4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