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media/image16.jpeg" ContentType="image/jpeg"/>
  <Override PartName="/ppt/media/wind.wav" ContentType="audio/x-wav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B75-644B-4832-AD4D-9EF00B64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B77-44B5-49D1-91F4-042CC60A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D42-0320-4363-BE10-65CEBA4C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5D0-A144-473D-8508-49A8BCED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1E0-2C3E-44FB-AABB-8D034789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43D-0316-457F-80D4-910E2237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1FB-B8E6-44AA-B05F-F6045CC7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4CE-7A0D-4D66-B154-D7193647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8E3-DF55-4F87-819F-EF7D602E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32E-3591-425E-A1DB-A7A11F7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26F-0906-4EAA-838B-86469B20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2AB-F74B-44AF-984C-A0C9E84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4A9A-0E98-4195-876F-0B93A072E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3033852_160911680382_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2023560" y="18446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明节主题班会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清明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95280" y="11970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清明节的习俗是丰富有趣的，除了讲究禁火、扫墓，还有踏青、荡秋千、踢蹴鞠、打马球、插柳等一系列风俗体育活动。相传 这是因为寒食节要寒食禁火，为了防止寒食冷餐伤身，所以大家来参加一些体育活动，以锻炼身体。清明节，民间忌使针，忌洗衣，大部分地区妇女忌行路。傍晚以前，要在大门前洒一条灰线，据说可以阻止鬼魂进宅。 因此，这个节日中既有祭扫新坟生离死别的悲酸泪，又有踏青游玩的欢笑声，是一个富有特色的节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2010112501044705"/>
          <p:cNvPicPr/>
          <p:nvPr/>
        </p:nvPicPr>
        <p:blipFill>
          <a:blip r:embed="rId1"/>
          <a:stretch/>
        </p:blipFill>
        <p:spPr>
          <a:xfrm>
            <a:off x="5775480" y="1197000"/>
            <a:ext cx="3333600" cy="3960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56372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荡秋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这是中国古代清明节习俗。秋千，意即揪着皮绳而迁移。它的历史很古老，最早叫千秋，后为了避忌讳，改之为秋千。古时的秋千多用树桠枝为架，再栓上彩带做成。后来逐步发展为用两根绳索加上踏板的秋千。荡秋千不仅可以增进健康，而且可以培养勇敢精神，至今为人们特别是儿童所喜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清明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w020070309294039040279"/>
          <p:cNvPicPr/>
          <p:nvPr/>
        </p:nvPicPr>
        <p:blipFill>
          <a:blip r:embed="rId1">
            <a:lum bright="30000"/>
          </a:blip>
          <a:srcRect l="0" t="0" r="0" b="58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53276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踏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　又叫春游。古时叫探春、寻春等。四月清明，春回大地，自然界到处呈现一派生机勃勃的景象，正是郊游的大好时光。我国民间长期保持着清明踏青的习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126104985290"/>
          <p:cNvPicPr/>
          <p:nvPr/>
        </p:nvPicPr>
        <p:blipFill>
          <a:blip r:embed="rId1">
            <a:lum bright="24000"/>
          </a:blip>
          <a:srcRect l="0" t="0" r="0" b="27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476360" y="691920"/>
            <a:ext cx="62625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植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　清明前后，春阳照临，春雨飞洒，种植树苗成活率高，成长快。因此，自古以来，我国就有清明植树的习惯。有人还把清明节叫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植树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。植树风俗一直流传至今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5363674_224156732198_2"/>
          <p:cNvPicPr/>
          <p:nvPr/>
        </p:nvPicPr>
        <p:blipFill>
          <a:blip r:embed="rId1">
            <a:lum bright="18000"/>
          </a:blip>
          <a:srcRect l="0" t="0" r="0" b="37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5832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放风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　放风筝也是清明时节人们所喜爱的活动。每逢清明时节，人们不仅白天放，夜间也放。夜里在风筝下或风稳拉线上挂上一串串彩色的小灯笼，像闪烁的明星，被称为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神灯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。过去，有的人把风筝放上蓝天后，便剪断牵线，任凭清风把它们送往天涯海角，据说这样能除病消灾，给自己带来好运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1b043c19b4f426fe68c6a7e762ccd330_s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354560" y="1197000"/>
            <a:ext cx="4789440" cy="4118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扫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清明扫墓，谓之对祖先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思时之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。其习俗由来已久。明</a:t>
            </a:r>
            <a:r>
              <a:rPr b="0" lang="en-US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帝京景物略</a:t>
            </a:r>
            <a:r>
              <a:rPr b="0" lang="en-US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载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三月清明日，男清明祭祖，担提尊榼，轿马后挂楮锭，粲粲然满道也。拜者、酹者、哭者、为墓除草添土者，焚楮锭次，以纸钱置坟头。望中无纸钱，则孤坟矣。哭罢，不归也，趋芳树，择园圃，列坐尽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其实，扫墓在秦以前就有了，但不一定是在清明之际，清明扫墓则是秦以后的事。到唐朝才开始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20090403082315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250920" y="189000"/>
            <a:ext cx="633708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插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据说，插柳的风俗，也是为了纪念“教民稼穑”的农事祖师神农氏的，后来由此发展出祈求长寿的意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的地方，人们把柳枝插在屋檐下，以预报天气，古 谚有“柳条青，雨蒙蒙；柳条干，晴了天”的说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黄巢起义时规定，以“清明为期，戴柳为号”。起义失败后，戴柳的习俗渐被淘汰，只有插柳盛行不衰。杨柳有强大的生命力，俗话说：“有心栽花花不发，无心插柳柳成荫。”柳条插土就活，插到哪里，活到哪里，年年插柳，处处成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清明插柳戴柳还有一种说法：原来中国人以清明、七月半和十月朔为三大鬼节，是百鬼出没讨索之时。人们为防止鬼的侵扰迫害，而插柳戴柳。柳在人们的心目中有辟邪的功用。受佛教的影响，人们认为柳可以却鬼，而称之为“鬼怖木”，观世音以柳枝沾水济度众生。北魏贾思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齐民要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说：“取柳枝著户上，百鬼不入家。”清明既是鬼节，值此柳条发芽时节，人们自然纷纷插柳戴柳以辟邪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2008102192938530_2"/>
          <p:cNvPicPr/>
          <p:nvPr/>
        </p:nvPicPr>
        <p:blipFill>
          <a:blip r:embed="rId2"/>
          <a:stretch/>
        </p:blipFill>
        <p:spPr>
          <a:xfrm rot="20550600">
            <a:off x="395280" y="188640"/>
            <a:ext cx="3252960" cy="371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3405804_142746875663_2"/>
          <p:cNvPicPr/>
          <p:nvPr/>
        </p:nvPicPr>
        <p:blipFill>
          <a:blip r:embed="rId3"/>
          <a:stretch/>
        </p:blipFill>
        <p:spPr>
          <a:xfrm rot="647400">
            <a:off x="2987640" y="475920"/>
            <a:ext cx="586728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085788f682fa4b57ddc474dc"/>
          <p:cNvPicPr/>
          <p:nvPr/>
        </p:nvPicPr>
        <p:blipFill>
          <a:blip r:embed="rId4"/>
          <a:stretch/>
        </p:blipFill>
        <p:spPr>
          <a:xfrm rot="201600">
            <a:off x="1331640" y="2637000"/>
            <a:ext cx="5329080" cy="3997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 rot="21121200">
            <a:off x="407160" y="701280"/>
            <a:ext cx="7993080" cy="2837160"/>
          </a:xfrm>
          <a:prstGeom prst="rect">
            <a:avLst/>
          </a:prstGeom>
          <a:solidFill>
            <a:srgbClr val="bbe0e3"/>
          </a:solidFill>
          <a:ln w="792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看到了这些在中国得到传播的西方文化，结合刚才我们了解的中国传统文化，谈谈你的看法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5732224_125909255000_2"/>
          <p:cNvPicPr/>
          <p:nvPr/>
        </p:nvPicPr>
        <p:blipFill>
          <a:blip r:embed="rId1"/>
          <a:srcRect l="753" t="0" r="0" b="3798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 rot="770400">
            <a:off x="3850920" y="3114720"/>
            <a:ext cx="3457440" cy="31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4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初二三班清明节主题班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WordArt 13"/>
          <p:cNvSpPr txBox="1"/>
          <p:nvPr/>
        </p:nvSpPr>
        <p:spPr>
          <a:xfrm>
            <a:off x="3132000" y="3716280"/>
            <a:ext cx="266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制作人：武嘉鑫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主持人：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8002769_184904008345_2"/>
          <p:cNvPicPr/>
          <p:nvPr/>
        </p:nvPicPr>
        <p:blipFill>
          <a:blip r:embed="rId1"/>
          <a:srcRect l="0" t="0" r="1507" b="7194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5280" y="2602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清明节是农历二十四节气之一，在仲春与暮春之交，也就是冬至后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。中国汉族传统的清明节大约始于周代，距今已有二千五百多年的历史。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历书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“春分后十五日，斗指丁，为清明，时万物皆洁齐而清明，盖时当气清景明，万物皆显，因此得名。”清明节是一个祭祀祖先的节日，传统活动为扫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692360" y="3284640"/>
            <a:ext cx="158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简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8380_201104041112071cDOi"/>
          <p:cNvPicPr/>
          <p:nvPr/>
        </p:nvPicPr>
        <p:blipFill>
          <a:blip r:embed="rId1"/>
          <a:srcRect l="0" t="0" r="0" b="72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755640" y="549360"/>
            <a:ext cx="3933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清明节的起源？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4" name="WordArt 5" descr=""/>
          <p:cNvPicPr/>
          <p:nvPr/>
        </p:nvPicPr>
        <p:blipFill>
          <a:blip r:embed="rId4"/>
          <a:stretch/>
        </p:blipFill>
        <p:spPr>
          <a:xfrm>
            <a:off x="1609560" y="2852640"/>
            <a:ext cx="6486840" cy="1328760"/>
          </a:xfrm>
          <a:prstGeom prst="rect">
            <a:avLst/>
          </a:prstGeom>
          <a:ln w="0">
            <a:noFill/>
          </a:ln>
        </p:spPr>
      </p:pic>
      <p:sp>
        <p:nvSpPr>
          <p:cNvPr id="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32153923img2010112314360112"/>
          <p:cNvPicPr/>
          <p:nvPr/>
        </p:nvPicPr>
        <p:blipFill>
          <a:blip r:embed="rId1"/>
          <a:stretch/>
        </p:blipFill>
        <p:spPr>
          <a:xfrm>
            <a:off x="-35712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324000" y="-27000"/>
            <a:ext cx="215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黑体"/>
              </a:rPr>
              <a:t>节日起源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-36360" y="765000"/>
            <a:ext cx="91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明节是我国民间重要的传统节日，是重要的八个节日：上元、清明、立夏、端午、中元、中秋、冬至和除夕之一。一般是在 公历的四月五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其节期很长，有十日前八日后及十日前十日后两种说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近二十天内均属清明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-36360" y="3675240"/>
            <a:ext cx="5292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明节”的得名还源于我国农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节气中的清明节气。冬至后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就是清明节气。清明节气共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作为节气的清明，时间在春分之后。这时冬天已去，春意盎然，天气清朗，四野明净，大自然处处显示出勃勃生机。用“清明”称这个时期，是再恰当不过的一个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-36360" y="220500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清明节的起源，据传始于古代帝王将相“墓祭”之礼，后来民间亦相仿效，于此日祭祖扫墓，历代沿袭而成为中华民族一种固定的风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187280" y="249228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简体"/>
              </a:rPr>
              <a:t>清明节在很多地方都有着寒食的习俗，你知道“寒食”的起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611280" y="47628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3" name="WordArt 6" descr=""/>
          <p:cNvPicPr/>
          <p:nvPr/>
        </p:nvPicPr>
        <p:blipFill>
          <a:blip r:embed="rId4"/>
          <a:stretch/>
        </p:blipFill>
        <p:spPr>
          <a:xfrm>
            <a:off x="5425920" y="5005440"/>
            <a:ext cx="2876760" cy="42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866205_132753067_2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en-US" sz="3800" spc="-1" strike="noStrike">
                <a:solidFill>
                  <a:srgbClr val="000000"/>
                </a:solidFill>
                <a:latin typeface="黑体"/>
                <a:ea typeface="楷体"/>
              </a:rPr>
              <a:t>“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寒食节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楷体"/>
              </a:rPr>
              <a:t>”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的源头，应为远古时期人类的火崇拜。古人的生活离不开火，但是，火又往往给人类造成极大的灾害，于是古人便认为火有神灵，要祀火。各家所祀之火，每年又要止熄一次。然后再重新燃起新火，称为改火。改火时，要举行隆重的祭祖活动，将谷神稷的象征物焚烧，称为人牺。相沿成俗，便形成了后来的禁火节。</a:t>
            </a:r>
            <a:r>
              <a:rPr b="0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755640" y="62064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4843058449284029279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7499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禁火节后来又转化为寒食节，用以纪念春秋时期晋国的名臣义士介子推。传说晋文公流亡期间，介子推曾经割股为他充饥。晋文公归国为君后，分封群臣时却忘记了介子推。介子推不愿夸功争宠，携老母隐居于绵山。后来晋文公亲自到绵山恭请介子推，介子推不愿为官，躲藏山里。文公手下放火焚山，原意是想逼介子推露面，结果介子推抱着母亲被烧死在一棵大树下。为了纪念这位忠臣义士，人们在介子推死难之日不生火做饭，要吃冷食，称为寒食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后来，由于清明节与寒食节日子接近，渐渐地清明与寒食就合二为一了，寒食节成了清明节的一个别称，也成了清明节的一个习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开始，我国将清明节认定为法定节假日，放假一天。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又改为三天。一直延续至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611280" y="33336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4051238897007806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4"/>
          <p:cNvSpPr txBox="1"/>
          <p:nvPr/>
        </p:nvSpPr>
        <p:spPr>
          <a:xfrm>
            <a:off x="755640" y="765000"/>
            <a:ext cx="365760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清明节的习俗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468360" y="5013360"/>
            <a:ext cx="271440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组讨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4" name="WordArt 6" descr="白色大理石"/>
          <p:cNvPicPr/>
          <p:nvPr/>
        </p:nvPicPr>
        <p:blipFill>
          <a:blip r:embed="rId2"/>
          <a:stretch/>
        </p:blipFill>
        <p:spPr>
          <a:xfrm>
            <a:off x="701640" y="1785960"/>
            <a:ext cx="4699080" cy="154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3:32:53Z</dcterms:created>
  <dc:creator>武嘉鑫</dc:creator>
  <dc:description/>
  <cp:keywords/>
  <dc:language>en-US</dc:language>
  <cp:lastModifiedBy>王玉清</cp:lastModifiedBy>
  <dcterms:modified xsi:type="dcterms:W3CDTF">2016-02-16T07:54:09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