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BE1-34F5-4C05-89E1-689AA5B2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32F-7402-472C-B127-8E3A08C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941-8478-4A81-9736-F65614B9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3EE-AED7-4562-8E03-C6D39212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846-FD42-46E2-991F-B84568B1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58E-13EB-464C-9B1D-114FE2FE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E7F-F029-438E-B816-90BB68B8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D5C-3CE7-414B-9413-1734B831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6F5-17F3-455C-AE0E-AE629176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7F3-6E45-4839-BF2E-2A03B46F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B9C-0F9E-40E8-982F-42B986B6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4E6-2CA1-45E1-AE2C-FDBF9C6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365C-CD43-44D7-8404-CDDC2E2C9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201480" y="1844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五千年的风雨筑就了我们的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3346200" y="1989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五千年的沧桑塑造了我们的风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059280" y="1989000"/>
            <a:ext cx="41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奥运是百年世纪奥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2473560" y="12812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旗袍展示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" nodeType="after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3" nodeType="after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35" nodeType="after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0" y="0"/>
            <a:ext cx="9433080" cy="6858000"/>
            <a:chOff x="0" y="0"/>
            <a:chExt cx="9433080" cy="6858000"/>
          </a:xfrm>
        </p:grpSpPr>
        <p:sp>
          <p:nvSpPr>
            <p:cNvPr id="48" name="Rectangle 4"/>
            <p:cNvSpPr/>
            <p:nvPr/>
          </p:nvSpPr>
          <p:spPr>
            <a:xfrm>
              <a:off x="0" y="0"/>
              <a:ext cx="4716360" cy="685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 flipH="1">
              <a:off x="4716360" y="0"/>
              <a:ext cx="4716720" cy="685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716360" y="0"/>
            <a:ext cx="475164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716360" y="0"/>
            <a:ext cx="475164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716360" y="0"/>
            <a:ext cx="475164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0" y="0"/>
            <a:ext cx="9468000" cy="6858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12:23Z</dcterms:created>
  <dc:creator>微软用户</dc:creator>
  <dc:description/>
  <dc:language>en-US</dc:language>
  <cp:lastModifiedBy>王玉清</cp:lastModifiedBy>
  <dcterms:modified xsi:type="dcterms:W3CDTF">2016-02-21T05:01:54Z</dcterms:modified>
  <cp:revision>5</cp:revision>
  <dc:subject/>
  <dc:title>幻灯片 1</dc:title>
</cp:coreProperties>
</file>