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652-BC5C-447F-99CF-6F74406E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DE7-0AA2-40BF-9A49-95CCEA7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E32-0E7A-4088-BC4D-93615CA9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D0C-698D-47C7-8EC1-C407A21D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D246-19A8-4A08-A048-92BEBACF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BBCD-DDD9-4647-8E04-7950DB7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F3D-E36C-4EA8-AAB1-40EE063F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67B-7274-4368-8A71-2C6E9913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A54-C5D9-48AC-8B5D-7BA5990C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3967-3489-4F6C-BE2A-DF5159F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188-FE1D-4B0D-A468-2782BA6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312-07B8-4EB8-9E76-9F3C8AC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587-F770-4BE8-8E01-960A2C5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B1F5-F148-4554-B09D-782DBEF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85D-3E75-4551-A9B6-950658A2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8C2-BD6C-48F7-BF30-4BE056F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2604-0D27-400D-A75B-D01B6747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363-A2DE-4BCD-8777-1695753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6F3-D7A9-4A37-B7CC-D1879B1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EF6-8992-4D90-B123-0A58C32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160-8E6B-4CC8-AC32-ACA6EB97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AA5-1F6B-4CFF-A36D-2420BA49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92D-6BC0-4A4F-81FC-372406F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70B-352F-45CD-84D1-9439EB1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B68CA7-4CD3-4E9D-8D53-84FBF3FA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CFF270-5528-47D8-BC80-4CCD92E47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2920" y="7164360"/>
            <a:ext cx="4606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7200" y="179280"/>
            <a:ext cx="3848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3240000" y="3769920"/>
            <a:ext cx="65883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8D2-B89B-4415-B968-3DE72F09B2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2397240" y="2357280"/>
            <a:ext cx="6429240" cy="898560"/>
          </a:xfrm>
          <a:prstGeom prst="roundRect">
            <a:avLst>
              <a:gd name="adj" fmla="val 11741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397240" y="368460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397240" y="5032440"/>
            <a:ext cx="6432480" cy="90324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300320" y="2351160"/>
            <a:ext cx="917280" cy="868320"/>
          </a:xfrm>
          <a:prstGeom prst="roundRect">
            <a:avLst>
              <a:gd name="adj" fmla="val 16667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300320" y="3697200"/>
            <a:ext cx="917280" cy="882720"/>
          </a:xfrm>
          <a:prstGeom prst="roundRect">
            <a:avLst>
              <a:gd name="adj" fmla="val 16667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300320" y="5048280"/>
            <a:ext cx="917280" cy="906480"/>
          </a:xfrm>
          <a:prstGeom prst="roundRect">
            <a:avLst>
              <a:gd name="adj" fmla="val 16667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"/>
          <p:cNvCxnSpPr>
            <a:stCxn id="102" idx="0"/>
            <a:endCxn id="100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"/>
          <p:cNvCxnSpPr>
            <a:stCxn id="100" idx="5"/>
            <a:endCxn id="101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>
            <a:off x="2482920" y="2286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7694640" y="421164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7104240" y="4989600"/>
            <a:ext cx="249228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"/>
          <p:cNvSpPr/>
          <p:nvPr/>
        </p:nvSpPr>
        <p:spPr>
          <a:xfrm>
            <a:off x="3827520" y="389412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3575160" y="545616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575160" y="236052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6"/>
          <p:cNvCxnSpPr>
            <a:stCxn id="114" idx="7"/>
            <a:endCxn id="117" idx="2"/>
          </p:cNvCxnSpPr>
          <p:nvPr/>
        </p:nvCxnSpPr>
        <p:spPr>
          <a:xfrm flipV="1">
            <a:off x="2616120" y="2944440"/>
            <a:ext cx="95976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7"/>
          <p:cNvCxnSpPr>
            <a:stCxn id="114" idx="5"/>
            <a:endCxn id="116" idx="2"/>
          </p:cNvCxnSpPr>
          <p:nvPr/>
        </p:nvCxnSpPr>
        <p:spPr>
          <a:xfrm>
            <a:off x="2616120" y="5082840"/>
            <a:ext cx="959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8"/>
          <p:cNvCxnSpPr>
            <a:stCxn id="114" idx="6"/>
            <a:endCxn id="115" idx="2"/>
          </p:cNvCxnSpPr>
          <p:nvPr/>
        </p:nvCxnSpPr>
        <p:spPr>
          <a:xfrm flipV="1">
            <a:off x="2863440" y="4478040"/>
            <a:ext cx="964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1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2457360" y="221472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1233360" y="2898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233360" y="43038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3681360" y="2898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457360" y="36194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457360" y="5022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679920" y="430380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6245280" y="384984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9"/>
          <p:cNvCxnSpPr>
            <a:stCxn id="132" idx="2"/>
            <a:endCxn id="133" idx="2"/>
          </p:cNvCxnSpPr>
          <p:nvPr/>
        </p:nvCxnSpPr>
        <p:spPr>
          <a:xfrm>
            <a:off x="4427280" y="4952520"/>
            <a:ext cx="1819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Text Box 10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1"/>
          <p:cNvSpPr/>
          <p:nvPr/>
        </p:nvSpPr>
        <p:spPr>
          <a:xfrm>
            <a:off x="3882960" y="4218120"/>
            <a:ext cx="2400480" cy="2401920"/>
          </a:xfrm>
          <a:prstGeom prst="ellipse">
            <a:avLst/>
          </a:prstGeom>
          <a:solidFill>
            <a:srgbClr val="e2e2e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7353360" y="45007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01800" y="2617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65080" y="4903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2968560" y="2743200"/>
            <a:ext cx="2401920" cy="2401920"/>
          </a:xfrm>
          <a:prstGeom prst="ellipse">
            <a:avLst/>
          </a:prstGeom>
          <a:solidFill>
            <a:srgbClr val="d25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871560" y="4853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856040" y="2743200"/>
            <a:ext cx="2401920" cy="2401920"/>
          </a:xfrm>
          <a:prstGeom prst="ellipse">
            <a:avLst/>
          </a:prstGeom>
          <a:solidFill>
            <a:srgbClr val="b5ad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5738760" y="4730760"/>
            <a:ext cx="361800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"/>
          <p:cNvSpPr/>
          <p:nvPr/>
        </p:nvSpPr>
        <p:spPr>
          <a:xfrm>
            <a:off x="905040" y="256212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页脚占位符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1"/>
          <p:cNvSpPr/>
          <p:nvPr/>
        </p:nvSpPr>
        <p:spPr>
          <a:xfrm>
            <a:off x="4307040" y="2187720"/>
            <a:ext cx="4682880" cy="111096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 flipV="1">
            <a:off x="1103400" y="5355360"/>
            <a:ext cx="4682880" cy="111132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4971960" y="3367080"/>
            <a:ext cx="3370320" cy="1079640"/>
          </a:xfrm>
          <a:prstGeom prst="pi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 flipV="1">
            <a:off x="1768320" y="4191840"/>
            <a:ext cx="3370320" cy="1079640"/>
          </a:xfrm>
          <a:prstGeom prst="pi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730600" y="457056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 flipV="1">
            <a:off x="5600880" y="453060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95440" y="2206800"/>
            <a:ext cx="2129040" cy="1928520"/>
          </a:xfrm>
          <a:prstGeom prst="triangle">
            <a:avLst>
              <a:gd name="adj" fmla="val 50023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730600" y="57578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970600" y="503856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759040" y="348156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1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1835280"/>
            <a:ext cx="56433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62" name="AutoShape 2"/>
          <p:cNvCxnSpPr>
            <a:endCxn id="163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b5ad00"/>
            </a:solidFill>
            <a:miter/>
            <a:tailEnd len="med" type="triangle" w="med"/>
          </a:ln>
        </p:spPr>
      </p:cxnSp>
      <p:sp>
        <p:nvSpPr>
          <p:cNvPr id="163" name="Text Box 3"/>
          <p:cNvSpPr/>
          <p:nvPr/>
        </p:nvSpPr>
        <p:spPr>
          <a:xfrm>
            <a:off x="57697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 rot="16140000">
            <a:off x="8421120" y="447804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5"/>
          <p:cNvCxnSpPr>
            <a:stCxn id="164" idx="0"/>
            <a:endCxn id="164" idx="0"/>
          </p:cNvCxnSpPr>
          <p:nvPr/>
        </p:nvCxnSpPr>
        <p:spPr>
          <a:xfrm>
            <a:off x="8818560" y="46609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6"/>
          <p:cNvCxnSpPr>
            <a:endCxn id="164" idx="0"/>
          </p:cNvCxnSpPr>
          <p:nvPr/>
        </p:nvCxnSpPr>
        <p:spPr>
          <a:xfrm>
            <a:off x="8788320" y="4511160"/>
            <a:ext cx="30600" cy="150120"/>
          </a:xfrm>
          <a:prstGeom prst="straightConnector1">
            <a:avLst/>
          </a:prstGeom>
          <a:ln w="0">
            <a:noFill/>
          </a:ln>
        </p:spPr>
      </p:cxnSp>
      <p:sp>
        <p:nvSpPr>
          <p:cNvPr id="167" name="Text Box 7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0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4:3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License">
    <vt:lpwstr>&lt;a href="http://templates.services.openoffice.org/bsd-license"&gt;BSD&lt;/a&gt;</vt:lpwstr>
  </property>
</Properties>
</file>