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1CD8-44B7-429C-AA68-BEC8BDC9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B46C-257D-40E7-86CC-6465534F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52BDB-6BBB-4453-BAF1-223CA4C1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DFD52-183C-41D6-9E68-9B4EC813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C1A78-C4C7-4976-8512-FC6FBAAF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A87CF-2B3E-4A82-A509-8C0F0DE8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E4AF2-AC2C-451F-B11B-A089B9C4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D3ED9-83C6-422A-9726-7E153758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1B21A-E6C9-4984-9A8D-CA9B390A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FF1E4-EE82-4F48-B3DE-3601A9FF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1ED5D-FC56-4BE5-B9DC-B6F610D9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987B5-CE63-4289-B682-D518E166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6788-D28E-4547-9C74-D9DAB51F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9D0DF-F305-4CAD-BDD7-8CA0D376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5BA05-C750-467C-944A-1FA29750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4F691-D4F2-487D-914F-0946CCF1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4FD39-7FA7-43BC-82DE-F51E6D53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9BA78-3FBA-4279-984F-92B22A84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71EB3-3310-47C0-BEF4-329D572A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620DA-CA95-4B8A-A73B-227F79F0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9F685-349F-4EA9-9240-75B799A7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9ACD3-554A-41BD-8FA8-C2E0E388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F57DB-AEE8-4D79-9F1E-F475F683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9FA0-C3E6-4EEC-B665-5CBE7E58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A6E2F-6ECE-4B5E-86C9-CC59A9B1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4D840-8B0E-46EB-BE6C-FAD4FA32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28622-11B2-4298-AEE4-DB9277E4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08F06-98E6-4C95-BC65-03C63FC8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079D7-E638-41A1-8381-99098F4C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EC604-C439-422F-9150-9D596BE0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B475C-55D7-4326-AACD-07384C3F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4964C-8BEB-4E45-B7BA-ADF741C2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58FE7-CF3B-42E1-8D62-9AFDCDE6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C49C2-71FF-4C52-86D1-8BD1EC46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CE78-7729-452B-BA36-307FB927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905D6-E706-4169-8C12-471DEE10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49178-D25C-495F-AE19-211A1A14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FFAE1-3A9E-469E-9D95-B1A06406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3DDDA-70F6-4F24-B795-D273F09C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5C882-17F1-4A16-BA2E-2417247C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BFBB88-0594-498C-8E6E-B9812CDB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74F38-8514-4338-ACD0-AE1F6F51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B4075-2515-4169-878C-BBA535EC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76DDE-60D1-4190-BF15-E54D4C7F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28740-FECD-4E1B-97D3-D3359497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1A2C-25E6-499D-8EE8-78C64341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1E69C-3A88-42D4-ADAE-1AFE48D9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06F25-2B0D-46B9-BFA2-FEFAEB69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4A24D-FAC6-4DDF-B9BC-68C428A9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9899C-733F-460E-AEFB-90484A46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48A68-1A6C-47F0-9F8A-F0783C12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4FA1E-D540-42FD-B1BB-A91AAB2D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D00440-D7AD-4A45-8A0D-1296A759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83BF95-2D51-46B8-96BC-87BD9A1C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58744E-2071-49F0-8F07-9EB4AD22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58762E-8A72-46A3-A15B-14177B5C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39BF-FD56-413A-8558-FC4569F9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8661C4-D314-45DC-B297-DEF36E71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DD7459-5CE5-4C59-9049-9F11A0DF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3D26DF-8BB2-4909-835D-D18D86E4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CFBA0C-0228-4DD0-87C6-845A3E40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B950F8-4CB0-41A0-8F95-4FF02AB9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03566B-56CC-416D-BEE2-297D0271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DE5F4-833A-4A00-95CF-55F82AAB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D380-B675-41CF-8A10-C41DD981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E92D-E72E-4707-9044-885C20F9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4C3F-8FAF-4A18-9FE0-F366BB3B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55FD-0D42-4371-B040-B5CEA536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3D24-14B0-4EDF-BC2D-5FA24676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ABC8-E455-440F-999E-B39C6841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4331-24A6-4342-B389-D0E5AF5A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4531-D8B7-4B8B-9DB4-EF8CD0EA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C069-4813-4BBB-88D0-066FF50F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8439-5662-4762-94E6-6C42E7CB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7172A-AAC5-420A-9A8C-B49216B4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C80AC-7D75-40C4-BC1B-9428D820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0D336-179A-4D37-8C3E-49D121CB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42ACA-0691-40D9-8D5B-8C583791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8D253-F022-4BD8-AEF4-0EC55172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705C-6976-4EFA-BF20-E01C237D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BEC80-9304-45D2-817A-38F82C3C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D308D-26F6-4EAF-9C5E-9BF03979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40CAB-4C71-401F-9943-B5AD2E19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7C7BE-7AEA-479F-882B-6D269D31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1A5C6-DBCB-40A9-96E2-6F053055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39A20-C3C2-4F4F-B38F-58437943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C27CF-E748-41B7-9D79-8E3876D0C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C45DA-616F-421E-A7E4-A5E098CB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A2D5A-BE35-4DD2-8917-2F03D602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5D675-96FC-4AE6-B0B2-3699B88D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8DC3-0BAE-4F1D-A904-7364C262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22047-2CFA-4CE7-999F-E97D5B6A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21971-926F-4874-9AAF-CE8C662B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4F7CC-8BDC-4C6E-B067-EA71F29F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4F3CC-FFDB-49D2-820A-B3FFB7A3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DF2DE-F375-467C-87D4-81BF2728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378CC-BA98-4B39-8898-DBA04265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D628E-E600-4D39-BB50-48259A99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3EBAC-F93D-48E9-A87D-B1EF862A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2AC16-5066-4E6A-B3AA-F22F40F8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6AE90-1E26-45AD-8125-2C52AC36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C475-6A2C-43C1-A2E7-C1BC7F6B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950F2-8160-48A8-80C1-D48CBE21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6CDED-5556-4A97-9C2A-7F448EA1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2BEC3-9FA5-47BC-A615-17545A2F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43A84-08D5-4A5F-9B15-04D445D6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6F88E-78C8-430A-9CEC-001C08EF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ACC96-D72A-48A7-BEF4-74F63673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39905-9F9D-44E8-B22A-DF4F67E6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248ED-B9FC-440F-A4B9-79A455E1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76038-2DCC-489E-AA29-88B792EB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ED01F-BF3B-4E2A-AB73-8E83972F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2561-B2DE-49C4-9321-CA30A683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3C4EE-A534-49E3-8312-B13F758A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EAC68-A792-4858-869D-49F35462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10008-237E-43F3-B2D9-6DD51B06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F798C-D18A-45BB-83B1-41D19199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E0440-A3F2-464D-9BCE-E6893E72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E3AB9-D1B8-4BF9-AF83-0B34F5D8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C14CF-6024-42DC-B455-D8EF5AD1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E74D1-1A07-4154-9A5E-42D23429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4C294-DF16-439E-A952-87487700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72060-3AB0-45C2-95BD-77B56F4A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B92A-4D98-46D6-9F8C-DE3832E4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B7C47-F0F1-4E7E-8AEC-ADDBF327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E9BB2-0171-44F9-8C5E-0387DAE3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211B3-3C92-456C-B0F6-F295AB15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219F0-B7F6-46BE-92B5-B42858B3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C8C01-7B0B-41DC-986C-315E130B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57714-069F-46A0-AE6E-A14D8CC3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C0543-D196-4A8E-8AC2-E899251F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DFDBB-324A-455F-8858-C935F280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917C7-CBF5-4E7F-BB70-5BF4A633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CE473-1DAC-4D1A-AD31-44A37E2D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5458-54B1-43D6-A2BE-9BA11312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73412-CB48-4E27-8735-F38947AA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1CB5C-B25E-40DE-9999-ACDB92BA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89F57-7DD3-4754-AEEB-062BB15A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49B12-43F4-42A2-BDDA-E5B925BF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FEB68-B2E2-43B1-8A70-839F42D0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283E9-2D84-4221-8379-0DA5B45F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CB9F5-A66C-4463-8F97-918AE00C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01F29-B7C9-4A29-B0E0-F48CAFDB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FFE91-9CFF-4DC8-BBC7-D81445F0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463E3-4676-4FF4-B427-B56AAF59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30D0-462C-458B-9EB9-1A5B62F5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A8110-6F16-4BBA-91BF-6FDE9E9E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BB2ED-3DC3-40D9-BB6C-A1FBB8FC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CB69C-8CA2-4000-9028-3D92FA2D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A0E32-EBD0-42D9-9CF9-B76D72A9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461E3-1D18-4155-99C7-7D504B5F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22B09-78A1-4096-BEEE-9F0FE803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89CC0-A496-45A2-9AA0-01B10A06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1D8C7-2FE8-4FD1-B499-F8C90383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B1360-D61F-408E-9A5F-C6D80C0A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2FF2B-7401-4BB7-80AA-CD39BED1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17FD-D437-4BD2-8EE1-1DC1270E807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0EDC-C324-477D-A9BC-E8AF139634C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6257-168B-4CC9-A22B-C2E3881B2B3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15BA-9B6D-4F74-A262-014B7E597A9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9130-7F19-4DF3-89B6-7A8F1661768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BCAC-C5BF-49F5-B332-9995EA8BE9A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8223-7544-4096-8267-F6112E6CAFD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0844-F2C8-43CD-B3EE-933995D6878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A0BA-549B-4D14-8DDE-A697B243B98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DDF3-22B4-488F-AF13-72ECED81246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1994-DB94-40F5-A38B-9DC7A057A36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E17F-BDD0-432D-ACED-3522C928822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992E-40D1-4BDD-872D-DD326A2A85C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8787-A22C-4A83-9291-D913DEFC1E3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CB8D-3BB2-491E-B32E-B17AE248880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454C-F40A-4CEE-8E31-D81C11904C1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325D-BA08-4A5D-8B29-7B75D9574A2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5CF6-8D9B-45E2-B108-81A35DB4373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A607-3F02-4776-AEED-17FDFE68AAF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57FB-7670-4CF9-BFD9-F081CC85841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F652-7993-4A50-86DB-3C7162EAAD0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4ACD-CE0D-4D5A-9B38-0E1D2EC62FD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DD77-CD51-4804-A859-72B0C915A61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CB96-FB4B-404F-A6A3-27D33133A4F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D3C6-2FBC-4BA2-8E87-44E41AB4E97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D176-3AAB-4BB3-8214-BA841E08C79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그림 3" descr=""/>
          <p:cNvPicPr/>
          <p:nvPr/>
        </p:nvPicPr>
        <p:blipFill>
          <a:blip r:embed="rId1"/>
          <a:stretch/>
        </p:blipFill>
        <p:spPr>
          <a:xfrm>
            <a:off x="3492360" y="620640"/>
            <a:ext cx="5200920" cy="5991120"/>
          </a:xfrm>
          <a:prstGeom prst="rect">
            <a:avLst/>
          </a:prstGeom>
          <a:ln w="0">
            <a:noFill/>
          </a:ln>
        </p:spPr>
      </p:pic>
      <p:sp>
        <p:nvSpPr>
          <p:cNvPr id="534" name="TextBox 4"/>
          <p:cNvSpPr/>
          <p:nvPr/>
        </p:nvSpPr>
        <p:spPr>
          <a:xfrm>
            <a:off x="1589040" y="26676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d5ac2"/>
                </a:solidFill>
                <a:latin typeface="-윤고딕330"/>
                <a:ea typeface="-윤고딕330"/>
              </a:rPr>
              <a:t>时尚丽人商务</a:t>
            </a:r>
            <a:r>
              <a:rPr b="0" lang="en-US" sz="4000" spc="-1" strike="noStrike">
                <a:solidFill>
                  <a:srgbClr val="fd5ac2"/>
                </a:solidFill>
                <a:latin typeface="-윤고딕330"/>
                <a:ea typeface="-윤고딕330"/>
              </a:rPr>
              <a:t>PPT</a:t>
            </a:r>
            <a:r>
              <a:rPr b="0" lang="zh-CN" sz="4000" spc="-1" strike="noStrike">
                <a:solidFill>
                  <a:srgbClr val="fd5ac2"/>
                </a:solidFill>
                <a:latin typeface="-윤고딕330"/>
                <a:ea typeface="-윤고딕330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5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직사각형 5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직사각형 1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4"/>
          <p:cNvGrpSpPr/>
          <p:nvPr/>
        </p:nvGrpSpPr>
        <p:grpSpPr>
          <a:xfrm>
            <a:off x="107640" y="-27360"/>
            <a:ext cx="1805760" cy="923400"/>
            <a:chOff x="107640" y="-27360"/>
            <a:chExt cx="1805760" cy="923400"/>
          </a:xfrm>
        </p:grpSpPr>
        <p:pic>
          <p:nvPicPr>
            <p:cNvPr id="599" name="그림 2" descr=""/>
            <p:cNvPicPr/>
            <p:nvPr/>
          </p:nvPicPr>
          <p:blipFill>
            <a:blip r:embed="rId1"/>
            <a:stretch/>
          </p:blipFill>
          <p:spPr>
            <a:xfrm rot="1275600">
              <a:off x="212760" y="77400"/>
              <a:ext cx="713160" cy="71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6"/>
            <p:cNvSpPr/>
            <p:nvPr/>
          </p:nvSpPr>
          <p:spPr>
            <a:xfrm>
              <a:off x="932400" y="549360"/>
              <a:ext cx="98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1" name="그림 3" descr=""/>
          <p:cNvPicPr/>
          <p:nvPr/>
        </p:nvPicPr>
        <p:blipFill>
          <a:blip r:embed="rId2"/>
          <a:stretch/>
        </p:blipFill>
        <p:spPr>
          <a:xfrm>
            <a:off x="8304120" y="5162400"/>
            <a:ext cx="8398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직사각형 5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직사각형 1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그림 1" descr=""/>
          <p:cNvPicPr/>
          <p:nvPr/>
        </p:nvPicPr>
        <p:blipFill>
          <a:blip r:embed="rId1"/>
          <a:stretch/>
        </p:blipFill>
        <p:spPr>
          <a:xfrm>
            <a:off x="5657760" y="566640"/>
            <a:ext cx="2952720" cy="5791320"/>
          </a:xfrm>
          <a:prstGeom prst="rect">
            <a:avLst/>
          </a:prstGeom>
          <a:ln w="0">
            <a:noFill/>
          </a:ln>
        </p:spPr>
      </p:pic>
      <p:sp>
        <p:nvSpPr>
          <p:cNvPr id="605" name="TextBox 8"/>
          <p:cNvSpPr/>
          <p:nvPr/>
        </p:nvSpPr>
        <p:spPr>
          <a:xfrm>
            <a:off x="961200" y="2133720"/>
            <a:ext cx="53074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d5ac2"/>
                </a:solidFill>
                <a:latin typeface="-윤고딕330"/>
                <a:ea typeface="-윤고딕330"/>
              </a:rPr>
              <a:t>T</a:t>
            </a:r>
            <a:r>
              <a:rPr b="0" lang="en-US" sz="7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hank yo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Box 4"/>
          <p:cNvSpPr/>
          <p:nvPr/>
        </p:nvSpPr>
        <p:spPr>
          <a:xfrm>
            <a:off x="6935760" y="-154080"/>
            <a:ext cx="218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d5ac2"/>
                </a:solidFill>
                <a:latin typeface="-윤고딕330"/>
                <a:ea typeface="-윤고딕330"/>
              </a:rPr>
              <a:t>I</a:t>
            </a:r>
            <a:r>
              <a:rPr b="0" lang="en-US" sz="5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nde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직사각형 5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그림 1" descr=""/>
          <p:cNvPicPr/>
          <p:nvPr/>
        </p:nvPicPr>
        <p:blipFill>
          <a:blip r:embed="rId1"/>
          <a:stretch/>
        </p:blipFill>
        <p:spPr>
          <a:xfrm>
            <a:off x="5743440" y="2270160"/>
            <a:ext cx="3400560" cy="4362480"/>
          </a:xfrm>
          <a:prstGeom prst="rect">
            <a:avLst/>
          </a:prstGeom>
          <a:ln w="0">
            <a:noFill/>
          </a:ln>
        </p:spPr>
      </p:pic>
      <p:grpSp>
        <p:nvGrpSpPr>
          <p:cNvPr id="540" name="Group 5"/>
          <p:cNvGrpSpPr/>
          <p:nvPr/>
        </p:nvGrpSpPr>
        <p:grpSpPr>
          <a:xfrm>
            <a:off x="2377800" y="1388160"/>
            <a:ext cx="2983680" cy="1013040"/>
            <a:chOff x="2377800" y="1388160"/>
            <a:chExt cx="2983680" cy="1013040"/>
          </a:xfrm>
        </p:grpSpPr>
        <p:pic>
          <p:nvPicPr>
            <p:cNvPr id="541" name="그림 2" descr=""/>
            <p:cNvPicPr/>
            <p:nvPr/>
          </p:nvPicPr>
          <p:blipFill>
            <a:blip r:embed="rId2"/>
            <a:stretch/>
          </p:blipFill>
          <p:spPr>
            <a:xfrm rot="1275600">
              <a:off x="2482920" y="1492920"/>
              <a:ext cx="713160" cy="71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TextBox 6"/>
            <p:cNvSpPr/>
            <p:nvPr/>
          </p:nvSpPr>
          <p:spPr>
            <a:xfrm>
              <a:off x="3191760" y="1484280"/>
              <a:ext cx="216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d5ac2"/>
                  </a:solidFill>
                  <a:latin typeface="-윤고딕330"/>
                  <a:ea typeface="-윤고딕330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 Cont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 8"/>
          <p:cNvGrpSpPr/>
          <p:nvPr/>
        </p:nvGrpSpPr>
        <p:grpSpPr>
          <a:xfrm>
            <a:off x="2378160" y="2589840"/>
            <a:ext cx="2983320" cy="1013040"/>
            <a:chOff x="2378160" y="2589840"/>
            <a:chExt cx="2983320" cy="1013040"/>
          </a:xfrm>
        </p:grpSpPr>
        <p:pic>
          <p:nvPicPr>
            <p:cNvPr id="544" name="그림 9" descr=""/>
            <p:cNvPicPr/>
            <p:nvPr/>
          </p:nvPicPr>
          <p:blipFill>
            <a:blip r:embed="rId3"/>
            <a:stretch/>
          </p:blipFill>
          <p:spPr>
            <a:xfrm rot="1275600">
              <a:off x="2482560" y="2694600"/>
              <a:ext cx="713160" cy="71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TextBox 10"/>
            <p:cNvSpPr/>
            <p:nvPr/>
          </p:nvSpPr>
          <p:spPr>
            <a:xfrm>
              <a:off x="3191760" y="2685960"/>
              <a:ext cx="216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d5ac2"/>
                  </a:solidFill>
                  <a:latin typeface="-윤고딕330"/>
                  <a:ea typeface="-윤고딕330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 Cont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11"/>
          <p:cNvGrpSpPr/>
          <p:nvPr/>
        </p:nvGrpSpPr>
        <p:grpSpPr>
          <a:xfrm>
            <a:off x="2378160" y="3790080"/>
            <a:ext cx="2983320" cy="1013040"/>
            <a:chOff x="2378160" y="3790080"/>
            <a:chExt cx="2983320" cy="1013040"/>
          </a:xfrm>
        </p:grpSpPr>
        <p:pic>
          <p:nvPicPr>
            <p:cNvPr id="547" name="그림 12" descr=""/>
            <p:cNvPicPr/>
            <p:nvPr/>
          </p:nvPicPr>
          <p:blipFill>
            <a:blip r:embed="rId4"/>
            <a:stretch/>
          </p:blipFill>
          <p:spPr>
            <a:xfrm rot="1275600">
              <a:off x="2482560" y="3894840"/>
              <a:ext cx="713160" cy="71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TextBox 13"/>
            <p:cNvSpPr/>
            <p:nvPr/>
          </p:nvSpPr>
          <p:spPr>
            <a:xfrm>
              <a:off x="3191760" y="3886200"/>
              <a:ext cx="216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d5ac2"/>
                  </a:solidFill>
                  <a:latin typeface="-윤고딕330"/>
                  <a:ea typeface="-윤고딕330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 Cont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14"/>
          <p:cNvGrpSpPr/>
          <p:nvPr/>
        </p:nvGrpSpPr>
        <p:grpSpPr>
          <a:xfrm>
            <a:off x="2378160" y="4990320"/>
            <a:ext cx="2983320" cy="1013040"/>
            <a:chOff x="2378160" y="4990320"/>
            <a:chExt cx="2983320" cy="1013040"/>
          </a:xfrm>
        </p:grpSpPr>
        <p:pic>
          <p:nvPicPr>
            <p:cNvPr id="550" name="그림 15" descr=""/>
            <p:cNvPicPr/>
            <p:nvPr/>
          </p:nvPicPr>
          <p:blipFill>
            <a:blip r:embed="rId5"/>
            <a:stretch/>
          </p:blipFill>
          <p:spPr>
            <a:xfrm rot="1275600">
              <a:off x="2482560" y="5095080"/>
              <a:ext cx="713160" cy="71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TextBox 16"/>
            <p:cNvSpPr/>
            <p:nvPr/>
          </p:nvSpPr>
          <p:spPr>
            <a:xfrm>
              <a:off x="3191760" y="5086440"/>
              <a:ext cx="216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d5ac2"/>
                  </a:solidFill>
                  <a:latin typeface="-윤고딕330"/>
                  <a:ea typeface="-윤고딕330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 Cont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직사각형 17"/>
          <p:cNvSpPr/>
          <p:nvPr/>
        </p:nvSpPr>
        <p:spPr>
          <a:xfrm>
            <a:off x="0" y="1022400"/>
            <a:ext cx="9144000" cy="24768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2"/>
          <p:cNvGrpSpPr/>
          <p:nvPr/>
        </p:nvGrpSpPr>
        <p:grpSpPr>
          <a:xfrm>
            <a:off x="5943240" y="3211200"/>
            <a:ext cx="3191400" cy="952560"/>
            <a:chOff x="5943240" y="3211200"/>
            <a:chExt cx="3191400" cy="952560"/>
          </a:xfrm>
        </p:grpSpPr>
        <p:pic>
          <p:nvPicPr>
            <p:cNvPr id="554" name="그림 2" descr=""/>
            <p:cNvPicPr/>
            <p:nvPr/>
          </p:nvPicPr>
          <p:blipFill>
            <a:blip r:embed="rId1"/>
            <a:stretch/>
          </p:blipFill>
          <p:spPr>
            <a:xfrm rot="1275600">
              <a:off x="6048360" y="3315960"/>
              <a:ext cx="713160" cy="71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TextBox 6"/>
            <p:cNvSpPr/>
            <p:nvPr/>
          </p:nvSpPr>
          <p:spPr>
            <a:xfrm>
              <a:off x="6671160" y="3460320"/>
              <a:ext cx="2463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직사각형 8"/>
          <p:cNvSpPr/>
          <p:nvPr/>
        </p:nvSpPr>
        <p:spPr>
          <a:xfrm>
            <a:off x="4572000" y="4149720"/>
            <a:ext cx="4587840" cy="24624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그림 1" descr=""/>
          <p:cNvPicPr/>
          <p:nvPr/>
        </p:nvPicPr>
        <p:blipFill>
          <a:blip r:embed="rId2"/>
          <a:stretch/>
        </p:blipFill>
        <p:spPr>
          <a:xfrm>
            <a:off x="4572000" y="1900080"/>
            <a:ext cx="1535040" cy="2413080"/>
          </a:xfrm>
          <a:prstGeom prst="rect">
            <a:avLst/>
          </a:prstGeom>
          <a:ln w="0">
            <a:noFill/>
          </a:ln>
        </p:spPr>
      </p:pic>
      <p:sp>
        <p:nvSpPr>
          <p:cNvPr id="558" name="TextBox 4"/>
          <p:cNvSpPr/>
          <p:nvPr/>
        </p:nvSpPr>
        <p:spPr>
          <a:xfrm>
            <a:off x="6237360" y="2063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d5ac2"/>
                </a:solidFill>
                <a:latin typeface="-윤고딕330"/>
                <a:ea typeface="-윤고딕330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직사각형 5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직사각형 1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4"/>
          <p:cNvGrpSpPr/>
          <p:nvPr/>
        </p:nvGrpSpPr>
        <p:grpSpPr>
          <a:xfrm>
            <a:off x="107640" y="-27360"/>
            <a:ext cx="1805760" cy="923400"/>
            <a:chOff x="107640" y="-27360"/>
            <a:chExt cx="1805760" cy="923400"/>
          </a:xfrm>
        </p:grpSpPr>
        <p:pic>
          <p:nvPicPr>
            <p:cNvPr id="562" name="그림 2" descr=""/>
            <p:cNvPicPr/>
            <p:nvPr/>
          </p:nvPicPr>
          <p:blipFill>
            <a:blip r:embed="rId1"/>
            <a:stretch/>
          </p:blipFill>
          <p:spPr>
            <a:xfrm rot="1275600">
              <a:off x="212760" y="77400"/>
              <a:ext cx="713160" cy="71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Box 6"/>
            <p:cNvSpPr/>
            <p:nvPr/>
          </p:nvSpPr>
          <p:spPr>
            <a:xfrm>
              <a:off x="932400" y="549360"/>
              <a:ext cx="98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4" name="그림 3" descr=""/>
          <p:cNvPicPr/>
          <p:nvPr/>
        </p:nvPicPr>
        <p:blipFill>
          <a:blip r:embed="rId2"/>
          <a:stretch/>
        </p:blipFill>
        <p:spPr>
          <a:xfrm>
            <a:off x="8304120" y="5162400"/>
            <a:ext cx="8398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2"/>
          <p:cNvGrpSpPr/>
          <p:nvPr/>
        </p:nvGrpSpPr>
        <p:grpSpPr>
          <a:xfrm>
            <a:off x="5943240" y="3211200"/>
            <a:ext cx="3191400" cy="952560"/>
            <a:chOff x="5943240" y="3211200"/>
            <a:chExt cx="3191400" cy="952560"/>
          </a:xfrm>
        </p:grpSpPr>
        <p:pic>
          <p:nvPicPr>
            <p:cNvPr id="566" name="그림 2" descr=""/>
            <p:cNvPicPr/>
            <p:nvPr/>
          </p:nvPicPr>
          <p:blipFill>
            <a:blip r:embed="rId1"/>
            <a:stretch/>
          </p:blipFill>
          <p:spPr>
            <a:xfrm rot="1275600">
              <a:off x="6048360" y="3315960"/>
              <a:ext cx="713160" cy="71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Box 6"/>
            <p:cNvSpPr/>
            <p:nvPr/>
          </p:nvSpPr>
          <p:spPr>
            <a:xfrm>
              <a:off x="6671160" y="3460320"/>
              <a:ext cx="2463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직사각형 8"/>
          <p:cNvSpPr/>
          <p:nvPr/>
        </p:nvSpPr>
        <p:spPr>
          <a:xfrm>
            <a:off x="4572000" y="4149720"/>
            <a:ext cx="4587840" cy="24624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그림 1" descr=""/>
          <p:cNvPicPr/>
          <p:nvPr/>
        </p:nvPicPr>
        <p:blipFill>
          <a:blip r:embed="rId2"/>
          <a:stretch/>
        </p:blipFill>
        <p:spPr>
          <a:xfrm>
            <a:off x="4572000" y="1900080"/>
            <a:ext cx="1535040" cy="2413080"/>
          </a:xfrm>
          <a:prstGeom prst="rect">
            <a:avLst/>
          </a:prstGeom>
          <a:ln w="0">
            <a:noFill/>
          </a:ln>
        </p:spPr>
      </p:pic>
      <p:sp>
        <p:nvSpPr>
          <p:cNvPr id="570" name="TextBox 4"/>
          <p:cNvSpPr/>
          <p:nvPr/>
        </p:nvSpPr>
        <p:spPr>
          <a:xfrm>
            <a:off x="6237360" y="2063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d5ac2"/>
                </a:solidFill>
                <a:latin typeface="-윤고딕330"/>
                <a:ea typeface="-윤고딕330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직사각형 5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직사각형 1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4"/>
          <p:cNvGrpSpPr/>
          <p:nvPr/>
        </p:nvGrpSpPr>
        <p:grpSpPr>
          <a:xfrm>
            <a:off x="107640" y="-27360"/>
            <a:ext cx="1805760" cy="923400"/>
            <a:chOff x="107640" y="-27360"/>
            <a:chExt cx="1805760" cy="923400"/>
          </a:xfrm>
        </p:grpSpPr>
        <p:pic>
          <p:nvPicPr>
            <p:cNvPr id="574" name="그림 2" descr=""/>
            <p:cNvPicPr/>
            <p:nvPr/>
          </p:nvPicPr>
          <p:blipFill>
            <a:blip r:embed="rId1"/>
            <a:stretch/>
          </p:blipFill>
          <p:spPr>
            <a:xfrm rot="1275600">
              <a:off x="212760" y="77400"/>
              <a:ext cx="713160" cy="71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TextBox 6"/>
            <p:cNvSpPr/>
            <p:nvPr/>
          </p:nvSpPr>
          <p:spPr>
            <a:xfrm>
              <a:off x="932400" y="549360"/>
              <a:ext cx="98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6" name="그림 3" descr=""/>
          <p:cNvPicPr/>
          <p:nvPr/>
        </p:nvPicPr>
        <p:blipFill>
          <a:blip r:embed="rId2"/>
          <a:stretch/>
        </p:blipFill>
        <p:spPr>
          <a:xfrm>
            <a:off x="8304120" y="5162400"/>
            <a:ext cx="8398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"/>
          <p:cNvGrpSpPr/>
          <p:nvPr/>
        </p:nvGrpSpPr>
        <p:grpSpPr>
          <a:xfrm>
            <a:off x="5943240" y="3211200"/>
            <a:ext cx="3191400" cy="952560"/>
            <a:chOff x="5943240" y="3211200"/>
            <a:chExt cx="3191400" cy="952560"/>
          </a:xfrm>
        </p:grpSpPr>
        <p:pic>
          <p:nvPicPr>
            <p:cNvPr id="578" name="그림 2" descr=""/>
            <p:cNvPicPr/>
            <p:nvPr/>
          </p:nvPicPr>
          <p:blipFill>
            <a:blip r:embed="rId1"/>
            <a:stretch/>
          </p:blipFill>
          <p:spPr>
            <a:xfrm rot="1275600">
              <a:off x="6048360" y="3315960"/>
              <a:ext cx="713160" cy="71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TextBox 6"/>
            <p:cNvSpPr/>
            <p:nvPr/>
          </p:nvSpPr>
          <p:spPr>
            <a:xfrm>
              <a:off x="6671160" y="3460320"/>
              <a:ext cx="2463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직사각형 8"/>
          <p:cNvSpPr/>
          <p:nvPr/>
        </p:nvSpPr>
        <p:spPr>
          <a:xfrm>
            <a:off x="4572000" y="4149720"/>
            <a:ext cx="4587840" cy="24624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그림 1" descr=""/>
          <p:cNvPicPr/>
          <p:nvPr/>
        </p:nvPicPr>
        <p:blipFill>
          <a:blip r:embed="rId2"/>
          <a:stretch/>
        </p:blipFill>
        <p:spPr>
          <a:xfrm>
            <a:off x="4572000" y="1900080"/>
            <a:ext cx="1535040" cy="2413080"/>
          </a:xfrm>
          <a:prstGeom prst="rect">
            <a:avLst/>
          </a:prstGeom>
          <a:ln w="0">
            <a:noFill/>
          </a:ln>
        </p:spPr>
      </p:pic>
      <p:sp>
        <p:nvSpPr>
          <p:cNvPr id="582" name="TextBox 4"/>
          <p:cNvSpPr/>
          <p:nvPr/>
        </p:nvSpPr>
        <p:spPr>
          <a:xfrm>
            <a:off x="6237360" y="2063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d5ac2"/>
                </a:solidFill>
                <a:latin typeface="-윤고딕330"/>
                <a:ea typeface="-윤고딕330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7"/>
          <p:cNvSpPr/>
          <p:nvPr/>
        </p:nvSpPr>
        <p:spPr>
          <a:xfrm>
            <a:off x="179280" y="63943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직사각형 5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1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Group 4"/>
          <p:cNvGrpSpPr/>
          <p:nvPr/>
        </p:nvGrpSpPr>
        <p:grpSpPr>
          <a:xfrm>
            <a:off x="107640" y="-27360"/>
            <a:ext cx="1805760" cy="923400"/>
            <a:chOff x="107640" y="-27360"/>
            <a:chExt cx="1805760" cy="923400"/>
          </a:xfrm>
        </p:grpSpPr>
        <p:pic>
          <p:nvPicPr>
            <p:cNvPr id="587" name="그림 2" descr=""/>
            <p:cNvPicPr/>
            <p:nvPr/>
          </p:nvPicPr>
          <p:blipFill>
            <a:blip r:embed="rId1"/>
            <a:stretch/>
          </p:blipFill>
          <p:spPr>
            <a:xfrm rot="1275600">
              <a:off x="212760" y="77400"/>
              <a:ext cx="713160" cy="71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TextBox 6"/>
            <p:cNvSpPr/>
            <p:nvPr/>
          </p:nvSpPr>
          <p:spPr>
            <a:xfrm>
              <a:off x="932400" y="549360"/>
              <a:ext cx="98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9" name="그림 3" descr=""/>
          <p:cNvPicPr/>
          <p:nvPr/>
        </p:nvPicPr>
        <p:blipFill>
          <a:blip r:embed="rId2"/>
          <a:stretch/>
        </p:blipFill>
        <p:spPr>
          <a:xfrm>
            <a:off x="8304120" y="5162400"/>
            <a:ext cx="8398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2"/>
          <p:cNvGrpSpPr/>
          <p:nvPr/>
        </p:nvGrpSpPr>
        <p:grpSpPr>
          <a:xfrm>
            <a:off x="5943240" y="3211200"/>
            <a:ext cx="3191400" cy="952560"/>
            <a:chOff x="5943240" y="3211200"/>
            <a:chExt cx="3191400" cy="952560"/>
          </a:xfrm>
        </p:grpSpPr>
        <p:pic>
          <p:nvPicPr>
            <p:cNvPr id="591" name="그림 2" descr=""/>
            <p:cNvPicPr/>
            <p:nvPr/>
          </p:nvPicPr>
          <p:blipFill>
            <a:blip r:embed="rId1"/>
            <a:stretch/>
          </p:blipFill>
          <p:spPr>
            <a:xfrm rot="1275600">
              <a:off x="6048360" y="3315960"/>
              <a:ext cx="713160" cy="71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Box 6"/>
            <p:cNvSpPr/>
            <p:nvPr/>
          </p:nvSpPr>
          <p:spPr>
            <a:xfrm>
              <a:off x="6671160" y="3460320"/>
              <a:ext cx="2463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직사각형 8"/>
          <p:cNvSpPr/>
          <p:nvPr/>
        </p:nvSpPr>
        <p:spPr>
          <a:xfrm>
            <a:off x="4572000" y="4149720"/>
            <a:ext cx="4587840" cy="24624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그림 1" descr=""/>
          <p:cNvPicPr/>
          <p:nvPr/>
        </p:nvPicPr>
        <p:blipFill>
          <a:blip r:embed="rId2"/>
          <a:stretch/>
        </p:blipFill>
        <p:spPr>
          <a:xfrm>
            <a:off x="4572000" y="1900080"/>
            <a:ext cx="1535040" cy="2413080"/>
          </a:xfrm>
          <a:prstGeom prst="rect">
            <a:avLst/>
          </a:prstGeom>
          <a:ln w="0">
            <a:noFill/>
          </a:ln>
        </p:spPr>
      </p:pic>
      <p:sp>
        <p:nvSpPr>
          <p:cNvPr id="595" name="TextBox 4"/>
          <p:cNvSpPr/>
          <p:nvPr/>
        </p:nvSpPr>
        <p:spPr>
          <a:xfrm>
            <a:off x="6237360" y="2063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d5ac2"/>
                </a:solidFill>
                <a:latin typeface="-윤고딕330"/>
                <a:ea typeface="-윤고딕330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09:31:00Z</dcterms:created>
  <dc:creator>ppt宝藏</dc:creator>
  <dc:description/>
  <dc:language>en-US</dc:language>
  <cp:lastModifiedBy>a</cp:lastModifiedBy>
  <cp:lastPrinted>1899-12-30T00:00:00Z</cp:lastPrinted>
  <dcterms:modified xsi:type="dcterms:W3CDTF">2015-07-25T03:18:28Z</dcterms:modified>
  <cp:revision>5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