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60C-C2B5-45F8-B66C-D5F644B1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1212-1E82-4C2E-A2C7-43B077DC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52A-0E48-4192-8B0B-74325EFF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C5A-A66B-4838-BC40-0E3C5A43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C38-587C-451E-A42B-75DEF1CD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84C-EC6A-4650-8A15-27180D1C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C33-025F-4D0E-ABE5-D680A679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C61-5ED1-4E65-A4FB-E558EA34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9B8-F429-4565-9F7C-A940DBB0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F6E6-46A8-497A-8F2D-EDEF9863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E8A-E99B-4FB4-B50E-80082D94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785F-C77B-44B4-B373-6FF086D1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FB6BBA-79A4-4B6C-87BA-9BB573C0A09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1912320" y="1905120"/>
            <a:ext cx="5318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务国外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8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0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Freeform 3"/>
          <p:cNvSpPr/>
          <p:nvPr/>
        </p:nvSpPr>
        <p:spPr>
          <a:xfrm>
            <a:off x="5015160" y="861480"/>
            <a:ext cx="2541600" cy="2541600"/>
          </a:xfrm>
          <a:custGeom>
            <a:avLst/>
            <a:gdLst>
              <a:gd name="textAreaLeft" fmla="*/ 0 w 2541600"/>
              <a:gd name="textAreaRight" fmla="*/ 2541960 w 2541600"/>
              <a:gd name="textAreaTop" fmla="*/ 0 h 2541600"/>
              <a:gd name="textAreaBottom" fmla="*/ 2541960 h 2541600"/>
            </a:gdLst>
            <a:ahLst/>
            <a:rect l="textAreaLeft" t="textAreaTop" r="textAreaRight" b="textAreaBottom"/>
            <a:pathLst>
              <a:path w="2541904" h="2542032">
                <a:moveTo>
                  <a:pt x="0" y="1271016"/>
                </a:moveTo>
                <a:cubicBezTo>
                  <a:pt x="0" y="569087"/>
                  <a:pt x="568959" y="0"/>
                  <a:pt x="1271015" y="0"/>
                </a:cubicBezTo>
                <a:cubicBezTo>
                  <a:pt x="1972944" y="0"/>
                  <a:pt x="2541904" y="569087"/>
                  <a:pt x="2541904" y="1271016"/>
                </a:cubicBezTo>
                <a:cubicBezTo>
                  <a:pt x="2541904" y="1973072"/>
                  <a:pt x="1972944" y="2542032"/>
                  <a:pt x="1271015" y="2542032"/>
                </a:cubicBezTo>
                <a:cubicBezTo>
                  <a:pt x="568959" y="2542032"/>
                  <a:pt x="0" y="1973072"/>
                  <a:pt x="0" y="1271016"/>
                </a:cubicBezTo>
              </a:path>
            </a:pathLst>
          </a:custGeom>
          <a:solidFill>
            <a:srgbClr val="2ecc7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Freeform 3"/>
          <p:cNvSpPr/>
          <p:nvPr/>
        </p:nvSpPr>
        <p:spPr>
          <a:xfrm>
            <a:off x="5758200" y="1645920"/>
            <a:ext cx="1663560" cy="1663560"/>
          </a:xfrm>
          <a:custGeom>
            <a:avLst/>
            <a:gdLst>
              <a:gd name="textAreaLeft" fmla="*/ 0 w 1663560"/>
              <a:gd name="textAreaRight" fmla="*/ 1663920 w 1663560"/>
              <a:gd name="textAreaTop" fmla="*/ 0 h 1663560"/>
              <a:gd name="textAreaBottom" fmla="*/ 1663920 h 1663560"/>
            </a:gdLst>
            <a:ahLst/>
            <a:rect l="textAreaLeft" t="textAreaTop" r="textAreaRight" b="textAreaBottom"/>
            <a:pathLst>
              <a:path w="1663953" h="1664081">
                <a:moveTo>
                  <a:pt x="569976" y="0"/>
                </a:moveTo>
                <a:lnTo>
                  <a:pt x="748284" y="156717"/>
                </a:lnTo>
                <a:lnTo>
                  <a:pt x="924686" y="328167"/>
                </a:lnTo>
                <a:lnTo>
                  <a:pt x="1663953" y="1067435"/>
                </a:lnTo>
                <a:lnTo>
                  <a:pt x="1651761" y="1092708"/>
                </a:lnTo>
                <a:cubicBezTo>
                  <a:pt x="1514855" y="1344802"/>
                  <a:pt x="1295019" y="1545463"/>
                  <a:pt x="1028953" y="1657985"/>
                </a:cubicBezTo>
                <a:lnTo>
                  <a:pt x="1012316" y="1664080"/>
                </a:lnTo>
                <a:lnTo>
                  <a:pt x="242442" y="894207"/>
                </a:lnTo>
                <a:lnTo>
                  <a:pt x="0" y="575055"/>
                </a:lnTo>
                <a:lnTo>
                  <a:pt x="125221" y="361950"/>
                </a:lnTo>
                <a:lnTo>
                  <a:pt x="368300" y="227711"/>
                </a:lnTo>
                <a:lnTo>
                  <a:pt x="569976" y="0"/>
                </a:lnTo>
              </a:path>
            </a:pathLst>
          </a:custGeom>
          <a:solidFill>
            <a:srgbClr val="27ae6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4977000" y="823320"/>
            <a:ext cx="2617920" cy="2617920"/>
          </a:xfrm>
          <a:custGeom>
            <a:avLst/>
            <a:gdLst>
              <a:gd name="textAreaLeft" fmla="*/ 0 w 2617920"/>
              <a:gd name="textAreaRight" fmla="*/ 2618280 w 2617920"/>
              <a:gd name="textAreaTop" fmla="*/ 0 h 2617920"/>
              <a:gd name="textAreaBottom" fmla="*/ 2618280 h 2617920"/>
            </a:gdLst>
            <a:ahLst/>
            <a:rect l="textAreaLeft" t="textAreaTop" r="textAreaRight" b="textAreaBottom"/>
            <a:pathLst>
              <a:path w="2618104" h="2618232">
                <a:moveTo>
                  <a:pt x="38100" y="1309116"/>
                </a:moveTo>
                <a:cubicBezTo>
                  <a:pt x="38100" y="607187"/>
                  <a:pt x="607059" y="38100"/>
                  <a:pt x="1309115" y="38100"/>
                </a:cubicBezTo>
                <a:cubicBezTo>
                  <a:pt x="2011044" y="38100"/>
                  <a:pt x="2580004" y="607187"/>
                  <a:pt x="2580004" y="1309116"/>
                </a:cubicBezTo>
                <a:cubicBezTo>
                  <a:pt x="2580004" y="2011172"/>
                  <a:pt x="2011044" y="2580132"/>
                  <a:pt x="1309115" y="2580132"/>
                </a:cubicBezTo>
                <a:cubicBezTo>
                  <a:pt x="607059" y="2580132"/>
                  <a:pt x="38100" y="2011172"/>
                  <a:pt x="38100" y="1309116"/>
                </a:cubicBezTo>
              </a:path>
            </a:pathLst>
          </a:custGeom>
          <a:noFill/>
          <a:ln w="762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0" y="3272040"/>
            <a:ext cx="5684760" cy="1606320"/>
          </a:xfrm>
          <a:custGeom>
            <a:avLst/>
            <a:gdLst>
              <a:gd name="textAreaLeft" fmla="*/ 0 w 5684760"/>
              <a:gd name="textAreaRight" fmla="*/ 5685120 w 5684760"/>
              <a:gd name="textAreaTop" fmla="*/ 0 h 1606320"/>
              <a:gd name="textAreaBottom" fmla="*/ 1606680 h 1606320"/>
            </a:gdLst>
            <a:ahLst/>
            <a:rect l="textAreaLeft" t="textAreaTop" r="textAreaRight" b="textAreaBottom"/>
            <a:pathLst>
              <a:path w="5685154" h="1606677">
                <a:moveTo>
                  <a:pt x="0" y="1606677"/>
                </a:moveTo>
                <a:lnTo>
                  <a:pt x="5685154" y="1606677"/>
                </a:lnTo>
                <a:lnTo>
                  <a:pt x="5685154" y="0"/>
                </a:lnTo>
                <a:lnTo>
                  <a:pt x="0" y="0"/>
                </a:lnTo>
                <a:lnTo>
                  <a:pt x="0" y="1606677"/>
                </a:lnTo>
              </a:path>
            </a:pathLst>
          </a:custGeom>
          <a:solidFill>
            <a:srgbClr val="a6a6a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5465880" y="3117960"/>
            <a:ext cx="3042720" cy="3042720"/>
          </a:xfrm>
          <a:custGeom>
            <a:avLst/>
            <a:gdLst>
              <a:gd name="textAreaLeft" fmla="*/ 0 w 3042720"/>
              <a:gd name="textAreaRight" fmla="*/ 3043080 w 3042720"/>
              <a:gd name="textAreaTop" fmla="*/ 0 h 3042720"/>
              <a:gd name="textAreaBottom" fmla="*/ 3043080 h 3042720"/>
            </a:gdLst>
            <a:ahLst/>
            <a:rect l="textAreaLeft" t="textAreaTop" r="textAreaRight" b="textAreaBottom"/>
            <a:pathLst>
              <a:path w="3043173" h="3043212">
                <a:moveTo>
                  <a:pt x="0" y="1521587"/>
                </a:moveTo>
                <a:cubicBezTo>
                  <a:pt x="0" y="681227"/>
                  <a:pt x="681227" y="0"/>
                  <a:pt x="1521586" y="0"/>
                </a:cubicBezTo>
                <a:cubicBezTo>
                  <a:pt x="2361945" y="0"/>
                  <a:pt x="3043173" y="681227"/>
                  <a:pt x="3043173" y="1521587"/>
                </a:cubicBezTo>
                <a:cubicBezTo>
                  <a:pt x="3043173" y="2361945"/>
                  <a:pt x="2361945" y="3043212"/>
                  <a:pt x="1521586" y="3043212"/>
                </a:cubicBezTo>
                <a:cubicBezTo>
                  <a:pt x="681227" y="3043212"/>
                  <a:pt x="0" y="2361945"/>
                  <a:pt x="0" y="1521587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5562720" y="3214800"/>
            <a:ext cx="2849400" cy="285408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2854080"/>
              <a:gd name="textAreaBottom" fmla="*/ 2854440 h 2854080"/>
            </a:gdLst>
            <a:ahLst/>
            <a:rect l="textAreaLeft" t="textAreaTop" r="textAreaRight" b="textAreaBottom"/>
            <a:pathLst>
              <a:path w="2849626" h="2854362">
                <a:moveTo>
                  <a:pt x="0" y="1427226"/>
                </a:moveTo>
                <a:cubicBezTo>
                  <a:pt x="0" y="639064"/>
                  <a:pt x="637920" y="0"/>
                  <a:pt x="1424813" y="0"/>
                </a:cubicBezTo>
                <a:cubicBezTo>
                  <a:pt x="2211704" y="0"/>
                  <a:pt x="2849626" y="639064"/>
                  <a:pt x="2849626" y="1427226"/>
                </a:cubicBezTo>
                <a:cubicBezTo>
                  <a:pt x="2849626" y="2215388"/>
                  <a:pt x="2211704" y="2854362"/>
                  <a:pt x="1424813" y="2854362"/>
                </a:cubicBezTo>
                <a:cubicBezTo>
                  <a:pt x="637920" y="2854362"/>
                  <a:pt x="0" y="2215388"/>
                  <a:pt x="0" y="1427226"/>
                </a:cubicBezTo>
              </a:path>
            </a:pathLst>
          </a:custGeom>
          <a:solidFill>
            <a:srgbClr val="e6e6e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6775560" y="2820960"/>
            <a:ext cx="337680" cy="985680"/>
          </a:xfrm>
          <a:custGeom>
            <a:avLst/>
            <a:gdLst>
              <a:gd name="textAreaLeft" fmla="*/ 0 w 337680"/>
              <a:gd name="textAreaRight" fmla="*/ 338040 w 337680"/>
              <a:gd name="textAreaTop" fmla="*/ 0 h 985680"/>
              <a:gd name="textAreaBottom" fmla="*/ 986040 h 985680"/>
            </a:gdLst>
            <a:ahLst/>
            <a:rect l="textAreaLeft" t="textAreaTop" r="textAreaRight" b="textAreaBottom"/>
            <a:pathLst>
              <a:path w="338201" h="985901">
                <a:moveTo>
                  <a:pt x="118109" y="0"/>
                </a:moveTo>
                <a:cubicBezTo>
                  <a:pt x="220091" y="0"/>
                  <a:pt x="220091" y="0"/>
                  <a:pt x="220091" y="0"/>
                </a:cubicBezTo>
                <a:cubicBezTo>
                  <a:pt x="284479" y="0"/>
                  <a:pt x="338201" y="53847"/>
                  <a:pt x="338201" y="118617"/>
                </a:cubicBezTo>
                <a:cubicBezTo>
                  <a:pt x="338201" y="867409"/>
                  <a:pt x="338201" y="867409"/>
                  <a:pt x="338201" y="867409"/>
                </a:cubicBezTo>
                <a:cubicBezTo>
                  <a:pt x="338201" y="932052"/>
                  <a:pt x="284479" y="985901"/>
                  <a:pt x="220091" y="985901"/>
                </a:cubicBezTo>
                <a:cubicBezTo>
                  <a:pt x="118109" y="985901"/>
                  <a:pt x="118109" y="985901"/>
                  <a:pt x="118109" y="985901"/>
                </a:cubicBezTo>
                <a:cubicBezTo>
                  <a:pt x="53720" y="985901"/>
                  <a:pt x="0" y="932052"/>
                  <a:pt x="0" y="867409"/>
                </a:cubicBezTo>
                <a:cubicBezTo>
                  <a:pt x="0" y="118617"/>
                  <a:pt x="0" y="118617"/>
                  <a:pt x="0" y="118617"/>
                </a:cubicBezTo>
                <a:cubicBezTo>
                  <a:pt x="0" y="53847"/>
                  <a:pt x="53720" y="0"/>
                  <a:pt x="118109" y="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6838920" y="2880000"/>
            <a:ext cx="215640" cy="856800"/>
          </a:xfrm>
          <a:custGeom>
            <a:avLst/>
            <a:gdLst>
              <a:gd name="textAreaLeft" fmla="*/ 0 w 215640"/>
              <a:gd name="textAreaRight" fmla="*/ 216000 w 215640"/>
              <a:gd name="textAreaTop" fmla="*/ 0 h 856800"/>
              <a:gd name="textAreaBottom" fmla="*/ 857160 h 856800"/>
            </a:gdLst>
            <a:ahLst/>
            <a:rect l="textAreaLeft" t="textAreaTop" r="textAreaRight" b="textAreaBottom"/>
            <a:pathLst>
              <a:path w="215900" h="857250">
                <a:moveTo>
                  <a:pt x="75565" y="0"/>
                </a:moveTo>
                <a:cubicBezTo>
                  <a:pt x="140334" y="0"/>
                  <a:pt x="140334" y="0"/>
                  <a:pt x="140334" y="0"/>
                </a:cubicBezTo>
                <a:cubicBezTo>
                  <a:pt x="178180" y="0"/>
                  <a:pt x="215900" y="37719"/>
                  <a:pt x="215900" y="75438"/>
                </a:cubicBezTo>
                <a:cubicBezTo>
                  <a:pt x="215900" y="781685"/>
                  <a:pt x="215900" y="781685"/>
                  <a:pt x="215900" y="781685"/>
                </a:cubicBezTo>
                <a:cubicBezTo>
                  <a:pt x="215900" y="819531"/>
                  <a:pt x="178180" y="857250"/>
                  <a:pt x="140334" y="857250"/>
                </a:cubicBezTo>
                <a:cubicBezTo>
                  <a:pt x="75565" y="857250"/>
                  <a:pt x="75565" y="857250"/>
                  <a:pt x="75565" y="857250"/>
                </a:cubicBezTo>
                <a:cubicBezTo>
                  <a:pt x="32384" y="857250"/>
                  <a:pt x="0" y="819531"/>
                  <a:pt x="0" y="781685"/>
                </a:cubicBezTo>
                <a:cubicBezTo>
                  <a:pt x="0" y="75438"/>
                  <a:pt x="0" y="75438"/>
                  <a:pt x="0" y="75438"/>
                </a:cubicBezTo>
                <a:cubicBezTo>
                  <a:pt x="0" y="37719"/>
                  <a:pt x="32384" y="0"/>
                  <a:pt x="75565" y="0"/>
                </a:cubicBezTo>
              </a:path>
            </a:pathLst>
          </a:custGeom>
          <a:solidFill>
            <a:srgbClr val="e6e6e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5789880" y="3440160"/>
            <a:ext cx="2395080" cy="2396880"/>
          </a:xfrm>
          <a:custGeom>
            <a:avLst/>
            <a:gdLst>
              <a:gd name="textAreaLeft" fmla="*/ 0 w 2395080"/>
              <a:gd name="textAreaRight" fmla="*/ 2395440 w 2395080"/>
              <a:gd name="textAreaTop" fmla="*/ 0 h 2396880"/>
              <a:gd name="textAreaBottom" fmla="*/ 2397240 h 2396880"/>
            </a:gdLst>
            <a:ahLst/>
            <a:rect l="textAreaLeft" t="textAreaTop" r="textAreaRight" b="textAreaBottom"/>
            <a:pathLst>
              <a:path w="2395473" h="2397162">
                <a:moveTo>
                  <a:pt x="0" y="1198626"/>
                </a:moveTo>
                <a:cubicBezTo>
                  <a:pt x="0" y="536702"/>
                  <a:pt x="536193" y="0"/>
                  <a:pt x="1197736" y="0"/>
                </a:cubicBezTo>
                <a:cubicBezTo>
                  <a:pt x="1859279" y="0"/>
                  <a:pt x="2395473" y="536702"/>
                  <a:pt x="2395473" y="1198626"/>
                </a:cubicBezTo>
                <a:cubicBezTo>
                  <a:pt x="2395473" y="1860550"/>
                  <a:pt x="1859279" y="2397162"/>
                  <a:pt x="1197736" y="2397162"/>
                </a:cubicBezTo>
                <a:cubicBezTo>
                  <a:pt x="536193" y="2397162"/>
                  <a:pt x="0" y="1860550"/>
                  <a:pt x="0" y="1198626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5907240" y="3559320"/>
            <a:ext cx="2160000" cy="2158560"/>
          </a:xfrm>
          <a:custGeom>
            <a:avLst/>
            <a:gdLst>
              <a:gd name="textAreaLeft" fmla="*/ 0 w 2160000"/>
              <a:gd name="textAreaRight" fmla="*/ 2160360 w 2160000"/>
              <a:gd name="textAreaTop" fmla="*/ 0 h 2158560"/>
              <a:gd name="textAreaBottom" fmla="*/ 2158920 h 2158560"/>
            </a:gdLst>
            <a:ahLst/>
            <a:rect l="textAreaLeft" t="textAreaTop" r="textAreaRight" b="textAreaBottom"/>
            <a:pathLst>
              <a:path w="2160523" h="2158974">
                <a:moveTo>
                  <a:pt x="0" y="1079500"/>
                </a:moveTo>
                <a:cubicBezTo>
                  <a:pt x="0" y="483234"/>
                  <a:pt x="483615" y="0"/>
                  <a:pt x="1080261" y="0"/>
                </a:cubicBezTo>
                <a:cubicBezTo>
                  <a:pt x="1676907" y="0"/>
                  <a:pt x="2160523" y="483234"/>
                  <a:pt x="2160523" y="1079500"/>
                </a:cubicBezTo>
                <a:cubicBezTo>
                  <a:pt x="2160523" y="1675638"/>
                  <a:pt x="1676907" y="2158974"/>
                  <a:pt x="1080261" y="2158974"/>
                </a:cubicBezTo>
                <a:cubicBezTo>
                  <a:pt x="483615" y="2158974"/>
                  <a:pt x="0" y="1675638"/>
                  <a:pt x="0" y="1079500"/>
                </a:cubicBezTo>
              </a:path>
            </a:pathLst>
          </a:custGeom>
          <a:solidFill>
            <a:srgbClr val="b3b3b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6069240" y="3721320"/>
            <a:ext cx="1836360" cy="1836360"/>
          </a:xfrm>
          <a:custGeom>
            <a:avLst/>
            <a:gdLst>
              <a:gd name="textAreaLeft" fmla="*/ 0 w 1836360"/>
              <a:gd name="textAreaRight" fmla="*/ 1836720 w 1836360"/>
              <a:gd name="textAreaTop" fmla="*/ 0 h 1836360"/>
              <a:gd name="textAreaBottom" fmla="*/ 1836720 h 1836360"/>
            </a:gdLst>
            <a:ahLst/>
            <a:rect l="textAreaLeft" t="textAreaTop" r="textAreaRight" b="textAreaBottom"/>
            <a:pathLst>
              <a:path w="1836673" h="1836673">
                <a:moveTo>
                  <a:pt x="0" y="918336"/>
                </a:moveTo>
                <a:cubicBezTo>
                  <a:pt x="0" y="411098"/>
                  <a:pt x="411098" y="0"/>
                  <a:pt x="918336" y="0"/>
                </a:cubicBezTo>
                <a:cubicBezTo>
                  <a:pt x="1425575" y="0"/>
                  <a:pt x="1836673" y="411098"/>
                  <a:pt x="1836673" y="918336"/>
                </a:cubicBezTo>
                <a:cubicBezTo>
                  <a:pt x="1836673" y="1425575"/>
                  <a:pt x="1425575" y="1836673"/>
                  <a:pt x="918336" y="1836673"/>
                </a:cubicBezTo>
                <a:cubicBezTo>
                  <a:pt x="411098" y="1836673"/>
                  <a:pt x="0" y="1425575"/>
                  <a:pt x="0" y="918336"/>
                </a:cubicBezTo>
              </a:path>
            </a:pathLst>
          </a:custGeom>
          <a:solidFill>
            <a:srgbClr val="886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6323040" y="3978360"/>
            <a:ext cx="1328400" cy="1325160"/>
          </a:xfrm>
          <a:custGeom>
            <a:avLst/>
            <a:gdLst>
              <a:gd name="textAreaLeft" fmla="*/ 0 w 1328400"/>
              <a:gd name="textAreaRight" fmla="*/ 1328760 w 1328400"/>
              <a:gd name="textAreaTop" fmla="*/ 0 h 1325160"/>
              <a:gd name="textAreaBottom" fmla="*/ 1325520 h 1325160"/>
            </a:gdLst>
            <a:ahLst/>
            <a:rect l="textAreaLeft" t="textAreaTop" r="textAreaRight" b="textAreaBottom"/>
            <a:pathLst>
              <a:path w="1328673" h="1325498">
                <a:moveTo>
                  <a:pt x="0" y="662813"/>
                </a:moveTo>
                <a:cubicBezTo>
                  <a:pt x="0" y="296671"/>
                  <a:pt x="297433" y="0"/>
                  <a:pt x="664336" y="0"/>
                </a:cubicBezTo>
                <a:cubicBezTo>
                  <a:pt x="1031240" y="0"/>
                  <a:pt x="1328673" y="296671"/>
                  <a:pt x="1328673" y="662813"/>
                </a:cubicBezTo>
                <a:cubicBezTo>
                  <a:pt x="1328673" y="1028826"/>
                  <a:pt x="1031240" y="1325498"/>
                  <a:pt x="664336" y="1325498"/>
                </a:cubicBezTo>
                <a:cubicBezTo>
                  <a:pt x="297433" y="1325498"/>
                  <a:pt x="0" y="1028826"/>
                  <a:pt x="0" y="662813"/>
                </a:cubicBezTo>
              </a:path>
            </a:pathLst>
          </a:custGeom>
          <a:solidFill>
            <a:srgbClr val="694f2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6483600" y="4135680"/>
            <a:ext cx="1319040" cy="1319040"/>
          </a:xfrm>
          <a:custGeom>
            <a:avLst/>
            <a:gdLst>
              <a:gd name="textAreaLeft" fmla="*/ 0 w 1319040"/>
              <a:gd name="textAreaRight" fmla="*/ 1319400 w 1319040"/>
              <a:gd name="textAreaTop" fmla="*/ 0 h 1319040"/>
              <a:gd name="textAreaBottom" fmla="*/ 1319400 h 1319040"/>
            </a:gdLst>
            <a:ahLst/>
            <a:rect l="textAreaLeft" t="textAreaTop" r="textAreaRight" b="textAreaBottom"/>
            <a:pathLst>
              <a:path w="1319276" h="1319276">
                <a:moveTo>
                  <a:pt x="1141603" y="0"/>
                </a:moveTo>
                <a:cubicBezTo>
                  <a:pt x="1254632" y="140080"/>
                  <a:pt x="1319276" y="312292"/>
                  <a:pt x="1319276" y="506221"/>
                </a:cubicBezTo>
                <a:cubicBezTo>
                  <a:pt x="1319276" y="953134"/>
                  <a:pt x="953134" y="1319276"/>
                  <a:pt x="506221" y="1319276"/>
                </a:cubicBezTo>
                <a:cubicBezTo>
                  <a:pt x="312292" y="1319276"/>
                  <a:pt x="140080" y="1254633"/>
                  <a:pt x="0" y="1146936"/>
                </a:cubicBezTo>
                <a:cubicBezTo>
                  <a:pt x="129285" y="1227708"/>
                  <a:pt x="280034" y="1276222"/>
                  <a:pt x="446913" y="1276222"/>
                </a:cubicBezTo>
                <a:cubicBezTo>
                  <a:pt x="904620" y="1276222"/>
                  <a:pt x="1276222" y="904620"/>
                  <a:pt x="1276222" y="446913"/>
                </a:cubicBezTo>
                <a:cubicBezTo>
                  <a:pt x="1276222" y="285369"/>
                  <a:pt x="1227708" y="129285"/>
                  <a:pt x="1141603" y="0"/>
                </a:cubicBezTo>
              </a:path>
            </a:pathLst>
          </a:custGeom>
          <a:solidFill>
            <a:srgbClr val="bd9d6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4411440" y="3138840"/>
            <a:ext cx="1894320" cy="1894320"/>
          </a:xfrm>
          <a:custGeom>
            <a:avLst/>
            <a:gdLst>
              <a:gd name="textAreaLeft" fmla="*/ 0 w 1894320"/>
              <a:gd name="textAreaRight" fmla="*/ 1894680 w 1894320"/>
              <a:gd name="textAreaTop" fmla="*/ 0 h 1894320"/>
              <a:gd name="textAreaBottom" fmla="*/ 1894680 h 1894320"/>
            </a:gdLst>
            <a:ahLst/>
            <a:rect l="textAreaLeft" t="textAreaTop" r="textAreaRight" b="textAreaBottom"/>
            <a:pathLst>
              <a:path w="1894713" h="1894713">
                <a:moveTo>
                  <a:pt x="947292" y="28575"/>
                </a:moveTo>
                <a:lnTo>
                  <a:pt x="1041146" y="33527"/>
                </a:lnTo>
                <a:lnTo>
                  <a:pt x="1132459" y="47370"/>
                </a:lnTo>
                <a:lnTo>
                  <a:pt x="1220470" y="69976"/>
                </a:lnTo>
                <a:lnTo>
                  <a:pt x="1304925" y="100710"/>
                </a:lnTo>
                <a:lnTo>
                  <a:pt x="1385316" y="139572"/>
                </a:lnTo>
                <a:lnTo>
                  <a:pt x="1461008" y="185420"/>
                </a:lnTo>
                <a:lnTo>
                  <a:pt x="1531873" y="238378"/>
                </a:lnTo>
                <a:lnTo>
                  <a:pt x="1597025" y="297688"/>
                </a:lnTo>
                <a:lnTo>
                  <a:pt x="1656460" y="363220"/>
                </a:lnTo>
                <a:lnTo>
                  <a:pt x="1709292" y="433704"/>
                </a:lnTo>
                <a:lnTo>
                  <a:pt x="1755140" y="509523"/>
                </a:lnTo>
                <a:lnTo>
                  <a:pt x="1794002" y="589788"/>
                </a:lnTo>
                <a:lnTo>
                  <a:pt x="1824735" y="674242"/>
                </a:lnTo>
                <a:lnTo>
                  <a:pt x="1847341" y="762253"/>
                </a:lnTo>
                <a:lnTo>
                  <a:pt x="1861185" y="853566"/>
                </a:lnTo>
                <a:lnTo>
                  <a:pt x="1866138" y="947420"/>
                </a:lnTo>
                <a:lnTo>
                  <a:pt x="1861185" y="1041146"/>
                </a:lnTo>
                <a:lnTo>
                  <a:pt x="1847341" y="1132458"/>
                </a:lnTo>
                <a:lnTo>
                  <a:pt x="1824735" y="1220596"/>
                </a:lnTo>
                <a:lnTo>
                  <a:pt x="1794002" y="1305052"/>
                </a:lnTo>
                <a:lnTo>
                  <a:pt x="1755140" y="1385315"/>
                </a:lnTo>
                <a:lnTo>
                  <a:pt x="1709292" y="1461008"/>
                </a:lnTo>
                <a:lnTo>
                  <a:pt x="1656460" y="1531873"/>
                </a:lnTo>
                <a:lnTo>
                  <a:pt x="1597025" y="1597025"/>
                </a:lnTo>
                <a:lnTo>
                  <a:pt x="1531873" y="1656460"/>
                </a:lnTo>
                <a:lnTo>
                  <a:pt x="1461008" y="1709292"/>
                </a:lnTo>
                <a:lnTo>
                  <a:pt x="1385316" y="1755139"/>
                </a:lnTo>
                <a:lnTo>
                  <a:pt x="1304925" y="1794128"/>
                </a:lnTo>
                <a:lnTo>
                  <a:pt x="1220470" y="1824863"/>
                </a:lnTo>
                <a:lnTo>
                  <a:pt x="1132459" y="1847341"/>
                </a:lnTo>
                <a:lnTo>
                  <a:pt x="1041146" y="1861311"/>
                </a:lnTo>
                <a:lnTo>
                  <a:pt x="947292" y="1866138"/>
                </a:lnTo>
                <a:lnTo>
                  <a:pt x="853566" y="1861311"/>
                </a:lnTo>
                <a:lnTo>
                  <a:pt x="762254" y="1847341"/>
                </a:lnTo>
                <a:lnTo>
                  <a:pt x="674116" y="1824863"/>
                </a:lnTo>
                <a:lnTo>
                  <a:pt x="589660" y="1794128"/>
                </a:lnTo>
                <a:lnTo>
                  <a:pt x="509397" y="1755139"/>
                </a:lnTo>
                <a:lnTo>
                  <a:pt x="433704" y="1709292"/>
                </a:lnTo>
                <a:lnTo>
                  <a:pt x="363220" y="1656460"/>
                </a:lnTo>
                <a:lnTo>
                  <a:pt x="297688" y="1597025"/>
                </a:lnTo>
                <a:lnTo>
                  <a:pt x="238252" y="1531873"/>
                </a:lnTo>
                <a:lnTo>
                  <a:pt x="185420" y="1461008"/>
                </a:lnTo>
                <a:lnTo>
                  <a:pt x="139572" y="1385315"/>
                </a:lnTo>
                <a:lnTo>
                  <a:pt x="100710" y="1305052"/>
                </a:lnTo>
                <a:lnTo>
                  <a:pt x="69850" y="1220596"/>
                </a:lnTo>
                <a:lnTo>
                  <a:pt x="47371" y="1132458"/>
                </a:lnTo>
                <a:lnTo>
                  <a:pt x="33401" y="1041146"/>
                </a:lnTo>
                <a:lnTo>
                  <a:pt x="28575" y="947420"/>
                </a:lnTo>
                <a:lnTo>
                  <a:pt x="33401" y="853566"/>
                </a:lnTo>
                <a:lnTo>
                  <a:pt x="47371" y="762253"/>
                </a:lnTo>
                <a:lnTo>
                  <a:pt x="69850" y="674242"/>
                </a:lnTo>
                <a:lnTo>
                  <a:pt x="100710" y="589788"/>
                </a:lnTo>
                <a:lnTo>
                  <a:pt x="139572" y="509523"/>
                </a:lnTo>
                <a:lnTo>
                  <a:pt x="185420" y="433704"/>
                </a:lnTo>
                <a:lnTo>
                  <a:pt x="238252" y="363220"/>
                </a:lnTo>
                <a:lnTo>
                  <a:pt x="297688" y="297688"/>
                </a:lnTo>
                <a:lnTo>
                  <a:pt x="363220" y="238378"/>
                </a:lnTo>
                <a:lnTo>
                  <a:pt x="433704" y="185546"/>
                </a:lnTo>
                <a:lnTo>
                  <a:pt x="509397" y="139572"/>
                </a:lnTo>
                <a:lnTo>
                  <a:pt x="589660" y="100710"/>
                </a:lnTo>
                <a:lnTo>
                  <a:pt x="674116" y="69976"/>
                </a:lnTo>
                <a:lnTo>
                  <a:pt x="762254" y="47370"/>
                </a:lnTo>
                <a:lnTo>
                  <a:pt x="853566" y="33527"/>
                </a:lnTo>
                <a:lnTo>
                  <a:pt x="947292" y="28575"/>
                </a:lnTo>
              </a:path>
            </a:pathLst>
          </a:custGeom>
          <a:noFill/>
          <a:ln w="508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6051960" y="2292480"/>
            <a:ext cx="135720" cy="163080"/>
          </a:xfrm>
          <a:custGeom>
            <a:avLst/>
            <a:gdLst>
              <a:gd name="textAreaLeft" fmla="*/ 0 w 135720"/>
              <a:gd name="textAreaRight" fmla="*/ 136080 w 135720"/>
              <a:gd name="textAreaTop" fmla="*/ 0 h 163080"/>
              <a:gd name="textAreaBottom" fmla="*/ 163440 h 163080"/>
            </a:gdLst>
            <a:ahLst/>
            <a:rect l="textAreaLeft" t="textAreaTop" r="textAreaRight" b="textAreaBottom"/>
            <a:pathLst>
              <a:path w="136144" h="163448">
                <a:moveTo>
                  <a:pt x="114935" y="4699"/>
                </a:moveTo>
                <a:lnTo>
                  <a:pt x="114935" y="4699"/>
                </a:lnTo>
                <a:lnTo>
                  <a:pt x="114935" y="4699"/>
                </a:lnTo>
                <a:lnTo>
                  <a:pt x="63880" y="51308"/>
                </a:lnTo>
                <a:lnTo>
                  <a:pt x="63880" y="51308"/>
                </a:lnTo>
                <a:lnTo>
                  <a:pt x="21209" y="107442"/>
                </a:lnTo>
                <a:lnTo>
                  <a:pt x="4191" y="140080"/>
                </a:lnTo>
                <a:lnTo>
                  <a:pt x="4191" y="140080"/>
                </a:lnTo>
                <a:lnTo>
                  <a:pt x="4191" y="140080"/>
                </a:lnTo>
                <a:lnTo>
                  <a:pt x="0" y="149479"/>
                </a:lnTo>
                <a:lnTo>
                  <a:pt x="4191" y="158750"/>
                </a:lnTo>
                <a:lnTo>
                  <a:pt x="4191" y="158750"/>
                </a:lnTo>
                <a:lnTo>
                  <a:pt x="17017" y="163449"/>
                </a:lnTo>
                <a:lnTo>
                  <a:pt x="25527" y="158750"/>
                </a:lnTo>
                <a:lnTo>
                  <a:pt x="25527" y="158750"/>
                </a:lnTo>
                <a:lnTo>
                  <a:pt x="25527" y="154051"/>
                </a:lnTo>
                <a:lnTo>
                  <a:pt x="46863" y="126111"/>
                </a:lnTo>
                <a:lnTo>
                  <a:pt x="46863" y="126111"/>
                </a:lnTo>
                <a:lnTo>
                  <a:pt x="85090" y="74676"/>
                </a:lnTo>
                <a:lnTo>
                  <a:pt x="85090" y="74676"/>
                </a:lnTo>
                <a:lnTo>
                  <a:pt x="131953" y="28067"/>
                </a:lnTo>
                <a:lnTo>
                  <a:pt x="131953" y="28067"/>
                </a:lnTo>
                <a:lnTo>
                  <a:pt x="131953" y="28067"/>
                </a:lnTo>
                <a:lnTo>
                  <a:pt x="131953" y="28067"/>
                </a:lnTo>
                <a:lnTo>
                  <a:pt x="131953" y="28067"/>
                </a:lnTo>
                <a:lnTo>
                  <a:pt x="136144" y="18669"/>
                </a:lnTo>
                <a:lnTo>
                  <a:pt x="131953" y="4699"/>
                </a:lnTo>
                <a:lnTo>
                  <a:pt x="131953" y="4699"/>
                </a:lnTo>
                <a:lnTo>
                  <a:pt x="123444" y="0"/>
                </a:lnTo>
                <a:lnTo>
                  <a:pt x="114935" y="4699"/>
                </a:lnTo>
                <a:lnTo>
                  <a:pt x="114935" y="469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6228720" y="1761120"/>
            <a:ext cx="149400" cy="163080"/>
          </a:xfrm>
          <a:custGeom>
            <a:avLst/>
            <a:gdLst>
              <a:gd name="textAreaLeft" fmla="*/ 0 w 149400"/>
              <a:gd name="textAreaRight" fmla="*/ 149760 w 149400"/>
              <a:gd name="textAreaTop" fmla="*/ 0 h 163080"/>
              <a:gd name="textAreaBottom" fmla="*/ 163440 h 163080"/>
            </a:gdLst>
            <a:ahLst/>
            <a:rect l="textAreaLeft" t="textAreaTop" r="textAreaRight" b="textAreaBottom"/>
            <a:pathLst>
              <a:path w="149859" h="163448">
                <a:moveTo>
                  <a:pt x="59054" y="84074"/>
                </a:moveTo>
                <a:lnTo>
                  <a:pt x="59054" y="84074"/>
                </a:lnTo>
                <a:lnTo>
                  <a:pt x="9144" y="135382"/>
                </a:lnTo>
                <a:lnTo>
                  <a:pt x="9144" y="135382"/>
                </a:lnTo>
                <a:lnTo>
                  <a:pt x="4572" y="140081"/>
                </a:lnTo>
                <a:lnTo>
                  <a:pt x="4572" y="140081"/>
                </a:lnTo>
                <a:lnTo>
                  <a:pt x="0" y="149479"/>
                </a:lnTo>
                <a:lnTo>
                  <a:pt x="4572" y="158750"/>
                </a:lnTo>
                <a:lnTo>
                  <a:pt x="4572" y="158750"/>
                </a:lnTo>
                <a:lnTo>
                  <a:pt x="18161" y="163449"/>
                </a:lnTo>
                <a:lnTo>
                  <a:pt x="27304" y="158750"/>
                </a:lnTo>
                <a:lnTo>
                  <a:pt x="27304" y="158750"/>
                </a:lnTo>
                <a:lnTo>
                  <a:pt x="27304" y="158750"/>
                </a:lnTo>
                <a:lnTo>
                  <a:pt x="81788" y="112141"/>
                </a:lnTo>
                <a:lnTo>
                  <a:pt x="81788" y="112141"/>
                </a:lnTo>
                <a:lnTo>
                  <a:pt x="122682" y="56007"/>
                </a:lnTo>
                <a:lnTo>
                  <a:pt x="145288" y="28067"/>
                </a:lnTo>
                <a:lnTo>
                  <a:pt x="145288" y="28067"/>
                </a:lnTo>
                <a:lnTo>
                  <a:pt x="145288" y="28067"/>
                </a:lnTo>
                <a:lnTo>
                  <a:pt x="149860" y="13970"/>
                </a:lnTo>
                <a:lnTo>
                  <a:pt x="145288" y="4699"/>
                </a:lnTo>
                <a:lnTo>
                  <a:pt x="145288" y="4699"/>
                </a:lnTo>
                <a:lnTo>
                  <a:pt x="131698" y="0"/>
                </a:lnTo>
                <a:lnTo>
                  <a:pt x="122682" y="4699"/>
                </a:lnTo>
                <a:lnTo>
                  <a:pt x="122682" y="4699"/>
                </a:lnTo>
                <a:lnTo>
                  <a:pt x="118110" y="9398"/>
                </a:lnTo>
                <a:lnTo>
                  <a:pt x="99948" y="37338"/>
                </a:lnTo>
                <a:lnTo>
                  <a:pt x="99948" y="37338"/>
                </a:lnTo>
                <a:lnTo>
                  <a:pt x="59054" y="84074"/>
                </a:lnTo>
                <a:lnTo>
                  <a:pt x="59054" y="84074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4411440" y="3138840"/>
            <a:ext cx="1869840" cy="1869840"/>
          </a:xfrm>
          <a:custGeom>
            <a:avLst/>
            <a:gdLst>
              <a:gd name="textAreaLeft" fmla="*/ 0 w 1869840"/>
              <a:gd name="textAreaRight" fmla="*/ 1870200 w 1869840"/>
              <a:gd name="textAreaTop" fmla="*/ 0 h 1869840"/>
              <a:gd name="textAreaBottom" fmla="*/ 1870200 h 1869840"/>
            </a:gdLst>
            <a:ahLst/>
            <a:rect l="textAreaLeft" t="textAreaTop" r="textAreaRight" b="textAreaBottom"/>
            <a:pathLst>
              <a:path w="1870075" h="1870201">
                <a:moveTo>
                  <a:pt x="935101" y="28575"/>
                </a:moveTo>
                <a:lnTo>
                  <a:pt x="1027557" y="33147"/>
                </a:lnTo>
                <a:lnTo>
                  <a:pt x="1117854" y="46989"/>
                </a:lnTo>
                <a:lnTo>
                  <a:pt x="1204722" y="69595"/>
                </a:lnTo>
                <a:lnTo>
                  <a:pt x="1287907" y="99822"/>
                </a:lnTo>
                <a:lnTo>
                  <a:pt x="1367409" y="138048"/>
                </a:lnTo>
                <a:lnTo>
                  <a:pt x="1441958" y="183514"/>
                </a:lnTo>
                <a:lnTo>
                  <a:pt x="1511680" y="235584"/>
                </a:lnTo>
                <a:lnTo>
                  <a:pt x="1575942" y="294132"/>
                </a:lnTo>
                <a:lnTo>
                  <a:pt x="1634616" y="358521"/>
                </a:lnTo>
                <a:lnTo>
                  <a:pt x="1686686" y="428497"/>
                </a:lnTo>
                <a:lnTo>
                  <a:pt x="1732153" y="503046"/>
                </a:lnTo>
                <a:lnTo>
                  <a:pt x="1770253" y="582167"/>
                </a:lnTo>
                <a:lnTo>
                  <a:pt x="1800986" y="665479"/>
                </a:lnTo>
                <a:lnTo>
                  <a:pt x="1823085" y="752347"/>
                </a:lnTo>
                <a:lnTo>
                  <a:pt x="1837054" y="842517"/>
                </a:lnTo>
                <a:lnTo>
                  <a:pt x="1841500" y="935101"/>
                </a:lnTo>
                <a:lnTo>
                  <a:pt x="1837054" y="1027683"/>
                </a:lnTo>
                <a:lnTo>
                  <a:pt x="1823085" y="1117853"/>
                </a:lnTo>
                <a:lnTo>
                  <a:pt x="1800986" y="1204721"/>
                </a:lnTo>
                <a:lnTo>
                  <a:pt x="1770253" y="1287907"/>
                </a:lnTo>
                <a:lnTo>
                  <a:pt x="1732153" y="1367408"/>
                </a:lnTo>
                <a:lnTo>
                  <a:pt x="1686560" y="1442084"/>
                </a:lnTo>
                <a:lnTo>
                  <a:pt x="1634616" y="1511680"/>
                </a:lnTo>
                <a:lnTo>
                  <a:pt x="1575942" y="1576070"/>
                </a:lnTo>
                <a:lnTo>
                  <a:pt x="1511680" y="1634616"/>
                </a:lnTo>
                <a:lnTo>
                  <a:pt x="1441958" y="1686686"/>
                </a:lnTo>
                <a:lnTo>
                  <a:pt x="1367409" y="1732152"/>
                </a:lnTo>
                <a:lnTo>
                  <a:pt x="1287907" y="1770252"/>
                </a:lnTo>
                <a:lnTo>
                  <a:pt x="1204722" y="1800986"/>
                </a:lnTo>
                <a:lnTo>
                  <a:pt x="1117727" y="1823084"/>
                </a:lnTo>
                <a:lnTo>
                  <a:pt x="1027557" y="1837054"/>
                </a:lnTo>
                <a:lnTo>
                  <a:pt x="935101" y="1841627"/>
                </a:lnTo>
                <a:lnTo>
                  <a:pt x="842517" y="1837054"/>
                </a:lnTo>
                <a:lnTo>
                  <a:pt x="752347" y="1823084"/>
                </a:lnTo>
                <a:lnTo>
                  <a:pt x="665353" y="1800986"/>
                </a:lnTo>
                <a:lnTo>
                  <a:pt x="582167" y="1770252"/>
                </a:lnTo>
                <a:lnTo>
                  <a:pt x="503047" y="1732152"/>
                </a:lnTo>
                <a:lnTo>
                  <a:pt x="428497" y="1686686"/>
                </a:lnTo>
                <a:lnTo>
                  <a:pt x="358394" y="1634616"/>
                </a:lnTo>
                <a:lnTo>
                  <a:pt x="294132" y="1576070"/>
                </a:lnTo>
                <a:lnTo>
                  <a:pt x="235458" y="1511680"/>
                </a:lnTo>
                <a:lnTo>
                  <a:pt x="183515" y="1442084"/>
                </a:lnTo>
                <a:lnTo>
                  <a:pt x="137922" y="1367408"/>
                </a:lnTo>
                <a:lnTo>
                  <a:pt x="99822" y="1287907"/>
                </a:lnTo>
                <a:lnTo>
                  <a:pt x="69469" y="1204721"/>
                </a:lnTo>
                <a:lnTo>
                  <a:pt x="46990" y="1117853"/>
                </a:lnTo>
                <a:lnTo>
                  <a:pt x="33020" y="1027683"/>
                </a:lnTo>
                <a:lnTo>
                  <a:pt x="28575" y="935101"/>
                </a:lnTo>
                <a:lnTo>
                  <a:pt x="33020" y="842517"/>
                </a:lnTo>
                <a:lnTo>
                  <a:pt x="46990" y="752347"/>
                </a:lnTo>
                <a:lnTo>
                  <a:pt x="69469" y="665479"/>
                </a:lnTo>
                <a:lnTo>
                  <a:pt x="99822" y="582295"/>
                </a:lnTo>
                <a:lnTo>
                  <a:pt x="138048" y="503046"/>
                </a:lnTo>
                <a:lnTo>
                  <a:pt x="183515" y="428497"/>
                </a:lnTo>
                <a:lnTo>
                  <a:pt x="235458" y="358521"/>
                </a:lnTo>
                <a:lnTo>
                  <a:pt x="294132" y="294132"/>
                </a:lnTo>
                <a:lnTo>
                  <a:pt x="358394" y="235584"/>
                </a:lnTo>
                <a:lnTo>
                  <a:pt x="428497" y="183514"/>
                </a:lnTo>
                <a:lnTo>
                  <a:pt x="503047" y="138048"/>
                </a:lnTo>
                <a:lnTo>
                  <a:pt x="582167" y="99948"/>
                </a:lnTo>
                <a:lnTo>
                  <a:pt x="665353" y="69595"/>
                </a:lnTo>
                <a:lnTo>
                  <a:pt x="752221" y="46989"/>
                </a:lnTo>
                <a:lnTo>
                  <a:pt x="842517" y="33147"/>
                </a:lnTo>
                <a:lnTo>
                  <a:pt x="935101" y="28575"/>
                </a:lnTo>
              </a:path>
            </a:pathLst>
          </a:custGeom>
          <a:noFill/>
          <a:ln w="508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469800" y="952560"/>
            <a:ext cx="8673840" cy="5879880"/>
          </a:xfrm>
          <a:prstGeom prst="rect">
            <a:avLst/>
          </a:prstGeom>
          <a:ln w="0">
            <a:noFill/>
          </a:ln>
        </p:spPr>
      </p:pic>
      <p:sp>
        <p:nvSpPr>
          <p:cNvPr id="140" name="矩形 20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4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5015160" y="861480"/>
            <a:ext cx="2541600" cy="2541600"/>
          </a:xfrm>
          <a:custGeom>
            <a:avLst/>
            <a:gdLst>
              <a:gd name="textAreaLeft" fmla="*/ 0 w 2541600"/>
              <a:gd name="textAreaRight" fmla="*/ 2541960 w 2541600"/>
              <a:gd name="textAreaTop" fmla="*/ 0 h 2541600"/>
              <a:gd name="textAreaBottom" fmla="*/ 2541960 h 2541600"/>
            </a:gdLst>
            <a:ahLst/>
            <a:rect l="textAreaLeft" t="textAreaTop" r="textAreaRight" b="textAreaBottom"/>
            <a:pathLst>
              <a:path w="2541904" h="2542032">
                <a:moveTo>
                  <a:pt x="0" y="1271016"/>
                </a:moveTo>
                <a:cubicBezTo>
                  <a:pt x="0" y="569087"/>
                  <a:pt x="568959" y="0"/>
                  <a:pt x="1271015" y="0"/>
                </a:cubicBezTo>
                <a:cubicBezTo>
                  <a:pt x="1972944" y="0"/>
                  <a:pt x="2541904" y="569087"/>
                  <a:pt x="2541904" y="1271016"/>
                </a:cubicBezTo>
                <a:cubicBezTo>
                  <a:pt x="2541904" y="1973072"/>
                  <a:pt x="1972944" y="2542032"/>
                  <a:pt x="1271015" y="2542032"/>
                </a:cubicBezTo>
                <a:cubicBezTo>
                  <a:pt x="568959" y="2542032"/>
                  <a:pt x="0" y="1973072"/>
                  <a:pt x="0" y="1271016"/>
                </a:cubicBezTo>
              </a:path>
            </a:pathLst>
          </a:custGeom>
          <a:solidFill>
            <a:srgbClr val="e74c3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4977000" y="823320"/>
            <a:ext cx="2617920" cy="2617920"/>
          </a:xfrm>
          <a:custGeom>
            <a:avLst/>
            <a:gdLst>
              <a:gd name="textAreaLeft" fmla="*/ 0 w 2617920"/>
              <a:gd name="textAreaRight" fmla="*/ 2618280 w 2617920"/>
              <a:gd name="textAreaTop" fmla="*/ 0 h 2617920"/>
              <a:gd name="textAreaBottom" fmla="*/ 2618280 h 2617920"/>
            </a:gdLst>
            <a:ahLst/>
            <a:rect l="textAreaLeft" t="textAreaTop" r="textAreaRight" b="textAreaBottom"/>
            <a:pathLst>
              <a:path w="2618104" h="2618232">
                <a:moveTo>
                  <a:pt x="38100" y="1309116"/>
                </a:moveTo>
                <a:cubicBezTo>
                  <a:pt x="38100" y="607187"/>
                  <a:pt x="607059" y="38100"/>
                  <a:pt x="1309115" y="38100"/>
                </a:cubicBezTo>
                <a:cubicBezTo>
                  <a:pt x="2011044" y="38100"/>
                  <a:pt x="2580004" y="607187"/>
                  <a:pt x="2580004" y="1309116"/>
                </a:cubicBezTo>
                <a:cubicBezTo>
                  <a:pt x="2580004" y="2011172"/>
                  <a:pt x="2011044" y="2580132"/>
                  <a:pt x="1309115" y="2580132"/>
                </a:cubicBezTo>
                <a:cubicBezTo>
                  <a:pt x="607059" y="2580132"/>
                  <a:pt x="38100" y="2011172"/>
                  <a:pt x="38100" y="1309116"/>
                </a:cubicBezTo>
              </a:path>
            </a:pathLst>
          </a:custGeom>
          <a:noFill/>
          <a:ln w="762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5865120" y="1530720"/>
            <a:ext cx="1536480" cy="1812960"/>
          </a:xfrm>
          <a:custGeom>
            <a:avLst/>
            <a:gdLst>
              <a:gd name="textAreaLeft" fmla="*/ 0 w 1536480"/>
              <a:gd name="textAreaRight" fmla="*/ 1536840 w 1536480"/>
              <a:gd name="textAreaTop" fmla="*/ 0 h 1812960"/>
              <a:gd name="textAreaBottom" fmla="*/ 1813320 h 1812960"/>
            </a:gdLst>
            <a:ahLst/>
            <a:rect l="textAreaLeft" t="textAreaTop" r="textAreaRight" b="textAreaBottom"/>
            <a:pathLst>
              <a:path w="1536954" h="1813179">
                <a:moveTo>
                  <a:pt x="473455" y="0"/>
                </a:moveTo>
                <a:lnTo>
                  <a:pt x="1536954" y="1104011"/>
                </a:lnTo>
                <a:lnTo>
                  <a:pt x="1487042" y="1207643"/>
                </a:lnTo>
                <a:cubicBezTo>
                  <a:pt x="1350009" y="1459737"/>
                  <a:pt x="1130300" y="1660397"/>
                  <a:pt x="864107" y="1772920"/>
                </a:cubicBezTo>
                <a:lnTo>
                  <a:pt x="754253" y="1813178"/>
                </a:lnTo>
                <a:lnTo>
                  <a:pt x="803529" y="1763902"/>
                </a:lnTo>
                <a:lnTo>
                  <a:pt x="783208" y="1812544"/>
                </a:lnTo>
                <a:lnTo>
                  <a:pt x="62357" y="1110741"/>
                </a:lnTo>
                <a:lnTo>
                  <a:pt x="0" y="907287"/>
                </a:lnTo>
                <a:lnTo>
                  <a:pt x="23748" y="805434"/>
                </a:lnTo>
                <a:lnTo>
                  <a:pt x="137795" y="602234"/>
                </a:lnTo>
                <a:lnTo>
                  <a:pt x="307085" y="357886"/>
                </a:lnTo>
                <a:lnTo>
                  <a:pt x="398779" y="193547"/>
                </a:lnTo>
                <a:lnTo>
                  <a:pt x="473455" y="0"/>
                </a:lnTo>
              </a:path>
            </a:pathLst>
          </a:custGeom>
          <a:solidFill>
            <a:srgbClr val="db908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0" y="3272040"/>
            <a:ext cx="5684760" cy="1606320"/>
          </a:xfrm>
          <a:custGeom>
            <a:avLst/>
            <a:gdLst>
              <a:gd name="textAreaLeft" fmla="*/ 0 w 5684760"/>
              <a:gd name="textAreaRight" fmla="*/ 5685120 w 5684760"/>
              <a:gd name="textAreaTop" fmla="*/ 0 h 1606320"/>
              <a:gd name="textAreaBottom" fmla="*/ 1606680 h 1606320"/>
            </a:gdLst>
            <a:ahLst/>
            <a:rect l="textAreaLeft" t="textAreaTop" r="textAreaRight" b="textAreaBottom"/>
            <a:pathLst>
              <a:path w="5685154" h="1606677">
                <a:moveTo>
                  <a:pt x="0" y="1606677"/>
                </a:moveTo>
                <a:lnTo>
                  <a:pt x="5685154" y="1606677"/>
                </a:lnTo>
                <a:lnTo>
                  <a:pt x="5685154" y="0"/>
                </a:lnTo>
                <a:lnTo>
                  <a:pt x="0" y="0"/>
                </a:lnTo>
                <a:lnTo>
                  <a:pt x="0" y="1606677"/>
                </a:lnTo>
              </a:path>
            </a:pathLst>
          </a:custGeom>
          <a:solidFill>
            <a:srgbClr val="a6a6a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5841360" y="1523160"/>
            <a:ext cx="885960" cy="1218600"/>
          </a:xfrm>
          <a:custGeom>
            <a:avLst/>
            <a:gdLst>
              <a:gd name="textAreaLeft" fmla="*/ 0 w 885960"/>
              <a:gd name="textAreaRight" fmla="*/ 886320 w 885960"/>
              <a:gd name="textAreaTop" fmla="*/ 0 h 1218600"/>
              <a:gd name="textAreaBottom" fmla="*/ 1218960 h 1218600"/>
            </a:gdLst>
            <a:ahLst/>
            <a:rect l="textAreaLeft" t="textAreaTop" r="textAreaRight" b="textAreaBottom"/>
            <a:pathLst>
              <a:path w="886436" h="1218818">
                <a:moveTo>
                  <a:pt x="859790" y="860805"/>
                </a:moveTo>
                <a:cubicBezTo>
                  <a:pt x="841247" y="825500"/>
                  <a:pt x="813307" y="796670"/>
                  <a:pt x="778002" y="775335"/>
                </a:cubicBezTo>
                <a:cubicBezTo>
                  <a:pt x="698880" y="726947"/>
                  <a:pt x="590930" y="722376"/>
                  <a:pt x="526669" y="763269"/>
                </a:cubicBezTo>
                <a:cubicBezTo>
                  <a:pt x="508127" y="775335"/>
                  <a:pt x="502539" y="800480"/>
                  <a:pt x="514603" y="819022"/>
                </a:cubicBezTo>
                <a:cubicBezTo>
                  <a:pt x="526669" y="838580"/>
                  <a:pt x="551815" y="844169"/>
                  <a:pt x="570483" y="831976"/>
                </a:cubicBezTo>
                <a:cubicBezTo>
                  <a:pt x="604901" y="810641"/>
                  <a:pt x="678433" y="810641"/>
                  <a:pt x="735203" y="845057"/>
                </a:cubicBezTo>
                <a:cubicBezTo>
                  <a:pt x="770508" y="866394"/>
                  <a:pt x="810514" y="908304"/>
                  <a:pt x="804036" y="988186"/>
                </a:cubicBezTo>
                <a:cubicBezTo>
                  <a:pt x="799338" y="1045844"/>
                  <a:pt x="774192" y="1087754"/>
                  <a:pt x="731393" y="1112773"/>
                </a:cubicBezTo>
                <a:cubicBezTo>
                  <a:pt x="696976" y="1132332"/>
                  <a:pt x="656082" y="1137919"/>
                  <a:pt x="620648" y="1136904"/>
                </a:cubicBezTo>
                <a:cubicBezTo>
                  <a:pt x="717422" y="1073785"/>
                  <a:pt x="635634" y="964057"/>
                  <a:pt x="545338" y="1026286"/>
                </a:cubicBezTo>
                <a:cubicBezTo>
                  <a:pt x="415925" y="1115567"/>
                  <a:pt x="270764" y="1141602"/>
                  <a:pt x="176783" y="1091438"/>
                </a:cubicBezTo>
                <a:cubicBezTo>
                  <a:pt x="114427" y="1058926"/>
                  <a:pt x="81915" y="997457"/>
                  <a:pt x="81915" y="911986"/>
                </a:cubicBezTo>
                <a:cubicBezTo>
                  <a:pt x="81915" y="792988"/>
                  <a:pt x="189865" y="641476"/>
                  <a:pt x="295021" y="495554"/>
                </a:cubicBezTo>
                <a:cubicBezTo>
                  <a:pt x="348996" y="420242"/>
                  <a:pt x="404876" y="342138"/>
                  <a:pt x="446658" y="267716"/>
                </a:cubicBezTo>
                <a:cubicBezTo>
                  <a:pt x="496951" y="178435"/>
                  <a:pt x="520191" y="106933"/>
                  <a:pt x="520191" y="40894"/>
                </a:cubicBezTo>
                <a:cubicBezTo>
                  <a:pt x="520191" y="18541"/>
                  <a:pt x="501650" y="0"/>
                  <a:pt x="479297" y="0"/>
                </a:cubicBezTo>
                <a:cubicBezTo>
                  <a:pt x="456946" y="0"/>
                  <a:pt x="438277" y="18541"/>
                  <a:pt x="438277" y="40894"/>
                </a:cubicBezTo>
                <a:cubicBezTo>
                  <a:pt x="438277" y="156210"/>
                  <a:pt x="331342" y="304926"/>
                  <a:pt x="228980" y="448055"/>
                </a:cubicBezTo>
                <a:cubicBezTo>
                  <a:pt x="116332" y="604266"/>
                  <a:pt x="0" y="766952"/>
                  <a:pt x="0" y="911986"/>
                </a:cubicBezTo>
                <a:cubicBezTo>
                  <a:pt x="0" y="1028191"/>
                  <a:pt x="49402" y="1117472"/>
                  <a:pt x="138683" y="1163954"/>
                </a:cubicBezTo>
                <a:cubicBezTo>
                  <a:pt x="181483" y="1186179"/>
                  <a:pt x="231775" y="1198372"/>
                  <a:pt x="286639" y="1198372"/>
                </a:cubicBezTo>
                <a:cubicBezTo>
                  <a:pt x="308990" y="1198372"/>
                  <a:pt x="331342" y="1196466"/>
                  <a:pt x="353695" y="1192783"/>
                </a:cubicBezTo>
                <a:cubicBezTo>
                  <a:pt x="402082" y="1185291"/>
                  <a:pt x="451358" y="1169542"/>
                  <a:pt x="499745" y="1147191"/>
                </a:cubicBezTo>
                <a:cubicBezTo>
                  <a:pt x="493267" y="1165732"/>
                  <a:pt x="501650" y="1188085"/>
                  <a:pt x="521080" y="1196466"/>
                </a:cubicBezTo>
                <a:cubicBezTo>
                  <a:pt x="550036" y="1210436"/>
                  <a:pt x="589026" y="1218819"/>
                  <a:pt x="630935" y="1218819"/>
                </a:cubicBezTo>
                <a:cubicBezTo>
                  <a:pt x="678433" y="1218819"/>
                  <a:pt x="729615" y="1208532"/>
                  <a:pt x="772414" y="1183385"/>
                </a:cubicBezTo>
                <a:cubicBezTo>
                  <a:pt x="818895" y="1156461"/>
                  <a:pt x="875665" y="1102613"/>
                  <a:pt x="885952" y="994791"/>
                </a:cubicBezTo>
                <a:cubicBezTo>
                  <a:pt x="889634" y="945514"/>
                  <a:pt x="881253" y="899922"/>
                  <a:pt x="859790" y="860805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2902320" y="1937160"/>
            <a:ext cx="39240" cy="226440"/>
          </a:xfrm>
          <a:custGeom>
            <a:avLst/>
            <a:gdLst>
              <a:gd name="textAreaLeft" fmla="*/ 0 w 39240"/>
              <a:gd name="textAreaRight" fmla="*/ 39600 w 39240"/>
              <a:gd name="textAreaTop" fmla="*/ 0 h 226440"/>
              <a:gd name="textAreaBottom" fmla="*/ 226800 h 226440"/>
            </a:gdLst>
            <a:ahLst/>
            <a:rect l="textAreaLeft" t="textAreaTop" r="textAreaRight" b="textAreaBottom"/>
            <a:pathLst>
              <a:path w="39618" h="226702">
                <a:moveTo>
                  <a:pt x="33087" y="214366"/>
                </a:moveTo>
                <a:cubicBezTo>
                  <a:pt x="33087" y="215268"/>
                  <a:pt x="32871" y="216043"/>
                  <a:pt x="32426" y="216830"/>
                </a:cubicBezTo>
                <a:cubicBezTo>
                  <a:pt x="31969" y="217503"/>
                  <a:pt x="31309" y="218164"/>
                  <a:pt x="30306" y="218608"/>
                </a:cubicBezTo>
                <a:cubicBezTo>
                  <a:pt x="29404" y="219066"/>
                  <a:pt x="28070" y="219396"/>
                  <a:pt x="26280" y="219726"/>
                </a:cubicBezTo>
                <a:cubicBezTo>
                  <a:pt x="24603" y="219954"/>
                  <a:pt x="22381" y="220170"/>
                  <a:pt x="19701" y="220170"/>
                </a:cubicBezTo>
                <a:cubicBezTo>
                  <a:pt x="17237" y="220170"/>
                  <a:pt x="15116" y="220069"/>
                  <a:pt x="13338" y="219726"/>
                </a:cubicBezTo>
                <a:cubicBezTo>
                  <a:pt x="11662" y="219510"/>
                  <a:pt x="10316" y="219066"/>
                  <a:pt x="9198" y="218608"/>
                </a:cubicBezTo>
                <a:cubicBezTo>
                  <a:pt x="8195" y="218164"/>
                  <a:pt x="7535" y="217605"/>
                  <a:pt x="7090" y="216830"/>
                </a:cubicBezTo>
                <a:cubicBezTo>
                  <a:pt x="6747" y="216157"/>
                  <a:pt x="6531" y="215268"/>
                  <a:pt x="6531" y="214366"/>
                </a:cubicBezTo>
                <a:lnTo>
                  <a:pt x="6531" y="12335"/>
                </a:lnTo>
                <a:cubicBezTo>
                  <a:pt x="6531" y="11446"/>
                  <a:pt x="6633" y="10659"/>
                  <a:pt x="7090" y="9884"/>
                </a:cubicBezTo>
                <a:cubicBezTo>
                  <a:pt x="7420" y="9211"/>
                  <a:pt x="8093" y="8538"/>
                  <a:pt x="9198" y="7979"/>
                </a:cubicBezTo>
                <a:cubicBezTo>
                  <a:pt x="10214" y="7534"/>
                  <a:pt x="11548" y="7090"/>
                  <a:pt x="13338" y="6874"/>
                </a:cubicBezTo>
                <a:cubicBezTo>
                  <a:pt x="15015" y="6645"/>
                  <a:pt x="17136" y="6531"/>
                  <a:pt x="19701" y="6531"/>
                </a:cubicBezTo>
                <a:cubicBezTo>
                  <a:pt x="22381" y="6531"/>
                  <a:pt x="24502" y="6645"/>
                  <a:pt x="26280" y="6874"/>
                </a:cubicBezTo>
                <a:cubicBezTo>
                  <a:pt x="27956" y="7090"/>
                  <a:pt x="29302" y="7420"/>
                  <a:pt x="30306" y="7979"/>
                </a:cubicBezTo>
                <a:cubicBezTo>
                  <a:pt x="31194" y="8436"/>
                  <a:pt x="31969" y="9096"/>
                  <a:pt x="32426" y="9884"/>
                </a:cubicBezTo>
                <a:cubicBezTo>
                  <a:pt x="32871" y="10557"/>
                  <a:pt x="33087" y="11446"/>
                  <a:pt x="33087" y="12335"/>
                </a:cubicBezTo>
                <a:lnTo>
                  <a:pt x="33087" y="214366"/>
                </a:lnTo>
              </a:path>
            </a:pathLst>
          </a:custGeom>
          <a:solidFill>
            <a:srgbClr val="7f7f7f"/>
          </a:solidFill>
          <a:ln w="12700">
            <a:solidFill>
              <a:srgbClr val="7f7f7f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2898000" y="1856520"/>
            <a:ext cx="47520" cy="48960"/>
          </a:xfrm>
          <a:custGeom>
            <a:avLst/>
            <a:gdLst>
              <a:gd name="textAreaLeft" fmla="*/ 0 w 47520"/>
              <a:gd name="textAreaRight" fmla="*/ 47880 w 475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47886" h="49448">
                <a:moveTo>
                  <a:pt x="41355" y="24616"/>
                </a:moveTo>
                <a:cubicBezTo>
                  <a:pt x="41355" y="31753"/>
                  <a:pt x="40123" y="36554"/>
                  <a:pt x="37557" y="39119"/>
                </a:cubicBezTo>
                <a:cubicBezTo>
                  <a:pt x="35106" y="41583"/>
                  <a:pt x="30407" y="42917"/>
                  <a:pt x="23714" y="42917"/>
                </a:cubicBezTo>
                <a:cubicBezTo>
                  <a:pt x="17237" y="42917"/>
                  <a:pt x="12665" y="41697"/>
                  <a:pt x="10214" y="39234"/>
                </a:cubicBezTo>
                <a:cubicBezTo>
                  <a:pt x="7750" y="36783"/>
                  <a:pt x="6531" y="31982"/>
                  <a:pt x="6531" y="24832"/>
                </a:cubicBezTo>
                <a:cubicBezTo>
                  <a:pt x="6531" y="17694"/>
                  <a:pt x="7750" y="12894"/>
                  <a:pt x="10316" y="10328"/>
                </a:cubicBezTo>
                <a:cubicBezTo>
                  <a:pt x="12780" y="7877"/>
                  <a:pt x="17466" y="6531"/>
                  <a:pt x="24159" y="6531"/>
                </a:cubicBezTo>
                <a:cubicBezTo>
                  <a:pt x="30636" y="6531"/>
                  <a:pt x="35208" y="7763"/>
                  <a:pt x="37672" y="10214"/>
                </a:cubicBezTo>
                <a:cubicBezTo>
                  <a:pt x="40123" y="12665"/>
                  <a:pt x="41355" y="17466"/>
                  <a:pt x="41355" y="24616"/>
                </a:cubicBezTo>
              </a:path>
            </a:pathLst>
          </a:custGeom>
          <a:solidFill>
            <a:srgbClr val="7f7f7f"/>
          </a:solidFill>
          <a:ln w="12700">
            <a:solidFill>
              <a:srgbClr val="7f7f7f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2985120" y="1934640"/>
            <a:ext cx="149760" cy="231120"/>
          </a:xfrm>
          <a:custGeom>
            <a:avLst/>
            <a:gdLst>
              <a:gd name="textAreaLeft" fmla="*/ 0 w 149760"/>
              <a:gd name="textAreaRight" fmla="*/ 150120 w 149760"/>
              <a:gd name="textAreaTop" fmla="*/ 0 h 231120"/>
              <a:gd name="textAreaBottom" fmla="*/ 231480 h 231120"/>
            </a:gdLst>
            <a:ahLst/>
            <a:rect l="textAreaLeft" t="textAreaTop" r="textAreaRight" b="textAreaBottom"/>
            <a:pathLst>
              <a:path w="150134" h="231617">
                <a:moveTo>
                  <a:pt x="143602" y="163021"/>
                </a:moveTo>
                <a:cubicBezTo>
                  <a:pt x="143602" y="172622"/>
                  <a:pt x="141811" y="181321"/>
                  <a:pt x="138243" y="189030"/>
                </a:cubicBezTo>
                <a:cubicBezTo>
                  <a:pt x="134674" y="196625"/>
                  <a:pt x="129645" y="203203"/>
                  <a:pt x="122952" y="208563"/>
                </a:cubicBezTo>
                <a:cubicBezTo>
                  <a:pt x="116373" y="213922"/>
                  <a:pt x="108449" y="217935"/>
                  <a:pt x="99178" y="220844"/>
                </a:cubicBezTo>
                <a:cubicBezTo>
                  <a:pt x="90021" y="223638"/>
                  <a:pt x="79759" y="225085"/>
                  <a:pt x="68596" y="225085"/>
                </a:cubicBezTo>
                <a:cubicBezTo>
                  <a:pt x="61674" y="225085"/>
                  <a:pt x="54982" y="224527"/>
                  <a:pt x="48720" y="223409"/>
                </a:cubicBezTo>
                <a:cubicBezTo>
                  <a:pt x="42472" y="222291"/>
                  <a:pt x="36897" y="220958"/>
                  <a:pt x="31753" y="219167"/>
                </a:cubicBezTo>
                <a:cubicBezTo>
                  <a:pt x="26737" y="217491"/>
                  <a:pt x="22495" y="215713"/>
                  <a:pt x="18926" y="213693"/>
                </a:cubicBezTo>
                <a:cubicBezTo>
                  <a:pt x="15459" y="211801"/>
                  <a:pt x="12894" y="210125"/>
                  <a:pt x="11217" y="208563"/>
                </a:cubicBezTo>
                <a:cubicBezTo>
                  <a:pt x="9655" y="207115"/>
                  <a:pt x="8436" y="205210"/>
                  <a:pt x="7649" y="202987"/>
                </a:cubicBezTo>
                <a:cubicBezTo>
                  <a:pt x="6976" y="200752"/>
                  <a:pt x="6531" y="197844"/>
                  <a:pt x="6531" y="194047"/>
                </a:cubicBezTo>
                <a:cubicBezTo>
                  <a:pt x="6531" y="192154"/>
                  <a:pt x="6645" y="190478"/>
                  <a:pt x="6976" y="188916"/>
                </a:cubicBezTo>
                <a:cubicBezTo>
                  <a:pt x="7204" y="187468"/>
                  <a:pt x="7649" y="186236"/>
                  <a:pt x="8093" y="185118"/>
                </a:cubicBezTo>
                <a:cubicBezTo>
                  <a:pt x="8538" y="184115"/>
                  <a:pt x="9096" y="183340"/>
                  <a:pt x="9884" y="182782"/>
                </a:cubicBezTo>
                <a:cubicBezTo>
                  <a:pt x="10557" y="182337"/>
                  <a:pt x="11446" y="181994"/>
                  <a:pt x="12335" y="181994"/>
                </a:cubicBezTo>
                <a:cubicBezTo>
                  <a:pt x="13897" y="181994"/>
                  <a:pt x="16361" y="182998"/>
                  <a:pt x="19485" y="185118"/>
                </a:cubicBezTo>
                <a:cubicBezTo>
                  <a:pt x="22609" y="187138"/>
                  <a:pt x="26508" y="189475"/>
                  <a:pt x="31207" y="191926"/>
                </a:cubicBezTo>
                <a:cubicBezTo>
                  <a:pt x="35893" y="194390"/>
                  <a:pt x="41469" y="196625"/>
                  <a:pt x="47946" y="198746"/>
                </a:cubicBezTo>
                <a:cubicBezTo>
                  <a:pt x="54423" y="200752"/>
                  <a:pt x="61903" y="201870"/>
                  <a:pt x="70374" y="201870"/>
                </a:cubicBezTo>
                <a:cubicBezTo>
                  <a:pt x="77194" y="201870"/>
                  <a:pt x="83442" y="201197"/>
                  <a:pt x="89132" y="199635"/>
                </a:cubicBezTo>
                <a:cubicBezTo>
                  <a:pt x="94720" y="198187"/>
                  <a:pt x="99622" y="195952"/>
                  <a:pt x="103864" y="192942"/>
                </a:cubicBezTo>
                <a:cubicBezTo>
                  <a:pt x="107991" y="190033"/>
                  <a:pt x="111230" y="186122"/>
                  <a:pt x="113579" y="181436"/>
                </a:cubicBezTo>
                <a:cubicBezTo>
                  <a:pt x="115815" y="176749"/>
                  <a:pt x="117034" y="171275"/>
                  <a:pt x="117034" y="165027"/>
                </a:cubicBezTo>
                <a:cubicBezTo>
                  <a:pt x="117034" y="158779"/>
                  <a:pt x="115586" y="153534"/>
                  <a:pt x="112576" y="149178"/>
                </a:cubicBezTo>
                <a:cubicBezTo>
                  <a:pt x="109668" y="144936"/>
                  <a:pt x="105769" y="141138"/>
                  <a:pt x="100854" y="137913"/>
                </a:cubicBezTo>
                <a:cubicBezTo>
                  <a:pt x="96053" y="134776"/>
                  <a:pt x="90580" y="131880"/>
                  <a:pt x="84331" y="129429"/>
                </a:cubicBezTo>
                <a:cubicBezTo>
                  <a:pt x="78197" y="126965"/>
                  <a:pt x="71834" y="124514"/>
                  <a:pt x="65358" y="121835"/>
                </a:cubicBezTo>
                <a:cubicBezTo>
                  <a:pt x="58880" y="119269"/>
                  <a:pt x="52632" y="116361"/>
                  <a:pt x="46384" y="113237"/>
                </a:cubicBezTo>
                <a:cubicBezTo>
                  <a:pt x="40237" y="110112"/>
                  <a:pt x="34776" y="106315"/>
                  <a:pt x="29861" y="101857"/>
                </a:cubicBezTo>
                <a:cubicBezTo>
                  <a:pt x="25060" y="97387"/>
                  <a:pt x="21161" y="92028"/>
                  <a:pt x="18139" y="85779"/>
                </a:cubicBezTo>
                <a:cubicBezTo>
                  <a:pt x="15243" y="79531"/>
                  <a:pt x="13681" y="72050"/>
                  <a:pt x="13681" y="63237"/>
                </a:cubicBezTo>
                <a:cubicBezTo>
                  <a:pt x="13681" y="56315"/>
                  <a:pt x="15015" y="49394"/>
                  <a:pt x="17694" y="42586"/>
                </a:cubicBezTo>
                <a:cubicBezTo>
                  <a:pt x="20374" y="35881"/>
                  <a:pt x="24501" y="29747"/>
                  <a:pt x="30090" y="24387"/>
                </a:cubicBezTo>
                <a:cubicBezTo>
                  <a:pt x="35665" y="19028"/>
                  <a:pt x="42815" y="14786"/>
                  <a:pt x="51514" y="11446"/>
                </a:cubicBezTo>
                <a:cubicBezTo>
                  <a:pt x="60227" y="8208"/>
                  <a:pt x="70488" y="6531"/>
                  <a:pt x="82439" y="6531"/>
                </a:cubicBezTo>
                <a:cubicBezTo>
                  <a:pt x="87455" y="6531"/>
                  <a:pt x="92485" y="6861"/>
                  <a:pt x="97501" y="7763"/>
                </a:cubicBezTo>
                <a:cubicBezTo>
                  <a:pt x="102416" y="8538"/>
                  <a:pt x="106988" y="9655"/>
                  <a:pt x="111116" y="10989"/>
                </a:cubicBezTo>
                <a:cubicBezTo>
                  <a:pt x="115142" y="12335"/>
                  <a:pt x="118710" y="13783"/>
                  <a:pt x="121720" y="15345"/>
                </a:cubicBezTo>
                <a:cubicBezTo>
                  <a:pt x="124628" y="16907"/>
                  <a:pt x="126978" y="18253"/>
                  <a:pt x="128540" y="19472"/>
                </a:cubicBezTo>
                <a:cubicBezTo>
                  <a:pt x="130102" y="20590"/>
                  <a:pt x="131105" y="21593"/>
                  <a:pt x="131664" y="22495"/>
                </a:cubicBezTo>
                <a:cubicBezTo>
                  <a:pt x="132109" y="23270"/>
                  <a:pt x="132553" y="24159"/>
                  <a:pt x="132782" y="25060"/>
                </a:cubicBezTo>
                <a:cubicBezTo>
                  <a:pt x="132998" y="25949"/>
                  <a:pt x="133112" y="26953"/>
                  <a:pt x="133341" y="28299"/>
                </a:cubicBezTo>
                <a:cubicBezTo>
                  <a:pt x="133442" y="29518"/>
                  <a:pt x="133556" y="31080"/>
                  <a:pt x="133556" y="32871"/>
                </a:cubicBezTo>
                <a:cubicBezTo>
                  <a:pt x="133556" y="34662"/>
                  <a:pt x="133442" y="36224"/>
                  <a:pt x="133226" y="37672"/>
                </a:cubicBezTo>
                <a:cubicBezTo>
                  <a:pt x="132998" y="39005"/>
                  <a:pt x="132667" y="40237"/>
                  <a:pt x="132223" y="41355"/>
                </a:cubicBezTo>
                <a:cubicBezTo>
                  <a:pt x="131766" y="42358"/>
                  <a:pt x="131220" y="43145"/>
                  <a:pt x="130547" y="43704"/>
                </a:cubicBezTo>
                <a:cubicBezTo>
                  <a:pt x="129873" y="44149"/>
                  <a:pt x="129099" y="44479"/>
                  <a:pt x="128197" y="44479"/>
                </a:cubicBezTo>
                <a:cubicBezTo>
                  <a:pt x="127080" y="44479"/>
                  <a:pt x="125301" y="43704"/>
                  <a:pt x="122838" y="42028"/>
                </a:cubicBezTo>
                <a:cubicBezTo>
                  <a:pt x="120501" y="40465"/>
                  <a:pt x="117377" y="38675"/>
                  <a:pt x="113465" y="36668"/>
                </a:cubicBezTo>
                <a:cubicBezTo>
                  <a:pt x="109668" y="34763"/>
                  <a:pt x="104981" y="32985"/>
                  <a:pt x="99622" y="31309"/>
                </a:cubicBezTo>
                <a:cubicBezTo>
                  <a:pt x="94263" y="29747"/>
                  <a:pt x="88129" y="28858"/>
                  <a:pt x="81093" y="28858"/>
                </a:cubicBezTo>
                <a:cubicBezTo>
                  <a:pt x="74171" y="28858"/>
                  <a:pt x="68037" y="29632"/>
                  <a:pt x="62678" y="31309"/>
                </a:cubicBezTo>
                <a:cubicBezTo>
                  <a:pt x="57433" y="32871"/>
                  <a:pt x="53076" y="35220"/>
                  <a:pt x="49622" y="38230"/>
                </a:cubicBezTo>
                <a:cubicBezTo>
                  <a:pt x="46269" y="41126"/>
                  <a:pt x="43704" y="44707"/>
                  <a:pt x="41913" y="48721"/>
                </a:cubicBezTo>
                <a:cubicBezTo>
                  <a:pt x="40237" y="52734"/>
                  <a:pt x="39348" y="57090"/>
                  <a:pt x="39348" y="61890"/>
                </a:cubicBezTo>
                <a:cubicBezTo>
                  <a:pt x="39348" y="68367"/>
                  <a:pt x="40796" y="73943"/>
                  <a:pt x="43818" y="78413"/>
                </a:cubicBezTo>
                <a:cubicBezTo>
                  <a:pt x="46714" y="82884"/>
                  <a:pt x="50740" y="86668"/>
                  <a:pt x="55642" y="90021"/>
                </a:cubicBezTo>
                <a:cubicBezTo>
                  <a:pt x="60557" y="93260"/>
                  <a:pt x="66145" y="96155"/>
                  <a:pt x="72393" y="98733"/>
                </a:cubicBezTo>
                <a:cubicBezTo>
                  <a:pt x="78642" y="101184"/>
                  <a:pt x="85004" y="103750"/>
                  <a:pt x="91481" y="106315"/>
                </a:cubicBezTo>
                <a:cubicBezTo>
                  <a:pt x="97946" y="108779"/>
                  <a:pt x="104308" y="111560"/>
                  <a:pt x="110569" y="114684"/>
                </a:cubicBezTo>
                <a:cubicBezTo>
                  <a:pt x="116818" y="117707"/>
                  <a:pt x="122393" y="121390"/>
                  <a:pt x="127308" y="125746"/>
                </a:cubicBezTo>
                <a:cubicBezTo>
                  <a:pt x="132223" y="129988"/>
                  <a:pt x="136122" y="135233"/>
                  <a:pt x="139144" y="141253"/>
                </a:cubicBezTo>
                <a:cubicBezTo>
                  <a:pt x="142040" y="147285"/>
                  <a:pt x="143602" y="154537"/>
                  <a:pt x="143602" y="163021"/>
                </a:cubicBezTo>
              </a:path>
            </a:pathLst>
          </a:custGeom>
          <a:solidFill>
            <a:srgbClr val="7f7f7f"/>
          </a:solidFill>
          <a:ln w="12700">
            <a:solidFill>
              <a:srgbClr val="7f7f7f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5465880" y="3117960"/>
            <a:ext cx="3042720" cy="3042720"/>
          </a:xfrm>
          <a:custGeom>
            <a:avLst/>
            <a:gdLst>
              <a:gd name="textAreaLeft" fmla="*/ 0 w 3042720"/>
              <a:gd name="textAreaRight" fmla="*/ 3043080 w 3042720"/>
              <a:gd name="textAreaTop" fmla="*/ 0 h 3042720"/>
              <a:gd name="textAreaBottom" fmla="*/ 3043080 h 3042720"/>
            </a:gdLst>
            <a:ahLst/>
            <a:rect l="textAreaLeft" t="textAreaTop" r="textAreaRight" b="textAreaBottom"/>
            <a:pathLst>
              <a:path w="3043173" h="3043212">
                <a:moveTo>
                  <a:pt x="0" y="1521587"/>
                </a:moveTo>
                <a:cubicBezTo>
                  <a:pt x="0" y="681227"/>
                  <a:pt x="681227" y="0"/>
                  <a:pt x="1521586" y="0"/>
                </a:cubicBezTo>
                <a:cubicBezTo>
                  <a:pt x="2361945" y="0"/>
                  <a:pt x="3043173" y="681227"/>
                  <a:pt x="3043173" y="1521587"/>
                </a:cubicBezTo>
                <a:cubicBezTo>
                  <a:pt x="3043173" y="2361945"/>
                  <a:pt x="2361945" y="3043212"/>
                  <a:pt x="1521586" y="3043212"/>
                </a:cubicBezTo>
                <a:cubicBezTo>
                  <a:pt x="681227" y="3043212"/>
                  <a:pt x="0" y="2361945"/>
                  <a:pt x="0" y="1521587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5562720" y="3214800"/>
            <a:ext cx="2849400" cy="285408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2854080"/>
              <a:gd name="textAreaBottom" fmla="*/ 2854440 h 2854080"/>
            </a:gdLst>
            <a:ahLst/>
            <a:rect l="textAreaLeft" t="textAreaTop" r="textAreaRight" b="textAreaBottom"/>
            <a:pathLst>
              <a:path w="2849626" h="2854362">
                <a:moveTo>
                  <a:pt x="0" y="1427226"/>
                </a:moveTo>
                <a:cubicBezTo>
                  <a:pt x="0" y="639064"/>
                  <a:pt x="637920" y="0"/>
                  <a:pt x="1424813" y="0"/>
                </a:cubicBezTo>
                <a:cubicBezTo>
                  <a:pt x="2211704" y="0"/>
                  <a:pt x="2849626" y="639064"/>
                  <a:pt x="2849626" y="1427226"/>
                </a:cubicBezTo>
                <a:cubicBezTo>
                  <a:pt x="2849626" y="2215388"/>
                  <a:pt x="2211704" y="2854362"/>
                  <a:pt x="1424813" y="2854362"/>
                </a:cubicBezTo>
                <a:cubicBezTo>
                  <a:pt x="637920" y="2854362"/>
                  <a:pt x="0" y="2215388"/>
                  <a:pt x="0" y="1427226"/>
                </a:cubicBezTo>
              </a:path>
            </a:pathLst>
          </a:custGeom>
          <a:solidFill>
            <a:srgbClr val="e6e6e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6775560" y="2820960"/>
            <a:ext cx="337680" cy="985680"/>
          </a:xfrm>
          <a:custGeom>
            <a:avLst/>
            <a:gdLst>
              <a:gd name="textAreaLeft" fmla="*/ 0 w 337680"/>
              <a:gd name="textAreaRight" fmla="*/ 338040 w 337680"/>
              <a:gd name="textAreaTop" fmla="*/ 0 h 985680"/>
              <a:gd name="textAreaBottom" fmla="*/ 986040 h 985680"/>
            </a:gdLst>
            <a:ahLst/>
            <a:rect l="textAreaLeft" t="textAreaTop" r="textAreaRight" b="textAreaBottom"/>
            <a:pathLst>
              <a:path w="338201" h="985901">
                <a:moveTo>
                  <a:pt x="118109" y="0"/>
                </a:moveTo>
                <a:cubicBezTo>
                  <a:pt x="220091" y="0"/>
                  <a:pt x="220091" y="0"/>
                  <a:pt x="220091" y="0"/>
                </a:cubicBezTo>
                <a:cubicBezTo>
                  <a:pt x="284479" y="0"/>
                  <a:pt x="338201" y="53847"/>
                  <a:pt x="338201" y="118617"/>
                </a:cubicBezTo>
                <a:cubicBezTo>
                  <a:pt x="338201" y="867409"/>
                  <a:pt x="338201" y="867409"/>
                  <a:pt x="338201" y="867409"/>
                </a:cubicBezTo>
                <a:cubicBezTo>
                  <a:pt x="338201" y="932052"/>
                  <a:pt x="284479" y="985901"/>
                  <a:pt x="220091" y="985901"/>
                </a:cubicBezTo>
                <a:cubicBezTo>
                  <a:pt x="118109" y="985901"/>
                  <a:pt x="118109" y="985901"/>
                  <a:pt x="118109" y="985901"/>
                </a:cubicBezTo>
                <a:cubicBezTo>
                  <a:pt x="53720" y="985901"/>
                  <a:pt x="0" y="932052"/>
                  <a:pt x="0" y="867409"/>
                </a:cubicBezTo>
                <a:cubicBezTo>
                  <a:pt x="0" y="118617"/>
                  <a:pt x="0" y="118617"/>
                  <a:pt x="0" y="118617"/>
                </a:cubicBezTo>
                <a:cubicBezTo>
                  <a:pt x="0" y="53847"/>
                  <a:pt x="53720" y="0"/>
                  <a:pt x="118109" y="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6838920" y="2880000"/>
            <a:ext cx="215640" cy="856800"/>
          </a:xfrm>
          <a:custGeom>
            <a:avLst/>
            <a:gdLst>
              <a:gd name="textAreaLeft" fmla="*/ 0 w 215640"/>
              <a:gd name="textAreaRight" fmla="*/ 216000 w 215640"/>
              <a:gd name="textAreaTop" fmla="*/ 0 h 856800"/>
              <a:gd name="textAreaBottom" fmla="*/ 857160 h 856800"/>
            </a:gdLst>
            <a:ahLst/>
            <a:rect l="textAreaLeft" t="textAreaTop" r="textAreaRight" b="textAreaBottom"/>
            <a:pathLst>
              <a:path w="215900" h="857250">
                <a:moveTo>
                  <a:pt x="75565" y="0"/>
                </a:moveTo>
                <a:cubicBezTo>
                  <a:pt x="140334" y="0"/>
                  <a:pt x="140334" y="0"/>
                  <a:pt x="140334" y="0"/>
                </a:cubicBezTo>
                <a:cubicBezTo>
                  <a:pt x="178180" y="0"/>
                  <a:pt x="215900" y="37719"/>
                  <a:pt x="215900" y="75438"/>
                </a:cubicBezTo>
                <a:cubicBezTo>
                  <a:pt x="215900" y="781685"/>
                  <a:pt x="215900" y="781685"/>
                  <a:pt x="215900" y="781685"/>
                </a:cubicBezTo>
                <a:cubicBezTo>
                  <a:pt x="215900" y="819531"/>
                  <a:pt x="178180" y="857250"/>
                  <a:pt x="140334" y="857250"/>
                </a:cubicBezTo>
                <a:cubicBezTo>
                  <a:pt x="75565" y="857250"/>
                  <a:pt x="75565" y="857250"/>
                  <a:pt x="75565" y="857250"/>
                </a:cubicBezTo>
                <a:cubicBezTo>
                  <a:pt x="32384" y="857250"/>
                  <a:pt x="0" y="819531"/>
                  <a:pt x="0" y="781685"/>
                </a:cubicBezTo>
                <a:cubicBezTo>
                  <a:pt x="0" y="75438"/>
                  <a:pt x="0" y="75438"/>
                  <a:pt x="0" y="75438"/>
                </a:cubicBezTo>
                <a:cubicBezTo>
                  <a:pt x="0" y="37719"/>
                  <a:pt x="32384" y="0"/>
                  <a:pt x="75565" y="0"/>
                </a:cubicBezTo>
              </a:path>
            </a:pathLst>
          </a:custGeom>
          <a:solidFill>
            <a:srgbClr val="e6e6e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5789880" y="3440160"/>
            <a:ext cx="2395080" cy="2396880"/>
          </a:xfrm>
          <a:custGeom>
            <a:avLst/>
            <a:gdLst>
              <a:gd name="textAreaLeft" fmla="*/ 0 w 2395080"/>
              <a:gd name="textAreaRight" fmla="*/ 2395440 w 2395080"/>
              <a:gd name="textAreaTop" fmla="*/ 0 h 2396880"/>
              <a:gd name="textAreaBottom" fmla="*/ 2397240 h 2396880"/>
            </a:gdLst>
            <a:ahLst/>
            <a:rect l="textAreaLeft" t="textAreaTop" r="textAreaRight" b="textAreaBottom"/>
            <a:pathLst>
              <a:path w="2395473" h="2397162">
                <a:moveTo>
                  <a:pt x="0" y="1198626"/>
                </a:moveTo>
                <a:cubicBezTo>
                  <a:pt x="0" y="536702"/>
                  <a:pt x="536193" y="0"/>
                  <a:pt x="1197736" y="0"/>
                </a:cubicBezTo>
                <a:cubicBezTo>
                  <a:pt x="1859279" y="0"/>
                  <a:pt x="2395473" y="536702"/>
                  <a:pt x="2395473" y="1198626"/>
                </a:cubicBezTo>
                <a:cubicBezTo>
                  <a:pt x="2395473" y="1860550"/>
                  <a:pt x="1859279" y="2397162"/>
                  <a:pt x="1197736" y="2397162"/>
                </a:cubicBezTo>
                <a:cubicBezTo>
                  <a:pt x="536193" y="2397162"/>
                  <a:pt x="0" y="1860550"/>
                  <a:pt x="0" y="1198626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Freeform 3"/>
          <p:cNvSpPr/>
          <p:nvPr/>
        </p:nvSpPr>
        <p:spPr>
          <a:xfrm>
            <a:off x="5907240" y="3559320"/>
            <a:ext cx="2160000" cy="2158560"/>
          </a:xfrm>
          <a:custGeom>
            <a:avLst/>
            <a:gdLst>
              <a:gd name="textAreaLeft" fmla="*/ 0 w 2160000"/>
              <a:gd name="textAreaRight" fmla="*/ 2160360 w 2160000"/>
              <a:gd name="textAreaTop" fmla="*/ 0 h 2158560"/>
              <a:gd name="textAreaBottom" fmla="*/ 2158920 h 2158560"/>
            </a:gdLst>
            <a:ahLst/>
            <a:rect l="textAreaLeft" t="textAreaTop" r="textAreaRight" b="textAreaBottom"/>
            <a:pathLst>
              <a:path w="2160523" h="2158974">
                <a:moveTo>
                  <a:pt x="0" y="1079500"/>
                </a:moveTo>
                <a:cubicBezTo>
                  <a:pt x="0" y="483234"/>
                  <a:pt x="483615" y="0"/>
                  <a:pt x="1080261" y="0"/>
                </a:cubicBezTo>
                <a:cubicBezTo>
                  <a:pt x="1676907" y="0"/>
                  <a:pt x="2160523" y="483234"/>
                  <a:pt x="2160523" y="1079500"/>
                </a:cubicBezTo>
                <a:cubicBezTo>
                  <a:pt x="2160523" y="1675638"/>
                  <a:pt x="1676907" y="2158974"/>
                  <a:pt x="1080261" y="2158974"/>
                </a:cubicBezTo>
                <a:cubicBezTo>
                  <a:pt x="483615" y="2158974"/>
                  <a:pt x="0" y="1675638"/>
                  <a:pt x="0" y="1079500"/>
                </a:cubicBezTo>
              </a:path>
            </a:pathLst>
          </a:custGeom>
          <a:solidFill>
            <a:srgbClr val="b3b3b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Freeform 3"/>
          <p:cNvSpPr/>
          <p:nvPr/>
        </p:nvSpPr>
        <p:spPr>
          <a:xfrm>
            <a:off x="6069240" y="3721320"/>
            <a:ext cx="1836360" cy="1836360"/>
          </a:xfrm>
          <a:custGeom>
            <a:avLst/>
            <a:gdLst>
              <a:gd name="textAreaLeft" fmla="*/ 0 w 1836360"/>
              <a:gd name="textAreaRight" fmla="*/ 1836720 w 1836360"/>
              <a:gd name="textAreaTop" fmla="*/ 0 h 1836360"/>
              <a:gd name="textAreaBottom" fmla="*/ 1836720 h 1836360"/>
            </a:gdLst>
            <a:ahLst/>
            <a:rect l="textAreaLeft" t="textAreaTop" r="textAreaRight" b="textAreaBottom"/>
            <a:pathLst>
              <a:path w="1836673" h="1836673">
                <a:moveTo>
                  <a:pt x="0" y="918336"/>
                </a:moveTo>
                <a:cubicBezTo>
                  <a:pt x="0" y="411098"/>
                  <a:pt x="411098" y="0"/>
                  <a:pt x="918336" y="0"/>
                </a:cubicBezTo>
                <a:cubicBezTo>
                  <a:pt x="1425575" y="0"/>
                  <a:pt x="1836673" y="411098"/>
                  <a:pt x="1836673" y="918336"/>
                </a:cubicBezTo>
                <a:cubicBezTo>
                  <a:pt x="1836673" y="1425575"/>
                  <a:pt x="1425575" y="1836673"/>
                  <a:pt x="918336" y="1836673"/>
                </a:cubicBezTo>
                <a:cubicBezTo>
                  <a:pt x="411098" y="1836673"/>
                  <a:pt x="0" y="1425575"/>
                  <a:pt x="0" y="918336"/>
                </a:cubicBezTo>
              </a:path>
            </a:pathLst>
          </a:custGeom>
          <a:solidFill>
            <a:srgbClr val="886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Freeform 3"/>
          <p:cNvSpPr/>
          <p:nvPr/>
        </p:nvSpPr>
        <p:spPr>
          <a:xfrm>
            <a:off x="6323040" y="3978360"/>
            <a:ext cx="1328400" cy="1325160"/>
          </a:xfrm>
          <a:custGeom>
            <a:avLst/>
            <a:gdLst>
              <a:gd name="textAreaLeft" fmla="*/ 0 w 1328400"/>
              <a:gd name="textAreaRight" fmla="*/ 1328760 w 1328400"/>
              <a:gd name="textAreaTop" fmla="*/ 0 h 1325160"/>
              <a:gd name="textAreaBottom" fmla="*/ 1325520 h 1325160"/>
            </a:gdLst>
            <a:ahLst/>
            <a:rect l="textAreaLeft" t="textAreaTop" r="textAreaRight" b="textAreaBottom"/>
            <a:pathLst>
              <a:path w="1328673" h="1325498">
                <a:moveTo>
                  <a:pt x="0" y="662813"/>
                </a:moveTo>
                <a:cubicBezTo>
                  <a:pt x="0" y="296671"/>
                  <a:pt x="297433" y="0"/>
                  <a:pt x="664336" y="0"/>
                </a:cubicBezTo>
                <a:cubicBezTo>
                  <a:pt x="1031240" y="0"/>
                  <a:pt x="1328673" y="296671"/>
                  <a:pt x="1328673" y="662813"/>
                </a:cubicBezTo>
                <a:cubicBezTo>
                  <a:pt x="1328673" y="1028826"/>
                  <a:pt x="1031240" y="1325498"/>
                  <a:pt x="664336" y="1325498"/>
                </a:cubicBezTo>
                <a:cubicBezTo>
                  <a:pt x="297433" y="1325498"/>
                  <a:pt x="0" y="1028826"/>
                  <a:pt x="0" y="662813"/>
                </a:cubicBezTo>
              </a:path>
            </a:pathLst>
          </a:custGeom>
          <a:solidFill>
            <a:srgbClr val="694f2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Freeform 3"/>
          <p:cNvSpPr/>
          <p:nvPr/>
        </p:nvSpPr>
        <p:spPr>
          <a:xfrm>
            <a:off x="6483600" y="4135680"/>
            <a:ext cx="1319040" cy="1319040"/>
          </a:xfrm>
          <a:custGeom>
            <a:avLst/>
            <a:gdLst>
              <a:gd name="textAreaLeft" fmla="*/ 0 w 1319040"/>
              <a:gd name="textAreaRight" fmla="*/ 1319400 w 1319040"/>
              <a:gd name="textAreaTop" fmla="*/ 0 h 1319040"/>
              <a:gd name="textAreaBottom" fmla="*/ 1319400 h 1319040"/>
            </a:gdLst>
            <a:ahLst/>
            <a:rect l="textAreaLeft" t="textAreaTop" r="textAreaRight" b="textAreaBottom"/>
            <a:pathLst>
              <a:path w="1319276" h="1319276">
                <a:moveTo>
                  <a:pt x="1141603" y="0"/>
                </a:moveTo>
                <a:cubicBezTo>
                  <a:pt x="1254632" y="140080"/>
                  <a:pt x="1319276" y="312292"/>
                  <a:pt x="1319276" y="506221"/>
                </a:cubicBezTo>
                <a:cubicBezTo>
                  <a:pt x="1319276" y="953134"/>
                  <a:pt x="953134" y="1319276"/>
                  <a:pt x="506221" y="1319276"/>
                </a:cubicBezTo>
                <a:cubicBezTo>
                  <a:pt x="312292" y="1319276"/>
                  <a:pt x="140080" y="1254633"/>
                  <a:pt x="0" y="1146936"/>
                </a:cubicBezTo>
                <a:cubicBezTo>
                  <a:pt x="129285" y="1227708"/>
                  <a:pt x="280034" y="1276222"/>
                  <a:pt x="446913" y="1276222"/>
                </a:cubicBezTo>
                <a:cubicBezTo>
                  <a:pt x="904620" y="1276222"/>
                  <a:pt x="1276222" y="904620"/>
                  <a:pt x="1276222" y="446913"/>
                </a:cubicBezTo>
                <a:cubicBezTo>
                  <a:pt x="1276222" y="285369"/>
                  <a:pt x="1227708" y="129285"/>
                  <a:pt x="1141603" y="0"/>
                </a:cubicBezTo>
              </a:path>
            </a:pathLst>
          </a:custGeom>
          <a:solidFill>
            <a:srgbClr val="bd9d6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4411440" y="3138840"/>
            <a:ext cx="1931760" cy="1873080"/>
          </a:xfrm>
          <a:custGeom>
            <a:avLst/>
            <a:gdLst>
              <a:gd name="textAreaLeft" fmla="*/ 0 w 1931760"/>
              <a:gd name="textAreaRight" fmla="*/ 1932120 w 1931760"/>
              <a:gd name="textAreaTop" fmla="*/ 0 h 1873080"/>
              <a:gd name="textAreaBottom" fmla="*/ 1873440 h 1873080"/>
            </a:gdLst>
            <a:ahLst/>
            <a:rect l="textAreaLeft" t="textAreaTop" r="textAreaRight" b="textAreaBottom"/>
            <a:pathLst>
              <a:path w="1932051" h="1873376">
                <a:moveTo>
                  <a:pt x="965961" y="28575"/>
                </a:moveTo>
                <a:lnTo>
                  <a:pt x="1061720" y="33019"/>
                </a:lnTo>
                <a:lnTo>
                  <a:pt x="1154557" y="46989"/>
                </a:lnTo>
                <a:lnTo>
                  <a:pt x="1244472" y="69469"/>
                </a:lnTo>
                <a:lnTo>
                  <a:pt x="1330452" y="99694"/>
                </a:lnTo>
                <a:lnTo>
                  <a:pt x="1412240" y="137795"/>
                </a:lnTo>
                <a:lnTo>
                  <a:pt x="1489710" y="183260"/>
                </a:lnTo>
                <a:lnTo>
                  <a:pt x="1561719" y="235711"/>
                </a:lnTo>
                <a:lnTo>
                  <a:pt x="1628394" y="294132"/>
                </a:lnTo>
                <a:lnTo>
                  <a:pt x="1688972" y="358521"/>
                </a:lnTo>
                <a:lnTo>
                  <a:pt x="1743202" y="428625"/>
                </a:lnTo>
                <a:lnTo>
                  <a:pt x="1789810" y="503554"/>
                </a:lnTo>
                <a:lnTo>
                  <a:pt x="1829561" y="582676"/>
                </a:lnTo>
                <a:lnTo>
                  <a:pt x="1861185" y="666369"/>
                </a:lnTo>
                <a:lnTo>
                  <a:pt x="1884172" y="753364"/>
                </a:lnTo>
                <a:lnTo>
                  <a:pt x="1898522" y="843152"/>
                </a:lnTo>
                <a:lnTo>
                  <a:pt x="1902205" y="889889"/>
                </a:lnTo>
                <a:lnTo>
                  <a:pt x="1903476" y="936625"/>
                </a:lnTo>
                <a:lnTo>
                  <a:pt x="1902205" y="983360"/>
                </a:lnTo>
                <a:lnTo>
                  <a:pt x="1898522" y="1030096"/>
                </a:lnTo>
                <a:lnTo>
                  <a:pt x="1884172" y="1120013"/>
                </a:lnTo>
                <a:lnTo>
                  <a:pt x="1861185" y="1206880"/>
                </a:lnTo>
                <a:lnTo>
                  <a:pt x="1829561" y="1290701"/>
                </a:lnTo>
                <a:lnTo>
                  <a:pt x="1789810" y="1369821"/>
                </a:lnTo>
                <a:lnTo>
                  <a:pt x="1743202" y="1444752"/>
                </a:lnTo>
                <a:lnTo>
                  <a:pt x="1688972" y="1514855"/>
                </a:lnTo>
                <a:lnTo>
                  <a:pt x="1628394" y="1579117"/>
                </a:lnTo>
                <a:lnTo>
                  <a:pt x="1561719" y="1637664"/>
                </a:lnTo>
                <a:lnTo>
                  <a:pt x="1489710" y="1690115"/>
                </a:lnTo>
                <a:lnTo>
                  <a:pt x="1412240" y="1735454"/>
                </a:lnTo>
                <a:lnTo>
                  <a:pt x="1330452" y="1773554"/>
                </a:lnTo>
                <a:lnTo>
                  <a:pt x="1244472" y="1803908"/>
                </a:lnTo>
                <a:lnTo>
                  <a:pt x="1154557" y="1826386"/>
                </a:lnTo>
                <a:lnTo>
                  <a:pt x="1061720" y="1840229"/>
                </a:lnTo>
                <a:lnTo>
                  <a:pt x="965961" y="1844802"/>
                </a:lnTo>
                <a:lnTo>
                  <a:pt x="870330" y="1840229"/>
                </a:lnTo>
                <a:lnTo>
                  <a:pt x="777494" y="1826386"/>
                </a:lnTo>
                <a:lnTo>
                  <a:pt x="687451" y="1803908"/>
                </a:lnTo>
                <a:lnTo>
                  <a:pt x="601598" y="1773554"/>
                </a:lnTo>
                <a:lnTo>
                  <a:pt x="519684" y="1735454"/>
                </a:lnTo>
                <a:lnTo>
                  <a:pt x="442341" y="1690115"/>
                </a:lnTo>
                <a:lnTo>
                  <a:pt x="370332" y="1637664"/>
                </a:lnTo>
                <a:lnTo>
                  <a:pt x="303529" y="1579117"/>
                </a:lnTo>
                <a:lnTo>
                  <a:pt x="242951" y="1514855"/>
                </a:lnTo>
                <a:lnTo>
                  <a:pt x="188848" y="1444752"/>
                </a:lnTo>
                <a:lnTo>
                  <a:pt x="142113" y="1369821"/>
                </a:lnTo>
                <a:lnTo>
                  <a:pt x="102361" y="1290701"/>
                </a:lnTo>
                <a:lnTo>
                  <a:pt x="70739" y="1206880"/>
                </a:lnTo>
                <a:lnTo>
                  <a:pt x="47752" y="1120013"/>
                </a:lnTo>
                <a:lnTo>
                  <a:pt x="33528" y="1030096"/>
                </a:lnTo>
                <a:lnTo>
                  <a:pt x="29845" y="983360"/>
                </a:lnTo>
                <a:lnTo>
                  <a:pt x="28575" y="936625"/>
                </a:lnTo>
                <a:lnTo>
                  <a:pt x="29845" y="889889"/>
                </a:lnTo>
                <a:lnTo>
                  <a:pt x="33528" y="843152"/>
                </a:lnTo>
                <a:lnTo>
                  <a:pt x="47752" y="753364"/>
                </a:lnTo>
                <a:lnTo>
                  <a:pt x="70739" y="666369"/>
                </a:lnTo>
                <a:lnTo>
                  <a:pt x="102361" y="582676"/>
                </a:lnTo>
                <a:lnTo>
                  <a:pt x="142113" y="503554"/>
                </a:lnTo>
                <a:lnTo>
                  <a:pt x="188848" y="428625"/>
                </a:lnTo>
                <a:lnTo>
                  <a:pt x="242951" y="358521"/>
                </a:lnTo>
                <a:lnTo>
                  <a:pt x="303529" y="294132"/>
                </a:lnTo>
                <a:lnTo>
                  <a:pt x="370332" y="235711"/>
                </a:lnTo>
                <a:lnTo>
                  <a:pt x="442341" y="183260"/>
                </a:lnTo>
                <a:lnTo>
                  <a:pt x="519684" y="137795"/>
                </a:lnTo>
                <a:lnTo>
                  <a:pt x="601598" y="99694"/>
                </a:lnTo>
                <a:lnTo>
                  <a:pt x="687451" y="69469"/>
                </a:lnTo>
                <a:lnTo>
                  <a:pt x="777494" y="46989"/>
                </a:lnTo>
                <a:lnTo>
                  <a:pt x="870330" y="33019"/>
                </a:lnTo>
                <a:lnTo>
                  <a:pt x="965961" y="28575"/>
                </a:lnTo>
              </a:path>
            </a:pathLst>
          </a:custGeom>
          <a:noFill/>
          <a:ln w="508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Freeform 3"/>
          <p:cNvSpPr/>
          <p:nvPr/>
        </p:nvSpPr>
        <p:spPr>
          <a:xfrm>
            <a:off x="4034880" y="3748320"/>
            <a:ext cx="70920" cy="14400"/>
          </a:xfrm>
          <a:custGeom>
            <a:avLst/>
            <a:gdLst>
              <a:gd name="textAreaLeft" fmla="*/ 0 w 70920"/>
              <a:gd name="textAreaRight" fmla="*/ 71280 w 709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71209" h="14897">
                <a:moveTo>
                  <a:pt x="71209" y="7442"/>
                </a:moveTo>
                <a:cubicBezTo>
                  <a:pt x="71209" y="10274"/>
                  <a:pt x="70840" y="12293"/>
                  <a:pt x="70015" y="13334"/>
                </a:cubicBezTo>
                <a:cubicBezTo>
                  <a:pt x="69278" y="14376"/>
                  <a:pt x="68237" y="14897"/>
                  <a:pt x="66890" y="14897"/>
                </a:cubicBezTo>
                <a:lnTo>
                  <a:pt x="4470" y="14897"/>
                </a:lnTo>
                <a:cubicBezTo>
                  <a:pt x="3200" y="14897"/>
                  <a:pt x="2159" y="14376"/>
                  <a:pt x="1270" y="13258"/>
                </a:cubicBezTo>
                <a:cubicBezTo>
                  <a:pt x="444" y="12217"/>
                  <a:pt x="0" y="10274"/>
                  <a:pt x="0" y="7442"/>
                </a:cubicBezTo>
                <a:cubicBezTo>
                  <a:pt x="0" y="4686"/>
                  <a:pt x="368" y="2756"/>
                  <a:pt x="1270" y="1638"/>
                </a:cubicBezTo>
                <a:cubicBezTo>
                  <a:pt x="2082" y="596"/>
                  <a:pt x="3124" y="0"/>
                  <a:pt x="4470" y="0"/>
                </a:cubicBezTo>
                <a:lnTo>
                  <a:pt x="66890" y="0"/>
                </a:lnTo>
                <a:cubicBezTo>
                  <a:pt x="67488" y="0"/>
                  <a:pt x="68008" y="76"/>
                  <a:pt x="68605" y="368"/>
                </a:cubicBezTo>
                <a:cubicBezTo>
                  <a:pt x="69126" y="596"/>
                  <a:pt x="69570" y="1041"/>
                  <a:pt x="70015" y="1638"/>
                </a:cubicBezTo>
                <a:cubicBezTo>
                  <a:pt x="70396" y="2235"/>
                  <a:pt x="70688" y="2971"/>
                  <a:pt x="70916" y="3949"/>
                </a:cubicBezTo>
                <a:cubicBezTo>
                  <a:pt x="71069" y="4838"/>
                  <a:pt x="71209" y="6032"/>
                  <a:pt x="71209" y="7442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0240" bIns="-30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317520" y="952560"/>
            <a:ext cx="8826120" cy="5879880"/>
          </a:xfrm>
          <a:prstGeom prst="rect">
            <a:avLst/>
          </a:prstGeom>
          <a:ln w="0">
            <a:noFill/>
          </a:ln>
        </p:spPr>
      </p:pic>
      <p:sp>
        <p:nvSpPr>
          <p:cNvPr id="68" name="矩形 2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0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2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Freeform 3"/>
          <p:cNvSpPr/>
          <p:nvPr/>
        </p:nvSpPr>
        <p:spPr>
          <a:xfrm>
            <a:off x="5015160" y="861480"/>
            <a:ext cx="2541600" cy="2541600"/>
          </a:xfrm>
          <a:custGeom>
            <a:avLst/>
            <a:gdLst>
              <a:gd name="textAreaLeft" fmla="*/ 0 w 2541600"/>
              <a:gd name="textAreaRight" fmla="*/ 2541960 w 2541600"/>
              <a:gd name="textAreaTop" fmla="*/ 0 h 2541600"/>
              <a:gd name="textAreaBottom" fmla="*/ 2541960 h 2541600"/>
            </a:gdLst>
            <a:ahLst/>
            <a:rect l="textAreaLeft" t="textAreaTop" r="textAreaRight" b="textAreaBottom"/>
            <a:pathLst>
              <a:path w="2541904" h="2542032">
                <a:moveTo>
                  <a:pt x="0" y="1271016"/>
                </a:moveTo>
                <a:cubicBezTo>
                  <a:pt x="0" y="569087"/>
                  <a:pt x="568959" y="0"/>
                  <a:pt x="1271015" y="0"/>
                </a:cubicBezTo>
                <a:cubicBezTo>
                  <a:pt x="1972944" y="0"/>
                  <a:pt x="2541904" y="569087"/>
                  <a:pt x="2541904" y="1271016"/>
                </a:cubicBezTo>
                <a:cubicBezTo>
                  <a:pt x="2541904" y="1973072"/>
                  <a:pt x="1972944" y="2542032"/>
                  <a:pt x="1271015" y="2542032"/>
                </a:cubicBezTo>
                <a:cubicBezTo>
                  <a:pt x="568959" y="2542032"/>
                  <a:pt x="0" y="1973072"/>
                  <a:pt x="0" y="1271016"/>
                </a:cubicBezTo>
              </a:path>
            </a:pathLst>
          </a:custGeom>
          <a:solidFill>
            <a:srgbClr val="00b0f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5812200" y="1698120"/>
            <a:ext cx="1609920" cy="1611360"/>
          </a:xfrm>
          <a:custGeom>
            <a:avLst/>
            <a:gdLst>
              <a:gd name="textAreaLeft" fmla="*/ 0 w 1609920"/>
              <a:gd name="textAreaRight" fmla="*/ 1610280 w 1609920"/>
              <a:gd name="textAreaTop" fmla="*/ 0 h 1611360"/>
              <a:gd name="textAreaBottom" fmla="*/ 1611720 h 1611360"/>
            </a:gdLst>
            <a:ahLst/>
            <a:rect l="textAreaLeft" t="textAreaTop" r="textAreaRight" b="textAreaBottom"/>
            <a:pathLst>
              <a:path w="1610105" h="1611757">
                <a:moveTo>
                  <a:pt x="420878" y="0"/>
                </a:moveTo>
                <a:lnTo>
                  <a:pt x="551560" y="275843"/>
                </a:lnTo>
                <a:lnTo>
                  <a:pt x="870838" y="275843"/>
                </a:lnTo>
                <a:lnTo>
                  <a:pt x="1610105" y="1015110"/>
                </a:lnTo>
                <a:lnTo>
                  <a:pt x="1597913" y="1040383"/>
                </a:lnTo>
                <a:cubicBezTo>
                  <a:pt x="1461008" y="1292478"/>
                  <a:pt x="1241171" y="1493138"/>
                  <a:pt x="975105" y="1605661"/>
                </a:cubicBezTo>
                <a:lnTo>
                  <a:pt x="958469" y="1611756"/>
                </a:lnTo>
                <a:lnTo>
                  <a:pt x="188595" y="841882"/>
                </a:lnTo>
                <a:lnTo>
                  <a:pt x="217678" y="537082"/>
                </a:lnTo>
                <a:lnTo>
                  <a:pt x="0" y="304800"/>
                </a:lnTo>
                <a:lnTo>
                  <a:pt x="319278" y="246760"/>
                </a:lnTo>
                <a:lnTo>
                  <a:pt x="420878" y="0"/>
                </a:lnTo>
              </a:path>
            </a:pathLst>
          </a:custGeom>
          <a:solidFill>
            <a:srgbClr val="3498d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4977000" y="823320"/>
            <a:ext cx="2617920" cy="2617920"/>
          </a:xfrm>
          <a:custGeom>
            <a:avLst/>
            <a:gdLst>
              <a:gd name="textAreaLeft" fmla="*/ 0 w 2617920"/>
              <a:gd name="textAreaRight" fmla="*/ 2618280 w 2617920"/>
              <a:gd name="textAreaTop" fmla="*/ 0 h 2617920"/>
              <a:gd name="textAreaBottom" fmla="*/ 2618280 h 2617920"/>
            </a:gdLst>
            <a:ahLst/>
            <a:rect l="textAreaLeft" t="textAreaTop" r="textAreaRight" b="textAreaBottom"/>
            <a:pathLst>
              <a:path w="2618104" h="2618232">
                <a:moveTo>
                  <a:pt x="38100" y="1309116"/>
                </a:moveTo>
                <a:cubicBezTo>
                  <a:pt x="38100" y="607187"/>
                  <a:pt x="607059" y="38100"/>
                  <a:pt x="1309115" y="38100"/>
                </a:cubicBezTo>
                <a:cubicBezTo>
                  <a:pt x="2011044" y="38100"/>
                  <a:pt x="2580004" y="607187"/>
                  <a:pt x="2580004" y="1309116"/>
                </a:cubicBezTo>
                <a:cubicBezTo>
                  <a:pt x="2580004" y="2011172"/>
                  <a:pt x="2011044" y="2580132"/>
                  <a:pt x="1309115" y="2580132"/>
                </a:cubicBezTo>
                <a:cubicBezTo>
                  <a:pt x="607059" y="2580132"/>
                  <a:pt x="38100" y="2011172"/>
                  <a:pt x="38100" y="1309116"/>
                </a:cubicBezTo>
              </a:path>
            </a:pathLst>
          </a:custGeom>
          <a:noFill/>
          <a:ln w="762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0" y="3272040"/>
            <a:ext cx="5684760" cy="1606320"/>
          </a:xfrm>
          <a:custGeom>
            <a:avLst/>
            <a:gdLst>
              <a:gd name="textAreaLeft" fmla="*/ 0 w 5684760"/>
              <a:gd name="textAreaRight" fmla="*/ 5685120 w 5684760"/>
              <a:gd name="textAreaTop" fmla="*/ 0 h 1606320"/>
              <a:gd name="textAreaBottom" fmla="*/ 1606680 h 1606320"/>
            </a:gdLst>
            <a:ahLst/>
            <a:rect l="textAreaLeft" t="textAreaTop" r="textAreaRight" b="textAreaBottom"/>
            <a:pathLst>
              <a:path w="5685154" h="1606677">
                <a:moveTo>
                  <a:pt x="0" y="1606677"/>
                </a:moveTo>
                <a:lnTo>
                  <a:pt x="5685154" y="1606677"/>
                </a:lnTo>
                <a:lnTo>
                  <a:pt x="5685154" y="0"/>
                </a:lnTo>
                <a:lnTo>
                  <a:pt x="0" y="0"/>
                </a:lnTo>
                <a:lnTo>
                  <a:pt x="0" y="1606677"/>
                </a:lnTo>
              </a:path>
            </a:pathLst>
          </a:custGeom>
          <a:solidFill>
            <a:srgbClr val="a6a6a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5465880" y="3117960"/>
            <a:ext cx="3042720" cy="3042720"/>
          </a:xfrm>
          <a:custGeom>
            <a:avLst/>
            <a:gdLst>
              <a:gd name="textAreaLeft" fmla="*/ 0 w 3042720"/>
              <a:gd name="textAreaRight" fmla="*/ 3043080 w 3042720"/>
              <a:gd name="textAreaTop" fmla="*/ 0 h 3042720"/>
              <a:gd name="textAreaBottom" fmla="*/ 3043080 h 3042720"/>
            </a:gdLst>
            <a:ahLst/>
            <a:rect l="textAreaLeft" t="textAreaTop" r="textAreaRight" b="textAreaBottom"/>
            <a:pathLst>
              <a:path w="3043173" h="3043212">
                <a:moveTo>
                  <a:pt x="0" y="1521587"/>
                </a:moveTo>
                <a:cubicBezTo>
                  <a:pt x="0" y="681227"/>
                  <a:pt x="681227" y="0"/>
                  <a:pt x="1521586" y="0"/>
                </a:cubicBezTo>
                <a:cubicBezTo>
                  <a:pt x="2361945" y="0"/>
                  <a:pt x="3043173" y="681227"/>
                  <a:pt x="3043173" y="1521587"/>
                </a:cubicBezTo>
                <a:cubicBezTo>
                  <a:pt x="3043173" y="2361945"/>
                  <a:pt x="2361945" y="3043212"/>
                  <a:pt x="1521586" y="3043212"/>
                </a:cubicBezTo>
                <a:cubicBezTo>
                  <a:pt x="681227" y="3043212"/>
                  <a:pt x="0" y="2361945"/>
                  <a:pt x="0" y="1521587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5562720" y="3214800"/>
            <a:ext cx="2849400" cy="285408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2854080"/>
              <a:gd name="textAreaBottom" fmla="*/ 2854440 h 2854080"/>
            </a:gdLst>
            <a:ahLst/>
            <a:rect l="textAreaLeft" t="textAreaTop" r="textAreaRight" b="textAreaBottom"/>
            <a:pathLst>
              <a:path w="2849626" h="2854362">
                <a:moveTo>
                  <a:pt x="0" y="1427226"/>
                </a:moveTo>
                <a:cubicBezTo>
                  <a:pt x="0" y="639064"/>
                  <a:pt x="637920" y="0"/>
                  <a:pt x="1424813" y="0"/>
                </a:cubicBezTo>
                <a:cubicBezTo>
                  <a:pt x="2211704" y="0"/>
                  <a:pt x="2849626" y="639064"/>
                  <a:pt x="2849626" y="1427226"/>
                </a:cubicBezTo>
                <a:cubicBezTo>
                  <a:pt x="2849626" y="2215388"/>
                  <a:pt x="2211704" y="2854362"/>
                  <a:pt x="1424813" y="2854362"/>
                </a:cubicBezTo>
                <a:cubicBezTo>
                  <a:pt x="637920" y="2854362"/>
                  <a:pt x="0" y="2215388"/>
                  <a:pt x="0" y="1427226"/>
                </a:cubicBezTo>
              </a:path>
            </a:pathLst>
          </a:custGeom>
          <a:solidFill>
            <a:srgbClr val="e6e6e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6775560" y="2820960"/>
            <a:ext cx="337680" cy="985680"/>
          </a:xfrm>
          <a:custGeom>
            <a:avLst/>
            <a:gdLst>
              <a:gd name="textAreaLeft" fmla="*/ 0 w 337680"/>
              <a:gd name="textAreaRight" fmla="*/ 338040 w 337680"/>
              <a:gd name="textAreaTop" fmla="*/ 0 h 985680"/>
              <a:gd name="textAreaBottom" fmla="*/ 986040 h 985680"/>
            </a:gdLst>
            <a:ahLst/>
            <a:rect l="textAreaLeft" t="textAreaTop" r="textAreaRight" b="textAreaBottom"/>
            <a:pathLst>
              <a:path w="338201" h="985901">
                <a:moveTo>
                  <a:pt x="118109" y="0"/>
                </a:moveTo>
                <a:cubicBezTo>
                  <a:pt x="220091" y="0"/>
                  <a:pt x="220091" y="0"/>
                  <a:pt x="220091" y="0"/>
                </a:cubicBezTo>
                <a:cubicBezTo>
                  <a:pt x="284479" y="0"/>
                  <a:pt x="338201" y="53847"/>
                  <a:pt x="338201" y="118617"/>
                </a:cubicBezTo>
                <a:cubicBezTo>
                  <a:pt x="338201" y="867409"/>
                  <a:pt x="338201" y="867409"/>
                  <a:pt x="338201" y="867409"/>
                </a:cubicBezTo>
                <a:cubicBezTo>
                  <a:pt x="338201" y="932052"/>
                  <a:pt x="284479" y="985901"/>
                  <a:pt x="220091" y="985901"/>
                </a:cubicBezTo>
                <a:cubicBezTo>
                  <a:pt x="118109" y="985901"/>
                  <a:pt x="118109" y="985901"/>
                  <a:pt x="118109" y="985901"/>
                </a:cubicBezTo>
                <a:cubicBezTo>
                  <a:pt x="53720" y="985901"/>
                  <a:pt x="0" y="932052"/>
                  <a:pt x="0" y="867409"/>
                </a:cubicBezTo>
                <a:cubicBezTo>
                  <a:pt x="0" y="118617"/>
                  <a:pt x="0" y="118617"/>
                  <a:pt x="0" y="118617"/>
                </a:cubicBezTo>
                <a:cubicBezTo>
                  <a:pt x="0" y="53847"/>
                  <a:pt x="53720" y="0"/>
                  <a:pt x="118109" y="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6838920" y="2880000"/>
            <a:ext cx="215640" cy="856800"/>
          </a:xfrm>
          <a:custGeom>
            <a:avLst/>
            <a:gdLst>
              <a:gd name="textAreaLeft" fmla="*/ 0 w 215640"/>
              <a:gd name="textAreaRight" fmla="*/ 216000 w 215640"/>
              <a:gd name="textAreaTop" fmla="*/ 0 h 856800"/>
              <a:gd name="textAreaBottom" fmla="*/ 857160 h 856800"/>
            </a:gdLst>
            <a:ahLst/>
            <a:rect l="textAreaLeft" t="textAreaTop" r="textAreaRight" b="textAreaBottom"/>
            <a:pathLst>
              <a:path w="215900" h="857250">
                <a:moveTo>
                  <a:pt x="75565" y="0"/>
                </a:moveTo>
                <a:cubicBezTo>
                  <a:pt x="140334" y="0"/>
                  <a:pt x="140334" y="0"/>
                  <a:pt x="140334" y="0"/>
                </a:cubicBezTo>
                <a:cubicBezTo>
                  <a:pt x="178180" y="0"/>
                  <a:pt x="215900" y="37719"/>
                  <a:pt x="215900" y="75438"/>
                </a:cubicBezTo>
                <a:cubicBezTo>
                  <a:pt x="215900" y="781685"/>
                  <a:pt x="215900" y="781685"/>
                  <a:pt x="215900" y="781685"/>
                </a:cubicBezTo>
                <a:cubicBezTo>
                  <a:pt x="215900" y="819531"/>
                  <a:pt x="178180" y="857250"/>
                  <a:pt x="140334" y="857250"/>
                </a:cubicBezTo>
                <a:cubicBezTo>
                  <a:pt x="75565" y="857250"/>
                  <a:pt x="75565" y="857250"/>
                  <a:pt x="75565" y="857250"/>
                </a:cubicBezTo>
                <a:cubicBezTo>
                  <a:pt x="32384" y="857250"/>
                  <a:pt x="0" y="819531"/>
                  <a:pt x="0" y="781685"/>
                </a:cubicBezTo>
                <a:cubicBezTo>
                  <a:pt x="0" y="75438"/>
                  <a:pt x="0" y="75438"/>
                  <a:pt x="0" y="75438"/>
                </a:cubicBezTo>
                <a:cubicBezTo>
                  <a:pt x="0" y="37719"/>
                  <a:pt x="32384" y="0"/>
                  <a:pt x="75565" y="0"/>
                </a:cubicBezTo>
              </a:path>
            </a:pathLst>
          </a:custGeom>
          <a:solidFill>
            <a:srgbClr val="e6e6e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Freeform 3"/>
          <p:cNvSpPr/>
          <p:nvPr/>
        </p:nvSpPr>
        <p:spPr>
          <a:xfrm>
            <a:off x="5789880" y="3440160"/>
            <a:ext cx="2395080" cy="2396880"/>
          </a:xfrm>
          <a:custGeom>
            <a:avLst/>
            <a:gdLst>
              <a:gd name="textAreaLeft" fmla="*/ 0 w 2395080"/>
              <a:gd name="textAreaRight" fmla="*/ 2395440 w 2395080"/>
              <a:gd name="textAreaTop" fmla="*/ 0 h 2396880"/>
              <a:gd name="textAreaBottom" fmla="*/ 2397240 h 2396880"/>
            </a:gdLst>
            <a:ahLst/>
            <a:rect l="textAreaLeft" t="textAreaTop" r="textAreaRight" b="textAreaBottom"/>
            <a:pathLst>
              <a:path w="2395473" h="2397162">
                <a:moveTo>
                  <a:pt x="0" y="1198626"/>
                </a:moveTo>
                <a:cubicBezTo>
                  <a:pt x="0" y="536702"/>
                  <a:pt x="536193" y="0"/>
                  <a:pt x="1197736" y="0"/>
                </a:cubicBezTo>
                <a:cubicBezTo>
                  <a:pt x="1859279" y="0"/>
                  <a:pt x="2395473" y="536702"/>
                  <a:pt x="2395473" y="1198626"/>
                </a:cubicBezTo>
                <a:cubicBezTo>
                  <a:pt x="2395473" y="1860550"/>
                  <a:pt x="1859279" y="2397162"/>
                  <a:pt x="1197736" y="2397162"/>
                </a:cubicBezTo>
                <a:cubicBezTo>
                  <a:pt x="536193" y="2397162"/>
                  <a:pt x="0" y="1860550"/>
                  <a:pt x="0" y="1198626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5907240" y="3559320"/>
            <a:ext cx="2160000" cy="2158560"/>
          </a:xfrm>
          <a:custGeom>
            <a:avLst/>
            <a:gdLst>
              <a:gd name="textAreaLeft" fmla="*/ 0 w 2160000"/>
              <a:gd name="textAreaRight" fmla="*/ 2160360 w 2160000"/>
              <a:gd name="textAreaTop" fmla="*/ 0 h 2158560"/>
              <a:gd name="textAreaBottom" fmla="*/ 2158920 h 2158560"/>
            </a:gdLst>
            <a:ahLst/>
            <a:rect l="textAreaLeft" t="textAreaTop" r="textAreaRight" b="textAreaBottom"/>
            <a:pathLst>
              <a:path w="2160523" h="2158974">
                <a:moveTo>
                  <a:pt x="0" y="1079500"/>
                </a:moveTo>
                <a:cubicBezTo>
                  <a:pt x="0" y="483234"/>
                  <a:pt x="483615" y="0"/>
                  <a:pt x="1080261" y="0"/>
                </a:cubicBezTo>
                <a:cubicBezTo>
                  <a:pt x="1676907" y="0"/>
                  <a:pt x="2160523" y="483234"/>
                  <a:pt x="2160523" y="1079500"/>
                </a:cubicBezTo>
                <a:cubicBezTo>
                  <a:pt x="2160523" y="1675638"/>
                  <a:pt x="1676907" y="2158974"/>
                  <a:pt x="1080261" y="2158974"/>
                </a:cubicBezTo>
                <a:cubicBezTo>
                  <a:pt x="483615" y="2158974"/>
                  <a:pt x="0" y="1675638"/>
                  <a:pt x="0" y="1079500"/>
                </a:cubicBezTo>
              </a:path>
            </a:pathLst>
          </a:custGeom>
          <a:solidFill>
            <a:srgbClr val="b3b3b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6069240" y="3721320"/>
            <a:ext cx="1836360" cy="1836360"/>
          </a:xfrm>
          <a:custGeom>
            <a:avLst/>
            <a:gdLst>
              <a:gd name="textAreaLeft" fmla="*/ 0 w 1836360"/>
              <a:gd name="textAreaRight" fmla="*/ 1836720 w 1836360"/>
              <a:gd name="textAreaTop" fmla="*/ 0 h 1836360"/>
              <a:gd name="textAreaBottom" fmla="*/ 1836720 h 1836360"/>
            </a:gdLst>
            <a:ahLst/>
            <a:rect l="textAreaLeft" t="textAreaTop" r="textAreaRight" b="textAreaBottom"/>
            <a:pathLst>
              <a:path w="1836673" h="1836673">
                <a:moveTo>
                  <a:pt x="0" y="918336"/>
                </a:moveTo>
                <a:cubicBezTo>
                  <a:pt x="0" y="411098"/>
                  <a:pt x="411098" y="0"/>
                  <a:pt x="918336" y="0"/>
                </a:cubicBezTo>
                <a:cubicBezTo>
                  <a:pt x="1425575" y="0"/>
                  <a:pt x="1836673" y="411098"/>
                  <a:pt x="1836673" y="918336"/>
                </a:cubicBezTo>
                <a:cubicBezTo>
                  <a:pt x="1836673" y="1425575"/>
                  <a:pt x="1425575" y="1836673"/>
                  <a:pt x="918336" y="1836673"/>
                </a:cubicBezTo>
                <a:cubicBezTo>
                  <a:pt x="411098" y="1836673"/>
                  <a:pt x="0" y="1425575"/>
                  <a:pt x="0" y="918336"/>
                </a:cubicBezTo>
              </a:path>
            </a:pathLst>
          </a:custGeom>
          <a:solidFill>
            <a:srgbClr val="886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6323040" y="3978360"/>
            <a:ext cx="1328400" cy="1325160"/>
          </a:xfrm>
          <a:custGeom>
            <a:avLst/>
            <a:gdLst>
              <a:gd name="textAreaLeft" fmla="*/ 0 w 1328400"/>
              <a:gd name="textAreaRight" fmla="*/ 1328760 w 1328400"/>
              <a:gd name="textAreaTop" fmla="*/ 0 h 1325160"/>
              <a:gd name="textAreaBottom" fmla="*/ 1325520 h 1325160"/>
            </a:gdLst>
            <a:ahLst/>
            <a:rect l="textAreaLeft" t="textAreaTop" r="textAreaRight" b="textAreaBottom"/>
            <a:pathLst>
              <a:path w="1328673" h="1325498">
                <a:moveTo>
                  <a:pt x="0" y="662813"/>
                </a:moveTo>
                <a:cubicBezTo>
                  <a:pt x="0" y="296671"/>
                  <a:pt x="297433" y="0"/>
                  <a:pt x="664336" y="0"/>
                </a:cubicBezTo>
                <a:cubicBezTo>
                  <a:pt x="1031240" y="0"/>
                  <a:pt x="1328673" y="296671"/>
                  <a:pt x="1328673" y="662813"/>
                </a:cubicBezTo>
                <a:cubicBezTo>
                  <a:pt x="1328673" y="1028826"/>
                  <a:pt x="1031240" y="1325498"/>
                  <a:pt x="664336" y="1325498"/>
                </a:cubicBezTo>
                <a:cubicBezTo>
                  <a:pt x="297433" y="1325498"/>
                  <a:pt x="0" y="1028826"/>
                  <a:pt x="0" y="662813"/>
                </a:cubicBezTo>
              </a:path>
            </a:pathLst>
          </a:custGeom>
          <a:solidFill>
            <a:srgbClr val="694f2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6483600" y="4135680"/>
            <a:ext cx="1319040" cy="1319040"/>
          </a:xfrm>
          <a:custGeom>
            <a:avLst/>
            <a:gdLst>
              <a:gd name="textAreaLeft" fmla="*/ 0 w 1319040"/>
              <a:gd name="textAreaRight" fmla="*/ 1319400 w 1319040"/>
              <a:gd name="textAreaTop" fmla="*/ 0 h 1319040"/>
              <a:gd name="textAreaBottom" fmla="*/ 1319400 h 1319040"/>
            </a:gdLst>
            <a:ahLst/>
            <a:rect l="textAreaLeft" t="textAreaTop" r="textAreaRight" b="textAreaBottom"/>
            <a:pathLst>
              <a:path w="1319276" h="1319276">
                <a:moveTo>
                  <a:pt x="1141603" y="0"/>
                </a:moveTo>
                <a:cubicBezTo>
                  <a:pt x="1254632" y="140080"/>
                  <a:pt x="1319276" y="312292"/>
                  <a:pt x="1319276" y="506221"/>
                </a:cubicBezTo>
                <a:cubicBezTo>
                  <a:pt x="1319276" y="953134"/>
                  <a:pt x="953134" y="1319276"/>
                  <a:pt x="506221" y="1319276"/>
                </a:cubicBezTo>
                <a:cubicBezTo>
                  <a:pt x="312292" y="1319276"/>
                  <a:pt x="140080" y="1254633"/>
                  <a:pt x="0" y="1146936"/>
                </a:cubicBezTo>
                <a:cubicBezTo>
                  <a:pt x="129285" y="1227708"/>
                  <a:pt x="280034" y="1276222"/>
                  <a:pt x="446913" y="1276222"/>
                </a:cubicBezTo>
                <a:cubicBezTo>
                  <a:pt x="904620" y="1276222"/>
                  <a:pt x="1276222" y="904620"/>
                  <a:pt x="1276222" y="446913"/>
                </a:cubicBezTo>
                <a:cubicBezTo>
                  <a:pt x="1276222" y="285369"/>
                  <a:pt x="1227708" y="129285"/>
                  <a:pt x="1141603" y="0"/>
                </a:cubicBezTo>
              </a:path>
            </a:pathLst>
          </a:custGeom>
          <a:solidFill>
            <a:srgbClr val="bd9d6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3845880" y="5090760"/>
            <a:ext cx="74520" cy="144720"/>
          </a:xfrm>
          <a:custGeom>
            <a:avLst/>
            <a:gdLst>
              <a:gd name="textAreaLeft" fmla="*/ 0 w 74520"/>
              <a:gd name="textAreaRight" fmla="*/ 74880 w 745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74891" h="145110">
                <a:moveTo>
                  <a:pt x="74891" y="136740"/>
                </a:moveTo>
                <a:cubicBezTo>
                  <a:pt x="74891" y="138188"/>
                  <a:pt x="74841" y="139471"/>
                  <a:pt x="74676" y="140474"/>
                </a:cubicBezTo>
                <a:cubicBezTo>
                  <a:pt x="74561" y="141478"/>
                  <a:pt x="74282" y="142316"/>
                  <a:pt x="73939" y="143040"/>
                </a:cubicBezTo>
                <a:cubicBezTo>
                  <a:pt x="73609" y="143713"/>
                  <a:pt x="73215" y="144272"/>
                  <a:pt x="72720" y="144602"/>
                </a:cubicBezTo>
                <a:cubicBezTo>
                  <a:pt x="72275" y="144945"/>
                  <a:pt x="71653" y="145110"/>
                  <a:pt x="70992" y="145110"/>
                </a:cubicBezTo>
                <a:lnTo>
                  <a:pt x="7137" y="145110"/>
                </a:lnTo>
                <a:cubicBezTo>
                  <a:pt x="5460" y="145110"/>
                  <a:pt x="3848" y="144551"/>
                  <a:pt x="2285" y="143383"/>
                </a:cubicBezTo>
                <a:cubicBezTo>
                  <a:pt x="774" y="142265"/>
                  <a:pt x="0" y="140195"/>
                  <a:pt x="0" y="137299"/>
                </a:cubicBezTo>
                <a:lnTo>
                  <a:pt x="0" y="3568"/>
                </a:lnTo>
                <a:cubicBezTo>
                  <a:pt x="0" y="3022"/>
                  <a:pt x="114" y="2463"/>
                  <a:pt x="444" y="2006"/>
                </a:cubicBezTo>
                <a:cubicBezTo>
                  <a:pt x="723" y="1562"/>
                  <a:pt x="1219" y="1232"/>
                  <a:pt x="2006" y="952"/>
                </a:cubicBezTo>
                <a:cubicBezTo>
                  <a:pt x="2730" y="723"/>
                  <a:pt x="3733" y="508"/>
                  <a:pt x="5016" y="279"/>
                </a:cubicBezTo>
                <a:cubicBezTo>
                  <a:pt x="6248" y="114"/>
                  <a:pt x="7810" y="0"/>
                  <a:pt x="9601" y="0"/>
                </a:cubicBezTo>
                <a:cubicBezTo>
                  <a:pt x="11442" y="0"/>
                  <a:pt x="13004" y="63"/>
                  <a:pt x="14223" y="279"/>
                </a:cubicBezTo>
                <a:cubicBezTo>
                  <a:pt x="15456" y="444"/>
                  <a:pt x="16408" y="673"/>
                  <a:pt x="17183" y="952"/>
                </a:cubicBezTo>
                <a:cubicBezTo>
                  <a:pt x="17907" y="1168"/>
                  <a:pt x="18415" y="1562"/>
                  <a:pt x="18745" y="2006"/>
                </a:cubicBezTo>
                <a:cubicBezTo>
                  <a:pt x="19024" y="2463"/>
                  <a:pt x="19189" y="2959"/>
                  <a:pt x="19189" y="3568"/>
                </a:cubicBezTo>
                <a:lnTo>
                  <a:pt x="19189" y="128473"/>
                </a:lnTo>
                <a:lnTo>
                  <a:pt x="70992" y="128473"/>
                </a:lnTo>
                <a:cubicBezTo>
                  <a:pt x="71653" y="128473"/>
                  <a:pt x="72212" y="128651"/>
                  <a:pt x="72720" y="128981"/>
                </a:cubicBezTo>
                <a:cubicBezTo>
                  <a:pt x="73164" y="129311"/>
                  <a:pt x="73609" y="129756"/>
                  <a:pt x="73939" y="130429"/>
                </a:cubicBezTo>
                <a:cubicBezTo>
                  <a:pt x="74282" y="131051"/>
                  <a:pt x="74498" y="131876"/>
                  <a:pt x="74676" y="132943"/>
                </a:cubicBezTo>
                <a:cubicBezTo>
                  <a:pt x="74777" y="133946"/>
                  <a:pt x="74891" y="135229"/>
                  <a:pt x="74891" y="136740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3939840" y="5129280"/>
            <a:ext cx="18000" cy="106920"/>
          </a:xfrm>
          <a:custGeom>
            <a:avLst/>
            <a:gdLst>
              <a:gd name="textAreaLeft" fmla="*/ 0 w 18000"/>
              <a:gd name="textAreaRight" fmla="*/ 18360 w 18000"/>
              <a:gd name="textAreaTop" fmla="*/ 0 h 106920"/>
              <a:gd name="textAreaBottom" fmla="*/ 107280 h 106920"/>
            </a:gdLst>
            <a:ahLst/>
            <a:rect l="textAreaLeft" t="textAreaTop" r="textAreaRight" b="textAreaBottom"/>
            <a:pathLst>
              <a:path w="18415" h="107378">
                <a:moveTo>
                  <a:pt x="18414" y="103911"/>
                </a:moveTo>
                <a:cubicBezTo>
                  <a:pt x="18414" y="104469"/>
                  <a:pt x="18300" y="104978"/>
                  <a:pt x="17970" y="105422"/>
                </a:cubicBezTo>
                <a:cubicBezTo>
                  <a:pt x="17691" y="105816"/>
                  <a:pt x="17183" y="106146"/>
                  <a:pt x="16522" y="106476"/>
                </a:cubicBezTo>
                <a:cubicBezTo>
                  <a:pt x="15849" y="106755"/>
                  <a:pt x="14947" y="106984"/>
                  <a:pt x="13728" y="107149"/>
                </a:cubicBezTo>
                <a:cubicBezTo>
                  <a:pt x="12560" y="107263"/>
                  <a:pt x="11048" y="107378"/>
                  <a:pt x="9144" y="107378"/>
                </a:cubicBezTo>
                <a:cubicBezTo>
                  <a:pt x="7365" y="107378"/>
                  <a:pt x="5918" y="107314"/>
                  <a:pt x="4686" y="107149"/>
                </a:cubicBezTo>
                <a:cubicBezTo>
                  <a:pt x="3518" y="107035"/>
                  <a:pt x="2565" y="106819"/>
                  <a:pt x="1841" y="106476"/>
                </a:cubicBezTo>
                <a:cubicBezTo>
                  <a:pt x="1168" y="106197"/>
                  <a:pt x="660" y="105867"/>
                  <a:pt x="393" y="105422"/>
                </a:cubicBezTo>
                <a:cubicBezTo>
                  <a:pt x="165" y="105028"/>
                  <a:pt x="0" y="104533"/>
                  <a:pt x="0" y="103911"/>
                </a:cubicBezTo>
                <a:lnTo>
                  <a:pt x="0" y="3454"/>
                </a:lnTo>
                <a:cubicBezTo>
                  <a:pt x="0" y="2959"/>
                  <a:pt x="114" y="2451"/>
                  <a:pt x="393" y="2006"/>
                </a:cubicBezTo>
                <a:cubicBezTo>
                  <a:pt x="609" y="1561"/>
                  <a:pt x="1117" y="1218"/>
                  <a:pt x="1841" y="888"/>
                </a:cubicBezTo>
                <a:cubicBezTo>
                  <a:pt x="2514" y="609"/>
                  <a:pt x="3454" y="380"/>
                  <a:pt x="4686" y="215"/>
                </a:cubicBezTo>
                <a:cubicBezTo>
                  <a:pt x="5854" y="101"/>
                  <a:pt x="7365" y="0"/>
                  <a:pt x="9144" y="0"/>
                </a:cubicBezTo>
                <a:cubicBezTo>
                  <a:pt x="10985" y="0"/>
                  <a:pt x="12496" y="50"/>
                  <a:pt x="13728" y="215"/>
                </a:cubicBezTo>
                <a:cubicBezTo>
                  <a:pt x="14897" y="330"/>
                  <a:pt x="15849" y="558"/>
                  <a:pt x="16522" y="888"/>
                </a:cubicBezTo>
                <a:cubicBezTo>
                  <a:pt x="17183" y="1168"/>
                  <a:pt x="17627" y="1561"/>
                  <a:pt x="17970" y="2006"/>
                </a:cubicBezTo>
                <a:cubicBezTo>
                  <a:pt x="18249" y="2451"/>
                  <a:pt x="18414" y="2895"/>
                  <a:pt x="18414" y="3454"/>
                </a:cubicBezTo>
                <a:lnTo>
                  <a:pt x="18414" y="103911"/>
                </a:ln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3937680" y="5087880"/>
            <a:ext cx="22320" cy="21600"/>
          </a:xfrm>
          <a:custGeom>
            <a:avLst/>
            <a:gdLst>
              <a:gd name="textAreaLeft" fmla="*/ 0 w 22320"/>
              <a:gd name="textAreaRight" fmla="*/ 22680 w 22320"/>
              <a:gd name="textAreaTop" fmla="*/ 0 h 21600"/>
              <a:gd name="textAreaBottom" fmla="*/ 21960 h 21600"/>
            </a:gdLst>
            <a:ahLst/>
            <a:rect l="textAreaLeft" t="textAreaTop" r="textAreaRight" b="textAreaBottom"/>
            <a:pathLst>
              <a:path w="22771" h="22097">
                <a:moveTo>
                  <a:pt x="22771" y="10934"/>
                </a:moveTo>
                <a:cubicBezTo>
                  <a:pt x="22771" y="15240"/>
                  <a:pt x="21983" y="18199"/>
                  <a:pt x="20319" y="19761"/>
                </a:cubicBezTo>
                <a:cubicBezTo>
                  <a:pt x="18694" y="21323"/>
                  <a:pt x="15684" y="22097"/>
                  <a:pt x="11277" y="22097"/>
                </a:cubicBezTo>
                <a:cubicBezTo>
                  <a:pt x="6972" y="22097"/>
                  <a:pt x="4012" y="21374"/>
                  <a:pt x="2400" y="19811"/>
                </a:cubicBezTo>
                <a:cubicBezTo>
                  <a:pt x="837" y="18300"/>
                  <a:pt x="0" y="15405"/>
                  <a:pt x="0" y="11163"/>
                </a:cubicBezTo>
                <a:cubicBezTo>
                  <a:pt x="0" y="6858"/>
                  <a:pt x="774" y="3911"/>
                  <a:pt x="2451" y="2336"/>
                </a:cubicBezTo>
                <a:cubicBezTo>
                  <a:pt x="4076" y="774"/>
                  <a:pt x="7086" y="0"/>
                  <a:pt x="11493" y="0"/>
                </a:cubicBezTo>
                <a:cubicBezTo>
                  <a:pt x="15798" y="0"/>
                  <a:pt x="18757" y="723"/>
                  <a:pt x="20370" y="2285"/>
                </a:cubicBezTo>
                <a:cubicBezTo>
                  <a:pt x="21932" y="3797"/>
                  <a:pt x="22771" y="6693"/>
                  <a:pt x="22771" y="10934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3040" bIns="-23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3978360" y="5129280"/>
            <a:ext cx="95400" cy="106920"/>
          </a:xfrm>
          <a:custGeom>
            <a:avLst/>
            <a:gdLst>
              <a:gd name="textAreaLeft" fmla="*/ 0 w 95400"/>
              <a:gd name="textAreaRight" fmla="*/ 95760 w 95400"/>
              <a:gd name="textAreaTop" fmla="*/ 0 h 106920"/>
              <a:gd name="textAreaBottom" fmla="*/ 107280 h 106920"/>
            </a:gdLst>
            <a:ahLst/>
            <a:rect l="textAreaLeft" t="textAreaTop" r="textAreaRight" b="textAreaBottom"/>
            <a:pathLst>
              <a:path w="95656" h="107378">
                <a:moveTo>
                  <a:pt x="95656" y="3238"/>
                </a:moveTo>
                <a:cubicBezTo>
                  <a:pt x="95656" y="3505"/>
                  <a:pt x="95656" y="3847"/>
                  <a:pt x="95605" y="4178"/>
                </a:cubicBezTo>
                <a:cubicBezTo>
                  <a:pt x="95605" y="4521"/>
                  <a:pt x="95541" y="4851"/>
                  <a:pt x="95427" y="5245"/>
                </a:cubicBezTo>
                <a:cubicBezTo>
                  <a:pt x="95376" y="5575"/>
                  <a:pt x="95262" y="6019"/>
                  <a:pt x="95160" y="6464"/>
                </a:cubicBezTo>
                <a:cubicBezTo>
                  <a:pt x="95046" y="6921"/>
                  <a:pt x="94932" y="7365"/>
                  <a:pt x="94767" y="7924"/>
                </a:cubicBezTo>
                <a:lnTo>
                  <a:pt x="60502" y="103352"/>
                </a:lnTo>
                <a:cubicBezTo>
                  <a:pt x="60223" y="104139"/>
                  <a:pt x="59829" y="104812"/>
                  <a:pt x="59321" y="105371"/>
                </a:cubicBezTo>
                <a:cubicBezTo>
                  <a:pt x="58877" y="105867"/>
                  <a:pt x="58153" y="106260"/>
                  <a:pt x="57150" y="106590"/>
                </a:cubicBezTo>
                <a:cubicBezTo>
                  <a:pt x="56197" y="106870"/>
                  <a:pt x="54965" y="107098"/>
                  <a:pt x="53466" y="107213"/>
                </a:cubicBezTo>
                <a:cubicBezTo>
                  <a:pt x="52018" y="107314"/>
                  <a:pt x="50113" y="107378"/>
                  <a:pt x="47878" y="107378"/>
                </a:cubicBezTo>
                <a:cubicBezTo>
                  <a:pt x="45656" y="107378"/>
                  <a:pt x="43814" y="107314"/>
                  <a:pt x="42303" y="107149"/>
                </a:cubicBezTo>
                <a:cubicBezTo>
                  <a:pt x="40855" y="107035"/>
                  <a:pt x="39623" y="106819"/>
                  <a:pt x="38671" y="106476"/>
                </a:cubicBezTo>
                <a:cubicBezTo>
                  <a:pt x="37782" y="106197"/>
                  <a:pt x="37058" y="105816"/>
                  <a:pt x="36499" y="105257"/>
                </a:cubicBezTo>
                <a:cubicBezTo>
                  <a:pt x="35991" y="104749"/>
                  <a:pt x="35610" y="104139"/>
                  <a:pt x="35267" y="103352"/>
                </a:cubicBezTo>
                <a:lnTo>
                  <a:pt x="1117" y="7924"/>
                </a:lnTo>
                <a:cubicBezTo>
                  <a:pt x="837" y="7022"/>
                  <a:pt x="609" y="6248"/>
                  <a:pt x="393" y="5575"/>
                </a:cubicBezTo>
                <a:cubicBezTo>
                  <a:pt x="215" y="4902"/>
                  <a:pt x="113" y="4406"/>
                  <a:pt x="50" y="4063"/>
                </a:cubicBezTo>
                <a:cubicBezTo>
                  <a:pt x="50" y="3733"/>
                  <a:pt x="0" y="3454"/>
                  <a:pt x="0" y="3238"/>
                </a:cubicBezTo>
                <a:cubicBezTo>
                  <a:pt x="0" y="2679"/>
                  <a:pt x="113" y="2120"/>
                  <a:pt x="444" y="1663"/>
                </a:cubicBezTo>
                <a:cubicBezTo>
                  <a:pt x="723" y="1218"/>
                  <a:pt x="1231" y="888"/>
                  <a:pt x="1955" y="609"/>
                </a:cubicBezTo>
                <a:cubicBezTo>
                  <a:pt x="2616" y="380"/>
                  <a:pt x="3568" y="215"/>
                  <a:pt x="4736" y="101"/>
                </a:cubicBezTo>
                <a:cubicBezTo>
                  <a:pt x="5854" y="50"/>
                  <a:pt x="7315" y="0"/>
                  <a:pt x="9042" y="0"/>
                </a:cubicBezTo>
                <a:cubicBezTo>
                  <a:pt x="11163" y="0"/>
                  <a:pt x="12890" y="50"/>
                  <a:pt x="14223" y="165"/>
                </a:cubicBezTo>
                <a:cubicBezTo>
                  <a:pt x="15519" y="279"/>
                  <a:pt x="16522" y="444"/>
                  <a:pt x="17246" y="774"/>
                </a:cubicBezTo>
                <a:cubicBezTo>
                  <a:pt x="17906" y="1053"/>
                  <a:pt x="18465" y="1447"/>
                  <a:pt x="18808" y="1892"/>
                </a:cubicBezTo>
                <a:cubicBezTo>
                  <a:pt x="19138" y="2336"/>
                  <a:pt x="19418" y="2895"/>
                  <a:pt x="19761" y="3568"/>
                </a:cubicBezTo>
                <a:lnTo>
                  <a:pt x="48107" y="86385"/>
                </a:lnTo>
                <a:lnTo>
                  <a:pt x="48552" y="87731"/>
                </a:lnTo>
                <a:lnTo>
                  <a:pt x="48882" y="86385"/>
                </a:lnTo>
                <a:lnTo>
                  <a:pt x="76911" y="3568"/>
                </a:lnTo>
                <a:cubicBezTo>
                  <a:pt x="77012" y="2895"/>
                  <a:pt x="77292" y="2336"/>
                  <a:pt x="77685" y="1892"/>
                </a:cubicBezTo>
                <a:cubicBezTo>
                  <a:pt x="78015" y="1447"/>
                  <a:pt x="78574" y="1117"/>
                  <a:pt x="79298" y="774"/>
                </a:cubicBezTo>
                <a:cubicBezTo>
                  <a:pt x="79971" y="495"/>
                  <a:pt x="80974" y="279"/>
                  <a:pt x="82206" y="165"/>
                </a:cubicBezTo>
                <a:cubicBezTo>
                  <a:pt x="83438" y="50"/>
                  <a:pt x="85051" y="0"/>
                  <a:pt x="87058" y="0"/>
                </a:cubicBezTo>
                <a:cubicBezTo>
                  <a:pt x="88734" y="0"/>
                  <a:pt x="90182" y="0"/>
                  <a:pt x="91300" y="101"/>
                </a:cubicBezTo>
                <a:cubicBezTo>
                  <a:pt x="92417" y="165"/>
                  <a:pt x="93255" y="330"/>
                  <a:pt x="93929" y="660"/>
                </a:cubicBezTo>
                <a:cubicBezTo>
                  <a:pt x="94538" y="939"/>
                  <a:pt x="94982" y="1282"/>
                  <a:pt x="95262" y="1727"/>
                </a:cubicBezTo>
                <a:cubicBezTo>
                  <a:pt x="95491" y="2120"/>
                  <a:pt x="95656" y="2616"/>
                  <a:pt x="95656" y="3238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4411440" y="3138840"/>
            <a:ext cx="1894320" cy="1894320"/>
          </a:xfrm>
          <a:custGeom>
            <a:avLst/>
            <a:gdLst>
              <a:gd name="textAreaLeft" fmla="*/ 0 w 1894320"/>
              <a:gd name="textAreaRight" fmla="*/ 1894680 w 1894320"/>
              <a:gd name="textAreaTop" fmla="*/ 0 h 1894320"/>
              <a:gd name="textAreaBottom" fmla="*/ 1894680 h 1894320"/>
            </a:gdLst>
            <a:ahLst/>
            <a:rect l="textAreaLeft" t="textAreaTop" r="textAreaRight" b="textAreaBottom"/>
            <a:pathLst>
              <a:path w="1894713" h="1894713">
                <a:moveTo>
                  <a:pt x="947292" y="28575"/>
                </a:moveTo>
                <a:lnTo>
                  <a:pt x="1041146" y="33527"/>
                </a:lnTo>
                <a:lnTo>
                  <a:pt x="1132459" y="47370"/>
                </a:lnTo>
                <a:lnTo>
                  <a:pt x="1220470" y="69976"/>
                </a:lnTo>
                <a:lnTo>
                  <a:pt x="1304925" y="100710"/>
                </a:lnTo>
                <a:lnTo>
                  <a:pt x="1385316" y="139572"/>
                </a:lnTo>
                <a:lnTo>
                  <a:pt x="1461008" y="185420"/>
                </a:lnTo>
                <a:lnTo>
                  <a:pt x="1531873" y="238378"/>
                </a:lnTo>
                <a:lnTo>
                  <a:pt x="1597025" y="297688"/>
                </a:lnTo>
                <a:lnTo>
                  <a:pt x="1656460" y="363220"/>
                </a:lnTo>
                <a:lnTo>
                  <a:pt x="1709292" y="433704"/>
                </a:lnTo>
                <a:lnTo>
                  <a:pt x="1755140" y="509523"/>
                </a:lnTo>
                <a:lnTo>
                  <a:pt x="1794002" y="589788"/>
                </a:lnTo>
                <a:lnTo>
                  <a:pt x="1824735" y="674242"/>
                </a:lnTo>
                <a:lnTo>
                  <a:pt x="1847341" y="762253"/>
                </a:lnTo>
                <a:lnTo>
                  <a:pt x="1861185" y="853566"/>
                </a:lnTo>
                <a:lnTo>
                  <a:pt x="1866138" y="947420"/>
                </a:lnTo>
                <a:lnTo>
                  <a:pt x="1861185" y="1041146"/>
                </a:lnTo>
                <a:lnTo>
                  <a:pt x="1847341" y="1132458"/>
                </a:lnTo>
                <a:lnTo>
                  <a:pt x="1824735" y="1220596"/>
                </a:lnTo>
                <a:lnTo>
                  <a:pt x="1794002" y="1305052"/>
                </a:lnTo>
                <a:lnTo>
                  <a:pt x="1755140" y="1385315"/>
                </a:lnTo>
                <a:lnTo>
                  <a:pt x="1709292" y="1461008"/>
                </a:lnTo>
                <a:lnTo>
                  <a:pt x="1656460" y="1531873"/>
                </a:lnTo>
                <a:lnTo>
                  <a:pt x="1597025" y="1597025"/>
                </a:lnTo>
                <a:lnTo>
                  <a:pt x="1531873" y="1656460"/>
                </a:lnTo>
                <a:lnTo>
                  <a:pt x="1461008" y="1709292"/>
                </a:lnTo>
                <a:lnTo>
                  <a:pt x="1385316" y="1755139"/>
                </a:lnTo>
                <a:lnTo>
                  <a:pt x="1304925" y="1794128"/>
                </a:lnTo>
                <a:lnTo>
                  <a:pt x="1220470" y="1824863"/>
                </a:lnTo>
                <a:lnTo>
                  <a:pt x="1132459" y="1847341"/>
                </a:lnTo>
                <a:lnTo>
                  <a:pt x="1041146" y="1861311"/>
                </a:lnTo>
                <a:lnTo>
                  <a:pt x="947292" y="1866138"/>
                </a:lnTo>
                <a:lnTo>
                  <a:pt x="853566" y="1861311"/>
                </a:lnTo>
                <a:lnTo>
                  <a:pt x="762254" y="1847341"/>
                </a:lnTo>
                <a:lnTo>
                  <a:pt x="674116" y="1824863"/>
                </a:lnTo>
                <a:lnTo>
                  <a:pt x="589660" y="1794128"/>
                </a:lnTo>
                <a:lnTo>
                  <a:pt x="509397" y="1755139"/>
                </a:lnTo>
                <a:lnTo>
                  <a:pt x="433704" y="1709292"/>
                </a:lnTo>
                <a:lnTo>
                  <a:pt x="363220" y="1656460"/>
                </a:lnTo>
                <a:lnTo>
                  <a:pt x="297688" y="1597025"/>
                </a:lnTo>
                <a:lnTo>
                  <a:pt x="238252" y="1531873"/>
                </a:lnTo>
                <a:lnTo>
                  <a:pt x="185420" y="1461008"/>
                </a:lnTo>
                <a:lnTo>
                  <a:pt x="139572" y="1385315"/>
                </a:lnTo>
                <a:lnTo>
                  <a:pt x="100710" y="1305052"/>
                </a:lnTo>
                <a:lnTo>
                  <a:pt x="69850" y="1220596"/>
                </a:lnTo>
                <a:lnTo>
                  <a:pt x="47371" y="1132458"/>
                </a:lnTo>
                <a:lnTo>
                  <a:pt x="33401" y="1041146"/>
                </a:lnTo>
                <a:lnTo>
                  <a:pt x="28575" y="947420"/>
                </a:lnTo>
                <a:lnTo>
                  <a:pt x="33401" y="853566"/>
                </a:lnTo>
                <a:lnTo>
                  <a:pt x="47371" y="762253"/>
                </a:lnTo>
                <a:lnTo>
                  <a:pt x="69850" y="674242"/>
                </a:lnTo>
                <a:lnTo>
                  <a:pt x="100710" y="589788"/>
                </a:lnTo>
                <a:lnTo>
                  <a:pt x="139572" y="509523"/>
                </a:lnTo>
                <a:lnTo>
                  <a:pt x="185420" y="433704"/>
                </a:lnTo>
                <a:lnTo>
                  <a:pt x="238252" y="363220"/>
                </a:lnTo>
                <a:lnTo>
                  <a:pt x="297688" y="297688"/>
                </a:lnTo>
                <a:lnTo>
                  <a:pt x="363220" y="238378"/>
                </a:lnTo>
                <a:lnTo>
                  <a:pt x="433704" y="185546"/>
                </a:lnTo>
                <a:lnTo>
                  <a:pt x="509397" y="139572"/>
                </a:lnTo>
                <a:lnTo>
                  <a:pt x="589660" y="100710"/>
                </a:lnTo>
                <a:lnTo>
                  <a:pt x="674116" y="69976"/>
                </a:lnTo>
                <a:lnTo>
                  <a:pt x="762254" y="47370"/>
                </a:lnTo>
                <a:lnTo>
                  <a:pt x="853566" y="33527"/>
                </a:lnTo>
                <a:lnTo>
                  <a:pt x="947292" y="28575"/>
                </a:lnTo>
              </a:path>
            </a:pathLst>
          </a:custGeom>
          <a:noFill/>
          <a:ln w="508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304920" y="952560"/>
            <a:ext cx="8838720" cy="5879880"/>
          </a:xfrm>
          <a:prstGeom prst="rect">
            <a:avLst/>
          </a:prstGeom>
          <a:ln w="0">
            <a:noFill/>
          </a:ln>
        </p:spPr>
      </p:pic>
      <p:sp>
        <p:nvSpPr>
          <p:cNvPr id="93" name="矩形 21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5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57200" y="632448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8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5015160" y="861480"/>
            <a:ext cx="2541600" cy="2541600"/>
          </a:xfrm>
          <a:custGeom>
            <a:avLst/>
            <a:gdLst>
              <a:gd name="textAreaLeft" fmla="*/ 0 w 2541600"/>
              <a:gd name="textAreaRight" fmla="*/ 2541960 w 2541600"/>
              <a:gd name="textAreaTop" fmla="*/ 0 h 2541600"/>
              <a:gd name="textAreaBottom" fmla="*/ 2541960 h 2541600"/>
            </a:gdLst>
            <a:ahLst/>
            <a:rect l="textAreaLeft" t="textAreaTop" r="textAreaRight" b="textAreaBottom"/>
            <a:pathLst>
              <a:path w="2541904" h="2542032">
                <a:moveTo>
                  <a:pt x="0" y="1271016"/>
                </a:moveTo>
                <a:cubicBezTo>
                  <a:pt x="0" y="569087"/>
                  <a:pt x="568959" y="0"/>
                  <a:pt x="1271015" y="0"/>
                </a:cubicBezTo>
                <a:cubicBezTo>
                  <a:pt x="1972944" y="0"/>
                  <a:pt x="2541904" y="569087"/>
                  <a:pt x="2541904" y="1271016"/>
                </a:cubicBezTo>
                <a:cubicBezTo>
                  <a:pt x="2541904" y="1973072"/>
                  <a:pt x="1972944" y="2542032"/>
                  <a:pt x="1271015" y="2542032"/>
                </a:cubicBezTo>
                <a:cubicBezTo>
                  <a:pt x="568959" y="2542032"/>
                  <a:pt x="0" y="1973072"/>
                  <a:pt x="0" y="1271016"/>
                </a:cubicBezTo>
              </a:path>
            </a:pathLst>
          </a:custGeom>
          <a:solidFill>
            <a:srgbClr val="f1c40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5711760" y="1665000"/>
            <a:ext cx="1713240" cy="1623960"/>
          </a:xfrm>
          <a:custGeom>
            <a:avLst/>
            <a:gdLst>
              <a:gd name="textAreaLeft" fmla="*/ 0 w 1713240"/>
              <a:gd name="textAreaRight" fmla="*/ 1713600 w 1713240"/>
              <a:gd name="textAreaTop" fmla="*/ 0 h 1623960"/>
              <a:gd name="textAreaBottom" fmla="*/ 1624320 h 1623960"/>
            </a:gdLst>
            <a:ahLst/>
            <a:rect l="textAreaLeft" t="textAreaTop" r="textAreaRight" b="textAreaBottom"/>
            <a:pathLst>
              <a:path w="1713738" h="1624457">
                <a:moveTo>
                  <a:pt x="832484" y="0"/>
                </a:moveTo>
                <a:lnTo>
                  <a:pt x="1713738" y="881379"/>
                </a:lnTo>
                <a:lnTo>
                  <a:pt x="1684146" y="962405"/>
                </a:lnTo>
                <a:cubicBezTo>
                  <a:pt x="1571625" y="1228470"/>
                  <a:pt x="1370965" y="1448307"/>
                  <a:pt x="1118870" y="1585213"/>
                </a:cubicBezTo>
                <a:lnTo>
                  <a:pt x="1037463" y="1624457"/>
                </a:lnTo>
                <a:lnTo>
                  <a:pt x="341122" y="928115"/>
                </a:lnTo>
                <a:lnTo>
                  <a:pt x="232029" y="709802"/>
                </a:lnTo>
                <a:lnTo>
                  <a:pt x="0" y="627887"/>
                </a:lnTo>
                <a:lnTo>
                  <a:pt x="832484" y="0"/>
                </a:lnTo>
              </a:path>
            </a:pathLst>
          </a:custGeom>
          <a:solidFill>
            <a:srgbClr val="f39c1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4977000" y="823320"/>
            <a:ext cx="2617920" cy="2617920"/>
          </a:xfrm>
          <a:custGeom>
            <a:avLst/>
            <a:gdLst>
              <a:gd name="textAreaLeft" fmla="*/ 0 w 2617920"/>
              <a:gd name="textAreaRight" fmla="*/ 2618280 w 2617920"/>
              <a:gd name="textAreaTop" fmla="*/ 0 h 2617920"/>
              <a:gd name="textAreaBottom" fmla="*/ 2618280 h 2617920"/>
            </a:gdLst>
            <a:ahLst/>
            <a:rect l="textAreaLeft" t="textAreaTop" r="textAreaRight" b="textAreaBottom"/>
            <a:pathLst>
              <a:path w="2618104" h="2618232">
                <a:moveTo>
                  <a:pt x="38100" y="1309116"/>
                </a:moveTo>
                <a:cubicBezTo>
                  <a:pt x="38100" y="607187"/>
                  <a:pt x="607059" y="38100"/>
                  <a:pt x="1309115" y="38100"/>
                </a:cubicBezTo>
                <a:cubicBezTo>
                  <a:pt x="2011044" y="38100"/>
                  <a:pt x="2580004" y="607187"/>
                  <a:pt x="2580004" y="1309116"/>
                </a:cubicBezTo>
                <a:cubicBezTo>
                  <a:pt x="2580004" y="2011172"/>
                  <a:pt x="2011044" y="2580132"/>
                  <a:pt x="1309115" y="2580132"/>
                </a:cubicBezTo>
                <a:cubicBezTo>
                  <a:pt x="607059" y="2580132"/>
                  <a:pt x="38100" y="2011172"/>
                  <a:pt x="38100" y="1309116"/>
                </a:cubicBezTo>
              </a:path>
            </a:pathLst>
          </a:custGeom>
          <a:noFill/>
          <a:ln w="762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0" y="3272040"/>
            <a:ext cx="5684760" cy="1606320"/>
          </a:xfrm>
          <a:custGeom>
            <a:avLst/>
            <a:gdLst>
              <a:gd name="textAreaLeft" fmla="*/ 0 w 5684760"/>
              <a:gd name="textAreaRight" fmla="*/ 5685120 w 5684760"/>
              <a:gd name="textAreaTop" fmla="*/ 0 h 1606320"/>
              <a:gd name="textAreaBottom" fmla="*/ 1606680 h 1606320"/>
            </a:gdLst>
            <a:ahLst/>
            <a:rect l="textAreaLeft" t="textAreaTop" r="textAreaRight" b="textAreaBottom"/>
            <a:pathLst>
              <a:path w="5685154" h="1606677">
                <a:moveTo>
                  <a:pt x="0" y="1606677"/>
                </a:moveTo>
                <a:lnTo>
                  <a:pt x="5685154" y="1606677"/>
                </a:lnTo>
                <a:lnTo>
                  <a:pt x="5685154" y="0"/>
                </a:lnTo>
                <a:lnTo>
                  <a:pt x="0" y="0"/>
                </a:lnTo>
                <a:lnTo>
                  <a:pt x="0" y="1606677"/>
                </a:lnTo>
              </a:path>
            </a:pathLst>
          </a:custGeom>
          <a:solidFill>
            <a:srgbClr val="a6a6a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5465880" y="3117960"/>
            <a:ext cx="3042720" cy="3042720"/>
          </a:xfrm>
          <a:custGeom>
            <a:avLst/>
            <a:gdLst>
              <a:gd name="textAreaLeft" fmla="*/ 0 w 3042720"/>
              <a:gd name="textAreaRight" fmla="*/ 3043080 w 3042720"/>
              <a:gd name="textAreaTop" fmla="*/ 0 h 3042720"/>
              <a:gd name="textAreaBottom" fmla="*/ 3043080 h 3042720"/>
            </a:gdLst>
            <a:ahLst/>
            <a:rect l="textAreaLeft" t="textAreaTop" r="textAreaRight" b="textAreaBottom"/>
            <a:pathLst>
              <a:path w="3043173" h="3043212">
                <a:moveTo>
                  <a:pt x="0" y="1521587"/>
                </a:moveTo>
                <a:cubicBezTo>
                  <a:pt x="0" y="681227"/>
                  <a:pt x="681227" y="0"/>
                  <a:pt x="1521586" y="0"/>
                </a:cubicBezTo>
                <a:cubicBezTo>
                  <a:pt x="2361945" y="0"/>
                  <a:pt x="3043173" y="681227"/>
                  <a:pt x="3043173" y="1521587"/>
                </a:cubicBezTo>
                <a:cubicBezTo>
                  <a:pt x="3043173" y="2361945"/>
                  <a:pt x="2361945" y="3043212"/>
                  <a:pt x="1521586" y="3043212"/>
                </a:cubicBezTo>
                <a:cubicBezTo>
                  <a:pt x="681227" y="3043212"/>
                  <a:pt x="0" y="2361945"/>
                  <a:pt x="0" y="1521587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5562720" y="3214800"/>
            <a:ext cx="2849400" cy="285408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2854080"/>
              <a:gd name="textAreaBottom" fmla="*/ 2854440 h 2854080"/>
            </a:gdLst>
            <a:ahLst/>
            <a:rect l="textAreaLeft" t="textAreaTop" r="textAreaRight" b="textAreaBottom"/>
            <a:pathLst>
              <a:path w="2849626" h="2854362">
                <a:moveTo>
                  <a:pt x="0" y="1427226"/>
                </a:moveTo>
                <a:cubicBezTo>
                  <a:pt x="0" y="639064"/>
                  <a:pt x="637920" y="0"/>
                  <a:pt x="1424813" y="0"/>
                </a:cubicBezTo>
                <a:cubicBezTo>
                  <a:pt x="2211704" y="0"/>
                  <a:pt x="2849626" y="639064"/>
                  <a:pt x="2849626" y="1427226"/>
                </a:cubicBezTo>
                <a:cubicBezTo>
                  <a:pt x="2849626" y="2215388"/>
                  <a:pt x="2211704" y="2854362"/>
                  <a:pt x="1424813" y="2854362"/>
                </a:cubicBezTo>
                <a:cubicBezTo>
                  <a:pt x="637920" y="2854362"/>
                  <a:pt x="0" y="2215388"/>
                  <a:pt x="0" y="1427226"/>
                </a:cubicBezTo>
              </a:path>
            </a:pathLst>
          </a:custGeom>
          <a:solidFill>
            <a:srgbClr val="e6e6e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6775560" y="2820960"/>
            <a:ext cx="337680" cy="985680"/>
          </a:xfrm>
          <a:custGeom>
            <a:avLst/>
            <a:gdLst>
              <a:gd name="textAreaLeft" fmla="*/ 0 w 337680"/>
              <a:gd name="textAreaRight" fmla="*/ 338040 w 337680"/>
              <a:gd name="textAreaTop" fmla="*/ 0 h 985680"/>
              <a:gd name="textAreaBottom" fmla="*/ 986040 h 985680"/>
            </a:gdLst>
            <a:ahLst/>
            <a:rect l="textAreaLeft" t="textAreaTop" r="textAreaRight" b="textAreaBottom"/>
            <a:pathLst>
              <a:path w="338201" h="985901">
                <a:moveTo>
                  <a:pt x="118109" y="0"/>
                </a:moveTo>
                <a:cubicBezTo>
                  <a:pt x="220091" y="0"/>
                  <a:pt x="220091" y="0"/>
                  <a:pt x="220091" y="0"/>
                </a:cubicBezTo>
                <a:cubicBezTo>
                  <a:pt x="284479" y="0"/>
                  <a:pt x="338201" y="53847"/>
                  <a:pt x="338201" y="118617"/>
                </a:cubicBezTo>
                <a:cubicBezTo>
                  <a:pt x="338201" y="867409"/>
                  <a:pt x="338201" y="867409"/>
                  <a:pt x="338201" y="867409"/>
                </a:cubicBezTo>
                <a:cubicBezTo>
                  <a:pt x="338201" y="932052"/>
                  <a:pt x="284479" y="985901"/>
                  <a:pt x="220091" y="985901"/>
                </a:cubicBezTo>
                <a:cubicBezTo>
                  <a:pt x="118109" y="985901"/>
                  <a:pt x="118109" y="985901"/>
                  <a:pt x="118109" y="985901"/>
                </a:cubicBezTo>
                <a:cubicBezTo>
                  <a:pt x="53720" y="985901"/>
                  <a:pt x="0" y="932052"/>
                  <a:pt x="0" y="867409"/>
                </a:cubicBezTo>
                <a:cubicBezTo>
                  <a:pt x="0" y="118617"/>
                  <a:pt x="0" y="118617"/>
                  <a:pt x="0" y="118617"/>
                </a:cubicBezTo>
                <a:cubicBezTo>
                  <a:pt x="0" y="53847"/>
                  <a:pt x="53720" y="0"/>
                  <a:pt x="118109" y="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6838920" y="2880000"/>
            <a:ext cx="215640" cy="856800"/>
          </a:xfrm>
          <a:custGeom>
            <a:avLst/>
            <a:gdLst>
              <a:gd name="textAreaLeft" fmla="*/ 0 w 215640"/>
              <a:gd name="textAreaRight" fmla="*/ 216000 w 215640"/>
              <a:gd name="textAreaTop" fmla="*/ 0 h 856800"/>
              <a:gd name="textAreaBottom" fmla="*/ 857160 h 856800"/>
            </a:gdLst>
            <a:ahLst/>
            <a:rect l="textAreaLeft" t="textAreaTop" r="textAreaRight" b="textAreaBottom"/>
            <a:pathLst>
              <a:path w="215900" h="857250">
                <a:moveTo>
                  <a:pt x="75565" y="0"/>
                </a:moveTo>
                <a:cubicBezTo>
                  <a:pt x="140334" y="0"/>
                  <a:pt x="140334" y="0"/>
                  <a:pt x="140334" y="0"/>
                </a:cubicBezTo>
                <a:cubicBezTo>
                  <a:pt x="178180" y="0"/>
                  <a:pt x="215900" y="37719"/>
                  <a:pt x="215900" y="75438"/>
                </a:cubicBezTo>
                <a:cubicBezTo>
                  <a:pt x="215900" y="781685"/>
                  <a:pt x="215900" y="781685"/>
                  <a:pt x="215900" y="781685"/>
                </a:cubicBezTo>
                <a:cubicBezTo>
                  <a:pt x="215900" y="819531"/>
                  <a:pt x="178180" y="857250"/>
                  <a:pt x="140334" y="857250"/>
                </a:cubicBezTo>
                <a:cubicBezTo>
                  <a:pt x="75565" y="857250"/>
                  <a:pt x="75565" y="857250"/>
                  <a:pt x="75565" y="857250"/>
                </a:cubicBezTo>
                <a:cubicBezTo>
                  <a:pt x="32384" y="857250"/>
                  <a:pt x="0" y="819531"/>
                  <a:pt x="0" y="781685"/>
                </a:cubicBezTo>
                <a:cubicBezTo>
                  <a:pt x="0" y="75438"/>
                  <a:pt x="0" y="75438"/>
                  <a:pt x="0" y="75438"/>
                </a:cubicBezTo>
                <a:cubicBezTo>
                  <a:pt x="0" y="37719"/>
                  <a:pt x="32384" y="0"/>
                  <a:pt x="75565" y="0"/>
                </a:cubicBezTo>
              </a:path>
            </a:pathLst>
          </a:custGeom>
          <a:solidFill>
            <a:srgbClr val="e6e6e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5789880" y="3440160"/>
            <a:ext cx="2395080" cy="2396880"/>
          </a:xfrm>
          <a:custGeom>
            <a:avLst/>
            <a:gdLst>
              <a:gd name="textAreaLeft" fmla="*/ 0 w 2395080"/>
              <a:gd name="textAreaRight" fmla="*/ 2395440 w 2395080"/>
              <a:gd name="textAreaTop" fmla="*/ 0 h 2396880"/>
              <a:gd name="textAreaBottom" fmla="*/ 2397240 h 2396880"/>
            </a:gdLst>
            <a:ahLst/>
            <a:rect l="textAreaLeft" t="textAreaTop" r="textAreaRight" b="textAreaBottom"/>
            <a:pathLst>
              <a:path w="2395473" h="2397162">
                <a:moveTo>
                  <a:pt x="0" y="1198626"/>
                </a:moveTo>
                <a:cubicBezTo>
                  <a:pt x="0" y="536702"/>
                  <a:pt x="536193" y="0"/>
                  <a:pt x="1197736" y="0"/>
                </a:cubicBezTo>
                <a:cubicBezTo>
                  <a:pt x="1859279" y="0"/>
                  <a:pt x="2395473" y="536702"/>
                  <a:pt x="2395473" y="1198626"/>
                </a:cubicBezTo>
                <a:cubicBezTo>
                  <a:pt x="2395473" y="1860550"/>
                  <a:pt x="1859279" y="2397162"/>
                  <a:pt x="1197736" y="2397162"/>
                </a:cubicBezTo>
                <a:cubicBezTo>
                  <a:pt x="536193" y="2397162"/>
                  <a:pt x="0" y="1860550"/>
                  <a:pt x="0" y="1198626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5907240" y="3559320"/>
            <a:ext cx="2160000" cy="2158560"/>
          </a:xfrm>
          <a:custGeom>
            <a:avLst/>
            <a:gdLst>
              <a:gd name="textAreaLeft" fmla="*/ 0 w 2160000"/>
              <a:gd name="textAreaRight" fmla="*/ 2160360 w 2160000"/>
              <a:gd name="textAreaTop" fmla="*/ 0 h 2158560"/>
              <a:gd name="textAreaBottom" fmla="*/ 2158920 h 2158560"/>
            </a:gdLst>
            <a:ahLst/>
            <a:rect l="textAreaLeft" t="textAreaTop" r="textAreaRight" b="textAreaBottom"/>
            <a:pathLst>
              <a:path w="2160523" h="2158974">
                <a:moveTo>
                  <a:pt x="0" y="1079500"/>
                </a:moveTo>
                <a:cubicBezTo>
                  <a:pt x="0" y="483234"/>
                  <a:pt x="483615" y="0"/>
                  <a:pt x="1080261" y="0"/>
                </a:cubicBezTo>
                <a:cubicBezTo>
                  <a:pt x="1676907" y="0"/>
                  <a:pt x="2160523" y="483234"/>
                  <a:pt x="2160523" y="1079500"/>
                </a:cubicBezTo>
                <a:cubicBezTo>
                  <a:pt x="2160523" y="1675638"/>
                  <a:pt x="1676907" y="2158974"/>
                  <a:pt x="1080261" y="2158974"/>
                </a:cubicBezTo>
                <a:cubicBezTo>
                  <a:pt x="483615" y="2158974"/>
                  <a:pt x="0" y="1675638"/>
                  <a:pt x="0" y="1079500"/>
                </a:cubicBezTo>
              </a:path>
            </a:pathLst>
          </a:custGeom>
          <a:solidFill>
            <a:srgbClr val="b3b3b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6069240" y="3721320"/>
            <a:ext cx="1836360" cy="1836360"/>
          </a:xfrm>
          <a:custGeom>
            <a:avLst/>
            <a:gdLst>
              <a:gd name="textAreaLeft" fmla="*/ 0 w 1836360"/>
              <a:gd name="textAreaRight" fmla="*/ 1836720 w 1836360"/>
              <a:gd name="textAreaTop" fmla="*/ 0 h 1836360"/>
              <a:gd name="textAreaBottom" fmla="*/ 1836720 h 1836360"/>
            </a:gdLst>
            <a:ahLst/>
            <a:rect l="textAreaLeft" t="textAreaTop" r="textAreaRight" b="textAreaBottom"/>
            <a:pathLst>
              <a:path w="1836673" h="1836673">
                <a:moveTo>
                  <a:pt x="0" y="918336"/>
                </a:moveTo>
                <a:cubicBezTo>
                  <a:pt x="0" y="411098"/>
                  <a:pt x="411098" y="0"/>
                  <a:pt x="918336" y="0"/>
                </a:cubicBezTo>
                <a:cubicBezTo>
                  <a:pt x="1425575" y="0"/>
                  <a:pt x="1836673" y="411098"/>
                  <a:pt x="1836673" y="918336"/>
                </a:cubicBezTo>
                <a:cubicBezTo>
                  <a:pt x="1836673" y="1425575"/>
                  <a:pt x="1425575" y="1836673"/>
                  <a:pt x="918336" y="1836673"/>
                </a:cubicBezTo>
                <a:cubicBezTo>
                  <a:pt x="411098" y="1836673"/>
                  <a:pt x="0" y="1425575"/>
                  <a:pt x="0" y="918336"/>
                </a:cubicBezTo>
              </a:path>
            </a:pathLst>
          </a:custGeom>
          <a:solidFill>
            <a:srgbClr val="886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6323040" y="3978360"/>
            <a:ext cx="1328400" cy="1325160"/>
          </a:xfrm>
          <a:custGeom>
            <a:avLst/>
            <a:gdLst>
              <a:gd name="textAreaLeft" fmla="*/ 0 w 1328400"/>
              <a:gd name="textAreaRight" fmla="*/ 1328760 w 1328400"/>
              <a:gd name="textAreaTop" fmla="*/ 0 h 1325160"/>
              <a:gd name="textAreaBottom" fmla="*/ 1325520 h 1325160"/>
            </a:gdLst>
            <a:ahLst/>
            <a:rect l="textAreaLeft" t="textAreaTop" r="textAreaRight" b="textAreaBottom"/>
            <a:pathLst>
              <a:path w="1328673" h="1325498">
                <a:moveTo>
                  <a:pt x="0" y="662813"/>
                </a:moveTo>
                <a:cubicBezTo>
                  <a:pt x="0" y="296671"/>
                  <a:pt x="297433" y="0"/>
                  <a:pt x="664336" y="0"/>
                </a:cubicBezTo>
                <a:cubicBezTo>
                  <a:pt x="1031240" y="0"/>
                  <a:pt x="1328673" y="296671"/>
                  <a:pt x="1328673" y="662813"/>
                </a:cubicBezTo>
                <a:cubicBezTo>
                  <a:pt x="1328673" y="1028826"/>
                  <a:pt x="1031240" y="1325498"/>
                  <a:pt x="664336" y="1325498"/>
                </a:cubicBezTo>
                <a:cubicBezTo>
                  <a:pt x="297433" y="1325498"/>
                  <a:pt x="0" y="1028826"/>
                  <a:pt x="0" y="662813"/>
                </a:cubicBezTo>
              </a:path>
            </a:pathLst>
          </a:custGeom>
          <a:solidFill>
            <a:srgbClr val="694f2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6483600" y="4135680"/>
            <a:ext cx="1319040" cy="1319040"/>
          </a:xfrm>
          <a:custGeom>
            <a:avLst/>
            <a:gdLst>
              <a:gd name="textAreaLeft" fmla="*/ 0 w 1319040"/>
              <a:gd name="textAreaRight" fmla="*/ 1319400 w 1319040"/>
              <a:gd name="textAreaTop" fmla="*/ 0 h 1319040"/>
              <a:gd name="textAreaBottom" fmla="*/ 1319400 h 1319040"/>
            </a:gdLst>
            <a:ahLst/>
            <a:rect l="textAreaLeft" t="textAreaTop" r="textAreaRight" b="textAreaBottom"/>
            <a:pathLst>
              <a:path w="1319276" h="1319276">
                <a:moveTo>
                  <a:pt x="1141603" y="0"/>
                </a:moveTo>
                <a:cubicBezTo>
                  <a:pt x="1254632" y="140080"/>
                  <a:pt x="1319276" y="312292"/>
                  <a:pt x="1319276" y="506221"/>
                </a:cubicBezTo>
                <a:cubicBezTo>
                  <a:pt x="1319276" y="953134"/>
                  <a:pt x="953134" y="1319276"/>
                  <a:pt x="506221" y="1319276"/>
                </a:cubicBezTo>
                <a:cubicBezTo>
                  <a:pt x="312292" y="1319276"/>
                  <a:pt x="140080" y="1254633"/>
                  <a:pt x="0" y="1146936"/>
                </a:cubicBezTo>
                <a:cubicBezTo>
                  <a:pt x="129285" y="1227708"/>
                  <a:pt x="280034" y="1276222"/>
                  <a:pt x="446913" y="1276222"/>
                </a:cubicBezTo>
                <a:cubicBezTo>
                  <a:pt x="904620" y="1276222"/>
                  <a:pt x="1276222" y="904620"/>
                  <a:pt x="1276222" y="446913"/>
                </a:cubicBezTo>
                <a:cubicBezTo>
                  <a:pt x="1276222" y="285369"/>
                  <a:pt x="1227708" y="129285"/>
                  <a:pt x="1141603" y="0"/>
                </a:cubicBezTo>
              </a:path>
            </a:pathLst>
          </a:custGeom>
          <a:solidFill>
            <a:srgbClr val="bd9d6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4411440" y="3138840"/>
            <a:ext cx="1894320" cy="1894320"/>
          </a:xfrm>
          <a:custGeom>
            <a:avLst/>
            <a:gdLst>
              <a:gd name="textAreaLeft" fmla="*/ 0 w 1894320"/>
              <a:gd name="textAreaRight" fmla="*/ 1894680 w 1894320"/>
              <a:gd name="textAreaTop" fmla="*/ 0 h 1894320"/>
              <a:gd name="textAreaBottom" fmla="*/ 1894680 h 1894320"/>
            </a:gdLst>
            <a:ahLst/>
            <a:rect l="textAreaLeft" t="textAreaTop" r="textAreaRight" b="textAreaBottom"/>
            <a:pathLst>
              <a:path w="1894713" h="1894713">
                <a:moveTo>
                  <a:pt x="947292" y="28575"/>
                </a:moveTo>
                <a:lnTo>
                  <a:pt x="1041146" y="33527"/>
                </a:lnTo>
                <a:lnTo>
                  <a:pt x="1132459" y="47370"/>
                </a:lnTo>
                <a:lnTo>
                  <a:pt x="1220470" y="69976"/>
                </a:lnTo>
                <a:lnTo>
                  <a:pt x="1304925" y="100710"/>
                </a:lnTo>
                <a:lnTo>
                  <a:pt x="1385316" y="139572"/>
                </a:lnTo>
                <a:lnTo>
                  <a:pt x="1461008" y="185420"/>
                </a:lnTo>
                <a:lnTo>
                  <a:pt x="1531873" y="238378"/>
                </a:lnTo>
                <a:lnTo>
                  <a:pt x="1597025" y="297688"/>
                </a:lnTo>
                <a:lnTo>
                  <a:pt x="1656460" y="363220"/>
                </a:lnTo>
                <a:lnTo>
                  <a:pt x="1709292" y="433704"/>
                </a:lnTo>
                <a:lnTo>
                  <a:pt x="1755140" y="509523"/>
                </a:lnTo>
                <a:lnTo>
                  <a:pt x="1794002" y="589788"/>
                </a:lnTo>
                <a:lnTo>
                  <a:pt x="1824735" y="674242"/>
                </a:lnTo>
                <a:lnTo>
                  <a:pt x="1847341" y="762253"/>
                </a:lnTo>
                <a:lnTo>
                  <a:pt x="1861185" y="853566"/>
                </a:lnTo>
                <a:lnTo>
                  <a:pt x="1866138" y="947420"/>
                </a:lnTo>
                <a:lnTo>
                  <a:pt x="1861185" y="1041146"/>
                </a:lnTo>
                <a:lnTo>
                  <a:pt x="1847341" y="1132458"/>
                </a:lnTo>
                <a:lnTo>
                  <a:pt x="1824735" y="1220596"/>
                </a:lnTo>
                <a:lnTo>
                  <a:pt x="1794002" y="1305052"/>
                </a:lnTo>
                <a:lnTo>
                  <a:pt x="1755140" y="1385315"/>
                </a:lnTo>
                <a:lnTo>
                  <a:pt x="1709292" y="1461008"/>
                </a:lnTo>
                <a:lnTo>
                  <a:pt x="1656460" y="1531873"/>
                </a:lnTo>
                <a:lnTo>
                  <a:pt x="1597025" y="1597025"/>
                </a:lnTo>
                <a:lnTo>
                  <a:pt x="1531873" y="1656460"/>
                </a:lnTo>
                <a:lnTo>
                  <a:pt x="1461008" y="1709292"/>
                </a:lnTo>
                <a:lnTo>
                  <a:pt x="1385316" y="1755139"/>
                </a:lnTo>
                <a:lnTo>
                  <a:pt x="1304925" y="1794128"/>
                </a:lnTo>
                <a:lnTo>
                  <a:pt x="1220470" y="1824863"/>
                </a:lnTo>
                <a:lnTo>
                  <a:pt x="1132459" y="1847341"/>
                </a:lnTo>
                <a:lnTo>
                  <a:pt x="1041146" y="1861311"/>
                </a:lnTo>
                <a:lnTo>
                  <a:pt x="947292" y="1866138"/>
                </a:lnTo>
                <a:lnTo>
                  <a:pt x="853566" y="1861311"/>
                </a:lnTo>
                <a:lnTo>
                  <a:pt x="762254" y="1847341"/>
                </a:lnTo>
                <a:lnTo>
                  <a:pt x="674116" y="1824863"/>
                </a:lnTo>
                <a:lnTo>
                  <a:pt x="589660" y="1794128"/>
                </a:lnTo>
                <a:lnTo>
                  <a:pt x="509397" y="1755139"/>
                </a:lnTo>
                <a:lnTo>
                  <a:pt x="433704" y="1709292"/>
                </a:lnTo>
                <a:lnTo>
                  <a:pt x="363220" y="1656460"/>
                </a:lnTo>
                <a:lnTo>
                  <a:pt x="297688" y="1597025"/>
                </a:lnTo>
                <a:lnTo>
                  <a:pt x="238252" y="1531873"/>
                </a:lnTo>
                <a:lnTo>
                  <a:pt x="185420" y="1461008"/>
                </a:lnTo>
                <a:lnTo>
                  <a:pt x="139572" y="1385315"/>
                </a:lnTo>
                <a:lnTo>
                  <a:pt x="100710" y="1305052"/>
                </a:lnTo>
                <a:lnTo>
                  <a:pt x="69850" y="1220596"/>
                </a:lnTo>
                <a:lnTo>
                  <a:pt x="47371" y="1132458"/>
                </a:lnTo>
                <a:lnTo>
                  <a:pt x="33401" y="1041146"/>
                </a:lnTo>
                <a:lnTo>
                  <a:pt x="28575" y="947420"/>
                </a:lnTo>
                <a:lnTo>
                  <a:pt x="33401" y="853566"/>
                </a:lnTo>
                <a:lnTo>
                  <a:pt x="47371" y="762253"/>
                </a:lnTo>
                <a:lnTo>
                  <a:pt x="69850" y="674242"/>
                </a:lnTo>
                <a:lnTo>
                  <a:pt x="100710" y="589788"/>
                </a:lnTo>
                <a:lnTo>
                  <a:pt x="139572" y="509523"/>
                </a:lnTo>
                <a:lnTo>
                  <a:pt x="185420" y="433704"/>
                </a:lnTo>
                <a:lnTo>
                  <a:pt x="238252" y="363220"/>
                </a:lnTo>
                <a:lnTo>
                  <a:pt x="297688" y="297688"/>
                </a:lnTo>
                <a:lnTo>
                  <a:pt x="363220" y="238378"/>
                </a:lnTo>
                <a:lnTo>
                  <a:pt x="433704" y="185546"/>
                </a:lnTo>
                <a:lnTo>
                  <a:pt x="509397" y="139572"/>
                </a:lnTo>
                <a:lnTo>
                  <a:pt x="589660" y="100710"/>
                </a:lnTo>
                <a:lnTo>
                  <a:pt x="674116" y="69976"/>
                </a:lnTo>
                <a:lnTo>
                  <a:pt x="762254" y="47370"/>
                </a:lnTo>
                <a:lnTo>
                  <a:pt x="853566" y="33527"/>
                </a:lnTo>
                <a:lnTo>
                  <a:pt x="947292" y="28575"/>
                </a:lnTo>
              </a:path>
            </a:pathLst>
          </a:custGeom>
          <a:noFill/>
          <a:ln w="508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4411440" y="3138840"/>
            <a:ext cx="1922760" cy="1922760"/>
          </a:xfrm>
          <a:custGeom>
            <a:avLst/>
            <a:gdLst>
              <a:gd name="textAreaLeft" fmla="*/ 0 w 1922760"/>
              <a:gd name="textAreaRight" fmla="*/ 1923120 w 1922760"/>
              <a:gd name="textAreaTop" fmla="*/ 0 h 1922760"/>
              <a:gd name="textAreaBottom" fmla="*/ 1923120 h 1922760"/>
            </a:gdLst>
            <a:ahLst/>
            <a:rect l="textAreaLeft" t="textAreaTop" r="textAreaRight" b="textAreaBottom"/>
            <a:pathLst>
              <a:path w="1923288" h="1923288">
                <a:moveTo>
                  <a:pt x="961644" y="28575"/>
                </a:moveTo>
                <a:lnTo>
                  <a:pt x="1057021" y="33527"/>
                </a:lnTo>
                <a:lnTo>
                  <a:pt x="1149477" y="47370"/>
                </a:lnTo>
                <a:lnTo>
                  <a:pt x="1239266" y="70738"/>
                </a:lnTo>
                <a:lnTo>
                  <a:pt x="1324736" y="101853"/>
                </a:lnTo>
                <a:lnTo>
                  <a:pt x="1406271" y="141223"/>
                </a:lnTo>
                <a:lnTo>
                  <a:pt x="1483233" y="187833"/>
                </a:lnTo>
                <a:lnTo>
                  <a:pt x="1555369" y="241934"/>
                </a:lnTo>
                <a:lnTo>
                  <a:pt x="1621663" y="302133"/>
                </a:lnTo>
                <a:lnTo>
                  <a:pt x="1681860" y="368427"/>
                </a:lnTo>
                <a:lnTo>
                  <a:pt x="1735454" y="440054"/>
                </a:lnTo>
                <a:lnTo>
                  <a:pt x="1782064" y="517016"/>
                </a:lnTo>
                <a:lnTo>
                  <a:pt x="1821434" y="598551"/>
                </a:lnTo>
                <a:lnTo>
                  <a:pt x="1852929" y="684529"/>
                </a:lnTo>
                <a:lnTo>
                  <a:pt x="1875916" y="773810"/>
                </a:lnTo>
                <a:lnTo>
                  <a:pt x="1889760" y="866394"/>
                </a:lnTo>
                <a:lnTo>
                  <a:pt x="1894713" y="961644"/>
                </a:lnTo>
                <a:lnTo>
                  <a:pt x="1889760" y="1057021"/>
                </a:lnTo>
                <a:lnTo>
                  <a:pt x="1875916" y="1149477"/>
                </a:lnTo>
                <a:lnTo>
                  <a:pt x="1852929" y="1239265"/>
                </a:lnTo>
                <a:lnTo>
                  <a:pt x="1821434" y="1324864"/>
                </a:lnTo>
                <a:lnTo>
                  <a:pt x="1782064" y="1406271"/>
                </a:lnTo>
                <a:lnTo>
                  <a:pt x="1735454" y="1483233"/>
                </a:lnTo>
                <a:lnTo>
                  <a:pt x="1681860" y="1555369"/>
                </a:lnTo>
                <a:lnTo>
                  <a:pt x="1621663" y="1621663"/>
                </a:lnTo>
                <a:lnTo>
                  <a:pt x="1555241" y="1681860"/>
                </a:lnTo>
                <a:lnTo>
                  <a:pt x="1483233" y="1735454"/>
                </a:lnTo>
                <a:lnTo>
                  <a:pt x="1406271" y="1782190"/>
                </a:lnTo>
                <a:lnTo>
                  <a:pt x="1324864" y="1821433"/>
                </a:lnTo>
                <a:lnTo>
                  <a:pt x="1239266" y="1852929"/>
                </a:lnTo>
                <a:lnTo>
                  <a:pt x="1149477" y="1875916"/>
                </a:lnTo>
                <a:lnTo>
                  <a:pt x="1057021" y="1889886"/>
                </a:lnTo>
                <a:lnTo>
                  <a:pt x="961644" y="1894713"/>
                </a:lnTo>
                <a:lnTo>
                  <a:pt x="866266" y="1889886"/>
                </a:lnTo>
                <a:lnTo>
                  <a:pt x="773810" y="1875916"/>
                </a:lnTo>
                <a:lnTo>
                  <a:pt x="684403" y="1852929"/>
                </a:lnTo>
                <a:lnTo>
                  <a:pt x="598423" y="1821433"/>
                </a:lnTo>
                <a:lnTo>
                  <a:pt x="517016" y="1782190"/>
                </a:lnTo>
                <a:lnTo>
                  <a:pt x="440054" y="1735454"/>
                </a:lnTo>
                <a:lnTo>
                  <a:pt x="368300" y="1681860"/>
                </a:lnTo>
                <a:lnTo>
                  <a:pt x="302005" y="1621663"/>
                </a:lnTo>
                <a:lnTo>
                  <a:pt x="241808" y="1555369"/>
                </a:lnTo>
                <a:lnTo>
                  <a:pt x="187833" y="1483359"/>
                </a:lnTo>
                <a:lnTo>
                  <a:pt x="141097" y="1406271"/>
                </a:lnTo>
                <a:lnTo>
                  <a:pt x="101854" y="1324864"/>
                </a:lnTo>
                <a:lnTo>
                  <a:pt x="70739" y="1239265"/>
                </a:lnTo>
                <a:lnTo>
                  <a:pt x="47371" y="1149603"/>
                </a:lnTo>
                <a:lnTo>
                  <a:pt x="33401" y="1057021"/>
                </a:lnTo>
                <a:lnTo>
                  <a:pt x="28575" y="961644"/>
                </a:lnTo>
                <a:lnTo>
                  <a:pt x="33401" y="866394"/>
                </a:lnTo>
                <a:lnTo>
                  <a:pt x="47371" y="773810"/>
                </a:lnTo>
                <a:lnTo>
                  <a:pt x="70739" y="684529"/>
                </a:lnTo>
                <a:lnTo>
                  <a:pt x="101854" y="598551"/>
                </a:lnTo>
                <a:lnTo>
                  <a:pt x="141097" y="517016"/>
                </a:lnTo>
                <a:lnTo>
                  <a:pt x="187833" y="440054"/>
                </a:lnTo>
                <a:lnTo>
                  <a:pt x="241935" y="368300"/>
                </a:lnTo>
                <a:lnTo>
                  <a:pt x="302005" y="302133"/>
                </a:lnTo>
                <a:lnTo>
                  <a:pt x="368300" y="241934"/>
                </a:lnTo>
                <a:lnTo>
                  <a:pt x="439928" y="187833"/>
                </a:lnTo>
                <a:lnTo>
                  <a:pt x="517016" y="141223"/>
                </a:lnTo>
                <a:lnTo>
                  <a:pt x="598551" y="101853"/>
                </a:lnTo>
                <a:lnTo>
                  <a:pt x="684403" y="70738"/>
                </a:lnTo>
                <a:lnTo>
                  <a:pt x="773684" y="47370"/>
                </a:lnTo>
                <a:lnTo>
                  <a:pt x="866266" y="33527"/>
                </a:lnTo>
                <a:lnTo>
                  <a:pt x="961644" y="28575"/>
                </a:lnTo>
              </a:path>
            </a:pathLst>
          </a:custGeom>
          <a:noFill/>
          <a:ln w="508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216000" y="952560"/>
            <a:ext cx="8927640" cy="5879880"/>
          </a:xfrm>
          <a:prstGeom prst="rect">
            <a:avLst/>
          </a:prstGeom>
          <a:ln w="0">
            <a:noFill/>
          </a:ln>
        </p:spPr>
      </p:pic>
      <p:sp>
        <p:nvSpPr>
          <p:cNvPr id="116" name="矩形 18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  <Words>26</Words>
  <Paragraphs>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dc:language>en-US</dc:language>
  <cp:lastModifiedBy>王玉清</cp:lastModifiedBy>
  <dcterms:modified xsi:type="dcterms:W3CDTF">2016-03-06T04:22:38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4</vt:r8>
  </property>
</Properties>
</file>