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04AF18-B63A-41AB-BE96-3DF3BB1191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FB1702-3B08-403E-AC98-0E2EA5694C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CED1C3-16A7-4482-B977-F53678EF17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A378B0-47AD-45EA-9081-C480F65EF2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E6A639-AF6A-4A72-9F8C-DDCB985135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3454DF-7D5B-4FD8-874C-B0DD2389CF9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27B315-1378-489F-A6F7-5D49C3EFD4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04B989-BF81-4CED-A28F-CFB5147298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A4822A-BCDE-4CD3-B79E-4600F198EE3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CD0-6803-4913-A7A0-3B85F9EA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DAF-BEAE-4FEA-B4EF-9547BE54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A99A5-C632-47D8-9713-E8B519D2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AEC48-2F7F-4C9F-A5F5-74F09AA2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679A7-5FD3-45D5-BCB6-73CCFC18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AFB09-2FD2-48C7-8D28-D69C4BBF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77E10-0729-4CE9-84D5-DB4228BA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47A42-8EC9-487A-B702-CB250E90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C1A30-0E90-445F-9E49-89AC5115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B0723-1E9F-472F-9F3B-989D8EDC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B21AD-E6B9-4F92-A335-D86BA2B2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35A37-F02F-4FC2-875F-4CF275B4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BE4-B8B4-4BF1-920C-62AF6571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E2774-5686-4194-8924-52169309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2967B-32F4-44E0-AAB2-F4543E0F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EBFDB-5238-4877-882A-49C9AF62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E07F7-6267-483D-BD92-C3ED5A50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1081A-28CF-4FAD-85F0-1BDC4402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A6686-1D66-41AF-8798-B2F70EDC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F7ABF-5BE8-41AF-A522-E3F9A757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850CE-BBB5-4794-9E02-271EC16F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48EA5-8CE9-41A9-A3B8-EC8A63AC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F74F2-3FF6-4C80-AAC8-9E3AE395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55E-2F08-43CB-B1A4-A046216F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0CFE1-D54C-42FE-9322-00ECD4B9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CBE30-4A47-471D-A400-8B765DD2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F9A07-22ED-4D87-8021-F018D965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4535E-3081-476D-9D37-4277EC75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5E5D8-BAC1-45D7-BA2A-D69403B9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7C867-3DA3-46DA-BB49-825169B6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3FE2B-CD53-422E-929A-9EC94F21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40D9B-5451-43DE-AF52-11396E93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06D41-3BA2-40C0-B412-731702C9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F49C5-15A2-4E73-83F6-3D3406FE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69B0-5705-42FE-A6D5-D052E916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0117B-4442-4236-AA99-4A7A6714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D6B4D-0FAD-4F34-8114-425FA0A0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F889A-697D-4E8D-A564-14E8B438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B7A06-5F89-49D0-8DFC-DB9E46DD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7D999-F317-4554-A549-8D1EC5F9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4812E-95CC-4858-B100-807AC362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8B869-4BA2-4D5D-806B-ED2C3D0A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EE442-1A17-4013-9325-8FFDDFC5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3A316-CBDF-40A7-84E5-4268677C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BCE63-C354-4620-BC97-B44AD08E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0E66-F96C-4367-8BA7-C6BBCD13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3B6AE-6FA8-41B0-944B-D333B9C2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65ACB-7EEE-4D8D-B6F7-39571758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787EE-E981-4445-BDBB-14326E45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55B93-72F2-42B2-92C7-4BFAE970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CC395-EC8C-4AA3-8EAC-40D86E1D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A4C15-93CC-40F0-B06F-49BF5A3A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55C7A-A292-47E9-8B37-6AAF1AE5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75E1A-16C9-460C-BFBD-9724381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B9F1E-9A8E-44AE-92F0-3D16D5F2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258DF-792A-4BB5-A76B-1DB8E292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E2BF-E56E-4AD1-BFB5-F54C0EB6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68B4A-FE49-4CA3-AD19-0BD32153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532E8-C444-4C53-AE53-69350D86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4F143-0680-4749-9369-BC557F4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0D47E-84EE-4B92-8F75-15D4502D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07F5A-1302-4DAD-8B93-816A6788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548E6-B583-40C5-8641-7D6B5FEC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85AA1-D965-484E-A691-C4441858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04030-4642-4AB0-AF3F-A2CFE016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195C9-B2EA-467B-B586-DF06BF37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883D4-4E00-4D85-AA1D-63882D88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59B2-7507-4976-806B-893F6A88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2BEAB-E241-4794-B048-8352E108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0B003-4ABE-4CAF-840E-D116306A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449A7-6AB9-4648-B9EA-2A86A2A4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31FC3-39A6-4254-B539-E9B49A3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2C7A3-BCD9-4843-A6D8-F2113577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8F016-4245-404E-A7BF-701FD110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AB0AA-3E0F-411A-9136-F2FDF2EC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19B50-312D-4089-945B-65D1D347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F68D8-1D5A-4437-AE5D-199EFB3B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3F08F-202A-49EA-9380-CC54CC24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41C4-6CF7-4851-B236-AE377BB9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07A25-01A7-4165-A5F1-540CDC06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605EF-F9F4-45A2-BE9F-0731B50D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1EADDF-A11E-40B5-9D7C-C5ABE01F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51141-FC07-432C-B81C-36AF1149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FCE26-A2E4-420E-A912-B1690B02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87D2D-564B-492F-9AE5-03955585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18E2D-828B-415E-BF3E-973EFB01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DF931-423F-44FA-9555-90D977A5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4B905-6420-41C7-A5CB-B0EE466A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3AC7B-D518-4717-8246-E120B336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2AA2-F10E-4DE0-A8B1-24B7B44A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BFBE2-E56A-4CAD-9922-6D74E2C3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4576F-8199-4B31-8FF0-2C8E8C34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A70B8-833F-494F-A460-CFC3412A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B7114-5EC0-48C0-8B4E-A3D36915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DBE39-148E-4DB7-AEF8-D8273118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ACBFB-6839-42EE-A04B-89680989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99509-16D8-447E-A45F-E3723FE2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9C961-AE6E-4642-830E-80037C5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501581-0580-4CC6-A9E8-2F0A7D8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4D25E-2957-419F-89ED-BCDABD5A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2443-0328-4EBB-A983-BD5EEBC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992560-3030-4AE4-A794-50E5FF79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EEEFB-2CA1-4885-8FD5-1826A1B2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AA803C-83B0-4203-9C14-8115340E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886F4-2CC2-404E-ABC7-D88211E4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F1CE60-04D6-4578-8912-93C6E52B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BA05A-4D5F-4E28-9F22-B44EEE55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C79F7-9A90-4FF0-BC9C-59E96014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184314-540A-45CF-B731-B7FAE645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EB0F5-29F4-4005-A804-819A0037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D315FD-108D-4E66-8F93-55608DE7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755-1899-43EB-A4B7-64650A00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7C74-7C3A-45A6-A3C7-C2E2B2C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B0402-AF42-430F-B4CB-58D331E2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E00E1-3441-497C-82FF-75D533D5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A79C7-21CC-4F15-9700-AF85EE8A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8A800-2E13-4F24-8458-11E4BBB6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3446A-2F81-455D-97B6-D2F64315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61166-25B2-418B-B88F-8E028AD0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136521-4255-4548-87A7-A4348367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A9355-009F-4397-A021-D2D92B6E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F6628-F86B-4CBC-8175-983E594F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D36DE-84E4-47CD-BD95-ABA1128A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6342-9AF5-486B-9FF0-B308BE7B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57F800-A2A6-42B2-887C-7BD433CD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22883-3AC4-4816-BE50-2D00AA35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16F9F-1F58-4CC5-B75D-8C4EA9CE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29726B-E868-4263-A89A-D33967D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72F0E4-99C2-4DCB-BB4D-8CD67F09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2AFF40-5CC2-47D4-8375-4F56CAB0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C27A7E-EECB-428E-A2D0-1429878E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46E1A0-2E28-4027-A3F7-B0A3789D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0C08BD-4338-400A-B4E3-35F6E908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FA1E9-D189-493F-BE74-3A923326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1EC3-13A1-4E77-B338-B4AD69CC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A98EA4-7AC2-49ED-B44E-5D2556F2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51CD21-540A-44AA-8963-CABDFF68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DAF6DA-4F1A-4471-A869-05A913B1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B21A5-3549-4870-A219-7F08E863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01112-43AC-4804-84F1-111A200D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439294-6B1B-4AC5-9CC3-73C80B30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32DF61-77CA-4EF7-A120-453FC4EB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B41D20-560C-4732-B097-6B0D40D2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81D7A-16D9-467E-B96C-02548693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C2BE76-6066-4E28-8A6D-3F4CFCB2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C3D3-9C6D-432B-949C-45789B1C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0D3163-61F2-4E9D-9AFC-32F71F2A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6FADC-D103-4602-BC32-9065587D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3FF48-56F8-4FB5-BBA3-79461F6D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055C3B-6CBA-461C-80DD-65DF0627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311D6F-E72B-46C2-ADB8-8B0951DA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61F78-2CAD-423A-A720-99E8CD1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611A5D-6512-420B-B32A-34EEF43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57F3C7-336D-4E98-96B5-2D5EA6FD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B4E894-DA4B-4D31-961D-A5D07F25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A9B241-4175-4A4B-A9D8-0CF9FFD2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BCC-DCD6-4C0D-9425-808D1C5D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1031B9-E519-401F-BEA4-F5BFCE08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EDEC51-C44D-41F1-B552-C73C33A7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BD5685-C68C-4B07-90ED-834EF873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FFE14-5D0C-4554-B8B0-ACE28321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76CF50-51A0-4C6E-B1E7-A6B57689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E9149-4F67-481B-AA00-8F6E10C9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F6DCE0-0386-43F2-ABC7-FB785A61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8C0463-8FAD-4D6C-97CC-894AE6E2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B5A39-D82F-4AAF-BCB4-B97A6CD0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90C7A-277E-4531-9D31-F5540B33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4719-0EAA-4A40-BCD7-2E1849C7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D2ECD-932B-48F2-8BBC-7605F4FF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622AD7-047E-4C1D-8221-01A55376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DD443A-3346-4675-AAE6-4C9BFC54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FCA7D5-6BB9-4B27-AA8E-92B61645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1C8BB9-1D2D-43B5-B989-C1DD6EB9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6E6C03-5528-461B-BEAD-64C89F6A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172389-AA62-4220-A82A-522CF6C6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76BE09-5377-4E90-BCED-D5ACDEC0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A552A4-2D37-457C-B7E9-16E96EB7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8943C9-E4BF-4A1D-A0CD-115A1053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CACC-F14B-4B71-AF30-EF7C6127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C85F40-57B9-4D11-8B42-44FE411A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3E7EAF-32EA-4417-B2CC-3247D26F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9ADEC-36E7-400A-AD30-CA46AACA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460F49-245F-40E8-AD83-923FD32B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33FA3E-603F-4E92-B7BF-D9E25A95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A8D0DD-5D6B-4173-B8F9-697C533E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08BE71-6954-4422-A5BC-B40461B1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B4F275-D0D2-48C3-83E1-D0FA16B2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9FF492-E0A6-4478-9E77-E84518A5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7BDBFC-A6E0-4876-9802-2F400FE1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1E24-95AD-4E7C-A3DD-DC347D56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44EE1C-BEE0-403F-9B38-905EBA5E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6C463D-66FE-44C4-B841-0E3C787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FBADB8-9B0F-4AF1-B332-7675D31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B1957D-769D-4498-B6BD-7EE38972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499609-622E-42D8-9096-E3377E0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44C5E8-DAA1-47CE-AEFD-6DC3FD4F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3C0464-22A9-4D16-8BBE-27D4810A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7B70-7237-4D3D-BAF5-49AE3792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06FE-CB06-42AE-8B9A-47E5E3E2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44E-B6FF-48C9-AA32-391CE231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5AD2-6065-4C17-BBDC-2BDE5CB0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BE1B-A3A7-4485-B0C2-1CCEE558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EE89-2AE9-4E3F-9974-13B75C19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52764-E2C6-466A-ACA3-9ED00F45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E8616-8C13-43A4-8003-897B0556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1943-533D-49B0-8C65-A9C1FFDE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9FA10-28F1-4F9F-BA79-E98BD58B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EE92-977E-4356-8CF9-F474E159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24A6-0632-4333-B3A6-3EDDA13D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DC90-184A-4A04-A3BD-04C68101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855-D4CA-43B7-AD3C-19796983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A592-1B00-4C7B-9FED-4592F13E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8E43-D35B-492E-8595-379E4872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E1086-4541-40F8-AD36-29BB1D79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9F418-B8AD-4FBD-9B61-380B9629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4181-7A77-4411-BCC3-4591BA9C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597F1-FE32-4B72-8CB4-5A0DD69E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30587-412F-41BB-8DBC-D2287C02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47AE8-F905-44C9-B2C7-03D5F44D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12A1-E338-42D8-8B0C-97E5028D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F7138-EE59-4D73-B905-F423D3AB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CC5-BFCB-43BB-8225-10FCFA82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5550-7038-403A-98BE-310499AE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18C3E-B270-471E-8A08-085D27D6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EF61B-2BFE-4BDF-BC68-15242BA4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816B4-E8F7-4881-B2CF-4F349FB2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FC9DF-6394-4E6A-BA83-C65E3EFB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6FB5-A57D-4DF6-830F-0F095126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0D15D-8825-49B0-A98C-57D749CA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C3423-0844-4BD9-9E49-E9B3CFDE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F465F-FDCF-4A68-9DBD-5504B3A7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CCAB8-0AC8-48A1-870B-7C10533E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B5F-3F5C-440B-BC71-AE8A8E7C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A7037-9794-4A19-A57E-646F957F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D2365-A0BE-4573-94EC-6B32E900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2BADA-53DC-4B22-8127-653FF127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76A58-7937-4020-841B-A21C0936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612F-8481-464C-B046-195C8368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650C8-4245-467E-962E-B167C8E2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BDD0E-90D3-4C5B-A508-5FEEC928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B9A08-DC36-4FA2-B418-2AC67423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CE192-E9F6-46ED-9D12-9924532F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07BB8-7629-4644-B09A-730575A7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7D9-BA06-4918-8D45-CE1024D1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7EBF8-32B3-412F-A568-C1F0B56B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70DC9-0D41-43EF-9125-91D5463C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2B6BC-D1F2-46FF-8C03-87E43000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B4A67-1915-4A28-8B62-E7309F1B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CCDCA-B555-48F8-A9CA-DE7070E6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12189-0283-410C-AB92-F9C46257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86F95-A7C3-41E2-B175-529005BC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E8593-B60C-4369-981D-9E3FDF6D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C5F4-8DB7-4D34-93A3-B37A21A4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E26A5-59E3-44BD-9D28-7C874481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CEC-139D-46B7-8C9B-D86EBD69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52FA0-12A9-47B8-B275-A4D4EBB4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9C273-E370-466F-9285-F27B77C0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EE8AA-1616-4AE8-BE23-C5C5853C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DFCB8-2455-46D1-9990-622B0D92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5DC22-BEE4-4C1B-BA81-01C202C4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FDDD9-80AD-4E45-803B-0034B072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D6A6-B696-4C16-A423-8B802D09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2FF41-D1D2-422D-95B4-52D5ECF4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88FB1-3D29-49B0-9EF4-8025EFA8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E59D4-486B-4C76-85CB-FF784B3B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AD1-0203-4151-9352-D982203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2785F-9129-4E77-8763-0D5D17E6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10B43-50B0-4952-AEAA-257C05BE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CAC7A-9AFD-4336-B175-3B8E8A75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15485-B31D-41BD-A7AE-A5DECF1D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51802-2AF5-422F-BEAD-14A40D67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EAF71-2AF5-4900-B0DF-2ECCB478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FA646-09A2-45AB-B5F4-5C731BF3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0E1E8-5AD8-4CA2-9C2D-78C94E82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3C9E3-F7C1-498D-8E96-E3F3A48B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164F9-B1CB-4CD7-A68E-4F12993F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3DA7D1F-7DB3-4522-AD5F-A12438E271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BE98E4-1FF2-438D-B706-178010AC34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5D34B2-D2F0-40E3-A017-25E87B42AD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54AAB2-71EE-49EE-80C2-E836EE3CC7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425989-FB27-4DA5-896B-FD496EA185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9C8E09-E945-482D-926F-389A578D62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873DC9-118C-481A-B330-A6C338AA21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78CBF3-F587-40CB-8A9C-0D7996A6ED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5AF0C6-F746-4E63-A946-9C27F14BBB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5A2C33-1672-44EA-B3C9-B381C36039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E43324-7869-4767-B762-C5AE8C0AE4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B0DC-36CF-4E96-B15A-702C403E5B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7F28AC-3CF3-437E-97EE-BA363F9C09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C5EA8D-A8C8-4971-A494-3F0DC8C7CB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7F5C9A-384E-460C-9B10-76687ABCC5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548227-A11B-47C0-B9B4-5679ADFA0F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69DFDE-3CC0-476A-BAAF-99697C88C7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902583-3A29-4947-8BC1-C19675F159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15707D-30CE-4B10-A9E1-B782A54DE7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5F68DD-2423-46BF-BF13-EC4A386690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537DCA-8C25-49D6-BE5C-3B5103DDBB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1A0001-F446-40EC-B645-CA4FAD39FC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58BA8C-ED3C-4F01-88D3-EB222C882B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3" descr=""/>
          <p:cNvPicPr/>
          <p:nvPr/>
        </p:nvPicPr>
        <p:blipFill>
          <a:blip r:embed="rId1"/>
          <a:stretch/>
        </p:blipFill>
        <p:spPr>
          <a:xfrm>
            <a:off x="-627120" y="627120"/>
            <a:ext cx="10510920" cy="5175360"/>
          </a:xfrm>
          <a:prstGeom prst="rect">
            <a:avLst/>
          </a:prstGeom>
          <a:ln w="0">
            <a:noFill/>
          </a:ln>
        </p:spPr>
      </p:pic>
      <p:sp>
        <p:nvSpPr>
          <p:cNvPr id="951" name="矩形 1"/>
          <p:cNvSpPr/>
          <p:nvPr/>
        </p:nvSpPr>
        <p:spPr>
          <a:xfrm>
            <a:off x="2506680" y="27288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推广方案通用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矩形 12"/>
          <p:cNvSpPr/>
          <p:nvPr/>
        </p:nvSpPr>
        <p:spPr>
          <a:xfrm>
            <a:off x="385560" y="45878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具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规模</a:t>
            </a: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楼盘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1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082" name="椭圆 14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圆角矩形 15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圆角矩形 16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圆角矩形 17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圆角矩形 18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圆角矩形 19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等腰三角形 21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0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091" name="矩形 3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矩形 24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3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佳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品质</a:t>
            </a: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楼盘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0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101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09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110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2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完美配套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120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8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129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1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超高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性价比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8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139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7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148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0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  <p:sp>
        <p:nvSpPr>
          <p:cNvPr id="1151" name="Text Box 8"/>
          <p:cNvSpPr/>
          <p:nvPr/>
        </p:nvSpPr>
        <p:spPr>
          <a:xfrm>
            <a:off x="322200" y="4792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2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23"/>
          <p:cNvSpPr/>
          <p:nvPr/>
        </p:nvSpPr>
        <p:spPr>
          <a:xfrm>
            <a:off x="469800" y="1781280"/>
            <a:ext cx="5612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具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升值潜力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8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159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7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168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0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矩形 9"/>
          <p:cNvSpPr/>
          <p:nvPr/>
        </p:nvSpPr>
        <p:spPr>
          <a:xfrm>
            <a:off x="0" y="2556000"/>
            <a:ext cx="9144000" cy="82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文本框 6"/>
          <p:cNvSpPr/>
          <p:nvPr/>
        </p:nvSpPr>
        <p:spPr>
          <a:xfrm>
            <a:off x="1995840" y="257040"/>
            <a:ext cx="17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找出</a:t>
            </a: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的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矩形 17"/>
          <p:cNvSpPr/>
          <p:nvPr/>
        </p:nvSpPr>
        <p:spPr>
          <a:xfrm>
            <a:off x="3697200" y="987480"/>
            <a:ext cx="54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品牌核心价值</a:t>
            </a:r>
            <a:r>
              <a:rPr b="0" lang="zh-CN" sz="2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（</a:t>
            </a: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VELUE</a:t>
            </a:r>
            <a:r>
              <a:rPr b="0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矩形 1"/>
          <p:cNvSpPr/>
          <p:nvPr/>
        </p:nvSpPr>
        <p:spPr>
          <a:xfrm>
            <a:off x="2389320" y="27068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兰亭特黑_GBK"/>
                <a:ea typeface="方正兰亭特黑_GBK"/>
              </a:rPr>
              <a:t>满足客户根本需求，才能掌握核心价值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矩形 7"/>
          <p:cNvSpPr/>
          <p:nvPr/>
        </p:nvSpPr>
        <p:spPr>
          <a:xfrm>
            <a:off x="3780000" y="1563840"/>
            <a:ext cx="5364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矩形 5"/>
          <p:cNvSpPr/>
          <p:nvPr/>
        </p:nvSpPr>
        <p:spPr>
          <a:xfrm>
            <a:off x="718560" y="933480"/>
            <a:ext cx="21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9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Box 10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客户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矩形 11"/>
          <p:cNvSpPr/>
          <p:nvPr/>
        </p:nvSpPr>
        <p:spPr>
          <a:xfrm>
            <a:off x="2065320" y="3244680"/>
            <a:ext cx="51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CLIE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圆角矩形 21"/>
          <p:cNvSpPr/>
          <p:nvPr/>
        </p:nvSpPr>
        <p:spPr>
          <a:xfrm>
            <a:off x="201600" y="2273400"/>
            <a:ext cx="8748720" cy="2065320"/>
          </a:xfrm>
          <a:prstGeom prst="roundRect">
            <a:avLst>
              <a:gd name="adj" fmla="val 29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1"/>
          <p:cNvSpPr/>
          <p:nvPr/>
        </p:nvSpPr>
        <p:spPr>
          <a:xfrm>
            <a:off x="31932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客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直接连接符 3"/>
          <p:cNvSpPr/>
          <p:nvPr/>
        </p:nvSpPr>
        <p:spPr>
          <a:xfrm>
            <a:off x="9572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文本框 6"/>
          <p:cNvSpPr/>
          <p:nvPr/>
        </p:nvSpPr>
        <p:spPr>
          <a:xfrm>
            <a:off x="1358640" y="2570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购房理由 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矩形 7"/>
          <p:cNvSpPr/>
          <p:nvPr/>
        </p:nvSpPr>
        <p:spPr>
          <a:xfrm>
            <a:off x="254160" y="1924200"/>
            <a:ext cx="8638920" cy="56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矩形 5"/>
          <p:cNvSpPr/>
          <p:nvPr/>
        </p:nvSpPr>
        <p:spPr>
          <a:xfrm>
            <a:off x="2868120" y="7714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客户问卷调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290520" y="2300400"/>
          <a:ext cx="8575560" cy="1890720"/>
        </p:xfrm>
        <a:graphic>
          <a:graphicData uri="http://schemas.openxmlformats.org/drawingml/2006/table">
            <a:tbl>
              <a:tblPr/>
              <a:tblGrid>
                <a:gridCol w="606240"/>
                <a:gridCol w="804960"/>
                <a:gridCol w="733680"/>
                <a:gridCol w="741240"/>
                <a:gridCol w="722160"/>
                <a:gridCol w="1413000"/>
                <a:gridCol w="882720"/>
                <a:gridCol w="639720"/>
                <a:gridCol w="677880"/>
                <a:gridCol w="655560"/>
                <a:gridCol w="698400"/>
              </a:tblGrid>
              <a:tr h="519120">
                <a:tc gridSpan="9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问题买房自住，主要是出于什么考虑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项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扩大住房面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子女准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父母养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自己养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有一个更好的社区自然环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有一个更好的社区生活配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上班方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孩子上学方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周末过去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人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所占比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9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文本框 1"/>
          <p:cNvSpPr/>
          <p:nvPr/>
        </p:nvSpPr>
        <p:spPr>
          <a:xfrm>
            <a:off x="31932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客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直接连接符 3"/>
          <p:cNvSpPr/>
          <p:nvPr/>
        </p:nvSpPr>
        <p:spPr>
          <a:xfrm>
            <a:off x="9572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文本框 6"/>
          <p:cNvSpPr/>
          <p:nvPr/>
        </p:nvSpPr>
        <p:spPr>
          <a:xfrm>
            <a:off x="1413360" y="257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客户说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矩形 7"/>
          <p:cNvSpPr/>
          <p:nvPr/>
        </p:nvSpPr>
        <p:spPr>
          <a:xfrm>
            <a:off x="3745080" y="1851120"/>
            <a:ext cx="5364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矩形 5"/>
          <p:cNvSpPr/>
          <p:nvPr/>
        </p:nvSpPr>
        <p:spPr>
          <a:xfrm>
            <a:off x="792360" y="700200"/>
            <a:ext cx="232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听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客户在说话</a:t>
            </a: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6"/>
          <p:cNvSpPr/>
          <p:nvPr/>
        </p:nvSpPr>
        <p:spPr>
          <a:xfrm>
            <a:off x="3924360" y="55548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对乡镇人群人性最根本的诉求追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当初为何想买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6" name="组合 1"/>
          <p:cNvGrpSpPr/>
          <p:nvPr/>
        </p:nvGrpSpPr>
        <p:grpSpPr>
          <a:xfrm>
            <a:off x="4510080" y="2689200"/>
            <a:ext cx="5027760" cy="1312920"/>
            <a:chOff x="4510080" y="2689200"/>
            <a:chExt cx="5027760" cy="1312920"/>
          </a:xfrm>
        </p:grpSpPr>
        <p:sp>
          <p:nvSpPr>
            <p:cNvPr id="1197" name="剪去单角的矩形 15"/>
            <p:cNvSpPr/>
            <p:nvPr/>
          </p:nvSpPr>
          <p:spPr>
            <a:xfrm flipH="1">
              <a:off x="5436360" y="2733480"/>
              <a:ext cx="3706920" cy="1257480"/>
            </a:xfrm>
            <a:custGeom>
              <a:avLst/>
              <a:gdLst/>
              <a:ahLst/>
              <a:rect l="l" t="t" r="r" b="b"/>
              <a:pathLst>
                <a:path w="3706813" h="1258299">
                  <a:moveTo>
                    <a:pt x="0" y="0"/>
                  </a:moveTo>
                  <a:lnTo>
                    <a:pt x="3407413" y="0"/>
                  </a:lnTo>
                  <a:lnTo>
                    <a:pt x="3706813" y="299400"/>
                  </a:lnTo>
                  <a:lnTo>
                    <a:pt x="3706813" y="1258299"/>
                  </a:lnTo>
                  <a:lnTo>
                    <a:pt x="0" y="1258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矩形 8"/>
            <p:cNvSpPr/>
            <p:nvPr/>
          </p:nvSpPr>
          <p:spPr>
            <a:xfrm>
              <a:off x="4510080" y="2689200"/>
              <a:ext cx="5027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客户不是单一的群体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必须抓住所有群体的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共性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9" name="矩形 12"/>
          <p:cNvSpPr/>
          <p:nvPr/>
        </p:nvSpPr>
        <p:spPr>
          <a:xfrm>
            <a:off x="471600" y="7108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在严重同质化的市场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我们必须给客户解答一个问题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0" name="Picture 14" descr=""/>
          <p:cNvPicPr/>
          <p:nvPr/>
        </p:nvPicPr>
        <p:blipFill>
          <a:blip r:embed="rId1"/>
          <a:stretch/>
        </p:blipFill>
        <p:spPr>
          <a:xfrm>
            <a:off x="230040" y="2287440"/>
            <a:ext cx="5154840" cy="266868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矩形 2"/>
          <p:cNvSpPr/>
          <p:nvPr/>
        </p:nvSpPr>
        <p:spPr>
          <a:xfrm>
            <a:off x="1619280" y="191448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——————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客户渴望加入他们，找到组织，加入</a:t>
            </a: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的生活符号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矩形 3"/>
          <p:cNvSpPr/>
          <p:nvPr/>
        </p:nvSpPr>
        <p:spPr>
          <a:xfrm>
            <a:off x="1631520" y="879480"/>
            <a:ext cx="438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这就是被归纳概括的</a:t>
            </a:r>
            <a:r>
              <a:rPr b="1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幸福的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直接连接符 5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文本框 6"/>
          <p:cNvSpPr/>
          <p:nvPr/>
        </p:nvSpPr>
        <p:spPr>
          <a:xfrm>
            <a:off x="18388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定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矩形 1"/>
          <p:cNvSpPr/>
          <p:nvPr/>
        </p:nvSpPr>
        <p:spPr>
          <a:xfrm>
            <a:off x="1578600" y="2868480"/>
            <a:ext cx="548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新</a:t>
            </a:r>
            <a:r>
              <a:rPr b="1" lang="en-US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xxxxxxx</a:t>
            </a:r>
            <a:r>
              <a:rPr b="1" lang="zh-CN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社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矩形 8"/>
          <p:cNvSpPr/>
          <p:nvPr/>
        </p:nvSpPr>
        <p:spPr>
          <a:xfrm>
            <a:off x="412920" y="2500200"/>
            <a:ext cx="799272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矩形 9"/>
          <p:cNvSpPr/>
          <p:nvPr/>
        </p:nvSpPr>
        <p:spPr>
          <a:xfrm>
            <a:off x="423720" y="4192560"/>
            <a:ext cx="799308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0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6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6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8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组合 1"/>
          <p:cNvGrpSpPr/>
          <p:nvPr/>
        </p:nvGrpSpPr>
        <p:grpSpPr>
          <a:xfrm>
            <a:off x="2252520" y="1606680"/>
            <a:ext cx="4608720" cy="1346400"/>
            <a:chOff x="2252520" y="1606680"/>
            <a:chExt cx="4608720" cy="1346400"/>
          </a:xfrm>
        </p:grpSpPr>
        <p:sp>
          <p:nvSpPr>
            <p:cNvPr id="954" name="Text Box 2"/>
            <p:cNvSpPr/>
            <p:nvPr/>
          </p:nvSpPr>
          <p:spPr>
            <a:xfrm>
              <a:off x="2252520" y="2225520"/>
              <a:ext cx="4608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定位提案 </a:t>
              </a:r>
              <a:r>
                <a:rPr b="0" lang="en-US" sz="18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&amp; 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广告推广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Text Box 3"/>
            <p:cNvSpPr/>
            <p:nvPr/>
          </p:nvSpPr>
          <p:spPr>
            <a:xfrm>
              <a:off x="2550960" y="2676600"/>
              <a:ext cx="40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Positioning proposal &amp; advertis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矩形 2"/>
            <p:cNvSpPr/>
            <p:nvPr/>
          </p:nvSpPr>
          <p:spPr>
            <a:xfrm>
              <a:off x="3701880" y="1606680"/>
              <a:ext cx="171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方正兰亭特黑_GBK"/>
                  <a:ea typeface="方正兰亭特黑_GBK"/>
                </a:rPr>
                <a:t>【</a:t>
              </a:r>
              <a:r>
                <a:rPr b="0" lang="en-US" sz="3200" spc="-1" strike="noStrike">
                  <a:solidFill>
                    <a:srgbClr val="000000"/>
                  </a:solidFill>
                  <a:latin typeface="方正兰亭特黑_GBK"/>
                  <a:ea typeface="方正兰亭特黑_GBK"/>
                </a:rPr>
                <a:t>xxxx</a:t>
              </a:r>
              <a:r>
                <a:rPr b="0" lang="en-US" sz="3200" spc="-1" strike="noStrike">
                  <a:solidFill>
                    <a:srgbClr val="000000"/>
                  </a:solidFill>
                  <a:latin typeface="方正兰亭特黑_GBK"/>
                  <a:ea typeface="方正兰亭特黑_GBK"/>
                </a:rPr>
                <a:t>】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7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TextBox 10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推广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矩形 11"/>
          <p:cNvSpPr/>
          <p:nvPr/>
        </p:nvSpPr>
        <p:spPr>
          <a:xfrm>
            <a:off x="600120" y="3305160"/>
            <a:ext cx="798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SPREA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矩形 5"/>
          <p:cNvSpPr/>
          <p:nvPr/>
        </p:nvSpPr>
        <p:spPr>
          <a:xfrm>
            <a:off x="1130760" y="843120"/>
            <a:ext cx="663156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一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你</a:t>
            </a:r>
            <a:r>
              <a:rPr b="1" lang="en-US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</a:t>
            </a:r>
            <a:r>
              <a:rPr b="1" lang="zh-CN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7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  <p:sp>
        <p:nvSpPr>
          <p:cNvPr id="1218" name="Text Box 8"/>
          <p:cNvSpPr/>
          <p:nvPr/>
        </p:nvSpPr>
        <p:spPr>
          <a:xfrm>
            <a:off x="322200" y="4792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矩形 5"/>
          <p:cNvSpPr/>
          <p:nvPr/>
        </p:nvSpPr>
        <p:spPr>
          <a:xfrm>
            <a:off x="1045800" y="700200"/>
            <a:ext cx="54475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二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</a:t>
            </a:r>
            <a:r>
              <a:rPr b="1" lang="en-US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XXXXX</a:t>
            </a: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矩形 5"/>
          <p:cNvSpPr/>
          <p:nvPr/>
        </p:nvSpPr>
        <p:spPr>
          <a:xfrm>
            <a:off x="1122480" y="700200"/>
            <a:ext cx="5904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三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我</a:t>
            </a:r>
            <a:r>
              <a:rPr b="1" lang="en-US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XXXXXX</a:t>
            </a: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8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9" name="组合 1"/>
          <p:cNvGrpSpPr/>
          <p:nvPr/>
        </p:nvGrpSpPr>
        <p:grpSpPr>
          <a:xfrm>
            <a:off x="1187280" y="1422360"/>
            <a:ext cx="8483760" cy="2293920"/>
            <a:chOff x="1187280" y="1422360"/>
            <a:chExt cx="8483760" cy="2293920"/>
          </a:xfrm>
        </p:grpSpPr>
        <p:sp>
          <p:nvSpPr>
            <p:cNvPr id="1230" name="圆角矩形 6"/>
            <p:cNvSpPr/>
            <p:nvPr/>
          </p:nvSpPr>
          <p:spPr>
            <a:xfrm>
              <a:off x="3419280" y="2360520"/>
              <a:ext cx="6251760" cy="32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31" name="Picture 12" descr=""/>
            <p:cNvPicPr/>
            <p:nvPr/>
          </p:nvPicPr>
          <p:blipFill>
            <a:blip r:embed="rId1"/>
            <a:stretch/>
          </p:blipFill>
          <p:spPr>
            <a:xfrm>
              <a:off x="1187280" y="1422360"/>
              <a:ext cx="2232360" cy="22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TextBox 8"/>
            <p:cNvSpPr/>
            <p:nvPr/>
          </p:nvSpPr>
          <p:spPr>
            <a:xfrm>
              <a:off x="3670200" y="1976400"/>
              <a:ext cx="453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5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Skycean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Box 1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市场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矩形 2"/>
          <p:cNvSpPr/>
          <p:nvPr/>
        </p:nvSpPr>
        <p:spPr>
          <a:xfrm>
            <a:off x="2065320" y="3244680"/>
            <a:ext cx="51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MARKE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市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6"/>
          <p:cNvSpPr/>
          <p:nvPr/>
        </p:nvSpPr>
        <p:spPr>
          <a:xfrm>
            <a:off x="1298880" y="2570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区位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3" name="组合 34"/>
          <p:cNvGrpSpPr/>
          <p:nvPr/>
        </p:nvGrpSpPr>
        <p:grpSpPr>
          <a:xfrm>
            <a:off x="1817640" y="700200"/>
            <a:ext cx="5256360" cy="3946320"/>
            <a:chOff x="1817640" y="700200"/>
            <a:chExt cx="5256360" cy="3946320"/>
          </a:xfrm>
        </p:grpSpPr>
        <p:pic>
          <p:nvPicPr>
            <p:cNvPr id="964" name="Picture 24" descr="夹江卫星地图"/>
            <p:cNvPicPr/>
            <p:nvPr/>
          </p:nvPicPr>
          <p:blipFill>
            <a:blip r:embed="rId1"/>
            <a:stretch/>
          </p:blipFill>
          <p:spPr>
            <a:xfrm>
              <a:off x="1817640" y="734040"/>
              <a:ext cx="5256360" cy="3912480"/>
            </a:xfrm>
            <a:prstGeom prst="rect">
              <a:avLst/>
            </a:prstGeom>
            <a:ln w="25560">
              <a:solidFill>
                <a:srgbClr val="c00000"/>
              </a:solidFill>
              <a:miter/>
            </a:ln>
          </p:spPr>
        </p:pic>
        <p:sp>
          <p:nvSpPr>
            <p:cNvPr id="965" name="椭圆 2"/>
            <p:cNvSpPr/>
            <p:nvPr/>
          </p:nvSpPr>
          <p:spPr>
            <a:xfrm>
              <a:off x="3159720" y="2165760"/>
              <a:ext cx="956520" cy="956160"/>
            </a:xfrm>
            <a:prstGeom prst="ellipse">
              <a:avLst/>
            </a:prstGeom>
            <a:solidFill>
              <a:srgbClr val="c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TextBox 3"/>
            <p:cNvSpPr/>
            <p:nvPr/>
          </p:nvSpPr>
          <p:spPr>
            <a:xfrm>
              <a:off x="3174480" y="2428560"/>
              <a:ext cx="1229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1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商业生活区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1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老城区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五角星 4"/>
            <p:cNvSpPr/>
            <p:nvPr/>
          </p:nvSpPr>
          <p:spPr>
            <a:xfrm>
              <a:off x="3506760" y="2846520"/>
              <a:ext cx="255600" cy="253800"/>
            </a:xfrm>
            <a:custGeom>
              <a:avLst/>
              <a:gdLst/>
              <a:ahLst/>
              <a:rect l="l" t="t" r="r" b="b"/>
              <a:pathLst>
                <a:path w="255605" h="254026">
                  <a:moveTo>
                    <a:pt x="0" y="97029"/>
                  </a:moveTo>
                  <a:lnTo>
                    <a:pt x="97633" y="97030"/>
                  </a:lnTo>
                  <a:lnTo>
                    <a:pt x="127803" y="0"/>
                  </a:lnTo>
                  <a:lnTo>
                    <a:pt x="157972" y="97030"/>
                  </a:lnTo>
                  <a:lnTo>
                    <a:pt x="255605" y="97029"/>
                  </a:lnTo>
                  <a:lnTo>
                    <a:pt x="176618" y="156996"/>
                  </a:lnTo>
                  <a:lnTo>
                    <a:pt x="206789" y="254025"/>
                  </a:lnTo>
                  <a:lnTo>
                    <a:pt x="127803" y="194057"/>
                  </a:lnTo>
                  <a:lnTo>
                    <a:pt x="48816" y="254025"/>
                  </a:lnTo>
                  <a:lnTo>
                    <a:pt x="78987" y="156996"/>
                  </a:lnTo>
                  <a:lnTo>
                    <a:pt x="0" y="970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椭圆 25"/>
            <p:cNvSpPr/>
            <p:nvPr/>
          </p:nvSpPr>
          <p:spPr>
            <a:xfrm>
              <a:off x="2792160" y="3061440"/>
              <a:ext cx="1530000" cy="1530000"/>
            </a:xfrm>
            <a:prstGeom prst="ellipse">
              <a:avLst/>
            </a:prstGeom>
            <a:solidFill>
              <a:srgbClr val="00b0f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椭圆 26"/>
            <p:cNvSpPr/>
            <p:nvPr/>
          </p:nvSpPr>
          <p:spPr>
            <a:xfrm>
              <a:off x="4594320" y="2439720"/>
              <a:ext cx="1083240" cy="108288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椭圆 27"/>
            <p:cNvSpPr/>
            <p:nvPr/>
          </p:nvSpPr>
          <p:spPr>
            <a:xfrm>
              <a:off x="5202000" y="2922840"/>
              <a:ext cx="1440000" cy="144000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椭圆 28"/>
            <p:cNvSpPr/>
            <p:nvPr/>
          </p:nvSpPr>
          <p:spPr>
            <a:xfrm>
              <a:off x="4464720" y="1093320"/>
              <a:ext cx="1123920" cy="112392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椭圆 29"/>
            <p:cNvSpPr/>
            <p:nvPr/>
          </p:nvSpPr>
          <p:spPr>
            <a:xfrm>
              <a:off x="5513400" y="700200"/>
              <a:ext cx="1041840" cy="104184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泪滴形 8"/>
            <p:cNvSpPr/>
            <p:nvPr/>
          </p:nvSpPr>
          <p:spPr>
            <a:xfrm rot="7954800">
              <a:off x="4045320" y="1973880"/>
              <a:ext cx="141120" cy="139680"/>
            </a:xfrm>
            <a:custGeom>
              <a:avLst/>
              <a:gdLst/>
              <a:ahLst/>
              <a:rect l="l" t="t" r="r" b="b"/>
              <a:pathLst>
                <a:path w="141301" h="139710">
                  <a:moveTo>
                    <a:pt x="0" y="69855"/>
                  </a:moveTo>
                  <a:cubicBezTo>
                    <a:pt x="0" y="31275"/>
                    <a:pt x="31632" y="0"/>
                    <a:pt x="70651" y="0"/>
                  </a:cubicBezTo>
                  <a:cubicBezTo>
                    <a:pt x="111157" y="0"/>
                    <a:pt x="151663" y="-16765"/>
                    <a:pt x="192169" y="-50296"/>
                  </a:cubicBezTo>
                  <a:cubicBezTo>
                    <a:pt x="158257" y="-10245"/>
                    <a:pt x="141301" y="29805"/>
                    <a:pt x="141301" y="69855"/>
                  </a:cubicBezTo>
                  <a:cubicBezTo>
                    <a:pt x="141301" y="108435"/>
                    <a:pt x="109669" y="139710"/>
                    <a:pt x="70650" y="139710"/>
                  </a:cubicBezTo>
                  <a:cubicBezTo>
                    <a:pt x="31631" y="139710"/>
                    <a:pt x="-1" y="108435"/>
                    <a:pt x="-1" y="69855"/>
                  </a:cubicBezTo>
                  <a:lnTo>
                    <a:pt x="0" y="698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泪滴形 30"/>
            <p:cNvSpPr/>
            <p:nvPr/>
          </p:nvSpPr>
          <p:spPr>
            <a:xfrm rot="7954800">
              <a:off x="4260960" y="357156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2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8" y="0"/>
                    <a:pt x="151664" y="-16956"/>
                    <a:pt x="192171" y="-50867"/>
                  </a:cubicBezTo>
                  <a:cubicBezTo>
                    <a:pt x="158258" y="-10362"/>
                    <a:pt x="141302" y="30144"/>
                    <a:pt x="141302" y="70649"/>
                  </a:cubicBezTo>
                  <a:cubicBezTo>
                    <a:pt x="141302" y="109667"/>
                    <a:pt x="109670" y="141298"/>
                    <a:pt x="70651" y="141298"/>
                  </a:cubicBezTo>
                  <a:cubicBezTo>
                    <a:pt x="31632" y="141298"/>
                    <a:pt x="0" y="109667"/>
                    <a:pt x="0" y="706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泪滴形 31"/>
            <p:cNvSpPr/>
            <p:nvPr/>
          </p:nvSpPr>
          <p:spPr>
            <a:xfrm rot="7954800">
              <a:off x="4413240" y="308736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1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7" y="0"/>
                    <a:pt x="151663" y="-16956"/>
                    <a:pt x="192169" y="-50867"/>
                  </a:cubicBezTo>
                  <a:cubicBezTo>
                    <a:pt x="158257" y="-10362"/>
                    <a:pt x="141301" y="30144"/>
                    <a:pt x="141301" y="70649"/>
                  </a:cubicBezTo>
                  <a:cubicBezTo>
                    <a:pt x="141301" y="109667"/>
                    <a:pt x="109669" y="141298"/>
                    <a:pt x="70650" y="141298"/>
                  </a:cubicBezTo>
                  <a:cubicBezTo>
                    <a:pt x="31631" y="141298"/>
                    <a:pt x="-1" y="109667"/>
                    <a:pt x="-1" y="70649"/>
                  </a:cubicBezTo>
                  <a:lnTo>
                    <a:pt x="0" y="706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泪滴形 32"/>
            <p:cNvSpPr/>
            <p:nvPr/>
          </p:nvSpPr>
          <p:spPr>
            <a:xfrm rot="7954800">
              <a:off x="3463920" y="429228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2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8" y="0"/>
                    <a:pt x="151664" y="-16956"/>
                    <a:pt x="192171" y="-50867"/>
                  </a:cubicBezTo>
                  <a:cubicBezTo>
                    <a:pt x="158258" y="-10362"/>
                    <a:pt x="141302" y="30144"/>
                    <a:pt x="141302" y="70649"/>
                  </a:cubicBezTo>
                  <a:cubicBezTo>
                    <a:pt x="141302" y="109667"/>
                    <a:pt x="109670" y="141298"/>
                    <a:pt x="70651" y="141298"/>
                  </a:cubicBezTo>
                  <a:cubicBezTo>
                    <a:pt x="31632" y="141298"/>
                    <a:pt x="0" y="109667"/>
                    <a:pt x="0" y="706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泪滴形 33"/>
            <p:cNvSpPr/>
            <p:nvPr/>
          </p:nvSpPr>
          <p:spPr>
            <a:xfrm rot="7954800">
              <a:off x="4739400" y="2648520"/>
              <a:ext cx="141120" cy="139680"/>
            </a:xfrm>
            <a:custGeom>
              <a:avLst/>
              <a:gdLst/>
              <a:ahLst/>
              <a:rect l="l" t="t" r="r" b="b"/>
              <a:pathLst>
                <a:path w="141302" h="139710">
                  <a:moveTo>
                    <a:pt x="0" y="69855"/>
                  </a:moveTo>
                  <a:cubicBezTo>
                    <a:pt x="0" y="31275"/>
                    <a:pt x="31632" y="0"/>
                    <a:pt x="70651" y="0"/>
                  </a:cubicBezTo>
                  <a:cubicBezTo>
                    <a:pt x="111158" y="0"/>
                    <a:pt x="151664" y="-16765"/>
                    <a:pt x="192171" y="-50296"/>
                  </a:cubicBezTo>
                  <a:cubicBezTo>
                    <a:pt x="158258" y="-10245"/>
                    <a:pt x="141302" y="29805"/>
                    <a:pt x="141302" y="69855"/>
                  </a:cubicBezTo>
                  <a:cubicBezTo>
                    <a:pt x="141302" y="108435"/>
                    <a:pt x="109670" y="139710"/>
                    <a:pt x="70651" y="139710"/>
                  </a:cubicBezTo>
                  <a:cubicBezTo>
                    <a:pt x="31632" y="139710"/>
                    <a:pt x="0" y="108435"/>
                    <a:pt x="0" y="698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8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矩形 9"/>
          <p:cNvSpPr/>
          <p:nvPr/>
        </p:nvSpPr>
        <p:spPr>
          <a:xfrm>
            <a:off x="-23760" y="2860560"/>
            <a:ext cx="9167760" cy="1079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需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直接连接符 3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6"/>
          <p:cNvSpPr/>
          <p:nvPr/>
        </p:nvSpPr>
        <p:spPr>
          <a:xfrm>
            <a:off x="133704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品牌愿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1"/>
          <p:cNvSpPr/>
          <p:nvPr/>
        </p:nvSpPr>
        <p:spPr>
          <a:xfrm>
            <a:off x="309600" y="3024360"/>
            <a:ext cx="83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打造“不走寻常路”的品牌风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矩形 5"/>
          <p:cNvSpPr/>
          <p:nvPr/>
        </p:nvSpPr>
        <p:spPr>
          <a:xfrm>
            <a:off x="700200" y="1203480"/>
            <a:ext cx="850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    </a:t>
            </a: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我们需要的是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什么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矩形 7"/>
          <p:cNvSpPr/>
          <p:nvPr/>
        </p:nvSpPr>
        <p:spPr>
          <a:xfrm>
            <a:off x="531720" y="3506760"/>
            <a:ext cx="5985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矩形 8"/>
          <p:cNvSpPr/>
          <p:nvPr/>
        </p:nvSpPr>
        <p:spPr>
          <a:xfrm>
            <a:off x="684360" y="3003480"/>
            <a:ext cx="4270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6"/>
          <p:cNvSpPr/>
          <p:nvPr/>
        </p:nvSpPr>
        <p:spPr>
          <a:xfrm>
            <a:off x="1147680" y="257040"/>
            <a:ext cx="41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重心在何方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矩形 2"/>
          <p:cNvSpPr/>
          <p:nvPr/>
        </p:nvSpPr>
        <p:spPr>
          <a:xfrm>
            <a:off x="393840" y="1919160"/>
            <a:ext cx="439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感染力、号召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崭新推广语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触动人心的感性表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客户思维的导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矩形 3"/>
          <p:cNvSpPr/>
          <p:nvPr/>
        </p:nvSpPr>
        <p:spPr>
          <a:xfrm>
            <a:off x="1370880" y="971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推广重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矩形 23"/>
          <p:cNvSpPr/>
          <p:nvPr/>
        </p:nvSpPr>
        <p:spPr>
          <a:xfrm>
            <a:off x="3276720" y="1203480"/>
            <a:ext cx="58608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矩形 25"/>
          <p:cNvSpPr/>
          <p:nvPr/>
        </p:nvSpPr>
        <p:spPr>
          <a:xfrm>
            <a:off x="6480" y="1203480"/>
            <a:ext cx="792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5" name="组合 1"/>
          <p:cNvGrpSpPr/>
          <p:nvPr/>
        </p:nvGrpSpPr>
        <p:grpSpPr>
          <a:xfrm>
            <a:off x="5219640" y="2066760"/>
            <a:ext cx="4125960" cy="1930680"/>
            <a:chOff x="5219640" y="2066760"/>
            <a:chExt cx="4125960" cy="1930680"/>
          </a:xfrm>
        </p:grpSpPr>
        <p:grpSp>
          <p:nvGrpSpPr>
            <p:cNvPr id="996" name="组合 32"/>
            <p:cNvGrpSpPr/>
            <p:nvPr/>
          </p:nvGrpSpPr>
          <p:grpSpPr>
            <a:xfrm>
              <a:off x="5724360" y="2153160"/>
              <a:ext cx="3621240" cy="1676880"/>
              <a:chOff x="5724360" y="2153160"/>
              <a:chExt cx="3621240" cy="1676880"/>
            </a:xfrm>
          </p:grpSpPr>
          <p:sp>
            <p:nvSpPr>
              <p:cNvPr id="997" name="剪去单角的矩形 29"/>
              <p:cNvSpPr/>
              <p:nvPr/>
            </p:nvSpPr>
            <p:spPr>
              <a:xfrm>
                <a:off x="5724360" y="2153160"/>
                <a:ext cx="3240360" cy="1676880"/>
              </a:xfrm>
              <a:custGeom>
                <a:avLst/>
                <a:gdLst/>
                <a:ahLst/>
                <a:rect l="l" t="t" r="r" b="b"/>
                <a:pathLst>
                  <a:path w="3241107" h="1677083">
                    <a:moveTo>
                      <a:pt x="0" y="0"/>
                    </a:moveTo>
                    <a:lnTo>
                      <a:pt x="2758375" y="0"/>
                    </a:lnTo>
                    <a:lnTo>
                      <a:pt x="3241107" y="482732"/>
                    </a:lnTo>
                    <a:lnTo>
                      <a:pt x="3241107" y="1677083"/>
                    </a:lnTo>
                    <a:lnTo>
                      <a:pt x="0" y="16770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矩形 4"/>
              <p:cNvSpPr/>
              <p:nvPr/>
            </p:nvSpPr>
            <p:spPr>
              <a:xfrm>
                <a:off x="5925600" y="2329200"/>
                <a:ext cx="34200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方正兰亭纤黑_GBK"/>
                    <a:ea typeface="方正兰亭纤黑_GBK"/>
                  </a:rPr>
                  <a:t>不走寻常路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方正兰亭纤黑_GBK"/>
                    <a:ea typeface="方正兰亭纤黑_GBK"/>
                  </a:rPr>
                  <a:t>  </a:t>
                </a:r>
                <a:r>
                  <a:rPr b="0" lang="zh-CN" sz="40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品牌风格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9" name="直接连接符 26"/>
            <p:cNvSpPr/>
            <p:nvPr/>
          </p:nvSpPr>
          <p:spPr>
            <a:xfrm>
              <a:off x="5219640" y="2066760"/>
              <a:ext cx="0" cy="1930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0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8"/>
          <p:cNvSpPr/>
          <p:nvPr/>
        </p:nvSpPr>
        <p:spPr>
          <a:xfrm>
            <a:off x="322200" y="4792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文本框 6"/>
          <p:cNvSpPr/>
          <p:nvPr/>
        </p:nvSpPr>
        <p:spPr>
          <a:xfrm>
            <a:off x="1147680" y="257040"/>
            <a:ext cx="41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重心在何方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矩形 3"/>
          <p:cNvSpPr/>
          <p:nvPr/>
        </p:nvSpPr>
        <p:spPr>
          <a:xfrm>
            <a:off x="1370880" y="971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推广重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矩形 23"/>
          <p:cNvSpPr/>
          <p:nvPr/>
        </p:nvSpPr>
        <p:spPr>
          <a:xfrm>
            <a:off x="3276720" y="1203480"/>
            <a:ext cx="58608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矩形 25"/>
          <p:cNvSpPr/>
          <p:nvPr/>
        </p:nvSpPr>
        <p:spPr>
          <a:xfrm>
            <a:off x="6480" y="1203480"/>
            <a:ext cx="792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8" name="Picture 15" descr="http://img.ea3w.com/165_500x375/164103.jpg"/>
          <p:cNvPicPr/>
          <p:nvPr/>
        </p:nvPicPr>
        <p:blipFill>
          <a:blip r:embed="rId1"/>
          <a:stretch/>
        </p:blipFill>
        <p:spPr>
          <a:xfrm>
            <a:off x="6084720" y="2021040"/>
            <a:ext cx="2533680" cy="19000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1009" name="Picture 17" descr="http://i1.cvimage.cn/c/thump/2010/06/24/9b2f8af42363e4df466a9eb69e4fc811_3__337_100.jpg"/>
          <p:cNvPicPr/>
          <p:nvPr/>
        </p:nvPicPr>
        <p:blipFill>
          <a:blip r:embed="rId2"/>
          <a:srcRect l="-729" t="0" r="740" b="22086"/>
          <a:stretch/>
        </p:blipFill>
        <p:spPr>
          <a:xfrm>
            <a:off x="252360" y="1995480"/>
            <a:ext cx="2340000" cy="19368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1010" name="Picture 2" descr="http://www.cuec.net.cn/uploadfiles/201022714142594878.jpg"/>
          <p:cNvPicPr/>
          <p:nvPr/>
        </p:nvPicPr>
        <p:blipFill>
          <a:blip r:embed="rId3"/>
          <a:stretch/>
        </p:blipFill>
        <p:spPr>
          <a:xfrm>
            <a:off x="3059280" y="2009880"/>
            <a:ext cx="2535120" cy="19224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1011" name="Picture 7" descr=""/>
          <p:cNvPicPr/>
          <p:nvPr/>
        </p:nvPicPr>
        <p:blipFill>
          <a:blip r:embed="rId4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12"/>
          <p:cNvSpPr/>
          <p:nvPr/>
        </p:nvSpPr>
        <p:spPr>
          <a:xfrm>
            <a:off x="-36360" y="1695600"/>
            <a:ext cx="532908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直接连接符 3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6"/>
          <p:cNvSpPr/>
          <p:nvPr/>
        </p:nvSpPr>
        <p:spPr>
          <a:xfrm>
            <a:off x="1954080" y="2570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如何打造“不走寻常路”的品牌风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539640" y="949320"/>
            <a:ext cx="850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How</a:t>
            </a: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to do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13"/>
          <p:cNvSpPr/>
          <p:nvPr/>
        </p:nvSpPr>
        <p:spPr>
          <a:xfrm>
            <a:off x="5619240" y="48420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15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矩形 14"/>
          <p:cNvSpPr/>
          <p:nvPr/>
        </p:nvSpPr>
        <p:spPr>
          <a:xfrm>
            <a:off x="6465960" y="1695600"/>
            <a:ext cx="271440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9" name="组合 6"/>
          <p:cNvGrpSpPr/>
          <p:nvPr/>
        </p:nvGrpSpPr>
        <p:grpSpPr>
          <a:xfrm>
            <a:off x="-11160" y="2054160"/>
            <a:ext cx="8753400" cy="3240000"/>
            <a:chOff x="-11160" y="2054160"/>
            <a:chExt cx="8753400" cy="3240000"/>
          </a:xfrm>
        </p:grpSpPr>
        <p:sp>
          <p:nvSpPr>
            <p:cNvPr id="1020" name="矩形 7"/>
            <p:cNvSpPr/>
            <p:nvPr/>
          </p:nvSpPr>
          <p:spPr>
            <a:xfrm>
              <a:off x="393120" y="3456000"/>
              <a:ext cx="44596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矩形 8"/>
            <p:cNvSpPr/>
            <p:nvPr/>
          </p:nvSpPr>
          <p:spPr>
            <a:xfrm>
              <a:off x="506880" y="3149640"/>
              <a:ext cx="3182040" cy="74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2" name="组合 1"/>
            <p:cNvGrpSpPr/>
            <p:nvPr/>
          </p:nvGrpSpPr>
          <p:grpSpPr>
            <a:xfrm>
              <a:off x="-11160" y="2440080"/>
              <a:ext cx="5665320" cy="2653560"/>
              <a:chOff x="-11160" y="2440080"/>
              <a:chExt cx="5665320" cy="2653560"/>
            </a:xfrm>
          </p:grpSpPr>
          <p:sp>
            <p:nvSpPr>
              <p:cNvPr id="1023" name="矩形 15"/>
              <p:cNvSpPr/>
              <p:nvPr/>
            </p:nvSpPr>
            <p:spPr>
              <a:xfrm>
                <a:off x="-11160" y="2523960"/>
                <a:ext cx="5469120" cy="1518840"/>
              </a:xfrm>
              <a:custGeom>
                <a:avLst/>
                <a:gdLst/>
                <a:ahLst/>
                <a:rect l="l" t="t" r="r" b="b"/>
                <a:pathLst>
                  <a:path w="7339012" h="2267556">
                    <a:moveTo>
                      <a:pt x="0" y="12700"/>
                    </a:moveTo>
                    <a:lnTo>
                      <a:pt x="5967412" y="0"/>
                    </a:lnTo>
                    <a:lnTo>
                      <a:pt x="7339012" y="2267556"/>
                    </a:lnTo>
                    <a:lnTo>
                      <a:pt x="0" y="2267556"/>
                    </a:lnTo>
                    <a:lnTo>
                      <a:pt x="0" y="1270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矩形 10"/>
              <p:cNvSpPr/>
              <p:nvPr/>
            </p:nvSpPr>
            <p:spPr>
              <a:xfrm>
                <a:off x="77400" y="2440080"/>
                <a:ext cx="557676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个品牌核心价值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VELUE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 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句核心传播语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SLOGEN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	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    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个具延展性的画面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IMAGE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25" name="矩形 16" descr=""/>
            <p:cNvPicPr/>
            <p:nvPr/>
          </p:nvPicPr>
          <p:blipFill>
            <a:blip r:embed="rId1"/>
            <a:stretch/>
          </p:blipFill>
          <p:spPr>
            <a:xfrm>
              <a:off x="4590000" y="2054160"/>
              <a:ext cx="4152240" cy="32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6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6"/>
          <p:cNvSpPr/>
          <p:nvPr/>
        </p:nvSpPr>
        <p:spPr>
          <a:xfrm>
            <a:off x="2121480" y="2570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品牌核心价值在哪里 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0" name="组合 14"/>
          <p:cNvGrpSpPr/>
          <p:nvPr/>
        </p:nvGrpSpPr>
        <p:grpSpPr>
          <a:xfrm>
            <a:off x="1212840" y="874800"/>
            <a:ext cx="1359000" cy="1301760"/>
            <a:chOff x="1212840" y="874800"/>
            <a:chExt cx="1359000" cy="1301760"/>
          </a:xfrm>
        </p:grpSpPr>
        <p:sp>
          <p:nvSpPr>
            <p:cNvPr id="1031" name="椭圆 13"/>
            <p:cNvSpPr/>
            <p:nvPr/>
          </p:nvSpPr>
          <p:spPr>
            <a:xfrm>
              <a:off x="1232640" y="87480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矩形 9"/>
            <p:cNvSpPr/>
            <p:nvPr/>
          </p:nvSpPr>
          <p:spPr>
            <a:xfrm>
              <a:off x="1212840" y="1090080"/>
              <a:ext cx="135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高度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差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3" name="组合 2047"/>
          <p:cNvGrpSpPr/>
          <p:nvPr/>
        </p:nvGrpSpPr>
        <p:grpSpPr>
          <a:xfrm>
            <a:off x="4834080" y="871560"/>
            <a:ext cx="1301760" cy="1300320"/>
            <a:chOff x="4834080" y="871560"/>
            <a:chExt cx="1301760" cy="1300320"/>
          </a:xfrm>
        </p:grpSpPr>
        <p:sp>
          <p:nvSpPr>
            <p:cNvPr id="1034" name="椭圆 27"/>
            <p:cNvSpPr/>
            <p:nvPr/>
          </p:nvSpPr>
          <p:spPr>
            <a:xfrm>
              <a:off x="4834080" y="871560"/>
              <a:ext cx="1301760" cy="130032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矩形 6"/>
            <p:cNvSpPr/>
            <p:nvPr/>
          </p:nvSpPr>
          <p:spPr>
            <a:xfrm>
              <a:off x="5019480" y="107748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广阔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包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6" name="组合 15"/>
          <p:cNvGrpSpPr/>
          <p:nvPr/>
        </p:nvGrpSpPr>
        <p:grpSpPr>
          <a:xfrm>
            <a:off x="6597720" y="900000"/>
            <a:ext cx="1301760" cy="1301760"/>
            <a:chOff x="6597720" y="900000"/>
            <a:chExt cx="1301760" cy="1301760"/>
          </a:xfrm>
        </p:grpSpPr>
        <p:sp>
          <p:nvSpPr>
            <p:cNvPr id="1037" name="椭圆 30"/>
            <p:cNvSpPr/>
            <p:nvPr/>
          </p:nvSpPr>
          <p:spPr>
            <a:xfrm>
              <a:off x="6597720" y="90000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矩形 7"/>
            <p:cNvSpPr/>
            <p:nvPr/>
          </p:nvSpPr>
          <p:spPr>
            <a:xfrm>
              <a:off x="6786000" y="108468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强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感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2048"/>
          <p:cNvGrpSpPr/>
          <p:nvPr/>
        </p:nvGrpSpPr>
        <p:grpSpPr>
          <a:xfrm>
            <a:off x="3019320" y="868320"/>
            <a:ext cx="1301760" cy="1301760"/>
            <a:chOff x="3019320" y="868320"/>
            <a:chExt cx="1301760" cy="1301760"/>
          </a:xfrm>
        </p:grpSpPr>
        <p:sp>
          <p:nvSpPr>
            <p:cNvPr id="1040" name="椭圆 28"/>
            <p:cNvSpPr/>
            <p:nvPr/>
          </p:nvSpPr>
          <p:spPr>
            <a:xfrm>
              <a:off x="3019320" y="86832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矩形 5"/>
            <p:cNvSpPr/>
            <p:nvPr/>
          </p:nvSpPr>
          <p:spPr>
            <a:xfrm>
              <a:off x="3228480" y="108540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产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匹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2" name="空心弧 2049"/>
          <p:cNvGrpSpPr/>
          <p:nvPr/>
        </p:nvGrpSpPr>
        <p:grpSpPr>
          <a:xfrm>
            <a:off x="2859120" y="2955960"/>
            <a:ext cx="3413160" cy="1744560"/>
            <a:chOff x="2859120" y="2955960"/>
            <a:chExt cx="3413160" cy="1744560"/>
          </a:xfrm>
        </p:grpSpPr>
        <p:pic>
          <p:nvPicPr>
            <p:cNvPr id="1043" name="空心弧 2049" descr=""/>
            <p:cNvPicPr/>
            <p:nvPr/>
          </p:nvPicPr>
          <p:blipFill>
            <a:blip r:embed="rId1"/>
            <a:stretch/>
          </p:blipFill>
          <p:spPr>
            <a:xfrm>
              <a:off x="2859120" y="2955960"/>
              <a:ext cx="34131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>
              <a:off x="2886120" y="2989440"/>
              <a:ext cx="335592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5" name="组合 2055"/>
          <p:cNvGrpSpPr/>
          <p:nvPr/>
        </p:nvGrpSpPr>
        <p:grpSpPr>
          <a:xfrm>
            <a:off x="2771640" y="3922560"/>
            <a:ext cx="449280" cy="449280"/>
            <a:chOff x="2771640" y="3922560"/>
            <a:chExt cx="449280" cy="449280"/>
          </a:xfrm>
        </p:grpSpPr>
        <p:grpSp>
          <p:nvGrpSpPr>
            <p:cNvPr id="1046" name="组合 2053"/>
            <p:cNvGrpSpPr/>
            <p:nvPr/>
          </p:nvGrpSpPr>
          <p:grpSpPr>
            <a:xfrm>
              <a:off x="2771640" y="3922560"/>
              <a:ext cx="449280" cy="449280"/>
              <a:chOff x="2771640" y="3922560"/>
              <a:chExt cx="449280" cy="449280"/>
            </a:xfrm>
          </p:grpSpPr>
          <p:sp>
            <p:nvSpPr>
              <p:cNvPr id="1047" name="椭圆 2052"/>
              <p:cNvSpPr/>
              <p:nvPr/>
            </p:nvSpPr>
            <p:spPr>
              <a:xfrm>
                <a:off x="2784960" y="3944880"/>
                <a:ext cx="422280" cy="42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同心圆 2051"/>
              <p:cNvSpPr/>
              <p:nvPr/>
            </p:nvSpPr>
            <p:spPr>
              <a:xfrm>
                <a:off x="2771640" y="392256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49" name="TextBox 2054"/>
            <p:cNvSpPr/>
            <p:nvPr/>
          </p:nvSpPr>
          <p:spPr>
            <a:xfrm>
              <a:off x="2820960" y="398160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0" name="组合 41"/>
          <p:cNvGrpSpPr/>
          <p:nvPr/>
        </p:nvGrpSpPr>
        <p:grpSpPr>
          <a:xfrm>
            <a:off x="3736800" y="2903400"/>
            <a:ext cx="449280" cy="451080"/>
            <a:chOff x="3736800" y="2903400"/>
            <a:chExt cx="449280" cy="451080"/>
          </a:xfrm>
        </p:grpSpPr>
        <p:grpSp>
          <p:nvGrpSpPr>
            <p:cNvPr id="1051" name="组合 42"/>
            <p:cNvGrpSpPr/>
            <p:nvPr/>
          </p:nvGrpSpPr>
          <p:grpSpPr>
            <a:xfrm>
              <a:off x="3736800" y="2903400"/>
              <a:ext cx="449280" cy="451080"/>
              <a:chOff x="3736800" y="2903400"/>
              <a:chExt cx="449280" cy="451080"/>
            </a:xfrm>
          </p:grpSpPr>
          <p:sp>
            <p:nvSpPr>
              <p:cNvPr id="1052" name="椭圆 44"/>
              <p:cNvSpPr/>
              <p:nvPr/>
            </p:nvSpPr>
            <p:spPr>
              <a:xfrm>
                <a:off x="3750120" y="2921040"/>
                <a:ext cx="422280" cy="4240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同心圆 45"/>
              <p:cNvSpPr/>
              <p:nvPr/>
            </p:nvSpPr>
            <p:spPr>
              <a:xfrm>
                <a:off x="3736800" y="2903400"/>
                <a:ext cx="449280" cy="4510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4" name="TextBox 43"/>
            <p:cNvSpPr/>
            <p:nvPr/>
          </p:nvSpPr>
          <p:spPr>
            <a:xfrm>
              <a:off x="3786120" y="296280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46"/>
          <p:cNvGrpSpPr/>
          <p:nvPr/>
        </p:nvGrpSpPr>
        <p:grpSpPr>
          <a:xfrm>
            <a:off x="5000760" y="2903400"/>
            <a:ext cx="450720" cy="451080"/>
            <a:chOff x="5000760" y="2903400"/>
            <a:chExt cx="450720" cy="451080"/>
          </a:xfrm>
        </p:grpSpPr>
        <p:grpSp>
          <p:nvGrpSpPr>
            <p:cNvPr id="1056" name="组合 47"/>
            <p:cNvGrpSpPr/>
            <p:nvPr/>
          </p:nvGrpSpPr>
          <p:grpSpPr>
            <a:xfrm>
              <a:off x="5000760" y="2903400"/>
              <a:ext cx="450720" cy="451080"/>
              <a:chOff x="5000760" y="2903400"/>
              <a:chExt cx="450720" cy="451080"/>
            </a:xfrm>
          </p:grpSpPr>
          <p:sp>
            <p:nvSpPr>
              <p:cNvPr id="1057" name="椭圆 49"/>
              <p:cNvSpPr/>
              <p:nvPr/>
            </p:nvSpPr>
            <p:spPr>
              <a:xfrm>
                <a:off x="5014080" y="2921040"/>
                <a:ext cx="423720" cy="4240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同心圆 50"/>
              <p:cNvSpPr/>
              <p:nvPr/>
            </p:nvSpPr>
            <p:spPr>
              <a:xfrm>
                <a:off x="5000760" y="2903400"/>
                <a:ext cx="450720" cy="4510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9" name="TextBox 48"/>
            <p:cNvSpPr/>
            <p:nvPr/>
          </p:nvSpPr>
          <p:spPr>
            <a:xfrm>
              <a:off x="5039280" y="2962800"/>
              <a:ext cx="2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51"/>
          <p:cNvGrpSpPr/>
          <p:nvPr/>
        </p:nvGrpSpPr>
        <p:grpSpPr>
          <a:xfrm>
            <a:off x="5878440" y="3878280"/>
            <a:ext cx="451080" cy="450720"/>
            <a:chOff x="5878440" y="3878280"/>
            <a:chExt cx="451080" cy="450720"/>
          </a:xfrm>
        </p:grpSpPr>
        <p:grpSp>
          <p:nvGrpSpPr>
            <p:cNvPr id="1061" name="组合 52"/>
            <p:cNvGrpSpPr/>
            <p:nvPr/>
          </p:nvGrpSpPr>
          <p:grpSpPr>
            <a:xfrm>
              <a:off x="5878440" y="3878280"/>
              <a:ext cx="451080" cy="450720"/>
              <a:chOff x="5878440" y="3878280"/>
              <a:chExt cx="451080" cy="450720"/>
            </a:xfrm>
          </p:grpSpPr>
          <p:sp>
            <p:nvSpPr>
              <p:cNvPr id="1062" name="椭圆 54"/>
              <p:cNvSpPr/>
              <p:nvPr/>
            </p:nvSpPr>
            <p:spPr>
              <a:xfrm>
                <a:off x="5885640" y="3894480"/>
                <a:ext cx="424080" cy="42372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同心圆 55"/>
              <p:cNvSpPr/>
              <p:nvPr/>
            </p:nvSpPr>
            <p:spPr>
              <a:xfrm>
                <a:off x="5878440" y="3878280"/>
                <a:ext cx="451080" cy="45072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4" name="TextBox 53"/>
            <p:cNvSpPr/>
            <p:nvPr/>
          </p:nvSpPr>
          <p:spPr>
            <a:xfrm>
              <a:off x="5916960" y="3937680"/>
              <a:ext cx="2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5" name="直接连接符 2058"/>
          <p:cNvSpPr/>
          <p:nvPr/>
        </p:nvSpPr>
        <p:spPr>
          <a:xfrm>
            <a:off x="1874880" y="2301840"/>
            <a:ext cx="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直接连接符 60"/>
          <p:cNvSpPr/>
          <p:nvPr/>
        </p:nvSpPr>
        <p:spPr>
          <a:xfrm>
            <a:off x="3699000" y="2293920"/>
            <a:ext cx="0" cy="3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直接连接符 64"/>
          <p:cNvSpPr/>
          <p:nvPr/>
        </p:nvSpPr>
        <p:spPr>
          <a:xfrm>
            <a:off x="5477040" y="229392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直接连接符 66"/>
          <p:cNvSpPr/>
          <p:nvPr/>
        </p:nvSpPr>
        <p:spPr>
          <a:xfrm>
            <a:off x="7257960" y="229392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67"/>
          <p:cNvSpPr/>
          <p:nvPr/>
        </p:nvSpPr>
        <p:spPr>
          <a:xfrm>
            <a:off x="1870200" y="3367080"/>
            <a:ext cx="82548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直接连接符 69"/>
          <p:cNvSpPr/>
          <p:nvPr/>
        </p:nvSpPr>
        <p:spPr>
          <a:xfrm flipH="1">
            <a:off x="6443640" y="3368520"/>
            <a:ext cx="814320" cy="5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直接连接符 80"/>
          <p:cNvSpPr/>
          <p:nvPr/>
        </p:nvSpPr>
        <p:spPr>
          <a:xfrm>
            <a:off x="3699000" y="2637000"/>
            <a:ext cx="263520" cy="19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直接连接符 83"/>
          <p:cNvSpPr/>
          <p:nvPr/>
        </p:nvSpPr>
        <p:spPr>
          <a:xfrm flipH="1">
            <a:off x="5230440" y="2635200"/>
            <a:ext cx="250920" cy="19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35"/>
          <p:cNvSpPr/>
          <p:nvPr/>
        </p:nvSpPr>
        <p:spPr>
          <a:xfrm>
            <a:off x="3925080" y="3895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4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1:44:58Z</dcterms:created>
  <dc:creator>zxy</dc:creator>
  <dc:description/>
  <dc:language>en-US</dc:language>
  <cp:lastModifiedBy>王玉清</cp:lastModifiedBy>
  <dcterms:modified xsi:type="dcterms:W3CDTF">2016-02-24T03:28:05Z</dcterms:modified>
  <cp:revision>90</cp:revision>
  <dc:subject/>
  <dc:title>PowerPoint 演示文稿</dc:title>
</cp:coreProperties>
</file>