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477-32F2-40B7-84CD-262F2E61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829152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989520"/>
            <a:ext cx="829152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97A-EF80-4191-B8CB-326039AA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989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989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431-E935-45E3-9F46-D00F9446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1550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550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989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3989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989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ED79-9279-4B86-90E7-EE96664C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882F-4D1C-41F3-9E63-A4097839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40" y="1550520"/>
            <a:ext cx="829152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0CC5-C056-4BD1-AFB0-F2A85DB9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829152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BE73-621F-4A3C-90D4-8ABA8FBC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40460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550520"/>
            <a:ext cx="40460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F31A-4A25-4038-A8F9-8475158F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1AFE-D232-4334-AFA5-ADCD8640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1920" y="47160"/>
            <a:ext cx="7118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CB70-C355-4C4A-A0C2-492B98BF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550520"/>
            <a:ext cx="40460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40" y="3989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DF72-D0AF-46C4-BF1A-92030581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550520"/>
            <a:ext cx="829152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1EB-1E14-4B83-9120-298709D0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40460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760" y="3989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AC84-8CE6-463D-9B40-27A486C0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40" y="3989520"/>
            <a:ext cx="829152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CB93-BF7E-4091-8C6B-81E898AD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829152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40" y="3989520"/>
            <a:ext cx="829152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9D0E-DA56-4209-A0FC-D14CDC2E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76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40" y="3989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760" y="3989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1319-2673-4552-B0CA-2F622D52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720" y="1550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400" y="1550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40" y="3989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720" y="3989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400" y="3989520"/>
            <a:ext cx="26697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C462-3390-431B-B90D-6EDB1BD1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829152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80F-E0BA-4E12-8340-7516F845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40460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550520"/>
            <a:ext cx="40460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35A-EB0A-4BFF-B774-D01A7540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FC9-6199-4062-B4A9-814C5DD4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1920" y="47160"/>
            <a:ext cx="71182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73B-13D8-413D-9387-70D1A310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550520"/>
            <a:ext cx="40460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989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630-F099-49C9-BDBE-C109B31C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40460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989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DFCF-C655-445F-B3D7-08A1EA76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550520"/>
            <a:ext cx="404604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989520"/>
            <a:ext cx="829152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7EC-3D1E-4F51-A359-10E3D6CA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648c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F66F-B014-46D5-BB52-45F95D4BA5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9040" y="1550520"/>
            <a:ext cx="829152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55648c"/>
              </a:buClr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a39ec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1920" y="47160"/>
            <a:ext cx="7118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648c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19040" y="1550520"/>
            <a:ext cx="829152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55648c"/>
              </a:buClr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a39ec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648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51CD-2C86-48A3-9EF3-4AE0148BBB5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6600" y="6489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 Black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 Black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3463200" y="584280"/>
            <a:ext cx="31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网络科技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4360" y="12081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5648c"/>
                </a:solidFill>
                <a:latin typeface="Arial Black"/>
              </a:rPr>
              <a:t>使用规范说明</a:t>
            </a:r>
            <a:endParaRPr b="1" lang="en-US" sz="3200" spc="-1" strike="noStrike">
              <a:solidFill>
                <a:srgbClr val="55648c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c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5648c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 Black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B430-7EB6-4E62-A1F0-A37609268D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2:52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7:04:52Z</dcterms:modified>
  <cp:revision>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fileid">
    <vt:lpwstr>528824</vt:lpwstr>
  </property>
  <property fmtid="{D5CDD505-2E9C-101B-9397-08002B2CF9AE}" pid="4" name="name">
    <vt:lpwstr>A000120140929A70PWBG.ppt</vt:lpwstr>
  </property>
  <property fmtid="{D5CDD505-2E9C-101B-9397-08002B2CF9AE}" pid="5" name="关键字">
    <vt:lpwstr>PPT背景模板 商业科技 标屏 灰 灰色 网络 IT 水珠 科技 V2003</vt:lpwstr>
  </property>
  <property fmtid="{D5CDD505-2E9C-101B-9397-08002B2CF9AE}" pid="6" name="标题">
    <vt:lpwstr>水珠型网络科技_A000120140929A70PWBG</vt:lpwstr>
  </property>
  <property fmtid="{D5CDD505-2E9C-101B-9397-08002B2CF9AE}" pid="7" name="模板文件">
    <vt:lpwstr>A000120140929A70PWBG.ppt</vt:lpwstr>
  </property>
</Properties>
</file>