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C933-0F45-4857-9CED-C4EFE8614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B534-8C87-4096-BFCE-23E859D0F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F671-2343-40AE-AFAB-4017EACFF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9099-18D5-4E93-B029-DADC4AF85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B514-977C-42E0-B5C7-50BAE0FF1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AB88-AA03-4DC2-A7B9-AFD27A546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2DE9-C191-47F1-AFA7-043E25C96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F575-EA1A-419F-BD61-AECDC6A42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022C-0CE5-4A28-869A-041A02C84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AC07-3949-455B-B6E2-D9C2F0029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CDC5-4B4A-4ED3-A16B-DBFF08AA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A7AD-A472-4B0B-9C5E-2A4CCB913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189EF-16D0-4873-8243-ECD6DD044D33}" type="slidenum">
              <a:rPr b="0" lang="zh-CN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11"/>
          <p:cNvSpPr/>
          <p:nvPr/>
        </p:nvSpPr>
        <p:spPr>
          <a:xfrm>
            <a:off x="3783240" y="33577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点</a:t>
            </a:r>
            <a:r>
              <a:rPr b="1" lang="zh-CN" sz="3600" spc="-1" strike="noStrike">
                <a:solidFill>
                  <a:srgbClr val="8fcf01"/>
                </a:solidFill>
                <a:latin typeface="华文楷体"/>
                <a:ea typeface="华文楷体"/>
              </a:rPr>
              <a:t>击</a:t>
            </a:r>
            <a:r>
              <a:rPr b="1" lang="zh-CN" sz="3600" spc="-1" strike="noStrike">
                <a:solidFill>
                  <a:srgbClr val="00b0f0"/>
                </a:solidFill>
                <a:latin typeface="华文楷体"/>
                <a:ea typeface="华文楷体"/>
              </a:rPr>
              <a:t>添</a:t>
            </a:r>
            <a:r>
              <a:rPr b="1" lang="zh-CN" sz="3600" spc="-1" strike="noStrike">
                <a:solidFill>
                  <a:srgbClr val="ffc000"/>
                </a:solidFill>
                <a:latin typeface="华文楷体"/>
                <a:ea typeface="华文楷体"/>
              </a:rPr>
              <a:t>加</a:t>
            </a:r>
            <a:r>
              <a:rPr b="1" lang="zh-CN" sz="3600" spc="-1" strike="noStrike">
                <a:solidFill>
                  <a:srgbClr val="e46c0a"/>
                </a:solidFill>
                <a:latin typeface="华文楷体"/>
                <a:ea typeface="华文楷体"/>
              </a:rPr>
              <a:t>标</a:t>
            </a:r>
            <a:r>
              <a:rPr b="1" lang="zh-CN" sz="3600" spc="-1" strike="noStrike">
                <a:solidFill>
                  <a:srgbClr val="ff5ba5"/>
                </a:solidFill>
                <a:latin typeface="华文楷体"/>
                <a:ea typeface="华文楷体"/>
              </a:rPr>
              <a:t>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" name="组合 12"/>
          <p:cNvGrpSpPr/>
          <p:nvPr/>
        </p:nvGrpSpPr>
        <p:grpSpPr>
          <a:xfrm>
            <a:off x="2804760" y="1929960"/>
            <a:ext cx="3522600" cy="3522600"/>
            <a:chOff x="2804760" y="1929960"/>
            <a:chExt cx="3522600" cy="3522600"/>
          </a:xfrm>
        </p:grpSpPr>
        <p:sp>
          <p:nvSpPr>
            <p:cNvPr id="43" name="饼形 11"/>
            <p:cNvSpPr/>
            <p:nvPr/>
          </p:nvSpPr>
          <p:spPr>
            <a:xfrm rot="10800000">
              <a:off x="2804760" y="1929960"/>
              <a:ext cx="35226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5" y="3001536"/>
                  </a:moveTo>
                  <a:cubicBezTo>
                    <a:pt x="2679649" y="3336672"/>
                    <a:pt x="2226712" y="3524405"/>
                    <a:pt x="1754737" y="3522639"/>
                  </a:cubicBezTo>
                  <a:cubicBezTo>
                    <a:pt x="1756933" y="2935535"/>
                    <a:pt x="1759130" y="2348430"/>
                    <a:pt x="1761326" y="1761326"/>
                  </a:cubicBezTo>
                  <a:lnTo>
                    <a:pt x="3011985" y="3001536"/>
                  </a:lnTo>
                  <a:close/>
                </a:path>
              </a:pathLst>
            </a:custGeom>
            <a:solidFill>
              <a:srgbClr val="ff82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饼形 9"/>
            <p:cNvSpPr/>
            <p:nvPr/>
          </p:nvSpPr>
          <p:spPr>
            <a:xfrm rot="10800000">
              <a:off x="3180960" y="2297880"/>
              <a:ext cx="2770200" cy="2770200"/>
            </a:xfrm>
            <a:custGeom>
              <a:avLst/>
              <a:gdLst/>
              <a:ahLst/>
              <a:rect l="l" t="t" r="r" b="b"/>
              <a:pathLst>
                <a:path w="2770180" h="2770179">
                  <a:moveTo>
                    <a:pt x="2373556" y="2355352"/>
                  </a:moveTo>
                  <a:cubicBezTo>
                    <a:pt x="2112060" y="2621753"/>
                    <a:pt x="1754105" y="2771326"/>
                    <a:pt x="1380811" y="2770173"/>
                  </a:cubicBezTo>
                  <a:cubicBezTo>
                    <a:pt x="1382237" y="2308479"/>
                    <a:pt x="1383664" y="1846784"/>
                    <a:pt x="1385090" y="1385090"/>
                  </a:cubicBezTo>
                  <a:lnTo>
                    <a:pt x="2373556" y="2355352"/>
                  </a:lnTo>
                  <a:close/>
                </a:path>
              </a:pathLst>
            </a:custGeom>
            <a:solidFill>
              <a:srgbClr val="ff94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饼形 8"/>
            <p:cNvSpPr/>
            <p:nvPr/>
          </p:nvSpPr>
          <p:spPr>
            <a:xfrm rot="10800000">
              <a:off x="3431520" y="2548800"/>
              <a:ext cx="2259000" cy="2259000"/>
            </a:xfrm>
            <a:custGeom>
              <a:avLst/>
              <a:gdLst/>
              <a:ahLst/>
              <a:rect l="l" t="t" r="r" b="b"/>
              <a:pathLst>
                <a:path w="2259007" h="2259006">
                  <a:moveTo>
                    <a:pt x="1935570" y="1920726"/>
                  </a:moveTo>
                  <a:cubicBezTo>
                    <a:pt x="1720911" y="2139412"/>
                    <a:pt x="1426611" y="2261495"/>
                    <a:pt x="1120187" y="2258968"/>
                  </a:cubicBezTo>
                  <a:cubicBezTo>
                    <a:pt x="1123293" y="1882480"/>
                    <a:pt x="1126398" y="1505991"/>
                    <a:pt x="1129504" y="1129503"/>
                  </a:cubicBezTo>
                  <a:lnTo>
                    <a:pt x="1935570" y="1920726"/>
                  </a:lnTo>
                  <a:close/>
                </a:path>
              </a:pathLst>
            </a:custGeom>
            <a:solidFill>
              <a:srgbClr val="ffa6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饼形 7"/>
            <p:cNvSpPr/>
            <p:nvPr/>
          </p:nvSpPr>
          <p:spPr>
            <a:xfrm rot="10800000">
              <a:off x="3674520" y="2785680"/>
              <a:ext cx="1770120" cy="1770120"/>
            </a:xfrm>
            <a:custGeom>
              <a:avLst/>
              <a:gdLst/>
              <a:ahLst/>
              <a:rect l="l" t="t" r="r" b="b"/>
              <a:pathLst>
                <a:path w="1770057" h="1770056">
                  <a:moveTo>
                    <a:pt x="1516627" y="1504995"/>
                  </a:moveTo>
                  <a:cubicBezTo>
                    <a:pt x="1347272" y="1677527"/>
                    <a:pt x="1114707" y="1773268"/>
                    <a:pt x="872968" y="1769974"/>
                  </a:cubicBezTo>
                  <a:lnTo>
                    <a:pt x="885029" y="885028"/>
                  </a:lnTo>
                  <a:lnTo>
                    <a:pt x="1516627" y="1504995"/>
                  </a:lnTo>
                  <a:close/>
                </a:path>
              </a:pathLst>
            </a:custGeom>
            <a:solidFill>
              <a:srgbClr val="f6b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饼形 6"/>
            <p:cNvSpPr/>
            <p:nvPr/>
          </p:nvSpPr>
          <p:spPr>
            <a:xfrm rot="10800000">
              <a:off x="3832200" y="2952720"/>
              <a:ext cx="1458720" cy="1458720"/>
            </a:xfrm>
            <a:custGeom>
              <a:avLst/>
              <a:gdLst/>
              <a:ahLst/>
              <a:rect l="l" t="t" r="r" b="b"/>
              <a:pathLst>
                <a:path w="1458909" h="1458908">
                  <a:moveTo>
                    <a:pt x="1246112" y="1244399"/>
                  </a:moveTo>
                  <a:cubicBezTo>
                    <a:pt x="1106786" y="1384188"/>
                    <a:pt x="916761" y="1461555"/>
                    <a:pt x="719415" y="1458838"/>
                  </a:cubicBezTo>
                  <a:lnTo>
                    <a:pt x="729455" y="729454"/>
                  </a:lnTo>
                  <a:lnTo>
                    <a:pt x="1246112" y="1244399"/>
                  </a:lnTo>
                  <a:close/>
                </a:path>
              </a:pathLst>
            </a:custGeom>
            <a:solidFill>
              <a:srgbClr val="ffc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" name="组合 21"/>
          <p:cNvGrpSpPr/>
          <p:nvPr/>
        </p:nvGrpSpPr>
        <p:grpSpPr>
          <a:xfrm>
            <a:off x="2804400" y="1928520"/>
            <a:ext cx="3522600" cy="3522600"/>
            <a:chOff x="2804400" y="1928520"/>
            <a:chExt cx="3522600" cy="3522600"/>
          </a:xfrm>
        </p:grpSpPr>
        <p:sp>
          <p:nvSpPr>
            <p:cNvPr id="49" name="饼形 16"/>
            <p:cNvSpPr/>
            <p:nvPr/>
          </p:nvSpPr>
          <p:spPr>
            <a:xfrm flipH="1" rot="10800000">
              <a:off x="2804040" y="1928520"/>
              <a:ext cx="35226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5" y="3001536"/>
                  </a:moveTo>
                  <a:cubicBezTo>
                    <a:pt x="2679649" y="3336672"/>
                    <a:pt x="2226712" y="3524405"/>
                    <a:pt x="1754737" y="3522639"/>
                  </a:cubicBezTo>
                  <a:cubicBezTo>
                    <a:pt x="1756933" y="2935535"/>
                    <a:pt x="1759130" y="2348430"/>
                    <a:pt x="1761326" y="1761326"/>
                  </a:cubicBezTo>
                  <a:lnTo>
                    <a:pt x="3011985" y="30015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饼形 17"/>
            <p:cNvSpPr/>
            <p:nvPr/>
          </p:nvSpPr>
          <p:spPr>
            <a:xfrm flipH="1" rot="10800000">
              <a:off x="3180240" y="2296800"/>
              <a:ext cx="2770200" cy="2770200"/>
            </a:xfrm>
            <a:custGeom>
              <a:avLst/>
              <a:gdLst/>
              <a:ahLst/>
              <a:rect l="l" t="t" r="r" b="b"/>
              <a:pathLst>
                <a:path w="2770180" h="2770179">
                  <a:moveTo>
                    <a:pt x="2373556" y="2355352"/>
                  </a:moveTo>
                  <a:cubicBezTo>
                    <a:pt x="2112060" y="2621753"/>
                    <a:pt x="1754105" y="2771326"/>
                    <a:pt x="1380811" y="2770173"/>
                  </a:cubicBezTo>
                  <a:cubicBezTo>
                    <a:pt x="1382237" y="2308479"/>
                    <a:pt x="1383664" y="1846784"/>
                    <a:pt x="1385090" y="1385090"/>
                  </a:cubicBezTo>
                  <a:lnTo>
                    <a:pt x="2373556" y="2355352"/>
                  </a:lnTo>
                  <a:close/>
                </a:path>
              </a:pathLst>
            </a:custGeom>
            <a:solidFill>
              <a:srgbClr val="8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饼形 18"/>
            <p:cNvSpPr/>
            <p:nvPr/>
          </p:nvSpPr>
          <p:spPr>
            <a:xfrm flipH="1" rot="10800000">
              <a:off x="3440520" y="2547360"/>
              <a:ext cx="2259000" cy="2259000"/>
            </a:xfrm>
            <a:custGeom>
              <a:avLst/>
              <a:gdLst/>
              <a:ahLst/>
              <a:rect l="l" t="t" r="r" b="b"/>
              <a:pathLst>
                <a:path w="2259007" h="2259006">
                  <a:moveTo>
                    <a:pt x="1935570" y="1920726"/>
                  </a:moveTo>
                  <a:cubicBezTo>
                    <a:pt x="1720911" y="2139412"/>
                    <a:pt x="1426611" y="2261495"/>
                    <a:pt x="1120187" y="2258968"/>
                  </a:cubicBezTo>
                  <a:cubicBezTo>
                    <a:pt x="1123293" y="1882480"/>
                    <a:pt x="1126398" y="1505991"/>
                    <a:pt x="1129504" y="1129503"/>
                  </a:cubicBezTo>
                  <a:lnTo>
                    <a:pt x="1935570" y="1920726"/>
                  </a:lnTo>
                  <a:close/>
                </a:path>
              </a:pathLst>
            </a:custGeom>
            <a:solidFill>
              <a:srgbClr val="c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饼形 19"/>
            <p:cNvSpPr/>
            <p:nvPr/>
          </p:nvSpPr>
          <p:spPr>
            <a:xfrm flipH="1" rot="10800000">
              <a:off x="3686760" y="2784240"/>
              <a:ext cx="1770120" cy="1770120"/>
            </a:xfrm>
            <a:custGeom>
              <a:avLst/>
              <a:gdLst/>
              <a:ahLst/>
              <a:rect l="l" t="t" r="r" b="b"/>
              <a:pathLst>
                <a:path w="1770057" h="1770058">
                  <a:moveTo>
                    <a:pt x="1516627" y="1504996"/>
                  </a:moveTo>
                  <a:cubicBezTo>
                    <a:pt x="1347272" y="1677529"/>
                    <a:pt x="1114707" y="1773270"/>
                    <a:pt x="872968" y="1769975"/>
                  </a:cubicBezTo>
                  <a:lnTo>
                    <a:pt x="885029" y="885029"/>
                  </a:lnTo>
                  <a:lnTo>
                    <a:pt x="1516627" y="1504996"/>
                  </a:lnTo>
                  <a:close/>
                </a:path>
              </a:pathLst>
            </a:custGeom>
            <a:solidFill>
              <a:srgbClr val="f6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饼形 20"/>
            <p:cNvSpPr/>
            <p:nvPr/>
          </p:nvSpPr>
          <p:spPr>
            <a:xfrm flipH="1" rot="10800000">
              <a:off x="3841560" y="2951280"/>
              <a:ext cx="1458720" cy="1458720"/>
            </a:xfrm>
            <a:custGeom>
              <a:avLst/>
              <a:gdLst/>
              <a:ahLst/>
              <a:rect l="l" t="t" r="r" b="b"/>
              <a:pathLst>
                <a:path w="1458909" h="1458908">
                  <a:moveTo>
                    <a:pt x="1246112" y="1244399"/>
                  </a:moveTo>
                  <a:cubicBezTo>
                    <a:pt x="1106786" y="1384188"/>
                    <a:pt x="916761" y="1461555"/>
                    <a:pt x="719415" y="1458838"/>
                  </a:cubicBezTo>
                  <a:lnTo>
                    <a:pt x="729455" y="729454"/>
                  </a:lnTo>
                  <a:lnTo>
                    <a:pt x="1246112" y="1244399"/>
                  </a:lnTo>
                  <a:close/>
                </a:path>
              </a:pathLst>
            </a:custGeom>
            <a:solidFill>
              <a:srgbClr val="fe61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" name="组合 29"/>
          <p:cNvGrpSpPr/>
          <p:nvPr/>
        </p:nvGrpSpPr>
        <p:grpSpPr>
          <a:xfrm>
            <a:off x="2800080" y="1928160"/>
            <a:ext cx="3522600" cy="3522600"/>
            <a:chOff x="2800080" y="1928160"/>
            <a:chExt cx="3522600" cy="3522600"/>
          </a:xfrm>
        </p:grpSpPr>
        <p:sp>
          <p:nvSpPr>
            <p:cNvPr id="55" name="饼形 24"/>
            <p:cNvSpPr/>
            <p:nvPr/>
          </p:nvSpPr>
          <p:spPr>
            <a:xfrm flipV="1" rot="10800000">
              <a:off x="2800080" y="1927800"/>
              <a:ext cx="35226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5" y="3001536"/>
                  </a:moveTo>
                  <a:cubicBezTo>
                    <a:pt x="2679649" y="3336672"/>
                    <a:pt x="2226712" y="3524405"/>
                    <a:pt x="1754737" y="3522639"/>
                  </a:cubicBezTo>
                  <a:cubicBezTo>
                    <a:pt x="1756933" y="2935535"/>
                    <a:pt x="1759130" y="2348430"/>
                    <a:pt x="1761326" y="1761326"/>
                  </a:cubicBezTo>
                  <a:lnTo>
                    <a:pt x="3011985" y="3001536"/>
                  </a:lnTo>
                  <a:close/>
                </a:path>
              </a:pathLst>
            </a:custGeom>
            <a:solidFill>
              <a:srgbClr val="017c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饼形 25"/>
            <p:cNvSpPr/>
            <p:nvPr/>
          </p:nvSpPr>
          <p:spPr>
            <a:xfrm flipV="1" rot="10800000">
              <a:off x="3176280" y="2311920"/>
              <a:ext cx="2770200" cy="2770200"/>
            </a:xfrm>
            <a:custGeom>
              <a:avLst/>
              <a:gdLst/>
              <a:ahLst/>
              <a:rect l="l" t="t" r="r" b="b"/>
              <a:pathLst>
                <a:path w="2770178" h="2770179">
                  <a:moveTo>
                    <a:pt x="2373554" y="2355352"/>
                  </a:moveTo>
                  <a:cubicBezTo>
                    <a:pt x="2112059" y="2621754"/>
                    <a:pt x="1754103" y="2771326"/>
                    <a:pt x="1380809" y="2770173"/>
                  </a:cubicBezTo>
                  <a:cubicBezTo>
                    <a:pt x="1382236" y="2308479"/>
                    <a:pt x="1383662" y="1846784"/>
                    <a:pt x="1385089" y="1385090"/>
                  </a:cubicBezTo>
                  <a:lnTo>
                    <a:pt x="2373554" y="2355352"/>
                  </a:lnTo>
                  <a:close/>
                </a:path>
              </a:pathLst>
            </a:custGeom>
            <a:solidFill>
              <a:srgbClr val="0098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饼形 26"/>
            <p:cNvSpPr/>
            <p:nvPr/>
          </p:nvSpPr>
          <p:spPr>
            <a:xfrm flipV="1" rot="10800000">
              <a:off x="3426840" y="2572200"/>
              <a:ext cx="2259000" cy="2259000"/>
            </a:xfrm>
            <a:custGeom>
              <a:avLst/>
              <a:gdLst/>
              <a:ahLst/>
              <a:rect l="l" t="t" r="r" b="b"/>
              <a:pathLst>
                <a:path w="2259005" h="2259006">
                  <a:moveTo>
                    <a:pt x="1935569" y="1920726"/>
                  </a:moveTo>
                  <a:cubicBezTo>
                    <a:pt x="1720910" y="2139412"/>
                    <a:pt x="1426610" y="2261495"/>
                    <a:pt x="1120187" y="2258968"/>
                  </a:cubicBezTo>
                  <a:cubicBezTo>
                    <a:pt x="1123292" y="1882480"/>
                    <a:pt x="1126398" y="1505991"/>
                    <a:pt x="1129503" y="1129503"/>
                  </a:cubicBezTo>
                  <a:lnTo>
                    <a:pt x="1935569" y="1920726"/>
                  </a:lnTo>
                  <a:close/>
                </a:path>
              </a:pathLst>
            </a:custGeom>
            <a:solidFill>
              <a:srgbClr val="00c4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饼形 27"/>
            <p:cNvSpPr/>
            <p:nvPr/>
          </p:nvSpPr>
          <p:spPr>
            <a:xfrm flipV="1" rot="10800000">
              <a:off x="3669840" y="2824560"/>
              <a:ext cx="1770120" cy="1770120"/>
            </a:xfrm>
            <a:custGeom>
              <a:avLst/>
              <a:gdLst/>
              <a:ahLst/>
              <a:rect l="l" t="t" r="r" b="b"/>
              <a:pathLst>
                <a:path w="1770057" h="1770058">
                  <a:moveTo>
                    <a:pt x="1516627" y="1504996"/>
                  </a:moveTo>
                  <a:cubicBezTo>
                    <a:pt x="1347272" y="1677529"/>
                    <a:pt x="1114707" y="1773270"/>
                    <a:pt x="872968" y="1769975"/>
                  </a:cubicBezTo>
                  <a:lnTo>
                    <a:pt x="885029" y="885029"/>
                  </a:lnTo>
                  <a:lnTo>
                    <a:pt x="1516627" y="1504996"/>
                  </a:lnTo>
                  <a:close/>
                </a:path>
              </a:pathLst>
            </a:custGeom>
            <a:solidFill>
              <a:srgbClr val="71ff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饼形 28"/>
            <p:cNvSpPr/>
            <p:nvPr/>
          </p:nvSpPr>
          <p:spPr>
            <a:xfrm flipV="1" rot="10800000">
              <a:off x="3827520" y="2970360"/>
              <a:ext cx="1458720" cy="1458720"/>
            </a:xfrm>
            <a:custGeom>
              <a:avLst/>
              <a:gdLst/>
              <a:ahLst/>
              <a:rect l="l" t="t" r="r" b="b"/>
              <a:pathLst>
                <a:path w="1458907" h="1458908">
                  <a:moveTo>
                    <a:pt x="1246110" y="1244399"/>
                  </a:moveTo>
                  <a:cubicBezTo>
                    <a:pt x="1106784" y="1384188"/>
                    <a:pt x="916760" y="1461555"/>
                    <a:pt x="719414" y="1458839"/>
                  </a:cubicBezTo>
                  <a:lnTo>
                    <a:pt x="729454" y="729454"/>
                  </a:lnTo>
                  <a:lnTo>
                    <a:pt x="1246110" y="1244399"/>
                  </a:lnTo>
                  <a:close/>
                </a:path>
              </a:pathLst>
            </a:custGeom>
            <a:solidFill>
              <a:srgbClr val="a7f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" name="组合 36"/>
          <p:cNvGrpSpPr/>
          <p:nvPr/>
        </p:nvGrpSpPr>
        <p:grpSpPr>
          <a:xfrm>
            <a:off x="2799720" y="1928160"/>
            <a:ext cx="3522600" cy="3522600"/>
            <a:chOff x="2799720" y="1928160"/>
            <a:chExt cx="3522600" cy="3522600"/>
          </a:xfrm>
        </p:grpSpPr>
        <p:sp>
          <p:nvSpPr>
            <p:cNvPr id="61" name="饼形 31"/>
            <p:cNvSpPr/>
            <p:nvPr/>
          </p:nvSpPr>
          <p:spPr>
            <a:xfrm flipH="1" flipV="1" rot="10800000">
              <a:off x="2799360" y="1927800"/>
              <a:ext cx="35226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5" y="3001536"/>
                  </a:moveTo>
                  <a:cubicBezTo>
                    <a:pt x="2679649" y="3336672"/>
                    <a:pt x="2226712" y="3524405"/>
                    <a:pt x="1754737" y="3522639"/>
                  </a:cubicBezTo>
                  <a:cubicBezTo>
                    <a:pt x="1756933" y="2935535"/>
                    <a:pt x="1759130" y="2348430"/>
                    <a:pt x="1761326" y="1761326"/>
                  </a:cubicBezTo>
                  <a:lnTo>
                    <a:pt x="3011985" y="30015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饼形 32"/>
            <p:cNvSpPr/>
            <p:nvPr/>
          </p:nvSpPr>
          <p:spPr>
            <a:xfrm flipH="1" flipV="1" rot="10800000">
              <a:off x="3175560" y="2311920"/>
              <a:ext cx="2770200" cy="2770200"/>
            </a:xfrm>
            <a:custGeom>
              <a:avLst/>
              <a:gdLst/>
              <a:ahLst/>
              <a:rect l="l" t="t" r="r" b="b"/>
              <a:pathLst>
                <a:path w="2770178" h="2770179">
                  <a:moveTo>
                    <a:pt x="2373554" y="2355352"/>
                  </a:moveTo>
                  <a:cubicBezTo>
                    <a:pt x="2112060" y="2621752"/>
                    <a:pt x="1754107" y="2771325"/>
                    <a:pt x="1380815" y="2770173"/>
                  </a:cubicBezTo>
                  <a:cubicBezTo>
                    <a:pt x="1382240" y="2308479"/>
                    <a:pt x="1383664" y="1846784"/>
                    <a:pt x="1385089" y="1385090"/>
                  </a:cubicBezTo>
                  <a:lnTo>
                    <a:pt x="2373554" y="235535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饼形 33"/>
            <p:cNvSpPr/>
            <p:nvPr/>
          </p:nvSpPr>
          <p:spPr>
            <a:xfrm flipH="1" flipV="1" rot="10800000">
              <a:off x="3435840" y="2572200"/>
              <a:ext cx="2259000" cy="2259000"/>
            </a:xfrm>
            <a:custGeom>
              <a:avLst/>
              <a:gdLst/>
              <a:ahLst/>
              <a:rect l="l" t="t" r="r" b="b"/>
              <a:pathLst>
                <a:path w="2259005" h="2259006">
                  <a:moveTo>
                    <a:pt x="1935569" y="1920726"/>
                  </a:moveTo>
                  <a:cubicBezTo>
                    <a:pt x="1720910" y="2139412"/>
                    <a:pt x="1426610" y="2261495"/>
                    <a:pt x="1120187" y="2258968"/>
                  </a:cubicBezTo>
                  <a:cubicBezTo>
                    <a:pt x="1123292" y="1882480"/>
                    <a:pt x="1126398" y="1505991"/>
                    <a:pt x="1129503" y="1129503"/>
                  </a:cubicBezTo>
                  <a:lnTo>
                    <a:pt x="1935569" y="1920726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饼形 34"/>
            <p:cNvSpPr/>
            <p:nvPr/>
          </p:nvSpPr>
          <p:spPr>
            <a:xfrm flipH="1" flipV="1" rot="10800000">
              <a:off x="3682080" y="2824560"/>
              <a:ext cx="1770120" cy="1770120"/>
            </a:xfrm>
            <a:custGeom>
              <a:avLst/>
              <a:gdLst/>
              <a:ahLst/>
              <a:rect l="l" t="t" r="r" b="b"/>
              <a:pathLst>
                <a:path w="1770057" h="1770058">
                  <a:moveTo>
                    <a:pt x="1516627" y="1504996"/>
                  </a:moveTo>
                  <a:cubicBezTo>
                    <a:pt x="1347272" y="1677529"/>
                    <a:pt x="1114707" y="1773270"/>
                    <a:pt x="872968" y="1769975"/>
                  </a:cubicBezTo>
                  <a:lnTo>
                    <a:pt x="885029" y="885029"/>
                  </a:lnTo>
                  <a:lnTo>
                    <a:pt x="1516627" y="1504996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饼形 35"/>
            <p:cNvSpPr/>
            <p:nvPr/>
          </p:nvSpPr>
          <p:spPr>
            <a:xfrm flipH="1" flipV="1" rot="10800000">
              <a:off x="3836880" y="2970360"/>
              <a:ext cx="1458720" cy="1458720"/>
            </a:xfrm>
            <a:custGeom>
              <a:avLst/>
              <a:gdLst/>
              <a:ahLst/>
              <a:rect l="l" t="t" r="r" b="b"/>
              <a:pathLst>
                <a:path w="1458907" h="1458908">
                  <a:moveTo>
                    <a:pt x="1246110" y="1244399"/>
                  </a:moveTo>
                  <a:cubicBezTo>
                    <a:pt x="1106784" y="1384188"/>
                    <a:pt x="916760" y="1461555"/>
                    <a:pt x="719414" y="1458839"/>
                  </a:cubicBezTo>
                  <a:lnTo>
                    <a:pt x="729454" y="729454"/>
                  </a:lnTo>
                  <a:lnTo>
                    <a:pt x="1246110" y="1244399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" name="组合 37"/>
          <p:cNvGrpSpPr/>
          <p:nvPr/>
        </p:nvGrpSpPr>
        <p:grpSpPr>
          <a:xfrm>
            <a:off x="2796480" y="1930680"/>
            <a:ext cx="3522600" cy="3522600"/>
            <a:chOff x="2796480" y="1930680"/>
            <a:chExt cx="3522600" cy="3522600"/>
          </a:xfrm>
        </p:grpSpPr>
        <p:sp>
          <p:nvSpPr>
            <p:cNvPr id="67" name="饼形 38"/>
            <p:cNvSpPr/>
            <p:nvPr/>
          </p:nvSpPr>
          <p:spPr>
            <a:xfrm flipH="1" flipV="1" rot="5400000">
              <a:off x="2796120" y="1930320"/>
              <a:ext cx="35226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5" y="3001536"/>
                  </a:moveTo>
                  <a:cubicBezTo>
                    <a:pt x="2679649" y="3336672"/>
                    <a:pt x="2226712" y="3524405"/>
                    <a:pt x="1754737" y="3522639"/>
                  </a:cubicBezTo>
                  <a:cubicBezTo>
                    <a:pt x="1756933" y="2935535"/>
                    <a:pt x="1759130" y="2348430"/>
                    <a:pt x="1761326" y="1761326"/>
                  </a:cubicBezTo>
                  <a:lnTo>
                    <a:pt x="3011985" y="30015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饼形 39"/>
            <p:cNvSpPr/>
            <p:nvPr/>
          </p:nvSpPr>
          <p:spPr>
            <a:xfrm flipH="1" flipV="1" rot="5400000">
              <a:off x="3180240" y="2306520"/>
              <a:ext cx="2770200" cy="2770200"/>
            </a:xfrm>
            <a:custGeom>
              <a:avLst/>
              <a:gdLst/>
              <a:ahLst/>
              <a:rect l="l" t="t" r="r" b="b"/>
              <a:pathLst>
                <a:path w="2770178" h="2770179">
                  <a:moveTo>
                    <a:pt x="2373554" y="2355352"/>
                  </a:moveTo>
                  <a:cubicBezTo>
                    <a:pt x="2112060" y="2621752"/>
                    <a:pt x="1754107" y="2771325"/>
                    <a:pt x="1380815" y="2770173"/>
                  </a:cubicBezTo>
                  <a:cubicBezTo>
                    <a:pt x="1382240" y="2308479"/>
                    <a:pt x="1383664" y="1846784"/>
                    <a:pt x="1385089" y="1385090"/>
                  </a:cubicBezTo>
                  <a:lnTo>
                    <a:pt x="2373554" y="235535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饼形 40"/>
            <p:cNvSpPr/>
            <p:nvPr/>
          </p:nvSpPr>
          <p:spPr>
            <a:xfrm flipH="1" flipV="1" rot="5400000">
              <a:off x="3440520" y="2557440"/>
              <a:ext cx="2259000" cy="2259000"/>
            </a:xfrm>
            <a:custGeom>
              <a:avLst/>
              <a:gdLst/>
              <a:ahLst/>
              <a:rect l="l" t="t" r="r" b="b"/>
              <a:pathLst>
                <a:path w="2259005" h="2259006">
                  <a:moveTo>
                    <a:pt x="1935569" y="1920726"/>
                  </a:moveTo>
                  <a:cubicBezTo>
                    <a:pt x="1720910" y="2139412"/>
                    <a:pt x="1426610" y="2261495"/>
                    <a:pt x="1120187" y="2258968"/>
                  </a:cubicBezTo>
                  <a:cubicBezTo>
                    <a:pt x="1123292" y="1882480"/>
                    <a:pt x="1126398" y="1505991"/>
                    <a:pt x="1129503" y="1129503"/>
                  </a:cubicBezTo>
                  <a:lnTo>
                    <a:pt x="1935569" y="1920726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饼形 41"/>
            <p:cNvSpPr/>
            <p:nvPr/>
          </p:nvSpPr>
          <p:spPr>
            <a:xfrm flipH="1" flipV="1" rot="5400000">
              <a:off x="3692880" y="2800080"/>
              <a:ext cx="1770120" cy="1770120"/>
            </a:xfrm>
            <a:custGeom>
              <a:avLst/>
              <a:gdLst/>
              <a:ahLst/>
              <a:rect l="l" t="t" r="r" b="b"/>
              <a:pathLst>
                <a:path w="1770057" h="1770056">
                  <a:moveTo>
                    <a:pt x="1516627" y="1504995"/>
                  </a:moveTo>
                  <a:cubicBezTo>
                    <a:pt x="1347272" y="1677527"/>
                    <a:pt x="1114707" y="1773268"/>
                    <a:pt x="872968" y="1769974"/>
                  </a:cubicBezTo>
                  <a:lnTo>
                    <a:pt x="885029" y="885028"/>
                  </a:lnTo>
                  <a:lnTo>
                    <a:pt x="1516627" y="1504995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饼形 42"/>
            <p:cNvSpPr/>
            <p:nvPr/>
          </p:nvSpPr>
          <p:spPr>
            <a:xfrm flipH="1" flipV="1" rot="5400000">
              <a:off x="3838680" y="2957400"/>
              <a:ext cx="1458720" cy="1458720"/>
            </a:xfrm>
            <a:custGeom>
              <a:avLst/>
              <a:gdLst/>
              <a:ahLst/>
              <a:rect l="l" t="t" r="r" b="b"/>
              <a:pathLst>
                <a:path w="1458907" h="1458908">
                  <a:moveTo>
                    <a:pt x="1246110" y="1244399"/>
                  </a:moveTo>
                  <a:cubicBezTo>
                    <a:pt x="1106784" y="1384188"/>
                    <a:pt x="916760" y="1461555"/>
                    <a:pt x="719414" y="1458839"/>
                  </a:cubicBezTo>
                  <a:lnTo>
                    <a:pt x="729454" y="729454"/>
                  </a:lnTo>
                  <a:lnTo>
                    <a:pt x="1246110" y="1244399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组合 50"/>
          <p:cNvGrpSpPr/>
          <p:nvPr/>
        </p:nvGrpSpPr>
        <p:grpSpPr>
          <a:xfrm>
            <a:off x="2801520" y="1928880"/>
            <a:ext cx="3522600" cy="3522600"/>
            <a:chOff x="2801520" y="1928880"/>
            <a:chExt cx="3522600" cy="3522600"/>
          </a:xfrm>
        </p:grpSpPr>
        <p:sp>
          <p:nvSpPr>
            <p:cNvPr id="73" name="饼形 45"/>
            <p:cNvSpPr/>
            <p:nvPr/>
          </p:nvSpPr>
          <p:spPr>
            <a:xfrm rot="5400000">
              <a:off x="2801520" y="1928520"/>
              <a:ext cx="35226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5" y="3001536"/>
                  </a:moveTo>
                  <a:cubicBezTo>
                    <a:pt x="2679649" y="3336672"/>
                    <a:pt x="2226712" y="3524405"/>
                    <a:pt x="1754737" y="3522639"/>
                  </a:cubicBezTo>
                  <a:cubicBezTo>
                    <a:pt x="1756933" y="2935535"/>
                    <a:pt x="1759130" y="2348430"/>
                    <a:pt x="1761326" y="1761326"/>
                  </a:cubicBezTo>
                  <a:lnTo>
                    <a:pt x="3011985" y="30015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饼形 46"/>
            <p:cNvSpPr/>
            <p:nvPr/>
          </p:nvSpPr>
          <p:spPr>
            <a:xfrm rot="5400000">
              <a:off x="3169800" y="2304720"/>
              <a:ext cx="2770200" cy="2770200"/>
            </a:xfrm>
            <a:custGeom>
              <a:avLst/>
              <a:gdLst/>
              <a:ahLst/>
              <a:rect l="l" t="t" r="r" b="b"/>
              <a:pathLst>
                <a:path w="2770180" h="2770179">
                  <a:moveTo>
                    <a:pt x="2373556" y="2355352"/>
                  </a:moveTo>
                  <a:cubicBezTo>
                    <a:pt x="2112062" y="2621752"/>
                    <a:pt x="1754108" y="2771324"/>
                    <a:pt x="1380817" y="2770173"/>
                  </a:cubicBezTo>
                  <a:cubicBezTo>
                    <a:pt x="1382241" y="2308479"/>
                    <a:pt x="1383666" y="1846784"/>
                    <a:pt x="1385090" y="1385090"/>
                  </a:cubicBezTo>
                  <a:lnTo>
                    <a:pt x="2373556" y="235535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饼形 47"/>
            <p:cNvSpPr/>
            <p:nvPr/>
          </p:nvSpPr>
          <p:spPr>
            <a:xfrm rot="5400000">
              <a:off x="3420360" y="2565000"/>
              <a:ext cx="2259000" cy="2259000"/>
            </a:xfrm>
            <a:custGeom>
              <a:avLst/>
              <a:gdLst/>
              <a:ahLst/>
              <a:rect l="l" t="t" r="r" b="b"/>
              <a:pathLst>
                <a:path w="2259007" h="2259006">
                  <a:moveTo>
                    <a:pt x="1935570" y="1920726"/>
                  </a:moveTo>
                  <a:cubicBezTo>
                    <a:pt x="1720911" y="2139412"/>
                    <a:pt x="1426611" y="2261495"/>
                    <a:pt x="1120187" y="2258968"/>
                  </a:cubicBezTo>
                  <a:cubicBezTo>
                    <a:pt x="1123293" y="1882480"/>
                    <a:pt x="1126398" y="1505991"/>
                    <a:pt x="1129504" y="1129503"/>
                  </a:cubicBezTo>
                  <a:lnTo>
                    <a:pt x="1935570" y="1920726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饼形 48"/>
            <p:cNvSpPr/>
            <p:nvPr/>
          </p:nvSpPr>
          <p:spPr>
            <a:xfrm rot="5400000">
              <a:off x="3657240" y="2811600"/>
              <a:ext cx="1770120" cy="1770120"/>
            </a:xfrm>
            <a:custGeom>
              <a:avLst/>
              <a:gdLst/>
              <a:ahLst/>
              <a:rect l="l" t="t" r="r" b="b"/>
              <a:pathLst>
                <a:path w="1770057" h="1770058">
                  <a:moveTo>
                    <a:pt x="1516627" y="1504996"/>
                  </a:moveTo>
                  <a:cubicBezTo>
                    <a:pt x="1347272" y="1677529"/>
                    <a:pt x="1114707" y="1773270"/>
                    <a:pt x="872968" y="1769975"/>
                  </a:cubicBezTo>
                  <a:lnTo>
                    <a:pt x="885029" y="885029"/>
                  </a:lnTo>
                  <a:lnTo>
                    <a:pt x="1516627" y="1504996"/>
                  </a:lnTo>
                  <a:close/>
                </a:path>
              </a:pathLst>
            </a:custGeom>
            <a:solidFill>
              <a:srgbClr val="d00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饼形 49"/>
            <p:cNvSpPr/>
            <p:nvPr/>
          </p:nvSpPr>
          <p:spPr>
            <a:xfrm rot="5400000">
              <a:off x="3824280" y="2965320"/>
              <a:ext cx="1458720" cy="1458720"/>
            </a:xfrm>
            <a:custGeom>
              <a:avLst/>
              <a:gdLst/>
              <a:ahLst/>
              <a:rect l="l" t="t" r="r" b="b"/>
              <a:pathLst>
                <a:path w="1458909" h="1458908">
                  <a:moveTo>
                    <a:pt x="1246112" y="1244399"/>
                  </a:moveTo>
                  <a:cubicBezTo>
                    <a:pt x="1106786" y="1384188"/>
                    <a:pt x="916761" y="1461555"/>
                    <a:pt x="719415" y="1458838"/>
                  </a:cubicBezTo>
                  <a:lnTo>
                    <a:pt x="729455" y="729454"/>
                  </a:lnTo>
                  <a:lnTo>
                    <a:pt x="1246112" y="1244399"/>
                  </a:lnTo>
                  <a:close/>
                </a:path>
              </a:pathLst>
            </a:custGeom>
            <a:solidFill>
              <a:srgbClr val="ff5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" name="组合 66"/>
          <p:cNvGrpSpPr/>
          <p:nvPr/>
        </p:nvGrpSpPr>
        <p:grpSpPr>
          <a:xfrm>
            <a:off x="2798640" y="1928880"/>
            <a:ext cx="3522960" cy="3522600"/>
            <a:chOff x="2798640" y="1928880"/>
            <a:chExt cx="3522960" cy="3522600"/>
          </a:xfrm>
        </p:grpSpPr>
        <p:sp>
          <p:nvSpPr>
            <p:cNvPr id="79" name="饼形 52"/>
            <p:cNvSpPr/>
            <p:nvPr/>
          </p:nvSpPr>
          <p:spPr>
            <a:xfrm flipH="1" rot="16200000">
              <a:off x="2798640" y="1928520"/>
              <a:ext cx="3522600" cy="352296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5" y="3001536"/>
                  </a:moveTo>
                  <a:cubicBezTo>
                    <a:pt x="2679649" y="3336672"/>
                    <a:pt x="2226712" y="3524405"/>
                    <a:pt x="1754737" y="3522639"/>
                  </a:cubicBezTo>
                  <a:cubicBezTo>
                    <a:pt x="1756933" y="2935535"/>
                    <a:pt x="1759130" y="2348430"/>
                    <a:pt x="1761326" y="1761326"/>
                  </a:cubicBezTo>
                  <a:lnTo>
                    <a:pt x="3011985" y="3001536"/>
                  </a:lnTo>
                  <a:close/>
                </a:path>
              </a:pathLst>
            </a:cu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饼形 53"/>
            <p:cNvSpPr/>
            <p:nvPr/>
          </p:nvSpPr>
          <p:spPr>
            <a:xfrm flipH="1" rot="16200000">
              <a:off x="3182760" y="2304720"/>
              <a:ext cx="2770200" cy="2770560"/>
            </a:xfrm>
            <a:custGeom>
              <a:avLst/>
              <a:gdLst/>
              <a:ahLst/>
              <a:rect l="l" t="t" r="r" b="b"/>
              <a:pathLst>
                <a:path w="2770180" h="2770179">
                  <a:moveTo>
                    <a:pt x="2373556" y="2355352"/>
                  </a:moveTo>
                  <a:cubicBezTo>
                    <a:pt x="2112062" y="2621752"/>
                    <a:pt x="1754108" y="2771324"/>
                    <a:pt x="1380817" y="2770173"/>
                  </a:cubicBezTo>
                  <a:cubicBezTo>
                    <a:pt x="1382241" y="2308479"/>
                    <a:pt x="1383666" y="1846784"/>
                    <a:pt x="1385090" y="1385090"/>
                  </a:cubicBezTo>
                  <a:lnTo>
                    <a:pt x="2373556" y="2355352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饼形 54"/>
            <p:cNvSpPr/>
            <p:nvPr/>
          </p:nvSpPr>
          <p:spPr>
            <a:xfrm flipH="1" rot="16200000">
              <a:off x="3443040" y="2565000"/>
              <a:ext cx="2259000" cy="2259360"/>
            </a:xfrm>
            <a:custGeom>
              <a:avLst/>
              <a:gdLst/>
              <a:ahLst/>
              <a:rect l="l" t="t" r="r" b="b"/>
              <a:pathLst>
                <a:path w="2259007" h="2259006">
                  <a:moveTo>
                    <a:pt x="1935570" y="1920726"/>
                  </a:moveTo>
                  <a:cubicBezTo>
                    <a:pt x="1720911" y="2139412"/>
                    <a:pt x="1426611" y="2261495"/>
                    <a:pt x="1120187" y="2258968"/>
                  </a:cubicBezTo>
                  <a:cubicBezTo>
                    <a:pt x="1123293" y="1882480"/>
                    <a:pt x="1126398" y="1505991"/>
                    <a:pt x="1129504" y="1129503"/>
                  </a:cubicBezTo>
                  <a:lnTo>
                    <a:pt x="1935570" y="1920726"/>
                  </a:lnTo>
                  <a:close/>
                </a:path>
              </a:pathLst>
            </a:custGeom>
            <a:solidFill>
              <a:srgbClr val="f4e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饼形 55"/>
            <p:cNvSpPr/>
            <p:nvPr/>
          </p:nvSpPr>
          <p:spPr>
            <a:xfrm flipH="1" rot="16200000">
              <a:off x="3694320" y="2811600"/>
              <a:ext cx="1770120" cy="1770120"/>
            </a:xfrm>
            <a:custGeom>
              <a:avLst/>
              <a:gdLst/>
              <a:ahLst/>
              <a:rect l="l" t="t" r="r" b="b"/>
              <a:pathLst>
                <a:path w="1770057" h="1770058">
                  <a:moveTo>
                    <a:pt x="1516627" y="1504996"/>
                  </a:moveTo>
                  <a:cubicBezTo>
                    <a:pt x="1347272" y="1677529"/>
                    <a:pt x="1114707" y="1773270"/>
                    <a:pt x="872968" y="1769975"/>
                  </a:cubicBezTo>
                  <a:lnTo>
                    <a:pt x="885029" y="885029"/>
                  </a:lnTo>
                  <a:lnTo>
                    <a:pt x="1516627" y="1504996"/>
                  </a:lnTo>
                  <a:close/>
                </a:path>
              </a:pathLst>
            </a:custGeom>
            <a:solidFill>
              <a:srgbClr val="bcf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饼形 56"/>
            <p:cNvSpPr/>
            <p:nvPr/>
          </p:nvSpPr>
          <p:spPr>
            <a:xfrm flipH="1" rot="16200000">
              <a:off x="3839040" y="2964960"/>
              <a:ext cx="1458720" cy="1459080"/>
            </a:xfrm>
            <a:custGeom>
              <a:avLst/>
              <a:gdLst/>
              <a:ahLst/>
              <a:rect l="l" t="t" r="r" b="b"/>
              <a:pathLst>
                <a:path w="1458909" h="1458908">
                  <a:moveTo>
                    <a:pt x="1250203" y="1240262"/>
                  </a:moveTo>
                  <a:cubicBezTo>
                    <a:pt x="1110582" y="1382600"/>
                    <a:pt x="918781" y="1461583"/>
                    <a:pt x="719415" y="1458839"/>
                  </a:cubicBezTo>
                  <a:lnTo>
                    <a:pt x="729455" y="729454"/>
                  </a:lnTo>
                  <a:lnTo>
                    <a:pt x="1250203" y="1240262"/>
                  </a:lnTo>
                  <a:close/>
                </a:path>
              </a:pathLst>
            </a:custGeom>
            <a:solidFill>
              <a:srgbClr val="4f6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4" name="组合 65"/>
          <p:cNvGrpSpPr/>
          <p:nvPr/>
        </p:nvGrpSpPr>
        <p:grpSpPr>
          <a:xfrm>
            <a:off x="2800080" y="1920600"/>
            <a:ext cx="3522600" cy="3522600"/>
            <a:chOff x="2800080" y="1920600"/>
            <a:chExt cx="3522600" cy="3522600"/>
          </a:xfrm>
        </p:grpSpPr>
        <p:sp>
          <p:nvSpPr>
            <p:cNvPr id="85" name="饼形 60"/>
            <p:cNvSpPr/>
            <p:nvPr/>
          </p:nvSpPr>
          <p:spPr>
            <a:xfrm flipV="1" rot="16200000">
              <a:off x="2800080" y="1920240"/>
              <a:ext cx="35226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5" y="3001536"/>
                  </a:moveTo>
                  <a:cubicBezTo>
                    <a:pt x="2679649" y="3336672"/>
                    <a:pt x="2226712" y="3524405"/>
                    <a:pt x="1754737" y="3522639"/>
                  </a:cubicBezTo>
                  <a:cubicBezTo>
                    <a:pt x="1756933" y="2935535"/>
                    <a:pt x="1759130" y="2348430"/>
                    <a:pt x="1761326" y="1761326"/>
                  </a:cubicBezTo>
                  <a:lnTo>
                    <a:pt x="3011985" y="30015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饼形 61"/>
            <p:cNvSpPr/>
            <p:nvPr/>
          </p:nvSpPr>
          <p:spPr>
            <a:xfrm flipV="1" rot="16200000">
              <a:off x="3168360" y="2296440"/>
              <a:ext cx="2770200" cy="2770200"/>
            </a:xfrm>
            <a:custGeom>
              <a:avLst/>
              <a:gdLst/>
              <a:ahLst/>
              <a:rect l="l" t="t" r="r" b="b"/>
              <a:pathLst>
                <a:path w="2770178" h="2770179">
                  <a:moveTo>
                    <a:pt x="2373554" y="2355352"/>
                  </a:moveTo>
                  <a:cubicBezTo>
                    <a:pt x="2112060" y="2621752"/>
                    <a:pt x="1754107" y="2771325"/>
                    <a:pt x="1380815" y="2770173"/>
                  </a:cubicBezTo>
                  <a:cubicBezTo>
                    <a:pt x="1382240" y="2308479"/>
                    <a:pt x="1383664" y="1846784"/>
                    <a:pt x="1385089" y="1385090"/>
                  </a:cubicBezTo>
                  <a:lnTo>
                    <a:pt x="2373554" y="2355352"/>
                  </a:lnTo>
                  <a:close/>
                </a:path>
              </a:pathLst>
            </a:custGeom>
            <a:solidFill>
              <a:srgbClr val="8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饼形 62"/>
            <p:cNvSpPr/>
            <p:nvPr/>
          </p:nvSpPr>
          <p:spPr>
            <a:xfrm flipV="1" rot="16200000">
              <a:off x="3418920" y="2547000"/>
              <a:ext cx="2259000" cy="2259000"/>
            </a:xfrm>
            <a:custGeom>
              <a:avLst/>
              <a:gdLst/>
              <a:ahLst/>
              <a:rect l="l" t="t" r="r" b="b"/>
              <a:pathLst>
                <a:path w="2259005" h="2259006">
                  <a:moveTo>
                    <a:pt x="1935569" y="1920726"/>
                  </a:moveTo>
                  <a:cubicBezTo>
                    <a:pt x="1720910" y="2139412"/>
                    <a:pt x="1426610" y="2261495"/>
                    <a:pt x="1120187" y="2258968"/>
                  </a:cubicBezTo>
                  <a:cubicBezTo>
                    <a:pt x="1123292" y="1882480"/>
                    <a:pt x="1126398" y="1505991"/>
                    <a:pt x="1129503" y="1129503"/>
                  </a:cubicBezTo>
                  <a:lnTo>
                    <a:pt x="1935569" y="1920726"/>
                  </a:lnTo>
                  <a:close/>
                </a:path>
              </a:pathLst>
            </a:custGeom>
            <a:solidFill>
              <a:srgbClr val="bcf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饼形 63"/>
            <p:cNvSpPr/>
            <p:nvPr/>
          </p:nvSpPr>
          <p:spPr>
            <a:xfrm flipV="1" rot="16200000">
              <a:off x="3655800" y="2790000"/>
              <a:ext cx="1770120" cy="1770120"/>
            </a:xfrm>
            <a:custGeom>
              <a:avLst/>
              <a:gdLst/>
              <a:ahLst/>
              <a:rect l="l" t="t" r="r" b="b"/>
              <a:pathLst>
                <a:path w="1770057" h="1770056">
                  <a:moveTo>
                    <a:pt x="1516627" y="1504995"/>
                  </a:moveTo>
                  <a:cubicBezTo>
                    <a:pt x="1347272" y="1677527"/>
                    <a:pt x="1114707" y="1773268"/>
                    <a:pt x="872968" y="1769974"/>
                  </a:cubicBezTo>
                  <a:lnTo>
                    <a:pt x="885029" y="885028"/>
                  </a:lnTo>
                  <a:lnTo>
                    <a:pt x="1516627" y="1504995"/>
                  </a:lnTo>
                  <a:close/>
                </a:path>
              </a:pathLst>
            </a:custGeom>
            <a:solidFill>
              <a:srgbClr val="e1f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饼形 64"/>
            <p:cNvSpPr/>
            <p:nvPr/>
          </p:nvSpPr>
          <p:spPr>
            <a:xfrm flipV="1" rot="16200000">
              <a:off x="3822840" y="2948040"/>
              <a:ext cx="1458720" cy="1458720"/>
            </a:xfrm>
            <a:custGeom>
              <a:avLst/>
              <a:gdLst/>
              <a:ahLst/>
              <a:rect l="l" t="t" r="r" b="b"/>
              <a:pathLst>
                <a:path w="1458907" h="1458908">
                  <a:moveTo>
                    <a:pt x="1246110" y="1244399"/>
                  </a:moveTo>
                  <a:cubicBezTo>
                    <a:pt x="1106784" y="1384188"/>
                    <a:pt x="916760" y="1461555"/>
                    <a:pt x="719414" y="1458839"/>
                  </a:cubicBezTo>
                  <a:lnTo>
                    <a:pt x="729454" y="729454"/>
                  </a:lnTo>
                  <a:lnTo>
                    <a:pt x="1246110" y="1244399"/>
                  </a:lnTo>
                  <a:close/>
                </a:path>
              </a:pathLst>
            </a:custGeom>
            <a:solidFill>
              <a:srgbClr val="ec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" name="矩形 51"/>
          <p:cNvSpPr/>
          <p:nvPr/>
        </p:nvSpPr>
        <p:spPr>
          <a:xfrm>
            <a:off x="2697840" y="771480"/>
            <a:ext cx="44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绚烂圆形彩虹商务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2.96296E-006 L 0.17395 -0.53796 E">
                                      <p:cBhvr>
                                        <p:cTn id="6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4.44444E-006 L -0.16476 -0.53819 E">
                                      <p:cBhvr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4.44444E-006 L -0.49878 -0.27825 E">
                                      <p:cBhvr>
                                        <p:cTn id="10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2.96296E-006 L -0.49896 0.25602 E">
                                      <p:cBhvr>
                                        <p:cTn id="12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2.96296E-006 L -0.14843 0.46204 E">
                                      <p:cBhvr>
                                        <p:cTn id="14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2.96296E-006 L 0.14289 0.46204 E">
                                      <p:cBhvr>
                                        <p:cTn id="16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2.96296E-006 L 0.50139 0.26644 E">
                                      <p:cBhvr>
                                        <p:cTn id="18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44444E-006 L 0.50156 -0.25879 E">
                                      <p:cBhvr>
                                        <p:cTn id="20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1.04046E-006 L 0.17395 -0.53734 E">
                                      <p:cBhvr>
                                        <p:cTn id="23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25434E-006 L 0.50156 -0.25849 E">
                                      <p:cBhvr>
                                        <p:cTn id="25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1.04046E-006 L 0.50139 0.26613 E">
                                      <p:cBhvr>
                                        <p:cTn id="27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1.04046E-006 L 0.14289 0.4615 E">
                                      <p:cBhvr>
                                        <p:cTn id="29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1.04046E-006 L -0.14843 0.4615 E">
                                      <p:cBhvr>
                                        <p:cTn id="31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04046E-006 L -0.49896 0.25572 E">
                                      <p:cBhvr>
                                        <p:cTn id="33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4.9711E-006 L -0.49878 -0.27791 E">
                                      <p:cBhvr>
                                        <p:cTn id="35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2.25434E-006 L -0.16476 -0.53757 E">
                                      <p:cBhvr>
                                        <p:cTn id="37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组合 50"/>
          <p:cNvGrpSpPr/>
          <p:nvPr/>
        </p:nvGrpSpPr>
        <p:grpSpPr>
          <a:xfrm>
            <a:off x="-360" y="-1760400"/>
            <a:ext cx="3522600" cy="3520800"/>
            <a:chOff x="-360" y="-1760400"/>
            <a:chExt cx="3522600" cy="3520800"/>
          </a:xfrm>
        </p:grpSpPr>
        <p:sp>
          <p:nvSpPr>
            <p:cNvPr id="93" name="饼形 45"/>
            <p:cNvSpPr/>
            <p:nvPr/>
          </p:nvSpPr>
          <p:spPr>
            <a:xfrm rot="5400000">
              <a:off x="360" y="-1761120"/>
              <a:ext cx="35208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5" y="3001536"/>
                  </a:moveTo>
                  <a:cubicBezTo>
                    <a:pt x="2679649" y="3336672"/>
                    <a:pt x="2226712" y="3524405"/>
                    <a:pt x="1754737" y="3522639"/>
                  </a:cubicBezTo>
                  <a:cubicBezTo>
                    <a:pt x="1756933" y="2935535"/>
                    <a:pt x="1759130" y="2348430"/>
                    <a:pt x="1761326" y="1761326"/>
                  </a:cubicBezTo>
                  <a:lnTo>
                    <a:pt x="3011985" y="30015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饼形 46"/>
            <p:cNvSpPr/>
            <p:nvPr/>
          </p:nvSpPr>
          <p:spPr>
            <a:xfrm rot="5400000">
              <a:off x="368640" y="-1384560"/>
              <a:ext cx="2768400" cy="2770200"/>
            </a:xfrm>
            <a:custGeom>
              <a:avLst/>
              <a:gdLst/>
              <a:ahLst/>
              <a:rect l="l" t="t" r="r" b="b"/>
              <a:pathLst>
                <a:path w="2769839" h="2770179">
                  <a:moveTo>
                    <a:pt x="2373323" y="2355291"/>
                  </a:moveTo>
                  <a:cubicBezTo>
                    <a:pt x="2111857" y="2621728"/>
                    <a:pt x="1753921" y="2771324"/>
                    <a:pt x="1380645" y="2770172"/>
                  </a:cubicBezTo>
                  <a:lnTo>
                    <a:pt x="1384920" y="1385090"/>
                  </a:lnTo>
                  <a:lnTo>
                    <a:pt x="2373323" y="2355291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饼形 47"/>
            <p:cNvSpPr/>
            <p:nvPr/>
          </p:nvSpPr>
          <p:spPr>
            <a:xfrm rot="5400000">
              <a:off x="619200" y="-1124280"/>
              <a:ext cx="2257200" cy="2259000"/>
            </a:xfrm>
            <a:custGeom>
              <a:avLst/>
              <a:gdLst/>
              <a:ahLst/>
              <a:rect l="l" t="t" r="r" b="b"/>
              <a:pathLst>
                <a:path w="2258435" h="2259006">
                  <a:moveTo>
                    <a:pt x="1935180" y="1920624"/>
                  </a:moveTo>
                  <a:cubicBezTo>
                    <a:pt x="1720568" y="2139373"/>
                    <a:pt x="1426298" y="2261496"/>
                    <a:pt x="1119901" y="2258968"/>
                  </a:cubicBezTo>
                  <a:cubicBezTo>
                    <a:pt x="1123007" y="1882480"/>
                    <a:pt x="1126112" y="1505991"/>
                    <a:pt x="1129218" y="1129503"/>
                  </a:cubicBezTo>
                  <a:lnTo>
                    <a:pt x="1935180" y="1920624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饼形 48"/>
            <p:cNvSpPr/>
            <p:nvPr/>
          </p:nvSpPr>
          <p:spPr>
            <a:xfrm rot="5400000">
              <a:off x="856080" y="-878400"/>
              <a:ext cx="1768320" cy="1770120"/>
            </a:xfrm>
            <a:custGeom>
              <a:avLst/>
              <a:gdLst/>
              <a:ahLst/>
              <a:rect l="l" t="t" r="r" b="b"/>
              <a:pathLst>
                <a:path w="1769268" h="1770056">
                  <a:moveTo>
                    <a:pt x="1516089" y="1504854"/>
                  </a:moveTo>
                  <a:cubicBezTo>
                    <a:pt x="1346798" y="1677474"/>
                    <a:pt x="1114276" y="1773271"/>
                    <a:pt x="872574" y="1769974"/>
                  </a:cubicBezTo>
                  <a:lnTo>
                    <a:pt x="884634" y="885028"/>
                  </a:lnTo>
                  <a:lnTo>
                    <a:pt x="1516089" y="1504854"/>
                  </a:lnTo>
                  <a:close/>
                </a:path>
              </a:pathLst>
            </a:custGeom>
            <a:solidFill>
              <a:srgbClr val="d00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饼形 49"/>
            <p:cNvSpPr/>
            <p:nvPr/>
          </p:nvSpPr>
          <p:spPr>
            <a:xfrm rot="5400000">
              <a:off x="1022760" y="-724320"/>
              <a:ext cx="1457280" cy="1458720"/>
            </a:xfrm>
            <a:custGeom>
              <a:avLst/>
              <a:gdLst/>
              <a:ahLst/>
              <a:rect l="l" t="t" r="r" b="b"/>
              <a:pathLst>
                <a:path w="1457977" h="1458908">
                  <a:moveTo>
                    <a:pt x="1245480" y="1244234"/>
                  </a:moveTo>
                  <a:cubicBezTo>
                    <a:pt x="1106229" y="1384126"/>
                    <a:pt x="916252" y="1461558"/>
                    <a:pt x="718949" y="1458838"/>
                  </a:cubicBezTo>
                  <a:lnTo>
                    <a:pt x="728989" y="729454"/>
                  </a:lnTo>
                  <a:lnTo>
                    <a:pt x="1245480" y="1244234"/>
                  </a:lnTo>
                  <a:close/>
                </a:path>
              </a:pathLst>
            </a:custGeom>
            <a:solidFill>
              <a:srgbClr val="ff5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8" name="组合 12"/>
          <p:cNvGrpSpPr/>
          <p:nvPr/>
        </p:nvGrpSpPr>
        <p:grpSpPr>
          <a:xfrm>
            <a:off x="7383600" y="-360"/>
            <a:ext cx="3520800" cy="3522600"/>
            <a:chOff x="7383600" y="-360"/>
            <a:chExt cx="3520800" cy="3522600"/>
          </a:xfrm>
        </p:grpSpPr>
        <p:sp>
          <p:nvSpPr>
            <p:cNvPr id="99" name="饼形 11"/>
            <p:cNvSpPr/>
            <p:nvPr/>
          </p:nvSpPr>
          <p:spPr>
            <a:xfrm rot="10800000">
              <a:off x="7383600" y="-360"/>
              <a:ext cx="35208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5" y="3001536"/>
                  </a:moveTo>
                  <a:cubicBezTo>
                    <a:pt x="2679649" y="3336672"/>
                    <a:pt x="2226712" y="3524405"/>
                    <a:pt x="1754737" y="3522639"/>
                  </a:cubicBezTo>
                  <a:cubicBezTo>
                    <a:pt x="1756933" y="2935535"/>
                    <a:pt x="1759130" y="2348430"/>
                    <a:pt x="1761326" y="1761326"/>
                  </a:cubicBezTo>
                  <a:lnTo>
                    <a:pt x="3011985" y="3001536"/>
                  </a:lnTo>
                  <a:close/>
                </a:path>
              </a:pathLst>
            </a:custGeom>
            <a:solidFill>
              <a:srgbClr val="ff82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饼形 9"/>
            <p:cNvSpPr/>
            <p:nvPr/>
          </p:nvSpPr>
          <p:spPr>
            <a:xfrm rot="10800000">
              <a:off x="7759800" y="367560"/>
              <a:ext cx="2768400" cy="2770200"/>
            </a:xfrm>
            <a:custGeom>
              <a:avLst/>
              <a:gdLst/>
              <a:ahLst/>
              <a:rect l="l" t="t" r="r" b="b"/>
              <a:pathLst>
                <a:path w="2769840" h="2770179">
                  <a:moveTo>
                    <a:pt x="2373324" y="2355291"/>
                  </a:moveTo>
                  <a:cubicBezTo>
                    <a:pt x="2111856" y="2621730"/>
                    <a:pt x="1753918" y="2771326"/>
                    <a:pt x="1380640" y="2770172"/>
                  </a:cubicBezTo>
                  <a:cubicBezTo>
                    <a:pt x="1382067" y="2308478"/>
                    <a:pt x="1383493" y="1846784"/>
                    <a:pt x="1384920" y="1385090"/>
                  </a:cubicBezTo>
                  <a:lnTo>
                    <a:pt x="2373324" y="2355291"/>
                  </a:lnTo>
                  <a:close/>
                </a:path>
              </a:pathLst>
            </a:custGeom>
            <a:solidFill>
              <a:srgbClr val="ff94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饼形 8"/>
            <p:cNvSpPr/>
            <p:nvPr/>
          </p:nvSpPr>
          <p:spPr>
            <a:xfrm rot="10800000">
              <a:off x="8010360" y="618480"/>
              <a:ext cx="2257200" cy="2259000"/>
            </a:xfrm>
            <a:custGeom>
              <a:avLst/>
              <a:gdLst/>
              <a:ahLst/>
              <a:rect l="l" t="t" r="r" b="b"/>
              <a:pathLst>
                <a:path w="2258436" h="2259006">
                  <a:moveTo>
                    <a:pt x="1935181" y="1920624"/>
                  </a:moveTo>
                  <a:cubicBezTo>
                    <a:pt x="1720569" y="2139373"/>
                    <a:pt x="1426299" y="2261496"/>
                    <a:pt x="1119902" y="2258968"/>
                  </a:cubicBezTo>
                  <a:cubicBezTo>
                    <a:pt x="1123007" y="1882480"/>
                    <a:pt x="1126113" y="1505991"/>
                    <a:pt x="1129218" y="1129503"/>
                  </a:cubicBezTo>
                  <a:lnTo>
                    <a:pt x="1935181" y="1920624"/>
                  </a:lnTo>
                  <a:close/>
                </a:path>
              </a:pathLst>
            </a:custGeom>
            <a:solidFill>
              <a:srgbClr val="ffa6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饼形 7"/>
            <p:cNvSpPr/>
            <p:nvPr/>
          </p:nvSpPr>
          <p:spPr>
            <a:xfrm rot="10800000">
              <a:off x="8253360" y="855360"/>
              <a:ext cx="1768320" cy="1770120"/>
            </a:xfrm>
            <a:custGeom>
              <a:avLst/>
              <a:gdLst/>
              <a:ahLst/>
              <a:rect l="l" t="t" r="r" b="b"/>
              <a:pathLst>
                <a:path w="1769267" h="1770056">
                  <a:moveTo>
                    <a:pt x="1516088" y="1504854"/>
                  </a:moveTo>
                  <a:cubicBezTo>
                    <a:pt x="1346797" y="1677474"/>
                    <a:pt x="1114275" y="1773271"/>
                    <a:pt x="872573" y="1769974"/>
                  </a:cubicBezTo>
                  <a:lnTo>
                    <a:pt x="884634" y="885028"/>
                  </a:lnTo>
                  <a:lnTo>
                    <a:pt x="1516088" y="1504854"/>
                  </a:lnTo>
                  <a:close/>
                </a:path>
              </a:pathLst>
            </a:custGeom>
            <a:solidFill>
              <a:srgbClr val="f6b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饼形 6"/>
            <p:cNvSpPr/>
            <p:nvPr/>
          </p:nvSpPr>
          <p:spPr>
            <a:xfrm rot="10800000">
              <a:off x="8410680" y="1022040"/>
              <a:ext cx="1457280" cy="1458720"/>
            </a:xfrm>
            <a:custGeom>
              <a:avLst/>
              <a:gdLst/>
              <a:ahLst/>
              <a:rect l="l" t="t" r="r" b="b"/>
              <a:pathLst>
                <a:path w="1457978" h="1458908">
                  <a:moveTo>
                    <a:pt x="1245481" y="1244234"/>
                  </a:moveTo>
                  <a:cubicBezTo>
                    <a:pt x="1106230" y="1384126"/>
                    <a:pt x="916253" y="1461558"/>
                    <a:pt x="718950" y="1458838"/>
                  </a:cubicBezTo>
                  <a:lnTo>
                    <a:pt x="728989" y="729454"/>
                  </a:lnTo>
                  <a:lnTo>
                    <a:pt x="1245481" y="1244234"/>
                  </a:lnTo>
                  <a:close/>
                </a:path>
              </a:pathLst>
            </a:custGeom>
            <a:solidFill>
              <a:srgbClr val="ffc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4" name="组合 21"/>
          <p:cNvGrpSpPr/>
          <p:nvPr/>
        </p:nvGrpSpPr>
        <p:grpSpPr>
          <a:xfrm>
            <a:off x="-1760400" y="-360"/>
            <a:ext cx="3520800" cy="3522600"/>
            <a:chOff x="-1760400" y="-360"/>
            <a:chExt cx="3520800" cy="3522600"/>
          </a:xfrm>
        </p:grpSpPr>
        <p:sp>
          <p:nvSpPr>
            <p:cNvPr id="105" name="饼形 16"/>
            <p:cNvSpPr/>
            <p:nvPr/>
          </p:nvSpPr>
          <p:spPr>
            <a:xfrm flipH="1" rot="10800000">
              <a:off x="-1760400" y="-360"/>
              <a:ext cx="35208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5" y="3001536"/>
                  </a:moveTo>
                  <a:cubicBezTo>
                    <a:pt x="2679649" y="3336672"/>
                    <a:pt x="2226712" y="3524405"/>
                    <a:pt x="1754737" y="3522639"/>
                  </a:cubicBezTo>
                  <a:cubicBezTo>
                    <a:pt x="1756933" y="2935535"/>
                    <a:pt x="1759130" y="2348430"/>
                    <a:pt x="1761326" y="1761326"/>
                  </a:cubicBezTo>
                  <a:lnTo>
                    <a:pt x="3011985" y="30015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饼形 17"/>
            <p:cNvSpPr/>
            <p:nvPr/>
          </p:nvSpPr>
          <p:spPr>
            <a:xfrm flipH="1" rot="10800000">
              <a:off x="-1383840" y="367920"/>
              <a:ext cx="2768400" cy="2770200"/>
            </a:xfrm>
            <a:custGeom>
              <a:avLst/>
              <a:gdLst/>
              <a:ahLst/>
              <a:rect l="l" t="t" r="r" b="b"/>
              <a:pathLst>
                <a:path w="2769839" h="2770179">
                  <a:moveTo>
                    <a:pt x="2373323" y="2355291"/>
                  </a:moveTo>
                  <a:cubicBezTo>
                    <a:pt x="2111855" y="2621730"/>
                    <a:pt x="1753917" y="2771326"/>
                    <a:pt x="1380639" y="2770172"/>
                  </a:cubicBezTo>
                  <a:lnTo>
                    <a:pt x="1384920" y="1385090"/>
                  </a:lnTo>
                  <a:lnTo>
                    <a:pt x="2373323" y="2355291"/>
                  </a:lnTo>
                  <a:close/>
                </a:path>
              </a:pathLst>
            </a:custGeom>
            <a:solidFill>
              <a:srgbClr val="8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饼形 18"/>
            <p:cNvSpPr/>
            <p:nvPr/>
          </p:nvSpPr>
          <p:spPr>
            <a:xfrm flipH="1" rot="10800000">
              <a:off x="-1123560" y="618480"/>
              <a:ext cx="2257200" cy="2259000"/>
            </a:xfrm>
            <a:custGeom>
              <a:avLst/>
              <a:gdLst/>
              <a:ahLst/>
              <a:rect l="l" t="t" r="r" b="b"/>
              <a:pathLst>
                <a:path w="2258435" h="2259006">
                  <a:moveTo>
                    <a:pt x="1935180" y="1920624"/>
                  </a:moveTo>
                  <a:cubicBezTo>
                    <a:pt x="1720568" y="2139373"/>
                    <a:pt x="1426298" y="2261496"/>
                    <a:pt x="1119901" y="2258968"/>
                  </a:cubicBezTo>
                  <a:cubicBezTo>
                    <a:pt x="1123007" y="1882480"/>
                    <a:pt x="1126112" y="1505991"/>
                    <a:pt x="1129218" y="1129503"/>
                  </a:cubicBezTo>
                  <a:lnTo>
                    <a:pt x="1935180" y="1920624"/>
                  </a:lnTo>
                  <a:close/>
                </a:path>
              </a:pathLst>
            </a:custGeom>
            <a:solidFill>
              <a:srgbClr val="c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饼形 19"/>
            <p:cNvSpPr/>
            <p:nvPr/>
          </p:nvSpPr>
          <p:spPr>
            <a:xfrm flipH="1" rot="10800000">
              <a:off x="-877680" y="855360"/>
              <a:ext cx="1768320" cy="1770120"/>
            </a:xfrm>
            <a:custGeom>
              <a:avLst/>
              <a:gdLst/>
              <a:ahLst/>
              <a:rect l="l" t="t" r="r" b="b"/>
              <a:pathLst>
                <a:path w="1769268" h="1770056">
                  <a:moveTo>
                    <a:pt x="1516089" y="1504854"/>
                  </a:moveTo>
                  <a:cubicBezTo>
                    <a:pt x="1346798" y="1677474"/>
                    <a:pt x="1114276" y="1773271"/>
                    <a:pt x="872574" y="1769974"/>
                  </a:cubicBezTo>
                  <a:lnTo>
                    <a:pt x="884634" y="885028"/>
                  </a:lnTo>
                  <a:lnTo>
                    <a:pt x="1516089" y="1504854"/>
                  </a:lnTo>
                  <a:close/>
                </a:path>
              </a:pathLst>
            </a:custGeom>
            <a:solidFill>
              <a:srgbClr val="f6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饼形 20"/>
            <p:cNvSpPr/>
            <p:nvPr/>
          </p:nvSpPr>
          <p:spPr>
            <a:xfrm flipH="1" rot="10800000">
              <a:off x="-723600" y="1022400"/>
              <a:ext cx="1457280" cy="1458720"/>
            </a:xfrm>
            <a:custGeom>
              <a:avLst/>
              <a:gdLst/>
              <a:ahLst/>
              <a:rect l="l" t="t" r="r" b="b"/>
              <a:pathLst>
                <a:path w="1457977" h="1458908">
                  <a:moveTo>
                    <a:pt x="1245480" y="1244234"/>
                  </a:moveTo>
                  <a:cubicBezTo>
                    <a:pt x="1106229" y="1384126"/>
                    <a:pt x="916252" y="1461558"/>
                    <a:pt x="718949" y="1458838"/>
                  </a:cubicBezTo>
                  <a:lnTo>
                    <a:pt x="728989" y="729454"/>
                  </a:lnTo>
                  <a:lnTo>
                    <a:pt x="1245480" y="1244234"/>
                  </a:lnTo>
                  <a:close/>
                </a:path>
              </a:pathLst>
            </a:custGeom>
            <a:solidFill>
              <a:srgbClr val="fe61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0" name="组合 29"/>
          <p:cNvGrpSpPr/>
          <p:nvPr/>
        </p:nvGrpSpPr>
        <p:grpSpPr>
          <a:xfrm>
            <a:off x="7383600" y="3334680"/>
            <a:ext cx="3520800" cy="3522600"/>
            <a:chOff x="7383600" y="3334680"/>
            <a:chExt cx="3520800" cy="3522600"/>
          </a:xfrm>
        </p:grpSpPr>
        <p:sp>
          <p:nvSpPr>
            <p:cNvPr id="111" name="饼形 24"/>
            <p:cNvSpPr/>
            <p:nvPr/>
          </p:nvSpPr>
          <p:spPr>
            <a:xfrm flipV="1" rot="10800000">
              <a:off x="7383600" y="3334320"/>
              <a:ext cx="35208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5" y="3001536"/>
                  </a:moveTo>
                  <a:cubicBezTo>
                    <a:pt x="2679649" y="3336672"/>
                    <a:pt x="2226712" y="3524405"/>
                    <a:pt x="1754737" y="3522639"/>
                  </a:cubicBezTo>
                  <a:cubicBezTo>
                    <a:pt x="1756933" y="2935535"/>
                    <a:pt x="1759130" y="2348430"/>
                    <a:pt x="1761326" y="1761326"/>
                  </a:cubicBezTo>
                  <a:lnTo>
                    <a:pt x="3011985" y="3001536"/>
                  </a:lnTo>
                  <a:close/>
                </a:path>
              </a:pathLst>
            </a:custGeom>
            <a:solidFill>
              <a:srgbClr val="017c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饼形 25"/>
            <p:cNvSpPr/>
            <p:nvPr/>
          </p:nvSpPr>
          <p:spPr>
            <a:xfrm flipV="1" rot="10800000">
              <a:off x="7759800" y="3718440"/>
              <a:ext cx="2768400" cy="2770200"/>
            </a:xfrm>
            <a:custGeom>
              <a:avLst/>
              <a:gdLst/>
              <a:ahLst/>
              <a:rect l="l" t="t" r="r" b="b"/>
              <a:pathLst>
                <a:path w="2769840" h="2770179">
                  <a:moveTo>
                    <a:pt x="2373324" y="2355291"/>
                  </a:moveTo>
                  <a:cubicBezTo>
                    <a:pt x="2111856" y="2621730"/>
                    <a:pt x="1753918" y="2771326"/>
                    <a:pt x="1380640" y="2770172"/>
                  </a:cubicBezTo>
                  <a:cubicBezTo>
                    <a:pt x="1382067" y="2308478"/>
                    <a:pt x="1383493" y="1846784"/>
                    <a:pt x="1384920" y="1385090"/>
                  </a:cubicBezTo>
                  <a:lnTo>
                    <a:pt x="2373324" y="2355291"/>
                  </a:lnTo>
                  <a:close/>
                </a:path>
              </a:pathLst>
            </a:custGeom>
            <a:solidFill>
              <a:srgbClr val="0098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饼形 26"/>
            <p:cNvSpPr/>
            <p:nvPr/>
          </p:nvSpPr>
          <p:spPr>
            <a:xfrm flipV="1" rot="10800000">
              <a:off x="8010360" y="3978720"/>
              <a:ext cx="2257200" cy="2259000"/>
            </a:xfrm>
            <a:custGeom>
              <a:avLst/>
              <a:gdLst/>
              <a:ahLst/>
              <a:rect l="l" t="t" r="r" b="b"/>
              <a:pathLst>
                <a:path w="2258436" h="2259006">
                  <a:moveTo>
                    <a:pt x="1935181" y="1920624"/>
                  </a:moveTo>
                  <a:cubicBezTo>
                    <a:pt x="1720569" y="2139373"/>
                    <a:pt x="1426299" y="2261496"/>
                    <a:pt x="1119902" y="2258968"/>
                  </a:cubicBezTo>
                  <a:cubicBezTo>
                    <a:pt x="1123007" y="1882480"/>
                    <a:pt x="1126113" y="1505991"/>
                    <a:pt x="1129218" y="1129503"/>
                  </a:cubicBezTo>
                  <a:lnTo>
                    <a:pt x="1935181" y="1920624"/>
                  </a:lnTo>
                  <a:close/>
                </a:path>
              </a:pathLst>
            </a:custGeom>
            <a:solidFill>
              <a:srgbClr val="00c4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饼形 27"/>
            <p:cNvSpPr/>
            <p:nvPr/>
          </p:nvSpPr>
          <p:spPr>
            <a:xfrm flipV="1" rot="10800000">
              <a:off x="8253360" y="4231080"/>
              <a:ext cx="1768320" cy="1770120"/>
            </a:xfrm>
            <a:custGeom>
              <a:avLst/>
              <a:gdLst/>
              <a:ahLst/>
              <a:rect l="l" t="t" r="r" b="b"/>
              <a:pathLst>
                <a:path w="1769267" h="1770058">
                  <a:moveTo>
                    <a:pt x="1516088" y="1504855"/>
                  </a:moveTo>
                  <a:cubicBezTo>
                    <a:pt x="1346797" y="1677476"/>
                    <a:pt x="1114274" y="1773272"/>
                    <a:pt x="872573" y="1769975"/>
                  </a:cubicBezTo>
                  <a:lnTo>
                    <a:pt x="884634" y="885029"/>
                  </a:lnTo>
                  <a:lnTo>
                    <a:pt x="1516088" y="1504855"/>
                  </a:lnTo>
                  <a:close/>
                </a:path>
              </a:pathLst>
            </a:custGeom>
            <a:solidFill>
              <a:srgbClr val="71ff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饼形 28"/>
            <p:cNvSpPr/>
            <p:nvPr/>
          </p:nvSpPr>
          <p:spPr>
            <a:xfrm flipV="1" rot="10800000">
              <a:off x="8410680" y="4376880"/>
              <a:ext cx="1457280" cy="1458720"/>
            </a:xfrm>
            <a:custGeom>
              <a:avLst/>
              <a:gdLst/>
              <a:ahLst/>
              <a:rect l="l" t="t" r="r" b="b"/>
              <a:pathLst>
                <a:path w="1457978" h="1458908">
                  <a:moveTo>
                    <a:pt x="1245481" y="1244234"/>
                  </a:moveTo>
                  <a:cubicBezTo>
                    <a:pt x="1106230" y="1384126"/>
                    <a:pt x="916253" y="1461558"/>
                    <a:pt x="718950" y="1458838"/>
                  </a:cubicBezTo>
                  <a:lnTo>
                    <a:pt x="728989" y="729454"/>
                  </a:lnTo>
                  <a:lnTo>
                    <a:pt x="1245481" y="1244234"/>
                  </a:lnTo>
                  <a:close/>
                </a:path>
              </a:pathLst>
            </a:custGeom>
            <a:solidFill>
              <a:srgbClr val="a7f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6" name="组合 36"/>
          <p:cNvGrpSpPr/>
          <p:nvPr/>
        </p:nvGrpSpPr>
        <p:grpSpPr>
          <a:xfrm>
            <a:off x="-1760400" y="3334680"/>
            <a:ext cx="3520800" cy="3522600"/>
            <a:chOff x="-1760400" y="3334680"/>
            <a:chExt cx="3520800" cy="3522600"/>
          </a:xfrm>
        </p:grpSpPr>
        <p:sp>
          <p:nvSpPr>
            <p:cNvPr id="117" name="饼形 31"/>
            <p:cNvSpPr/>
            <p:nvPr/>
          </p:nvSpPr>
          <p:spPr>
            <a:xfrm flipH="1" flipV="1" rot="10800000">
              <a:off x="-1760400" y="3334320"/>
              <a:ext cx="35208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5" y="3001536"/>
                  </a:moveTo>
                  <a:cubicBezTo>
                    <a:pt x="2679649" y="3336672"/>
                    <a:pt x="2226712" y="3524405"/>
                    <a:pt x="1754737" y="3522639"/>
                  </a:cubicBezTo>
                  <a:cubicBezTo>
                    <a:pt x="1756933" y="2935535"/>
                    <a:pt x="1759130" y="2348430"/>
                    <a:pt x="1761326" y="1761326"/>
                  </a:cubicBezTo>
                  <a:lnTo>
                    <a:pt x="3011985" y="30015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饼形 32"/>
            <p:cNvSpPr/>
            <p:nvPr/>
          </p:nvSpPr>
          <p:spPr>
            <a:xfrm flipH="1" flipV="1" rot="10800000">
              <a:off x="-1383840" y="3718440"/>
              <a:ext cx="2768400" cy="2770200"/>
            </a:xfrm>
            <a:custGeom>
              <a:avLst/>
              <a:gdLst/>
              <a:ahLst/>
              <a:rect l="l" t="t" r="r" b="b"/>
              <a:pathLst>
                <a:path w="2769839" h="2770179">
                  <a:moveTo>
                    <a:pt x="2373323" y="2355291"/>
                  </a:moveTo>
                  <a:cubicBezTo>
                    <a:pt x="2111857" y="2621728"/>
                    <a:pt x="1753921" y="2771324"/>
                    <a:pt x="1380645" y="2770172"/>
                  </a:cubicBezTo>
                  <a:lnTo>
                    <a:pt x="1384920" y="1385090"/>
                  </a:lnTo>
                  <a:lnTo>
                    <a:pt x="2373323" y="2355291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饼形 33"/>
            <p:cNvSpPr/>
            <p:nvPr/>
          </p:nvSpPr>
          <p:spPr>
            <a:xfrm flipH="1" flipV="1" rot="10800000">
              <a:off x="-1123560" y="3978720"/>
              <a:ext cx="2257200" cy="2259000"/>
            </a:xfrm>
            <a:custGeom>
              <a:avLst/>
              <a:gdLst/>
              <a:ahLst/>
              <a:rect l="l" t="t" r="r" b="b"/>
              <a:pathLst>
                <a:path w="2258435" h="2259006">
                  <a:moveTo>
                    <a:pt x="1935180" y="1920624"/>
                  </a:moveTo>
                  <a:cubicBezTo>
                    <a:pt x="1720568" y="2139373"/>
                    <a:pt x="1426298" y="2261496"/>
                    <a:pt x="1119901" y="2258968"/>
                  </a:cubicBezTo>
                  <a:cubicBezTo>
                    <a:pt x="1123007" y="1882480"/>
                    <a:pt x="1126112" y="1505991"/>
                    <a:pt x="1129218" y="1129503"/>
                  </a:cubicBezTo>
                  <a:lnTo>
                    <a:pt x="1935180" y="1920624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饼形 34"/>
            <p:cNvSpPr/>
            <p:nvPr/>
          </p:nvSpPr>
          <p:spPr>
            <a:xfrm flipH="1" flipV="1" rot="10800000">
              <a:off x="-877680" y="4231080"/>
              <a:ext cx="1768320" cy="1770120"/>
            </a:xfrm>
            <a:custGeom>
              <a:avLst/>
              <a:gdLst/>
              <a:ahLst/>
              <a:rect l="l" t="t" r="r" b="b"/>
              <a:pathLst>
                <a:path w="1769268" h="1770058">
                  <a:moveTo>
                    <a:pt x="1516089" y="1504855"/>
                  </a:moveTo>
                  <a:cubicBezTo>
                    <a:pt x="1346798" y="1677476"/>
                    <a:pt x="1114275" y="1773272"/>
                    <a:pt x="872574" y="1769975"/>
                  </a:cubicBezTo>
                  <a:lnTo>
                    <a:pt x="884634" y="885029"/>
                  </a:lnTo>
                  <a:lnTo>
                    <a:pt x="1516089" y="1504855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饼形 35"/>
            <p:cNvSpPr/>
            <p:nvPr/>
          </p:nvSpPr>
          <p:spPr>
            <a:xfrm flipH="1" flipV="1" rot="10800000">
              <a:off x="-723600" y="4376880"/>
              <a:ext cx="1457280" cy="1458720"/>
            </a:xfrm>
            <a:custGeom>
              <a:avLst/>
              <a:gdLst/>
              <a:ahLst/>
              <a:rect l="l" t="t" r="r" b="b"/>
              <a:pathLst>
                <a:path w="1457977" h="1458908">
                  <a:moveTo>
                    <a:pt x="1245480" y="1244234"/>
                  </a:moveTo>
                  <a:cubicBezTo>
                    <a:pt x="1106229" y="1384126"/>
                    <a:pt x="916252" y="1461558"/>
                    <a:pt x="718949" y="1458838"/>
                  </a:cubicBezTo>
                  <a:lnTo>
                    <a:pt x="728989" y="729454"/>
                  </a:lnTo>
                  <a:lnTo>
                    <a:pt x="1245480" y="1244234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2" name="组合 37"/>
          <p:cNvGrpSpPr/>
          <p:nvPr/>
        </p:nvGrpSpPr>
        <p:grpSpPr>
          <a:xfrm>
            <a:off x="5620680" y="5097600"/>
            <a:ext cx="3522600" cy="3520800"/>
            <a:chOff x="5620680" y="5097600"/>
            <a:chExt cx="3522600" cy="3520800"/>
          </a:xfrm>
        </p:grpSpPr>
        <p:sp>
          <p:nvSpPr>
            <p:cNvPr id="123" name="饼形 38"/>
            <p:cNvSpPr/>
            <p:nvPr/>
          </p:nvSpPr>
          <p:spPr>
            <a:xfrm flipH="1" flipV="1" rot="5400000">
              <a:off x="5621040" y="5096520"/>
              <a:ext cx="35208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5" y="3001536"/>
                  </a:moveTo>
                  <a:cubicBezTo>
                    <a:pt x="2679649" y="3336672"/>
                    <a:pt x="2226712" y="3524405"/>
                    <a:pt x="1754737" y="3522639"/>
                  </a:cubicBezTo>
                  <a:cubicBezTo>
                    <a:pt x="1756933" y="2935535"/>
                    <a:pt x="1759130" y="2348430"/>
                    <a:pt x="1761326" y="1761326"/>
                  </a:cubicBezTo>
                  <a:lnTo>
                    <a:pt x="3011985" y="30015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饼形 39"/>
            <p:cNvSpPr/>
            <p:nvPr/>
          </p:nvSpPr>
          <p:spPr>
            <a:xfrm flipH="1" flipV="1" rot="5400000">
              <a:off x="6005160" y="5472720"/>
              <a:ext cx="2768400" cy="2770200"/>
            </a:xfrm>
            <a:custGeom>
              <a:avLst/>
              <a:gdLst/>
              <a:ahLst/>
              <a:rect l="l" t="t" r="r" b="b"/>
              <a:pathLst>
                <a:path w="2769840" h="2770179">
                  <a:moveTo>
                    <a:pt x="2373324" y="2355291"/>
                  </a:moveTo>
                  <a:cubicBezTo>
                    <a:pt x="2111858" y="2621728"/>
                    <a:pt x="1753922" y="2771324"/>
                    <a:pt x="1380646" y="2770172"/>
                  </a:cubicBezTo>
                  <a:cubicBezTo>
                    <a:pt x="1382071" y="2308478"/>
                    <a:pt x="1383495" y="1846784"/>
                    <a:pt x="1384920" y="1385090"/>
                  </a:cubicBezTo>
                  <a:lnTo>
                    <a:pt x="2373324" y="2355291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饼形 40"/>
            <p:cNvSpPr/>
            <p:nvPr/>
          </p:nvSpPr>
          <p:spPr>
            <a:xfrm flipH="1" flipV="1" rot="5400000">
              <a:off x="6265440" y="5723640"/>
              <a:ext cx="2257200" cy="2259000"/>
            </a:xfrm>
            <a:custGeom>
              <a:avLst/>
              <a:gdLst/>
              <a:ahLst/>
              <a:rect l="l" t="t" r="r" b="b"/>
              <a:pathLst>
                <a:path w="2258436" h="2259006">
                  <a:moveTo>
                    <a:pt x="1935181" y="1920624"/>
                  </a:moveTo>
                  <a:cubicBezTo>
                    <a:pt x="1720569" y="2139373"/>
                    <a:pt x="1426299" y="2261496"/>
                    <a:pt x="1119902" y="2258968"/>
                  </a:cubicBezTo>
                  <a:cubicBezTo>
                    <a:pt x="1123007" y="1882480"/>
                    <a:pt x="1126113" y="1505991"/>
                    <a:pt x="1129218" y="1129503"/>
                  </a:cubicBezTo>
                  <a:lnTo>
                    <a:pt x="1935181" y="1920624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饼形 41"/>
            <p:cNvSpPr/>
            <p:nvPr/>
          </p:nvSpPr>
          <p:spPr>
            <a:xfrm flipH="1" flipV="1" rot="5400000">
              <a:off x="6517800" y="5966640"/>
              <a:ext cx="1768320" cy="1770120"/>
            </a:xfrm>
            <a:custGeom>
              <a:avLst/>
              <a:gdLst/>
              <a:ahLst/>
              <a:rect l="l" t="t" r="r" b="b"/>
              <a:pathLst>
                <a:path w="1769267" h="1770058">
                  <a:moveTo>
                    <a:pt x="1516088" y="1504855"/>
                  </a:moveTo>
                  <a:cubicBezTo>
                    <a:pt x="1346797" y="1677476"/>
                    <a:pt x="1114274" y="1773272"/>
                    <a:pt x="872573" y="1769975"/>
                  </a:cubicBezTo>
                  <a:lnTo>
                    <a:pt x="884634" y="885029"/>
                  </a:lnTo>
                  <a:lnTo>
                    <a:pt x="1516088" y="1504855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饼形 42"/>
            <p:cNvSpPr/>
            <p:nvPr/>
          </p:nvSpPr>
          <p:spPr>
            <a:xfrm flipH="1" flipV="1" rot="5400000">
              <a:off x="6663600" y="6123960"/>
              <a:ext cx="1457280" cy="1458720"/>
            </a:xfrm>
            <a:custGeom>
              <a:avLst/>
              <a:gdLst/>
              <a:ahLst/>
              <a:rect l="l" t="t" r="r" b="b"/>
              <a:pathLst>
                <a:path w="1457978" h="1458908">
                  <a:moveTo>
                    <a:pt x="1245481" y="1244234"/>
                  </a:moveTo>
                  <a:cubicBezTo>
                    <a:pt x="1106230" y="1384126"/>
                    <a:pt x="916253" y="1461558"/>
                    <a:pt x="718950" y="1458838"/>
                  </a:cubicBezTo>
                  <a:lnTo>
                    <a:pt x="728989" y="729454"/>
                  </a:lnTo>
                  <a:lnTo>
                    <a:pt x="1245481" y="1244234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8" name="组合 66"/>
          <p:cNvGrpSpPr/>
          <p:nvPr/>
        </p:nvGrpSpPr>
        <p:grpSpPr>
          <a:xfrm>
            <a:off x="5620680" y="-1760400"/>
            <a:ext cx="3522600" cy="3520800"/>
            <a:chOff x="5620680" y="-1760400"/>
            <a:chExt cx="3522600" cy="3520800"/>
          </a:xfrm>
        </p:grpSpPr>
        <p:sp>
          <p:nvSpPr>
            <p:cNvPr id="129" name="饼形 52"/>
            <p:cNvSpPr/>
            <p:nvPr/>
          </p:nvSpPr>
          <p:spPr>
            <a:xfrm flipH="1" rot="16200000">
              <a:off x="5621040" y="-1761120"/>
              <a:ext cx="35208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5" y="3001536"/>
                  </a:moveTo>
                  <a:cubicBezTo>
                    <a:pt x="2679649" y="3336672"/>
                    <a:pt x="2226712" y="3524405"/>
                    <a:pt x="1754737" y="3522639"/>
                  </a:cubicBezTo>
                  <a:cubicBezTo>
                    <a:pt x="1756933" y="2935535"/>
                    <a:pt x="1759130" y="2348430"/>
                    <a:pt x="1761326" y="1761326"/>
                  </a:cubicBezTo>
                  <a:lnTo>
                    <a:pt x="3011985" y="3001536"/>
                  </a:lnTo>
                  <a:close/>
                </a:path>
              </a:pathLst>
            </a:cu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饼形 53"/>
            <p:cNvSpPr/>
            <p:nvPr/>
          </p:nvSpPr>
          <p:spPr>
            <a:xfrm flipH="1" rot="16200000">
              <a:off x="6005160" y="-1384560"/>
              <a:ext cx="2768400" cy="2770200"/>
            </a:xfrm>
            <a:custGeom>
              <a:avLst/>
              <a:gdLst/>
              <a:ahLst/>
              <a:rect l="l" t="t" r="r" b="b"/>
              <a:pathLst>
                <a:path w="2769839" h="2770179">
                  <a:moveTo>
                    <a:pt x="2373323" y="2355291"/>
                  </a:moveTo>
                  <a:cubicBezTo>
                    <a:pt x="2111857" y="2621728"/>
                    <a:pt x="1753921" y="2771324"/>
                    <a:pt x="1380645" y="2770172"/>
                  </a:cubicBezTo>
                  <a:lnTo>
                    <a:pt x="1384920" y="1385090"/>
                  </a:lnTo>
                  <a:lnTo>
                    <a:pt x="2373323" y="2355291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饼形 54"/>
            <p:cNvSpPr/>
            <p:nvPr/>
          </p:nvSpPr>
          <p:spPr>
            <a:xfrm flipH="1" rot="16200000">
              <a:off x="6265440" y="-1124280"/>
              <a:ext cx="2257200" cy="2259000"/>
            </a:xfrm>
            <a:custGeom>
              <a:avLst/>
              <a:gdLst/>
              <a:ahLst/>
              <a:rect l="l" t="t" r="r" b="b"/>
              <a:pathLst>
                <a:path w="2258435" h="2259006">
                  <a:moveTo>
                    <a:pt x="1935180" y="1920624"/>
                  </a:moveTo>
                  <a:cubicBezTo>
                    <a:pt x="1720568" y="2139373"/>
                    <a:pt x="1426298" y="2261496"/>
                    <a:pt x="1119901" y="2258968"/>
                  </a:cubicBezTo>
                  <a:cubicBezTo>
                    <a:pt x="1123007" y="1882480"/>
                    <a:pt x="1126112" y="1505991"/>
                    <a:pt x="1129218" y="1129503"/>
                  </a:cubicBezTo>
                  <a:lnTo>
                    <a:pt x="1935180" y="1920624"/>
                  </a:lnTo>
                  <a:close/>
                </a:path>
              </a:pathLst>
            </a:custGeom>
            <a:solidFill>
              <a:srgbClr val="f4e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饼形 55"/>
            <p:cNvSpPr/>
            <p:nvPr/>
          </p:nvSpPr>
          <p:spPr>
            <a:xfrm flipH="1" rot="16200000">
              <a:off x="6517800" y="-878400"/>
              <a:ext cx="1768320" cy="1770120"/>
            </a:xfrm>
            <a:custGeom>
              <a:avLst/>
              <a:gdLst/>
              <a:ahLst/>
              <a:rect l="l" t="t" r="r" b="b"/>
              <a:pathLst>
                <a:path w="1769268" h="1770058">
                  <a:moveTo>
                    <a:pt x="1516089" y="1504855"/>
                  </a:moveTo>
                  <a:cubicBezTo>
                    <a:pt x="1346798" y="1677476"/>
                    <a:pt x="1114275" y="1773272"/>
                    <a:pt x="872574" y="1769975"/>
                  </a:cubicBezTo>
                  <a:lnTo>
                    <a:pt x="884634" y="885029"/>
                  </a:lnTo>
                  <a:lnTo>
                    <a:pt x="1516089" y="1504855"/>
                  </a:lnTo>
                  <a:close/>
                </a:path>
              </a:pathLst>
            </a:custGeom>
            <a:solidFill>
              <a:srgbClr val="bcf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饼形 56"/>
            <p:cNvSpPr/>
            <p:nvPr/>
          </p:nvSpPr>
          <p:spPr>
            <a:xfrm flipH="1" rot="16200000">
              <a:off x="6663600" y="-723960"/>
              <a:ext cx="1457280" cy="1458720"/>
            </a:xfrm>
            <a:custGeom>
              <a:avLst/>
              <a:gdLst/>
              <a:ahLst/>
              <a:rect l="l" t="t" r="r" b="b"/>
              <a:pathLst>
                <a:path w="1457977" h="1458908">
                  <a:moveTo>
                    <a:pt x="1249567" y="1240095"/>
                  </a:moveTo>
                  <a:cubicBezTo>
                    <a:pt x="1110022" y="1382537"/>
                    <a:pt x="918271" y="1461585"/>
                    <a:pt x="718949" y="1458838"/>
                  </a:cubicBezTo>
                  <a:lnTo>
                    <a:pt x="728989" y="729454"/>
                  </a:lnTo>
                  <a:lnTo>
                    <a:pt x="1249567" y="1240095"/>
                  </a:lnTo>
                  <a:close/>
                </a:path>
              </a:pathLst>
            </a:custGeom>
            <a:solidFill>
              <a:srgbClr val="4f6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4" name="组合 65"/>
          <p:cNvGrpSpPr/>
          <p:nvPr/>
        </p:nvGrpSpPr>
        <p:grpSpPr>
          <a:xfrm>
            <a:off x="-360" y="5097600"/>
            <a:ext cx="3522600" cy="3520800"/>
            <a:chOff x="-360" y="5097600"/>
            <a:chExt cx="3522600" cy="3520800"/>
          </a:xfrm>
        </p:grpSpPr>
        <p:sp>
          <p:nvSpPr>
            <p:cNvPr id="135" name="饼形 60"/>
            <p:cNvSpPr/>
            <p:nvPr/>
          </p:nvSpPr>
          <p:spPr>
            <a:xfrm flipV="1" rot="16200000">
              <a:off x="360" y="5096520"/>
              <a:ext cx="35208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5" y="3001536"/>
                  </a:moveTo>
                  <a:cubicBezTo>
                    <a:pt x="2679649" y="3336672"/>
                    <a:pt x="2226712" y="3524405"/>
                    <a:pt x="1754737" y="3522639"/>
                  </a:cubicBezTo>
                  <a:cubicBezTo>
                    <a:pt x="1756933" y="2935535"/>
                    <a:pt x="1759130" y="2348430"/>
                    <a:pt x="1761326" y="1761326"/>
                  </a:cubicBezTo>
                  <a:lnTo>
                    <a:pt x="3011985" y="30015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饼形 61"/>
            <p:cNvSpPr/>
            <p:nvPr/>
          </p:nvSpPr>
          <p:spPr>
            <a:xfrm flipV="1" rot="16200000">
              <a:off x="368640" y="5472720"/>
              <a:ext cx="2768400" cy="2770200"/>
            </a:xfrm>
            <a:custGeom>
              <a:avLst/>
              <a:gdLst/>
              <a:ahLst/>
              <a:rect l="l" t="t" r="r" b="b"/>
              <a:pathLst>
                <a:path w="2769840" h="2770179">
                  <a:moveTo>
                    <a:pt x="2373324" y="2355291"/>
                  </a:moveTo>
                  <a:cubicBezTo>
                    <a:pt x="2111858" y="2621728"/>
                    <a:pt x="1753922" y="2771324"/>
                    <a:pt x="1380646" y="2770172"/>
                  </a:cubicBezTo>
                  <a:cubicBezTo>
                    <a:pt x="1382071" y="2308478"/>
                    <a:pt x="1383495" y="1846784"/>
                    <a:pt x="1384920" y="1385090"/>
                  </a:cubicBezTo>
                  <a:lnTo>
                    <a:pt x="2373324" y="2355291"/>
                  </a:lnTo>
                  <a:close/>
                </a:path>
              </a:pathLst>
            </a:custGeom>
            <a:solidFill>
              <a:srgbClr val="8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饼形 62"/>
            <p:cNvSpPr/>
            <p:nvPr/>
          </p:nvSpPr>
          <p:spPr>
            <a:xfrm flipV="1" rot="16200000">
              <a:off x="619200" y="5723280"/>
              <a:ext cx="2257200" cy="2259000"/>
            </a:xfrm>
            <a:custGeom>
              <a:avLst/>
              <a:gdLst/>
              <a:ahLst/>
              <a:rect l="l" t="t" r="r" b="b"/>
              <a:pathLst>
                <a:path w="2258436" h="2259006">
                  <a:moveTo>
                    <a:pt x="1935181" y="1920624"/>
                  </a:moveTo>
                  <a:cubicBezTo>
                    <a:pt x="1720569" y="2139373"/>
                    <a:pt x="1426299" y="2261496"/>
                    <a:pt x="1119902" y="2258968"/>
                  </a:cubicBezTo>
                  <a:cubicBezTo>
                    <a:pt x="1123007" y="1882480"/>
                    <a:pt x="1126113" y="1505991"/>
                    <a:pt x="1129218" y="1129503"/>
                  </a:cubicBezTo>
                  <a:lnTo>
                    <a:pt x="1935181" y="1920624"/>
                  </a:lnTo>
                  <a:close/>
                </a:path>
              </a:pathLst>
            </a:custGeom>
            <a:solidFill>
              <a:srgbClr val="bcf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饼形 63"/>
            <p:cNvSpPr/>
            <p:nvPr/>
          </p:nvSpPr>
          <p:spPr>
            <a:xfrm flipV="1" rot="16200000">
              <a:off x="856080" y="5966280"/>
              <a:ext cx="1768320" cy="1770120"/>
            </a:xfrm>
            <a:custGeom>
              <a:avLst/>
              <a:gdLst/>
              <a:ahLst/>
              <a:rect l="l" t="t" r="r" b="b"/>
              <a:pathLst>
                <a:path w="1769267" h="1770056">
                  <a:moveTo>
                    <a:pt x="1516088" y="1504854"/>
                  </a:moveTo>
                  <a:cubicBezTo>
                    <a:pt x="1346797" y="1677474"/>
                    <a:pt x="1114275" y="1773271"/>
                    <a:pt x="872573" y="1769974"/>
                  </a:cubicBezTo>
                  <a:lnTo>
                    <a:pt x="884634" y="885028"/>
                  </a:lnTo>
                  <a:lnTo>
                    <a:pt x="1516088" y="1504854"/>
                  </a:lnTo>
                  <a:close/>
                </a:path>
              </a:pathLst>
            </a:custGeom>
            <a:solidFill>
              <a:srgbClr val="e1f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饼形 64"/>
            <p:cNvSpPr/>
            <p:nvPr/>
          </p:nvSpPr>
          <p:spPr>
            <a:xfrm flipV="1" rot="16200000">
              <a:off x="1023120" y="6123960"/>
              <a:ext cx="1457280" cy="1458720"/>
            </a:xfrm>
            <a:custGeom>
              <a:avLst/>
              <a:gdLst/>
              <a:ahLst/>
              <a:rect l="l" t="t" r="r" b="b"/>
              <a:pathLst>
                <a:path w="1457978" h="1458908">
                  <a:moveTo>
                    <a:pt x="1245481" y="1244234"/>
                  </a:moveTo>
                  <a:cubicBezTo>
                    <a:pt x="1106230" y="1384126"/>
                    <a:pt x="916253" y="1461558"/>
                    <a:pt x="718950" y="1458838"/>
                  </a:cubicBezTo>
                  <a:lnTo>
                    <a:pt x="728989" y="729454"/>
                  </a:lnTo>
                  <a:lnTo>
                    <a:pt x="1245481" y="1244234"/>
                  </a:lnTo>
                  <a:close/>
                </a:path>
              </a:pathLst>
            </a:custGeom>
            <a:solidFill>
              <a:srgbClr val="ec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0" name="TextBox 50"/>
          <p:cNvSpPr/>
          <p:nvPr/>
        </p:nvSpPr>
        <p:spPr>
          <a:xfrm>
            <a:off x="3635640" y="299736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alibri"/>
              </a:rPr>
              <a:t>点击添加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组合 50"/>
          <p:cNvGrpSpPr/>
          <p:nvPr/>
        </p:nvGrpSpPr>
        <p:grpSpPr>
          <a:xfrm>
            <a:off x="-360" y="-1760400"/>
            <a:ext cx="3522600" cy="3520800"/>
            <a:chOff x="-360" y="-1760400"/>
            <a:chExt cx="3522600" cy="3520800"/>
          </a:xfrm>
        </p:grpSpPr>
        <p:sp>
          <p:nvSpPr>
            <p:cNvPr id="142" name="饼形 45"/>
            <p:cNvSpPr/>
            <p:nvPr/>
          </p:nvSpPr>
          <p:spPr>
            <a:xfrm rot="5400000">
              <a:off x="360" y="-1761120"/>
              <a:ext cx="35208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5" y="3001536"/>
                  </a:moveTo>
                  <a:cubicBezTo>
                    <a:pt x="2679649" y="3336672"/>
                    <a:pt x="2226712" y="3524405"/>
                    <a:pt x="1754737" y="3522639"/>
                  </a:cubicBezTo>
                  <a:cubicBezTo>
                    <a:pt x="1756933" y="2935535"/>
                    <a:pt x="1759130" y="2348430"/>
                    <a:pt x="1761326" y="1761326"/>
                  </a:cubicBezTo>
                  <a:lnTo>
                    <a:pt x="3011985" y="30015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饼形 46"/>
            <p:cNvSpPr/>
            <p:nvPr/>
          </p:nvSpPr>
          <p:spPr>
            <a:xfrm rot="5400000">
              <a:off x="368640" y="-1384560"/>
              <a:ext cx="2768400" cy="2770200"/>
            </a:xfrm>
            <a:custGeom>
              <a:avLst/>
              <a:gdLst/>
              <a:ahLst/>
              <a:rect l="l" t="t" r="r" b="b"/>
              <a:pathLst>
                <a:path w="2769839" h="2770179">
                  <a:moveTo>
                    <a:pt x="2373323" y="2355291"/>
                  </a:moveTo>
                  <a:cubicBezTo>
                    <a:pt x="2111857" y="2621728"/>
                    <a:pt x="1753921" y="2771324"/>
                    <a:pt x="1380645" y="2770172"/>
                  </a:cubicBezTo>
                  <a:lnTo>
                    <a:pt x="1384920" y="1385090"/>
                  </a:lnTo>
                  <a:lnTo>
                    <a:pt x="2373323" y="2355291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饼形 47"/>
            <p:cNvSpPr/>
            <p:nvPr/>
          </p:nvSpPr>
          <p:spPr>
            <a:xfrm rot="5400000">
              <a:off x="619200" y="-1124280"/>
              <a:ext cx="2257200" cy="2259000"/>
            </a:xfrm>
            <a:custGeom>
              <a:avLst/>
              <a:gdLst/>
              <a:ahLst/>
              <a:rect l="l" t="t" r="r" b="b"/>
              <a:pathLst>
                <a:path w="2258435" h="2259006">
                  <a:moveTo>
                    <a:pt x="1935180" y="1920624"/>
                  </a:moveTo>
                  <a:cubicBezTo>
                    <a:pt x="1720568" y="2139373"/>
                    <a:pt x="1426298" y="2261496"/>
                    <a:pt x="1119901" y="2258968"/>
                  </a:cubicBezTo>
                  <a:cubicBezTo>
                    <a:pt x="1123007" y="1882480"/>
                    <a:pt x="1126112" y="1505991"/>
                    <a:pt x="1129218" y="1129503"/>
                  </a:cubicBezTo>
                  <a:lnTo>
                    <a:pt x="1935180" y="1920624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饼形 48"/>
            <p:cNvSpPr/>
            <p:nvPr/>
          </p:nvSpPr>
          <p:spPr>
            <a:xfrm rot="5400000">
              <a:off x="856080" y="-878400"/>
              <a:ext cx="1768320" cy="1770120"/>
            </a:xfrm>
            <a:custGeom>
              <a:avLst/>
              <a:gdLst/>
              <a:ahLst/>
              <a:rect l="l" t="t" r="r" b="b"/>
              <a:pathLst>
                <a:path w="1769268" h="1770056">
                  <a:moveTo>
                    <a:pt x="1516089" y="1504854"/>
                  </a:moveTo>
                  <a:cubicBezTo>
                    <a:pt x="1346798" y="1677474"/>
                    <a:pt x="1114276" y="1773271"/>
                    <a:pt x="872574" y="1769974"/>
                  </a:cubicBezTo>
                  <a:lnTo>
                    <a:pt x="884634" y="885028"/>
                  </a:lnTo>
                  <a:lnTo>
                    <a:pt x="1516089" y="1504854"/>
                  </a:lnTo>
                  <a:close/>
                </a:path>
              </a:pathLst>
            </a:custGeom>
            <a:solidFill>
              <a:srgbClr val="d00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饼形 49"/>
            <p:cNvSpPr/>
            <p:nvPr/>
          </p:nvSpPr>
          <p:spPr>
            <a:xfrm rot="5400000">
              <a:off x="1022760" y="-724320"/>
              <a:ext cx="1457280" cy="1458720"/>
            </a:xfrm>
            <a:custGeom>
              <a:avLst/>
              <a:gdLst/>
              <a:ahLst/>
              <a:rect l="l" t="t" r="r" b="b"/>
              <a:pathLst>
                <a:path w="1457977" h="1458908">
                  <a:moveTo>
                    <a:pt x="1245480" y="1244234"/>
                  </a:moveTo>
                  <a:cubicBezTo>
                    <a:pt x="1106229" y="1384126"/>
                    <a:pt x="916252" y="1461558"/>
                    <a:pt x="718949" y="1458838"/>
                  </a:cubicBezTo>
                  <a:lnTo>
                    <a:pt x="728989" y="729454"/>
                  </a:lnTo>
                  <a:lnTo>
                    <a:pt x="1245480" y="1244234"/>
                  </a:lnTo>
                  <a:close/>
                </a:path>
              </a:pathLst>
            </a:custGeom>
            <a:solidFill>
              <a:srgbClr val="ff5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" name="组合 12"/>
          <p:cNvGrpSpPr/>
          <p:nvPr/>
        </p:nvGrpSpPr>
        <p:grpSpPr>
          <a:xfrm>
            <a:off x="7383600" y="-360"/>
            <a:ext cx="3520800" cy="3522600"/>
            <a:chOff x="7383600" y="-360"/>
            <a:chExt cx="3520800" cy="3522600"/>
          </a:xfrm>
        </p:grpSpPr>
        <p:sp>
          <p:nvSpPr>
            <p:cNvPr id="148" name="饼形 11"/>
            <p:cNvSpPr/>
            <p:nvPr/>
          </p:nvSpPr>
          <p:spPr>
            <a:xfrm rot="10800000">
              <a:off x="7383600" y="-360"/>
              <a:ext cx="35208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5" y="3001536"/>
                  </a:moveTo>
                  <a:cubicBezTo>
                    <a:pt x="2679649" y="3336672"/>
                    <a:pt x="2226712" y="3524405"/>
                    <a:pt x="1754737" y="3522639"/>
                  </a:cubicBezTo>
                  <a:cubicBezTo>
                    <a:pt x="1756933" y="2935535"/>
                    <a:pt x="1759130" y="2348430"/>
                    <a:pt x="1761326" y="1761326"/>
                  </a:cubicBezTo>
                  <a:lnTo>
                    <a:pt x="3011985" y="3001536"/>
                  </a:lnTo>
                  <a:close/>
                </a:path>
              </a:pathLst>
            </a:custGeom>
            <a:solidFill>
              <a:srgbClr val="ff82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饼形 9"/>
            <p:cNvSpPr/>
            <p:nvPr/>
          </p:nvSpPr>
          <p:spPr>
            <a:xfrm rot="10800000">
              <a:off x="7759800" y="367560"/>
              <a:ext cx="2768400" cy="2770200"/>
            </a:xfrm>
            <a:custGeom>
              <a:avLst/>
              <a:gdLst/>
              <a:ahLst/>
              <a:rect l="l" t="t" r="r" b="b"/>
              <a:pathLst>
                <a:path w="2769840" h="2770179">
                  <a:moveTo>
                    <a:pt x="2373324" y="2355291"/>
                  </a:moveTo>
                  <a:cubicBezTo>
                    <a:pt x="2111856" y="2621730"/>
                    <a:pt x="1753918" y="2771326"/>
                    <a:pt x="1380640" y="2770172"/>
                  </a:cubicBezTo>
                  <a:cubicBezTo>
                    <a:pt x="1382067" y="2308478"/>
                    <a:pt x="1383493" y="1846784"/>
                    <a:pt x="1384920" y="1385090"/>
                  </a:cubicBezTo>
                  <a:lnTo>
                    <a:pt x="2373324" y="2355291"/>
                  </a:lnTo>
                  <a:close/>
                </a:path>
              </a:pathLst>
            </a:custGeom>
            <a:solidFill>
              <a:srgbClr val="ff94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饼形 8"/>
            <p:cNvSpPr/>
            <p:nvPr/>
          </p:nvSpPr>
          <p:spPr>
            <a:xfrm rot="10800000">
              <a:off x="8010360" y="618480"/>
              <a:ext cx="2257200" cy="2259000"/>
            </a:xfrm>
            <a:custGeom>
              <a:avLst/>
              <a:gdLst/>
              <a:ahLst/>
              <a:rect l="l" t="t" r="r" b="b"/>
              <a:pathLst>
                <a:path w="2258436" h="2259006">
                  <a:moveTo>
                    <a:pt x="1935181" y="1920624"/>
                  </a:moveTo>
                  <a:cubicBezTo>
                    <a:pt x="1720569" y="2139373"/>
                    <a:pt x="1426299" y="2261496"/>
                    <a:pt x="1119902" y="2258968"/>
                  </a:cubicBezTo>
                  <a:cubicBezTo>
                    <a:pt x="1123007" y="1882480"/>
                    <a:pt x="1126113" y="1505991"/>
                    <a:pt x="1129218" y="1129503"/>
                  </a:cubicBezTo>
                  <a:lnTo>
                    <a:pt x="1935181" y="1920624"/>
                  </a:lnTo>
                  <a:close/>
                </a:path>
              </a:pathLst>
            </a:custGeom>
            <a:solidFill>
              <a:srgbClr val="ffa6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饼形 7"/>
            <p:cNvSpPr/>
            <p:nvPr/>
          </p:nvSpPr>
          <p:spPr>
            <a:xfrm rot="10800000">
              <a:off x="8253360" y="855360"/>
              <a:ext cx="1768320" cy="1770120"/>
            </a:xfrm>
            <a:custGeom>
              <a:avLst/>
              <a:gdLst/>
              <a:ahLst/>
              <a:rect l="l" t="t" r="r" b="b"/>
              <a:pathLst>
                <a:path w="1769267" h="1770056">
                  <a:moveTo>
                    <a:pt x="1516088" y="1504854"/>
                  </a:moveTo>
                  <a:cubicBezTo>
                    <a:pt x="1346797" y="1677474"/>
                    <a:pt x="1114275" y="1773271"/>
                    <a:pt x="872573" y="1769974"/>
                  </a:cubicBezTo>
                  <a:lnTo>
                    <a:pt x="884634" y="885028"/>
                  </a:lnTo>
                  <a:lnTo>
                    <a:pt x="1516088" y="1504854"/>
                  </a:lnTo>
                  <a:close/>
                </a:path>
              </a:pathLst>
            </a:custGeom>
            <a:solidFill>
              <a:srgbClr val="f6b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饼形 6"/>
            <p:cNvSpPr/>
            <p:nvPr/>
          </p:nvSpPr>
          <p:spPr>
            <a:xfrm rot="10800000">
              <a:off x="8410680" y="1022040"/>
              <a:ext cx="1457280" cy="1458720"/>
            </a:xfrm>
            <a:custGeom>
              <a:avLst/>
              <a:gdLst/>
              <a:ahLst/>
              <a:rect l="l" t="t" r="r" b="b"/>
              <a:pathLst>
                <a:path w="1457978" h="1458908">
                  <a:moveTo>
                    <a:pt x="1245481" y="1244234"/>
                  </a:moveTo>
                  <a:cubicBezTo>
                    <a:pt x="1106230" y="1384126"/>
                    <a:pt x="916253" y="1461558"/>
                    <a:pt x="718950" y="1458838"/>
                  </a:cubicBezTo>
                  <a:lnTo>
                    <a:pt x="728989" y="729454"/>
                  </a:lnTo>
                  <a:lnTo>
                    <a:pt x="1245481" y="1244234"/>
                  </a:lnTo>
                  <a:close/>
                </a:path>
              </a:pathLst>
            </a:custGeom>
            <a:solidFill>
              <a:srgbClr val="ffc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3" name="组合 21"/>
          <p:cNvGrpSpPr/>
          <p:nvPr/>
        </p:nvGrpSpPr>
        <p:grpSpPr>
          <a:xfrm>
            <a:off x="-1760400" y="-360"/>
            <a:ext cx="3520800" cy="3522600"/>
            <a:chOff x="-1760400" y="-360"/>
            <a:chExt cx="3520800" cy="3522600"/>
          </a:xfrm>
        </p:grpSpPr>
        <p:sp>
          <p:nvSpPr>
            <p:cNvPr id="154" name="饼形 16"/>
            <p:cNvSpPr/>
            <p:nvPr/>
          </p:nvSpPr>
          <p:spPr>
            <a:xfrm flipH="1" rot="10800000">
              <a:off x="-1760400" y="-360"/>
              <a:ext cx="35208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5" y="3001536"/>
                  </a:moveTo>
                  <a:cubicBezTo>
                    <a:pt x="2679649" y="3336672"/>
                    <a:pt x="2226712" y="3524405"/>
                    <a:pt x="1754737" y="3522639"/>
                  </a:cubicBezTo>
                  <a:cubicBezTo>
                    <a:pt x="1756933" y="2935535"/>
                    <a:pt x="1759130" y="2348430"/>
                    <a:pt x="1761326" y="1761326"/>
                  </a:cubicBezTo>
                  <a:lnTo>
                    <a:pt x="3011985" y="30015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饼形 17"/>
            <p:cNvSpPr/>
            <p:nvPr/>
          </p:nvSpPr>
          <p:spPr>
            <a:xfrm flipH="1" rot="10800000">
              <a:off x="-1383840" y="367920"/>
              <a:ext cx="2768400" cy="2770200"/>
            </a:xfrm>
            <a:custGeom>
              <a:avLst/>
              <a:gdLst/>
              <a:ahLst/>
              <a:rect l="l" t="t" r="r" b="b"/>
              <a:pathLst>
                <a:path w="2769839" h="2770179">
                  <a:moveTo>
                    <a:pt x="2373323" y="2355291"/>
                  </a:moveTo>
                  <a:cubicBezTo>
                    <a:pt x="2111855" y="2621730"/>
                    <a:pt x="1753917" y="2771326"/>
                    <a:pt x="1380639" y="2770172"/>
                  </a:cubicBezTo>
                  <a:lnTo>
                    <a:pt x="1384920" y="1385090"/>
                  </a:lnTo>
                  <a:lnTo>
                    <a:pt x="2373323" y="2355291"/>
                  </a:lnTo>
                  <a:close/>
                </a:path>
              </a:pathLst>
            </a:custGeom>
            <a:solidFill>
              <a:srgbClr val="8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饼形 18"/>
            <p:cNvSpPr/>
            <p:nvPr/>
          </p:nvSpPr>
          <p:spPr>
            <a:xfrm flipH="1" rot="10800000">
              <a:off x="-1123560" y="618480"/>
              <a:ext cx="2257200" cy="2259000"/>
            </a:xfrm>
            <a:custGeom>
              <a:avLst/>
              <a:gdLst/>
              <a:ahLst/>
              <a:rect l="l" t="t" r="r" b="b"/>
              <a:pathLst>
                <a:path w="2258435" h="2259006">
                  <a:moveTo>
                    <a:pt x="1935180" y="1920624"/>
                  </a:moveTo>
                  <a:cubicBezTo>
                    <a:pt x="1720568" y="2139373"/>
                    <a:pt x="1426298" y="2261496"/>
                    <a:pt x="1119901" y="2258968"/>
                  </a:cubicBezTo>
                  <a:cubicBezTo>
                    <a:pt x="1123007" y="1882480"/>
                    <a:pt x="1126112" y="1505991"/>
                    <a:pt x="1129218" y="1129503"/>
                  </a:cubicBezTo>
                  <a:lnTo>
                    <a:pt x="1935180" y="1920624"/>
                  </a:lnTo>
                  <a:close/>
                </a:path>
              </a:pathLst>
            </a:custGeom>
            <a:solidFill>
              <a:srgbClr val="c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饼形 19"/>
            <p:cNvSpPr/>
            <p:nvPr/>
          </p:nvSpPr>
          <p:spPr>
            <a:xfrm flipH="1" rot="10800000">
              <a:off x="-877680" y="855360"/>
              <a:ext cx="1768320" cy="1770120"/>
            </a:xfrm>
            <a:custGeom>
              <a:avLst/>
              <a:gdLst/>
              <a:ahLst/>
              <a:rect l="l" t="t" r="r" b="b"/>
              <a:pathLst>
                <a:path w="1769268" h="1770056">
                  <a:moveTo>
                    <a:pt x="1516089" y="1504854"/>
                  </a:moveTo>
                  <a:cubicBezTo>
                    <a:pt x="1346798" y="1677474"/>
                    <a:pt x="1114276" y="1773271"/>
                    <a:pt x="872574" y="1769974"/>
                  </a:cubicBezTo>
                  <a:lnTo>
                    <a:pt x="884634" y="885028"/>
                  </a:lnTo>
                  <a:lnTo>
                    <a:pt x="1516089" y="1504854"/>
                  </a:lnTo>
                  <a:close/>
                </a:path>
              </a:pathLst>
            </a:custGeom>
            <a:solidFill>
              <a:srgbClr val="f6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饼形 20"/>
            <p:cNvSpPr/>
            <p:nvPr/>
          </p:nvSpPr>
          <p:spPr>
            <a:xfrm flipH="1" rot="10800000">
              <a:off x="-723600" y="1022400"/>
              <a:ext cx="1457280" cy="1458720"/>
            </a:xfrm>
            <a:custGeom>
              <a:avLst/>
              <a:gdLst/>
              <a:ahLst/>
              <a:rect l="l" t="t" r="r" b="b"/>
              <a:pathLst>
                <a:path w="1457977" h="1458908">
                  <a:moveTo>
                    <a:pt x="1245480" y="1244234"/>
                  </a:moveTo>
                  <a:cubicBezTo>
                    <a:pt x="1106229" y="1384126"/>
                    <a:pt x="916252" y="1461558"/>
                    <a:pt x="718949" y="1458838"/>
                  </a:cubicBezTo>
                  <a:lnTo>
                    <a:pt x="728989" y="729454"/>
                  </a:lnTo>
                  <a:lnTo>
                    <a:pt x="1245480" y="1244234"/>
                  </a:lnTo>
                  <a:close/>
                </a:path>
              </a:pathLst>
            </a:custGeom>
            <a:solidFill>
              <a:srgbClr val="fe61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9" name="组合 29"/>
          <p:cNvGrpSpPr/>
          <p:nvPr/>
        </p:nvGrpSpPr>
        <p:grpSpPr>
          <a:xfrm>
            <a:off x="7383600" y="3334680"/>
            <a:ext cx="3520800" cy="3522600"/>
            <a:chOff x="7383600" y="3334680"/>
            <a:chExt cx="3520800" cy="3522600"/>
          </a:xfrm>
        </p:grpSpPr>
        <p:sp>
          <p:nvSpPr>
            <p:cNvPr id="160" name="饼形 24"/>
            <p:cNvSpPr/>
            <p:nvPr/>
          </p:nvSpPr>
          <p:spPr>
            <a:xfrm flipV="1" rot="10800000">
              <a:off x="7383600" y="3334320"/>
              <a:ext cx="35208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5" y="3001536"/>
                  </a:moveTo>
                  <a:cubicBezTo>
                    <a:pt x="2679649" y="3336672"/>
                    <a:pt x="2226712" y="3524405"/>
                    <a:pt x="1754737" y="3522639"/>
                  </a:cubicBezTo>
                  <a:cubicBezTo>
                    <a:pt x="1756933" y="2935535"/>
                    <a:pt x="1759130" y="2348430"/>
                    <a:pt x="1761326" y="1761326"/>
                  </a:cubicBezTo>
                  <a:lnTo>
                    <a:pt x="3011985" y="3001536"/>
                  </a:lnTo>
                  <a:close/>
                </a:path>
              </a:pathLst>
            </a:custGeom>
            <a:solidFill>
              <a:srgbClr val="017c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饼形 25"/>
            <p:cNvSpPr/>
            <p:nvPr/>
          </p:nvSpPr>
          <p:spPr>
            <a:xfrm flipV="1" rot="10800000">
              <a:off x="7759800" y="3718440"/>
              <a:ext cx="2768400" cy="2770200"/>
            </a:xfrm>
            <a:custGeom>
              <a:avLst/>
              <a:gdLst/>
              <a:ahLst/>
              <a:rect l="l" t="t" r="r" b="b"/>
              <a:pathLst>
                <a:path w="2769840" h="2770179">
                  <a:moveTo>
                    <a:pt x="2373324" y="2355291"/>
                  </a:moveTo>
                  <a:cubicBezTo>
                    <a:pt x="2111856" y="2621730"/>
                    <a:pt x="1753918" y="2771326"/>
                    <a:pt x="1380640" y="2770172"/>
                  </a:cubicBezTo>
                  <a:cubicBezTo>
                    <a:pt x="1382067" y="2308478"/>
                    <a:pt x="1383493" y="1846784"/>
                    <a:pt x="1384920" y="1385090"/>
                  </a:cubicBezTo>
                  <a:lnTo>
                    <a:pt x="2373324" y="2355291"/>
                  </a:lnTo>
                  <a:close/>
                </a:path>
              </a:pathLst>
            </a:custGeom>
            <a:solidFill>
              <a:srgbClr val="0098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饼形 26"/>
            <p:cNvSpPr/>
            <p:nvPr/>
          </p:nvSpPr>
          <p:spPr>
            <a:xfrm flipV="1" rot="10800000">
              <a:off x="8010360" y="3978720"/>
              <a:ext cx="2257200" cy="2259000"/>
            </a:xfrm>
            <a:custGeom>
              <a:avLst/>
              <a:gdLst/>
              <a:ahLst/>
              <a:rect l="l" t="t" r="r" b="b"/>
              <a:pathLst>
                <a:path w="2258436" h="2259006">
                  <a:moveTo>
                    <a:pt x="1935181" y="1920624"/>
                  </a:moveTo>
                  <a:cubicBezTo>
                    <a:pt x="1720569" y="2139373"/>
                    <a:pt x="1426299" y="2261496"/>
                    <a:pt x="1119902" y="2258968"/>
                  </a:cubicBezTo>
                  <a:cubicBezTo>
                    <a:pt x="1123007" y="1882480"/>
                    <a:pt x="1126113" y="1505991"/>
                    <a:pt x="1129218" y="1129503"/>
                  </a:cubicBezTo>
                  <a:lnTo>
                    <a:pt x="1935181" y="1920624"/>
                  </a:lnTo>
                  <a:close/>
                </a:path>
              </a:pathLst>
            </a:custGeom>
            <a:solidFill>
              <a:srgbClr val="00c4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饼形 27"/>
            <p:cNvSpPr/>
            <p:nvPr/>
          </p:nvSpPr>
          <p:spPr>
            <a:xfrm flipV="1" rot="10800000">
              <a:off x="8253360" y="4231080"/>
              <a:ext cx="1768320" cy="1770120"/>
            </a:xfrm>
            <a:custGeom>
              <a:avLst/>
              <a:gdLst/>
              <a:ahLst/>
              <a:rect l="l" t="t" r="r" b="b"/>
              <a:pathLst>
                <a:path w="1769267" h="1770058">
                  <a:moveTo>
                    <a:pt x="1516088" y="1504855"/>
                  </a:moveTo>
                  <a:cubicBezTo>
                    <a:pt x="1346797" y="1677476"/>
                    <a:pt x="1114274" y="1773272"/>
                    <a:pt x="872573" y="1769975"/>
                  </a:cubicBezTo>
                  <a:lnTo>
                    <a:pt x="884634" y="885029"/>
                  </a:lnTo>
                  <a:lnTo>
                    <a:pt x="1516088" y="1504855"/>
                  </a:lnTo>
                  <a:close/>
                </a:path>
              </a:pathLst>
            </a:custGeom>
            <a:solidFill>
              <a:srgbClr val="71ff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饼形 28"/>
            <p:cNvSpPr/>
            <p:nvPr/>
          </p:nvSpPr>
          <p:spPr>
            <a:xfrm flipV="1" rot="10800000">
              <a:off x="8410680" y="4376880"/>
              <a:ext cx="1457280" cy="1458720"/>
            </a:xfrm>
            <a:custGeom>
              <a:avLst/>
              <a:gdLst/>
              <a:ahLst/>
              <a:rect l="l" t="t" r="r" b="b"/>
              <a:pathLst>
                <a:path w="1457978" h="1458908">
                  <a:moveTo>
                    <a:pt x="1245481" y="1244234"/>
                  </a:moveTo>
                  <a:cubicBezTo>
                    <a:pt x="1106230" y="1384126"/>
                    <a:pt x="916253" y="1461558"/>
                    <a:pt x="718950" y="1458838"/>
                  </a:cubicBezTo>
                  <a:lnTo>
                    <a:pt x="728989" y="729454"/>
                  </a:lnTo>
                  <a:lnTo>
                    <a:pt x="1245481" y="1244234"/>
                  </a:lnTo>
                  <a:close/>
                </a:path>
              </a:pathLst>
            </a:custGeom>
            <a:solidFill>
              <a:srgbClr val="a7f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5" name="组合 36"/>
          <p:cNvGrpSpPr/>
          <p:nvPr/>
        </p:nvGrpSpPr>
        <p:grpSpPr>
          <a:xfrm>
            <a:off x="-1760400" y="3334680"/>
            <a:ext cx="3520800" cy="3522600"/>
            <a:chOff x="-1760400" y="3334680"/>
            <a:chExt cx="3520800" cy="3522600"/>
          </a:xfrm>
        </p:grpSpPr>
        <p:sp>
          <p:nvSpPr>
            <p:cNvPr id="166" name="饼形 31"/>
            <p:cNvSpPr/>
            <p:nvPr/>
          </p:nvSpPr>
          <p:spPr>
            <a:xfrm flipH="1" flipV="1" rot="10800000">
              <a:off x="-1760400" y="3334320"/>
              <a:ext cx="35208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5" y="3001536"/>
                  </a:moveTo>
                  <a:cubicBezTo>
                    <a:pt x="2679649" y="3336672"/>
                    <a:pt x="2226712" y="3524405"/>
                    <a:pt x="1754737" y="3522639"/>
                  </a:cubicBezTo>
                  <a:cubicBezTo>
                    <a:pt x="1756933" y="2935535"/>
                    <a:pt x="1759130" y="2348430"/>
                    <a:pt x="1761326" y="1761326"/>
                  </a:cubicBezTo>
                  <a:lnTo>
                    <a:pt x="3011985" y="30015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饼形 32"/>
            <p:cNvSpPr/>
            <p:nvPr/>
          </p:nvSpPr>
          <p:spPr>
            <a:xfrm flipH="1" flipV="1" rot="10800000">
              <a:off x="-1383840" y="3718440"/>
              <a:ext cx="2768400" cy="2770200"/>
            </a:xfrm>
            <a:custGeom>
              <a:avLst/>
              <a:gdLst/>
              <a:ahLst/>
              <a:rect l="l" t="t" r="r" b="b"/>
              <a:pathLst>
                <a:path w="2769839" h="2770179">
                  <a:moveTo>
                    <a:pt x="2373323" y="2355291"/>
                  </a:moveTo>
                  <a:cubicBezTo>
                    <a:pt x="2111857" y="2621728"/>
                    <a:pt x="1753921" y="2771324"/>
                    <a:pt x="1380645" y="2770172"/>
                  </a:cubicBezTo>
                  <a:lnTo>
                    <a:pt x="1384920" y="1385090"/>
                  </a:lnTo>
                  <a:lnTo>
                    <a:pt x="2373323" y="2355291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饼形 33"/>
            <p:cNvSpPr/>
            <p:nvPr/>
          </p:nvSpPr>
          <p:spPr>
            <a:xfrm flipH="1" flipV="1" rot="10800000">
              <a:off x="-1123560" y="3978720"/>
              <a:ext cx="2257200" cy="2259000"/>
            </a:xfrm>
            <a:custGeom>
              <a:avLst/>
              <a:gdLst/>
              <a:ahLst/>
              <a:rect l="l" t="t" r="r" b="b"/>
              <a:pathLst>
                <a:path w="2258435" h="2259006">
                  <a:moveTo>
                    <a:pt x="1935180" y="1920624"/>
                  </a:moveTo>
                  <a:cubicBezTo>
                    <a:pt x="1720568" y="2139373"/>
                    <a:pt x="1426298" y="2261496"/>
                    <a:pt x="1119901" y="2258968"/>
                  </a:cubicBezTo>
                  <a:cubicBezTo>
                    <a:pt x="1123007" y="1882480"/>
                    <a:pt x="1126112" y="1505991"/>
                    <a:pt x="1129218" y="1129503"/>
                  </a:cubicBezTo>
                  <a:lnTo>
                    <a:pt x="1935180" y="1920624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饼形 34"/>
            <p:cNvSpPr/>
            <p:nvPr/>
          </p:nvSpPr>
          <p:spPr>
            <a:xfrm flipH="1" flipV="1" rot="10800000">
              <a:off x="-877680" y="4231080"/>
              <a:ext cx="1768320" cy="1770120"/>
            </a:xfrm>
            <a:custGeom>
              <a:avLst/>
              <a:gdLst/>
              <a:ahLst/>
              <a:rect l="l" t="t" r="r" b="b"/>
              <a:pathLst>
                <a:path w="1769268" h="1770058">
                  <a:moveTo>
                    <a:pt x="1516089" y="1504855"/>
                  </a:moveTo>
                  <a:cubicBezTo>
                    <a:pt x="1346798" y="1677476"/>
                    <a:pt x="1114275" y="1773272"/>
                    <a:pt x="872574" y="1769975"/>
                  </a:cubicBezTo>
                  <a:lnTo>
                    <a:pt x="884634" y="885029"/>
                  </a:lnTo>
                  <a:lnTo>
                    <a:pt x="1516089" y="1504855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饼形 35"/>
            <p:cNvSpPr/>
            <p:nvPr/>
          </p:nvSpPr>
          <p:spPr>
            <a:xfrm flipH="1" flipV="1" rot="10800000">
              <a:off x="-723600" y="4376880"/>
              <a:ext cx="1457280" cy="1458720"/>
            </a:xfrm>
            <a:custGeom>
              <a:avLst/>
              <a:gdLst/>
              <a:ahLst/>
              <a:rect l="l" t="t" r="r" b="b"/>
              <a:pathLst>
                <a:path w="1457977" h="1458908">
                  <a:moveTo>
                    <a:pt x="1245480" y="1244234"/>
                  </a:moveTo>
                  <a:cubicBezTo>
                    <a:pt x="1106229" y="1384126"/>
                    <a:pt x="916252" y="1461558"/>
                    <a:pt x="718949" y="1458838"/>
                  </a:cubicBezTo>
                  <a:lnTo>
                    <a:pt x="728989" y="729454"/>
                  </a:lnTo>
                  <a:lnTo>
                    <a:pt x="1245480" y="1244234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1" name="组合 37"/>
          <p:cNvGrpSpPr/>
          <p:nvPr/>
        </p:nvGrpSpPr>
        <p:grpSpPr>
          <a:xfrm>
            <a:off x="5620680" y="5097600"/>
            <a:ext cx="3522600" cy="3520800"/>
            <a:chOff x="5620680" y="5097600"/>
            <a:chExt cx="3522600" cy="3520800"/>
          </a:xfrm>
        </p:grpSpPr>
        <p:sp>
          <p:nvSpPr>
            <p:cNvPr id="172" name="饼形 38"/>
            <p:cNvSpPr/>
            <p:nvPr/>
          </p:nvSpPr>
          <p:spPr>
            <a:xfrm flipH="1" flipV="1" rot="5400000">
              <a:off x="5621040" y="5096520"/>
              <a:ext cx="35208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5" y="3001536"/>
                  </a:moveTo>
                  <a:cubicBezTo>
                    <a:pt x="2679649" y="3336672"/>
                    <a:pt x="2226712" y="3524405"/>
                    <a:pt x="1754737" y="3522639"/>
                  </a:cubicBezTo>
                  <a:cubicBezTo>
                    <a:pt x="1756933" y="2935535"/>
                    <a:pt x="1759130" y="2348430"/>
                    <a:pt x="1761326" y="1761326"/>
                  </a:cubicBezTo>
                  <a:lnTo>
                    <a:pt x="3011985" y="30015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饼形 39"/>
            <p:cNvSpPr/>
            <p:nvPr/>
          </p:nvSpPr>
          <p:spPr>
            <a:xfrm flipH="1" flipV="1" rot="5400000">
              <a:off x="6005160" y="5472720"/>
              <a:ext cx="2768400" cy="2770200"/>
            </a:xfrm>
            <a:custGeom>
              <a:avLst/>
              <a:gdLst/>
              <a:ahLst/>
              <a:rect l="l" t="t" r="r" b="b"/>
              <a:pathLst>
                <a:path w="2769840" h="2770179">
                  <a:moveTo>
                    <a:pt x="2373324" y="2355291"/>
                  </a:moveTo>
                  <a:cubicBezTo>
                    <a:pt x="2111858" y="2621728"/>
                    <a:pt x="1753922" y="2771324"/>
                    <a:pt x="1380646" y="2770172"/>
                  </a:cubicBezTo>
                  <a:cubicBezTo>
                    <a:pt x="1382071" y="2308478"/>
                    <a:pt x="1383495" y="1846784"/>
                    <a:pt x="1384920" y="1385090"/>
                  </a:cubicBezTo>
                  <a:lnTo>
                    <a:pt x="2373324" y="2355291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饼形 40"/>
            <p:cNvSpPr/>
            <p:nvPr/>
          </p:nvSpPr>
          <p:spPr>
            <a:xfrm flipH="1" flipV="1" rot="5400000">
              <a:off x="6265440" y="5723640"/>
              <a:ext cx="2257200" cy="2259000"/>
            </a:xfrm>
            <a:custGeom>
              <a:avLst/>
              <a:gdLst/>
              <a:ahLst/>
              <a:rect l="l" t="t" r="r" b="b"/>
              <a:pathLst>
                <a:path w="2258436" h="2259006">
                  <a:moveTo>
                    <a:pt x="1935181" y="1920624"/>
                  </a:moveTo>
                  <a:cubicBezTo>
                    <a:pt x="1720569" y="2139373"/>
                    <a:pt x="1426299" y="2261496"/>
                    <a:pt x="1119902" y="2258968"/>
                  </a:cubicBezTo>
                  <a:cubicBezTo>
                    <a:pt x="1123007" y="1882480"/>
                    <a:pt x="1126113" y="1505991"/>
                    <a:pt x="1129218" y="1129503"/>
                  </a:cubicBezTo>
                  <a:lnTo>
                    <a:pt x="1935181" y="1920624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饼形 41"/>
            <p:cNvSpPr/>
            <p:nvPr/>
          </p:nvSpPr>
          <p:spPr>
            <a:xfrm flipH="1" flipV="1" rot="5400000">
              <a:off x="6517800" y="5966640"/>
              <a:ext cx="1768320" cy="1770120"/>
            </a:xfrm>
            <a:custGeom>
              <a:avLst/>
              <a:gdLst/>
              <a:ahLst/>
              <a:rect l="l" t="t" r="r" b="b"/>
              <a:pathLst>
                <a:path w="1769267" h="1770058">
                  <a:moveTo>
                    <a:pt x="1516088" y="1504855"/>
                  </a:moveTo>
                  <a:cubicBezTo>
                    <a:pt x="1346797" y="1677476"/>
                    <a:pt x="1114274" y="1773272"/>
                    <a:pt x="872573" y="1769975"/>
                  </a:cubicBezTo>
                  <a:lnTo>
                    <a:pt x="884634" y="885029"/>
                  </a:lnTo>
                  <a:lnTo>
                    <a:pt x="1516088" y="1504855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饼形 42"/>
            <p:cNvSpPr/>
            <p:nvPr/>
          </p:nvSpPr>
          <p:spPr>
            <a:xfrm flipH="1" flipV="1" rot="5400000">
              <a:off x="6663600" y="6123960"/>
              <a:ext cx="1457280" cy="1458720"/>
            </a:xfrm>
            <a:custGeom>
              <a:avLst/>
              <a:gdLst/>
              <a:ahLst/>
              <a:rect l="l" t="t" r="r" b="b"/>
              <a:pathLst>
                <a:path w="1457978" h="1458908">
                  <a:moveTo>
                    <a:pt x="1245481" y="1244234"/>
                  </a:moveTo>
                  <a:cubicBezTo>
                    <a:pt x="1106230" y="1384126"/>
                    <a:pt x="916253" y="1461558"/>
                    <a:pt x="718950" y="1458838"/>
                  </a:cubicBezTo>
                  <a:lnTo>
                    <a:pt x="728989" y="729454"/>
                  </a:lnTo>
                  <a:lnTo>
                    <a:pt x="1245481" y="1244234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7" name="组合 66"/>
          <p:cNvGrpSpPr/>
          <p:nvPr/>
        </p:nvGrpSpPr>
        <p:grpSpPr>
          <a:xfrm>
            <a:off x="5620680" y="-1760400"/>
            <a:ext cx="3522600" cy="3520800"/>
            <a:chOff x="5620680" y="-1760400"/>
            <a:chExt cx="3522600" cy="3520800"/>
          </a:xfrm>
        </p:grpSpPr>
        <p:sp>
          <p:nvSpPr>
            <p:cNvPr id="178" name="饼形 52"/>
            <p:cNvSpPr/>
            <p:nvPr/>
          </p:nvSpPr>
          <p:spPr>
            <a:xfrm flipH="1" rot="16200000">
              <a:off x="5621040" y="-1761120"/>
              <a:ext cx="35208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5" y="3001536"/>
                  </a:moveTo>
                  <a:cubicBezTo>
                    <a:pt x="2679649" y="3336672"/>
                    <a:pt x="2226712" y="3524405"/>
                    <a:pt x="1754737" y="3522639"/>
                  </a:cubicBezTo>
                  <a:cubicBezTo>
                    <a:pt x="1756933" y="2935535"/>
                    <a:pt x="1759130" y="2348430"/>
                    <a:pt x="1761326" y="1761326"/>
                  </a:cubicBezTo>
                  <a:lnTo>
                    <a:pt x="3011985" y="3001536"/>
                  </a:lnTo>
                  <a:close/>
                </a:path>
              </a:pathLst>
            </a:cu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饼形 53"/>
            <p:cNvSpPr/>
            <p:nvPr/>
          </p:nvSpPr>
          <p:spPr>
            <a:xfrm flipH="1" rot="16200000">
              <a:off x="6005160" y="-1384560"/>
              <a:ext cx="2768400" cy="2770200"/>
            </a:xfrm>
            <a:custGeom>
              <a:avLst/>
              <a:gdLst/>
              <a:ahLst/>
              <a:rect l="l" t="t" r="r" b="b"/>
              <a:pathLst>
                <a:path w="2769839" h="2770179">
                  <a:moveTo>
                    <a:pt x="2373323" y="2355291"/>
                  </a:moveTo>
                  <a:cubicBezTo>
                    <a:pt x="2111857" y="2621728"/>
                    <a:pt x="1753921" y="2771324"/>
                    <a:pt x="1380645" y="2770172"/>
                  </a:cubicBezTo>
                  <a:lnTo>
                    <a:pt x="1384920" y="1385090"/>
                  </a:lnTo>
                  <a:lnTo>
                    <a:pt x="2373323" y="2355291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饼形 54"/>
            <p:cNvSpPr/>
            <p:nvPr/>
          </p:nvSpPr>
          <p:spPr>
            <a:xfrm flipH="1" rot="16200000">
              <a:off x="6265440" y="-1124280"/>
              <a:ext cx="2257200" cy="2259000"/>
            </a:xfrm>
            <a:custGeom>
              <a:avLst/>
              <a:gdLst/>
              <a:ahLst/>
              <a:rect l="l" t="t" r="r" b="b"/>
              <a:pathLst>
                <a:path w="2258435" h="2259006">
                  <a:moveTo>
                    <a:pt x="1935180" y="1920624"/>
                  </a:moveTo>
                  <a:cubicBezTo>
                    <a:pt x="1720568" y="2139373"/>
                    <a:pt x="1426298" y="2261496"/>
                    <a:pt x="1119901" y="2258968"/>
                  </a:cubicBezTo>
                  <a:cubicBezTo>
                    <a:pt x="1123007" y="1882480"/>
                    <a:pt x="1126112" y="1505991"/>
                    <a:pt x="1129218" y="1129503"/>
                  </a:cubicBezTo>
                  <a:lnTo>
                    <a:pt x="1935180" y="1920624"/>
                  </a:lnTo>
                  <a:close/>
                </a:path>
              </a:pathLst>
            </a:custGeom>
            <a:solidFill>
              <a:srgbClr val="f4e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饼形 55"/>
            <p:cNvSpPr/>
            <p:nvPr/>
          </p:nvSpPr>
          <p:spPr>
            <a:xfrm flipH="1" rot="16200000">
              <a:off x="6517800" y="-878400"/>
              <a:ext cx="1768320" cy="1770120"/>
            </a:xfrm>
            <a:custGeom>
              <a:avLst/>
              <a:gdLst/>
              <a:ahLst/>
              <a:rect l="l" t="t" r="r" b="b"/>
              <a:pathLst>
                <a:path w="1769268" h="1770058">
                  <a:moveTo>
                    <a:pt x="1516089" y="1504855"/>
                  </a:moveTo>
                  <a:cubicBezTo>
                    <a:pt x="1346798" y="1677476"/>
                    <a:pt x="1114275" y="1773272"/>
                    <a:pt x="872574" y="1769975"/>
                  </a:cubicBezTo>
                  <a:lnTo>
                    <a:pt x="884634" y="885029"/>
                  </a:lnTo>
                  <a:lnTo>
                    <a:pt x="1516089" y="1504855"/>
                  </a:lnTo>
                  <a:close/>
                </a:path>
              </a:pathLst>
            </a:custGeom>
            <a:solidFill>
              <a:srgbClr val="bcf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饼形 56"/>
            <p:cNvSpPr/>
            <p:nvPr/>
          </p:nvSpPr>
          <p:spPr>
            <a:xfrm flipH="1" rot="16200000">
              <a:off x="6663600" y="-723960"/>
              <a:ext cx="1457280" cy="1458720"/>
            </a:xfrm>
            <a:custGeom>
              <a:avLst/>
              <a:gdLst/>
              <a:ahLst/>
              <a:rect l="l" t="t" r="r" b="b"/>
              <a:pathLst>
                <a:path w="1457977" h="1458908">
                  <a:moveTo>
                    <a:pt x="1249567" y="1240095"/>
                  </a:moveTo>
                  <a:cubicBezTo>
                    <a:pt x="1110022" y="1382537"/>
                    <a:pt x="918271" y="1461585"/>
                    <a:pt x="718949" y="1458838"/>
                  </a:cubicBezTo>
                  <a:lnTo>
                    <a:pt x="728989" y="729454"/>
                  </a:lnTo>
                  <a:lnTo>
                    <a:pt x="1249567" y="1240095"/>
                  </a:lnTo>
                  <a:close/>
                </a:path>
              </a:pathLst>
            </a:custGeom>
            <a:solidFill>
              <a:srgbClr val="4f6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3" name="组合 65"/>
          <p:cNvGrpSpPr/>
          <p:nvPr/>
        </p:nvGrpSpPr>
        <p:grpSpPr>
          <a:xfrm>
            <a:off x="-360" y="5097600"/>
            <a:ext cx="3522600" cy="3520800"/>
            <a:chOff x="-360" y="5097600"/>
            <a:chExt cx="3522600" cy="3520800"/>
          </a:xfrm>
        </p:grpSpPr>
        <p:sp>
          <p:nvSpPr>
            <p:cNvPr id="184" name="饼形 60"/>
            <p:cNvSpPr/>
            <p:nvPr/>
          </p:nvSpPr>
          <p:spPr>
            <a:xfrm flipV="1" rot="16200000">
              <a:off x="360" y="5096520"/>
              <a:ext cx="35208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5" y="3001536"/>
                  </a:moveTo>
                  <a:cubicBezTo>
                    <a:pt x="2679649" y="3336672"/>
                    <a:pt x="2226712" y="3524405"/>
                    <a:pt x="1754737" y="3522639"/>
                  </a:cubicBezTo>
                  <a:cubicBezTo>
                    <a:pt x="1756933" y="2935535"/>
                    <a:pt x="1759130" y="2348430"/>
                    <a:pt x="1761326" y="1761326"/>
                  </a:cubicBezTo>
                  <a:lnTo>
                    <a:pt x="3011985" y="30015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饼形 61"/>
            <p:cNvSpPr/>
            <p:nvPr/>
          </p:nvSpPr>
          <p:spPr>
            <a:xfrm flipV="1" rot="16200000">
              <a:off x="368640" y="5472720"/>
              <a:ext cx="2768400" cy="2770200"/>
            </a:xfrm>
            <a:custGeom>
              <a:avLst/>
              <a:gdLst/>
              <a:ahLst/>
              <a:rect l="l" t="t" r="r" b="b"/>
              <a:pathLst>
                <a:path w="2769840" h="2770179">
                  <a:moveTo>
                    <a:pt x="2373324" y="2355291"/>
                  </a:moveTo>
                  <a:cubicBezTo>
                    <a:pt x="2111858" y="2621728"/>
                    <a:pt x="1753922" y="2771324"/>
                    <a:pt x="1380646" y="2770172"/>
                  </a:cubicBezTo>
                  <a:cubicBezTo>
                    <a:pt x="1382071" y="2308478"/>
                    <a:pt x="1383495" y="1846784"/>
                    <a:pt x="1384920" y="1385090"/>
                  </a:cubicBezTo>
                  <a:lnTo>
                    <a:pt x="2373324" y="2355291"/>
                  </a:lnTo>
                  <a:close/>
                </a:path>
              </a:pathLst>
            </a:custGeom>
            <a:solidFill>
              <a:srgbClr val="8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饼形 62"/>
            <p:cNvSpPr/>
            <p:nvPr/>
          </p:nvSpPr>
          <p:spPr>
            <a:xfrm flipV="1" rot="16200000">
              <a:off x="619200" y="5723280"/>
              <a:ext cx="2257200" cy="2259000"/>
            </a:xfrm>
            <a:custGeom>
              <a:avLst/>
              <a:gdLst/>
              <a:ahLst/>
              <a:rect l="l" t="t" r="r" b="b"/>
              <a:pathLst>
                <a:path w="2258436" h="2259006">
                  <a:moveTo>
                    <a:pt x="1935181" y="1920624"/>
                  </a:moveTo>
                  <a:cubicBezTo>
                    <a:pt x="1720569" y="2139373"/>
                    <a:pt x="1426299" y="2261496"/>
                    <a:pt x="1119902" y="2258968"/>
                  </a:cubicBezTo>
                  <a:cubicBezTo>
                    <a:pt x="1123007" y="1882480"/>
                    <a:pt x="1126113" y="1505991"/>
                    <a:pt x="1129218" y="1129503"/>
                  </a:cubicBezTo>
                  <a:lnTo>
                    <a:pt x="1935181" y="1920624"/>
                  </a:lnTo>
                  <a:close/>
                </a:path>
              </a:pathLst>
            </a:custGeom>
            <a:solidFill>
              <a:srgbClr val="bcf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饼形 63"/>
            <p:cNvSpPr/>
            <p:nvPr/>
          </p:nvSpPr>
          <p:spPr>
            <a:xfrm flipV="1" rot="16200000">
              <a:off x="856080" y="5966280"/>
              <a:ext cx="1768320" cy="1770120"/>
            </a:xfrm>
            <a:custGeom>
              <a:avLst/>
              <a:gdLst/>
              <a:ahLst/>
              <a:rect l="l" t="t" r="r" b="b"/>
              <a:pathLst>
                <a:path w="1769267" h="1770056">
                  <a:moveTo>
                    <a:pt x="1516088" y="1504854"/>
                  </a:moveTo>
                  <a:cubicBezTo>
                    <a:pt x="1346797" y="1677474"/>
                    <a:pt x="1114275" y="1773271"/>
                    <a:pt x="872573" y="1769974"/>
                  </a:cubicBezTo>
                  <a:lnTo>
                    <a:pt x="884634" y="885028"/>
                  </a:lnTo>
                  <a:lnTo>
                    <a:pt x="1516088" y="1504854"/>
                  </a:lnTo>
                  <a:close/>
                </a:path>
              </a:pathLst>
            </a:custGeom>
            <a:solidFill>
              <a:srgbClr val="e1f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饼形 64"/>
            <p:cNvSpPr/>
            <p:nvPr/>
          </p:nvSpPr>
          <p:spPr>
            <a:xfrm flipV="1" rot="16200000">
              <a:off x="1023120" y="6123960"/>
              <a:ext cx="1457280" cy="1458720"/>
            </a:xfrm>
            <a:custGeom>
              <a:avLst/>
              <a:gdLst/>
              <a:ahLst/>
              <a:rect l="l" t="t" r="r" b="b"/>
              <a:pathLst>
                <a:path w="1457978" h="1458908">
                  <a:moveTo>
                    <a:pt x="1245481" y="1244234"/>
                  </a:moveTo>
                  <a:cubicBezTo>
                    <a:pt x="1106230" y="1384126"/>
                    <a:pt x="916253" y="1461558"/>
                    <a:pt x="718950" y="1458838"/>
                  </a:cubicBezTo>
                  <a:lnTo>
                    <a:pt x="728989" y="729454"/>
                  </a:lnTo>
                  <a:lnTo>
                    <a:pt x="1245481" y="1244234"/>
                  </a:lnTo>
                  <a:close/>
                </a:path>
              </a:pathLst>
            </a:custGeom>
            <a:solidFill>
              <a:srgbClr val="ec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9" name="组合 21"/>
          <p:cNvGrpSpPr/>
          <p:nvPr/>
        </p:nvGrpSpPr>
        <p:grpSpPr>
          <a:xfrm>
            <a:off x="2143080" y="1928880"/>
            <a:ext cx="1263600" cy="1263600"/>
            <a:chOff x="2143080" y="1928880"/>
            <a:chExt cx="1263600" cy="1263600"/>
          </a:xfrm>
        </p:grpSpPr>
        <p:sp>
          <p:nvSpPr>
            <p:cNvPr id="190" name="饼形 57"/>
            <p:cNvSpPr/>
            <p:nvPr/>
          </p:nvSpPr>
          <p:spPr>
            <a:xfrm rot="10800000">
              <a:off x="2143080" y="1928880"/>
              <a:ext cx="1263600" cy="1263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5" y="3001536"/>
                  </a:moveTo>
                  <a:cubicBezTo>
                    <a:pt x="2679649" y="3336672"/>
                    <a:pt x="2226712" y="3524405"/>
                    <a:pt x="1754737" y="3522639"/>
                  </a:cubicBezTo>
                  <a:cubicBezTo>
                    <a:pt x="1756933" y="2935535"/>
                    <a:pt x="1759130" y="2348430"/>
                    <a:pt x="1761326" y="1761326"/>
                  </a:cubicBezTo>
                  <a:lnTo>
                    <a:pt x="3011985" y="30015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饼形 58"/>
            <p:cNvSpPr/>
            <p:nvPr/>
          </p:nvSpPr>
          <p:spPr>
            <a:xfrm rot="10800000">
              <a:off x="2278800" y="2060280"/>
              <a:ext cx="993960" cy="993960"/>
            </a:xfrm>
            <a:custGeom>
              <a:avLst/>
              <a:gdLst/>
              <a:ahLst/>
              <a:rect l="l" t="t" r="r" b="b"/>
              <a:pathLst>
                <a:path w="2770327" h="2770327">
                  <a:moveTo>
                    <a:pt x="2373682" y="2355478"/>
                  </a:moveTo>
                  <a:cubicBezTo>
                    <a:pt x="2112172" y="2621894"/>
                    <a:pt x="1754197" y="2771474"/>
                    <a:pt x="1380884" y="2770321"/>
                  </a:cubicBezTo>
                  <a:cubicBezTo>
                    <a:pt x="1382311" y="2308602"/>
                    <a:pt x="1383737" y="1846883"/>
                    <a:pt x="1385164" y="1385164"/>
                  </a:cubicBezTo>
                  <a:lnTo>
                    <a:pt x="2373682" y="2355478"/>
                  </a:lnTo>
                  <a:close/>
                </a:path>
              </a:pathLst>
            </a:custGeom>
            <a:solidFill>
              <a:srgbClr val="8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饼形 59"/>
            <p:cNvSpPr/>
            <p:nvPr/>
          </p:nvSpPr>
          <p:spPr>
            <a:xfrm rot="10800000">
              <a:off x="2369160" y="2150640"/>
              <a:ext cx="809640" cy="809640"/>
            </a:xfrm>
            <a:custGeom>
              <a:avLst/>
              <a:gdLst/>
              <a:ahLst/>
              <a:rect l="l" t="t" r="r" b="b"/>
              <a:pathLst>
                <a:path w="2256976" h="2256976">
                  <a:moveTo>
                    <a:pt x="1933830" y="1919000"/>
                  </a:moveTo>
                  <a:cubicBezTo>
                    <a:pt x="1719364" y="2137489"/>
                    <a:pt x="1425329" y="2259463"/>
                    <a:pt x="1119180" y="2256938"/>
                  </a:cubicBezTo>
                  <a:cubicBezTo>
                    <a:pt x="1122283" y="1880788"/>
                    <a:pt x="1125385" y="1504638"/>
                    <a:pt x="1128488" y="1128488"/>
                  </a:cubicBezTo>
                  <a:lnTo>
                    <a:pt x="1933830" y="1919000"/>
                  </a:lnTo>
                  <a:close/>
                </a:path>
              </a:pathLst>
            </a:custGeom>
            <a:solidFill>
              <a:srgbClr val="c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饼形 65"/>
            <p:cNvSpPr/>
            <p:nvPr/>
          </p:nvSpPr>
          <p:spPr>
            <a:xfrm rot="10800000">
              <a:off x="2455920" y="2235240"/>
              <a:ext cx="635040" cy="635040"/>
            </a:xfrm>
            <a:custGeom>
              <a:avLst/>
              <a:gdLst/>
              <a:ahLst/>
              <a:rect l="l" t="t" r="r" b="b"/>
              <a:pathLst>
                <a:path w="1770177" h="1770177">
                  <a:moveTo>
                    <a:pt x="1516730" y="1505098"/>
                  </a:moveTo>
                  <a:cubicBezTo>
                    <a:pt x="1347363" y="1677642"/>
                    <a:pt x="1114783" y="1773390"/>
                    <a:pt x="873027" y="1770095"/>
                  </a:cubicBezTo>
                  <a:lnTo>
                    <a:pt x="885089" y="885089"/>
                  </a:lnTo>
                  <a:lnTo>
                    <a:pt x="1516730" y="1505098"/>
                  </a:lnTo>
                  <a:close/>
                </a:path>
              </a:pathLst>
            </a:custGeom>
            <a:solidFill>
              <a:srgbClr val="f6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饼形 66"/>
            <p:cNvSpPr/>
            <p:nvPr/>
          </p:nvSpPr>
          <p:spPr>
            <a:xfrm rot="10800000">
              <a:off x="2512080" y="2295000"/>
              <a:ext cx="523800" cy="523800"/>
            </a:xfrm>
            <a:custGeom>
              <a:avLst/>
              <a:gdLst/>
              <a:ahLst/>
              <a:rect l="l" t="t" r="r" b="b"/>
              <a:pathLst>
                <a:path w="1460396" h="1460396">
                  <a:moveTo>
                    <a:pt x="1247382" y="1245668"/>
                  </a:moveTo>
                  <a:cubicBezTo>
                    <a:pt x="1107914" y="1385600"/>
                    <a:pt x="917696" y="1463045"/>
                    <a:pt x="720148" y="1460326"/>
                  </a:cubicBezTo>
                  <a:lnTo>
                    <a:pt x="730198" y="730198"/>
                  </a:lnTo>
                  <a:lnTo>
                    <a:pt x="1247382" y="1245668"/>
                  </a:lnTo>
                  <a:close/>
                </a:path>
              </a:pathLst>
            </a:custGeom>
            <a:solidFill>
              <a:srgbClr val="fe61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5" name="矩形 67"/>
          <p:cNvSpPr/>
          <p:nvPr/>
        </p:nvSpPr>
        <p:spPr>
          <a:xfrm>
            <a:off x="2857680" y="1928880"/>
            <a:ext cx="3429000" cy="642960"/>
          </a:xfrm>
          <a:prstGeom prst="rect">
            <a:avLst/>
          </a:prstGeom>
          <a:solidFill>
            <a:srgbClr val="ff0000">
              <a:alpha val="20000"/>
            </a:srgbClr>
          </a:solidFill>
          <a:ln w="25560">
            <a:solidFill>
              <a:srgbClr val="ff0000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点击添加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6" name="组合 65"/>
          <p:cNvGrpSpPr/>
          <p:nvPr/>
        </p:nvGrpSpPr>
        <p:grpSpPr>
          <a:xfrm>
            <a:off x="2143080" y="2857680"/>
            <a:ext cx="1279440" cy="1279440"/>
            <a:chOff x="2143080" y="2857680"/>
            <a:chExt cx="1279440" cy="1279440"/>
          </a:xfrm>
        </p:grpSpPr>
        <p:sp>
          <p:nvSpPr>
            <p:cNvPr id="197" name="饼形 82"/>
            <p:cNvSpPr/>
            <p:nvPr/>
          </p:nvSpPr>
          <p:spPr>
            <a:xfrm rot="10800000">
              <a:off x="2143080" y="2857680"/>
              <a:ext cx="1279440" cy="127944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5" y="3001536"/>
                  </a:moveTo>
                  <a:cubicBezTo>
                    <a:pt x="2679649" y="3336672"/>
                    <a:pt x="2226712" y="3524405"/>
                    <a:pt x="1754737" y="3522639"/>
                  </a:cubicBezTo>
                  <a:cubicBezTo>
                    <a:pt x="1756933" y="2935535"/>
                    <a:pt x="1759130" y="2348430"/>
                    <a:pt x="1761326" y="1761326"/>
                  </a:cubicBezTo>
                  <a:lnTo>
                    <a:pt x="3011985" y="30015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饼形 83"/>
            <p:cNvSpPr/>
            <p:nvPr/>
          </p:nvSpPr>
          <p:spPr>
            <a:xfrm rot="10800000">
              <a:off x="2279520" y="2990880"/>
              <a:ext cx="1006560" cy="1006560"/>
            </a:xfrm>
            <a:custGeom>
              <a:avLst/>
              <a:gdLst/>
              <a:ahLst/>
              <a:rect l="l" t="t" r="r" b="b"/>
              <a:pathLst>
                <a:path w="2770920" h="2770920">
                  <a:moveTo>
                    <a:pt x="2374190" y="2355982"/>
                  </a:moveTo>
                  <a:cubicBezTo>
                    <a:pt x="2112626" y="2622453"/>
                    <a:pt x="1754577" y="2772066"/>
                    <a:pt x="1381185" y="2770913"/>
                  </a:cubicBezTo>
                  <a:lnTo>
                    <a:pt x="1385460" y="1385460"/>
                  </a:lnTo>
                  <a:lnTo>
                    <a:pt x="2374190" y="2355982"/>
                  </a:lnTo>
                  <a:close/>
                </a:path>
              </a:pathLst>
            </a:custGeom>
            <a:solidFill>
              <a:srgbClr val="8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饼形 84"/>
            <p:cNvSpPr/>
            <p:nvPr/>
          </p:nvSpPr>
          <p:spPr>
            <a:xfrm rot="10800000">
              <a:off x="2363760" y="3083040"/>
              <a:ext cx="820800" cy="820800"/>
            </a:xfrm>
            <a:custGeom>
              <a:avLst/>
              <a:gdLst/>
              <a:ahLst/>
              <a:rect l="l" t="t" r="r" b="b"/>
              <a:pathLst>
                <a:path w="2259566" h="2259568">
                  <a:moveTo>
                    <a:pt x="1936050" y="1921203"/>
                  </a:moveTo>
                  <a:cubicBezTo>
                    <a:pt x="1721338" y="2139944"/>
                    <a:pt x="1426965" y="2262057"/>
                    <a:pt x="1120465" y="2259529"/>
                  </a:cubicBezTo>
                  <a:lnTo>
                    <a:pt x="1129783" y="1129784"/>
                  </a:lnTo>
                  <a:lnTo>
                    <a:pt x="1936050" y="1921203"/>
                  </a:lnTo>
                  <a:close/>
                </a:path>
              </a:pathLst>
            </a:custGeom>
            <a:solidFill>
              <a:srgbClr val="bcf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饼形 85"/>
            <p:cNvSpPr/>
            <p:nvPr/>
          </p:nvSpPr>
          <p:spPr>
            <a:xfrm rot="10800000">
              <a:off x="2452680" y="3168720"/>
              <a:ext cx="642960" cy="642960"/>
            </a:xfrm>
            <a:custGeom>
              <a:avLst/>
              <a:gdLst/>
              <a:ahLst/>
              <a:rect l="l" t="t" r="r" b="b"/>
              <a:pathLst>
                <a:path w="1770066" h="1770068">
                  <a:moveTo>
                    <a:pt x="1516635" y="1505005"/>
                  </a:moveTo>
                  <a:cubicBezTo>
                    <a:pt x="1347279" y="1677539"/>
                    <a:pt x="1114713" y="1773281"/>
                    <a:pt x="872973" y="1769986"/>
                  </a:cubicBezTo>
                  <a:lnTo>
                    <a:pt x="885033" y="885034"/>
                  </a:lnTo>
                  <a:lnTo>
                    <a:pt x="1516635" y="1505005"/>
                  </a:lnTo>
                  <a:close/>
                </a:path>
              </a:pathLst>
            </a:custGeom>
            <a:solidFill>
              <a:srgbClr val="e1f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饼形 86"/>
            <p:cNvSpPr/>
            <p:nvPr/>
          </p:nvSpPr>
          <p:spPr>
            <a:xfrm rot="10800000">
              <a:off x="2515680" y="3228840"/>
              <a:ext cx="530280" cy="530280"/>
            </a:xfrm>
            <a:custGeom>
              <a:avLst/>
              <a:gdLst/>
              <a:ahLst/>
              <a:rect l="l" t="t" r="r" b="b"/>
              <a:pathLst>
                <a:path w="1459759" h="1459759">
                  <a:moveTo>
                    <a:pt x="1246838" y="1245125"/>
                  </a:moveTo>
                  <a:cubicBezTo>
                    <a:pt x="1107431" y="1384996"/>
                    <a:pt x="917295" y="1462408"/>
                    <a:pt x="719834" y="1459690"/>
                  </a:cubicBezTo>
                  <a:lnTo>
                    <a:pt x="729880" y="729880"/>
                  </a:lnTo>
                  <a:lnTo>
                    <a:pt x="1246838" y="1245125"/>
                  </a:lnTo>
                  <a:close/>
                </a:path>
              </a:pathLst>
            </a:custGeom>
            <a:solidFill>
              <a:srgbClr val="ec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2" name="矩形 87"/>
          <p:cNvSpPr/>
          <p:nvPr/>
        </p:nvSpPr>
        <p:spPr>
          <a:xfrm>
            <a:off x="2857680" y="2863800"/>
            <a:ext cx="3429000" cy="642960"/>
          </a:xfrm>
          <a:prstGeom prst="rect">
            <a:avLst/>
          </a:prstGeom>
          <a:solidFill>
            <a:srgbClr val="8fcf01">
              <a:alpha val="20000"/>
            </a:srgbClr>
          </a:solidFill>
          <a:ln w="25560">
            <a:solidFill>
              <a:srgbClr val="00b050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点击添加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3" name="组合 29"/>
          <p:cNvGrpSpPr/>
          <p:nvPr/>
        </p:nvGrpSpPr>
        <p:grpSpPr>
          <a:xfrm>
            <a:off x="2143080" y="3786120"/>
            <a:ext cx="1316160" cy="1316160"/>
            <a:chOff x="2143080" y="3786120"/>
            <a:chExt cx="1316160" cy="1316160"/>
          </a:xfrm>
        </p:grpSpPr>
        <p:sp>
          <p:nvSpPr>
            <p:cNvPr id="204" name="饼形 95"/>
            <p:cNvSpPr/>
            <p:nvPr/>
          </p:nvSpPr>
          <p:spPr>
            <a:xfrm rot="10800000">
              <a:off x="2143080" y="3786120"/>
              <a:ext cx="1316160" cy="131616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5" y="3001536"/>
                  </a:moveTo>
                  <a:cubicBezTo>
                    <a:pt x="2679649" y="3336672"/>
                    <a:pt x="2226712" y="3524405"/>
                    <a:pt x="1754737" y="3522639"/>
                  </a:cubicBezTo>
                  <a:cubicBezTo>
                    <a:pt x="1756933" y="2935535"/>
                    <a:pt x="1759130" y="2348430"/>
                    <a:pt x="1761326" y="1761326"/>
                  </a:cubicBezTo>
                  <a:lnTo>
                    <a:pt x="3011985" y="3001536"/>
                  </a:lnTo>
                  <a:close/>
                </a:path>
              </a:pathLst>
            </a:custGeom>
            <a:solidFill>
              <a:srgbClr val="017c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饼形 96"/>
            <p:cNvSpPr/>
            <p:nvPr/>
          </p:nvSpPr>
          <p:spPr>
            <a:xfrm rot="10800000">
              <a:off x="2283840" y="3924000"/>
              <a:ext cx="1033560" cy="1035360"/>
            </a:xfrm>
            <a:custGeom>
              <a:avLst/>
              <a:gdLst/>
              <a:ahLst/>
              <a:rect l="l" t="t" r="r" b="b"/>
              <a:pathLst>
                <a:path w="2766278" h="2770531">
                  <a:moveTo>
                    <a:pt x="2370956" y="2354892"/>
                  </a:moveTo>
                  <a:cubicBezTo>
                    <a:pt x="2109774" y="2621793"/>
                    <a:pt x="1751997" y="2771682"/>
                    <a:pt x="1378858" y="2770525"/>
                  </a:cubicBezTo>
                  <a:lnTo>
                    <a:pt x="1383139" y="1385266"/>
                  </a:lnTo>
                  <a:lnTo>
                    <a:pt x="2370956" y="2354892"/>
                  </a:lnTo>
                  <a:close/>
                </a:path>
              </a:pathLst>
            </a:custGeom>
            <a:solidFill>
              <a:srgbClr val="0098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饼形 97"/>
            <p:cNvSpPr/>
            <p:nvPr/>
          </p:nvSpPr>
          <p:spPr>
            <a:xfrm rot="10800000">
              <a:off x="2377800" y="4017960"/>
              <a:ext cx="843120" cy="843120"/>
            </a:xfrm>
            <a:custGeom>
              <a:avLst/>
              <a:gdLst/>
              <a:ahLst/>
              <a:rect l="l" t="t" r="r" b="b"/>
              <a:pathLst>
                <a:path w="2256367" h="2256366">
                  <a:moveTo>
                    <a:pt x="1933308" y="1918481"/>
                  </a:moveTo>
                  <a:cubicBezTo>
                    <a:pt x="1718900" y="2136911"/>
                    <a:pt x="1424944" y="2258852"/>
                    <a:pt x="1118878" y="2256327"/>
                  </a:cubicBezTo>
                  <a:lnTo>
                    <a:pt x="1128184" y="1128183"/>
                  </a:lnTo>
                  <a:lnTo>
                    <a:pt x="1933308" y="1918481"/>
                  </a:lnTo>
                  <a:close/>
                </a:path>
              </a:pathLst>
            </a:custGeom>
            <a:solidFill>
              <a:srgbClr val="00c4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饼形 98"/>
            <p:cNvSpPr/>
            <p:nvPr/>
          </p:nvSpPr>
          <p:spPr>
            <a:xfrm rot="10800000">
              <a:off x="2468160" y="4106160"/>
              <a:ext cx="660600" cy="662040"/>
            </a:xfrm>
            <a:custGeom>
              <a:avLst/>
              <a:gdLst/>
              <a:ahLst/>
              <a:rect l="l" t="t" r="r" b="b"/>
              <a:pathLst>
                <a:path w="1767699" h="1771951">
                  <a:moveTo>
                    <a:pt x="1515349" y="1505846"/>
                  </a:moveTo>
                  <a:cubicBezTo>
                    <a:pt x="1346161" y="1679038"/>
                    <a:pt x="1113571" y="1775180"/>
                    <a:pt x="871775" y="1771868"/>
                  </a:cubicBezTo>
                  <a:lnTo>
                    <a:pt x="883850" y="885976"/>
                  </a:lnTo>
                  <a:lnTo>
                    <a:pt x="1515349" y="1505846"/>
                  </a:lnTo>
                  <a:close/>
                </a:path>
              </a:pathLst>
            </a:custGeom>
            <a:solidFill>
              <a:srgbClr val="71ff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饼形 99"/>
            <p:cNvSpPr/>
            <p:nvPr/>
          </p:nvSpPr>
          <p:spPr>
            <a:xfrm rot="10800000">
              <a:off x="2526840" y="4169520"/>
              <a:ext cx="544680" cy="544680"/>
            </a:xfrm>
            <a:custGeom>
              <a:avLst/>
              <a:gdLst/>
              <a:ahLst/>
              <a:rect l="l" t="t" r="r" b="b"/>
              <a:pathLst>
                <a:path w="1457503" h="1457504">
                  <a:moveTo>
                    <a:pt x="1244911" y="1243201"/>
                  </a:moveTo>
                  <a:cubicBezTo>
                    <a:pt x="1105719" y="1382856"/>
                    <a:pt x="915878" y="1460148"/>
                    <a:pt x="718722" y="1457434"/>
                  </a:cubicBezTo>
                  <a:lnTo>
                    <a:pt x="728752" y="728752"/>
                  </a:lnTo>
                  <a:lnTo>
                    <a:pt x="1244911" y="1243201"/>
                  </a:lnTo>
                  <a:close/>
                </a:path>
              </a:pathLst>
            </a:custGeom>
            <a:solidFill>
              <a:srgbClr val="a7f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9" name="矩形 100"/>
          <p:cNvSpPr/>
          <p:nvPr/>
        </p:nvSpPr>
        <p:spPr>
          <a:xfrm>
            <a:off x="2857680" y="3786120"/>
            <a:ext cx="3429000" cy="642960"/>
          </a:xfrm>
          <a:prstGeom prst="rect">
            <a:avLst/>
          </a:prstGeom>
          <a:solidFill>
            <a:srgbClr val="0070c0">
              <a:alpha val="20000"/>
            </a:srgbClr>
          </a:solidFill>
          <a:ln w="25560">
            <a:solidFill>
              <a:srgbClr val="00b0f0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点击添加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圆角矩形 107"/>
          <p:cNvGrpSpPr/>
          <p:nvPr/>
        </p:nvGrpSpPr>
        <p:grpSpPr>
          <a:xfrm>
            <a:off x="1700280" y="1847880"/>
            <a:ext cx="5670360" cy="3882960"/>
            <a:chOff x="1700280" y="1847880"/>
            <a:chExt cx="5670360" cy="3882960"/>
          </a:xfrm>
        </p:grpSpPr>
        <p:pic>
          <p:nvPicPr>
            <p:cNvPr id="211" name="圆角矩形 107" descr=""/>
            <p:cNvPicPr/>
            <p:nvPr/>
          </p:nvPicPr>
          <p:blipFill>
            <a:blip r:embed="rId2"/>
            <a:stretch/>
          </p:blipFill>
          <p:spPr>
            <a:xfrm>
              <a:off x="1700280" y="1847880"/>
              <a:ext cx="5670360" cy="38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1903320" y="2046240"/>
              <a:ext cx="5265720" cy="34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Calibri"/>
                </a:rPr>
                <a:t>点击添加标题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3" name="组合 50"/>
          <p:cNvGrpSpPr/>
          <p:nvPr/>
        </p:nvGrpSpPr>
        <p:grpSpPr>
          <a:xfrm>
            <a:off x="-360" y="-1760400"/>
            <a:ext cx="3522600" cy="3520800"/>
            <a:chOff x="-360" y="-1760400"/>
            <a:chExt cx="3522600" cy="3520800"/>
          </a:xfrm>
        </p:grpSpPr>
        <p:sp>
          <p:nvSpPr>
            <p:cNvPr id="214" name="饼形 45"/>
            <p:cNvSpPr/>
            <p:nvPr/>
          </p:nvSpPr>
          <p:spPr>
            <a:xfrm rot="5400000">
              <a:off x="360" y="-1761120"/>
              <a:ext cx="35208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5" y="3001536"/>
                  </a:moveTo>
                  <a:cubicBezTo>
                    <a:pt x="2679649" y="3336672"/>
                    <a:pt x="2226712" y="3524405"/>
                    <a:pt x="1754737" y="3522639"/>
                  </a:cubicBezTo>
                  <a:cubicBezTo>
                    <a:pt x="1756933" y="2935535"/>
                    <a:pt x="1759130" y="2348430"/>
                    <a:pt x="1761326" y="1761326"/>
                  </a:cubicBezTo>
                  <a:lnTo>
                    <a:pt x="3011985" y="30015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饼形 46"/>
            <p:cNvSpPr/>
            <p:nvPr/>
          </p:nvSpPr>
          <p:spPr>
            <a:xfrm rot="5400000">
              <a:off x="368640" y="-1384560"/>
              <a:ext cx="2768400" cy="2770200"/>
            </a:xfrm>
            <a:custGeom>
              <a:avLst/>
              <a:gdLst/>
              <a:ahLst/>
              <a:rect l="l" t="t" r="r" b="b"/>
              <a:pathLst>
                <a:path w="2769839" h="2770179">
                  <a:moveTo>
                    <a:pt x="2373323" y="2355291"/>
                  </a:moveTo>
                  <a:cubicBezTo>
                    <a:pt x="2111857" y="2621728"/>
                    <a:pt x="1753921" y="2771324"/>
                    <a:pt x="1380645" y="2770172"/>
                  </a:cubicBezTo>
                  <a:lnTo>
                    <a:pt x="1384920" y="1385090"/>
                  </a:lnTo>
                  <a:lnTo>
                    <a:pt x="2373323" y="2355291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饼形 47"/>
            <p:cNvSpPr/>
            <p:nvPr/>
          </p:nvSpPr>
          <p:spPr>
            <a:xfrm rot="5400000">
              <a:off x="619200" y="-1124280"/>
              <a:ext cx="2257200" cy="2259000"/>
            </a:xfrm>
            <a:custGeom>
              <a:avLst/>
              <a:gdLst/>
              <a:ahLst/>
              <a:rect l="l" t="t" r="r" b="b"/>
              <a:pathLst>
                <a:path w="2258435" h="2259006">
                  <a:moveTo>
                    <a:pt x="1935180" y="1920624"/>
                  </a:moveTo>
                  <a:cubicBezTo>
                    <a:pt x="1720568" y="2139373"/>
                    <a:pt x="1426298" y="2261496"/>
                    <a:pt x="1119901" y="2258968"/>
                  </a:cubicBezTo>
                  <a:cubicBezTo>
                    <a:pt x="1123007" y="1882480"/>
                    <a:pt x="1126112" y="1505991"/>
                    <a:pt x="1129218" y="1129503"/>
                  </a:cubicBezTo>
                  <a:lnTo>
                    <a:pt x="1935180" y="1920624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饼形 48"/>
            <p:cNvSpPr/>
            <p:nvPr/>
          </p:nvSpPr>
          <p:spPr>
            <a:xfrm rot="5400000">
              <a:off x="856080" y="-878400"/>
              <a:ext cx="1768320" cy="1770120"/>
            </a:xfrm>
            <a:custGeom>
              <a:avLst/>
              <a:gdLst/>
              <a:ahLst/>
              <a:rect l="l" t="t" r="r" b="b"/>
              <a:pathLst>
                <a:path w="1769268" h="1770056">
                  <a:moveTo>
                    <a:pt x="1516089" y="1504854"/>
                  </a:moveTo>
                  <a:cubicBezTo>
                    <a:pt x="1346798" y="1677474"/>
                    <a:pt x="1114276" y="1773271"/>
                    <a:pt x="872574" y="1769974"/>
                  </a:cubicBezTo>
                  <a:lnTo>
                    <a:pt x="884634" y="885028"/>
                  </a:lnTo>
                  <a:lnTo>
                    <a:pt x="1516089" y="1504854"/>
                  </a:lnTo>
                  <a:close/>
                </a:path>
              </a:pathLst>
            </a:custGeom>
            <a:solidFill>
              <a:srgbClr val="d00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饼形 49"/>
            <p:cNvSpPr/>
            <p:nvPr/>
          </p:nvSpPr>
          <p:spPr>
            <a:xfrm rot="5400000">
              <a:off x="1022760" y="-724320"/>
              <a:ext cx="1457280" cy="1458720"/>
            </a:xfrm>
            <a:custGeom>
              <a:avLst/>
              <a:gdLst/>
              <a:ahLst/>
              <a:rect l="l" t="t" r="r" b="b"/>
              <a:pathLst>
                <a:path w="1457977" h="1458908">
                  <a:moveTo>
                    <a:pt x="1245480" y="1244234"/>
                  </a:moveTo>
                  <a:cubicBezTo>
                    <a:pt x="1106229" y="1384126"/>
                    <a:pt x="916252" y="1461558"/>
                    <a:pt x="718949" y="1458838"/>
                  </a:cubicBezTo>
                  <a:lnTo>
                    <a:pt x="728989" y="729454"/>
                  </a:lnTo>
                  <a:lnTo>
                    <a:pt x="1245480" y="1244234"/>
                  </a:lnTo>
                  <a:close/>
                </a:path>
              </a:pathLst>
            </a:custGeom>
            <a:solidFill>
              <a:srgbClr val="ff5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9" name="组合 12"/>
          <p:cNvGrpSpPr/>
          <p:nvPr/>
        </p:nvGrpSpPr>
        <p:grpSpPr>
          <a:xfrm>
            <a:off x="7383600" y="-360"/>
            <a:ext cx="3520800" cy="3522600"/>
            <a:chOff x="7383600" y="-360"/>
            <a:chExt cx="3520800" cy="3522600"/>
          </a:xfrm>
        </p:grpSpPr>
        <p:sp>
          <p:nvSpPr>
            <p:cNvPr id="220" name="饼形 11"/>
            <p:cNvSpPr/>
            <p:nvPr/>
          </p:nvSpPr>
          <p:spPr>
            <a:xfrm rot="10800000">
              <a:off x="7383600" y="-360"/>
              <a:ext cx="35208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5" y="3001536"/>
                  </a:moveTo>
                  <a:cubicBezTo>
                    <a:pt x="2679649" y="3336672"/>
                    <a:pt x="2226712" y="3524405"/>
                    <a:pt x="1754737" y="3522639"/>
                  </a:cubicBezTo>
                  <a:cubicBezTo>
                    <a:pt x="1756933" y="2935535"/>
                    <a:pt x="1759130" y="2348430"/>
                    <a:pt x="1761326" y="1761326"/>
                  </a:cubicBezTo>
                  <a:lnTo>
                    <a:pt x="3011985" y="3001536"/>
                  </a:lnTo>
                  <a:close/>
                </a:path>
              </a:pathLst>
            </a:custGeom>
            <a:solidFill>
              <a:srgbClr val="ff82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饼形 9"/>
            <p:cNvSpPr/>
            <p:nvPr/>
          </p:nvSpPr>
          <p:spPr>
            <a:xfrm rot="10800000">
              <a:off x="7759800" y="367560"/>
              <a:ext cx="2768400" cy="2770200"/>
            </a:xfrm>
            <a:custGeom>
              <a:avLst/>
              <a:gdLst/>
              <a:ahLst/>
              <a:rect l="l" t="t" r="r" b="b"/>
              <a:pathLst>
                <a:path w="2769840" h="2770179">
                  <a:moveTo>
                    <a:pt x="2373324" y="2355291"/>
                  </a:moveTo>
                  <a:cubicBezTo>
                    <a:pt x="2111856" y="2621730"/>
                    <a:pt x="1753918" y="2771326"/>
                    <a:pt x="1380640" y="2770172"/>
                  </a:cubicBezTo>
                  <a:cubicBezTo>
                    <a:pt x="1382067" y="2308478"/>
                    <a:pt x="1383493" y="1846784"/>
                    <a:pt x="1384920" y="1385090"/>
                  </a:cubicBezTo>
                  <a:lnTo>
                    <a:pt x="2373324" y="2355291"/>
                  </a:lnTo>
                  <a:close/>
                </a:path>
              </a:pathLst>
            </a:custGeom>
            <a:solidFill>
              <a:srgbClr val="ff94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饼形 8"/>
            <p:cNvSpPr/>
            <p:nvPr/>
          </p:nvSpPr>
          <p:spPr>
            <a:xfrm rot="10800000">
              <a:off x="8010360" y="618480"/>
              <a:ext cx="2257200" cy="2259000"/>
            </a:xfrm>
            <a:custGeom>
              <a:avLst/>
              <a:gdLst/>
              <a:ahLst/>
              <a:rect l="l" t="t" r="r" b="b"/>
              <a:pathLst>
                <a:path w="2258436" h="2259006">
                  <a:moveTo>
                    <a:pt x="1935181" y="1920624"/>
                  </a:moveTo>
                  <a:cubicBezTo>
                    <a:pt x="1720569" y="2139373"/>
                    <a:pt x="1426299" y="2261496"/>
                    <a:pt x="1119902" y="2258968"/>
                  </a:cubicBezTo>
                  <a:cubicBezTo>
                    <a:pt x="1123007" y="1882480"/>
                    <a:pt x="1126113" y="1505991"/>
                    <a:pt x="1129218" y="1129503"/>
                  </a:cubicBezTo>
                  <a:lnTo>
                    <a:pt x="1935181" y="1920624"/>
                  </a:lnTo>
                  <a:close/>
                </a:path>
              </a:pathLst>
            </a:custGeom>
            <a:solidFill>
              <a:srgbClr val="ffa6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饼形 7"/>
            <p:cNvSpPr/>
            <p:nvPr/>
          </p:nvSpPr>
          <p:spPr>
            <a:xfrm rot="10800000">
              <a:off x="8253360" y="855360"/>
              <a:ext cx="1768320" cy="1770120"/>
            </a:xfrm>
            <a:custGeom>
              <a:avLst/>
              <a:gdLst/>
              <a:ahLst/>
              <a:rect l="l" t="t" r="r" b="b"/>
              <a:pathLst>
                <a:path w="1769267" h="1770056">
                  <a:moveTo>
                    <a:pt x="1516088" y="1504854"/>
                  </a:moveTo>
                  <a:cubicBezTo>
                    <a:pt x="1346797" y="1677474"/>
                    <a:pt x="1114275" y="1773271"/>
                    <a:pt x="872573" y="1769974"/>
                  </a:cubicBezTo>
                  <a:lnTo>
                    <a:pt x="884634" y="885028"/>
                  </a:lnTo>
                  <a:lnTo>
                    <a:pt x="1516088" y="1504854"/>
                  </a:lnTo>
                  <a:close/>
                </a:path>
              </a:pathLst>
            </a:custGeom>
            <a:solidFill>
              <a:srgbClr val="f6b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饼形 6"/>
            <p:cNvSpPr/>
            <p:nvPr/>
          </p:nvSpPr>
          <p:spPr>
            <a:xfrm rot="10800000">
              <a:off x="8410680" y="1022040"/>
              <a:ext cx="1457280" cy="1458720"/>
            </a:xfrm>
            <a:custGeom>
              <a:avLst/>
              <a:gdLst/>
              <a:ahLst/>
              <a:rect l="l" t="t" r="r" b="b"/>
              <a:pathLst>
                <a:path w="1457978" h="1458908">
                  <a:moveTo>
                    <a:pt x="1245481" y="1244234"/>
                  </a:moveTo>
                  <a:cubicBezTo>
                    <a:pt x="1106230" y="1384126"/>
                    <a:pt x="916253" y="1461558"/>
                    <a:pt x="718950" y="1458838"/>
                  </a:cubicBezTo>
                  <a:lnTo>
                    <a:pt x="728989" y="729454"/>
                  </a:lnTo>
                  <a:lnTo>
                    <a:pt x="1245481" y="1244234"/>
                  </a:lnTo>
                  <a:close/>
                </a:path>
              </a:pathLst>
            </a:custGeom>
            <a:solidFill>
              <a:srgbClr val="ffc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5" name="组合 21"/>
          <p:cNvGrpSpPr/>
          <p:nvPr/>
        </p:nvGrpSpPr>
        <p:grpSpPr>
          <a:xfrm>
            <a:off x="-1760400" y="-360"/>
            <a:ext cx="3520800" cy="3522600"/>
            <a:chOff x="-1760400" y="-360"/>
            <a:chExt cx="3520800" cy="3522600"/>
          </a:xfrm>
        </p:grpSpPr>
        <p:sp>
          <p:nvSpPr>
            <p:cNvPr id="226" name="饼形 16"/>
            <p:cNvSpPr/>
            <p:nvPr/>
          </p:nvSpPr>
          <p:spPr>
            <a:xfrm flipH="1" rot="10800000">
              <a:off x="-1760400" y="-360"/>
              <a:ext cx="35208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5" y="3001536"/>
                  </a:moveTo>
                  <a:cubicBezTo>
                    <a:pt x="2679649" y="3336672"/>
                    <a:pt x="2226712" y="3524405"/>
                    <a:pt x="1754737" y="3522639"/>
                  </a:cubicBezTo>
                  <a:cubicBezTo>
                    <a:pt x="1756933" y="2935535"/>
                    <a:pt x="1759130" y="2348430"/>
                    <a:pt x="1761326" y="1761326"/>
                  </a:cubicBezTo>
                  <a:lnTo>
                    <a:pt x="3011985" y="30015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饼形 17"/>
            <p:cNvSpPr/>
            <p:nvPr/>
          </p:nvSpPr>
          <p:spPr>
            <a:xfrm flipH="1" rot="10800000">
              <a:off x="-1383840" y="367920"/>
              <a:ext cx="2768400" cy="2770200"/>
            </a:xfrm>
            <a:custGeom>
              <a:avLst/>
              <a:gdLst/>
              <a:ahLst/>
              <a:rect l="l" t="t" r="r" b="b"/>
              <a:pathLst>
                <a:path w="2769839" h="2770179">
                  <a:moveTo>
                    <a:pt x="2373323" y="2355291"/>
                  </a:moveTo>
                  <a:cubicBezTo>
                    <a:pt x="2111855" y="2621730"/>
                    <a:pt x="1753917" y="2771326"/>
                    <a:pt x="1380639" y="2770172"/>
                  </a:cubicBezTo>
                  <a:lnTo>
                    <a:pt x="1384920" y="1385090"/>
                  </a:lnTo>
                  <a:lnTo>
                    <a:pt x="2373323" y="2355291"/>
                  </a:lnTo>
                  <a:close/>
                </a:path>
              </a:pathLst>
            </a:custGeom>
            <a:solidFill>
              <a:srgbClr val="8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饼形 18"/>
            <p:cNvSpPr/>
            <p:nvPr/>
          </p:nvSpPr>
          <p:spPr>
            <a:xfrm flipH="1" rot="10800000">
              <a:off x="-1123560" y="618480"/>
              <a:ext cx="2257200" cy="2259000"/>
            </a:xfrm>
            <a:custGeom>
              <a:avLst/>
              <a:gdLst/>
              <a:ahLst/>
              <a:rect l="l" t="t" r="r" b="b"/>
              <a:pathLst>
                <a:path w="2258435" h="2259006">
                  <a:moveTo>
                    <a:pt x="1935180" y="1920624"/>
                  </a:moveTo>
                  <a:cubicBezTo>
                    <a:pt x="1720568" y="2139373"/>
                    <a:pt x="1426298" y="2261496"/>
                    <a:pt x="1119901" y="2258968"/>
                  </a:cubicBezTo>
                  <a:cubicBezTo>
                    <a:pt x="1123007" y="1882480"/>
                    <a:pt x="1126112" y="1505991"/>
                    <a:pt x="1129218" y="1129503"/>
                  </a:cubicBezTo>
                  <a:lnTo>
                    <a:pt x="1935180" y="1920624"/>
                  </a:lnTo>
                  <a:close/>
                </a:path>
              </a:pathLst>
            </a:custGeom>
            <a:solidFill>
              <a:srgbClr val="c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饼形 19"/>
            <p:cNvSpPr/>
            <p:nvPr/>
          </p:nvSpPr>
          <p:spPr>
            <a:xfrm flipH="1" rot="10800000">
              <a:off x="-877680" y="855360"/>
              <a:ext cx="1768320" cy="1770120"/>
            </a:xfrm>
            <a:custGeom>
              <a:avLst/>
              <a:gdLst/>
              <a:ahLst/>
              <a:rect l="l" t="t" r="r" b="b"/>
              <a:pathLst>
                <a:path w="1769268" h="1770056">
                  <a:moveTo>
                    <a:pt x="1516089" y="1504854"/>
                  </a:moveTo>
                  <a:cubicBezTo>
                    <a:pt x="1346798" y="1677474"/>
                    <a:pt x="1114276" y="1773271"/>
                    <a:pt x="872574" y="1769974"/>
                  </a:cubicBezTo>
                  <a:lnTo>
                    <a:pt x="884634" y="885028"/>
                  </a:lnTo>
                  <a:lnTo>
                    <a:pt x="1516089" y="1504854"/>
                  </a:lnTo>
                  <a:close/>
                </a:path>
              </a:pathLst>
            </a:custGeom>
            <a:solidFill>
              <a:srgbClr val="f6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饼形 20"/>
            <p:cNvSpPr/>
            <p:nvPr/>
          </p:nvSpPr>
          <p:spPr>
            <a:xfrm flipH="1" rot="10800000">
              <a:off x="-723600" y="1022400"/>
              <a:ext cx="1457280" cy="1458720"/>
            </a:xfrm>
            <a:custGeom>
              <a:avLst/>
              <a:gdLst/>
              <a:ahLst/>
              <a:rect l="l" t="t" r="r" b="b"/>
              <a:pathLst>
                <a:path w="1457977" h="1458908">
                  <a:moveTo>
                    <a:pt x="1245480" y="1244234"/>
                  </a:moveTo>
                  <a:cubicBezTo>
                    <a:pt x="1106229" y="1384126"/>
                    <a:pt x="916252" y="1461558"/>
                    <a:pt x="718949" y="1458838"/>
                  </a:cubicBezTo>
                  <a:lnTo>
                    <a:pt x="728989" y="729454"/>
                  </a:lnTo>
                  <a:lnTo>
                    <a:pt x="1245480" y="1244234"/>
                  </a:lnTo>
                  <a:close/>
                </a:path>
              </a:pathLst>
            </a:custGeom>
            <a:solidFill>
              <a:srgbClr val="fe61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1" name="组合 29"/>
          <p:cNvGrpSpPr/>
          <p:nvPr/>
        </p:nvGrpSpPr>
        <p:grpSpPr>
          <a:xfrm>
            <a:off x="7383600" y="3334680"/>
            <a:ext cx="3520800" cy="3522600"/>
            <a:chOff x="7383600" y="3334680"/>
            <a:chExt cx="3520800" cy="3522600"/>
          </a:xfrm>
        </p:grpSpPr>
        <p:sp>
          <p:nvSpPr>
            <p:cNvPr id="232" name="饼形 24"/>
            <p:cNvSpPr/>
            <p:nvPr/>
          </p:nvSpPr>
          <p:spPr>
            <a:xfrm flipV="1" rot="10800000">
              <a:off x="7383600" y="3334320"/>
              <a:ext cx="35208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5" y="3001536"/>
                  </a:moveTo>
                  <a:cubicBezTo>
                    <a:pt x="2679649" y="3336672"/>
                    <a:pt x="2226712" y="3524405"/>
                    <a:pt x="1754737" y="3522639"/>
                  </a:cubicBezTo>
                  <a:cubicBezTo>
                    <a:pt x="1756933" y="2935535"/>
                    <a:pt x="1759130" y="2348430"/>
                    <a:pt x="1761326" y="1761326"/>
                  </a:cubicBezTo>
                  <a:lnTo>
                    <a:pt x="3011985" y="3001536"/>
                  </a:lnTo>
                  <a:close/>
                </a:path>
              </a:pathLst>
            </a:custGeom>
            <a:solidFill>
              <a:srgbClr val="017c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饼形 25"/>
            <p:cNvSpPr/>
            <p:nvPr/>
          </p:nvSpPr>
          <p:spPr>
            <a:xfrm flipV="1" rot="10800000">
              <a:off x="7759800" y="3718440"/>
              <a:ext cx="2768400" cy="2770200"/>
            </a:xfrm>
            <a:custGeom>
              <a:avLst/>
              <a:gdLst/>
              <a:ahLst/>
              <a:rect l="l" t="t" r="r" b="b"/>
              <a:pathLst>
                <a:path w="2769840" h="2770179">
                  <a:moveTo>
                    <a:pt x="2373324" y="2355291"/>
                  </a:moveTo>
                  <a:cubicBezTo>
                    <a:pt x="2111856" y="2621730"/>
                    <a:pt x="1753918" y="2771326"/>
                    <a:pt x="1380640" y="2770172"/>
                  </a:cubicBezTo>
                  <a:cubicBezTo>
                    <a:pt x="1382067" y="2308478"/>
                    <a:pt x="1383493" y="1846784"/>
                    <a:pt x="1384920" y="1385090"/>
                  </a:cubicBezTo>
                  <a:lnTo>
                    <a:pt x="2373324" y="2355291"/>
                  </a:lnTo>
                  <a:close/>
                </a:path>
              </a:pathLst>
            </a:custGeom>
            <a:solidFill>
              <a:srgbClr val="0098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饼形 26"/>
            <p:cNvSpPr/>
            <p:nvPr/>
          </p:nvSpPr>
          <p:spPr>
            <a:xfrm flipV="1" rot="10800000">
              <a:off x="8010360" y="3978720"/>
              <a:ext cx="2257200" cy="2259000"/>
            </a:xfrm>
            <a:custGeom>
              <a:avLst/>
              <a:gdLst/>
              <a:ahLst/>
              <a:rect l="l" t="t" r="r" b="b"/>
              <a:pathLst>
                <a:path w="2258436" h="2259006">
                  <a:moveTo>
                    <a:pt x="1935181" y="1920624"/>
                  </a:moveTo>
                  <a:cubicBezTo>
                    <a:pt x="1720569" y="2139373"/>
                    <a:pt x="1426299" y="2261496"/>
                    <a:pt x="1119902" y="2258968"/>
                  </a:cubicBezTo>
                  <a:cubicBezTo>
                    <a:pt x="1123007" y="1882480"/>
                    <a:pt x="1126113" y="1505991"/>
                    <a:pt x="1129218" y="1129503"/>
                  </a:cubicBezTo>
                  <a:lnTo>
                    <a:pt x="1935181" y="1920624"/>
                  </a:lnTo>
                  <a:close/>
                </a:path>
              </a:pathLst>
            </a:custGeom>
            <a:solidFill>
              <a:srgbClr val="00c4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饼形 27"/>
            <p:cNvSpPr/>
            <p:nvPr/>
          </p:nvSpPr>
          <p:spPr>
            <a:xfrm flipV="1" rot="10800000">
              <a:off x="8253360" y="4231080"/>
              <a:ext cx="1768320" cy="1770120"/>
            </a:xfrm>
            <a:custGeom>
              <a:avLst/>
              <a:gdLst/>
              <a:ahLst/>
              <a:rect l="l" t="t" r="r" b="b"/>
              <a:pathLst>
                <a:path w="1769267" h="1770058">
                  <a:moveTo>
                    <a:pt x="1516088" y="1504855"/>
                  </a:moveTo>
                  <a:cubicBezTo>
                    <a:pt x="1346797" y="1677476"/>
                    <a:pt x="1114274" y="1773272"/>
                    <a:pt x="872573" y="1769975"/>
                  </a:cubicBezTo>
                  <a:lnTo>
                    <a:pt x="884634" y="885029"/>
                  </a:lnTo>
                  <a:lnTo>
                    <a:pt x="1516088" y="1504855"/>
                  </a:lnTo>
                  <a:close/>
                </a:path>
              </a:pathLst>
            </a:custGeom>
            <a:solidFill>
              <a:srgbClr val="71ff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饼形 28"/>
            <p:cNvSpPr/>
            <p:nvPr/>
          </p:nvSpPr>
          <p:spPr>
            <a:xfrm flipV="1" rot="10800000">
              <a:off x="8410680" y="4376880"/>
              <a:ext cx="1457280" cy="1458720"/>
            </a:xfrm>
            <a:custGeom>
              <a:avLst/>
              <a:gdLst/>
              <a:ahLst/>
              <a:rect l="l" t="t" r="r" b="b"/>
              <a:pathLst>
                <a:path w="1457978" h="1458908">
                  <a:moveTo>
                    <a:pt x="1245481" y="1244234"/>
                  </a:moveTo>
                  <a:cubicBezTo>
                    <a:pt x="1106230" y="1384126"/>
                    <a:pt x="916253" y="1461558"/>
                    <a:pt x="718950" y="1458838"/>
                  </a:cubicBezTo>
                  <a:lnTo>
                    <a:pt x="728989" y="729454"/>
                  </a:lnTo>
                  <a:lnTo>
                    <a:pt x="1245481" y="1244234"/>
                  </a:lnTo>
                  <a:close/>
                </a:path>
              </a:pathLst>
            </a:custGeom>
            <a:solidFill>
              <a:srgbClr val="a7f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7" name="组合 36"/>
          <p:cNvGrpSpPr/>
          <p:nvPr/>
        </p:nvGrpSpPr>
        <p:grpSpPr>
          <a:xfrm>
            <a:off x="-1760400" y="3334680"/>
            <a:ext cx="3520800" cy="3522600"/>
            <a:chOff x="-1760400" y="3334680"/>
            <a:chExt cx="3520800" cy="3522600"/>
          </a:xfrm>
        </p:grpSpPr>
        <p:sp>
          <p:nvSpPr>
            <p:cNvPr id="238" name="饼形 31"/>
            <p:cNvSpPr/>
            <p:nvPr/>
          </p:nvSpPr>
          <p:spPr>
            <a:xfrm flipH="1" flipV="1" rot="10800000">
              <a:off x="-1760400" y="3334320"/>
              <a:ext cx="35208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5" y="3001536"/>
                  </a:moveTo>
                  <a:cubicBezTo>
                    <a:pt x="2679649" y="3336672"/>
                    <a:pt x="2226712" y="3524405"/>
                    <a:pt x="1754737" y="3522639"/>
                  </a:cubicBezTo>
                  <a:cubicBezTo>
                    <a:pt x="1756933" y="2935535"/>
                    <a:pt x="1759130" y="2348430"/>
                    <a:pt x="1761326" y="1761326"/>
                  </a:cubicBezTo>
                  <a:lnTo>
                    <a:pt x="3011985" y="30015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饼形 32"/>
            <p:cNvSpPr/>
            <p:nvPr/>
          </p:nvSpPr>
          <p:spPr>
            <a:xfrm flipH="1" flipV="1" rot="10800000">
              <a:off x="-1383840" y="3718440"/>
              <a:ext cx="2768400" cy="2770200"/>
            </a:xfrm>
            <a:custGeom>
              <a:avLst/>
              <a:gdLst/>
              <a:ahLst/>
              <a:rect l="l" t="t" r="r" b="b"/>
              <a:pathLst>
                <a:path w="2769839" h="2770179">
                  <a:moveTo>
                    <a:pt x="2373323" y="2355291"/>
                  </a:moveTo>
                  <a:cubicBezTo>
                    <a:pt x="2111857" y="2621728"/>
                    <a:pt x="1753921" y="2771324"/>
                    <a:pt x="1380645" y="2770172"/>
                  </a:cubicBezTo>
                  <a:lnTo>
                    <a:pt x="1384920" y="1385090"/>
                  </a:lnTo>
                  <a:lnTo>
                    <a:pt x="2373323" y="2355291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饼形 33"/>
            <p:cNvSpPr/>
            <p:nvPr/>
          </p:nvSpPr>
          <p:spPr>
            <a:xfrm flipH="1" flipV="1" rot="10800000">
              <a:off x="-1123560" y="3978720"/>
              <a:ext cx="2257200" cy="2259000"/>
            </a:xfrm>
            <a:custGeom>
              <a:avLst/>
              <a:gdLst/>
              <a:ahLst/>
              <a:rect l="l" t="t" r="r" b="b"/>
              <a:pathLst>
                <a:path w="2258435" h="2259006">
                  <a:moveTo>
                    <a:pt x="1935180" y="1920624"/>
                  </a:moveTo>
                  <a:cubicBezTo>
                    <a:pt x="1720568" y="2139373"/>
                    <a:pt x="1426298" y="2261496"/>
                    <a:pt x="1119901" y="2258968"/>
                  </a:cubicBezTo>
                  <a:cubicBezTo>
                    <a:pt x="1123007" y="1882480"/>
                    <a:pt x="1126112" y="1505991"/>
                    <a:pt x="1129218" y="1129503"/>
                  </a:cubicBezTo>
                  <a:lnTo>
                    <a:pt x="1935180" y="1920624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饼形 34"/>
            <p:cNvSpPr/>
            <p:nvPr/>
          </p:nvSpPr>
          <p:spPr>
            <a:xfrm flipH="1" flipV="1" rot="10800000">
              <a:off x="-877680" y="4231080"/>
              <a:ext cx="1768320" cy="1770120"/>
            </a:xfrm>
            <a:custGeom>
              <a:avLst/>
              <a:gdLst/>
              <a:ahLst/>
              <a:rect l="l" t="t" r="r" b="b"/>
              <a:pathLst>
                <a:path w="1769268" h="1770058">
                  <a:moveTo>
                    <a:pt x="1516089" y="1504855"/>
                  </a:moveTo>
                  <a:cubicBezTo>
                    <a:pt x="1346798" y="1677476"/>
                    <a:pt x="1114275" y="1773272"/>
                    <a:pt x="872574" y="1769975"/>
                  </a:cubicBezTo>
                  <a:lnTo>
                    <a:pt x="884634" y="885029"/>
                  </a:lnTo>
                  <a:lnTo>
                    <a:pt x="1516089" y="1504855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饼形 35"/>
            <p:cNvSpPr/>
            <p:nvPr/>
          </p:nvSpPr>
          <p:spPr>
            <a:xfrm flipH="1" flipV="1" rot="10800000">
              <a:off x="-723600" y="4376880"/>
              <a:ext cx="1457280" cy="1458720"/>
            </a:xfrm>
            <a:custGeom>
              <a:avLst/>
              <a:gdLst/>
              <a:ahLst/>
              <a:rect l="l" t="t" r="r" b="b"/>
              <a:pathLst>
                <a:path w="1457977" h="1458908">
                  <a:moveTo>
                    <a:pt x="1245480" y="1244234"/>
                  </a:moveTo>
                  <a:cubicBezTo>
                    <a:pt x="1106229" y="1384126"/>
                    <a:pt x="916252" y="1461558"/>
                    <a:pt x="718949" y="1458838"/>
                  </a:cubicBezTo>
                  <a:lnTo>
                    <a:pt x="728989" y="729454"/>
                  </a:lnTo>
                  <a:lnTo>
                    <a:pt x="1245480" y="1244234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3" name="组合 37"/>
          <p:cNvGrpSpPr/>
          <p:nvPr/>
        </p:nvGrpSpPr>
        <p:grpSpPr>
          <a:xfrm>
            <a:off x="5620680" y="5097600"/>
            <a:ext cx="3522600" cy="3520800"/>
            <a:chOff x="5620680" y="5097600"/>
            <a:chExt cx="3522600" cy="3520800"/>
          </a:xfrm>
        </p:grpSpPr>
        <p:sp>
          <p:nvSpPr>
            <p:cNvPr id="244" name="饼形 38"/>
            <p:cNvSpPr/>
            <p:nvPr/>
          </p:nvSpPr>
          <p:spPr>
            <a:xfrm flipH="1" flipV="1" rot="5400000">
              <a:off x="5621040" y="5096520"/>
              <a:ext cx="35208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5" y="3001536"/>
                  </a:moveTo>
                  <a:cubicBezTo>
                    <a:pt x="2679649" y="3336672"/>
                    <a:pt x="2226712" y="3524405"/>
                    <a:pt x="1754737" y="3522639"/>
                  </a:cubicBezTo>
                  <a:cubicBezTo>
                    <a:pt x="1756933" y="2935535"/>
                    <a:pt x="1759130" y="2348430"/>
                    <a:pt x="1761326" y="1761326"/>
                  </a:cubicBezTo>
                  <a:lnTo>
                    <a:pt x="3011985" y="30015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饼形 39"/>
            <p:cNvSpPr/>
            <p:nvPr/>
          </p:nvSpPr>
          <p:spPr>
            <a:xfrm flipH="1" flipV="1" rot="5400000">
              <a:off x="6005160" y="5472720"/>
              <a:ext cx="2768400" cy="2770200"/>
            </a:xfrm>
            <a:custGeom>
              <a:avLst/>
              <a:gdLst/>
              <a:ahLst/>
              <a:rect l="l" t="t" r="r" b="b"/>
              <a:pathLst>
                <a:path w="2769840" h="2770179">
                  <a:moveTo>
                    <a:pt x="2373324" y="2355291"/>
                  </a:moveTo>
                  <a:cubicBezTo>
                    <a:pt x="2111858" y="2621728"/>
                    <a:pt x="1753922" y="2771324"/>
                    <a:pt x="1380646" y="2770172"/>
                  </a:cubicBezTo>
                  <a:cubicBezTo>
                    <a:pt x="1382071" y="2308478"/>
                    <a:pt x="1383495" y="1846784"/>
                    <a:pt x="1384920" y="1385090"/>
                  </a:cubicBezTo>
                  <a:lnTo>
                    <a:pt x="2373324" y="2355291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饼形 40"/>
            <p:cNvSpPr/>
            <p:nvPr/>
          </p:nvSpPr>
          <p:spPr>
            <a:xfrm flipH="1" flipV="1" rot="5400000">
              <a:off x="6265440" y="5723640"/>
              <a:ext cx="2257200" cy="2259000"/>
            </a:xfrm>
            <a:custGeom>
              <a:avLst/>
              <a:gdLst/>
              <a:ahLst/>
              <a:rect l="l" t="t" r="r" b="b"/>
              <a:pathLst>
                <a:path w="2258436" h="2259006">
                  <a:moveTo>
                    <a:pt x="1935181" y="1920624"/>
                  </a:moveTo>
                  <a:cubicBezTo>
                    <a:pt x="1720569" y="2139373"/>
                    <a:pt x="1426299" y="2261496"/>
                    <a:pt x="1119902" y="2258968"/>
                  </a:cubicBezTo>
                  <a:cubicBezTo>
                    <a:pt x="1123007" y="1882480"/>
                    <a:pt x="1126113" y="1505991"/>
                    <a:pt x="1129218" y="1129503"/>
                  </a:cubicBezTo>
                  <a:lnTo>
                    <a:pt x="1935181" y="1920624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饼形 41"/>
            <p:cNvSpPr/>
            <p:nvPr/>
          </p:nvSpPr>
          <p:spPr>
            <a:xfrm flipH="1" flipV="1" rot="5400000">
              <a:off x="6517800" y="5966640"/>
              <a:ext cx="1768320" cy="1770120"/>
            </a:xfrm>
            <a:custGeom>
              <a:avLst/>
              <a:gdLst/>
              <a:ahLst/>
              <a:rect l="l" t="t" r="r" b="b"/>
              <a:pathLst>
                <a:path w="1769267" h="1770058">
                  <a:moveTo>
                    <a:pt x="1516088" y="1504855"/>
                  </a:moveTo>
                  <a:cubicBezTo>
                    <a:pt x="1346797" y="1677476"/>
                    <a:pt x="1114274" y="1773272"/>
                    <a:pt x="872573" y="1769975"/>
                  </a:cubicBezTo>
                  <a:lnTo>
                    <a:pt x="884634" y="885029"/>
                  </a:lnTo>
                  <a:lnTo>
                    <a:pt x="1516088" y="1504855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饼形 42"/>
            <p:cNvSpPr/>
            <p:nvPr/>
          </p:nvSpPr>
          <p:spPr>
            <a:xfrm flipH="1" flipV="1" rot="5400000">
              <a:off x="6663600" y="6123960"/>
              <a:ext cx="1457280" cy="1458720"/>
            </a:xfrm>
            <a:custGeom>
              <a:avLst/>
              <a:gdLst/>
              <a:ahLst/>
              <a:rect l="l" t="t" r="r" b="b"/>
              <a:pathLst>
                <a:path w="1457978" h="1458908">
                  <a:moveTo>
                    <a:pt x="1245481" y="1244234"/>
                  </a:moveTo>
                  <a:cubicBezTo>
                    <a:pt x="1106230" y="1384126"/>
                    <a:pt x="916253" y="1461558"/>
                    <a:pt x="718950" y="1458838"/>
                  </a:cubicBezTo>
                  <a:lnTo>
                    <a:pt x="728989" y="729454"/>
                  </a:lnTo>
                  <a:lnTo>
                    <a:pt x="1245481" y="1244234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9" name="组合 66"/>
          <p:cNvGrpSpPr/>
          <p:nvPr/>
        </p:nvGrpSpPr>
        <p:grpSpPr>
          <a:xfrm>
            <a:off x="5620680" y="-1760400"/>
            <a:ext cx="3522600" cy="3520800"/>
            <a:chOff x="5620680" y="-1760400"/>
            <a:chExt cx="3522600" cy="3520800"/>
          </a:xfrm>
        </p:grpSpPr>
        <p:sp>
          <p:nvSpPr>
            <p:cNvPr id="250" name="饼形 52"/>
            <p:cNvSpPr/>
            <p:nvPr/>
          </p:nvSpPr>
          <p:spPr>
            <a:xfrm flipH="1" rot="16200000">
              <a:off x="5621040" y="-1761120"/>
              <a:ext cx="35208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5" y="3001536"/>
                  </a:moveTo>
                  <a:cubicBezTo>
                    <a:pt x="2679649" y="3336672"/>
                    <a:pt x="2226712" y="3524405"/>
                    <a:pt x="1754737" y="3522639"/>
                  </a:cubicBezTo>
                  <a:cubicBezTo>
                    <a:pt x="1756933" y="2935535"/>
                    <a:pt x="1759130" y="2348430"/>
                    <a:pt x="1761326" y="1761326"/>
                  </a:cubicBezTo>
                  <a:lnTo>
                    <a:pt x="3011985" y="3001536"/>
                  </a:lnTo>
                  <a:close/>
                </a:path>
              </a:pathLst>
            </a:cu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饼形 53"/>
            <p:cNvSpPr/>
            <p:nvPr/>
          </p:nvSpPr>
          <p:spPr>
            <a:xfrm flipH="1" rot="16200000">
              <a:off x="6005160" y="-1384560"/>
              <a:ext cx="2768400" cy="2770200"/>
            </a:xfrm>
            <a:custGeom>
              <a:avLst/>
              <a:gdLst/>
              <a:ahLst/>
              <a:rect l="l" t="t" r="r" b="b"/>
              <a:pathLst>
                <a:path w="2769839" h="2770179">
                  <a:moveTo>
                    <a:pt x="2373323" y="2355291"/>
                  </a:moveTo>
                  <a:cubicBezTo>
                    <a:pt x="2111857" y="2621728"/>
                    <a:pt x="1753921" y="2771324"/>
                    <a:pt x="1380645" y="2770172"/>
                  </a:cubicBezTo>
                  <a:lnTo>
                    <a:pt x="1384920" y="1385090"/>
                  </a:lnTo>
                  <a:lnTo>
                    <a:pt x="2373323" y="2355291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饼形 54"/>
            <p:cNvSpPr/>
            <p:nvPr/>
          </p:nvSpPr>
          <p:spPr>
            <a:xfrm flipH="1" rot="16200000">
              <a:off x="6265440" y="-1124280"/>
              <a:ext cx="2257200" cy="2259000"/>
            </a:xfrm>
            <a:custGeom>
              <a:avLst/>
              <a:gdLst/>
              <a:ahLst/>
              <a:rect l="l" t="t" r="r" b="b"/>
              <a:pathLst>
                <a:path w="2258435" h="2259006">
                  <a:moveTo>
                    <a:pt x="1935180" y="1920624"/>
                  </a:moveTo>
                  <a:cubicBezTo>
                    <a:pt x="1720568" y="2139373"/>
                    <a:pt x="1426298" y="2261496"/>
                    <a:pt x="1119901" y="2258968"/>
                  </a:cubicBezTo>
                  <a:cubicBezTo>
                    <a:pt x="1123007" y="1882480"/>
                    <a:pt x="1126112" y="1505991"/>
                    <a:pt x="1129218" y="1129503"/>
                  </a:cubicBezTo>
                  <a:lnTo>
                    <a:pt x="1935180" y="1920624"/>
                  </a:lnTo>
                  <a:close/>
                </a:path>
              </a:pathLst>
            </a:custGeom>
            <a:solidFill>
              <a:srgbClr val="f4e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饼形 55"/>
            <p:cNvSpPr/>
            <p:nvPr/>
          </p:nvSpPr>
          <p:spPr>
            <a:xfrm flipH="1" rot="16200000">
              <a:off x="6517800" y="-878400"/>
              <a:ext cx="1768320" cy="1770120"/>
            </a:xfrm>
            <a:custGeom>
              <a:avLst/>
              <a:gdLst/>
              <a:ahLst/>
              <a:rect l="l" t="t" r="r" b="b"/>
              <a:pathLst>
                <a:path w="1769268" h="1770058">
                  <a:moveTo>
                    <a:pt x="1516089" y="1504855"/>
                  </a:moveTo>
                  <a:cubicBezTo>
                    <a:pt x="1346798" y="1677476"/>
                    <a:pt x="1114275" y="1773272"/>
                    <a:pt x="872574" y="1769975"/>
                  </a:cubicBezTo>
                  <a:lnTo>
                    <a:pt x="884634" y="885029"/>
                  </a:lnTo>
                  <a:lnTo>
                    <a:pt x="1516089" y="1504855"/>
                  </a:lnTo>
                  <a:close/>
                </a:path>
              </a:pathLst>
            </a:custGeom>
            <a:solidFill>
              <a:srgbClr val="bcf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饼形 56"/>
            <p:cNvSpPr/>
            <p:nvPr/>
          </p:nvSpPr>
          <p:spPr>
            <a:xfrm flipH="1" rot="16200000">
              <a:off x="6663600" y="-723960"/>
              <a:ext cx="1457280" cy="1458720"/>
            </a:xfrm>
            <a:custGeom>
              <a:avLst/>
              <a:gdLst/>
              <a:ahLst/>
              <a:rect l="l" t="t" r="r" b="b"/>
              <a:pathLst>
                <a:path w="1457977" h="1458908">
                  <a:moveTo>
                    <a:pt x="1249567" y="1240095"/>
                  </a:moveTo>
                  <a:cubicBezTo>
                    <a:pt x="1110022" y="1382537"/>
                    <a:pt x="918271" y="1461585"/>
                    <a:pt x="718949" y="1458838"/>
                  </a:cubicBezTo>
                  <a:lnTo>
                    <a:pt x="728989" y="729454"/>
                  </a:lnTo>
                  <a:lnTo>
                    <a:pt x="1249567" y="1240095"/>
                  </a:lnTo>
                  <a:close/>
                </a:path>
              </a:pathLst>
            </a:custGeom>
            <a:solidFill>
              <a:srgbClr val="4f6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5" name="组合 65"/>
          <p:cNvGrpSpPr/>
          <p:nvPr/>
        </p:nvGrpSpPr>
        <p:grpSpPr>
          <a:xfrm>
            <a:off x="-360" y="5097600"/>
            <a:ext cx="3522600" cy="3520800"/>
            <a:chOff x="-360" y="5097600"/>
            <a:chExt cx="3522600" cy="3520800"/>
          </a:xfrm>
        </p:grpSpPr>
        <p:sp>
          <p:nvSpPr>
            <p:cNvPr id="256" name="饼形 60"/>
            <p:cNvSpPr/>
            <p:nvPr/>
          </p:nvSpPr>
          <p:spPr>
            <a:xfrm flipV="1" rot="16200000">
              <a:off x="360" y="5096520"/>
              <a:ext cx="35208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5" y="3001536"/>
                  </a:moveTo>
                  <a:cubicBezTo>
                    <a:pt x="2679649" y="3336672"/>
                    <a:pt x="2226712" y="3524405"/>
                    <a:pt x="1754737" y="3522639"/>
                  </a:cubicBezTo>
                  <a:cubicBezTo>
                    <a:pt x="1756933" y="2935535"/>
                    <a:pt x="1759130" y="2348430"/>
                    <a:pt x="1761326" y="1761326"/>
                  </a:cubicBezTo>
                  <a:lnTo>
                    <a:pt x="3011985" y="30015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饼形 61"/>
            <p:cNvSpPr/>
            <p:nvPr/>
          </p:nvSpPr>
          <p:spPr>
            <a:xfrm flipV="1" rot="16200000">
              <a:off x="368640" y="5472720"/>
              <a:ext cx="2768400" cy="2770200"/>
            </a:xfrm>
            <a:custGeom>
              <a:avLst/>
              <a:gdLst/>
              <a:ahLst/>
              <a:rect l="l" t="t" r="r" b="b"/>
              <a:pathLst>
                <a:path w="2769840" h="2770179">
                  <a:moveTo>
                    <a:pt x="2373324" y="2355291"/>
                  </a:moveTo>
                  <a:cubicBezTo>
                    <a:pt x="2111858" y="2621728"/>
                    <a:pt x="1753922" y="2771324"/>
                    <a:pt x="1380646" y="2770172"/>
                  </a:cubicBezTo>
                  <a:cubicBezTo>
                    <a:pt x="1382071" y="2308478"/>
                    <a:pt x="1383495" y="1846784"/>
                    <a:pt x="1384920" y="1385090"/>
                  </a:cubicBezTo>
                  <a:lnTo>
                    <a:pt x="2373324" y="2355291"/>
                  </a:lnTo>
                  <a:close/>
                </a:path>
              </a:pathLst>
            </a:custGeom>
            <a:solidFill>
              <a:srgbClr val="8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饼形 62"/>
            <p:cNvSpPr/>
            <p:nvPr/>
          </p:nvSpPr>
          <p:spPr>
            <a:xfrm flipV="1" rot="16200000">
              <a:off x="619200" y="5723280"/>
              <a:ext cx="2257200" cy="2259000"/>
            </a:xfrm>
            <a:custGeom>
              <a:avLst/>
              <a:gdLst/>
              <a:ahLst/>
              <a:rect l="l" t="t" r="r" b="b"/>
              <a:pathLst>
                <a:path w="2258436" h="2259006">
                  <a:moveTo>
                    <a:pt x="1935181" y="1920624"/>
                  </a:moveTo>
                  <a:cubicBezTo>
                    <a:pt x="1720569" y="2139373"/>
                    <a:pt x="1426299" y="2261496"/>
                    <a:pt x="1119902" y="2258968"/>
                  </a:cubicBezTo>
                  <a:cubicBezTo>
                    <a:pt x="1123007" y="1882480"/>
                    <a:pt x="1126113" y="1505991"/>
                    <a:pt x="1129218" y="1129503"/>
                  </a:cubicBezTo>
                  <a:lnTo>
                    <a:pt x="1935181" y="1920624"/>
                  </a:lnTo>
                  <a:close/>
                </a:path>
              </a:pathLst>
            </a:custGeom>
            <a:solidFill>
              <a:srgbClr val="bcf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饼形 63"/>
            <p:cNvSpPr/>
            <p:nvPr/>
          </p:nvSpPr>
          <p:spPr>
            <a:xfrm flipV="1" rot="16200000">
              <a:off x="856080" y="5966280"/>
              <a:ext cx="1768320" cy="1770120"/>
            </a:xfrm>
            <a:custGeom>
              <a:avLst/>
              <a:gdLst/>
              <a:ahLst/>
              <a:rect l="l" t="t" r="r" b="b"/>
              <a:pathLst>
                <a:path w="1769267" h="1770056">
                  <a:moveTo>
                    <a:pt x="1516088" y="1504854"/>
                  </a:moveTo>
                  <a:cubicBezTo>
                    <a:pt x="1346797" y="1677474"/>
                    <a:pt x="1114275" y="1773271"/>
                    <a:pt x="872573" y="1769974"/>
                  </a:cubicBezTo>
                  <a:lnTo>
                    <a:pt x="884634" y="885028"/>
                  </a:lnTo>
                  <a:lnTo>
                    <a:pt x="1516088" y="1504854"/>
                  </a:lnTo>
                  <a:close/>
                </a:path>
              </a:pathLst>
            </a:custGeom>
            <a:solidFill>
              <a:srgbClr val="e1f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饼形 64"/>
            <p:cNvSpPr/>
            <p:nvPr/>
          </p:nvSpPr>
          <p:spPr>
            <a:xfrm flipV="1" rot="16200000">
              <a:off x="1023120" y="6123960"/>
              <a:ext cx="1457280" cy="1458720"/>
            </a:xfrm>
            <a:custGeom>
              <a:avLst/>
              <a:gdLst/>
              <a:ahLst/>
              <a:rect l="l" t="t" r="r" b="b"/>
              <a:pathLst>
                <a:path w="1457978" h="1458908">
                  <a:moveTo>
                    <a:pt x="1245481" y="1244234"/>
                  </a:moveTo>
                  <a:cubicBezTo>
                    <a:pt x="1106230" y="1384126"/>
                    <a:pt x="916253" y="1461558"/>
                    <a:pt x="718950" y="1458838"/>
                  </a:cubicBezTo>
                  <a:lnTo>
                    <a:pt x="728989" y="729454"/>
                  </a:lnTo>
                  <a:lnTo>
                    <a:pt x="1245481" y="1244234"/>
                  </a:lnTo>
                  <a:close/>
                </a:path>
              </a:pathLst>
            </a:custGeom>
            <a:solidFill>
              <a:srgbClr val="ec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1" name="组合 106"/>
          <p:cNvGrpSpPr/>
          <p:nvPr/>
        </p:nvGrpSpPr>
        <p:grpSpPr>
          <a:xfrm>
            <a:off x="3643920" y="1213560"/>
            <a:ext cx="1738440" cy="1740600"/>
            <a:chOff x="3643920" y="1213560"/>
            <a:chExt cx="1738440" cy="1740600"/>
          </a:xfrm>
        </p:grpSpPr>
        <p:grpSp>
          <p:nvGrpSpPr>
            <p:cNvPr id="262" name="组合 70"/>
            <p:cNvGrpSpPr/>
            <p:nvPr/>
          </p:nvGrpSpPr>
          <p:grpSpPr>
            <a:xfrm>
              <a:off x="3644280" y="1217160"/>
              <a:ext cx="1738080" cy="1737000"/>
              <a:chOff x="3644280" y="1217160"/>
              <a:chExt cx="1738080" cy="1737000"/>
            </a:xfrm>
          </p:grpSpPr>
          <p:sp>
            <p:nvSpPr>
              <p:cNvPr id="263" name="饼形 71"/>
              <p:cNvSpPr/>
              <p:nvPr/>
            </p:nvSpPr>
            <p:spPr>
              <a:xfrm rot="12161400">
                <a:off x="3848760" y="1421640"/>
                <a:ext cx="1328760" cy="1327320"/>
              </a:xfrm>
              <a:custGeom>
                <a:avLst/>
                <a:gdLst/>
                <a:ahLst/>
                <a:rect l="l" t="t" r="r" b="b"/>
                <a:pathLst>
                  <a:path w="3523211" h="3527936">
                    <a:moveTo>
                      <a:pt x="3013294" y="3005199"/>
                    </a:moveTo>
                    <a:cubicBezTo>
                      <a:pt x="2680840" y="3341354"/>
                      <a:pt x="2227469" y="3529695"/>
                      <a:pt x="1755007" y="3527923"/>
                    </a:cubicBezTo>
                    <a:cubicBezTo>
                      <a:pt x="1757207" y="2939938"/>
                      <a:pt x="1759406" y="2351953"/>
                      <a:pt x="1761606" y="1763968"/>
                    </a:cubicBezTo>
                    <a:lnTo>
                      <a:pt x="3013294" y="3005199"/>
                    </a:lnTo>
                    <a:close/>
                  </a:path>
                </a:pathLst>
              </a:custGeom>
              <a:solidFill>
                <a:srgbClr val="ff82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饼形 72"/>
              <p:cNvSpPr/>
              <p:nvPr/>
            </p:nvSpPr>
            <p:spPr>
              <a:xfrm rot="12161400">
                <a:off x="3990240" y="1559880"/>
                <a:ext cx="1046160" cy="1043640"/>
              </a:xfrm>
              <a:custGeom>
                <a:avLst/>
                <a:gdLst/>
                <a:ahLst/>
                <a:rect l="l" t="t" r="r" b="b"/>
                <a:pathLst>
                  <a:path w="2773953" h="2773456">
                    <a:moveTo>
                      <a:pt x="2376702" y="2358227"/>
                    </a:moveTo>
                    <a:cubicBezTo>
                      <a:pt x="2114857" y="2624889"/>
                      <a:pt x="1756451" y="2774604"/>
                      <a:pt x="1382692" y="2773449"/>
                    </a:cubicBezTo>
                    <a:cubicBezTo>
                      <a:pt x="1384120" y="2311209"/>
                      <a:pt x="1385549" y="1848968"/>
                      <a:pt x="1386977" y="1386728"/>
                    </a:cubicBezTo>
                    <a:lnTo>
                      <a:pt x="2376702" y="2358227"/>
                    </a:lnTo>
                    <a:close/>
                  </a:path>
                </a:pathLst>
              </a:custGeom>
              <a:solidFill>
                <a:srgbClr val="ff94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饼形 73"/>
              <p:cNvSpPr/>
              <p:nvPr/>
            </p:nvSpPr>
            <p:spPr>
              <a:xfrm rot="12161400">
                <a:off x="4084920" y="1653120"/>
                <a:ext cx="854280" cy="849960"/>
              </a:xfrm>
              <a:custGeom>
                <a:avLst/>
                <a:gdLst/>
                <a:ahLst/>
                <a:rect l="l" t="t" r="r" b="b"/>
                <a:pathLst>
                  <a:path w="2264622" h="2259228">
                    <a:moveTo>
                      <a:pt x="1939436" y="1921875"/>
                    </a:moveTo>
                    <a:cubicBezTo>
                      <a:pt x="1724316" y="2139988"/>
                      <a:pt x="1429704" y="2261707"/>
                      <a:pt x="1122995" y="2259190"/>
                    </a:cubicBezTo>
                    <a:cubicBezTo>
                      <a:pt x="1126100" y="1882665"/>
                      <a:pt x="1129206" y="1506139"/>
                      <a:pt x="1132311" y="1129614"/>
                    </a:cubicBezTo>
                    <a:lnTo>
                      <a:pt x="1939436" y="1921875"/>
                    </a:lnTo>
                    <a:close/>
                  </a:path>
                </a:pathLst>
              </a:custGeom>
              <a:solidFill>
                <a:srgbClr val="ffa6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饼形 74"/>
              <p:cNvSpPr/>
              <p:nvPr/>
            </p:nvSpPr>
            <p:spPr>
              <a:xfrm rot="12161400">
                <a:off x="4180680" y="1742760"/>
                <a:ext cx="666720" cy="666000"/>
              </a:xfrm>
              <a:custGeom>
                <a:avLst/>
                <a:gdLst/>
                <a:ahLst/>
                <a:rect l="l" t="t" r="r" b="b"/>
                <a:pathLst>
                  <a:path w="1767920" h="1770291">
                    <a:moveTo>
                      <a:pt x="1515210" y="1504771"/>
                    </a:moveTo>
                    <a:cubicBezTo>
                      <a:pt x="1346027" y="1677591"/>
                      <a:pt x="1113556" y="1773511"/>
                      <a:pt x="871897" y="1770209"/>
                    </a:cubicBezTo>
                    <a:lnTo>
                      <a:pt x="883960" y="885146"/>
                    </a:lnTo>
                    <a:lnTo>
                      <a:pt x="1515210" y="1504771"/>
                    </a:lnTo>
                    <a:close/>
                  </a:path>
                </a:pathLst>
              </a:custGeom>
              <a:solidFill>
                <a:srgbClr val="f6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饼形 75"/>
              <p:cNvSpPr/>
              <p:nvPr/>
            </p:nvSpPr>
            <p:spPr>
              <a:xfrm rot="12161400">
                <a:off x="4236120" y="1806480"/>
                <a:ext cx="550800" cy="550080"/>
              </a:xfrm>
              <a:custGeom>
                <a:avLst/>
                <a:gdLst/>
                <a:ahLst/>
                <a:rect l="l" t="t" r="r" b="b"/>
                <a:pathLst>
                  <a:path w="1460638" h="1462596">
                    <a:moveTo>
                      <a:pt x="1247934" y="1247198"/>
                    </a:moveTo>
                    <a:cubicBezTo>
                      <a:pt x="1108413" y="1387558"/>
                      <a:pt x="918009" y="1465256"/>
                      <a:pt x="720254" y="1462527"/>
                    </a:cubicBezTo>
                    <a:lnTo>
                      <a:pt x="730319" y="731298"/>
                    </a:lnTo>
                    <a:lnTo>
                      <a:pt x="1247934" y="1247198"/>
                    </a:lnTo>
                    <a:close/>
                  </a:path>
                </a:pathLst>
              </a:custGeom>
              <a:solidFill>
                <a:srgbClr val="ffca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8" name="组合 76"/>
            <p:cNvGrpSpPr/>
            <p:nvPr/>
          </p:nvGrpSpPr>
          <p:grpSpPr>
            <a:xfrm>
              <a:off x="3643920" y="1216800"/>
              <a:ext cx="1738080" cy="1737000"/>
              <a:chOff x="3643920" y="1216800"/>
              <a:chExt cx="1738080" cy="1737000"/>
            </a:xfrm>
          </p:grpSpPr>
          <p:sp>
            <p:nvSpPr>
              <p:cNvPr id="269" name="饼形 77"/>
              <p:cNvSpPr/>
              <p:nvPr/>
            </p:nvSpPr>
            <p:spPr>
              <a:xfrm flipH="1" rot="12160800">
                <a:off x="3848400" y="1421640"/>
                <a:ext cx="1328760" cy="1327320"/>
              </a:xfrm>
              <a:custGeom>
                <a:avLst/>
                <a:gdLst/>
                <a:ahLst/>
                <a:rect l="l" t="t" r="r" b="b"/>
                <a:pathLst>
                  <a:path w="3523211" h="3523722">
                    <a:moveTo>
                      <a:pt x="3012553" y="3002357"/>
                    </a:moveTo>
                    <a:cubicBezTo>
                      <a:pt x="2680157" y="3337650"/>
                      <a:pt x="2227109" y="3525476"/>
                      <a:pt x="1755015" y="3523709"/>
                    </a:cubicBezTo>
                    <a:lnTo>
                      <a:pt x="1761606" y="1761861"/>
                    </a:lnTo>
                    <a:lnTo>
                      <a:pt x="3012553" y="30023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饼形 78"/>
              <p:cNvSpPr/>
              <p:nvPr/>
            </p:nvSpPr>
            <p:spPr>
              <a:xfrm flipH="1" rot="12160800">
                <a:off x="3985920" y="1559160"/>
                <a:ext cx="1047960" cy="1046520"/>
              </a:xfrm>
              <a:custGeom>
                <a:avLst/>
                <a:gdLst/>
                <a:ahLst/>
                <a:rect l="l" t="t" r="r" b="b"/>
                <a:pathLst>
                  <a:path w="2778161" h="2777669">
                    <a:moveTo>
                      <a:pt x="2380308" y="2361808"/>
                    </a:moveTo>
                    <a:cubicBezTo>
                      <a:pt x="2118065" y="2628876"/>
                      <a:pt x="1759116" y="2778819"/>
                      <a:pt x="1384789" y="2777662"/>
                    </a:cubicBezTo>
                    <a:cubicBezTo>
                      <a:pt x="1386220" y="2314720"/>
                      <a:pt x="1387650" y="1851777"/>
                      <a:pt x="1389081" y="1388835"/>
                    </a:cubicBezTo>
                    <a:lnTo>
                      <a:pt x="2380308" y="2361808"/>
                    </a:lnTo>
                    <a:close/>
                  </a:path>
                </a:pathLst>
              </a:custGeom>
              <a:solidFill>
                <a:srgbClr val="8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饼形 79"/>
              <p:cNvSpPr/>
              <p:nvPr/>
            </p:nvSpPr>
            <p:spPr>
              <a:xfrm flipH="1" rot="12160800">
                <a:off x="4089600" y="1656720"/>
                <a:ext cx="852480" cy="851040"/>
              </a:xfrm>
              <a:custGeom>
                <a:avLst/>
                <a:gdLst/>
                <a:ahLst/>
                <a:rect l="l" t="t" r="r" b="b"/>
                <a:pathLst>
                  <a:path w="2260411" h="2259228">
                    <a:moveTo>
                      <a:pt x="1936566" y="1921125"/>
                    </a:moveTo>
                    <a:cubicBezTo>
                      <a:pt x="1721790" y="2139702"/>
                      <a:pt x="1427399" y="2261714"/>
                      <a:pt x="1120888" y="2259189"/>
                    </a:cubicBezTo>
                    <a:lnTo>
                      <a:pt x="1130206" y="1129614"/>
                    </a:lnTo>
                    <a:lnTo>
                      <a:pt x="1936566" y="1921125"/>
                    </a:lnTo>
                    <a:close/>
                  </a:path>
                </a:pathLst>
              </a:custGeom>
              <a:solidFill>
                <a:srgbClr val="c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饼形 80"/>
              <p:cNvSpPr/>
              <p:nvPr/>
            </p:nvSpPr>
            <p:spPr>
              <a:xfrm flipH="1" rot="12160800">
                <a:off x="4183560" y="1746000"/>
                <a:ext cx="666720" cy="666720"/>
              </a:xfrm>
              <a:custGeom>
                <a:avLst/>
                <a:gdLst/>
                <a:ahLst/>
                <a:rect l="l" t="t" r="r" b="b"/>
                <a:pathLst>
                  <a:path w="1767920" h="1770291">
                    <a:moveTo>
                      <a:pt x="1515210" y="1504771"/>
                    </a:moveTo>
                    <a:cubicBezTo>
                      <a:pt x="1346027" y="1677591"/>
                      <a:pt x="1113556" y="1773511"/>
                      <a:pt x="871897" y="1770209"/>
                    </a:cubicBezTo>
                    <a:lnTo>
                      <a:pt x="883960" y="885146"/>
                    </a:lnTo>
                    <a:lnTo>
                      <a:pt x="1515210" y="1504771"/>
                    </a:lnTo>
                    <a:close/>
                  </a:path>
                </a:pathLst>
              </a:custGeom>
              <a:solidFill>
                <a:srgbClr val="f63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饼形 81"/>
              <p:cNvSpPr/>
              <p:nvPr/>
            </p:nvSpPr>
            <p:spPr>
              <a:xfrm flipH="1" rot="12160800">
                <a:off x="4237200" y="1805400"/>
                <a:ext cx="552600" cy="549360"/>
              </a:xfrm>
              <a:custGeom>
                <a:avLst/>
                <a:gdLst/>
                <a:ahLst/>
                <a:rect l="l" t="t" r="r" b="b"/>
                <a:pathLst>
                  <a:path w="1464848" h="1458383">
                    <a:moveTo>
                      <a:pt x="1250040" y="1245092"/>
                    </a:moveTo>
                    <a:cubicBezTo>
                      <a:pt x="1110245" y="1384116"/>
                      <a:pt x="919960" y="1461010"/>
                      <a:pt x="722388" y="1458315"/>
                    </a:cubicBezTo>
                    <a:lnTo>
                      <a:pt x="732424" y="729192"/>
                    </a:lnTo>
                    <a:lnTo>
                      <a:pt x="1250040" y="1245092"/>
                    </a:lnTo>
                    <a:close/>
                  </a:path>
                </a:pathLst>
              </a:custGeom>
              <a:solidFill>
                <a:srgbClr val="fe61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4" name="组合 94"/>
            <p:cNvGrpSpPr/>
            <p:nvPr/>
          </p:nvGrpSpPr>
          <p:grpSpPr>
            <a:xfrm>
              <a:off x="3644280" y="1213560"/>
              <a:ext cx="1737720" cy="1737000"/>
              <a:chOff x="3644280" y="1213560"/>
              <a:chExt cx="1737720" cy="1737000"/>
            </a:xfrm>
          </p:grpSpPr>
          <p:sp>
            <p:nvSpPr>
              <p:cNvPr id="275" name="饼形 101"/>
              <p:cNvSpPr/>
              <p:nvPr/>
            </p:nvSpPr>
            <p:spPr>
              <a:xfrm flipV="1" rot="17560800">
                <a:off x="3849120" y="1417320"/>
                <a:ext cx="1327320" cy="1328760"/>
              </a:xfrm>
              <a:custGeom>
                <a:avLst/>
                <a:gdLst/>
                <a:ahLst/>
                <a:rect l="l" t="t" r="r" b="b"/>
                <a:pathLst>
                  <a:path w="3527936" h="3523211">
                    <a:moveTo>
                      <a:pt x="3015670" y="3002851"/>
                    </a:moveTo>
                    <a:cubicBezTo>
                      <a:pt x="2682902" y="3337525"/>
                      <a:pt x="2229648" y="3524961"/>
                      <a:pt x="1757378" y="3523199"/>
                    </a:cubicBezTo>
                    <a:cubicBezTo>
                      <a:pt x="1759575" y="2936001"/>
                      <a:pt x="1761771" y="2348804"/>
                      <a:pt x="1763968" y="1761606"/>
                    </a:cubicBezTo>
                    <a:lnTo>
                      <a:pt x="3015670" y="30028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饼形 102"/>
              <p:cNvSpPr/>
              <p:nvPr/>
            </p:nvSpPr>
            <p:spPr>
              <a:xfrm flipV="1" rot="17560800">
                <a:off x="3989520" y="1554120"/>
                <a:ext cx="1045080" cy="1047960"/>
              </a:xfrm>
              <a:custGeom>
                <a:avLst/>
                <a:gdLst/>
                <a:ahLst/>
                <a:rect l="l" t="t" r="r" b="b"/>
                <a:pathLst>
                  <a:path w="2777672" h="2778161">
                    <a:moveTo>
                      <a:pt x="2380061" y="2362051"/>
                    </a:moveTo>
                    <a:cubicBezTo>
                      <a:pt x="2117853" y="2629272"/>
                      <a:pt x="1758894" y="2779310"/>
                      <a:pt x="1384550" y="2778154"/>
                    </a:cubicBezTo>
                    <a:cubicBezTo>
                      <a:pt x="1385979" y="2315130"/>
                      <a:pt x="1387407" y="1852105"/>
                      <a:pt x="1388836" y="1389081"/>
                    </a:cubicBezTo>
                    <a:lnTo>
                      <a:pt x="2380061" y="2362051"/>
                    </a:lnTo>
                    <a:close/>
                  </a:path>
                </a:pathLst>
              </a:custGeom>
              <a:solidFill>
                <a:srgbClr val="8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饼形 103"/>
              <p:cNvSpPr/>
              <p:nvPr/>
            </p:nvSpPr>
            <p:spPr>
              <a:xfrm flipV="1" rot="17560800">
                <a:off x="4082400" y="1651320"/>
                <a:ext cx="851760" cy="852480"/>
              </a:xfrm>
              <a:custGeom>
                <a:avLst/>
                <a:gdLst/>
                <a:ahLst/>
                <a:rect l="l" t="t" r="r" b="b"/>
                <a:pathLst>
                  <a:path w="2263445" h="2260414">
                    <a:moveTo>
                      <a:pt x="1938842" y="1922463"/>
                    </a:moveTo>
                    <a:cubicBezTo>
                      <a:pt x="1723802" y="2140951"/>
                      <a:pt x="1429160" y="2262899"/>
                      <a:pt x="1122401" y="2260375"/>
                    </a:cubicBezTo>
                    <a:cubicBezTo>
                      <a:pt x="1125508" y="1883652"/>
                      <a:pt x="1128616" y="1506930"/>
                      <a:pt x="1131723" y="1130207"/>
                    </a:cubicBezTo>
                    <a:lnTo>
                      <a:pt x="1938842" y="1922463"/>
                    </a:lnTo>
                    <a:close/>
                  </a:path>
                </a:pathLst>
              </a:custGeom>
              <a:solidFill>
                <a:srgbClr val="bcfe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饼形 104"/>
              <p:cNvSpPr/>
              <p:nvPr/>
            </p:nvSpPr>
            <p:spPr>
              <a:xfrm flipV="1" rot="17560800">
                <a:off x="4170960" y="1741320"/>
                <a:ext cx="667800" cy="668520"/>
              </a:xfrm>
              <a:custGeom>
                <a:avLst/>
                <a:gdLst/>
                <a:ahLst/>
                <a:rect l="l" t="t" r="r" b="b"/>
                <a:pathLst>
                  <a:path w="1774505" h="1772131">
                    <a:moveTo>
                      <a:pt x="1520022" y="1507182"/>
                    </a:moveTo>
                    <a:cubicBezTo>
                      <a:pt x="1350274" y="1679652"/>
                      <a:pt x="1117313" y="1775340"/>
                      <a:pt x="875178" y="1772049"/>
                    </a:cubicBezTo>
                    <a:lnTo>
                      <a:pt x="887253" y="886066"/>
                    </a:lnTo>
                    <a:lnTo>
                      <a:pt x="1520022" y="1507182"/>
                    </a:lnTo>
                    <a:close/>
                  </a:path>
                </a:pathLst>
              </a:custGeom>
              <a:solidFill>
                <a:srgbClr val="e1f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饼形 105"/>
              <p:cNvSpPr/>
              <p:nvPr/>
            </p:nvSpPr>
            <p:spPr>
              <a:xfrm flipV="1" rot="17560800">
                <a:off x="4235040" y="1802880"/>
                <a:ext cx="548640" cy="550800"/>
              </a:xfrm>
              <a:custGeom>
                <a:avLst/>
                <a:gdLst/>
                <a:ahLst/>
                <a:rect l="l" t="t" r="r" b="b"/>
                <a:pathLst>
                  <a:path w="1458383" h="1460640">
                    <a:moveTo>
                      <a:pt x="1246061" y="1245476"/>
                    </a:moveTo>
                    <a:cubicBezTo>
                      <a:pt x="1106751" y="1385682"/>
                      <a:pt x="916617" y="1463296"/>
                      <a:pt x="719141" y="1460570"/>
                    </a:cubicBezTo>
                    <a:lnTo>
                      <a:pt x="729192" y="730320"/>
                    </a:lnTo>
                    <a:lnTo>
                      <a:pt x="1246061" y="1245476"/>
                    </a:lnTo>
                    <a:close/>
                  </a:path>
                </a:pathLst>
              </a:custGeom>
              <a:solidFill>
                <a:srgbClr val="ecff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80" name="Text Box 8"/>
          <p:cNvSpPr/>
          <p:nvPr/>
        </p:nvSpPr>
        <p:spPr>
          <a:xfrm>
            <a:off x="1238400" y="64278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模版免费下载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圆角矩形 107"/>
          <p:cNvGrpSpPr/>
          <p:nvPr/>
        </p:nvGrpSpPr>
        <p:grpSpPr>
          <a:xfrm>
            <a:off x="1700280" y="1847880"/>
            <a:ext cx="5670360" cy="3882960"/>
            <a:chOff x="1700280" y="1847880"/>
            <a:chExt cx="5670360" cy="3882960"/>
          </a:xfrm>
        </p:grpSpPr>
        <p:pic>
          <p:nvPicPr>
            <p:cNvPr id="282" name="圆角矩形 107" descr=""/>
            <p:cNvPicPr/>
            <p:nvPr/>
          </p:nvPicPr>
          <p:blipFill>
            <a:blip r:embed="rId2"/>
            <a:stretch/>
          </p:blipFill>
          <p:spPr>
            <a:xfrm>
              <a:off x="1700280" y="1847880"/>
              <a:ext cx="5670360" cy="38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1903320" y="2046240"/>
              <a:ext cx="5265720" cy="34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4" name="组合 50"/>
          <p:cNvGrpSpPr/>
          <p:nvPr/>
        </p:nvGrpSpPr>
        <p:grpSpPr>
          <a:xfrm>
            <a:off x="-360" y="-1760400"/>
            <a:ext cx="3522600" cy="3520800"/>
            <a:chOff x="-360" y="-1760400"/>
            <a:chExt cx="3522600" cy="3520800"/>
          </a:xfrm>
        </p:grpSpPr>
        <p:sp>
          <p:nvSpPr>
            <p:cNvPr id="285" name="饼形 45"/>
            <p:cNvSpPr/>
            <p:nvPr/>
          </p:nvSpPr>
          <p:spPr>
            <a:xfrm rot="5400000">
              <a:off x="360" y="-1761120"/>
              <a:ext cx="35208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5" y="3001536"/>
                  </a:moveTo>
                  <a:cubicBezTo>
                    <a:pt x="2679649" y="3336672"/>
                    <a:pt x="2226712" y="3524405"/>
                    <a:pt x="1754737" y="3522639"/>
                  </a:cubicBezTo>
                  <a:cubicBezTo>
                    <a:pt x="1756933" y="2935535"/>
                    <a:pt x="1759130" y="2348430"/>
                    <a:pt x="1761326" y="1761326"/>
                  </a:cubicBezTo>
                  <a:lnTo>
                    <a:pt x="3011985" y="30015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饼形 46"/>
            <p:cNvSpPr/>
            <p:nvPr/>
          </p:nvSpPr>
          <p:spPr>
            <a:xfrm rot="5400000">
              <a:off x="368640" y="-1384560"/>
              <a:ext cx="2768400" cy="2770200"/>
            </a:xfrm>
            <a:custGeom>
              <a:avLst/>
              <a:gdLst/>
              <a:ahLst/>
              <a:rect l="l" t="t" r="r" b="b"/>
              <a:pathLst>
                <a:path w="2769839" h="2770179">
                  <a:moveTo>
                    <a:pt x="2373323" y="2355291"/>
                  </a:moveTo>
                  <a:cubicBezTo>
                    <a:pt x="2111857" y="2621728"/>
                    <a:pt x="1753921" y="2771324"/>
                    <a:pt x="1380645" y="2770172"/>
                  </a:cubicBezTo>
                  <a:lnTo>
                    <a:pt x="1384920" y="1385090"/>
                  </a:lnTo>
                  <a:lnTo>
                    <a:pt x="2373323" y="2355291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饼形 47"/>
            <p:cNvSpPr/>
            <p:nvPr/>
          </p:nvSpPr>
          <p:spPr>
            <a:xfrm rot="5400000">
              <a:off x="619200" y="-1124280"/>
              <a:ext cx="2257200" cy="2259000"/>
            </a:xfrm>
            <a:custGeom>
              <a:avLst/>
              <a:gdLst/>
              <a:ahLst/>
              <a:rect l="l" t="t" r="r" b="b"/>
              <a:pathLst>
                <a:path w="2258435" h="2259006">
                  <a:moveTo>
                    <a:pt x="1935180" y="1920624"/>
                  </a:moveTo>
                  <a:cubicBezTo>
                    <a:pt x="1720568" y="2139373"/>
                    <a:pt x="1426298" y="2261496"/>
                    <a:pt x="1119901" y="2258968"/>
                  </a:cubicBezTo>
                  <a:cubicBezTo>
                    <a:pt x="1123007" y="1882480"/>
                    <a:pt x="1126112" y="1505991"/>
                    <a:pt x="1129218" y="1129503"/>
                  </a:cubicBezTo>
                  <a:lnTo>
                    <a:pt x="1935180" y="1920624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饼形 48"/>
            <p:cNvSpPr/>
            <p:nvPr/>
          </p:nvSpPr>
          <p:spPr>
            <a:xfrm rot="5400000">
              <a:off x="856080" y="-878400"/>
              <a:ext cx="1768320" cy="1770120"/>
            </a:xfrm>
            <a:custGeom>
              <a:avLst/>
              <a:gdLst/>
              <a:ahLst/>
              <a:rect l="l" t="t" r="r" b="b"/>
              <a:pathLst>
                <a:path w="1769268" h="1770056">
                  <a:moveTo>
                    <a:pt x="1516089" y="1504854"/>
                  </a:moveTo>
                  <a:cubicBezTo>
                    <a:pt x="1346798" y="1677474"/>
                    <a:pt x="1114276" y="1773271"/>
                    <a:pt x="872574" y="1769974"/>
                  </a:cubicBezTo>
                  <a:lnTo>
                    <a:pt x="884634" y="885028"/>
                  </a:lnTo>
                  <a:lnTo>
                    <a:pt x="1516089" y="1504854"/>
                  </a:lnTo>
                  <a:close/>
                </a:path>
              </a:pathLst>
            </a:custGeom>
            <a:solidFill>
              <a:srgbClr val="d00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饼形 49"/>
            <p:cNvSpPr/>
            <p:nvPr/>
          </p:nvSpPr>
          <p:spPr>
            <a:xfrm rot="5400000">
              <a:off x="1022760" y="-724320"/>
              <a:ext cx="1457280" cy="1458720"/>
            </a:xfrm>
            <a:custGeom>
              <a:avLst/>
              <a:gdLst/>
              <a:ahLst/>
              <a:rect l="l" t="t" r="r" b="b"/>
              <a:pathLst>
                <a:path w="1457977" h="1458908">
                  <a:moveTo>
                    <a:pt x="1245480" y="1244234"/>
                  </a:moveTo>
                  <a:cubicBezTo>
                    <a:pt x="1106229" y="1384126"/>
                    <a:pt x="916252" y="1461558"/>
                    <a:pt x="718949" y="1458838"/>
                  </a:cubicBezTo>
                  <a:lnTo>
                    <a:pt x="728989" y="729454"/>
                  </a:lnTo>
                  <a:lnTo>
                    <a:pt x="1245480" y="1244234"/>
                  </a:lnTo>
                  <a:close/>
                </a:path>
              </a:pathLst>
            </a:custGeom>
            <a:solidFill>
              <a:srgbClr val="ff5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0" name="组合 12"/>
          <p:cNvGrpSpPr/>
          <p:nvPr/>
        </p:nvGrpSpPr>
        <p:grpSpPr>
          <a:xfrm>
            <a:off x="7383600" y="-360"/>
            <a:ext cx="3520800" cy="3522600"/>
            <a:chOff x="7383600" y="-360"/>
            <a:chExt cx="3520800" cy="3522600"/>
          </a:xfrm>
        </p:grpSpPr>
        <p:sp>
          <p:nvSpPr>
            <p:cNvPr id="291" name="饼形 11"/>
            <p:cNvSpPr/>
            <p:nvPr/>
          </p:nvSpPr>
          <p:spPr>
            <a:xfrm rot="10800000">
              <a:off x="7383600" y="-360"/>
              <a:ext cx="35208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5" y="3001536"/>
                  </a:moveTo>
                  <a:cubicBezTo>
                    <a:pt x="2679649" y="3336672"/>
                    <a:pt x="2226712" y="3524405"/>
                    <a:pt x="1754737" y="3522639"/>
                  </a:cubicBezTo>
                  <a:cubicBezTo>
                    <a:pt x="1756933" y="2935535"/>
                    <a:pt x="1759130" y="2348430"/>
                    <a:pt x="1761326" y="1761326"/>
                  </a:cubicBezTo>
                  <a:lnTo>
                    <a:pt x="3011985" y="3001536"/>
                  </a:lnTo>
                  <a:close/>
                </a:path>
              </a:pathLst>
            </a:custGeom>
            <a:solidFill>
              <a:srgbClr val="ff82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饼形 9"/>
            <p:cNvSpPr/>
            <p:nvPr/>
          </p:nvSpPr>
          <p:spPr>
            <a:xfrm rot="10800000">
              <a:off x="7759800" y="367560"/>
              <a:ext cx="2768400" cy="2770200"/>
            </a:xfrm>
            <a:custGeom>
              <a:avLst/>
              <a:gdLst/>
              <a:ahLst/>
              <a:rect l="l" t="t" r="r" b="b"/>
              <a:pathLst>
                <a:path w="2769840" h="2770179">
                  <a:moveTo>
                    <a:pt x="2373324" y="2355291"/>
                  </a:moveTo>
                  <a:cubicBezTo>
                    <a:pt x="2111856" y="2621730"/>
                    <a:pt x="1753918" y="2771326"/>
                    <a:pt x="1380640" y="2770172"/>
                  </a:cubicBezTo>
                  <a:cubicBezTo>
                    <a:pt x="1382067" y="2308478"/>
                    <a:pt x="1383493" y="1846784"/>
                    <a:pt x="1384920" y="1385090"/>
                  </a:cubicBezTo>
                  <a:lnTo>
                    <a:pt x="2373324" y="2355291"/>
                  </a:lnTo>
                  <a:close/>
                </a:path>
              </a:pathLst>
            </a:custGeom>
            <a:solidFill>
              <a:srgbClr val="ff94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饼形 8"/>
            <p:cNvSpPr/>
            <p:nvPr/>
          </p:nvSpPr>
          <p:spPr>
            <a:xfrm rot="10800000">
              <a:off x="8010360" y="618480"/>
              <a:ext cx="2257200" cy="2259000"/>
            </a:xfrm>
            <a:custGeom>
              <a:avLst/>
              <a:gdLst/>
              <a:ahLst/>
              <a:rect l="l" t="t" r="r" b="b"/>
              <a:pathLst>
                <a:path w="2258436" h="2259006">
                  <a:moveTo>
                    <a:pt x="1935181" y="1920624"/>
                  </a:moveTo>
                  <a:cubicBezTo>
                    <a:pt x="1720569" y="2139373"/>
                    <a:pt x="1426299" y="2261496"/>
                    <a:pt x="1119902" y="2258968"/>
                  </a:cubicBezTo>
                  <a:cubicBezTo>
                    <a:pt x="1123007" y="1882480"/>
                    <a:pt x="1126113" y="1505991"/>
                    <a:pt x="1129218" y="1129503"/>
                  </a:cubicBezTo>
                  <a:lnTo>
                    <a:pt x="1935181" y="1920624"/>
                  </a:lnTo>
                  <a:close/>
                </a:path>
              </a:pathLst>
            </a:custGeom>
            <a:solidFill>
              <a:srgbClr val="ffa6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饼形 7"/>
            <p:cNvSpPr/>
            <p:nvPr/>
          </p:nvSpPr>
          <p:spPr>
            <a:xfrm rot="10800000">
              <a:off x="8253360" y="855360"/>
              <a:ext cx="1768320" cy="1770120"/>
            </a:xfrm>
            <a:custGeom>
              <a:avLst/>
              <a:gdLst/>
              <a:ahLst/>
              <a:rect l="l" t="t" r="r" b="b"/>
              <a:pathLst>
                <a:path w="1769267" h="1770056">
                  <a:moveTo>
                    <a:pt x="1516088" y="1504854"/>
                  </a:moveTo>
                  <a:cubicBezTo>
                    <a:pt x="1346797" y="1677474"/>
                    <a:pt x="1114275" y="1773271"/>
                    <a:pt x="872573" y="1769974"/>
                  </a:cubicBezTo>
                  <a:lnTo>
                    <a:pt x="884634" y="885028"/>
                  </a:lnTo>
                  <a:lnTo>
                    <a:pt x="1516088" y="1504854"/>
                  </a:lnTo>
                  <a:close/>
                </a:path>
              </a:pathLst>
            </a:custGeom>
            <a:solidFill>
              <a:srgbClr val="f6b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饼形 6"/>
            <p:cNvSpPr/>
            <p:nvPr/>
          </p:nvSpPr>
          <p:spPr>
            <a:xfrm rot="10800000">
              <a:off x="8410680" y="1022040"/>
              <a:ext cx="1457280" cy="1458720"/>
            </a:xfrm>
            <a:custGeom>
              <a:avLst/>
              <a:gdLst/>
              <a:ahLst/>
              <a:rect l="l" t="t" r="r" b="b"/>
              <a:pathLst>
                <a:path w="1457978" h="1458908">
                  <a:moveTo>
                    <a:pt x="1245481" y="1244234"/>
                  </a:moveTo>
                  <a:cubicBezTo>
                    <a:pt x="1106230" y="1384126"/>
                    <a:pt x="916253" y="1461558"/>
                    <a:pt x="718950" y="1458838"/>
                  </a:cubicBezTo>
                  <a:lnTo>
                    <a:pt x="728989" y="729454"/>
                  </a:lnTo>
                  <a:lnTo>
                    <a:pt x="1245481" y="1244234"/>
                  </a:lnTo>
                  <a:close/>
                </a:path>
              </a:pathLst>
            </a:custGeom>
            <a:solidFill>
              <a:srgbClr val="ffc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6" name="组合 21"/>
          <p:cNvGrpSpPr/>
          <p:nvPr/>
        </p:nvGrpSpPr>
        <p:grpSpPr>
          <a:xfrm>
            <a:off x="-1760400" y="-360"/>
            <a:ext cx="3520800" cy="3522600"/>
            <a:chOff x="-1760400" y="-360"/>
            <a:chExt cx="3520800" cy="3522600"/>
          </a:xfrm>
        </p:grpSpPr>
        <p:sp>
          <p:nvSpPr>
            <p:cNvPr id="297" name="饼形 16"/>
            <p:cNvSpPr/>
            <p:nvPr/>
          </p:nvSpPr>
          <p:spPr>
            <a:xfrm flipH="1" rot="10800000">
              <a:off x="-1760400" y="-360"/>
              <a:ext cx="35208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5" y="3001536"/>
                  </a:moveTo>
                  <a:cubicBezTo>
                    <a:pt x="2679649" y="3336672"/>
                    <a:pt x="2226712" y="3524405"/>
                    <a:pt x="1754737" y="3522639"/>
                  </a:cubicBezTo>
                  <a:cubicBezTo>
                    <a:pt x="1756933" y="2935535"/>
                    <a:pt x="1759130" y="2348430"/>
                    <a:pt x="1761326" y="1761326"/>
                  </a:cubicBezTo>
                  <a:lnTo>
                    <a:pt x="3011985" y="30015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饼形 17"/>
            <p:cNvSpPr/>
            <p:nvPr/>
          </p:nvSpPr>
          <p:spPr>
            <a:xfrm flipH="1" rot="10800000">
              <a:off x="-1383840" y="367920"/>
              <a:ext cx="2768400" cy="2770200"/>
            </a:xfrm>
            <a:custGeom>
              <a:avLst/>
              <a:gdLst/>
              <a:ahLst/>
              <a:rect l="l" t="t" r="r" b="b"/>
              <a:pathLst>
                <a:path w="2769839" h="2770179">
                  <a:moveTo>
                    <a:pt x="2373323" y="2355291"/>
                  </a:moveTo>
                  <a:cubicBezTo>
                    <a:pt x="2111855" y="2621730"/>
                    <a:pt x="1753917" y="2771326"/>
                    <a:pt x="1380639" y="2770172"/>
                  </a:cubicBezTo>
                  <a:lnTo>
                    <a:pt x="1384920" y="1385090"/>
                  </a:lnTo>
                  <a:lnTo>
                    <a:pt x="2373323" y="2355291"/>
                  </a:lnTo>
                  <a:close/>
                </a:path>
              </a:pathLst>
            </a:custGeom>
            <a:solidFill>
              <a:srgbClr val="8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饼形 18"/>
            <p:cNvSpPr/>
            <p:nvPr/>
          </p:nvSpPr>
          <p:spPr>
            <a:xfrm flipH="1" rot="10800000">
              <a:off x="-1123560" y="618480"/>
              <a:ext cx="2257200" cy="2259000"/>
            </a:xfrm>
            <a:custGeom>
              <a:avLst/>
              <a:gdLst/>
              <a:ahLst/>
              <a:rect l="l" t="t" r="r" b="b"/>
              <a:pathLst>
                <a:path w="2258435" h="2259006">
                  <a:moveTo>
                    <a:pt x="1935180" y="1920624"/>
                  </a:moveTo>
                  <a:cubicBezTo>
                    <a:pt x="1720568" y="2139373"/>
                    <a:pt x="1426298" y="2261496"/>
                    <a:pt x="1119901" y="2258968"/>
                  </a:cubicBezTo>
                  <a:cubicBezTo>
                    <a:pt x="1123007" y="1882480"/>
                    <a:pt x="1126112" y="1505991"/>
                    <a:pt x="1129218" y="1129503"/>
                  </a:cubicBezTo>
                  <a:lnTo>
                    <a:pt x="1935180" y="1920624"/>
                  </a:lnTo>
                  <a:close/>
                </a:path>
              </a:pathLst>
            </a:custGeom>
            <a:solidFill>
              <a:srgbClr val="c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饼形 19"/>
            <p:cNvSpPr/>
            <p:nvPr/>
          </p:nvSpPr>
          <p:spPr>
            <a:xfrm flipH="1" rot="10800000">
              <a:off x="-877680" y="855360"/>
              <a:ext cx="1768320" cy="1770120"/>
            </a:xfrm>
            <a:custGeom>
              <a:avLst/>
              <a:gdLst/>
              <a:ahLst/>
              <a:rect l="l" t="t" r="r" b="b"/>
              <a:pathLst>
                <a:path w="1769268" h="1770056">
                  <a:moveTo>
                    <a:pt x="1516089" y="1504854"/>
                  </a:moveTo>
                  <a:cubicBezTo>
                    <a:pt x="1346798" y="1677474"/>
                    <a:pt x="1114276" y="1773271"/>
                    <a:pt x="872574" y="1769974"/>
                  </a:cubicBezTo>
                  <a:lnTo>
                    <a:pt x="884634" y="885028"/>
                  </a:lnTo>
                  <a:lnTo>
                    <a:pt x="1516089" y="1504854"/>
                  </a:lnTo>
                  <a:close/>
                </a:path>
              </a:pathLst>
            </a:custGeom>
            <a:solidFill>
              <a:srgbClr val="f6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饼形 20"/>
            <p:cNvSpPr/>
            <p:nvPr/>
          </p:nvSpPr>
          <p:spPr>
            <a:xfrm flipH="1" rot="10800000">
              <a:off x="-723600" y="1022400"/>
              <a:ext cx="1457280" cy="1458720"/>
            </a:xfrm>
            <a:custGeom>
              <a:avLst/>
              <a:gdLst/>
              <a:ahLst/>
              <a:rect l="l" t="t" r="r" b="b"/>
              <a:pathLst>
                <a:path w="1457977" h="1458908">
                  <a:moveTo>
                    <a:pt x="1245480" y="1244234"/>
                  </a:moveTo>
                  <a:cubicBezTo>
                    <a:pt x="1106229" y="1384126"/>
                    <a:pt x="916252" y="1461558"/>
                    <a:pt x="718949" y="1458838"/>
                  </a:cubicBezTo>
                  <a:lnTo>
                    <a:pt x="728989" y="729454"/>
                  </a:lnTo>
                  <a:lnTo>
                    <a:pt x="1245480" y="1244234"/>
                  </a:lnTo>
                  <a:close/>
                </a:path>
              </a:pathLst>
            </a:custGeom>
            <a:solidFill>
              <a:srgbClr val="fe61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2" name="组合 29"/>
          <p:cNvGrpSpPr/>
          <p:nvPr/>
        </p:nvGrpSpPr>
        <p:grpSpPr>
          <a:xfrm>
            <a:off x="7383600" y="3334680"/>
            <a:ext cx="3520800" cy="3522600"/>
            <a:chOff x="7383600" y="3334680"/>
            <a:chExt cx="3520800" cy="3522600"/>
          </a:xfrm>
        </p:grpSpPr>
        <p:sp>
          <p:nvSpPr>
            <p:cNvPr id="303" name="饼形 24"/>
            <p:cNvSpPr/>
            <p:nvPr/>
          </p:nvSpPr>
          <p:spPr>
            <a:xfrm flipV="1" rot="10800000">
              <a:off x="7383600" y="3334320"/>
              <a:ext cx="35208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5" y="3001536"/>
                  </a:moveTo>
                  <a:cubicBezTo>
                    <a:pt x="2679649" y="3336672"/>
                    <a:pt x="2226712" y="3524405"/>
                    <a:pt x="1754737" y="3522639"/>
                  </a:cubicBezTo>
                  <a:cubicBezTo>
                    <a:pt x="1756933" y="2935535"/>
                    <a:pt x="1759130" y="2348430"/>
                    <a:pt x="1761326" y="1761326"/>
                  </a:cubicBezTo>
                  <a:lnTo>
                    <a:pt x="3011985" y="3001536"/>
                  </a:lnTo>
                  <a:close/>
                </a:path>
              </a:pathLst>
            </a:custGeom>
            <a:solidFill>
              <a:srgbClr val="017c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饼形 25"/>
            <p:cNvSpPr/>
            <p:nvPr/>
          </p:nvSpPr>
          <p:spPr>
            <a:xfrm flipV="1" rot="10800000">
              <a:off x="7759800" y="3718440"/>
              <a:ext cx="2768400" cy="2770200"/>
            </a:xfrm>
            <a:custGeom>
              <a:avLst/>
              <a:gdLst/>
              <a:ahLst/>
              <a:rect l="l" t="t" r="r" b="b"/>
              <a:pathLst>
                <a:path w="2769840" h="2770179">
                  <a:moveTo>
                    <a:pt x="2373324" y="2355291"/>
                  </a:moveTo>
                  <a:cubicBezTo>
                    <a:pt x="2111856" y="2621730"/>
                    <a:pt x="1753918" y="2771326"/>
                    <a:pt x="1380640" y="2770172"/>
                  </a:cubicBezTo>
                  <a:cubicBezTo>
                    <a:pt x="1382067" y="2308478"/>
                    <a:pt x="1383493" y="1846784"/>
                    <a:pt x="1384920" y="1385090"/>
                  </a:cubicBezTo>
                  <a:lnTo>
                    <a:pt x="2373324" y="2355291"/>
                  </a:lnTo>
                  <a:close/>
                </a:path>
              </a:pathLst>
            </a:custGeom>
            <a:solidFill>
              <a:srgbClr val="0098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饼形 26"/>
            <p:cNvSpPr/>
            <p:nvPr/>
          </p:nvSpPr>
          <p:spPr>
            <a:xfrm flipV="1" rot="10800000">
              <a:off x="8010360" y="3978720"/>
              <a:ext cx="2257200" cy="2259000"/>
            </a:xfrm>
            <a:custGeom>
              <a:avLst/>
              <a:gdLst/>
              <a:ahLst/>
              <a:rect l="l" t="t" r="r" b="b"/>
              <a:pathLst>
                <a:path w="2258436" h="2259006">
                  <a:moveTo>
                    <a:pt x="1935181" y="1920624"/>
                  </a:moveTo>
                  <a:cubicBezTo>
                    <a:pt x="1720569" y="2139373"/>
                    <a:pt x="1426299" y="2261496"/>
                    <a:pt x="1119902" y="2258968"/>
                  </a:cubicBezTo>
                  <a:cubicBezTo>
                    <a:pt x="1123007" y="1882480"/>
                    <a:pt x="1126113" y="1505991"/>
                    <a:pt x="1129218" y="1129503"/>
                  </a:cubicBezTo>
                  <a:lnTo>
                    <a:pt x="1935181" y="1920624"/>
                  </a:lnTo>
                  <a:close/>
                </a:path>
              </a:pathLst>
            </a:custGeom>
            <a:solidFill>
              <a:srgbClr val="00c4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饼形 27"/>
            <p:cNvSpPr/>
            <p:nvPr/>
          </p:nvSpPr>
          <p:spPr>
            <a:xfrm flipV="1" rot="10800000">
              <a:off x="8253360" y="4231080"/>
              <a:ext cx="1768320" cy="1770120"/>
            </a:xfrm>
            <a:custGeom>
              <a:avLst/>
              <a:gdLst/>
              <a:ahLst/>
              <a:rect l="l" t="t" r="r" b="b"/>
              <a:pathLst>
                <a:path w="1769267" h="1770058">
                  <a:moveTo>
                    <a:pt x="1516088" y="1504855"/>
                  </a:moveTo>
                  <a:cubicBezTo>
                    <a:pt x="1346797" y="1677476"/>
                    <a:pt x="1114274" y="1773272"/>
                    <a:pt x="872573" y="1769975"/>
                  </a:cubicBezTo>
                  <a:lnTo>
                    <a:pt x="884634" y="885029"/>
                  </a:lnTo>
                  <a:lnTo>
                    <a:pt x="1516088" y="1504855"/>
                  </a:lnTo>
                  <a:close/>
                </a:path>
              </a:pathLst>
            </a:custGeom>
            <a:solidFill>
              <a:srgbClr val="71ff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饼形 28"/>
            <p:cNvSpPr/>
            <p:nvPr/>
          </p:nvSpPr>
          <p:spPr>
            <a:xfrm flipV="1" rot="10800000">
              <a:off x="8410680" y="4376880"/>
              <a:ext cx="1457280" cy="1458720"/>
            </a:xfrm>
            <a:custGeom>
              <a:avLst/>
              <a:gdLst/>
              <a:ahLst/>
              <a:rect l="l" t="t" r="r" b="b"/>
              <a:pathLst>
                <a:path w="1457978" h="1458908">
                  <a:moveTo>
                    <a:pt x="1245481" y="1244234"/>
                  </a:moveTo>
                  <a:cubicBezTo>
                    <a:pt x="1106230" y="1384126"/>
                    <a:pt x="916253" y="1461558"/>
                    <a:pt x="718950" y="1458838"/>
                  </a:cubicBezTo>
                  <a:lnTo>
                    <a:pt x="728989" y="729454"/>
                  </a:lnTo>
                  <a:lnTo>
                    <a:pt x="1245481" y="1244234"/>
                  </a:lnTo>
                  <a:close/>
                </a:path>
              </a:pathLst>
            </a:custGeom>
            <a:solidFill>
              <a:srgbClr val="a7f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8" name="组合 36"/>
          <p:cNvGrpSpPr/>
          <p:nvPr/>
        </p:nvGrpSpPr>
        <p:grpSpPr>
          <a:xfrm>
            <a:off x="-1760400" y="3334680"/>
            <a:ext cx="3520800" cy="3522600"/>
            <a:chOff x="-1760400" y="3334680"/>
            <a:chExt cx="3520800" cy="3522600"/>
          </a:xfrm>
        </p:grpSpPr>
        <p:sp>
          <p:nvSpPr>
            <p:cNvPr id="309" name="饼形 31"/>
            <p:cNvSpPr/>
            <p:nvPr/>
          </p:nvSpPr>
          <p:spPr>
            <a:xfrm flipH="1" flipV="1" rot="10800000">
              <a:off x="-1760400" y="3334320"/>
              <a:ext cx="35208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5" y="3001536"/>
                  </a:moveTo>
                  <a:cubicBezTo>
                    <a:pt x="2679649" y="3336672"/>
                    <a:pt x="2226712" y="3524405"/>
                    <a:pt x="1754737" y="3522639"/>
                  </a:cubicBezTo>
                  <a:cubicBezTo>
                    <a:pt x="1756933" y="2935535"/>
                    <a:pt x="1759130" y="2348430"/>
                    <a:pt x="1761326" y="1761326"/>
                  </a:cubicBezTo>
                  <a:lnTo>
                    <a:pt x="3011985" y="30015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饼形 32"/>
            <p:cNvSpPr/>
            <p:nvPr/>
          </p:nvSpPr>
          <p:spPr>
            <a:xfrm flipH="1" flipV="1" rot="10800000">
              <a:off x="-1383840" y="3718440"/>
              <a:ext cx="2768400" cy="2770200"/>
            </a:xfrm>
            <a:custGeom>
              <a:avLst/>
              <a:gdLst/>
              <a:ahLst/>
              <a:rect l="l" t="t" r="r" b="b"/>
              <a:pathLst>
                <a:path w="2769839" h="2770179">
                  <a:moveTo>
                    <a:pt x="2373323" y="2355291"/>
                  </a:moveTo>
                  <a:cubicBezTo>
                    <a:pt x="2111857" y="2621728"/>
                    <a:pt x="1753921" y="2771324"/>
                    <a:pt x="1380645" y="2770172"/>
                  </a:cubicBezTo>
                  <a:lnTo>
                    <a:pt x="1384920" y="1385090"/>
                  </a:lnTo>
                  <a:lnTo>
                    <a:pt x="2373323" y="2355291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饼形 33"/>
            <p:cNvSpPr/>
            <p:nvPr/>
          </p:nvSpPr>
          <p:spPr>
            <a:xfrm flipH="1" flipV="1" rot="10800000">
              <a:off x="-1123560" y="3978720"/>
              <a:ext cx="2257200" cy="2259000"/>
            </a:xfrm>
            <a:custGeom>
              <a:avLst/>
              <a:gdLst/>
              <a:ahLst/>
              <a:rect l="l" t="t" r="r" b="b"/>
              <a:pathLst>
                <a:path w="2258435" h="2259006">
                  <a:moveTo>
                    <a:pt x="1935180" y="1920624"/>
                  </a:moveTo>
                  <a:cubicBezTo>
                    <a:pt x="1720568" y="2139373"/>
                    <a:pt x="1426298" y="2261496"/>
                    <a:pt x="1119901" y="2258968"/>
                  </a:cubicBezTo>
                  <a:cubicBezTo>
                    <a:pt x="1123007" y="1882480"/>
                    <a:pt x="1126112" y="1505991"/>
                    <a:pt x="1129218" y="1129503"/>
                  </a:cubicBezTo>
                  <a:lnTo>
                    <a:pt x="1935180" y="1920624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饼形 34"/>
            <p:cNvSpPr/>
            <p:nvPr/>
          </p:nvSpPr>
          <p:spPr>
            <a:xfrm flipH="1" flipV="1" rot="10800000">
              <a:off x="-877680" y="4231080"/>
              <a:ext cx="1768320" cy="1770120"/>
            </a:xfrm>
            <a:custGeom>
              <a:avLst/>
              <a:gdLst/>
              <a:ahLst/>
              <a:rect l="l" t="t" r="r" b="b"/>
              <a:pathLst>
                <a:path w="1769268" h="1770058">
                  <a:moveTo>
                    <a:pt x="1516089" y="1504855"/>
                  </a:moveTo>
                  <a:cubicBezTo>
                    <a:pt x="1346798" y="1677476"/>
                    <a:pt x="1114275" y="1773272"/>
                    <a:pt x="872574" y="1769975"/>
                  </a:cubicBezTo>
                  <a:lnTo>
                    <a:pt x="884634" y="885029"/>
                  </a:lnTo>
                  <a:lnTo>
                    <a:pt x="1516089" y="1504855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饼形 35"/>
            <p:cNvSpPr/>
            <p:nvPr/>
          </p:nvSpPr>
          <p:spPr>
            <a:xfrm flipH="1" flipV="1" rot="10800000">
              <a:off x="-723600" y="4376880"/>
              <a:ext cx="1457280" cy="1458720"/>
            </a:xfrm>
            <a:custGeom>
              <a:avLst/>
              <a:gdLst/>
              <a:ahLst/>
              <a:rect l="l" t="t" r="r" b="b"/>
              <a:pathLst>
                <a:path w="1457977" h="1458908">
                  <a:moveTo>
                    <a:pt x="1245480" y="1244234"/>
                  </a:moveTo>
                  <a:cubicBezTo>
                    <a:pt x="1106229" y="1384126"/>
                    <a:pt x="916252" y="1461558"/>
                    <a:pt x="718949" y="1458838"/>
                  </a:cubicBezTo>
                  <a:lnTo>
                    <a:pt x="728989" y="729454"/>
                  </a:lnTo>
                  <a:lnTo>
                    <a:pt x="1245480" y="1244234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4" name="组合 37"/>
          <p:cNvGrpSpPr/>
          <p:nvPr/>
        </p:nvGrpSpPr>
        <p:grpSpPr>
          <a:xfrm>
            <a:off x="5620680" y="5097600"/>
            <a:ext cx="3522600" cy="3520800"/>
            <a:chOff x="5620680" y="5097600"/>
            <a:chExt cx="3522600" cy="3520800"/>
          </a:xfrm>
        </p:grpSpPr>
        <p:sp>
          <p:nvSpPr>
            <p:cNvPr id="315" name="饼形 38"/>
            <p:cNvSpPr/>
            <p:nvPr/>
          </p:nvSpPr>
          <p:spPr>
            <a:xfrm flipH="1" flipV="1" rot="5400000">
              <a:off x="5621040" y="5096520"/>
              <a:ext cx="35208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5" y="3001536"/>
                  </a:moveTo>
                  <a:cubicBezTo>
                    <a:pt x="2679649" y="3336672"/>
                    <a:pt x="2226712" y="3524405"/>
                    <a:pt x="1754737" y="3522639"/>
                  </a:cubicBezTo>
                  <a:cubicBezTo>
                    <a:pt x="1756933" y="2935535"/>
                    <a:pt x="1759130" y="2348430"/>
                    <a:pt x="1761326" y="1761326"/>
                  </a:cubicBezTo>
                  <a:lnTo>
                    <a:pt x="3011985" y="30015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饼形 39"/>
            <p:cNvSpPr/>
            <p:nvPr/>
          </p:nvSpPr>
          <p:spPr>
            <a:xfrm flipH="1" flipV="1" rot="5400000">
              <a:off x="6005160" y="5472720"/>
              <a:ext cx="2768400" cy="2770200"/>
            </a:xfrm>
            <a:custGeom>
              <a:avLst/>
              <a:gdLst/>
              <a:ahLst/>
              <a:rect l="l" t="t" r="r" b="b"/>
              <a:pathLst>
                <a:path w="2769840" h="2770179">
                  <a:moveTo>
                    <a:pt x="2373324" y="2355291"/>
                  </a:moveTo>
                  <a:cubicBezTo>
                    <a:pt x="2111858" y="2621728"/>
                    <a:pt x="1753922" y="2771324"/>
                    <a:pt x="1380646" y="2770172"/>
                  </a:cubicBezTo>
                  <a:cubicBezTo>
                    <a:pt x="1382071" y="2308478"/>
                    <a:pt x="1383495" y="1846784"/>
                    <a:pt x="1384920" y="1385090"/>
                  </a:cubicBezTo>
                  <a:lnTo>
                    <a:pt x="2373324" y="2355291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饼形 40"/>
            <p:cNvSpPr/>
            <p:nvPr/>
          </p:nvSpPr>
          <p:spPr>
            <a:xfrm flipH="1" flipV="1" rot="5400000">
              <a:off x="6265440" y="5723640"/>
              <a:ext cx="2257200" cy="2259000"/>
            </a:xfrm>
            <a:custGeom>
              <a:avLst/>
              <a:gdLst/>
              <a:ahLst/>
              <a:rect l="l" t="t" r="r" b="b"/>
              <a:pathLst>
                <a:path w="2258436" h="2259006">
                  <a:moveTo>
                    <a:pt x="1935181" y="1920624"/>
                  </a:moveTo>
                  <a:cubicBezTo>
                    <a:pt x="1720569" y="2139373"/>
                    <a:pt x="1426299" y="2261496"/>
                    <a:pt x="1119902" y="2258968"/>
                  </a:cubicBezTo>
                  <a:cubicBezTo>
                    <a:pt x="1123007" y="1882480"/>
                    <a:pt x="1126113" y="1505991"/>
                    <a:pt x="1129218" y="1129503"/>
                  </a:cubicBezTo>
                  <a:lnTo>
                    <a:pt x="1935181" y="1920624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饼形 41"/>
            <p:cNvSpPr/>
            <p:nvPr/>
          </p:nvSpPr>
          <p:spPr>
            <a:xfrm flipH="1" flipV="1" rot="5400000">
              <a:off x="6517800" y="5966640"/>
              <a:ext cx="1768320" cy="1770120"/>
            </a:xfrm>
            <a:custGeom>
              <a:avLst/>
              <a:gdLst/>
              <a:ahLst/>
              <a:rect l="l" t="t" r="r" b="b"/>
              <a:pathLst>
                <a:path w="1769267" h="1770058">
                  <a:moveTo>
                    <a:pt x="1516088" y="1504855"/>
                  </a:moveTo>
                  <a:cubicBezTo>
                    <a:pt x="1346797" y="1677476"/>
                    <a:pt x="1114274" y="1773272"/>
                    <a:pt x="872573" y="1769975"/>
                  </a:cubicBezTo>
                  <a:lnTo>
                    <a:pt x="884634" y="885029"/>
                  </a:lnTo>
                  <a:lnTo>
                    <a:pt x="1516088" y="1504855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饼形 42"/>
            <p:cNvSpPr/>
            <p:nvPr/>
          </p:nvSpPr>
          <p:spPr>
            <a:xfrm flipH="1" flipV="1" rot="5400000">
              <a:off x="6663600" y="6123960"/>
              <a:ext cx="1457280" cy="1458720"/>
            </a:xfrm>
            <a:custGeom>
              <a:avLst/>
              <a:gdLst/>
              <a:ahLst/>
              <a:rect l="l" t="t" r="r" b="b"/>
              <a:pathLst>
                <a:path w="1457978" h="1458908">
                  <a:moveTo>
                    <a:pt x="1245481" y="1244234"/>
                  </a:moveTo>
                  <a:cubicBezTo>
                    <a:pt x="1106230" y="1384126"/>
                    <a:pt x="916253" y="1461558"/>
                    <a:pt x="718950" y="1458838"/>
                  </a:cubicBezTo>
                  <a:lnTo>
                    <a:pt x="728989" y="729454"/>
                  </a:lnTo>
                  <a:lnTo>
                    <a:pt x="1245481" y="1244234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0" name="组合 66"/>
          <p:cNvGrpSpPr/>
          <p:nvPr/>
        </p:nvGrpSpPr>
        <p:grpSpPr>
          <a:xfrm>
            <a:off x="5620680" y="-1760400"/>
            <a:ext cx="3522600" cy="3520800"/>
            <a:chOff x="5620680" y="-1760400"/>
            <a:chExt cx="3522600" cy="3520800"/>
          </a:xfrm>
        </p:grpSpPr>
        <p:sp>
          <p:nvSpPr>
            <p:cNvPr id="321" name="饼形 52"/>
            <p:cNvSpPr/>
            <p:nvPr/>
          </p:nvSpPr>
          <p:spPr>
            <a:xfrm flipH="1" rot="16200000">
              <a:off x="5621040" y="-1761120"/>
              <a:ext cx="35208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5" y="3001536"/>
                  </a:moveTo>
                  <a:cubicBezTo>
                    <a:pt x="2679649" y="3336672"/>
                    <a:pt x="2226712" y="3524405"/>
                    <a:pt x="1754737" y="3522639"/>
                  </a:cubicBezTo>
                  <a:cubicBezTo>
                    <a:pt x="1756933" y="2935535"/>
                    <a:pt x="1759130" y="2348430"/>
                    <a:pt x="1761326" y="1761326"/>
                  </a:cubicBezTo>
                  <a:lnTo>
                    <a:pt x="3011985" y="3001536"/>
                  </a:lnTo>
                  <a:close/>
                </a:path>
              </a:pathLst>
            </a:cu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饼形 53"/>
            <p:cNvSpPr/>
            <p:nvPr/>
          </p:nvSpPr>
          <p:spPr>
            <a:xfrm flipH="1" rot="16200000">
              <a:off x="6005160" y="-1384560"/>
              <a:ext cx="2768400" cy="2770200"/>
            </a:xfrm>
            <a:custGeom>
              <a:avLst/>
              <a:gdLst/>
              <a:ahLst/>
              <a:rect l="l" t="t" r="r" b="b"/>
              <a:pathLst>
                <a:path w="2769839" h="2770179">
                  <a:moveTo>
                    <a:pt x="2373323" y="2355291"/>
                  </a:moveTo>
                  <a:cubicBezTo>
                    <a:pt x="2111857" y="2621728"/>
                    <a:pt x="1753921" y="2771324"/>
                    <a:pt x="1380645" y="2770172"/>
                  </a:cubicBezTo>
                  <a:lnTo>
                    <a:pt x="1384920" y="1385090"/>
                  </a:lnTo>
                  <a:lnTo>
                    <a:pt x="2373323" y="2355291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饼形 54"/>
            <p:cNvSpPr/>
            <p:nvPr/>
          </p:nvSpPr>
          <p:spPr>
            <a:xfrm flipH="1" rot="16200000">
              <a:off x="6265440" y="-1124280"/>
              <a:ext cx="2257200" cy="2259000"/>
            </a:xfrm>
            <a:custGeom>
              <a:avLst/>
              <a:gdLst/>
              <a:ahLst/>
              <a:rect l="l" t="t" r="r" b="b"/>
              <a:pathLst>
                <a:path w="2258435" h="2259006">
                  <a:moveTo>
                    <a:pt x="1935180" y="1920624"/>
                  </a:moveTo>
                  <a:cubicBezTo>
                    <a:pt x="1720568" y="2139373"/>
                    <a:pt x="1426298" y="2261496"/>
                    <a:pt x="1119901" y="2258968"/>
                  </a:cubicBezTo>
                  <a:cubicBezTo>
                    <a:pt x="1123007" y="1882480"/>
                    <a:pt x="1126112" y="1505991"/>
                    <a:pt x="1129218" y="1129503"/>
                  </a:cubicBezTo>
                  <a:lnTo>
                    <a:pt x="1935180" y="1920624"/>
                  </a:lnTo>
                  <a:close/>
                </a:path>
              </a:pathLst>
            </a:custGeom>
            <a:solidFill>
              <a:srgbClr val="f4e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饼形 55"/>
            <p:cNvSpPr/>
            <p:nvPr/>
          </p:nvSpPr>
          <p:spPr>
            <a:xfrm flipH="1" rot="16200000">
              <a:off x="6517800" y="-878400"/>
              <a:ext cx="1768320" cy="1770120"/>
            </a:xfrm>
            <a:custGeom>
              <a:avLst/>
              <a:gdLst/>
              <a:ahLst/>
              <a:rect l="l" t="t" r="r" b="b"/>
              <a:pathLst>
                <a:path w="1769268" h="1770058">
                  <a:moveTo>
                    <a:pt x="1516089" y="1504855"/>
                  </a:moveTo>
                  <a:cubicBezTo>
                    <a:pt x="1346798" y="1677476"/>
                    <a:pt x="1114275" y="1773272"/>
                    <a:pt x="872574" y="1769975"/>
                  </a:cubicBezTo>
                  <a:lnTo>
                    <a:pt x="884634" y="885029"/>
                  </a:lnTo>
                  <a:lnTo>
                    <a:pt x="1516089" y="1504855"/>
                  </a:lnTo>
                  <a:close/>
                </a:path>
              </a:pathLst>
            </a:custGeom>
            <a:solidFill>
              <a:srgbClr val="bcf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饼形 56"/>
            <p:cNvSpPr/>
            <p:nvPr/>
          </p:nvSpPr>
          <p:spPr>
            <a:xfrm flipH="1" rot="16200000">
              <a:off x="6663600" y="-723960"/>
              <a:ext cx="1457280" cy="1458720"/>
            </a:xfrm>
            <a:custGeom>
              <a:avLst/>
              <a:gdLst/>
              <a:ahLst/>
              <a:rect l="l" t="t" r="r" b="b"/>
              <a:pathLst>
                <a:path w="1457977" h="1458908">
                  <a:moveTo>
                    <a:pt x="1249567" y="1240095"/>
                  </a:moveTo>
                  <a:cubicBezTo>
                    <a:pt x="1110022" y="1382537"/>
                    <a:pt x="918271" y="1461585"/>
                    <a:pt x="718949" y="1458838"/>
                  </a:cubicBezTo>
                  <a:lnTo>
                    <a:pt x="728989" y="729454"/>
                  </a:lnTo>
                  <a:lnTo>
                    <a:pt x="1249567" y="1240095"/>
                  </a:lnTo>
                  <a:close/>
                </a:path>
              </a:pathLst>
            </a:custGeom>
            <a:solidFill>
              <a:srgbClr val="4f6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6" name="组合 65"/>
          <p:cNvGrpSpPr/>
          <p:nvPr/>
        </p:nvGrpSpPr>
        <p:grpSpPr>
          <a:xfrm>
            <a:off x="-360" y="5097600"/>
            <a:ext cx="3522600" cy="3520800"/>
            <a:chOff x="-360" y="5097600"/>
            <a:chExt cx="3522600" cy="3520800"/>
          </a:xfrm>
        </p:grpSpPr>
        <p:sp>
          <p:nvSpPr>
            <p:cNvPr id="327" name="饼形 60"/>
            <p:cNvSpPr/>
            <p:nvPr/>
          </p:nvSpPr>
          <p:spPr>
            <a:xfrm flipV="1" rot="16200000">
              <a:off x="360" y="5096520"/>
              <a:ext cx="35208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5" y="3001536"/>
                  </a:moveTo>
                  <a:cubicBezTo>
                    <a:pt x="2679649" y="3336672"/>
                    <a:pt x="2226712" y="3524405"/>
                    <a:pt x="1754737" y="3522639"/>
                  </a:cubicBezTo>
                  <a:cubicBezTo>
                    <a:pt x="1756933" y="2935535"/>
                    <a:pt x="1759130" y="2348430"/>
                    <a:pt x="1761326" y="1761326"/>
                  </a:cubicBezTo>
                  <a:lnTo>
                    <a:pt x="3011985" y="30015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饼形 61"/>
            <p:cNvSpPr/>
            <p:nvPr/>
          </p:nvSpPr>
          <p:spPr>
            <a:xfrm flipV="1" rot="16200000">
              <a:off x="368640" y="5472720"/>
              <a:ext cx="2768400" cy="2770200"/>
            </a:xfrm>
            <a:custGeom>
              <a:avLst/>
              <a:gdLst/>
              <a:ahLst/>
              <a:rect l="l" t="t" r="r" b="b"/>
              <a:pathLst>
                <a:path w="2769840" h="2770179">
                  <a:moveTo>
                    <a:pt x="2373324" y="2355291"/>
                  </a:moveTo>
                  <a:cubicBezTo>
                    <a:pt x="2111858" y="2621728"/>
                    <a:pt x="1753922" y="2771324"/>
                    <a:pt x="1380646" y="2770172"/>
                  </a:cubicBezTo>
                  <a:cubicBezTo>
                    <a:pt x="1382071" y="2308478"/>
                    <a:pt x="1383495" y="1846784"/>
                    <a:pt x="1384920" y="1385090"/>
                  </a:cubicBezTo>
                  <a:lnTo>
                    <a:pt x="2373324" y="2355291"/>
                  </a:lnTo>
                  <a:close/>
                </a:path>
              </a:pathLst>
            </a:custGeom>
            <a:solidFill>
              <a:srgbClr val="8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饼形 62"/>
            <p:cNvSpPr/>
            <p:nvPr/>
          </p:nvSpPr>
          <p:spPr>
            <a:xfrm flipV="1" rot="16200000">
              <a:off x="619200" y="5723280"/>
              <a:ext cx="2257200" cy="2259000"/>
            </a:xfrm>
            <a:custGeom>
              <a:avLst/>
              <a:gdLst/>
              <a:ahLst/>
              <a:rect l="l" t="t" r="r" b="b"/>
              <a:pathLst>
                <a:path w="2258436" h="2259006">
                  <a:moveTo>
                    <a:pt x="1935181" y="1920624"/>
                  </a:moveTo>
                  <a:cubicBezTo>
                    <a:pt x="1720569" y="2139373"/>
                    <a:pt x="1426299" y="2261496"/>
                    <a:pt x="1119902" y="2258968"/>
                  </a:cubicBezTo>
                  <a:cubicBezTo>
                    <a:pt x="1123007" y="1882480"/>
                    <a:pt x="1126113" y="1505991"/>
                    <a:pt x="1129218" y="1129503"/>
                  </a:cubicBezTo>
                  <a:lnTo>
                    <a:pt x="1935181" y="1920624"/>
                  </a:lnTo>
                  <a:close/>
                </a:path>
              </a:pathLst>
            </a:custGeom>
            <a:solidFill>
              <a:srgbClr val="bcf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饼形 63"/>
            <p:cNvSpPr/>
            <p:nvPr/>
          </p:nvSpPr>
          <p:spPr>
            <a:xfrm flipV="1" rot="16200000">
              <a:off x="856080" y="5966280"/>
              <a:ext cx="1768320" cy="1770120"/>
            </a:xfrm>
            <a:custGeom>
              <a:avLst/>
              <a:gdLst/>
              <a:ahLst/>
              <a:rect l="l" t="t" r="r" b="b"/>
              <a:pathLst>
                <a:path w="1769267" h="1770056">
                  <a:moveTo>
                    <a:pt x="1516088" y="1504854"/>
                  </a:moveTo>
                  <a:cubicBezTo>
                    <a:pt x="1346797" y="1677474"/>
                    <a:pt x="1114275" y="1773271"/>
                    <a:pt x="872573" y="1769974"/>
                  </a:cubicBezTo>
                  <a:lnTo>
                    <a:pt x="884634" y="885028"/>
                  </a:lnTo>
                  <a:lnTo>
                    <a:pt x="1516088" y="1504854"/>
                  </a:lnTo>
                  <a:close/>
                </a:path>
              </a:pathLst>
            </a:custGeom>
            <a:solidFill>
              <a:srgbClr val="e1f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饼形 64"/>
            <p:cNvSpPr/>
            <p:nvPr/>
          </p:nvSpPr>
          <p:spPr>
            <a:xfrm flipV="1" rot="16200000">
              <a:off x="1023120" y="6123960"/>
              <a:ext cx="1457280" cy="1458720"/>
            </a:xfrm>
            <a:custGeom>
              <a:avLst/>
              <a:gdLst/>
              <a:ahLst/>
              <a:rect l="l" t="t" r="r" b="b"/>
              <a:pathLst>
                <a:path w="1457978" h="1458908">
                  <a:moveTo>
                    <a:pt x="1245481" y="1244234"/>
                  </a:moveTo>
                  <a:cubicBezTo>
                    <a:pt x="1106230" y="1384126"/>
                    <a:pt x="916253" y="1461558"/>
                    <a:pt x="718950" y="1458838"/>
                  </a:cubicBezTo>
                  <a:lnTo>
                    <a:pt x="728989" y="729454"/>
                  </a:lnTo>
                  <a:lnTo>
                    <a:pt x="1245481" y="1244234"/>
                  </a:lnTo>
                  <a:close/>
                </a:path>
              </a:pathLst>
            </a:custGeom>
            <a:solidFill>
              <a:srgbClr val="ec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2" name="组合 106"/>
          <p:cNvGrpSpPr/>
          <p:nvPr/>
        </p:nvGrpSpPr>
        <p:grpSpPr>
          <a:xfrm>
            <a:off x="3643920" y="1213560"/>
            <a:ext cx="1738440" cy="1740600"/>
            <a:chOff x="3643920" y="1213560"/>
            <a:chExt cx="1738440" cy="1740600"/>
          </a:xfrm>
        </p:grpSpPr>
        <p:grpSp>
          <p:nvGrpSpPr>
            <p:cNvPr id="333" name="组合 70"/>
            <p:cNvGrpSpPr/>
            <p:nvPr/>
          </p:nvGrpSpPr>
          <p:grpSpPr>
            <a:xfrm>
              <a:off x="3644280" y="1217160"/>
              <a:ext cx="1738080" cy="1737000"/>
              <a:chOff x="3644280" y="1217160"/>
              <a:chExt cx="1738080" cy="1737000"/>
            </a:xfrm>
          </p:grpSpPr>
          <p:sp>
            <p:nvSpPr>
              <p:cNvPr id="334" name="饼形 71"/>
              <p:cNvSpPr/>
              <p:nvPr/>
            </p:nvSpPr>
            <p:spPr>
              <a:xfrm rot="12161400">
                <a:off x="3848760" y="1421640"/>
                <a:ext cx="1328760" cy="1327320"/>
              </a:xfrm>
              <a:custGeom>
                <a:avLst/>
                <a:gdLst/>
                <a:ahLst/>
                <a:rect l="l" t="t" r="r" b="b"/>
                <a:pathLst>
                  <a:path w="3523211" h="3527936">
                    <a:moveTo>
                      <a:pt x="3013294" y="3005199"/>
                    </a:moveTo>
                    <a:cubicBezTo>
                      <a:pt x="2680840" y="3341354"/>
                      <a:pt x="2227469" y="3529695"/>
                      <a:pt x="1755007" y="3527923"/>
                    </a:cubicBezTo>
                    <a:cubicBezTo>
                      <a:pt x="1757207" y="2939938"/>
                      <a:pt x="1759406" y="2351953"/>
                      <a:pt x="1761606" y="1763968"/>
                    </a:cubicBezTo>
                    <a:lnTo>
                      <a:pt x="3013294" y="3005199"/>
                    </a:lnTo>
                    <a:close/>
                  </a:path>
                </a:pathLst>
              </a:custGeom>
              <a:solidFill>
                <a:srgbClr val="ff82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饼形 72"/>
              <p:cNvSpPr/>
              <p:nvPr/>
            </p:nvSpPr>
            <p:spPr>
              <a:xfrm rot="12161400">
                <a:off x="3990240" y="1559880"/>
                <a:ext cx="1046160" cy="1043640"/>
              </a:xfrm>
              <a:custGeom>
                <a:avLst/>
                <a:gdLst/>
                <a:ahLst/>
                <a:rect l="l" t="t" r="r" b="b"/>
                <a:pathLst>
                  <a:path w="2773953" h="2773456">
                    <a:moveTo>
                      <a:pt x="2376702" y="2358227"/>
                    </a:moveTo>
                    <a:cubicBezTo>
                      <a:pt x="2114857" y="2624889"/>
                      <a:pt x="1756451" y="2774604"/>
                      <a:pt x="1382692" y="2773449"/>
                    </a:cubicBezTo>
                    <a:cubicBezTo>
                      <a:pt x="1384120" y="2311209"/>
                      <a:pt x="1385549" y="1848968"/>
                      <a:pt x="1386977" y="1386728"/>
                    </a:cubicBezTo>
                    <a:lnTo>
                      <a:pt x="2376702" y="2358227"/>
                    </a:lnTo>
                    <a:close/>
                  </a:path>
                </a:pathLst>
              </a:custGeom>
              <a:solidFill>
                <a:srgbClr val="ff94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饼形 73"/>
              <p:cNvSpPr/>
              <p:nvPr/>
            </p:nvSpPr>
            <p:spPr>
              <a:xfrm rot="12161400">
                <a:off x="4084920" y="1653120"/>
                <a:ext cx="854280" cy="849960"/>
              </a:xfrm>
              <a:custGeom>
                <a:avLst/>
                <a:gdLst/>
                <a:ahLst/>
                <a:rect l="l" t="t" r="r" b="b"/>
                <a:pathLst>
                  <a:path w="2264622" h="2259228">
                    <a:moveTo>
                      <a:pt x="1939436" y="1921875"/>
                    </a:moveTo>
                    <a:cubicBezTo>
                      <a:pt x="1724316" y="2139988"/>
                      <a:pt x="1429704" y="2261707"/>
                      <a:pt x="1122995" y="2259190"/>
                    </a:cubicBezTo>
                    <a:cubicBezTo>
                      <a:pt x="1126100" y="1882665"/>
                      <a:pt x="1129206" y="1506139"/>
                      <a:pt x="1132311" y="1129614"/>
                    </a:cubicBezTo>
                    <a:lnTo>
                      <a:pt x="1939436" y="1921875"/>
                    </a:lnTo>
                    <a:close/>
                  </a:path>
                </a:pathLst>
              </a:custGeom>
              <a:solidFill>
                <a:srgbClr val="ffa6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饼形 74"/>
              <p:cNvSpPr/>
              <p:nvPr/>
            </p:nvSpPr>
            <p:spPr>
              <a:xfrm rot="12161400">
                <a:off x="4180680" y="1742760"/>
                <a:ext cx="666720" cy="666000"/>
              </a:xfrm>
              <a:custGeom>
                <a:avLst/>
                <a:gdLst/>
                <a:ahLst/>
                <a:rect l="l" t="t" r="r" b="b"/>
                <a:pathLst>
                  <a:path w="1767920" h="1770291">
                    <a:moveTo>
                      <a:pt x="1515210" y="1504771"/>
                    </a:moveTo>
                    <a:cubicBezTo>
                      <a:pt x="1346027" y="1677591"/>
                      <a:pt x="1113556" y="1773511"/>
                      <a:pt x="871897" y="1770209"/>
                    </a:cubicBezTo>
                    <a:lnTo>
                      <a:pt x="883960" y="885146"/>
                    </a:lnTo>
                    <a:lnTo>
                      <a:pt x="1515210" y="1504771"/>
                    </a:lnTo>
                    <a:close/>
                  </a:path>
                </a:pathLst>
              </a:custGeom>
              <a:solidFill>
                <a:srgbClr val="f6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饼形 75"/>
              <p:cNvSpPr/>
              <p:nvPr/>
            </p:nvSpPr>
            <p:spPr>
              <a:xfrm rot="12161400">
                <a:off x="4236120" y="1806480"/>
                <a:ext cx="550800" cy="550080"/>
              </a:xfrm>
              <a:custGeom>
                <a:avLst/>
                <a:gdLst/>
                <a:ahLst/>
                <a:rect l="l" t="t" r="r" b="b"/>
                <a:pathLst>
                  <a:path w="1460638" h="1462596">
                    <a:moveTo>
                      <a:pt x="1247934" y="1247198"/>
                    </a:moveTo>
                    <a:cubicBezTo>
                      <a:pt x="1108413" y="1387558"/>
                      <a:pt x="918009" y="1465256"/>
                      <a:pt x="720254" y="1462527"/>
                    </a:cubicBezTo>
                    <a:lnTo>
                      <a:pt x="730319" y="731298"/>
                    </a:lnTo>
                    <a:lnTo>
                      <a:pt x="1247934" y="1247198"/>
                    </a:lnTo>
                    <a:close/>
                  </a:path>
                </a:pathLst>
              </a:custGeom>
              <a:solidFill>
                <a:srgbClr val="ffca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9" name="组合 76"/>
            <p:cNvGrpSpPr/>
            <p:nvPr/>
          </p:nvGrpSpPr>
          <p:grpSpPr>
            <a:xfrm>
              <a:off x="3643920" y="1216800"/>
              <a:ext cx="1738080" cy="1737000"/>
              <a:chOff x="3643920" y="1216800"/>
              <a:chExt cx="1738080" cy="1737000"/>
            </a:xfrm>
          </p:grpSpPr>
          <p:sp>
            <p:nvSpPr>
              <p:cNvPr id="340" name="饼形 77"/>
              <p:cNvSpPr/>
              <p:nvPr/>
            </p:nvSpPr>
            <p:spPr>
              <a:xfrm flipH="1" rot="12160800">
                <a:off x="3848400" y="1421640"/>
                <a:ext cx="1328760" cy="1327320"/>
              </a:xfrm>
              <a:custGeom>
                <a:avLst/>
                <a:gdLst/>
                <a:ahLst/>
                <a:rect l="l" t="t" r="r" b="b"/>
                <a:pathLst>
                  <a:path w="3523211" h="3523722">
                    <a:moveTo>
                      <a:pt x="3012553" y="3002357"/>
                    </a:moveTo>
                    <a:cubicBezTo>
                      <a:pt x="2680157" y="3337650"/>
                      <a:pt x="2227109" y="3525476"/>
                      <a:pt x="1755015" y="3523709"/>
                    </a:cubicBezTo>
                    <a:lnTo>
                      <a:pt x="1761606" y="1761861"/>
                    </a:lnTo>
                    <a:lnTo>
                      <a:pt x="3012553" y="30023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饼形 78"/>
              <p:cNvSpPr/>
              <p:nvPr/>
            </p:nvSpPr>
            <p:spPr>
              <a:xfrm flipH="1" rot="12160800">
                <a:off x="3985920" y="1559160"/>
                <a:ext cx="1047960" cy="1046520"/>
              </a:xfrm>
              <a:custGeom>
                <a:avLst/>
                <a:gdLst/>
                <a:ahLst/>
                <a:rect l="l" t="t" r="r" b="b"/>
                <a:pathLst>
                  <a:path w="2778161" h="2777669">
                    <a:moveTo>
                      <a:pt x="2380308" y="2361808"/>
                    </a:moveTo>
                    <a:cubicBezTo>
                      <a:pt x="2118065" y="2628876"/>
                      <a:pt x="1759116" y="2778819"/>
                      <a:pt x="1384789" y="2777662"/>
                    </a:cubicBezTo>
                    <a:cubicBezTo>
                      <a:pt x="1386220" y="2314720"/>
                      <a:pt x="1387650" y="1851777"/>
                      <a:pt x="1389081" y="1388835"/>
                    </a:cubicBezTo>
                    <a:lnTo>
                      <a:pt x="2380308" y="2361808"/>
                    </a:lnTo>
                    <a:close/>
                  </a:path>
                </a:pathLst>
              </a:custGeom>
              <a:solidFill>
                <a:srgbClr val="8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饼形 79"/>
              <p:cNvSpPr/>
              <p:nvPr/>
            </p:nvSpPr>
            <p:spPr>
              <a:xfrm flipH="1" rot="12160800">
                <a:off x="4089600" y="1656720"/>
                <a:ext cx="852480" cy="851040"/>
              </a:xfrm>
              <a:custGeom>
                <a:avLst/>
                <a:gdLst/>
                <a:ahLst/>
                <a:rect l="l" t="t" r="r" b="b"/>
                <a:pathLst>
                  <a:path w="2260411" h="2259228">
                    <a:moveTo>
                      <a:pt x="1936566" y="1921125"/>
                    </a:moveTo>
                    <a:cubicBezTo>
                      <a:pt x="1721790" y="2139702"/>
                      <a:pt x="1427399" y="2261714"/>
                      <a:pt x="1120888" y="2259189"/>
                    </a:cubicBezTo>
                    <a:lnTo>
                      <a:pt x="1130206" y="1129614"/>
                    </a:lnTo>
                    <a:lnTo>
                      <a:pt x="1936566" y="1921125"/>
                    </a:lnTo>
                    <a:close/>
                  </a:path>
                </a:pathLst>
              </a:custGeom>
              <a:solidFill>
                <a:srgbClr val="c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饼形 80"/>
              <p:cNvSpPr/>
              <p:nvPr/>
            </p:nvSpPr>
            <p:spPr>
              <a:xfrm flipH="1" rot="12160800">
                <a:off x="4183560" y="1746000"/>
                <a:ext cx="666720" cy="666720"/>
              </a:xfrm>
              <a:custGeom>
                <a:avLst/>
                <a:gdLst/>
                <a:ahLst/>
                <a:rect l="l" t="t" r="r" b="b"/>
                <a:pathLst>
                  <a:path w="1767920" h="1770291">
                    <a:moveTo>
                      <a:pt x="1515210" y="1504771"/>
                    </a:moveTo>
                    <a:cubicBezTo>
                      <a:pt x="1346027" y="1677591"/>
                      <a:pt x="1113556" y="1773511"/>
                      <a:pt x="871897" y="1770209"/>
                    </a:cubicBezTo>
                    <a:lnTo>
                      <a:pt x="883960" y="885146"/>
                    </a:lnTo>
                    <a:lnTo>
                      <a:pt x="1515210" y="1504771"/>
                    </a:lnTo>
                    <a:close/>
                  </a:path>
                </a:pathLst>
              </a:custGeom>
              <a:solidFill>
                <a:srgbClr val="f63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饼形 81"/>
              <p:cNvSpPr/>
              <p:nvPr/>
            </p:nvSpPr>
            <p:spPr>
              <a:xfrm flipH="1" rot="12160800">
                <a:off x="4237200" y="1805400"/>
                <a:ext cx="552600" cy="549360"/>
              </a:xfrm>
              <a:custGeom>
                <a:avLst/>
                <a:gdLst/>
                <a:ahLst/>
                <a:rect l="l" t="t" r="r" b="b"/>
                <a:pathLst>
                  <a:path w="1464848" h="1458383">
                    <a:moveTo>
                      <a:pt x="1250040" y="1245092"/>
                    </a:moveTo>
                    <a:cubicBezTo>
                      <a:pt x="1110245" y="1384116"/>
                      <a:pt x="919960" y="1461010"/>
                      <a:pt x="722388" y="1458315"/>
                    </a:cubicBezTo>
                    <a:lnTo>
                      <a:pt x="732424" y="729192"/>
                    </a:lnTo>
                    <a:lnTo>
                      <a:pt x="1250040" y="1245092"/>
                    </a:lnTo>
                    <a:close/>
                  </a:path>
                </a:pathLst>
              </a:custGeom>
              <a:solidFill>
                <a:srgbClr val="fe61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5" name="组合 94"/>
            <p:cNvGrpSpPr/>
            <p:nvPr/>
          </p:nvGrpSpPr>
          <p:grpSpPr>
            <a:xfrm>
              <a:off x="3644280" y="1213560"/>
              <a:ext cx="1737720" cy="1737000"/>
              <a:chOff x="3644280" y="1213560"/>
              <a:chExt cx="1737720" cy="1737000"/>
            </a:xfrm>
          </p:grpSpPr>
          <p:sp>
            <p:nvSpPr>
              <p:cNvPr id="346" name="饼形 101"/>
              <p:cNvSpPr/>
              <p:nvPr/>
            </p:nvSpPr>
            <p:spPr>
              <a:xfrm flipV="1" rot="17560800">
                <a:off x="3849120" y="1417320"/>
                <a:ext cx="1327320" cy="1328760"/>
              </a:xfrm>
              <a:custGeom>
                <a:avLst/>
                <a:gdLst/>
                <a:ahLst/>
                <a:rect l="l" t="t" r="r" b="b"/>
                <a:pathLst>
                  <a:path w="3527936" h="3523211">
                    <a:moveTo>
                      <a:pt x="3015670" y="3002851"/>
                    </a:moveTo>
                    <a:cubicBezTo>
                      <a:pt x="2682902" y="3337525"/>
                      <a:pt x="2229648" y="3524961"/>
                      <a:pt x="1757378" y="3523199"/>
                    </a:cubicBezTo>
                    <a:cubicBezTo>
                      <a:pt x="1759575" y="2936001"/>
                      <a:pt x="1761771" y="2348804"/>
                      <a:pt x="1763968" y="1761606"/>
                    </a:cubicBezTo>
                    <a:lnTo>
                      <a:pt x="3015670" y="30028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饼形 102"/>
              <p:cNvSpPr/>
              <p:nvPr/>
            </p:nvSpPr>
            <p:spPr>
              <a:xfrm flipV="1" rot="17560800">
                <a:off x="3989520" y="1554120"/>
                <a:ext cx="1045080" cy="1047960"/>
              </a:xfrm>
              <a:custGeom>
                <a:avLst/>
                <a:gdLst/>
                <a:ahLst/>
                <a:rect l="l" t="t" r="r" b="b"/>
                <a:pathLst>
                  <a:path w="2777672" h="2778161">
                    <a:moveTo>
                      <a:pt x="2380061" y="2362051"/>
                    </a:moveTo>
                    <a:cubicBezTo>
                      <a:pt x="2117853" y="2629272"/>
                      <a:pt x="1758894" y="2779310"/>
                      <a:pt x="1384550" y="2778154"/>
                    </a:cubicBezTo>
                    <a:cubicBezTo>
                      <a:pt x="1385979" y="2315130"/>
                      <a:pt x="1387407" y="1852105"/>
                      <a:pt x="1388836" y="1389081"/>
                    </a:cubicBezTo>
                    <a:lnTo>
                      <a:pt x="2380061" y="2362051"/>
                    </a:lnTo>
                    <a:close/>
                  </a:path>
                </a:pathLst>
              </a:custGeom>
              <a:solidFill>
                <a:srgbClr val="8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饼形 103"/>
              <p:cNvSpPr/>
              <p:nvPr/>
            </p:nvSpPr>
            <p:spPr>
              <a:xfrm flipV="1" rot="17560800">
                <a:off x="4082400" y="1651320"/>
                <a:ext cx="851760" cy="852480"/>
              </a:xfrm>
              <a:custGeom>
                <a:avLst/>
                <a:gdLst/>
                <a:ahLst/>
                <a:rect l="l" t="t" r="r" b="b"/>
                <a:pathLst>
                  <a:path w="2263445" h="2260414">
                    <a:moveTo>
                      <a:pt x="1938842" y="1922463"/>
                    </a:moveTo>
                    <a:cubicBezTo>
                      <a:pt x="1723802" y="2140951"/>
                      <a:pt x="1429160" y="2262899"/>
                      <a:pt x="1122401" y="2260375"/>
                    </a:cubicBezTo>
                    <a:cubicBezTo>
                      <a:pt x="1125508" y="1883652"/>
                      <a:pt x="1128616" y="1506930"/>
                      <a:pt x="1131723" y="1130207"/>
                    </a:cubicBezTo>
                    <a:lnTo>
                      <a:pt x="1938842" y="1922463"/>
                    </a:lnTo>
                    <a:close/>
                  </a:path>
                </a:pathLst>
              </a:custGeom>
              <a:solidFill>
                <a:srgbClr val="bcfe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饼形 104"/>
              <p:cNvSpPr/>
              <p:nvPr/>
            </p:nvSpPr>
            <p:spPr>
              <a:xfrm flipV="1" rot="17560800">
                <a:off x="4170960" y="1741320"/>
                <a:ext cx="667800" cy="668520"/>
              </a:xfrm>
              <a:custGeom>
                <a:avLst/>
                <a:gdLst/>
                <a:ahLst/>
                <a:rect l="l" t="t" r="r" b="b"/>
                <a:pathLst>
                  <a:path w="1774505" h="1772131">
                    <a:moveTo>
                      <a:pt x="1520022" y="1507182"/>
                    </a:moveTo>
                    <a:cubicBezTo>
                      <a:pt x="1350274" y="1679652"/>
                      <a:pt x="1117313" y="1775340"/>
                      <a:pt x="875178" y="1772049"/>
                    </a:cubicBezTo>
                    <a:lnTo>
                      <a:pt x="887253" y="886066"/>
                    </a:lnTo>
                    <a:lnTo>
                      <a:pt x="1520022" y="1507182"/>
                    </a:lnTo>
                    <a:close/>
                  </a:path>
                </a:pathLst>
              </a:custGeom>
              <a:solidFill>
                <a:srgbClr val="e1f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饼形 105"/>
              <p:cNvSpPr/>
              <p:nvPr/>
            </p:nvSpPr>
            <p:spPr>
              <a:xfrm flipV="1" rot="17560800">
                <a:off x="4235040" y="1802880"/>
                <a:ext cx="548640" cy="550800"/>
              </a:xfrm>
              <a:custGeom>
                <a:avLst/>
                <a:gdLst/>
                <a:ahLst/>
                <a:rect l="l" t="t" r="r" b="b"/>
                <a:pathLst>
                  <a:path w="1458383" h="1460640">
                    <a:moveTo>
                      <a:pt x="1246061" y="1245476"/>
                    </a:moveTo>
                    <a:cubicBezTo>
                      <a:pt x="1106751" y="1385682"/>
                      <a:pt x="916617" y="1463296"/>
                      <a:pt x="719141" y="1460570"/>
                    </a:cubicBezTo>
                    <a:lnTo>
                      <a:pt x="729192" y="730320"/>
                    </a:lnTo>
                    <a:lnTo>
                      <a:pt x="1246061" y="1245476"/>
                    </a:lnTo>
                    <a:close/>
                  </a:path>
                </a:pathLst>
              </a:custGeom>
              <a:solidFill>
                <a:srgbClr val="ecff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51" name="矩形 69"/>
          <p:cNvGrpSpPr/>
          <p:nvPr/>
        </p:nvGrpSpPr>
        <p:grpSpPr>
          <a:xfrm>
            <a:off x="2133720" y="2633760"/>
            <a:ext cx="1590480" cy="2163600"/>
            <a:chOff x="2133720" y="2633760"/>
            <a:chExt cx="1590480" cy="2163600"/>
          </a:xfrm>
        </p:grpSpPr>
        <p:pic>
          <p:nvPicPr>
            <p:cNvPr id="352" name="矩形 69" descr=""/>
            <p:cNvPicPr/>
            <p:nvPr/>
          </p:nvPicPr>
          <p:blipFill>
            <a:blip r:embed="rId3"/>
            <a:stretch/>
          </p:blipFill>
          <p:spPr>
            <a:xfrm>
              <a:off x="2133720" y="2633760"/>
              <a:ext cx="1590480" cy="21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2143080" y="2643120"/>
              <a:ext cx="1571760" cy="21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Calibri"/>
                </a:rPr>
                <a:t>点击添加标题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4" name="矩形 70"/>
          <p:cNvGrpSpPr/>
          <p:nvPr/>
        </p:nvGrpSpPr>
        <p:grpSpPr>
          <a:xfrm>
            <a:off x="3700440" y="2633760"/>
            <a:ext cx="1596960" cy="2163600"/>
            <a:chOff x="3700440" y="2633760"/>
            <a:chExt cx="1596960" cy="2163600"/>
          </a:xfrm>
        </p:grpSpPr>
        <p:pic>
          <p:nvPicPr>
            <p:cNvPr id="355" name="矩形 70" descr=""/>
            <p:cNvPicPr/>
            <p:nvPr/>
          </p:nvPicPr>
          <p:blipFill>
            <a:blip r:embed="rId4"/>
            <a:stretch/>
          </p:blipFill>
          <p:spPr>
            <a:xfrm>
              <a:off x="3700440" y="2633760"/>
              <a:ext cx="1596960" cy="21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3714840" y="2643120"/>
              <a:ext cx="1571400" cy="21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Calibri"/>
                </a:rPr>
                <a:t>点击添加标题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7" name="矩形 76"/>
          <p:cNvGrpSpPr/>
          <p:nvPr/>
        </p:nvGrpSpPr>
        <p:grpSpPr>
          <a:xfrm>
            <a:off x="5273640" y="2633760"/>
            <a:ext cx="1596960" cy="2163600"/>
            <a:chOff x="5273640" y="2633760"/>
            <a:chExt cx="1596960" cy="2163600"/>
          </a:xfrm>
        </p:grpSpPr>
        <p:pic>
          <p:nvPicPr>
            <p:cNvPr id="358" name="矩形 76" descr=""/>
            <p:cNvPicPr/>
            <p:nvPr/>
          </p:nvPicPr>
          <p:blipFill>
            <a:blip r:embed="rId5"/>
            <a:stretch/>
          </p:blipFill>
          <p:spPr>
            <a:xfrm>
              <a:off x="5273640" y="2633760"/>
              <a:ext cx="1596960" cy="21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5286240" y="2643120"/>
              <a:ext cx="1571760" cy="21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Calibri"/>
                </a:rPr>
                <a:t>点击添加标题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0" name="组合 137"/>
          <p:cNvGrpSpPr/>
          <p:nvPr/>
        </p:nvGrpSpPr>
        <p:grpSpPr>
          <a:xfrm>
            <a:off x="1797120" y="2292120"/>
            <a:ext cx="674640" cy="676440"/>
            <a:chOff x="1797120" y="2292120"/>
            <a:chExt cx="674640" cy="676440"/>
          </a:xfrm>
        </p:grpSpPr>
        <p:grpSp>
          <p:nvGrpSpPr>
            <p:cNvPr id="361" name="组合 83"/>
            <p:cNvGrpSpPr/>
            <p:nvPr/>
          </p:nvGrpSpPr>
          <p:grpSpPr>
            <a:xfrm>
              <a:off x="1798560" y="2293920"/>
              <a:ext cx="673200" cy="674280"/>
              <a:chOff x="1798560" y="2293920"/>
              <a:chExt cx="673200" cy="674280"/>
            </a:xfrm>
          </p:grpSpPr>
          <p:sp>
            <p:nvSpPr>
              <p:cNvPr id="362" name="饼形 84"/>
              <p:cNvSpPr/>
              <p:nvPr/>
            </p:nvSpPr>
            <p:spPr>
              <a:xfrm rot="10800000">
                <a:off x="1798560" y="2293920"/>
                <a:ext cx="673200" cy="674280"/>
              </a:xfrm>
              <a:custGeom>
                <a:avLst/>
                <a:gdLst/>
                <a:ahLst/>
                <a:rect l="l" t="t" r="r" b="b"/>
                <a:pathLst>
                  <a:path w="3523029" h="3523859">
                    <a:moveTo>
                      <a:pt x="3012453" y="3002418"/>
                    </a:moveTo>
                    <a:cubicBezTo>
                      <a:pt x="2680070" y="3337759"/>
                      <a:pt x="2227021" y="3525614"/>
                      <a:pt x="1754923" y="3523847"/>
                    </a:cubicBezTo>
                    <a:cubicBezTo>
                      <a:pt x="1757120" y="2936541"/>
                      <a:pt x="1759318" y="2349236"/>
                      <a:pt x="1761515" y="1761930"/>
                    </a:cubicBezTo>
                    <a:lnTo>
                      <a:pt x="3012453" y="3002418"/>
                    </a:lnTo>
                    <a:close/>
                  </a:path>
                </a:pathLst>
              </a:custGeom>
              <a:solidFill>
                <a:srgbClr val="ff82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饼形 85"/>
              <p:cNvSpPr/>
              <p:nvPr/>
            </p:nvSpPr>
            <p:spPr>
              <a:xfrm rot="10800000">
                <a:off x="1869480" y="2363760"/>
                <a:ext cx="530280" cy="531720"/>
              </a:xfrm>
              <a:custGeom>
                <a:avLst/>
                <a:gdLst/>
                <a:ahLst/>
                <a:rect l="l" t="t" r="r" b="b"/>
                <a:pathLst>
                  <a:path w="2775216" h="2777629">
                    <a:moveTo>
                      <a:pt x="2378293" y="2361256"/>
                    </a:moveTo>
                    <a:cubicBezTo>
                      <a:pt x="2116291" y="2628638"/>
                      <a:pt x="1757500" y="2778781"/>
                      <a:pt x="1383317" y="2777623"/>
                    </a:cubicBezTo>
                    <a:cubicBezTo>
                      <a:pt x="1384747" y="2314687"/>
                      <a:pt x="1386178" y="1851751"/>
                      <a:pt x="1387608" y="1388815"/>
                    </a:cubicBezTo>
                    <a:lnTo>
                      <a:pt x="2378293" y="2361256"/>
                    </a:lnTo>
                    <a:close/>
                  </a:path>
                </a:pathLst>
              </a:custGeom>
              <a:solidFill>
                <a:srgbClr val="ff94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饼形 86"/>
              <p:cNvSpPr/>
              <p:nvPr/>
            </p:nvSpPr>
            <p:spPr>
              <a:xfrm rot="10800000">
                <a:off x="1917360" y="2412720"/>
                <a:ext cx="432000" cy="431640"/>
              </a:xfrm>
              <a:custGeom>
                <a:avLst/>
                <a:gdLst/>
                <a:ahLst/>
                <a:rect l="l" t="t" r="r" b="b"/>
                <a:pathLst>
                  <a:path w="2260056" h="2255271">
                    <a:moveTo>
                      <a:pt x="1935630" y="1918402"/>
                    </a:moveTo>
                    <a:cubicBezTo>
                      <a:pt x="1720936" y="2136199"/>
                      <a:pt x="1426871" y="2257747"/>
                      <a:pt x="1120727" y="2255233"/>
                    </a:cubicBezTo>
                    <a:cubicBezTo>
                      <a:pt x="1123827" y="1879367"/>
                      <a:pt x="1126928" y="1503502"/>
                      <a:pt x="1130028" y="1127636"/>
                    </a:cubicBezTo>
                    <a:lnTo>
                      <a:pt x="1935630" y="1918402"/>
                    </a:lnTo>
                    <a:close/>
                  </a:path>
                </a:pathLst>
              </a:custGeom>
              <a:solidFill>
                <a:srgbClr val="ffa6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饼形 87"/>
              <p:cNvSpPr/>
              <p:nvPr/>
            </p:nvSpPr>
            <p:spPr>
              <a:xfrm rot="10800000">
                <a:off x="1964880" y="2457360"/>
                <a:ext cx="338040" cy="339480"/>
              </a:xfrm>
              <a:custGeom>
                <a:avLst/>
                <a:gdLst/>
                <a:ahLst/>
                <a:rect l="l" t="t" r="r" b="b"/>
                <a:pathLst>
                  <a:path w="1769826" h="1774368">
                    <a:moveTo>
                      <a:pt x="1517223" y="1507849"/>
                    </a:moveTo>
                    <a:cubicBezTo>
                      <a:pt x="1347828" y="1681309"/>
                      <a:pt x="1114936" y="1777601"/>
                      <a:pt x="872824" y="1774285"/>
                    </a:cubicBezTo>
                    <a:lnTo>
                      <a:pt x="884913" y="887184"/>
                    </a:lnTo>
                    <a:lnTo>
                      <a:pt x="1517223" y="1507849"/>
                    </a:lnTo>
                    <a:close/>
                  </a:path>
                </a:pathLst>
              </a:custGeom>
              <a:solidFill>
                <a:srgbClr val="f6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饼形 88"/>
              <p:cNvSpPr/>
              <p:nvPr/>
            </p:nvSpPr>
            <p:spPr>
              <a:xfrm rot="10800000">
                <a:off x="1995480" y="2489400"/>
                <a:ext cx="277920" cy="279360"/>
              </a:xfrm>
              <a:custGeom>
                <a:avLst/>
                <a:gdLst/>
                <a:ahLst/>
                <a:rect l="l" t="t" r="r" b="b"/>
                <a:pathLst>
                  <a:path w="1454078" h="1459293">
                    <a:moveTo>
                      <a:pt x="1242904" y="1243802"/>
                    </a:moveTo>
                    <a:cubicBezTo>
                      <a:pt x="1103962" y="1384208"/>
                      <a:pt x="914154" y="1461957"/>
                      <a:pt x="716997" y="1459224"/>
                    </a:cubicBezTo>
                    <a:lnTo>
                      <a:pt x="727039" y="729647"/>
                    </a:lnTo>
                    <a:lnTo>
                      <a:pt x="1242904" y="1243802"/>
                    </a:lnTo>
                    <a:close/>
                  </a:path>
                </a:pathLst>
              </a:custGeom>
              <a:solidFill>
                <a:srgbClr val="ffca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7" name="组合 89"/>
            <p:cNvGrpSpPr/>
            <p:nvPr/>
          </p:nvGrpSpPr>
          <p:grpSpPr>
            <a:xfrm>
              <a:off x="1798560" y="2293560"/>
              <a:ext cx="673200" cy="674280"/>
              <a:chOff x="1798560" y="2293560"/>
              <a:chExt cx="673200" cy="674280"/>
            </a:xfrm>
          </p:grpSpPr>
          <p:sp>
            <p:nvSpPr>
              <p:cNvPr id="368" name="饼形 90"/>
              <p:cNvSpPr/>
              <p:nvPr/>
            </p:nvSpPr>
            <p:spPr>
              <a:xfrm flipH="1" rot="10800000">
                <a:off x="1798560" y="2293560"/>
                <a:ext cx="673200" cy="674280"/>
              </a:xfrm>
              <a:custGeom>
                <a:avLst/>
                <a:gdLst/>
                <a:ahLst/>
                <a:rect l="l" t="t" r="r" b="b"/>
                <a:pathLst>
                  <a:path w="3523029" h="3523859">
                    <a:moveTo>
                      <a:pt x="3012453" y="3002418"/>
                    </a:moveTo>
                    <a:cubicBezTo>
                      <a:pt x="2680070" y="3337759"/>
                      <a:pt x="2227021" y="3525614"/>
                      <a:pt x="1754923" y="3523847"/>
                    </a:cubicBezTo>
                    <a:cubicBezTo>
                      <a:pt x="1757120" y="2936541"/>
                      <a:pt x="1759318" y="2349236"/>
                      <a:pt x="1761515" y="1761930"/>
                    </a:cubicBezTo>
                    <a:lnTo>
                      <a:pt x="3012453" y="30024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饼形 91"/>
              <p:cNvSpPr/>
              <p:nvPr/>
            </p:nvSpPr>
            <p:spPr>
              <a:xfrm flipH="1" rot="10800000">
                <a:off x="1868760" y="2363400"/>
                <a:ext cx="530280" cy="531720"/>
              </a:xfrm>
              <a:custGeom>
                <a:avLst/>
                <a:gdLst/>
                <a:ahLst/>
                <a:rect l="l" t="t" r="r" b="b"/>
                <a:pathLst>
                  <a:path w="2775216" h="2777629">
                    <a:moveTo>
                      <a:pt x="2378293" y="2361256"/>
                    </a:moveTo>
                    <a:cubicBezTo>
                      <a:pt x="2116291" y="2628638"/>
                      <a:pt x="1757500" y="2778781"/>
                      <a:pt x="1383317" y="2777623"/>
                    </a:cubicBezTo>
                    <a:cubicBezTo>
                      <a:pt x="1384747" y="2314687"/>
                      <a:pt x="1386178" y="1851751"/>
                      <a:pt x="1387608" y="1388815"/>
                    </a:cubicBezTo>
                    <a:lnTo>
                      <a:pt x="2378293" y="2361256"/>
                    </a:lnTo>
                    <a:close/>
                  </a:path>
                </a:pathLst>
              </a:custGeom>
              <a:solidFill>
                <a:srgbClr val="8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饼形 92"/>
              <p:cNvSpPr/>
              <p:nvPr/>
            </p:nvSpPr>
            <p:spPr>
              <a:xfrm flipH="1" rot="10800000">
                <a:off x="1920600" y="2412360"/>
                <a:ext cx="432000" cy="431640"/>
              </a:xfrm>
              <a:custGeom>
                <a:avLst/>
                <a:gdLst/>
                <a:ahLst/>
                <a:rect l="l" t="t" r="r" b="b"/>
                <a:pathLst>
                  <a:path w="2260056" h="2255271">
                    <a:moveTo>
                      <a:pt x="1935630" y="1918402"/>
                    </a:moveTo>
                    <a:cubicBezTo>
                      <a:pt x="1720936" y="2136199"/>
                      <a:pt x="1426871" y="2257747"/>
                      <a:pt x="1120727" y="2255233"/>
                    </a:cubicBezTo>
                    <a:cubicBezTo>
                      <a:pt x="1123827" y="1879367"/>
                      <a:pt x="1126928" y="1503502"/>
                      <a:pt x="1130028" y="1127636"/>
                    </a:cubicBezTo>
                    <a:lnTo>
                      <a:pt x="1935630" y="1918402"/>
                    </a:lnTo>
                    <a:close/>
                  </a:path>
                </a:pathLst>
              </a:custGeom>
              <a:solidFill>
                <a:srgbClr val="c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饼形 93"/>
              <p:cNvSpPr/>
              <p:nvPr/>
            </p:nvSpPr>
            <p:spPr>
              <a:xfrm flipH="1" rot="10800000">
                <a:off x="1965600" y="2457000"/>
                <a:ext cx="338040" cy="339480"/>
              </a:xfrm>
              <a:custGeom>
                <a:avLst/>
                <a:gdLst/>
                <a:ahLst/>
                <a:rect l="l" t="t" r="r" b="b"/>
                <a:pathLst>
                  <a:path w="1769821" h="1774368">
                    <a:moveTo>
                      <a:pt x="1517219" y="1507848"/>
                    </a:moveTo>
                    <a:cubicBezTo>
                      <a:pt x="1347824" y="1681308"/>
                      <a:pt x="1114932" y="1777601"/>
                      <a:pt x="872820" y="1774285"/>
                    </a:cubicBezTo>
                    <a:lnTo>
                      <a:pt x="884911" y="887184"/>
                    </a:lnTo>
                    <a:lnTo>
                      <a:pt x="1517219" y="1507848"/>
                    </a:lnTo>
                    <a:close/>
                  </a:path>
                </a:pathLst>
              </a:custGeom>
              <a:solidFill>
                <a:srgbClr val="f63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饼形 94"/>
              <p:cNvSpPr/>
              <p:nvPr/>
            </p:nvSpPr>
            <p:spPr>
              <a:xfrm flipH="1" rot="10800000">
                <a:off x="1996920" y="2489040"/>
                <a:ext cx="277920" cy="279360"/>
              </a:xfrm>
              <a:custGeom>
                <a:avLst/>
                <a:gdLst/>
                <a:ahLst/>
                <a:rect l="l" t="t" r="r" b="b"/>
                <a:pathLst>
                  <a:path w="1454083" h="1459293">
                    <a:moveTo>
                      <a:pt x="1242907" y="1243803"/>
                    </a:moveTo>
                    <a:cubicBezTo>
                      <a:pt x="1103964" y="1384208"/>
                      <a:pt x="914156" y="1461957"/>
                      <a:pt x="716999" y="1459224"/>
                    </a:cubicBezTo>
                    <a:lnTo>
                      <a:pt x="727042" y="729647"/>
                    </a:lnTo>
                    <a:lnTo>
                      <a:pt x="1242907" y="1243803"/>
                    </a:lnTo>
                    <a:close/>
                  </a:path>
                </a:pathLst>
              </a:custGeom>
              <a:solidFill>
                <a:srgbClr val="fe61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3" name="组合 95"/>
            <p:cNvGrpSpPr/>
            <p:nvPr/>
          </p:nvGrpSpPr>
          <p:grpSpPr>
            <a:xfrm>
              <a:off x="1797840" y="2293200"/>
              <a:ext cx="673200" cy="674280"/>
              <a:chOff x="1797840" y="2293200"/>
              <a:chExt cx="673200" cy="674280"/>
            </a:xfrm>
          </p:grpSpPr>
          <p:sp>
            <p:nvSpPr>
              <p:cNvPr id="374" name="饼形 96"/>
              <p:cNvSpPr/>
              <p:nvPr/>
            </p:nvSpPr>
            <p:spPr>
              <a:xfrm flipV="1" rot="10800000">
                <a:off x="1797840" y="2292840"/>
                <a:ext cx="673200" cy="674280"/>
              </a:xfrm>
              <a:custGeom>
                <a:avLst/>
                <a:gdLst/>
                <a:ahLst/>
                <a:rect l="l" t="t" r="r" b="b"/>
                <a:pathLst>
                  <a:path w="3523029" h="3523859">
                    <a:moveTo>
                      <a:pt x="3012453" y="3002418"/>
                    </a:moveTo>
                    <a:cubicBezTo>
                      <a:pt x="2680070" y="3337759"/>
                      <a:pt x="2227021" y="3525614"/>
                      <a:pt x="1754923" y="3523847"/>
                    </a:cubicBezTo>
                    <a:cubicBezTo>
                      <a:pt x="1757120" y="2936541"/>
                      <a:pt x="1759318" y="2349236"/>
                      <a:pt x="1761515" y="1761930"/>
                    </a:cubicBezTo>
                    <a:lnTo>
                      <a:pt x="3012453" y="3002418"/>
                    </a:lnTo>
                    <a:close/>
                  </a:path>
                </a:pathLst>
              </a:custGeom>
              <a:solidFill>
                <a:srgbClr val="017c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饼形 97"/>
              <p:cNvSpPr/>
              <p:nvPr/>
            </p:nvSpPr>
            <p:spPr>
              <a:xfrm flipV="1" rot="10800000">
                <a:off x="1868760" y="2365560"/>
                <a:ext cx="530280" cy="531720"/>
              </a:xfrm>
              <a:custGeom>
                <a:avLst/>
                <a:gdLst/>
                <a:ahLst/>
                <a:rect l="l" t="t" r="r" b="b"/>
                <a:pathLst>
                  <a:path w="2775216" h="2777629">
                    <a:moveTo>
                      <a:pt x="2378293" y="2361256"/>
                    </a:moveTo>
                    <a:cubicBezTo>
                      <a:pt x="2116291" y="2628638"/>
                      <a:pt x="1757500" y="2778781"/>
                      <a:pt x="1383317" y="2777623"/>
                    </a:cubicBezTo>
                    <a:cubicBezTo>
                      <a:pt x="1384747" y="2314687"/>
                      <a:pt x="1386178" y="1851751"/>
                      <a:pt x="1387608" y="1388815"/>
                    </a:cubicBezTo>
                    <a:lnTo>
                      <a:pt x="2378293" y="2361256"/>
                    </a:lnTo>
                    <a:close/>
                  </a:path>
                </a:pathLst>
              </a:custGeom>
              <a:solidFill>
                <a:srgbClr val="0098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饼形 98"/>
              <p:cNvSpPr/>
              <p:nvPr/>
            </p:nvSpPr>
            <p:spPr>
              <a:xfrm flipV="1" rot="10800000">
                <a:off x="1916640" y="2416320"/>
                <a:ext cx="432000" cy="431640"/>
              </a:xfrm>
              <a:custGeom>
                <a:avLst/>
                <a:gdLst/>
                <a:ahLst/>
                <a:rect l="l" t="t" r="r" b="b"/>
                <a:pathLst>
                  <a:path w="2260056" h="2255271">
                    <a:moveTo>
                      <a:pt x="1935630" y="1918402"/>
                    </a:moveTo>
                    <a:cubicBezTo>
                      <a:pt x="1720936" y="2136199"/>
                      <a:pt x="1426871" y="2257747"/>
                      <a:pt x="1120727" y="2255233"/>
                    </a:cubicBezTo>
                    <a:cubicBezTo>
                      <a:pt x="1123827" y="1879367"/>
                      <a:pt x="1126928" y="1503502"/>
                      <a:pt x="1130028" y="1127636"/>
                    </a:cubicBezTo>
                    <a:lnTo>
                      <a:pt x="1935630" y="1918402"/>
                    </a:lnTo>
                    <a:close/>
                  </a:path>
                </a:pathLst>
              </a:custGeom>
              <a:solidFill>
                <a:srgbClr val="00c4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饼形 99"/>
              <p:cNvSpPr/>
              <p:nvPr/>
            </p:nvSpPr>
            <p:spPr>
              <a:xfrm flipV="1" rot="10800000">
                <a:off x="1964160" y="2464200"/>
                <a:ext cx="338040" cy="339480"/>
              </a:xfrm>
              <a:custGeom>
                <a:avLst/>
                <a:gdLst/>
                <a:ahLst/>
                <a:rect l="l" t="t" r="r" b="b"/>
                <a:pathLst>
                  <a:path w="1769821" h="1774368">
                    <a:moveTo>
                      <a:pt x="1517219" y="1507848"/>
                    </a:moveTo>
                    <a:cubicBezTo>
                      <a:pt x="1347824" y="1681308"/>
                      <a:pt x="1114932" y="1777601"/>
                      <a:pt x="872820" y="1774285"/>
                    </a:cubicBezTo>
                    <a:lnTo>
                      <a:pt x="884911" y="887184"/>
                    </a:lnTo>
                    <a:lnTo>
                      <a:pt x="1517219" y="1507848"/>
                    </a:lnTo>
                    <a:close/>
                  </a:path>
                </a:pathLst>
              </a:custGeom>
              <a:solidFill>
                <a:srgbClr val="71ff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饼形 100"/>
              <p:cNvSpPr/>
              <p:nvPr/>
            </p:nvSpPr>
            <p:spPr>
              <a:xfrm flipV="1" rot="10800000">
                <a:off x="1994760" y="2493720"/>
                <a:ext cx="277920" cy="279360"/>
              </a:xfrm>
              <a:custGeom>
                <a:avLst/>
                <a:gdLst/>
                <a:ahLst/>
                <a:rect l="l" t="t" r="r" b="b"/>
                <a:pathLst>
                  <a:path w="1454083" h="1459293">
                    <a:moveTo>
                      <a:pt x="1242907" y="1243803"/>
                    </a:moveTo>
                    <a:cubicBezTo>
                      <a:pt x="1103964" y="1384208"/>
                      <a:pt x="914156" y="1461957"/>
                      <a:pt x="716999" y="1459224"/>
                    </a:cubicBezTo>
                    <a:lnTo>
                      <a:pt x="727042" y="729647"/>
                    </a:lnTo>
                    <a:lnTo>
                      <a:pt x="1242907" y="1243803"/>
                    </a:lnTo>
                    <a:close/>
                  </a:path>
                </a:pathLst>
              </a:custGeom>
              <a:solidFill>
                <a:srgbClr val="a7ff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9" name="组合 113"/>
            <p:cNvGrpSpPr/>
            <p:nvPr/>
          </p:nvGrpSpPr>
          <p:grpSpPr>
            <a:xfrm>
              <a:off x="1797120" y="2294280"/>
              <a:ext cx="673200" cy="674280"/>
              <a:chOff x="1797120" y="2294280"/>
              <a:chExt cx="673200" cy="674280"/>
            </a:xfrm>
          </p:grpSpPr>
          <p:sp>
            <p:nvSpPr>
              <p:cNvPr id="380" name="饼形 114"/>
              <p:cNvSpPr/>
              <p:nvPr/>
            </p:nvSpPr>
            <p:spPr>
              <a:xfrm flipH="1" flipV="1" rot="5400000">
                <a:off x="1796400" y="2294280"/>
                <a:ext cx="674280" cy="673200"/>
              </a:xfrm>
              <a:custGeom>
                <a:avLst/>
                <a:gdLst/>
                <a:ahLst/>
                <a:rect l="l" t="t" r="r" b="b"/>
                <a:pathLst>
                  <a:path w="3523859" h="3523029">
                    <a:moveTo>
                      <a:pt x="3012871" y="3002005"/>
                    </a:moveTo>
                    <a:cubicBezTo>
                      <a:pt x="2680433" y="3337086"/>
                      <a:pt x="2227404" y="3524782"/>
                      <a:pt x="1755340" y="3523017"/>
                    </a:cubicBezTo>
                    <a:cubicBezTo>
                      <a:pt x="1757537" y="2935850"/>
                      <a:pt x="1759733" y="2348682"/>
                      <a:pt x="1761930" y="1761515"/>
                    </a:cubicBezTo>
                    <a:lnTo>
                      <a:pt x="3012871" y="30020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饼形 115"/>
              <p:cNvSpPr/>
              <p:nvPr/>
            </p:nvSpPr>
            <p:spPr>
              <a:xfrm flipH="1" flipV="1" rot="5400000">
                <a:off x="1868040" y="2365920"/>
                <a:ext cx="531720" cy="530280"/>
              </a:xfrm>
              <a:custGeom>
                <a:avLst/>
                <a:gdLst/>
                <a:ahLst/>
                <a:rect l="l" t="t" r="r" b="b"/>
                <a:pathLst>
                  <a:path w="2777634" h="2775216">
                    <a:moveTo>
                      <a:pt x="2379519" y="2360066"/>
                    </a:moveTo>
                    <a:cubicBezTo>
                      <a:pt x="2117353" y="2626686"/>
                      <a:pt x="1758621" y="2776362"/>
                      <a:pt x="1384536" y="2775210"/>
                    </a:cubicBezTo>
                    <a:lnTo>
                      <a:pt x="1388817" y="1387608"/>
                    </a:lnTo>
                    <a:lnTo>
                      <a:pt x="2379519" y="2360066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饼形 116"/>
              <p:cNvSpPr/>
              <p:nvPr/>
            </p:nvSpPr>
            <p:spPr>
              <a:xfrm flipH="1" flipV="1" rot="5400000">
                <a:off x="1919160" y="2421720"/>
                <a:ext cx="431640" cy="430200"/>
              </a:xfrm>
              <a:custGeom>
                <a:avLst/>
                <a:gdLst/>
                <a:ahLst/>
                <a:rect l="l" t="t" r="r" b="b"/>
                <a:pathLst>
                  <a:path w="2255271" h="2251750">
                    <a:moveTo>
                      <a:pt x="1931752" y="1915184"/>
                    </a:moveTo>
                    <a:cubicBezTo>
                      <a:pt x="1717495" y="2132779"/>
                      <a:pt x="1423956" y="2254225"/>
                      <a:pt x="1118349" y="2251712"/>
                    </a:cubicBezTo>
                    <a:cubicBezTo>
                      <a:pt x="1121445" y="1876433"/>
                      <a:pt x="1124540" y="1501154"/>
                      <a:pt x="1127636" y="1125875"/>
                    </a:cubicBezTo>
                    <a:lnTo>
                      <a:pt x="1931752" y="1915184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饼形 117"/>
              <p:cNvSpPr/>
              <p:nvPr/>
            </p:nvSpPr>
            <p:spPr>
              <a:xfrm flipH="1" flipV="1" rot="5400000">
                <a:off x="1966680" y="2467800"/>
                <a:ext cx="339480" cy="338040"/>
              </a:xfrm>
              <a:custGeom>
                <a:avLst/>
                <a:gdLst/>
                <a:ahLst/>
                <a:rect l="l" t="t" r="r" b="b"/>
                <a:pathLst>
                  <a:path w="1774368" h="1769826">
                    <a:moveTo>
                      <a:pt x="1519524" y="1505608"/>
                    </a:moveTo>
                    <a:cubicBezTo>
                      <a:pt x="1349819" y="1677613"/>
                      <a:pt x="1117048" y="1773025"/>
                      <a:pt x="875126" y="1769744"/>
                    </a:cubicBezTo>
                    <a:lnTo>
                      <a:pt x="887184" y="884913"/>
                    </a:lnTo>
                    <a:lnTo>
                      <a:pt x="1519524" y="1505608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饼形 118"/>
              <p:cNvSpPr/>
              <p:nvPr/>
            </p:nvSpPr>
            <p:spPr>
              <a:xfrm flipH="1" flipV="1" rot="5400000">
                <a:off x="1995480" y="2496600"/>
                <a:ext cx="279360" cy="279360"/>
              </a:xfrm>
              <a:custGeom>
                <a:avLst/>
                <a:gdLst/>
                <a:ahLst/>
                <a:rect l="l" t="t" r="r" b="b"/>
                <a:pathLst>
                  <a:path w="1459293" h="1462389">
                    <a:moveTo>
                      <a:pt x="1246986" y="1246819"/>
                    </a:moveTo>
                    <a:cubicBezTo>
                      <a:pt x="1107577" y="1387286"/>
                      <a:pt x="917257" y="1465052"/>
                      <a:pt x="719583" y="1462319"/>
                    </a:cubicBezTo>
                    <a:lnTo>
                      <a:pt x="729647" y="731195"/>
                    </a:lnTo>
                    <a:lnTo>
                      <a:pt x="1246986" y="1246819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5" name="组合 119"/>
            <p:cNvGrpSpPr/>
            <p:nvPr/>
          </p:nvGrpSpPr>
          <p:grpSpPr>
            <a:xfrm>
              <a:off x="1797840" y="2293920"/>
              <a:ext cx="673200" cy="674280"/>
              <a:chOff x="1797840" y="2293920"/>
              <a:chExt cx="673200" cy="674280"/>
            </a:xfrm>
          </p:grpSpPr>
          <p:sp>
            <p:nvSpPr>
              <p:cNvPr id="386" name="饼形 120"/>
              <p:cNvSpPr/>
              <p:nvPr/>
            </p:nvSpPr>
            <p:spPr>
              <a:xfrm rot="5400000">
                <a:off x="1797120" y="2294280"/>
                <a:ext cx="674280" cy="673200"/>
              </a:xfrm>
              <a:custGeom>
                <a:avLst/>
                <a:gdLst/>
                <a:ahLst/>
                <a:rect l="l" t="t" r="r" b="b"/>
                <a:pathLst>
                  <a:path w="3523859" h="3523029">
                    <a:moveTo>
                      <a:pt x="3012871" y="3002005"/>
                    </a:moveTo>
                    <a:cubicBezTo>
                      <a:pt x="2680433" y="3337086"/>
                      <a:pt x="2227404" y="3524782"/>
                      <a:pt x="1755340" y="3523017"/>
                    </a:cubicBezTo>
                    <a:cubicBezTo>
                      <a:pt x="1757537" y="2935850"/>
                      <a:pt x="1759733" y="2348682"/>
                      <a:pt x="1761930" y="1761515"/>
                    </a:cubicBezTo>
                    <a:lnTo>
                      <a:pt x="3012871" y="30020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饼形 121"/>
              <p:cNvSpPr/>
              <p:nvPr/>
            </p:nvSpPr>
            <p:spPr>
              <a:xfrm rot="5400000">
                <a:off x="1866600" y="2365920"/>
                <a:ext cx="531720" cy="530280"/>
              </a:xfrm>
              <a:custGeom>
                <a:avLst/>
                <a:gdLst/>
                <a:ahLst/>
                <a:rect l="l" t="t" r="r" b="b"/>
                <a:pathLst>
                  <a:path w="2777634" h="2775216">
                    <a:moveTo>
                      <a:pt x="2379519" y="2360066"/>
                    </a:moveTo>
                    <a:cubicBezTo>
                      <a:pt x="2117353" y="2626686"/>
                      <a:pt x="1758621" y="2776362"/>
                      <a:pt x="1384536" y="2775210"/>
                    </a:cubicBezTo>
                    <a:lnTo>
                      <a:pt x="1388817" y="1387608"/>
                    </a:lnTo>
                    <a:lnTo>
                      <a:pt x="2379519" y="2360066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饼形 122"/>
              <p:cNvSpPr/>
              <p:nvPr/>
            </p:nvSpPr>
            <p:spPr>
              <a:xfrm rot="5400000">
                <a:off x="1915560" y="2416680"/>
                <a:ext cx="431640" cy="430200"/>
              </a:xfrm>
              <a:custGeom>
                <a:avLst/>
                <a:gdLst/>
                <a:ahLst/>
                <a:rect l="l" t="t" r="r" b="b"/>
                <a:pathLst>
                  <a:path w="2255271" h="2251750">
                    <a:moveTo>
                      <a:pt x="1931752" y="1915184"/>
                    </a:moveTo>
                    <a:cubicBezTo>
                      <a:pt x="1717495" y="2132779"/>
                      <a:pt x="1423956" y="2254225"/>
                      <a:pt x="1118349" y="2251712"/>
                    </a:cubicBezTo>
                    <a:cubicBezTo>
                      <a:pt x="1121445" y="1876433"/>
                      <a:pt x="1124540" y="1501154"/>
                      <a:pt x="1127636" y="1125875"/>
                    </a:cubicBezTo>
                    <a:lnTo>
                      <a:pt x="1931752" y="1915184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饼形 123"/>
              <p:cNvSpPr/>
              <p:nvPr/>
            </p:nvSpPr>
            <p:spPr>
              <a:xfrm rot="5400000">
                <a:off x="1960200" y="2462760"/>
                <a:ext cx="339480" cy="338040"/>
              </a:xfrm>
              <a:custGeom>
                <a:avLst/>
                <a:gdLst/>
                <a:ahLst/>
                <a:rect l="l" t="t" r="r" b="b"/>
                <a:pathLst>
                  <a:path w="1774368" h="1769826">
                    <a:moveTo>
                      <a:pt x="1519524" y="1505608"/>
                    </a:moveTo>
                    <a:cubicBezTo>
                      <a:pt x="1349819" y="1677613"/>
                      <a:pt x="1117048" y="1773025"/>
                      <a:pt x="875126" y="1769744"/>
                    </a:cubicBezTo>
                    <a:lnTo>
                      <a:pt x="887184" y="884913"/>
                    </a:lnTo>
                    <a:lnTo>
                      <a:pt x="1519524" y="1505608"/>
                    </a:lnTo>
                    <a:close/>
                  </a:path>
                </a:pathLst>
              </a:custGeom>
              <a:solidFill>
                <a:srgbClr val="d000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饼形 124"/>
              <p:cNvSpPr/>
              <p:nvPr/>
            </p:nvSpPr>
            <p:spPr>
              <a:xfrm rot="5400000">
                <a:off x="1992960" y="2492280"/>
                <a:ext cx="279360" cy="279360"/>
              </a:xfrm>
              <a:custGeom>
                <a:avLst/>
                <a:gdLst/>
                <a:ahLst/>
                <a:rect l="l" t="t" r="r" b="b"/>
                <a:pathLst>
                  <a:path w="1459293" h="1462389">
                    <a:moveTo>
                      <a:pt x="1246986" y="1246819"/>
                    </a:moveTo>
                    <a:cubicBezTo>
                      <a:pt x="1107577" y="1387286"/>
                      <a:pt x="917257" y="1465052"/>
                      <a:pt x="719583" y="1462319"/>
                    </a:cubicBezTo>
                    <a:lnTo>
                      <a:pt x="729647" y="731195"/>
                    </a:lnTo>
                    <a:lnTo>
                      <a:pt x="1246986" y="1246819"/>
                    </a:lnTo>
                    <a:close/>
                  </a:path>
                </a:pathLst>
              </a:custGeom>
              <a:solidFill>
                <a:srgbClr val="ff5b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1" name="组合 131"/>
            <p:cNvGrpSpPr/>
            <p:nvPr/>
          </p:nvGrpSpPr>
          <p:grpSpPr>
            <a:xfrm>
              <a:off x="1797840" y="2292120"/>
              <a:ext cx="673200" cy="674280"/>
              <a:chOff x="1797840" y="2292120"/>
              <a:chExt cx="673200" cy="674280"/>
            </a:xfrm>
          </p:grpSpPr>
          <p:sp>
            <p:nvSpPr>
              <p:cNvPr id="392" name="饼形 132"/>
              <p:cNvSpPr/>
              <p:nvPr/>
            </p:nvSpPr>
            <p:spPr>
              <a:xfrm flipV="1" rot="16200000">
                <a:off x="1797120" y="2292120"/>
                <a:ext cx="674280" cy="673200"/>
              </a:xfrm>
              <a:custGeom>
                <a:avLst/>
                <a:gdLst/>
                <a:ahLst/>
                <a:rect l="l" t="t" r="r" b="b"/>
                <a:pathLst>
                  <a:path w="3523864" h="3523029">
                    <a:moveTo>
                      <a:pt x="3012874" y="3002006"/>
                    </a:moveTo>
                    <a:cubicBezTo>
                      <a:pt x="2680435" y="3337087"/>
                      <a:pt x="2227406" y="3524782"/>
                      <a:pt x="1755342" y="3523017"/>
                    </a:cubicBezTo>
                    <a:cubicBezTo>
                      <a:pt x="1757539" y="2935850"/>
                      <a:pt x="1759735" y="2348682"/>
                      <a:pt x="1761932" y="1761515"/>
                    </a:cubicBezTo>
                    <a:lnTo>
                      <a:pt x="3012874" y="30020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饼形 133"/>
              <p:cNvSpPr/>
              <p:nvPr/>
            </p:nvSpPr>
            <p:spPr>
              <a:xfrm flipV="1" rot="16200000">
                <a:off x="1866600" y="2363760"/>
                <a:ext cx="531720" cy="530280"/>
              </a:xfrm>
              <a:custGeom>
                <a:avLst/>
                <a:gdLst/>
                <a:ahLst/>
                <a:rect l="l" t="t" r="r" b="b"/>
                <a:pathLst>
                  <a:path w="2777629" h="2775216">
                    <a:moveTo>
                      <a:pt x="2379515" y="2360065"/>
                    </a:moveTo>
                    <a:cubicBezTo>
                      <a:pt x="2117349" y="2626685"/>
                      <a:pt x="1758618" y="2776362"/>
                      <a:pt x="1384532" y="2775209"/>
                    </a:cubicBezTo>
                    <a:cubicBezTo>
                      <a:pt x="1385960" y="2312675"/>
                      <a:pt x="1387387" y="1850142"/>
                      <a:pt x="1388815" y="1387608"/>
                    </a:cubicBezTo>
                    <a:lnTo>
                      <a:pt x="2379515" y="2360065"/>
                    </a:lnTo>
                    <a:close/>
                  </a:path>
                </a:pathLst>
              </a:custGeom>
              <a:solidFill>
                <a:srgbClr val="8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饼形 134"/>
              <p:cNvSpPr/>
              <p:nvPr/>
            </p:nvSpPr>
            <p:spPr>
              <a:xfrm flipV="1" rot="16200000">
                <a:off x="1915560" y="2413080"/>
                <a:ext cx="431640" cy="430200"/>
              </a:xfrm>
              <a:custGeom>
                <a:avLst/>
                <a:gdLst/>
                <a:ahLst/>
                <a:rect l="l" t="t" r="r" b="b"/>
                <a:pathLst>
                  <a:path w="2255271" h="2251745">
                    <a:moveTo>
                      <a:pt x="1931751" y="1915180"/>
                    </a:moveTo>
                    <a:cubicBezTo>
                      <a:pt x="1717495" y="2132774"/>
                      <a:pt x="1423955" y="2254219"/>
                      <a:pt x="1118349" y="2251707"/>
                    </a:cubicBezTo>
                    <a:cubicBezTo>
                      <a:pt x="1121445" y="1876429"/>
                      <a:pt x="1124540" y="1501151"/>
                      <a:pt x="1127636" y="1125873"/>
                    </a:cubicBezTo>
                    <a:lnTo>
                      <a:pt x="1931751" y="1915180"/>
                    </a:lnTo>
                    <a:close/>
                  </a:path>
                </a:pathLst>
              </a:custGeom>
              <a:solidFill>
                <a:srgbClr val="bcfe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饼形 135"/>
              <p:cNvSpPr/>
              <p:nvPr/>
            </p:nvSpPr>
            <p:spPr>
              <a:xfrm flipV="1" rot="16200000">
                <a:off x="1960200" y="2458800"/>
                <a:ext cx="339480" cy="338040"/>
              </a:xfrm>
              <a:custGeom>
                <a:avLst/>
                <a:gdLst/>
                <a:ahLst/>
                <a:rect l="l" t="t" r="r" b="b"/>
                <a:pathLst>
                  <a:path w="1774368" h="1769821">
                    <a:moveTo>
                      <a:pt x="1519523" y="1505604"/>
                    </a:moveTo>
                    <a:cubicBezTo>
                      <a:pt x="1349818" y="1677608"/>
                      <a:pt x="1117047" y="1773019"/>
                      <a:pt x="875125" y="1769739"/>
                    </a:cubicBezTo>
                    <a:lnTo>
                      <a:pt x="887184" y="884911"/>
                    </a:lnTo>
                    <a:lnTo>
                      <a:pt x="1519523" y="1505604"/>
                    </a:lnTo>
                    <a:close/>
                  </a:path>
                </a:pathLst>
              </a:custGeom>
              <a:solidFill>
                <a:srgbClr val="e1f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饼形 136"/>
              <p:cNvSpPr/>
              <p:nvPr/>
            </p:nvSpPr>
            <p:spPr>
              <a:xfrm flipV="1" rot="16200000">
                <a:off x="1992960" y="2489040"/>
                <a:ext cx="279360" cy="279360"/>
              </a:xfrm>
              <a:custGeom>
                <a:avLst/>
                <a:gdLst/>
                <a:ahLst/>
                <a:rect l="l" t="t" r="r" b="b"/>
                <a:pathLst>
                  <a:path w="1459293" h="1462389">
                    <a:moveTo>
                      <a:pt x="1246986" y="1246819"/>
                    </a:moveTo>
                    <a:cubicBezTo>
                      <a:pt x="1107577" y="1387286"/>
                      <a:pt x="917257" y="1465052"/>
                      <a:pt x="719583" y="1462319"/>
                    </a:cubicBezTo>
                    <a:lnTo>
                      <a:pt x="729647" y="731195"/>
                    </a:lnTo>
                    <a:lnTo>
                      <a:pt x="1246986" y="1246819"/>
                    </a:lnTo>
                    <a:close/>
                  </a:path>
                </a:pathLst>
              </a:custGeom>
              <a:solidFill>
                <a:srgbClr val="ecff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97" name="组合 138"/>
          <p:cNvGrpSpPr/>
          <p:nvPr/>
        </p:nvGrpSpPr>
        <p:grpSpPr>
          <a:xfrm>
            <a:off x="6537240" y="2292120"/>
            <a:ext cx="673200" cy="676440"/>
            <a:chOff x="6537240" y="2292120"/>
            <a:chExt cx="673200" cy="676440"/>
          </a:xfrm>
        </p:grpSpPr>
        <p:grpSp>
          <p:nvGrpSpPr>
            <p:cNvPr id="398" name="组合 83"/>
            <p:cNvGrpSpPr/>
            <p:nvPr/>
          </p:nvGrpSpPr>
          <p:grpSpPr>
            <a:xfrm>
              <a:off x="6537240" y="2293920"/>
              <a:ext cx="671760" cy="674280"/>
              <a:chOff x="6537240" y="2293920"/>
              <a:chExt cx="671760" cy="674280"/>
            </a:xfrm>
          </p:grpSpPr>
          <p:sp>
            <p:nvSpPr>
              <p:cNvPr id="399" name="饼形 170"/>
              <p:cNvSpPr/>
              <p:nvPr/>
            </p:nvSpPr>
            <p:spPr>
              <a:xfrm flipH="1" rot="10800000">
                <a:off x="6537240" y="2293920"/>
                <a:ext cx="671760" cy="674280"/>
              </a:xfrm>
              <a:custGeom>
                <a:avLst/>
                <a:gdLst/>
                <a:ahLst/>
                <a:rect l="l" t="t" r="r" b="b"/>
                <a:pathLst>
                  <a:path w="3523014" h="3523859">
                    <a:moveTo>
                      <a:pt x="3012443" y="3002415"/>
                    </a:moveTo>
                    <a:cubicBezTo>
                      <a:pt x="2680061" y="3337758"/>
                      <a:pt x="2227013" y="3525614"/>
                      <a:pt x="1754916" y="3523847"/>
                    </a:cubicBezTo>
                    <a:lnTo>
                      <a:pt x="1761507" y="1761930"/>
                    </a:lnTo>
                    <a:lnTo>
                      <a:pt x="3012443" y="3002415"/>
                    </a:lnTo>
                    <a:close/>
                  </a:path>
                </a:pathLst>
              </a:custGeom>
              <a:solidFill>
                <a:srgbClr val="ff82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饼形 171"/>
              <p:cNvSpPr/>
              <p:nvPr/>
            </p:nvSpPr>
            <p:spPr>
              <a:xfrm flipH="1" rot="10800000">
                <a:off x="6608880" y="2363760"/>
                <a:ext cx="528840" cy="531720"/>
              </a:xfrm>
              <a:custGeom>
                <a:avLst/>
                <a:gdLst/>
                <a:ahLst/>
                <a:rect l="l" t="t" r="r" b="b"/>
                <a:pathLst>
                  <a:path w="2773432" h="2777629">
                    <a:moveTo>
                      <a:pt x="2377076" y="2360937"/>
                    </a:moveTo>
                    <a:cubicBezTo>
                      <a:pt x="2115219" y="2628515"/>
                      <a:pt x="1756523" y="2778782"/>
                      <a:pt x="1382424" y="2777623"/>
                    </a:cubicBezTo>
                    <a:cubicBezTo>
                      <a:pt x="1383855" y="2314687"/>
                      <a:pt x="1385285" y="1851751"/>
                      <a:pt x="1386716" y="1388815"/>
                    </a:cubicBezTo>
                    <a:lnTo>
                      <a:pt x="2377076" y="2360937"/>
                    </a:lnTo>
                    <a:close/>
                  </a:path>
                </a:pathLst>
              </a:custGeom>
              <a:solidFill>
                <a:srgbClr val="ff94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饼形 172"/>
              <p:cNvSpPr/>
              <p:nvPr/>
            </p:nvSpPr>
            <p:spPr>
              <a:xfrm flipH="1" rot="10800000">
                <a:off x="6657840" y="2412720"/>
                <a:ext cx="432000" cy="431640"/>
              </a:xfrm>
              <a:custGeom>
                <a:avLst/>
                <a:gdLst/>
                <a:ahLst/>
                <a:rect l="l" t="t" r="r" b="b"/>
                <a:pathLst>
                  <a:path w="2265388" h="2255271">
                    <a:moveTo>
                      <a:pt x="1939261" y="1919349"/>
                    </a:moveTo>
                    <a:cubicBezTo>
                      <a:pt x="1724133" y="2136560"/>
                      <a:pt x="1429790" y="2257738"/>
                      <a:pt x="1123394" y="2255234"/>
                    </a:cubicBezTo>
                    <a:lnTo>
                      <a:pt x="1132694" y="1127636"/>
                    </a:lnTo>
                    <a:lnTo>
                      <a:pt x="1939261" y="1919349"/>
                    </a:lnTo>
                    <a:close/>
                  </a:path>
                </a:pathLst>
              </a:custGeom>
              <a:solidFill>
                <a:srgbClr val="ffa6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饼形 173"/>
              <p:cNvSpPr/>
              <p:nvPr/>
            </p:nvSpPr>
            <p:spPr>
              <a:xfrm flipH="1" rot="10800000">
                <a:off x="6705360" y="2457360"/>
                <a:ext cx="338400" cy="339480"/>
              </a:xfrm>
              <a:custGeom>
                <a:avLst/>
                <a:gdLst/>
                <a:ahLst/>
                <a:rect l="l" t="t" r="r" b="b"/>
                <a:pathLst>
                  <a:path w="1774001" h="1774368">
                    <a:moveTo>
                      <a:pt x="1520070" y="1508596"/>
                    </a:moveTo>
                    <a:cubicBezTo>
                      <a:pt x="1350332" y="1681589"/>
                      <a:pt x="1117221" y="1777590"/>
                      <a:pt x="874910" y="1774286"/>
                    </a:cubicBezTo>
                    <a:lnTo>
                      <a:pt x="887001" y="887184"/>
                    </a:lnTo>
                    <a:lnTo>
                      <a:pt x="1520070" y="1508596"/>
                    </a:lnTo>
                    <a:close/>
                  </a:path>
                </a:pathLst>
              </a:custGeom>
              <a:solidFill>
                <a:srgbClr val="f6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饼形 174"/>
              <p:cNvSpPr/>
              <p:nvPr/>
            </p:nvSpPr>
            <p:spPr>
              <a:xfrm flipH="1" rot="10800000">
                <a:off x="6734520" y="2489400"/>
                <a:ext cx="279360" cy="279360"/>
              </a:xfrm>
              <a:custGeom>
                <a:avLst/>
                <a:gdLst/>
                <a:ahLst/>
                <a:rect l="l" t="t" r="r" b="b"/>
                <a:pathLst>
                  <a:path w="1465839" h="1459293">
                    <a:moveTo>
                      <a:pt x="1250872" y="1245883"/>
                    </a:moveTo>
                    <a:cubicBezTo>
                      <a:pt x="1110984" y="1384986"/>
                      <a:pt x="920576" y="1461922"/>
                      <a:pt x="722877" y="1459225"/>
                    </a:cubicBezTo>
                    <a:lnTo>
                      <a:pt x="732920" y="729647"/>
                    </a:lnTo>
                    <a:lnTo>
                      <a:pt x="1250872" y="1245883"/>
                    </a:lnTo>
                    <a:close/>
                  </a:path>
                </a:pathLst>
              </a:custGeom>
              <a:solidFill>
                <a:srgbClr val="ffca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4" name="组合 89"/>
            <p:cNvGrpSpPr/>
            <p:nvPr/>
          </p:nvGrpSpPr>
          <p:grpSpPr>
            <a:xfrm>
              <a:off x="6537240" y="2293560"/>
              <a:ext cx="671760" cy="674280"/>
              <a:chOff x="6537240" y="2293560"/>
              <a:chExt cx="671760" cy="674280"/>
            </a:xfrm>
          </p:grpSpPr>
          <p:sp>
            <p:nvSpPr>
              <p:cNvPr id="405" name="饼形 165"/>
              <p:cNvSpPr/>
              <p:nvPr/>
            </p:nvSpPr>
            <p:spPr>
              <a:xfrm rot="10800000">
                <a:off x="6537240" y="2293560"/>
                <a:ext cx="671760" cy="674280"/>
              </a:xfrm>
              <a:custGeom>
                <a:avLst/>
                <a:gdLst/>
                <a:ahLst/>
                <a:rect l="l" t="t" r="r" b="b"/>
                <a:pathLst>
                  <a:path w="3523014" h="3523859">
                    <a:moveTo>
                      <a:pt x="3012443" y="3002415"/>
                    </a:moveTo>
                    <a:cubicBezTo>
                      <a:pt x="2680061" y="3337758"/>
                      <a:pt x="2227013" y="3525614"/>
                      <a:pt x="1754916" y="3523847"/>
                    </a:cubicBezTo>
                    <a:lnTo>
                      <a:pt x="1761507" y="1761930"/>
                    </a:lnTo>
                    <a:lnTo>
                      <a:pt x="3012443" y="30024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饼形 166"/>
              <p:cNvSpPr/>
              <p:nvPr/>
            </p:nvSpPr>
            <p:spPr>
              <a:xfrm rot="10800000">
                <a:off x="6609600" y="2363400"/>
                <a:ext cx="528840" cy="531720"/>
              </a:xfrm>
              <a:custGeom>
                <a:avLst/>
                <a:gdLst/>
                <a:ahLst/>
                <a:rect l="l" t="t" r="r" b="b"/>
                <a:pathLst>
                  <a:path w="2773432" h="2777629">
                    <a:moveTo>
                      <a:pt x="2377076" y="2360937"/>
                    </a:moveTo>
                    <a:cubicBezTo>
                      <a:pt x="2115219" y="2628515"/>
                      <a:pt x="1756523" y="2778782"/>
                      <a:pt x="1382424" y="2777623"/>
                    </a:cubicBezTo>
                    <a:cubicBezTo>
                      <a:pt x="1383855" y="2314687"/>
                      <a:pt x="1385285" y="1851751"/>
                      <a:pt x="1386716" y="1388815"/>
                    </a:cubicBezTo>
                    <a:lnTo>
                      <a:pt x="2377076" y="2360937"/>
                    </a:lnTo>
                    <a:close/>
                  </a:path>
                </a:pathLst>
              </a:custGeom>
              <a:solidFill>
                <a:srgbClr val="8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饼形 167"/>
              <p:cNvSpPr/>
              <p:nvPr/>
            </p:nvSpPr>
            <p:spPr>
              <a:xfrm rot="10800000">
                <a:off x="6656400" y="2412360"/>
                <a:ext cx="432000" cy="431640"/>
              </a:xfrm>
              <a:custGeom>
                <a:avLst/>
                <a:gdLst/>
                <a:ahLst/>
                <a:rect l="l" t="t" r="r" b="b"/>
                <a:pathLst>
                  <a:path w="2265388" h="2255271">
                    <a:moveTo>
                      <a:pt x="1939261" y="1919349"/>
                    </a:moveTo>
                    <a:cubicBezTo>
                      <a:pt x="1724133" y="2136560"/>
                      <a:pt x="1429790" y="2257738"/>
                      <a:pt x="1123394" y="2255234"/>
                    </a:cubicBezTo>
                    <a:lnTo>
                      <a:pt x="1132694" y="1127636"/>
                    </a:lnTo>
                    <a:lnTo>
                      <a:pt x="1939261" y="1919349"/>
                    </a:lnTo>
                    <a:close/>
                  </a:path>
                </a:pathLst>
              </a:custGeom>
              <a:solidFill>
                <a:srgbClr val="c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饼形 168"/>
              <p:cNvSpPr/>
              <p:nvPr/>
            </p:nvSpPr>
            <p:spPr>
              <a:xfrm rot="10800000">
                <a:off x="6702480" y="2457000"/>
                <a:ext cx="338400" cy="339480"/>
              </a:xfrm>
              <a:custGeom>
                <a:avLst/>
                <a:gdLst/>
                <a:ahLst/>
                <a:rect l="l" t="t" r="r" b="b"/>
                <a:pathLst>
                  <a:path w="1774001" h="1774368">
                    <a:moveTo>
                      <a:pt x="1520070" y="1508596"/>
                    </a:moveTo>
                    <a:cubicBezTo>
                      <a:pt x="1350332" y="1681589"/>
                      <a:pt x="1117221" y="1777590"/>
                      <a:pt x="874910" y="1774286"/>
                    </a:cubicBezTo>
                    <a:lnTo>
                      <a:pt x="887001" y="887184"/>
                    </a:lnTo>
                    <a:lnTo>
                      <a:pt x="1520070" y="1508596"/>
                    </a:lnTo>
                    <a:close/>
                  </a:path>
                </a:pathLst>
              </a:custGeom>
              <a:solidFill>
                <a:srgbClr val="f63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饼形 169"/>
              <p:cNvSpPr/>
              <p:nvPr/>
            </p:nvSpPr>
            <p:spPr>
              <a:xfrm rot="10800000">
                <a:off x="6732720" y="2489040"/>
                <a:ext cx="279360" cy="279360"/>
              </a:xfrm>
              <a:custGeom>
                <a:avLst/>
                <a:gdLst/>
                <a:ahLst/>
                <a:rect l="l" t="t" r="r" b="b"/>
                <a:pathLst>
                  <a:path w="1465839" h="1459293">
                    <a:moveTo>
                      <a:pt x="1250872" y="1245883"/>
                    </a:moveTo>
                    <a:cubicBezTo>
                      <a:pt x="1110984" y="1384986"/>
                      <a:pt x="920576" y="1461922"/>
                      <a:pt x="722877" y="1459225"/>
                    </a:cubicBezTo>
                    <a:lnTo>
                      <a:pt x="732920" y="729647"/>
                    </a:lnTo>
                    <a:lnTo>
                      <a:pt x="1250872" y="1245883"/>
                    </a:lnTo>
                    <a:close/>
                  </a:path>
                </a:pathLst>
              </a:custGeom>
              <a:solidFill>
                <a:srgbClr val="fe61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0" name="组合 95"/>
            <p:cNvGrpSpPr/>
            <p:nvPr/>
          </p:nvGrpSpPr>
          <p:grpSpPr>
            <a:xfrm>
              <a:off x="6537960" y="2293200"/>
              <a:ext cx="671760" cy="674280"/>
              <a:chOff x="6537960" y="2293200"/>
              <a:chExt cx="671760" cy="674280"/>
            </a:xfrm>
          </p:grpSpPr>
          <p:sp>
            <p:nvSpPr>
              <p:cNvPr id="411" name="饼形 160"/>
              <p:cNvSpPr/>
              <p:nvPr/>
            </p:nvSpPr>
            <p:spPr>
              <a:xfrm flipH="1" flipV="1" rot="10800000">
                <a:off x="6537960" y="2292840"/>
                <a:ext cx="671760" cy="674280"/>
              </a:xfrm>
              <a:custGeom>
                <a:avLst/>
                <a:gdLst/>
                <a:ahLst/>
                <a:rect l="l" t="t" r="r" b="b"/>
                <a:pathLst>
                  <a:path w="3523009" h="3523859">
                    <a:moveTo>
                      <a:pt x="3012440" y="3002414"/>
                    </a:moveTo>
                    <a:cubicBezTo>
                      <a:pt x="2680058" y="3337758"/>
                      <a:pt x="2227010" y="3525614"/>
                      <a:pt x="1754914" y="3523847"/>
                    </a:cubicBezTo>
                    <a:lnTo>
                      <a:pt x="1761505" y="1761930"/>
                    </a:lnTo>
                    <a:lnTo>
                      <a:pt x="3012440" y="3002414"/>
                    </a:lnTo>
                    <a:close/>
                  </a:path>
                </a:pathLst>
              </a:custGeom>
              <a:solidFill>
                <a:srgbClr val="017c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饼形 161"/>
              <p:cNvSpPr/>
              <p:nvPr/>
            </p:nvSpPr>
            <p:spPr>
              <a:xfrm flipH="1" flipV="1" rot="10800000">
                <a:off x="6609600" y="2365560"/>
                <a:ext cx="528840" cy="531720"/>
              </a:xfrm>
              <a:custGeom>
                <a:avLst/>
                <a:gdLst/>
                <a:ahLst/>
                <a:rect l="l" t="t" r="r" b="b"/>
                <a:pathLst>
                  <a:path w="2773437" h="2777629">
                    <a:moveTo>
                      <a:pt x="2377080" y="2360938"/>
                    </a:moveTo>
                    <a:cubicBezTo>
                      <a:pt x="2115222" y="2628515"/>
                      <a:pt x="1756526" y="2778782"/>
                      <a:pt x="1382427" y="2777623"/>
                    </a:cubicBezTo>
                    <a:cubicBezTo>
                      <a:pt x="1383858" y="2314687"/>
                      <a:pt x="1385288" y="1851751"/>
                      <a:pt x="1386719" y="1388815"/>
                    </a:cubicBezTo>
                    <a:lnTo>
                      <a:pt x="2377080" y="2360938"/>
                    </a:lnTo>
                    <a:close/>
                  </a:path>
                </a:pathLst>
              </a:custGeom>
              <a:solidFill>
                <a:srgbClr val="0098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饼形 162"/>
              <p:cNvSpPr/>
              <p:nvPr/>
            </p:nvSpPr>
            <p:spPr>
              <a:xfrm flipH="1" flipV="1" rot="10800000">
                <a:off x="6658560" y="2416320"/>
                <a:ext cx="432000" cy="431640"/>
              </a:xfrm>
              <a:custGeom>
                <a:avLst/>
                <a:gdLst/>
                <a:ahLst/>
                <a:rect l="l" t="t" r="r" b="b"/>
                <a:pathLst>
                  <a:path w="2265388" h="2255271">
                    <a:moveTo>
                      <a:pt x="1939261" y="1919349"/>
                    </a:moveTo>
                    <a:cubicBezTo>
                      <a:pt x="1724133" y="2136560"/>
                      <a:pt x="1429790" y="2257738"/>
                      <a:pt x="1123394" y="2255234"/>
                    </a:cubicBezTo>
                    <a:lnTo>
                      <a:pt x="1132694" y="1127636"/>
                    </a:lnTo>
                    <a:lnTo>
                      <a:pt x="1939261" y="1919349"/>
                    </a:lnTo>
                    <a:close/>
                  </a:path>
                </a:pathLst>
              </a:custGeom>
              <a:solidFill>
                <a:srgbClr val="00c4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饼形 163"/>
              <p:cNvSpPr/>
              <p:nvPr/>
            </p:nvSpPr>
            <p:spPr>
              <a:xfrm flipH="1" flipV="1" rot="10800000">
                <a:off x="6706080" y="2464200"/>
                <a:ext cx="338400" cy="339480"/>
              </a:xfrm>
              <a:custGeom>
                <a:avLst/>
                <a:gdLst/>
                <a:ahLst/>
                <a:rect l="l" t="t" r="r" b="b"/>
                <a:pathLst>
                  <a:path w="1773996" h="1774368">
                    <a:moveTo>
                      <a:pt x="1520067" y="1508595"/>
                    </a:moveTo>
                    <a:cubicBezTo>
                      <a:pt x="1350330" y="1681589"/>
                      <a:pt x="1117219" y="1777590"/>
                      <a:pt x="874908" y="1774286"/>
                    </a:cubicBezTo>
                    <a:lnTo>
                      <a:pt x="886998" y="887184"/>
                    </a:lnTo>
                    <a:lnTo>
                      <a:pt x="1520067" y="1508595"/>
                    </a:lnTo>
                    <a:close/>
                  </a:path>
                </a:pathLst>
              </a:custGeom>
              <a:solidFill>
                <a:srgbClr val="71ff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饼形 164"/>
              <p:cNvSpPr/>
              <p:nvPr/>
            </p:nvSpPr>
            <p:spPr>
              <a:xfrm flipH="1" flipV="1" rot="10800000">
                <a:off x="6735240" y="2493720"/>
                <a:ext cx="279360" cy="279360"/>
              </a:xfrm>
              <a:custGeom>
                <a:avLst/>
                <a:gdLst/>
                <a:ahLst/>
                <a:rect l="l" t="t" r="r" b="b"/>
                <a:pathLst>
                  <a:path w="1465839" h="1459293">
                    <a:moveTo>
                      <a:pt x="1250872" y="1245883"/>
                    </a:moveTo>
                    <a:cubicBezTo>
                      <a:pt x="1110984" y="1384986"/>
                      <a:pt x="920576" y="1461922"/>
                      <a:pt x="722877" y="1459225"/>
                    </a:cubicBezTo>
                    <a:lnTo>
                      <a:pt x="732920" y="729647"/>
                    </a:lnTo>
                    <a:lnTo>
                      <a:pt x="1250872" y="1245883"/>
                    </a:lnTo>
                    <a:close/>
                  </a:path>
                </a:pathLst>
              </a:custGeom>
              <a:solidFill>
                <a:srgbClr val="a7ff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6" name="组合 113"/>
            <p:cNvGrpSpPr/>
            <p:nvPr/>
          </p:nvGrpSpPr>
          <p:grpSpPr>
            <a:xfrm>
              <a:off x="6538680" y="2294280"/>
              <a:ext cx="671760" cy="674280"/>
              <a:chOff x="6538680" y="2294280"/>
              <a:chExt cx="671760" cy="674280"/>
            </a:xfrm>
          </p:grpSpPr>
          <p:sp>
            <p:nvSpPr>
              <p:cNvPr id="417" name="饼形 155"/>
              <p:cNvSpPr/>
              <p:nvPr/>
            </p:nvSpPr>
            <p:spPr>
              <a:xfrm flipV="1" rot="16200000">
                <a:off x="6537240" y="2295000"/>
                <a:ext cx="674280" cy="671760"/>
              </a:xfrm>
              <a:custGeom>
                <a:avLst/>
                <a:gdLst/>
                <a:ahLst/>
                <a:rect l="l" t="t" r="r" b="b"/>
                <a:pathLst>
                  <a:path w="3523859" h="3523009">
                    <a:moveTo>
                      <a:pt x="3012867" y="3001992"/>
                    </a:moveTo>
                    <a:cubicBezTo>
                      <a:pt x="2680429" y="3337069"/>
                      <a:pt x="2227402" y="3524762"/>
                      <a:pt x="1755340" y="3522997"/>
                    </a:cubicBezTo>
                    <a:cubicBezTo>
                      <a:pt x="1757537" y="2935833"/>
                      <a:pt x="1759733" y="2348669"/>
                      <a:pt x="1761930" y="1761505"/>
                    </a:cubicBezTo>
                    <a:lnTo>
                      <a:pt x="3012867" y="30019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饼形 156"/>
              <p:cNvSpPr/>
              <p:nvPr/>
            </p:nvSpPr>
            <p:spPr>
              <a:xfrm flipV="1" rot="16200000">
                <a:off x="6607800" y="2366640"/>
                <a:ext cx="531720" cy="528840"/>
              </a:xfrm>
              <a:custGeom>
                <a:avLst/>
                <a:gdLst/>
                <a:ahLst/>
                <a:rect l="l" t="t" r="r" b="b"/>
                <a:pathLst>
                  <a:path w="2777634" h="2773432">
                    <a:moveTo>
                      <a:pt x="2379206" y="2358866"/>
                    </a:moveTo>
                    <a:cubicBezTo>
                      <a:pt x="2117063" y="2625119"/>
                      <a:pt x="1758468" y="2774575"/>
                      <a:pt x="1384538" y="2773425"/>
                    </a:cubicBezTo>
                    <a:cubicBezTo>
                      <a:pt x="1385964" y="2311189"/>
                      <a:pt x="1387391" y="1848952"/>
                      <a:pt x="1388817" y="1386716"/>
                    </a:cubicBezTo>
                    <a:lnTo>
                      <a:pt x="2379206" y="2358866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饼形 157"/>
              <p:cNvSpPr/>
              <p:nvPr/>
            </p:nvSpPr>
            <p:spPr>
              <a:xfrm flipV="1" rot="16200000">
                <a:off x="6662520" y="2414160"/>
                <a:ext cx="431640" cy="432000"/>
              </a:xfrm>
              <a:custGeom>
                <a:avLst/>
                <a:gdLst/>
                <a:ahLst/>
                <a:rect l="l" t="t" r="r" b="b"/>
                <a:pathLst>
                  <a:path w="2255271" h="2265388">
                    <a:moveTo>
                      <a:pt x="1934135" y="1924341"/>
                    </a:moveTo>
                    <a:cubicBezTo>
                      <a:pt x="1719698" y="2144765"/>
                      <a:pt x="1425101" y="2267902"/>
                      <a:pt x="1118294" y="2265349"/>
                    </a:cubicBezTo>
                    <a:lnTo>
                      <a:pt x="1127636" y="1132694"/>
                    </a:lnTo>
                    <a:lnTo>
                      <a:pt x="1934135" y="1924341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饼形 158"/>
              <p:cNvSpPr/>
              <p:nvPr/>
            </p:nvSpPr>
            <p:spPr>
              <a:xfrm flipV="1" rot="16200000">
                <a:off x="6707880" y="2462040"/>
                <a:ext cx="339480" cy="336600"/>
              </a:xfrm>
              <a:custGeom>
                <a:avLst/>
                <a:gdLst/>
                <a:ahLst/>
                <a:rect l="l" t="t" r="r" b="b"/>
                <a:pathLst>
                  <a:path w="1774368" h="1765670">
                    <a:moveTo>
                      <a:pt x="1518792" y="1502811"/>
                    </a:moveTo>
                    <a:cubicBezTo>
                      <a:pt x="1349146" y="1673950"/>
                      <a:pt x="1116704" y="1768848"/>
                      <a:pt x="875154" y="1765588"/>
                    </a:cubicBezTo>
                    <a:lnTo>
                      <a:pt x="887184" y="882835"/>
                    </a:lnTo>
                    <a:lnTo>
                      <a:pt x="1518792" y="1502811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饼形 159"/>
              <p:cNvSpPr/>
              <p:nvPr/>
            </p:nvSpPr>
            <p:spPr>
              <a:xfrm flipV="1" rot="16200000">
                <a:off x="6733440" y="2490840"/>
                <a:ext cx="279360" cy="277920"/>
              </a:xfrm>
              <a:custGeom>
                <a:avLst/>
                <a:gdLst/>
                <a:ahLst/>
                <a:rect l="l" t="t" r="r" b="b"/>
                <a:pathLst>
                  <a:path w="1459293" h="1457513">
                    <a:moveTo>
                      <a:pt x="1246126" y="1243524"/>
                    </a:moveTo>
                    <a:cubicBezTo>
                      <a:pt x="1106790" y="1382982"/>
                      <a:pt x="916856" y="1460152"/>
                      <a:pt x="719617" y="1457444"/>
                    </a:cubicBezTo>
                    <a:lnTo>
                      <a:pt x="729647" y="728757"/>
                    </a:lnTo>
                    <a:lnTo>
                      <a:pt x="1246126" y="124352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2" name="组合 119"/>
            <p:cNvGrpSpPr/>
            <p:nvPr/>
          </p:nvGrpSpPr>
          <p:grpSpPr>
            <a:xfrm>
              <a:off x="6537960" y="2293920"/>
              <a:ext cx="671760" cy="674280"/>
              <a:chOff x="6537960" y="2293920"/>
              <a:chExt cx="671760" cy="674280"/>
            </a:xfrm>
          </p:grpSpPr>
          <p:sp>
            <p:nvSpPr>
              <p:cNvPr id="423" name="饼形 150"/>
              <p:cNvSpPr/>
              <p:nvPr/>
            </p:nvSpPr>
            <p:spPr>
              <a:xfrm flipH="1" rot="16200000">
                <a:off x="6536520" y="2295000"/>
                <a:ext cx="674280" cy="671760"/>
              </a:xfrm>
              <a:custGeom>
                <a:avLst/>
                <a:gdLst/>
                <a:ahLst/>
                <a:rect l="l" t="t" r="r" b="b"/>
                <a:pathLst>
                  <a:path w="3523859" h="3523014">
                    <a:moveTo>
                      <a:pt x="3012868" y="3001995"/>
                    </a:moveTo>
                    <a:cubicBezTo>
                      <a:pt x="2680430" y="3337073"/>
                      <a:pt x="2227402" y="3524767"/>
                      <a:pt x="1755340" y="3523002"/>
                    </a:cubicBezTo>
                    <a:cubicBezTo>
                      <a:pt x="1757537" y="2935837"/>
                      <a:pt x="1759733" y="2348672"/>
                      <a:pt x="1761930" y="1761507"/>
                    </a:cubicBezTo>
                    <a:lnTo>
                      <a:pt x="3012868" y="30019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饼形 151"/>
              <p:cNvSpPr/>
              <p:nvPr/>
            </p:nvSpPr>
            <p:spPr>
              <a:xfrm flipH="1" rot="16200000">
                <a:off x="6609600" y="2366640"/>
                <a:ext cx="531720" cy="528840"/>
              </a:xfrm>
              <a:custGeom>
                <a:avLst/>
                <a:gdLst/>
                <a:ahLst/>
                <a:rect l="l" t="t" r="r" b="b"/>
                <a:pathLst>
                  <a:path w="2777634" h="2773437">
                    <a:moveTo>
                      <a:pt x="2379207" y="2358870"/>
                    </a:moveTo>
                    <a:cubicBezTo>
                      <a:pt x="2117064" y="2625124"/>
                      <a:pt x="1758468" y="2774581"/>
                      <a:pt x="1384538" y="2773431"/>
                    </a:cubicBezTo>
                    <a:cubicBezTo>
                      <a:pt x="1385964" y="2311194"/>
                      <a:pt x="1387391" y="1848956"/>
                      <a:pt x="1388817" y="1386719"/>
                    </a:cubicBezTo>
                    <a:lnTo>
                      <a:pt x="2379207" y="235887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饼形 152"/>
              <p:cNvSpPr/>
              <p:nvPr/>
            </p:nvSpPr>
            <p:spPr>
              <a:xfrm flipH="1" rot="16200000">
                <a:off x="6660360" y="2415600"/>
                <a:ext cx="431640" cy="432000"/>
              </a:xfrm>
              <a:custGeom>
                <a:avLst/>
                <a:gdLst/>
                <a:ahLst/>
                <a:rect l="l" t="t" r="r" b="b"/>
                <a:pathLst>
                  <a:path w="2255271" h="2265388">
                    <a:moveTo>
                      <a:pt x="1934135" y="1924341"/>
                    </a:moveTo>
                    <a:cubicBezTo>
                      <a:pt x="1719698" y="2144765"/>
                      <a:pt x="1425101" y="2267902"/>
                      <a:pt x="1118294" y="2265349"/>
                    </a:cubicBezTo>
                    <a:lnTo>
                      <a:pt x="1127636" y="1132694"/>
                    </a:lnTo>
                    <a:lnTo>
                      <a:pt x="1934135" y="1924341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饼形 153"/>
              <p:cNvSpPr/>
              <p:nvPr/>
            </p:nvSpPr>
            <p:spPr>
              <a:xfrm flipH="1" rot="16200000">
                <a:off x="6708240" y="2463480"/>
                <a:ext cx="339480" cy="336600"/>
              </a:xfrm>
              <a:custGeom>
                <a:avLst/>
                <a:gdLst/>
                <a:ahLst/>
                <a:rect l="l" t="t" r="r" b="b"/>
                <a:pathLst>
                  <a:path w="1774368" h="1765670">
                    <a:moveTo>
                      <a:pt x="1518792" y="1502811"/>
                    </a:moveTo>
                    <a:cubicBezTo>
                      <a:pt x="1349146" y="1673950"/>
                      <a:pt x="1116704" y="1768848"/>
                      <a:pt x="875154" y="1765588"/>
                    </a:cubicBezTo>
                    <a:lnTo>
                      <a:pt x="887184" y="882835"/>
                    </a:lnTo>
                    <a:lnTo>
                      <a:pt x="1518792" y="1502811"/>
                    </a:lnTo>
                    <a:close/>
                  </a:path>
                </a:pathLst>
              </a:custGeom>
              <a:solidFill>
                <a:srgbClr val="d000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饼形 154"/>
              <p:cNvSpPr/>
              <p:nvPr/>
            </p:nvSpPr>
            <p:spPr>
              <a:xfrm flipH="1" rot="16200000">
                <a:off x="6735960" y="2493000"/>
                <a:ext cx="279360" cy="277920"/>
              </a:xfrm>
              <a:custGeom>
                <a:avLst/>
                <a:gdLst/>
                <a:ahLst/>
                <a:rect l="l" t="t" r="r" b="b"/>
                <a:pathLst>
                  <a:path w="1459293" h="1457508">
                    <a:moveTo>
                      <a:pt x="1246125" y="1243521"/>
                    </a:moveTo>
                    <a:cubicBezTo>
                      <a:pt x="1106789" y="1382978"/>
                      <a:pt x="916856" y="1460147"/>
                      <a:pt x="719617" y="1457439"/>
                    </a:cubicBezTo>
                    <a:lnTo>
                      <a:pt x="729647" y="728754"/>
                    </a:lnTo>
                    <a:lnTo>
                      <a:pt x="1246125" y="1243521"/>
                    </a:lnTo>
                    <a:close/>
                  </a:path>
                </a:pathLst>
              </a:custGeom>
              <a:solidFill>
                <a:srgbClr val="ff5b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8" name="组合 131"/>
            <p:cNvGrpSpPr/>
            <p:nvPr/>
          </p:nvGrpSpPr>
          <p:grpSpPr>
            <a:xfrm>
              <a:off x="6537960" y="2292120"/>
              <a:ext cx="671760" cy="674280"/>
              <a:chOff x="6537960" y="2292120"/>
              <a:chExt cx="671760" cy="674280"/>
            </a:xfrm>
          </p:grpSpPr>
          <p:sp>
            <p:nvSpPr>
              <p:cNvPr id="429" name="饼形 145"/>
              <p:cNvSpPr/>
              <p:nvPr/>
            </p:nvSpPr>
            <p:spPr>
              <a:xfrm flipH="1" flipV="1" rot="5400000">
                <a:off x="6536520" y="2292840"/>
                <a:ext cx="674280" cy="671760"/>
              </a:xfrm>
              <a:custGeom>
                <a:avLst/>
                <a:gdLst/>
                <a:ahLst/>
                <a:rect l="l" t="t" r="r" b="b"/>
                <a:pathLst>
                  <a:path w="3523864" h="3523009">
                    <a:moveTo>
                      <a:pt x="3012871" y="3001992"/>
                    </a:moveTo>
                    <a:cubicBezTo>
                      <a:pt x="2680433" y="3337069"/>
                      <a:pt x="2227405" y="3524762"/>
                      <a:pt x="1755343" y="3522997"/>
                    </a:cubicBezTo>
                    <a:cubicBezTo>
                      <a:pt x="1757539" y="2935833"/>
                      <a:pt x="1759736" y="2348669"/>
                      <a:pt x="1761932" y="1761505"/>
                    </a:cubicBezTo>
                    <a:lnTo>
                      <a:pt x="3012871" y="30019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饼形 146"/>
              <p:cNvSpPr/>
              <p:nvPr/>
            </p:nvSpPr>
            <p:spPr>
              <a:xfrm flipH="1" flipV="1" rot="5400000">
                <a:off x="6609600" y="2364480"/>
                <a:ext cx="531720" cy="528840"/>
              </a:xfrm>
              <a:custGeom>
                <a:avLst/>
                <a:gdLst/>
                <a:ahLst/>
                <a:rect l="l" t="t" r="r" b="b"/>
                <a:pathLst>
                  <a:path w="2777629" h="2773432">
                    <a:moveTo>
                      <a:pt x="2379202" y="2358866"/>
                    </a:moveTo>
                    <a:cubicBezTo>
                      <a:pt x="2117060" y="2625120"/>
                      <a:pt x="1758464" y="2774576"/>
                      <a:pt x="1384535" y="2773426"/>
                    </a:cubicBezTo>
                    <a:cubicBezTo>
                      <a:pt x="1385962" y="2311189"/>
                      <a:pt x="1387388" y="1848953"/>
                      <a:pt x="1388815" y="1386716"/>
                    </a:cubicBezTo>
                    <a:lnTo>
                      <a:pt x="2379202" y="2358866"/>
                    </a:lnTo>
                    <a:close/>
                  </a:path>
                </a:pathLst>
              </a:custGeom>
              <a:solidFill>
                <a:srgbClr val="8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饼形 147"/>
              <p:cNvSpPr/>
              <p:nvPr/>
            </p:nvSpPr>
            <p:spPr>
              <a:xfrm flipH="1" flipV="1" rot="5400000">
                <a:off x="6660360" y="2412000"/>
                <a:ext cx="431640" cy="432000"/>
              </a:xfrm>
              <a:custGeom>
                <a:avLst/>
                <a:gdLst/>
                <a:ahLst/>
                <a:rect l="l" t="t" r="r" b="b"/>
                <a:pathLst>
                  <a:path w="2255271" h="2265388">
                    <a:moveTo>
                      <a:pt x="1934135" y="1924341"/>
                    </a:moveTo>
                    <a:cubicBezTo>
                      <a:pt x="1719698" y="2144765"/>
                      <a:pt x="1425101" y="2267902"/>
                      <a:pt x="1118294" y="2265349"/>
                    </a:cubicBezTo>
                    <a:lnTo>
                      <a:pt x="1127636" y="1132694"/>
                    </a:lnTo>
                    <a:lnTo>
                      <a:pt x="1934135" y="1924341"/>
                    </a:lnTo>
                    <a:close/>
                  </a:path>
                </a:pathLst>
              </a:custGeom>
              <a:solidFill>
                <a:srgbClr val="bcfe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饼形 148"/>
              <p:cNvSpPr/>
              <p:nvPr/>
            </p:nvSpPr>
            <p:spPr>
              <a:xfrm flipH="1" flipV="1" rot="5400000">
                <a:off x="6708240" y="2459520"/>
                <a:ext cx="339480" cy="336600"/>
              </a:xfrm>
              <a:custGeom>
                <a:avLst/>
                <a:gdLst/>
                <a:ahLst/>
                <a:rect l="l" t="t" r="r" b="b"/>
                <a:pathLst>
                  <a:path w="1774368" h="1765670">
                    <a:moveTo>
                      <a:pt x="1518792" y="1502811"/>
                    </a:moveTo>
                    <a:cubicBezTo>
                      <a:pt x="1349146" y="1673950"/>
                      <a:pt x="1116704" y="1768848"/>
                      <a:pt x="875154" y="1765588"/>
                    </a:cubicBezTo>
                    <a:lnTo>
                      <a:pt x="887184" y="882835"/>
                    </a:lnTo>
                    <a:lnTo>
                      <a:pt x="1518792" y="1502811"/>
                    </a:lnTo>
                    <a:close/>
                  </a:path>
                </a:pathLst>
              </a:custGeom>
              <a:solidFill>
                <a:srgbClr val="e1f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饼形 149"/>
              <p:cNvSpPr/>
              <p:nvPr/>
            </p:nvSpPr>
            <p:spPr>
              <a:xfrm flipH="1" flipV="1" rot="5400000">
                <a:off x="6735960" y="2489760"/>
                <a:ext cx="279360" cy="277920"/>
              </a:xfrm>
              <a:custGeom>
                <a:avLst/>
                <a:gdLst/>
                <a:ahLst/>
                <a:rect l="l" t="t" r="r" b="b"/>
                <a:pathLst>
                  <a:path w="1459293" h="1457513">
                    <a:moveTo>
                      <a:pt x="1246126" y="1243524"/>
                    </a:moveTo>
                    <a:cubicBezTo>
                      <a:pt x="1106790" y="1382982"/>
                      <a:pt x="916856" y="1460152"/>
                      <a:pt x="719617" y="1457444"/>
                    </a:cubicBezTo>
                    <a:lnTo>
                      <a:pt x="729647" y="728757"/>
                    </a:lnTo>
                    <a:lnTo>
                      <a:pt x="1246126" y="1243524"/>
                    </a:lnTo>
                    <a:close/>
                  </a:path>
                </a:pathLst>
              </a:custGeom>
              <a:solidFill>
                <a:srgbClr val="ecff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组合 12"/>
          <p:cNvGrpSpPr/>
          <p:nvPr/>
        </p:nvGrpSpPr>
        <p:grpSpPr>
          <a:xfrm>
            <a:off x="-360" y="142560"/>
            <a:ext cx="3522600" cy="3522600"/>
            <a:chOff x="-360" y="142560"/>
            <a:chExt cx="3522600" cy="3522600"/>
          </a:xfrm>
        </p:grpSpPr>
        <p:sp>
          <p:nvSpPr>
            <p:cNvPr id="435" name="饼形 11"/>
            <p:cNvSpPr/>
            <p:nvPr/>
          </p:nvSpPr>
          <p:spPr>
            <a:xfrm rot="10800000">
              <a:off x="-360" y="142560"/>
              <a:ext cx="35226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5" y="3001536"/>
                  </a:moveTo>
                  <a:cubicBezTo>
                    <a:pt x="2679649" y="3336672"/>
                    <a:pt x="2226712" y="3524405"/>
                    <a:pt x="1754737" y="3522639"/>
                  </a:cubicBezTo>
                  <a:cubicBezTo>
                    <a:pt x="1756933" y="2935535"/>
                    <a:pt x="1759130" y="2348430"/>
                    <a:pt x="1761326" y="1761326"/>
                  </a:cubicBezTo>
                  <a:lnTo>
                    <a:pt x="3011985" y="3001536"/>
                  </a:lnTo>
                  <a:close/>
                </a:path>
              </a:pathLst>
            </a:custGeom>
            <a:solidFill>
              <a:srgbClr val="ff82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饼形 9"/>
            <p:cNvSpPr/>
            <p:nvPr/>
          </p:nvSpPr>
          <p:spPr>
            <a:xfrm rot="10800000">
              <a:off x="375840" y="510480"/>
              <a:ext cx="2770200" cy="2770200"/>
            </a:xfrm>
            <a:custGeom>
              <a:avLst/>
              <a:gdLst/>
              <a:ahLst/>
              <a:rect l="l" t="t" r="r" b="b"/>
              <a:pathLst>
                <a:path w="2770178" h="2770179">
                  <a:moveTo>
                    <a:pt x="2373554" y="2355352"/>
                  </a:moveTo>
                  <a:cubicBezTo>
                    <a:pt x="2112059" y="2621754"/>
                    <a:pt x="1754103" y="2771326"/>
                    <a:pt x="1380809" y="2770173"/>
                  </a:cubicBezTo>
                  <a:cubicBezTo>
                    <a:pt x="1382236" y="2308479"/>
                    <a:pt x="1383662" y="1846784"/>
                    <a:pt x="1385089" y="1385090"/>
                  </a:cubicBezTo>
                  <a:lnTo>
                    <a:pt x="2373554" y="2355352"/>
                  </a:lnTo>
                  <a:close/>
                </a:path>
              </a:pathLst>
            </a:custGeom>
            <a:solidFill>
              <a:srgbClr val="ff94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饼形 8"/>
            <p:cNvSpPr/>
            <p:nvPr/>
          </p:nvSpPr>
          <p:spPr>
            <a:xfrm rot="10800000">
              <a:off x="626400" y="761400"/>
              <a:ext cx="2259000" cy="2259000"/>
            </a:xfrm>
            <a:custGeom>
              <a:avLst/>
              <a:gdLst/>
              <a:ahLst/>
              <a:rect l="l" t="t" r="r" b="b"/>
              <a:pathLst>
                <a:path w="2259005" h="2259006">
                  <a:moveTo>
                    <a:pt x="1935569" y="1920726"/>
                  </a:moveTo>
                  <a:cubicBezTo>
                    <a:pt x="1720910" y="2139412"/>
                    <a:pt x="1426610" y="2261495"/>
                    <a:pt x="1120187" y="2258968"/>
                  </a:cubicBezTo>
                  <a:cubicBezTo>
                    <a:pt x="1123292" y="1882480"/>
                    <a:pt x="1126398" y="1505991"/>
                    <a:pt x="1129503" y="1129503"/>
                  </a:cubicBezTo>
                  <a:lnTo>
                    <a:pt x="1935569" y="1920726"/>
                  </a:lnTo>
                  <a:close/>
                </a:path>
              </a:pathLst>
            </a:custGeom>
            <a:solidFill>
              <a:srgbClr val="ffa6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饼形 7"/>
            <p:cNvSpPr/>
            <p:nvPr/>
          </p:nvSpPr>
          <p:spPr>
            <a:xfrm rot="10800000">
              <a:off x="869400" y="998280"/>
              <a:ext cx="1770120" cy="1770120"/>
            </a:xfrm>
            <a:custGeom>
              <a:avLst/>
              <a:gdLst/>
              <a:ahLst/>
              <a:rect l="l" t="t" r="r" b="b"/>
              <a:pathLst>
                <a:path w="1770057" h="1770056">
                  <a:moveTo>
                    <a:pt x="1516627" y="1504995"/>
                  </a:moveTo>
                  <a:cubicBezTo>
                    <a:pt x="1347272" y="1677527"/>
                    <a:pt x="1114707" y="1773268"/>
                    <a:pt x="872968" y="1769974"/>
                  </a:cubicBezTo>
                  <a:lnTo>
                    <a:pt x="885029" y="885028"/>
                  </a:lnTo>
                  <a:lnTo>
                    <a:pt x="1516627" y="1504995"/>
                  </a:lnTo>
                  <a:close/>
                </a:path>
              </a:pathLst>
            </a:custGeom>
            <a:solidFill>
              <a:srgbClr val="f6b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饼形 6"/>
            <p:cNvSpPr/>
            <p:nvPr/>
          </p:nvSpPr>
          <p:spPr>
            <a:xfrm rot="10800000">
              <a:off x="1027080" y="1164960"/>
              <a:ext cx="1458720" cy="1458720"/>
            </a:xfrm>
            <a:custGeom>
              <a:avLst/>
              <a:gdLst/>
              <a:ahLst/>
              <a:rect l="l" t="t" r="r" b="b"/>
              <a:pathLst>
                <a:path w="1458907" h="1458908">
                  <a:moveTo>
                    <a:pt x="1246110" y="1244399"/>
                  </a:moveTo>
                  <a:cubicBezTo>
                    <a:pt x="1106784" y="1384188"/>
                    <a:pt x="916760" y="1461555"/>
                    <a:pt x="719414" y="1458839"/>
                  </a:cubicBezTo>
                  <a:lnTo>
                    <a:pt x="729454" y="729454"/>
                  </a:lnTo>
                  <a:lnTo>
                    <a:pt x="1246110" y="1244399"/>
                  </a:lnTo>
                  <a:close/>
                </a:path>
              </a:pathLst>
            </a:custGeom>
            <a:solidFill>
              <a:srgbClr val="ffc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0" name="组合 21"/>
          <p:cNvGrpSpPr/>
          <p:nvPr/>
        </p:nvGrpSpPr>
        <p:grpSpPr>
          <a:xfrm>
            <a:off x="232560" y="714240"/>
            <a:ext cx="3522600" cy="3522960"/>
            <a:chOff x="232560" y="714240"/>
            <a:chExt cx="3522600" cy="3522960"/>
          </a:xfrm>
        </p:grpSpPr>
        <p:sp>
          <p:nvSpPr>
            <p:cNvPr id="441" name="饼形 16"/>
            <p:cNvSpPr/>
            <p:nvPr/>
          </p:nvSpPr>
          <p:spPr>
            <a:xfrm flipH="1" rot="10800000">
              <a:off x="232200" y="714240"/>
              <a:ext cx="3522600" cy="352296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5" y="3001536"/>
                  </a:moveTo>
                  <a:cubicBezTo>
                    <a:pt x="2679649" y="3336672"/>
                    <a:pt x="2226712" y="3524405"/>
                    <a:pt x="1754737" y="3522639"/>
                  </a:cubicBezTo>
                  <a:cubicBezTo>
                    <a:pt x="1756933" y="2935535"/>
                    <a:pt x="1759130" y="2348430"/>
                    <a:pt x="1761326" y="1761326"/>
                  </a:cubicBezTo>
                  <a:lnTo>
                    <a:pt x="3011985" y="30015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饼形 17"/>
            <p:cNvSpPr/>
            <p:nvPr/>
          </p:nvSpPr>
          <p:spPr>
            <a:xfrm flipH="1" rot="10800000">
              <a:off x="608040" y="1082520"/>
              <a:ext cx="2770200" cy="2770560"/>
            </a:xfrm>
            <a:custGeom>
              <a:avLst/>
              <a:gdLst/>
              <a:ahLst/>
              <a:rect l="l" t="t" r="r" b="b"/>
              <a:pathLst>
                <a:path w="2770180" h="2770179">
                  <a:moveTo>
                    <a:pt x="2373556" y="2355352"/>
                  </a:moveTo>
                  <a:cubicBezTo>
                    <a:pt x="2112060" y="2621753"/>
                    <a:pt x="1754105" y="2771326"/>
                    <a:pt x="1380811" y="2770173"/>
                  </a:cubicBezTo>
                  <a:cubicBezTo>
                    <a:pt x="1382237" y="2308479"/>
                    <a:pt x="1383664" y="1846784"/>
                    <a:pt x="1385090" y="1385090"/>
                  </a:cubicBezTo>
                  <a:lnTo>
                    <a:pt x="2373556" y="2355352"/>
                  </a:lnTo>
                  <a:close/>
                </a:path>
              </a:pathLst>
            </a:custGeom>
            <a:solidFill>
              <a:srgbClr val="8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饼形 18"/>
            <p:cNvSpPr/>
            <p:nvPr/>
          </p:nvSpPr>
          <p:spPr>
            <a:xfrm flipH="1" rot="10800000">
              <a:off x="868680" y="1333440"/>
              <a:ext cx="2259000" cy="2259360"/>
            </a:xfrm>
            <a:custGeom>
              <a:avLst/>
              <a:gdLst/>
              <a:ahLst/>
              <a:rect l="l" t="t" r="r" b="b"/>
              <a:pathLst>
                <a:path w="2259007" h="2259006">
                  <a:moveTo>
                    <a:pt x="1935570" y="1920726"/>
                  </a:moveTo>
                  <a:cubicBezTo>
                    <a:pt x="1720911" y="2139412"/>
                    <a:pt x="1426611" y="2261495"/>
                    <a:pt x="1120187" y="2258968"/>
                  </a:cubicBezTo>
                  <a:cubicBezTo>
                    <a:pt x="1123293" y="1882480"/>
                    <a:pt x="1126398" y="1505991"/>
                    <a:pt x="1129504" y="1129503"/>
                  </a:cubicBezTo>
                  <a:lnTo>
                    <a:pt x="1935570" y="1920726"/>
                  </a:lnTo>
                  <a:close/>
                </a:path>
              </a:pathLst>
            </a:custGeom>
            <a:solidFill>
              <a:srgbClr val="c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饼形 19"/>
            <p:cNvSpPr/>
            <p:nvPr/>
          </p:nvSpPr>
          <p:spPr>
            <a:xfrm flipH="1" rot="10800000">
              <a:off x="1114920" y="1569600"/>
              <a:ext cx="1770120" cy="1770120"/>
            </a:xfrm>
            <a:custGeom>
              <a:avLst/>
              <a:gdLst/>
              <a:ahLst/>
              <a:rect l="l" t="t" r="r" b="b"/>
              <a:pathLst>
                <a:path w="1770057" h="1770056">
                  <a:moveTo>
                    <a:pt x="1516627" y="1504995"/>
                  </a:moveTo>
                  <a:cubicBezTo>
                    <a:pt x="1347272" y="1677527"/>
                    <a:pt x="1114707" y="1773268"/>
                    <a:pt x="872968" y="1769974"/>
                  </a:cubicBezTo>
                  <a:lnTo>
                    <a:pt x="885029" y="885028"/>
                  </a:lnTo>
                  <a:lnTo>
                    <a:pt x="1516627" y="1504995"/>
                  </a:lnTo>
                  <a:close/>
                </a:path>
              </a:pathLst>
            </a:custGeom>
            <a:solidFill>
              <a:srgbClr val="f6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饼形 20"/>
            <p:cNvSpPr/>
            <p:nvPr/>
          </p:nvSpPr>
          <p:spPr>
            <a:xfrm flipH="1" rot="10800000">
              <a:off x="1269360" y="1736280"/>
              <a:ext cx="1458720" cy="1459080"/>
            </a:xfrm>
            <a:custGeom>
              <a:avLst/>
              <a:gdLst/>
              <a:ahLst/>
              <a:rect l="l" t="t" r="r" b="b"/>
              <a:pathLst>
                <a:path w="1458909" h="1458908">
                  <a:moveTo>
                    <a:pt x="1246112" y="1244399"/>
                  </a:moveTo>
                  <a:cubicBezTo>
                    <a:pt x="1106786" y="1384188"/>
                    <a:pt x="916761" y="1461555"/>
                    <a:pt x="719415" y="1458838"/>
                  </a:cubicBezTo>
                  <a:lnTo>
                    <a:pt x="729455" y="729454"/>
                  </a:lnTo>
                  <a:lnTo>
                    <a:pt x="1246112" y="1244399"/>
                  </a:lnTo>
                  <a:close/>
                </a:path>
              </a:pathLst>
            </a:custGeom>
            <a:solidFill>
              <a:srgbClr val="fe61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6" name="组合 29"/>
          <p:cNvGrpSpPr/>
          <p:nvPr/>
        </p:nvGrpSpPr>
        <p:grpSpPr>
          <a:xfrm>
            <a:off x="71280" y="1071000"/>
            <a:ext cx="3522960" cy="3522600"/>
            <a:chOff x="71280" y="1071000"/>
            <a:chExt cx="3522960" cy="3522600"/>
          </a:xfrm>
        </p:grpSpPr>
        <p:sp>
          <p:nvSpPr>
            <p:cNvPr id="447" name="饼形 24"/>
            <p:cNvSpPr/>
            <p:nvPr/>
          </p:nvSpPr>
          <p:spPr>
            <a:xfrm flipV="1" rot="10800000">
              <a:off x="71280" y="1070640"/>
              <a:ext cx="352296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5" y="3001536"/>
                  </a:moveTo>
                  <a:cubicBezTo>
                    <a:pt x="2679649" y="3336672"/>
                    <a:pt x="2226712" y="3524405"/>
                    <a:pt x="1754737" y="3522639"/>
                  </a:cubicBezTo>
                  <a:cubicBezTo>
                    <a:pt x="1756933" y="2935535"/>
                    <a:pt x="1759130" y="2348430"/>
                    <a:pt x="1761326" y="1761326"/>
                  </a:cubicBezTo>
                  <a:lnTo>
                    <a:pt x="3011985" y="3001536"/>
                  </a:lnTo>
                  <a:close/>
                </a:path>
              </a:pathLst>
            </a:custGeom>
            <a:solidFill>
              <a:srgbClr val="017c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饼形 25"/>
            <p:cNvSpPr/>
            <p:nvPr/>
          </p:nvSpPr>
          <p:spPr>
            <a:xfrm flipV="1" rot="10800000">
              <a:off x="447480" y="1454760"/>
              <a:ext cx="2770560" cy="2770200"/>
            </a:xfrm>
            <a:custGeom>
              <a:avLst/>
              <a:gdLst/>
              <a:ahLst/>
              <a:rect l="l" t="t" r="r" b="b"/>
              <a:pathLst>
                <a:path w="2770180" h="2770179">
                  <a:moveTo>
                    <a:pt x="2373556" y="2355352"/>
                  </a:moveTo>
                  <a:cubicBezTo>
                    <a:pt x="2112060" y="2621753"/>
                    <a:pt x="1754105" y="2771326"/>
                    <a:pt x="1380811" y="2770173"/>
                  </a:cubicBezTo>
                  <a:cubicBezTo>
                    <a:pt x="1382237" y="2308479"/>
                    <a:pt x="1383664" y="1846784"/>
                    <a:pt x="1385090" y="1385090"/>
                  </a:cubicBezTo>
                  <a:lnTo>
                    <a:pt x="2373556" y="2355352"/>
                  </a:lnTo>
                  <a:close/>
                </a:path>
              </a:pathLst>
            </a:custGeom>
            <a:solidFill>
              <a:srgbClr val="0098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饼形 26"/>
            <p:cNvSpPr/>
            <p:nvPr/>
          </p:nvSpPr>
          <p:spPr>
            <a:xfrm flipV="1" rot="10800000">
              <a:off x="698400" y="1715040"/>
              <a:ext cx="2259360" cy="2259000"/>
            </a:xfrm>
            <a:custGeom>
              <a:avLst/>
              <a:gdLst/>
              <a:ahLst/>
              <a:rect l="l" t="t" r="r" b="b"/>
              <a:pathLst>
                <a:path w="2259007" h="2259006">
                  <a:moveTo>
                    <a:pt x="1935570" y="1920726"/>
                  </a:moveTo>
                  <a:cubicBezTo>
                    <a:pt x="1720911" y="2139412"/>
                    <a:pt x="1426611" y="2261495"/>
                    <a:pt x="1120187" y="2258968"/>
                  </a:cubicBezTo>
                  <a:cubicBezTo>
                    <a:pt x="1123293" y="1882480"/>
                    <a:pt x="1126398" y="1505991"/>
                    <a:pt x="1129504" y="1129503"/>
                  </a:cubicBezTo>
                  <a:lnTo>
                    <a:pt x="1935570" y="1920726"/>
                  </a:lnTo>
                  <a:close/>
                </a:path>
              </a:pathLst>
            </a:custGeom>
            <a:solidFill>
              <a:srgbClr val="00c4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饼形 27"/>
            <p:cNvSpPr/>
            <p:nvPr/>
          </p:nvSpPr>
          <p:spPr>
            <a:xfrm flipV="1" rot="10800000">
              <a:off x="940680" y="1967400"/>
              <a:ext cx="1770120" cy="1770120"/>
            </a:xfrm>
            <a:custGeom>
              <a:avLst/>
              <a:gdLst/>
              <a:ahLst/>
              <a:rect l="l" t="t" r="r" b="b"/>
              <a:pathLst>
                <a:path w="1770057" h="1770058">
                  <a:moveTo>
                    <a:pt x="1516627" y="1504996"/>
                  </a:moveTo>
                  <a:cubicBezTo>
                    <a:pt x="1347272" y="1677529"/>
                    <a:pt x="1114707" y="1773270"/>
                    <a:pt x="872968" y="1769975"/>
                  </a:cubicBezTo>
                  <a:lnTo>
                    <a:pt x="885029" y="885029"/>
                  </a:lnTo>
                  <a:lnTo>
                    <a:pt x="1516627" y="1504996"/>
                  </a:lnTo>
                  <a:close/>
                </a:path>
              </a:pathLst>
            </a:custGeom>
            <a:solidFill>
              <a:srgbClr val="71ff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饼形 28"/>
            <p:cNvSpPr/>
            <p:nvPr/>
          </p:nvSpPr>
          <p:spPr>
            <a:xfrm flipV="1" rot="10800000">
              <a:off x="1098000" y="2113200"/>
              <a:ext cx="1459080" cy="1458720"/>
            </a:xfrm>
            <a:custGeom>
              <a:avLst/>
              <a:gdLst/>
              <a:ahLst/>
              <a:rect l="l" t="t" r="r" b="b"/>
              <a:pathLst>
                <a:path w="1458909" h="1458908">
                  <a:moveTo>
                    <a:pt x="1246112" y="1244399"/>
                  </a:moveTo>
                  <a:cubicBezTo>
                    <a:pt x="1106786" y="1384188"/>
                    <a:pt x="916761" y="1461555"/>
                    <a:pt x="719415" y="1458838"/>
                  </a:cubicBezTo>
                  <a:lnTo>
                    <a:pt x="729455" y="729454"/>
                  </a:lnTo>
                  <a:lnTo>
                    <a:pt x="1246112" y="1244399"/>
                  </a:lnTo>
                  <a:close/>
                </a:path>
              </a:pathLst>
            </a:custGeom>
            <a:solidFill>
              <a:srgbClr val="a7f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2" name="组合 36"/>
          <p:cNvGrpSpPr/>
          <p:nvPr/>
        </p:nvGrpSpPr>
        <p:grpSpPr>
          <a:xfrm>
            <a:off x="227880" y="714240"/>
            <a:ext cx="3522600" cy="3522960"/>
            <a:chOff x="227880" y="714240"/>
            <a:chExt cx="3522600" cy="3522960"/>
          </a:xfrm>
        </p:grpSpPr>
        <p:sp>
          <p:nvSpPr>
            <p:cNvPr id="453" name="饼形 31"/>
            <p:cNvSpPr/>
            <p:nvPr/>
          </p:nvSpPr>
          <p:spPr>
            <a:xfrm flipH="1" flipV="1" rot="10800000">
              <a:off x="227520" y="714240"/>
              <a:ext cx="3522600" cy="352296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5" y="3001536"/>
                  </a:moveTo>
                  <a:cubicBezTo>
                    <a:pt x="2679649" y="3336672"/>
                    <a:pt x="2226712" y="3524405"/>
                    <a:pt x="1754737" y="3522639"/>
                  </a:cubicBezTo>
                  <a:cubicBezTo>
                    <a:pt x="1756933" y="2935535"/>
                    <a:pt x="1759130" y="2348430"/>
                    <a:pt x="1761326" y="1761326"/>
                  </a:cubicBezTo>
                  <a:lnTo>
                    <a:pt x="3011985" y="30015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饼形 32"/>
            <p:cNvSpPr/>
            <p:nvPr/>
          </p:nvSpPr>
          <p:spPr>
            <a:xfrm flipH="1" flipV="1" rot="10800000">
              <a:off x="603720" y="1098360"/>
              <a:ext cx="2770200" cy="2770560"/>
            </a:xfrm>
            <a:custGeom>
              <a:avLst/>
              <a:gdLst/>
              <a:ahLst/>
              <a:rect l="l" t="t" r="r" b="b"/>
              <a:pathLst>
                <a:path w="2770178" h="2770179">
                  <a:moveTo>
                    <a:pt x="2373554" y="2355352"/>
                  </a:moveTo>
                  <a:cubicBezTo>
                    <a:pt x="2112060" y="2621752"/>
                    <a:pt x="1754107" y="2771325"/>
                    <a:pt x="1380815" y="2770173"/>
                  </a:cubicBezTo>
                  <a:cubicBezTo>
                    <a:pt x="1382240" y="2308479"/>
                    <a:pt x="1383664" y="1846784"/>
                    <a:pt x="1385089" y="1385090"/>
                  </a:cubicBezTo>
                  <a:lnTo>
                    <a:pt x="2373554" y="235535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饼形 33"/>
            <p:cNvSpPr/>
            <p:nvPr/>
          </p:nvSpPr>
          <p:spPr>
            <a:xfrm flipH="1" flipV="1" rot="10800000">
              <a:off x="864000" y="1358640"/>
              <a:ext cx="2259000" cy="2259360"/>
            </a:xfrm>
            <a:custGeom>
              <a:avLst/>
              <a:gdLst/>
              <a:ahLst/>
              <a:rect l="l" t="t" r="r" b="b"/>
              <a:pathLst>
                <a:path w="2259005" h="2259006">
                  <a:moveTo>
                    <a:pt x="1935569" y="1920726"/>
                  </a:moveTo>
                  <a:cubicBezTo>
                    <a:pt x="1720910" y="2139412"/>
                    <a:pt x="1426610" y="2261495"/>
                    <a:pt x="1120187" y="2258968"/>
                  </a:cubicBezTo>
                  <a:cubicBezTo>
                    <a:pt x="1123292" y="1882480"/>
                    <a:pt x="1126398" y="1505991"/>
                    <a:pt x="1129503" y="1129503"/>
                  </a:cubicBezTo>
                  <a:lnTo>
                    <a:pt x="1935569" y="1920726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饼形 34"/>
            <p:cNvSpPr/>
            <p:nvPr/>
          </p:nvSpPr>
          <p:spPr>
            <a:xfrm flipH="1" flipV="1" rot="10800000">
              <a:off x="1110240" y="1609920"/>
              <a:ext cx="1770120" cy="1770120"/>
            </a:xfrm>
            <a:custGeom>
              <a:avLst/>
              <a:gdLst/>
              <a:ahLst/>
              <a:rect l="l" t="t" r="r" b="b"/>
              <a:pathLst>
                <a:path w="1770057" h="1770056">
                  <a:moveTo>
                    <a:pt x="1516627" y="1504995"/>
                  </a:moveTo>
                  <a:cubicBezTo>
                    <a:pt x="1347272" y="1677527"/>
                    <a:pt x="1114707" y="1773268"/>
                    <a:pt x="872968" y="1769974"/>
                  </a:cubicBezTo>
                  <a:lnTo>
                    <a:pt x="885029" y="885028"/>
                  </a:lnTo>
                  <a:lnTo>
                    <a:pt x="1516627" y="1504995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饼形 35"/>
            <p:cNvSpPr/>
            <p:nvPr/>
          </p:nvSpPr>
          <p:spPr>
            <a:xfrm flipH="1" flipV="1" rot="10800000">
              <a:off x="1265040" y="1754640"/>
              <a:ext cx="1458720" cy="1459080"/>
            </a:xfrm>
            <a:custGeom>
              <a:avLst/>
              <a:gdLst/>
              <a:ahLst/>
              <a:rect l="l" t="t" r="r" b="b"/>
              <a:pathLst>
                <a:path w="1458907" h="1458908">
                  <a:moveTo>
                    <a:pt x="1246110" y="1244399"/>
                  </a:moveTo>
                  <a:cubicBezTo>
                    <a:pt x="1106784" y="1384188"/>
                    <a:pt x="916760" y="1461555"/>
                    <a:pt x="719414" y="1458839"/>
                  </a:cubicBezTo>
                  <a:lnTo>
                    <a:pt x="729454" y="729454"/>
                  </a:lnTo>
                  <a:lnTo>
                    <a:pt x="1246110" y="1244399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8" name="组合 37"/>
          <p:cNvGrpSpPr/>
          <p:nvPr/>
        </p:nvGrpSpPr>
        <p:grpSpPr>
          <a:xfrm>
            <a:off x="224640" y="716400"/>
            <a:ext cx="3522600" cy="3522600"/>
            <a:chOff x="224640" y="716400"/>
            <a:chExt cx="3522600" cy="3522600"/>
          </a:xfrm>
        </p:grpSpPr>
        <p:sp>
          <p:nvSpPr>
            <p:cNvPr id="459" name="饼形 38"/>
            <p:cNvSpPr/>
            <p:nvPr/>
          </p:nvSpPr>
          <p:spPr>
            <a:xfrm flipH="1" flipV="1" rot="5400000">
              <a:off x="224280" y="716040"/>
              <a:ext cx="35226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5" y="3001536"/>
                  </a:moveTo>
                  <a:cubicBezTo>
                    <a:pt x="2679649" y="3336672"/>
                    <a:pt x="2226712" y="3524405"/>
                    <a:pt x="1754737" y="3522639"/>
                  </a:cubicBezTo>
                  <a:cubicBezTo>
                    <a:pt x="1756933" y="2935535"/>
                    <a:pt x="1759130" y="2348430"/>
                    <a:pt x="1761326" y="1761326"/>
                  </a:cubicBezTo>
                  <a:lnTo>
                    <a:pt x="3011985" y="30015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饼形 39"/>
            <p:cNvSpPr/>
            <p:nvPr/>
          </p:nvSpPr>
          <p:spPr>
            <a:xfrm flipH="1" flipV="1" rot="5400000">
              <a:off x="608400" y="1092240"/>
              <a:ext cx="2770200" cy="2770200"/>
            </a:xfrm>
            <a:custGeom>
              <a:avLst/>
              <a:gdLst/>
              <a:ahLst/>
              <a:rect l="l" t="t" r="r" b="b"/>
              <a:pathLst>
                <a:path w="2770180" h="2770179">
                  <a:moveTo>
                    <a:pt x="2373556" y="2355352"/>
                  </a:moveTo>
                  <a:cubicBezTo>
                    <a:pt x="2112062" y="2621752"/>
                    <a:pt x="1754108" y="2771324"/>
                    <a:pt x="1380817" y="2770173"/>
                  </a:cubicBezTo>
                  <a:cubicBezTo>
                    <a:pt x="1382241" y="2308479"/>
                    <a:pt x="1383666" y="1846784"/>
                    <a:pt x="1385090" y="1385090"/>
                  </a:cubicBezTo>
                  <a:lnTo>
                    <a:pt x="2373556" y="235535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饼形 40"/>
            <p:cNvSpPr/>
            <p:nvPr/>
          </p:nvSpPr>
          <p:spPr>
            <a:xfrm flipH="1" flipV="1" rot="5400000">
              <a:off x="868680" y="1343160"/>
              <a:ext cx="2259000" cy="2259000"/>
            </a:xfrm>
            <a:custGeom>
              <a:avLst/>
              <a:gdLst/>
              <a:ahLst/>
              <a:rect l="l" t="t" r="r" b="b"/>
              <a:pathLst>
                <a:path w="2259007" h="2259006">
                  <a:moveTo>
                    <a:pt x="1935570" y="1920726"/>
                  </a:moveTo>
                  <a:cubicBezTo>
                    <a:pt x="1720911" y="2139412"/>
                    <a:pt x="1426611" y="2261495"/>
                    <a:pt x="1120187" y="2258968"/>
                  </a:cubicBezTo>
                  <a:cubicBezTo>
                    <a:pt x="1123293" y="1882480"/>
                    <a:pt x="1126398" y="1505991"/>
                    <a:pt x="1129504" y="1129503"/>
                  </a:cubicBezTo>
                  <a:lnTo>
                    <a:pt x="1935570" y="1920726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饼形 41"/>
            <p:cNvSpPr/>
            <p:nvPr/>
          </p:nvSpPr>
          <p:spPr>
            <a:xfrm flipH="1" flipV="1" rot="5400000">
              <a:off x="1121040" y="1585800"/>
              <a:ext cx="1770120" cy="1770120"/>
            </a:xfrm>
            <a:custGeom>
              <a:avLst/>
              <a:gdLst/>
              <a:ahLst/>
              <a:rect l="l" t="t" r="r" b="b"/>
              <a:pathLst>
                <a:path w="1770057" h="1770056">
                  <a:moveTo>
                    <a:pt x="1516627" y="1504995"/>
                  </a:moveTo>
                  <a:cubicBezTo>
                    <a:pt x="1347272" y="1677527"/>
                    <a:pt x="1114707" y="1773268"/>
                    <a:pt x="872968" y="1769974"/>
                  </a:cubicBezTo>
                  <a:lnTo>
                    <a:pt x="885029" y="885028"/>
                  </a:lnTo>
                  <a:lnTo>
                    <a:pt x="1516627" y="1504995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饼形 42"/>
            <p:cNvSpPr/>
            <p:nvPr/>
          </p:nvSpPr>
          <p:spPr>
            <a:xfrm flipH="1" flipV="1" rot="5400000">
              <a:off x="1266840" y="1743120"/>
              <a:ext cx="1458720" cy="1458720"/>
            </a:xfrm>
            <a:custGeom>
              <a:avLst/>
              <a:gdLst/>
              <a:ahLst/>
              <a:rect l="l" t="t" r="r" b="b"/>
              <a:pathLst>
                <a:path w="1458909" h="1458908">
                  <a:moveTo>
                    <a:pt x="1246112" y="1244399"/>
                  </a:moveTo>
                  <a:cubicBezTo>
                    <a:pt x="1106786" y="1384188"/>
                    <a:pt x="916761" y="1461555"/>
                    <a:pt x="719415" y="1458838"/>
                  </a:cubicBezTo>
                  <a:lnTo>
                    <a:pt x="729455" y="729454"/>
                  </a:lnTo>
                  <a:lnTo>
                    <a:pt x="1246112" y="1244399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4" name="组合 50"/>
          <p:cNvGrpSpPr/>
          <p:nvPr/>
        </p:nvGrpSpPr>
        <p:grpSpPr>
          <a:xfrm>
            <a:off x="230040" y="714240"/>
            <a:ext cx="3522960" cy="3522960"/>
            <a:chOff x="230040" y="714240"/>
            <a:chExt cx="3522960" cy="3522960"/>
          </a:xfrm>
        </p:grpSpPr>
        <p:sp>
          <p:nvSpPr>
            <p:cNvPr id="465" name="饼形 45"/>
            <p:cNvSpPr/>
            <p:nvPr/>
          </p:nvSpPr>
          <p:spPr>
            <a:xfrm rot="5400000">
              <a:off x="230040" y="713880"/>
              <a:ext cx="3522960" cy="352296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5" y="3001536"/>
                  </a:moveTo>
                  <a:cubicBezTo>
                    <a:pt x="2679649" y="3336672"/>
                    <a:pt x="2226712" y="3524405"/>
                    <a:pt x="1754737" y="3522639"/>
                  </a:cubicBezTo>
                  <a:cubicBezTo>
                    <a:pt x="1756933" y="2935535"/>
                    <a:pt x="1759130" y="2348430"/>
                    <a:pt x="1761326" y="1761326"/>
                  </a:cubicBezTo>
                  <a:lnTo>
                    <a:pt x="3011985" y="30015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饼形 46"/>
            <p:cNvSpPr/>
            <p:nvPr/>
          </p:nvSpPr>
          <p:spPr>
            <a:xfrm rot="5400000">
              <a:off x="597960" y="1090080"/>
              <a:ext cx="2770560" cy="2770560"/>
            </a:xfrm>
            <a:custGeom>
              <a:avLst/>
              <a:gdLst/>
              <a:ahLst/>
              <a:rect l="l" t="t" r="r" b="b"/>
              <a:pathLst>
                <a:path w="2770178" h="2770179">
                  <a:moveTo>
                    <a:pt x="2373554" y="2355352"/>
                  </a:moveTo>
                  <a:cubicBezTo>
                    <a:pt x="2112060" y="2621752"/>
                    <a:pt x="1754107" y="2771325"/>
                    <a:pt x="1380815" y="2770173"/>
                  </a:cubicBezTo>
                  <a:cubicBezTo>
                    <a:pt x="1382240" y="2308479"/>
                    <a:pt x="1383664" y="1846784"/>
                    <a:pt x="1385089" y="1385090"/>
                  </a:cubicBezTo>
                  <a:lnTo>
                    <a:pt x="2373554" y="235535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饼形 47"/>
            <p:cNvSpPr/>
            <p:nvPr/>
          </p:nvSpPr>
          <p:spPr>
            <a:xfrm rot="5400000">
              <a:off x="848880" y="1350360"/>
              <a:ext cx="2259360" cy="2259360"/>
            </a:xfrm>
            <a:custGeom>
              <a:avLst/>
              <a:gdLst/>
              <a:ahLst/>
              <a:rect l="l" t="t" r="r" b="b"/>
              <a:pathLst>
                <a:path w="2259005" h="2259006">
                  <a:moveTo>
                    <a:pt x="1935569" y="1920726"/>
                  </a:moveTo>
                  <a:cubicBezTo>
                    <a:pt x="1720910" y="2139412"/>
                    <a:pt x="1426610" y="2261495"/>
                    <a:pt x="1120187" y="2258968"/>
                  </a:cubicBezTo>
                  <a:cubicBezTo>
                    <a:pt x="1123292" y="1882480"/>
                    <a:pt x="1126398" y="1505991"/>
                    <a:pt x="1129503" y="1129503"/>
                  </a:cubicBezTo>
                  <a:lnTo>
                    <a:pt x="1935569" y="1920726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饼形 48"/>
            <p:cNvSpPr/>
            <p:nvPr/>
          </p:nvSpPr>
          <p:spPr>
            <a:xfrm rot="5400000">
              <a:off x="1085400" y="1596960"/>
              <a:ext cx="1770120" cy="1770120"/>
            </a:xfrm>
            <a:custGeom>
              <a:avLst/>
              <a:gdLst/>
              <a:ahLst/>
              <a:rect l="l" t="t" r="r" b="b"/>
              <a:pathLst>
                <a:path w="1770057" h="1770058">
                  <a:moveTo>
                    <a:pt x="1516627" y="1504996"/>
                  </a:moveTo>
                  <a:cubicBezTo>
                    <a:pt x="1347272" y="1677529"/>
                    <a:pt x="1114707" y="1773270"/>
                    <a:pt x="872968" y="1769975"/>
                  </a:cubicBezTo>
                  <a:lnTo>
                    <a:pt x="885029" y="885029"/>
                  </a:lnTo>
                  <a:lnTo>
                    <a:pt x="1516627" y="1504996"/>
                  </a:lnTo>
                  <a:close/>
                </a:path>
              </a:pathLst>
            </a:custGeom>
            <a:solidFill>
              <a:srgbClr val="d00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饼形 49"/>
            <p:cNvSpPr/>
            <p:nvPr/>
          </p:nvSpPr>
          <p:spPr>
            <a:xfrm rot="5400000">
              <a:off x="1251720" y="1751040"/>
              <a:ext cx="1459080" cy="1459080"/>
            </a:xfrm>
            <a:custGeom>
              <a:avLst/>
              <a:gdLst/>
              <a:ahLst/>
              <a:rect l="l" t="t" r="r" b="b"/>
              <a:pathLst>
                <a:path w="1458907" h="1458908">
                  <a:moveTo>
                    <a:pt x="1246110" y="1244399"/>
                  </a:moveTo>
                  <a:cubicBezTo>
                    <a:pt x="1106784" y="1384188"/>
                    <a:pt x="916760" y="1461555"/>
                    <a:pt x="719414" y="1458839"/>
                  </a:cubicBezTo>
                  <a:lnTo>
                    <a:pt x="729454" y="729454"/>
                  </a:lnTo>
                  <a:lnTo>
                    <a:pt x="1246110" y="1244399"/>
                  </a:lnTo>
                  <a:close/>
                </a:path>
              </a:pathLst>
            </a:custGeom>
            <a:solidFill>
              <a:srgbClr val="ff5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0" name="组合 66"/>
          <p:cNvGrpSpPr/>
          <p:nvPr/>
        </p:nvGrpSpPr>
        <p:grpSpPr>
          <a:xfrm>
            <a:off x="570960" y="857160"/>
            <a:ext cx="3522600" cy="3522600"/>
            <a:chOff x="570960" y="857160"/>
            <a:chExt cx="3522600" cy="3522600"/>
          </a:xfrm>
        </p:grpSpPr>
        <p:sp>
          <p:nvSpPr>
            <p:cNvPr id="471" name="饼形 52"/>
            <p:cNvSpPr/>
            <p:nvPr/>
          </p:nvSpPr>
          <p:spPr>
            <a:xfrm flipH="1" rot="16200000">
              <a:off x="570600" y="857160"/>
              <a:ext cx="352260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5" y="3001536"/>
                  </a:moveTo>
                  <a:cubicBezTo>
                    <a:pt x="2679649" y="3336672"/>
                    <a:pt x="2226712" y="3524405"/>
                    <a:pt x="1754737" y="3522639"/>
                  </a:cubicBezTo>
                  <a:cubicBezTo>
                    <a:pt x="1756933" y="2935535"/>
                    <a:pt x="1759130" y="2348430"/>
                    <a:pt x="1761326" y="1761326"/>
                  </a:cubicBezTo>
                  <a:lnTo>
                    <a:pt x="3011985" y="3001536"/>
                  </a:lnTo>
                  <a:close/>
                </a:path>
              </a:pathLst>
            </a:cu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饼形 53"/>
            <p:cNvSpPr/>
            <p:nvPr/>
          </p:nvSpPr>
          <p:spPr>
            <a:xfrm flipH="1" rot="16200000">
              <a:off x="954720" y="1233360"/>
              <a:ext cx="2770200" cy="2770200"/>
            </a:xfrm>
            <a:custGeom>
              <a:avLst/>
              <a:gdLst/>
              <a:ahLst/>
              <a:rect l="l" t="t" r="r" b="b"/>
              <a:pathLst>
                <a:path w="2770178" h="2770179">
                  <a:moveTo>
                    <a:pt x="2373554" y="2355352"/>
                  </a:moveTo>
                  <a:cubicBezTo>
                    <a:pt x="2112060" y="2621752"/>
                    <a:pt x="1754107" y="2771325"/>
                    <a:pt x="1380815" y="2770173"/>
                  </a:cubicBezTo>
                  <a:cubicBezTo>
                    <a:pt x="1382240" y="2308479"/>
                    <a:pt x="1383664" y="1846784"/>
                    <a:pt x="1385089" y="1385090"/>
                  </a:cubicBezTo>
                  <a:lnTo>
                    <a:pt x="2373554" y="2355352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饼形 54"/>
            <p:cNvSpPr/>
            <p:nvPr/>
          </p:nvSpPr>
          <p:spPr>
            <a:xfrm flipH="1" rot="16200000">
              <a:off x="1215000" y="1493640"/>
              <a:ext cx="2259000" cy="2259000"/>
            </a:xfrm>
            <a:custGeom>
              <a:avLst/>
              <a:gdLst/>
              <a:ahLst/>
              <a:rect l="l" t="t" r="r" b="b"/>
              <a:pathLst>
                <a:path w="2259005" h="2259006">
                  <a:moveTo>
                    <a:pt x="1935569" y="1920726"/>
                  </a:moveTo>
                  <a:cubicBezTo>
                    <a:pt x="1720910" y="2139412"/>
                    <a:pt x="1426610" y="2261495"/>
                    <a:pt x="1120187" y="2258968"/>
                  </a:cubicBezTo>
                  <a:cubicBezTo>
                    <a:pt x="1123292" y="1882480"/>
                    <a:pt x="1126398" y="1505991"/>
                    <a:pt x="1129503" y="1129503"/>
                  </a:cubicBezTo>
                  <a:lnTo>
                    <a:pt x="1935569" y="1920726"/>
                  </a:lnTo>
                  <a:close/>
                </a:path>
              </a:pathLst>
            </a:custGeom>
            <a:solidFill>
              <a:srgbClr val="f4e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饼形 55"/>
            <p:cNvSpPr/>
            <p:nvPr/>
          </p:nvSpPr>
          <p:spPr>
            <a:xfrm flipH="1" rot="16200000">
              <a:off x="1467360" y="1739880"/>
              <a:ext cx="1770120" cy="1770120"/>
            </a:xfrm>
            <a:custGeom>
              <a:avLst/>
              <a:gdLst/>
              <a:ahLst/>
              <a:rect l="l" t="t" r="r" b="b"/>
              <a:pathLst>
                <a:path w="1770057" h="1770056">
                  <a:moveTo>
                    <a:pt x="1516627" y="1504995"/>
                  </a:moveTo>
                  <a:cubicBezTo>
                    <a:pt x="1347272" y="1677527"/>
                    <a:pt x="1114707" y="1773268"/>
                    <a:pt x="872968" y="1769974"/>
                  </a:cubicBezTo>
                  <a:lnTo>
                    <a:pt x="885029" y="885028"/>
                  </a:lnTo>
                  <a:lnTo>
                    <a:pt x="1516627" y="1504995"/>
                  </a:lnTo>
                  <a:close/>
                </a:path>
              </a:pathLst>
            </a:custGeom>
            <a:solidFill>
              <a:srgbClr val="bcf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饼形 56"/>
            <p:cNvSpPr/>
            <p:nvPr/>
          </p:nvSpPr>
          <p:spPr>
            <a:xfrm flipH="1" rot="16200000">
              <a:off x="1613160" y="1893600"/>
              <a:ext cx="1458720" cy="1458720"/>
            </a:xfrm>
            <a:custGeom>
              <a:avLst/>
              <a:gdLst/>
              <a:ahLst/>
              <a:rect l="l" t="t" r="r" b="b"/>
              <a:pathLst>
                <a:path w="1458907" h="1458908">
                  <a:moveTo>
                    <a:pt x="1250202" y="1240261"/>
                  </a:moveTo>
                  <a:cubicBezTo>
                    <a:pt x="1110581" y="1382600"/>
                    <a:pt x="918780" y="1461583"/>
                    <a:pt x="719414" y="1458838"/>
                  </a:cubicBezTo>
                  <a:lnTo>
                    <a:pt x="729454" y="729454"/>
                  </a:lnTo>
                  <a:lnTo>
                    <a:pt x="1250202" y="1240261"/>
                  </a:lnTo>
                  <a:close/>
                </a:path>
              </a:pathLst>
            </a:custGeom>
            <a:solidFill>
              <a:srgbClr val="4f6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6" name="组合 65"/>
          <p:cNvGrpSpPr/>
          <p:nvPr/>
        </p:nvGrpSpPr>
        <p:grpSpPr>
          <a:xfrm>
            <a:off x="228240" y="706320"/>
            <a:ext cx="3522600" cy="3522960"/>
            <a:chOff x="228240" y="706320"/>
            <a:chExt cx="3522600" cy="3522960"/>
          </a:xfrm>
        </p:grpSpPr>
        <p:sp>
          <p:nvSpPr>
            <p:cNvPr id="477" name="饼形 60"/>
            <p:cNvSpPr/>
            <p:nvPr/>
          </p:nvSpPr>
          <p:spPr>
            <a:xfrm flipV="1" rot="16200000">
              <a:off x="227880" y="706320"/>
              <a:ext cx="3522960" cy="3522600"/>
            </a:xfrm>
            <a:custGeom>
              <a:avLst/>
              <a:gdLst/>
              <a:ahLst/>
              <a:rect l="l" t="t" r="r" b="b"/>
              <a:pathLst>
                <a:path w="3522652" h="3522652">
                  <a:moveTo>
                    <a:pt x="3011985" y="3001536"/>
                  </a:moveTo>
                  <a:cubicBezTo>
                    <a:pt x="2679649" y="3336672"/>
                    <a:pt x="2226712" y="3524405"/>
                    <a:pt x="1754737" y="3522639"/>
                  </a:cubicBezTo>
                  <a:cubicBezTo>
                    <a:pt x="1756933" y="2935535"/>
                    <a:pt x="1759130" y="2348430"/>
                    <a:pt x="1761326" y="1761326"/>
                  </a:cubicBezTo>
                  <a:lnTo>
                    <a:pt x="3011985" y="30015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饼形 61"/>
            <p:cNvSpPr/>
            <p:nvPr/>
          </p:nvSpPr>
          <p:spPr>
            <a:xfrm flipV="1" rot="16200000">
              <a:off x="596160" y="1082520"/>
              <a:ext cx="2770560" cy="2770200"/>
            </a:xfrm>
            <a:custGeom>
              <a:avLst/>
              <a:gdLst/>
              <a:ahLst/>
              <a:rect l="l" t="t" r="r" b="b"/>
              <a:pathLst>
                <a:path w="2770180" h="2770179">
                  <a:moveTo>
                    <a:pt x="2373556" y="2355352"/>
                  </a:moveTo>
                  <a:cubicBezTo>
                    <a:pt x="2112062" y="2621752"/>
                    <a:pt x="1754108" y="2771324"/>
                    <a:pt x="1380817" y="2770173"/>
                  </a:cubicBezTo>
                  <a:cubicBezTo>
                    <a:pt x="1382241" y="2308479"/>
                    <a:pt x="1383666" y="1846784"/>
                    <a:pt x="1385090" y="1385090"/>
                  </a:cubicBezTo>
                  <a:lnTo>
                    <a:pt x="2373556" y="2355352"/>
                  </a:lnTo>
                  <a:close/>
                </a:path>
              </a:pathLst>
            </a:custGeom>
            <a:solidFill>
              <a:srgbClr val="8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饼形 62"/>
            <p:cNvSpPr/>
            <p:nvPr/>
          </p:nvSpPr>
          <p:spPr>
            <a:xfrm flipV="1" rot="16200000">
              <a:off x="846720" y="1333440"/>
              <a:ext cx="2259360" cy="2259000"/>
            </a:xfrm>
            <a:custGeom>
              <a:avLst/>
              <a:gdLst/>
              <a:ahLst/>
              <a:rect l="l" t="t" r="r" b="b"/>
              <a:pathLst>
                <a:path w="2259007" h="2259006">
                  <a:moveTo>
                    <a:pt x="1935570" y="1920726"/>
                  </a:moveTo>
                  <a:cubicBezTo>
                    <a:pt x="1720911" y="2139412"/>
                    <a:pt x="1426611" y="2261495"/>
                    <a:pt x="1120187" y="2258968"/>
                  </a:cubicBezTo>
                  <a:cubicBezTo>
                    <a:pt x="1123293" y="1882480"/>
                    <a:pt x="1126398" y="1505991"/>
                    <a:pt x="1129504" y="1129503"/>
                  </a:cubicBezTo>
                  <a:lnTo>
                    <a:pt x="1935570" y="1920726"/>
                  </a:lnTo>
                  <a:close/>
                </a:path>
              </a:pathLst>
            </a:custGeom>
            <a:solidFill>
              <a:srgbClr val="bcfe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饼形 63"/>
            <p:cNvSpPr/>
            <p:nvPr/>
          </p:nvSpPr>
          <p:spPr>
            <a:xfrm flipV="1" rot="16200000">
              <a:off x="1083960" y="1575360"/>
              <a:ext cx="1770120" cy="1770120"/>
            </a:xfrm>
            <a:custGeom>
              <a:avLst/>
              <a:gdLst/>
              <a:ahLst/>
              <a:rect l="l" t="t" r="r" b="b"/>
              <a:pathLst>
                <a:path w="1770057" h="1770056">
                  <a:moveTo>
                    <a:pt x="1516627" y="1504995"/>
                  </a:moveTo>
                  <a:cubicBezTo>
                    <a:pt x="1347272" y="1677527"/>
                    <a:pt x="1114707" y="1773268"/>
                    <a:pt x="872968" y="1769974"/>
                  </a:cubicBezTo>
                  <a:lnTo>
                    <a:pt x="885029" y="885028"/>
                  </a:lnTo>
                  <a:lnTo>
                    <a:pt x="1516627" y="1504995"/>
                  </a:lnTo>
                  <a:close/>
                </a:path>
              </a:pathLst>
            </a:custGeom>
            <a:solidFill>
              <a:srgbClr val="e1f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饼形 64"/>
            <p:cNvSpPr/>
            <p:nvPr/>
          </p:nvSpPr>
          <p:spPr>
            <a:xfrm flipV="1" rot="16200000">
              <a:off x="1250640" y="1732680"/>
              <a:ext cx="1459080" cy="1458720"/>
            </a:xfrm>
            <a:custGeom>
              <a:avLst/>
              <a:gdLst/>
              <a:ahLst/>
              <a:rect l="l" t="t" r="r" b="b"/>
              <a:pathLst>
                <a:path w="1458909" h="1458908">
                  <a:moveTo>
                    <a:pt x="1246112" y="1244399"/>
                  </a:moveTo>
                  <a:cubicBezTo>
                    <a:pt x="1106786" y="1384188"/>
                    <a:pt x="916761" y="1461555"/>
                    <a:pt x="719415" y="1458838"/>
                  </a:cubicBezTo>
                  <a:lnTo>
                    <a:pt x="729455" y="729454"/>
                  </a:lnTo>
                  <a:lnTo>
                    <a:pt x="1246112" y="1244399"/>
                  </a:lnTo>
                  <a:close/>
                </a:path>
              </a:pathLst>
            </a:custGeom>
            <a:solidFill>
              <a:srgbClr val="ecf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2" name="TextBox 50"/>
          <p:cNvSpPr/>
          <p:nvPr/>
        </p:nvSpPr>
        <p:spPr>
          <a:xfrm>
            <a:off x="4707360" y="3000240"/>
            <a:ext cx="308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Thank You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w.pptbz.com</dc:creator>
  <dc:description/>
  <dc:language>en-US</dc:language>
  <cp:lastModifiedBy>a</cp:lastModifiedBy>
  <dcterms:modified xsi:type="dcterms:W3CDTF">2015-07-25T02:23:28Z</dcterms:modified>
  <cp:revision>24</cp:revision>
  <dc:subject/>
  <dc:title>幻灯片 1</dc:title>
</cp:coreProperties>
</file>