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9094-CE32-4424-B72C-D29EEDC8A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DB78-B274-4770-B8CC-5D929E1E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CB82-B01F-47A3-AAC7-22F39715E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B2C9-D601-490B-84E7-33BB6F8C7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7DA63-722D-4816-BC85-E0BFF3A7B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A60C1-8AA2-4F8E-A808-B6C5E8995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0408C-430E-4816-8429-926909654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1FB64-96CD-4551-9C84-2DD87B8FC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9B7D8-C7E1-4FE4-B58A-F0B4461D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91DAD-C1C3-4A95-B8A8-73B1B449C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DE210-055C-4802-929A-B0A96881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8884-4D70-429C-ABE8-A4141CB7B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D4F68-E0D4-408D-8AB4-9CA2BBCA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0EDE2-0EAC-41E7-9236-CDE91E95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CE30D-0087-475E-8849-87E0C7736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EE864-C622-4567-A209-2EF4BC861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D2A0E-9A86-4EA8-8F9D-DBAA745F5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3A01-93B1-447E-887A-888FF77AA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FCF8-98C8-4852-B4FC-3182FB28B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7412-8235-4D9A-A088-92B316F9E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6DB4-96E6-4F78-B941-D935D5515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A2C8-360B-4CA7-AE9B-1BB20655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7E60-DB11-42EA-A796-A180F479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1F51-AD98-445E-96AD-447D475B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5AA20-A3A4-4919-A233-A01AF1DFEAE7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757DA-5954-4C86-9E08-630452F429B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8"/>
          <p:cNvSpPr/>
          <p:nvPr/>
        </p:nvSpPr>
        <p:spPr>
          <a:xfrm>
            <a:off x="2945520" y="3259080"/>
            <a:ext cx="32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2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"/>
          <p:cNvSpPr/>
          <p:nvPr/>
        </p:nvSpPr>
        <p:spPr>
          <a:xfrm flipV="1">
            <a:off x="0" y="5372640"/>
            <a:ext cx="9144000" cy="1484280"/>
          </a:xfrm>
          <a:prstGeom prst="rect">
            <a:avLst/>
          </a:prstGeom>
          <a:solidFill>
            <a:srgbClr val="80808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133200" y="5423040"/>
            <a:ext cx="88711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汉仪娃娃篆简"/>
              </a:rPr>
              <a:t>今天，你</a:t>
            </a: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汉仪娃娃篆简"/>
              </a:rPr>
              <a:t>微笑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汉仪娃娃篆简"/>
              </a:rPr>
              <a:t>了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108000" y="5373720"/>
            <a:ext cx="88707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9900"/>
                </a:solidFill>
                <a:latin typeface="Arial"/>
                <a:ea typeface="汉仪娃娃篆简"/>
              </a:rPr>
              <a:t>今天，你</a:t>
            </a:r>
            <a:r>
              <a:rPr b="0" lang="zh-CN" sz="7200" spc="-1" strike="noStrike">
                <a:solidFill>
                  <a:srgbClr val="ff9900"/>
                </a:solidFill>
                <a:latin typeface="Arial"/>
                <a:ea typeface="汉仪娃娃篆简"/>
              </a:rPr>
              <a:t>微笑</a:t>
            </a:r>
            <a:r>
              <a:rPr b="0" lang="zh-CN" sz="4800" spc="-1" strike="noStrike">
                <a:solidFill>
                  <a:srgbClr val="ff9900"/>
                </a:solidFill>
                <a:latin typeface="Arial"/>
                <a:ea typeface="汉仪娃娃篆简"/>
              </a:rPr>
              <a:t>了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3284640" y="5048280"/>
            <a:ext cx="330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cc00"/>
                </a:solidFill>
                <a:latin typeface="Arial"/>
                <a:ea typeface="宋体"/>
              </a:rPr>
              <a:t>快乐办公之心灵秘籍</a:t>
            </a:r>
            <a:r>
              <a:rPr b="0" lang="zh-CN" sz="2000" spc="-1" strike="noStrike">
                <a:solidFill>
                  <a:srgbClr val="99cc00"/>
                </a:solidFill>
                <a:latin typeface="Arial"/>
                <a:ea typeface="宋体"/>
              </a:rPr>
              <a:t>—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"/>
          <p:cNvSpPr/>
          <p:nvPr/>
        </p:nvSpPr>
        <p:spPr>
          <a:xfrm>
            <a:off x="2361960" y="28440"/>
            <a:ext cx="476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心态通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5079960" y="3933720"/>
            <a:ext cx="1871640" cy="5032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1836720" y="3933720"/>
            <a:ext cx="1871640" cy="5032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5079960" y="2852640"/>
            <a:ext cx="1871640" cy="5032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1836720" y="2852640"/>
            <a:ext cx="1871640" cy="5032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5079960" y="1844640"/>
            <a:ext cx="1871640" cy="5047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1836720" y="1844640"/>
            <a:ext cx="1871640" cy="5047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2219400" y="631800"/>
            <a:ext cx="4944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1712880" y="693720"/>
            <a:ext cx="588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Arial"/>
                <a:ea typeface="宋体"/>
              </a:rPr>
              <a:t>微笑上班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  <a:ea typeface="宋体"/>
              </a:rPr>
              <a:t>6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  <a:ea typeface="宋体"/>
              </a:rPr>
              <a:t>绝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1806480" y="1808280"/>
            <a:ext cx="211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、乐观心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5105520" y="1808280"/>
            <a:ext cx="211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、提升能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2"/>
          <p:cNvSpPr/>
          <p:nvPr/>
        </p:nvSpPr>
        <p:spPr>
          <a:xfrm>
            <a:off x="1806480" y="2852640"/>
            <a:ext cx="211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、管理时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5119560" y="2852640"/>
            <a:ext cx="211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、保持健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1806480" y="3908520"/>
            <a:ext cx="211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、加强沟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5"/>
          <p:cNvSpPr/>
          <p:nvPr/>
        </p:nvSpPr>
        <p:spPr>
          <a:xfrm>
            <a:off x="5119560" y="3908520"/>
            <a:ext cx="211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、把握今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6" descr="5"/>
          <p:cNvPicPr/>
          <p:nvPr/>
        </p:nvPicPr>
        <p:blipFill>
          <a:blip r:embed="rId2"/>
          <a:stretch/>
        </p:blipFill>
        <p:spPr>
          <a:xfrm rot="720000">
            <a:off x="7380360" y="4436640"/>
            <a:ext cx="1184040" cy="11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4"/>
          <p:cNvPicPr/>
          <p:nvPr/>
        </p:nvPicPr>
        <p:blipFill>
          <a:blip r:embed="rId2"/>
          <a:stretch/>
        </p:blipFill>
        <p:spPr>
          <a:xfrm>
            <a:off x="900000" y="2276640"/>
            <a:ext cx="3065400" cy="1996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01300000084627121640859141042"/>
          <p:cNvPicPr/>
          <p:nvPr/>
        </p:nvPicPr>
        <p:blipFill>
          <a:blip r:embed="rId3"/>
          <a:stretch/>
        </p:blipFill>
        <p:spPr>
          <a:xfrm>
            <a:off x="5364000" y="2133720"/>
            <a:ext cx="2816280" cy="20872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4"/>
          <p:cNvSpPr/>
          <p:nvPr/>
        </p:nvSpPr>
        <p:spPr>
          <a:xfrm>
            <a:off x="4140360" y="2854440"/>
            <a:ext cx="115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汉仪娃娃篆简"/>
              </a:rPr>
              <a:t>或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279440" y="866880"/>
            <a:ext cx="653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Arial"/>
                <a:ea typeface="宋体"/>
              </a:rPr>
              <a:t>乐观心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1619280" y="4365720"/>
            <a:ext cx="12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愁眉苦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6229440" y="4365720"/>
            <a:ext cx="158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笑对工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619280" y="5157720"/>
            <a:ext cx="6146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9900"/>
                </a:solidFill>
                <a:latin typeface="Arial"/>
                <a:ea typeface="汉仪娃娃篆简"/>
              </a:rPr>
              <a:t>我们不能选择工作，但可以选择心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828720" y="1557360"/>
            <a:ext cx="7591320" cy="20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遇到压力时要看到压力后面的动力；遇到挫折时要看到挫折后面的成长，遇到成功时要看到成功后面的失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任何事情都有两个以上的选择，我们要做的是选择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  <a:ea typeface="宋体"/>
              </a:rPr>
              <a:t>积极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应对心态。有专家研究，一个乐观系数高的人，在处理问题时，他就会比一般人多出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  <a:ea typeface="宋体"/>
              </a:rPr>
              <a:t>20%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机会得到满意的结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正向乐观的态度不仅会平息由环境压力而带来的紊乱情绪，也较能使问题导向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  <a:ea typeface="宋体"/>
              </a:rPr>
              <a:t>积极正面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结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1692360" y="838080"/>
            <a:ext cx="588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  <a:ea typeface="宋体"/>
              </a:rPr>
              <a:t>、乐观心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8313604_093835684000_2副本"/>
          <p:cNvPicPr/>
          <p:nvPr/>
        </p:nvPicPr>
        <p:blipFill>
          <a:blip r:embed="rId2"/>
          <a:stretch/>
        </p:blipFill>
        <p:spPr>
          <a:xfrm>
            <a:off x="6811920" y="5016600"/>
            <a:ext cx="1608120" cy="16081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4"/>
          <p:cNvSpPr/>
          <p:nvPr/>
        </p:nvSpPr>
        <p:spPr>
          <a:xfrm>
            <a:off x="463680" y="6319800"/>
            <a:ext cx="715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1979640" y="4797360"/>
            <a:ext cx="5256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9900"/>
                </a:solidFill>
                <a:latin typeface="汉仪娃娃篆简"/>
                <a:ea typeface="汉仪娃娃篆简"/>
              </a:rPr>
              <a:t>人们需要快乐</a:t>
            </a:r>
            <a:r>
              <a:rPr b="0" lang="zh-CN" sz="2600" spc="-1" strike="noStrike">
                <a:solidFill>
                  <a:srgbClr val="ff9900"/>
                </a:solidFill>
                <a:latin typeface="汉仪娃娃篆简"/>
                <a:ea typeface="汉仪娃娃篆简"/>
              </a:rPr>
              <a:t>,</a:t>
            </a:r>
            <a:r>
              <a:rPr b="0" lang="zh-CN" sz="2600" spc="-1" strike="noStrike">
                <a:solidFill>
                  <a:srgbClr val="ff9900"/>
                </a:solidFill>
                <a:latin typeface="汉仪娃娃篆简"/>
                <a:ea typeface="汉仪娃娃篆简"/>
              </a:rPr>
              <a:t>就像需要衣服一样。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玛格瑞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科利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格雷厄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2"/>
          <a:stretch/>
        </p:blipFill>
        <p:spPr>
          <a:xfrm>
            <a:off x="2048040" y="981000"/>
            <a:ext cx="51879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1044720" y="1557360"/>
            <a:ext cx="766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熟读以上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项黄金法则，让你快乐长伴，每天以微笑面对工作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1042920" y="2635200"/>
            <a:ext cx="766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9900"/>
                </a:solidFill>
                <a:latin typeface="Arial"/>
                <a:ea typeface="汉仪娃娃篆简"/>
              </a:rPr>
              <a:t>今天，你微笑了吗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8313604_093835684000_2副本"/>
          <p:cNvPicPr/>
          <p:nvPr/>
        </p:nvPicPr>
        <p:blipFill>
          <a:blip r:embed="rId2"/>
          <a:stretch/>
        </p:blipFill>
        <p:spPr>
          <a:xfrm>
            <a:off x="3492360" y="3286080"/>
            <a:ext cx="2592360" cy="25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9"/>
          <p:cNvPicPr/>
          <p:nvPr/>
        </p:nvPicPr>
        <p:blipFill>
          <a:blip r:embed="rId2"/>
          <a:stretch/>
        </p:blipFill>
        <p:spPr>
          <a:xfrm>
            <a:off x="2211480" y="3286080"/>
            <a:ext cx="4593960" cy="33130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1260360" y="2349360"/>
            <a:ext cx="667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9900"/>
                </a:solidFill>
                <a:latin typeface="Arial"/>
                <a:ea typeface="汉仪娃娃篆简"/>
              </a:rPr>
              <a:t>谢  谢  观  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463680" y="6319800"/>
            <a:ext cx="715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cp:keywords/>
  <dc:language>en-US</dc:language>
  <cp:lastModifiedBy>王玉清</cp:lastModifiedBy>
  <cp:lastPrinted>1899-12-30T00:00:00Z</cp:lastPrinted>
  <dcterms:modified xsi:type="dcterms:W3CDTF">2016-02-21T04:03:49Z</dcterms:modified>
  <cp:revision>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