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B9CB4-CE96-4658-B051-E778ED17D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C141B-FE3D-472A-A1D3-1F11D2963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A489D-AAE3-4375-BEC9-1C1876D03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2DC11-0721-4741-9D0B-4A4F9745F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B84F3-F381-4518-8A48-1A391C325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6E7E5-064E-414E-8D56-F8DCCD938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2CF2D-813A-4A06-BB23-8A22E05DD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5D7F6-51D3-4F14-9C6E-3BAE6607D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BA862-424D-49E7-B32D-D684147CB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7E034-E83C-4176-9B2D-D706B8108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BB736-094F-4274-95FE-25C7E6883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ACCD8-8156-4344-9114-91081B9AE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9AF7C-DD99-422B-B2E2-AB7B25031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F2D28-2A95-4089-92AA-0E031F809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D66F2-6065-41EC-828C-3956E74F6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C791B-A14F-42E5-A702-CC53A33C1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1543B-6568-4E72-A29C-4EA90098D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83D08-8113-4900-9718-EC0D19992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E94D9-534E-4CE1-AFAC-0B8B3004A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9052A-A6BE-4367-A784-56FB6ECE3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FF443-9DE2-4396-859B-2A3C26238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63F4E-2F32-49B5-8539-AFCC21019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E74C-A0C2-402E-891C-B5994CE57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4457F-7B9F-4760-8552-92BF3651B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新細明體"/>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B0FC-17F5-40E9-A132-AEC4CCA1F88E}" type="slidenum">
              <a:rPr b="0" lang="en-US" sz="1200" spc="-1" strike="noStrike">
                <a:solidFill>
                  <a:srgbClr val="898989"/>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新細明體"/>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AB1F-8C58-4299-A418-11C667D4FE84}" type="slidenum">
              <a:rPr b="0" lang="en-US" sz="1200" spc="-1" strike="noStrike">
                <a:solidFill>
                  <a:srgbClr val="898989"/>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882440"/>
            <a:ext cx="82360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休息的骏马通用</a:t>
            </a:r>
            <a:r>
              <a:rPr b="1" lang="en-US" sz="4000" spc="-1" strike="noStrike">
                <a:solidFill>
                  <a:srgbClr val="000000"/>
                </a:solidFill>
                <a:latin typeface="Tahoma"/>
                <a:ea typeface="宋体"/>
              </a:rPr>
              <a:t>PPT</a:t>
            </a:r>
            <a:r>
              <a:rPr b="1" lang="zh-CN" sz="4000" spc="-1" strike="noStrike">
                <a:solidFill>
                  <a:srgbClr val="000000"/>
                </a:solidFill>
                <a:latin typeface="Tahoma"/>
                <a:ea typeface="宋体"/>
              </a:rPr>
              <a:t>模板在线下载</a:t>
            </a:r>
            <a:endParaRPr b="1" lang="en-US" sz="4000" spc="-1" strike="noStrike">
              <a:solidFill>
                <a:srgbClr val="000000"/>
              </a:solidFill>
              <a:latin typeface="Tahoma"/>
            </a:endParaRPr>
          </a:p>
        </p:txBody>
      </p:sp>
      <p:sp>
        <p:nvSpPr>
          <p:cNvPr id="83" name="PlaceHolder 2"/>
          <p:cNvSpPr>
            <a:spLocks noGrp="1"/>
          </p:cNvSpPr>
          <p:nvPr>
            <p:ph type="subTitle"/>
          </p:nvPr>
        </p:nvSpPr>
        <p:spPr>
          <a:xfrm>
            <a:off x="179280" y="2895120"/>
            <a:ext cx="6400800" cy="175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Presentation Subtitle</a:t>
            </a:r>
            <a:endParaRPr b="0" lang="en-US" sz="2400" spc="-1" strike="noStrike">
              <a:solidFill>
                <a:srgbClr val="000000"/>
              </a:solidFill>
              <a:latin typeface="Calibri"/>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新細明體"/>
              </a:rPr>
              <a:t>Slide Master</a:t>
            </a:r>
            <a:endParaRPr b="1" lang="en-US" sz="3600" spc="-1" strike="noStrike">
              <a:solidFill>
                <a:srgbClr val="000000"/>
              </a:solidFill>
              <a:latin typeface="Tahoma"/>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09680" y="1519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新細明體"/>
              </a:rPr>
              <a:t>Print Master</a:t>
            </a:r>
            <a:endParaRPr b="1" lang="en-US" sz="3600" spc="-1" strike="noStrike">
              <a:solidFill>
                <a:srgbClr val="000000"/>
              </a:solidFill>
              <a:latin typeface="Tahoma"/>
            </a:endParaRPr>
          </a:p>
        </p:txBody>
      </p:sp>
      <p:sp>
        <p:nvSpPr>
          <p:cNvPr id="88" name=""/>
          <p:cNvSpPr txBox="1"/>
          <p:nvPr/>
        </p:nvSpPr>
        <p:spPr>
          <a:xfrm>
            <a:off x="2286000" y="1600200"/>
            <a:ext cx="64008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新細明體"/>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4:21:37Z</dcterms:created>
  <dc:creator>pc</dc:creator>
  <dc:description/>
  <dc:language>en-US</dc:language>
  <cp:lastModifiedBy>王玉清</cp:lastModifiedBy>
  <dcterms:modified xsi:type="dcterms:W3CDTF">2016-03-02T07:21:38Z</dcterms:modified>
  <cp:revision>2</cp:revision>
  <dc:subject/>
  <dc:title>Presentation Title</dc:title>
</cp:coreProperties>
</file>