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9A4-DB1E-401D-A8F7-E8500E48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984-7D25-4AE6-9A2B-64CF1D7B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8F9-9145-4FA3-A06C-7AFF3D8C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A7B-E9D9-4A87-AE66-3EBA2441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5F2-9021-4ADB-85FD-B60690CF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E4B-F8DF-4015-ABCE-3B24650E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FE8-C766-4F55-AD3F-1C84F60A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B4D-ECFD-4878-8D73-7004A0CD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2C1-FE77-460A-B8FD-52C30341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176-0755-4139-9DB6-56E39B6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D7B-EE6A-4A13-A53D-A5B569BD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32F-77AF-40DE-BF3F-E6697F28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D879-5DCC-482C-B2FC-E482C3A29C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3A99-04C7-43E5-9964-1684842C06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"/>
          <p:cNvSpPr/>
          <p:nvPr/>
        </p:nvSpPr>
        <p:spPr>
          <a:xfrm>
            <a:off x="942840" y="3168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40" y="936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1440" y="32893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0" y="482436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6"/>
          <a:stretch/>
        </p:blipFill>
        <p:spPr>
          <a:xfrm>
            <a:off x="1670040" y="1776240"/>
            <a:ext cx="3611520" cy="614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7"/>
          <a:stretch/>
        </p:blipFill>
        <p:spPr>
          <a:xfrm>
            <a:off x="-11160" y="1628640"/>
            <a:ext cx="1087560" cy="214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8"/>
          <a:stretch/>
        </p:blipFill>
        <p:spPr>
          <a:xfrm>
            <a:off x="0" y="-4680"/>
            <a:ext cx="9828360" cy="150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140200" y="165240"/>
            <a:ext cx="58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30240" y="9360"/>
            <a:ext cx="9174240" cy="685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-36360" y="3274920"/>
            <a:ext cx="7035480" cy="3576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5"/>
          <a:stretch/>
        </p:blipFill>
        <p:spPr>
          <a:xfrm>
            <a:off x="-36360" y="4826160"/>
            <a:ext cx="6557760" cy="203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6"/>
          <a:stretch/>
        </p:blipFill>
        <p:spPr>
          <a:xfrm>
            <a:off x="-20520" y="1268280"/>
            <a:ext cx="1392120" cy="275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9320" cy="686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-7920" y="32749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-3240" y="482760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6"/>
          <a:stretch/>
        </p:blipFill>
        <p:spPr>
          <a:xfrm>
            <a:off x="-11160" y="1268280"/>
            <a:ext cx="1303560" cy="257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1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1T03:32:15Z</dcterms:modified>
  <cp:revision>13</cp:revision>
  <dc:subject/>
  <dc:title>PowerPoint 演示文稿</dc:title>
</cp:coreProperties>
</file>