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D30-623A-4DAF-8246-A4A1D1A9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AEB-E120-4D66-8BAE-D3E39B4E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51C-CF04-4C5B-AD10-0B36A5C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CCE-6D3C-48CF-A815-7B552C5E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24B-6618-4A2D-BE82-DC4AF77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6B5-69DD-4FE7-BBA5-EC265A32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03B-E121-440C-A834-7F6FBD5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DC0-6C04-4A5C-9EF0-362D46E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46E-1BEC-4408-B9F2-13F9F822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42D-C1D6-442C-9543-2183CC5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4A9-6459-4CEE-AFFB-59AB1F7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8D2-3D6C-4B2B-9DB3-DB43AF9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49F6-7A05-405E-AA83-5184AEC720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4854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497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426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569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839880" y="298440"/>
            <a:ext cx="77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夕阳下的一叶舟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57192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11920" y="434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069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8549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5712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354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997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571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96800" y="62150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997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978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1T07:07:50Z</dcterms:modified>
  <cp:revision>42</cp:revision>
  <dc:subject/>
  <dc:title>幻灯片 1</dc:title>
</cp:coreProperties>
</file>