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5357880"/>
            <a:ext cx="9144000" cy="15001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7"/>
          <p:cNvSpPr/>
          <p:nvPr/>
        </p:nvSpPr>
        <p:spPr>
          <a:xfrm>
            <a:off x="0" y="1096920"/>
            <a:ext cx="9144000" cy="460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1096920"/>
            <a:ext cx="9144000" cy="460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11"/>
          <p:cNvSpPr/>
          <p:nvPr/>
        </p:nvSpPr>
        <p:spPr>
          <a:xfrm>
            <a:off x="142920" y="4165560"/>
            <a:ext cx="2192400" cy="212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占位符 5" descr="200608282049141x.jpg"/>
          <p:cNvPicPr/>
          <p:nvPr/>
        </p:nvPicPr>
        <p:blipFill>
          <a:blip r:embed="rId1"/>
          <a:srcRect l="0" t="5893" r="0" b="5893"/>
          <a:stretch/>
        </p:blipFill>
        <p:spPr>
          <a:xfrm>
            <a:off x="34920" y="18900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占位符 10" descr="20060828205021va.jpg"/>
          <p:cNvPicPr/>
          <p:nvPr/>
        </p:nvPicPr>
        <p:blipFill>
          <a:blip r:embed="rId2"/>
          <a:stretch/>
        </p:blipFill>
        <p:spPr>
          <a:xfrm>
            <a:off x="281160" y="4303800"/>
            <a:ext cx="1938240" cy="1938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18108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67120" y="40464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关美国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占位符 6" descr="200608282049141x.jpg"/>
          <p:cNvPicPr/>
          <p:nvPr/>
        </p:nvPicPr>
        <p:blipFill>
          <a:blip r:embed="rId1"/>
          <a:srcRect l="0" t="41177" r="0" b="41177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23" name="矩形 7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583920" y="145080"/>
            <a:ext cx="56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示 10" descr=""/>
          <p:cNvPicPr/>
          <p:nvPr/>
        </p:nvPicPr>
        <p:blipFill>
          <a:blip r:embed="rId2"/>
          <a:stretch/>
        </p:blipFill>
        <p:spPr>
          <a:xfrm>
            <a:off x="1554120" y="1474920"/>
            <a:ext cx="6132600" cy="474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占位符 6" descr="200608282049141x.jpg"/>
          <p:cNvPicPr/>
          <p:nvPr/>
        </p:nvPicPr>
        <p:blipFill>
          <a:blip r:embed="rId1"/>
          <a:srcRect l="0" t="41177" r="0" b="41177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27" name="矩形 7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583920" y="145080"/>
            <a:ext cx="56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912960" y="1643040"/>
            <a:ext cx="737856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14680" y="4286160"/>
            <a:ext cx="63244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[ Image information in product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 : 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 to customers : This image has been licensed to be used within this PowerPoint template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may not extract the image for any other u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占位符 6" descr="200608282049141x.jpg"/>
          <p:cNvPicPr/>
          <p:nvPr/>
        </p:nvPicPr>
        <p:blipFill>
          <a:blip r:embed="rId1"/>
          <a:srcRect l="0" t="41177" r="0" b="41177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32" name="矩形 7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583920" y="145080"/>
            <a:ext cx="56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 flipH="1">
            <a:off x="4700160" y="206064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6"/>
          <p:cNvGrpSpPr/>
          <p:nvPr/>
        </p:nvGrpSpPr>
        <p:grpSpPr>
          <a:xfrm>
            <a:off x="123120" y="1143000"/>
            <a:ext cx="4918320" cy="4926960"/>
            <a:chOff x="123120" y="1143000"/>
            <a:chExt cx="4918320" cy="4926960"/>
          </a:xfrm>
        </p:grpSpPr>
        <p:sp>
          <p:nvSpPr>
            <p:cNvPr id="136" name="AutoShape 5"/>
            <p:cNvSpPr/>
            <p:nvPr/>
          </p:nvSpPr>
          <p:spPr>
            <a:xfrm rot="2692800">
              <a:off x="845640" y="1893240"/>
              <a:ext cx="3449520" cy="3464280"/>
            </a:xfrm>
            <a:prstGeom prst="pie">
              <a:avLst/>
            </a:prstGeom>
            <a:gradFill rotWithShape="0">
              <a:gsLst>
                <a:gs pos="0">
                  <a:srgbClr val="77933c"/>
                </a:gs>
                <a:gs pos="100000">
                  <a:srgbClr val="7abc32"/>
                </a:gs>
              </a:gsLst>
              <a:lin ang="27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"/>
            <p:cNvSpPr/>
            <p:nvPr/>
          </p:nvSpPr>
          <p:spPr>
            <a:xfrm rot="18892800">
              <a:off x="871920" y="1892520"/>
              <a:ext cx="3449880" cy="3463920"/>
            </a:xfrm>
            <a:prstGeom prst="pie">
              <a:avLst/>
            </a:prstGeom>
            <a:solidFill>
              <a:srgbClr val="e36c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 flipV="1" rot="18907200">
              <a:off x="842760" y="1855440"/>
              <a:ext cx="3449520" cy="3464640"/>
            </a:xfrm>
            <a:prstGeom prst="pi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7da2ce"/>
                </a:gs>
              </a:gsLst>
              <a:lin ang="27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 flipH="1" flipV="1" rot="2692800">
              <a:off x="871200" y="1855440"/>
              <a:ext cx="3449520" cy="34646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d17e7c"/>
                </a:gs>
              </a:gsLst>
              <a:lin ang="27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9"/>
            <p:cNvSpPr txBox="1"/>
            <p:nvPr/>
          </p:nvSpPr>
          <p:spPr>
            <a:xfrm rot="18991800">
              <a:off x="917280" y="2480760"/>
              <a:ext cx="2162160" cy="107928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312352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Your Text Here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41" name="WordArt 10"/>
            <p:cNvSpPr txBox="1"/>
            <p:nvPr/>
          </p:nvSpPr>
          <p:spPr>
            <a:xfrm rot="2855400">
              <a:off x="2084040" y="2538360"/>
              <a:ext cx="2162160" cy="107928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30548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Your Text Here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42" name="WordArt 11"/>
            <p:cNvSpPr txBox="1"/>
            <p:nvPr/>
          </p:nvSpPr>
          <p:spPr>
            <a:xfrm rot="2855400">
              <a:off x="910800" y="3678480"/>
              <a:ext cx="2162160" cy="107928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Down">
                <a:avLst>
                  <a:gd name="adj" fmla="val 240506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Your Text Here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43" name="WordArt 12"/>
            <p:cNvSpPr txBox="1"/>
            <p:nvPr/>
          </p:nvSpPr>
          <p:spPr>
            <a:xfrm rot="18739200">
              <a:off x="2107080" y="3617280"/>
              <a:ext cx="2162160" cy="114444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Down">
                <a:avLst>
                  <a:gd name="adj" fmla="val 240506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Your Text Here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1785960" y="3643920"/>
              <a:ext cx="1736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escription of the 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1643040" y="3029400"/>
              <a:ext cx="194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Calibri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>
              <a:off x="1628640" y="3572280"/>
              <a:ext cx="1895400" cy="0"/>
            </a:xfrm>
            <a:prstGeom prst="line">
              <a:avLst/>
            </a:prstGeom>
            <a:ln w="2844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27"/>
          <p:cNvGrpSpPr/>
          <p:nvPr/>
        </p:nvGrpSpPr>
        <p:grpSpPr>
          <a:xfrm>
            <a:off x="5081760" y="3529080"/>
            <a:ext cx="2635200" cy="1684800"/>
            <a:chOff x="5081760" y="3529080"/>
            <a:chExt cx="2635200" cy="1684800"/>
          </a:xfrm>
        </p:grpSpPr>
        <p:sp>
          <p:nvSpPr>
            <p:cNvPr id="148" name="AutoShape 16"/>
            <p:cNvSpPr/>
            <p:nvPr/>
          </p:nvSpPr>
          <p:spPr>
            <a:xfrm>
              <a:off x="5081760" y="3641760"/>
              <a:ext cx="247320" cy="24768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7"/>
            <p:cNvSpPr/>
            <p:nvPr/>
          </p:nvSpPr>
          <p:spPr>
            <a:xfrm>
              <a:off x="5081760" y="4067280"/>
              <a:ext cx="247320" cy="24768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8"/>
            <p:cNvSpPr/>
            <p:nvPr/>
          </p:nvSpPr>
          <p:spPr>
            <a:xfrm>
              <a:off x="5081760" y="4457880"/>
              <a:ext cx="247320" cy="247680"/>
            </a:xfrm>
            <a:prstGeom prst="pie">
              <a:avLst/>
            </a:prstGeom>
            <a:solidFill>
              <a:srgbClr val="7abc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5081760" y="4896000"/>
              <a:ext cx="247320" cy="24768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415120" y="3529080"/>
              <a:ext cx="230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Calibri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5415120" y="3957480"/>
              <a:ext cx="230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Calibri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2"/>
            <p:cNvSpPr/>
            <p:nvPr/>
          </p:nvSpPr>
          <p:spPr>
            <a:xfrm>
              <a:off x="5415120" y="4386240"/>
              <a:ext cx="230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Calibri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3"/>
            <p:cNvSpPr/>
            <p:nvPr/>
          </p:nvSpPr>
          <p:spPr>
            <a:xfrm>
              <a:off x="5415120" y="4815000"/>
              <a:ext cx="230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Calibri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24"/>
          <p:cNvSpPr/>
          <p:nvPr/>
        </p:nvSpPr>
        <p:spPr>
          <a:xfrm>
            <a:off x="4743360" y="2500200"/>
            <a:ext cx="355752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占位符 6" descr="200608282049141x.jpg"/>
          <p:cNvPicPr/>
          <p:nvPr/>
        </p:nvPicPr>
        <p:blipFill>
          <a:blip r:embed="rId1"/>
          <a:srcRect l="0" t="41177" r="0" b="41177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58" name="矩形 7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583920" y="145080"/>
            <a:ext cx="56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161" name="Picture 5" descr="whiteline_008"/>
            <p:cNvPicPr/>
            <p:nvPr/>
          </p:nvPicPr>
          <p:blipFill>
            <a:blip r:embed="rId2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whiteline_010"/>
            <p:cNvPicPr/>
            <p:nvPr/>
          </p:nvPicPr>
          <p:blipFill>
            <a:blip r:embed="rId3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7" descr="whiteline_006"/>
            <p:cNvPicPr/>
            <p:nvPr/>
          </p:nvPicPr>
          <p:blipFill>
            <a:blip r:embed="rId4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8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6214320" y="3230280"/>
              <a:ext cx="21722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escription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of the 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3567960" y="3429000"/>
              <a:ext cx="156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1357200" y="3690720"/>
              <a:ext cx="124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18" descr="R_chevron001"/>
            <p:cNvPicPr/>
            <p:nvPr/>
          </p:nvPicPr>
          <p:blipFill>
            <a:blip r:embed="rId5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9" descr="R_chevron001"/>
            <p:cNvPicPr/>
            <p:nvPr/>
          </p:nvPicPr>
          <p:blipFill>
            <a:blip r:embed="rId6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占位符 6" descr="200608282049141x.jpg"/>
          <p:cNvPicPr/>
          <p:nvPr/>
        </p:nvPicPr>
        <p:blipFill>
          <a:blip r:embed="rId1"/>
          <a:srcRect l="0" t="41177" r="0" b="41177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4572000" cy="2214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 the [View] menu, point to [Master], and then click [Slide Master] or [Notes Master]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0" y="4071960"/>
            <a:ext cx="4572000" cy="22147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 the [View] menu, point to [Master], and then click [Slide Master] or [Notes Master]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"/>
          <p:cNvSpPr/>
          <p:nvPr/>
        </p:nvSpPr>
        <p:spPr>
          <a:xfrm>
            <a:off x="583920" y="145080"/>
            <a:ext cx="56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占位符 250" descr="1243703432456.jpg"/>
          <p:cNvPicPr/>
          <p:nvPr/>
        </p:nvPicPr>
        <p:blipFill>
          <a:blip r:embed="rId2"/>
          <a:srcRect l="0" t="13635" r="0" b="13635"/>
          <a:stretch/>
        </p:blipFill>
        <p:spPr>
          <a:xfrm>
            <a:off x="4572000" y="1500120"/>
            <a:ext cx="4572000" cy="22147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占位符 251" descr="1243705529315.jpg"/>
          <p:cNvPicPr/>
          <p:nvPr/>
        </p:nvPicPr>
        <p:blipFill>
          <a:blip r:embed="rId3"/>
          <a:srcRect l="0" t="13635" r="0" b="13635"/>
          <a:stretch/>
        </p:blipFill>
        <p:spPr>
          <a:xfrm>
            <a:off x="0" y="4071960"/>
            <a:ext cx="4572000" cy="2214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占位符 6" descr="200608282049141x.jpg"/>
          <p:cNvPicPr/>
          <p:nvPr/>
        </p:nvPicPr>
        <p:blipFill>
          <a:blip r:embed="rId1"/>
          <a:srcRect l="0" t="41177" r="0" b="41177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84" name="矩形 7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/>
          <p:cNvSpPr/>
          <p:nvPr/>
        </p:nvSpPr>
        <p:spPr>
          <a:xfrm>
            <a:off x="583920" y="145080"/>
            <a:ext cx="56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214280" y="1808280"/>
            <a:ext cx="1724040" cy="482040"/>
            <a:chOff x="1214280" y="1808280"/>
            <a:chExt cx="1724040" cy="482040"/>
          </a:xfrm>
        </p:grpSpPr>
        <p:sp>
          <p:nvSpPr>
            <p:cNvPr id="187" name="Freeform 4"/>
            <p:cNvSpPr/>
            <p:nvPr/>
          </p:nvSpPr>
          <p:spPr>
            <a:xfrm>
              <a:off x="1315800" y="208584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1214280" y="1808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a9c2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1214280" y="2951280"/>
            <a:ext cx="1724040" cy="482040"/>
            <a:chOff x="1214280" y="2951280"/>
            <a:chExt cx="1724040" cy="482040"/>
          </a:xfrm>
        </p:grpSpPr>
        <p:sp>
          <p:nvSpPr>
            <p:cNvPr id="190" name="Freeform 7"/>
            <p:cNvSpPr/>
            <p:nvPr/>
          </p:nvSpPr>
          <p:spPr>
            <a:xfrm>
              <a:off x="1315800" y="322884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1214280" y="2951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dfa5a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1214280" y="4094280"/>
            <a:ext cx="1724040" cy="482040"/>
            <a:chOff x="1214280" y="4094280"/>
            <a:chExt cx="1724040" cy="482040"/>
          </a:xfrm>
        </p:grpSpPr>
        <p:sp>
          <p:nvSpPr>
            <p:cNvPr id="193" name="Freeform 10"/>
            <p:cNvSpPr/>
            <p:nvPr/>
          </p:nvSpPr>
          <p:spPr>
            <a:xfrm>
              <a:off x="1315800" y="437184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1214280" y="4094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77933c"/>
                </a:gs>
                <a:gs pos="100000">
                  <a:srgbClr val="92d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1214280" y="5237280"/>
            <a:ext cx="1724040" cy="482040"/>
            <a:chOff x="1214280" y="5237280"/>
            <a:chExt cx="1724040" cy="482040"/>
          </a:xfrm>
        </p:grpSpPr>
        <p:sp>
          <p:nvSpPr>
            <p:cNvPr id="196" name="Freeform 13"/>
            <p:cNvSpPr/>
            <p:nvPr/>
          </p:nvSpPr>
          <p:spPr>
            <a:xfrm>
              <a:off x="1315800" y="551484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1214280" y="5237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36c09"/>
                </a:gs>
                <a:gs pos="100000">
                  <a:srgbClr val="f8dbc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AutoShape 15"/>
          <p:cNvCxnSpPr/>
          <p:nvPr/>
        </p:nvCxnSpPr>
        <p:spPr>
          <a:xfrm>
            <a:off x="2071440" y="2234880"/>
            <a:ext cx="5400" cy="716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99" name="AutoShape 16"/>
          <p:cNvCxnSpPr/>
          <p:nvPr/>
        </p:nvCxnSpPr>
        <p:spPr>
          <a:xfrm>
            <a:off x="2071440" y="3377880"/>
            <a:ext cx="5400" cy="716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00" name="AutoShape 17"/>
          <p:cNvCxnSpPr/>
          <p:nvPr/>
        </p:nvCxnSpPr>
        <p:spPr>
          <a:xfrm>
            <a:off x="2071440" y="4520880"/>
            <a:ext cx="5400" cy="716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201" name="Line 18"/>
          <p:cNvSpPr/>
          <p:nvPr/>
        </p:nvSpPr>
        <p:spPr>
          <a:xfrm>
            <a:off x="2128680" y="25210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2128680" y="37656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"/>
          <p:cNvSpPr/>
          <p:nvPr/>
        </p:nvSpPr>
        <p:spPr>
          <a:xfrm flipV="1">
            <a:off x="2128680" y="488268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2944800" y="168264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944800" y="28576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087720" y="40006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3087720" y="51436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占位符 6" descr="200608282049141x.jpg"/>
          <p:cNvPicPr/>
          <p:nvPr/>
        </p:nvPicPr>
        <p:blipFill>
          <a:blip r:embed="rId1"/>
          <a:srcRect l="0" t="41177" r="0" b="41177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209" name="矩形 7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583920" y="145080"/>
            <a:ext cx="56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38"/>
          <p:cNvGrpSpPr/>
          <p:nvPr/>
        </p:nvGrpSpPr>
        <p:grpSpPr>
          <a:xfrm>
            <a:off x="1373400" y="2500200"/>
            <a:ext cx="6641640" cy="3824280"/>
            <a:chOff x="1373400" y="2500200"/>
            <a:chExt cx="6641640" cy="3824280"/>
          </a:xfrm>
        </p:grpSpPr>
        <p:sp>
          <p:nvSpPr>
            <p:cNvPr id="212" name="Oval 4"/>
            <p:cNvSpPr/>
            <p:nvPr/>
          </p:nvSpPr>
          <p:spPr>
            <a:xfrm>
              <a:off x="1380960" y="3741840"/>
              <a:ext cx="3781440" cy="109692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5"/>
            <p:cNvSpPr/>
            <p:nvPr/>
          </p:nvSpPr>
          <p:spPr>
            <a:xfrm rot="16200000">
              <a:off x="2795400" y="2265120"/>
              <a:ext cx="1316160" cy="3516480"/>
            </a:xfrm>
            <a:prstGeom prst="pi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rc 6"/>
            <p:cNvSpPr/>
            <p:nvPr/>
          </p:nvSpPr>
          <p:spPr>
            <a:xfrm rot="16200000">
              <a:off x="2904840" y="2193120"/>
              <a:ext cx="1197000" cy="3384720"/>
            </a:xfrm>
            <a:prstGeom prst="pie">
              <a:avLst/>
            </a:prstGeom>
            <a:gradFill rotWithShape="0">
              <a:gsLst>
                <a:gs pos="0">
                  <a:srgbClr val="f3c197"/>
                </a:gs>
                <a:gs pos="100000">
                  <a:srgbClr val="e36c0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rc 7"/>
            <p:cNvSpPr/>
            <p:nvPr/>
          </p:nvSpPr>
          <p:spPr>
            <a:xfrm rot="16200000">
              <a:off x="2813040" y="2320560"/>
              <a:ext cx="1195200" cy="3262320"/>
            </a:xfrm>
            <a:prstGeom prst="pie">
              <a:avLst/>
            </a:prstGeom>
            <a:gradFill rotWithShape="0">
              <a:gsLst>
                <a:gs pos="0">
                  <a:srgbClr val="7abc32"/>
                </a:gs>
                <a:gs pos="100000">
                  <a:srgbClr val="7793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rc 8"/>
            <p:cNvSpPr/>
            <p:nvPr/>
          </p:nvSpPr>
          <p:spPr>
            <a:xfrm rot="16200000">
              <a:off x="2751480" y="2362320"/>
              <a:ext cx="1227240" cy="3152880"/>
            </a:xfrm>
            <a:prstGeom prst="pie">
              <a:avLst/>
            </a:prstGeom>
            <a:gradFill rotWithShape="0">
              <a:gsLst>
                <a:gs pos="0">
                  <a:srgbClr val="e6b8b7"/>
                </a:gs>
                <a:gs pos="100000">
                  <a:srgbClr val="c0504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4241880" y="4021200"/>
              <a:ext cx="71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0"/>
            <p:cNvSpPr/>
            <p:nvPr/>
          </p:nvSpPr>
          <p:spPr>
            <a:xfrm>
              <a:off x="4675320" y="375624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5038560" y="4137120"/>
              <a:ext cx="0" cy="160200"/>
            </a:xfrm>
            <a:prstGeom prst="line">
              <a:avLst/>
            </a:prstGeom>
            <a:ln w="9360">
              <a:solidFill>
                <a:srgbClr val="1c1c1c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4680000" y="4361040"/>
              <a:ext cx="0" cy="112680"/>
            </a:xfrm>
            <a:prstGeom prst="line">
              <a:avLst/>
            </a:prstGeom>
            <a:ln w="9360">
              <a:solidFill>
                <a:srgbClr val="1c1c1c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2734560" y="3921120"/>
              <a:ext cx="879480" cy="71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rc 14"/>
            <p:cNvSpPr/>
            <p:nvPr/>
          </p:nvSpPr>
          <p:spPr>
            <a:xfrm rot="16200000">
              <a:off x="2769120" y="1992960"/>
              <a:ext cx="1533600" cy="3929040"/>
            </a:xfrm>
            <a:prstGeom prst="pie">
              <a:avLst/>
            </a:prstGeom>
            <a:gradFill rotWithShape="0">
              <a:gsLst>
                <a:gs pos="0">
                  <a:srgbClr val="294261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5343480" y="3451320"/>
              <a:ext cx="195120" cy="25560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rc 16"/>
            <p:cNvSpPr/>
            <p:nvPr/>
          </p:nvSpPr>
          <p:spPr>
            <a:xfrm rot="16200000">
              <a:off x="2783520" y="1846440"/>
              <a:ext cx="1523880" cy="3932280"/>
            </a:xfrm>
            <a:prstGeom prst="pi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b9cd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7"/>
            <p:cNvSpPr/>
            <p:nvPr/>
          </p:nvSpPr>
          <p:spPr>
            <a:xfrm>
              <a:off x="3163680" y="3252600"/>
              <a:ext cx="81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18"/>
            <p:cNvCxnSpPr>
              <a:endCxn id="225" idx="3"/>
            </p:cNvCxnSpPr>
            <p:nvPr/>
          </p:nvCxnSpPr>
          <p:spPr>
            <a:xfrm flipV="1" rot="10800000">
              <a:off x="3975840" y="2683800"/>
              <a:ext cx="2094480" cy="767520"/>
            </a:xfrm>
            <a:prstGeom prst="bentConnector3">
              <a:avLst>
                <a:gd name="adj1" fmla="val 499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AutoShape 19"/>
            <p:cNvCxnSpPr>
              <a:endCxn id="218" idx="3"/>
            </p:cNvCxnSpPr>
            <p:nvPr/>
          </p:nvCxnSpPr>
          <p:spPr>
            <a:xfrm rot="10800000">
              <a:off x="5139720" y="3907800"/>
              <a:ext cx="1218240" cy="213480"/>
            </a:xfrm>
            <a:prstGeom prst="bentConnector3">
              <a:avLst>
                <a:gd name="adj1" fmla="val 4998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Text Box 20"/>
            <p:cNvSpPr/>
            <p:nvPr/>
          </p:nvSpPr>
          <p:spPr>
            <a:xfrm>
              <a:off x="3433680" y="4121280"/>
              <a:ext cx="57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21"/>
            <p:cNvGrpSpPr/>
            <p:nvPr/>
          </p:nvGrpSpPr>
          <p:grpSpPr>
            <a:xfrm>
              <a:off x="6070680" y="2500200"/>
              <a:ext cx="1758960" cy="418680"/>
              <a:chOff x="6070680" y="2500200"/>
              <a:chExt cx="1758960" cy="418680"/>
            </a:xfrm>
          </p:grpSpPr>
          <p:sp>
            <p:nvSpPr>
              <p:cNvPr id="230" name="Freeform 22"/>
              <p:cNvSpPr/>
              <p:nvPr/>
            </p:nvSpPr>
            <p:spPr>
              <a:xfrm>
                <a:off x="6174360" y="2741400"/>
                <a:ext cx="1551240" cy="177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23"/>
              <p:cNvSpPr/>
              <p:nvPr/>
            </p:nvSpPr>
            <p:spPr>
              <a:xfrm>
                <a:off x="6070680" y="2500200"/>
                <a:ext cx="1758960" cy="36828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9fbad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4"/>
            <p:cNvGrpSpPr/>
            <p:nvPr/>
          </p:nvGrpSpPr>
          <p:grpSpPr>
            <a:xfrm>
              <a:off x="6215040" y="3848040"/>
              <a:ext cx="1758960" cy="418680"/>
              <a:chOff x="6215040" y="3848040"/>
              <a:chExt cx="1758960" cy="418680"/>
            </a:xfrm>
          </p:grpSpPr>
          <p:sp>
            <p:nvSpPr>
              <p:cNvPr id="233" name="Freeform 25"/>
              <p:cNvSpPr/>
              <p:nvPr/>
            </p:nvSpPr>
            <p:spPr>
              <a:xfrm>
                <a:off x="6318720" y="4089240"/>
                <a:ext cx="1551240" cy="177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26"/>
              <p:cNvSpPr/>
              <p:nvPr/>
            </p:nvSpPr>
            <p:spPr>
              <a:xfrm>
                <a:off x="6215040" y="3848040"/>
                <a:ext cx="1758960" cy="368280"/>
              </a:xfrm>
              <a:prstGeom prst="rect">
                <a:avLst/>
              </a:prstGeom>
              <a:gradFill rotWithShape="0">
                <a:gsLst>
                  <a:gs pos="0">
                    <a:srgbClr val="e36c09"/>
                  </a:gs>
                  <a:gs pos="100000">
                    <a:srgbClr val="f1b88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7"/>
            <p:cNvGrpSpPr/>
            <p:nvPr/>
          </p:nvGrpSpPr>
          <p:grpSpPr>
            <a:xfrm>
              <a:off x="4357800" y="4734360"/>
              <a:ext cx="1758960" cy="418680"/>
              <a:chOff x="4357800" y="4734360"/>
              <a:chExt cx="1758960" cy="418680"/>
            </a:xfrm>
          </p:grpSpPr>
          <p:sp>
            <p:nvSpPr>
              <p:cNvPr id="236" name="Freeform 28"/>
              <p:cNvSpPr/>
              <p:nvPr/>
            </p:nvSpPr>
            <p:spPr>
              <a:xfrm>
                <a:off x="4461480" y="4975560"/>
                <a:ext cx="1551240" cy="177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29"/>
              <p:cNvSpPr/>
              <p:nvPr/>
            </p:nvSpPr>
            <p:spPr>
              <a:xfrm>
                <a:off x="4357800" y="4734360"/>
                <a:ext cx="1758960" cy="368280"/>
              </a:xfrm>
              <a:prstGeom prst="rect">
                <a:avLst/>
              </a:prstGeom>
              <a:gradFill rotWithShape="0">
                <a:gsLst>
                  <a:gs pos="0">
                    <a:srgbClr val="77933c"/>
                  </a:gs>
                  <a:gs pos="100000">
                    <a:srgbClr val="92d05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0"/>
            <p:cNvGrpSpPr/>
            <p:nvPr/>
          </p:nvGrpSpPr>
          <p:grpSpPr>
            <a:xfrm>
              <a:off x="1452240" y="4943880"/>
              <a:ext cx="1758960" cy="418680"/>
              <a:chOff x="1452240" y="4943880"/>
              <a:chExt cx="1758960" cy="418680"/>
            </a:xfrm>
          </p:grpSpPr>
          <p:sp>
            <p:nvSpPr>
              <p:cNvPr id="239" name="Freeform 31"/>
              <p:cNvSpPr/>
              <p:nvPr/>
            </p:nvSpPr>
            <p:spPr>
              <a:xfrm>
                <a:off x="1555920" y="5185080"/>
                <a:ext cx="1551240" cy="17748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32"/>
              <p:cNvSpPr/>
              <p:nvPr/>
            </p:nvSpPr>
            <p:spPr>
              <a:xfrm>
                <a:off x="1452240" y="4943880"/>
                <a:ext cx="1758960" cy="368280"/>
              </a:xfrm>
              <a:prstGeom prst="rect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eecf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1" name="AutoShape 33"/>
            <p:cNvCxnSpPr>
              <a:endCxn id="217" idx="3"/>
            </p:cNvCxnSpPr>
            <p:nvPr/>
          </p:nvCxnSpPr>
          <p:spPr>
            <a:xfrm flipV="1" rot="16200000">
              <a:off x="4817880" y="4315320"/>
              <a:ext cx="561240" cy="276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AutoShape 34"/>
            <p:cNvCxnSpPr>
              <a:endCxn id="228" idx="2"/>
            </p:cNvCxnSpPr>
            <p:nvPr/>
          </p:nvCxnSpPr>
          <p:spPr>
            <a:xfrm flipV="1">
              <a:off x="3211560" y="4425480"/>
              <a:ext cx="511920" cy="702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Rectangle 35"/>
            <p:cNvSpPr/>
            <p:nvPr/>
          </p:nvSpPr>
          <p:spPr>
            <a:xfrm>
              <a:off x="6149160" y="4264200"/>
              <a:ext cx="186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6017040" y="2906640"/>
              <a:ext cx="186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4302360" y="5193360"/>
              <a:ext cx="186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38"/>
            <p:cNvGrpSpPr/>
            <p:nvPr/>
          </p:nvGrpSpPr>
          <p:grpSpPr>
            <a:xfrm>
              <a:off x="2372400" y="2631960"/>
              <a:ext cx="857520" cy="1123200"/>
              <a:chOff x="2372400" y="2631960"/>
              <a:chExt cx="857520" cy="1123200"/>
            </a:xfrm>
          </p:grpSpPr>
          <p:grpSp>
            <p:nvGrpSpPr>
              <p:cNvPr id="247" name="Group 39"/>
              <p:cNvGrpSpPr/>
              <p:nvPr/>
            </p:nvGrpSpPr>
            <p:grpSpPr>
              <a:xfrm>
                <a:off x="2372400" y="2634120"/>
                <a:ext cx="853200" cy="1121040"/>
                <a:chOff x="2372400" y="2634120"/>
                <a:chExt cx="853200" cy="1121040"/>
              </a:xfrm>
            </p:grpSpPr>
            <p:sp>
              <p:nvSpPr>
                <p:cNvPr id="248" name="Freeform 40"/>
                <p:cNvSpPr/>
                <p:nvPr/>
              </p:nvSpPr>
              <p:spPr>
                <a:xfrm>
                  <a:off x="2372400" y="3073680"/>
                  <a:ext cx="853200" cy="681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718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41"/>
                <p:cNvSpPr/>
                <p:nvPr/>
              </p:nvSpPr>
              <p:spPr>
                <a:xfrm>
                  <a:off x="2602800" y="2634120"/>
                  <a:ext cx="414360" cy="50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718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Freeform 42"/>
              <p:cNvSpPr/>
              <p:nvPr/>
            </p:nvSpPr>
            <p:spPr>
              <a:xfrm>
                <a:off x="2377440" y="3069720"/>
                <a:ext cx="852480" cy="683640"/>
              </a:xfrm>
              <a:prstGeom prst="pie">
                <a:avLst/>
              </a:prstGeom>
              <a:gradFill rotWithShape="0">
                <a:gsLst>
                  <a:gs pos="0">
                    <a:srgbClr val="00abb4"/>
                  </a:gs>
                  <a:gs pos="100000">
                    <a:srgbClr val="002d2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3"/>
              <p:cNvSpPr/>
              <p:nvPr/>
            </p:nvSpPr>
            <p:spPr>
              <a:xfrm>
                <a:off x="2544480" y="3112920"/>
                <a:ext cx="525600" cy="2170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9ca4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44"/>
              <p:cNvSpPr/>
              <p:nvPr/>
            </p:nvSpPr>
            <p:spPr>
              <a:xfrm>
                <a:off x="2607480" y="2631960"/>
                <a:ext cx="415440" cy="502920"/>
              </a:xfrm>
              <a:prstGeom prst="ellipse">
                <a:avLst/>
              </a:prstGeom>
              <a:gradFill rotWithShape="0">
                <a:gsLst>
                  <a:gs pos="0">
                    <a:srgbClr val="005c60"/>
                  </a:gs>
                  <a:gs pos="50000">
                    <a:srgbClr val="00a4ac"/>
                  </a:gs>
                  <a:gs pos="100000">
                    <a:srgbClr val="005c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5"/>
              <p:cNvSpPr/>
              <p:nvPr/>
            </p:nvSpPr>
            <p:spPr>
              <a:xfrm>
                <a:off x="2649600" y="2639880"/>
                <a:ext cx="328680" cy="165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59d3d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Group 46"/>
              <p:cNvGrpSpPr/>
              <p:nvPr/>
            </p:nvGrpSpPr>
            <p:grpSpPr>
              <a:xfrm>
                <a:off x="2595960" y="2638080"/>
                <a:ext cx="299520" cy="303480"/>
                <a:chOff x="2595960" y="2638080"/>
                <a:chExt cx="299520" cy="303480"/>
              </a:xfrm>
            </p:grpSpPr>
            <p:grpSp>
              <p:nvGrpSpPr>
                <p:cNvPr id="255" name="Group 47"/>
                <p:cNvGrpSpPr/>
                <p:nvPr/>
              </p:nvGrpSpPr>
              <p:grpSpPr>
                <a:xfrm>
                  <a:off x="2606400" y="2638080"/>
                  <a:ext cx="289080" cy="235800"/>
                  <a:chOff x="2606400" y="2638080"/>
                  <a:chExt cx="289080" cy="235800"/>
                </a:xfrm>
              </p:grpSpPr>
              <p:sp>
                <p:nvSpPr>
                  <p:cNvPr id="256" name="AutoShape 48"/>
                  <p:cNvSpPr/>
                  <p:nvPr/>
                </p:nvSpPr>
                <p:spPr>
                  <a:xfrm flipH="1" rot="15040200">
                    <a:off x="2736720" y="2610000"/>
                    <a:ext cx="83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utoShape 49"/>
                  <p:cNvSpPr/>
                  <p:nvPr/>
                </p:nvSpPr>
                <p:spPr>
                  <a:xfrm flipH="1" rot="14224200">
                    <a:off x="2702880" y="2623320"/>
                    <a:ext cx="83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utoShape 50"/>
                  <p:cNvSpPr/>
                  <p:nvPr/>
                </p:nvSpPr>
                <p:spPr>
                  <a:xfrm flipH="1" rot="13928400">
                    <a:off x="2687040" y="2638080"/>
                    <a:ext cx="83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AutoShape 51"/>
                  <p:cNvSpPr/>
                  <p:nvPr/>
                </p:nvSpPr>
                <p:spPr>
                  <a:xfrm flipH="1" rot="13396200">
                    <a:off x="2669040" y="2657160"/>
                    <a:ext cx="83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52"/>
                <p:cNvGrpSpPr/>
                <p:nvPr/>
              </p:nvGrpSpPr>
              <p:grpSpPr>
                <a:xfrm>
                  <a:off x="2595960" y="2651400"/>
                  <a:ext cx="233640" cy="290160"/>
                  <a:chOff x="2595960" y="2651400"/>
                  <a:chExt cx="233640" cy="290160"/>
                </a:xfrm>
              </p:grpSpPr>
              <p:sp>
                <p:nvSpPr>
                  <p:cNvPr id="261" name="AutoShape 53"/>
                  <p:cNvSpPr/>
                  <p:nvPr/>
                </p:nvSpPr>
                <p:spPr>
                  <a:xfrm flipH="1" rot="13687200">
                    <a:off x="2678760" y="2646720"/>
                    <a:ext cx="83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AutoShape 54"/>
                  <p:cNvSpPr/>
                  <p:nvPr/>
                </p:nvSpPr>
                <p:spPr>
                  <a:xfrm flipH="1" rot="12871200">
                    <a:off x="2652840" y="2671920"/>
                    <a:ext cx="83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AutoShape 55"/>
                  <p:cNvSpPr/>
                  <p:nvPr/>
                </p:nvSpPr>
                <p:spPr>
                  <a:xfrm flipH="1" rot="12576000">
                    <a:off x="2643840" y="2691720"/>
                    <a:ext cx="83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AutoShape 56"/>
                  <p:cNvSpPr/>
                  <p:nvPr/>
                </p:nvSpPr>
                <p:spPr>
                  <a:xfrm flipH="1" rot="12043800">
                    <a:off x="2634120" y="2716560"/>
                    <a:ext cx="83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" name="Group 57"/>
              <p:cNvGrpSpPr/>
              <p:nvPr/>
            </p:nvGrpSpPr>
            <p:grpSpPr>
              <a:xfrm>
                <a:off x="2431080" y="3109320"/>
                <a:ext cx="373320" cy="444240"/>
                <a:chOff x="2431080" y="3109320"/>
                <a:chExt cx="373320" cy="444240"/>
              </a:xfrm>
            </p:grpSpPr>
            <p:grpSp>
              <p:nvGrpSpPr>
                <p:cNvPr id="266" name="Group 58"/>
                <p:cNvGrpSpPr/>
                <p:nvPr/>
              </p:nvGrpSpPr>
              <p:grpSpPr>
                <a:xfrm>
                  <a:off x="2432880" y="3109320"/>
                  <a:ext cx="371520" cy="351360"/>
                  <a:chOff x="2432880" y="3109320"/>
                  <a:chExt cx="371520" cy="351360"/>
                </a:xfrm>
              </p:grpSpPr>
              <p:sp>
                <p:nvSpPr>
                  <p:cNvPr id="267" name="AutoShape 59"/>
                  <p:cNvSpPr/>
                  <p:nvPr/>
                </p:nvSpPr>
                <p:spPr>
                  <a:xfrm flipH="1" rot="14424600">
                    <a:off x="2602080" y="3065400"/>
                    <a:ext cx="84600" cy="31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60"/>
                  <p:cNvSpPr/>
                  <p:nvPr/>
                </p:nvSpPr>
                <p:spPr>
                  <a:xfrm flipH="1" rot="13608600">
                    <a:off x="2558160" y="3093120"/>
                    <a:ext cx="8460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61"/>
                  <p:cNvSpPr/>
                  <p:nvPr/>
                </p:nvSpPr>
                <p:spPr>
                  <a:xfrm flipH="1" rot="13313400">
                    <a:off x="2536200" y="3115440"/>
                    <a:ext cx="8460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62"/>
                  <p:cNvSpPr/>
                  <p:nvPr/>
                </p:nvSpPr>
                <p:spPr>
                  <a:xfrm flipH="1" rot="12781200">
                    <a:off x="2512800" y="3144240"/>
                    <a:ext cx="8460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63"/>
                <p:cNvGrpSpPr/>
                <p:nvPr/>
              </p:nvGrpSpPr>
              <p:grpSpPr>
                <a:xfrm>
                  <a:off x="2431080" y="3129480"/>
                  <a:ext cx="265320" cy="424080"/>
                  <a:chOff x="2431080" y="3129480"/>
                  <a:chExt cx="265320" cy="424080"/>
                </a:xfrm>
              </p:grpSpPr>
              <p:sp>
                <p:nvSpPr>
                  <p:cNvPr id="272" name="AutoShape 64"/>
                  <p:cNvSpPr/>
                  <p:nvPr/>
                </p:nvSpPr>
                <p:spPr>
                  <a:xfrm flipH="1" rot="13071600">
                    <a:off x="2522880" y="3121920"/>
                    <a:ext cx="84600" cy="31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65"/>
                  <p:cNvSpPr/>
                  <p:nvPr/>
                </p:nvSpPr>
                <p:spPr>
                  <a:xfrm flipH="1" rot="12256200">
                    <a:off x="2493000" y="3165120"/>
                    <a:ext cx="8460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66"/>
                  <p:cNvSpPr/>
                  <p:nvPr/>
                </p:nvSpPr>
                <p:spPr>
                  <a:xfrm flipH="1" rot="11960400">
                    <a:off x="2481480" y="3193920"/>
                    <a:ext cx="8460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utoShape 67"/>
                  <p:cNvSpPr/>
                  <p:nvPr/>
                </p:nvSpPr>
                <p:spPr>
                  <a:xfrm flipH="1" rot="11428200">
                    <a:off x="2469600" y="3228840"/>
                    <a:ext cx="8460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76" name="Rectangle 68"/>
            <p:cNvSpPr/>
            <p:nvPr/>
          </p:nvSpPr>
          <p:spPr>
            <a:xfrm>
              <a:off x="2042280" y="375624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69"/>
            <p:cNvGrpSpPr/>
            <p:nvPr/>
          </p:nvGrpSpPr>
          <p:grpSpPr>
            <a:xfrm>
              <a:off x="1908720" y="2631960"/>
              <a:ext cx="859320" cy="1123200"/>
              <a:chOff x="1908720" y="2631960"/>
              <a:chExt cx="859320" cy="1123200"/>
            </a:xfrm>
          </p:grpSpPr>
          <p:grpSp>
            <p:nvGrpSpPr>
              <p:cNvPr id="278" name="Group 70"/>
              <p:cNvGrpSpPr/>
              <p:nvPr/>
            </p:nvGrpSpPr>
            <p:grpSpPr>
              <a:xfrm>
                <a:off x="1908720" y="2634120"/>
                <a:ext cx="855000" cy="1121040"/>
                <a:chOff x="1908720" y="2634120"/>
                <a:chExt cx="855000" cy="1121040"/>
              </a:xfrm>
            </p:grpSpPr>
            <p:sp>
              <p:nvSpPr>
                <p:cNvPr id="279" name="Freeform 71"/>
                <p:cNvSpPr/>
                <p:nvPr/>
              </p:nvSpPr>
              <p:spPr>
                <a:xfrm>
                  <a:off x="1908720" y="3073680"/>
                  <a:ext cx="855000" cy="681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718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72"/>
                <p:cNvSpPr/>
                <p:nvPr/>
              </p:nvSpPr>
              <p:spPr>
                <a:xfrm>
                  <a:off x="2139480" y="2634120"/>
                  <a:ext cx="415080" cy="50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718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Freeform 73"/>
              <p:cNvSpPr/>
              <p:nvPr/>
            </p:nvSpPr>
            <p:spPr>
              <a:xfrm>
                <a:off x="1913760" y="3069720"/>
                <a:ext cx="854280" cy="683640"/>
              </a:xfrm>
              <a:prstGeom prst="pi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2732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4"/>
              <p:cNvSpPr/>
              <p:nvPr/>
            </p:nvSpPr>
            <p:spPr>
              <a:xfrm>
                <a:off x="2081520" y="3112920"/>
                <a:ext cx="526680" cy="2170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93c052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75"/>
              <p:cNvSpPr/>
              <p:nvPr/>
            </p:nvSpPr>
            <p:spPr>
              <a:xfrm>
                <a:off x="2144520" y="2631960"/>
                <a:ext cx="416160" cy="502920"/>
              </a:xfrm>
              <a:prstGeom prst="ellipse">
                <a:avLst/>
              </a:prstGeom>
              <a:gradFill rotWithShape="0">
                <a:gsLst>
                  <a:gs pos="0">
                    <a:srgbClr val="526c2e"/>
                  </a:gs>
                  <a:gs pos="50000">
                    <a:srgbClr val="93c052"/>
                  </a:gs>
                  <a:gs pos="100000">
                    <a:srgbClr val="526c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6"/>
              <p:cNvSpPr/>
              <p:nvPr/>
            </p:nvSpPr>
            <p:spPr>
              <a:xfrm>
                <a:off x="2186640" y="2639880"/>
                <a:ext cx="329400" cy="165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93c052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Group 77"/>
              <p:cNvGrpSpPr/>
              <p:nvPr/>
            </p:nvGrpSpPr>
            <p:grpSpPr>
              <a:xfrm>
                <a:off x="2133360" y="2637720"/>
                <a:ext cx="299520" cy="303840"/>
                <a:chOff x="2133360" y="2637720"/>
                <a:chExt cx="299520" cy="303840"/>
              </a:xfrm>
            </p:grpSpPr>
            <p:grpSp>
              <p:nvGrpSpPr>
                <p:cNvPr id="286" name="Group 78"/>
                <p:cNvGrpSpPr/>
                <p:nvPr/>
              </p:nvGrpSpPr>
              <p:grpSpPr>
                <a:xfrm>
                  <a:off x="2143800" y="2637720"/>
                  <a:ext cx="289080" cy="236160"/>
                  <a:chOff x="2143800" y="2637720"/>
                  <a:chExt cx="289080" cy="236160"/>
                </a:xfrm>
              </p:grpSpPr>
              <p:sp>
                <p:nvSpPr>
                  <p:cNvPr id="287" name="AutoShape 79"/>
                  <p:cNvSpPr/>
                  <p:nvPr/>
                </p:nvSpPr>
                <p:spPr>
                  <a:xfrm flipH="1" rot="15040200">
                    <a:off x="2274120" y="2609640"/>
                    <a:ext cx="83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utoShape 80"/>
                  <p:cNvSpPr/>
                  <p:nvPr/>
                </p:nvSpPr>
                <p:spPr>
                  <a:xfrm flipH="1" rot="14224200">
                    <a:off x="2240640" y="2622600"/>
                    <a:ext cx="8352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utoShape 81"/>
                  <p:cNvSpPr/>
                  <p:nvPr/>
                </p:nvSpPr>
                <p:spPr>
                  <a:xfrm flipH="1" rot="13928400">
                    <a:off x="2224440" y="2638080"/>
                    <a:ext cx="83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utoShape 82"/>
                  <p:cNvSpPr/>
                  <p:nvPr/>
                </p:nvSpPr>
                <p:spPr>
                  <a:xfrm flipH="1" rot="13396200">
                    <a:off x="2206440" y="2657160"/>
                    <a:ext cx="83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Group 83"/>
                <p:cNvGrpSpPr/>
                <p:nvPr/>
              </p:nvGrpSpPr>
              <p:grpSpPr>
                <a:xfrm>
                  <a:off x="2133360" y="2651400"/>
                  <a:ext cx="233640" cy="290160"/>
                  <a:chOff x="2133360" y="2651400"/>
                  <a:chExt cx="233640" cy="290160"/>
                </a:xfrm>
              </p:grpSpPr>
              <p:sp>
                <p:nvSpPr>
                  <p:cNvPr id="292" name="AutoShape 84"/>
                  <p:cNvSpPr/>
                  <p:nvPr/>
                </p:nvSpPr>
                <p:spPr>
                  <a:xfrm flipH="1" rot="13687200">
                    <a:off x="2216160" y="2646720"/>
                    <a:ext cx="83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AutoShape 85"/>
                  <p:cNvSpPr/>
                  <p:nvPr/>
                </p:nvSpPr>
                <p:spPr>
                  <a:xfrm flipH="1" rot="12871200">
                    <a:off x="2190240" y="2671200"/>
                    <a:ext cx="8388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utoShape 86"/>
                  <p:cNvSpPr/>
                  <p:nvPr/>
                </p:nvSpPr>
                <p:spPr>
                  <a:xfrm flipH="1" rot="12576000">
                    <a:off x="2181240" y="2691360"/>
                    <a:ext cx="83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utoShape 87"/>
                  <p:cNvSpPr/>
                  <p:nvPr/>
                </p:nvSpPr>
                <p:spPr>
                  <a:xfrm flipH="1" rot="12043800">
                    <a:off x="2171520" y="2716560"/>
                    <a:ext cx="83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" name="Group 88"/>
              <p:cNvGrpSpPr/>
              <p:nvPr/>
            </p:nvGrpSpPr>
            <p:grpSpPr>
              <a:xfrm>
                <a:off x="1967760" y="3108960"/>
                <a:ext cx="374760" cy="444960"/>
                <a:chOff x="1967760" y="3108960"/>
                <a:chExt cx="374760" cy="444960"/>
              </a:xfrm>
            </p:grpSpPr>
            <p:grpSp>
              <p:nvGrpSpPr>
                <p:cNvPr id="297" name="Group 89"/>
                <p:cNvGrpSpPr/>
                <p:nvPr/>
              </p:nvGrpSpPr>
              <p:grpSpPr>
                <a:xfrm>
                  <a:off x="1969560" y="3108960"/>
                  <a:ext cx="372960" cy="351720"/>
                  <a:chOff x="1969560" y="3108960"/>
                  <a:chExt cx="372960" cy="351720"/>
                </a:xfrm>
              </p:grpSpPr>
              <p:sp>
                <p:nvSpPr>
                  <p:cNvPr id="298" name="AutoShape 90"/>
                  <p:cNvSpPr/>
                  <p:nvPr/>
                </p:nvSpPr>
                <p:spPr>
                  <a:xfrm flipH="1" rot="14424600">
                    <a:off x="2140200" y="3064680"/>
                    <a:ext cx="8460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91"/>
                  <p:cNvSpPr/>
                  <p:nvPr/>
                </p:nvSpPr>
                <p:spPr>
                  <a:xfrm flipH="1" rot="13608600">
                    <a:off x="2095200" y="3093120"/>
                    <a:ext cx="8460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AutoShape 92"/>
                  <p:cNvSpPr/>
                  <p:nvPr/>
                </p:nvSpPr>
                <p:spPr>
                  <a:xfrm flipH="1" rot="13313400">
                    <a:off x="2074320" y="3115440"/>
                    <a:ext cx="8460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AutoShape 93"/>
                  <p:cNvSpPr/>
                  <p:nvPr/>
                </p:nvSpPr>
                <p:spPr>
                  <a:xfrm flipH="1" rot="12781200">
                    <a:off x="2049480" y="3143520"/>
                    <a:ext cx="8460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94"/>
                <p:cNvGrpSpPr/>
                <p:nvPr/>
              </p:nvGrpSpPr>
              <p:grpSpPr>
                <a:xfrm>
                  <a:off x="1967760" y="3129120"/>
                  <a:ext cx="266400" cy="424800"/>
                  <a:chOff x="1967760" y="3129120"/>
                  <a:chExt cx="266400" cy="424800"/>
                </a:xfrm>
              </p:grpSpPr>
              <p:sp>
                <p:nvSpPr>
                  <p:cNvPr id="303" name="AutoShape 95"/>
                  <p:cNvSpPr/>
                  <p:nvPr/>
                </p:nvSpPr>
                <p:spPr>
                  <a:xfrm flipH="1" rot="13071600">
                    <a:off x="2060280" y="3121200"/>
                    <a:ext cx="8460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96"/>
                  <p:cNvSpPr/>
                  <p:nvPr/>
                </p:nvSpPr>
                <p:spPr>
                  <a:xfrm flipH="1" rot="12256200">
                    <a:off x="2029680" y="3164760"/>
                    <a:ext cx="8460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97"/>
                  <p:cNvSpPr/>
                  <p:nvPr/>
                </p:nvSpPr>
                <p:spPr>
                  <a:xfrm flipH="1" rot="11960400">
                    <a:off x="2018880" y="3193920"/>
                    <a:ext cx="8460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98"/>
                  <p:cNvSpPr/>
                  <p:nvPr/>
                </p:nvSpPr>
                <p:spPr>
                  <a:xfrm flipH="1" rot="11428200">
                    <a:off x="2007000" y="3228480"/>
                    <a:ext cx="846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07" name="Rectangle 99"/>
            <p:cNvSpPr/>
            <p:nvPr/>
          </p:nvSpPr>
          <p:spPr>
            <a:xfrm>
              <a:off x="1373400" y="5407560"/>
              <a:ext cx="186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椭圆 11"/>
          <p:cNvSpPr/>
          <p:nvPr/>
        </p:nvSpPr>
        <p:spPr>
          <a:xfrm>
            <a:off x="142920" y="4165560"/>
            <a:ext cx="2192400" cy="212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占位符 5" descr="200608282049141x.jpg"/>
          <p:cNvPicPr/>
          <p:nvPr/>
        </p:nvPicPr>
        <p:blipFill>
          <a:blip r:embed="rId1"/>
          <a:srcRect l="0" t="5893" r="0" b="5893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占位符 10" descr="20060828205021va.jpg"/>
          <p:cNvPicPr/>
          <p:nvPr/>
        </p:nvPicPr>
        <p:blipFill>
          <a:blip r:embed="rId2"/>
          <a:stretch/>
        </p:blipFill>
        <p:spPr>
          <a:xfrm>
            <a:off x="281160" y="430380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312" name="矩形 18" descr=""/>
          <p:cNvPicPr/>
          <p:nvPr/>
        </p:nvPicPr>
        <p:blipFill>
          <a:blip r:embed="rId3"/>
          <a:stretch/>
        </p:blipFill>
        <p:spPr>
          <a:xfrm>
            <a:off x="2077920" y="5132520"/>
            <a:ext cx="6969240" cy="215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9:32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21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