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move the slide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6019-7608-47A7-BC67-116E4256B82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C8D1-1340-4B76-95FE-72DBB504CD82}" type="slidenum">
              <a:rPr b="0" lang="zh-CN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77A-CEA8-4353-81D3-F852B3E5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4DCA-7B7D-452A-AE1F-A8C7783F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6C681-3AF5-40DB-B06F-768E7B60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DF2B7-22B0-4B5B-A06C-3B1F4ACA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3B6B1-BAA8-471B-BC84-4E231287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B9A85-2AFD-4DF3-893D-D0C9C061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80F6E-4897-439C-9906-28986DE0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637E9-9F7D-4781-9824-0E6CD117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F9F1F-B829-4BAA-9776-7DCD858C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E180F-AFFC-40FB-A321-967CEE00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E0A71-FBA2-4DCA-B5F0-DCAE0C1F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C4013-7925-4204-9506-54F63CA4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133-C240-4632-8B2B-346590C9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3E8B5-E253-47A8-A84C-33712120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5FEC8-66DB-44A1-B535-35A6B05B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71EB0-76B2-4F46-9DD6-CCDE32B6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ACD38-5DC7-49AA-A206-85246635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2DF49-1485-4D60-A4BC-861E1196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863A3-CBC9-4722-8211-9422ADD5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8E29E-C19E-4F99-A77C-0C737ED3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F7649-F266-4140-9EF6-21D3C82A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E3C3C-7092-4212-943D-6DC53B53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CA46C-F53E-47C6-B8D8-634F68A2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3F5C-896D-491F-8513-F158D159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F7171-FEC3-4450-B65B-D64FD003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C9D3B-E540-4F3E-824A-E85AAB42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0855D-FB82-4A7C-B3D5-B333D61C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1DAED-3B5C-4001-9C4D-D8A090CE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9A967-B74D-49AD-875E-8EF000C9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E352C-FEEA-4ED5-8332-CE1CA859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5F8E3-14FC-4758-96C6-29A70DD9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22F8C-4186-4D01-B019-120E7327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5012B-AB1B-46CF-9B3B-B3F3C4FE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F5A44-6E89-4B1D-8A5F-1834F191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61BE-34D6-4880-BA74-CB593E3C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432C5-D2ED-4DD4-8E50-EA779B49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A8CFA-3637-4434-8A75-7F272982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AEA67-3B46-4616-87AC-0B984BF9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D0779-9311-4A67-B11B-7C385F2C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17634-582A-4BA9-9F79-4718506D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73321-BDB5-4BE2-91C1-DB447A88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B73F5-6E6D-42CD-B8D6-2023545A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4E2AB-60F8-4316-A2F3-7325CCD2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69863-A985-49F6-B4B9-538591C0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3170B-BEE3-41AB-BBAF-8274E0CA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1319-9AAD-4CE7-8C97-12799043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9A14F-A608-4B7A-8C21-7DDA6CC1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E82BF-8F4C-4F27-A68B-855620A0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923E3-2B0D-4DEB-AB47-0F1F89C4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E2EC3-2198-4214-95B7-EE2D0D4B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8C368-6090-4F16-83C6-2F2AB7D7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512D81-0133-4226-95AD-1FA750DD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9A88B-F777-4CBB-AEA5-7D0FDE55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5E13DD-AC3B-490E-8EC2-794C6CA6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DEE373-37B1-4CA2-AD0E-FD3574D0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D8D213-4DB1-4700-B9CA-06C99344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9C24-3D4D-4061-8B25-F57B12B0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8C846B-B7DF-4AE0-A29B-5E2468A7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DAB20-CB72-4A0A-9A02-6DA5E8CB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893FDB-6EA7-4668-B024-6D99DAEB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B02822-F69A-406F-BA5B-A386C29A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18CB7F-D59A-4AF0-8877-2E74B0A8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46DC3-9ADF-4573-8554-CECEB618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2739A-ABB4-49B5-B726-C6BF0751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7BAB67-79F4-4F47-997A-5B1178CD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E0DE85-24BB-45ED-8E1E-A36C0766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9E379B-95A3-4869-AE1D-0F33227E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99BC-751E-41E8-A926-AFCCD9D4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49F2E8-3A6D-4B40-BCB7-9594CF7E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1CC20C-D91D-4D53-BF63-07B5F073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4DF7A4-6D48-4511-AEAA-377F07B7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67883-4201-427A-B45B-5B44DCD1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368C99-BA01-413F-A742-8C0BC8C4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3596B4-6DF0-437C-B87E-208D01A9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B5B9E1-2167-405C-93C9-FE2E4926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351900-CFD3-40A9-87BB-5F43F131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52EFA-47ED-4CE3-8D72-4FE36473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1BEA01-3657-4938-AC40-83DF992F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D684-FE74-4FFE-B6BB-1F3CA0A7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87EB8E-2935-4A39-ABCB-667C4133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1DCE1E-ED0D-4314-A24E-5531F433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8835B5-FA35-4159-A416-A14A1F92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3D05A4-88D7-49E9-9EC8-ACCD03E3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EA1FD6-9944-432D-B371-0DAA50D1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10A474-45E4-4F18-8C49-3E11F9DB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5E59A6-9B3F-47A5-BFB9-6A1DDF0F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67B8C-DDDF-4CAF-A09C-7172D6FD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C863EA-4029-4E97-A6A1-47071E25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68D876-F413-4F9B-87A4-DD2817BD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E72F-6AFB-4A4F-8BF3-9B7DF48C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387E94-4CDA-4EC7-A59D-6C784B52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2812EB-4EEF-4343-A316-10820752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321D5-F539-4FC5-890E-B2F9611F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9612A8-86BB-4124-B844-ED18839D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1EEB90-CAE3-409D-A1D2-6D09E060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C9946D-F467-46A0-A70C-4E31AA79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998ECE-CAEB-437C-9CD6-9D3CFF2F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5DFC30-B2B3-460A-9235-EA2282CF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AC0239-EC0E-43BF-BB36-2F8DCE37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F6F6C6-DFF7-4E7C-9C50-8F666579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6360-B299-4039-81CB-7EA408ED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618C63-294E-4E3B-ADA5-49F03C1C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A0A6ED-E7B1-4D68-B497-885708E4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23449F-14A1-46A9-A45F-7655AD4C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FAF90C-0D73-4073-BC09-66A65F51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663614-B99E-4234-87CE-0663A5C5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0EEA68-C2D0-4785-A510-8E159CCA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95E65F-7DAC-4F1C-A8C8-234CA902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BA17D1-3A7E-45BE-BBB2-A7E320E5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D430AB-6392-4A32-AB80-1A26AC57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16B572-5957-4845-8EF3-1A5A7872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8B8-84C3-42BF-8F1F-13083AFC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53D5-1008-4392-A06E-83327B55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805078-D802-4EF2-BE05-5375966B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77B5A1-5400-4393-A02C-6156FFCE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3E2898-C4F0-4EAE-B177-352F3D69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469F3D-4FD0-4D86-82BE-48898D65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E01BEC-D4D6-4D98-8EBF-9C90B257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390345-3D37-4116-A8D3-64787516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813E3C-0BBB-406F-8D8D-8DF7078E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25BEAB-0891-4402-8492-F2EA5268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071669-E040-4012-8447-54217182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06551A-6F0D-4B52-AAFC-49E04162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4A36-E086-49D6-B325-0600CDAE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14A20E-7C39-4726-AC55-4691F210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FE745B-7F8E-4161-9887-C870E782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9E0F01-CE5D-4B8F-BF07-747F6911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B307BE-B961-435D-AFAD-58AE626E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E99FA4-A1E2-44D6-8C91-F0D53942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019AC9-D443-4CEA-834D-2FD180B6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ED8970-C0CE-4536-8D76-4E005D94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E7AA5D-5A56-4126-A252-37C8A57A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D786AD-C35A-4967-A332-8D0EE20A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4EA082-41E9-44C2-89A2-9D2D5414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3D1E-DE23-42B1-A740-D869BCE7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4D7FD9-78DA-4BBD-A51F-2E36BBAB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17BA6E-2328-4E44-9135-311516C3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4B64E7-A0DF-40F1-9059-3811080D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047529-3F98-4447-ADE1-AF66C636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896A13-5E6D-46BC-8C98-DE26C59C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868C9C-D044-45A1-B2DC-8AB81CC5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F348A9-3B44-4C3C-A5AE-01545843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678F39-1029-448F-AC7C-CCEE904B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90EF99-C78E-4D1E-8794-E54450EF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FDCD61-787A-453C-A969-7167E522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1BCE-CD71-402C-A258-078724AD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AFD63E-CE79-4394-A7EF-389C08B4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092DFE-4DDE-4B75-851B-DA3DFD95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8CAA19-BE2B-481E-8529-569EA544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D58390-BEA7-4ECF-9463-A496B867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D61329-29FE-4B96-99C5-CBA6B7EA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163E3E-37E8-49B0-8211-77B1CC98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0778E8-1ECB-4C16-B8E7-D1177352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3A95A9-22C3-4364-A4E8-A1075F77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10BFCF-3EF8-49D7-AEF0-1857AF13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563852-746A-454D-9650-5A2447E6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D54F-036F-4B14-8BF3-D906E443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6FBFDF-95A1-4EDB-AA56-3F0C39D3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9B55F2-CB44-4AB7-B675-E238F9C6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3FEE3C-85F2-4EDB-A06D-D1E44DB3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17749C-A6B5-4951-9A23-AB58B24B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BC7B8D-36BE-4291-BFD1-6C55ECE6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1A4B14-33F9-4410-88DF-F35D08BA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6FC26F-7E08-4A3B-A512-2BDD6AB3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D5D7E3-56A3-4280-B3D7-36E576E8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F17776-B160-4717-B9B3-75873CDB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575C0B-F1AE-4DCE-A1AB-FFCCDAD1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3CE21-AE90-4780-9B35-A32EE7CB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83BBA0-E64F-488D-A66F-FB40BE3B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5FFA97-7181-4264-92A7-599B359E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C89DE9-288B-4593-A234-5DA5EC43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B986CE-426F-4AA4-9E8C-694BADA9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62E4C1-3517-4A6F-BEED-B6E83DA6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4C74FD-ECE5-492F-9506-51CCC1D2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8B8F35-8BBA-4C8B-AF51-9744E51C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CFF034-1C61-4066-9A90-2A0232AF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AEB373-6801-4C7F-9191-7895777A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75902A-FEF0-4148-9F63-A3A15383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1CE4F-FECC-4A50-9B34-19C83592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35D547-6D22-41D6-BC36-CA2583FF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D1A59C-DF6A-4F66-A9AF-50EC88F1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ED100B-F4C7-4EF4-ADA5-1B514C1D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75A22C-6F9A-445A-9D6C-0C5AB624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E53B48-981C-47B4-B5B3-57B516FF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A3D935-7F44-469D-BA4C-6AAF829A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32FC5E-114F-4BC8-A3D9-B56E6578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4A8A12-0995-49DC-ACA7-4344818B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3E6D37-88FE-46D5-8625-A0BF8C7B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18734C-B3AA-496D-9124-C934BAD4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C350A-8266-4419-A159-75BC3DEB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92FB4B-0D6D-4EA1-9952-057121A9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734A48-0F73-4E04-BF3D-BB7DB4FC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C40CA4-E33C-482E-AD1F-A811E317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38E874-E291-43F7-A34C-15A23C9B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8AC9BF-5B18-4654-A5A3-176E2F11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C1085D-DDC0-4632-8D6F-7A1D4E59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CC6F6C-DBB7-404A-83F1-2B82368E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5B6448-91EE-4019-A658-11727E62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235BE3-527F-498B-A507-AE19A8F3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C62DC1-9089-4AEC-BC64-54D76136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A3DD1-1D46-46F9-B159-BBB8D4DB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5A7393-9C01-4536-8C8B-80478AB8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CF191D-5D91-4CCD-8397-18B34714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3C12A9-F2BA-4CCB-A244-477E731A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3F1CFB-CCDD-4A0F-8A1D-04EB6562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178600-9A4A-4725-8632-5AF52C39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29C4D7-A5F8-46C6-9E01-66AF73F5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495E29-4910-49B1-A87E-929ED391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7BB3DF-5B93-4043-B174-40D3D037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FE546A-96B8-4FE3-B25F-755E6968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25221-974E-4115-A1DE-E6850498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D5AC-A0F8-4A93-B259-C70205AB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04049-58F6-48BF-92AB-2AA38B0F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28FDB-D4AD-4364-A7D4-CA322229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67EF2-7DED-42B4-B6AA-557C63DF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782DD-54E5-4A9B-B6B4-BE07A28C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A3F51-80EC-4444-A2B7-42E99E80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DC24C-A3F8-4ACC-851D-CB991611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DD1E5-838A-4138-AD93-28223D06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27A09-085B-467D-9932-9E5E15FE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7230D-1551-4374-A8B7-988A5AE5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16D3A-5721-4B37-830B-0A00D916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DDD-2D55-4B20-B6AF-059D1C61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78489-BA2E-4D70-93BA-10665F11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B5D7E-D7E6-4D47-9037-CBB618C0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BEB4B-8260-49F2-962D-AD5A4702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3FBB9-5D44-4C6D-8CBA-117610EA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9BE36-FB84-4D46-90FD-854E5D69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E3BFC-1099-451A-AD92-530D8520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7DE59-2DAE-426B-9D1B-F5AD2E30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BFEE4-678E-4521-AC74-0A644F18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F58D6-9CDA-46FF-92C1-6EEE2A9E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185771-2F6A-42AD-AB9A-75028CB0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2D79-AA75-4263-8663-146F7B7D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2903C1-F07E-426E-B20B-58C5A8EE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335BBD-6EFA-4944-8067-ED7FFF10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75408D-6203-4F08-A221-FC393EEF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5197E9-26E2-4928-A2D8-C5BF0598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C6B403-479B-42D7-A867-66D03D65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CAEC98-61A8-4A76-82D0-D9E2F910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D26506-708C-4C0E-90D7-8F8A5BC8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BBBBDA-76EC-4AE1-89F3-61AD4224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DA9C7B-C35B-4C9F-9F05-12AFDF31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600E98-0CE4-4109-BE8B-5976EFC2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2AF9-1BF5-4347-9044-CB5CAD4E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50B4FE-84F7-457C-8845-0FA174C8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2F672-8D59-4AE7-9E3A-AA19FB7C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8F160-7285-4187-B87E-645158A7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C5B4C-46CE-402C-B810-E1D60BB7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FB9BE-81FC-457E-BCCD-1F20BBFB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B1030-6F3B-4376-A467-4D266E7F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D5446-5266-4A57-991E-08AD66B2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4287D-C802-403E-BCFB-9D82B7E0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76ECD-4643-4CEA-8592-89763136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4048A-318A-449D-A3E7-63787E2F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773-CEF6-4642-A482-F28D764C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35ECA-42B9-4F85-B3E3-4D33FEE2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0969D-DA29-4967-A009-93B077EC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A9441-2BCA-43B6-9815-8AFBBC01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03C9E-37CE-408F-A15E-39015460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1BF99-E9B4-4DD5-B6BE-D5B150CE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FF4C4-80E2-436F-808B-629D5963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CCC95-C18E-46E0-8B29-08359E81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C9FDB-8048-4968-BDDB-0F4E7D31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64F77-AFF7-400F-B823-1D6BB1E1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4644B-C14E-4766-8298-2688720A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2DCC-D50D-4995-B923-000A15F3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8EEAF-E1C1-4696-963C-9E10BDC5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B0FAF-C4E7-40EF-A5E7-388BF765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20170-51E3-4000-9A28-ABE05B9E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EA754-64A4-40AC-9061-EBE7D86D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D0B43-559C-4A1C-96B5-B08510E1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63966-9D8D-4F82-946D-6EBB04E9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DC233-6CA7-4026-A5D3-1510FEF1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56836-CDF2-4DCD-B8C5-519306B2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27B27-3329-43F9-9339-AB4F268B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C3BDC-C000-4848-BB14-E18B5C8C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2B2E-2E28-4125-9C11-09A8D52B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42E1C-5391-4257-B7B2-5F635C68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A35E3-A4DF-403D-940F-84E838AA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85C51-ADAD-4B2E-94D8-BC9402A1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8FA01-30B0-4179-AC7E-1E31AD70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8372E-756A-44AC-8535-7FD3044E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D681D-94A5-4DB2-8356-27C9A967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18227-A4AA-47F4-B0C1-E8F8B646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7B975-6133-4221-A172-5905934D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D81BD-3AA3-4DDC-9D85-9C09B527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04E93-F724-4E08-A10A-718AC924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87280" y="158904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素彩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sc115.com-pp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4B81-9802-40EA-A04B-73858057F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5" name="Picture 198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199"/>
          <p:cNvGrpSpPr/>
          <p:nvPr/>
        </p:nvGrpSpPr>
        <p:grpSpPr>
          <a:xfrm>
            <a:off x="7594560" y="333360"/>
            <a:ext cx="1441440" cy="396720"/>
            <a:chOff x="7594560" y="333360"/>
            <a:chExt cx="1441440" cy="396720"/>
          </a:xfrm>
        </p:grpSpPr>
        <p:sp>
          <p:nvSpPr>
            <p:cNvPr id="7" name="WordArt 188"/>
            <p:cNvSpPr txBox="1"/>
            <p:nvPr/>
          </p:nvSpPr>
          <p:spPr>
            <a:xfrm>
              <a:off x="8028000" y="333360"/>
              <a:ext cx="100800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8" name="WordArt 189"/>
            <p:cNvSpPr txBox="1"/>
            <p:nvPr/>
          </p:nvSpPr>
          <p:spPr>
            <a:xfrm>
              <a:off x="7594560" y="65736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" name="Group 195"/>
          <p:cNvGrpSpPr/>
          <p:nvPr/>
        </p:nvGrpSpPr>
        <p:grpSpPr>
          <a:xfrm>
            <a:off x="6550200" y="6497640"/>
            <a:ext cx="2449440" cy="263160"/>
            <a:chOff x="6550200" y="6497640"/>
            <a:chExt cx="2449440" cy="263160"/>
          </a:xfrm>
        </p:grpSpPr>
        <p:sp>
          <p:nvSpPr>
            <p:cNvPr id="10" name="WordArt 196"/>
            <p:cNvSpPr txBox="1"/>
            <p:nvPr/>
          </p:nvSpPr>
          <p:spPr>
            <a:xfrm>
              <a:off x="6550200" y="6684480"/>
              <a:ext cx="2449440" cy="76320"/>
            </a:xfrm>
            <a:prstGeom prst="rect">
              <a:avLst/>
            </a:prstGeom>
          </p:spPr>
          <p:txBody>
            <a:bodyPr wrap="none" lIns="90000" rIns="90000" tIns="29520" bIns="29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"/>
                </a:rPr>
                <a:t>PPTKOREA PRESENTATION TEMPLATE DESIGN SERVICE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11" name="WordArt 197"/>
            <p:cNvSpPr txBox="1"/>
            <p:nvPr/>
          </p:nvSpPr>
          <p:spPr>
            <a:xfrm>
              <a:off x="7051320" y="6497640"/>
              <a:ext cx="1948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 Black"/>
                </a:rPr>
                <a:t>WWW.PPTKOREA.COM</a:t>
              </a:r>
              <a:endParaRPr b="0" lang="en-US" sz="10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98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199"/>
          <p:cNvGrpSpPr/>
          <p:nvPr/>
        </p:nvGrpSpPr>
        <p:grpSpPr>
          <a:xfrm>
            <a:off x="7594560" y="333360"/>
            <a:ext cx="1441440" cy="396720"/>
            <a:chOff x="7594560" y="333360"/>
            <a:chExt cx="1441440" cy="396720"/>
          </a:xfrm>
        </p:grpSpPr>
        <p:sp>
          <p:nvSpPr>
            <p:cNvPr id="422" name="WordArt 188"/>
            <p:cNvSpPr txBox="1"/>
            <p:nvPr/>
          </p:nvSpPr>
          <p:spPr>
            <a:xfrm>
              <a:off x="8028000" y="333360"/>
              <a:ext cx="100800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423" name="WordArt 189"/>
            <p:cNvSpPr txBox="1"/>
            <p:nvPr/>
          </p:nvSpPr>
          <p:spPr>
            <a:xfrm>
              <a:off x="7594560" y="65736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4" name="Group 195"/>
          <p:cNvGrpSpPr/>
          <p:nvPr/>
        </p:nvGrpSpPr>
        <p:grpSpPr>
          <a:xfrm>
            <a:off x="6550200" y="6497640"/>
            <a:ext cx="2449440" cy="263160"/>
            <a:chOff x="6550200" y="6497640"/>
            <a:chExt cx="2449440" cy="263160"/>
          </a:xfrm>
        </p:grpSpPr>
        <p:sp>
          <p:nvSpPr>
            <p:cNvPr id="425" name="WordArt 196"/>
            <p:cNvSpPr txBox="1"/>
            <p:nvPr/>
          </p:nvSpPr>
          <p:spPr>
            <a:xfrm>
              <a:off x="6550200" y="6684480"/>
              <a:ext cx="2449440" cy="76320"/>
            </a:xfrm>
            <a:prstGeom prst="rect">
              <a:avLst/>
            </a:prstGeom>
          </p:spPr>
          <p:txBody>
            <a:bodyPr wrap="none" lIns="90000" rIns="90000" tIns="29520" bIns="29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"/>
                </a:rPr>
                <a:t>PPTKOREA PRESENTATION TEMPLATE DESIGN SERVICE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426" name="WordArt 197"/>
            <p:cNvSpPr txBox="1"/>
            <p:nvPr/>
          </p:nvSpPr>
          <p:spPr>
            <a:xfrm>
              <a:off x="7051320" y="6497640"/>
              <a:ext cx="1948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 Black"/>
                </a:rPr>
                <a:t>WWW.PPTKOREA.COM</a:t>
              </a:r>
              <a:endParaRPr b="0" lang="en-US" sz="10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1187280" y="158904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5D44-9D45-44E2-9ACA-74EB279398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98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9" name="Group 199"/>
          <p:cNvGrpSpPr/>
          <p:nvPr/>
        </p:nvGrpSpPr>
        <p:grpSpPr>
          <a:xfrm>
            <a:off x="7594560" y="333360"/>
            <a:ext cx="1441440" cy="396720"/>
            <a:chOff x="7594560" y="333360"/>
            <a:chExt cx="1441440" cy="396720"/>
          </a:xfrm>
        </p:grpSpPr>
        <p:sp>
          <p:nvSpPr>
            <p:cNvPr id="470" name="WordArt 188"/>
            <p:cNvSpPr txBox="1"/>
            <p:nvPr/>
          </p:nvSpPr>
          <p:spPr>
            <a:xfrm>
              <a:off x="8028000" y="333360"/>
              <a:ext cx="100800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471" name="WordArt 189"/>
            <p:cNvSpPr txBox="1"/>
            <p:nvPr/>
          </p:nvSpPr>
          <p:spPr>
            <a:xfrm>
              <a:off x="7594560" y="65736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72" name="Group 195"/>
          <p:cNvGrpSpPr/>
          <p:nvPr/>
        </p:nvGrpSpPr>
        <p:grpSpPr>
          <a:xfrm>
            <a:off x="6550200" y="6497640"/>
            <a:ext cx="2449440" cy="263160"/>
            <a:chOff x="6550200" y="6497640"/>
            <a:chExt cx="2449440" cy="263160"/>
          </a:xfrm>
        </p:grpSpPr>
        <p:sp>
          <p:nvSpPr>
            <p:cNvPr id="473" name="WordArt 196"/>
            <p:cNvSpPr txBox="1"/>
            <p:nvPr/>
          </p:nvSpPr>
          <p:spPr>
            <a:xfrm>
              <a:off x="6550200" y="6684480"/>
              <a:ext cx="2449440" cy="76320"/>
            </a:xfrm>
            <a:prstGeom prst="rect">
              <a:avLst/>
            </a:prstGeom>
          </p:spPr>
          <p:txBody>
            <a:bodyPr wrap="none" lIns="90000" rIns="90000" tIns="29520" bIns="29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"/>
                </a:rPr>
                <a:t>PPTKOREA PRESENTATION TEMPLATE DESIGN SERVICE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474" name="WordArt 197"/>
            <p:cNvSpPr txBox="1"/>
            <p:nvPr/>
          </p:nvSpPr>
          <p:spPr>
            <a:xfrm>
              <a:off x="7051320" y="6497640"/>
              <a:ext cx="1948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 Black"/>
                </a:rPr>
                <a:t>WWW.PPTKOREA.COM</a:t>
              </a:r>
              <a:endParaRPr b="0" lang="en-US" sz="10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1187280" y="158904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9B71-30A4-42F8-93BF-A85B7E7F3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198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7" name="Group 199"/>
          <p:cNvGrpSpPr/>
          <p:nvPr/>
        </p:nvGrpSpPr>
        <p:grpSpPr>
          <a:xfrm>
            <a:off x="7594560" y="333360"/>
            <a:ext cx="1441440" cy="396720"/>
            <a:chOff x="7594560" y="333360"/>
            <a:chExt cx="1441440" cy="396720"/>
          </a:xfrm>
        </p:grpSpPr>
        <p:sp>
          <p:nvSpPr>
            <p:cNvPr id="518" name="WordArt 188"/>
            <p:cNvSpPr txBox="1"/>
            <p:nvPr/>
          </p:nvSpPr>
          <p:spPr>
            <a:xfrm>
              <a:off x="8028000" y="333360"/>
              <a:ext cx="100800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19" name="WordArt 189"/>
            <p:cNvSpPr txBox="1"/>
            <p:nvPr/>
          </p:nvSpPr>
          <p:spPr>
            <a:xfrm>
              <a:off x="7594560" y="65736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0" name="Group 195"/>
          <p:cNvGrpSpPr/>
          <p:nvPr/>
        </p:nvGrpSpPr>
        <p:grpSpPr>
          <a:xfrm>
            <a:off x="6550200" y="6497640"/>
            <a:ext cx="2449440" cy="263160"/>
            <a:chOff x="6550200" y="6497640"/>
            <a:chExt cx="2449440" cy="263160"/>
          </a:xfrm>
        </p:grpSpPr>
        <p:sp>
          <p:nvSpPr>
            <p:cNvPr id="521" name="WordArt 196"/>
            <p:cNvSpPr txBox="1"/>
            <p:nvPr/>
          </p:nvSpPr>
          <p:spPr>
            <a:xfrm>
              <a:off x="6550200" y="6684480"/>
              <a:ext cx="2449440" cy="76320"/>
            </a:xfrm>
            <a:prstGeom prst="rect">
              <a:avLst/>
            </a:prstGeom>
          </p:spPr>
          <p:txBody>
            <a:bodyPr wrap="none" lIns="90000" rIns="90000" tIns="29520" bIns="29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"/>
                </a:rPr>
                <a:t>PPTKOREA PRESENTATION TEMPLATE DESIGN SERVICE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522" name="WordArt 197"/>
            <p:cNvSpPr txBox="1"/>
            <p:nvPr/>
          </p:nvSpPr>
          <p:spPr>
            <a:xfrm>
              <a:off x="7051320" y="6497640"/>
              <a:ext cx="1948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 Black"/>
                </a:rPr>
                <a:t>WWW.PPTKOREA.COM</a:t>
              </a:r>
              <a:endParaRPr b="0" lang="en-US" sz="10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1187280" y="158904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DCE8-BCAB-4DA1-AC9C-DCE3130270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98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5" name="Group 199"/>
          <p:cNvGrpSpPr/>
          <p:nvPr/>
        </p:nvGrpSpPr>
        <p:grpSpPr>
          <a:xfrm>
            <a:off x="7594560" y="333360"/>
            <a:ext cx="1441440" cy="396720"/>
            <a:chOff x="7594560" y="333360"/>
            <a:chExt cx="1441440" cy="396720"/>
          </a:xfrm>
        </p:grpSpPr>
        <p:sp>
          <p:nvSpPr>
            <p:cNvPr id="566" name="WordArt 188"/>
            <p:cNvSpPr txBox="1"/>
            <p:nvPr/>
          </p:nvSpPr>
          <p:spPr>
            <a:xfrm>
              <a:off x="8028000" y="333360"/>
              <a:ext cx="100800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7" name="WordArt 189"/>
            <p:cNvSpPr txBox="1"/>
            <p:nvPr/>
          </p:nvSpPr>
          <p:spPr>
            <a:xfrm>
              <a:off x="7594560" y="65736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8" name="Group 195"/>
          <p:cNvGrpSpPr/>
          <p:nvPr/>
        </p:nvGrpSpPr>
        <p:grpSpPr>
          <a:xfrm>
            <a:off x="6550200" y="6497640"/>
            <a:ext cx="2449440" cy="263160"/>
            <a:chOff x="6550200" y="6497640"/>
            <a:chExt cx="2449440" cy="263160"/>
          </a:xfrm>
        </p:grpSpPr>
        <p:sp>
          <p:nvSpPr>
            <p:cNvPr id="569" name="WordArt 196"/>
            <p:cNvSpPr txBox="1"/>
            <p:nvPr/>
          </p:nvSpPr>
          <p:spPr>
            <a:xfrm>
              <a:off x="6550200" y="6684480"/>
              <a:ext cx="2449440" cy="76320"/>
            </a:xfrm>
            <a:prstGeom prst="rect">
              <a:avLst/>
            </a:prstGeom>
          </p:spPr>
          <p:txBody>
            <a:bodyPr wrap="none" lIns="90000" rIns="90000" tIns="29520" bIns="29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"/>
                </a:rPr>
                <a:t>PPTKOREA PRESENTATION TEMPLATE DESIGN SERVICE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570" name="WordArt 197"/>
            <p:cNvSpPr txBox="1"/>
            <p:nvPr/>
          </p:nvSpPr>
          <p:spPr>
            <a:xfrm>
              <a:off x="7051320" y="6497640"/>
              <a:ext cx="1948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 Black"/>
                </a:rPr>
                <a:t>WWW.PPTKOREA.COM</a:t>
              </a:r>
              <a:endParaRPr b="0" lang="en-US" sz="10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1187280" y="158904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6530-9068-45DD-A017-278F0A6698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198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13" name="Group 199"/>
          <p:cNvGrpSpPr/>
          <p:nvPr/>
        </p:nvGrpSpPr>
        <p:grpSpPr>
          <a:xfrm>
            <a:off x="7594560" y="333360"/>
            <a:ext cx="1441440" cy="396720"/>
            <a:chOff x="7594560" y="333360"/>
            <a:chExt cx="1441440" cy="396720"/>
          </a:xfrm>
        </p:grpSpPr>
        <p:sp>
          <p:nvSpPr>
            <p:cNvPr id="614" name="WordArt 188"/>
            <p:cNvSpPr txBox="1"/>
            <p:nvPr/>
          </p:nvSpPr>
          <p:spPr>
            <a:xfrm>
              <a:off x="8028000" y="333360"/>
              <a:ext cx="100800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615" name="WordArt 189"/>
            <p:cNvSpPr txBox="1"/>
            <p:nvPr/>
          </p:nvSpPr>
          <p:spPr>
            <a:xfrm>
              <a:off x="7594560" y="65736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6" name="Group 195"/>
          <p:cNvGrpSpPr/>
          <p:nvPr/>
        </p:nvGrpSpPr>
        <p:grpSpPr>
          <a:xfrm>
            <a:off x="6550200" y="6497640"/>
            <a:ext cx="2449440" cy="263160"/>
            <a:chOff x="6550200" y="6497640"/>
            <a:chExt cx="2449440" cy="263160"/>
          </a:xfrm>
        </p:grpSpPr>
        <p:sp>
          <p:nvSpPr>
            <p:cNvPr id="617" name="WordArt 196"/>
            <p:cNvSpPr txBox="1"/>
            <p:nvPr/>
          </p:nvSpPr>
          <p:spPr>
            <a:xfrm>
              <a:off x="6550200" y="6684480"/>
              <a:ext cx="2449440" cy="76320"/>
            </a:xfrm>
            <a:prstGeom prst="rect">
              <a:avLst/>
            </a:prstGeom>
          </p:spPr>
          <p:txBody>
            <a:bodyPr wrap="none" lIns="90000" rIns="90000" tIns="29520" bIns="29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"/>
                </a:rPr>
                <a:t>PPTKOREA PRESENTATION TEMPLATE DESIGN SERVICE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618" name="WordArt 197"/>
            <p:cNvSpPr txBox="1"/>
            <p:nvPr/>
          </p:nvSpPr>
          <p:spPr>
            <a:xfrm>
              <a:off x="7051320" y="6497640"/>
              <a:ext cx="1948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 Black"/>
                </a:rPr>
                <a:t>WWW.PPTKOREA.COM</a:t>
              </a:r>
              <a:endParaRPr b="0" lang="en-US" sz="10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body"/>
          </p:nvPr>
        </p:nvSpPr>
        <p:spPr>
          <a:xfrm>
            <a:off x="1187280" y="158904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351B-4892-4F84-BC03-2E9793E5B7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E89B-E10A-4DA0-8137-CDF9632D3EF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07C9-8D17-4B6E-98DA-E32F6BF41D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F1F0-6336-42CD-80CC-82F04AD545D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211E-0CA7-4FEC-9621-B94157F8C4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B8D9-4E1B-47BD-9251-9D189767B7A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9CEF-F00F-4BF8-8CDF-B1E33E5FF3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91B0-5B6B-4118-BFC1-4653694A9E9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7737-1A27-4DBE-B720-6418AD1DDD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77FA-1AD6-4096-9FBA-A1F6FB6917B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6016-42A6-4A84-929A-939E0B1132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6F75-6810-48A1-8D87-BD548101A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4" name="Picture 81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82"/>
          <p:cNvGrpSpPr/>
          <p:nvPr/>
        </p:nvGrpSpPr>
        <p:grpSpPr>
          <a:xfrm>
            <a:off x="6550200" y="6497640"/>
            <a:ext cx="2449440" cy="263160"/>
            <a:chOff x="6550200" y="6497640"/>
            <a:chExt cx="2449440" cy="263160"/>
          </a:xfrm>
        </p:grpSpPr>
        <p:sp>
          <p:nvSpPr>
            <p:cNvPr id="57" name="WordArt 83"/>
            <p:cNvSpPr txBox="1"/>
            <p:nvPr/>
          </p:nvSpPr>
          <p:spPr>
            <a:xfrm>
              <a:off x="6550200" y="6684480"/>
              <a:ext cx="2449440" cy="76320"/>
            </a:xfrm>
            <a:prstGeom prst="rect">
              <a:avLst/>
            </a:prstGeom>
          </p:spPr>
          <p:txBody>
            <a:bodyPr wrap="none" lIns="90000" rIns="90000" tIns="29520" bIns="29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"/>
                </a:rPr>
                <a:t>PPTKOREA PRESENTATION TEMPLATE DESIGN SERVICE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58" name="WordArt 84"/>
            <p:cNvSpPr txBox="1"/>
            <p:nvPr/>
          </p:nvSpPr>
          <p:spPr>
            <a:xfrm>
              <a:off x="7051320" y="6497640"/>
              <a:ext cx="1948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 Black"/>
                </a:rPr>
                <a:t>WWW.PPTKOREA.COM</a:t>
              </a:r>
              <a:endParaRPr b="0" lang="en-US" sz="10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0B57-A373-4232-AEDA-10125F81D68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11C1-7E56-4D1D-9B82-3E90C70127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219D-CEDE-4AD8-BC2B-6BE57AFC854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A597-531D-4A3A-B6ED-A72FD32AA1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A511-D965-4F82-9393-24B5FA75478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2BBF-95A7-4133-A12F-CB3D4039EC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F726-2F11-46E9-A39D-F3E6088BABD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3F4E-E2F6-4527-846B-A7F42BB69E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9ECB-016C-46B4-A6A2-A1BB48F6E63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8845-BF60-469C-AA83-ADF274D9A2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213B-BBE3-4558-9467-6BB8BDE3AD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1" name="Picture 81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3" descr="4"/>
          <p:cNvPicPr/>
          <p:nvPr/>
        </p:nvPicPr>
        <p:blipFill>
          <a:blip r:embed="rId3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82"/>
          <p:cNvGrpSpPr/>
          <p:nvPr/>
        </p:nvGrpSpPr>
        <p:grpSpPr>
          <a:xfrm>
            <a:off x="6550200" y="6497640"/>
            <a:ext cx="2449440" cy="263160"/>
            <a:chOff x="6550200" y="6497640"/>
            <a:chExt cx="2449440" cy="263160"/>
          </a:xfrm>
        </p:grpSpPr>
        <p:sp>
          <p:nvSpPr>
            <p:cNvPr id="104" name="WordArt 83"/>
            <p:cNvSpPr txBox="1"/>
            <p:nvPr/>
          </p:nvSpPr>
          <p:spPr>
            <a:xfrm>
              <a:off x="6550200" y="6684480"/>
              <a:ext cx="2449440" cy="76320"/>
            </a:xfrm>
            <a:prstGeom prst="rect">
              <a:avLst/>
            </a:prstGeom>
          </p:spPr>
          <p:txBody>
            <a:bodyPr wrap="none" lIns="90000" rIns="90000" tIns="29520" bIns="29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"/>
                </a:rPr>
                <a:t>PPTKOREA PRESENTATION TEMPLATE DESIGN SERVICE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105" name="WordArt 84"/>
            <p:cNvSpPr txBox="1"/>
            <p:nvPr/>
          </p:nvSpPr>
          <p:spPr>
            <a:xfrm>
              <a:off x="7051320" y="6497640"/>
              <a:ext cx="1948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 Black"/>
                </a:rPr>
                <a:t>WWW.PPTKOREA.COM</a:t>
              </a:r>
              <a:endParaRPr b="0" lang="en-US" sz="10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67CC-8D60-4F08-ACBE-7EFDADCEA86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B0E5-00EA-4999-AEEF-92155BDE56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02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203"/>
          <p:cNvGrpSpPr/>
          <p:nvPr/>
        </p:nvGrpSpPr>
        <p:grpSpPr>
          <a:xfrm>
            <a:off x="7451640" y="6237360"/>
            <a:ext cx="1441440" cy="396720"/>
            <a:chOff x="7451640" y="6237360"/>
            <a:chExt cx="1441440" cy="396720"/>
          </a:xfrm>
        </p:grpSpPr>
        <p:sp>
          <p:nvSpPr>
            <p:cNvPr id="185" name="WordArt 204"/>
            <p:cNvSpPr txBox="1"/>
            <p:nvPr/>
          </p:nvSpPr>
          <p:spPr>
            <a:xfrm>
              <a:off x="7885080" y="6237360"/>
              <a:ext cx="100800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186" name="WordArt 205"/>
            <p:cNvSpPr txBox="1"/>
            <p:nvPr/>
          </p:nvSpPr>
          <p:spPr>
            <a:xfrm>
              <a:off x="7451640" y="656136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87280" y="158904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8273-2781-43FB-B84C-645ABB4ED9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素彩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sc115.com-pp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98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199"/>
          <p:cNvGrpSpPr/>
          <p:nvPr/>
        </p:nvGrpSpPr>
        <p:grpSpPr>
          <a:xfrm>
            <a:off x="7594560" y="333360"/>
            <a:ext cx="1441440" cy="396720"/>
            <a:chOff x="7594560" y="333360"/>
            <a:chExt cx="1441440" cy="396720"/>
          </a:xfrm>
        </p:grpSpPr>
        <p:sp>
          <p:nvSpPr>
            <p:cNvPr id="230" name="WordArt 188"/>
            <p:cNvSpPr txBox="1"/>
            <p:nvPr/>
          </p:nvSpPr>
          <p:spPr>
            <a:xfrm>
              <a:off x="8028000" y="333360"/>
              <a:ext cx="100800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231" name="WordArt 189"/>
            <p:cNvSpPr txBox="1"/>
            <p:nvPr/>
          </p:nvSpPr>
          <p:spPr>
            <a:xfrm>
              <a:off x="7594560" y="65736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2" name="Group 195"/>
          <p:cNvGrpSpPr/>
          <p:nvPr/>
        </p:nvGrpSpPr>
        <p:grpSpPr>
          <a:xfrm>
            <a:off x="6550200" y="6497640"/>
            <a:ext cx="2449440" cy="263160"/>
            <a:chOff x="6550200" y="6497640"/>
            <a:chExt cx="2449440" cy="263160"/>
          </a:xfrm>
        </p:grpSpPr>
        <p:sp>
          <p:nvSpPr>
            <p:cNvPr id="233" name="WordArt 196"/>
            <p:cNvSpPr txBox="1"/>
            <p:nvPr/>
          </p:nvSpPr>
          <p:spPr>
            <a:xfrm>
              <a:off x="6550200" y="6684480"/>
              <a:ext cx="2449440" cy="76320"/>
            </a:xfrm>
            <a:prstGeom prst="rect">
              <a:avLst/>
            </a:prstGeom>
          </p:spPr>
          <p:txBody>
            <a:bodyPr wrap="none" lIns="90000" rIns="90000" tIns="29520" bIns="29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"/>
                </a:rPr>
                <a:t>PPTKOREA PRESENTATION TEMPLATE DESIGN SERVICE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234" name="WordArt 197"/>
            <p:cNvSpPr txBox="1"/>
            <p:nvPr/>
          </p:nvSpPr>
          <p:spPr>
            <a:xfrm>
              <a:off x="7051320" y="6497640"/>
              <a:ext cx="1948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 Black"/>
                </a:rPr>
                <a:t>WWW.PPTKOREA.COM</a:t>
              </a:r>
              <a:endParaRPr b="0" lang="en-US" sz="10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187280" y="158904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ACBD-AEE7-469E-9549-862D00B52D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98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99"/>
          <p:cNvGrpSpPr/>
          <p:nvPr/>
        </p:nvGrpSpPr>
        <p:grpSpPr>
          <a:xfrm>
            <a:off x="7594560" y="333360"/>
            <a:ext cx="1441440" cy="396720"/>
            <a:chOff x="7594560" y="333360"/>
            <a:chExt cx="1441440" cy="396720"/>
          </a:xfrm>
        </p:grpSpPr>
        <p:sp>
          <p:nvSpPr>
            <p:cNvPr id="278" name="WordArt 188"/>
            <p:cNvSpPr txBox="1"/>
            <p:nvPr/>
          </p:nvSpPr>
          <p:spPr>
            <a:xfrm>
              <a:off x="8028000" y="333360"/>
              <a:ext cx="100800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279" name="WordArt 189"/>
            <p:cNvSpPr txBox="1"/>
            <p:nvPr/>
          </p:nvSpPr>
          <p:spPr>
            <a:xfrm>
              <a:off x="7594560" y="65736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0" name="Group 195"/>
          <p:cNvGrpSpPr/>
          <p:nvPr/>
        </p:nvGrpSpPr>
        <p:grpSpPr>
          <a:xfrm>
            <a:off x="6550200" y="6497640"/>
            <a:ext cx="2449440" cy="263160"/>
            <a:chOff x="6550200" y="6497640"/>
            <a:chExt cx="2449440" cy="263160"/>
          </a:xfrm>
        </p:grpSpPr>
        <p:sp>
          <p:nvSpPr>
            <p:cNvPr id="281" name="WordArt 196"/>
            <p:cNvSpPr txBox="1"/>
            <p:nvPr/>
          </p:nvSpPr>
          <p:spPr>
            <a:xfrm>
              <a:off x="6550200" y="6684480"/>
              <a:ext cx="2449440" cy="76320"/>
            </a:xfrm>
            <a:prstGeom prst="rect">
              <a:avLst/>
            </a:prstGeom>
          </p:spPr>
          <p:txBody>
            <a:bodyPr wrap="none" lIns="90000" rIns="90000" tIns="29520" bIns="29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"/>
                </a:rPr>
                <a:t>PPTKOREA PRESENTATION TEMPLATE DESIGN SERVICE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282" name="WordArt 197"/>
            <p:cNvSpPr txBox="1"/>
            <p:nvPr/>
          </p:nvSpPr>
          <p:spPr>
            <a:xfrm>
              <a:off x="7051320" y="6497640"/>
              <a:ext cx="1948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 Black"/>
                </a:rPr>
                <a:t>WWW.PPTKOREA.COM</a:t>
              </a:r>
              <a:endParaRPr b="0" lang="en-US" sz="10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1187280" y="158904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C800-6DF4-45C5-9A26-3D07F592B0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198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5" name="Group 199"/>
          <p:cNvGrpSpPr/>
          <p:nvPr/>
        </p:nvGrpSpPr>
        <p:grpSpPr>
          <a:xfrm>
            <a:off x="7594560" y="333360"/>
            <a:ext cx="1441440" cy="396720"/>
            <a:chOff x="7594560" y="333360"/>
            <a:chExt cx="1441440" cy="396720"/>
          </a:xfrm>
        </p:grpSpPr>
        <p:sp>
          <p:nvSpPr>
            <p:cNvPr id="326" name="WordArt 188"/>
            <p:cNvSpPr txBox="1"/>
            <p:nvPr/>
          </p:nvSpPr>
          <p:spPr>
            <a:xfrm>
              <a:off x="8028000" y="333360"/>
              <a:ext cx="100800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327" name="WordArt 189"/>
            <p:cNvSpPr txBox="1"/>
            <p:nvPr/>
          </p:nvSpPr>
          <p:spPr>
            <a:xfrm>
              <a:off x="7594560" y="65736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8" name="Group 195"/>
          <p:cNvGrpSpPr/>
          <p:nvPr/>
        </p:nvGrpSpPr>
        <p:grpSpPr>
          <a:xfrm>
            <a:off x="6550200" y="6497640"/>
            <a:ext cx="2449440" cy="263160"/>
            <a:chOff x="6550200" y="6497640"/>
            <a:chExt cx="2449440" cy="263160"/>
          </a:xfrm>
        </p:grpSpPr>
        <p:sp>
          <p:nvSpPr>
            <p:cNvPr id="329" name="WordArt 196"/>
            <p:cNvSpPr txBox="1"/>
            <p:nvPr/>
          </p:nvSpPr>
          <p:spPr>
            <a:xfrm>
              <a:off x="6550200" y="6684480"/>
              <a:ext cx="2449440" cy="76320"/>
            </a:xfrm>
            <a:prstGeom prst="rect">
              <a:avLst/>
            </a:prstGeom>
          </p:spPr>
          <p:txBody>
            <a:bodyPr wrap="none" lIns="90000" rIns="90000" tIns="29520" bIns="29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"/>
                </a:rPr>
                <a:t>PPTKOREA PRESENTATION TEMPLATE DESIGN SERVICE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330" name="WordArt 197"/>
            <p:cNvSpPr txBox="1"/>
            <p:nvPr/>
          </p:nvSpPr>
          <p:spPr>
            <a:xfrm>
              <a:off x="7051320" y="6497640"/>
              <a:ext cx="1948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 Black"/>
                </a:rPr>
                <a:t>WWW.PPTKOREA.COM</a:t>
              </a:r>
              <a:endParaRPr b="0" lang="en-US" sz="10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1187280" y="158904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868A-ABB7-465D-B4E3-6B51E8771F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98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199"/>
          <p:cNvGrpSpPr/>
          <p:nvPr/>
        </p:nvGrpSpPr>
        <p:grpSpPr>
          <a:xfrm>
            <a:off x="7594560" y="333360"/>
            <a:ext cx="1441440" cy="396720"/>
            <a:chOff x="7594560" y="333360"/>
            <a:chExt cx="1441440" cy="396720"/>
          </a:xfrm>
        </p:grpSpPr>
        <p:sp>
          <p:nvSpPr>
            <p:cNvPr id="374" name="WordArt 188"/>
            <p:cNvSpPr txBox="1"/>
            <p:nvPr/>
          </p:nvSpPr>
          <p:spPr>
            <a:xfrm>
              <a:off x="8028000" y="333360"/>
              <a:ext cx="100800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375" name="WordArt 189"/>
            <p:cNvSpPr txBox="1"/>
            <p:nvPr/>
          </p:nvSpPr>
          <p:spPr>
            <a:xfrm>
              <a:off x="7594560" y="65736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76" name="Group 195"/>
          <p:cNvGrpSpPr/>
          <p:nvPr/>
        </p:nvGrpSpPr>
        <p:grpSpPr>
          <a:xfrm>
            <a:off x="6550200" y="6497640"/>
            <a:ext cx="2449440" cy="263160"/>
            <a:chOff x="6550200" y="6497640"/>
            <a:chExt cx="2449440" cy="263160"/>
          </a:xfrm>
        </p:grpSpPr>
        <p:sp>
          <p:nvSpPr>
            <p:cNvPr id="377" name="WordArt 196"/>
            <p:cNvSpPr txBox="1"/>
            <p:nvPr/>
          </p:nvSpPr>
          <p:spPr>
            <a:xfrm>
              <a:off x="6550200" y="6684480"/>
              <a:ext cx="2449440" cy="76320"/>
            </a:xfrm>
            <a:prstGeom prst="rect">
              <a:avLst/>
            </a:prstGeom>
          </p:spPr>
          <p:txBody>
            <a:bodyPr wrap="none" lIns="90000" rIns="90000" tIns="29520" bIns="29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"/>
                </a:rPr>
                <a:t>PPTKOREA PRESENTATION TEMPLATE DESIGN SERVICE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378" name="WordArt 197"/>
            <p:cNvSpPr txBox="1"/>
            <p:nvPr/>
          </p:nvSpPr>
          <p:spPr>
            <a:xfrm>
              <a:off x="7051320" y="6497640"/>
              <a:ext cx="1948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 Black"/>
                </a:rPr>
                <a:t>WWW.PPTKOREA.COM</a:t>
              </a:r>
              <a:endParaRPr b="0" lang="en-US" sz="10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1187280" y="158904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7EE9-F82F-4746-9551-3D14E51340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ulim"/>
              </a:rPr>
              <a:t>素彩网</a:t>
            </a:r>
            <a:r>
              <a:rPr b="0" lang="en-US" sz="1400" spc="-1" strike="noStrike">
                <a:solidFill>
                  <a:srgbClr val="ffffff"/>
                </a:solidFill>
                <a:latin typeface="Gulim"/>
              </a:rPr>
              <a:t>http://www.sc115.com-ppt</a:t>
            </a:r>
            <a:r>
              <a:rPr b="0" lang="zh-CN" sz="1400" spc="-1" strike="noStrike">
                <a:solidFill>
                  <a:srgbClr val="ffffff"/>
                </a:solidFill>
                <a:latin typeface="Gulim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8" name="矩形 1"/>
          <p:cNvSpPr/>
          <p:nvPr/>
        </p:nvSpPr>
        <p:spPr>
          <a:xfrm>
            <a:off x="2083680" y="47628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ulim"/>
              </a:rPr>
              <a:t>夜景烟花动态</a:t>
            </a:r>
            <a:r>
              <a:rPr b="0" lang="en-US" sz="40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Gulim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WordArt 14"/>
          <p:cNvSpPr txBox="1"/>
          <p:nvPr/>
        </p:nvSpPr>
        <p:spPr>
          <a:xfrm>
            <a:off x="179280" y="133200"/>
            <a:ext cx="5472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808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e1f00">
                      <a:alpha val="50000"/>
                    </a:srgbClr>
                  </a:outerShdw>
                </a:effectLst>
                <a:latin typeface="Times New Roman"/>
              </a:rPr>
              <a:t>CLICK TO EDIT TITLE STYL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5400000"/>
              </a:gradFill>
              <a:effectLst>
                <a:outerShdw dist="17819" dir="2700000" blurRad="0" rotWithShape="0">
                  <a:srgbClr val="3e1f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6:36:06Z</dcterms:created>
  <dc:creator/>
  <dc:description/>
  <cp:keywords/>
  <dc:language>en-US</dc:language>
  <cp:lastModifiedBy>王玉清</cp:lastModifiedBy>
  <dcterms:modified xsi:type="dcterms:W3CDTF">2016-02-16T07:27:0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