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FD2C-4096-4252-9372-0C7A283A4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CCDB-8D5F-4258-B04D-790EDFF8C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103C-9AF9-4934-9B02-FAA39A6B6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7A71-86CF-4AAB-8BB1-8B0487243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9767-969A-4E23-902F-6383F7EE3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3487-F381-48FE-A9DC-7EA694EBF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2F21-DDD5-412A-B198-72218A06B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A118-20F0-4A42-914F-6B6519F6B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82D9-1A06-4B9D-B4CF-8613379FF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83A6-AA89-4406-9549-65B296D86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3F2C-4626-4C48-9190-738B58A09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3FDA-CAE0-416C-9356-34298DF1E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5"/>
          <p:cNvGraphicFramePr/>
          <p:nvPr/>
        </p:nvGraphicFramePr>
        <p:xfrm>
          <a:off x="38160" y="81000"/>
          <a:ext cx="9037440" cy="110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60" y="81000"/>
                    <a:ext cx="903744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1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63244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3F42-05AA-4D46-9B26-B04BA73F2E05}" type="slidenum"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7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" name="Rectangle 23"/>
          <p:cNvSpPr/>
          <p:nvPr/>
        </p:nvSpPr>
        <p:spPr>
          <a:xfrm>
            <a:off x="100080" y="1198440"/>
            <a:ext cx="8948520" cy="100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4"/>
          <p:cNvSpPr/>
          <p:nvPr/>
        </p:nvSpPr>
        <p:spPr>
          <a:xfrm>
            <a:off x="7226280" y="595800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7240" y="28440"/>
            <a:ext cx="6276960" cy="2257560"/>
          </a:xfrm>
          <a:prstGeom prst="rect">
            <a:avLst/>
          </a:prstGeom>
          <a:solidFill>
            <a:srgbClr val="1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2" name="Group 18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53" name="AutoShape 19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愉快商业合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版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0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a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5" name="Group 41"/>
            <p:cNvGrpSpPr/>
            <p:nvPr/>
          </p:nvGrpSpPr>
          <p:grpSpPr>
            <a:xfrm>
              <a:off x="1295280" y="1828800"/>
              <a:ext cx="1703520" cy="1687680"/>
              <a:chOff x="1295280" y="1828800"/>
              <a:chExt cx="1703520" cy="1687680"/>
            </a:xfrm>
          </p:grpSpPr>
          <p:sp>
            <p:nvSpPr>
              <p:cNvPr id="266" name="Oval 13"/>
              <p:cNvSpPr/>
              <p:nvPr/>
            </p:nvSpPr>
            <p:spPr>
              <a:xfrm>
                <a:off x="1295280" y="1828800"/>
                <a:ext cx="1703520" cy="168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885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Oval 14"/>
              <p:cNvSpPr/>
              <p:nvPr/>
            </p:nvSpPr>
            <p:spPr>
              <a:xfrm>
                <a:off x="1295280" y="1828800"/>
                <a:ext cx="1703520" cy="1687680"/>
              </a:xfrm>
              <a:prstGeom prst="ellipse">
                <a:avLst/>
              </a:prstGeom>
              <a:gradFill rotWithShape="0">
                <a:gsLst>
                  <a:gs pos="0">
                    <a:srgbClr val="9885a3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406520" y="1938240"/>
                <a:ext cx="1481040" cy="1467000"/>
              </a:xfrm>
              <a:prstGeom prst="ellipse">
                <a:avLst/>
              </a:prstGeom>
              <a:gradFill rotWithShape="0">
                <a:gsLst>
                  <a:gs pos="0">
                    <a:srgbClr val="524858"/>
                  </a:gs>
                  <a:gs pos="50000">
                    <a:srgbClr val="9885a3"/>
                  </a:gs>
                  <a:gs pos="100000">
                    <a:srgbClr val="5248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9" name="Oval 16"/>
              <p:cNvSpPr/>
              <p:nvPr/>
            </p:nvSpPr>
            <p:spPr>
              <a:xfrm>
                <a:off x="1407960" y="1941480"/>
                <a:ext cx="1481400" cy="1467000"/>
              </a:xfrm>
              <a:prstGeom prst="ellipse">
                <a:avLst/>
              </a:prstGeom>
              <a:gradFill rotWithShape="0">
                <a:gsLst>
                  <a:gs pos="0">
                    <a:srgbClr val="615468"/>
                  </a:gs>
                  <a:gs pos="100000">
                    <a:srgbClr val="9885a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0" name="Oval 17"/>
              <p:cNvSpPr/>
              <p:nvPr/>
            </p:nvSpPr>
            <p:spPr>
              <a:xfrm>
                <a:off x="1481040" y="2013120"/>
                <a:ext cx="1333440" cy="1320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271" name="Group 18"/>
              <p:cNvGrpSpPr/>
              <p:nvPr/>
            </p:nvGrpSpPr>
            <p:grpSpPr>
              <a:xfrm>
                <a:off x="1501920" y="2031840"/>
                <a:ext cx="1290600" cy="1278000"/>
                <a:chOff x="1501920" y="2031840"/>
                <a:chExt cx="1290600" cy="1278000"/>
              </a:xfrm>
            </p:grpSpPr>
            <p:sp>
              <p:nvSpPr>
                <p:cNvPr id="272" name="Oval 19"/>
                <p:cNvSpPr/>
                <p:nvPr/>
              </p:nvSpPr>
              <p:spPr>
                <a:xfrm>
                  <a:off x="1501920" y="2031840"/>
                  <a:ext cx="12906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0"/>
                <p:cNvSpPr/>
                <p:nvPr/>
              </p:nvSpPr>
              <p:spPr>
                <a:xfrm>
                  <a:off x="1518120" y="2038680"/>
                  <a:ext cx="12596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1"/>
                <p:cNvSpPr/>
                <p:nvPr/>
              </p:nvSpPr>
              <p:spPr>
                <a:xfrm>
                  <a:off x="1531800" y="2051280"/>
                  <a:ext cx="11977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2"/>
                <p:cNvSpPr/>
                <p:nvPr/>
              </p:nvSpPr>
              <p:spPr>
                <a:xfrm>
                  <a:off x="1601640" y="208368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Text Box 38"/>
              <p:cNvSpPr/>
              <p:nvPr/>
            </p:nvSpPr>
            <p:spPr>
              <a:xfrm>
                <a:off x="1765080" y="2505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42"/>
            <p:cNvGrpSpPr/>
            <p:nvPr/>
          </p:nvGrpSpPr>
          <p:grpSpPr>
            <a:xfrm>
              <a:off x="3759120" y="1833480"/>
              <a:ext cx="1703520" cy="1687680"/>
              <a:chOff x="3759120" y="1833480"/>
              <a:chExt cx="1703520" cy="1687680"/>
            </a:xfrm>
          </p:grpSpPr>
          <p:sp>
            <p:nvSpPr>
              <p:cNvPr id="278" name="Oval 23"/>
              <p:cNvSpPr/>
              <p:nvPr/>
            </p:nvSpPr>
            <p:spPr>
              <a:xfrm>
                <a:off x="3759120" y="1833480"/>
                <a:ext cx="1703520" cy="168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89e8e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3759120" y="1833480"/>
                <a:ext cx="1703520" cy="1687680"/>
              </a:xfrm>
              <a:prstGeom prst="ellipse">
                <a:avLst/>
              </a:prstGeom>
              <a:gradFill rotWithShape="0">
                <a:gsLst>
                  <a:gs pos="0">
                    <a:srgbClr val="189e8e">
                      <a:alpha val="32156"/>
                    </a:srgbClr>
                  </a:gs>
                  <a:gs pos="100000">
                    <a:srgbClr val="0b49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Oval 25"/>
              <p:cNvSpPr/>
              <p:nvPr/>
            </p:nvSpPr>
            <p:spPr>
              <a:xfrm>
                <a:off x="3870360" y="194472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0d564d"/>
                  </a:gs>
                  <a:gs pos="50000">
                    <a:srgbClr val="189e8e"/>
                  </a:gs>
                  <a:gs pos="100000">
                    <a:srgbClr val="0d564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Oval 26"/>
              <p:cNvSpPr/>
              <p:nvPr/>
            </p:nvSpPr>
            <p:spPr>
              <a:xfrm>
                <a:off x="3871800" y="1946160"/>
                <a:ext cx="1481400" cy="1467000"/>
              </a:xfrm>
              <a:prstGeom prst="ellipse">
                <a:avLst/>
              </a:prstGeom>
              <a:gradFill rotWithShape="0">
                <a:gsLst>
                  <a:gs pos="0">
                    <a:srgbClr val="0f645a"/>
                  </a:gs>
                  <a:gs pos="100000">
                    <a:srgbClr val="189e8e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Oval 27"/>
              <p:cNvSpPr/>
              <p:nvPr/>
            </p:nvSpPr>
            <p:spPr>
              <a:xfrm>
                <a:off x="3943440" y="2016000"/>
                <a:ext cx="133344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283" name="Group 28"/>
              <p:cNvGrpSpPr/>
              <p:nvPr/>
            </p:nvGrpSpPr>
            <p:grpSpPr>
              <a:xfrm>
                <a:off x="3965400" y="2031840"/>
                <a:ext cx="1290960" cy="1278000"/>
                <a:chOff x="3965400" y="2031840"/>
                <a:chExt cx="1290960" cy="1278000"/>
              </a:xfrm>
            </p:grpSpPr>
            <p:sp>
              <p:nvSpPr>
                <p:cNvPr id="284" name="Oval 29"/>
                <p:cNvSpPr/>
                <p:nvPr/>
              </p:nvSpPr>
              <p:spPr>
                <a:xfrm>
                  <a:off x="3965400" y="2031840"/>
                  <a:ext cx="1290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0"/>
                <p:cNvSpPr/>
                <p:nvPr/>
              </p:nvSpPr>
              <p:spPr>
                <a:xfrm>
                  <a:off x="3981600" y="2038680"/>
                  <a:ext cx="126000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6" name="Oval 31"/>
                <p:cNvSpPr/>
                <p:nvPr/>
              </p:nvSpPr>
              <p:spPr>
                <a:xfrm>
                  <a:off x="3995280" y="2051280"/>
                  <a:ext cx="119808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7" name="Oval 32"/>
                <p:cNvSpPr/>
                <p:nvPr/>
              </p:nvSpPr>
              <p:spPr>
                <a:xfrm>
                  <a:off x="4065480" y="208368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Text Box 39"/>
              <p:cNvSpPr/>
              <p:nvPr/>
            </p:nvSpPr>
            <p:spPr>
              <a:xfrm>
                <a:off x="4233600" y="2505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43"/>
            <p:cNvGrpSpPr/>
            <p:nvPr/>
          </p:nvGrpSpPr>
          <p:grpSpPr>
            <a:xfrm>
              <a:off x="6221520" y="1833480"/>
              <a:ext cx="1703160" cy="1687680"/>
              <a:chOff x="6221520" y="1833480"/>
              <a:chExt cx="1703160" cy="1687680"/>
            </a:xfrm>
          </p:grpSpPr>
          <p:sp>
            <p:nvSpPr>
              <p:cNvPr id="290" name="Oval 8"/>
              <p:cNvSpPr/>
              <p:nvPr/>
            </p:nvSpPr>
            <p:spPr>
              <a:xfrm>
                <a:off x="6221520" y="1833480"/>
                <a:ext cx="1703160" cy="168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a5de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1" name="Oval 9"/>
              <p:cNvSpPr/>
              <p:nvPr/>
            </p:nvSpPr>
            <p:spPr>
              <a:xfrm>
                <a:off x="6221520" y="1833480"/>
                <a:ext cx="1703160" cy="1687680"/>
              </a:xfrm>
              <a:prstGeom prst="ellipse">
                <a:avLst/>
              </a:prstGeom>
              <a:gradFill rotWithShape="0">
                <a:gsLst>
                  <a:gs pos="0">
                    <a:srgbClr val="5aa5de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2" name="Oval 10"/>
              <p:cNvSpPr/>
              <p:nvPr/>
            </p:nvSpPr>
            <p:spPr>
              <a:xfrm>
                <a:off x="6332400" y="1944720"/>
                <a:ext cx="1481400" cy="1466640"/>
              </a:xfrm>
              <a:prstGeom prst="ellipse">
                <a:avLst/>
              </a:prstGeom>
              <a:gradFill rotWithShape="0">
                <a:gsLst>
                  <a:gs pos="0">
                    <a:srgbClr val="315978"/>
                  </a:gs>
                  <a:gs pos="50000">
                    <a:srgbClr val="5aa5de"/>
                  </a:gs>
                  <a:gs pos="100000">
                    <a:srgbClr val="31597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3" name="Oval 11"/>
              <p:cNvSpPr/>
              <p:nvPr/>
            </p:nvSpPr>
            <p:spPr>
              <a:xfrm>
                <a:off x="6357960" y="1952640"/>
                <a:ext cx="1481040" cy="1467000"/>
              </a:xfrm>
              <a:prstGeom prst="ellipse">
                <a:avLst/>
              </a:prstGeom>
              <a:gradFill rotWithShape="0">
                <a:gsLst>
                  <a:gs pos="0">
                    <a:srgbClr val="39698d"/>
                  </a:gs>
                  <a:gs pos="100000">
                    <a:srgbClr val="5aa5de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4" name="Oval 12"/>
              <p:cNvSpPr/>
              <p:nvPr/>
            </p:nvSpPr>
            <p:spPr>
              <a:xfrm>
                <a:off x="6411960" y="2016000"/>
                <a:ext cx="133488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295" name="Group 33"/>
              <p:cNvGrpSpPr/>
              <p:nvPr/>
            </p:nvGrpSpPr>
            <p:grpSpPr>
              <a:xfrm>
                <a:off x="6435720" y="2031840"/>
                <a:ext cx="1292400" cy="1278000"/>
                <a:chOff x="6435720" y="2031840"/>
                <a:chExt cx="1292400" cy="1278000"/>
              </a:xfrm>
            </p:grpSpPr>
            <p:sp>
              <p:nvSpPr>
                <p:cNvPr id="296" name="Oval 34"/>
                <p:cNvSpPr/>
                <p:nvPr/>
              </p:nvSpPr>
              <p:spPr>
                <a:xfrm>
                  <a:off x="6435720" y="2031840"/>
                  <a:ext cx="12924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7" name="Oval 35"/>
                <p:cNvSpPr/>
                <p:nvPr/>
              </p:nvSpPr>
              <p:spPr>
                <a:xfrm>
                  <a:off x="6451920" y="2038680"/>
                  <a:ext cx="12614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6"/>
                <p:cNvSpPr/>
                <p:nvPr/>
              </p:nvSpPr>
              <p:spPr>
                <a:xfrm>
                  <a:off x="6465600" y="2051280"/>
                  <a:ext cx="11995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7"/>
                <p:cNvSpPr/>
                <p:nvPr/>
              </p:nvSpPr>
              <p:spPr>
                <a:xfrm>
                  <a:off x="6535800" y="2083680"/>
                  <a:ext cx="106632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Text Box 40"/>
              <p:cNvSpPr/>
              <p:nvPr/>
            </p:nvSpPr>
            <p:spPr>
              <a:xfrm>
                <a:off x="6700320" y="2505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1371600" y="1143000"/>
            <a:ext cx="5714640" cy="5330520"/>
            <a:chOff x="1371600" y="1143000"/>
            <a:chExt cx="5714640" cy="5330520"/>
          </a:xfrm>
        </p:grpSpPr>
        <p:sp>
          <p:nvSpPr>
            <p:cNvPr id="302" name="Rectangle 3"/>
            <p:cNvSpPr/>
            <p:nvPr/>
          </p:nvSpPr>
          <p:spPr>
            <a:xfrm rot="13770000">
              <a:off x="4706640" y="373104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Rectangle 4"/>
            <p:cNvSpPr/>
            <p:nvPr/>
          </p:nvSpPr>
          <p:spPr>
            <a:xfrm rot="20856000">
              <a:off x="2679480" y="3247920"/>
              <a:ext cx="103680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0e0e0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 rot="18394200">
              <a:off x="4840560" y="209196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05" name="Group 6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06" name="Group 7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07" name="Oval 8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85a3"/>
                    </a:gs>
                    <a:gs pos="100000">
                      <a:srgbClr val="2520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9"/>
                <p:cNvSpPr/>
                <p:nvPr/>
              </p:nvSpPr>
              <p:spPr>
                <a:xfrm>
                  <a:off x="3833280" y="2152800"/>
                  <a:ext cx="1274760" cy="635400"/>
                </a:xfrm>
                <a:custGeom>
                  <a:avLst/>
                  <a:gdLst>
                    <a:gd name="textAreaLeft" fmla="*/ 0 w 1274760"/>
                    <a:gd name="textAreaRight" fmla="*/ 1275120 w 1274760"/>
                    <a:gd name="textAreaTop" fmla="*/ 0 h 635400"/>
                    <a:gd name="textAreaBottom" fmla="*/ 635400 h 635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885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 Box 10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1"/>
            <p:cNvGrpSpPr/>
            <p:nvPr/>
          </p:nvGrpSpPr>
          <p:grpSpPr>
            <a:xfrm>
              <a:off x="5089320" y="1143000"/>
              <a:ext cx="925200" cy="911880"/>
              <a:chOff x="5089320" y="1143000"/>
              <a:chExt cx="925200" cy="911880"/>
            </a:xfrm>
          </p:grpSpPr>
          <p:grpSp>
            <p:nvGrpSpPr>
              <p:cNvPr id="311" name="Group 12"/>
              <p:cNvGrpSpPr/>
              <p:nvPr/>
            </p:nvGrpSpPr>
            <p:grpSpPr>
              <a:xfrm>
                <a:off x="5089320" y="1143000"/>
                <a:ext cx="896400" cy="911880"/>
                <a:chOff x="5089320" y="1143000"/>
                <a:chExt cx="896400" cy="911880"/>
              </a:xfrm>
            </p:grpSpPr>
            <p:sp>
              <p:nvSpPr>
                <p:cNvPr id="312" name="Oval 13"/>
                <p:cNvSpPr/>
                <p:nvPr/>
              </p:nvSpPr>
              <p:spPr>
                <a:xfrm>
                  <a:off x="5089320" y="1143000"/>
                  <a:ext cx="896400" cy="91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9e8e"/>
                    </a:gs>
                    <a:gs pos="100000">
                      <a:srgbClr val="0626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4"/>
                <p:cNvSpPr/>
                <p:nvPr/>
              </p:nvSpPr>
              <p:spPr>
                <a:xfrm>
                  <a:off x="5192280" y="1158120"/>
                  <a:ext cx="691560" cy="343800"/>
                </a:xfrm>
                <a:custGeom>
                  <a:avLst/>
                  <a:gdLst>
                    <a:gd name="textAreaLeft" fmla="*/ 0 w 691560"/>
                    <a:gd name="textAreaRight" fmla="*/ 691920 w 691560"/>
                    <a:gd name="textAreaTop" fmla="*/ 0 h 343800"/>
                    <a:gd name="textAreaBottom" fmla="*/ 344160 h 3438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89e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5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6"/>
            <p:cNvGrpSpPr/>
            <p:nvPr/>
          </p:nvGrpSpPr>
          <p:grpSpPr>
            <a:xfrm>
              <a:off x="1371600" y="2476080"/>
              <a:ext cx="1790280" cy="1894680"/>
              <a:chOff x="1371600" y="2476080"/>
              <a:chExt cx="1790280" cy="1894680"/>
            </a:xfrm>
          </p:grpSpPr>
          <p:grpSp>
            <p:nvGrpSpPr>
              <p:cNvPr id="316" name="Group 17"/>
              <p:cNvGrpSpPr/>
              <p:nvPr/>
            </p:nvGrpSpPr>
            <p:grpSpPr>
              <a:xfrm>
                <a:off x="1371600" y="2476080"/>
                <a:ext cx="1790280" cy="1894680"/>
                <a:chOff x="1371600" y="2476080"/>
                <a:chExt cx="1790280" cy="1894680"/>
              </a:xfrm>
            </p:grpSpPr>
            <p:sp>
              <p:nvSpPr>
                <p:cNvPr id="317" name="Oval 18"/>
                <p:cNvSpPr/>
                <p:nvPr/>
              </p:nvSpPr>
              <p:spPr>
                <a:xfrm>
                  <a:off x="1371600" y="2476080"/>
                  <a:ext cx="179028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0bb20"/>
                    </a:gs>
                    <a:gs pos="100000">
                      <a:srgbClr val="8e77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9"/>
                <p:cNvSpPr/>
                <p:nvPr/>
              </p:nvSpPr>
              <p:spPr>
                <a:xfrm>
                  <a:off x="1576080" y="2507400"/>
                  <a:ext cx="1380960" cy="714600"/>
                </a:xfrm>
                <a:custGeom>
                  <a:avLst/>
                  <a:gdLst>
                    <a:gd name="textAreaLeft" fmla="*/ 0 w 1380960"/>
                    <a:gd name="textAreaRight" fmla="*/ 1381320 w 1380960"/>
                    <a:gd name="textAreaTop" fmla="*/ 0 h 714600"/>
                    <a:gd name="textAreaBottom" fmla="*/ 714960 h 7146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0bb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20"/>
              <p:cNvSpPr/>
              <p:nvPr/>
            </p:nvSpPr>
            <p:spPr>
              <a:xfrm>
                <a:off x="1488240" y="3319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21"/>
            <p:cNvGrpSpPr/>
            <p:nvPr/>
          </p:nvGrpSpPr>
          <p:grpSpPr>
            <a:xfrm>
              <a:off x="5020920" y="3879720"/>
              <a:ext cx="2065320" cy="2105280"/>
              <a:chOff x="5020920" y="3879720"/>
              <a:chExt cx="2065320" cy="2105280"/>
            </a:xfrm>
          </p:grpSpPr>
          <p:grpSp>
            <p:nvGrpSpPr>
              <p:cNvPr id="321" name="Group 22"/>
              <p:cNvGrpSpPr/>
              <p:nvPr/>
            </p:nvGrpSpPr>
            <p:grpSpPr>
              <a:xfrm>
                <a:off x="5020920" y="3879720"/>
                <a:ext cx="2065320" cy="2105280"/>
                <a:chOff x="5020920" y="3879720"/>
                <a:chExt cx="2065320" cy="2105280"/>
              </a:xfrm>
            </p:grpSpPr>
            <p:sp>
              <p:nvSpPr>
                <p:cNvPr id="322" name="Oval 23"/>
                <p:cNvSpPr/>
                <p:nvPr/>
              </p:nvSpPr>
              <p:spPr>
                <a:xfrm>
                  <a:off x="502092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5de"/>
                    </a:gs>
                    <a:gs pos="100000">
                      <a:srgbClr val="2e55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24"/>
                <p:cNvSpPr/>
                <p:nvPr/>
              </p:nvSpPr>
              <p:spPr>
                <a:xfrm>
                  <a:off x="5258160" y="3914640"/>
                  <a:ext cx="1591920" cy="795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5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Text Box 25"/>
              <p:cNvSpPr/>
              <p:nvPr/>
            </p:nvSpPr>
            <p:spPr>
              <a:xfrm>
                <a:off x="533592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25" name="Oval 26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5365080" y="5985360"/>
              <a:ext cx="14540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5227560" y="2125080"/>
              <a:ext cx="666720" cy="243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32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a5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Oval 23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5aa5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15978"/>
                </a:gs>
                <a:gs pos="50000">
                  <a:srgbClr val="5aa5de"/>
                </a:gs>
                <a:gs pos="100000">
                  <a:srgbClr val="315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Oval 25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9698d"/>
                </a:gs>
                <a:gs pos="100000">
                  <a:srgbClr val="5aa5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56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7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8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9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61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47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4" name="AutoShape 48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AutoShape 49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AutoShape 50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AutoShape 51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AutoShape 52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AutoShape 53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0" name="Group 54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1" name="Oval 55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Oval 56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3" name="Oval 57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4" name="Oval 58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5" name="Oval 59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6" name="Text Box 60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Text Box 61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8" name="Group 62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9" name="AutoShape 63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AutoShape 64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AutoShape 65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AutoShape 66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67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68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9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0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71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Text Box 72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Text Box 73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AutoShape 74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AutoShape 75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2" name="Group 76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3" name="AutoShape 77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AutoShape 78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AutoShape 79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AutoShape 80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97" name="Group 81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8" name="Oval 82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9" name="Oval 83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0" name="Oval 84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Oval 85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2" name="Oval 86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3" name="Text Box 87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Text Box 88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AutoShape 89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AutoShape 90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9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13" name="Group 59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14" name="Group 60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15" name="Freeform 61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>
                      <a:gd name="textAreaLeft" fmla="*/ 0 w 2273400"/>
                      <a:gd name="textAreaRight" fmla="*/ 2273760 w 227340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62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63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18" name="Freeform 64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>
                      <a:gd name="textAreaLeft" fmla="*/ 0 w 1744560"/>
                      <a:gd name="textAreaRight" fmla="*/ 1744920 w 174456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5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66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21" name="Oval 67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2" name="Oval 68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3" name="Oval 69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4" name="Oval 70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5" name="Oval 71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26" name="Group 72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27" name="Oval 73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74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75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76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1" name="Text Box 77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Text Box 78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94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34" name="Group 41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35" name="Group 42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36" name="Freeform 43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>
                      <a:gd name="textAreaLeft" fmla="*/ 0 w 2273400"/>
                      <a:gd name="textAreaRight" fmla="*/ 2273760 w 227340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44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45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39" name="Freeform 46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>
                      <a:gd name="textAreaLeft" fmla="*/ 0 w 1744560"/>
                      <a:gd name="textAreaRight" fmla="*/ 1744920 w 174456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47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48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42" name="Oval 49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3" name="Oval 50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1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5" name="Oval 52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6" name="Oval 53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Group 54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48" name="Oval 55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56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57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58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2" name="Text Box 79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3" name="Text Box 80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9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55" name="Group 6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56" name="Group 7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57" name="Freeform 8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>
                      <a:gd name="textAreaLeft" fmla="*/ 0 w 2273400"/>
                      <a:gd name="textAreaRight" fmla="*/ 2273760 w 227340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9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10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60" name="Freeform 11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>
                      <a:gd name="textAreaLeft" fmla="*/ 0 w 1744560"/>
                      <a:gd name="textAreaRight" fmla="*/ 1744920 w 174456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12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13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63" name="Oval 14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5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5" name="Oval 16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6" name="Oval 17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7" name="Oval 18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68" name="Group 19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69" name="Oval 20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21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22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23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3" name="Text Box 81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Text Box 82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76" name="Group 24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77" name="Group 25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78" name="Freeform 26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>
                      <a:gd name="textAreaLeft" fmla="*/ 0 w 2273400"/>
                      <a:gd name="textAreaRight" fmla="*/ 2273760 w 227340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7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28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81" name="Freeform 29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>
                      <a:gd name="textAreaLeft" fmla="*/ 0 w 1744560"/>
                      <a:gd name="textAreaRight" fmla="*/ 1744920 w 174456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30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3" name="Oval 31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Oval 32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Oval 33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Oval 34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Oval 35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88" name="Group 36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89" name="Oval 37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0" name="Oval 38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1" name="Oval 39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2" name="Oval 40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Text Box 83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4" name="Text Box 84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85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496" name="Text Box 86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7acf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7" name="Text Box 87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7acf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8" name="Text Box 88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7acf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9" name="Text Box 89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d7acf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500" name="AutoShape 90"/>
              <p:cNvCxnSpPr>
                <a:stCxn id="496" idx="3"/>
                <a:endCxn id="497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1d7acf"/>
                </a:solidFill>
                <a:miter/>
                <a:tailEnd len="med" type="triangle" w="med"/>
              </a:ln>
            </p:spPr>
          </p:cxnSp>
          <p:cxnSp>
            <p:nvCxnSpPr>
              <p:cNvPr id="501" name="AutoShape 91"/>
              <p:cNvCxnSpPr>
                <a:stCxn id="497" idx="3"/>
                <a:endCxn id="498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1d7acf"/>
                </a:solidFill>
                <a:miter/>
                <a:tailEnd len="med" type="triangle" w="med"/>
              </a:ln>
            </p:spPr>
          </p:cxnSp>
          <p:cxnSp>
            <p:nvCxnSpPr>
              <p:cNvPr id="502" name="AutoShape 92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1d7acf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5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6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7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189e8e"/>
                  </a:gs>
                  <a:gs pos="100000">
                    <a:srgbClr val="116e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8" name="Freeform 7"/>
              <p:cNvSpPr/>
              <p:nvPr/>
            </p:nvSpPr>
            <p:spPr>
              <a:xfrm>
                <a:off x="1876320" y="17103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cac1"/>
                  </a:gs>
                  <a:gs pos="50000">
                    <a:srgbClr val="189e8e">
                      <a:alpha val="0"/>
                    </a:srgbClr>
                  </a:gs>
                  <a:gs pos="100000">
                    <a:srgbClr val="81ca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9" name="Text Box 8"/>
              <p:cNvSpPr/>
              <p:nvPr/>
            </p:nvSpPr>
            <p:spPr>
              <a:xfrm>
                <a:off x="1930680" y="1932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0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2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3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4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ee7"/>
                  </a:gs>
                  <a:gs pos="100000">
                    <a:srgbClr val="5aa5d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Freeform 14"/>
              <p:cNvSpPr/>
              <p:nvPr/>
            </p:nvSpPr>
            <p:spPr>
              <a:xfrm>
                <a:off x="1876320" y="324072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9f1"/>
                  </a:gs>
                  <a:gs pos="100000">
                    <a:srgbClr val="5aa5de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6" name="Text Box 15"/>
              <p:cNvSpPr/>
              <p:nvPr/>
            </p:nvSpPr>
            <p:spPr>
              <a:xfrm>
                <a:off x="1930680" y="3463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7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8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9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0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1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eb1c5"/>
                  </a:gs>
                  <a:gs pos="100000">
                    <a:srgbClr val="9885a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2" name="Freeform 21"/>
              <p:cNvSpPr/>
              <p:nvPr/>
            </p:nvSpPr>
            <p:spPr>
              <a:xfrm>
                <a:off x="1876320" y="478080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4d2"/>
                  </a:gs>
                  <a:gs pos="100000">
                    <a:srgbClr val="9885a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3" name="Text Box 22"/>
              <p:cNvSpPr/>
              <p:nvPr/>
            </p:nvSpPr>
            <p:spPr>
              <a:xfrm>
                <a:off x="1930680" y="5003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4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a5de"/>
                </a:gs>
                <a:gs pos="100000">
                  <a:srgbClr val="2a4c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3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3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89e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3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3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a5de"/>
                </a:gs>
                <a:gs pos="100000">
                  <a:srgbClr val="2a4c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4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189e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193680" y="6145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38080" y="2371680"/>
          <a:ext cx="746784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128600" y="1280520"/>
            <a:ext cx="6575400" cy="4666320"/>
            <a:chOff x="1128600" y="1280520"/>
            <a:chExt cx="6575400" cy="4666320"/>
          </a:xfrm>
        </p:grpSpPr>
        <p:sp>
          <p:nvSpPr>
            <p:cNvPr id="563" name="Oval 4"/>
            <p:cNvSpPr/>
            <p:nvPr/>
          </p:nvSpPr>
          <p:spPr>
            <a:xfrm>
              <a:off x="214164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5"/>
            <p:cNvSpPr/>
            <p:nvPr/>
          </p:nvSpPr>
          <p:spPr>
            <a:xfrm rot="20601600">
              <a:off x="145224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Arc 7"/>
            <p:cNvSpPr/>
            <p:nvPr/>
          </p:nvSpPr>
          <p:spPr>
            <a:xfrm rot="20601600">
              <a:off x="412920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a5de"/>
                </a:gs>
                <a:gs pos="100000">
                  <a:srgbClr val="91c3e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9e8e"/>
                </a:gs>
                <a:gs pos="100000">
                  <a:srgbClr val="0f60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>
                <a:gd name="textAreaLeft" fmla="*/ 0 w 3133800"/>
                <a:gd name="textAreaRight" fmla="*/ 3134160 w 313380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e0bb20"/>
                </a:gs>
                <a:gs pos="100000">
                  <a:srgbClr val="7a6611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Text Box 13"/>
            <p:cNvSpPr/>
            <p:nvPr/>
          </p:nvSpPr>
          <p:spPr>
            <a:xfrm>
              <a:off x="382968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4" name="Group 15"/>
            <p:cNvGrpSpPr/>
            <p:nvPr/>
          </p:nvGrpSpPr>
          <p:grpSpPr>
            <a:xfrm>
              <a:off x="4293720" y="2466360"/>
              <a:ext cx="3164760" cy="2769120"/>
              <a:chOff x="4293720" y="2466360"/>
              <a:chExt cx="3164760" cy="2769120"/>
            </a:xfrm>
          </p:grpSpPr>
          <p:sp>
            <p:nvSpPr>
              <p:cNvPr id="575" name="Freeform 16"/>
              <p:cNvSpPr/>
              <p:nvPr/>
            </p:nvSpPr>
            <p:spPr>
              <a:xfrm>
                <a:off x="544824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c5163"/>
                  </a:gs>
                  <a:gs pos="100000">
                    <a:srgbClr val="9885a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6" name="Arc 17"/>
              <p:cNvSpPr/>
              <p:nvPr/>
            </p:nvSpPr>
            <p:spPr>
              <a:xfrm rot="20539200">
                <a:off x="451152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885a3"/>
                  </a:gs>
                  <a:gs pos="100000">
                    <a:srgbClr val="463e4b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7" name="Freeform 18"/>
              <p:cNvSpPr/>
              <p:nvPr/>
            </p:nvSpPr>
            <p:spPr>
              <a:xfrm>
                <a:off x="458316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885a3"/>
                  </a:gs>
                  <a:gs pos="100000">
                    <a:srgbClr val="463e4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19"/>
              <p:cNvSpPr/>
              <p:nvPr/>
            </p:nvSpPr>
            <p:spPr>
              <a:xfrm>
                <a:off x="535356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9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 rot="20601600">
              <a:off x="303696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Group 29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584" name="AutoShape 3"/>
            <p:cNvSpPr/>
            <p:nvPr/>
          </p:nvSpPr>
          <p:spPr>
            <a:xfrm>
              <a:off x="1905120" y="220968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5aa5d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AutoShape 4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Text Box 5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7" name="Group 6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588" name="Group 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589" name="Oval 8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0bb20"/>
                    </a:gs>
                    <a:gs pos="100000">
                      <a:srgbClr val="8e77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9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custGeom>
                  <a:avLst/>
                  <a:gdLst>
                    <a:gd name="textAreaLeft" fmla="*/ 0 w 1146240"/>
                    <a:gd name="textAreaRight" fmla="*/ 1146600 w 1146240"/>
                    <a:gd name="textAreaTop" fmla="*/ 0 h 571680"/>
                    <a:gd name="textAreaBottom" fmla="*/ 572040 h 571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0bb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Text Box 10"/>
              <p:cNvSpPr/>
              <p:nvPr/>
            </p:nvSpPr>
            <p:spPr>
              <a:xfrm>
                <a:off x="107280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92" name="Oval 11"/>
            <p:cNvSpPr/>
            <p:nvPr/>
          </p:nvSpPr>
          <p:spPr>
            <a:xfrm>
              <a:off x="1066680" y="5683320"/>
              <a:ext cx="1206720" cy="38880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3" name="Group 12"/>
            <p:cNvGrpSpPr/>
            <p:nvPr/>
          </p:nvGrpSpPr>
          <p:grpSpPr>
            <a:xfrm>
              <a:off x="6781680" y="4038480"/>
              <a:ext cx="1524240" cy="1532160"/>
              <a:chOff x="6781680" y="4038480"/>
              <a:chExt cx="1524240" cy="1532160"/>
            </a:xfrm>
          </p:grpSpPr>
          <p:grpSp>
            <p:nvGrpSpPr>
              <p:cNvPr id="594" name="Group 13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sp>
              <p:nvSpPr>
                <p:cNvPr id="595" name="Oval 14"/>
                <p:cNvSpPr/>
                <p:nvPr/>
              </p:nvSpPr>
              <p:spPr>
                <a:xfrm>
                  <a:off x="6781680" y="4038480"/>
                  <a:ext cx="1524240" cy="15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85a3"/>
                    </a:gs>
                    <a:gs pos="100000">
                      <a:srgbClr val="2520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15"/>
                <p:cNvSpPr/>
                <p:nvPr/>
              </p:nvSpPr>
              <p:spPr>
                <a:xfrm>
                  <a:off x="6955920" y="4063680"/>
                  <a:ext cx="1175760" cy="578160"/>
                </a:xfrm>
                <a:custGeom>
                  <a:avLst/>
                  <a:gdLst>
                    <a:gd name="textAreaLeft" fmla="*/ 0 w 1175760"/>
                    <a:gd name="textAreaRight" fmla="*/ 1176120 w 1175760"/>
                    <a:gd name="textAreaTop" fmla="*/ 0 h 578160"/>
                    <a:gd name="textAreaBottom" fmla="*/ 578520 h 5781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885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Text Box 16"/>
              <p:cNvSpPr/>
              <p:nvPr/>
            </p:nvSpPr>
            <p:spPr>
              <a:xfrm>
                <a:off x="692496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98" name="Oval 17"/>
            <p:cNvSpPr/>
            <p:nvPr/>
          </p:nvSpPr>
          <p:spPr>
            <a:xfrm>
              <a:off x="6824520" y="561816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9" name="Group 18"/>
            <p:cNvGrpSpPr/>
            <p:nvPr/>
          </p:nvGrpSpPr>
          <p:grpSpPr>
            <a:xfrm>
              <a:off x="2819520" y="4083120"/>
              <a:ext cx="1523880" cy="1520640"/>
              <a:chOff x="2819520" y="4083120"/>
              <a:chExt cx="1523880" cy="1520640"/>
            </a:xfrm>
          </p:grpSpPr>
          <p:sp>
            <p:nvSpPr>
              <p:cNvPr id="600" name="Oval 19"/>
              <p:cNvSpPr/>
              <p:nvPr/>
            </p:nvSpPr>
            <p:spPr>
              <a:xfrm>
                <a:off x="2819520" y="40831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a5de"/>
                  </a:gs>
                  <a:gs pos="100000">
                    <a:srgbClr val="2e55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1" name="Freeform 20"/>
              <p:cNvSpPr/>
              <p:nvPr/>
            </p:nvSpPr>
            <p:spPr>
              <a:xfrm>
                <a:off x="2994480" y="41083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a5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02" name="Text Box 21"/>
            <p:cNvSpPr/>
            <p:nvPr/>
          </p:nvSpPr>
          <p:spPr>
            <a:xfrm>
              <a:off x="2895480" y="48132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Oval 22"/>
            <p:cNvSpPr/>
            <p:nvPr/>
          </p:nvSpPr>
          <p:spPr>
            <a:xfrm>
              <a:off x="2819520" y="568332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04" name="Group 23"/>
            <p:cNvGrpSpPr/>
            <p:nvPr/>
          </p:nvGrpSpPr>
          <p:grpSpPr>
            <a:xfrm>
              <a:off x="4876920" y="4038480"/>
              <a:ext cx="1523880" cy="1521000"/>
              <a:chOff x="4876920" y="4038480"/>
              <a:chExt cx="1523880" cy="1521000"/>
            </a:xfrm>
          </p:grpSpPr>
          <p:grpSp>
            <p:nvGrpSpPr>
              <p:cNvPr id="605" name="Group 24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sp>
              <p:nvSpPr>
                <p:cNvPr id="606" name="Oval 25"/>
                <p:cNvSpPr/>
                <p:nvPr/>
              </p:nvSpPr>
              <p:spPr>
                <a:xfrm>
                  <a:off x="4876920" y="40384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9e8e"/>
                    </a:gs>
                    <a:gs pos="100000">
                      <a:srgbClr val="0c51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26"/>
                <p:cNvSpPr/>
                <p:nvPr/>
              </p:nvSpPr>
              <p:spPr>
                <a:xfrm>
                  <a:off x="5051880" y="406368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89e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Text Box 27"/>
              <p:cNvSpPr/>
              <p:nvPr/>
            </p:nvSpPr>
            <p:spPr>
              <a:xfrm>
                <a:off x="4952880" y="47689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09" name="Oval 28"/>
            <p:cNvSpPr/>
            <p:nvPr/>
          </p:nvSpPr>
          <p:spPr>
            <a:xfrm>
              <a:off x="4876920" y="5638680"/>
              <a:ext cx="1454040" cy="48924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f1d0"/>
                </a:gs>
                <a:gs pos="100000">
                  <a:srgbClr val="e0bb2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66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67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eae7"/>
                </a:gs>
                <a:gs pos="100000">
                  <a:srgbClr val="189e8e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68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69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70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71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72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fe3f5"/>
                </a:gs>
                <a:gs pos="100000">
                  <a:srgbClr val="1d7ac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73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74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75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76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77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5ec"/>
                </a:gs>
                <a:gs pos="100000">
                  <a:srgbClr val="9885a3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78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79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80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600200" y="2285640"/>
            <a:ext cx="327672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company slogan .</a:t>
            </a: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11" name="WordArt 5"/>
          <p:cNvSpPr txBox="1"/>
          <p:nvPr/>
        </p:nvSpPr>
        <p:spPr>
          <a:xfrm>
            <a:off x="1187280" y="1125360"/>
            <a:ext cx="4105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7acf"/>
                    </a:gs>
                    <a:gs pos="100000">
                      <a:srgbClr val="189e8e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7acf"/>
                  </a:gs>
                  <a:gs pos="100000">
                    <a:srgbClr val="189e8e"/>
                  </a:gs>
                </a:gsLst>
                <a:lin ang="0"/>
              </a:gradFill>
              <a:effectLst>
                <a:outerShdw dist="71785" dir="2700000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665000"/>
            <a:ext cx="7824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447920" y="5410080"/>
            <a:ext cx="6324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Title Image – www.multibits.co.kr - CD: Business Now (ImageState)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                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4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Text Box 5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0bb20"/>
              </a:gs>
              <a:gs pos="100000">
                <a:srgbClr val="ebd4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9" name="Group 9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30" name="Group 10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31" name="Oval 11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5de"/>
                    </a:gs>
                    <a:gs pos="100000">
                      <a:srgbClr val="2c50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2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d7f0"/>
                    </a:gs>
                    <a:gs pos="100000">
                      <a:srgbClr val="5aa5d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Oval 13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b4942"/>
                  </a:gs>
                  <a:gs pos="100000">
                    <a:srgbClr val="189e8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Oval 14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189e8e">
                      <a:alpha val="0"/>
                    </a:srgbClr>
                  </a:gs>
                  <a:gs pos="100000">
                    <a:srgbClr val="aedd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Oval 15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137d70"/>
                  </a:gs>
                  <a:gs pos="100000">
                    <a:srgbClr val="189e8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Oval 16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89e8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7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9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1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a5de"/>
              </a:gs>
              <a:gs pos="100000">
                <a:srgbClr val="cbe2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4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a5de"/>
                </a:gs>
                <a:gs pos="100000">
                  <a:srgbClr val="1f39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89e8e"/>
                </a:gs>
                <a:gs pos="100000">
                  <a:srgbClr val="0832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0bb20"/>
                </a:gs>
                <a:gs pos="100000">
                  <a:srgbClr val="5043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Oval 9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885a3"/>
                </a:gs>
                <a:gs pos="100000">
                  <a:srgbClr val="342e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57" name="AutoShape 17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58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1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a5de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978"/>
                  </a:gs>
                  <a:gs pos="50000">
                    <a:srgbClr val="5aa5de"/>
                  </a:gs>
                  <a:gs pos="100000">
                    <a:srgbClr val="31597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30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07" name="Line 3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Line 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20" name="Group 16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21" name="Freeform 17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570f"/>
                  </a:gs>
                  <a:gs pos="50000">
                    <a:srgbClr val="e0bb20"/>
                  </a:gs>
                  <a:gs pos="100000">
                    <a:srgbClr val="6857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2" name="Freeform 18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>
                  <a:gd name="textAreaLeft" fmla="*/ 0 w 3342960"/>
                  <a:gd name="textAreaRight" fmla="*/ 3343320 w 334296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e0bb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3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4c67"/>
                  </a:gs>
                  <a:gs pos="50000">
                    <a:srgbClr val="5aa5de"/>
                  </a:gs>
                  <a:gs pos="100000">
                    <a:srgbClr val="2a4c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4" name="Freeform 20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>
                  <a:gd name="textAreaLeft" fmla="*/ 0 w 3593520"/>
                  <a:gd name="textAreaRight" fmla="*/ 3593880 w 35935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5aa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5" name="Freeform 21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3e4b"/>
                  </a:gs>
                  <a:gs pos="50000">
                    <a:srgbClr val="9885a3"/>
                  </a:gs>
                  <a:gs pos="100000">
                    <a:srgbClr val="463e4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6" name="Freeform 22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b4942"/>
                  </a:gs>
                  <a:gs pos="50000">
                    <a:srgbClr val="189e8e"/>
                  </a:gs>
                  <a:gs pos="100000">
                    <a:srgbClr val="0b49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7" name="Freeform 23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>
                  <a:gd name="textAreaLeft" fmla="*/ 0 w 4080960"/>
                  <a:gd name="textAreaRight" fmla="*/ 4081320 w 4080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18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8" name="Freeform 24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2722680"/>
                  <a:gd name="textAreaBottom" fmla="*/ 2723040 h 272268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9" name="Rectangle 25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a38817"/>
                  </a:gs>
                  <a:gs pos="50000">
                    <a:srgbClr val="e0bb20"/>
                  </a:gs>
                  <a:gs pos="100000">
                    <a:srgbClr val="a3881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178a1"/>
                  </a:gs>
                  <a:gs pos="50000">
                    <a:srgbClr val="5aa5de"/>
                  </a:gs>
                  <a:gs pos="100000">
                    <a:srgbClr val="4178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Freeform 27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>
                  <a:gd name="textAreaLeft" fmla="*/ 0 w 3833640"/>
                  <a:gd name="textAreaRight" fmla="*/ 3834000 w 3833640"/>
                  <a:gd name="textAreaTop" fmla="*/ 0 h 544320"/>
                  <a:gd name="textAreaBottom" fmla="*/ 544680 h 54432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88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Rectangle 28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e6076"/>
                  </a:gs>
                  <a:gs pos="50000">
                    <a:srgbClr val="9885a3"/>
                  </a:gs>
                  <a:gs pos="100000">
                    <a:srgbClr val="6e60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Rectangle 29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117367"/>
                  </a:gs>
                  <a:gs pos="50000">
                    <a:srgbClr val="189e8e"/>
                  </a:gs>
                  <a:gs pos="100000">
                    <a:srgbClr val="1173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24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236" name="Freeform 3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9ade1">
                    <a:alpha val="32156"/>
                  </a:srgbClr>
                </a:gs>
                <a:gs pos="100000">
                  <a:srgbClr val="5aa5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AutoShape 4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0b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AutoShape 5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8570f"/>
                </a:gs>
                <a:gs pos="50000">
                  <a:srgbClr val="e0bb20"/>
                </a:gs>
                <a:gs pos="100000">
                  <a:srgbClr val="6857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AutoShape 6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AutoShape 7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AutoShape 8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aa5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AutoShape 9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AutoShape 10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AutoShape 11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4b9ca">
                    <a:alpha val="32156"/>
                  </a:srgbClr>
                </a:gs>
                <a:gs pos="100000">
                  <a:srgbClr val="9885a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48" name="Group 15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249" name="AutoShape 16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885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0" name="AutoShape 17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43f"/>
                  </a:gs>
                  <a:gs pos="50000">
                    <a:srgbClr val="9885a3"/>
                  </a:gs>
                  <a:gs pos="100000">
                    <a:srgbClr val="3b34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1" name="AutoShape 18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2" name="AutoShape 19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3" name="Text Box 20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4" name="Text Box 21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55" name="Text Box 22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Text Box 23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7" name="Text Box 8"/>
          <p:cNvSpPr/>
          <p:nvPr/>
        </p:nvSpPr>
        <p:spPr>
          <a:xfrm>
            <a:off x="324000" y="6164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0:00:58Z</dcterms:created>
  <dc:creator>ppt宝藏</dc:creator>
  <dc:description/>
  <dc:language>en-US</dc:language>
  <cp:lastModifiedBy>a</cp:lastModifiedBy>
  <dcterms:modified xsi:type="dcterms:W3CDTF">2015-07-25T06:24:21Z</dcterms:modified>
  <cp:revision>3</cp:revision>
  <dc:subject/>
  <dc:title>www.pptbz.com</dc:title>
</cp:coreProperties>
</file>