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Track02-2.26.wav" ContentType="audio/x-wav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B8E-7074-4A3B-B72B-FFEBC146E37A}" type="slidenum">
              <a:rPr b="1" lang="zh-TW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1100-AA3D-4CA6-BE7D-29BE2D1753E2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9FE-4429-408B-8BDC-16462B2398A2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255-24BD-407C-B797-795CAB370E18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9726-17A7-46A1-86E3-0F6D063E3EB3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3CB3-2E0B-4E4D-B23E-9D79BF30F8C1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244-A19B-4D98-81E0-F565F8E99207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531-52E6-432B-ABE4-7CB37B3FEEB3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42C-7ED4-465C-9392-44E2A6D2B947}" type="slidenum">
              <a:rPr b="1" lang="zh-TW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D47-0A35-42BD-B840-3C0C433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FCB-808C-439F-A087-5A0757A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88E-70EC-42AC-89D6-23EE41F3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66B-A382-4ECC-AD1E-5CBD07B2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A5F7-D703-4477-97CA-C57D70BC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AE44-D8FF-4E1D-9763-C29A9E3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BCA-3D8B-42C6-98DF-3E901560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B4FD-686D-4CD4-99CE-9A76495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E37-0CC2-4F08-96FB-41693422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3EF-3454-43DB-803E-352D6EC9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D1D3-8676-47FD-8BF2-01D9846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BFF-A48C-4D55-9969-CB35113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0B0-ADE2-412C-BDA5-0DCB8932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013-E092-4246-954B-76AEA78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8F7-EF91-4B4D-9803-613D093F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0A4-AF72-4758-9A0B-970F9A3C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3E09-3442-4D82-A882-533BD0C1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8C71-64FA-4774-B6DB-3E86B5ED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4391-7C79-421E-9910-6FE9ED96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DD18-75DE-466B-A552-AFA85B05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D0B3-3124-487D-B3D0-2CFB67A6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97DE-CF4F-44FB-9E4F-03AD096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E81-9CC2-43E1-AF75-0C2B6C2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B6AE-25A8-4C74-AF17-C407FAF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D79E-9EBD-4C80-AA0F-F5AB16E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29AE-AA84-400D-9D9A-CD41BDD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9392-2CA4-4245-AAA5-D2DEB69B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0171-41A0-41BC-B3D3-DBB8CD2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DC9B-C20B-44F3-A7A1-E0160506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40C1-AC3C-490F-BEFF-DCD9EDBB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A5D48-0BCC-4841-B385-02E9921C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5AB47-C5E5-44AC-858B-7CF5B16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D1FCA-AA12-4019-885F-DC73400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BDA-0BFF-4978-B941-D4B4A281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D2005-215C-4A8E-860F-839DC06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3D304-A565-4136-8A93-2159C36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54B5B-8858-492C-A826-BB3C201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48A00-9A0E-4F89-9D2E-5239684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BFB0C-493D-4075-B667-3035740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014B5-E49E-4ED3-8CAC-2A74206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D0A88-965C-40EA-AF74-DE6B9FBA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0F8A8-AFA5-4BC9-9A30-AEFD6F76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FAB49-9AAD-46AC-B82C-360C4599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D86E0-6C34-479D-A956-2DF69AD3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C52-E6FC-488C-9072-8B95498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4F7E-9606-4524-B1DE-3335C8A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B4EC-D7AA-4A93-BC91-1E4F3AC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4775-C3AB-4189-9BB3-873B922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44C3-0F08-47F2-A645-D21868F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0418-BF9E-4C04-AAED-9AB46E81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4917-6752-49FA-87F2-BC34E80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882D-15AF-4322-9038-90B29F7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029A-4AD8-448F-9F25-E39F05B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75D8D-D0FE-4675-BFED-614CB2D8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FFE7-687C-4BB7-8396-340AAE23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C2A-1BD2-438D-BC9A-2ED83399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D46C-CA36-4D0D-82BD-F1F0358A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8A56-D892-4B7A-BD01-D85ED95A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BD2E-2B53-4385-B3D4-692DB5B9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DEAE-515B-4E46-B72A-A520F5B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F7A8-B1B7-4AA7-B9FF-07F7FE8E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F4A8-8A87-43C1-8EF2-9B50B1CB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4F54-4C71-416A-B2AE-404DB49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A4D51-9095-4B9E-8743-77849770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B268B-91A1-42AE-AB11-7E6485D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03E9-ED83-4489-BFE9-7E663D5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908-8752-4FF3-90B7-83B4B09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2E0C3-2D81-4FB9-B7B7-EAB8F91D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CF25B-1092-4C44-A542-8ED261E3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7F95-8976-499C-881A-CB280DCC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F48-5071-43A2-BA22-0FAD56D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7FC-EA57-4E02-8903-7F9DBB5E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38C-7E1A-4F5D-A4B8-070DE56F6511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738-76BE-48D7-AAE7-8ADC94A403D3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F750-2C44-4526-8441-F6DCD5C174C7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4D63-4F60-435E-AC8E-0B27A6BCC28C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FCD-5905-488A-A039-629B435A6BDD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306-63F2-4D1D-9DF8-306C44E0BA2C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DD9-89D0-44A6-9CEF-E37C7F846C0D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80C6-85BD-4969-879E-D02E792A56CB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3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FE5B-03DC-4E6C-B6E3-435B2ED259A0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2A5-1D01-4B6C-885F-370A2BF001A6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6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7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04E-F753-4CA2-A9E1-FCC95789563F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AC86-C110-4DEC-9696-C4CC419C617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8" descr="2306605-lg"/>
          <p:cNvPicPr/>
          <p:nvPr/>
        </p:nvPicPr>
        <p:blipFill>
          <a:blip r:embed="rId1"/>
          <a:stretch/>
        </p:blipFill>
        <p:spPr>
          <a:xfrm>
            <a:off x="-23184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友情需要表达通用</a:t>
            </a:r>
            <a:r>
              <a:rPr b="0" lang="en-US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PPT</a:t>
            </a:r>
            <a:r>
              <a:rPr b="0" lang="zh-CN" sz="4000" spc="-1" strike="noStrike">
                <a:solidFill>
                  <a:srgbClr val="69240c"/>
                </a:solidFill>
                <a:latin typeface="標楷體"/>
                <a:ea typeface="標楷體"/>
              </a:rPr>
              <a:t>模板下载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428-7065-46EC-9BBB-84582AE75542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284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04B5-AAC5-49EB-8FEB-C965C526F87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9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2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293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4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BA9-9D40-4651-AD76-939EC1360B4A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01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3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DFC-299D-4DCD-8C22-1079C0429C04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38120" y="6513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advTm="22000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0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2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BE2E-C52E-46B9-98D5-D2A4619EB260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8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0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000-0671-4203-9E60-7C42C5B3D841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6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538B-C137-435C-ACBD-720D3E530DEC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34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E38-8AC9-4C0A-95E5-A1343AC4453A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46160" y="64134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43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685800" y="68580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404D-9DC7-4067-9C78-29A15E03A52D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Roger@sanshui</dc:creator>
  <dc:description/>
  <dc:language>en-US</dc:language>
  <cp:lastModifiedBy>王玉清</cp:lastModifiedBy>
  <dcterms:modified xsi:type="dcterms:W3CDTF">2016-02-20T04:15:11Z</dcterms:modified>
  <cp:revision>96</cp:revision>
  <dc:subject/>
  <dc:title>友好要说出口</dc:title>
</cp:coreProperties>
</file>