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5C9-8933-4909-9C5C-DF76A3F1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46C-3D3D-48CA-BFDA-6382EDDE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6E1-49DA-41DF-975F-4AAD547A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1FD-BDF2-4EDB-9B5D-508CA22E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9AF-D0EB-4CE4-A672-766C89F3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68B-CD46-4CCA-8BB2-E81A7AB9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137-9CA9-4B49-94D4-57AAEE8A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290-4BEF-4397-A283-CD32A1D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B03-0609-4CE7-BA0A-FE17C330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3EB-7389-4746-81A0-70C92CA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7A8-65DC-48CE-ABF9-884D518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F9B-1A50-45D9-8F56-B7D51138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33AA-EDC4-41A5-9A52-247C44F9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268360" y="1125360"/>
            <a:ext cx="439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微笑着面对生活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WordArt 6" descr=""/>
          <p:cNvPicPr/>
          <p:nvPr/>
        </p:nvPicPr>
        <p:blipFill>
          <a:blip r:embed="rId1"/>
          <a:stretch/>
        </p:blipFill>
        <p:spPr>
          <a:xfrm>
            <a:off x="3633840" y="3060720"/>
            <a:ext cx="4125960" cy="5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音符"/>
          <p:cNvPicPr/>
          <p:nvPr/>
        </p:nvPicPr>
        <p:blipFill>
          <a:blip r:embed="rId2"/>
          <a:stretch/>
        </p:blipFill>
        <p:spPr>
          <a:xfrm>
            <a:off x="684360" y="4437000"/>
            <a:ext cx="2447640" cy="189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0840" y="11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语文演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54936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所谓演讲，既有“讲”，也有“演”。除了语言表达以外，还应该借助手势、动作、表情等等手段，表达自己的思想和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讲与口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编邵守义教授认为：“有声语言是演讲活动最主要的表达手段，要求吐字清楚、准确，声音清亮、圆润、甜美，语气、语调、声音、节奏富于变化。态势语言就是演讲者的姿态、动作、手势和表情，要求准确、鲜明、自然、协调。演讲就是演讲者在特定的环境中，借助有声语言和态势的艺术手段，针对社会的现实和未来，面对广大听众发表意见，抒发情感，从而达到感召听众并促使其行动的一种现实的信息交流活动。”演讲者应以讲为主，以演为辅。如“讲”而不“演”，就缺乏形象生动的感人力量；重演轻讲，就会喧宾夺主，冲淡演讲的内容，削弱演讲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演讲不能只是念讲稿，如果没有眼神的交流，没有恰当的手势，就没有现场交流的生动效果。如果运用恰当，在讲稿基础上的现场即兴发挥能够获得与听众的心灵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（摘自七市编委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演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论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生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读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知三联书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50920" y="260280"/>
            <a:ext cx="18288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06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设计演讲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CBF-9CE6-4097-8D26-2891A892B6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755640" y="1197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演讲稿具有一般文章的共性，写作时只要符合一般文章写作的共同要求，同时再注意到它的自身特点就行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95280" y="404640"/>
            <a:ext cx="345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演讲稿的特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497400" y="134892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观点鲜明，内容具有鼓动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9640" y="256500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结构清楚，层次简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078360" y="3860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语言流畅，深刻风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4720" y="5013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66440" y="18792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观点鲜明，内容具有鼓动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27133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演讲稿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观点鲜明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是演讲者对一种理性认识的肯定，显示着演讲者对客观事物见解的透辟程度，能给人以可信性和可靠感。反之，就缺乏说服力，就失去了演讲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演讲要能激发听众的情感，使听众的思想为之震动，精神为之感奋，情绪为之激昂，热血为之沸腾，演讲内容就必须要有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鼓动性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写作时要在表达上注意感情色彩，把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说理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抒情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结合起来。既有冷静的分析，又有热情的鼓动；既有所怒，又有所喜；既有所憎，又有所爱。切记，这种深厚动人的感情必须发自肺腑，就像泉水喷涌而出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23840" y="154800"/>
            <a:ext cx="53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二、结构清楚，层次简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241308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一般文稿主要是供人阅读的，读者有思考的余地，在层次结构上可以跌宕起伏，曲折多变；在内容上也可以盘根错节，错综复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而演讲稿是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口头表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演讲语言稍纵即逝，听众对演讲中每一句话的含义，几乎没有思考玩味的余地，其结构特点是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内容的内在联系与有声语言动态交流的统一，注重有声性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因此，演讲稿特别注重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隶书"/>
              </a:rPr>
              <a:t>结构清楚，层次简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-36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三、语言流畅，深刻风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60360" y="69156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（一）要口语化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79280" y="13788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　　把长句改成短句，把倒装句变成正装句，把单音词换成双音词，把听不明白的文言词语、成语改换或删去。</a:t>
            </a:r>
            <a:r>
              <a:rPr b="0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774800" y="205992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（二）要通俗易懂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95280" y="29293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　　演讲稿的语言要力求做到通俗易懂。善于用简单明了、群众易懂的语言讲话，坚决抛弃晦涩难懂的术语和外来的字眼，抛弃听众可能还不懂的、还不熟悉的口号、决定和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847880" y="37886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（三）要生动感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24000" y="429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一是用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形象化的语言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，运用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比喻、比拟、夸张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等手法增强语言的形象色彩，把抽象化为具体，深奥讲得浅显，枯燥变成有趣。二是运用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幽默、风趣的语言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，增强演讲稿的表现力。这样，既能深化主题，又能使演讲的气氛轻松和谐；既可调整演讲的节奏，又可使听众消除疲劳。三是发挥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语言音乐性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的特点，注意声调的和谐和节奏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50920" y="0"/>
            <a:ext cx="11142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建议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4360" y="692280"/>
            <a:ext cx="8280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开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以讲故事、讲笑话、新近发生的听众熟悉的事情、唱歌、提问等方式引入演讲，利于吸引听众的兴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正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提出自己的观点，观点必须鲜明，切不可模棱两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运用真切感人的事例，以情动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可列举强有力的数据，事实胜于雄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引用名言警句，增强说服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联系自身实际，把“我”放进去，拉近演讲者与听众的距离，使演讲真切感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、结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用强有力的语言号召听众响应你的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157320" y="128520"/>
            <a:ext cx="1828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范文评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0080" y="720720"/>
            <a:ext cx="88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同学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大家好！我先给大家讲个故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在非洲的一片茂密的丛林中，走着四个皮包骨头的男子，他们扛着一只沉重的箱子，在密林里踉踉跄跄地往前走。他们跟随队长进入丛林探险，可是，队长却在任务即将完成时患急病而不幸长眠于林中了。临终前队长把他亲自制作的箱子托付给他们，并十分诚恳地说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如果你们能把这个箱子送到我的朋友手里，你们将得到比金子还贵重的东西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埋葬了队长以后，他们便扛着箱子上路了。道路越来越难走，他们的力气也越来越小了，但他们仍然鼓着劲往前走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终于有一天，绿色的屏障突然拉开，他们历经千辛万苦之后终于走出了丛林，找到了队长的朋友。可是那个朋友却说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我一无所知啊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于是，打开箱子一看，竟是一堆无用的木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就这么个故事，看起来，队长给他们的只是一箱无用的木头。其实，他却给了他们行动的目的，使他们获得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比金子还贵重的东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生命。从哲学角度上讲，人不同于其他动物之处，就在于人具有高级思维能力。所以人不能像其他动物一样浑浑噩噩地活着，人的行动必须有明确的目的和奋斗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同学们，我们已是初三的学生了，我们的目标就是努力学习考上好的高中，成为祖国需要的合格人才。让我们为这个目标而奋斗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　　谢谢大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263120" y="189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奋斗与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fd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95280" y="1341360"/>
            <a:ext cx="82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用小故事讲大道理是本文的一大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　　开篇用讲故事作为演讲的开头，很能吸引观众，调动观众的注意力。故事充满神秘、出人意料又在情理之中的结局，引人入胜，发人深省。道理蕴藏在故事之中，寥寥几笔，简洁准确地概括、升华，使整篇文稿干净清爽，毫无拖沓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　　最后一段烘托出演讲的目的：我们的目标就是努力学习，考上理想的高中，成为祖国需要的合格人才。可谓情到深处，理到峰顶，自然而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ordArt 6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1116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2:36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32:48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