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DA0-B1FB-4637-928A-74B55931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6EA-5FE5-4A7E-BF06-9FD7391C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1CC-41AE-49F6-BCD7-6E4CDB68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F72-04E7-48C4-9772-D654DEBA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6EF-89DB-49A0-8EDF-EA76669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D66-A887-4D25-9526-9D67ED99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E6C-541C-4531-A4DC-77B52D7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D98-A373-49BF-9794-A6E7AEA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A57-75AB-4D95-99E0-B650B25E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D41-624F-44CF-9426-07C1087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997-BC2D-4D20-9DD8-6E30119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419-4F1B-40FF-9305-0FAAA3B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B92-4900-4BFA-B43A-80B14F9466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FA4-F84B-41B6-A19C-9F0B1D98E9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4986360" y="281160"/>
            <a:ext cx="4157640" cy="6237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35080" y="2108160"/>
            <a:ext cx="64800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要做对这</a:t>
            </a: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九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件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你就能</a:t>
            </a: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成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8428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职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466560" y="549360"/>
            <a:ext cx="331344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专注所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07880" y="1700280"/>
            <a:ext cx="34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专注投篮和得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而不是我能不能投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rcRect l="0" t="0" r="0" b="-13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66920" y="549360"/>
            <a:ext cx="482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祝你成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967-F502-4215-8C60-9F255B0E6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 rot="351000">
            <a:off x="5290920" y="526680"/>
            <a:ext cx="327492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目标具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 rot="330000">
            <a:off x="5092560" y="16524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目标具体明确可执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 rot="21293400">
            <a:off x="5425560" y="539640"/>
            <a:ext cx="333864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抓住机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 rot="21300600">
            <a:off x="5441760" y="1555920"/>
            <a:ext cx="342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朝着目标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并在机会溜走前抓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 rot="21192000">
            <a:off x="371160" y="958320"/>
            <a:ext cx="334008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回顾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rot="21190800">
            <a:off x="432720" y="2085480"/>
            <a:ext cx="342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经常检查取得的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及时调整行为或战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 rot="202800">
            <a:off x="353880" y="1282680"/>
            <a:ext cx="334008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乐观主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 rot="170400">
            <a:off x="255600" y="24807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相信自己能够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39640" y="198360"/>
            <a:ext cx="334008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做得更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995640" y="198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达成目标的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获取新技能同样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539640" y="5589720"/>
            <a:ext cx="331164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坚强意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995640" y="558972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坚强的意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让你在困难面前持之以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116000" y="836640"/>
            <a:ext cx="246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毅力就像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越锻炼越强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575240" y="2921040"/>
            <a:ext cx="331308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毅力肌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263600" y="765000"/>
            <a:ext cx="3313080" cy="1008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不要侥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187280" y="19652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不要过度相信自己抵御诱惑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不要企图达到自己无法企及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720" y="307008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4:1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36:36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