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A5D-6194-4AC2-83D8-382FBA03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288-0126-463C-800D-A2E37D3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106-9B04-4CBA-9D1A-1224C9D8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712-77F1-43A3-8192-5E9B747D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3A4-572F-4037-8AEF-8BEC689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414-1421-4278-887A-8D58DD2E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EBE-C1FB-4A7A-BC9C-ED412B24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265-913D-460C-9F96-B2B827F4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421-CCEF-47D3-9908-2426C156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02F-B196-4BD6-B767-E6588400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5E9-968C-498C-ACF5-9D0B6A8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B30-343D-47ED-A376-78ED5ECA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C10-5AF7-46A4-AA73-A465564399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9.xml"/><Relationship Id="rId10" Type="http://schemas.openxmlformats.org/officeDocument/2006/relationships/slide" Target="slide11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0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TextBox 67"/>
          <p:cNvSpPr/>
          <p:nvPr/>
        </p:nvSpPr>
        <p:spPr>
          <a:xfrm>
            <a:off x="701640" y="2131920"/>
            <a:ext cx="796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炫丽光点动态</a:t>
            </a:r>
            <a:r>
              <a:rPr b="0" lang="en-US" sz="40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单击添加副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344520" y="4824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矩形 29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40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48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4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67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1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8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79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87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93" dur="75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95" dur="7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05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13" dur="25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19" dur="1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1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9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435" dur="1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7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5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451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3" dur="2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3" name="矩形 30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06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14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12"/>
          <p:cNvSpPr/>
          <p:nvPr/>
        </p:nvSpPr>
        <p:spPr>
          <a:xfrm>
            <a:off x="328680" y="4878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1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434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8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46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54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460" dur="75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462" dur="75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72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78" dur="1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0" dur="25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48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8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94" dur="1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6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04" dur="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12" dur="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20" dur="25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0" name="矩形 29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473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0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481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7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9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500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512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520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7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52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53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54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55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56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57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58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527" dur="75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529" dur="75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39" dur="25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5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63" dur="25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569" dur="1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1" dur="25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9" dur="25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5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585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87" dur="25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538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546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34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36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Box 39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44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Box 46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30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49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3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71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3" name="TextBox 67"/>
          <p:cNvSpPr/>
          <p:nvPr/>
        </p:nvSpPr>
        <p:spPr>
          <a:xfrm>
            <a:off x="1646280" y="2185920"/>
            <a:ext cx="585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68"/>
          <p:cNvSpPr/>
          <p:nvPr/>
        </p:nvSpPr>
        <p:spPr>
          <a:xfrm>
            <a:off x="1650960" y="2922480"/>
            <a:ext cx="58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综艺简体(视频)"/>
                <a:ea typeface="方正综艺简体(视频)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3" presetSubtype="52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3" presetSubtype="52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58"/>
          <p:cNvSpPr/>
          <p:nvPr/>
        </p:nvSpPr>
        <p:spPr>
          <a:xfrm>
            <a:off x="-17640" y="3263760"/>
            <a:ext cx="91440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59"/>
          <p:cNvSpPr/>
          <p:nvPr/>
        </p:nvSpPr>
        <p:spPr>
          <a:xfrm>
            <a:off x="-3240" y="37116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60"/>
          <p:cNvSpPr/>
          <p:nvPr/>
        </p:nvSpPr>
        <p:spPr>
          <a:xfrm>
            <a:off x="-19080" y="4164120"/>
            <a:ext cx="914400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64" name="TextBox 61"/>
            <p:cNvSpPr/>
            <p:nvPr/>
          </p:nvSpPr>
          <p:spPr>
            <a:xfrm>
              <a:off x="3644640" y="592200"/>
              <a:ext cx="18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67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grpSp>
          <p:nvGrpSpPr>
            <p:cNvPr id="70" name="组合 16"/>
            <p:cNvGrpSpPr/>
            <p:nvPr/>
          </p:nvGrpSpPr>
          <p:grpSpPr>
            <a:xfrm>
              <a:off x="-288360" y="1379520"/>
              <a:ext cx="900000" cy="520560"/>
              <a:chOff x="-288360" y="1379520"/>
              <a:chExt cx="900000" cy="520560"/>
            </a:xfrm>
          </p:grpSpPr>
          <p:sp>
            <p:nvSpPr>
              <p:cNvPr id="71" name="矩形 36"/>
              <p:cNvSpPr/>
              <p:nvPr/>
            </p:nvSpPr>
            <p:spPr>
              <a:xfrm>
                <a:off x="-21240" y="145080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TextBox 37"/>
              <p:cNvSpPr/>
              <p:nvPr/>
            </p:nvSpPr>
            <p:spPr>
              <a:xfrm>
                <a:off x="-288360" y="13795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组合 17"/>
            <p:cNvGrpSpPr/>
            <p:nvPr/>
          </p:nvGrpSpPr>
          <p:grpSpPr>
            <a:xfrm>
              <a:off x="-288360" y="1833120"/>
              <a:ext cx="900000" cy="520560"/>
              <a:chOff x="-288360" y="1833120"/>
              <a:chExt cx="900000" cy="520560"/>
            </a:xfrm>
          </p:grpSpPr>
          <p:sp>
            <p:nvSpPr>
              <p:cNvPr id="74" name="矩形 34"/>
              <p:cNvSpPr/>
              <p:nvPr/>
            </p:nvSpPr>
            <p:spPr>
              <a:xfrm>
                <a:off x="-21240" y="1904400"/>
                <a:ext cx="3636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Box 35"/>
              <p:cNvSpPr/>
              <p:nvPr/>
            </p:nvSpPr>
            <p:spPr>
              <a:xfrm>
                <a:off x="-288360" y="18331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6" name="组合 19"/>
            <p:cNvGrpSpPr/>
            <p:nvPr/>
          </p:nvGrpSpPr>
          <p:grpSpPr>
            <a:xfrm>
              <a:off x="-288360" y="2286720"/>
              <a:ext cx="900000" cy="520560"/>
              <a:chOff x="-288360" y="2286720"/>
              <a:chExt cx="900000" cy="520560"/>
            </a:xfrm>
          </p:grpSpPr>
          <p:sp>
            <p:nvSpPr>
              <p:cNvPr id="77" name="矩形 32"/>
              <p:cNvSpPr/>
              <p:nvPr/>
            </p:nvSpPr>
            <p:spPr>
              <a:xfrm>
                <a:off x="-21240" y="235800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TextBox 33"/>
              <p:cNvSpPr/>
              <p:nvPr/>
            </p:nvSpPr>
            <p:spPr>
              <a:xfrm>
                <a:off x="-288360" y="22867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9" name="组合 20"/>
            <p:cNvGrpSpPr/>
            <p:nvPr/>
          </p:nvGrpSpPr>
          <p:grpSpPr>
            <a:xfrm>
              <a:off x="-288360" y="2740320"/>
              <a:ext cx="900000" cy="520560"/>
              <a:chOff x="-288360" y="2740320"/>
              <a:chExt cx="900000" cy="520560"/>
            </a:xfrm>
          </p:grpSpPr>
          <p:sp>
            <p:nvSpPr>
              <p:cNvPr id="80" name="矩形 30"/>
              <p:cNvSpPr/>
              <p:nvPr/>
            </p:nvSpPr>
            <p:spPr>
              <a:xfrm>
                <a:off x="-21240" y="281160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TextBox 31"/>
              <p:cNvSpPr/>
              <p:nvPr/>
            </p:nvSpPr>
            <p:spPr>
              <a:xfrm>
                <a:off x="-288360" y="274032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2" name="组合 21"/>
            <p:cNvGrpSpPr/>
            <p:nvPr/>
          </p:nvGrpSpPr>
          <p:grpSpPr>
            <a:xfrm>
              <a:off x="-288360" y="3194280"/>
              <a:ext cx="900000" cy="520560"/>
              <a:chOff x="-288360" y="3194280"/>
              <a:chExt cx="900000" cy="520560"/>
            </a:xfrm>
          </p:grpSpPr>
          <p:sp>
            <p:nvSpPr>
              <p:cNvPr id="83" name="矩形 28"/>
              <p:cNvSpPr/>
              <p:nvPr/>
            </p:nvSpPr>
            <p:spPr>
              <a:xfrm>
                <a:off x="-21240" y="326556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Box 29"/>
              <p:cNvSpPr/>
              <p:nvPr/>
            </p:nvSpPr>
            <p:spPr>
              <a:xfrm>
                <a:off x="-288360" y="31942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组合 22"/>
            <p:cNvGrpSpPr/>
            <p:nvPr/>
          </p:nvGrpSpPr>
          <p:grpSpPr>
            <a:xfrm>
              <a:off x="-288360" y="3647880"/>
              <a:ext cx="900000" cy="520560"/>
              <a:chOff x="-288360" y="3647880"/>
              <a:chExt cx="900000" cy="520560"/>
            </a:xfrm>
          </p:grpSpPr>
          <p:sp>
            <p:nvSpPr>
              <p:cNvPr id="86" name="矩形 26"/>
              <p:cNvSpPr/>
              <p:nvPr/>
            </p:nvSpPr>
            <p:spPr>
              <a:xfrm>
                <a:off x="-21240" y="3719160"/>
                <a:ext cx="3636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Box 27"/>
              <p:cNvSpPr/>
              <p:nvPr/>
            </p:nvSpPr>
            <p:spPr>
              <a:xfrm>
                <a:off x="-288360" y="36478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组合 23"/>
            <p:cNvGrpSpPr/>
            <p:nvPr/>
          </p:nvGrpSpPr>
          <p:grpSpPr>
            <a:xfrm>
              <a:off x="-307800" y="4101480"/>
              <a:ext cx="900000" cy="520560"/>
              <a:chOff x="-307800" y="4101480"/>
              <a:chExt cx="900000" cy="520560"/>
            </a:xfrm>
          </p:grpSpPr>
          <p:sp>
            <p:nvSpPr>
              <p:cNvPr id="89" name="矩形 24"/>
              <p:cNvSpPr/>
              <p:nvPr/>
            </p:nvSpPr>
            <p:spPr>
              <a:xfrm>
                <a:off x="-40680" y="4172760"/>
                <a:ext cx="363600" cy="37584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25"/>
              <p:cNvSpPr/>
              <p:nvPr/>
            </p:nvSpPr>
            <p:spPr>
              <a:xfrm>
                <a:off x="-307800" y="4101480"/>
                <a:ext cx="90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1" name="TextBox 38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9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0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2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3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4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8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1" dur="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4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7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0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3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6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9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02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14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22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25" dur="75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27" dur="75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3" dur="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75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5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矩形 53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41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49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5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168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180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188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192" dur="7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194" dur="75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2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12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0" dur="2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8" dur="25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234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6" dur="2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2" dur="25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4" name="矩形 29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07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15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1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46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54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12"/>
          <p:cNvSpPr/>
          <p:nvPr/>
        </p:nvSpPr>
        <p:spPr>
          <a:xfrm>
            <a:off x="612720" y="4782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259" dur="75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261" dur="75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1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7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9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285" dur="1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87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293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01" dur="1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3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17" dur="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9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1" name="矩形 30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52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274" name="矩形 12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22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27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32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37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42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47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组合 51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282" name="TextBox 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Box 23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Box 2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33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Box 38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43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TextBox 48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矩形 26"/>
          <p:cNvSpPr/>
          <p:nvPr/>
        </p:nvSpPr>
        <p:spPr>
          <a:xfrm>
            <a:off x="2141640" y="297000"/>
            <a:ext cx="6751440" cy="4614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34">
            <a:hlinkClick r:id="rId2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6">
            <a:hlinkClick r:id="rId3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9">
            <a:hlinkClick r:id="rId4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41">
            <a:hlinkClick r:id="rId5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44">
            <a:hlinkClick r:id="rId6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46">
            <a:hlinkClick r:id="rId7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49">
            <a:hlinkClick r:id="rId8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3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6"/>
          <p:cNvSpPr/>
          <p:nvPr/>
        </p:nvSpPr>
        <p:spPr>
          <a:xfrm rot="18657600">
            <a:off x="7128360" y="2485080"/>
            <a:ext cx="15033600" cy="13695120"/>
          </a:xfrm>
          <a:prstGeom prst="rect">
            <a:avLst/>
          </a:prstGeom>
          <a:solidFill>
            <a:srgbClr val="ec6e2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0"/>
          <p:cNvSpPr/>
          <p:nvPr/>
        </p:nvSpPr>
        <p:spPr>
          <a:xfrm rot="19548000">
            <a:off x="-6789240" y="1281240"/>
            <a:ext cx="10148760" cy="1466028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组合 11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301" name="图片 2" descr=""/>
            <p:cNvPicPr/>
            <p:nvPr/>
          </p:nvPicPr>
          <p:blipFill>
            <a:blip r:embed="rId2"/>
            <a:srcRect l="0" t="419" r="76585" b="9593"/>
            <a:stretch/>
          </p:blipFill>
          <p:spPr>
            <a:xfrm>
              <a:off x="0" y="0"/>
              <a:ext cx="214164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图片 3" descr=""/>
            <p:cNvPicPr/>
            <p:nvPr/>
          </p:nvPicPr>
          <p:blipFill>
            <a:blip r:embed="rId3"/>
            <a:srcRect l="23422" t="86380" r="2751" b="9581"/>
            <a:stretch/>
          </p:blipFill>
          <p:spPr>
            <a:xfrm>
              <a:off x="2141640" y="4912560"/>
              <a:ext cx="6751080" cy="23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图片 4" descr=""/>
            <p:cNvPicPr/>
            <p:nvPr/>
          </p:nvPicPr>
          <p:blipFill>
            <a:blip r:embed="rId4"/>
            <a:srcRect l="23422" t="419" r="2751" b="94400"/>
            <a:stretch/>
          </p:blipFill>
          <p:spPr>
            <a:xfrm>
              <a:off x="2141640" y="0"/>
              <a:ext cx="67510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图片 5" descr=""/>
            <p:cNvPicPr/>
            <p:nvPr/>
          </p:nvPicPr>
          <p:blipFill>
            <a:blip r:embed="rId5"/>
            <a:srcRect l="97256" t="419" r="0" b="9593"/>
            <a:stretch/>
          </p:blipFill>
          <p:spPr>
            <a:xfrm>
              <a:off x="8892720" y="0"/>
              <a:ext cx="251280" cy="514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Box 14"/>
          <p:cNvSpPr/>
          <p:nvPr/>
        </p:nvSpPr>
        <p:spPr>
          <a:xfrm>
            <a:off x="-41400" y="5922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方正综艺简体(视频)"/>
                <a:ea typeface="方正综艺简体(视频)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450720" y="1450800"/>
            <a:ext cx="1420920" cy="37656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7"/>
          <p:cNvSpPr/>
          <p:nvPr/>
        </p:nvSpPr>
        <p:spPr>
          <a:xfrm>
            <a:off x="450720" y="190332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9"/>
          <p:cNvSpPr/>
          <p:nvPr/>
        </p:nvSpPr>
        <p:spPr>
          <a:xfrm>
            <a:off x="450720" y="2357280"/>
            <a:ext cx="1420920" cy="3780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1"/>
          <p:cNvSpPr/>
          <p:nvPr/>
        </p:nvSpPr>
        <p:spPr>
          <a:xfrm>
            <a:off x="450720" y="281160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3"/>
          <p:cNvSpPr/>
          <p:nvPr/>
        </p:nvSpPr>
        <p:spPr>
          <a:xfrm>
            <a:off x="450720" y="326556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450720" y="3719520"/>
            <a:ext cx="1420920" cy="37620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27"/>
          <p:cNvGrpSpPr/>
          <p:nvPr/>
        </p:nvGrpSpPr>
        <p:grpSpPr>
          <a:xfrm>
            <a:off x="-41400" y="1450800"/>
            <a:ext cx="383040" cy="3098880"/>
            <a:chOff x="-41400" y="1450800"/>
            <a:chExt cx="383040" cy="3098880"/>
          </a:xfrm>
        </p:grpSpPr>
        <p:sp>
          <p:nvSpPr>
            <p:cNvPr id="313" name="矩形 28"/>
            <p:cNvSpPr/>
            <p:nvPr/>
          </p:nvSpPr>
          <p:spPr>
            <a:xfrm>
              <a:off x="-22320" y="145080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-22320" y="19047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矩形 30"/>
            <p:cNvSpPr/>
            <p:nvPr/>
          </p:nvSpPr>
          <p:spPr>
            <a:xfrm>
              <a:off x="-22320" y="23587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矩形 31"/>
            <p:cNvSpPr/>
            <p:nvPr/>
          </p:nvSpPr>
          <p:spPr>
            <a:xfrm>
              <a:off x="-22320" y="2811240"/>
              <a:ext cx="363960" cy="37764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矩形 32"/>
            <p:cNvSpPr/>
            <p:nvPr/>
          </p:nvSpPr>
          <p:spPr>
            <a:xfrm>
              <a:off x="-22320" y="326556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矩形 33"/>
            <p:cNvSpPr/>
            <p:nvPr/>
          </p:nvSpPr>
          <p:spPr>
            <a:xfrm>
              <a:off x="-22320" y="371952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矩形 34"/>
            <p:cNvSpPr/>
            <p:nvPr/>
          </p:nvSpPr>
          <p:spPr>
            <a:xfrm>
              <a:off x="-41400" y="4173480"/>
              <a:ext cx="363960" cy="376200"/>
            </a:xfrm>
            <a:prstGeom prst="rect">
              <a:avLst/>
            </a:prstGeom>
            <a:solidFill>
              <a:srgbClr val="ec6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组合 35"/>
          <p:cNvGrpSpPr/>
          <p:nvPr/>
        </p:nvGrpSpPr>
        <p:grpSpPr>
          <a:xfrm>
            <a:off x="-307800" y="1379520"/>
            <a:ext cx="919440" cy="3242520"/>
            <a:chOff x="-307800" y="1379520"/>
            <a:chExt cx="919440" cy="3242520"/>
          </a:xfrm>
        </p:grpSpPr>
        <p:sp>
          <p:nvSpPr>
            <p:cNvPr id="321" name="TextBox 36"/>
            <p:cNvSpPr/>
            <p:nvPr/>
          </p:nvSpPr>
          <p:spPr>
            <a:xfrm>
              <a:off x="-288360" y="13795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TextBox 37"/>
            <p:cNvSpPr/>
            <p:nvPr/>
          </p:nvSpPr>
          <p:spPr>
            <a:xfrm>
              <a:off x="-288360" y="18331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Box 38"/>
            <p:cNvSpPr/>
            <p:nvPr/>
          </p:nvSpPr>
          <p:spPr>
            <a:xfrm>
              <a:off x="-288360" y="22867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39"/>
            <p:cNvSpPr/>
            <p:nvPr/>
          </p:nvSpPr>
          <p:spPr>
            <a:xfrm>
              <a:off x="-288360" y="274032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TextBox 40"/>
            <p:cNvSpPr/>
            <p:nvPr/>
          </p:nvSpPr>
          <p:spPr>
            <a:xfrm>
              <a:off x="-288360" y="31942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TextBox 41"/>
            <p:cNvSpPr/>
            <p:nvPr/>
          </p:nvSpPr>
          <p:spPr>
            <a:xfrm>
              <a:off x="-288360" y="36478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TextBox 42"/>
            <p:cNvSpPr/>
            <p:nvPr/>
          </p:nvSpPr>
          <p:spPr>
            <a:xfrm>
              <a:off x="-307800" y="410148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0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矩形 43"/>
          <p:cNvSpPr/>
          <p:nvPr/>
        </p:nvSpPr>
        <p:spPr>
          <a:xfrm>
            <a:off x="431640" y="4172040"/>
            <a:ext cx="1420920" cy="377640"/>
          </a:xfrm>
          <a:prstGeom prst="rect">
            <a:avLst/>
          </a:prstGeom>
          <a:solidFill>
            <a:srgbClr val="ec6e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2">
            <a:hlinkClick r:id="rId6" action="ppaction://hlinksldjump"/>
          </p:cNvPr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3">
            <a:hlinkClick r:id="rId7" action="ppaction://hlinksldjump"/>
          </p:cNvPr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54">
            <a:hlinkClick r:id="rId8" action="ppaction://hlinksldjump"/>
          </p:cNvPr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55">
            <a:hlinkClick r:id="rId9" action="ppaction://hlinksldjump"/>
          </p:cNvPr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56">
            <a:hlinkClick r:id="rId10" action="ppaction://hlinksldjump"/>
          </p:cNvPr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57">
            <a:hlinkClick r:id="rId11" action="ppaction://hlinksldjump"/>
          </p:cNvPr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58">
            <a:hlinkClick r:id="rId12" action="ppaction://hlinksldjump"/>
          </p:cNvPr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f2f2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8642E-006 L -0.96927 -1.46975 E">
                                      <p:cBhvr>
                                        <p:cTn id="326" dur="75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1.35802E-006 L 0.83368 -1.05772 E">
                                      <p:cBhvr>
                                        <p:cTn id="328" dur="7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8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46" dur="2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>
                                  <p:stCondLst>
                                    <p:cond delay="50"/>
                                  </p:stCondLst>
                                  <p:childTnLst>
                                    <p:animClr clrSpc="rgb">
                                      <p:cBhvr>
                                        <p:cTn id="352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4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2">
                                  <p:stCondLst>
                                    <p:cond delay="3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2" dur="25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0" dur="2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" presetSubtype="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2" presetSubtype="2">
                                  <p:stCondLst>
                                    <p:cond delay="4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2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" presetSubtype="2">
                                  <p:stCondLst>
                                    <p:cond delay="25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fbfb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6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微软中国</dc:creator>
  <dc:description/>
  <dc:language>en-US</dc:language>
  <cp:lastModifiedBy>王玉清</cp:lastModifiedBy>
  <dcterms:modified xsi:type="dcterms:W3CDTF">2016-02-19T04:30:33Z</dcterms:modified>
  <cp:revision>17</cp:revision>
  <dc:subject/>
  <dc:title>PowerPoint 演示文稿</dc:title>
</cp:coreProperties>
</file>