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6C6-C2DA-4093-AA8E-BC4CEBCD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533-944A-48D6-9F4E-CCF357A2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B41-D446-43AE-A391-19205B24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888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77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03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888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77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DA5-2667-41DA-8A77-E3FC3117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8BC6-69FF-4728-A316-9CA850C9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D8FD-709B-4A9C-8F30-66428187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D21C-D068-494B-AC6A-898C6EDD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B07F-6A34-4379-B58D-5AEAB24A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1922-EBB9-476B-98F4-FF57245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0360" y="216000"/>
            <a:ext cx="809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EA35-D82B-4417-82E9-84569248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287A-869B-4BF2-81DB-B30288D1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D9C-8857-42FA-A50D-CA9D90BC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0D18-07DB-44F0-8976-5108034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96FE-4FFC-4870-B25F-5D0F72C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A243-F4CA-406E-8F25-0F853E3F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4FC4-D64A-4A3E-B5D7-560C378D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888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7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03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888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7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1088-9FE0-47B5-A510-642048DA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A27A-5869-465B-960F-178FE2D7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D206-AD79-4F16-B09A-B0A2FE53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8C47-E5AB-4189-9904-D47311AB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DB1B-E964-40CB-8643-BCA426BB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E745-D647-41DE-94DA-4E2F1775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603-270F-471F-AB44-EFD65AD5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0360" y="216000"/>
            <a:ext cx="809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A8AA-9255-47EE-8FAE-3DE25F18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4A6A-CBE2-4A98-AF43-047AB19C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E4D5-1805-4492-9C8B-AF9F18A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DFC2-337F-4A44-988E-A0C2ECA6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EEDE-E9EE-4905-9CA7-F9D8A0BD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5563-2B36-4C3E-82FD-A9F7B188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888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7760" y="126036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03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888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7760" y="3121200"/>
            <a:ext cx="26078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72CA-EE80-443F-8F76-5AF9E345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E8A-10F1-49CD-80AF-B9A0DD5A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0B1-8F94-426C-8300-9DE44B26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360" y="216000"/>
            <a:ext cx="809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988-8CEF-470F-ABCF-32274831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FA5-FA63-4A42-ACFD-E66AC590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0800" y="312120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CF6-0262-474F-8260-AE8FFFB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036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0800" y="1260360"/>
            <a:ext cx="39524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360" y="3121200"/>
            <a:ext cx="8099640" cy="1699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869-71D1-4FAE-B278-19797FA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 fontScale="99000"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249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2240" indent="-20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201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B4D1-F090-491C-B4B6-1732FE26B361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EDC1-BE26-4BE3-922C-1F06CC024F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4916520"/>
            <a:ext cx="9001080" cy="482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2160" y="216000"/>
            <a:ext cx="8096040" cy="900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2160" y="1258920"/>
            <a:ext cx="8096040" cy="3564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89000"/>
          </a:bodyPr>
          <a:p>
            <a:pPr marL="299520" indent="-299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46920" indent="-2484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199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394280" indent="-198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792800" indent="-1990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792800" indent="-1990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792800" indent="-1990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2160" y="4916160"/>
            <a:ext cx="2097000" cy="37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90FB-55F6-4D5F-AAD3-61154B9B23A6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73320" y="4916160"/>
            <a:ext cx="2852640" cy="37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1200" y="4916160"/>
            <a:ext cx="2097000" cy="37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ADC-CBBE-46AE-AD2C-4D2F74FC4485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360" y="216000"/>
            <a:ext cx="8099640" cy="900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0360" y="1260360"/>
            <a:ext cx="8099640" cy="3562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rmAutofit fontScale="99000"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249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2240" indent="-20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201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960" indent="-200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6E25-A82A-4992-AF78-FDD220B73DA6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0320" bIns="40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435B-8020-4CDF-958E-E81B313846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"/>
          <p:cNvSpPr/>
          <p:nvPr/>
        </p:nvSpPr>
        <p:spPr>
          <a:xfrm>
            <a:off x="3061440" y="2544840"/>
            <a:ext cx="28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1"/>
          <p:cNvPicPr/>
          <p:nvPr/>
        </p:nvPicPr>
        <p:blipFill>
          <a:blip r:embed="rId3"/>
          <a:stretch/>
        </p:blipFill>
        <p:spPr>
          <a:xfrm>
            <a:off x="0" y="971640"/>
            <a:ext cx="8999640" cy="2759040"/>
          </a:xfrm>
          <a:prstGeom prst="rect">
            <a:avLst/>
          </a:prstGeom>
          <a:ln w="0">
            <a:noFill/>
          </a:ln>
        </p:spPr>
      </p:pic>
      <p:sp>
        <p:nvSpPr>
          <p:cNvPr id="126" name="Line 3"/>
          <p:cNvSpPr/>
          <p:nvPr/>
        </p:nvSpPr>
        <p:spPr>
          <a:xfrm>
            <a:off x="7091280" y="4140360"/>
            <a:ext cx="1800" cy="8632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641640" y="4140360"/>
            <a:ext cx="4086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方正细倩简体"/>
              </a:rPr>
              <a:t>过去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130520" y="4140360"/>
            <a:ext cx="4086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方正细倩简体"/>
              </a:rPr>
              <a:t>现在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7570800" y="4140360"/>
            <a:ext cx="0" cy="8632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08240" y="4140360"/>
            <a:ext cx="4086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方正细倩简体"/>
              </a:rPr>
              <a:t>未来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66560" y="233280"/>
            <a:ext cx="83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浪漫雅圆"/>
              </a:rPr>
              <a:t>致青春年代的爱情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浪漫雅圆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浪漫雅圆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457200" y="5060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832040" y="1417680"/>
            <a:ext cx="5641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9e002c"/>
                </a:solidFill>
                <a:latin typeface="Arial"/>
                <a:ea typeface="微软雅黑"/>
              </a:rPr>
              <a:t>不愿怠惰的青春爱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755720" y="2262240"/>
            <a:ext cx="5545080" cy="993600"/>
          </a:xfrm>
          <a:prstGeom prst="rect">
            <a:avLst/>
          </a:prstGeom>
          <a:solidFill>
            <a:srgbClr val="9e0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ffffff"/>
                </a:solidFill>
                <a:latin typeface="Arial"/>
                <a:ea typeface="微软雅黑"/>
              </a:rPr>
              <a:t>这一刻，爱吧！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圆1"/>
          <p:cNvPicPr/>
          <p:nvPr/>
        </p:nvPicPr>
        <p:blipFill>
          <a:blip r:embed="rId1"/>
          <a:srcRect l="9507" t="0" r="0" b="0"/>
          <a:stretch/>
        </p:blipFill>
        <p:spPr>
          <a:xfrm>
            <a:off x="2398680" y="539640"/>
            <a:ext cx="4046400" cy="293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14"/>
          <p:cNvPicPr/>
          <p:nvPr/>
        </p:nvPicPr>
        <p:blipFill>
          <a:blip r:embed="rId2"/>
          <a:srcRect l="3215" t="0" r="19583" b="0"/>
          <a:stretch/>
        </p:blipFill>
        <p:spPr>
          <a:xfrm>
            <a:off x="2398680" y="539640"/>
            <a:ext cx="4035600" cy="2932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6"/>
          <p:cNvPicPr/>
          <p:nvPr/>
        </p:nvPicPr>
        <p:blipFill>
          <a:blip r:embed="rId3"/>
          <a:srcRect l="16020" t="0" r="6796" b="0"/>
          <a:stretch/>
        </p:blipFill>
        <p:spPr>
          <a:xfrm>
            <a:off x="2400480" y="541440"/>
            <a:ext cx="4044600" cy="2931840"/>
          </a:xfrm>
          <a:prstGeom prst="rect">
            <a:avLst/>
          </a:prstGeom>
          <a:ln w="0">
            <a:noFill/>
          </a:ln>
        </p:spPr>
      </p:pic>
      <p:sp>
        <p:nvSpPr>
          <p:cNvPr id="224" name="矩形 12"/>
          <p:cNvSpPr/>
          <p:nvPr/>
        </p:nvSpPr>
        <p:spPr>
          <a:xfrm>
            <a:off x="457200" y="4788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373480" y="1979640"/>
            <a:ext cx="42876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300" spc="-1" strike="noStrike">
                <a:solidFill>
                  <a:srgbClr val="ffffff"/>
                </a:solidFill>
                <a:latin typeface="Arial"/>
                <a:ea typeface="方正静蕾简体"/>
              </a:rPr>
              <a:t>谢谢观赏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959360" y="3527280"/>
            <a:ext cx="16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2013.5.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 flipV="1">
            <a:off x="-33480" y="12600"/>
            <a:ext cx="9029880" cy="111456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6661080" y="304920"/>
            <a:ext cx="71640" cy="1081080"/>
          </a:xfrm>
          <a:prstGeom prst="line">
            <a:avLst/>
          </a:prstGeom>
          <a:ln w="127080">
            <a:solidFill>
              <a:srgbClr val="9e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4233960" y="611280"/>
            <a:ext cx="71280" cy="792000"/>
          </a:xfrm>
          <a:prstGeom prst="line">
            <a:avLst/>
          </a:prstGeom>
          <a:ln w="127080">
            <a:solidFill>
              <a:srgbClr val="9e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908000" y="900000"/>
            <a:ext cx="71640" cy="503280"/>
          </a:xfrm>
          <a:prstGeom prst="line">
            <a:avLst/>
          </a:prstGeom>
          <a:ln w="127080">
            <a:solidFill>
              <a:srgbClr val="9e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1058760" y="1296000"/>
            <a:ext cx="2057400" cy="2431440"/>
            <a:chOff x="1058760" y="1296000"/>
            <a:chExt cx="2057400" cy="2431440"/>
          </a:xfrm>
        </p:grpSpPr>
        <p:sp>
          <p:nvSpPr>
            <p:cNvPr id="138" name="Rectangle 7"/>
            <p:cNvSpPr/>
            <p:nvPr/>
          </p:nvSpPr>
          <p:spPr>
            <a:xfrm rot="21180000">
              <a:off x="1187640" y="1397160"/>
              <a:ext cx="1799280" cy="2228760"/>
            </a:xfrm>
            <a:prstGeom prst="rect">
              <a:avLst/>
            </a:prstGeom>
            <a:solidFill>
              <a:srgbClr val="9c0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插入图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8" descr="13"/>
            <p:cNvPicPr/>
            <p:nvPr/>
          </p:nvPicPr>
          <p:blipFill>
            <a:blip r:embed="rId1"/>
            <a:srcRect l="2089" t="0" r="0" b="0"/>
            <a:stretch/>
          </p:blipFill>
          <p:spPr>
            <a:xfrm flipH="1" rot="21180000">
              <a:off x="1168560" y="1563480"/>
              <a:ext cx="17377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9"/>
            <p:cNvSpPr/>
            <p:nvPr/>
          </p:nvSpPr>
          <p:spPr>
            <a:xfrm rot="21180000">
              <a:off x="1401840" y="2843280"/>
              <a:ext cx="15778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爱情考卷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这题有点难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3435840" y="1302120"/>
            <a:ext cx="2058840" cy="2433240"/>
            <a:chOff x="3435840" y="1302120"/>
            <a:chExt cx="2058840" cy="2433240"/>
          </a:xfrm>
        </p:grpSpPr>
        <p:sp>
          <p:nvSpPr>
            <p:cNvPr id="142" name="Rectangle 11"/>
            <p:cNvSpPr/>
            <p:nvPr/>
          </p:nvSpPr>
          <p:spPr>
            <a:xfrm rot="21180000">
              <a:off x="3564720" y="1403280"/>
              <a:ext cx="1800360" cy="2230560"/>
            </a:xfrm>
            <a:prstGeom prst="rect">
              <a:avLst/>
            </a:prstGeom>
            <a:solidFill>
              <a:srgbClr val="9e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990000"/>
                  </a:solidFill>
                  <a:latin typeface="Arial"/>
                  <a:ea typeface="微软雅黑"/>
                </a:rPr>
                <a:t>插入图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2" descr="4"/>
            <p:cNvPicPr/>
            <p:nvPr/>
          </p:nvPicPr>
          <p:blipFill>
            <a:blip r:embed="rId2"/>
            <a:srcRect l="0" t="0" r="42238" b="0"/>
            <a:stretch/>
          </p:blipFill>
          <p:spPr>
            <a:xfrm rot="21180000">
              <a:off x="3562200" y="1509840"/>
              <a:ext cx="1770480" cy="172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3"/>
            <p:cNvSpPr/>
            <p:nvPr/>
          </p:nvSpPr>
          <p:spPr>
            <a:xfrm rot="21180000">
              <a:off x="3740040" y="3270960"/>
              <a:ext cx="15800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最后的第一次约会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5882760" y="1270440"/>
            <a:ext cx="2058480" cy="2433240"/>
            <a:chOff x="5882760" y="1270440"/>
            <a:chExt cx="2058480" cy="2433240"/>
          </a:xfrm>
        </p:grpSpPr>
        <p:sp>
          <p:nvSpPr>
            <p:cNvPr id="146" name="Rectangle 15"/>
            <p:cNvSpPr/>
            <p:nvPr/>
          </p:nvSpPr>
          <p:spPr>
            <a:xfrm rot="21180000">
              <a:off x="6011640" y="1371600"/>
              <a:ext cx="1800000" cy="2230560"/>
            </a:xfrm>
            <a:prstGeom prst="rect">
              <a:avLst/>
            </a:prstGeom>
            <a:solidFill>
              <a:srgbClr val="9e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990000"/>
                  </a:solidFill>
                  <a:latin typeface="Arial"/>
                  <a:ea typeface="微软雅黑"/>
                </a:rPr>
                <a:t>插入图片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6" descr="1"/>
            <p:cNvPicPr/>
            <p:nvPr/>
          </p:nvPicPr>
          <p:blipFill>
            <a:blip r:embed="rId3"/>
            <a:srcRect l="11031" t="0" r="14862" b="0"/>
            <a:stretch/>
          </p:blipFill>
          <p:spPr>
            <a:xfrm rot="21180000">
              <a:off x="6000840" y="1450800"/>
              <a:ext cx="1733040" cy="13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7"/>
            <p:cNvSpPr/>
            <p:nvPr/>
          </p:nvSpPr>
          <p:spPr>
            <a:xfrm rot="21180000">
              <a:off x="6171840" y="2842920"/>
              <a:ext cx="15793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8</a:t>
              </a: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度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该沸腾吗？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1547640" y="2556000"/>
            <a:ext cx="5616720" cy="0"/>
          </a:xfrm>
          <a:prstGeom prst="line">
            <a:avLst/>
          </a:prstGeom>
          <a:ln w="9360">
            <a:solidFill>
              <a:srgbClr val="b2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4282920" y="755640"/>
            <a:ext cx="1800" cy="3600360"/>
          </a:xfrm>
          <a:prstGeom prst="line">
            <a:avLst/>
          </a:prstGeom>
          <a:ln w="9360">
            <a:solidFill>
              <a:srgbClr val="b2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7164360" y="245736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相信真爱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03320" y="2457360"/>
            <a:ext cx="574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不信爱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011480" y="549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主动争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011480" y="435600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b20000"/>
                </a:solidFill>
                <a:latin typeface="Arial"/>
                <a:ea typeface="微软雅黑"/>
              </a:rPr>
              <a:t>被动等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003640" y="14382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真爱无惧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050920" y="14382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现实主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050920" y="31320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哪有真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5003640" y="313200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恋人未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332000" y="2195640"/>
            <a:ext cx="6624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9e002c"/>
                </a:solidFill>
                <a:latin typeface="Arial"/>
                <a:ea typeface="微软雅黑"/>
              </a:rPr>
              <a:t>你的爱情在第几象限？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2"/>
          <p:cNvPicPr/>
          <p:nvPr/>
        </p:nvPicPr>
        <p:blipFill>
          <a:blip r:embed="rId1"/>
          <a:stretch/>
        </p:blipFill>
        <p:spPr>
          <a:xfrm>
            <a:off x="4643280" y="1185840"/>
            <a:ext cx="3494160" cy="1955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4484520" y="3403440"/>
            <a:ext cx="3816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990000"/>
                </a:solidFill>
                <a:latin typeface="Arial"/>
                <a:ea typeface="方正静蕾简体"/>
              </a:rPr>
              <a:t>爱情</a:t>
            </a:r>
            <a:r>
              <a:rPr b="1" lang="zh-CN" sz="6500" spc="-1" strike="noStrike">
                <a:solidFill>
                  <a:srgbClr val="990000"/>
                </a:solidFill>
                <a:latin typeface="Arial"/>
                <a:ea typeface="方正静蕾简体"/>
              </a:rPr>
              <a:t>放大</a:t>
            </a:r>
            <a:r>
              <a:rPr b="1" lang="zh-CN" sz="4700" spc="-1" strike="noStrike">
                <a:solidFill>
                  <a:srgbClr val="990000"/>
                </a:solidFill>
                <a:latin typeface="Arial"/>
                <a:ea typeface="方正静蕾简体"/>
              </a:rPr>
              <a:t>镜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555640" y="0"/>
            <a:ext cx="636840" cy="2482920"/>
            <a:chOff x="2555640" y="0"/>
            <a:chExt cx="636840" cy="2482920"/>
          </a:xfrm>
        </p:grpSpPr>
        <p:sp>
          <p:nvSpPr>
            <p:cNvPr id="163" name="Rectangle 5"/>
            <p:cNvSpPr/>
            <p:nvPr/>
          </p:nvSpPr>
          <p:spPr>
            <a:xfrm>
              <a:off x="2760840" y="0"/>
              <a:ext cx="431640" cy="23749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555640" y="108000"/>
              <a:ext cx="63684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昨天为什么没接我电话？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7"/>
          <p:cNvGrpSpPr/>
          <p:nvPr/>
        </p:nvGrpSpPr>
        <p:grpSpPr>
          <a:xfrm>
            <a:off x="2236680" y="1440"/>
            <a:ext cx="433440" cy="2698920"/>
            <a:chOff x="2236680" y="1440"/>
            <a:chExt cx="433440" cy="2698920"/>
          </a:xfrm>
        </p:grpSpPr>
        <p:sp>
          <p:nvSpPr>
            <p:cNvPr id="166" name="Rectangle 8"/>
            <p:cNvSpPr/>
            <p:nvPr/>
          </p:nvSpPr>
          <p:spPr>
            <a:xfrm>
              <a:off x="2236680" y="1440"/>
              <a:ext cx="433440" cy="26276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2258640" y="108000"/>
              <a:ext cx="4086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今天是我们恋爱一周年耶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"/>
          <p:cNvGrpSpPr/>
          <p:nvPr/>
        </p:nvGrpSpPr>
        <p:grpSpPr>
          <a:xfrm>
            <a:off x="1501560" y="1440"/>
            <a:ext cx="636840" cy="3640320"/>
            <a:chOff x="1501560" y="1440"/>
            <a:chExt cx="636840" cy="3640320"/>
          </a:xfrm>
        </p:grpSpPr>
        <p:sp>
          <p:nvSpPr>
            <p:cNvPr id="169" name="Rectangle 11"/>
            <p:cNvSpPr/>
            <p:nvPr/>
          </p:nvSpPr>
          <p:spPr>
            <a:xfrm>
              <a:off x="1704960" y="1440"/>
              <a:ext cx="433440" cy="3395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501560" y="108000"/>
              <a:ext cx="636840" cy="35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你跟公司的那位</a:t>
              </a:r>
              <a:r>
                <a:rPr b="0" lang="zh-CN" sz="15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MM</a:t>
              </a:r>
              <a:r>
                <a:rPr b="0" lang="zh-CN" sz="15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关系好像很不错哟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3"/>
          <p:cNvGrpSpPr/>
          <p:nvPr/>
        </p:nvGrpSpPr>
        <p:grpSpPr>
          <a:xfrm>
            <a:off x="964800" y="1440"/>
            <a:ext cx="636840" cy="2783160"/>
            <a:chOff x="964800" y="1440"/>
            <a:chExt cx="636840" cy="2783160"/>
          </a:xfrm>
        </p:grpSpPr>
        <p:sp>
          <p:nvSpPr>
            <p:cNvPr id="172" name="Rectangle 14"/>
            <p:cNvSpPr/>
            <p:nvPr/>
          </p:nvSpPr>
          <p:spPr>
            <a:xfrm>
              <a:off x="1170000" y="1440"/>
              <a:ext cx="431640" cy="2783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964800" y="108720"/>
              <a:ext cx="636840" cy="23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亲爱的，我好像感冒了啦</a:t>
              </a: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~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20840" y="1440"/>
            <a:ext cx="657000" cy="3149640"/>
            <a:chOff x="420840" y="1440"/>
            <a:chExt cx="657000" cy="3149640"/>
          </a:xfrm>
        </p:grpSpPr>
        <p:sp>
          <p:nvSpPr>
            <p:cNvPr id="175" name="Rectangle 17"/>
            <p:cNvSpPr/>
            <p:nvPr/>
          </p:nvSpPr>
          <p:spPr>
            <a:xfrm>
              <a:off x="646200" y="1440"/>
              <a:ext cx="431640" cy="26982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840" y="108000"/>
              <a:ext cx="63684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你好久没带我去吃好吃的了</a:t>
              </a:r>
              <a:r>
                <a:rPr b="0" lang="zh-CN" sz="1500" spc="-1" strike="noStrike">
                  <a:solidFill>
                    <a:srgbClr val="ffffff"/>
                  </a:solidFill>
                  <a:latin typeface="Arial"/>
                  <a:ea typeface="方正静蕾简体"/>
                </a:rPr>
                <a:t>~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9" descr="未命名-1"/>
          <p:cNvPicPr/>
          <p:nvPr/>
        </p:nvPicPr>
        <p:blipFill>
          <a:blip r:embed="rId2"/>
          <a:stretch/>
        </p:blipFill>
        <p:spPr>
          <a:xfrm>
            <a:off x="2762280" y="2432160"/>
            <a:ext cx="447480" cy="668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未命名-2"/>
          <p:cNvPicPr/>
          <p:nvPr/>
        </p:nvPicPr>
        <p:blipFill>
          <a:blip r:embed="rId3"/>
          <a:stretch/>
        </p:blipFill>
        <p:spPr>
          <a:xfrm>
            <a:off x="1168560" y="2843280"/>
            <a:ext cx="433080" cy="64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未命名-3"/>
          <p:cNvPicPr/>
          <p:nvPr/>
        </p:nvPicPr>
        <p:blipFill>
          <a:blip r:embed="rId4"/>
          <a:stretch/>
        </p:blipFill>
        <p:spPr>
          <a:xfrm>
            <a:off x="2235240" y="2687760"/>
            <a:ext cx="450720" cy="57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2" descr="未命名-4"/>
          <p:cNvPicPr/>
          <p:nvPr/>
        </p:nvPicPr>
        <p:blipFill>
          <a:blip r:embed="rId5"/>
          <a:stretch/>
        </p:blipFill>
        <p:spPr>
          <a:xfrm>
            <a:off x="647640" y="2746440"/>
            <a:ext cx="432000" cy="8636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23"/>
          <p:cNvGrpSpPr/>
          <p:nvPr/>
        </p:nvGrpSpPr>
        <p:grpSpPr>
          <a:xfrm>
            <a:off x="5848200" y="3191040"/>
            <a:ext cx="1943280" cy="2050920"/>
            <a:chOff x="5848200" y="3191040"/>
            <a:chExt cx="1943280" cy="2050920"/>
          </a:xfrm>
        </p:grpSpPr>
        <p:grpSp>
          <p:nvGrpSpPr>
            <p:cNvPr id="182" name="Group 24"/>
            <p:cNvGrpSpPr/>
            <p:nvPr/>
          </p:nvGrpSpPr>
          <p:grpSpPr>
            <a:xfrm>
              <a:off x="7154280" y="4572360"/>
              <a:ext cx="637200" cy="669600"/>
              <a:chOff x="7154280" y="4572360"/>
              <a:chExt cx="637200" cy="669600"/>
            </a:xfrm>
          </p:grpSpPr>
          <p:sp>
            <p:nvSpPr>
              <p:cNvPr id="183" name="Oval 25"/>
              <p:cNvSpPr/>
              <p:nvPr/>
            </p:nvSpPr>
            <p:spPr>
              <a:xfrm>
                <a:off x="7683840" y="5134320"/>
                <a:ext cx="107640" cy="107640"/>
              </a:xfrm>
              <a:prstGeom prst="ellipse">
                <a:avLst/>
              </a:prstGeom>
              <a:solidFill>
                <a:srgbClr val="2d2a02"/>
              </a:solidFill>
              <a:ln w="9360">
                <a:solidFill>
                  <a:srgbClr val="2d2a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>
                <a:off x="7154280" y="4572360"/>
                <a:ext cx="579600" cy="612000"/>
              </a:xfrm>
              <a:prstGeom prst="line">
                <a:avLst/>
              </a:prstGeom>
              <a:ln w="127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Oval 27"/>
            <p:cNvSpPr/>
            <p:nvPr/>
          </p:nvSpPr>
          <p:spPr>
            <a:xfrm>
              <a:off x="5848200" y="3191040"/>
              <a:ext cx="1595520" cy="1595880"/>
            </a:xfrm>
            <a:prstGeom prst="ellipse">
              <a:avLst/>
            </a:prstGeom>
            <a:noFill/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Oval 28"/>
            <p:cNvGrpSpPr/>
            <p:nvPr/>
          </p:nvGrpSpPr>
          <p:grpSpPr>
            <a:xfrm>
              <a:off x="5906520" y="3249360"/>
              <a:ext cx="1487520" cy="1481040"/>
              <a:chOff x="5906520" y="3249360"/>
              <a:chExt cx="1487520" cy="1481040"/>
            </a:xfrm>
          </p:grpSpPr>
          <p:pic>
            <p:nvPicPr>
              <p:cNvPr id="187" name="Oval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906520" y="3249360"/>
                <a:ext cx="1487520" cy="14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6126480" y="3463920"/>
                <a:ext cx="104976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908520" y="2355840"/>
            <a:ext cx="1152360" cy="1152360"/>
          </a:xfrm>
          <a:prstGeom prst="rect">
            <a:avLst/>
          </a:prstGeom>
          <a:solidFill>
            <a:srgbClr val="b20000"/>
          </a:solidFill>
          <a:ln w="0">
            <a:noFill/>
          </a:ln>
          <a:effectLst>
            <a:outerShdw dist="17819" dir="2700000" blurRad="0" rotWithShape="0">
              <a:srgbClr val="6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3541680" y="844560"/>
            <a:ext cx="1871640" cy="1366920"/>
            <a:chOff x="3541680" y="844560"/>
            <a:chExt cx="1871640" cy="1366920"/>
          </a:xfrm>
        </p:grpSpPr>
        <p:sp>
          <p:nvSpPr>
            <p:cNvPr id="191" name="AutoShape 4"/>
            <p:cNvSpPr/>
            <p:nvPr/>
          </p:nvSpPr>
          <p:spPr>
            <a:xfrm>
              <a:off x="3541680" y="844560"/>
              <a:ext cx="1871640" cy="1366920"/>
            </a:xfrm>
            <a:custGeom>
              <a:avLst/>
              <a:gdLst>
                <a:gd name="textAreaLeft" fmla="*/ 389880 w 1871640"/>
                <a:gd name="textAreaRight" fmla="*/ 1481760 w 1871640"/>
                <a:gd name="textAreaTop" fmla="*/ 284760 h 1366920"/>
                <a:gd name="textAreaBottom" fmla="*/ 108216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0000">
                    <a:alpha val="85098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3693960" y="1014480"/>
              <a:ext cx="158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在式的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现在的爱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6"/>
          <p:cNvGrpSpPr/>
          <p:nvPr/>
        </p:nvGrpSpPr>
        <p:grpSpPr>
          <a:xfrm>
            <a:off x="2279520" y="1995480"/>
            <a:ext cx="1584360" cy="1871640"/>
            <a:chOff x="2279520" y="1995480"/>
            <a:chExt cx="1584360" cy="1871640"/>
          </a:xfrm>
        </p:grpSpPr>
        <p:sp>
          <p:nvSpPr>
            <p:cNvPr id="194" name="AutoShape 7"/>
            <p:cNvSpPr/>
            <p:nvPr/>
          </p:nvSpPr>
          <p:spPr>
            <a:xfrm flipH="1" rot="16200000">
              <a:off x="2125440" y="2247480"/>
              <a:ext cx="1871640" cy="1367640"/>
            </a:xfrm>
            <a:custGeom>
              <a:avLst/>
              <a:gdLst>
                <a:gd name="textAreaLeft" fmla="*/ 389880 w 1871640"/>
                <a:gd name="textAreaRight" fmla="*/ 1481760 w 1871640"/>
                <a:gd name="textAreaTop" fmla="*/ 285120 h 1367640"/>
                <a:gd name="textAreaBottom" fmla="*/ 1082520 h 13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0000">
                    <a:alpha val="85098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2279520" y="26283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ve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过去的爱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9"/>
          <p:cNvGrpSpPr/>
          <p:nvPr/>
        </p:nvGrpSpPr>
        <p:grpSpPr>
          <a:xfrm>
            <a:off x="5092560" y="1995480"/>
            <a:ext cx="1582920" cy="1871640"/>
            <a:chOff x="5092560" y="1995480"/>
            <a:chExt cx="1582920" cy="1871640"/>
          </a:xfrm>
        </p:grpSpPr>
        <p:sp>
          <p:nvSpPr>
            <p:cNvPr id="197" name="AutoShape 10"/>
            <p:cNvSpPr/>
            <p:nvPr/>
          </p:nvSpPr>
          <p:spPr>
            <a:xfrm rot="5400000">
              <a:off x="4960080" y="2247840"/>
              <a:ext cx="1871640" cy="1366560"/>
            </a:xfrm>
            <a:custGeom>
              <a:avLst/>
              <a:gdLst>
                <a:gd name="textAreaLeft" fmla="*/ 389880 w 1871640"/>
                <a:gd name="textAreaRight" fmla="*/ 1481760 w 1871640"/>
                <a:gd name="textAreaTop" fmla="*/ 284760 h 1366560"/>
                <a:gd name="textAreaBottom" fmla="*/ 1081800 h 13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0000">
                    <a:alpha val="85098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5092560" y="2628360"/>
              <a:ext cx="158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ve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上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未来的爱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矩形 12"/>
          <p:cNvSpPr/>
          <p:nvPr/>
        </p:nvSpPr>
        <p:spPr>
          <a:xfrm>
            <a:off x="476280" y="47354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1730520" y="976320"/>
            <a:ext cx="504720" cy="3022560"/>
          </a:xfrm>
          <a:custGeom>
            <a:avLst/>
            <a:gdLst>
              <a:gd name="textAreaLeft" fmla="*/ 322560 w 504720"/>
              <a:gd name="textAreaRight" fmla="*/ 505080 w 504720"/>
              <a:gd name="textAreaTop" fmla="*/ 78480 h 3022560"/>
              <a:gd name="textAreaBottom" fmla="*/ 2944080 h 302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0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2308320" y="1249200"/>
            <a:ext cx="1079280" cy="360360"/>
          </a:xfrm>
          <a:prstGeom prst="flowChartDelay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lov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08320" y="2317680"/>
            <a:ext cx="1079280" cy="360360"/>
          </a:xfrm>
          <a:prstGeom prst="flowChartDelay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308320" y="3336840"/>
            <a:ext cx="1079280" cy="360360"/>
          </a:xfrm>
          <a:prstGeom prst="flowChartDelay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</a:rPr>
              <a:t>will  lo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722760" y="2303640"/>
            <a:ext cx="42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升温的恋情里，总忍不住测试对方，收集爱的证据，谁爱谁多一点，真得打分衡量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722760" y="3262320"/>
            <a:ext cx="42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恋人未满的状态，你们，真的会有可能吗？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98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度爱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该沸腾吗？如果因为害怕改变现状而退却，就永远感觉不到真爱沸腾的炽烈。不要犹豫，勇敢爱吧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722760" y="1249200"/>
            <a:ext cx="421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曾经的暗恋对象，那些挥之不去的憧憬，却始终没有跨出这一步。为什么不向那个人诉说真心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932040" y="2195640"/>
            <a:ext cx="576000" cy="576000"/>
          </a:xfrm>
          <a:custGeom>
            <a:avLst/>
            <a:gdLst>
              <a:gd name="textAreaLeft" fmla="*/ 134280 w 576000"/>
              <a:gd name="textAreaRight" fmla="*/ 441720 w 576000"/>
              <a:gd name="textAreaTop" fmla="*/ 60480 h 576000"/>
              <a:gd name="textAreaBottom" fmla="*/ 364680 h 576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c0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"/>
          <p:cNvSpPr/>
          <p:nvPr/>
        </p:nvSpPr>
        <p:spPr>
          <a:xfrm>
            <a:off x="2929320" y="2529000"/>
            <a:ext cx="162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1ppt.com/xiazai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2"/>
          <p:cNvPicPr/>
          <p:nvPr/>
        </p:nvPicPr>
        <p:blipFill>
          <a:blip r:embed="rId1"/>
          <a:srcRect l="3246" t="2861" r="11346" b="5217"/>
          <a:stretch/>
        </p:blipFill>
        <p:spPr>
          <a:xfrm>
            <a:off x="611280" y="755640"/>
            <a:ext cx="30906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10"/>
          <p:cNvPicPr/>
          <p:nvPr/>
        </p:nvPicPr>
        <p:blipFill>
          <a:blip r:embed="rId2"/>
          <a:stretch/>
        </p:blipFill>
        <p:spPr>
          <a:xfrm>
            <a:off x="5391000" y="755640"/>
            <a:ext cx="3036960" cy="1722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5"/>
          <p:cNvPicPr/>
          <p:nvPr/>
        </p:nvPicPr>
        <p:blipFill>
          <a:blip r:embed="rId3"/>
          <a:stretch/>
        </p:blipFill>
        <p:spPr>
          <a:xfrm>
            <a:off x="2562120" y="2629080"/>
            <a:ext cx="1281240" cy="1760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13"/>
          <p:cNvPicPr/>
          <p:nvPr/>
        </p:nvPicPr>
        <p:blipFill>
          <a:blip r:embed="rId4"/>
          <a:stretch/>
        </p:blipFill>
        <p:spPr>
          <a:xfrm>
            <a:off x="3924360" y="2620800"/>
            <a:ext cx="3144600" cy="1768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6"/>
          <p:cNvPicPr/>
          <p:nvPr/>
        </p:nvPicPr>
        <p:blipFill>
          <a:blip r:embed="rId5"/>
          <a:srcRect l="0" t="0" r="40832" b="0"/>
          <a:stretch/>
        </p:blipFill>
        <p:spPr>
          <a:xfrm>
            <a:off x="612720" y="2629080"/>
            <a:ext cx="1852560" cy="1760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7"/>
          <p:cNvPicPr/>
          <p:nvPr/>
        </p:nvPicPr>
        <p:blipFill>
          <a:blip r:embed="rId6"/>
          <a:stretch/>
        </p:blipFill>
        <p:spPr>
          <a:xfrm>
            <a:off x="3780000" y="755640"/>
            <a:ext cx="1530360" cy="1722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9"/>
          <p:cNvPicPr/>
          <p:nvPr/>
        </p:nvPicPr>
        <p:blipFill>
          <a:blip r:embed="rId7"/>
          <a:stretch/>
        </p:blipFill>
        <p:spPr>
          <a:xfrm>
            <a:off x="7149960" y="2629080"/>
            <a:ext cx="1278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703520" y="920880"/>
            <a:ext cx="56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e002c"/>
                </a:solidFill>
                <a:latin typeface="Arial"/>
                <a:ea typeface="微软雅黑"/>
              </a:rPr>
              <a:t>青春时代的爱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803240" y="1957320"/>
            <a:ext cx="5361120" cy="1572840"/>
          </a:xfrm>
          <a:prstGeom prst="rect">
            <a:avLst/>
          </a:prstGeom>
          <a:solidFill>
            <a:srgbClr val="9c0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700" spc="-1" strike="noStrike">
                <a:solidFill>
                  <a:srgbClr val="ffffff"/>
                </a:solidFill>
                <a:latin typeface="Arial"/>
                <a:ea typeface="微软雅黑"/>
              </a:rPr>
              <a:t>如何抉择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689120" y="3657600"/>
            <a:ext cx="5740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e002c"/>
                </a:solidFill>
                <a:latin typeface="Arial"/>
                <a:ea typeface="微软雅黑"/>
              </a:rPr>
              <a:t>关于爱情的考卷，这题有点难！！！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王玉清</cp:lastModifiedBy>
  <dcterms:modified xsi:type="dcterms:W3CDTF">2016-02-20T03:54:58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