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2422-CC64-4D1E-9020-639E3C36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95B-EB23-4099-B09C-2EB23362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1BD3-1B10-4CDD-8F1D-7D4E36F1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8EC-70EC-4850-8C9A-4831AF45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DB5-9014-44B6-9CC2-CA0AAF18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BC1-D867-49DF-9579-15A42C6D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8A2-FE9F-4468-B9F6-14F7E6DA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7FD7-2C74-4319-AC2C-CB19DA1C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5D0-0A87-4656-92E6-4961B74F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E6F-5BA5-4476-B9B8-2F5142BD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EE25-8B3A-465E-863F-0113A2E2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50B8-97A1-4254-BA61-C1CF3D57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524A-E5A7-4858-BAE3-93BC15E241C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非凡图库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ffpic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3069-ED58-4A1E-A41E-2BE10A55DEE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9280" y="3257640"/>
            <a:ext cx="5113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汉真广标"/>
                <a:ea typeface="汉真广标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250920" y="4049640"/>
            <a:ext cx="5425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6012000" y="4649760"/>
            <a:ext cx="649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053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69840" y="50760"/>
            <a:ext cx="72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自我介绍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840" y="179280"/>
            <a:ext cx="1428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lidan\Desktop\1.png"/>
          <p:cNvPicPr/>
          <p:nvPr/>
        </p:nvPicPr>
        <p:blipFill>
          <a:blip r:embed="rId2"/>
          <a:stretch/>
        </p:blipFill>
        <p:spPr>
          <a:xfrm>
            <a:off x="1785960" y="1571760"/>
            <a:ext cx="5327640" cy="539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3429000" y="164304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lidan\Desktop\1.png"/>
          <p:cNvPicPr/>
          <p:nvPr/>
        </p:nvPicPr>
        <p:blipFill>
          <a:blip r:embed="rId3"/>
          <a:stretch/>
        </p:blipFill>
        <p:spPr>
          <a:xfrm>
            <a:off x="1785960" y="2286000"/>
            <a:ext cx="5327640" cy="53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lidan\Desktop\1.png"/>
          <p:cNvPicPr/>
          <p:nvPr/>
        </p:nvPicPr>
        <p:blipFill>
          <a:blip r:embed="rId4"/>
          <a:stretch/>
        </p:blipFill>
        <p:spPr>
          <a:xfrm>
            <a:off x="1785960" y="3032280"/>
            <a:ext cx="5327640" cy="53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lidan\Desktop\1.png"/>
          <p:cNvPicPr/>
          <p:nvPr/>
        </p:nvPicPr>
        <p:blipFill>
          <a:blip r:embed="rId5"/>
          <a:stretch/>
        </p:blipFill>
        <p:spPr>
          <a:xfrm>
            <a:off x="1785960" y="3780000"/>
            <a:ext cx="5327640" cy="539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3429000" y="234468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429000" y="308772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3429000" y="384480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-425160" y="1731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56800" y="857160"/>
            <a:ext cx="671508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本人刘</a:t>
            </a: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，性别男，汉族人，于</a:t>
            </a: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1979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日出生在柳州市的一个干部小家庭。系湖南商学院信息工程与信息管理系九八级自考班的学生，现担任本系自考部的团总支书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ficiency in AutoCAD drawing software, Pro / E software, Photoshop software, to use word, excel and software to operate independently and in a timely and efficient comple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84132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-631080" y="17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内容占位符 7" descr="2476235_231918247241_2.jpg"/>
          <p:cNvPicPr/>
          <p:nvPr/>
        </p:nvPicPr>
        <p:blipFill>
          <a:blip r:embed="rId2"/>
          <a:stretch/>
        </p:blipFill>
        <p:spPr>
          <a:xfrm>
            <a:off x="4071960" y="1357200"/>
            <a:ext cx="3771720" cy="28288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60" name="Picture 2" descr="C:\Users\lidan\Desktop\未标题-3.png"/>
          <p:cNvPicPr/>
          <p:nvPr/>
        </p:nvPicPr>
        <p:blipFill>
          <a:blip r:embed="rId3"/>
          <a:stretch/>
        </p:blipFill>
        <p:spPr>
          <a:xfrm>
            <a:off x="217440" y="1084320"/>
            <a:ext cx="4105440" cy="642960"/>
          </a:xfrm>
          <a:prstGeom prst="rect">
            <a:avLst/>
          </a:prstGeom>
          <a:ln w="0">
            <a:noFill/>
          </a:ln>
        </p:spPr>
      </p:pic>
      <p:sp>
        <p:nvSpPr>
          <p:cNvPr id="61" name="TextBox 10"/>
          <p:cNvSpPr/>
          <p:nvPr/>
        </p:nvSpPr>
        <p:spPr>
          <a:xfrm>
            <a:off x="46800" y="10843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9"/>
          <p:cNvSpPr/>
          <p:nvPr/>
        </p:nvSpPr>
        <p:spPr>
          <a:xfrm>
            <a:off x="65160" y="-7920"/>
            <a:ext cx="718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副标题 2"/>
          <p:cNvSpPr/>
          <p:nvPr/>
        </p:nvSpPr>
        <p:spPr>
          <a:xfrm>
            <a:off x="157320" y="3429000"/>
            <a:ext cx="3985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THE ENG T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E90-F87E-4F19-BCA1-952BDB8C94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03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11:15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