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37840" y="265680"/>
            <a:ext cx="7705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42560" y="981000"/>
            <a:ext cx="7704360" cy="252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42560" y="3749760"/>
            <a:ext cx="7704360" cy="252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37840" y="265680"/>
            <a:ext cx="7705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42560" y="981000"/>
            <a:ext cx="3759480" cy="252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90320" y="981000"/>
            <a:ext cx="3759480" cy="252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42560" y="3749760"/>
            <a:ext cx="3759480" cy="252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990320" y="3749760"/>
            <a:ext cx="3759480" cy="252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37840" y="265680"/>
            <a:ext cx="7705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42560" y="981000"/>
            <a:ext cx="2480400" cy="252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7520" y="981000"/>
            <a:ext cx="2480400" cy="252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52120" y="981000"/>
            <a:ext cx="2480400" cy="252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42560" y="3749760"/>
            <a:ext cx="2480400" cy="252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7520" y="3749760"/>
            <a:ext cx="2480400" cy="252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252120" y="3749760"/>
            <a:ext cx="2480400" cy="252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437840" y="265680"/>
            <a:ext cx="7705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42560" y="981000"/>
            <a:ext cx="7704360" cy="53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37840" y="265680"/>
            <a:ext cx="7705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42560" y="981000"/>
            <a:ext cx="770436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37840" y="265680"/>
            <a:ext cx="7705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42560" y="981000"/>
            <a:ext cx="375948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90320" y="981000"/>
            <a:ext cx="375948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37840" y="265680"/>
            <a:ext cx="7705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37840" y="333000"/>
            <a:ext cx="770580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37840" y="265680"/>
            <a:ext cx="7705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981000"/>
            <a:ext cx="3759480" cy="252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0320" y="981000"/>
            <a:ext cx="375948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42560" y="3749760"/>
            <a:ext cx="3759480" cy="252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37840" y="265680"/>
            <a:ext cx="7705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42560" y="981000"/>
            <a:ext cx="7704360" cy="53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37840" y="265680"/>
            <a:ext cx="7705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42560" y="981000"/>
            <a:ext cx="375948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90320" y="981000"/>
            <a:ext cx="3759480" cy="252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990320" y="3749760"/>
            <a:ext cx="3759480" cy="252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37840" y="265680"/>
            <a:ext cx="7705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42560" y="981000"/>
            <a:ext cx="3759480" cy="252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90320" y="981000"/>
            <a:ext cx="3759480" cy="252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42560" y="3749760"/>
            <a:ext cx="7704360" cy="252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37840" y="265680"/>
            <a:ext cx="7705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42560" y="981000"/>
            <a:ext cx="7704360" cy="252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42560" y="3749760"/>
            <a:ext cx="7704360" cy="252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7840" y="265680"/>
            <a:ext cx="7705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981000"/>
            <a:ext cx="3759480" cy="252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90320" y="981000"/>
            <a:ext cx="3759480" cy="252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3749760"/>
            <a:ext cx="3759480" cy="252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990320" y="3749760"/>
            <a:ext cx="3759480" cy="252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37840" y="265680"/>
            <a:ext cx="7705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42560" y="981000"/>
            <a:ext cx="2480400" cy="252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47520" y="981000"/>
            <a:ext cx="2480400" cy="252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252120" y="981000"/>
            <a:ext cx="2480400" cy="252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42560" y="3749760"/>
            <a:ext cx="2480400" cy="252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647520" y="3749760"/>
            <a:ext cx="2480400" cy="252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252120" y="3749760"/>
            <a:ext cx="2480400" cy="252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37840" y="265680"/>
            <a:ext cx="7705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42560" y="981000"/>
            <a:ext cx="770436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7840" y="265680"/>
            <a:ext cx="7705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42560" y="981000"/>
            <a:ext cx="375948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990320" y="981000"/>
            <a:ext cx="375948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37840" y="265680"/>
            <a:ext cx="7705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437840" y="333000"/>
            <a:ext cx="770580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37840" y="265680"/>
            <a:ext cx="7705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42560" y="981000"/>
            <a:ext cx="3759480" cy="252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90320" y="981000"/>
            <a:ext cx="375948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42560" y="3749760"/>
            <a:ext cx="3759480" cy="252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37840" y="265680"/>
            <a:ext cx="7705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42560" y="981000"/>
            <a:ext cx="375948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90320" y="981000"/>
            <a:ext cx="3759480" cy="252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90320" y="3749760"/>
            <a:ext cx="3759480" cy="252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7840" y="265680"/>
            <a:ext cx="7705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42560" y="981000"/>
            <a:ext cx="3759480" cy="252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90320" y="981000"/>
            <a:ext cx="3759480" cy="252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42560" y="3749760"/>
            <a:ext cx="7704360" cy="252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37840" y="333000"/>
            <a:ext cx="770580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057d6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42560" y="981000"/>
            <a:ext cx="770436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76000" y="692280"/>
            <a:ext cx="6048360" cy="1109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057d6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80808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80808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8080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76000" y="692280"/>
            <a:ext cx="6048360" cy="1109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057d6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endParaRPr b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9280" y="63104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43000" y="836640"/>
            <a:ext cx="293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d4d4d"/>
                </a:solidFill>
                <a:latin typeface="Arial"/>
              </a:rPr>
              <a:t>植物类</a:t>
            </a:r>
            <a:r>
              <a:rPr b="0" lang="en-US" sz="4000" spc="-1" strike="noStrike">
                <a:solidFill>
                  <a:srgbClr val="4d4d4d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4d4d4d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02920" y="333360"/>
            <a:ext cx="45356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0808"/>
                </a:solidFill>
                <a:latin typeface="Tahoma"/>
              </a:rPr>
              <a:t>Second Page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42920" y="1125000"/>
            <a:ext cx="68976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55640" y="1341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58aef3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115920"/>
            <a:ext cx="7056720" cy="71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057d6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908000" y="907920"/>
            <a:ext cx="7056720" cy="57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057d6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80808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ru-RU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ru-RU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ru-RU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ru-RU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ru-RU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ru-RU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ru-RU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58aef3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58aef3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58aef3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ru-R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ru-RU" sz="1200" spc="-1" strike="noStrike" u="sng">
                <a:solidFill>
                  <a:srgbClr val="58aef3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ru-R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58aef3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ru-R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58aef3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ru-RU" sz="1200" spc="-1" strike="noStrike" u="sng">
                <a:solidFill>
                  <a:srgbClr val="58aef3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ru-R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58aef3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ru-R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ru-RU" sz="1200" spc="-1" strike="noStrike" u="sng">
                <a:solidFill>
                  <a:srgbClr val="58aef3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ru-R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58aef3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ru-R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ru-RU" sz="1200" spc="-1" strike="noStrike" u="sng">
                <a:solidFill>
                  <a:srgbClr val="58aef3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ru-R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58aef3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ru-R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ru-RU" sz="1200" spc="-1" strike="noStrike" u="sng">
                <a:solidFill>
                  <a:srgbClr val="58aef3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ru-R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58aef3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ru-R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ru-RU" sz="1200" spc="-1" strike="noStrike" u="sng">
                <a:solidFill>
                  <a:srgbClr val="58aef3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ru-R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58aef3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ru-R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58aef3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58aef3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58aef3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58aef3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58aef3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58aef3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58aef3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58aef3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58aef3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d4d4d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5T13:44:2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8:58:24Z</dcterms:modified>
  <cp:revision>9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