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C5E-5FB2-4202-9C78-646A5FE9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83D-38F5-4B6C-A15E-2F06AB4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D6C-5817-44F4-A87F-43D3BE8E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8DD-E83B-4268-B930-1F980A2C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D96E-EC77-40C3-8FDD-46A3B867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BFA1-84C4-4E59-935B-EC6C8E48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2FF8-85F0-435F-8A6D-7AEFE302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49BC-CAFE-4E56-A648-C68F9366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DAAC-3876-4B21-94AD-41580F5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39DB-19C2-46DF-B32A-732B2DD7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5A27-1EB8-4511-8D01-181CD58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0D3-EB40-4A37-9A3E-85F2E8D6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0125-C774-48B2-B20E-D2C9B507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0C12-67D1-468D-8DA7-B97A2A80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D649-7D2A-4FA2-ADDB-1C10AC84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59E8-EF4E-4515-B425-4FD1E705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A150-FD9C-44D4-8236-3AE706CB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B95D-1203-4184-A1E7-0F76E806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986E-5F50-4D57-9649-BE497EF0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5192-2A5B-4998-9DC9-B0CDB530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6E5B-7E63-4D0C-B7CD-93B8956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010A-54CA-405E-9ADF-C9B6BC20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7EA-911E-41A5-8B3B-7E87B08A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E33A-8712-4DEA-AD55-5522DA59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835D-92D5-4946-99E9-60F607D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6563-A51A-46FA-A3E0-5C5328B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4993-626F-431F-B814-2B326A2E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D108-86FB-47D9-BAB9-0DB9196D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77C7-1B32-4A4F-B7B1-8302706A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0AC1-E56D-419C-A3B8-ACF02023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F12A-E73E-41CD-8145-31A1192D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E808-3CA7-48FD-95AB-A9167ECD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C8D84-3D4A-4E78-BF6A-738DF191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E65-7356-424B-837B-AF654B10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0F74-4D23-46E2-B4AF-4546D8B4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3B89-AFF8-4194-94A7-77991CB7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E1514-8785-47AD-AF73-45815F1B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265D-235E-46EB-9519-2FC3550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D672-5B79-4277-BE1C-444DDFD9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568D-1E09-43F8-B606-038D3F0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7ED6-632D-4A2D-ABBF-64A8DDD9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F7AE-17B6-4ADD-8FDC-FE03D4D5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C5E2-E67B-4C27-BE0E-8F193066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74E5-B675-44D2-A3C4-0B6919A5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C28-70B9-459F-A40A-E015E26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2EE85-E4F7-4A72-AEBF-6CEDFDC9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2AB76-6184-4ABB-BBE9-AD9760F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6D8DD-A050-4710-885C-70410F74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88D3-4B2A-415F-BC78-A8DDFF6F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E398-D4CC-4489-9634-0E975841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91CD-5A52-4639-BEEA-12E68F7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EA72C-4ADA-406F-B0A6-57EB8712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EC60-A11F-431B-A8B3-7C260C1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4D071-C81C-4F3E-9CC4-120F47D3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9D710-2E2C-47B5-8215-F5205CED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AF9-C967-4BA1-A5B9-B1F060A4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D7B20-548A-4DF3-9071-D9DEB4D6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B03AE-DD32-459C-A200-8D28973D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384DC-A4F6-40B6-BAAF-267784BB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38FC4-02C5-4C79-BD1F-2385E908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BE643-ED54-4D2F-BBCA-320B8AF4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D4A6E-37FB-4088-9204-181F8CD6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C6A9D-78DE-452B-8AF9-95C7A8E1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E7832-E599-480E-93E8-29C188AD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E1CA-16E6-43AD-962D-C9EA9BD4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C5951-A9A8-4582-8CB8-EE42D499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740-83AE-4D04-8D61-E3870EE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18CCB-C263-4547-B946-CD5126D1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96A2-66EF-4F12-B40E-27C63C5D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1963D-CBE4-468F-AE5D-B2FC8E03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FAF-DBAF-4E2F-9D01-1D5E2ACE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BD4-B1C1-4E27-86C9-9C9999F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7619760" cy="8377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418633-7EA3-4E6E-9F51-CCF59FDD0DD3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3809520" cy="41907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单击此处编辑母版文本样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二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28600">
              <a:lnSpc>
                <a:spcPct val="12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三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9064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四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五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724280" y="1600200"/>
            <a:ext cx="3809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单击图标添加剪 贴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150D23-19CD-44BD-A395-9809430D925C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19000C-1056-43FC-AC77-016E066D3D20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040" cy="41907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单击此处编辑母版文本样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二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28600">
              <a:lnSpc>
                <a:spcPct val="12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三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9064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四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五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D686EC-0267-4EB2-873B-0248A29CD1BD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3809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单击图标添加剪 贴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4724280" y="1600200"/>
            <a:ext cx="3809520" cy="41907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单击此处编辑母版文本样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二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28600">
              <a:lnSpc>
                <a:spcPct val="12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三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9064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四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五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AAF8E3-E76C-4B01-9191-20DAFB376C7F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单击图标添加表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EF0F4D-A42C-42E8-AC48-5E196194BDF6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7619760" cy="8377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中学生物通用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Picture 8" descr="tt"/>
          <p:cNvPicPr/>
          <p:nvPr/>
        </p:nvPicPr>
        <p:blipFill>
          <a:blip r:embed="rId2"/>
          <a:stretch/>
        </p:blipFill>
        <p:spPr>
          <a:xfrm>
            <a:off x="8172360" y="189000"/>
            <a:ext cx="647280" cy="431280"/>
          </a:xfrm>
          <a:prstGeom prst="rect">
            <a:avLst/>
          </a:prstGeom>
          <a:ln w="0">
            <a:noFill/>
          </a:ln>
        </p:spPr>
      </p:pic>
      <p:sp>
        <p:nvSpPr>
          <p:cNvPr id="25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一级标题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040" cy="33523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二级标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文本内容，此处有图片超级连接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二级标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文本内容，此处有图片超级连接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新课内容二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040" cy="419076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一级标题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内容……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例题和练习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1981080" y="175248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例题一（非选择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1981080" y="297180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例题二（选择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1981080" y="4191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练习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1981080" y="5334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练习题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例题分析一（非选择题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3809520" cy="419076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txBody>
          <a:bodyPr numCol="1" spcCol="0" anchor="t">
            <a:noAutofit/>
          </a:bodyPr>
          <a:p>
            <a:pPr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题文内容 ……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8" name="Picture 5" descr="NA01607_"/>
          <p:cNvPicPr/>
          <p:nvPr/>
        </p:nvPicPr>
        <p:blipFill>
          <a:blip r:embed="rId1"/>
          <a:stretch/>
        </p:blipFill>
        <p:spPr>
          <a:xfrm>
            <a:off x="5257800" y="1905120"/>
            <a:ext cx="2819160" cy="25999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5715000" y="4952880"/>
            <a:ext cx="213336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题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例题分析二（选择题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086240" cy="39621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题文内容…… 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正确答案是：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练习一（选择题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086240" cy="39621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题文内容…… 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练习二（选择题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086240" cy="39621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题文内容…… 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扩展资料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981080" y="1905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扩展资料一（文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1981080" y="320040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扩展资料二（图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1981080" y="4495680"/>
            <a:ext cx="5562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扩展资料三（文本和图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扩展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040" cy="44953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文本资料……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扩展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Picture 3" descr="BD00028_"/>
          <p:cNvPicPr/>
          <p:nvPr/>
        </p:nvPicPr>
        <p:blipFill>
          <a:blip r:embed="rId1"/>
          <a:stretch/>
        </p:blipFill>
        <p:spPr>
          <a:xfrm>
            <a:off x="2208240" y="1752480"/>
            <a:ext cx="4954320" cy="4571640"/>
          </a:xfrm>
          <a:prstGeom prst="rect">
            <a:avLst/>
          </a:prstGeom>
          <a:ln cap="sq" w="12700">
            <a:solidFill>
              <a:srgbClr val="eaeaea"/>
            </a:solidFill>
            <a:miter/>
          </a:ln>
        </p:spPr>
      </p:pic>
      <p:sp>
        <p:nvSpPr>
          <p:cNvPr id="321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520" y="317520"/>
            <a:ext cx="5790960" cy="7488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课件标题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1676520" y="1447920"/>
            <a:ext cx="5790960" cy="4952520"/>
          </a:xfrm>
          <a:prstGeom prst="roundRect">
            <a:avLst>
              <a:gd name="adj" fmla="val 4074"/>
            </a:avLst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8900000"/>
          </a:gradFill>
          <a:ln w="12700">
            <a:noFill/>
          </a:ln>
          <a:scene3d>
            <a:camera prst="legacyObliqueBottomRight"/>
            <a:lightRig dir="t" rig="legacyFlat3"/>
          </a:scene3d>
          <a:sp3d extrusionH="176200" prstMaterial="legacyMatte">
            <a:bevelT prst="angle" w="13500" h="13500"/>
            <a:bevelB prst="angle" w="13500" h="13500"/>
            <a:extrusionClr>
              <a:srgbClr val="0099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400" spc="-1" strike="noStrike">
              <a:solidFill>
                <a:srgbClr val="eaeaea"/>
              </a:solidFill>
              <a:latin typeface="Times New Roman"/>
              <a:ea typeface="楷体_GB2312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2743200" y="1752480"/>
            <a:ext cx="3962160" cy="4029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引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新课内容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新课内容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例题和练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资料扩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结  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扩展三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Picture 5" descr="BD00028_"/>
          <p:cNvPicPr/>
          <p:nvPr/>
        </p:nvPicPr>
        <p:blipFill>
          <a:blip r:embed="rId1"/>
          <a:stretch/>
        </p:blipFill>
        <p:spPr>
          <a:xfrm>
            <a:off x="533520" y="1600200"/>
            <a:ext cx="4039920" cy="4419360"/>
          </a:xfrm>
          <a:prstGeom prst="rect">
            <a:avLst/>
          </a:prstGeom>
          <a:ln w="0">
            <a:solidFill>
              <a:srgbClr val="eaeaea"/>
            </a:solidFill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240" cy="44193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56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文字说明……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小结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27" name="Group 15"/>
          <p:cNvGrpSpPr/>
          <p:nvPr/>
        </p:nvGrpSpPr>
        <p:grpSpPr>
          <a:xfrm>
            <a:off x="944640" y="1981080"/>
            <a:ext cx="1341000" cy="3657240"/>
            <a:chOff x="944640" y="1981080"/>
            <a:chExt cx="1341000" cy="3657240"/>
          </a:xfrm>
        </p:grpSpPr>
        <p:sp>
          <p:nvSpPr>
            <p:cNvPr id="328" name="Text Box 3"/>
            <p:cNvSpPr/>
            <p:nvPr/>
          </p:nvSpPr>
          <p:spPr>
            <a:xfrm>
              <a:off x="944640" y="2755080"/>
              <a:ext cx="793440" cy="22503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0" lang="zh-CN" sz="4000" spc="-1" strike="noStrike">
                  <a:solidFill>
                    <a:srgbClr val="eaeaea"/>
                  </a:solidFill>
                  <a:latin typeface="Times New Roman"/>
                  <a:ea typeface="黑体"/>
                </a:rPr>
                <a:t>课件标题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905120" y="1981080"/>
              <a:ext cx="380520" cy="3657240"/>
            </a:xfrm>
            <a:prstGeom prst="leftBrace">
              <a:avLst>
                <a:gd name="adj1" fmla="val 86667"/>
                <a:gd name="adj2" fmla="val 50000"/>
              </a:avLst>
            </a:prstGeom>
            <a:noFill/>
            <a:ln cap="sq"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  <a:ea typeface="楷体_GB2312"/>
              </a:endParaRPr>
            </a:p>
          </p:txBody>
        </p:sp>
      </p:grpSp>
      <p:sp>
        <p:nvSpPr>
          <p:cNvPr id="330" name="Text Box 7"/>
          <p:cNvSpPr/>
          <p:nvPr/>
        </p:nvSpPr>
        <p:spPr>
          <a:xfrm>
            <a:off x="2438280" y="1828800"/>
            <a:ext cx="2819160" cy="674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新课内容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438280" y="4800600"/>
            <a:ext cx="2819160" cy="674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新课内容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5105520" y="4419720"/>
            <a:ext cx="380520" cy="1371240"/>
          </a:xfrm>
          <a:prstGeom prst="leftBrace">
            <a:avLst>
              <a:gd name="adj1" fmla="val 30000"/>
              <a:gd name="adj2" fmla="val 50000"/>
            </a:avLst>
          </a:prstGeom>
          <a:noFill/>
          <a:ln cap="sq" w="2857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400" spc="-1" strike="noStrike">
              <a:solidFill>
                <a:srgbClr val="eaeaea"/>
              </a:solidFill>
              <a:latin typeface="Times New Roman"/>
              <a:ea typeface="楷体_GB2312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5562720" y="4205160"/>
            <a:ext cx="2514240" cy="516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级标题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562720" y="5500800"/>
            <a:ext cx="2514240" cy="516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级标题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5410080" y="1905120"/>
            <a:ext cx="2514240" cy="516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级标题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鱼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320" y="6172200"/>
            <a:ext cx="2209320" cy="609120"/>
          </a:xfrm>
          <a:prstGeom prst="rect">
            <a:avLst/>
          </a:prstGeom>
          <a:solidFill>
            <a:srgbClr val="006600"/>
          </a:solidFill>
          <a:ln cap="sq" w="19080">
            <a:solidFill>
              <a:srgbClr val="eaeaea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图片说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鱼3"/>
          <p:cNvPicPr/>
          <p:nvPr/>
        </p:nvPicPr>
        <p:blipFill>
          <a:blip r:embed="rId1"/>
          <a:stretch/>
        </p:blipFill>
        <p:spPr>
          <a:xfrm>
            <a:off x="762120" y="533520"/>
            <a:ext cx="7924320" cy="5409720"/>
          </a:xfrm>
          <a:prstGeom prst="rect">
            <a:avLst/>
          </a:prstGeom>
          <a:ln w="19050">
            <a:solidFill>
              <a:srgbClr val="eaeaea"/>
            </a:solidFill>
            <a:miter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6095880"/>
            <a:ext cx="2742840" cy="6091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marL="216000" indent="-21600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图片说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7696080" y="617220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120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引入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981080" y="1905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引入一（图片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1981080" y="320040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引入二（文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981080" y="4495680"/>
            <a:ext cx="48765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引入三（文本和图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引入一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0" y="5791320"/>
            <a:ext cx="4571640" cy="8377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0" algn="ctr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图片说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2" name="Picture 4" descr="AN02542_"/>
          <p:cNvPicPr/>
          <p:nvPr/>
        </p:nvPicPr>
        <p:blipFill>
          <a:blip r:embed="rId1"/>
          <a:stretch/>
        </p:blipFill>
        <p:spPr>
          <a:xfrm>
            <a:off x="2209680" y="1308240"/>
            <a:ext cx="4495320" cy="4346280"/>
          </a:xfrm>
          <a:prstGeom prst="rect">
            <a:avLst/>
          </a:prstGeom>
          <a:ln w="0">
            <a:solidFill>
              <a:srgbClr val="eaeaea"/>
            </a:solidFill>
          </a:ln>
        </p:spPr>
      </p:pic>
      <p:sp>
        <p:nvSpPr>
          <p:cNvPr id="263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引入二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040" cy="419076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此处是引入的文本正文内容……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引入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76920" y="1676520"/>
            <a:ext cx="3657240" cy="41144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56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图片说明……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Picture 7" descr="AN02097_"/>
          <p:cNvPicPr/>
          <p:nvPr/>
        </p:nvPicPr>
        <p:blipFill>
          <a:blip r:embed="rId1"/>
          <a:stretch/>
        </p:blipFill>
        <p:spPr>
          <a:xfrm>
            <a:off x="838080" y="1676520"/>
            <a:ext cx="3582720" cy="4114440"/>
          </a:xfrm>
          <a:prstGeom prst="rect">
            <a:avLst/>
          </a:prstGeom>
          <a:ln w="0">
            <a:solidFill>
              <a:srgbClr val="eaeaea"/>
            </a:solidFill>
          </a:ln>
        </p:spPr>
      </p:pic>
      <p:sp>
        <p:nvSpPr>
          <p:cNvPr id="270" name="AutoShape 9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新课内容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1981080" y="1905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一级标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2"/>
          <p:cNvSpPr/>
          <p:nvPr/>
        </p:nvSpPr>
        <p:spPr>
          <a:xfrm>
            <a:off x="1981080" y="320040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一级标题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1981080" y="449568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一级标题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4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一级标题一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543440" cy="34286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二级标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文本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二级标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文本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200" spc="-1" strike="noStrike">
                <a:solidFill>
                  <a:srgbClr val="ffff00"/>
                </a:solidFill>
                <a:latin typeface="Times New Roman"/>
                <a:ea typeface="黑体"/>
              </a:rPr>
              <a:t>一级标题二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695720" cy="9903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表格说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1" name="Group 1077"/>
          <p:cNvGraphicFramePr/>
          <p:nvPr/>
        </p:nvGraphicFramePr>
        <p:xfrm>
          <a:off x="1066680" y="2209680"/>
          <a:ext cx="7162560" cy="365724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AutoShape 1081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中学生物-植物类-主页型</Template>
  <TotalTime>4</TotalTime>
  <Application>LibreOffice/7.4.7.2$Linux_X86_64 LibreOffice_project/40$Build-2</Application>
  <AppVersion>15.0000</AppVersion>
  <Words>344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教案课件</cp:category>
  <dcterms:created xsi:type="dcterms:W3CDTF">2012-01-01T15:35:54Z</dcterms:created>
  <dc:creator>wang</dc:creator>
  <dc:description/>
  <dc:language>en-US</dc:language>
  <cp:lastModifiedBy>王玉清</cp:lastModifiedBy>
  <cp:lastPrinted>1601-01-01T00:00:00Z</cp:lastPrinted>
  <dcterms:modified xsi:type="dcterms:W3CDTF">2016-02-24T02:58:23Z</dcterms:modified>
  <cp:revision>2</cp:revision>
  <dc:subject/>
  <dc:title>本课件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3</vt:r8>
  </property>
  <property fmtid="{D5CDD505-2E9C-101B-9397-08002B2CF9AE}" pid="4" name="_TemplateID">
    <vt:lpwstr>TC011586942052</vt:lpwstr>
  </property>
</Properties>
</file>