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A57B-BE80-4675-AE0F-67219F42809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FFED-39A9-461E-8B84-9F3FFBF498F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A792-947F-4405-AF01-D83CD840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14B-861B-4F24-9EC9-4F2BDC8F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8336-9268-4EE8-A957-6201EB6C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31F-8E20-4667-9AAB-B247A096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991-FC7C-4C71-8AD2-E7AB85D9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A1E-4163-4BC9-9166-788F0CCB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FBC-F06C-4401-8DBE-F6B873C5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9BF-A912-4C46-89C6-D4AB73D1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3BD0-C663-4C9C-B1E9-11CCEE15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201-C6D7-45A7-BC80-532BF619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6A6-EC31-467B-957A-CD5B9946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48DD-2ACC-4F9B-A4F2-4815CD30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E3A0-83DA-458D-A593-EDFAABEB8F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1523880"/>
            <a:ext cx="7543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蜘蛛与网通用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Topic Goes Her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topic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752480" y="2130480"/>
            <a:ext cx="5562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Transition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752480" y="3886200"/>
            <a:ext cx="5562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Topic Goes Her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topic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9:07:13Z</dcterms:created>
  <dc:creator>Animation Factory</dc:creator>
  <dc:description/>
  <cp:keywords/>
  <dc:language>en-US</dc:language>
  <cp:lastModifiedBy>王玉清</cp:lastModifiedBy>
  <cp:lastPrinted>1899-12-30T00:00:00Z</cp:lastPrinted>
  <dcterms:modified xsi:type="dcterms:W3CDTF">2016-03-02T07:20:49Z</dcterms:modified>
  <cp:revision>7</cp:revision>
  <dc:subject/>
  <dc:title>Itsy Bits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