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6840538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9940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3096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784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39940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3096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ABE-FCEA-4D3C-AA18-2E8CBE49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46E-69FA-44B5-BC9C-3E2F047E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C6A-38F0-4DCA-8644-1DDE3D4A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F16-0606-4152-A590-EA8C7F67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601-EFE0-4D4A-99FD-2A80D32F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000" y="186480"/>
            <a:ext cx="6155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18E-7781-44CA-BF88-EF9AEC70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0AD-3AA6-4449-BA19-05EA91E0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3B9-D924-4F2B-BC8F-30AEADC3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BB2-BDC6-41E0-A214-CC30881B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F15-7DB6-40F3-8B1B-6CDCC611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6FA-C87F-4473-910F-E61C870D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9940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3096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784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9940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3096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3F5-3972-49C8-9A80-36359E5A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000" y="186480"/>
            <a:ext cx="6155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65160" y="4108320"/>
            <a:ext cx="1482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</a:rPr>
              <a:t>不是你的天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Dec.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PMingLiU"/>
              </a:rPr>
              <a:t> 21th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080" y="187200"/>
            <a:ext cx="6154560" cy="779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43080" y="1091880"/>
            <a:ext cx="6154560" cy="308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6000"/>
          </a:bodyPr>
          <a:p>
            <a:pPr marL="259200" indent="-25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16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17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731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342720" y="4262400"/>
            <a:ext cx="159516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2336400" y="4262400"/>
            <a:ext cx="216684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4902120" y="4262400"/>
            <a:ext cx="159552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3C766871-5767-4A1C-9469-417E3B5D7B77}" type="slidenum"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未标题-1"/>
          <p:cNvPicPr/>
          <p:nvPr/>
        </p:nvPicPr>
        <p:blipFill>
          <a:blip r:embed="rId2"/>
          <a:stretch/>
        </p:blipFill>
        <p:spPr>
          <a:xfrm>
            <a:off x="0" y="797040"/>
            <a:ext cx="6840360" cy="12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5" descr="1303277390596ae1vno905d2"/>
          <p:cNvPicPr/>
          <p:nvPr/>
        </p:nvPicPr>
        <p:blipFill>
          <a:blip r:embed="rId1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6" descr="1303277390596ae1vno905d1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1"/>
          <p:cNvSpPr/>
          <p:nvPr/>
        </p:nvSpPr>
        <p:spPr>
          <a:xfrm>
            <a:off x="1052640" y="303516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の 思 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如果爱忘了(伴奏).mp3" descr=""/>
          <p:cNvPicPr/>
          <p:nvPr/>
        </p:nvPicPr>
        <p:blipFill>
          <a:blip r:embed="rId3"/>
          <a:stretch/>
        </p:blipFill>
        <p:spPr>
          <a:xfrm>
            <a:off x="179280" y="4140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1339920" y="108000"/>
            <a:ext cx="41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爱的思索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动画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169920" y="4361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1303277390596bhumydaz19副本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1303277390596bhumydaz19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006560" y="3418920"/>
            <a:ext cx="193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花 的 芳 香，爱 是 深 蓝 的 海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169920" y="4361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1303277390595pidxturogj副本"/>
          <p:cNvPicPr/>
          <p:nvPr/>
        </p:nvPicPr>
        <p:blipFill>
          <a:blip r:embed="rId1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1303277390595pidxturogj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955880" y="3202920"/>
            <a:ext cx="173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花 的 芳 香 沐 浴 着 你 的 情 感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1303277390596gx81nyptfe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276720" y="2194920"/>
            <a:ext cx="32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深 蓝 的 海 容 不 下 你 的 心 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24520" cy="471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13032773905967lkewnrojp副本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3032773905967lkewnrojp"/>
          <p:cNvPicPr/>
          <p:nvPr/>
        </p:nvPicPr>
        <p:blipFill>
          <a:blip r:embed="rId3"/>
          <a:stretch/>
        </p:blipFill>
        <p:spPr>
          <a:xfrm>
            <a:off x="0" y="0"/>
            <a:ext cx="6840360" cy="478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1011960" y="2626560"/>
            <a:ext cx="173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情 到 底 是 虚 幻 还 是 飘 渺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169920" y="4361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1303277390596mqdgjsu4fv"/>
          <p:cNvPicPr/>
          <p:nvPr/>
        </p:nvPicPr>
        <p:blipFill>
          <a:blip r:embed="rId2"/>
          <a:stretch/>
        </p:blipFill>
        <p:spPr>
          <a:xfrm>
            <a:off x="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4034520" y="2267640"/>
            <a:ext cx="1697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到 底 是 浪 漫 还 是 梦 幻！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1303277390596tmd4pb24cs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不是你的天使"/>
          <p:cNvPicPr/>
          <p:nvPr/>
        </p:nvPicPr>
        <p:blipFill>
          <a:blip r:embed="rId3"/>
          <a:stretch/>
        </p:blipFill>
        <p:spPr>
          <a:xfrm>
            <a:off x="611280" y="1547640"/>
            <a:ext cx="5670360" cy="1278000"/>
          </a:xfrm>
          <a:prstGeom prst="rect">
            <a:avLst/>
          </a:prstGeom>
          <a:ln w="0">
            <a:noFill/>
          </a:ln>
        </p:spPr>
      </p:pic>
    </p:spTree>
  </p:cSld>
  <p:transition advTm="40000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4" descr="13032773905964i1p17g9o"/>
          <p:cNvPicPr/>
          <p:nvPr/>
        </p:nvPicPr>
        <p:blipFill>
          <a:blip r:embed="rId1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6" descr="13032773905964i1p17g9oh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5"/>
          <p:cNvSpPr/>
          <p:nvPr/>
        </p:nvSpPr>
        <p:spPr>
          <a:xfrm>
            <a:off x="1153440" y="765000"/>
            <a:ext cx="136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Arial"/>
                <a:ea typeface="迷你简汉真广标"/>
              </a:rPr>
              <a:t>爱の思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，怎能够一语道破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有些时候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痛，也在快乐着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当青春的容颜渐渐地消褪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成熟的情感就会变得深刻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当忙碌的生活慢慢的安逸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稳重的爱恋就成了无言的歌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人啊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真的应该追忆一下往昔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在那漂白的岁月里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谁说没有新的收获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怎说没有新的思索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0" descr="1303277390596nt88uhxtb2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1" descr="1303277390596nt88uhxtbq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2"/>
          <p:cNvSpPr/>
          <p:nvPr/>
        </p:nvSpPr>
        <p:spPr>
          <a:xfrm>
            <a:off x="839880" y="1774800"/>
            <a:ext cx="1644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甜 美 的 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303277390596vpnthj5a9n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83240" y="3129120"/>
            <a:ext cx="1031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忧 伤 的 痛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303277390595jta9lvi6"/>
          <p:cNvPicPr/>
          <p:nvPr/>
        </p:nvPicPr>
        <p:blipFill>
          <a:blip r:embed="rId1"/>
          <a:stretch/>
        </p:blipFill>
        <p:spPr>
          <a:xfrm>
            <a:off x="-1764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303277390595jta9lvigx6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926640" y="3419640"/>
            <a:ext cx="1598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甜 美 的 梦 就 像 一 杯 牛 奶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169920" y="4361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13032773905965lufsu4zkc"/>
          <p:cNvPicPr/>
          <p:nvPr/>
        </p:nvPicPr>
        <p:blipFill>
          <a:blip r:embed="rId2"/>
          <a:stretch/>
        </p:blipFill>
        <p:spPr>
          <a:xfrm>
            <a:off x="0" y="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995640" y="3134520"/>
            <a:ext cx="264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忧 伤 的 痛 就 如 苦 涩 的 茶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303277390596kq8hy1meg3"/>
          <p:cNvPicPr/>
          <p:nvPr/>
        </p:nvPicPr>
        <p:blipFill>
          <a:blip r:embed="rId1"/>
          <a:stretch/>
        </p:blipFill>
        <p:spPr>
          <a:xfrm>
            <a:off x="-1764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1303277390596kq8hy1meg2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492360" y="3060000"/>
            <a:ext cx="33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自 由 的 风，爱 是 寂 寞 的 泪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1303277390596gx81nyptfe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1303277390596lt19pop6cy副本"/>
          <p:cNvPicPr/>
          <p:nvPr/>
        </p:nvPicPr>
        <p:blipFill>
          <a:blip r:embed="rId3"/>
          <a:stretch/>
        </p:blipFill>
        <p:spPr>
          <a:xfrm>
            <a:off x="0" y="0"/>
            <a:ext cx="6877080" cy="478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1303277390596lt19pop6cy"/>
          <p:cNvPicPr/>
          <p:nvPr/>
        </p:nvPicPr>
        <p:blipFill>
          <a:blip r:embed="rId4"/>
          <a:stretch/>
        </p:blipFill>
        <p:spPr>
          <a:xfrm>
            <a:off x="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941760" y="2483640"/>
            <a:ext cx="202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自 由 的 风 可 以 载 你 到 天 涯 海 角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303277390596eh12j6i5g2"/>
          <p:cNvPicPr/>
          <p:nvPr/>
        </p:nvPicPr>
        <p:blipFill>
          <a:blip r:embed="rId2"/>
          <a:stretch/>
        </p:blipFill>
        <p:spPr>
          <a:xfrm>
            <a:off x="-1764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3132000" y="3276000"/>
            <a:ext cx="367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寂 寞 的 泪 可 以 把 你 淹 没 在 黑 夜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20:13Z</dcterms:created>
  <dc:creator>jones keller</dc:creator>
  <dc:description/>
  <cp:keywords/>
  <dc:language>en-US</dc:language>
  <cp:lastModifiedBy>王玉清</cp:lastModifiedBy>
  <cp:lastPrinted>1899-12-30T00:00:00Z</cp:lastPrinted>
  <dcterms:modified xsi:type="dcterms:W3CDTF">2016-02-20T04:02:43Z</dcterms:modified>
  <cp:revision>126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