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C9F-AF63-45F4-82AD-F64C2030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B30-3564-4E5B-A25A-3813A7C9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C7E-1E15-44FC-A0B3-E511544C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E8C-CBBC-4FFA-8DB0-2B047D33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361-3933-41B7-ACD5-1671D4E0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65C-D4B7-4948-A42C-03E12A36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055-BA3F-4243-BC81-8B3AFF2F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125-172A-46BA-9980-466DDE83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62C-A6BC-4880-8CEF-B878A7B3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48D-D1A6-48F6-9998-B3486CFF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71B-F76C-4A5E-B501-470D819E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EED-26D9-454A-A185-8D83141B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8F50-7387-40C9-AD84-019567414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104920" y="530064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封面底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411280" y="20606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方正黑体简体"/>
              </a:rPr>
              <a:t>追忆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484360" y="2844720"/>
            <a:ext cx="4321080" cy="6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b0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mories... 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 Box 8" descr=""/>
          <p:cNvPicPr/>
          <p:nvPr/>
        </p:nvPicPr>
        <p:blipFill>
          <a:blip r:embed="rId3"/>
          <a:stretch/>
        </p:blipFill>
        <p:spPr>
          <a:xfrm>
            <a:off x="1328760" y="3498840"/>
            <a:ext cx="6986520" cy="132228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2037960" y="6494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情天空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内页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95280" y="252360"/>
            <a:ext cx="4321080" cy="6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mories... 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16000" y="2421000"/>
            <a:ext cx="698508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会让你了解爱情，时间能够证明爱情，也能够把爱推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5284"/>
                </a:solidFill>
                <a:latin typeface="微软雅黑"/>
                <a:ea typeface="微软雅黑"/>
              </a:rPr>
              <a:t>没有一种悲伤是不能被时间减轻的。如果时间不可以令你忘记那些不该记住的人，我们失去的岁月又有什么意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所有的悲哀、痛苦、失败都是假的，那该多好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5284"/>
                </a:solidFill>
                <a:latin typeface="微软雅黑"/>
                <a:ea typeface="微软雅黑"/>
              </a:rPr>
              <a:t>可惜，世上有很多假情假义，自己的痛苦、失败、悲哀，却偏偏总是真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38040" y="638172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6:55:43Z</dcterms:created>
  <dc:creator>微软中国</dc:creator>
  <dc:description/>
  <dc:language>en-US</dc:language>
  <cp:lastModifiedBy>王玉清</cp:lastModifiedBy>
  <dcterms:modified xsi:type="dcterms:W3CDTF">2016-02-20T03:52:18Z</dcterms:modified>
  <cp:revision>9</cp:revision>
  <dc:subject/>
  <dc:title>幻灯片 1</dc:title>
</cp:coreProperties>
</file>