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82D-C6AF-49DF-950C-ED95D0D5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51A-AB8D-43EF-8B4A-C8BA5282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48F-F286-4308-853C-975CFFD9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D77-AB21-4239-83D2-78FC0278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52B-12DB-4661-8644-0CD1151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C95-02E4-44C8-9CB3-7CF788C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AFA-BC84-4404-B226-BE6E4179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B23-6B7E-440D-823F-AC8F01D0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A88-1989-4E35-AD38-C418863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529-3B6A-4A99-B96D-B50C649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576-A0E9-4D15-B6DB-4BC5C4B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1F1-2180-4E73-A74D-38AD8532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1ED1-8742-4913-8684-CBDF0090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4022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之花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611280" y="5661000"/>
            <a:ext cx="691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，爱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下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/moban/aiq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7:21:26Z</dcterms:created>
  <dc:creator>chinaz</dc:creator>
  <dc:description/>
  <dc:language>en-US</dc:language>
  <cp:lastModifiedBy>王玉清</cp:lastModifiedBy>
  <dcterms:modified xsi:type="dcterms:W3CDTF">2016-02-20T04:08:26Z</dcterms:modified>
  <cp:revision>4</cp:revision>
  <dc:subject/>
  <dc:title>幻灯片 1</dc:title>
</cp:coreProperties>
</file>