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77B7-7918-4A44-8914-26ACCA17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F480-07C1-4F81-B7FB-9B72D538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FD3-0D03-4DA1-9653-6A34CDA0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EBB9-20D9-421C-BFF6-3ED5EE08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7E19-8F8E-4575-B485-FC39E608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6D62-BB94-4D4B-83E7-AFA6DBA3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157A-6F1D-4C64-A13A-2D27B545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40C-F9AF-4FB0-A121-424139DA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B46E-9BA3-4F8E-9185-1A12E158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AD2-ACE1-4A4E-97D0-6A990968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089-CF7A-4649-AF30-F670E587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3E53-3D8A-41D5-A5A6-E9FA15DF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6DB88C-6BCE-4040-9E92-3AE811438A1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1.png"/>
          <p:cNvPicPr/>
          <p:nvPr/>
        </p:nvPicPr>
        <p:blipFill>
          <a:blip r:embed="rId2"/>
          <a:stretch/>
        </p:blipFill>
        <p:spPr>
          <a:xfrm>
            <a:off x="2071800" y="2643120"/>
            <a:ext cx="5127120" cy="2066400"/>
          </a:xfrm>
          <a:prstGeom prst="rect">
            <a:avLst/>
          </a:prstGeom>
          <a:ln w="9525">
            <a:noFill/>
          </a:ln>
        </p:spPr>
      </p:pic>
      <p:sp>
        <p:nvSpPr>
          <p:cNvPr id="42" name="TextBox 3"/>
          <p:cNvSpPr/>
          <p:nvPr/>
        </p:nvSpPr>
        <p:spPr>
          <a:xfrm>
            <a:off x="2857680" y="4527720"/>
            <a:ext cx="528588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宋体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357720" y="5214960"/>
            <a:ext cx="41428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1832040" y="2289240"/>
            <a:ext cx="5606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颁奖晚会刀通用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  <Words>23</Words>
  <Paragraphs>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3-06T03:40:31Z</dcterms:modified>
  <cp:revision>7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