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F84-05E1-4D64-8520-50B71963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CE7E-1A20-489E-BB2A-321FDD2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201-BE14-4DC8-ADA3-0BE9ABA2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3FF-5870-48B5-BEEA-69F5A6BB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C53B-4B89-4A4F-BB58-B58D0405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72CC-CC24-4509-96C7-682353C2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5210-F764-461B-ACA0-97E57ABA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60A5-28F1-408F-B7AB-1F2C52D6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5E69-5096-4E4B-B81D-F2AA26A3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B3F7-9BDE-4FF3-9DA7-E6B9FD8D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B83C-3EA2-4BAE-B7AF-4080669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3C9-FCFC-4005-BDF7-678F114B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8659-1790-4CAB-AF59-6C16C52C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BCC8-0FA5-4277-9BDA-F403ED3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D7D9-A70C-465E-9FE6-CFFD1EC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BBD-1A59-45D7-B505-AFBD2887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45720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044160"/>
            <a:ext cx="2944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871C-C841-43F9-B199-7B105979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DD3-1F40-4A12-9B3F-71EBF6D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6FC-EC4B-4331-9339-3E9BAF8C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7C4-DDFB-4CA7-BAC9-C06F5E4E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364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C86-5E2A-4290-80EB-6FD58CA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544-045C-4388-9BB5-3D306BD7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49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04416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091-FDCE-4AEE-8A21-8FEDAB76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457200"/>
            <a:ext cx="44618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044160"/>
            <a:ext cx="914364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F11-012A-44E4-8FE4-6EADEF53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 hidden="1"/>
          <p:cNvSpPr/>
          <p:nvPr/>
        </p:nvSpPr>
        <p:spPr>
          <a:xfrm>
            <a:off x="0" y="0"/>
            <a:ext cx="9143640" cy="498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3505320"/>
            <a:ext cx="5714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5f5f5f"/>
                </a:solidFill>
                <a:latin typeface="Eurosti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F6697F-AFB9-4328-A0C6-18FD57D12BE1}" type="slidenum">
              <a:rPr b="0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i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3"/>
          <p:cNvSpPr/>
          <p:nvPr/>
        </p:nvSpPr>
        <p:spPr>
          <a:xfrm>
            <a:off x="0" y="0"/>
            <a:ext cx="9143640" cy="498240"/>
          </a:xfrm>
          <a:prstGeom prst="rect">
            <a:avLst/>
          </a:prstGeom>
          <a:solidFill>
            <a:schemeClr val="bg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Eurostile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Franklin Gothic Book"/>
              </a:rPr>
              <a:t>单击此处编辑母版文本样式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Franklin Gothic Book"/>
              </a:rPr>
              <a:t>第二级</a:t>
            </a:r>
            <a:endParaRPr b="0" i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Franklin Gothic Book"/>
              </a:rPr>
              <a:t>第三级</a:t>
            </a:r>
            <a:endParaRPr b="0" i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16002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Franklin Gothic Book"/>
              </a:rPr>
              <a:t>第四级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05740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Franklin Gothic Book"/>
              </a:rPr>
              <a:t>第五级</a:t>
            </a:r>
            <a:endParaRPr b="0" i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12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400"/>
            <a:ext cx="1904760" cy="22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000000"/>
                </a:solidFill>
                <a:latin typeface="Eurostile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307143-9EC7-4386-A7CC-867BBBDA9CA4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505320"/>
            <a:ext cx="5714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5f5f5f"/>
                </a:solidFill>
                <a:latin typeface="Eurostile"/>
                <a:ea typeface="宋体"/>
              </a:rPr>
              <a:t>Azur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44720" y="3962520"/>
            <a:ext cx="56750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5f5f5f"/>
                </a:solidFill>
                <a:latin typeface="Franklin Gothic Book"/>
                <a:ea typeface="宋体"/>
              </a:rPr>
              <a:t>Your Subtitle Goes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0440" y="260640"/>
            <a:ext cx="9435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半透明方块立体化创意蓝灰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Your subtopic goes here</a:t>
            </a: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3733920"/>
            <a:ext cx="5714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Eurostile"/>
                <a:ea typeface="宋体"/>
              </a:rPr>
              <a:t>Transitional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44720" y="4191120"/>
            <a:ext cx="567504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i="1" lang="en-US" sz="1400" spc="-1" strike="noStrike">
              <a:solidFill>
                <a:srgbClr val="5f5f5f"/>
              </a:solidFill>
              <a:latin typeface="Franklin Gothic Book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77000" y="551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36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i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azure_solution">
  <a:themeElements>
    <a:clrScheme name="Office 主题​​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zure_solution">
  <a:themeElements>
    <a:clrScheme name="Office 主题​​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zure_solution</Template>
  <TotalTime>11</TotalTime>
  <Application>LibreOffice/7.4.7.2$Linux_X86_64 LibreOffice_project/40$Build-2</Application>
  <AppVersion>15.0000</AppVersion>
  <Words>46</Words>
  <Paragraphs>8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3:34:23Z</dcterms:created>
  <dc:creator>微软中国</dc:creator>
  <dc:description/>
  <dc:language>en-US</dc:language>
  <cp:lastModifiedBy>a</cp:lastModifiedBy>
  <dcterms:modified xsi:type="dcterms:W3CDTF">2015-07-25T07:39:37Z</dcterms:modified>
  <cp:revision>5</cp:revision>
  <dc:subject/>
  <dc:title>Azure Solu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