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555-B69D-47C0-8360-E4AAD2D2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05D-BEE2-4EB4-BF09-6810B150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597-8553-431B-AEC1-7AEE751A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FA2-550F-4C9D-A7A6-E5ADA51B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E79-0A61-4B55-835D-F4E799B4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622-835B-40B0-9E84-9327D40F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4E9-58B0-405F-9653-766B7902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B2D-00CE-47F3-8B17-57C6A05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44E-A925-4395-ACA1-719F2959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87A-F266-43BB-B43C-6D8998E7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3EB-11AD-4507-A31E-D436723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D1C-9811-479E-9996-7E8B820C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116-67FA-4E58-AA7B-F07230C693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114000" y="28036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春意盎然通用</a:t>
            </a:r>
            <a:r>
              <a:rPr b="0" lang="en-US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77933c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443600" y="32590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695920" cy="1087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30120" y="65412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Matura MT Script Capitals"/>
                <a:ea typeface="华文行楷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3"/>
          <a:stretch/>
        </p:blipFill>
        <p:spPr>
          <a:xfrm>
            <a:off x="426960" y="1865160"/>
            <a:ext cx="403560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6"/>
          <p:cNvSpPr/>
          <p:nvPr/>
        </p:nvSpPr>
        <p:spPr>
          <a:xfrm flipV="1">
            <a:off x="4859280" y="1628640"/>
            <a:ext cx="0" cy="4176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827680" y="34862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Kozuka Gothic Pro L"/>
                <a:ea typeface="Kozuka Gothic Pro L"/>
              </a:rPr>
              <a:t>Add your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799720" y="2803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7:3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春天 春意盎然 PPT 模板</cp:keywords>
  <dc:language>en-US</dc:language>
  <cp:lastModifiedBy>王玉清</cp:lastModifiedBy>
  <cp:lastPrinted>1899-12-30T00:00:00Z</cp:lastPrinted>
  <dcterms:modified xsi:type="dcterms:W3CDTF">2016-02-22T02:47:32Z</dcterms:modified>
  <cp:revision>9</cp:revision>
  <dc:subject>春天</dc:subject>
  <dc:title>春天来春意盎然PPT模板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