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5FF6-A2CB-48C3-90FA-8AC4F95B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0E5-C575-4086-900C-EE16460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916-6F4B-471C-AEBD-C6DB8B84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73D-5F89-4B9F-BAE7-96297917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D758-D86F-4D50-82CB-76D9EF63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B37E-ED73-4138-9B0A-312852D3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0C91-FB8F-42FB-BE6C-99AFE5C9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79BB-A207-45CB-B690-EF8D37AA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298-7A05-4090-847D-61C71DA6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2C3E-001A-454F-8D0E-F682FEE6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D65E-9DAF-4B8B-96E0-4D849E1D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532-56FB-472B-87D6-0B50906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70B6-D57D-4798-B75A-878625D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6345-047F-4AC8-B0D2-4F65E48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5711-59D5-4684-AD0E-9A30D12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7DBD-C892-400E-955B-310EB047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5ECC-4E12-45BB-8019-66907524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F81-F308-4F40-A436-271D56C5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CB5-6465-48A6-9E09-ECFB0CA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D38-B859-446C-800F-F2153431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194-8D70-4E34-8F65-5274D2BE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02D-DA6A-4E4B-ABA2-E9580ADB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404-19D2-4612-9CF7-73AECDE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90E-C167-453A-9B95-BBEDEF78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8ADB74-70D9-42CC-8623-8360E07CD4E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4358E0-E399-4CDE-A90E-7EFECA97A3B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1b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等腰三角形 4"/>
          <p:cNvSpPr/>
          <p:nvPr/>
        </p:nvSpPr>
        <p:spPr>
          <a:xfrm rot="10800000">
            <a:off x="107640" y="5400"/>
            <a:ext cx="4896360" cy="1248120"/>
          </a:xfrm>
          <a:prstGeom prst="triangle">
            <a:avLst>
              <a:gd name="adj" fmla="val 89104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等腰三角形 3"/>
          <p:cNvSpPr/>
          <p:nvPr/>
        </p:nvSpPr>
        <p:spPr>
          <a:xfrm rot="10800000">
            <a:off x="7957080" y="939240"/>
            <a:ext cx="139320" cy="19188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等腰三角形 7"/>
          <p:cNvSpPr/>
          <p:nvPr/>
        </p:nvSpPr>
        <p:spPr>
          <a:xfrm rot="20607600">
            <a:off x="6728040" y="1926000"/>
            <a:ext cx="1864080" cy="748800"/>
          </a:xfrm>
          <a:prstGeom prst="triangle">
            <a:avLst>
              <a:gd name="adj" fmla="val 50000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3534840" y="3147840"/>
            <a:ext cx="2415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主讲：</a:t>
            </a:r>
            <a:r>
              <a:rPr b="0" lang="en-US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XX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1855440" y="1909440"/>
            <a:ext cx="528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创意酷炫通用</a:t>
            </a:r>
            <a:r>
              <a:rPr b="0" lang="en-US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a83c2a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等腰三角形 11"/>
          <p:cNvSpPr/>
          <p:nvPr/>
        </p:nvSpPr>
        <p:spPr>
          <a:xfrm rot="10800000">
            <a:off x="6588720" y="261360"/>
            <a:ext cx="706680" cy="4464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等腰三角形 12"/>
          <p:cNvSpPr/>
          <p:nvPr/>
        </p:nvSpPr>
        <p:spPr>
          <a:xfrm rot="10800000">
            <a:off x="7812720" y="245880"/>
            <a:ext cx="898560" cy="147600"/>
          </a:xfrm>
          <a:prstGeom prst="triangle">
            <a:avLst>
              <a:gd name="adj" fmla="val 25783"/>
            </a:avLst>
          </a:prstGeom>
          <a:solidFill>
            <a:srgbClr val="d49059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等腰三角形 13"/>
          <p:cNvSpPr/>
          <p:nvPr/>
        </p:nvSpPr>
        <p:spPr>
          <a:xfrm rot="10800000">
            <a:off x="5514480" y="123480"/>
            <a:ext cx="211680" cy="171360"/>
          </a:xfrm>
          <a:prstGeom prst="triangle">
            <a:avLst>
              <a:gd name="adj" fmla="val 25783"/>
            </a:avLst>
          </a:prstGeom>
          <a:solidFill>
            <a:srgbClr val="cc33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等腰三角形 14"/>
          <p:cNvSpPr/>
          <p:nvPr/>
        </p:nvSpPr>
        <p:spPr>
          <a:xfrm rot="10800000">
            <a:off x="2865600" y="831960"/>
            <a:ext cx="266040" cy="14040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等腰三角形 15"/>
          <p:cNvSpPr/>
          <p:nvPr/>
        </p:nvSpPr>
        <p:spPr>
          <a:xfrm rot="10800000">
            <a:off x="4104360" y="556200"/>
            <a:ext cx="258480" cy="738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等腰三角形 16"/>
          <p:cNvSpPr/>
          <p:nvPr/>
        </p:nvSpPr>
        <p:spPr>
          <a:xfrm flipV="1" rot="10800000">
            <a:off x="1259640" y="1231560"/>
            <a:ext cx="186480" cy="4536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04800" y="48034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617 C -0.02448 -0.01389 -0.05555 0.07747 -0.08125 0.19753 C -0.10851 0.32222 -0.11962 0.42685 -0.10764 0.43704 C -0.09462 0.44537 -0.10607 0.55123 -0.13298 0.675 C -0.15903 0.79537 -0.19028 0.88858 -0.20295 0.8787 E">
                                      <p:cBhvr>
                                        <p:cTn id="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0957 C -0.03854 -0.00864 -0.04115 0.08179 -0.04861 0.19074 C -0.05643 0.30247 -0.06615 0.39105 -0.07101 0.39012 C -0.0757 0.38919 -0.08559 0.47777 -0.09341 0.58981 C -0.10087 0.69876 -0.1033 0.78919 -0.09861 0.79012 E">
                                      <p:cBhvr>
                                        <p:cTn id="1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0031 C -0.00868 0.00031 -0.01025 0.11389 -0.00608 0.25216 C -0.00191 0.39476 0.00625 0.50803 0.01198 0.50741 C 0.01788 0.50679 0.02534 0.61976 0.02951 0.76266 C 0.03368 0.90062 0.03281 1.01513 0.02691 1.01574 E">
                                      <p:cBhvr>
                                        <p:cTn id="2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062 C -0.02309 -0.01049 -0.05989 0.09661 -0.07968 0.23827 C -0.10017 0.38395 -0.09652 0.50957 -0.071 0.52068 C -0.04496 0.53241 -0.04236 0.65679 -0.06284 0.80278 C -0.08264 0.94445 -0.11875 1.05247 -0.14392 1.04136 E">
                                      <p:cBhvr>
                                        <p:cTn id="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4.19753E-006 C -0.02934 4.19753E-006 -0.0349 0.11111 -0.0349 0.24629 C -0.0349 0.38549 -0.02934 0.49691 -0.02222 0.49691 C -0.01493 0.49691 -0.00955 0.60802 -0.00955 0.74722 C -0.00955 0.8824 -0.01493 0.99382 -0.02222 0.99382 E"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17284E-007 C -0.03507 -0.01698 -0.07344 0.04414 -0.08715 0.13518 C -0.10122 0.22747 -0.08542 0.31728 -0.05017 0.33333 C -0.01476 0.34938 0.00104 0.43827 -0.0132 0.53148 C -0.02691 0.62253 -0.06511 0.68364 -0.10052 0.66667 E"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4.5679E-006 C -0.01771 -4.5679E-006 -0.0349 0.10525 -0.0349 0.23365 C -0.0349 0.36575 -0.01771 0.4713 0.00434 0.4713 C 0.02656 0.4713 0.04357 0.57655 0.04357 0.70865 C 0.04357 0.83704 0.02656 0.9426 0.00434 0.9426 E">
                                      <p:cBhvr>
                                        <p:cTn id="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6914E-007 C -0.01389 -0.00185 -0.03142 0.10895 -0.03958 0.24661 C -0.04774 0.38704 -0.04357 0.50185 -0.02986 0.50586 C -0.01597 0.50833 -0.01163 0.62284 -0.02014 0.76296 C -0.0283 0.90123 -0.04548 1.01265 -0.05972 1.01019 E">
                                      <p:cBhvr>
                                        <p:cTn id="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五边形 23"/>
          <p:cNvSpPr/>
          <p:nvPr/>
        </p:nvSpPr>
        <p:spPr>
          <a:xfrm rot="10800000">
            <a:off x="3348360" y="1854000"/>
            <a:ext cx="5795640" cy="3288960"/>
          </a:xfrm>
          <a:prstGeom prst="homePlat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五边形 22"/>
          <p:cNvSpPr/>
          <p:nvPr/>
        </p:nvSpPr>
        <p:spPr>
          <a:xfrm>
            <a:off x="0" y="1897200"/>
            <a:ext cx="5867640" cy="3245760"/>
          </a:xfrm>
          <a:prstGeom prst="homePlate">
            <a:avLst>
              <a:gd name="adj" fmla="val 49575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直角三角形 24"/>
          <p:cNvSpPr/>
          <p:nvPr/>
        </p:nvSpPr>
        <p:spPr>
          <a:xfrm rot="2707200">
            <a:off x="3721320" y="2608920"/>
            <a:ext cx="1838520" cy="1817640"/>
          </a:xfrm>
          <a:prstGeom prst="rtTriangle">
            <a:avLst/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975600" y="29318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a83c2a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0"/>
          <p:cNvSpPr/>
          <p:nvPr/>
        </p:nvSpPr>
        <p:spPr>
          <a:xfrm>
            <a:off x="6155280" y="27601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c1b2e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27"/>
          <p:cNvGrpSpPr/>
          <p:nvPr/>
        </p:nvGrpSpPr>
        <p:grpSpPr>
          <a:xfrm>
            <a:off x="10800" y="1196280"/>
            <a:ext cx="3823200" cy="4435200"/>
            <a:chOff x="10800" y="1196280"/>
            <a:chExt cx="3823200" cy="4435200"/>
          </a:xfrm>
        </p:grpSpPr>
        <p:grpSp>
          <p:nvGrpSpPr>
            <p:cNvPr id="187" name="组合 26"/>
            <p:cNvGrpSpPr/>
            <p:nvPr/>
          </p:nvGrpSpPr>
          <p:grpSpPr>
            <a:xfrm>
              <a:off x="10800" y="1196280"/>
              <a:ext cx="3823200" cy="4435200"/>
              <a:chOff x="10800" y="1196280"/>
              <a:chExt cx="3823200" cy="4435200"/>
            </a:xfrm>
          </p:grpSpPr>
          <p:sp>
            <p:nvSpPr>
              <p:cNvPr id="188" name="下箭头 19"/>
              <p:cNvSpPr/>
              <p:nvPr/>
            </p:nvSpPr>
            <p:spPr>
              <a:xfrm rot="13072200">
                <a:off x="1131480" y="1275840"/>
                <a:ext cx="1640160" cy="4023720"/>
              </a:xfrm>
              <a:prstGeom prst="downArrow">
                <a:avLst>
                  <a:gd name="adj1" fmla="val 50000"/>
                  <a:gd name="adj2" fmla="val 80493"/>
                </a:avLst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" name="直角三角形 20"/>
              <p:cNvSpPr/>
              <p:nvPr/>
            </p:nvSpPr>
            <p:spPr>
              <a:xfrm rot="7655400">
                <a:off x="216000" y="4704840"/>
                <a:ext cx="643320" cy="83448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0" name="下箭头 21"/>
            <p:cNvSpPr/>
            <p:nvPr/>
          </p:nvSpPr>
          <p:spPr>
            <a:xfrm rot="12918600">
              <a:off x="1529640" y="3379320"/>
              <a:ext cx="849960" cy="1677960"/>
            </a:xfrm>
            <a:prstGeom prst="downArrow">
              <a:avLst>
                <a:gd name="adj1" fmla="val 45768"/>
                <a:gd name="adj2" fmla="val 106234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91" name="组合 25"/>
            <p:cNvGrpSpPr/>
            <p:nvPr/>
          </p:nvGrpSpPr>
          <p:grpSpPr>
            <a:xfrm>
              <a:off x="1312920" y="3432240"/>
              <a:ext cx="1716840" cy="1952280"/>
              <a:chOff x="1312920" y="3432240"/>
              <a:chExt cx="1716840" cy="1952280"/>
            </a:xfrm>
          </p:grpSpPr>
          <p:sp>
            <p:nvSpPr>
              <p:cNvPr id="192" name="下箭头 23"/>
              <p:cNvSpPr/>
              <p:nvPr/>
            </p:nvSpPr>
            <p:spPr>
              <a:xfrm rot="13062000">
                <a:off x="1755360" y="3516840"/>
                <a:ext cx="849960" cy="1677960"/>
              </a:xfrm>
              <a:prstGeom prst="downArrow">
                <a:avLst>
                  <a:gd name="adj1" fmla="val 45768"/>
                  <a:gd name="adj2" fmla="val 106234"/>
                </a:avLst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" name="直角三角形 24"/>
              <p:cNvSpPr/>
              <p:nvPr/>
            </p:nvSpPr>
            <p:spPr>
              <a:xfrm rot="7706400">
                <a:off x="1398600" y="4950720"/>
                <a:ext cx="326160" cy="377280"/>
              </a:xfrm>
              <a:prstGeom prst="rtTriangl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4" name="文本框 12"/>
          <p:cNvSpPr/>
          <p:nvPr/>
        </p:nvSpPr>
        <p:spPr>
          <a:xfrm>
            <a:off x="3903120" y="1707480"/>
            <a:ext cx="3744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剪去对角的矩形 12"/>
          <p:cNvSpPr/>
          <p:nvPr/>
        </p:nvSpPr>
        <p:spPr>
          <a:xfrm>
            <a:off x="3188160" y="1723320"/>
            <a:ext cx="1307160" cy="94752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剪去对角的矩形 14"/>
          <p:cNvSpPr/>
          <p:nvPr/>
        </p:nvSpPr>
        <p:spPr>
          <a:xfrm rot="5400000">
            <a:off x="4527360" y="1272960"/>
            <a:ext cx="1427400" cy="136764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剪去对角的矩形 17"/>
          <p:cNvSpPr/>
          <p:nvPr/>
        </p:nvSpPr>
        <p:spPr>
          <a:xfrm rot="5400000">
            <a:off x="3187080" y="2459520"/>
            <a:ext cx="1098360" cy="157320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剪去对角的矩形 20"/>
          <p:cNvSpPr/>
          <p:nvPr/>
        </p:nvSpPr>
        <p:spPr>
          <a:xfrm>
            <a:off x="4561560" y="2695320"/>
            <a:ext cx="1378440" cy="1316160"/>
          </a:xfrm>
          <a:prstGeom prst="snip2DiagRect">
            <a:avLst>
              <a:gd name="adj1" fmla="val 0"/>
              <a:gd name="adj2" fmla="val 16667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文本框 10"/>
          <p:cNvSpPr/>
          <p:nvPr/>
        </p:nvSpPr>
        <p:spPr>
          <a:xfrm>
            <a:off x="633600" y="13359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11"/>
          <p:cNvSpPr/>
          <p:nvPr/>
        </p:nvSpPr>
        <p:spPr>
          <a:xfrm>
            <a:off x="6228360" y="12650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6"/>
          <p:cNvSpPr/>
          <p:nvPr/>
        </p:nvSpPr>
        <p:spPr>
          <a:xfrm>
            <a:off x="1005120" y="32731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18"/>
          <p:cNvSpPr/>
          <p:nvPr/>
        </p:nvSpPr>
        <p:spPr>
          <a:xfrm>
            <a:off x="6213240" y="29667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7"/>
          <p:cNvSpPr/>
          <p:nvPr/>
        </p:nvSpPr>
        <p:spPr>
          <a:xfrm rot="19953000">
            <a:off x="863280" y="2260080"/>
            <a:ext cx="26319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•"/>
              <a:tabLst>
                <a:tab algn="l" pos="39996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0"/>
          <p:cNvSpPr/>
          <p:nvPr/>
        </p:nvSpPr>
        <p:spPr>
          <a:xfrm rot="20024400">
            <a:off x="3666240" y="2137680"/>
            <a:ext cx="2522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39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②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2"/>
          <p:cNvSpPr/>
          <p:nvPr/>
        </p:nvSpPr>
        <p:spPr>
          <a:xfrm rot="19942800">
            <a:off x="6895080" y="2059560"/>
            <a:ext cx="1230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399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③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文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8"/>
          <p:cNvGrpSpPr/>
          <p:nvPr/>
        </p:nvGrpSpPr>
        <p:grpSpPr>
          <a:xfrm>
            <a:off x="882720" y="1425960"/>
            <a:ext cx="1724400" cy="1929600"/>
            <a:chOff x="882720" y="1425960"/>
            <a:chExt cx="1724400" cy="1929600"/>
          </a:xfrm>
        </p:grpSpPr>
        <p:grpSp>
          <p:nvGrpSpPr>
            <p:cNvPr id="207" name="组合 26"/>
            <p:cNvGrpSpPr/>
            <p:nvPr/>
          </p:nvGrpSpPr>
          <p:grpSpPr>
            <a:xfrm>
              <a:off x="882720" y="1425960"/>
              <a:ext cx="1724400" cy="1929600"/>
              <a:chOff x="882720" y="1425960"/>
              <a:chExt cx="1724400" cy="1929600"/>
            </a:xfrm>
          </p:grpSpPr>
          <p:grpSp>
            <p:nvGrpSpPr>
              <p:cNvPr id="208" name="组合 24"/>
              <p:cNvGrpSpPr/>
              <p:nvPr/>
            </p:nvGrpSpPr>
            <p:grpSpPr>
              <a:xfrm>
                <a:off x="882720" y="1425960"/>
                <a:ext cx="1724400" cy="1929600"/>
                <a:chOff x="882720" y="1425960"/>
                <a:chExt cx="1724400" cy="1929600"/>
              </a:xfrm>
            </p:grpSpPr>
            <p:sp>
              <p:nvSpPr>
                <p:cNvPr id="209" name="椭圆 15"/>
                <p:cNvSpPr/>
                <p:nvPr/>
              </p:nvSpPr>
              <p:spPr>
                <a:xfrm rot="1483800">
                  <a:off x="1937520" y="1519920"/>
                  <a:ext cx="575640" cy="575640"/>
                </a:xfrm>
                <a:prstGeom prst="ellipse">
                  <a:avLst/>
                </a:prstGeom>
                <a:solidFill>
                  <a:srgbClr val="0c1b2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10" name="直接连接符 17"/>
                <p:cNvCxnSpPr/>
                <p:nvPr/>
              </p:nvCxnSpPr>
              <p:spPr>
                <a:xfrm flipH="1">
                  <a:off x="1112760" y="2162520"/>
                  <a:ext cx="1194120" cy="61956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cxnSp>
              <p:nvCxnSpPr>
                <p:cNvPr id="211" name="直接连接符 19"/>
                <p:cNvCxnSpPr/>
                <p:nvPr/>
              </p:nvCxnSpPr>
              <p:spPr>
                <a:xfrm flipH="1">
                  <a:off x="1807560" y="1701360"/>
                  <a:ext cx="280440" cy="13176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sp>
              <p:nvSpPr>
                <p:cNvPr id="212" name="弧形 21"/>
                <p:cNvSpPr/>
                <p:nvPr/>
              </p:nvSpPr>
              <p:spPr>
                <a:xfrm rot="3744000">
                  <a:off x="986400" y="2726640"/>
                  <a:ext cx="515880" cy="547200"/>
                </a:xfrm>
                <a:prstGeom prst="arc">
                  <a:avLst>
                    <a:gd name="adj1" fmla="val 1320450"/>
                    <a:gd name="adj2" fmla="val 10965560"/>
                  </a:avLst>
                </a:prstGeom>
                <a:noFill/>
                <a:ln w="19050">
                  <a:solidFill>
                    <a:srgbClr val="a83c2a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213" name="直接连接符 22"/>
                <p:cNvCxnSpPr/>
                <p:nvPr/>
              </p:nvCxnSpPr>
              <p:spPr>
                <a:xfrm flipH="1">
                  <a:off x="1262880" y="2669760"/>
                  <a:ext cx="1200240" cy="58428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</p:grpSp>
          <p:sp>
            <p:nvSpPr>
              <p:cNvPr id="214" name="弧形 13"/>
              <p:cNvSpPr/>
              <p:nvPr/>
            </p:nvSpPr>
            <p:spPr>
              <a:xfrm rot="13913400">
                <a:off x="1901880" y="167796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a83c2a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等腰三角形 36"/>
            <p:cNvSpPr/>
            <p:nvPr/>
          </p:nvSpPr>
          <p:spPr>
            <a:xfrm>
              <a:off x="2084400" y="171900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6" name="组合 50"/>
          <p:cNvGrpSpPr/>
          <p:nvPr/>
        </p:nvGrpSpPr>
        <p:grpSpPr>
          <a:xfrm>
            <a:off x="3694680" y="1278000"/>
            <a:ext cx="1724400" cy="1929600"/>
            <a:chOff x="3694680" y="1278000"/>
            <a:chExt cx="1724400" cy="1929600"/>
          </a:xfrm>
        </p:grpSpPr>
        <p:grpSp>
          <p:nvGrpSpPr>
            <p:cNvPr id="217" name="组合 29"/>
            <p:cNvGrpSpPr/>
            <p:nvPr/>
          </p:nvGrpSpPr>
          <p:grpSpPr>
            <a:xfrm>
              <a:off x="3694680" y="1278000"/>
              <a:ext cx="1724400" cy="1929600"/>
              <a:chOff x="3694680" y="1278000"/>
              <a:chExt cx="1724400" cy="1929600"/>
            </a:xfrm>
          </p:grpSpPr>
          <p:sp>
            <p:nvSpPr>
              <p:cNvPr id="218" name="椭圆 31"/>
              <p:cNvSpPr/>
              <p:nvPr/>
            </p:nvSpPr>
            <p:spPr>
              <a:xfrm rot="1483800">
                <a:off x="4749480" y="1371960"/>
                <a:ext cx="575640" cy="575640"/>
              </a:xfrm>
              <a:prstGeom prst="ellips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219" name="直接连接符 32"/>
              <p:cNvCxnSpPr/>
              <p:nvPr/>
            </p:nvCxnSpPr>
            <p:spPr>
              <a:xfrm flipH="1">
                <a:off x="3924720" y="2014200"/>
                <a:ext cx="1194120" cy="61956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  <p:cxnSp>
            <p:nvCxnSpPr>
              <p:cNvPr id="220" name="直接连接符 33"/>
              <p:cNvCxnSpPr/>
              <p:nvPr/>
            </p:nvCxnSpPr>
            <p:spPr>
              <a:xfrm flipH="1">
                <a:off x="4619160" y="1553040"/>
                <a:ext cx="280440" cy="13176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  <p:sp>
            <p:nvSpPr>
              <p:cNvPr id="221" name="弧形 34"/>
              <p:cNvSpPr/>
              <p:nvPr/>
            </p:nvSpPr>
            <p:spPr>
              <a:xfrm rot="3744000">
                <a:off x="3798360" y="257868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0c1b2e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222" name="直接连接符 35"/>
              <p:cNvCxnSpPr/>
              <p:nvPr/>
            </p:nvCxnSpPr>
            <p:spPr>
              <a:xfrm flipH="1">
                <a:off x="4074480" y="2521440"/>
                <a:ext cx="1200600" cy="584640"/>
              </a:xfrm>
              <a:prstGeom prst="straightConnector1">
                <a:avLst/>
              </a:prstGeom>
              <a:ln w="19050">
                <a:solidFill>
                  <a:srgbClr val="0c1b2e"/>
                </a:solidFill>
                <a:round/>
              </a:ln>
            </p:spPr>
          </p:cxnSp>
        </p:grpSp>
        <p:sp>
          <p:nvSpPr>
            <p:cNvPr id="223" name="弧形 30"/>
            <p:cNvSpPr/>
            <p:nvPr/>
          </p:nvSpPr>
          <p:spPr>
            <a:xfrm rot="13913400">
              <a:off x="4713480" y="1529640"/>
              <a:ext cx="515880" cy="547200"/>
            </a:xfrm>
            <a:prstGeom prst="arc">
              <a:avLst>
                <a:gd name="adj1" fmla="val 1320450"/>
                <a:gd name="adj2" fmla="val 10965560"/>
              </a:avLst>
            </a:prstGeom>
            <a:noFill/>
            <a:ln w="19050">
              <a:solidFill>
                <a:srgbClr val="0c1b2e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等腰三角形 37"/>
            <p:cNvSpPr/>
            <p:nvPr/>
          </p:nvSpPr>
          <p:spPr>
            <a:xfrm>
              <a:off x="4903920" y="158688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5" name="组合 39"/>
          <p:cNvGrpSpPr/>
          <p:nvPr/>
        </p:nvGrpSpPr>
        <p:grpSpPr>
          <a:xfrm>
            <a:off x="6360840" y="1152000"/>
            <a:ext cx="1724400" cy="1929600"/>
            <a:chOff x="6360840" y="1152000"/>
            <a:chExt cx="1724400" cy="1929600"/>
          </a:xfrm>
        </p:grpSpPr>
        <p:grpSp>
          <p:nvGrpSpPr>
            <p:cNvPr id="226" name="组合 40"/>
            <p:cNvGrpSpPr/>
            <p:nvPr/>
          </p:nvGrpSpPr>
          <p:grpSpPr>
            <a:xfrm>
              <a:off x="6360840" y="1152000"/>
              <a:ext cx="1724400" cy="1929600"/>
              <a:chOff x="6360840" y="1152000"/>
              <a:chExt cx="1724400" cy="1929600"/>
            </a:xfrm>
          </p:grpSpPr>
          <p:grpSp>
            <p:nvGrpSpPr>
              <p:cNvPr id="227" name="组合 42"/>
              <p:cNvGrpSpPr/>
              <p:nvPr/>
            </p:nvGrpSpPr>
            <p:grpSpPr>
              <a:xfrm>
                <a:off x="6360840" y="1152000"/>
                <a:ext cx="1724400" cy="1929600"/>
                <a:chOff x="6360840" y="1152000"/>
                <a:chExt cx="1724400" cy="1929600"/>
              </a:xfrm>
            </p:grpSpPr>
            <p:sp>
              <p:nvSpPr>
                <p:cNvPr id="228" name="椭圆 44"/>
                <p:cNvSpPr/>
                <p:nvPr/>
              </p:nvSpPr>
              <p:spPr>
                <a:xfrm rot="1483800">
                  <a:off x="7415640" y="1245960"/>
                  <a:ext cx="575640" cy="575640"/>
                </a:xfrm>
                <a:prstGeom prst="ellipse">
                  <a:avLst/>
                </a:prstGeom>
                <a:solidFill>
                  <a:srgbClr val="0c1b2e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cxnSp>
              <p:nvCxnSpPr>
                <p:cNvPr id="229" name="直接连接符 45"/>
                <p:cNvCxnSpPr/>
                <p:nvPr/>
              </p:nvCxnSpPr>
              <p:spPr>
                <a:xfrm flipH="1">
                  <a:off x="6591240" y="1888200"/>
                  <a:ext cx="1193760" cy="61992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cxnSp>
              <p:nvCxnSpPr>
                <p:cNvPr id="230" name="直接连接符 46"/>
                <p:cNvCxnSpPr/>
                <p:nvPr/>
              </p:nvCxnSpPr>
              <p:spPr>
                <a:xfrm flipH="1">
                  <a:off x="7285680" y="1427040"/>
                  <a:ext cx="280440" cy="13212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  <p:sp>
              <p:nvSpPr>
                <p:cNvPr id="231" name="弧形 47"/>
                <p:cNvSpPr/>
                <p:nvPr/>
              </p:nvSpPr>
              <p:spPr>
                <a:xfrm rot="3744000">
                  <a:off x="6464520" y="2452680"/>
                  <a:ext cx="515880" cy="547200"/>
                </a:xfrm>
                <a:prstGeom prst="arc">
                  <a:avLst>
                    <a:gd name="adj1" fmla="val 1320450"/>
                    <a:gd name="adj2" fmla="val 10965560"/>
                  </a:avLst>
                </a:prstGeom>
                <a:noFill/>
                <a:ln w="19050">
                  <a:solidFill>
                    <a:srgbClr val="a83c2a"/>
                  </a:solidFill>
                  <a:round/>
                </a:ln>
              </p:spPr>
              <p:style>
                <a:lnRef idx="1">
                  <a:schemeClr val="accent1"/>
                </a:lnRef>
                <a:fillRef idx="0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cxnSp>
              <p:nvCxnSpPr>
                <p:cNvPr id="232" name="直接连接符 48"/>
                <p:cNvCxnSpPr/>
                <p:nvPr/>
              </p:nvCxnSpPr>
              <p:spPr>
                <a:xfrm flipH="1">
                  <a:off x="6741000" y="2395800"/>
                  <a:ext cx="1200240" cy="584280"/>
                </a:xfrm>
                <a:prstGeom prst="straightConnector1">
                  <a:avLst/>
                </a:prstGeom>
                <a:ln w="19050">
                  <a:solidFill>
                    <a:srgbClr val="a83c2a"/>
                  </a:solidFill>
                  <a:round/>
                </a:ln>
              </p:spPr>
            </p:cxnSp>
          </p:grpSp>
          <p:sp>
            <p:nvSpPr>
              <p:cNvPr id="233" name="弧形 43"/>
              <p:cNvSpPr/>
              <p:nvPr/>
            </p:nvSpPr>
            <p:spPr>
              <a:xfrm rot="13913400">
                <a:off x="7380000" y="1403640"/>
                <a:ext cx="515880" cy="547200"/>
              </a:xfrm>
              <a:prstGeom prst="arc">
                <a:avLst>
                  <a:gd name="adj1" fmla="val 1320450"/>
                  <a:gd name="adj2" fmla="val 10965560"/>
                </a:avLst>
              </a:prstGeom>
              <a:noFill/>
              <a:ln w="19050">
                <a:solidFill>
                  <a:srgbClr val="a83c2a"/>
                </a:solidFill>
                <a:round/>
              </a:ln>
            </p:spPr>
            <p:style>
              <a:lnRef idx="1">
                <a:schemeClr val="accent1"/>
              </a:lnRef>
              <a:fillRef idx="0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等腰三角形 41"/>
            <p:cNvSpPr/>
            <p:nvPr/>
          </p:nvSpPr>
          <p:spPr>
            <a:xfrm>
              <a:off x="7562880" y="1445040"/>
              <a:ext cx="266400" cy="191520"/>
            </a:xfrm>
            <a:prstGeom prst="triangle">
              <a:avLst>
                <a:gd name="adj" fmla="val 5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35" name="Text Box 9"/>
          <p:cNvSpPr/>
          <p:nvPr/>
        </p:nvSpPr>
        <p:spPr>
          <a:xfrm>
            <a:off x="289080" y="4856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1b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3"/>
          <p:cNvSpPr/>
          <p:nvPr/>
        </p:nvSpPr>
        <p:spPr>
          <a:xfrm>
            <a:off x="2915640" y="2139840"/>
            <a:ext cx="38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a83c2a"/>
                </a:solidFill>
                <a:latin typeface="Calibri"/>
              </a:rPr>
              <a:t>感谢您的倾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等腰三角形 4"/>
          <p:cNvSpPr/>
          <p:nvPr/>
        </p:nvSpPr>
        <p:spPr>
          <a:xfrm rot="10800000">
            <a:off x="2340360" y="2187000"/>
            <a:ext cx="139320" cy="19188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等腰三角形 5"/>
          <p:cNvSpPr/>
          <p:nvPr/>
        </p:nvSpPr>
        <p:spPr>
          <a:xfrm rot="20607600">
            <a:off x="6117840" y="2436480"/>
            <a:ext cx="1864080" cy="748800"/>
          </a:xfrm>
          <a:prstGeom prst="triangle">
            <a:avLst>
              <a:gd name="adj" fmla="val 50000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等腰三角形 6"/>
          <p:cNvSpPr/>
          <p:nvPr/>
        </p:nvSpPr>
        <p:spPr>
          <a:xfrm rot="10800000">
            <a:off x="6108480" y="1346400"/>
            <a:ext cx="706680" cy="4464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等腰三角形 7"/>
          <p:cNvSpPr/>
          <p:nvPr/>
        </p:nvSpPr>
        <p:spPr>
          <a:xfrm rot="10800000">
            <a:off x="2297880" y="3580200"/>
            <a:ext cx="898560" cy="147600"/>
          </a:xfrm>
          <a:prstGeom prst="triangle">
            <a:avLst>
              <a:gd name="adj" fmla="val 25783"/>
            </a:avLst>
          </a:prstGeom>
          <a:solidFill>
            <a:srgbClr val="d49059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1" name="等腰三角形 8"/>
          <p:cNvSpPr/>
          <p:nvPr/>
        </p:nvSpPr>
        <p:spPr>
          <a:xfrm rot="10800000">
            <a:off x="7524360" y="4516560"/>
            <a:ext cx="211680" cy="171360"/>
          </a:xfrm>
          <a:prstGeom prst="triangle">
            <a:avLst>
              <a:gd name="adj" fmla="val 25783"/>
            </a:avLst>
          </a:prstGeom>
          <a:solidFill>
            <a:srgbClr val="cc3300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等腰三角形 9"/>
          <p:cNvSpPr/>
          <p:nvPr/>
        </p:nvSpPr>
        <p:spPr>
          <a:xfrm rot="10800000">
            <a:off x="2865600" y="831960"/>
            <a:ext cx="266040" cy="140400"/>
          </a:xfrm>
          <a:prstGeom prst="triangle">
            <a:avLst>
              <a:gd name="adj" fmla="val 25783"/>
            </a:avLst>
          </a:prstGeom>
          <a:solidFill>
            <a:schemeClr val="bg2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5560" bIns="25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3" name="等腰三角形 10"/>
          <p:cNvSpPr/>
          <p:nvPr/>
        </p:nvSpPr>
        <p:spPr>
          <a:xfrm rot="10800000">
            <a:off x="4592880" y="3280320"/>
            <a:ext cx="258480" cy="7380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4" name="等腰三角形 11"/>
          <p:cNvSpPr/>
          <p:nvPr/>
        </p:nvSpPr>
        <p:spPr>
          <a:xfrm flipV="1" rot="10800000">
            <a:off x="1259640" y="1231560"/>
            <a:ext cx="186480" cy="45360"/>
          </a:xfrm>
          <a:prstGeom prst="triangle">
            <a:avLst>
              <a:gd name="adj" fmla="val 25783"/>
            </a:avLst>
          </a:prstGeom>
          <a:solidFill>
            <a:srgbClr val="a83c2a">
              <a:alpha val="6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-0.00617 C -0.02448 -0.01389 -0.05555 0.07747 -0.08125 0.19753 C -0.10851 0.32222 -0.11962 0.42685 -0.10764 0.43704 C -0.09462 0.44537 -0.10607 0.55123 -0.13298 0.675 C -0.15903 0.79537 -0.19028 0.88858 -0.20295 0.8787 E">
                                      <p:cBhvr>
                                        <p:cTn id="22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0957 C -0.03854 -0.00864 -0.04115 0.08179 -0.04861 0.19074 C -0.05643 0.30247 -0.06615 0.39105 -0.07101 0.39012 C -0.0757 0.38919 -0.08559 0.47777 -0.09341 0.58981 C -0.10087 0.69876 -0.1033 0.78919 -0.09861 0.79012 E">
                                      <p:cBhvr>
                                        <p:cTn id="22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-0.00061 C -0.00885 -3.08641999999997E-006 -0.01042 0.11358 -0.00625 0.25185 C -0.00208 0.39445 0.00608 0.50772 0.01181 0.5071 C 0.01771 0.50648 0.02517 0.61945 0.02934 0.76204 C 0.03351 0.90031 0.03264 1.01482 0.02674 1.01544 E">
                                      <p:cBhvr>
                                        <p:cTn id="22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062 C -0.0231 -0.01049 -0.0599 0.09661 -0.07968 0.23827 C -0.10018 0.38395 -0.09652 0.50957 -0.071 0.52068 C -0.04497 0.53241 -0.04237 0.65679 -0.06285 0.80278 C -0.08263 0.94445 -0.11875 1.05247 -0.14393 1.04136 E">
                                      <p:cBhvr>
                                        <p:cTn id="2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1.7284E-006 C -0.02934 1.7284E-006 -0.0349 0.11111 -0.0349 0.24629 C -0.0349 0.38549 -0.02934 0.49691 -0.02222 0.49691 C -0.01493 0.49691 -0.00955 0.60802 -0.00955 0.74722 C -0.00955 0.88241 -0.01493 0.99383 -0.02222 0.99383 E">
                                      <p:cBhvr>
                                        <p:cTn id="23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0.00061 C -0.03507 -0.01759 -0.07327 0.04352 -0.08698 0.13457 C -0.10122 0.22686 -0.08542 0.31667 -0.05 0.33272 C -0.01476 0.34846 0.00104 0.43766 -0.0132 0.53087 C -0.02691 0.62161 -0.06511 0.68272 -0.10052 0.66605 E">
                                      <p:cBhvr>
                                        <p:cTn id="23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2.83951E-006 C -0.01771 2.83951E-006 -0.03489 0.10524 -0.03489 0.23364 C -0.03489 0.36574 -0.01771 0.47129 0.00434 0.47129 C 0.02656 0.47129 0.04358 0.57654 0.04358 0.70864 C 0.04358 0.83703 0.02656 0.94259 0.00434 0.94259 E">
                                      <p:cBhvr>
                                        <p:cTn id="23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31 C -0.01372 -0.00186 -0.03125 0.10864 -0.03941 0.24598 C -0.04757 0.38672 -0.04341 0.50123 -0.02969 0.50555 C -0.0158 0.50802 -0.01146 0.62222 -0.01997 0.76234 C -0.02813 0.90092 -0.04514 1.01203 -0.05955 1.00956 E">
                                      <p:cBhvr>
                                        <p:cTn id="236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0"/>
          <p:cNvSpPr/>
          <p:nvPr/>
        </p:nvSpPr>
        <p:spPr>
          <a:xfrm>
            <a:off x="2054880" y="1707480"/>
            <a:ext cx="551880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2054160" y="2490480"/>
            <a:ext cx="551916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048400" y="3276000"/>
            <a:ext cx="5525280" cy="57708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你的文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梯形 1"/>
          <p:cNvSpPr/>
          <p:nvPr/>
        </p:nvSpPr>
        <p:spPr>
          <a:xfrm rot="10800000">
            <a:off x="3564360" y="0"/>
            <a:ext cx="2090520" cy="987120"/>
          </a:xfrm>
          <a:prstGeom prst="trapezoid">
            <a:avLst>
              <a:gd name="adj" fmla="val 25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"/>
          <p:cNvSpPr/>
          <p:nvPr/>
        </p:nvSpPr>
        <p:spPr>
          <a:xfrm>
            <a:off x="4244400" y="17064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27"/>
          <p:cNvGrpSpPr/>
          <p:nvPr/>
        </p:nvGrpSpPr>
        <p:grpSpPr>
          <a:xfrm>
            <a:off x="1338120" y="1301040"/>
            <a:ext cx="5598000" cy="914040"/>
            <a:chOff x="1338120" y="1301040"/>
            <a:chExt cx="5598000" cy="914040"/>
          </a:xfrm>
        </p:grpSpPr>
        <p:sp>
          <p:nvSpPr>
            <p:cNvPr id="100" name="圆角矩形 26"/>
            <p:cNvSpPr/>
            <p:nvPr/>
          </p:nvSpPr>
          <p:spPr>
            <a:xfrm>
              <a:off x="1415160" y="1301040"/>
              <a:ext cx="544428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矩形 35"/>
            <p:cNvSpPr/>
            <p:nvPr/>
          </p:nvSpPr>
          <p:spPr>
            <a:xfrm>
              <a:off x="1338120" y="1490400"/>
              <a:ext cx="559800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首先，文字文字文字文字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8"/>
          <p:cNvGrpSpPr/>
          <p:nvPr/>
        </p:nvGrpSpPr>
        <p:grpSpPr>
          <a:xfrm>
            <a:off x="2051640" y="2367720"/>
            <a:ext cx="5357520" cy="914040"/>
            <a:chOff x="2051640" y="2367720"/>
            <a:chExt cx="5357520" cy="914040"/>
          </a:xfrm>
        </p:grpSpPr>
        <p:sp>
          <p:nvSpPr>
            <p:cNvPr id="103" name="圆角矩形 88"/>
            <p:cNvSpPr/>
            <p:nvPr/>
          </p:nvSpPr>
          <p:spPr>
            <a:xfrm>
              <a:off x="2051640" y="2367720"/>
              <a:ext cx="535752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矩形 36"/>
            <p:cNvSpPr/>
            <p:nvPr/>
          </p:nvSpPr>
          <p:spPr>
            <a:xfrm>
              <a:off x="2158200" y="2571840"/>
              <a:ext cx="469512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然后，文字文字文字文字文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46"/>
          <p:cNvGrpSpPr/>
          <p:nvPr/>
        </p:nvGrpSpPr>
        <p:grpSpPr>
          <a:xfrm>
            <a:off x="2483640" y="3466800"/>
            <a:ext cx="5454000" cy="914040"/>
            <a:chOff x="2483640" y="3466800"/>
            <a:chExt cx="5454000" cy="914040"/>
          </a:xfrm>
        </p:grpSpPr>
        <p:sp>
          <p:nvSpPr>
            <p:cNvPr id="106" name="圆角矩形 89"/>
            <p:cNvSpPr/>
            <p:nvPr/>
          </p:nvSpPr>
          <p:spPr>
            <a:xfrm>
              <a:off x="2483640" y="3466800"/>
              <a:ext cx="5454000" cy="914040"/>
            </a:xfrm>
            <a:prstGeom prst="roundRect">
              <a:avLst>
                <a:gd name="adj" fmla="val 33721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7" name="矩形 66"/>
            <p:cNvSpPr/>
            <p:nvPr/>
          </p:nvSpPr>
          <p:spPr>
            <a:xfrm>
              <a:off x="2699640" y="3674880"/>
              <a:ext cx="45111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8000" indent="-252000">
                <a:lnSpc>
                  <a:spcPct val="120000"/>
                </a:lnSpc>
                <a:tabLst>
                  <a:tab algn="l" pos="0"/>
                </a:tabLst>
              </a:pPr>
              <a:r>
                <a:rPr b="0" lang="zh-CN" sz="2400" spc="-1" strike="noStrike">
                  <a:solidFill>
                    <a:srgbClr val="eeece1"/>
                  </a:solidFill>
                  <a:latin typeface="微软雅黑"/>
                  <a:ea typeface="微软雅黑"/>
                </a:rPr>
                <a:t>最后，文字文字文字文字文字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下箭头 47"/>
          <p:cNvSpPr/>
          <p:nvPr/>
        </p:nvSpPr>
        <p:spPr>
          <a:xfrm>
            <a:off x="6464520" y="1896480"/>
            <a:ext cx="832320" cy="79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下箭头 93"/>
          <p:cNvSpPr/>
          <p:nvPr/>
        </p:nvSpPr>
        <p:spPr>
          <a:xfrm>
            <a:off x="6993360" y="3088800"/>
            <a:ext cx="832320" cy="798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22"/>
          <p:cNvGrpSpPr/>
          <p:nvPr/>
        </p:nvGrpSpPr>
        <p:grpSpPr>
          <a:xfrm>
            <a:off x="0" y="0"/>
            <a:ext cx="6416280" cy="5157720"/>
            <a:chOff x="0" y="0"/>
            <a:chExt cx="6416280" cy="5157720"/>
          </a:xfrm>
        </p:grpSpPr>
        <p:sp>
          <p:nvSpPr>
            <p:cNvPr id="111" name="矩形 20"/>
            <p:cNvSpPr/>
            <p:nvPr/>
          </p:nvSpPr>
          <p:spPr>
            <a:xfrm>
              <a:off x="0" y="0"/>
              <a:ext cx="2315880" cy="515772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直角三角形 19"/>
            <p:cNvSpPr/>
            <p:nvPr/>
          </p:nvSpPr>
          <p:spPr>
            <a:xfrm>
              <a:off x="2288520" y="0"/>
              <a:ext cx="4127760" cy="5157720"/>
            </a:xfrm>
            <a:prstGeom prst="rtTriangle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3" name="组合 38"/>
          <p:cNvGrpSpPr/>
          <p:nvPr/>
        </p:nvGrpSpPr>
        <p:grpSpPr>
          <a:xfrm>
            <a:off x="1491120" y="1495800"/>
            <a:ext cx="4021920" cy="3031200"/>
            <a:chOff x="1491120" y="1495800"/>
            <a:chExt cx="4021920" cy="3031200"/>
          </a:xfrm>
        </p:grpSpPr>
        <p:grpSp>
          <p:nvGrpSpPr>
            <p:cNvPr id="114" name="组合 28"/>
            <p:cNvGrpSpPr/>
            <p:nvPr/>
          </p:nvGrpSpPr>
          <p:grpSpPr>
            <a:xfrm>
              <a:off x="1491120" y="1495800"/>
              <a:ext cx="4021920" cy="2561040"/>
              <a:chOff x="1491120" y="1495800"/>
              <a:chExt cx="4021920" cy="2561040"/>
            </a:xfrm>
          </p:grpSpPr>
          <p:sp>
            <p:nvSpPr>
              <p:cNvPr id="115" name="直角三角形 26"/>
              <p:cNvSpPr/>
              <p:nvPr/>
            </p:nvSpPr>
            <p:spPr>
              <a:xfrm>
                <a:off x="3502080" y="1495800"/>
                <a:ext cx="2010960" cy="2561040"/>
              </a:xfrm>
              <a:prstGeom prst="rtTriangle">
                <a:avLst/>
              </a:prstGeom>
              <a:blipFill rotWithShape="0">
                <a:blip r:embed="rId1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6" name="直角三角形 27"/>
              <p:cNvSpPr/>
              <p:nvPr/>
            </p:nvSpPr>
            <p:spPr>
              <a:xfrm rot="10800000">
                <a:off x="1491120" y="1496160"/>
                <a:ext cx="2010960" cy="2541600"/>
              </a:xfrm>
              <a:prstGeom prst="rtTriangle">
                <a:avLst/>
              </a:prstGeom>
              <a:blipFill rotWithShape="0">
                <a:blip r:embed="rId2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17" name="组合 33"/>
            <p:cNvGrpSpPr/>
            <p:nvPr/>
          </p:nvGrpSpPr>
          <p:grpSpPr>
            <a:xfrm>
              <a:off x="1775160" y="3379320"/>
              <a:ext cx="1774080" cy="1147680"/>
              <a:chOff x="1775160" y="3379320"/>
              <a:chExt cx="1774080" cy="1147680"/>
            </a:xfrm>
          </p:grpSpPr>
          <p:sp>
            <p:nvSpPr>
              <p:cNvPr id="118" name="直角三角形 34"/>
              <p:cNvSpPr/>
              <p:nvPr/>
            </p:nvSpPr>
            <p:spPr>
              <a:xfrm>
                <a:off x="2662200" y="3379320"/>
                <a:ext cx="887040" cy="1147320"/>
              </a:xfrm>
              <a:prstGeom prst="rtTriangle">
                <a:avLst/>
              </a:prstGeom>
              <a:blipFill rotWithShape="0">
                <a:blip r:embed="rId3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9" name="直角三角形 35"/>
              <p:cNvSpPr/>
              <p:nvPr/>
            </p:nvSpPr>
            <p:spPr>
              <a:xfrm rot="10800000">
                <a:off x="1775160" y="3379680"/>
                <a:ext cx="887040" cy="1147320"/>
              </a:xfrm>
              <a:prstGeom prst="rtTriangle">
                <a:avLst/>
              </a:prstGeom>
              <a:blipFill rotWithShape="0">
                <a:blip r:embed="rId4"/>
                <a:srcRect/>
                <a:stretch/>
              </a:blip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20" name="矩形 39"/>
          <p:cNvSpPr/>
          <p:nvPr/>
        </p:nvSpPr>
        <p:spPr>
          <a:xfrm>
            <a:off x="3807000" y="1566360"/>
            <a:ext cx="54910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a83c2a"/>
                </a:solidFill>
                <a:latin typeface="微软雅黑"/>
                <a:ea typeface="微软雅黑"/>
              </a:rPr>
              <a:t>      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输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入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你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的</a:t>
            </a:r>
            <a:r>
              <a:rPr b="1" lang="zh-CN" sz="4800" spc="-1" strike="noStrike">
                <a:solidFill>
                  <a:srgbClr val="0c1b2e"/>
                </a:solidFill>
                <a:latin typeface="微软雅黑"/>
                <a:ea typeface="微软雅黑"/>
              </a:rPr>
              <a:t>文</a:t>
            </a:r>
            <a:r>
              <a:rPr b="1" lang="zh-CN" sz="4800" spc="-1" strike="noStrike">
                <a:solidFill>
                  <a:srgbClr val="a83c2a"/>
                </a:solidFill>
                <a:latin typeface="微软雅黑"/>
                <a:ea typeface="微软雅黑"/>
              </a:rPr>
              <a:t>字</a:t>
            </a:r>
            <a:r>
              <a:rPr b="1" lang="zh-CN" sz="7200" spc="-1" strike="noStrike">
                <a:solidFill>
                  <a:srgbClr val="a83c2a"/>
                </a:solidFill>
                <a:latin typeface="微软雅黑"/>
                <a:ea typeface="微软雅黑"/>
              </a:rPr>
              <a:t>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2"/>
          <p:cNvSpPr/>
          <p:nvPr/>
        </p:nvSpPr>
        <p:spPr>
          <a:xfrm>
            <a:off x="783720" y="2341080"/>
            <a:ext cx="6919560" cy="455400"/>
          </a:xfrm>
          <a:prstGeom prst="rect">
            <a:avLst/>
          </a:prstGeom>
          <a:solidFill>
            <a:srgbClr val="0c1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你的文字敲进去了吗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组合 5"/>
          <p:cNvGrpSpPr/>
          <p:nvPr/>
        </p:nvGrpSpPr>
        <p:grpSpPr>
          <a:xfrm>
            <a:off x="7740360" y="1491840"/>
            <a:ext cx="1292760" cy="2176920"/>
            <a:chOff x="7740360" y="1491840"/>
            <a:chExt cx="1292760" cy="2176920"/>
          </a:xfrm>
        </p:grpSpPr>
        <p:sp>
          <p:nvSpPr>
            <p:cNvPr id="123" name="矩形 7"/>
            <p:cNvSpPr/>
            <p:nvPr/>
          </p:nvSpPr>
          <p:spPr>
            <a:xfrm>
              <a:off x="7956360" y="1491840"/>
              <a:ext cx="647640" cy="50364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4" name="组合 8"/>
            <p:cNvGrpSpPr/>
            <p:nvPr/>
          </p:nvGrpSpPr>
          <p:grpSpPr>
            <a:xfrm>
              <a:off x="8598600" y="1491840"/>
              <a:ext cx="434520" cy="863640"/>
              <a:chOff x="8598600" y="1491840"/>
              <a:chExt cx="434520" cy="863640"/>
            </a:xfrm>
          </p:grpSpPr>
          <p:sp>
            <p:nvSpPr>
              <p:cNvPr id="125" name="直角三角形 15"/>
              <p:cNvSpPr/>
              <p:nvPr/>
            </p:nvSpPr>
            <p:spPr>
              <a:xfrm>
                <a:off x="8598600" y="1491840"/>
                <a:ext cx="431640" cy="503640"/>
              </a:xfrm>
              <a:prstGeom prst="rtTriangle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矩形 16"/>
              <p:cNvSpPr/>
              <p:nvPr/>
            </p:nvSpPr>
            <p:spPr>
              <a:xfrm>
                <a:off x="8601480" y="1995840"/>
                <a:ext cx="431640" cy="359640"/>
              </a:xfrm>
              <a:prstGeom prst="rect">
                <a:avLst/>
              </a:prstGeom>
              <a:solidFill>
                <a:srgbClr val="a83c2a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组合 9"/>
            <p:cNvGrpSpPr/>
            <p:nvPr/>
          </p:nvGrpSpPr>
          <p:grpSpPr>
            <a:xfrm>
              <a:off x="8168400" y="2355840"/>
              <a:ext cx="863640" cy="431640"/>
              <a:chOff x="8168400" y="2355840"/>
              <a:chExt cx="863640" cy="431640"/>
            </a:xfrm>
          </p:grpSpPr>
          <p:sp>
            <p:nvSpPr>
              <p:cNvPr id="128" name="直角三角形 13"/>
              <p:cNvSpPr/>
              <p:nvPr/>
            </p:nvSpPr>
            <p:spPr>
              <a:xfrm rot="5400000">
                <a:off x="8564400" y="2319840"/>
                <a:ext cx="431640" cy="50364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矩形 14"/>
              <p:cNvSpPr/>
              <p:nvPr/>
            </p:nvSpPr>
            <p:spPr>
              <a:xfrm rot="5400000">
                <a:off x="8132400" y="2391840"/>
                <a:ext cx="431640" cy="35964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0" name="直角三角形 10"/>
            <p:cNvSpPr/>
            <p:nvPr/>
          </p:nvSpPr>
          <p:spPr>
            <a:xfrm rot="16200000">
              <a:off x="7740360" y="2356200"/>
              <a:ext cx="431640" cy="431640"/>
            </a:xfrm>
            <a:prstGeom prst="rtTriangle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1" name="矩形 11"/>
            <p:cNvSpPr/>
            <p:nvPr/>
          </p:nvSpPr>
          <p:spPr>
            <a:xfrm rot="10800000">
              <a:off x="7740720" y="2788560"/>
              <a:ext cx="431640" cy="359640"/>
            </a:xfrm>
            <a:prstGeom prst="rect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矩形 12"/>
            <p:cNvSpPr/>
            <p:nvPr/>
          </p:nvSpPr>
          <p:spPr>
            <a:xfrm rot="19403400">
              <a:off x="7916040" y="3083760"/>
              <a:ext cx="503640" cy="48204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组合 2"/>
          <p:cNvGrpSpPr/>
          <p:nvPr/>
        </p:nvGrpSpPr>
        <p:grpSpPr>
          <a:xfrm>
            <a:off x="-117000" y="360"/>
            <a:ext cx="9260640" cy="5142960"/>
            <a:chOff x="-117000" y="360"/>
            <a:chExt cx="9260640" cy="5142960"/>
          </a:xfrm>
        </p:grpSpPr>
        <p:grpSp>
          <p:nvGrpSpPr>
            <p:cNvPr id="134" name="组合 6"/>
            <p:cNvGrpSpPr/>
            <p:nvPr/>
          </p:nvGrpSpPr>
          <p:grpSpPr>
            <a:xfrm>
              <a:off x="0" y="360"/>
              <a:ext cx="9143640" cy="5142960"/>
              <a:chOff x="0" y="360"/>
              <a:chExt cx="9143640" cy="5142960"/>
            </a:xfrm>
          </p:grpSpPr>
          <p:sp>
            <p:nvSpPr>
              <p:cNvPr id="135" name="矩形 4"/>
              <p:cNvSpPr/>
              <p:nvPr/>
            </p:nvSpPr>
            <p:spPr>
              <a:xfrm>
                <a:off x="0" y="3219840"/>
                <a:ext cx="9143640" cy="192348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6" name="直角三角形 5"/>
              <p:cNvSpPr/>
              <p:nvPr/>
            </p:nvSpPr>
            <p:spPr>
              <a:xfrm rot="16200000">
                <a:off x="2962080" y="-2961720"/>
                <a:ext cx="3219480" cy="9143640"/>
              </a:xfrm>
              <a:prstGeom prst="rtTriangle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37" name="平行四边形 23"/>
            <p:cNvSpPr/>
            <p:nvPr/>
          </p:nvSpPr>
          <p:spPr>
            <a:xfrm rot="20416800">
              <a:off x="1176120" y="1628280"/>
              <a:ext cx="5404320" cy="34236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平行四边形 24"/>
            <p:cNvSpPr/>
            <p:nvPr/>
          </p:nvSpPr>
          <p:spPr>
            <a:xfrm rot="20416800">
              <a:off x="-107280" y="3393360"/>
              <a:ext cx="3979800" cy="74844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平行四边形 25"/>
            <p:cNvSpPr/>
            <p:nvPr/>
          </p:nvSpPr>
          <p:spPr>
            <a:xfrm rot="20416800">
              <a:off x="1518840" y="1764720"/>
              <a:ext cx="2405160" cy="146520"/>
            </a:xfrm>
            <a:prstGeom prst="parallelogram">
              <a:avLst>
                <a:gd name="adj" fmla="val 40105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平行四边形 26"/>
            <p:cNvSpPr/>
            <p:nvPr/>
          </p:nvSpPr>
          <p:spPr>
            <a:xfrm rot="20416800">
              <a:off x="1239840" y="182340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平行四边形 27"/>
            <p:cNvSpPr/>
            <p:nvPr/>
          </p:nvSpPr>
          <p:spPr>
            <a:xfrm rot="20416800">
              <a:off x="4886280" y="817920"/>
              <a:ext cx="2395080" cy="145440"/>
            </a:xfrm>
            <a:prstGeom prst="parallelogram">
              <a:avLst>
                <a:gd name="adj" fmla="val 40105"/>
              </a:avLst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平行四边形 28"/>
            <p:cNvSpPr/>
            <p:nvPr/>
          </p:nvSpPr>
          <p:spPr>
            <a:xfrm rot="20416800">
              <a:off x="4190040" y="824400"/>
              <a:ext cx="2341800" cy="14832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平行四边形 29"/>
            <p:cNvSpPr/>
            <p:nvPr/>
          </p:nvSpPr>
          <p:spPr>
            <a:xfrm flipV="1" rot="20416800">
              <a:off x="2349000" y="2659680"/>
              <a:ext cx="1046520" cy="4572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平行四边形 31"/>
            <p:cNvSpPr/>
            <p:nvPr/>
          </p:nvSpPr>
          <p:spPr>
            <a:xfrm rot="20416800">
              <a:off x="75600" y="4621320"/>
              <a:ext cx="1816560" cy="16020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平行四边形 32"/>
            <p:cNvSpPr/>
            <p:nvPr/>
          </p:nvSpPr>
          <p:spPr>
            <a:xfrm rot="20416800">
              <a:off x="1250640" y="4671360"/>
              <a:ext cx="1115280" cy="4536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7560" bIns="-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平行四边形 33"/>
            <p:cNvSpPr/>
            <p:nvPr/>
          </p:nvSpPr>
          <p:spPr>
            <a:xfrm rot="20416800">
              <a:off x="1597320" y="307368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平行四边形 34"/>
            <p:cNvSpPr/>
            <p:nvPr/>
          </p:nvSpPr>
          <p:spPr>
            <a:xfrm rot="20416800">
              <a:off x="1629720" y="2615400"/>
              <a:ext cx="1816560" cy="71280"/>
            </a:xfrm>
            <a:prstGeom prst="parallelogram">
              <a:avLst>
                <a:gd name="adj" fmla="val 40105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8" name="文本框 3"/>
          <p:cNvSpPr/>
          <p:nvPr/>
        </p:nvSpPr>
        <p:spPr>
          <a:xfrm>
            <a:off x="4923000" y="270432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a83c2a"/>
                </a:solidFill>
                <a:latin typeface="Calibri"/>
              </a:rPr>
              <a:t>写下你醒目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89080" y="48564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7"/>
          <p:cNvGrpSpPr/>
          <p:nvPr/>
        </p:nvGrpSpPr>
        <p:grpSpPr>
          <a:xfrm>
            <a:off x="6186240" y="1029960"/>
            <a:ext cx="2736000" cy="4046040"/>
            <a:chOff x="6186240" y="1029960"/>
            <a:chExt cx="2736000" cy="4046040"/>
          </a:xfrm>
        </p:grpSpPr>
        <p:sp>
          <p:nvSpPr>
            <p:cNvPr id="151" name="流程图: 可选过程 56"/>
            <p:cNvSpPr/>
            <p:nvPr/>
          </p:nvSpPr>
          <p:spPr>
            <a:xfrm rot="5400000">
              <a:off x="7087680" y="55872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41"/>
            <p:cNvSpPr/>
            <p:nvPr/>
          </p:nvSpPr>
          <p:spPr>
            <a:xfrm>
              <a:off x="6186240" y="1527840"/>
              <a:ext cx="2736000" cy="354816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弦形 57"/>
            <p:cNvSpPr/>
            <p:nvPr/>
          </p:nvSpPr>
          <p:spPr>
            <a:xfrm rot="16200000">
              <a:off x="7087320" y="102996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4" name="组合 5"/>
          <p:cNvGrpSpPr/>
          <p:nvPr/>
        </p:nvGrpSpPr>
        <p:grpSpPr>
          <a:xfrm>
            <a:off x="272880" y="1041120"/>
            <a:ext cx="2782440" cy="4034880"/>
            <a:chOff x="272880" y="1041120"/>
            <a:chExt cx="2782440" cy="4034880"/>
          </a:xfrm>
        </p:grpSpPr>
        <p:sp>
          <p:nvSpPr>
            <p:cNvPr id="155" name="流程图: 可选过程 59"/>
            <p:cNvSpPr/>
            <p:nvPr/>
          </p:nvSpPr>
          <p:spPr>
            <a:xfrm rot="5400000">
              <a:off x="1178640" y="51372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56" name="组合 53"/>
            <p:cNvGrpSpPr/>
            <p:nvPr/>
          </p:nvGrpSpPr>
          <p:grpSpPr>
            <a:xfrm>
              <a:off x="272880" y="1514880"/>
              <a:ext cx="2782440" cy="3561120"/>
              <a:chOff x="272880" y="1514880"/>
              <a:chExt cx="2782440" cy="3561120"/>
            </a:xfrm>
          </p:grpSpPr>
          <p:sp>
            <p:nvSpPr>
              <p:cNvPr id="157" name="矩形 39"/>
              <p:cNvSpPr/>
              <p:nvPr/>
            </p:nvSpPr>
            <p:spPr>
              <a:xfrm>
                <a:off x="272880" y="1514880"/>
                <a:ext cx="2782440" cy="3561120"/>
              </a:xfrm>
              <a:prstGeom prst="rect">
                <a:avLst/>
              </a:prstGeom>
              <a:solidFill>
                <a:srgbClr val="0c1b2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8" name="矩形 21"/>
              <p:cNvSpPr/>
              <p:nvPr/>
            </p:nvSpPr>
            <p:spPr>
              <a:xfrm>
                <a:off x="367560" y="2503440"/>
                <a:ext cx="2536200" cy="155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</a:tabLst>
                </a:pPr>
                <a:r>
                  <a:rPr b="1" lang="en-US" sz="2400" spc="-1" strike="noStrike">
                    <a:solidFill>
                      <a:srgbClr val="a83c2a"/>
                    </a:solidFill>
                    <a:latin typeface="微软雅黑"/>
                    <a:ea typeface="微软雅黑"/>
                  </a:rPr>
                  <a:t>①</a:t>
                </a:r>
                <a:r>
                  <a:rPr b="1" lang="zh-CN" sz="2400" spc="-1" strike="noStrike">
                    <a:solidFill>
                      <a:srgbClr val="a83c2a"/>
                    </a:solidFill>
                    <a:latin typeface="微软雅黑"/>
                    <a:ea typeface="微软雅黑"/>
                  </a:rPr>
                  <a:t>你的文字你的文字你的文字你的文字你的文字你的文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弦形 60"/>
            <p:cNvSpPr/>
            <p:nvPr/>
          </p:nvSpPr>
          <p:spPr>
            <a:xfrm rot="16200000">
              <a:off x="1218600" y="104112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60" name="组合 6"/>
          <p:cNvGrpSpPr/>
          <p:nvPr/>
        </p:nvGrpSpPr>
        <p:grpSpPr>
          <a:xfrm>
            <a:off x="3243600" y="1059840"/>
            <a:ext cx="2799720" cy="4016160"/>
            <a:chOff x="3243600" y="1059840"/>
            <a:chExt cx="2799720" cy="4016160"/>
          </a:xfrm>
        </p:grpSpPr>
        <p:sp>
          <p:nvSpPr>
            <p:cNvPr id="161" name="流程图: 可选过程 61"/>
            <p:cNvSpPr/>
            <p:nvPr/>
          </p:nvSpPr>
          <p:spPr>
            <a:xfrm rot="5400000">
              <a:off x="4186800" y="517680"/>
              <a:ext cx="914040" cy="2160000"/>
            </a:xfrm>
            <a:prstGeom prst="flowChartAlternateProcess">
              <a:avLst/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矩形 40"/>
            <p:cNvSpPr/>
            <p:nvPr/>
          </p:nvSpPr>
          <p:spPr>
            <a:xfrm>
              <a:off x="3243600" y="1531440"/>
              <a:ext cx="2799720" cy="3544560"/>
            </a:xfrm>
            <a:prstGeom prst="rect">
              <a:avLst/>
            </a:prstGeom>
            <a:solidFill>
              <a:srgbClr val="0c1b2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3" name="弦形 62"/>
            <p:cNvSpPr/>
            <p:nvPr/>
          </p:nvSpPr>
          <p:spPr>
            <a:xfrm rot="16200000">
              <a:off x="4186440" y="1059840"/>
              <a:ext cx="914040" cy="914040"/>
            </a:xfrm>
            <a:prstGeom prst="chord">
              <a:avLst>
                <a:gd name="adj1" fmla="val 5369289"/>
                <a:gd name="adj2" fmla="val 16200000"/>
              </a:avLst>
            </a:prstGeom>
            <a:solidFill>
              <a:srgbClr val="a83c2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64" name="矩形 19"/>
          <p:cNvSpPr/>
          <p:nvPr/>
        </p:nvSpPr>
        <p:spPr>
          <a:xfrm>
            <a:off x="3418560" y="2445840"/>
            <a:ext cx="253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②</a:t>
            </a:r>
            <a:r>
              <a:rPr b="1" lang="zh-CN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0"/>
          <p:cNvSpPr/>
          <p:nvPr/>
        </p:nvSpPr>
        <p:spPr>
          <a:xfrm>
            <a:off x="6276600" y="2399760"/>
            <a:ext cx="2536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③</a:t>
            </a:r>
            <a:r>
              <a:rPr b="1" lang="zh-CN" sz="2400" spc="-1" strike="noStrike">
                <a:solidFill>
                  <a:srgbClr val="a83c2a"/>
                </a:solidFill>
                <a:latin typeface="微软雅黑"/>
                <a:ea typeface="微软雅黑"/>
              </a:rPr>
              <a:t>你的文字你的文字你的文字你的文字你的文字你的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5"/>
          <p:cNvSpPr/>
          <p:nvPr/>
        </p:nvSpPr>
        <p:spPr>
          <a:xfrm>
            <a:off x="107640" y="1203480"/>
            <a:ext cx="8928720" cy="3384000"/>
          </a:xfrm>
          <a:prstGeom prst="rect">
            <a:avLst/>
          </a:prstGeom>
          <a:noFill/>
          <a:ln w="34925">
            <a:solidFill>
              <a:srgbClr val="0c1b2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1619640" y="782280"/>
            <a:ext cx="1656000" cy="842400"/>
          </a:xfrm>
          <a:prstGeom prst="rect">
            <a:avLst/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a83c2a"/>
                </a:solidFill>
                <a:latin typeface="微软雅黑"/>
                <a:ea typeface="微软雅黑"/>
              </a:rPr>
              <a:t>例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2627640" y="2283840"/>
            <a:ext cx="4855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a83c2a"/>
                </a:solidFill>
                <a:latin typeface="Calibri"/>
              </a:rPr>
              <a:t>举个例子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等腰三角形 2"/>
          <p:cNvSpPr/>
          <p:nvPr/>
        </p:nvSpPr>
        <p:spPr>
          <a:xfrm>
            <a:off x="2759760" y="211860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等腰三角形 21"/>
          <p:cNvSpPr/>
          <p:nvPr/>
        </p:nvSpPr>
        <p:spPr>
          <a:xfrm>
            <a:off x="4332240" y="211860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a83c2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等腰三角形 24"/>
          <p:cNvSpPr/>
          <p:nvPr/>
        </p:nvSpPr>
        <p:spPr>
          <a:xfrm rot="10800000">
            <a:off x="5283000" y="213768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等腰三角形 25"/>
          <p:cNvSpPr/>
          <p:nvPr/>
        </p:nvSpPr>
        <p:spPr>
          <a:xfrm rot="10800000">
            <a:off x="3489480" y="2111760"/>
            <a:ext cx="1060200" cy="914040"/>
          </a:xfrm>
          <a:prstGeom prst="triangle">
            <a:avLst>
              <a:gd name="adj" fmla="val 50000"/>
            </a:avLst>
          </a:prstGeom>
          <a:solidFill>
            <a:srgbClr val="0c1b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73" name="直接连接符 5"/>
          <p:cNvCxnSpPr>
            <a:stCxn id="169" idx="0"/>
          </p:cNvCxnSpPr>
          <p:nvPr/>
        </p:nvCxnSpPr>
        <p:spPr>
          <a:xfrm flipH="1" flipV="1">
            <a:off x="3275640" y="1491480"/>
            <a:ext cx="1476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4" name="直接连接符 26"/>
          <p:cNvCxnSpPr/>
          <p:nvPr/>
        </p:nvCxnSpPr>
        <p:spPr>
          <a:xfrm flipH="1" flipV="1">
            <a:off x="5812920" y="299736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5" name="直接连接符 27"/>
          <p:cNvCxnSpPr/>
          <p:nvPr/>
        </p:nvCxnSpPr>
        <p:spPr>
          <a:xfrm flipH="1" flipV="1">
            <a:off x="4855320" y="151020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cxnSp>
        <p:nvCxnSpPr>
          <p:cNvPr id="176" name="直接连接符 28"/>
          <p:cNvCxnSpPr/>
          <p:nvPr/>
        </p:nvCxnSpPr>
        <p:spPr>
          <a:xfrm flipH="1" flipV="1">
            <a:off x="4005000" y="3010680"/>
            <a:ext cx="14400" cy="627480"/>
          </a:xfrm>
          <a:prstGeom prst="straightConnector1">
            <a:avLst/>
          </a:prstGeom>
          <a:ln>
            <a:solidFill>
              <a:srgbClr val="0c1b2e"/>
            </a:solidFill>
            <a:round/>
          </a:ln>
        </p:spPr>
      </p:cxnSp>
      <p:sp>
        <p:nvSpPr>
          <p:cNvPr id="177" name="文本框 6"/>
          <p:cNvSpPr/>
          <p:nvPr/>
        </p:nvSpPr>
        <p:spPr>
          <a:xfrm>
            <a:off x="1544760" y="3787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9"/>
          <p:cNvSpPr/>
          <p:nvPr/>
        </p:nvSpPr>
        <p:spPr>
          <a:xfrm>
            <a:off x="4716000" y="36936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0"/>
          <p:cNvSpPr/>
          <p:nvPr/>
        </p:nvSpPr>
        <p:spPr>
          <a:xfrm>
            <a:off x="5812920" y="364032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1"/>
          <p:cNvSpPr/>
          <p:nvPr/>
        </p:nvSpPr>
        <p:spPr>
          <a:xfrm>
            <a:off x="2303640" y="3624840"/>
            <a:ext cx="1944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你的文字你的文字你的文字你的文字你的文字你的文字你的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7</TotalTime>
  <Application>LibreOffice/7.4.7.2$Linux_X86_64 LibreOffice_project/40$Build-2</Application>
  <AppVersion>15.0000</AppVersion>
  <Words>431</Words>
  <Paragraphs>3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01:02:03Z</dcterms:created>
  <dc:creator>Administrator</dc:creator>
  <dc:description/>
  <dc:language>en-US</dc:language>
  <cp:lastModifiedBy>王玉清</cp:lastModifiedBy>
  <dcterms:modified xsi:type="dcterms:W3CDTF">2016-03-05T12:49:37Z</dcterms:modified>
  <cp:revision>1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14</vt:r8>
  </property>
</Properties>
</file>