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A44-9A3D-49BE-B2DF-15207AF2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EF7-9C6A-42BE-9D90-F7086857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5286-4B56-4A61-AD23-B8F5264B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008-CFDA-4DA9-AFE2-2340CD1B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8331-88C8-4103-B3F6-B71F0246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4FEB-1F21-4506-8CCF-4D487E10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DEAA-638A-45DA-A34A-BCCB676E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EF23-A998-48EA-9A99-1B004A2D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1452-0F83-459E-87F9-029C1978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11D3-822C-4AB5-9D02-8B543096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A499-CBCF-4939-85B6-E4AC0B39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EB6-3821-4102-BA05-7BFC1B24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E70C-FA7C-4A68-80DD-AE95C100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D19E-BB9D-419A-A11E-6D470B05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92A1-C1DF-49D6-852C-24897B74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D94B-A137-434C-AD32-4E2668F8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3BDD-CD91-45BF-AB11-4BE69512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7ED6C-D912-4444-BF92-42768BE4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A1CB9-FA25-4751-B1C2-DB0A6A91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E46B7-AD3F-4486-8E19-B913539F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86142-8894-4C14-8692-AB851EDC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A1E38-F4EC-473C-98EA-B3CDE4CB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183-AC43-41E9-BF51-BEBBEA56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2DF60-5C64-42EC-909D-BE22E6A2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07FED-308C-4656-BC11-24DA8D16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33B4F-D4AA-4881-9314-D72B74B6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1A00-02B9-4E5B-8886-4126B0C1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DFFBA-C1F7-4373-87D6-8997F514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5A633-64D2-43E5-B06B-2AE95FD2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61628-2D0B-4A01-B280-DF3A4566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08C-1F22-43BA-8B2E-CEB5AB6B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3D7-A91B-41E7-9CD1-021DD9A4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C8E6-D7B1-48A2-9EAD-0840C3D2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29BC-3AD7-4342-A233-CB85A815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7BEA-E5AF-490A-9557-FB20DF35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374-1195-4729-89D3-EB010F21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S_Puzzling_World_0516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5C27-93DE-4522-BE82-4D5A98809C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LP_Puzzling_World_0516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816E-B409-42CA-8936-FD009B7E0B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T_Puzzling_World_0516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222C-276F-49ED-8B43-89D3992034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"/>
          <p:cNvSpPr/>
          <p:nvPr/>
        </p:nvSpPr>
        <p:spPr>
          <a:xfrm>
            <a:off x="2537280" y="9079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创意绿色拼图背景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LT_Puzzling_World_0516副本"/>
          <p:cNvPicPr/>
          <p:nvPr/>
        </p:nvPicPr>
        <p:blipFill>
          <a:blip r:embed="rId1"/>
          <a:stretch/>
        </p:blipFill>
        <p:spPr>
          <a:xfrm>
            <a:off x="666720" y="1916280"/>
            <a:ext cx="2033640" cy="1525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</p:pic>
      <p:pic>
        <p:nvPicPr>
          <p:cNvPr id="133" name="Picture 3" descr="LS_Puzzling_World_0516副本"/>
          <p:cNvPicPr/>
          <p:nvPr/>
        </p:nvPicPr>
        <p:blipFill>
          <a:blip r:embed="rId2"/>
          <a:stretch/>
        </p:blipFill>
        <p:spPr>
          <a:xfrm>
            <a:off x="3546360" y="1916280"/>
            <a:ext cx="2033640" cy="1525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</p:pic>
      <p:pic>
        <p:nvPicPr>
          <p:cNvPr id="134" name="Picture 4" descr="LP_Puzzling_World_0516副本"/>
          <p:cNvPicPr/>
          <p:nvPr/>
        </p:nvPicPr>
        <p:blipFill>
          <a:blip r:embed="rId3"/>
          <a:stretch/>
        </p:blipFill>
        <p:spPr>
          <a:xfrm>
            <a:off x="6426360" y="1916280"/>
            <a:ext cx="2033280" cy="1525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9999">
                <a:alpha val="50000"/>
              </a:srgbClr>
            </a:outerShdw>
          </a:effectLst>
        </p:spPr>
      </p:pic>
      <p:sp>
        <p:nvSpPr>
          <p:cNvPr id="135" name="Text Box 5"/>
          <p:cNvSpPr/>
          <p:nvPr/>
        </p:nvSpPr>
        <p:spPr>
          <a:xfrm>
            <a:off x="684360" y="3860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635280" y="3860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516720" y="386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Details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5280" y="6381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5:16:49Z</dcterms:created>
  <dc:creator>www.pptbz.com</dc:creator>
  <dc:description/>
  <cp:keywords/>
  <dc:language>en-US</dc:language>
  <cp:lastModifiedBy>a</cp:lastModifiedBy>
  <cp:lastPrinted>1899-12-30T00:00:00Z</cp:lastPrinted>
  <dcterms:modified xsi:type="dcterms:W3CDTF">2015-07-25T12:12:34Z</dcterms:modified>
  <cp:revision>6</cp:revision>
  <dc:subject/>
  <dc:title>PowerPoint Templ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