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BD7E-8CF0-456D-9ABF-68FC613C00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3D72-7E71-41B8-84D1-F16C79F42650}" type="slidenum">
              <a:rPr b="0" lang="en-GB" sz="1200" spc="-1" strike="noStrike">
                <a:solidFill>
                  <a:srgbClr val="523e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80B3-A58A-46FC-9004-9D971720BA00}" type="slidenum">
              <a:rPr b="0" lang="en-GB" sz="1200" spc="-1" strike="noStrike">
                <a:solidFill>
                  <a:srgbClr val="523e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81C8-CDB9-4AFC-8EE3-8CF16804FA0B}" type="slidenum">
              <a:rPr b="0" lang="en-GB" sz="1200" spc="-1" strike="noStrike">
                <a:solidFill>
                  <a:srgbClr val="523e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370F-FAEA-4461-9CAA-42D66CD74990}" type="slidenum">
              <a:rPr b="0" lang="en-GB" sz="1200" spc="-1" strike="noStrike">
                <a:solidFill>
                  <a:srgbClr val="523e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DD54-50E0-48A0-A490-AE06D24C49F5}" type="slidenum">
              <a:rPr b="0" lang="en-GB" sz="1200" spc="-1" strike="noStrike">
                <a:solidFill>
                  <a:srgbClr val="523e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5198-ADA1-4484-9A1F-5FBE9DAF4DCB}" type="slidenum">
              <a:rPr b="0" lang="en-GB" sz="1200" spc="-1" strike="noStrike">
                <a:solidFill>
                  <a:srgbClr val="523e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0782-5C93-45B6-BBF9-E7D3566CC068}" type="slidenum">
              <a:rPr b="0" lang="en-GB" sz="1200" spc="-1" strike="noStrike">
                <a:solidFill>
                  <a:srgbClr val="523e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D9C-01F5-4902-8A94-76842255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C03-D7A7-4B50-9E9D-08F4B0D7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9E7-4CAE-4F77-BA4A-BB69209E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5E9-4FC6-4163-A3DE-5640F646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F5A2-947F-4FF4-B902-2C6AFF70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0752-1C9F-4D6D-BFC8-A3C7350A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D16C-E86D-4452-A3A4-9FC9C255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E58C-2BFA-4840-A1AD-3CB04AB3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57CC-A5EB-48C3-AB1E-D103D48C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4A95-1922-4BFE-AEDB-D073C007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E2F-5D79-45BB-98B3-A7BA19BE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47F0-D8FF-42FD-AE17-E47476E0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83E7-7750-414F-BD98-F589D18E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9B0C-CD83-4196-B95C-ED58BD27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5E32-8233-4741-BEAE-6B1D048E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732A-D8D8-4E39-B2F2-DCC01DCA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B79C-2C59-4926-A940-B78431F1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7BBE-A45E-4792-B3FC-D33B4349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ABAF-0358-4059-8DC7-97FFAA19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4F4-A8A1-4C8E-92B9-C45532EB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548-7382-4B31-861D-F95B2B9A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128-75C4-4281-90C6-23E95521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CCC-AB85-415D-901C-0917B635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310-7EBC-4B5E-8FCF-A1A8FA0A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63E9-08BF-4074-A837-4800C9592F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DA50-7C97-4ACE-8FD1-200802044B28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9160" y="486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glets templat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42600" y="450684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d2015"/>
                </a:solidFill>
                <a:latin typeface="Arial"/>
              </a:rPr>
              <a:t>呆萌的小猪通用</a:t>
            </a:r>
            <a:r>
              <a:rPr b="0" lang="en-US" sz="4000" spc="-1" strike="noStrike">
                <a:solidFill>
                  <a:srgbClr val="2d2015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2d2015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23e2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23e2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23e2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3e26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a27a"/>
                </a:solidFill>
                <a:latin typeface="Arial"/>
              </a:rPr>
              <a:t>Example bullet point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aa27a"/>
                </a:solidFill>
                <a:latin typeface="Arial"/>
              </a:rPr>
              <a:t>Colour schem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686040" y="2739960"/>
            <a:ext cx="827280" cy="611280"/>
          </a:xfrm>
          <a:prstGeom prst="rect">
            <a:avLst/>
          </a:prstGeom>
          <a:solidFill>
            <a:srgbClr val="523e26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762440" y="2739960"/>
            <a:ext cx="827280" cy="611280"/>
          </a:xfrm>
          <a:prstGeom prst="rect">
            <a:avLst/>
          </a:prstGeom>
          <a:solidFill>
            <a:srgbClr val="2d2015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633760" y="4354560"/>
            <a:ext cx="826920" cy="611280"/>
          </a:xfrm>
          <a:prstGeom prst="rect">
            <a:avLst/>
          </a:prstGeom>
          <a:solidFill>
            <a:srgbClr val="8c7b70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701880" y="4354560"/>
            <a:ext cx="827280" cy="611280"/>
          </a:xfrm>
          <a:prstGeom prst="rect">
            <a:avLst/>
          </a:prstGeom>
          <a:solidFill>
            <a:srgbClr val="8f5f2f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770360" y="4354560"/>
            <a:ext cx="827280" cy="611280"/>
          </a:xfrm>
          <a:prstGeom prst="rect">
            <a:avLst/>
          </a:prstGeom>
          <a:solidFill>
            <a:srgbClr val="ccb400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5840280" y="4354560"/>
            <a:ext cx="827280" cy="611280"/>
          </a:xfrm>
          <a:prstGeom prst="rect">
            <a:avLst/>
          </a:prstGeom>
          <a:solidFill>
            <a:srgbClr val="8c9ea0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5823000" y="2739960"/>
            <a:ext cx="826920" cy="611280"/>
          </a:xfrm>
          <a:prstGeom prst="rect">
            <a:avLst/>
          </a:prstGeom>
          <a:solidFill>
            <a:srgbClr val="caa27a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2617920" y="273996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00480" y="210024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Background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3718080" y="197820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Text &amp;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Lines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668120" y="21002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Shadows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948640" y="197820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2812680" y="371484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Fills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3708000" y="37148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Accen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4694400" y="359244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Accent &amp;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775480" y="359100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Followed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1952640" y="1847880"/>
            <a:ext cx="5441760" cy="3560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aa27a"/>
                </a:solidFill>
                <a:latin typeface="Arial"/>
              </a:rPr>
              <a:t>Sample Graph (3 colours)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673280" y="1749600"/>
          <a:ext cx="6726240" cy="37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3280" y="1749600"/>
                    <a:ext cx="6726240" cy="37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aa27a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4320" y="1600200"/>
            <a:ext cx="498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23e26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23e26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58" name="Picture 7" descr="IMG_3005-2"/>
          <p:cNvPicPr/>
          <p:nvPr/>
        </p:nvPicPr>
        <p:blipFill>
          <a:blip r:embed="rId1"/>
          <a:stretch/>
        </p:blipFill>
        <p:spPr>
          <a:xfrm>
            <a:off x="6400800" y="1596960"/>
            <a:ext cx="1981080" cy="2340000"/>
          </a:xfrm>
          <a:prstGeom prst="rect">
            <a:avLst/>
          </a:prstGeom>
          <a:ln w="57240">
            <a:solidFill>
              <a:srgbClr val="523e26"/>
            </a:solidFill>
            <a:miter/>
          </a:ln>
        </p:spPr>
      </p:pic>
      <p:sp>
        <p:nvSpPr>
          <p:cNvPr id="159" name="Text Box 4"/>
          <p:cNvSpPr/>
          <p:nvPr/>
        </p:nvSpPr>
        <p:spPr>
          <a:xfrm>
            <a:off x="239760" y="63086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3e26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523e26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ccb4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aa27a"/>
                </a:solidFill>
                <a:latin typeface="Arial"/>
              </a:rPr>
              <a:t>Process Flow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731880" y="3087720"/>
            <a:ext cx="1376280" cy="2354400"/>
          </a:xfrm>
          <a:prstGeom prst="rect">
            <a:avLst/>
          </a:prstGeom>
          <a:solidFill>
            <a:srgbClr val="748ed6"/>
          </a:solidFill>
          <a:ln w="1260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266920" y="3087720"/>
            <a:ext cx="1376280" cy="2354400"/>
          </a:xfrm>
          <a:prstGeom prst="rect">
            <a:avLst/>
          </a:prstGeom>
          <a:solidFill>
            <a:srgbClr val="009193"/>
          </a:solidFill>
          <a:ln w="1260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776760" y="3087720"/>
            <a:ext cx="1376280" cy="235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5284800" y="308772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796080" y="3079800"/>
            <a:ext cx="1376280" cy="2354040"/>
          </a:xfrm>
          <a:prstGeom prst="rect">
            <a:avLst/>
          </a:prstGeom>
          <a:solidFill>
            <a:srgbClr val="ffc993"/>
          </a:solidFill>
          <a:ln w="1260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6" name="Freeform 8"/>
          <p:cNvSpPr/>
          <p:nvPr/>
        </p:nvSpPr>
        <p:spPr>
          <a:xfrm>
            <a:off x="2266920" y="1614600"/>
            <a:ext cx="1854360" cy="126972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600">
            <a:solidFill>
              <a:srgbClr val="523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7" name="Freeform 9"/>
          <p:cNvSpPr/>
          <p:nvPr/>
        </p:nvSpPr>
        <p:spPr>
          <a:xfrm>
            <a:off x="731880" y="1614600"/>
            <a:ext cx="1898640" cy="126972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748ed6"/>
          </a:solidFill>
          <a:ln w="12600">
            <a:solidFill>
              <a:srgbClr val="523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8" name="Freeform 10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>
              <a:gd name="textAreaLeft" fmla="*/ 0 w 1854000"/>
              <a:gd name="textAreaRight" fmla="*/ 1854360 w 185400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523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9" name="Freeform 11"/>
          <p:cNvSpPr/>
          <p:nvPr/>
        </p:nvSpPr>
        <p:spPr>
          <a:xfrm>
            <a:off x="5284800" y="1606680"/>
            <a:ext cx="1857240" cy="12697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523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0" name="Freeform 12"/>
          <p:cNvSpPr/>
          <p:nvPr/>
        </p:nvSpPr>
        <p:spPr>
          <a:xfrm>
            <a:off x="6796080" y="1614600"/>
            <a:ext cx="1854360" cy="126972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c993"/>
          </a:solidFill>
          <a:ln w="12600">
            <a:solidFill>
              <a:srgbClr val="523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2918520" y="2066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034640" y="20653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4449240" y="206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3e26"/>
                </a:solidFill>
                <a:latin typeface="Arial"/>
                <a:ea typeface="Arial"/>
              </a:rPr>
              <a:t>Build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5960880" y="205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3e26"/>
                </a:solidFill>
                <a:latin typeface="Arial"/>
                <a:ea typeface="Arial"/>
              </a:rPr>
              <a:t>Tes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7368480" y="20588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3e26"/>
                </a:solidFill>
                <a:latin typeface="Arial"/>
                <a:ea typeface="Arial"/>
              </a:rPr>
              <a:t>Evaluat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aa27a"/>
                </a:solidFill>
                <a:latin typeface="Arial"/>
              </a:rPr>
              <a:t>Example of a tabl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25360" y="1538280"/>
          <a:ext cx="7402680" cy="3267000"/>
        </p:xfrm>
        <a:graphic>
          <a:graphicData uri="http://schemas.openxmlformats.org/drawingml/2006/table">
            <a:tbl>
              <a:tblPr/>
              <a:tblGrid>
                <a:gridCol w="3702240"/>
                <a:gridCol w="3700440"/>
              </a:tblGrid>
              <a:tr h="509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523e26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523e26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23e26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23e26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9"/>
          <p:cNvSpPr/>
          <p:nvPr/>
        </p:nvSpPr>
        <p:spPr>
          <a:xfrm>
            <a:off x="1695600" y="4897440"/>
            <a:ext cx="6519600" cy="7761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1760400" y="4897440"/>
            <a:ext cx="61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23e26"/>
                </a:solidFill>
                <a:latin typeface="Arial"/>
                <a:ea typeface="Arial"/>
              </a:rPr>
              <a:t>Note:  </a:t>
            </a:r>
            <a:r>
              <a:rPr b="0" lang="en-GB" sz="1800" spc="-1" strike="noStrike">
                <a:solidFill>
                  <a:srgbClr val="523e26"/>
                </a:solidFill>
                <a:latin typeface="Arial"/>
                <a:ea typeface="Arial"/>
              </a:rPr>
              <a:t>PowerPoint does not allow you to have nice </a:t>
            </a:r>
            <a:br>
              <a:rPr sz="1800"/>
            </a:br>
            <a:r>
              <a:rPr b="0" lang="en-GB" sz="1800" spc="-1" strike="noStrike">
                <a:solidFill>
                  <a:srgbClr val="523e26"/>
                </a:solidFill>
                <a:latin typeface="Arial"/>
                <a:ea typeface="Arial"/>
              </a:rPr>
              <a:t>default tables - but you can cut and paste this on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aa27a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8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23e26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b400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9e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8c9ea0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446800" y="1781280"/>
          <a:ext cx="3171600" cy="1735200"/>
        </p:xfrm>
        <a:graphic>
          <a:graphicData uri="http://schemas.openxmlformats.org/drawingml/2006/table">
            <a:tbl>
              <a:tblPr/>
              <a:tblGrid>
                <a:gridCol w="1585800"/>
                <a:gridCol w="158580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523e26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23e26"/>
                      </a:solidFill>
                    </a:lnL>
                    <a:lnR w="5760">
                      <a:solidFill>
                        <a:srgbClr val="523e26"/>
                      </a:solidFill>
                    </a:lnR>
                    <a:lnT w="13680">
                      <a:solidFill>
                        <a:srgbClr val="523e26"/>
                      </a:solidFill>
                    </a:lnT>
                    <a:lnB w="5760">
                      <a:solidFill>
                        <a:srgbClr val="523e2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23e26"/>
                      </a:solidFill>
                    </a:lnL>
                    <a:lnR w="13680">
                      <a:solidFill>
                        <a:srgbClr val="523e26"/>
                      </a:solidFill>
                    </a:lnR>
                    <a:lnT w="13680">
                      <a:solidFill>
                        <a:srgbClr val="523e26"/>
                      </a:solidFill>
                    </a:lnT>
                    <a:lnB w="5760">
                      <a:solidFill>
                        <a:srgbClr val="523e26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23e26"/>
                      </a:solidFill>
                    </a:lnL>
                    <a:lnR w="5760">
                      <a:solidFill>
                        <a:srgbClr val="523e26"/>
                      </a:solidFill>
                    </a:lnR>
                    <a:lnT w="5760">
                      <a:solidFill>
                        <a:srgbClr val="523e26"/>
                      </a:solidFill>
                    </a:lnT>
                    <a:lnB w="13680">
                      <a:solidFill>
                        <a:srgbClr val="523e2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23e26"/>
                      </a:solidFill>
                    </a:lnL>
                    <a:lnR w="13680">
                      <a:solidFill>
                        <a:srgbClr val="523e26"/>
                      </a:solidFill>
                    </a:lnR>
                    <a:lnT w="5760">
                      <a:solidFill>
                        <a:srgbClr val="523e26"/>
                      </a:solidFill>
                    </a:lnT>
                    <a:lnB w="13680">
                      <a:solidFill>
                        <a:srgbClr val="523e2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Rectangle 15"/>
          <p:cNvSpPr/>
          <p:nvPr/>
        </p:nvSpPr>
        <p:spPr>
          <a:xfrm>
            <a:off x="2101680" y="3948120"/>
            <a:ext cx="2232360" cy="1368360"/>
          </a:xfrm>
          <a:prstGeom prst="rect">
            <a:avLst/>
          </a:prstGeom>
          <a:solidFill>
            <a:srgbClr val="8c7b70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4981680" y="3948120"/>
            <a:ext cx="2232000" cy="1368360"/>
          </a:xfrm>
          <a:prstGeom prst="rect">
            <a:avLst/>
          </a:prstGeom>
          <a:solidFill>
            <a:srgbClr val="8c7b70"/>
          </a:solidFill>
          <a:ln w="9360">
            <a:solidFill>
              <a:srgbClr val="523e26"/>
            </a:solidFill>
            <a:miter/>
          </a:ln>
          <a:effectLst>
            <a:outerShdw dist="107932" dir="2700000" blurRad="0" rotWithShape="0">
              <a:srgbClr val="2d201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王玉清</cp:lastModifiedBy>
  <dcterms:modified xsi:type="dcterms:W3CDTF">2016-03-02T07:24:01Z</dcterms:modified>
  <cp:revision>85</cp:revision>
  <dc:subject/>
  <dc:title>Piglets template</dc:title>
</cp:coreProperties>
</file>