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8502359-E29E-4A2D-ACAC-4DCAC351BAD4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1AE76108-91FB-44D8-8A89-B8E208F7E5CA}">
      <dgm:prSet phldrT="[Text]"/>
      <dgm:spPr/>
      <dgm:t>
        <a:bodyPr/>
        <a:lstStyle/>
        <a:p>
          <a:r>
            <a:rPr lang="en-US" dirty="0" smtClean="0"/>
            <a:t>[Full Name] Project Manager</a:t>
          </a:r>
          <a:endParaRPr lang="en-US" dirty="0"/>
        </a:p>
      </dgm:t>
    </dgm:pt>
    <dgm:pt modelId="{FB6FE0FF-6322-4547-93AB-8311BC623C08}" type="parTrans" cxnId="{14EE8AC3-0110-4526-90CC-06B68394D9E2}">
      <dgm:prSet/>
      <dgm:spPr/>
      <dgm:t>
        <a:bodyPr/>
        <a:lstStyle/>
        <a:p>
          <a:endParaRPr lang="en-US"/>
        </a:p>
      </dgm:t>
    </dgm:pt>
    <dgm:pt modelId="{0D0D4CAD-4648-4F86-96D2-249E348C9951}" type="sibTrans" cxnId="{14EE8AC3-0110-4526-90CC-06B68394D9E2}">
      <dgm:prSet/>
      <dgm:spPr/>
      <dgm:t>
        <a:bodyPr/>
        <a:lstStyle/>
        <a:p>
          <a:endParaRPr lang="en-US"/>
        </a:p>
      </dgm:t>
    </dgm:pt>
    <dgm:pt modelId="{5F5A6335-6630-4D71-8A8D-82747DBEDD02}" type="asst">
      <dgm:prSet phldrT="[Text]"/>
      <dgm:spPr/>
      <dgm:t>
        <a:bodyPr/>
        <a:lstStyle/>
        <a:p>
          <a:r>
            <a:rPr lang="en-US" dirty="0" smtClean="0"/>
            <a:t>[Full Name] Administrative Assistant</a:t>
          </a:r>
          <a:endParaRPr lang="en-US" dirty="0"/>
        </a:p>
      </dgm:t>
    </dgm:pt>
    <dgm:pt modelId="{1D68A030-C6F3-413B-8622-5590D9ED1D15}" type="parTrans" cxnId="{D9315502-9429-4195-A4A9-CF2CAF046280}">
      <dgm:prSet/>
      <dgm:spPr/>
      <dgm:t>
        <a:bodyPr/>
        <a:lstStyle/>
        <a:p>
          <a:endParaRPr lang="en-US"/>
        </a:p>
      </dgm:t>
    </dgm:pt>
    <dgm:pt modelId="{A1EBADD5-FED1-449B-BA17-8D2135A730AD}" type="sibTrans" cxnId="{D9315502-9429-4195-A4A9-CF2CAF046280}">
      <dgm:prSet/>
      <dgm:spPr/>
      <dgm:t>
        <a:bodyPr/>
        <a:lstStyle/>
        <a:p>
          <a:endParaRPr lang="en-US"/>
        </a:p>
      </dgm:t>
    </dgm:pt>
    <dgm:pt modelId="{292949A4-AA05-4E18-B3F5-1798B95179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480A263B-CD14-423A-A0E1-102EAB428708}" type="parTrans" cxnId="{96B205B4-5F7B-470F-9F70-6B6E2AA23B87}">
      <dgm:prSet/>
      <dgm:spPr/>
      <dgm:t>
        <a:bodyPr/>
        <a:lstStyle/>
        <a:p>
          <a:endParaRPr lang="en-US"/>
        </a:p>
      </dgm:t>
    </dgm:pt>
    <dgm:pt modelId="{95DB1844-9FB2-42CD-B947-48E4C21612F4}" type="sibTrans" cxnId="{96B205B4-5F7B-470F-9F70-6B6E2AA23B87}">
      <dgm:prSet/>
      <dgm:spPr/>
      <dgm:t>
        <a:bodyPr/>
        <a:lstStyle/>
        <a:p>
          <a:endParaRPr lang="en-US"/>
        </a:p>
      </dgm:t>
    </dgm:pt>
    <dgm:pt modelId="{28A0B37A-BED0-495D-9DE0-5C3EB254BD9C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A9367425-E34E-4C76-9930-ADFAEE130305}" type="parTrans" cxnId="{8AB5A839-2EFC-4189-B42A-B729FAF8A55B}">
      <dgm:prSet/>
      <dgm:spPr/>
      <dgm:t>
        <a:bodyPr/>
        <a:lstStyle/>
        <a:p>
          <a:endParaRPr lang="en-US"/>
        </a:p>
      </dgm:t>
    </dgm:pt>
    <dgm:pt modelId="{E517DD1E-2D47-4B97-AEE7-47F17CA57721}" type="sibTrans" cxnId="{8AB5A839-2EFC-4189-B42A-B729FAF8A55B}">
      <dgm:prSet/>
      <dgm:spPr/>
      <dgm:t>
        <a:bodyPr/>
        <a:lstStyle/>
        <a:p>
          <a:endParaRPr lang="en-US"/>
        </a:p>
      </dgm:t>
    </dgm:pt>
    <dgm:pt modelId="{0ACBA0E5-BBCD-43D7-A3BC-FC0CF9D01C8A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C6B0EF2E-D0FA-4A1B-8E00-868CCDF8158E}" type="parTrans" cxnId="{6581C4F9-789D-48A7-9428-0E021B2DC4A2}">
      <dgm:prSet/>
      <dgm:spPr/>
      <dgm:t>
        <a:bodyPr/>
        <a:lstStyle/>
        <a:p>
          <a:endParaRPr lang="en-US"/>
        </a:p>
      </dgm:t>
    </dgm:pt>
    <dgm:pt modelId="{D230325B-7A0E-4212-8386-DF558C1F2B2A}" type="sibTrans" cxnId="{6581C4F9-789D-48A7-9428-0E021B2DC4A2}">
      <dgm:prSet/>
      <dgm:spPr/>
      <dgm:t>
        <a:bodyPr/>
        <a:lstStyle/>
        <a:p>
          <a:endParaRPr lang="en-US"/>
        </a:p>
      </dgm:t>
    </dgm:pt>
    <dgm:pt modelId="{5FDCA85D-1C67-44A6-9071-13A3485087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03FDE31C-AA0C-4FFD-88F3-B8C60C7688B2}" type="parTrans" cxnId="{271D1B83-8B39-409B-9021-75223A00D6D6}">
      <dgm:prSet/>
      <dgm:spPr/>
      <dgm:t>
        <a:bodyPr/>
        <a:lstStyle/>
        <a:p>
          <a:endParaRPr lang="en-US"/>
        </a:p>
      </dgm:t>
    </dgm:pt>
    <dgm:pt modelId="{FE1A6629-9F0A-4947-827E-686E8B12F027}" type="sibTrans" cxnId="{271D1B83-8B39-409B-9021-75223A00D6D6}">
      <dgm:prSet/>
      <dgm:spPr/>
      <dgm:t>
        <a:bodyPr/>
        <a:lstStyle/>
        <a:p>
          <a:endParaRPr lang="en-US"/>
        </a:p>
      </dgm:t>
    </dgm:pt>
    <dgm:pt modelId="{24932D62-51B8-4D71-A5FA-4BD57552139C}" type="pres">
      <dgm:prSet presAssocID="{78502359-E29E-4A2D-ACAC-4DCAC351BAD4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n-US"/>
        </a:p>
      </dgm:t>
    </dgm:pt>
    <dgm:pt modelId="{63487077-536E-4911-8464-54721A48DE05}" type="pres">
      <dgm:prSet presAssocID="{1AE76108-91FB-44D8-8A89-B8E208F7E5CA}" presName="hierRoot1" presStyleCnt="0">
        <dgm:presLayoutVars>
          <dgm:hierBranch val="init"/>
        </dgm:presLayoutVars>
      </dgm:prSet>
      <dgm:spPr/>
    </dgm:pt>
    <dgm:pt modelId="{342D541C-5030-4F91-A070-844941CA9444}" type="pres">
      <dgm:prSet presAssocID="{1AE76108-91FB-44D8-8A89-B8E208F7E5CA}" presName="rootComposite1" presStyleCnt="0"/>
      <dgm:spPr/>
    </dgm:pt>
    <dgm:pt modelId="{B4F9536A-212F-4EE6-8E36-1F7330E5587D}" type="pres">
      <dgm:prSet presAssocID="{1AE76108-91FB-44D8-8A89-B8E208F7E5CA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4EA89FA-F4C3-4343-B0EA-03CE8E80571B}" type="pres">
      <dgm:prSet presAssocID="{1AE76108-91FB-44D8-8A89-B8E208F7E5CA}" presName="rootConnector1" presStyleLbl="node1" presStyleIdx="0" presStyleCnt="0"/>
      <dgm:spPr/>
      <dgm:t>
        <a:bodyPr/>
        <a:lstStyle/>
        <a:p>
          <a:endParaRPr lang="en-US"/>
        </a:p>
      </dgm:t>
    </dgm:pt>
    <dgm:pt modelId="{D1F0577B-7768-4685-A52C-86010901C5D7}" type="pres">
      <dgm:prSet presAssocID="{1AE76108-91FB-44D8-8A89-B8E208F7E5CA}" presName="hierChild2" presStyleCnt="0"/>
      <dgm:spPr/>
    </dgm:pt>
    <dgm:pt modelId="{ED86A04F-8E18-4C09-847D-FF6943170D74}" type="pres">
      <dgm:prSet presAssocID="{480A263B-CD14-423A-A0E1-102EAB428708}" presName="Name37" presStyleLbl="parChTrans1D2" presStyleIdx="0" presStyleCnt="5"/>
      <dgm:spPr/>
      <dgm:t>
        <a:bodyPr/>
        <a:lstStyle/>
        <a:p>
          <a:endParaRPr lang="en-US"/>
        </a:p>
      </dgm:t>
    </dgm:pt>
    <dgm:pt modelId="{EFB687C1-0A36-4EE0-869B-BE082DC4B4F5}" type="pres">
      <dgm:prSet presAssocID="{292949A4-AA05-4E18-B3F5-1798B9517995}" presName="hierRoot2" presStyleCnt="0">
        <dgm:presLayoutVars>
          <dgm:hierBranch val="init"/>
        </dgm:presLayoutVars>
      </dgm:prSet>
      <dgm:spPr/>
    </dgm:pt>
    <dgm:pt modelId="{B3B2FC3E-37B1-4887-B44A-51C1D04E725F}" type="pres">
      <dgm:prSet presAssocID="{292949A4-AA05-4E18-B3F5-1798B9517995}" presName="rootComposite" presStyleCnt="0"/>
      <dgm:spPr/>
    </dgm:pt>
    <dgm:pt modelId="{7174A553-29A2-4360-80CF-40A80BE1E5E1}" type="pres">
      <dgm:prSet presAssocID="{292949A4-AA05-4E18-B3F5-1798B9517995}" presName="rootText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D164376A-6279-4F34-8FAC-9C7E5143D544}" type="pres">
      <dgm:prSet presAssocID="{292949A4-AA05-4E18-B3F5-1798B9517995}" presName="rootConnector" presStyleLbl="node2" presStyleIdx="0" presStyleCnt="4"/>
      <dgm:spPr/>
      <dgm:t>
        <a:bodyPr/>
        <a:lstStyle/>
        <a:p>
          <a:endParaRPr lang="en-US"/>
        </a:p>
      </dgm:t>
    </dgm:pt>
    <dgm:pt modelId="{8C825E58-14E8-483E-9F7B-AA1792C01D88}" type="pres">
      <dgm:prSet presAssocID="{292949A4-AA05-4E18-B3F5-1798B9517995}" presName="hierChild4" presStyleCnt="0"/>
      <dgm:spPr/>
    </dgm:pt>
    <dgm:pt modelId="{DE7C342C-0614-40D9-A99C-12D7AD9BC715}" type="pres">
      <dgm:prSet presAssocID="{292949A4-AA05-4E18-B3F5-1798B9517995}" presName="hierChild5" presStyleCnt="0"/>
      <dgm:spPr/>
    </dgm:pt>
    <dgm:pt modelId="{49F27310-186D-41EB-B0D9-B311379F2447}" type="pres">
      <dgm:prSet presAssocID="{A9367425-E34E-4C76-9930-ADFAEE130305}" presName="Name37" presStyleLbl="parChTrans1D2" presStyleIdx="1" presStyleCnt="5"/>
      <dgm:spPr/>
      <dgm:t>
        <a:bodyPr/>
        <a:lstStyle/>
        <a:p>
          <a:endParaRPr lang="en-US"/>
        </a:p>
      </dgm:t>
    </dgm:pt>
    <dgm:pt modelId="{DD37C9DD-498D-4BBC-B3E4-1EA4D5759522}" type="pres">
      <dgm:prSet presAssocID="{28A0B37A-BED0-495D-9DE0-5C3EB254BD9C}" presName="hierRoot2" presStyleCnt="0">
        <dgm:presLayoutVars>
          <dgm:hierBranch val="init"/>
        </dgm:presLayoutVars>
      </dgm:prSet>
      <dgm:spPr/>
    </dgm:pt>
    <dgm:pt modelId="{5D52FA1C-A3E5-4CA3-8F7A-23BAFF63DCA7}" type="pres">
      <dgm:prSet presAssocID="{28A0B37A-BED0-495D-9DE0-5C3EB254BD9C}" presName="rootComposite" presStyleCnt="0"/>
      <dgm:spPr/>
    </dgm:pt>
    <dgm:pt modelId="{08335018-97AA-460E-A117-81DBA3DD3BA6}" type="pres">
      <dgm:prSet presAssocID="{28A0B37A-BED0-495D-9DE0-5C3EB254BD9C}" presName="rootText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5D0D12C-4679-4F26-9710-FD8E514589D1}" type="pres">
      <dgm:prSet presAssocID="{28A0B37A-BED0-495D-9DE0-5C3EB254BD9C}" presName="rootConnector" presStyleLbl="node2" presStyleIdx="1" presStyleCnt="4"/>
      <dgm:spPr/>
      <dgm:t>
        <a:bodyPr/>
        <a:lstStyle/>
        <a:p>
          <a:endParaRPr lang="en-US"/>
        </a:p>
      </dgm:t>
    </dgm:pt>
    <dgm:pt modelId="{8EB97B11-FBCA-4B4E-B19F-53DF3AFDD2F3}" type="pres">
      <dgm:prSet presAssocID="{28A0B37A-BED0-495D-9DE0-5C3EB254BD9C}" presName="hierChild4" presStyleCnt="0"/>
      <dgm:spPr/>
    </dgm:pt>
    <dgm:pt modelId="{02C81350-F8A1-4EAC-834A-37E8A0F9D7A0}" type="pres">
      <dgm:prSet presAssocID="{28A0B37A-BED0-495D-9DE0-5C3EB254BD9C}" presName="hierChild5" presStyleCnt="0"/>
      <dgm:spPr/>
    </dgm:pt>
    <dgm:pt modelId="{86CB14CF-3AAB-49BF-A348-8C10128F63F4}" type="pres">
      <dgm:prSet presAssocID="{C6B0EF2E-D0FA-4A1B-8E00-868CCDF8158E}" presName="Name37" presStyleLbl="parChTrans1D2" presStyleIdx="2" presStyleCnt="5"/>
      <dgm:spPr/>
      <dgm:t>
        <a:bodyPr/>
        <a:lstStyle/>
        <a:p>
          <a:endParaRPr lang="en-US"/>
        </a:p>
      </dgm:t>
    </dgm:pt>
    <dgm:pt modelId="{77371579-F80B-48CD-B835-644D974105F2}" type="pres">
      <dgm:prSet presAssocID="{0ACBA0E5-BBCD-43D7-A3BC-FC0CF9D01C8A}" presName="hierRoot2" presStyleCnt="0">
        <dgm:presLayoutVars>
          <dgm:hierBranch val="init"/>
        </dgm:presLayoutVars>
      </dgm:prSet>
      <dgm:spPr/>
    </dgm:pt>
    <dgm:pt modelId="{C6C8DF18-AFF5-41C5-91D5-986B3912F98F}" type="pres">
      <dgm:prSet presAssocID="{0ACBA0E5-BBCD-43D7-A3BC-FC0CF9D01C8A}" presName="rootComposite" presStyleCnt="0"/>
      <dgm:spPr/>
    </dgm:pt>
    <dgm:pt modelId="{57DA3771-BFCF-450F-AC08-0C13953670E4}" type="pres">
      <dgm:prSet presAssocID="{0ACBA0E5-BBCD-43D7-A3BC-FC0CF9D01C8A}" presName="rootText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A66423F-FACA-4DAE-89C7-B644512E5F7D}" type="pres">
      <dgm:prSet presAssocID="{0ACBA0E5-BBCD-43D7-A3BC-FC0CF9D01C8A}" presName="rootConnector" presStyleLbl="node2" presStyleIdx="2" presStyleCnt="4"/>
      <dgm:spPr/>
      <dgm:t>
        <a:bodyPr/>
        <a:lstStyle/>
        <a:p>
          <a:endParaRPr lang="en-US"/>
        </a:p>
      </dgm:t>
    </dgm:pt>
    <dgm:pt modelId="{A60090D2-BA88-4DA7-A0B0-A2449D16B861}" type="pres">
      <dgm:prSet presAssocID="{0ACBA0E5-BBCD-43D7-A3BC-FC0CF9D01C8A}" presName="hierChild4" presStyleCnt="0"/>
      <dgm:spPr/>
    </dgm:pt>
    <dgm:pt modelId="{1058A9B4-2819-474F-9B1E-FCE066EC39C9}" type="pres">
      <dgm:prSet presAssocID="{0ACBA0E5-BBCD-43D7-A3BC-FC0CF9D01C8A}" presName="hierChild5" presStyleCnt="0"/>
      <dgm:spPr/>
    </dgm:pt>
    <dgm:pt modelId="{8E0B701E-731A-4119-97E9-BE8C6970B14F}" type="pres">
      <dgm:prSet presAssocID="{03FDE31C-AA0C-4FFD-88F3-B8C60C7688B2}" presName="Name37" presStyleLbl="parChTrans1D2" presStyleIdx="3" presStyleCnt="5"/>
      <dgm:spPr/>
      <dgm:t>
        <a:bodyPr/>
        <a:lstStyle/>
        <a:p>
          <a:endParaRPr lang="en-US"/>
        </a:p>
      </dgm:t>
    </dgm:pt>
    <dgm:pt modelId="{874468E2-0EC1-4B30-BFBA-2E7D789367BD}" type="pres">
      <dgm:prSet presAssocID="{5FDCA85D-1C67-44A6-9071-13A348508795}" presName="hierRoot2" presStyleCnt="0">
        <dgm:presLayoutVars>
          <dgm:hierBranch val="init"/>
        </dgm:presLayoutVars>
      </dgm:prSet>
      <dgm:spPr/>
    </dgm:pt>
    <dgm:pt modelId="{EBD67921-28BF-4E49-9555-F1C1BBCF3162}" type="pres">
      <dgm:prSet presAssocID="{5FDCA85D-1C67-44A6-9071-13A348508795}" presName="rootComposite" presStyleCnt="0"/>
      <dgm:spPr/>
    </dgm:pt>
    <dgm:pt modelId="{95F76DE9-F993-4C08-8EB9-2BBE7C2B73FA}" type="pres">
      <dgm:prSet presAssocID="{5FDCA85D-1C67-44A6-9071-13A348508795}" presName="rootText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A76F18EF-98B9-479F-AD3D-B0E4FFB0B47A}" type="pres">
      <dgm:prSet presAssocID="{5FDCA85D-1C67-44A6-9071-13A348508795}" presName="rootConnector" presStyleLbl="node2" presStyleIdx="3" presStyleCnt="4"/>
      <dgm:spPr/>
      <dgm:t>
        <a:bodyPr/>
        <a:lstStyle/>
        <a:p>
          <a:endParaRPr lang="en-US"/>
        </a:p>
      </dgm:t>
    </dgm:pt>
    <dgm:pt modelId="{D5C426A1-EAF3-4CC8-9D70-F9EBFDECC12B}" type="pres">
      <dgm:prSet presAssocID="{5FDCA85D-1C67-44A6-9071-13A348508795}" presName="hierChild4" presStyleCnt="0"/>
      <dgm:spPr/>
    </dgm:pt>
    <dgm:pt modelId="{FAC07446-5EA7-473F-8A6A-3F435781B06F}" type="pres">
      <dgm:prSet presAssocID="{5FDCA85D-1C67-44A6-9071-13A348508795}" presName="hierChild5" presStyleCnt="0"/>
      <dgm:spPr/>
    </dgm:pt>
    <dgm:pt modelId="{53425F9F-A766-4F4F-BE7E-8967A57E25F5}" type="pres">
      <dgm:prSet presAssocID="{1AE76108-91FB-44D8-8A89-B8E208F7E5CA}" presName="hierChild3" presStyleCnt="0"/>
      <dgm:spPr/>
    </dgm:pt>
    <dgm:pt modelId="{68C4EFF2-445F-4267-8276-3476572E2322}" type="pres">
      <dgm:prSet presAssocID="{1D68A030-C6F3-413B-8622-5590D9ED1D15}" presName="Name111" presStyleLbl="parChTrans1D2" presStyleIdx="4" presStyleCnt="5"/>
      <dgm:spPr/>
      <dgm:t>
        <a:bodyPr/>
        <a:lstStyle/>
        <a:p>
          <a:endParaRPr lang="en-US"/>
        </a:p>
      </dgm:t>
    </dgm:pt>
    <dgm:pt modelId="{AF728B47-EBAB-4EC6-904A-07F266E4DACA}" type="pres">
      <dgm:prSet presAssocID="{5F5A6335-6630-4D71-8A8D-82747DBEDD02}" presName="hierRoot3" presStyleCnt="0">
        <dgm:presLayoutVars>
          <dgm:hierBranch val="init"/>
        </dgm:presLayoutVars>
      </dgm:prSet>
      <dgm:spPr/>
    </dgm:pt>
    <dgm:pt modelId="{DD5351A4-1354-47FA-ABA6-EE4079D952E3}" type="pres">
      <dgm:prSet presAssocID="{5F5A6335-6630-4D71-8A8D-82747DBEDD02}" presName="rootComposite3" presStyleCnt="0"/>
      <dgm:spPr/>
    </dgm:pt>
    <dgm:pt modelId="{940E95D1-7142-4E02-A0BE-B91C30369A64}" type="pres">
      <dgm:prSet presAssocID="{5F5A6335-6630-4D71-8A8D-82747DBEDD02}" presName="rootText3" presStyleLbl="asst1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8F9A1E52-B498-4A1B-BE2F-B7CEA92EF782}" type="pres">
      <dgm:prSet presAssocID="{5F5A6335-6630-4D71-8A8D-82747DBEDD02}" presName="rootConnector3" presStyleLbl="asst1" presStyleIdx="0" presStyleCnt="1"/>
      <dgm:spPr/>
      <dgm:t>
        <a:bodyPr/>
        <a:lstStyle/>
        <a:p>
          <a:endParaRPr lang="en-US"/>
        </a:p>
      </dgm:t>
    </dgm:pt>
    <dgm:pt modelId="{CE1341E2-B64C-4A42-99B7-9AEFFD1FC2CF}" type="pres">
      <dgm:prSet presAssocID="{5F5A6335-6630-4D71-8A8D-82747DBEDD02}" presName="hierChild6" presStyleCnt="0"/>
      <dgm:spPr/>
    </dgm:pt>
    <dgm:pt modelId="{7E8C11CE-7313-4CE8-8C3E-C45393A9B8EC}" type="pres">
      <dgm:prSet presAssocID="{5F5A6335-6630-4D71-8A8D-82747DBEDD02}" presName="hierChild7" presStyleCnt="0"/>
      <dgm:spPr/>
    </dgm:pt>
  </dgm:ptLst>
  <dgm:cxnLst>
    <dgm:cxn modelId="{6A862CDD-EF38-45D4-97DE-FC02746B3FCE}" type="presOf" srcId="{0ACBA0E5-BBCD-43D7-A3BC-FC0CF9D01C8A}" destId="{FA66423F-FACA-4DAE-89C7-B644512E5F7D}" srcOrd="1" destOrd="0" presId="urn:microsoft.com/office/officeart/2005/8/layout/orgChart1"/>
    <dgm:cxn modelId="{38F8FB3A-64A3-41FD-B3F3-7CE4D402AD28}" type="presOf" srcId="{5FDCA85D-1C67-44A6-9071-13A348508795}" destId="{A76F18EF-98B9-479F-AD3D-B0E4FFB0B47A}" srcOrd="1" destOrd="0" presId="urn:microsoft.com/office/officeart/2005/8/layout/orgChart1"/>
    <dgm:cxn modelId="{9A96716E-F44E-415E-88AA-DF5BD8C9B8C2}" type="presOf" srcId="{A9367425-E34E-4C76-9930-ADFAEE130305}" destId="{49F27310-186D-41EB-B0D9-B311379F2447}" srcOrd="0" destOrd="0" presId="urn:microsoft.com/office/officeart/2005/8/layout/orgChart1"/>
    <dgm:cxn modelId="{4061AC72-53D8-4433-9F2A-94A54BCD5BD1}" type="presOf" srcId="{1D68A030-C6F3-413B-8622-5590D9ED1D15}" destId="{68C4EFF2-445F-4267-8276-3476572E2322}" srcOrd="0" destOrd="0" presId="urn:microsoft.com/office/officeart/2005/8/layout/orgChart1"/>
    <dgm:cxn modelId="{6581C4F9-789D-48A7-9428-0E021B2DC4A2}" srcId="{1AE76108-91FB-44D8-8A89-B8E208F7E5CA}" destId="{0ACBA0E5-BBCD-43D7-A3BC-FC0CF9D01C8A}" srcOrd="3" destOrd="0" parTransId="{C6B0EF2E-D0FA-4A1B-8E00-868CCDF8158E}" sibTransId="{D230325B-7A0E-4212-8386-DF558C1F2B2A}"/>
    <dgm:cxn modelId="{B917934C-13E1-4CE8-B3C0-515F7A8EF1A7}" type="presOf" srcId="{03FDE31C-AA0C-4FFD-88F3-B8C60C7688B2}" destId="{8E0B701E-731A-4119-97E9-BE8C6970B14F}" srcOrd="0" destOrd="0" presId="urn:microsoft.com/office/officeart/2005/8/layout/orgChart1"/>
    <dgm:cxn modelId="{9E6FDE4A-5AB8-4768-8548-E7BB1C2B0BF9}" type="presOf" srcId="{292949A4-AA05-4E18-B3F5-1798B9517995}" destId="{D164376A-6279-4F34-8FAC-9C7E5143D544}" srcOrd="1" destOrd="0" presId="urn:microsoft.com/office/officeart/2005/8/layout/orgChart1"/>
    <dgm:cxn modelId="{E965B04B-4E34-4B32-8AF3-EF83420C5133}" type="presOf" srcId="{1AE76108-91FB-44D8-8A89-B8E208F7E5CA}" destId="{B4F9536A-212F-4EE6-8E36-1F7330E5587D}" srcOrd="0" destOrd="0" presId="urn:microsoft.com/office/officeart/2005/8/layout/orgChart1"/>
    <dgm:cxn modelId="{E71D1E0B-760E-4C2A-A256-8BC0BCA55ED3}" type="presOf" srcId="{28A0B37A-BED0-495D-9DE0-5C3EB254BD9C}" destId="{65D0D12C-4679-4F26-9710-FD8E514589D1}" srcOrd="1" destOrd="0" presId="urn:microsoft.com/office/officeart/2005/8/layout/orgChart1"/>
    <dgm:cxn modelId="{95485B63-719F-4185-A07B-0921F9CF3831}" type="presOf" srcId="{292949A4-AA05-4E18-B3F5-1798B9517995}" destId="{7174A553-29A2-4360-80CF-40A80BE1E5E1}" srcOrd="0" destOrd="0" presId="urn:microsoft.com/office/officeart/2005/8/layout/orgChart1"/>
    <dgm:cxn modelId="{271D1B83-8B39-409B-9021-75223A00D6D6}" srcId="{1AE76108-91FB-44D8-8A89-B8E208F7E5CA}" destId="{5FDCA85D-1C67-44A6-9071-13A348508795}" srcOrd="4" destOrd="0" parTransId="{03FDE31C-AA0C-4FFD-88F3-B8C60C7688B2}" sibTransId="{FE1A6629-9F0A-4947-827E-686E8B12F027}"/>
    <dgm:cxn modelId="{D489E0C5-69BB-408F-B350-6F6A7638A605}" type="presOf" srcId="{28A0B37A-BED0-495D-9DE0-5C3EB254BD9C}" destId="{08335018-97AA-460E-A117-81DBA3DD3BA6}" srcOrd="0" destOrd="0" presId="urn:microsoft.com/office/officeart/2005/8/layout/orgChart1"/>
    <dgm:cxn modelId="{5AF05E3C-1618-4555-BA61-A72922A29BA3}" type="presOf" srcId="{0ACBA0E5-BBCD-43D7-A3BC-FC0CF9D01C8A}" destId="{57DA3771-BFCF-450F-AC08-0C13953670E4}" srcOrd="0" destOrd="0" presId="urn:microsoft.com/office/officeart/2005/8/layout/orgChart1"/>
    <dgm:cxn modelId="{5A3BDB3E-F59D-4FBB-8BA2-C8B07F95B24E}" type="presOf" srcId="{78502359-E29E-4A2D-ACAC-4DCAC351BAD4}" destId="{24932D62-51B8-4D71-A5FA-4BD57552139C}" srcOrd="0" destOrd="0" presId="urn:microsoft.com/office/officeart/2005/8/layout/orgChart1"/>
    <dgm:cxn modelId="{60BAD24B-0D54-4C19-9DBF-5A3B0A658751}" type="presOf" srcId="{5F5A6335-6630-4D71-8A8D-82747DBEDD02}" destId="{940E95D1-7142-4E02-A0BE-B91C30369A64}" srcOrd="0" destOrd="0" presId="urn:microsoft.com/office/officeart/2005/8/layout/orgChart1"/>
    <dgm:cxn modelId="{F6553233-8D52-4353-AD04-DE45FB11F721}" type="presOf" srcId="{5F5A6335-6630-4D71-8A8D-82747DBEDD02}" destId="{8F9A1E52-B498-4A1B-BE2F-B7CEA92EF782}" srcOrd="1" destOrd="0" presId="urn:microsoft.com/office/officeart/2005/8/layout/orgChart1"/>
    <dgm:cxn modelId="{599D519B-4F87-4693-BAFD-0C5218EEC14B}" type="presOf" srcId="{5FDCA85D-1C67-44A6-9071-13A348508795}" destId="{95F76DE9-F993-4C08-8EB9-2BBE7C2B73FA}" srcOrd="0" destOrd="0" presId="urn:microsoft.com/office/officeart/2005/8/layout/orgChart1"/>
    <dgm:cxn modelId="{96B205B4-5F7B-470F-9F70-6B6E2AA23B87}" srcId="{1AE76108-91FB-44D8-8A89-B8E208F7E5CA}" destId="{292949A4-AA05-4E18-B3F5-1798B9517995}" srcOrd="1" destOrd="0" parTransId="{480A263B-CD14-423A-A0E1-102EAB428708}" sibTransId="{95DB1844-9FB2-42CD-B947-48E4C21612F4}"/>
    <dgm:cxn modelId="{EF20C22C-BF5A-408C-804D-3FD988C588A8}" type="presOf" srcId="{1AE76108-91FB-44D8-8A89-B8E208F7E5CA}" destId="{B4EA89FA-F4C3-4343-B0EA-03CE8E80571B}" srcOrd="1" destOrd="0" presId="urn:microsoft.com/office/officeart/2005/8/layout/orgChart1"/>
    <dgm:cxn modelId="{14EE8AC3-0110-4526-90CC-06B68394D9E2}" srcId="{78502359-E29E-4A2D-ACAC-4DCAC351BAD4}" destId="{1AE76108-91FB-44D8-8A89-B8E208F7E5CA}" srcOrd="0" destOrd="0" parTransId="{FB6FE0FF-6322-4547-93AB-8311BC623C08}" sibTransId="{0D0D4CAD-4648-4F86-96D2-249E348C9951}"/>
    <dgm:cxn modelId="{3AFE524A-8081-4FFF-A95C-4136772994C5}" type="presOf" srcId="{C6B0EF2E-D0FA-4A1B-8E00-868CCDF8158E}" destId="{86CB14CF-3AAB-49BF-A348-8C10128F63F4}" srcOrd="0" destOrd="0" presId="urn:microsoft.com/office/officeart/2005/8/layout/orgChart1"/>
    <dgm:cxn modelId="{D9315502-9429-4195-A4A9-CF2CAF046280}" srcId="{1AE76108-91FB-44D8-8A89-B8E208F7E5CA}" destId="{5F5A6335-6630-4D71-8A8D-82747DBEDD02}" srcOrd="0" destOrd="0" parTransId="{1D68A030-C6F3-413B-8622-5590D9ED1D15}" sibTransId="{A1EBADD5-FED1-449B-BA17-8D2135A730AD}"/>
    <dgm:cxn modelId="{8AB5A839-2EFC-4189-B42A-B729FAF8A55B}" srcId="{1AE76108-91FB-44D8-8A89-B8E208F7E5CA}" destId="{28A0B37A-BED0-495D-9DE0-5C3EB254BD9C}" srcOrd="2" destOrd="0" parTransId="{A9367425-E34E-4C76-9930-ADFAEE130305}" sibTransId="{E517DD1E-2D47-4B97-AEE7-47F17CA57721}"/>
    <dgm:cxn modelId="{CF82C8E6-486C-424F-90D6-200CBF714501}" type="presOf" srcId="{480A263B-CD14-423A-A0E1-102EAB428708}" destId="{ED86A04F-8E18-4C09-847D-FF6943170D74}" srcOrd="0" destOrd="0" presId="urn:microsoft.com/office/officeart/2005/8/layout/orgChart1"/>
    <dgm:cxn modelId="{47564C9F-0E14-4060-AC83-404B52DCC24F}" type="presParOf" srcId="{24932D62-51B8-4D71-A5FA-4BD57552139C}" destId="{63487077-536E-4911-8464-54721A48DE05}" srcOrd="0" destOrd="0" presId="urn:microsoft.com/office/officeart/2005/8/layout/orgChart1"/>
    <dgm:cxn modelId="{39AC3DB3-A228-4BD8-B547-0300DE84F6A4}" type="presParOf" srcId="{63487077-536E-4911-8464-54721A48DE05}" destId="{342D541C-5030-4F91-A070-844941CA9444}" srcOrd="0" destOrd="0" presId="urn:microsoft.com/office/officeart/2005/8/layout/orgChart1"/>
    <dgm:cxn modelId="{FB0508CB-6FEA-46D7-A580-657E6137B04C}" type="presParOf" srcId="{342D541C-5030-4F91-A070-844941CA9444}" destId="{B4F9536A-212F-4EE6-8E36-1F7330E5587D}" srcOrd="0" destOrd="0" presId="urn:microsoft.com/office/officeart/2005/8/layout/orgChart1"/>
    <dgm:cxn modelId="{C03ADF92-33D9-4AD8-A791-FFFBC8C303BC}" type="presParOf" srcId="{342D541C-5030-4F91-A070-844941CA9444}" destId="{B4EA89FA-F4C3-4343-B0EA-03CE8E80571B}" srcOrd="1" destOrd="0" presId="urn:microsoft.com/office/officeart/2005/8/layout/orgChart1"/>
    <dgm:cxn modelId="{4BF9271D-1BFA-4682-B684-3DF869E0DBB0}" type="presParOf" srcId="{63487077-536E-4911-8464-54721A48DE05}" destId="{D1F0577B-7768-4685-A52C-86010901C5D7}" srcOrd="1" destOrd="0" presId="urn:microsoft.com/office/officeart/2005/8/layout/orgChart1"/>
    <dgm:cxn modelId="{612DB41E-FFB3-4E10-9557-38770C5CEF90}" type="presParOf" srcId="{D1F0577B-7768-4685-A52C-86010901C5D7}" destId="{ED86A04F-8E18-4C09-847D-FF6943170D74}" srcOrd="0" destOrd="0" presId="urn:microsoft.com/office/officeart/2005/8/layout/orgChart1"/>
    <dgm:cxn modelId="{C5A58E31-29F5-49FE-ACEF-3F2EDFDAF259}" type="presParOf" srcId="{D1F0577B-7768-4685-A52C-86010901C5D7}" destId="{EFB687C1-0A36-4EE0-869B-BE082DC4B4F5}" srcOrd="1" destOrd="0" presId="urn:microsoft.com/office/officeart/2005/8/layout/orgChart1"/>
    <dgm:cxn modelId="{11F77403-432B-40C7-BF63-34A9BF1C96DE}" type="presParOf" srcId="{EFB687C1-0A36-4EE0-869B-BE082DC4B4F5}" destId="{B3B2FC3E-37B1-4887-B44A-51C1D04E725F}" srcOrd="0" destOrd="0" presId="urn:microsoft.com/office/officeart/2005/8/layout/orgChart1"/>
    <dgm:cxn modelId="{4F47DD4F-F599-4460-A671-B3516DD7E1AA}" type="presParOf" srcId="{B3B2FC3E-37B1-4887-B44A-51C1D04E725F}" destId="{7174A553-29A2-4360-80CF-40A80BE1E5E1}" srcOrd="0" destOrd="0" presId="urn:microsoft.com/office/officeart/2005/8/layout/orgChart1"/>
    <dgm:cxn modelId="{03BD705B-F623-44C0-B822-581AE9483C0B}" type="presParOf" srcId="{B3B2FC3E-37B1-4887-B44A-51C1D04E725F}" destId="{D164376A-6279-4F34-8FAC-9C7E5143D544}" srcOrd="1" destOrd="0" presId="urn:microsoft.com/office/officeart/2005/8/layout/orgChart1"/>
    <dgm:cxn modelId="{2A8F5CA0-9D12-4C41-88DD-9E533C4FACAF}" type="presParOf" srcId="{EFB687C1-0A36-4EE0-869B-BE082DC4B4F5}" destId="{8C825E58-14E8-483E-9F7B-AA1792C01D88}" srcOrd="1" destOrd="0" presId="urn:microsoft.com/office/officeart/2005/8/layout/orgChart1"/>
    <dgm:cxn modelId="{B1C93290-CBFB-4C5D-A62C-687FAFE39D3A}" type="presParOf" srcId="{EFB687C1-0A36-4EE0-869B-BE082DC4B4F5}" destId="{DE7C342C-0614-40D9-A99C-12D7AD9BC715}" srcOrd="2" destOrd="0" presId="urn:microsoft.com/office/officeart/2005/8/layout/orgChart1"/>
    <dgm:cxn modelId="{760A20D4-2DBE-4E5D-A9C4-E75ADCEDA069}" type="presParOf" srcId="{D1F0577B-7768-4685-A52C-86010901C5D7}" destId="{49F27310-186D-41EB-B0D9-B311379F2447}" srcOrd="2" destOrd="0" presId="urn:microsoft.com/office/officeart/2005/8/layout/orgChart1"/>
    <dgm:cxn modelId="{5017622E-A084-414A-87F1-706E9D8D300D}" type="presParOf" srcId="{D1F0577B-7768-4685-A52C-86010901C5D7}" destId="{DD37C9DD-498D-4BBC-B3E4-1EA4D5759522}" srcOrd="3" destOrd="0" presId="urn:microsoft.com/office/officeart/2005/8/layout/orgChart1"/>
    <dgm:cxn modelId="{EA224D96-D57F-4C37-8F1C-67F01E0F064E}" type="presParOf" srcId="{DD37C9DD-498D-4BBC-B3E4-1EA4D5759522}" destId="{5D52FA1C-A3E5-4CA3-8F7A-23BAFF63DCA7}" srcOrd="0" destOrd="0" presId="urn:microsoft.com/office/officeart/2005/8/layout/orgChart1"/>
    <dgm:cxn modelId="{EF36A0BB-5EF6-4C06-9C51-22D888068C70}" type="presParOf" srcId="{5D52FA1C-A3E5-4CA3-8F7A-23BAFF63DCA7}" destId="{08335018-97AA-460E-A117-81DBA3DD3BA6}" srcOrd="0" destOrd="0" presId="urn:microsoft.com/office/officeart/2005/8/layout/orgChart1"/>
    <dgm:cxn modelId="{E7373A03-7772-43BF-90F4-17BF8B91A2AC}" type="presParOf" srcId="{5D52FA1C-A3E5-4CA3-8F7A-23BAFF63DCA7}" destId="{65D0D12C-4679-4F26-9710-FD8E514589D1}" srcOrd="1" destOrd="0" presId="urn:microsoft.com/office/officeart/2005/8/layout/orgChart1"/>
    <dgm:cxn modelId="{C5166279-7206-4172-BD80-532665C5D43E}" type="presParOf" srcId="{DD37C9DD-498D-4BBC-B3E4-1EA4D5759522}" destId="{8EB97B11-FBCA-4B4E-B19F-53DF3AFDD2F3}" srcOrd="1" destOrd="0" presId="urn:microsoft.com/office/officeart/2005/8/layout/orgChart1"/>
    <dgm:cxn modelId="{9495EF66-78B2-470E-8B6A-3FF9CEA5A93E}" type="presParOf" srcId="{DD37C9DD-498D-4BBC-B3E4-1EA4D5759522}" destId="{02C81350-F8A1-4EAC-834A-37E8A0F9D7A0}" srcOrd="2" destOrd="0" presId="urn:microsoft.com/office/officeart/2005/8/layout/orgChart1"/>
    <dgm:cxn modelId="{24D869AC-E9FA-4FAB-87CE-E456D6FFD5B5}" type="presParOf" srcId="{D1F0577B-7768-4685-A52C-86010901C5D7}" destId="{86CB14CF-3AAB-49BF-A348-8C10128F63F4}" srcOrd="4" destOrd="0" presId="urn:microsoft.com/office/officeart/2005/8/layout/orgChart1"/>
    <dgm:cxn modelId="{4B73BAB4-A2C8-4E21-813E-A7BA7683C6C1}" type="presParOf" srcId="{D1F0577B-7768-4685-A52C-86010901C5D7}" destId="{77371579-F80B-48CD-B835-644D974105F2}" srcOrd="5" destOrd="0" presId="urn:microsoft.com/office/officeart/2005/8/layout/orgChart1"/>
    <dgm:cxn modelId="{971CBCFF-6D9D-4AC7-B183-B18AD10B7342}" type="presParOf" srcId="{77371579-F80B-48CD-B835-644D974105F2}" destId="{C6C8DF18-AFF5-41C5-91D5-986B3912F98F}" srcOrd="0" destOrd="0" presId="urn:microsoft.com/office/officeart/2005/8/layout/orgChart1"/>
    <dgm:cxn modelId="{607FEF36-DE63-412E-AC5A-DFDE028BF339}" type="presParOf" srcId="{C6C8DF18-AFF5-41C5-91D5-986B3912F98F}" destId="{57DA3771-BFCF-450F-AC08-0C13953670E4}" srcOrd="0" destOrd="0" presId="urn:microsoft.com/office/officeart/2005/8/layout/orgChart1"/>
    <dgm:cxn modelId="{D828D39C-2EC7-44A6-8C9C-225E53D09D41}" type="presParOf" srcId="{C6C8DF18-AFF5-41C5-91D5-986B3912F98F}" destId="{FA66423F-FACA-4DAE-89C7-B644512E5F7D}" srcOrd="1" destOrd="0" presId="urn:microsoft.com/office/officeart/2005/8/layout/orgChart1"/>
    <dgm:cxn modelId="{27BAA77E-8190-49D2-BCE9-64EC28739CDC}" type="presParOf" srcId="{77371579-F80B-48CD-B835-644D974105F2}" destId="{A60090D2-BA88-4DA7-A0B0-A2449D16B861}" srcOrd="1" destOrd="0" presId="urn:microsoft.com/office/officeart/2005/8/layout/orgChart1"/>
    <dgm:cxn modelId="{FE193D01-EB88-4853-85D3-D5050FF5B67A}" type="presParOf" srcId="{77371579-F80B-48CD-B835-644D974105F2}" destId="{1058A9B4-2819-474F-9B1E-FCE066EC39C9}" srcOrd="2" destOrd="0" presId="urn:microsoft.com/office/officeart/2005/8/layout/orgChart1"/>
    <dgm:cxn modelId="{E8E11A0E-6343-424F-9835-7D9031739AB0}" type="presParOf" srcId="{D1F0577B-7768-4685-A52C-86010901C5D7}" destId="{8E0B701E-731A-4119-97E9-BE8C6970B14F}" srcOrd="6" destOrd="0" presId="urn:microsoft.com/office/officeart/2005/8/layout/orgChart1"/>
    <dgm:cxn modelId="{350A0A1A-5134-4347-9870-C1F2E796E571}" type="presParOf" srcId="{D1F0577B-7768-4685-A52C-86010901C5D7}" destId="{874468E2-0EC1-4B30-BFBA-2E7D789367BD}" srcOrd="7" destOrd="0" presId="urn:microsoft.com/office/officeart/2005/8/layout/orgChart1"/>
    <dgm:cxn modelId="{D06EEF74-9BCB-4064-B6D4-B16A440884BF}" type="presParOf" srcId="{874468E2-0EC1-4B30-BFBA-2E7D789367BD}" destId="{EBD67921-28BF-4E49-9555-F1C1BBCF3162}" srcOrd="0" destOrd="0" presId="urn:microsoft.com/office/officeart/2005/8/layout/orgChart1"/>
    <dgm:cxn modelId="{F7714148-7783-4F47-B1AC-55C46A82776B}" type="presParOf" srcId="{EBD67921-28BF-4E49-9555-F1C1BBCF3162}" destId="{95F76DE9-F993-4C08-8EB9-2BBE7C2B73FA}" srcOrd="0" destOrd="0" presId="urn:microsoft.com/office/officeart/2005/8/layout/orgChart1"/>
    <dgm:cxn modelId="{B110C1BE-3CDC-44D7-A879-0C4BA2EE0530}" type="presParOf" srcId="{EBD67921-28BF-4E49-9555-F1C1BBCF3162}" destId="{A76F18EF-98B9-479F-AD3D-B0E4FFB0B47A}" srcOrd="1" destOrd="0" presId="urn:microsoft.com/office/officeart/2005/8/layout/orgChart1"/>
    <dgm:cxn modelId="{B40B8CB9-A846-4487-B0F9-5A98461A8A3E}" type="presParOf" srcId="{874468E2-0EC1-4B30-BFBA-2E7D789367BD}" destId="{D5C426A1-EAF3-4CC8-9D70-F9EBFDECC12B}" srcOrd="1" destOrd="0" presId="urn:microsoft.com/office/officeart/2005/8/layout/orgChart1"/>
    <dgm:cxn modelId="{B4721624-CF6C-4671-AC92-C44B6F43E2B1}" type="presParOf" srcId="{874468E2-0EC1-4B30-BFBA-2E7D789367BD}" destId="{FAC07446-5EA7-473F-8A6A-3F435781B06F}" srcOrd="2" destOrd="0" presId="urn:microsoft.com/office/officeart/2005/8/layout/orgChart1"/>
    <dgm:cxn modelId="{C710B3CD-7705-44FD-978A-D83E07724936}" type="presParOf" srcId="{63487077-536E-4911-8464-54721A48DE05}" destId="{53425F9F-A766-4F4F-BE7E-8967A57E25F5}" srcOrd="2" destOrd="0" presId="urn:microsoft.com/office/officeart/2005/8/layout/orgChart1"/>
    <dgm:cxn modelId="{64A0759A-75AC-42EA-BAC7-85D48FB5C1B9}" type="presParOf" srcId="{53425F9F-A766-4F4F-BE7E-8967A57E25F5}" destId="{68C4EFF2-445F-4267-8276-3476572E2322}" srcOrd="0" destOrd="0" presId="urn:microsoft.com/office/officeart/2005/8/layout/orgChart1"/>
    <dgm:cxn modelId="{1F529836-6D6C-4DDA-A312-635606EAFBDC}" type="presParOf" srcId="{53425F9F-A766-4F4F-BE7E-8967A57E25F5}" destId="{AF728B47-EBAB-4EC6-904A-07F266E4DACA}" srcOrd="1" destOrd="0" presId="urn:microsoft.com/office/officeart/2005/8/layout/orgChart1"/>
    <dgm:cxn modelId="{CE25FA08-578F-4869-B097-10ADA6624FD7}" type="presParOf" srcId="{AF728B47-EBAB-4EC6-904A-07F266E4DACA}" destId="{DD5351A4-1354-47FA-ABA6-EE4079D952E3}" srcOrd="0" destOrd="0" presId="urn:microsoft.com/office/officeart/2005/8/layout/orgChart1"/>
    <dgm:cxn modelId="{85C191C0-7044-4EE7-BB76-03FD32344C38}" type="presParOf" srcId="{DD5351A4-1354-47FA-ABA6-EE4079D952E3}" destId="{940E95D1-7142-4E02-A0BE-B91C30369A64}" srcOrd="0" destOrd="0" presId="urn:microsoft.com/office/officeart/2005/8/layout/orgChart1"/>
    <dgm:cxn modelId="{9B564343-B9DD-4794-8001-8B3C0FF0998B}" type="presParOf" srcId="{DD5351A4-1354-47FA-ABA6-EE4079D952E3}" destId="{8F9A1E52-B498-4A1B-BE2F-B7CEA92EF782}" srcOrd="1" destOrd="0" presId="urn:microsoft.com/office/officeart/2005/8/layout/orgChart1"/>
    <dgm:cxn modelId="{71411A2C-7C76-4872-9778-041B8585F7E9}" type="presParOf" srcId="{AF728B47-EBAB-4EC6-904A-07F266E4DACA}" destId="{CE1341E2-B64C-4A42-99B7-9AEFFD1FC2CF}" srcOrd="1" destOrd="0" presId="urn:microsoft.com/office/officeart/2005/8/layout/orgChart1"/>
    <dgm:cxn modelId="{9C4211AD-59DB-4279-A149-EF8CD24C6A49}" type="presParOf" srcId="{AF728B47-EBAB-4EC6-904A-07F266E4DACA}" destId="{7E8C11CE-7313-4CE8-8C3E-C45393A9B8EC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F4857E7-5C40-4E4D-8F9E-0F40BE240B2F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0F9F144E-5A69-4079-9CFE-833FB141B5B7}">
      <dgm:prSet phldrT="[Text]"/>
      <dgm:spPr/>
      <dgm:t>
        <a:bodyPr/>
        <a:lstStyle/>
        <a:p>
          <a:r>
            <a:rPr lang="en-US" dirty="0" smtClean="0"/>
            <a:t>People</a:t>
          </a:r>
          <a:endParaRPr lang="en-US" dirty="0"/>
        </a:p>
      </dgm:t>
    </dgm:pt>
    <dgm:pt modelId="{5295059C-89BD-48FC-9FB0-63BD38C2AF52}" type="parTrans" cxnId="{696FC290-58F8-4B0A-B325-8A4CDCEFC93C}">
      <dgm:prSet/>
      <dgm:spPr/>
      <dgm:t>
        <a:bodyPr/>
        <a:lstStyle/>
        <a:p>
          <a:endParaRPr lang="en-US"/>
        </a:p>
      </dgm:t>
    </dgm:pt>
    <dgm:pt modelId="{FAB8FA54-A1F3-488D-B823-07CCB71E4D44}" type="sibTrans" cxnId="{696FC290-58F8-4B0A-B325-8A4CDCEFC93C}">
      <dgm:prSet/>
      <dgm:spPr/>
      <dgm:t>
        <a:bodyPr/>
        <a:lstStyle/>
        <a:p>
          <a:endParaRPr lang="en-US"/>
        </a:p>
      </dgm:t>
    </dgm:pt>
    <dgm:pt modelId="{32074760-1CE6-4EA9-A667-33C7E19C2D94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41FFA3F1-CAF6-4B0C-90FB-AAF097D8C840}" type="parTrans" cxnId="{792FB76A-389C-45B7-8308-227DADB5CF70}">
      <dgm:prSet/>
      <dgm:spPr/>
      <dgm:t>
        <a:bodyPr/>
        <a:lstStyle/>
        <a:p>
          <a:endParaRPr lang="en-US"/>
        </a:p>
      </dgm:t>
    </dgm:pt>
    <dgm:pt modelId="{66E711EC-17A3-40E0-B60B-5A2F466C9D11}" type="sibTrans" cxnId="{792FB76A-389C-45B7-8308-227DADB5CF70}">
      <dgm:prSet/>
      <dgm:spPr/>
      <dgm:t>
        <a:bodyPr/>
        <a:lstStyle/>
        <a:p>
          <a:endParaRPr lang="en-US"/>
        </a:p>
      </dgm:t>
    </dgm:pt>
    <dgm:pt modelId="{F5E45C32-85BB-467F-80E6-A808871E72F3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FAB096C4-43F1-4FB0-A740-B5A33490B558}" type="parTrans" cxnId="{C3F684FE-A0E7-411B-A303-2C8155B38D48}">
      <dgm:prSet/>
      <dgm:spPr/>
      <dgm:t>
        <a:bodyPr/>
        <a:lstStyle/>
        <a:p>
          <a:endParaRPr lang="en-US"/>
        </a:p>
      </dgm:t>
    </dgm:pt>
    <dgm:pt modelId="{F29CEF7E-7A2A-457D-9BE3-75C08A423C81}" type="sibTrans" cxnId="{C3F684FE-A0E7-411B-A303-2C8155B38D48}">
      <dgm:prSet/>
      <dgm:spPr/>
      <dgm:t>
        <a:bodyPr/>
        <a:lstStyle/>
        <a:p>
          <a:endParaRPr lang="en-US"/>
        </a:p>
      </dgm:t>
    </dgm:pt>
    <dgm:pt modelId="{6193ECAA-3925-487F-ADF8-CE1362754FFF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CA95F830-F096-4B8A-8E76-097EF46A4F44}" type="parTrans" cxnId="{FA16C23C-5596-42A1-981A-487742CF3BBD}">
      <dgm:prSet/>
      <dgm:spPr/>
      <dgm:t>
        <a:bodyPr/>
        <a:lstStyle/>
        <a:p>
          <a:endParaRPr lang="en-US"/>
        </a:p>
      </dgm:t>
    </dgm:pt>
    <dgm:pt modelId="{4C2F44CE-5AB4-4FFE-B037-FFB0E3B4A7EB}" type="sibTrans" cxnId="{FA16C23C-5596-42A1-981A-487742CF3BBD}">
      <dgm:prSet/>
      <dgm:spPr/>
      <dgm:t>
        <a:bodyPr/>
        <a:lstStyle/>
        <a:p>
          <a:endParaRPr lang="en-US"/>
        </a:p>
      </dgm:t>
    </dgm:pt>
    <dgm:pt modelId="{FA9C7340-018E-4F73-A402-B7FF8C34CDC0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1805A85A-B92E-48E0-886D-23F094607276}" type="parTrans" cxnId="{92E0E4AC-AA4F-4221-B4F5-BC44ADD50226}">
      <dgm:prSet/>
      <dgm:spPr/>
      <dgm:t>
        <a:bodyPr/>
        <a:lstStyle/>
        <a:p>
          <a:endParaRPr lang="en-US"/>
        </a:p>
      </dgm:t>
    </dgm:pt>
    <dgm:pt modelId="{44F9A519-DD68-4648-B8E0-DFC7EF2120B7}" type="sibTrans" cxnId="{92E0E4AC-AA4F-4221-B4F5-BC44ADD50226}">
      <dgm:prSet/>
      <dgm:spPr/>
      <dgm:t>
        <a:bodyPr/>
        <a:lstStyle/>
        <a:p>
          <a:endParaRPr lang="en-US"/>
        </a:p>
      </dgm:t>
    </dgm:pt>
    <dgm:pt modelId="{7592B694-086D-4180-B053-CE7AD13C9858}">
      <dgm:prSet phldrT="[Text]"/>
      <dgm:spPr/>
      <dgm:t>
        <a:bodyPr/>
        <a:lstStyle/>
        <a:p>
          <a:r>
            <a:rPr lang="en-US" dirty="0" smtClean="0"/>
            <a:t>Locations</a:t>
          </a:r>
          <a:endParaRPr lang="en-US" dirty="0"/>
        </a:p>
      </dgm:t>
    </dgm:pt>
    <dgm:pt modelId="{C8FADD59-ED12-44D1-A076-7A13B0AC344E}" type="parTrans" cxnId="{583CC615-DAE7-4276-AD9F-C578D26FEDFC}">
      <dgm:prSet/>
      <dgm:spPr/>
      <dgm:t>
        <a:bodyPr/>
        <a:lstStyle/>
        <a:p>
          <a:endParaRPr lang="en-US"/>
        </a:p>
      </dgm:t>
    </dgm:pt>
    <dgm:pt modelId="{34A6F1FD-1787-4988-A7E6-472B7C66BD09}" type="sibTrans" cxnId="{583CC615-DAE7-4276-AD9F-C578D26FEDFC}">
      <dgm:prSet/>
      <dgm:spPr/>
      <dgm:t>
        <a:bodyPr/>
        <a:lstStyle/>
        <a:p>
          <a:endParaRPr lang="en-US"/>
        </a:p>
      </dgm:t>
    </dgm:pt>
    <dgm:pt modelId="{8665C39E-B30E-4258-BEA9-83E0F7084606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8211EBE3-1C93-4CFB-BBEE-7A708996ED07}" type="parTrans" cxnId="{8D6B5497-475C-46A9-805D-510F815F9B98}">
      <dgm:prSet/>
      <dgm:spPr/>
      <dgm:t>
        <a:bodyPr/>
        <a:lstStyle/>
        <a:p>
          <a:endParaRPr lang="en-US"/>
        </a:p>
      </dgm:t>
    </dgm:pt>
    <dgm:pt modelId="{6779ED75-3327-4C98-9C89-1343058D49BC}" type="sibTrans" cxnId="{8D6B5497-475C-46A9-805D-510F815F9B98}">
      <dgm:prSet/>
      <dgm:spPr/>
      <dgm:t>
        <a:bodyPr/>
        <a:lstStyle/>
        <a:p>
          <a:endParaRPr lang="en-US"/>
        </a:p>
      </dgm:t>
    </dgm:pt>
    <dgm:pt modelId="{68DE1B8C-EBBC-4ACF-AD69-E108E4A8C85C}">
      <dgm:prSet phldrT="[Text]"/>
      <dgm:spPr/>
      <dgm:t>
        <a:bodyPr/>
        <a:lstStyle/>
        <a:p>
          <a:r>
            <a:rPr lang="en-US" dirty="0" smtClean="0"/>
            <a:t>Outside Services</a:t>
          </a:r>
          <a:endParaRPr lang="en-US" dirty="0"/>
        </a:p>
      </dgm:t>
    </dgm:pt>
    <dgm:pt modelId="{94D73433-720A-40B7-8E81-899280B4DD52}" type="parTrans" cxnId="{F53C5B60-EE78-46AA-90FC-BDF2F3396876}">
      <dgm:prSet/>
      <dgm:spPr/>
      <dgm:t>
        <a:bodyPr/>
        <a:lstStyle/>
        <a:p>
          <a:endParaRPr lang="en-US"/>
        </a:p>
      </dgm:t>
    </dgm:pt>
    <dgm:pt modelId="{10D11475-433C-4D63-8B5E-9E928E6DD9A1}" type="sibTrans" cxnId="{F53C5B60-EE78-46AA-90FC-BDF2F3396876}">
      <dgm:prSet/>
      <dgm:spPr/>
      <dgm:t>
        <a:bodyPr/>
        <a:lstStyle/>
        <a:p>
          <a:endParaRPr lang="en-US"/>
        </a:p>
      </dgm:t>
    </dgm:pt>
    <dgm:pt modelId="{A766E2ED-C2E8-4E07-AF18-7EC57476A5C8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A1530F03-6C5E-45D7-8222-AD175A7090BD}" type="parTrans" cxnId="{918FC998-3E81-4E2A-A8E0-FB3EB04E2705}">
      <dgm:prSet/>
      <dgm:spPr/>
      <dgm:t>
        <a:bodyPr/>
        <a:lstStyle/>
        <a:p>
          <a:endParaRPr lang="en-US"/>
        </a:p>
      </dgm:t>
    </dgm:pt>
    <dgm:pt modelId="{05B31AC5-A983-4FEC-B0BE-EB0462CF6128}" type="sibTrans" cxnId="{918FC998-3E81-4E2A-A8E0-FB3EB04E2705}">
      <dgm:prSet/>
      <dgm:spPr/>
      <dgm:t>
        <a:bodyPr/>
        <a:lstStyle/>
        <a:p>
          <a:endParaRPr lang="en-US"/>
        </a:p>
      </dgm:t>
    </dgm:pt>
    <dgm:pt modelId="{512A4932-71C2-4AF1-A35F-4F4632F17C02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47E31259-60CB-40FB-B391-CCAEC2189164}" type="parTrans" cxnId="{42032CCC-41F9-4B3F-A503-E38701F4AC02}">
      <dgm:prSet/>
      <dgm:spPr/>
      <dgm:t>
        <a:bodyPr/>
        <a:lstStyle/>
        <a:p>
          <a:endParaRPr lang="en-US"/>
        </a:p>
      </dgm:t>
    </dgm:pt>
    <dgm:pt modelId="{4C7C1C5B-4033-4A4C-87E1-4A3C60B720B7}" type="sibTrans" cxnId="{42032CCC-41F9-4B3F-A503-E38701F4AC02}">
      <dgm:prSet/>
      <dgm:spPr/>
      <dgm:t>
        <a:bodyPr/>
        <a:lstStyle/>
        <a:p>
          <a:endParaRPr lang="en-US"/>
        </a:p>
      </dgm:t>
    </dgm:pt>
    <dgm:pt modelId="{8C9EF0B8-B348-4F26-938D-6A3D8F1D01C9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317FEE05-7414-4035-9841-8DABE546206E}" type="parTrans" cxnId="{B4186457-1219-426F-922C-5AECDCC53AC0}">
      <dgm:prSet/>
      <dgm:spPr/>
      <dgm:t>
        <a:bodyPr/>
        <a:lstStyle/>
        <a:p>
          <a:endParaRPr lang="en-US"/>
        </a:p>
      </dgm:t>
    </dgm:pt>
    <dgm:pt modelId="{5DAD05BE-4905-4E9C-9DE0-125B4DBFBE33}" type="sibTrans" cxnId="{B4186457-1219-426F-922C-5AECDCC53AC0}">
      <dgm:prSet/>
      <dgm:spPr/>
      <dgm:t>
        <a:bodyPr/>
        <a:lstStyle/>
        <a:p>
          <a:endParaRPr lang="en-US"/>
        </a:p>
      </dgm:t>
    </dgm:pt>
    <dgm:pt modelId="{7DCD12F6-9D96-4CEE-B77D-0059BD9F172C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220267-9773-4777-8E6B-2437F9979F0B}" type="parTrans" cxnId="{8BF652A8-B747-4011-8997-2C8E587087B9}">
      <dgm:prSet/>
      <dgm:spPr/>
      <dgm:t>
        <a:bodyPr/>
        <a:lstStyle/>
        <a:p>
          <a:endParaRPr lang="en-US"/>
        </a:p>
      </dgm:t>
    </dgm:pt>
    <dgm:pt modelId="{89843E98-8750-44A8-9562-C70EE7FD83F4}" type="sibTrans" cxnId="{8BF652A8-B747-4011-8997-2C8E587087B9}">
      <dgm:prSet/>
      <dgm:spPr/>
      <dgm:t>
        <a:bodyPr/>
        <a:lstStyle/>
        <a:p>
          <a:endParaRPr lang="en-US"/>
        </a:p>
      </dgm:t>
    </dgm:pt>
    <dgm:pt modelId="{990E17D6-2B47-4FC5-AD93-1E96AFBF7BE7}">
      <dgm:prSet phldrT="[Text]"/>
      <dgm:spPr/>
      <dgm:t>
        <a:bodyPr/>
        <a:lstStyle/>
        <a:p>
          <a:r>
            <a:rPr lang="en-US" dirty="0" smtClean="0"/>
            <a:t>Manufacturing</a:t>
          </a:r>
          <a:endParaRPr lang="en-US" dirty="0"/>
        </a:p>
      </dgm:t>
    </dgm:pt>
    <dgm:pt modelId="{FE8F1E68-B20A-4328-A3A2-124220A35426}" type="parTrans" cxnId="{C2460F17-CDAE-48DD-9BD8-1126146AE0EF}">
      <dgm:prSet/>
      <dgm:spPr/>
      <dgm:t>
        <a:bodyPr/>
        <a:lstStyle/>
        <a:p>
          <a:endParaRPr lang="en-US"/>
        </a:p>
      </dgm:t>
    </dgm:pt>
    <dgm:pt modelId="{DE7A8AB0-B597-4567-B709-EB7E2965A939}" type="sibTrans" cxnId="{C2460F17-CDAE-48DD-9BD8-1126146AE0EF}">
      <dgm:prSet/>
      <dgm:spPr/>
      <dgm:t>
        <a:bodyPr/>
        <a:lstStyle/>
        <a:p>
          <a:endParaRPr lang="en-US"/>
        </a:p>
      </dgm:t>
    </dgm:pt>
    <dgm:pt modelId="{7195F398-6161-42FE-8062-43E5A30273CF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4367AAD-6981-4EE8-AF1A-6EB47FBD0BF3}" type="parTrans" cxnId="{95004706-8520-4D84-A45C-548F7C7AFC8B}">
      <dgm:prSet/>
      <dgm:spPr/>
      <dgm:t>
        <a:bodyPr/>
        <a:lstStyle/>
        <a:p>
          <a:endParaRPr lang="en-US"/>
        </a:p>
      </dgm:t>
    </dgm:pt>
    <dgm:pt modelId="{D5E09E1F-03F4-43A5-A259-C5AAD57CBE42}" type="sibTrans" cxnId="{95004706-8520-4D84-A45C-548F7C7AFC8B}">
      <dgm:prSet/>
      <dgm:spPr/>
      <dgm:t>
        <a:bodyPr/>
        <a:lstStyle/>
        <a:p>
          <a:endParaRPr lang="en-US"/>
        </a:p>
      </dgm:t>
    </dgm:pt>
    <dgm:pt modelId="{05E0F7CC-1593-4E3E-91A3-86A465E18FB5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2F9E893D-D054-435B-BB6A-CA4A2B0A4737}" type="parTrans" cxnId="{EDEABB0C-27C7-4D1E-B786-FB8270D60CCA}">
      <dgm:prSet/>
      <dgm:spPr/>
      <dgm:t>
        <a:bodyPr/>
        <a:lstStyle/>
        <a:p>
          <a:endParaRPr lang="en-US"/>
        </a:p>
      </dgm:t>
    </dgm:pt>
    <dgm:pt modelId="{2CA15156-CACD-4A16-951D-4C696CCBC3C2}" type="sibTrans" cxnId="{EDEABB0C-27C7-4D1E-B786-FB8270D60CCA}">
      <dgm:prSet/>
      <dgm:spPr/>
      <dgm:t>
        <a:bodyPr/>
        <a:lstStyle/>
        <a:p>
          <a:endParaRPr lang="en-US"/>
        </a:p>
      </dgm:t>
    </dgm:pt>
    <dgm:pt modelId="{DADEE461-B9C7-4E4D-8F76-C4BEE058565B}">
      <dgm:prSet phldrT="[Text]"/>
      <dgm:spPr/>
      <dgm:t>
        <a:bodyPr/>
        <a:lstStyle/>
        <a:p>
          <a:r>
            <a:rPr lang="en-US" dirty="0" smtClean="0"/>
            <a:t>Sales</a:t>
          </a:r>
          <a:endParaRPr lang="en-US" dirty="0"/>
        </a:p>
      </dgm:t>
    </dgm:pt>
    <dgm:pt modelId="{DBFD308D-4184-4A3D-B3A9-DAB69C287E06}" type="parTrans" cxnId="{F2A74F4D-E89E-4A53-B841-441FF129E762}">
      <dgm:prSet/>
      <dgm:spPr/>
      <dgm:t>
        <a:bodyPr/>
        <a:lstStyle/>
        <a:p>
          <a:endParaRPr lang="en-US"/>
        </a:p>
      </dgm:t>
    </dgm:pt>
    <dgm:pt modelId="{D1A547C0-8B30-44BD-9102-3FF9FB549C46}" type="sibTrans" cxnId="{F2A74F4D-E89E-4A53-B841-441FF129E762}">
      <dgm:prSet/>
      <dgm:spPr/>
      <dgm:t>
        <a:bodyPr/>
        <a:lstStyle/>
        <a:p>
          <a:endParaRPr lang="en-US"/>
        </a:p>
      </dgm:t>
    </dgm:pt>
    <dgm:pt modelId="{406F5215-17A4-4C94-9F2C-C028103F90A1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04C488B-EDCA-4CF0-8E08-1FD9CD42A42F}" type="parTrans" cxnId="{5352C17E-F603-4AFE-9421-5C9166D9912F}">
      <dgm:prSet/>
      <dgm:spPr/>
      <dgm:t>
        <a:bodyPr/>
        <a:lstStyle/>
        <a:p>
          <a:endParaRPr lang="en-US"/>
        </a:p>
      </dgm:t>
    </dgm:pt>
    <dgm:pt modelId="{733D6CE6-CDD6-45DB-9725-6A2D30AF5778}" type="sibTrans" cxnId="{5352C17E-F603-4AFE-9421-5C9166D9912F}">
      <dgm:prSet/>
      <dgm:spPr/>
      <dgm:t>
        <a:bodyPr/>
        <a:lstStyle/>
        <a:p>
          <a:endParaRPr lang="en-US"/>
        </a:p>
      </dgm:t>
    </dgm:pt>
    <dgm:pt modelId="{E86573C5-0EDE-4AD1-BC6F-18E4089AD966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1DB31F-7909-4291-8AE0-ABB3A60F17B3}" type="parTrans" cxnId="{1FA22335-7EE3-4E2C-8CC8-A00A41859142}">
      <dgm:prSet/>
      <dgm:spPr/>
      <dgm:t>
        <a:bodyPr/>
        <a:lstStyle/>
        <a:p>
          <a:endParaRPr lang="en-US"/>
        </a:p>
      </dgm:t>
    </dgm:pt>
    <dgm:pt modelId="{33F99918-D81E-4B9F-988C-60B2D20A1F79}" type="sibTrans" cxnId="{1FA22335-7EE3-4E2C-8CC8-A00A41859142}">
      <dgm:prSet/>
      <dgm:spPr/>
      <dgm:t>
        <a:bodyPr/>
        <a:lstStyle/>
        <a:p>
          <a:endParaRPr lang="en-US"/>
        </a:p>
      </dgm:t>
    </dgm:pt>
    <dgm:pt modelId="{4514D2E9-87FF-454C-A554-FD761A8568C7}" type="pres">
      <dgm:prSet presAssocID="{DF4857E7-5C40-4E4D-8F9E-0F40BE240B2F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D7F4306A-6D29-4C14-BF5D-EE8CBCC47C9B}" type="pres">
      <dgm:prSet presAssocID="{0F9F144E-5A69-4079-9CFE-833FB141B5B7}" presName="compNode" presStyleCnt="0"/>
      <dgm:spPr/>
    </dgm:pt>
    <dgm:pt modelId="{9046789A-6150-4534-817A-88A1F11F0BDA}" type="pres">
      <dgm:prSet presAssocID="{0F9F144E-5A69-4079-9CFE-833FB141B5B7}" presName="aNode" presStyleLbl="bgShp" presStyleIdx="0" presStyleCnt="6"/>
      <dgm:spPr/>
      <dgm:t>
        <a:bodyPr/>
        <a:lstStyle/>
        <a:p>
          <a:endParaRPr lang="en-US"/>
        </a:p>
      </dgm:t>
    </dgm:pt>
    <dgm:pt modelId="{F032D9DC-6E96-4533-82F7-966FA94900AA}" type="pres">
      <dgm:prSet presAssocID="{0F9F144E-5A69-4079-9CFE-833FB141B5B7}" presName="textNode" presStyleLbl="bgShp" presStyleIdx="0" presStyleCnt="6"/>
      <dgm:spPr/>
      <dgm:t>
        <a:bodyPr/>
        <a:lstStyle/>
        <a:p>
          <a:endParaRPr lang="en-US"/>
        </a:p>
      </dgm:t>
    </dgm:pt>
    <dgm:pt modelId="{B5BC7729-4343-49E6-A4EF-D07AFE39FD9B}" type="pres">
      <dgm:prSet presAssocID="{0F9F144E-5A69-4079-9CFE-833FB141B5B7}" presName="compChildNode" presStyleCnt="0"/>
      <dgm:spPr/>
    </dgm:pt>
    <dgm:pt modelId="{77D879FB-9835-4934-9699-09AF88C70266}" type="pres">
      <dgm:prSet presAssocID="{0F9F144E-5A69-4079-9CFE-833FB141B5B7}" presName="theInnerList" presStyleCnt="0"/>
      <dgm:spPr/>
    </dgm:pt>
    <dgm:pt modelId="{A8FD0D76-AFC6-4802-9090-E980FDBECC91}" type="pres">
      <dgm:prSet presAssocID="{32074760-1CE6-4EA9-A667-33C7E19C2D94}" presName="childNode" presStyleLbl="node1" presStyleIdx="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931CD7-CDC0-4094-A84B-34C86C5DA39D}" type="pres">
      <dgm:prSet presAssocID="{32074760-1CE6-4EA9-A667-33C7E19C2D94}" presName="aSpace2" presStyleCnt="0"/>
      <dgm:spPr/>
    </dgm:pt>
    <dgm:pt modelId="{D88EF221-1E19-407F-A109-45D126E6B0AD}" type="pres">
      <dgm:prSet presAssocID="{A766E2ED-C2E8-4E07-AF18-7EC57476A5C8}" presName="childNode" presStyleLbl="node1" presStyleIdx="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C82461-FD43-4EC4-813A-C5DDCB53324F}" type="pres">
      <dgm:prSet presAssocID="{0F9F144E-5A69-4079-9CFE-833FB141B5B7}" presName="aSpace" presStyleCnt="0"/>
      <dgm:spPr/>
    </dgm:pt>
    <dgm:pt modelId="{8BCCD3FB-2367-4C8C-8BF4-4A3211E36F9D}" type="pres">
      <dgm:prSet presAssocID="{F5E45C32-85BB-467F-80E6-A808871E72F3}" presName="compNode" presStyleCnt="0"/>
      <dgm:spPr/>
    </dgm:pt>
    <dgm:pt modelId="{E7B9CF75-AF6A-4290-854A-077BB9A2D77C}" type="pres">
      <dgm:prSet presAssocID="{F5E45C32-85BB-467F-80E6-A808871E72F3}" presName="aNode" presStyleLbl="bgShp" presStyleIdx="1" presStyleCnt="6"/>
      <dgm:spPr/>
      <dgm:t>
        <a:bodyPr/>
        <a:lstStyle/>
        <a:p>
          <a:endParaRPr lang="en-US"/>
        </a:p>
      </dgm:t>
    </dgm:pt>
    <dgm:pt modelId="{2487EB6F-DE81-4509-80D3-3047844600F3}" type="pres">
      <dgm:prSet presAssocID="{F5E45C32-85BB-467F-80E6-A808871E72F3}" presName="textNode" presStyleLbl="bgShp" presStyleIdx="1" presStyleCnt="6"/>
      <dgm:spPr/>
      <dgm:t>
        <a:bodyPr/>
        <a:lstStyle/>
        <a:p>
          <a:endParaRPr lang="en-US"/>
        </a:p>
      </dgm:t>
    </dgm:pt>
    <dgm:pt modelId="{C2211325-8BBF-4C60-9ACA-1D2794FAABC8}" type="pres">
      <dgm:prSet presAssocID="{F5E45C32-85BB-467F-80E6-A808871E72F3}" presName="compChildNode" presStyleCnt="0"/>
      <dgm:spPr/>
    </dgm:pt>
    <dgm:pt modelId="{B2780439-4F9B-4F9F-A6E9-950663472748}" type="pres">
      <dgm:prSet presAssocID="{F5E45C32-85BB-467F-80E6-A808871E72F3}" presName="theInnerList" presStyleCnt="0"/>
      <dgm:spPr/>
    </dgm:pt>
    <dgm:pt modelId="{5CE69C38-1462-4F71-A252-F397C9008295}" type="pres">
      <dgm:prSet presAssocID="{6193ECAA-3925-487F-ADF8-CE1362754FFF}" presName="childNode" presStyleLbl="node1" presStyleIdx="2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042C203-E2AD-404F-8812-509816C4E958}" type="pres">
      <dgm:prSet presAssocID="{6193ECAA-3925-487F-ADF8-CE1362754FFF}" presName="aSpace2" presStyleCnt="0"/>
      <dgm:spPr/>
    </dgm:pt>
    <dgm:pt modelId="{BD436606-D1DD-4535-A521-C5E4F9743128}" type="pres">
      <dgm:prSet presAssocID="{FA9C7340-018E-4F73-A402-B7FF8C34CDC0}" presName="childNode" presStyleLbl="node1" presStyleIdx="3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CB735D-973C-4AB1-BFE0-DDB003F67757}" type="pres">
      <dgm:prSet presAssocID="{F5E45C32-85BB-467F-80E6-A808871E72F3}" presName="aSpace" presStyleCnt="0"/>
      <dgm:spPr/>
    </dgm:pt>
    <dgm:pt modelId="{0A5DD276-9362-4684-BD52-D98FE1BB5A62}" type="pres">
      <dgm:prSet presAssocID="{7592B694-086D-4180-B053-CE7AD13C9858}" presName="compNode" presStyleCnt="0"/>
      <dgm:spPr/>
    </dgm:pt>
    <dgm:pt modelId="{6E5A89BC-14D8-4DAA-BBC1-B070DD5BD626}" type="pres">
      <dgm:prSet presAssocID="{7592B694-086D-4180-B053-CE7AD13C9858}" presName="aNode" presStyleLbl="bgShp" presStyleIdx="2" presStyleCnt="6"/>
      <dgm:spPr/>
      <dgm:t>
        <a:bodyPr/>
        <a:lstStyle/>
        <a:p>
          <a:endParaRPr lang="en-US"/>
        </a:p>
      </dgm:t>
    </dgm:pt>
    <dgm:pt modelId="{B6E9B2AA-8010-4FAB-90D2-72717C05AE96}" type="pres">
      <dgm:prSet presAssocID="{7592B694-086D-4180-B053-CE7AD13C9858}" presName="textNode" presStyleLbl="bgShp" presStyleIdx="2" presStyleCnt="6"/>
      <dgm:spPr/>
      <dgm:t>
        <a:bodyPr/>
        <a:lstStyle/>
        <a:p>
          <a:endParaRPr lang="en-US"/>
        </a:p>
      </dgm:t>
    </dgm:pt>
    <dgm:pt modelId="{8CAB1258-DC19-487A-8C4B-18A77888EC3B}" type="pres">
      <dgm:prSet presAssocID="{7592B694-086D-4180-B053-CE7AD13C9858}" presName="compChildNode" presStyleCnt="0"/>
      <dgm:spPr/>
    </dgm:pt>
    <dgm:pt modelId="{0F905639-1614-400B-8FA5-CBB0DE167D28}" type="pres">
      <dgm:prSet presAssocID="{7592B694-086D-4180-B053-CE7AD13C9858}" presName="theInnerList" presStyleCnt="0"/>
      <dgm:spPr/>
    </dgm:pt>
    <dgm:pt modelId="{85B657F5-5C9C-42F8-A245-10BA7A824404}" type="pres">
      <dgm:prSet presAssocID="{8665C39E-B30E-4258-BEA9-83E0F7084606}" presName="childNode" presStyleLbl="node1" presStyleIdx="4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C0DD7DC-3B42-48D8-A1BA-88D01627AD9F}" type="pres">
      <dgm:prSet presAssocID="{8665C39E-B30E-4258-BEA9-83E0F7084606}" presName="aSpace2" presStyleCnt="0"/>
      <dgm:spPr/>
    </dgm:pt>
    <dgm:pt modelId="{51239DC3-E9A2-43DA-8F69-23A0808C5F7B}" type="pres">
      <dgm:prSet presAssocID="{512A4932-71C2-4AF1-A35F-4F4632F17C02}" presName="childNode" presStyleLbl="node1" presStyleIdx="5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A409656-EC9E-49D6-8BDF-28792EB46183}" type="pres">
      <dgm:prSet presAssocID="{7592B694-086D-4180-B053-CE7AD13C9858}" presName="aSpace" presStyleCnt="0"/>
      <dgm:spPr/>
    </dgm:pt>
    <dgm:pt modelId="{79CE3980-98C8-4564-915E-59923DFBBF03}" type="pres">
      <dgm:prSet presAssocID="{68DE1B8C-EBBC-4ACF-AD69-E108E4A8C85C}" presName="compNode" presStyleCnt="0"/>
      <dgm:spPr/>
    </dgm:pt>
    <dgm:pt modelId="{DFC8EC82-A76D-41CD-A597-E02C5F5CBEEE}" type="pres">
      <dgm:prSet presAssocID="{68DE1B8C-EBBC-4ACF-AD69-E108E4A8C85C}" presName="aNode" presStyleLbl="bgShp" presStyleIdx="3" presStyleCnt="6"/>
      <dgm:spPr/>
      <dgm:t>
        <a:bodyPr/>
        <a:lstStyle/>
        <a:p>
          <a:endParaRPr lang="en-US"/>
        </a:p>
      </dgm:t>
    </dgm:pt>
    <dgm:pt modelId="{A9276CF6-D6BB-4D87-85EE-C74A56417B50}" type="pres">
      <dgm:prSet presAssocID="{68DE1B8C-EBBC-4ACF-AD69-E108E4A8C85C}" presName="textNode" presStyleLbl="bgShp" presStyleIdx="3" presStyleCnt="6"/>
      <dgm:spPr/>
      <dgm:t>
        <a:bodyPr/>
        <a:lstStyle/>
        <a:p>
          <a:endParaRPr lang="en-US"/>
        </a:p>
      </dgm:t>
    </dgm:pt>
    <dgm:pt modelId="{6F4913EE-3597-469A-BAA0-D082AC5E47A9}" type="pres">
      <dgm:prSet presAssocID="{68DE1B8C-EBBC-4ACF-AD69-E108E4A8C85C}" presName="compChildNode" presStyleCnt="0"/>
      <dgm:spPr/>
    </dgm:pt>
    <dgm:pt modelId="{03EEACD6-906A-419E-ACC7-F193A552FC8A}" type="pres">
      <dgm:prSet presAssocID="{68DE1B8C-EBBC-4ACF-AD69-E108E4A8C85C}" presName="theInnerList" presStyleCnt="0"/>
      <dgm:spPr/>
    </dgm:pt>
    <dgm:pt modelId="{EF50A355-5315-401C-A8B8-05A2B4F30FE3}" type="pres">
      <dgm:prSet presAssocID="{8C9EF0B8-B348-4F26-938D-6A3D8F1D01C9}" presName="childNode" presStyleLbl="node1" presStyleIdx="6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F5E152E-D1EC-4A61-89CE-BF7F4DA1F822}" type="pres">
      <dgm:prSet presAssocID="{8C9EF0B8-B348-4F26-938D-6A3D8F1D01C9}" presName="aSpace2" presStyleCnt="0"/>
      <dgm:spPr/>
    </dgm:pt>
    <dgm:pt modelId="{60B6E648-ADB0-4695-B9EA-290DF28C1E3A}" type="pres">
      <dgm:prSet presAssocID="{7DCD12F6-9D96-4CEE-B77D-0059BD9F172C}" presName="childNode" presStyleLbl="node1" presStyleIdx="7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A1AAD27-E3B9-4DA2-AE2C-330662C2BE86}" type="pres">
      <dgm:prSet presAssocID="{68DE1B8C-EBBC-4ACF-AD69-E108E4A8C85C}" presName="aSpace" presStyleCnt="0"/>
      <dgm:spPr/>
    </dgm:pt>
    <dgm:pt modelId="{11320078-92D3-471C-BC38-D27E99C2A837}" type="pres">
      <dgm:prSet presAssocID="{990E17D6-2B47-4FC5-AD93-1E96AFBF7BE7}" presName="compNode" presStyleCnt="0"/>
      <dgm:spPr/>
    </dgm:pt>
    <dgm:pt modelId="{B7745507-FF48-4A3D-94B6-C22B44E66409}" type="pres">
      <dgm:prSet presAssocID="{990E17D6-2B47-4FC5-AD93-1E96AFBF7BE7}" presName="aNode" presStyleLbl="bgShp" presStyleIdx="4" presStyleCnt="6"/>
      <dgm:spPr/>
      <dgm:t>
        <a:bodyPr/>
        <a:lstStyle/>
        <a:p>
          <a:endParaRPr lang="en-US"/>
        </a:p>
      </dgm:t>
    </dgm:pt>
    <dgm:pt modelId="{3B09E531-2667-42C3-B344-18F91AEDB3E2}" type="pres">
      <dgm:prSet presAssocID="{990E17D6-2B47-4FC5-AD93-1E96AFBF7BE7}" presName="textNode" presStyleLbl="bgShp" presStyleIdx="4" presStyleCnt="6"/>
      <dgm:spPr/>
      <dgm:t>
        <a:bodyPr/>
        <a:lstStyle/>
        <a:p>
          <a:endParaRPr lang="en-US"/>
        </a:p>
      </dgm:t>
    </dgm:pt>
    <dgm:pt modelId="{2DBE89DF-7F6D-4774-A904-1B3DE19B3EBD}" type="pres">
      <dgm:prSet presAssocID="{990E17D6-2B47-4FC5-AD93-1E96AFBF7BE7}" presName="compChildNode" presStyleCnt="0"/>
      <dgm:spPr/>
    </dgm:pt>
    <dgm:pt modelId="{77A9AB98-8E8B-4D79-AABA-8B07E0953387}" type="pres">
      <dgm:prSet presAssocID="{990E17D6-2B47-4FC5-AD93-1E96AFBF7BE7}" presName="theInnerList" presStyleCnt="0"/>
      <dgm:spPr/>
    </dgm:pt>
    <dgm:pt modelId="{E9562205-A509-4BB9-93FE-4A2A129662F8}" type="pres">
      <dgm:prSet presAssocID="{7195F398-6161-42FE-8062-43E5A30273CF}" presName="childNode" presStyleLbl="node1" presStyleIdx="8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F513BE7-2B73-4016-936D-B3511B975C1B}" type="pres">
      <dgm:prSet presAssocID="{7195F398-6161-42FE-8062-43E5A30273CF}" presName="aSpace2" presStyleCnt="0"/>
      <dgm:spPr/>
    </dgm:pt>
    <dgm:pt modelId="{B73DEB73-79BB-4F9E-967F-68A26D38A128}" type="pres">
      <dgm:prSet presAssocID="{05E0F7CC-1593-4E3E-91A3-86A465E18FB5}" presName="childNode" presStyleLbl="node1" presStyleIdx="9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0E2F36F-C1E8-4F0F-9068-B29DC99474F5}" type="pres">
      <dgm:prSet presAssocID="{990E17D6-2B47-4FC5-AD93-1E96AFBF7BE7}" presName="aSpace" presStyleCnt="0"/>
      <dgm:spPr/>
    </dgm:pt>
    <dgm:pt modelId="{144690A0-3A60-4675-BA35-6AA8DAF53BCF}" type="pres">
      <dgm:prSet presAssocID="{DADEE461-B9C7-4E4D-8F76-C4BEE058565B}" presName="compNode" presStyleCnt="0"/>
      <dgm:spPr/>
    </dgm:pt>
    <dgm:pt modelId="{D473E531-D125-469C-87A6-33F7D5E8F115}" type="pres">
      <dgm:prSet presAssocID="{DADEE461-B9C7-4E4D-8F76-C4BEE058565B}" presName="aNode" presStyleLbl="bgShp" presStyleIdx="5" presStyleCnt="6"/>
      <dgm:spPr/>
      <dgm:t>
        <a:bodyPr/>
        <a:lstStyle/>
        <a:p>
          <a:endParaRPr lang="en-US"/>
        </a:p>
      </dgm:t>
    </dgm:pt>
    <dgm:pt modelId="{FAA74DE5-4B5D-4A3C-B4A0-F426ACCBD9E4}" type="pres">
      <dgm:prSet presAssocID="{DADEE461-B9C7-4E4D-8F76-C4BEE058565B}" presName="textNode" presStyleLbl="bgShp" presStyleIdx="5" presStyleCnt="6"/>
      <dgm:spPr/>
      <dgm:t>
        <a:bodyPr/>
        <a:lstStyle/>
        <a:p>
          <a:endParaRPr lang="en-US"/>
        </a:p>
      </dgm:t>
    </dgm:pt>
    <dgm:pt modelId="{DF18FC3D-4823-4D45-9CFE-41B7B5561571}" type="pres">
      <dgm:prSet presAssocID="{DADEE461-B9C7-4E4D-8F76-C4BEE058565B}" presName="compChildNode" presStyleCnt="0"/>
      <dgm:spPr/>
    </dgm:pt>
    <dgm:pt modelId="{919D7678-E6E0-476A-B5BC-63494CB38EAC}" type="pres">
      <dgm:prSet presAssocID="{DADEE461-B9C7-4E4D-8F76-C4BEE058565B}" presName="theInnerList" presStyleCnt="0"/>
      <dgm:spPr/>
    </dgm:pt>
    <dgm:pt modelId="{F542268E-C995-45FF-9CF3-9C7C99773B2D}" type="pres">
      <dgm:prSet presAssocID="{406F5215-17A4-4C94-9F2C-C028103F90A1}" presName="childNode" presStyleLbl="node1" presStyleIdx="1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DB0CE32-C98B-4DDC-BD38-B873B50786A7}" type="pres">
      <dgm:prSet presAssocID="{406F5215-17A4-4C94-9F2C-C028103F90A1}" presName="aSpace2" presStyleCnt="0"/>
      <dgm:spPr/>
    </dgm:pt>
    <dgm:pt modelId="{784606F8-6B08-4F32-B104-EEE71C2B2615}" type="pres">
      <dgm:prSet presAssocID="{E86573C5-0EDE-4AD1-BC6F-18E4089AD966}" presName="childNode" presStyleLbl="node1" presStyleIdx="1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583CC615-DAE7-4276-AD9F-C578D26FEDFC}" srcId="{DF4857E7-5C40-4E4D-8F9E-0F40BE240B2F}" destId="{7592B694-086D-4180-B053-CE7AD13C9858}" srcOrd="2" destOrd="0" parTransId="{C8FADD59-ED12-44D1-A076-7A13B0AC344E}" sibTransId="{34A6F1FD-1787-4988-A7E6-472B7C66BD09}"/>
    <dgm:cxn modelId="{42DE27B6-F578-42C4-A3AF-30525D0CFFBF}" type="presOf" srcId="{990E17D6-2B47-4FC5-AD93-1E96AFBF7BE7}" destId="{B7745507-FF48-4A3D-94B6-C22B44E66409}" srcOrd="0" destOrd="0" presId="urn:microsoft.com/office/officeart/2005/8/layout/lProcess2"/>
    <dgm:cxn modelId="{FC65DD62-0E30-4682-AC34-A998F821F62D}" type="presOf" srcId="{68DE1B8C-EBBC-4ACF-AD69-E108E4A8C85C}" destId="{DFC8EC82-A76D-41CD-A597-E02C5F5CBEEE}" srcOrd="0" destOrd="0" presId="urn:microsoft.com/office/officeart/2005/8/layout/lProcess2"/>
    <dgm:cxn modelId="{38BBE265-1330-4DF7-A065-F7EB3593A5D7}" type="presOf" srcId="{DF4857E7-5C40-4E4D-8F9E-0F40BE240B2F}" destId="{4514D2E9-87FF-454C-A554-FD761A8568C7}" srcOrd="0" destOrd="0" presId="urn:microsoft.com/office/officeart/2005/8/layout/lProcess2"/>
    <dgm:cxn modelId="{D74DE3C7-5CDD-4830-8DC4-FD3C9B473243}" type="presOf" srcId="{68DE1B8C-EBBC-4ACF-AD69-E108E4A8C85C}" destId="{A9276CF6-D6BB-4D87-85EE-C74A56417B50}" srcOrd="1" destOrd="0" presId="urn:microsoft.com/office/officeart/2005/8/layout/lProcess2"/>
    <dgm:cxn modelId="{59642F3F-A5AF-467E-AD7E-010CBCB17AF0}" type="presOf" srcId="{F5E45C32-85BB-467F-80E6-A808871E72F3}" destId="{2487EB6F-DE81-4509-80D3-3047844600F3}" srcOrd="1" destOrd="0" presId="urn:microsoft.com/office/officeart/2005/8/layout/lProcess2"/>
    <dgm:cxn modelId="{F2A74F4D-E89E-4A53-B841-441FF129E762}" srcId="{DF4857E7-5C40-4E4D-8F9E-0F40BE240B2F}" destId="{DADEE461-B9C7-4E4D-8F76-C4BEE058565B}" srcOrd="5" destOrd="0" parTransId="{DBFD308D-4184-4A3D-B3A9-DAB69C287E06}" sibTransId="{D1A547C0-8B30-44BD-9102-3FF9FB549C46}"/>
    <dgm:cxn modelId="{FA16C23C-5596-42A1-981A-487742CF3BBD}" srcId="{F5E45C32-85BB-467F-80E6-A808871E72F3}" destId="{6193ECAA-3925-487F-ADF8-CE1362754FFF}" srcOrd="0" destOrd="0" parTransId="{CA95F830-F096-4B8A-8E76-097EF46A4F44}" sibTransId="{4C2F44CE-5AB4-4FFE-B037-FFB0E3B4A7EB}"/>
    <dgm:cxn modelId="{EB7150C8-3756-4BF5-BB50-C24BC6E631E5}" type="presOf" srcId="{406F5215-17A4-4C94-9F2C-C028103F90A1}" destId="{F542268E-C995-45FF-9CF3-9C7C99773B2D}" srcOrd="0" destOrd="0" presId="urn:microsoft.com/office/officeart/2005/8/layout/lProcess2"/>
    <dgm:cxn modelId="{CFB67981-6354-4F16-A14B-DED2BFB617E2}" type="presOf" srcId="{FA9C7340-018E-4F73-A402-B7FF8C34CDC0}" destId="{BD436606-D1DD-4535-A521-C5E4F9743128}" srcOrd="0" destOrd="0" presId="urn:microsoft.com/office/officeart/2005/8/layout/lProcess2"/>
    <dgm:cxn modelId="{A746A2DC-180A-49D7-A925-736E4335EFC6}" type="presOf" srcId="{05E0F7CC-1593-4E3E-91A3-86A465E18FB5}" destId="{B73DEB73-79BB-4F9E-967F-68A26D38A128}" srcOrd="0" destOrd="0" presId="urn:microsoft.com/office/officeart/2005/8/layout/lProcess2"/>
    <dgm:cxn modelId="{C5DD902A-F30D-42A6-A91C-0E185280ECA4}" type="presOf" srcId="{6193ECAA-3925-487F-ADF8-CE1362754FFF}" destId="{5CE69C38-1462-4F71-A252-F397C9008295}" srcOrd="0" destOrd="0" presId="urn:microsoft.com/office/officeart/2005/8/layout/lProcess2"/>
    <dgm:cxn modelId="{C2460F17-CDAE-48DD-9BD8-1126146AE0EF}" srcId="{DF4857E7-5C40-4E4D-8F9E-0F40BE240B2F}" destId="{990E17D6-2B47-4FC5-AD93-1E96AFBF7BE7}" srcOrd="4" destOrd="0" parTransId="{FE8F1E68-B20A-4328-A3A2-124220A35426}" sibTransId="{DE7A8AB0-B597-4567-B709-EB7E2965A939}"/>
    <dgm:cxn modelId="{2EFA9CEA-6B77-4FFE-A277-F44ECE109728}" type="presOf" srcId="{DADEE461-B9C7-4E4D-8F76-C4BEE058565B}" destId="{D473E531-D125-469C-87A6-33F7D5E8F115}" srcOrd="0" destOrd="0" presId="urn:microsoft.com/office/officeart/2005/8/layout/lProcess2"/>
    <dgm:cxn modelId="{918FC998-3E81-4E2A-A8E0-FB3EB04E2705}" srcId="{0F9F144E-5A69-4079-9CFE-833FB141B5B7}" destId="{A766E2ED-C2E8-4E07-AF18-7EC57476A5C8}" srcOrd="1" destOrd="0" parTransId="{A1530F03-6C5E-45D7-8222-AD175A7090BD}" sibTransId="{05B31AC5-A983-4FEC-B0BE-EB0462CF6128}"/>
    <dgm:cxn modelId="{002C2631-78DF-4B57-B6F8-D16835FFEE83}" type="presOf" srcId="{A766E2ED-C2E8-4E07-AF18-7EC57476A5C8}" destId="{D88EF221-1E19-407F-A109-45D126E6B0AD}" srcOrd="0" destOrd="0" presId="urn:microsoft.com/office/officeart/2005/8/layout/lProcess2"/>
    <dgm:cxn modelId="{696FC290-58F8-4B0A-B325-8A4CDCEFC93C}" srcId="{DF4857E7-5C40-4E4D-8F9E-0F40BE240B2F}" destId="{0F9F144E-5A69-4079-9CFE-833FB141B5B7}" srcOrd="0" destOrd="0" parTransId="{5295059C-89BD-48FC-9FB0-63BD38C2AF52}" sibTransId="{FAB8FA54-A1F3-488D-B823-07CCB71E4D44}"/>
    <dgm:cxn modelId="{BC7A6893-12B7-492D-B25F-FB64FB150E89}" type="presOf" srcId="{F5E45C32-85BB-467F-80E6-A808871E72F3}" destId="{E7B9CF75-AF6A-4290-854A-077BB9A2D77C}" srcOrd="0" destOrd="0" presId="urn:microsoft.com/office/officeart/2005/8/layout/lProcess2"/>
    <dgm:cxn modelId="{39B965D7-84F4-44BF-8F23-E494637CCE03}" type="presOf" srcId="{0F9F144E-5A69-4079-9CFE-833FB141B5B7}" destId="{F032D9DC-6E96-4533-82F7-966FA94900AA}" srcOrd="1" destOrd="0" presId="urn:microsoft.com/office/officeart/2005/8/layout/lProcess2"/>
    <dgm:cxn modelId="{5D485500-2E2A-42F1-A691-622477C8B66D}" type="presOf" srcId="{8C9EF0B8-B348-4F26-938D-6A3D8F1D01C9}" destId="{EF50A355-5315-401C-A8B8-05A2B4F30FE3}" srcOrd="0" destOrd="0" presId="urn:microsoft.com/office/officeart/2005/8/layout/lProcess2"/>
    <dgm:cxn modelId="{1C1EA662-7027-4B68-83EC-F9F7AAF1AB37}" type="presOf" srcId="{990E17D6-2B47-4FC5-AD93-1E96AFBF7BE7}" destId="{3B09E531-2667-42C3-B344-18F91AEDB3E2}" srcOrd="1" destOrd="0" presId="urn:microsoft.com/office/officeart/2005/8/layout/lProcess2"/>
    <dgm:cxn modelId="{F53C5B60-EE78-46AA-90FC-BDF2F3396876}" srcId="{DF4857E7-5C40-4E4D-8F9E-0F40BE240B2F}" destId="{68DE1B8C-EBBC-4ACF-AD69-E108E4A8C85C}" srcOrd="3" destOrd="0" parTransId="{94D73433-720A-40B7-8E81-899280B4DD52}" sibTransId="{10D11475-433C-4D63-8B5E-9E928E6DD9A1}"/>
    <dgm:cxn modelId="{5A1DC0D7-0DA0-423B-A053-A0566C821049}" type="presOf" srcId="{512A4932-71C2-4AF1-A35F-4F4632F17C02}" destId="{51239DC3-E9A2-43DA-8F69-23A0808C5F7B}" srcOrd="0" destOrd="0" presId="urn:microsoft.com/office/officeart/2005/8/layout/lProcess2"/>
    <dgm:cxn modelId="{8FFED642-82AE-454F-BE9F-34BBE612BA9C}" type="presOf" srcId="{8665C39E-B30E-4258-BEA9-83E0F7084606}" destId="{85B657F5-5C9C-42F8-A245-10BA7A824404}" srcOrd="0" destOrd="0" presId="urn:microsoft.com/office/officeart/2005/8/layout/lProcess2"/>
    <dgm:cxn modelId="{5352C17E-F603-4AFE-9421-5C9166D9912F}" srcId="{DADEE461-B9C7-4E4D-8F76-C4BEE058565B}" destId="{406F5215-17A4-4C94-9F2C-C028103F90A1}" srcOrd="0" destOrd="0" parTransId="{904C488B-EDCA-4CF0-8E08-1FD9CD42A42F}" sibTransId="{733D6CE6-CDD6-45DB-9725-6A2D30AF5778}"/>
    <dgm:cxn modelId="{81BFA32C-63F0-4E31-9C3E-37034FDF9B1F}" type="presOf" srcId="{32074760-1CE6-4EA9-A667-33C7E19C2D94}" destId="{A8FD0D76-AFC6-4802-9090-E980FDBECC91}" srcOrd="0" destOrd="0" presId="urn:microsoft.com/office/officeart/2005/8/layout/lProcess2"/>
    <dgm:cxn modelId="{95004706-8520-4D84-A45C-548F7C7AFC8B}" srcId="{990E17D6-2B47-4FC5-AD93-1E96AFBF7BE7}" destId="{7195F398-6161-42FE-8062-43E5A30273CF}" srcOrd="0" destOrd="0" parTransId="{94367AAD-6981-4EE8-AF1A-6EB47FBD0BF3}" sibTransId="{D5E09E1F-03F4-43A5-A259-C5AAD57CBE42}"/>
    <dgm:cxn modelId="{E1D1FDA0-A805-48E2-A75C-964AEF6C334B}" type="presOf" srcId="{7592B694-086D-4180-B053-CE7AD13C9858}" destId="{B6E9B2AA-8010-4FAB-90D2-72717C05AE96}" srcOrd="1" destOrd="0" presId="urn:microsoft.com/office/officeart/2005/8/layout/lProcess2"/>
    <dgm:cxn modelId="{92E0E4AC-AA4F-4221-B4F5-BC44ADD50226}" srcId="{F5E45C32-85BB-467F-80E6-A808871E72F3}" destId="{FA9C7340-018E-4F73-A402-B7FF8C34CDC0}" srcOrd="1" destOrd="0" parTransId="{1805A85A-B92E-48E0-886D-23F094607276}" sibTransId="{44F9A519-DD68-4648-B8E0-DFC7EF2120B7}"/>
    <dgm:cxn modelId="{3499C244-20A9-447D-8FA0-3F86EA7EF44F}" type="presOf" srcId="{0F9F144E-5A69-4079-9CFE-833FB141B5B7}" destId="{9046789A-6150-4534-817A-88A1F11F0BDA}" srcOrd="0" destOrd="0" presId="urn:microsoft.com/office/officeart/2005/8/layout/lProcess2"/>
    <dgm:cxn modelId="{8BF652A8-B747-4011-8997-2C8E587087B9}" srcId="{68DE1B8C-EBBC-4ACF-AD69-E108E4A8C85C}" destId="{7DCD12F6-9D96-4CEE-B77D-0059BD9F172C}" srcOrd="1" destOrd="0" parTransId="{05220267-9773-4777-8E6B-2437F9979F0B}" sibTransId="{89843E98-8750-44A8-9562-C70EE7FD83F4}"/>
    <dgm:cxn modelId="{8E323BE9-F3AF-4651-86FC-7270E54D02A4}" type="presOf" srcId="{DADEE461-B9C7-4E4D-8F76-C4BEE058565B}" destId="{FAA74DE5-4B5D-4A3C-B4A0-F426ACCBD9E4}" srcOrd="1" destOrd="0" presId="urn:microsoft.com/office/officeart/2005/8/layout/lProcess2"/>
    <dgm:cxn modelId="{05C971EC-9229-4F04-9C8B-DB630DB631E2}" type="presOf" srcId="{7195F398-6161-42FE-8062-43E5A30273CF}" destId="{E9562205-A509-4BB9-93FE-4A2A129662F8}" srcOrd="0" destOrd="0" presId="urn:microsoft.com/office/officeart/2005/8/layout/lProcess2"/>
    <dgm:cxn modelId="{B4186457-1219-426F-922C-5AECDCC53AC0}" srcId="{68DE1B8C-EBBC-4ACF-AD69-E108E4A8C85C}" destId="{8C9EF0B8-B348-4F26-938D-6A3D8F1D01C9}" srcOrd="0" destOrd="0" parTransId="{317FEE05-7414-4035-9841-8DABE546206E}" sibTransId="{5DAD05BE-4905-4E9C-9DE0-125B4DBFBE33}"/>
    <dgm:cxn modelId="{E1AF5CED-FA15-4C3A-9F65-CFDFFA315621}" type="presOf" srcId="{7DCD12F6-9D96-4CEE-B77D-0059BD9F172C}" destId="{60B6E648-ADB0-4695-B9EA-290DF28C1E3A}" srcOrd="0" destOrd="0" presId="urn:microsoft.com/office/officeart/2005/8/layout/lProcess2"/>
    <dgm:cxn modelId="{42032CCC-41F9-4B3F-A503-E38701F4AC02}" srcId="{7592B694-086D-4180-B053-CE7AD13C9858}" destId="{512A4932-71C2-4AF1-A35F-4F4632F17C02}" srcOrd="1" destOrd="0" parTransId="{47E31259-60CB-40FB-B391-CCAEC2189164}" sibTransId="{4C7C1C5B-4033-4A4C-87E1-4A3C60B720B7}"/>
    <dgm:cxn modelId="{EDEABB0C-27C7-4D1E-B786-FB8270D60CCA}" srcId="{990E17D6-2B47-4FC5-AD93-1E96AFBF7BE7}" destId="{05E0F7CC-1593-4E3E-91A3-86A465E18FB5}" srcOrd="1" destOrd="0" parTransId="{2F9E893D-D054-435B-BB6A-CA4A2B0A4737}" sibTransId="{2CA15156-CACD-4A16-951D-4C696CCBC3C2}"/>
    <dgm:cxn modelId="{688BE6D5-81B9-46DD-B1B6-E31A99508BCF}" type="presOf" srcId="{7592B694-086D-4180-B053-CE7AD13C9858}" destId="{6E5A89BC-14D8-4DAA-BBC1-B070DD5BD626}" srcOrd="0" destOrd="0" presId="urn:microsoft.com/office/officeart/2005/8/layout/lProcess2"/>
    <dgm:cxn modelId="{792FB76A-389C-45B7-8308-227DADB5CF70}" srcId="{0F9F144E-5A69-4079-9CFE-833FB141B5B7}" destId="{32074760-1CE6-4EA9-A667-33C7E19C2D94}" srcOrd="0" destOrd="0" parTransId="{41FFA3F1-CAF6-4B0C-90FB-AAF097D8C840}" sibTransId="{66E711EC-17A3-40E0-B60B-5A2F466C9D11}"/>
    <dgm:cxn modelId="{EB02699A-D4B3-4118-9D18-00032D6B25E9}" type="presOf" srcId="{E86573C5-0EDE-4AD1-BC6F-18E4089AD966}" destId="{784606F8-6B08-4F32-B104-EEE71C2B2615}" srcOrd="0" destOrd="0" presId="urn:microsoft.com/office/officeart/2005/8/layout/lProcess2"/>
    <dgm:cxn modelId="{8D6B5497-475C-46A9-805D-510F815F9B98}" srcId="{7592B694-086D-4180-B053-CE7AD13C9858}" destId="{8665C39E-B30E-4258-BEA9-83E0F7084606}" srcOrd="0" destOrd="0" parTransId="{8211EBE3-1C93-4CFB-BBEE-7A708996ED07}" sibTransId="{6779ED75-3327-4C98-9C89-1343058D49BC}"/>
    <dgm:cxn modelId="{C3F684FE-A0E7-411B-A303-2C8155B38D48}" srcId="{DF4857E7-5C40-4E4D-8F9E-0F40BE240B2F}" destId="{F5E45C32-85BB-467F-80E6-A808871E72F3}" srcOrd="1" destOrd="0" parTransId="{FAB096C4-43F1-4FB0-A740-B5A33490B558}" sibTransId="{F29CEF7E-7A2A-457D-9BE3-75C08A423C81}"/>
    <dgm:cxn modelId="{1FA22335-7EE3-4E2C-8CC8-A00A41859142}" srcId="{DADEE461-B9C7-4E4D-8F76-C4BEE058565B}" destId="{E86573C5-0EDE-4AD1-BC6F-18E4089AD966}" srcOrd="1" destOrd="0" parTransId="{051DB31F-7909-4291-8AE0-ABB3A60F17B3}" sibTransId="{33F99918-D81E-4B9F-988C-60B2D20A1F79}"/>
    <dgm:cxn modelId="{8B6F880E-08EC-423E-8040-C0618E19CDBB}" type="presParOf" srcId="{4514D2E9-87FF-454C-A554-FD761A8568C7}" destId="{D7F4306A-6D29-4C14-BF5D-EE8CBCC47C9B}" srcOrd="0" destOrd="0" presId="urn:microsoft.com/office/officeart/2005/8/layout/lProcess2"/>
    <dgm:cxn modelId="{687966CF-220A-43DC-A75E-5E25326B7392}" type="presParOf" srcId="{D7F4306A-6D29-4C14-BF5D-EE8CBCC47C9B}" destId="{9046789A-6150-4534-817A-88A1F11F0BDA}" srcOrd="0" destOrd="0" presId="urn:microsoft.com/office/officeart/2005/8/layout/lProcess2"/>
    <dgm:cxn modelId="{E0C26BDA-EC4D-4AD8-9F3D-D76F4DD45363}" type="presParOf" srcId="{D7F4306A-6D29-4C14-BF5D-EE8CBCC47C9B}" destId="{F032D9DC-6E96-4533-82F7-966FA94900AA}" srcOrd="1" destOrd="0" presId="urn:microsoft.com/office/officeart/2005/8/layout/lProcess2"/>
    <dgm:cxn modelId="{8ABBC8BF-DDFC-43D5-A81B-92139122ACDC}" type="presParOf" srcId="{D7F4306A-6D29-4C14-BF5D-EE8CBCC47C9B}" destId="{B5BC7729-4343-49E6-A4EF-D07AFE39FD9B}" srcOrd="2" destOrd="0" presId="urn:microsoft.com/office/officeart/2005/8/layout/lProcess2"/>
    <dgm:cxn modelId="{81E04655-D065-489D-9AEA-DA1BC136CD0F}" type="presParOf" srcId="{B5BC7729-4343-49E6-A4EF-D07AFE39FD9B}" destId="{77D879FB-9835-4934-9699-09AF88C70266}" srcOrd="0" destOrd="0" presId="urn:microsoft.com/office/officeart/2005/8/layout/lProcess2"/>
    <dgm:cxn modelId="{6068198F-33C5-4E2C-AAE8-7641A32521D4}" type="presParOf" srcId="{77D879FB-9835-4934-9699-09AF88C70266}" destId="{A8FD0D76-AFC6-4802-9090-E980FDBECC91}" srcOrd="0" destOrd="0" presId="urn:microsoft.com/office/officeart/2005/8/layout/lProcess2"/>
    <dgm:cxn modelId="{AC46A661-81C7-4433-96A5-3CB556BB9723}" type="presParOf" srcId="{77D879FB-9835-4934-9699-09AF88C70266}" destId="{B8931CD7-CDC0-4094-A84B-34C86C5DA39D}" srcOrd="1" destOrd="0" presId="urn:microsoft.com/office/officeart/2005/8/layout/lProcess2"/>
    <dgm:cxn modelId="{80CDF649-E02C-4F24-9979-C75DB27E5372}" type="presParOf" srcId="{77D879FB-9835-4934-9699-09AF88C70266}" destId="{D88EF221-1E19-407F-A109-45D126E6B0AD}" srcOrd="2" destOrd="0" presId="urn:microsoft.com/office/officeart/2005/8/layout/lProcess2"/>
    <dgm:cxn modelId="{EEC90868-6B99-4B76-A465-9EF8E3B8FBA4}" type="presParOf" srcId="{4514D2E9-87FF-454C-A554-FD761A8568C7}" destId="{C9C82461-FD43-4EC4-813A-C5DDCB53324F}" srcOrd="1" destOrd="0" presId="urn:microsoft.com/office/officeart/2005/8/layout/lProcess2"/>
    <dgm:cxn modelId="{82633CAF-1356-416F-81EB-4D9CB8522DF2}" type="presParOf" srcId="{4514D2E9-87FF-454C-A554-FD761A8568C7}" destId="{8BCCD3FB-2367-4C8C-8BF4-4A3211E36F9D}" srcOrd="2" destOrd="0" presId="urn:microsoft.com/office/officeart/2005/8/layout/lProcess2"/>
    <dgm:cxn modelId="{422FE29F-AEF4-425E-A5F7-2F095F5FA312}" type="presParOf" srcId="{8BCCD3FB-2367-4C8C-8BF4-4A3211E36F9D}" destId="{E7B9CF75-AF6A-4290-854A-077BB9A2D77C}" srcOrd="0" destOrd="0" presId="urn:microsoft.com/office/officeart/2005/8/layout/lProcess2"/>
    <dgm:cxn modelId="{3641ECCF-F86C-46FB-ABAA-C39E6451F06E}" type="presParOf" srcId="{8BCCD3FB-2367-4C8C-8BF4-4A3211E36F9D}" destId="{2487EB6F-DE81-4509-80D3-3047844600F3}" srcOrd="1" destOrd="0" presId="urn:microsoft.com/office/officeart/2005/8/layout/lProcess2"/>
    <dgm:cxn modelId="{63CA5A0B-5740-4783-9E03-CF4EF2B05899}" type="presParOf" srcId="{8BCCD3FB-2367-4C8C-8BF4-4A3211E36F9D}" destId="{C2211325-8BBF-4C60-9ACA-1D2794FAABC8}" srcOrd="2" destOrd="0" presId="urn:microsoft.com/office/officeart/2005/8/layout/lProcess2"/>
    <dgm:cxn modelId="{A52BC29C-62D8-4C30-ACAA-EF958286DA83}" type="presParOf" srcId="{C2211325-8BBF-4C60-9ACA-1D2794FAABC8}" destId="{B2780439-4F9B-4F9F-A6E9-950663472748}" srcOrd="0" destOrd="0" presId="urn:microsoft.com/office/officeart/2005/8/layout/lProcess2"/>
    <dgm:cxn modelId="{8B98BB63-3554-4BFE-BDB7-249467352AE4}" type="presParOf" srcId="{B2780439-4F9B-4F9F-A6E9-950663472748}" destId="{5CE69C38-1462-4F71-A252-F397C9008295}" srcOrd="0" destOrd="0" presId="urn:microsoft.com/office/officeart/2005/8/layout/lProcess2"/>
    <dgm:cxn modelId="{5CC8DE05-1AE1-4120-B42E-BFFCF553B880}" type="presParOf" srcId="{B2780439-4F9B-4F9F-A6E9-950663472748}" destId="{5042C203-E2AD-404F-8812-509816C4E958}" srcOrd="1" destOrd="0" presId="urn:microsoft.com/office/officeart/2005/8/layout/lProcess2"/>
    <dgm:cxn modelId="{CC0D854A-5642-483B-9280-CF3656D61BB4}" type="presParOf" srcId="{B2780439-4F9B-4F9F-A6E9-950663472748}" destId="{BD436606-D1DD-4535-A521-C5E4F9743128}" srcOrd="2" destOrd="0" presId="urn:microsoft.com/office/officeart/2005/8/layout/lProcess2"/>
    <dgm:cxn modelId="{E2F3A0EA-B908-4913-85AD-6C909BFABCBE}" type="presParOf" srcId="{4514D2E9-87FF-454C-A554-FD761A8568C7}" destId="{03CB735D-973C-4AB1-BFE0-DDB003F67757}" srcOrd="3" destOrd="0" presId="urn:microsoft.com/office/officeart/2005/8/layout/lProcess2"/>
    <dgm:cxn modelId="{ED241D76-A339-4C06-A24E-0506A4793F66}" type="presParOf" srcId="{4514D2E9-87FF-454C-A554-FD761A8568C7}" destId="{0A5DD276-9362-4684-BD52-D98FE1BB5A62}" srcOrd="4" destOrd="0" presId="urn:microsoft.com/office/officeart/2005/8/layout/lProcess2"/>
    <dgm:cxn modelId="{98944614-8F2F-45BA-BFA4-91388C279108}" type="presParOf" srcId="{0A5DD276-9362-4684-BD52-D98FE1BB5A62}" destId="{6E5A89BC-14D8-4DAA-BBC1-B070DD5BD626}" srcOrd="0" destOrd="0" presId="urn:microsoft.com/office/officeart/2005/8/layout/lProcess2"/>
    <dgm:cxn modelId="{5885CAB0-255F-43B0-BF74-8BE073F49A20}" type="presParOf" srcId="{0A5DD276-9362-4684-BD52-D98FE1BB5A62}" destId="{B6E9B2AA-8010-4FAB-90D2-72717C05AE96}" srcOrd="1" destOrd="0" presId="urn:microsoft.com/office/officeart/2005/8/layout/lProcess2"/>
    <dgm:cxn modelId="{F9402A02-C04D-41BD-957E-0D347723AFDD}" type="presParOf" srcId="{0A5DD276-9362-4684-BD52-D98FE1BB5A62}" destId="{8CAB1258-DC19-487A-8C4B-18A77888EC3B}" srcOrd="2" destOrd="0" presId="urn:microsoft.com/office/officeart/2005/8/layout/lProcess2"/>
    <dgm:cxn modelId="{6CDAEFFA-152F-450C-A8BB-741A7106A42A}" type="presParOf" srcId="{8CAB1258-DC19-487A-8C4B-18A77888EC3B}" destId="{0F905639-1614-400B-8FA5-CBB0DE167D28}" srcOrd="0" destOrd="0" presId="urn:microsoft.com/office/officeart/2005/8/layout/lProcess2"/>
    <dgm:cxn modelId="{7AB75DE7-5DDE-4CA2-8423-44B63554BF4E}" type="presParOf" srcId="{0F905639-1614-400B-8FA5-CBB0DE167D28}" destId="{85B657F5-5C9C-42F8-A245-10BA7A824404}" srcOrd="0" destOrd="0" presId="urn:microsoft.com/office/officeart/2005/8/layout/lProcess2"/>
    <dgm:cxn modelId="{CEED29D8-E2C3-4A3B-AB85-AC91C2394E87}" type="presParOf" srcId="{0F905639-1614-400B-8FA5-CBB0DE167D28}" destId="{AC0DD7DC-3B42-48D8-A1BA-88D01627AD9F}" srcOrd="1" destOrd="0" presId="urn:microsoft.com/office/officeart/2005/8/layout/lProcess2"/>
    <dgm:cxn modelId="{8A341D76-9100-4AA1-8921-AB4EE8015E85}" type="presParOf" srcId="{0F905639-1614-400B-8FA5-CBB0DE167D28}" destId="{51239DC3-E9A2-43DA-8F69-23A0808C5F7B}" srcOrd="2" destOrd="0" presId="urn:microsoft.com/office/officeart/2005/8/layout/lProcess2"/>
    <dgm:cxn modelId="{BBEE27D9-4B46-4D50-846C-F4761419786D}" type="presParOf" srcId="{4514D2E9-87FF-454C-A554-FD761A8568C7}" destId="{AA409656-EC9E-49D6-8BDF-28792EB46183}" srcOrd="5" destOrd="0" presId="urn:microsoft.com/office/officeart/2005/8/layout/lProcess2"/>
    <dgm:cxn modelId="{A8C7FDCF-AA3E-4600-8E44-6F4581D256B8}" type="presParOf" srcId="{4514D2E9-87FF-454C-A554-FD761A8568C7}" destId="{79CE3980-98C8-4564-915E-59923DFBBF03}" srcOrd="6" destOrd="0" presId="urn:microsoft.com/office/officeart/2005/8/layout/lProcess2"/>
    <dgm:cxn modelId="{1C534648-3054-4FE4-A789-8C8D0C197A8A}" type="presParOf" srcId="{79CE3980-98C8-4564-915E-59923DFBBF03}" destId="{DFC8EC82-A76D-41CD-A597-E02C5F5CBEEE}" srcOrd="0" destOrd="0" presId="urn:microsoft.com/office/officeart/2005/8/layout/lProcess2"/>
    <dgm:cxn modelId="{05547E4D-BD06-4935-8B6C-5B76189C3EB7}" type="presParOf" srcId="{79CE3980-98C8-4564-915E-59923DFBBF03}" destId="{A9276CF6-D6BB-4D87-85EE-C74A56417B50}" srcOrd="1" destOrd="0" presId="urn:microsoft.com/office/officeart/2005/8/layout/lProcess2"/>
    <dgm:cxn modelId="{AEF8A05E-3430-408A-AF29-7516CA1360A9}" type="presParOf" srcId="{79CE3980-98C8-4564-915E-59923DFBBF03}" destId="{6F4913EE-3597-469A-BAA0-D082AC5E47A9}" srcOrd="2" destOrd="0" presId="urn:microsoft.com/office/officeart/2005/8/layout/lProcess2"/>
    <dgm:cxn modelId="{6479FEA1-CBA1-4D55-817A-BD98C1E1DF2F}" type="presParOf" srcId="{6F4913EE-3597-469A-BAA0-D082AC5E47A9}" destId="{03EEACD6-906A-419E-ACC7-F193A552FC8A}" srcOrd="0" destOrd="0" presId="urn:microsoft.com/office/officeart/2005/8/layout/lProcess2"/>
    <dgm:cxn modelId="{03E125B1-01AF-4DD7-8A12-72232730AE54}" type="presParOf" srcId="{03EEACD6-906A-419E-ACC7-F193A552FC8A}" destId="{EF50A355-5315-401C-A8B8-05A2B4F30FE3}" srcOrd="0" destOrd="0" presId="urn:microsoft.com/office/officeart/2005/8/layout/lProcess2"/>
    <dgm:cxn modelId="{298BDDB0-5938-483C-BF58-3786E34F70DC}" type="presParOf" srcId="{03EEACD6-906A-419E-ACC7-F193A552FC8A}" destId="{8F5E152E-D1EC-4A61-89CE-BF7F4DA1F822}" srcOrd="1" destOrd="0" presId="urn:microsoft.com/office/officeart/2005/8/layout/lProcess2"/>
    <dgm:cxn modelId="{E71DC41A-A5B6-43B3-9518-B863958DB4D7}" type="presParOf" srcId="{03EEACD6-906A-419E-ACC7-F193A552FC8A}" destId="{60B6E648-ADB0-4695-B9EA-290DF28C1E3A}" srcOrd="2" destOrd="0" presId="urn:microsoft.com/office/officeart/2005/8/layout/lProcess2"/>
    <dgm:cxn modelId="{D1CDAB74-B0D1-4B10-8133-1B492B9D2A90}" type="presParOf" srcId="{4514D2E9-87FF-454C-A554-FD761A8568C7}" destId="{EA1AAD27-E3B9-4DA2-AE2C-330662C2BE86}" srcOrd="7" destOrd="0" presId="urn:microsoft.com/office/officeart/2005/8/layout/lProcess2"/>
    <dgm:cxn modelId="{C58C4281-A35A-4B4E-8DF6-5403A5521791}" type="presParOf" srcId="{4514D2E9-87FF-454C-A554-FD761A8568C7}" destId="{11320078-92D3-471C-BC38-D27E99C2A837}" srcOrd="8" destOrd="0" presId="urn:microsoft.com/office/officeart/2005/8/layout/lProcess2"/>
    <dgm:cxn modelId="{82AC558D-CC8E-48B5-A25C-3DCDF59D6A30}" type="presParOf" srcId="{11320078-92D3-471C-BC38-D27E99C2A837}" destId="{B7745507-FF48-4A3D-94B6-C22B44E66409}" srcOrd="0" destOrd="0" presId="urn:microsoft.com/office/officeart/2005/8/layout/lProcess2"/>
    <dgm:cxn modelId="{9E9CD5CB-DEDC-4992-B7BF-83243E52873C}" type="presParOf" srcId="{11320078-92D3-471C-BC38-D27E99C2A837}" destId="{3B09E531-2667-42C3-B344-18F91AEDB3E2}" srcOrd="1" destOrd="0" presId="urn:microsoft.com/office/officeart/2005/8/layout/lProcess2"/>
    <dgm:cxn modelId="{4C1D5A4D-D059-4E8C-B321-6A5645CFF1AB}" type="presParOf" srcId="{11320078-92D3-471C-BC38-D27E99C2A837}" destId="{2DBE89DF-7F6D-4774-A904-1B3DE19B3EBD}" srcOrd="2" destOrd="0" presId="urn:microsoft.com/office/officeart/2005/8/layout/lProcess2"/>
    <dgm:cxn modelId="{5E058552-37A4-4530-BA1A-56BD4E9E5021}" type="presParOf" srcId="{2DBE89DF-7F6D-4774-A904-1B3DE19B3EBD}" destId="{77A9AB98-8E8B-4D79-AABA-8B07E0953387}" srcOrd="0" destOrd="0" presId="urn:microsoft.com/office/officeart/2005/8/layout/lProcess2"/>
    <dgm:cxn modelId="{DB9C5E25-1557-4565-B980-CCD0D526F5C2}" type="presParOf" srcId="{77A9AB98-8E8B-4D79-AABA-8B07E0953387}" destId="{E9562205-A509-4BB9-93FE-4A2A129662F8}" srcOrd="0" destOrd="0" presId="urn:microsoft.com/office/officeart/2005/8/layout/lProcess2"/>
    <dgm:cxn modelId="{5BABFF13-AD7C-44ED-B7BC-04CE75F3324D}" type="presParOf" srcId="{77A9AB98-8E8B-4D79-AABA-8B07E0953387}" destId="{2F513BE7-2B73-4016-936D-B3511B975C1B}" srcOrd="1" destOrd="0" presId="urn:microsoft.com/office/officeart/2005/8/layout/lProcess2"/>
    <dgm:cxn modelId="{C5E81834-4279-4E5A-98A6-8FBA0F5604BF}" type="presParOf" srcId="{77A9AB98-8E8B-4D79-AABA-8B07E0953387}" destId="{B73DEB73-79BB-4F9E-967F-68A26D38A128}" srcOrd="2" destOrd="0" presId="urn:microsoft.com/office/officeart/2005/8/layout/lProcess2"/>
    <dgm:cxn modelId="{9FC35843-11EC-478B-87C2-1326E72CFD5F}" type="presParOf" srcId="{4514D2E9-87FF-454C-A554-FD761A8568C7}" destId="{D0E2F36F-C1E8-4F0F-9068-B29DC99474F5}" srcOrd="9" destOrd="0" presId="urn:microsoft.com/office/officeart/2005/8/layout/lProcess2"/>
    <dgm:cxn modelId="{C38026DD-3C58-4386-B508-7EA0F6EE5A4E}" type="presParOf" srcId="{4514D2E9-87FF-454C-A554-FD761A8568C7}" destId="{144690A0-3A60-4675-BA35-6AA8DAF53BCF}" srcOrd="10" destOrd="0" presId="urn:microsoft.com/office/officeart/2005/8/layout/lProcess2"/>
    <dgm:cxn modelId="{378CC64C-8F26-4D11-8D65-31B73F29240E}" type="presParOf" srcId="{144690A0-3A60-4675-BA35-6AA8DAF53BCF}" destId="{D473E531-D125-469C-87A6-33F7D5E8F115}" srcOrd="0" destOrd="0" presId="urn:microsoft.com/office/officeart/2005/8/layout/lProcess2"/>
    <dgm:cxn modelId="{1F341A45-B6E2-4025-918A-20ACD8A777E9}" type="presParOf" srcId="{144690A0-3A60-4675-BA35-6AA8DAF53BCF}" destId="{FAA74DE5-4B5D-4A3C-B4A0-F426ACCBD9E4}" srcOrd="1" destOrd="0" presId="urn:microsoft.com/office/officeart/2005/8/layout/lProcess2"/>
    <dgm:cxn modelId="{5A5C7106-15B4-4F1D-B927-73639AECCC17}" type="presParOf" srcId="{144690A0-3A60-4675-BA35-6AA8DAF53BCF}" destId="{DF18FC3D-4823-4D45-9CFE-41B7B5561571}" srcOrd="2" destOrd="0" presId="urn:microsoft.com/office/officeart/2005/8/layout/lProcess2"/>
    <dgm:cxn modelId="{9F0AAF7E-5795-4418-9E24-7DCF112F5CE2}" type="presParOf" srcId="{DF18FC3D-4823-4D45-9CFE-41B7B5561571}" destId="{919D7678-E6E0-476A-B5BC-63494CB38EAC}" srcOrd="0" destOrd="0" presId="urn:microsoft.com/office/officeart/2005/8/layout/lProcess2"/>
    <dgm:cxn modelId="{024F1960-4F22-4C7E-9A49-990A98A78CCB}" type="presParOf" srcId="{919D7678-E6E0-476A-B5BC-63494CB38EAC}" destId="{F542268E-C995-45FF-9CF3-9C7C99773B2D}" srcOrd="0" destOrd="0" presId="urn:microsoft.com/office/officeart/2005/8/layout/lProcess2"/>
    <dgm:cxn modelId="{9B1CD719-77DE-4EB9-8FE9-4DF786918078}" type="presParOf" srcId="{919D7678-E6E0-476A-B5BC-63494CB38EAC}" destId="{EDB0CE32-C98B-4DDC-BD38-B873B50786A7}" srcOrd="1" destOrd="0" presId="urn:microsoft.com/office/officeart/2005/8/layout/lProcess2"/>
    <dgm:cxn modelId="{908C6CB4-F337-42DE-A5FE-E5826DB7FDB3}" type="presParOf" srcId="{919D7678-E6E0-476A-B5BC-63494CB38EAC}" destId="{784606F8-6B08-4F32-B104-EEE71C2B2615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4E91585B-FD9B-4FDC-940E-F16B188611DF}" type="doc">
      <dgm:prSet loTypeId="urn:microsoft.com/office/officeart/2005/8/layout/chevronAccent+Icon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3D196BA1-8327-42F7-B9E5-87D503CB93F4}">
      <dgm:prSet phldrT="[Text]"/>
      <dgm:spPr/>
      <dgm:t>
        <a:bodyPr/>
        <a:lstStyle/>
        <a:p>
          <a:r>
            <a:rPr lang="en-US" dirty="0" smtClean="0"/>
            <a:t>Milestone 1</a:t>
          </a:r>
          <a:endParaRPr lang="en-US" dirty="0"/>
        </a:p>
      </dgm:t>
    </dgm:pt>
    <dgm:pt modelId="{A2507B0B-8670-490A-A262-42446148EFC1}" type="parTrans" cxnId="{3034C04C-4B99-4452-89EF-B3C28EEE5939}">
      <dgm:prSet/>
      <dgm:spPr/>
      <dgm:t>
        <a:bodyPr/>
        <a:lstStyle/>
        <a:p>
          <a:endParaRPr lang="en-US"/>
        </a:p>
      </dgm:t>
    </dgm:pt>
    <dgm:pt modelId="{2F8CDDFD-859D-49A6-83DB-88370576A339}" type="sibTrans" cxnId="{3034C04C-4B99-4452-89EF-B3C28EEE5939}">
      <dgm:prSet/>
      <dgm:spPr/>
      <dgm:t>
        <a:bodyPr/>
        <a:lstStyle/>
        <a:p>
          <a:endParaRPr lang="en-US"/>
        </a:p>
      </dgm:t>
    </dgm:pt>
    <dgm:pt modelId="{4C944641-FCF5-4AD8-B261-60AA0024A79E}">
      <dgm:prSet phldrT="[Text]"/>
      <dgm:spPr/>
      <dgm:t>
        <a:bodyPr/>
        <a:lstStyle/>
        <a:p>
          <a:r>
            <a:rPr lang="en-US" dirty="0" smtClean="0"/>
            <a:t>Milestone 2</a:t>
          </a:r>
          <a:endParaRPr lang="en-US" dirty="0"/>
        </a:p>
      </dgm:t>
    </dgm:pt>
    <dgm:pt modelId="{8E5E79D8-FB05-4739-B0F5-8BE6ED2F29C8}" type="parTrans" cxnId="{DA278ECD-ED39-4044-9E8D-6DE29F7C3FB3}">
      <dgm:prSet/>
      <dgm:spPr/>
      <dgm:t>
        <a:bodyPr/>
        <a:lstStyle/>
        <a:p>
          <a:endParaRPr lang="en-US"/>
        </a:p>
      </dgm:t>
    </dgm:pt>
    <dgm:pt modelId="{FCC9CB30-198F-41E6-B00A-25E93E3DC839}" type="sibTrans" cxnId="{DA278ECD-ED39-4044-9E8D-6DE29F7C3FB3}">
      <dgm:prSet/>
      <dgm:spPr/>
      <dgm:t>
        <a:bodyPr/>
        <a:lstStyle/>
        <a:p>
          <a:endParaRPr lang="en-US"/>
        </a:p>
      </dgm:t>
    </dgm:pt>
    <dgm:pt modelId="{F8FB1AE1-7950-4301-88C4-3D45B2DAEABD}">
      <dgm:prSet phldrT="[Text]"/>
      <dgm:spPr/>
      <dgm:t>
        <a:bodyPr/>
        <a:lstStyle/>
        <a:p>
          <a:r>
            <a:rPr lang="en-US" dirty="0" smtClean="0"/>
            <a:t>Milestone 3</a:t>
          </a:r>
          <a:endParaRPr lang="en-US" dirty="0"/>
        </a:p>
      </dgm:t>
    </dgm:pt>
    <dgm:pt modelId="{DE3B344A-4481-4A7F-BF08-FA41E5323599}" type="parTrans" cxnId="{977E16C2-B327-4A54-873C-9FB8292020C4}">
      <dgm:prSet/>
      <dgm:spPr/>
      <dgm:t>
        <a:bodyPr/>
        <a:lstStyle/>
        <a:p>
          <a:endParaRPr lang="en-US"/>
        </a:p>
      </dgm:t>
    </dgm:pt>
    <dgm:pt modelId="{1995DAFA-2969-47AE-BAD4-7226AF43A4A9}" type="sibTrans" cxnId="{977E16C2-B327-4A54-873C-9FB8292020C4}">
      <dgm:prSet/>
      <dgm:spPr/>
      <dgm:t>
        <a:bodyPr/>
        <a:lstStyle/>
        <a:p>
          <a:endParaRPr lang="en-US"/>
        </a:p>
      </dgm:t>
    </dgm:pt>
    <dgm:pt modelId="{B7F213D6-AC1C-4269-8455-91A2A9931F05}">
      <dgm:prSet phldrT="[Text]"/>
      <dgm:spPr/>
      <dgm:t>
        <a:bodyPr/>
        <a:lstStyle/>
        <a:p>
          <a:r>
            <a:rPr lang="en-US" dirty="0" smtClean="0"/>
            <a:t>Milestone 4</a:t>
          </a:r>
          <a:endParaRPr lang="en-US" dirty="0"/>
        </a:p>
      </dgm:t>
    </dgm:pt>
    <dgm:pt modelId="{3D956855-F314-45DD-A7E4-9DA3886AB7CC}" type="parTrans" cxnId="{2029BA2A-2457-4A98-99FA-B61D86B6DFC0}">
      <dgm:prSet/>
      <dgm:spPr/>
      <dgm:t>
        <a:bodyPr/>
        <a:lstStyle/>
        <a:p>
          <a:endParaRPr lang="en-US"/>
        </a:p>
      </dgm:t>
    </dgm:pt>
    <dgm:pt modelId="{D614A336-5FF3-4391-AE65-C801E6B1982D}" type="sibTrans" cxnId="{2029BA2A-2457-4A98-99FA-B61D86B6DFC0}">
      <dgm:prSet/>
      <dgm:spPr/>
      <dgm:t>
        <a:bodyPr/>
        <a:lstStyle/>
        <a:p>
          <a:endParaRPr lang="en-US"/>
        </a:p>
      </dgm:t>
    </dgm:pt>
    <dgm:pt modelId="{82D8FC0B-BF2D-40D0-8601-CFE56FD67B92}">
      <dgm:prSet phldrT="[Text]"/>
      <dgm:spPr/>
      <dgm:t>
        <a:bodyPr/>
        <a:lstStyle/>
        <a:p>
          <a:r>
            <a:rPr lang="en-US" dirty="0" smtClean="0"/>
            <a:t>January 10</a:t>
          </a:r>
          <a:endParaRPr lang="en-US" dirty="0"/>
        </a:p>
      </dgm:t>
    </dgm:pt>
    <dgm:pt modelId="{3F6E66F8-3F0A-4E92-84F6-1A9E7ED94FBF}" type="parTrans" cxnId="{8DAA4B39-AF8F-4F9A-90C7-8D44C750DA96}">
      <dgm:prSet/>
      <dgm:spPr/>
      <dgm:t>
        <a:bodyPr/>
        <a:lstStyle/>
        <a:p>
          <a:endParaRPr lang="en-US"/>
        </a:p>
      </dgm:t>
    </dgm:pt>
    <dgm:pt modelId="{020A973A-613B-4F38-9A1E-085548B6DF68}" type="sibTrans" cxnId="{8DAA4B39-AF8F-4F9A-90C7-8D44C750DA96}">
      <dgm:prSet/>
      <dgm:spPr/>
      <dgm:t>
        <a:bodyPr/>
        <a:lstStyle/>
        <a:p>
          <a:endParaRPr lang="en-US"/>
        </a:p>
      </dgm:t>
    </dgm:pt>
    <dgm:pt modelId="{E8D8B103-69EC-4511-8358-B6CC928047DB}">
      <dgm:prSet phldrT="[Text]"/>
      <dgm:spPr/>
      <dgm:t>
        <a:bodyPr/>
        <a:lstStyle/>
        <a:p>
          <a:r>
            <a:rPr lang="en-US" dirty="0" smtClean="0"/>
            <a:t>April 10</a:t>
          </a:r>
          <a:endParaRPr lang="en-US" dirty="0"/>
        </a:p>
      </dgm:t>
    </dgm:pt>
    <dgm:pt modelId="{1D637EAC-CE50-46EA-AF5F-9FB480601BFE}" type="parTrans" cxnId="{EDABE1D7-6258-4908-B8B9-20F990FF78F7}">
      <dgm:prSet/>
      <dgm:spPr/>
    </dgm:pt>
    <dgm:pt modelId="{50AADD8D-53DE-40A4-9EDE-515AFE7CDEB8}" type="sibTrans" cxnId="{EDABE1D7-6258-4908-B8B9-20F990FF78F7}">
      <dgm:prSet/>
      <dgm:spPr/>
    </dgm:pt>
    <dgm:pt modelId="{2B0D741D-EB87-4383-BCA6-9A64848CD872}">
      <dgm:prSet phldrT="[Text]"/>
      <dgm:spPr/>
      <dgm:t>
        <a:bodyPr/>
        <a:lstStyle/>
        <a:p>
          <a:r>
            <a:rPr lang="en-US" dirty="0" smtClean="0"/>
            <a:t>July 10</a:t>
          </a:r>
          <a:endParaRPr lang="en-US" dirty="0"/>
        </a:p>
      </dgm:t>
    </dgm:pt>
    <dgm:pt modelId="{D7AE170C-5D08-45BE-B66C-ADCCEA2B6070}" type="parTrans" cxnId="{B20B877B-28D3-4AE4-B151-2E6BB83A2BAF}">
      <dgm:prSet/>
      <dgm:spPr/>
    </dgm:pt>
    <dgm:pt modelId="{C9E91C8C-F01A-4A22-961D-58CB0B96BE74}" type="sibTrans" cxnId="{B20B877B-28D3-4AE4-B151-2E6BB83A2BAF}">
      <dgm:prSet/>
      <dgm:spPr/>
    </dgm:pt>
    <dgm:pt modelId="{67A02677-135E-4B0F-BC35-8E5F1E51F9A6}">
      <dgm:prSet phldrT="[Text]"/>
      <dgm:spPr/>
      <dgm:t>
        <a:bodyPr/>
        <a:lstStyle/>
        <a:p>
          <a:r>
            <a:rPr lang="en-US" dirty="0" smtClean="0"/>
            <a:t>October 10</a:t>
          </a:r>
          <a:endParaRPr lang="en-US" dirty="0"/>
        </a:p>
      </dgm:t>
    </dgm:pt>
    <dgm:pt modelId="{ECA723FB-08BB-4F59-8B80-29F6E90B7D83}" type="parTrans" cxnId="{71DF218E-037B-4DC0-A6DE-BE09006DC683}">
      <dgm:prSet/>
      <dgm:spPr/>
    </dgm:pt>
    <dgm:pt modelId="{5114D3EC-BCB3-4290-900A-CD5F9605A204}" type="sibTrans" cxnId="{71DF218E-037B-4DC0-A6DE-BE09006DC683}">
      <dgm:prSet/>
      <dgm:spPr/>
    </dgm:pt>
    <dgm:pt modelId="{03C1E04F-85F6-40B3-A0F3-213FB8AE107E}" type="pres">
      <dgm:prSet presAssocID="{4E91585B-FD9B-4FDC-940E-F16B188611DF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DD43A9-1DAF-4AF8-B93F-002231B340F4}" type="pres">
      <dgm:prSet presAssocID="{3D196BA1-8327-42F7-B9E5-87D503CB93F4}" presName="composite" presStyleCnt="0"/>
      <dgm:spPr/>
      <dgm:t>
        <a:bodyPr/>
        <a:lstStyle/>
        <a:p>
          <a:endParaRPr lang="en-US"/>
        </a:p>
      </dgm:t>
    </dgm:pt>
    <dgm:pt modelId="{F1B29D40-6158-4812-B2C1-953BF9959822}" type="pres">
      <dgm:prSet presAssocID="{3D196BA1-8327-42F7-B9E5-87D503CB93F4}" presName="bgChev" presStyleLbl="node1" presStyleIdx="0" presStyleCnt="4"/>
      <dgm:spPr/>
      <dgm:t>
        <a:bodyPr/>
        <a:lstStyle/>
        <a:p>
          <a:endParaRPr lang="en-US"/>
        </a:p>
      </dgm:t>
    </dgm:pt>
    <dgm:pt modelId="{73A53A56-C7DC-4AAC-A87E-DB3D1036D1EE}" type="pres">
      <dgm:prSet presAssocID="{3D196BA1-8327-42F7-B9E5-87D503CB93F4}" presName="txNode" presStyleLbl="fgAcc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17F3B4-600A-4CE5-A22F-67422DEA3775}" type="pres">
      <dgm:prSet presAssocID="{2F8CDDFD-859D-49A6-83DB-88370576A339}" presName="compositeSpace" presStyleCnt="0"/>
      <dgm:spPr/>
      <dgm:t>
        <a:bodyPr/>
        <a:lstStyle/>
        <a:p>
          <a:endParaRPr lang="en-US"/>
        </a:p>
      </dgm:t>
    </dgm:pt>
    <dgm:pt modelId="{269B63CB-5ED7-42FC-B24E-49B9E6479AD2}" type="pres">
      <dgm:prSet presAssocID="{4C944641-FCF5-4AD8-B261-60AA0024A79E}" presName="composite" presStyleCnt="0"/>
      <dgm:spPr/>
      <dgm:t>
        <a:bodyPr/>
        <a:lstStyle/>
        <a:p>
          <a:endParaRPr lang="en-US"/>
        </a:p>
      </dgm:t>
    </dgm:pt>
    <dgm:pt modelId="{A33B6407-611A-47C1-8F11-11F4B43E3BA6}" type="pres">
      <dgm:prSet presAssocID="{4C944641-FCF5-4AD8-B261-60AA0024A79E}" presName="bgChev" presStyleLbl="node1" presStyleIdx="1" presStyleCnt="4"/>
      <dgm:spPr/>
      <dgm:t>
        <a:bodyPr/>
        <a:lstStyle/>
        <a:p>
          <a:endParaRPr lang="en-US"/>
        </a:p>
      </dgm:t>
    </dgm:pt>
    <dgm:pt modelId="{A9EA7C76-27AE-4735-BCE5-63AC65591A0F}" type="pres">
      <dgm:prSet presAssocID="{4C944641-FCF5-4AD8-B261-60AA0024A79E}" presName="txNode" presStyleLbl="fgAcc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95420C1-1D20-4824-A2A2-917C15D92A2B}" type="pres">
      <dgm:prSet presAssocID="{FCC9CB30-198F-41E6-B00A-25E93E3DC839}" presName="compositeSpace" presStyleCnt="0"/>
      <dgm:spPr/>
      <dgm:t>
        <a:bodyPr/>
        <a:lstStyle/>
        <a:p>
          <a:endParaRPr lang="en-US"/>
        </a:p>
      </dgm:t>
    </dgm:pt>
    <dgm:pt modelId="{48E6F5D5-9146-43D5-BB44-65B9F611FA24}" type="pres">
      <dgm:prSet presAssocID="{F8FB1AE1-7950-4301-88C4-3D45B2DAEABD}" presName="composite" presStyleCnt="0"/>
      <dgm:spPr/>
      <dgm:t>
        <a:bodyPr/>
        <a:lstStyle/>
        <a:p>
          <a:endParaRPr lang="en-US"/>
        </a:p>
      </dgm:t>
    </dgm:pt>
    <dgm:pt modelId="{8A97269C-C120-4B0D-8241-794015A53C15}" type="pres">
      <dgm:prSet presAssocID="{F8FB1AE1-7950-4301-88C4-3D45B2DAEABD}" presName="bgChev" presStyleLbl="node1" presStyleIdx="2" presStyleCnt="4"/>
      <dgm:spPr/>
      <dgm:t>
        <a:bodyPr/>
        <a:lstStyle/>
        <a:p>
          <a:endParaRPr lang="en-US"/>
        </a:p>
      </dgm:t>
    </dgm:pt>
    <dgm:pt modelId="{3287C711-09C1-47F4-9A59-F2DE2A83CBA5}" type="pres">
      <dgm:prSet presAssocID="{F8FB1AE1-7950-4301-88C4-3D45B2DAEABD}" presName="txNode" presStyleLbl="f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7662593A-0DBA-4DD1-9B80-A9CDE3EEA36F}" type="pres">
      <dgm:prSet presAssocID="{1995DAFA-2969-47AE-BAD4-7226AF43A4A9}" presName="compositeSpace" presStyleCnt="0"/>
      <dgm:spPr/>
      <dgm:t>
        <a:bodyPr/>
        <a:lstStyle/>
        <a:p>
          <a:endParaRPr lang="en-US"/>
        </a:p>
      </dgm:t>
    </dgm:pt>
    <dgm:pt modelId="{8EC6BC53-5DB8-4769-9D7D-706542416C7F}" type="pres">
      <dgm:prSet presAssocID="{B7F213D6-AC1C-4269-8455-91A2A9931F05}" presName="composite" presStyleCnt="0"/>
      <dgm:spPr/>
      <dgm:t>
        <a:bodyPr/>
        <a:lstStyle/>
        <a:p>
          <a:endParaRPr lang="en-US"/>
        </a:p>
      </dgm:t>
    </dgm:pt>
    <dgm:pt modelId="{2E5F26DE-5046-425E-8CE5-81AABA87F06B}" type="pres">
      <dgm:prSet presAssocID="{B7F213D6-AC1C-4269-8455-91A2A9931F05}" presName="bgChev" presStyleLbl="node1" presStyleIdx="3" presStyleCnt="4"/>
      <dgm:spPr/>
      <dgm:t>
        <a:bodyPr/>
        <a:lstStyle/>
        <a:p>
          <a:endParaRPr lang="en-US"/>
        </a:p>
      </dgm:t>
    </dgm:pt>
    <dgm:pt modelId="{6A304773-9EB8-4E73-8888-D75C2036D148}" type="pres">
      <dgm:prSet presAssocID="{B7F213D6-AC1C-4269-8455-91A2A9931F05}" presName="txNode" presStyleLbl="f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1B952903-EE57-403D-BAE0-FE8F644324C6}" type="presOf" srcId="{82D8FC0B-BF2D-40D0-8601-CFE56FD67B92}" destId="{73A53A56-C7DC-4AAC-A87E-DB3D1036D1EE}" srcOrd="0" destOrd="1" presId="urn:microsoft.com/office/officeart/2005/8/layout/chevronAccent+Icon"/>
    <dgm:cxn modelId="{2FF1CC50-D79B-48AD-9D9D-56C15111ECFB}" type="presOf" srcId="{4E91585B-FD9B-4FDC-940E-F16B188611DF}" destId="{03C1E04F-85F6-40B3-A0F3-213FB8AE107E}" srcOrd="0" destOrd="0" presId="urn:microsoft.com/office/officeart/2005/8/layout/chevronAccent+Icon"/>
    <dgm:cxn modelId="{740915CF-7A33-4ED1-993D-A0AD8C014217}" type="presOf" srcId="{67A02677-135E-4B0F-BC35-8E5F1E51F9A6}" destId="{6A304773-9EB8-4E73-8888-D75C2036D148}" srcOrd="0" destOrd="1" presId="urn:microsoft.com/office/officeart/2005/8/layout/chevronAccent+Icon"/>
    <dgm:cxn modelId="{977E16C2-B327-4A54-873C-9FB8292020C4}" srcId="{4E91585B-FD9B-4FDC-940E-F16B188611DF}" destId="{F8FB1AE1-7950-4301-88C4-3D45B2DAEABD}" srcOrd="2" destOrd="0" parTransId="{DE3B344A-4481-4A7F-BF08-FA41E5323599}" sibTransId="{1995DAFA-2969-47AE-BAD4-7226AF43A4A9}"/>
    <dgm:cxn modelId="{2029BA2A-2457-4A98-99FA-B61D86B6DFC0}" srcId="{4E91585B-FD9B-4FDC-940E-F16B188611DF}" destId="{B7F213D6-AC1C-4269-8455-91A2A9931F05}" srcOrd="3" destOrd="0" parTransId="{3D956855-F314-45DD-A7E4-9DA3886AB7CC}" sibTransId="{D614A336-5FF3-4391-AE65-C801E6B1982D}"/>
    <dgm:cxn modelId="{2171B02D-BA15-4101-92E3-13FF586B5372}" type="presOf" srcId="{2B0D741D-EB87-4383-BCA6-9A64848CD872}" destId="{3287C711-09C1-47F4-9A59-F2DE2A83CBA5}" srcOrd="0" destOrd="1" presId="urn:microsoft.com/office/officeart/2005/8/layout/chevronAccent+Icon"/>
    <dgm:cxn modelId="{DA278ECD-ED39-4044-9E8D-6DE29F7C3FB3}" srcId="{4E91585B-FD9B-4FDC-940E-F16B188611DF}" destId="{4C944641-FCF5-4AD8-B261-60AA0024A79E}" srcOrd="1" destOrd="0" parTransId="{8E5E79D8-FB05-4739-B0F5-8BE6ED2F29C8}" sibTransId="{FCC9CB30-198F-41E6-B00A-25E93E3DC839}"/>
    <dgm:cxn modelId="{EDABE1D7-6258-4908-B8B9-20F990FF78F7}" srcId="{4C944641-FCF5-4AD8-B261-60AA0024A79E}" destId="{E8D8B103-69EC-4511-8358-B6CC928047DB}" srcOrd="0" destOrd="0" parTransId="{1D637EAC-CE50-46EA-AF5F-9FB480601BFE}" sibTransId="{50AADD8D-53DE-40A4-9EDE-515AFE7CDEB8}"/>
    <dgm:cxn modelId="{17B8D5C0-C9AA-403D-BFAA-C12AEA4F8036}" type="presOf" srcId="{4C944641-FCF5-4AD8-B261-60AA0024A79E}" destId="{A9EA7C76-27AE-4735-BCE5-63AC65591A0F}" srcOrd="0" destOrd="0" presId="urn:microsoft.com/office/officeart/2005/8/layout/chevronAccent+Icon"/>
    <dgm:cxn modelId="{8DAA4B39-AF8F-4F9A-90C7-8D44C750DA96}" srcId="{3D196BA1-8327-42F7-B9E5-87D503CB93F4}" destId="{82D8FC0B-BF2D-40D0-8601-CFE56FD67B92}" srcOrd="0" destOrd="0" parTransId="{3F6E66F8-3F0A-4E92-84F6-1A9E7ED94FBF}" sibTransId="{020A973A-613B-4F38-9A1E-085548B6DF68}"/>
    <dgm:cxn modelId="{B20B877B-28D3-4AE4-B151-2E6BB83A2BAF}" srcId="{F8FB1AE1-7950-4301-88C4-3D45B2DAEABD}" destId="{2B0D741D-EB87-4383-BCA6-9A64848CD872}" srcOrd="0" destOrd="0" parTransId="{D7AE170C-5D08-45BE-B66C-ADCCEA2B6070}" sibTransId="{C9E91C8C-F01A-4A22-961D-58CB0B96BE74}"/>
    <dgm:cxn modelId="{48CF46A7-F5F0-4E36-BF9D-51F979167AA1}" type="presOf" srcId="{F8FB1AE1-7950-4301-88C4-3D45B2DAEABD}" destId="{3287C711-09C1-47F4-9A59-F2DE2A83CBA5}" srcOrd="0" destOrd="0" presId="urn:microsoft.com/office/officeart/2005/8/layout/chevronAccent+Icon"/>
    <dgm:cxn modelId="{71DF218E-037B-4DC0-A6DE-BE09006DC683}" srcId="{B7F213D6-AC1C-4269-8455-91A2A9931F05}" destId="{67A02677-135E-4B0F-BC35-8E5F1E51F9A6}" srcOrd="0" destOrd="0" parTransId="{ECA723FB-08BB-4F59-8B80-29F6E90B7D83}" sibTransId="{5114D3EC-BCB3-4290-900A-CD5F9605A204}"/>
    <dgm:cxn modelId="{B20FE37C-BF33-404A-8F4D-1683880087D2}" type="presOf" srcId="{B7F213D6-AC1C-4269-8455-91A2A9931F05}" destId="{6A304773-9EB8-4E73-8888-D75C2036D148}" srcOrd="0" destOrd="0" presId="urn:microsoft.com/office/officeart/2005/8/layout/chevronAccent+Icon"/>
    <dgm:cxn modelId="{D62FF3BF-A3CC-4F1D-B106-5FC5747DA6A3}" type="presOf" srcId="{3D196BA1-8327-42F7-B9E5-87D503CB93F4}" destId="{73A53A56-C7DC-4AAC-A87E-DB3D1036D1EE}" srcOrd="0" destOrd="0" presId="urn:microsoft.com/office/officeart/2005/8/layout/chevronAccent+Icon"/>
    <dgm:cxn modelId="{3034C04C-4B99-4452-89EF-B3C28EEE5939}" srcId="{4E91585B-FD9B-4FDC-940E-F16B188611DF}" destId="{3D196BA1-8327-42F7-B9E5-87D503CB93F4}" srcOrd="0" destOrd="0" parTransId="{A2507B0B-8670-490A-A262-42446148EFC1}" sibTransId="{2F8CDDFD-859D-49A6-83DB-88370576A339}"/>
    <dgm:cxn modelId="{38B36567-669F-4970-8526-CA624D37CA9E}" type="presOf" srcId="{E8D8B103-69EC-4511-8358-B6CC928047DB}" destId="{A9EA7C76-27AE-4735-BCE5-63AC65591A0F}" srcOrd="0" destOrd="1" presId="urn:microsoft.com/office/officeart/2005/8/layout/chevronAccent+Icon"/>
    <dgm:cxn modelId="{8A60E800-0B7D-4699-91C9-88832AA2AB79}" type="presParOf" srcId="{03C1E04F-85F6-40B3-A0F3-213FB8AE107E}" destId="{A5DD43A9-1DAF-4AF8-B93F-002231B340F4}" srcOrd="0" destOrd="0" presId="urn:microsoft.com/office/officeart/2005/8/layout/chevronAccent+Icon"/>
    <dgm:cxn modelId="{C4A8C7D5-9DE8-4F5B-8235-98B8FFAEFA5F}" type="presParOf" srcId="{A5DD43A9-1DAF-4AF8-B93F-002231B340F4}" destId="{F1B29D40-6158-4812-B2C1-953BF9959822}" srcOrd="0" destOrd="0" presId="urn:microsoft.com/office/officeart/2005/8/layout/chevronAccent+Icon"/>
    <dgm:cxn modelId="{10F2C586-3BF6-4F89-95E4-B536784FE73D}" type="presParOf" srcId="{A5DD43A9-1DAF-4AF8-B93F-002231B340F4}" destId="{73A53A56-C7DC-4AAC-A87E-DB3D1036D1EE}" srcOrd="1" destOrd="0" presId="urn:microsoft.com/office/officeart/2005/8/layout/chevronAccent+Icon"/>
    <dgm:cxn modelId="{87612F50-651C-491F-8DA0-B1A762E8F194}" type="presParOf" srcId="{03C1E04F-85F6-40B3-A0F3-213FB8AE107E}" destId="{8B17F3B4-600A-4CE5-A22F-67422DEA3775}" srcOrd="1" destOrd="0" presId="urn:microsoft.com/office/officeart/2005/8/layout/chevronAccent+Icon"/>
    <dgm:cxn modelId="{D155AAB4-5479-412A-B47B-629BC85D0945}" type="presParOf" srcId="{03C1E04F-85F6-40B3-A0F3-213FB8AE107E}" destId="{269B63CB-5ED7-42FC-B24E-49B9E6479AD2}" srcOrd="2" destOrd="0" presId="urn:microsoft.com/office/officeart/2005/8/layout/chevronAccent+Icon"/>
    <dgm:cxn modelId="{06A17DBE-E9E2-4823-BEE0-DB0721755391}" type="presParOf" srcId="{269B63CB-5ED7-42FC-B24E-49B9E6479AD2}" destId="{A33B6407-611A-47C1-8F11-11F4B43E3BA6}" srcOrd="0" destOrd="0" presId="urn:microsoft.com/office/officeart/2005/8/layout/chevronAccent+Icon"/>
    <dgm:cxn modelId="{50D7D5FF-03E6-4E33-B231-7B04E53448E7}" type="presParOf" srcId="{269B63CB-5ED7-42FC-B24E-49B9E6479AD2}" destId="{A9EA7C76-27AE-4735-BCE5-63AC65591A0F}" srcOrd="1" destOrd="0" presId="urn:microsoft.com/office/officeart/2005/8/layout/chevronAccent+Icon"/>
    <dgm:cxn modelId="{E44E5E64-09E2-4CC3-B3FA-93811069A47C}" type="presParOf" srcId="{03C1E04F-85F6-40B3-A0F3-213FB8AE107E}" destId="{295420C1-1D20-4824-A2A2-917C15D92A2B}" srcOrd="3" destOrd="0" presId="urn:microsoft.com/office/officeart/2005/8/layout/chevronAccent+Icon"/>
    <dgm:cxn modelId="{06269B5F-244E-44F2-9420-C25CCDED3A3A}" type="presParOf" srcId="{03C1E04F-85F6-40B3-A0F3-213FB8AE107E}" destId="{48E6F5D5-9146-43D5-BB44-65B9F611FA24}" srcOrd="4" destOrd="0" presId="urn:microsoft.com/office/officeart/2005/8/layout/chevronAccent+Icon"/>
    <dgm:cxn modelId="{86642D8B-88B8-4742-8CFA-D54B8551BD14}" type="presParOf" srcId="{48E6F5D5-9146-43D5-BB44-65B9F611FA24}" destId="{8A97269C-C120-4B0D-8241-794015A53C15}" srcOrd="0" destOrd="0" presId="urn:microsoft.com/office/officeart/2005/8/layout/chevronAccent+Icon"/>
    <dgm:cxn modelId="{CB807608-70EF-4C58-A63D-58510A40E2A7}" type="presParOf" srcId="{48E6F5D5-9146-43D5-BB44-65B9F611FA24}" destId="{3287C711-09C1-47F4-9A59-F2DE2A83CBA5}" srcOrd="1" destOrd="0" presId="urn:microsoft.com/office/officeart/2005/8/layout/chevronAccent+Icon"/>
    <dgm:cxn modelId="{DA960E52-6CD9-4696-956D-9ADC93940F93}" type="presParOf" srcId="{03C1E04F-85F6-40B3-A0F3-213FB8AE107E}" destId="{7662593A-0DBA-4DD1-9B80-A9CDE3EEA36F}" srcOrd="5" destOrd="0" presId="urn:microsoft.com/office/officeart/2005/8/layout/chevronAccent+Icon"/>
    <dgm:cxn modelId="{3F204FE8-6906-4CB0-937F-98377761E6FC}" type="presParOf" srcId="{03C1E04F-85F6-40B3-A0F3-213FB8AE107E}" destId="{8EC6BC53-5DB8-4769-9D7D-706542416C7F}" srcOrd="6" destOrd="0" presId="urn:microsoft.com/office/officeart/2005/8/layout/chevronAccent+Icon"/>
    <dgm:cxn modelId="{B9112070-BD89-43E8-BC87-F64AA9A82A50}" type="presParOf" srcId="{8EC6BC53-5DB8-4769-9D7D-706542416C7F}" destId="{2E5F26DE-5046-425E-8CE5-81AABA87F06B}" srcOrd="0" destOrd="0" presId="urn:microsoft.com/office/officeart/2005/8/layout/chevronAccent+Icon"/>
    <dgm:cxn modelId="{4E1FACFF-73EF-45B5-AEA3-EF1A6DF4DF40}" type="presParOf" srcId="{8EC6BC53-5DB8-4769-9D7D-706542416C7F}" destId="{6A304773-9EB8-4E73-8888-D75C2036D148}" srcOrd="1" destOrd="0" presId="urn:microsoft.com/office/officeart/2005/8/layout/chevronAccent+Icon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8C4EFF2-445F-4267-8276-3476572E2322}">
      <dsp:nvSpPr>
        <dsp:cNvPr id="0" name=""/>
        <dsp:cNvSpPr/>
      </dsp:nvSpPr>
      <dsp:spPr>
        <a:xfrm>
          <a:off x="4539135" y="1119976"/>
          <a:ext cx="215426" cy="943773"/>
        </a:xfrm>
        <a:custGeom>
          <a:avLst/>
          <a:gdLst/>
          <a:ahLst/>
          <a:cxnLst/>
          <a:rect l="0" t="0" r="0" b="0"/>
          <a:pathLst>
            <a:path>
              <a:moveTo>
                <a:pt x="215426" y="0"/>
              </a:moveTo>
              <a:lnTo>
                <a:pt x="215426" y="943773"/>
              </a:lnTo>
              <a:lnTo>
                <a:pt x="0" y="943773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E0B701E-731A-4119-97E9-BE8C6970B14F}">
      <dsp:nvSpPr>
        <dsp:cNvPr id="0" name=""/>
        <dsp:cNvSpPr/>
      </dsp:nvSpPr>
      <dsp:spPr>
        <a:xfrm>
          <a:off x="4754562" y="1119976"/>
          <a:ext cx="3723802" cy="188754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672120"/>
              </a:lnTo>
              <a:lnTo>
                <a:pt x="3723802" y="1672120"/>
              </a:lnTo>
              <a:lnTo>
                <a:pt x="3723802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86CB14CF-3AAB-49BF-A348-8C10128F63F4}">
      <dsp:nvSpPr>
        <dsp:cNvPr id="0" name=""/>
        <dsp:cNvSpPr/>
      </dsp:nvSpPr>
      <dsp:spPr>
        <a:xfrm>
          <a:off x="4754562" y="1119976"/>
          <a:ext cx="1241267" cy="188754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672120"/>
              </a:lnTo>
              <a:lnTo>
                <a:pt x="1241267" y="1672120"/>
              </a:lnTo>
              <a:lnTo>
                <a:pt x="1241267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9F27310-186D-41EB-B0D9-B311379F2447}">
      <dsp:nvSpPr>
        <dsp:cNvPr id="0" name=""/>
        <dsp:cNvSpPr/>
      </dsp:nvSpPr>
      <dsp:spPr>
        <a:xfrm>
          <a:off x="3513294" y="1119976"/>
          <a:ext cx="1241267" cy="1887547"/>
        </a:xfrm>
        <a:custGeom>
          <a:avLst/>
          <a:gdLst/>
          <a:ahLst/>
          <a:cxnLst/>
          <a:rect l="0" t="0" r="0" b="0"/>
          <a:pathLst>
            <a:path>
              <a:moveTo>
                <a:pt x="1241267" y="0"/>
              </a:moveTo>
              <a:lnTo>
                <a:pt x="1241267" y="1672120"/>
              </a:lnTo>
              <a:lnTo>
                <a:pt x="0" y="1672120"/>
              </a:lnTo>
              <a:lnTo>
                <a:pt x="0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D86A04F-8E18-4C09-847D-FF6943170D74}">
      <dsp:nvSpPr>
        <dsp:cNvPr id="0" name=""/>
        <dsp:cNvSpPr/>
      </dsp:nvSpPr>
      <dsp:spPr>
        <a:xfrm>
          <a:off x="1030759" y="1119976"/>
          <a:ext cx="3723802" cy="1887547"/>
        </a:xfrm>
        <a:custGeom>
          <a:avLst/>
          <a:gdLst/>
          <a:ahLst/>
          <a:cxnLst/>
          <a:rect l="0" t="0" r="0" b="0"/>
          <a:pathLst>
            <a:path>
              <a:moveTo>
                <a:pt x="3723802" y="0"/>
              </a:moveTo>
              <a:lnTo>
                <a:pt x="3723802" y="1672120"/>
              </a:lnTo>
              <a:lnTo>
                <a:pt x="0" y="1672120"/>
              </a:lnTo>
              <a:lnTo>
                <a:pt x="0" y="1887547"/>
              </a:lnTo>
            </a:path>
          </a:pathLst>
        </a:custGeom>
        <a:noFill/>
        <a:ln w="127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4F9536A-212F-4EE6-8E36-1F7330E5587D}">
      <dsp:nvSpPr>
        <dsp:cNvPr id="0" name=""/>
        <dsp:cNvSpPr/>
      </dsp:nvSpPr>
      <dsp:spPr>
        <a:xfrm>
          <a:off x="3728721" y="94135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Project Manager</a:t>
          </a:r>
          <a:endParaRPr lang="en-US" sz="2300" kern="1200" dirty="0"/>
        </a:p>
      </dsp:txBody>
      <dsp:txXfrm>
        <a:off x="3728721" y="94135"/>
        <a:ext cx="2051681" cy="1025840"/>
      </dsp:txXfrm>
    </dsp:sp>
    <dsp:sp modelId="{7174A553-29A2-4360-80CF-40A80BE1E5E1}">
      <dsp:nvSpPr>
        <dsp:cNvPr id="0" name=""/>
        <dsp:cNvSpPr/>
      </dsp:nvSpPr>
      <dsp:spPr>
        <a:xfrm>
          <a:off x="4918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4918" y="3007523"/>
        <a:ext cx="2051681" cy="1025840"/>
      </dsp:txXfrm>
    </dsp:sp>
    <dsp:sp modelId="{08335018-97AA-460E-A117-81DBA3DD3BA6}">
      <dsp:nvSpPr>
        <dsp:cNvPr id="0" name=""/>
        <dsp:cNvSpPr/>
      </dsp:nvSpPr>
      <dsp:spPr>
        <a:xfrm>
          <a:off x="2487453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2487453" y="3007523"/>
        <a:ext cx="2051681" cy="1025840"/>
      </dsp:txXfrm>
    </dsp:sp>
    <dsp:sp modelId="{57DA3771-BFCF-450F-AC08-0C13953670E4}">
      <dsp:nvSpPr>
        <dsp:cNvPr id="0" name=""/>
        <dsp:cNvSpPr/>
      </dsp:nvSpPr>
      <dsp:spPr>
        <a:xfrm>
          <a:off x="4969989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4969989" y="3007523"/>
        <a:ext cx="2051681" cy="1025840"/>
      </dsp:txXfrm>
    </dsp:sp>
    <dsp:sp modelId="{95F76DE9-F993-4C08-8EB9-2BBE7C2B73FA}">
      <dsp:nvSpPr>
        <dsp:cNvPr id="0" name=""/>
        <dsp:cNvSpPr/>
      </dsp:nvSpPr>
      <dsp:spPr>
        <a:xfrm>
          <a:off x="7452524" y="3007523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Member Role</a:t>
          </a:r>
          <a:endParaRPr lang="en-US" sz="2300" kern="1200" dirty="0"/>
        </a:p>
      </dsp:txBody>
      <dsp:txXfrm>
        <a:off x="7452524" y="3007523"/>
        <a:ext cx="2051681" cy="1025840"/>
      </dsp:txXfrm>
    </dsp:sp>
    <dsp:sp modelId="{940E95D1-7142-4E02-A0BE-B91C30369A64}">
      <dsp:nvSpPr>
        <dsp:cNvPr id="0" name=""/>
        <dsp:cNvSpPr/>
      </dsp:nvSpPr>
      <dsp:spPr>
        <a:xfrm>
          <a:off x="2487453" y="1550829"/>
          <a:ext cx="2051681" cy="102584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605" tIns="14605" rIns="14605" bIns="14605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300" kern="1200" dirty="0" smtClean="0"/>
            <a:t>[Full Name] Administrative Assistant</a:t>
          </a:r>
          <a:endParaRPr lang="en-US" sz="2300" kern="1200" dirty="0"/>
        </a:p>
      </dsp:txBody>
      <dsp:txXfrm>
        <a:off x="2487453" y="1550829"/>
        <a:ext cx="2051681" cy="102584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046789A-6150-4534-817A-88A1F11F0BDA}">
      <dsp:nvSpPr>
        <dsp:cNvPr id="0" name=""/>
        <dsp:cNvSpPr/>
      </dsp:nvSpPr>
      <dsp:spPr>
        <a:xfrm>
          <a:off x="3772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People</a:t>
          </a:r>
          <a:endParaRPr lang="en-US" sz="1700" kern="1200" dirty="0"/>
        </a:p>
      </dsp:txBody>
      <dsp:txXfrm>
        <a:off x="3772" y="0"/>
        <a:ext cx="1490443" cy="1238250"/>
      </dsp:txXfrm>
    </dsp:sp>
    <dsp:sp modelId="{A8FD0D76-AFC6-4802-9090-E980FDBECC91}">
      <dsp:nvSpPr>
        <dsp:cNvPr id="0" name=""/>
        <dsp:cNvSpPr/>
      </dsp:nvSpPr>
      <dsp:spPr>
        <a:xfrm>
          <a:off x="152816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Resource 1</a:t>
          </a:r>
          <a:br>
            <a:rPr lang="en-US" sz="1700" kern="1200" dirty="0" smtClean="0"/>
          </a:br>
          <a:r>
            <a:rPr lang="en-US" sz="1700" kern="1200" dirty="0" smtClean="0"/>
            <a:t>Resource 2</a:t>
          </a:r>
          <a:br>
            <a:rPr lang="en-US" sz="1700" kern="1200" dirty="0" smtClean="0"/>
          </a:br>
          <a:r>
            <a:rPr lang="en-US" sz="1700" kern="1200" dirty="0" smtClean="0"/>
            <a:t>Resource 3</a:t>
          </a:r>
          <a:br>
            <a:rPr lang="en-US" sz="1700" kern="1200" dirty="0" smtClean="0"/>
          </a:br>
          <a:r>
            <a:rPr lang="en-US" sz="1700" kern="1200" dirty="0" smtClean="0"/>
            <a:t>Resource 4</a:t>
          </a:r>
          <a:endParaRPr lang="en-US" sz="1700" kern="1200" dirty="0"/>
        </a:p>
      </dsp:txBody>
      <dsp:txXfrm>
        <a:off x="187739" y="1274382"/>
        <a:ext cx="1122509" cy="1174651"/>
      </dsp:txXfrm>
    </dsp:sp>
    <dsp:sp modelId="{D88EF221-1E19-407F-A109-45D126E6B0AD}">
      <dsp:nvSpPr>
        <dsp:cNvPr id="0" name=""/>
        <dsp:cNvSpPr/>
      </dsp:nvSpPr>
      <dsp:spPr>
        <a:xfrm>
          <a:off x="152816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187739" y="2710341"/>
        <a:ext cx="1122509" cy="1174651"/>
      </dsp:txXfrm>
    </dsp:sp>
    <dsp:sp modelId="{E7B9CF75-AF6A-4290-854A-077BB9A2D77C}">
      <dsp:nvSpPr>
        <dsp:cNvPr id="0" name=""/>
        <dsp:cNvSpPr/>
      </dsp:nvSpPr>
      <dsp:spPr>
        <a:xfrm>
          <a:off x="1605999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Equipment</a:t>
          </a:r>
          <a:endParaRPr lang="en-US" sz="1700" kern="1200" dirty="0"/>
        </a:p>
      </dsp:txBody>
      <dsp:txXfrm>
        <a:off x="1605999" y="0"/>
        <a:ext cx="1490443" cy="1238250"/>
      </dsp:txXfrm>
    </dsp:sp>
    <dsp:sp modelId="{5CE69C38-1462-4F71-A252-F397C9008295}">
      <dsp:nvSpPr>
        <dsp:cNvPr id="0" name=""/>
        <dsp:cNvSpPr/>
      </dsp:nvSpPr>
      <dsp:spPr>
        <a:xfrm>
          <a:off x="1755044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Resource 1</a:t>
          </a:r>
          <a:br>
            <a:rPr lang="en-US" sz="1700" kern="1200" dirty="0" smtClean="0"/>
          </a:br>
          <a:r>
            <a:rPr lang="en-US" sz="1700" kern="1200" dirty="0" smtClean="0"/>
            <a:t>Resource 2</a:t>
          </a:r>
          <a:br>
            <a:rPr lang="en-US" sz="1700" kern="1200" dirty="0" smtClean="0"/>
          </a:br>
          <a:r>
            <a:rPr lang="en-US" sz="1700" kern="1200" dirty="0" smtClean="0"/>
            <a:t>Resource 3</a:t>
          </a:r>
          <a:br>
            <a:rPr lang="en-US" sz="1700" kern="1200" dirty="0" smtClean="0"/>
          </a:br>
          <a:r>
            <a:rPr lang="en-US" sz="1700" kern="1200" dirty="0" smtClean="0"/>
            <a:t>Resource 4</a:t>
          </a:r>
          <a:endParaRPr lang="en-US" sz="1700" kern="1200" dirty="0"/>
        </a:p>
      </dsp:txBody>
      <dsp:txXfrm>
        <a:off x="1789967" y="1274382"/>
        <a:ext cx="1122509" cy="1174651"/>
      </dsp:txXfrm>
    </dsp:sp>
    <dsp:sp modelId="{BD436606-D1DD-4535-A521-C5E4F9743128}">
      <dsp:nvSpPr>
        <dsp:cNvPr id="0" name=""/>
        <dsp:cNvSpPr/>
      </dsp:nvSpPr>
      <dsp:spPr>
        <a:xfrm>
          <a:off x="1755044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1789967" y="2710341"/>
        <a:ext cx="1122509" cy="1174651"/>
      </dsp:txXfrm>
    </dsp:sp>
    <dsp:sp modelId="{6E5A89BC-14D8-4DAA-BBC1-B070DD5BD626}">
      <dsp:nvSpPr>
        <dsp:cNvPr id="0" name=""/>
        <dsp:cNvSpPr/>
      </dsp:nvSpPr>
      <dsp:spPr>
        <a:xfrm>
          <a:off x="3208226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Locations</a:t>
          </a:r>
          <a:endParaRPr lang="en-US" sz="1700" kern="1200" dirty="0"/>
        </a:p>
      </dsp:txBody>
      <dsp:txXfrm>
        <a:off x="3208226" y="0"/>
        <a:ext cx="1490443" cy="1238250"/>
      </dsp:txXfrm>
    </dsp:sp>
    <dsp:sp modelId="{85B657F5-5C9C-42F8-A245-10BA7A824404}">
      <dsp:nvSpPr>
        <dsp:cNvPr id="0" name=""/>
        <dsp:cNvSpPr/>
      </dsp:nvSpPr>
      <dsp:spPr>
        <a:xfrm>
          <a:off x="3357271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3392194" y="1274382"/>
        <a:ext cx="1122509" cy="1174651"/>
      </dsp:txXfrm>
    </dsp:sp>
    <dsp:sp modelId="{51239DC3-E9A2-43DA-8F69-23A0808C5F7B}">
      <dsp:nvSpPr>
        <dsp:cNvPr id="0" name=""/>
        <dsp:cNvSpPr/>
      </dsp:nvSpPr>
      <dsp:spPr>
        <a:xfrm>
          <a:off x="3357271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3392194" y="2710341"/>
        <a:ext cx="1122509" cy="1174651"/>
      </dsp:txXfrm>
    </dsp:sp>
    <dsp:sp modelId="{DFC8EC82-A76D-41CD-A597-E02C5F5CBEEE}">
      <dsp:nvSpPr>
        <dsp:cNvPr id="0" name=""/>
        <dsp:cNvSpPr/>
      </dsp:nvSpPr>
      <dsp:spPr>
        <a:xfrm>
          <a:off x="4810454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Outside Services</a:t>
          </a:r>
          <a:endParaRPr lang="en-US" sz="1700" kern="1200" dirty="0"/>
        </a:p>
      </dsp:txBody>
      <dsp:txXfrm>
        <a:off x="4810454" y="0"/>
        <a:ext cx="1490443" cy="1238250"/>
      </dsp:txXfrm>
    </dsp:sp>
    <dsp:sp modelId="{EF50A355-5315-401C-A8B8-05A2B4F30FE3}">
      <dsp:nvSpPr>
        <dsp:cNvPr id="0" name=""/>
        <dsp:cNvSpPr/>
      </dsp:nvSpPr>
      <dsp:spPr>
        <a:xfrm>
          <a:off x="4959498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4994421" y="1274382"/>
        <a:ext cx="1122509" cy="1174651"/>
      </dsp:txXfrm>
    </dsp:sp>
    <dsp:sp modelId="{60B6E648-ADB0-4695-B9EA-290DF28C1E3A}">
      <dsp:nvSpPr>
        <dsp:cNvPr id="0" name=""/>
        <dsp:cNvSpPr/>
      </dsp:nvSpPr>
      <dsp:spPr>
        <a:xfrm>
          <a:off x="4959498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4994421" y="2710341"/>
        <a:ext cx="1122509" cy="1174651"/>
      </dsp:txXfrm>
    </dsp:sp>
    <dsp:sp modelId="{B7745507-FF48-4A3D-94B6-C22B44E66409}">
      <dsp:nvSpPr>
        <dsp:cNvPr id="0" name=""/>
        <dsp:cNvSpPr/>
      </dsp:nvSpPr>
      <dsp:spPr>
        <a:xfrm>
          <a:off x="6412681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anufacturing</a:t>
          </a:r>
          <a:endParaRPr lang="en-US" sz="1700" kern="1200" dirty="0"/>
        </a:p>
      </dsp:txBody>
      <dsp:txXfrm>
        <a:off x="6412681" y="0"/>
        <a:ext cx="1490443" cy="1238250"/>
      </dsp:txXfrm>
    </dsp:sp>
    <dsp:sp modelId="{E9562205-A509-4BB9-93FE-4A2A129662F8}">
      <dsp:nvSpPr>
        <dsp:cNvPr id="0" name=""/>
        <dsp:cNvSpPr/>
      </dsp:nvSpPr>
      <dsp:spPr>
        <a:xfrm>
          <a:off x="6561725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6596648" y="1274382"/>
        <a:ext cx="1122509" cy="1174651"/>
      </dsp:txXfrm>
    </dsp:sp>
    <dsp:sp modelId="{B73DEB73-79BB-4F9E-967F-68A26D38A128}">
      <dsp:nvSpPr>
        <dsp:cNvPr id="0" name=""/>
        <dsp:cNvSpPr/>
      </dsp:nvSpPr>
      <dsp:spPr>
        <a:xfrm>
          <a:off x="6561725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6596648" y="2710341"/>
        <a:ext cx="1122509" cy="1174651"/>
      </dsp:txXfrm>
    </dsp:sp>
    <dsp:sp modelId="{D473E531-D125-469C-87A6-33F7D5E8F115}">
      <dsp:nvSpPr>
        <dsp:cNvPr id="0" name=""/>
        <dsp:cNvSpPr/>
      </dsp:nvSpPr>
      <dsp:spPr>
        <a:xfrm>
          <a:off x="8014908" y="0"/>
          <a:ext cx="1490443" cy="4127500"/>
        </a:xfrm>
        <a:prstGeom prst="roundRect">
          <a:avLst>
            <a:gd name="adj" fmla="val 10000"/>
          </a:avLst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Sales</a:t>
          </a:r>
          <a:endParaRPr lang="en-US" sz="1700" kern="1200" dirty="0"/>
        </a:p>
      </dsp:txBody>
      <dsp:txXfrm>
        <a:off x="8014908" y="0"/>
        <a:ext cx="1490443" cy="1238250"/>
      </dsp:txXfrm>
    </dsp:sp>
    <dsp:sp modelId="{F542268E-C995-45FF-9CF3-9C7C99773B2D}">
      <dsp:nvSpPr>
        <dsp:cNvPr id="0" name=""/>
        <dsp:cNvSpPr/>
      </dsp:nvSpPr>
      <dsp:spPr>
        <a:xfrm>
          <a:off x="8163952" y="1239459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smtClean="0"/>
            <a:t>Resource 1</a:t>
          </a:r>
          <a:br>
            <a:rPr lang="en-US" sz="1700" kern="1200" smtClean="0"/>
          </a:br>
          <a:r>
            <a:rPr lang="en-US" sz="1700" kern="1200" smtClean="0"/>
            <a:t>Resource 2</a:t>
          </a:r>
          <a:br>
            <a:rPr lang="en-US" sz="1700" kern="1200" smtClean="0"/>
          </a:br>
          <a:r>
            <a:rPr lang="en-US" sz="1700" kern="1200" smtClean="0"/>
            <a:t>Resource 3</a:t>
          </a:r>
          <a:br>
            <a:rPr lang="en-US" sz="1700" kern="1200" smtClean="0"/>
          </a:br>
          <a:r>
            <a:rPr lang="en-US" sz="1700" kern="1200" smtClean="0"/>
            <a:t>Resource 4</a:t>
          </a:r>
          <a:endParaRPr lang="en-US" sz="1700" kern="1200" dirty="0"/>
        </a:p>
      </dsp:txBody>
      <dsp:txXfrm>
        <a:off x="8198875" y="1274382"/>
        <a:ext cx="1122509" cy="1174651"/>
      </dsp:txXfrm>
    </dsp:sp>
    <dsp:sp modelId="{784606F8-6B08-4F32-B104-EEE71C2B2615}">
      <dsp:nvSpPr>
        <dsp:cNvPr id="0" name=""/>
        <dsp:cNvSpPr/>
      </dsp:nvSpPr>
      <dsp:spPr>
        <a:xfrm>
          <a:off x="8163952" y="2675418"/>
          <a:ext cx="1192355" cy="124449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180" tIns="32385" rIns="43180" bIns="32385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Notes</a:t>
          </a:r>
          <a:endParaRPr lang="en-US" sz="1700" kern="1200" dirty="0"/>
        </a:p>
      </dsp:txBody>
      <dsp:txXfrm>
        <a:off x="8198875" y="2710341"/>
        <a:ext cx="1122509" cy="117465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1B29D40-6158-4812-B2C1-953BF9959822}">
      <dsp:nvSpPr>
        <dsp:cNvPr id="0" name=""/>
        <dsp:cNvSpPr/>
      </dsp:nvSpPr>
      <dsp:spPr>
        <a:xfrm>
          <a:off x="4448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73A53A56-C7DC-4AAC-A87E-DB3D1036D1EE}">
      <dsp:nvSpPr>
        <dsp:cNvPr id="0" name=""/>
        <dsp:cNvSpPr/>
      </dsp:nvSpPr>
      <dsp:spPr>
        <a:xfrm>
          <a:off x="562737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1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January 10</a:t>
          </a:r>
          <a:endParaRPr lang="en-US" sz="1300" kern="1200" dirty="0"/>
        </a:p>
      </dsp:txBody>
      <dsp:txXfrm>
        <a:off x="586406" y="1784372"/>
        <a:ext cx="1720579" cy="760786"/>
      </dsp:txXfrm>
    </dsp:sp>
    <dsp:sp modelId="{A33B6407-611A-47C1-8F11-11F4B43E3BA6}">
      <dsp:nvSpPr>
        <dsp:cNvPr id="0" name=""/>
        <dsp:cNvSpPr/>
      </dsp:nvSpPr>
      <dsp:spPr>
        <a:xfrm>
          <a:off x="2395788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9EA7C76-27AE-4735-BCE5-63AC65591A0F}">
      <dsp:nvSpPr>
        <dsp:cNvPr id="0" name=""/>
        <dsp:cNvSpPr/>
      </dsp:nvSpPr>
      <dsp:spPr>
        <a:xfrm>
          <a:off x="2954078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2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April 10</a:t>
          </a:r>
          <a:endParaRPr lang="en-US" sz="1300" kern="1200" dirty="0"/>
        </a:p>
      </dsp:txBody>
      <dsp:txXfrm>
        <a:off x="2977747" y="1784372"/>
        <a:ext cx="1720579" cy="760786"/>
      </dsp:txXfrm>
    </dsp:sp>
    <dsp:sp modelId="{8A97269C-C120-4B0D-8241-794015A53C15}">
      <dsp:nvSpPr>
        <dsp:cNvPr id="0" name=""/>
        <dsp:cNvSpPr/>
      </dsp:nvSpPr>
      <dsp:spPr>
        <a:xfrm>
          <a:off x="4787129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287C711-09C1-47F4-9A59-F2DE2A83CBA5}">
      <dsp:nvSpPr>
        <dsp:cNvPr id="0" name=""/>
        <dsp:cNvSpPr/>
      </dsp:nvSpPr>
      <dsp:spPr>
        <a:xfrm>
          <a:off x="5345419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3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July 10</a:t>
          </a:r>
          <a:endParaRPr lang="en-US" sz="1300" kern="1200" dirty="0"/>
        </a:p>
      </dsp:txBody>
      <dsp:txXfrm>
        <a:off x="5369088" y="1784372"/>
        <a:ext cx="1720579" cy="760786"/>
      </dsp:txXfrm>
    </dsp:sp>
    <dsp:sp modelId="{2E5F26DE-5046-425E-8CE5-81AABA87F06B}">
      <dsp:nvSpPr>
        <dsp:cNvPr id="0" name=""/>
        <dsp:cNvSpPr/>
      </dsp:nvSpPr>
      <dsp:spPr>
        <a:xfrm>
          <a:off x="7178470" y="1558672"/>
          <a:ext cx="2093586" cy="808124"/>
        </a:xfrm>
        <a:prstGeom prst="chevron">
          <a:avLst>
            <a:gd name="adj" fmla="val 4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6A304773-9EB8-4E73-8888-D75C2036D148}">
      <dsp:nvSpPr>
        <dsp:cNvPr id="0" name=""/>
        <dsp:cNvSpPr/>
      </dsp:nvSpPr>
      <dsp:spPr>
        <a:xfrm>
          <a:off x="7736759" y="1760703"/>
          <a:ext cx="1767917" cy="808124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0904" tIns="120904" rIns="120904" bIns="120904" numCol="1" spcCol="1270" anchor="t" anchorCtr="0">
          <a:noAutofit/>
        </a:bodyPr>
        <a:lstStyle/>
        <a:p>
          <a:pPr lvl="0" algn="l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700" kern="1200" dirty="0" smtClean="0"/>
            <a:t>Milestone 4</a:t>
          </a:r>
          <a:endParaRPr lang="en-US" sz="1700" kern="1200" dirty="0"/>
        </a:p>
        <a:p>
          <a:pPr marL="114300" lvl="1" indent="-114300" algn="l" defTabSz="5778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300" kern="1200" dirty="0" smtClean="0"/>
            <a:t>October 10</a:t>
          </a:r>
          <a:endParaRPr lang="en-US" sz="1300" kern="1200" dirty="0"/>
        </a:p>
      </dsp:txBody>
      <dsp:txXfrm>
        <a:off x="7760428" y="1784372"/>
        <a:ext cx="1720579" cy="76078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hevronAccent+Icon">
  <dgm:title val="Chevron Accent Process"/>
  <dgm:desc val="Use to show sequential steps in a task, process, or workflow, or to emphasize movement or direction. Works best with minimal Level 1 and Level 2 text."/>
  <dgm:catLst>
    <dgm:cat type="process" pri="9500"/>
    <dgm:cat type="officeonline" pri="2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primFontSz" for="des" forName="txNode" op="equ" val="65"/>
      <dgm:constr type="w" for="ch" forName="compositeSpace" refType="w" refFor="ch" refForName="composite" fact="0.028"/>
    </dgm:constrLst>
    <dgm:ruleLst/>
    <dgm:forEach name="Name4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l" for="ch" forName="bgChev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 refType="w" fact="0.24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if>
          <dgm:else name="Name7">
            <dgm:constrLst>
              <dgm:constr type="l" for="ch" forName="bgChev" refType="w" fact="0.1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else>
        </dgm:choose>
        <dgm:ruleLst/>
        <dgm:layoutNode name="bgChev" styleLbl="node1">
          <dgm:alg type="sp"/>
          <dgm:choose name="Name8">
            <dgm:if name="Name9" func="var" arg="dir" op="equ" val="norm">
              <dgm:shape xmlns:r="http://schemas.openxmlformats.org/officeDocument/2006/relationships" type="chevron" r:blip="">
                <dgm:adjLst>
                  <dgm:adj idx="1" val="0.4"/>
                </dgm:adjLst>
              </dgm:shape>
            </dgm:if>
            <dgm:else name="Name10">
              <dgm:shape xmlns:r="http://schemas.openxmlformats.org/officeDocument/2006/relationships" rot="180" type="chevron" r:blip="">
                <dgm:adjLst>
                  <dgm:adj idx="1" val="0.4"/>
                </dgm:adjLst>
              </dgm:shape>
            </dgm:else>
          </dgm:choose>
          <dgm:presOf/>
          <dgm:constrLst/>
        </dgm:layoutNode>
        <dgm:layoutNode name="txNode" styleLbl="fgAcc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ruleLst>
            <dgm:rule type="primFontSz" val="5" fact="NaN" max="NaN"/>
          </dgm:ruleLst>
        </dgm:layoutNode>
      </dgm:layoutNode>
      <dgm:forEach name="Name11" axis="followSib" ptType="sibTrans" cnt="1">
        <dgm:layoutNode name="compositeSpace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400" spc="-1" strike="noStrike">
                <a:solidFill>
                  <a:srgbClr val="40404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FF7B6-0009-4075-B691-285E6327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66769-9BF6-4287-AA30-D1F8EFC9F8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72BBC0-C829-478C-ACB1-2D1D9A95F7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2A470E-FB50-4634-B526-4466FCAFAE8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62B657-8D82-4241-8579-C41C6C3A07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D93A56-BF5E-48E2-9187-22F3C2AD555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56137-C1AC-4846-B0D4-B6C79E4189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C9515F-3FF0-493F-A3B8-C413C7B34A7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宋体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7132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13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7132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E9C-484D-4BD0-A927-89F03EF7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CD1-C342-4E09-A2F3-6A20F2CA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5F6-4E66-4F4A-8459-DA09BCE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F16-3B8D-45AD-AE2C-C3432BB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3B0-5429-477D-B732-F3C334E4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41360" y="466560"/>
            <a:ext cx="950868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C4F-37EE-40AA-B587-CE88751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8A1-4650-423C-9C52-FFD6AC08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02E-BC8A-46C3-9F21-1560D4B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CC4-EA6B-420D-A15A-7A517CDC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0D3-CAF5-45FD-84B2-FFCC136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E1F-5E6F-4645-AEBB-DEC705D9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71320" y="190188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13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71320" y="4057920"/>
            <a:ext cx="30614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D31-7530-4130-B712-166B88E7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1360" y="466560"/>
            <a:ext cx="950868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41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04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1360" y="4057920"/>
            <a:ext cx="9508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440" y="6583320"/>
            <a:ext cx="12188520" cy="45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440" y="0"/>
            <a:ext cx="12188520" cy="4798800"/>
          </a:xfrm>
          <a:prstGeom prst="rect">
            <a:avLst/>
          </a:prstGeom>
          <a:ln w="9525">
            <a:noFill/>
          </a:ln>
        </p:spPr>
      </p:pic>
      <p:sp>
        <p:nvSpPr>
          <p:cNvPr id="3" name="Rectangle 3"/>
          <p:cNvSpPr/>
          <p:nvPr/>
        </p:nvSpPr>
        <p:spPr>
          <a:xfrm>
            <a:off x="0" y="4754880"/>
            <a:ext cx="12191760" cy="21027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4724280"/>
            <a:ext cx="12188520" cy="75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Second Outline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Third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440" y="6583320"/>
            <a:ext cx="12188520" cy="45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  <a:ea typeface="宋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364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2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336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12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8875800" y="6602400"/>
            <a:ext cx="96012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341360" y="6602400"/>
            <a:ext cx="715932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10210680" y="6602400"/>
            <a:ext cx="639360" cy="23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A4156-A6F4-4A54-A75B-9C2C6DF9DB21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orbel"/>
                <a:ea typeface="宋体"/>
              </a:rPr>
              <a:t>大气扁平商务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rbel"/>
                <a:ea typeface="宋体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440" y="594360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宋体"/>
              </a:rPr>
              <a:t>Presenter Name | 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Scope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1360" y="1901880"/>
            <a:ext cx="9508680" cy="4127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Describe the work to be accomplished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at’s the purpose or business need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Is there a relationship to other projec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o are the stakeholder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  <a:ea typeface="宋体"/>
              </a:rPr>
              <a:t>What work is out of scope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Team Roles and Responsibiliti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356565960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Resourc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72333028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Cost Analysi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0" name="Content Placeholder 5"/>
          <p:cNvGraphicFramePr/>
          <p:nvPr/>
        </p:nvGraphicFramePr>
        <p:xfrm>
          <a:off x="1341360" y="1901880"/>
          <a:ext cx="9508680" cy="412704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0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1901880"/>
                    <a:ext cx="9508680" cy="41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Project Schedule and Milestones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560057772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3" name="Text Box 8"/>
          <p:cNvSpPr/>
          <p:nvPr/>
        </p:nvSpPr>
        <p:spPr>
          <a:xfrm>
            <a:off x="407520" y="587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41360" y="466560"/>
            <a:ext cx="9508680" cy="12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d243c"/>
                </a:solidFill>
                <a:latin typeface="Corbel"/>
                <a:ea typeface="宋体"/>
              </a:rPr>
              <a:t>Risk Management Plan</a:t>
            </a:r>
            <a:endParaRPr b="0" lang="en-US" sz="34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105" name="Content Placeholder 5"/>
          <p:cNvGraphicFramePr/>
          <p:nvPr/>
        </p:nvGraphicFramePr>
        <p:xfrm>
          <a:off x="1341360" y="1901880"/>
          <a:ext cx="9508680" cy="3668760"/>
        </p:xfrm>
        <a:graphic>
          <a:graphicData uri="http://schemas.openxmlformats.org/drawingml/2006/table">
            <a:tbl>
              <a:tblPr/>
              <a:tblGrid>
                <a:gridCol w="2392200"/>
                <a:gridCol w="1600200"/>
                <a:gridCol w="1295280"/>
                <a:gridCol w="1447560"/>
                <a:gridCol w="2773080"/>
              </a:tblGrid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宋体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Budget cuts may reduce staff, affecting project scope and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Project 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orbel"/>
                          <a:ea typeface="宋体"/>
                        </a:rPr>
                        <a:t>See appendix for a phased implement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orbel"/>
                        <a:ea typeface="宋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cf2e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20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0:43:53Z</dcterms:created>
  <dc:creator>Administrator</dc:creator>
  <dc:description/>
  <dc:language>en-US</dc:language>
  <cp:lastModifiedBy>a</cp:lastModifiedBy>
  <dcterms:modified xsi:type="dcterms:W3CDTF">2015-07-25T10:05:50Z</dcterms:modified>
  <cp:revision>9</cp:revision>
  <dc:subject/>
  <dc:title>Business Project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宽屏</vt:lpwstr>
  </property>
  <property fmtid="{D5CDD505-2E9C-101B-9397-08002B2CF9AE}" pid="4" name="Slides">
    <vt:r8>7</vt:r8>
  </property>
</Properties>
</file>