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E46E-CB60-4AF9-9998-EE87CF3213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E63D-35F7-41DD-A78D-C66BABB8FDA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4F3A-C794-42B6-9822-93351B25F4F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952D-4129-4700-851D-B703961ACCD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0C45-FE7B-4EE5-BD89-6CBE3FE9264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CE6F-FA9E-4A83-97F9-B29F350354A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6E34-4770-4EC6-A3DC-A54E1A3548D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B33D-5C48-4C58-B12A-4A09A77F9B6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837-B874-43F3-83BD-CE5D0D30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D9E-E7C8-41E9-B49E-776D8093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865-F592-497E-BB63-803523C9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1BB-663C-402F-9FEA-D0F71ABA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73EC-3096-4544-B0B6-9329E10E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587D-B885-4A2C-BCF0-F9C40B23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6311-DAE3-4560-8063-F938CB36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84B6-D523-4870-9BE0-DC888D47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C11D-E963-4A41-A2CA-4D104153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DDDF-5EC7-4F62-8AEB-140BCA5E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5E79-CC2C-40E8-B88A-28B9EEA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14C-89E2-4594-AE76-73067718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F2F4-11BA-49E3-8CEA-A7FBA40C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E5B7-61E8-441B-B42D-190E5926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539-058E-4238-B561-8C3DCB7D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A5F9-BB83-4475-BA9E-671BE58F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C5C1-CB53-4437-94D9-0F93A391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4BD-30C9-4E09-AF70-A28D14D4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CA5-CBB0-4542-932C-18FE0183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1B1-A96C-4BF5-B28A-392F1EAB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2EA-6CC0-4422-B081-78CF4218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EBC-CBDA-4469-A3D0-30A539F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11A-EDBA-4B4C-9441-3FDD8AC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ECA-515D-4F5B-985E-D29487B6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10E8-06A8-47B9-9841-9E140605D8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Users\dell\Documents\Pictures\photos for template\NorthEast 060.JPG"/>
          <p:cNvPicPr/>
          <p:nvPr/>
        </p:nvPicPr>
        <p:blipFill>
          <a:blip r:embed="rId2"/>
          <a:stretch/>
        </p:blipFill>
        <p:spPr>
          <a:xfrm>
            <a:off x="5505480" y="4200480"/>
            <a:ext cx="3638520" cy="26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dell\Documents\Pictures\photos for template\NorthEast 060.JPG"/>
          <p:cNvPicPr/>
          <p:nvPr/>
        </p:nvPicPr>
        <p:blipFill>
          <a:blip r:embed="rId2"/>
          <a:stretch/>
        </p:blipFill>
        <p:spPr>
          <a:xfrm>
            <a:off x="5505480" y="4200480"/>
            <a:ext cx="3638520" cy="26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dell\Documents\Pictures\photos for template\NorthEast 060.JPG"/>
          <p:cNvPicPr/>
          <p:nvPr/>
        </p:nvPicPr>
        <p:blipFill>
          <a:blip r:embed="rId3"/>
          <a:srcRect l="0" t="0" r="9620" b="0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1B60-9425-4A18-AC7E-718B586D26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568760"/>
            <a:ext cx="8058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物猫咪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6574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Example Bullet Poin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Colour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049480" y="2496960"/>
            <a:ext cx="8287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125880" y="2496960"/>
            <a:ext cx="828720" cy="6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998640" y="4111560"/>
            <a:ext cx="82548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065320" y="4111560"/>
            <a:ext cx="828720" cy="6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135240" y="4111560"/>
            <a:ext cx="825480" cy="611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205160" y="4111560"/>
            <a:ext cx="825480" cy="611280"/>
          </a:xfrm>
          <a:prstGeom prst="rect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186080" y="2496960"/>
            <a:ext cx="8287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982800" y="2496960"/>
            <a:ext cx="8254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64640" y="185724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082960" y="173520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031920" y="18572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312800" y="173520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41200" y="34718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088000" y="3471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3021120" y="33498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4104000" y="33480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Sample Graph (3 colou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297000" y="1589040"/>
          <a:ext cx="6732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589040"/>
                    <a:ext cx="6732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33800" y="1805040"/>
            <a:ext cx="402768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IMG_9271"/>
          <p:cNvPicPr/>
          <p:nvPr/>
        </p:nvPicPr>
        <p:blipFill>
          <a:blip r:embed="rId1"/>
          <a:stretch/>
        </p:blipFill>
        <p:spPr>
          <a:xfrm>
            <a:off x="722160" y="1805040"/>
            <a:ext cx="3097440" cy="3852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195120" y="65232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Process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31880" y="3087720"/>
            <a:ext cx="1376280" cy="1598760"/>
          </a:xfrm>
          <a:prstGeom prst="rect">
            <a:avLst/>
          </a:prstGeom>
          <a:solidFill>
            <a:srgbClr val="748e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66920" y="3087720"/>
            <a:ext cx="1376280" cy="1598760"/>
          </a:xfrm>
          <a:prstGeom prst="rect">
            <a:avLst/>
          </a:prstGeom>
          <a:solidFill>
            <a:srgbClr val="0091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776760" y="3087720"/>
            <a:ext cx="1376280" cy="15987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284800" y="3087720"/>
            <a:ext cx="1376280" cy="1598760"/>
          </a:xfrm>
          <a:prstGeom prst="rect">
            <a:avLst/>
          </a:prstGeom>
          <a:solidFill>
            <a:srgbClr val="ffab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796080" y="3087720"/>
            <a:ext cx="1376280" cy="1598760"/>
          </a:xfrm>
          <a:prstGeom prst="rect">
            <a:avLst/>
          </a:prstGeom>
          <a:solidFill>
            <a:srgbClr val="ffc9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Example of a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44480" y="1592280"/>
          <a:ext cx="7402680" cy="3441600"/>
        </p:xfrm>
        <a:graphic>
          <a:graphicData uri="http://schemas.openxmlformats.org/drawingml/2006/table">
            <a:tbl>
              <a:tblPr/>
              <a:tblGrid>
                <a:gridCol w="3702240"/>
                <a:gridCol w="3700440"/>
              </a:tblGrid>
              <a:tr h="54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29"/>
          <p:cNvSpPr/>
          <p:nvPr/>
        </p:nvSpPr>
        <p:spPr>
          <a:xfrm>
            <a:off x="723960" y="5397480"/>
            <a:ext cx="56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Examples of default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33040"/>
            <a:ext cx="4689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f6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f67ff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46800" y="1914480"/>
          <a:ext cx="3171600" cy="1735200"/>
        </p:xfrm>
        <a:graphic>
          <a:graphicData uri="http://schemas.openxmlformats.org/drawingml/2006/table">
            <a:tbl>
              <a:tblPr/>
              <a:tblGrid>
                <a:gridCol w="1585800"/>
                <a:gridCol w="158580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5"/>
          <p:cNvSpPr/>
          <p:nvPr/>
        </p:nvSpPr>
        <p:spPr>
          <a:xfrm>
            <a:off x="763560" y="3897360"/>
            <a:ext cx="2232000" cy="136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643200" y="3897360"/>
            <a:ext cx="2232000" cy="136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王玉清</cp:lastModifiedBy>
  <dcterms:modified xsi:type="dcterms:W3CDTF">2016-03-02T10:29:55Z</dcterms:modified>
  <cp:revision>12</cp:revision>
  <dc:subject/>
  <dc:title>Standard PowerPoint Template</dc:title>
</cp:coreProperties>
</file>