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785880"/>
            <a:ext cx="6571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ff7c8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571760"/>
            <a:ext cx="5471640" cy="5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zh-CN" sz="2600" spc="-1" strike="noStrike">
                <a:solidFill>
                  <a:srgbClr val="ff7c80"/>
                </a:solidFill>
                <a:latin typeface="Calibri"/>
              </a:rPr>
              <a:t>单击此处编辑母版文本样式</a:t>
            </a:r>
            <a:endParaRPr b="0" lang="en-US" sz="2600" spc="-1" strike="noStrike">
              <a:solidFill>
                <a:srgbClr val="ff7c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857160" y="1928880"/>
            <a:ext cx="4285800" cy="4000320"/>
          </a:xfrm>
          <a:prstGeom prst="rect">
            <a:avLst/>
          </a:prstGeom>
          <a:noFill/>
          <a:ln w="19080">
            <a:solidFill>
              <a:srgbClr val="ff7c8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571320" y="2000160"/>
            <a:ext cx="2285640" cy="214272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286080" y="2000160"/>
            <a:ext cx="2285640" cy="214272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6072120" y="2000160"/>
            <a:ext cx="2285640" cy="214272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72320" y="3915360"/>
            <a:ext cx="2214360" cy="221436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0040" y="1571760"/>
            <a:ext cx="2214360" cy="221436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2928960" y="1571760"/>
            <a:ext cx="2214360" cy="221436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2928960" y="3929040"/>
            <a:ext cx="2214360" cy="2214360"/>
          </a:xfrm>
          <a:prstGeom prst="rect">
            <a:avLst/>
          </a:prstGeom>
          <a:noFill/>
          <a:ln w="0">
            <a:solidFill>
              <a:srgbClr val="ff7c8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9"/>
          <p:cNvSpPr/>
          <p:nvPr/>
        </p:nvSpPr>
        <p:spPr>
          <a:xfrm>
            <a:off x="1428840" y="2428920"/>
            <a:ext cx="4785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7c8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7c8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7c8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280" y="785880"/>
            <a:ext cx="6571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ff7c80"/>
                </a:solidFill>
                <a:latin typeface="Calibri"/>
              </a:rPr>
              <a:t>PowerPoint Templa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681840" y="1619280"/>
            <a:ext cx="47318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700" spc="-1" strike="noStrike">
                <a:solidFill>
                  <a:srgbClr val="ff7c80"/>
                </a:solidFill>
                <a:latin typeface="Calibri"/>
                <a:ea typeface="宋体"/>
              </a:rPr>
              <a:t>Click to edit Master sub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2401200" y="198900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粉色浪漫婚礼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图片占位符 9"/>
          <p:cNvSpPr/>
          <p:nvPr/>
        </p:nvSpPr>
        <p:spPr>
          <a:xfrm>
            <a:off x="642960" y="1857240"/>
            <a:ext cx="4285800" cy="4000320"/>
          </a:xfrm>
          <a:prstGeom prst="heart">
            <a:avLst/>
          </a:prstGeom>
          <a:blipFill rotWithShape="0">
            <a:blip r:embed="rId1"/>
            <a:srcRect/>
            <a:stretch/>
          </a:blipFill>
          <a:ln w="1905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5286240" y="2357280"/>
            <a:ext cx="34286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5784480" y="1643040"/>
            <a:ext cx="2133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图片占位符 4"/>
          <p:cNvSpPr/>
          <p:nvPr/>
        </p:nvSpPr>
        <p:spPr>
          <a:xfrm>
            <a:off x="571320" y="1785960"/>
            <a:ext cx="2285640" cy="2142720"/>
          </a:xfrm>
          <a:prstGeom prst="teardrop">
            <a:avLst>
              <a:gd name="adj" fmla="val 100000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图片占位符 5"/>
          <p:cNvSpPr/>
          <p:nvPr/>
        </p:nvSpPr>
        <p:spPr>
          <a:xfrm>
            <a:off x="3286080" y="1785960"/>
            <a:ext cx="2285640" cy="2142720"/>
          </a:xfrm>
          <a:prstGeom prst="teardrop">
            <a:avLst>
              <a:gd name="adj" fmla="val 100000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图片占位符 6"/>
          <p:cNvSpPr/>
          <p:nvPr/>
        </p:nvSpPr>
        <p:spPr>
          <a:xfrm>
            <a:off x="6072120" y="1785960"/>
            <a:ext cx="2285640" cy="2142720"/>
          </a:xfrm>
          <a:prstGeom prst="teardrop">
            <a:avLst>
              <a:gd name="adj" fmla="val 100000"/>
            </a:avLst>
          </a:prstGeom>
          <a:blipFill rotWithShape="0">
            <a:blip r:embed="rId3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2857680" y="4357800"/>
            <a:ext cx="4785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图片占位符 7"/>
          <p:cNvSpPr/>
          <p:nvPr/>
        </p:nvSpPr>
        <p:spPr>
          <a:xfrm>
            <a:off x="472320" y="3915360"/>
            <a:ext cx="2214360" cy="22143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图片占位符 5"/>
          <p:cNvSpPr/>
          <p:nvPr/>
        </p:nvSpPr>
        <p:spPr>
          <a:xfrm>
            <a:off x="500040" y="1571760"/>
            <a:ext cx="2214360" cy="221436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图片占位符 6"/>
          <p:cNvSpPr/>
          <p:nvPr/>
        </p:nvSpPr>
        <p:spPr>
          <a:xfrm>
            <a:off x="2928960" y="1571760"/>
            <a:ext cx="2214360" cy="22143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图片占位符 8"/>
          <p:cNvSpPr/>
          <p:nvPr/>
        </p:nvSpPr>
        <p:spPr>
          <a:xfrm>
            <a:off x="2928960" y="3929040"/>
            <a:ext cx="2214360" cy="221436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solidFill>
              <a:srgbClr val="ff7c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5429160" y="2500200"/>
            <a:ext cx="34286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5868720" y="1844640"/>
            <a:ext cx="2133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20840" y="6381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8481960" y="557784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粉色浪漫婚礼主题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粉色浪漫婚礼主题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粉色浪漫婚礼主题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粉色浪漫婚礼主题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粉色浪漫婚礼主题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粉色浪漫婚礼主题PPT模板</Template>
  <TotalTime>2</TotalTime>
  <Application>LibreOffice/7.4.7.2$Linux_X86_64 LibreOffice_project/40$Build-2</Application>
  <AppVersion>15.0000</AppVersion>
  <Words>129</Words>
  <Paragraphs>2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19:09Z</dcterms:created>
  <dc:creator>微软用户</dc:creator>
  <dc:description/>
  <dc:language>en-US</dc:language>
  <cp:lastModifiedBy>王玉清</cp:lastModifiedBy>
  <dcterms:modified xsi:type="dcterms:W3CDTF">2016-02-20T03:14:37Z</dcterms:modified>
  <cp:revision>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